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0153-C944-47FA-9C03-5ACDF147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B59F2-A567-4D5A-B601-7A900C60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AC99E-2285-4914-BC4C-5A3D439D3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954BE-73AA-43A6-8724-6027DA39D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01325-FB0F-4388-B421-A32AF64DF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A5780-7891-48E4-9D29-E5A8DF437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5D9BD-0E37-4839-82EF-95FF9BF4D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08081-2FD3-4F2F-A371-0B49E2B2C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7E50D-940F-4094-94BC-7DEB4E77A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DE574-B870-41EC-AE18-3732D16BD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A35EC-6672-4B43-B29D-4DAFFBCA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69375-DA1B-4EB4-A314-288D757B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0719-BEC8-49DE-979A-2DFDC5AFE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9FA1D-E888-40CD-99FB-639DCF836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D828-C308-4D17-8ACC-C2A13B73E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8943B-18B9-4355-B407-98D74C8CD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D7C30-7067-4D88-9D4C-E7A0B5E35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E553-4468-443F-951B-6ADE5323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2A31-ACB5-4A07-9730-C68EB516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8110-03E1-4B13-A51B-FB84F45E7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7397E-985F-4670-B925-9D1D085A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39EA-7F0C-46A0-86A6-2209940D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6AAD-5A07-4953-92E4-B6844852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A784-B5D1-4E31-B8A1-3732E89FA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3FCB-2A4D-4EB2-BDC3-A6294E9A0B3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86D1-13A7-4FD9-82C0-B2B969828C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hyperlink" Target="http://unep.greenriver.org/init/LCA/resources.html" TargetMode="External"/><Relationship Id="rId2" Type="http://schemas.openxmlformats.org/officeDocument/2006/relationships/hyperlink" Target="http://unep.greenriver.org/init/LCA/resources.html"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omniitox.net/"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4240" y="980640"/>
            <a:ext cx="756576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Life cycle assessment of food products and production systems</a:t>
            </a:r>
            <a:endParaRPr b="0" lang="en-US" sz="3600" spc="-1" strike="noStrike">
              <a:solidFill>
                <a:srgbClr val="0000cc"/>
              </a:solidFill>
              <a:latin typeface="Arial"/>
            </a:endParaRPr>
          </a:p>
        </p:txBody>
      </p:sp>
      <p:grpSp>
        <p:nvGrpSpPr>
          <p:cNvPr id="91" name=""/>
          <p:cNvGrpSpPr/>
          <p:nvPr/>
        </p:nvGrpSpPr>
        <p:grpSpPr>
          <a:xfrm>
            <a:off x="5364000" y="4076640"/>
            <a:ext cx="3025800" cy="2025720"/>
            <a:chOff x="5364000" y="4076640"/>
            <a:chExt cx="3025800" cy="2025720"/>
          </a:xfrm>
        </p:grpSpPr>
        <p:pic>
          <p:nvPicPr>
            <p:cNvPr id="92" name="" descr=""/>
            <p:cNvPicPr/>
            <p:nvPr/>
          </p:nvPicPr>
          <p:blipFill>
            <a:blip r:embed="rId1"/>
            <a:stretch/>
          </p:blipFill>
          <p:spPr>
            <a:xfrm>
              <a:off x="6084720" y="4076640"/>
              <a:ext cx="1567080" cy="1603440"/>
            </a:xfrm>
            <a:prstGeom prst="rect">
              <a:avLst/>
            </a:prstGeom>
            <a:ln w="0">
              <a:noFill/>
            </a:ln>
          </p:spPr>
        </p:pic>
        <p:sp>
          <p:nvSpPr>
            <p:cNvPr id="93" name=""/>
            <p:cNvSpPr/>
            <p:nvPr/>
          </p:nvSpPr>
          <p:spPr>
            <a:xfrm>
              <a:off x="5364000" y="573408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Verdana"/>
                </a:rPr>
                <a:t>Neus Sanjuán</a:t>
              </a:r>
              <a:endParaRPr b="0" lang="en-US" sz="1800" spc="-1" strike="noStrike">
                <a:solidFill>
                  <a:srgbClr val="000000"/>
                </a:solidFill>
                <a:latin typeface="Arial"/>
              </a:endParaRPr>
            </a:p>
          </p:txBody>
        </p:sp>
      </p:grpSp>
      <p:sp>
        <p:nvSpPr>
          <p:cNvPr id="3" name="PlaceHolder 2"/>
          <p:cNvSpPr>
            <a:spLocks noGrp="1"/>
          </p:cNvSpPr>
          <p:nvPr>
            <p:ph type="sldNum" idx="6"/>
          </p:nvPr>
        </p:nvSpPr>
        <p:spPr/>
        <p:txBody>
          <a:bodyPr/>
          <a:p>
            <a:fld id="{018BC6DB-0884-4902-862F-045650960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Inventory analysis</a:t>
            </a:r>
            <a:endParaRPr b="0" lang="en-US" sz="3600" spc="-1" strike="noStrike">
              <a:solidFill>
                <a:srgbClr val="0000cc"/>
              </a:solidFill>
              <a:latin typeface="Arial"/>
            </a:endParaRPr>
          </a:p>
        </p:txBody>
      </p:sp>
      <p:sp>
        <p:nvSpPr>
          <p:cNvPr id="1196" name="PlaceHolder 2"/>
          <p:cNvSpPr>
            <a:spLocks noGrp="1"/>
          </p:cNvSpPr>
          <p:nvPr>
            <p:ph/>
          </p:nvPr>
        </p:nvSpPr>
        <p:spPr>
          <a:xfrm>
            <a:off x="1115640" y="1827360"/>
            <a:ext cx="756756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ies gathering all the environmentally relevant information about the processes/activities included in the system limits. </a:t>
            </a:r>
            <a:endParaRPr b="0" lang="en-US" sz="2000" spc="-1" strike="noStrike">
              <a:solidFill>
                <a:srgbClr val="000000"/>
              </a:solidFill>
              <a:latin typeface="Verdana"/>
            </a:endParaRPr>
          </a:p>
          <a:p>
            <a:pPr marL="335880" indent="-3358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gathered for each activity comprise: raw materials, products, energy use, emissions into the air and water and solid waste. </a:t>
            </a:r>
            <a:endParaRPr b="0" lang="en-US" sz="2000" spc="-1" strike="noStrike">
              <a:solidFill>
                <a:srgbClr val="000000"/>
              </a:solidFill>
              <a:latin typeface="Verdana"/>
            </a:endParaRPr>
          </a:p>
          <a:p>
            <a:pPr marL="335880" indent="-3358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sources include: </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company and public statistics</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gislation, e.g. regarding permitted air emissions</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ste management companies</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ports of LCA carried out and similar projects</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stimates, assumptions and theoretical values</a:t>
            </a:r>
            <a:endParaRPr b="0" lang="en-US" sz="2000" spc="-1" strike="noStrike">
              <a:solidFill>
                <a:srgbClr val="000000"/>
              </a:solidFill>
              <a:latin typeface="Verdana"/>
            </a:endParaRPr>
          </a:p>
          <a:p>
            <a:pPr lvl="1" marL="727920" indent="-280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n data bases for use in LCA</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24A8912-A0AC-4B0E-AD1F-664C7C6FA1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Impact assessment</a:t>
            </a:r>
            <a:endParaRPr b="0" lang="en-US" sz="3600" spc="-1" strike="noStrike">
              <a:solidFill>
                <a:srgbClr val="0000cc"/>
              </a:solidFill>
              <a:latin typeface="Arial"/>
            </a:endParaRPr>
          </a:p>
        </p:txBody>
      </p:sp>
      <p:sp>
        <p:nvSpPr>
          <p:cNvPr id="1198" name="PlaceHolder 2"/>
          <p:cNvSpPr>
            <a:spLocks noGrp="1"/>
          </p:cNvSpPr>
          <p:nvPr>
            <p:ph/>
          </p:nvPr>
        </p:nvSpPr>
        <p:spPr>
          <a:xfrm>
            <a:off x="899640" y="1773360"/>
            <a:ext cx="8001000" cy="4038480"/>
          </a:xfrm>
          <a:prstGeom prst="rect">
            <a:avLst/>
          </a:prstGeom>
          <a:noFill/>
          <a:ln w="0">
            <a:noFill/>
          </a:ln>
        </p:spPr>
        <p:txBody>
          <a:bodyPr lIns="90000" rIns="90000" tIns="46800" bIns="46800" anchor="t">
            <a:normAutofit fontScale="97000"/>
          </a:bodyPr>
          <a:p>
            <a:pPr marL="332640" indent="-332640">
              <a:lnSpc>
                <a:spcPct val="95000"/>
              </a:lnSpc>
              <a:spcBef>
                <a:spcPts val="689"/>
              </a:spcBef>
              <a:spcAft>
                <a:spcPts val="275"/>
              </a:spcAft>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effects originated by the resource consumption and the generated emissions are grouped and quantified in impact categories that can be weighted according to its importance.</a:t>
            </a:r>
            <a:endParaRPr b="0" lang="en-US" sz="2200" spc="-1" strike="noStrike">
              <a:solidFill>
                <a:srgbClr val="000000"/>
              </a:solidFill>
              <a:latin typeface="Verdana"/>
            </a:endParaRPr>
          </a:p>
          <a:p>
            <a:pPr marL="332640" indent="-332640">
              <a:lnSpc>
                <a:spcPct val="95000"/>
              </a:lnSpc>
              <a:spcBef>
                <a:spcPts val="689"/>
              </a:spcBef>
              <a:spcAft>
                <a:spcPts val="275"/>
              </a:spcAft>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objective is to evaluate the importance of the potential environmental impacts using the results of the inventory analysis. </a:t>
            </a:r>
            <a:endParaRPr b="0" lang="en-US" sz="2200" spc="-1" strike="noStrike">
              <a:solidFill>
                <a:srgbClr val="000000"/>
              </a:solidFill>
              <a:latin typeface="Verdana"/>
            </a:endParaRPr>
          </a:p>
          <a:p>
            <a:pPr marL="332640" indent="-332640">
              <a:lnSpc>
                <a:spcPct val="95000"/>
              </a:lnSpc>
              <a:spcBef>
                <a:spcPts val="689"/>
              </a:spcBef>
              <a:spcAft>
                <a:spcPts val="275"/>
              </a:spcAft>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interpretation must be based on the available background knowledge of the environment, resources and working environment, and it must show which of the exchanges are significant and how great their contributions can be.</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11DB1A07-B9CC-4C31-857C-4533CF1B2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99" name=""/>
          <p:cNvGraphicFramePr/>
          <p:nvPr/>
        </p:nvGraphicFramePr>
        <p:xfrm>
          <a:off x="900000" y="558720"/>
          <a:ext cx="7065720" cy="5786640"/>
        </p:xfrm>
        <a:graphic>
          <a:graphicData uri="http://schemas.openxmlformats.org/drawingml/2006/table">
            <a:tbl>
              <a:tblPr/>
              <a:tblGrid>
                <a:gridCol w="1881000"/>
                <a:gridCol w="3035160"/>
                <a:gridCol w="2149560"/>
              </a:tblGrid>
              <a:tr h="6004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Tahoma"/>
                        </a:rPr>
                        <a:t>Impact categori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Tahoma"/>
                        </a:rPr>
                        <a:t>Suggested end poi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Consumption of 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erg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renewable/nonrenew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MJ</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Raw materia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renewable/nonrenew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reserv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Sb equival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ahoma"/>
                          <a:ea typeface="Times New Roman"/>
                        </a:rPr>
                        <a:t>Land 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km</a:t>
                      </a:r>
                      <a:r>
                        <a:rPr b="0" lang="en-GB" sz="1400" spc="-1" strike="noStrike" baseline="30000">
                          <a:solidFill>
                            <a:srgbClr val="000000"/>
                          </a:solidFill>
                          <a:latin typeface="Tahoma"/>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Global eff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Global warm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a:t>
                      </a:r>
                      <a:r>
                        <a:rPr b="0" lang="en-GB" sz="1400" spc="-1" strike="noStrike">
                          <a:solidFill>
                            <a:srgbClr val="000000"/>
                          </a:solidFill>
                          <a:latin typeface="Tahoma"/>
                          <a:ea typeface="Times New Roman"/>
                        </a:rPr>
                        <a:t>g equivalents CO</a:t>
                      </a:r>
                      <a:r>
                        <a:rPr b="0" lang="en-GB" sz="1400" spc="-1" strike="noStrike" baseline="-30000">
                          <a:solidFill>
                            <a:srgbClr val="000000"/>
                          </a:solidFill>
                          <a:latin typeface="Tahoma"/>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Ozone deple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g eq. CFC-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Regional eff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Acidif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g equivalents H</a:t>
                      </a:r>
                      <a:r>
                        <a:rPr b="0" lang="en-GB" sz="1400" spc="-1" strike="noStrike" baseline="30000">
                          <a:solidFill>
                            <a:srgbClr val="000000"/>
                          </a:solidFill>
                          <a:latin typeface="Tahoma"/>
                          <a:ea typeface="Times New Roman"/>
                        </a:rPr>
                        <a:t>+</a:t>
                      </a:r>
                      <a:r>
                        <a:rPr b="0" lang="en-GB" sz="1400" spc="-1" strike="noStrike">
                          <a:solidFill>
                            <a:srgbClr val="000000"/>
                          </a:solidFill>
                          <a:latin typeface="Tahoma"/>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g equivalents SO</a:t>
                      </a:r>
                      <a:r>
                        <a:rPr b="0" lang="en-GB" sz="1400" spc="-1" strike="noStrike" baseline="-25000">
                          <a:solidFill>
                            <a:srgbClr val="000000"/>
                          </a:solidFill>
                          <a:latin typeface="Tahoma"/>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Eutroph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a:t>
                      </a:r>
                      <a:r>
                        <a:rPr b="0" lang="en-GB" sz="1400" spc="-1" strike="noStrike">
                          <a:solidFill>
                            <a:srgbClr val="000000"/>
                          </a:solidFill>
                          <a:latin typeface="Tahoma"/>
                          <a:ea typeface="Times New Roman"/>
                        </a:rPr>
                        <a:t>g equivalents NO</a:t>
                      </a:r>
                      <a:r>
                        <a:rPr b="0" lang="en-GB" sz="1400" spc="-1" strike="noStrike" baseline="-25000">
                          <a:solidFill>
                            <a:srgbClr val="000000"/>
                          </a:solidFill>
                          <a:latin typeface="Tahoma"/>
                          <a:ea typeface="Times New Roman"/>
                        </a:rPr>
                        <a:t>3</a:t>
                      </a:r>
                      <a:r>
                        <a:rPr b="0" lang="en-GB" sz="1400" spc="-1" strike="noStrike" baseline="30000">
                          <a:solidFill>
                            <a:srgbClr val="000000"/>
                          </a:solidFill>
                          <a:latin typeface="Tahoma"/>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Photo-oxidant 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400" spc="-1" strike="noStrike">
                          <a:solidFill>
                            <a:srgbClr val="000000"/>
                          </a:solidFill>
                          <a:latin typeface="Arial"/>
                          <a:ea typeface="Times New Roman"/>
                        </a:rPr>
                        <a:t>g equivalents C</a:t>
                      </a:r>
                      <a:r>
                        <a:rPr b="0" lang="en-GB" sz="1400" spc="-1" strike="noStrike" baseline="-25000">
                          <a:solidFill>
                            <a:srgbClr val="000000"/>
                          </a:solidFill>
                          <a:latin typeface="Arial"/>
                          <a:ea typeface="Times New Roman"/>
                        </a:rPr>
                        <a:t>2</a:t>
                      </a:r>
                      <a:r>
                        <a:rPr b="0" lang="en-GB" sz="1400" spc="-1" strike="noStrike">
                          <a:solidFill>
                            <a:srgbClr val="000000"/>
                          </a:solidFill>
                          <a:latin typeface="Arial"/>
                          <a:ea typeface="Times New Roman"/>
                        </a:rPr>
                        <a:t>H</a:t>
                      </a:r>
                      <a:r>
                        <a:rPr b="0" lang="en-GB" sz="1400" spc="-1" strike="noStrike" baseline="-25000">
                          <a:solidFill>
                            <a:srgbClr val="000000"/>
                          </a:solidFill>
                          <a:latin typeface="Arial"/>
                          <a:ea typeface="Times New Roma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Toxicity (hum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 eq. 1,4-diclhorbenzene, DA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imes New Roman"/>
                        </a:rPr>
                        <a:t>Ecotoxic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 eq. 1,4-diclhorbenzene, DA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02B6569A-EECC-4035-B8F6-22908221A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00" name=""/>
          <p:cNvGrpSpPr/>
          <p:nvPr/>
        </p:nvGrpSpPr>
        <p:grpSpPr>
          <a:xfrm>
            <a:off x="377640" y="228600"/>
            <a:ext cx="8463240" cy="6456240"/>
            <a:chOff x="377640" y="228600"/>
            <a:chExt cx="8463240" cy="6456240"/>
          </a:xfrm>
        </p:grpSpPr>
        <p:sp>
          <p:nvSpPr>
            <p:cNvPr id="1201" name=""/>
            <p:cNvSpPr/>
            <p:nvPr/>
          </p:nvSpPr>
          <p:spPr>
            <a:xfrm rot="10804800">
              <a:off x="380520" y="1279080"/>
              <a:ext cx="571680" cy="4524480"/>
            </a:xfrm>
            <a:prstGeom prst="rect">
              <a:avLst/>
            </a:prstGeom>
            <a:noFill/>
            <a:ln w="9360">
              <a:solidFill>
                <a:srgbClr val="0000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NVENTORY TABLE</a:t>
              </a:r>
              <a:endParaRPr b="0" lang="en-US" sz="1800" spc="-1" strike="noStrike">
                <a:solidFill>
                  <a:srgbClr val="000000"/>
                </a:solidFill>
                <a:latin typeface="Arial"/>
              </a:endParaRPr>
            </a:p>
          </p:txBody>
        </p:sp>
        <p:sp>
          <p:nvSpPr>
            <p:cNvPr id="1202" name=""/>
            <p:cNvSpPr/>
            <p:nvPr/>
          </p:nvSpPr>
          <p:spPr>
            <a:xfrm>
              <a:off x="1447920" y="228600"/>
              <a:ext cx="4914720" cy="593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ASIFICATION AND CHARACTERIZATION</a:t>
              </a:r>
              <a:endParaRPr b="0" lang="en-US" sz="1800" spc="-1" strike="noStrike">
                <a:solidFill>
                  <a:srgbClr val="000000"/>
                </a:solidFill>
                <a:latin typeface="Arial"/>
              </a:endParaRPr>
            </a:p>
          </p:txBody>
        </p:sp>
        <p:sp>
          <p:nvSpPr>
            <p:cNvPr id="1203" name=""/>
            <p:cNvSpPr/>
            <p:nvPr/>
          </p:nvSpPr>
          <p:spPr>
            <a:xfrm>
              <a:off x="6705720" y="289080"/>
              <a:ext cx="1981080" cy="44136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EVALUATION</a:t>
              </a:r>
              <a:endParaRPr b="0" lang="en-US" sz="1800" spc="-1" strike="noStrike">
                <a:solidFill>
                  <a:srgbClr val="000000"/>
                </a:solidFill>
                <a:latin typeface="Arial"/>
              </a:endParaRPr>
            </a:p>
          </p:txBody>
        </p:sp>
        <p:sp>
          <p:nvSpPr>
            <p:cNvPr id="1204" name=""/>
            <p:cNvSpPr/>
            <p:nvPr/>
          </p:nvSpPr>
          <p:spPr>
            <a:xfrm>
              <a:off x="1749600" y="1060560"/>
              <a:ext cx="571320" cy="884160"/>
            </a:xfrm>
            <a:prstGeom prst="rect">
              <a:avLst/>
            </a:prstGeom>
            <a:noFill/>
            <a:ln w="9360">
              <a:solidFill>
                <a:srgbClr val="ff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 . .</a:t>
              </a:r>
              <a:endParaRPr b="0" lang="en-US" sz="1600" spc="-1" strike="noStrike">
                <a:solidFill>
                  <a:srgbClr val="000000"/>
                </a:solidFill>
                <a:latin typeface="Arial"/>
              </a:endParaRPr>
            </a:p>
          </p:txBody>
        </p:sp>
        <p:sp>
          <p:nvSpPr>
            <p:cNvPr id="1205" name=""/>
            <p:cNvSpPr/>
            <p:nvPr/>
          </p:nvSpPr>
          <p:spPr>
            <a:xfrm>
              <a:off x="1749600" y="5802480"/>
              <a:ext cx="571320" cy="882360"/>
            </a:xfrm>
            <a:prstGeom prst="rect">
              <a:avLst/>
            </a:prstGeom>
            <a:noFill/>
            <a:ln w="9360">
              <a:solidFill>
                <a:srgbClr val="ff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 . .</a:t>
              </a:r>
              <a:endParaRPr b="0" lang="en-US" sz="1600" spc="-1" strike="noStrike">
                <a:solidFill>
                  <a:srgbClr val="000000"/>
                </a:solidFill>
                <a:latin typeface="Arial"/>
              </a:endParaRPr>
            </a:p>
          </p:txBody>
        </p:sp>
        <p:sp>
          <p:nvSpPr>
            <p:cNvPr id="1206" name=""/>
            <p:cNvSpPr/>
            <p:nvPr/>
          </p:nvSpPr>
          <p:spPr>
            <a:xfrm>
              <a:off x="1749600" y="2079720"/>
              <a:ext cx="571320" cy="13255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a:t>
              </a:r>
              <a:r>
                <a:rPr b="0" lang="es-ES" sz="1400" spc="-1" strike="noStrike" baseline="-25000">
                  <a:solidFill>
                    <a:srgbClr val="000000"/>
                  </a:solidFill>
                  <a:latin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t>
              </a:r>
              <a:r>
                <a:rPr b="0" lang="es-ES" sz="1400" spc="-1" strike="noStrike" baseline="-25000">
                  <a:solidFill>
                    <a:srgbClr val="000000"/>
                  </a:solidFill>
                  <a:latin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a:t>
              </a:r>
              <a:r>
                <a:rPr b="0" lang="es-ES" sz="1400" spc="-1" strike="noStrike" baseline="-25000">
                  <a:solidFill>
                    <a:srgbClr val="000000"/>
                  </a:solidFill>
                  <a:latin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F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a:t>
              </a:r>
              <a:r>
                <a:rPr b="0" lang="es-ES" sz="1400" spc="-1" strike="noStrike" baseline="-25000">
                  <a:solidFill>
                    <a:srgbClr val="000000"/>
                  </a:solidFill>
                  <a:latin typeface="Arial"/>
                </a:rPr>
                <a:t>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
            <p:cNvSpPr/>
            <p:nvPr/>
          </p:nvSpPr>
          <p:spPr>
            <a:xfrm>
              <a:off x="1749600" y="3541680"/>
              <a:ext cx="571320" cy="882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a:t>
              </a:r>
              <a:r>
                <a:rPr b="0" lang="es-ES" sz="1400" spc="-1" strike="noStrike" baseline="-25000">
                  <a:solidFill>
                    <a:srgbClr val="000000"/>
                  </a:solidFill>
                  <a:latin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a:t>
              </a:r>
              <a:r>
                <a:rPr b="0" lang="es-ES" sz="1400" spc="-1" strike="noStrike" baseline="-25000">
                  <a:solidFill>
                    <a:srgbClr val="000000"/>
                  </a:solidFill>
                  <a:latin typeface="Arial"/>
                </a:rPr>
                <a:t>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H</a:t>
              </a:r>
              <a:r>
                <a:rPr b="0" lang="es-ES" sz="1400" spc="-1" strike="noStrike" baseline="-25000">
                  <a:solidFill>
                    <a:srgbClr val="000000"/>
                  </a:solidFill>
                  <a:latin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8" name=""/>
            <p:cNvSpPr/>
            <p:nvPr/>
          </p:nvSpPr>
          <p:spPr>
            <a:xfrm>
              <a:off x="1749600" y="4560840"/>
              <a:ext cx="571320" cy="11034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a:t>
              </a:r>
              <a:r>
                <a:rPr b="0" lang="es-ES" sz="1400" spc="-1" strike="noStrike" baseline="-25000">
                  <a:solidFill>
                    <a:srgbClr val="000000"/>
                  </a:solidFill>
                  <a:latin typeface="Arial"/>
                </a:rPr>
                <a:t>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H</a:t>
              </a:r>
              <a:r>
                <a:rPr b="0" lang="es-ES" sz="1400" spc="-1" strike="noStrike" baseline="-25000">
                  <a:solidFill>
                    <a:srgbClr val="000000"/>
                  </a:solidFill>
                  <a:latin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9" name=""/>
            <p:cNvSpPr/>
            <p:nvPr/>
          </p:nvSpPr>
          <p:spPr>
            <a:xfrm>
              <a:off x="3008160" y="1279440"/>
              <a:ext cx="2859120" cy="441360"/>
            </a:xfrm>
            <a:prstGeom prst="rect">
              <a:avLst/>
            </a:prstGeom>
            <a:noFill/>
            <a:ln w="9360">
              <a:solidFill>
                <a:srgbClr val="ff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 . . . . . . . . . . . . . . .</a:t>
              </a:r>
              <a:endParaRPr b="0" lang="en-US" sz="1600" spc="-1" strike="noStrike">
                <a:solidFill>
                  <a:srgbClr val="000000"/>
                </a:solidFill>
                <a:latin typeface="Arial"/>
              </a:endParaRPr>
            </a:p>
          </p:txBody>
        </p:sp>
        <p:sp>
          <p:nvSpPr>
            <p:cNvPr id="1210" name=""/>
            <p:cNvSpPr/>
            <p:nvPr/>
          </p:nvSpPr>
          <p:spPr>
            <a:xfrm>
              <a:off x="3008160" y="6021360"/>
              <a:ext cx="2859120" cy="441360"/>
            </a:xfrm>
            <a:prstGeom prst="rect">
              <a:avLst/>
            </a:prstGeom>
            <a:noFill/>
            <a:ln w="9360">
              <a:solidFill>
                <a:srgbClr val="ff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 . . . . . . . . . . . . . . .</a:t>
              </a:r>
              <a:endParaRPr b="0" lang="en-US" sz="1600" spc="-1" strike="noStrike">
                <a:solidFill>
                  <a:srgbClr val="000000"/>
                </a:solidFill>
                <a:latin typeface="Arial"/>
              </a:endParaRPr>
            </a:p>
          </p:txBody>
        </p:sp>
        <p:sp>
          <p:nvSpPr>
            <p:cNvPr id="1211" name=""/>
            <p:cNvSpPr/>
            <p:nvPr/>
          </p:nvSpPr>
          <p:spPr>
            <a:xfrm>
              <a:off x="3008160" y="2516400"/>
              <a:ext cx="2859120" cy="441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WARMING</a:t>
              </a:r>
              <a:endParaRPr b="0" lang="en-US" sz="1600" spc="-1" strike="noStrike">
                <a:solidFill>
                  <a:srgbClr val="000000"/>
                </a:solidFill>
                <a:latin typeface="Arial"/>
              </a:endParaRPr>
            </a:p>
          </p:txBody>
        </p:sp>
        <p:sp>
          <p:nvSpPr>
            <p:cNvPr id="1212" name=""/>
            <p:cNvSpPr/>
            <p:nvPr/>
          </p:nvSpPr>
          <p:spPr>
            <a:xfrm>
              <a:off x="3008160" y="3757680"/>
              <a:ext cx="2859120" cy="4413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IFICATION</a:t>
              </a:r>
              <a:endParaRPr b="0" lang="en-US" sz="1600" spc="-1" strike="noStrike">
                <a:solidFill>
                  <a:srgbClr val="000000"/>
                </a:solidFill>
                <a:latin typeface="Arial"/>
              </a:endParaRPr>
            </a:p>
          </p:txBody>
        </p:sp>
        <p:sp>
          <p:nvSpPr>
            <p:cNvPr id="1213" name=""/>
            <p:cNvSpPr/>
            <p:nvPr/>
          </p:nvSpPr>
          <p:spPr>
            <a:xfrm>
              <a:off x="3008160" y="4888080"/>
              <a:ext cx="2859120" cy="4413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TRIFICATION</a:t>
              </a:r>
              <a:endParaRPr b="0" lang="en-US" sz="1600" spc="-1" strike="noStrike">
                <a:solidFill>
                  <a:srgbClr val="000000"/>
                </a:solidFill>
                <a:latin typeface="Arial"/>
              </a:endParaRPr>
            </a:p>
          </p:txBody>
        </p:sp>
        <p:sp>
          <p:nvSpPr>
            <p:cNvPr id="1214" name=""/>
            <p:cNvSpPr/>
            <p:nvPr/>
          </p:nvSpPr>
          <p:spPr>
            <a:xfrm>
              <a:off x="7012080" y="3376800"/>
              <a:ext cx="1828800" cy="11030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1215" name=""/>
            <p:cNvSpPr/>
            <p:nvPr/>
          </p:nvSpPr>
          <p:spPr>
            <a:xfrm>
              <a:off x="1293840" y="1500120"/>
              <a:ext cx="0" cy="474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948960" y="3927600"/>
              <a:ext cx="800280" cy="0"/>
            </a:xfrm>
            <a:prstGeom prst="line">
              <a:avLst/>
            </a:prstGeom>
            <a:ln w="936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1293840" y="1500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1293840" y="2714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1293840" y="5032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1293840" y="6245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2322360" y="1500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322360" y="392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22360" y="5141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322360" y="624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22360" y="2714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867280" y="3927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5867280" y="1500120"/>
              <a:ext cx="1143000" cy="24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5867280" y="3927600"/>
              <a:ext cx="1143000" cy="23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5867280" y="2714760"/>
              <a:ext cx="1143000" cy="12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5867280" y="3927240"/>
              <a:ext cx="114300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812FC45-48D4-41E1-9C2E-7FCF4ABF7A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1125000" y="1257840"/>
            <a:ext cx="7002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ea typeface="Times New Roman"/>
              </a:rPr>
              <a:t>Equivalence factors of some green-house gases</a:t>
            </a:r>
            <a:endParaRPr b="0" lang="en-US" sz="2400" spc="-1" strike="noStrike">
              <a:solidFill>
                <a:srgbClr val="000000"/>
              </a:solidFill>
              <a:latin typeface="Arial"/>
            </a:endParaRPr>
          </a:p>
        </p:txBody>
      </p:sp>
      <p:graphicFrame>
        <p:nvGraphicFramePr>
          <p:cNvPr id="1232" name=""/>
          <p:cNvGraphicFramePr/>
          <p:nvPr/>
        </p:nvGraphicFramePr>
        <p:xfrm>
          <a:off x="822240" y="2073240"/>
          <a:ext cx="7499520" cy="2793960"/>
        </p:xfrm>
        <a:graphic>
          <a:graphicData uri="http://schemas.openxmlformats.org/drawingml/2006/table">
            <a:tbl>
              <a:tblPr/>
              <a:tblGrid>
                <a:gridCol w="2329560"/>
                <a:gridCol w="1055880"/>
                <a:gridCol w="1324440"/>
                <a:gridCol w="1428840"/>
                <a:gridCol w="1145880"/>
                <a:gridCol w="216000"/>
              </a:tblGrid>
              <a:tr h="3996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     </a:t>
                      </a:r>
                      <a:r>
                        <a:rPr b="0" lang="en-US" sz="1700" spc="-1" strike="noStrike">
                          <a:solidFill>
                            <a:srgbClr val="000000"/>
                          </a:solidFill>
                          <a:latin typeface="Tahoma"/>
                          <a:ea typeface="Times New Roman"/>
                        </a:rPr>
                        <a:t>GWP (g CO</a:t>
                      </a:r>
                      <a:r>
                        <a:rPr b="0" lang="en-US" sz="1700" spc="-1" strike="noStrike" baseline="-30000">
                          <a:solidFill>
                            <a:srgbClr val="000000"/>
                          </a:solidFill>
                          <a:latin typeface="Tahoma"/>
                          <a:ea typeface="Times New Roman"/>
                        </a:rPr>
                        <a:t>2</a:t>
                      </a:r>
                      <a:r>
                        <a:rPr b="0" lang="en-US" sz="1700" spc="-1" strike="noStrike">
                          <a:solidFill>
                            <a:srgbClr val="000000"/>
                          </a:solidFill>
                          <a:latin typeface="Tahoma"/>
                          <a:ea typeface="Times New Roman"/>
                        </a:rPr>
                        <a:t>/g substanc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80808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20 year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808080"/>
                      </a:solidFill>
                    </a:lnT>
                    <a:lnB w="1224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00 year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808080"/>
                      </a:solidFill>
                    </a:lnT>
                    <a:lnB w="12240">
                      <a:solidFill>
                        <a:srgbClr val="80808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200 year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808080"/>
                      </a:solidFill>
                    </a:lnT>
                    <a:lnB w="1224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arbon dioxid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O</a:t>
                      </a:r>
                      <a:r>
                        <a:rPr b="0" lang="en-US" sz="1700" spc="-1" strike="noStrike" baseline="-30000">
                          <a:solidFill>
                            <a:srgbClr val="000000"/>
                          </a:solidFill>
                          <a:latin typeface="Tahoma"/>
                          <a:ea typeface="Times New Roman"/>
                        </a:rPr>
                        <a:t>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80808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Methan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H</a:t>
                      </a:r>
                      <a:r>
                        <a:rPr b="0" lang="en-US" sz="1700" spc="-1" strike="noStrike" baseline="-30000">
                          <a:solidFill>
                            <a:srgbClr val="000000"/>
                          </a:solidFill>
                          <a:latin typeface="Tahoma"/>
                          <a:ea typeface="Times New Roman"/>
                        </a:rPr>
                        <a:t>4</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6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2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8</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Nitric oxid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N</a:t>
                      </a:r>
                      <a:r>
                        <a:rPr b="0" lang="en-US" sz="1700" spc="-1" strike="noStrike" baseline="-30000">
                          <a:solidFill>
                            <a:srgbClr val="000000"/>
                          </a:solidFill>
                          <a:latin typeface="Tahoma"/>
                          <a:ea typeface="Times New Roman"/>
                        </a:rPr>
                        <a:t>2</a:t>
                      </a:r>
                      <a:r>
                        <a:rPr b="0" lang="en-US" sz="1700" spc="-1" strike="noStrike">
                          <a:solidFill>
                            <a:srgbClr val="000000"/>
                          </a:solidFill>
                          <a:latin typeface="Tahoma"/>
                          <a:ea typeface="Times New Roman"/>
                        </a:rPr>
                        <a:t>O</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29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32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8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FC 11</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FCl</a:t>
                      </a:r>
                      <a:r>
                        <a:rPr b="0" lang="en-US" sz="1700" spc="-1" strike="noStrike" baseline="-30000">
                          <a:solidFill>
                            <a:srgbClr val="000000"/>
                          </a:solidFill>
                          <a:latin typeface="Tahoma"/>
                          <a:ea typeface="Times New Roman"/>
                        </a:rPr>
                        <a:t>3</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50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40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4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FC 1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F</a:t>
                      </a:r>
                      <a:r>
                        <a:rPr b="0" lang="en-US" sz="1700" spc="-1" strike="noStrike" baseline="-30000">
                          <a:solidFill>
                            <a:srgbClr val="000000"/>
                          </a:solidFill>
                          <a:latin typeface="Tahoma"/>
                          <a:ea typeface="Times New Roman"/>
                        </a:rPr>
                        <a:t>2</a:t>
                      </a:r>
                      <a:r>
                        <a:rPr b="0" lang="en-US" sz="1700" spc="-1" strike="noStrike">
                          <a:solidFill>
                            <a:srgbClr val="000000"/>
                          </a:solidFill>
                          <a:latin typeface="Tahoma"/>
                          <a:ea typeface="Times New Roman"/>
                        </a:rPr>
                        <a:t>Cl</a:t>
                      </a:r>
                      <a:r>
                        <a:rPr b="0" lang="en-US" sz="1700" spc="-1" strike="noStrike" baseline="-30000">
                          <a:solidFill>
                            <a:srgbClr val="000000"/>
                          </a:solidFill>
                          <a:latin typeface="Tahoma"/>
                          <a:ea typeface="Times New Roman"/>
                        </a:rPr>
                        <a:t>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79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85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42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arbon monoxid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CO</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43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170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imes New Roman"/>
                        </a:rPr>
                        <a:t>52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3"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82985E-6DBB-44DD-B517-B3429213C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Interpretation and </a:t>
            </a:r>
            <a:br>
              <a:rPr sz="3200"/>
            </a:br>
            <a:r>
              <a:rPr b="0" lang="en-GB" sz="3200" spc="-1" strike="noStrike">
                <a:solidFill>
                  <a:srgbClr val="0000cc"/>
                </a:solidFill>
                <a:latin typeface="Arial"/>
              </a:rPr>
              <a:t>Improvement analysis</a:t>
            </a:r>
            <a:endParaRPr b="0" lang="en-US" sz="3200" spc="-1" strike="noStrike">
              <a:solidFill>
                <a:srgbClr val="0000cc"/>
              </a:solidFill>
              <a:latin typeface="Arial"/>
            </a:endParaRPr>
          </a:p>
        </p:txBody>
      </p:sp>
      <p:sp>
        <p:nvSpPr>
          <p:cNvPr id="12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results are clearly presented; the necessity and the possibilities to reduce the environmental impact of the product are systematically evaluated. </a:t>
            </a:r>
            <a:endParaRPr b="0" lang="en-US" sz="2900" spc="-1" strike="noStrike">
              <a:solidFill>
                <a:srgbClr val="000000"/>
              </a:solidFill>
              <a:latin typeface="Verdana"/>
            </a:endParaRPr>
          </a:p>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results from the inventory analysis are combined together with the impact assessment. </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8A464B2A-9EF2-4CCF-89A9-9B32C77D7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cc"/>
                </a:solidFill>
                <a:latin typeface="Arial"/>
              </a:rPr>
              <a:t>Application of LCA to agricultural systems</a:t>
            </a:r>
            <a:endParaRPr b="0" lang="en-US" sz="4000" spc="-1" strike="noStrike">
              <a:solidFill>
                <a:srgbClr val="0000cc"/>
              </a:solidFill>
              <a:latin typeface="Arial"/>
            </a:endParaRPr>
          </a:p>
        </p:txBody>
      </p:sp>
      <p:sp>
        <p:nvSpPr>
          <p:cNvPr id="1237"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C84CC802-30D0-4647-93F8-27E37FF6A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Special demands on LCA methodology when applied to food products</a:t>
            </a:r>
            <a:endParaRPr b="0" lang="en-US" sz="3200" spc="-1" strike="noStrike">
              <a:solidFill>
                <a:srgbClr val="0000cc"/>
              </a:solidFill>
              <a:latin typeface="Arial"/>
            </a:endParaRPr>
          </a:p>
        </p:txBody>
      </p:sp>
      <p:sp>
        <p:nvSpPr>
          <p:cNvPr id="1239" name="PlaceHolder 2"/>
          <p:cNvSpPr>
            <a:spLocks noGrp="1"/>
          </p:cNvSpPr>
          <p:nvPr>
            <p:ph/>
          </p:nvPr>
        </p:nvSpPr>
        <p:spPr>
          <a:xfrm>
            <a:off x="1403280" y="1844640"/>
            <a:ext cx="7313760" cy="43927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Goal definition and scoping: </a:t>
            </a:r>
            <a:endParaRPr b="0" lang="en-US" sz="21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oice of the system boundaries. </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finition of the functional unit. </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ion of allocation methods</a:t>
            </a:r>
            <a:endParaRPr b="0" lang="en-US" sz="2000" spc="-1" strike="noStrike">
              <a:solidFill>
                <a:srgbClr val="000000"/>
              </a:solidFill>
              <a:latin typeface="Verdana"/>
            </a:endParaRPr>
          </a:p>
          <a:p>
            <a:pPr marL="343080" indent="-343080">
              <a:lnSpc>
                <a:spcPct val="8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nventory analysis: </a:t>
            </a:r>
            <a:endParaRPr b="0" lang="en-US" sz="22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utrient balances</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sticides fate analysis</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pital goods</a:t>
            </a:r>
            <a:endParaRPr b="0" lang="en-US" sz="2000" spc="-1" strike="noStrike">
              <a:solidFill>
                <a:srgbClr val="000000"/>
              </a:solidFill>
              <a:latin typeface="Verdana"/>
            </a:endParaRPr>
          </a:p>
          <a:p>
            <a:pPr marL="343080" indent="-343080">
              <a:lnSpc>
                <a:spcPct val="8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n impact assessment:</a:t>
            </a:r>
            <a:endParaRPr b="0" lang="en-US" sz="22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nd use</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imal welfare </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ter depletion</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sticides exposition and toxic effect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7DABF2A-4AF7-4FD3-BF4B-2B83803CB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cc"/>
                </a:solidFill>
                <a:latin typeface="Arial"/>
              </a:rPr>
              <a:t>Goal definition and scoping</a:t>
            </a:r>
            <a:endParaRPr b="0" lang="en-US" sz="4000" spc="-1" strike="noStrike">
              <a:solidFill>
                <a:srgbClr val="0000cc"/>
              </a:solidFill>
              <a:latin typeface="Arial"/>
            </a:endParaRPr>
          </a:p>
        </p:txBody>
      </p:sp>
      <p:sp>
        <p:nvSpPr>
          <p:cNvPr id="124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9A7C5515-7C53-4243-9A1E-C550A3243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Systems and system boundaries</a:t>
            </a:r>
            <a:endParaRPr b="0" lang="en-US" sz="3600" spc="-1" strike="noStrike">
              <a:solidFill>
                <a:srgbClr val="0000cc"/>
              </a:solidFill>
              <a:latin typeface="Arial"/>
            </a:endParaRPr>
          </a:p>
        </p:txBody>
      </p:sp>
      <p:sp>
        <p:nvSpPr>
          <p:cNvPr id="12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They must be specified in several dimensions: </a:t>
            </a:r>
            <a:endParaRPr b="0" lang="en-US" sz="2700" spc="-1" strike="noStrike">
              <a:solidFill>
                <a:srgbClr val="000000"/>
              </a:solidFill>
              <a:latin typeface="Verdana"/>
            </a:endParaRPr>
          </a:p>
          <a:p>
            <a:pPr lvl="1" marL="901800" indent="-3682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boundaries between the technological system and the nature</a:t>
            </a:r>
            <a:endParaRPr b="0" lang="en-US" sz="2700" spc="-1" strike="noStrike">
              <a:solidFill>
                <a:srgbClr val="000000"/>
              </a:solidFill>
              <a:latin typeface="Verdana"/>
            </a:endParaRPr>
          </a:p>
          <a:p>
            <a:pPr lvl="1" marL="901800" indent="-3682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geographical area</a:t>
            </a:r>
            <a:endParaRPr b="0" lang="en-US" sz="2700" spc="-1" strike="noStrike">
              <a:solidFill>
                <a:srgbClr val="000000"/>
              </a:solidFill>
              <a:latin typeface="Verdana"/>
            </a:endParaRPr>
          </a:p>
          <a:p>
            <a:pPr lvl="1" marL="901800" indent="-3682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time horizon considered</a:t>
            </a:r>
            <a:endParaRPr b="0" lang="en-US" sz="2700" spc="-1" strike="noStrike">
              <a:solidFill>
                <a:srgbClr val="000000"/>
              </a:solidFill>
              <a:latin typeface="Verdana"/>
            </a:endParaRPr>
          </a:p>
          <a:p>
            <a:pPr lvl="1" marL="901800" indent="-3682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production of capital goods</a:t>
            </a:r>
            <a:endParaRPr b="0" lang="en-US" sz="2700" spc="-1" strike="noStrike">
              <a:solidFill>
                <a:srgbClr val="000000"/>
              </a:solidFill>
              <a:latin typeface="Verdana"/>
            </a:endParaRPr>
          </a:p>
        </p:txBody>
      </p:sp>
      <p:sp>
        <p:nvSpPr>
          <p:cNvPr id="4" name="PlaceHolder 3"/>
          <p:cNvSpPr>
            <a:spLocks noGrp="1"/>
          </p:cNvSpPr>
          <p:nvPr>
            <p:ph type="sldNum" idx="3"/>
          </p:nvPr>
        </p:nvSpPr>
        <p:spPr/>
        <p:txBody>
          <a:bodyPr/>
          <a:p>
            <a:fld id="{FB7DC8BB-DABB-4D0F-BAB7-C6D3E3746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Towards ecological food production</a:t>
            </a:r>
            <a:endParaRPr b="0" lang="en-US" sz="3200" spc="-1" strike="noStrike">
              <a:solidFill>
                <a:srgbClr val="0000cc"/>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4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he food production system is a large user of energy and natural resources. </a:t>
            </a:r>
            <a:endParaRPr b="0" lang="en-US" sz="2600" spc="-1" strike="noStrike">
              <a:solidFill>
                <a:srgbClr val="000000"/>
              </a:solidFill>
              <a:latin typeface="Verdana"/>
            </a:endParaRPr>
          </a:p>
          <a:p>
            <a:pPr marL="343080" indent="-343080">
              <a:spcBef>
                <a:spcPts val="64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he concept of sustainability has only been applied to a limited extent to agricultural and industrial food production. </a:t>
            </a:r>
            <a:endParaRPr b="0" lang="en-US" sz="2600" spc="-1" strike="noStrike">
              <a:solidFill>
                <a:srgbClr val="000000"/>
              </a:solidFill>
              <a:latin typeface="Verdana"/>
            </a:endParaRPr>
          </a:p>
          <a:p>
            <a:pPr marL="343080" indent="-343080">
              <a:spcBef>
                <a:spcPts val="64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n the future the production of foods should be based on a global, ecological view.</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5217F2AF-C803-45FC-934E-4EB23D5F61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152280" y="304920"/>
            <a:ext cx="89917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Examples where system boundaries are crossed during bread production:</a:t>
            </a:r>
            <a:endParaRPr b="0" lang="en-US" sz="1900" spc="-1" strike="noStrike">
              <a:solidFill>
                <a:srgbClr val="000000"/>
              </a:solidFill>
              <a:latin typeface="Arial"/>
            </a:endParaRPr>
          </a:p>
        </p:txBody>
      </p:sp>
      <p:sp>
        <p:nvSpPr>
          <p:cNvPr id="1245" name=""/>
          <p:cNvSpPr/>
          <p:nvPr/>
        </p:nvSpPr>
        <p:spPr>
          <a:xfrm>
            <a:off x="4859280" y="981000"/>
            <a:ext cx="40384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The soil and ground water receive emissions of pesticides and plant nutrients during the cultivation of wheat.</a:t>
            </a:r>
            <a:endParaRPr b="0" lang="en-US" sz="1900" spc="-1" strike="noStrike">
              <a:solidFill>
                <a:srgbClr val="000000"/>
              </a:solidFill>
              <a:latin typeface="Arial"/>
            </a:endParaRPr>
          </a:p>
        </p:txBody>
      </p:sp>
      <p:sp>
        <p:nvSpPr>
          <p:cNvPr id="1246" name=""/>
          <p:cNvSpPr/>
          <p:nvPr/>
        </p:nvSpPr>
        <p:spPr>
          <a:xfrm>
            <a:off x="228600" y="5060880"/>
            <a:ext cx="350532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The ethanol released when baking is an emission into the air.</a:t>
            </a:r>
            <a:endParaRPr b="0" lang="en-US" sz="1900" spc="-1" strike="noStrike">
              <a:solidFill>
                <a:srgbClr val="000000"/>
              </a:solidFill>
              <a:latin typeface="Arial"/>
            </a:endParaRPr>
          </a:p>
        </p:txBody>
      </p:sp>
      <p:sp>
        <p:nvSpPr>
          <p:cNvPr id="1247" name=""/>
          <p:cNvSpPr/>
          <p:nvPr/>
        </p:nvSpPr>
        <p:spPr>
          <a:xfrm flipV="1">
            <a:off x="427320" y="2801520"/>
            <a:ext cx="4936680" cy="950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3657600" y="26827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038480" y="2743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419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3352680" y="236232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a:t>
            </a:r>
            <a:endParaRPr b="0" lang="en-US" sz="2000" spc="-1" strike="noStrike">
              <a:solidFill>
                <a:srgbClr val="000000"/>
              </a:solidFill>
              <a:latin typeface="Arial"/>
            </a:endParaRPr>
          </a:p>
        </p:txBody>
      </p:sp>
      <p:sp>
        <p:nvSpPr>
          <p:cNvPr id="1252" name=""/>
          <p:cNvSpPr/>
          <p:nvPr/>
        </p:nvSpPr>
        <p:spPr>
          <a:xfrm>
            <a:off x="3733920" y="242244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t>
            </a:r>
            <a:endParaRPr b="0" lang="en-US" sz="2000" spc="-1" strike="noStrike">
              <a:solidFill>
                <a:srgbClr val="000000"/>
              </a:solidFill>
              <a:latin typeface="Arial"/>
            </a:endParaRPr>
          </a:p>
        </p:txBody>
      </p:sp>
      <p:sp>
        <p:nvSpPr>
          <p:cNvPr id="1253" name=""/>
          <p:cNvSpPr/>
          <p:nvPr/>
        </p:nvSpPr>
        <p:spPr>
          <a:xfrm>
            <a:off x="4114800" y="213372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K</a:t>
            </a:r>
            <a:endParaRPr b="0" lang="en-US" sz="2000" spc="-1" strike="noStrike">
              <a:solidFill>
                <a:srgbClr val="000000"/>
              </a:solidFill>
              <a:latin typeface="Arial"/>
            </a:endParaRPr>
          </a:p>
        </p:txBody>
      </p:sp>
      <p:sp>
        <p:nvSpPr>
          <p:cNvPr id="1254" name=""/>
          <p:cNvSpPr/>
          <p:nvPr/>
        </p:nvSpPr>
        <p:spPr>
          <a:xfrm>
            <a:off x="4648320" y="251460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System boundary</a:t>
            </a:r>
            <a:endParaRPr b="0" lang="en-US" sz="1600" spc="-1" strike="noStrike">
              <a:solidFill>
                <a:srgbClr val="000000"/>
              </a:solidFill>
              <a:latin typeface="Arial"/>
            </a:endParaRPr>
          </a:p>
        </p:txBody>
      </p:sp>
      <p:pic>
        <p:nvPicPr>
          <p:cNvPr id="1255" name="" descr=""/>
          <p:cNvPicPr/>
          <p:nvPr/>
        </p:nvPicPr>
        <p:blipFill>
          <a:blip r:embed="rId1"/>
          <a:stretch/>
        </p:blipFill>
        <p:spPr>
          <a:xfrm>
            <a:off x="533520" y="1676520"/>
            <a:ext cx="1646280" cy="1733400"/>
          </a:xfrm>
          <a:prstGeom prst="rect">
            <a:avLst/>
          </a:prstGeom>
          <a:ln w="0">
            <a:noFill/>
          </a:ln>
        </p:spPr>
      </p:pic>
      <p:grpSp>
        <p:nvGrpSpPr>
          <p:cNvPr id="1256" name=""/>
          <p:cNvGrpSpPr/>
          <p:nvPr/>
        </p:nvGrpSpPr>
        <p:grpSpPr>
          <a:xfrm>
            <a:off x="4800600" y="4267080"/>
            <a:ext cx="2743200" cy="1905120"/>
            <a:chOff x="4800600" y="4267080"/>
            <a:chExt cx="2743200" cy="1905120"/>
          </a:xfrm>
        </p:grpSpPr>
        <p:grpSp>
          <p:nvGrpSpPr>
            <p:cNvPr id="1257" name=""/>
            <p:cNvGrpSpPr/>
            <p:nvPr/>
          </p:nvGrpSpPr>
          <p:grpSpPr>
            <a:xfrm>
              <a:off x="4800600" y="5105520"/>
              <a:ext cx="2743200" cy="1066680"/>
              <a:chOff x="4800600" y="5105520"/>
              <a:chExt cx="2743200" cy="1066680"/>
            </a:xfrm>
          </p:grpSpPr>
          <p:sp>
            <p:nvSpPr>
              <p:cNvPr id="1258" name=""/>
              <p:cNvSpPr/>
              <p:nvPr/>
            </p:nvSpPr>
            <p:spPr>
              <a:xfrm>
                <a:off x="4800600" y="54864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800600" y="6172200"/>
                <a:ext cx="2743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0" name=""/>
              <p:cNvGrpSpPr/>
              <p:nvPr/>
            </p:nvGrpSpPr>
            <p:grpSpPr>
              <a:xfrm>
                <a:off x="4800600" y="5105520"/>
                <a:ext cx="685800" cy="380880"/>
                <a:chOff x="4800600" y="5105520"/>
                <a:chExt cx="685800" cy="380880"/>
              </a:xfrm>
            </p:grpSpPr>
            <p:sp>
              <p:nvSpPr>
                <p:cNvPr id="1261" name=""/>
                <p:cNvSpPr/>
                <p:nvPr/>
              </p:nvSpPr>
              <p:spPr>
                <a:xfrm flipV="1">
                  <a:off x="4800600" y="510552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5486400" y="51055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3" name=""/>
              <p:cNvGrpSpPr/>
              <p:nvPr/>
            </p:nvGrpSpPr>
            <p:grpSpPr>
              <a:xfrm>
                <a:off x="6172200" y="5105520"/>
                <a:ext cx="685800" cy="380880"/>
                <a:chOff x="6172200" y="5105520"/>
                <a:chExt cx="685800" cy="380880"/>
              </a:xfrm>
            </p:grpSpPr>
            <p:sp>
              <p:nvSpPr>
                <p:cNvPr id="1264" name=""/>
                <p:cNvSpPr/>
                <p:nvPr/>
              </p:nvSpPr>
              <p:spPr>
                <a:xfrm flipV="1">
                  <a:off x="6172200" y="510552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6858000" y="51055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6" name=""/>
              <p:cNvGrpSpPr/>
              <p:nvPr/>
            </p:nvGrpSpPr>
            <p:grpSpPr>
              <a:xfrm>
                <a:off x="5486400" y="5105520"/>
                <a:ext cx="685800" cy="380880"/>
                <a:chOff x="5486400" y="5105520"/>
                <a:chExt cx="685800" cy="380880"/>
              </a:xfrm>
            </p:grpSpPr>
            <p:sp>
              <p:nvSpPr>
                <p:cNvPr id="1267" name=""/>
                <p:cNvSpPr/>
                <p:nvPr/>
              </p:nvSpPr>
              <p:spPr>
                <a:xfrm flipV="1">
                  <a:off x="5486400" y="510552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6172200" y="51055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9" name=""/>
              <p:cNvGrpSpPr/>
              <p:nvPr/>
            </p:nvGrpSpPr>
            <p:grpSpPr>
              <a:xfrm>
                <a:off x="6858000" y="5105520"/>
                <a:ext cx="685800" cy="380880"/>
                <a:chOff x="6858000" y="5105520"/>
                <a:chExt cx="685800" cy="380880"/>
              </a:xfrm>
            </p:grpSpPr>
            <p:sp>
              <p:nvSpPr>
                <p:cNvPr id="1270" name=""/>
                <p:cNvSpPr/>
                <p:nvPr/>
              </p:nvSpPr>
              <p:spPr>
                <a:xfrm flipV="1">
                  <a:off x="6858000" y="510552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7543800" y="51055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2" name=""/>
              <p:cNvSpPr/>
              <p:nvPr/>
            </p:nvSpPr>
            <p:spPr>
              <a:xfrm>
                <a:off x="7543800" y="54864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flipH="1">
              <a:off x="7086600" y="4267080"/>
              <a:ext cx="76320" cy="106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7315200" y="4267080"/>
              <a:ext cx="7632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7162920" y="4267080"/>
              <a:ext cx="15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6" name=""/>
          <p:cNvSpPr/>
          <p:nvPr/>
        </p:nvSpPr>
        <p:spPr>
          <a:xfrm>
            <a:off x="7162920" y="3505320"/>
            <a:ext cx="1752480" cy="609480"/>
          </a:xfrm>
          <a:prstGeom prst="cloudCallout">
            <a:avLst>
              <a:gd name="adj1" fmla="val -45652"/>
              <a:gd name="adj2" fmla="val 7005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a:off x="4495680" y="4267080"/>
            <a:ext cx="4419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95680" y="39625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System boundary</a:t>
            </a:r>
            <a:endParaRPr b="0" lang="en-US" sz="1600" spc="-1" strike="noStrike">
              <a:solidFill>
                <a:srgbClr val="000000"/>
              </a:solidFill>
              <a:latin typeface="Arial"/>
            </a:endParaRPr>
          </a:p>
        </p:txBody>
      </p:sp>
      <p:sp>
        <p:nvSpPr>
          <p:cNvPr id="1279" name=""/>
          <p:cNvSpPr/>
          <p:nvPr/>
        </p:nvSpPr>
        <p:spPr>
          <a:xfrm>
            <a:off x="7086600" y="36576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ethanol</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E17453A-F13F-4755-A635-2BECBDC2B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System boundaries</a:t>
            </a:r>
            <a:endParaRPr b="0" lang="en-US" sz="3600" spc="-1" strike="noStrike">
              <a:solidFill>
                <a:srgbClr val="0000cc"/>
              </a:solidFill>
              <a:latin typeface="Arial"/>
            </a:endParaRPr>
          </a:p>
        </p:txBody>
      </p:sp>
      <p:sp>
        <p:nvSpPr>
          <p:cNvPr id="1281" name="PlaceHolder 2"/>
          <p:cNvSpPr>
            <a:spLocks noGrp="1"/>
          </p:cNvSpPr>
          <p:nvPr>
            <p:ph/>
          </p:nvPr>
        </p:nvSpPr>
        <p:spPr>
          <a:xfrm>
            <a:off x="1186920" y="1827360"/>
            <a:ext cx="7496280" cy="4114800"/>
          </a:xfrm>
          <a:prstGeom prst="rect">
            <a:avLst/>
          </a:prstGeom>
          <a:noFill/>
          <a:ln w="0">
            <a:noFill/>
          </a:ln>
        </p:spPr>
        <p:txBody>
          <a:bodyPr lIns="90000" rIns="90000" tIns="46800" bIns="46800" anchor="t">
            <a:normAutofit/>
          </a:bodyPr>
          <a:p>
            <a:pPr marL="343080" indent="-343080">
              <a:lnSpc>
                <a:spcPct val="95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cc"/>
                </a:solidFill>
                <a:latin typeface="Verdana"/>
              </a:rPr>
              <a:t>Soil within or outside the system? </a:t>
            </a:r>
            <a:r>
              <a:rPr b="0" lang="en-GB" sz="2200" spc="-1" strike="noStrike">
                <a:solidFill>
                  <a:srgbClr val="000000"/>
                </a:solidFill>
                <a:latin typeface="Verdana"/>
              </a:rPr>
              <a:t>It is difficult to determine the system boundary between the technological system and the nature; agricultural production takes place in nature itself and is actually a part of the environmental system.</a:t>
            </a:r>
            <a:endParaRPr b="0" lang="en-US" sz="2200" spc="-1" strike="noStrike">
              <a:solidFill>
                <a:srgbClr val="000000"/>
              </a:solidFill>
              <a:latin typeface="Verdana"/>
            </a:endParaRPr>
          </a:p>
          <a:p>
            <a:pPr marL="343080" indent="-343080">
              <a:lnSpc>
                <a:spcPct val="95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oil is an integrant part of farming systems, and equivalent to other ancillaries in industrial systems. It differs from the common treatment of ancillaries because the soil is not consumed; but it may leave the system with properties that differ from those at the beginning of the time period under analysis. </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FFDADFB1-CAE9-4F2C-BCC0-DB15279F4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Functional unit</a:t>
            </a:r>
            <a:endParaRPr b="0" lang="en-US" sz="3600" spc="-1" strike="noStrike">
              <a:solidFill>
                <a:srgbClr val="0000cc"/>
              </a:solidFill>
              <a:latin typeface="Arial"/>
            </a:endParaRPr>
          </a:p>
        </p:txBody>
      </p:sp>
      <p:sp>
        <p:nvSpPr>
          <p:cNvPr id="128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functional unit is defined as quantified performance of a product system for use as a reference unit in an LCA study. </a:t>
            </a:r>
            <a:endParaRPr b="0" lang="en-US" sz="2500" spc="-1" strike="noStrike">
              <a:solidFill>
                <a:srgbClr val="000000"/>
              </a:solidFill>
              <a:latin typeface="Verdana"/>
            </a:endParaRPr>
          </a:p>
          <a:p>
            <a:pPr marL="343080" indent="-343080">
              <a:lnSpc>
                <a:spcPct val="8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t is an amount of the final product system that performs a certain, measurable, function.</a:t>
            </a:r>
            <a:endParaRPr b="0" lang="en-US" sz="2500" spc="-1" strike="noStrike">
              <a:solidFill>
                <a:srgbClr val="000000"/>
              </a:solidFill>
              <a:latin typeface="Verdana"/>
            </a:endParaRPr>
          </a:p>
          <a:p>
            <a:pPr marL="343080" indent="-343080">
              <a:lnSpc>
                <a:spcPct val="8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s the unit to which all the environmental loadings are related. </a:t>
            </a:r>
            <a:endParaRPr b="0" lang="en-US" sz="2500" spc="-1" strike="noStrike">
              <a:solidFill>
                <a:srgbClr val="000000"/>
              </a:solidFill>
              <a:latin typeface="Verdana"/>
            </a:endParaRPr>
          </a:p>
          <a:p>
            <a:pPr marL="343080" indent="-343080">
              <a:lnSpc>
                <a:spcPct val="8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n order to compare two products or systems they must fulfil the same functions.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36DE8F1E-EF38-4DAE-83ED-2FF35A3FC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Functional unit</a:t>
            </a:r>
            <a:endParaRPr b="0" lang="en-US" sz="3600" spc="-1" strike="noStrike">
              <a:solidFill>
                <a:srgbClr val="0000cc"/>
              </a:solidFill>
              <a:latin typeface="Arial"/>
            </a:endParaRPr>
          </a:p>
        </p:txBody>
      </p:sp>
      <p:sp>
        <p:nvSpPr>
          <p:cNvPr id="12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Relevant aspects to consider in the process of defining the functional unit: </a:t>
            </a:r>
            <a:endParaRPr b="0" lang="en-US" sz="2300" spc="-1" strike="noStrike">
              <a:solidFill>
                <a:srgbClr val="000000"/>
              </a:solidFill>
              <a:latin typeface="Verdana"/>
            </a:endParaRPr>
          </a:p>
          <a:p>
            <a:pPr lvl="1" marL="743040" indent="-28584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The function or the service of a food-producing system</a:t>
            </a:r>
            <a:endParaRPr b="0" lang="en-US" sz="2300" spc="-1" strike="noStrike">
              <a:solidFill>
                <a:srgbClr val="000000"/>
              </a:solidFill>
              <a:latin typeface="Verdana"/>
            </a:endParaRPr>
          </a:p>
          <a:p>
            <a:pPr lvl="1" marL="743040" indent="-28584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Additional functions of agricultural systems</a:t>
            </a:r>
            <a:endParaRPr b="0" lang="en-US" sz="2300" spc="-1" strike="noStrike">
              <a:solidFill>
                <a:srgbClr val="000000"/>
              </a:solidFill>
              <a:latin typeface="Verdana"/>
            </a:endParaRPr>
          </a:p>
          <a:p>
            <a:pPr lvl="1" marL="743040" indent="-28584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The spatial representativeness of the system. </a:t>
            </a:r>
            <a:endParaRPr b="0" lang="en-US" sz="2300" spc="-1" strike="noStrike">
              <a:solidFill>
                <a:srgbClr val="000000"/>
              </a:solidFill>
              <a:latin typeface="Verdana"/>
            </a:endParaRPr>
          </a:p>
          <a:p>
            <a:pPr lvl="1" marL="743040" indent="-28584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The temporal representativeness of the system. </a:t>
            </a:r>
            <a:endParaRPr b="0" lang="en-US" sz="2300" spc="-1" strike="noStrike">
              <a:solidFill>
                <a:srgbClr val="000000"/>
              </a:solidFill>
              <a:latin typeface="Verdana"/>
            </a:endParaRPr>
          </a:p>
          <a:p>
            <a:pPr lvl="1" marL="743040" indent="-28584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Performance of the system in relation to the specified functional unit.</a:t>
            </a:r>
            <a:endParaRPr b="0" lang="en-US" sz="2300" spc="-1" strike="noStrike">
              <a:solidFill>
                <a:srgbClr val="000000"/>
              </a:solidFill>
              <a:latin typeface="Verdana"/>
            </a:endParaRPr>
          </a:p>
        </p:txBody>
      </p:sp>
      <p:sp>
        <p:nvSpPr>
          <p:cNvPr id="4" name="PlaceHolder 3"/>
          <p:cNvSpPr>
            <a:spLocks noGrp="1"/>
          </p:cNvSpPr>
          <p:nvPr>
            <p:ph type="sldNum" idx="3"/>
          </p:nvPr>
        </p:nvSpPr>
        <p:spPr/>
        <p:txBody>
          <a:bodyPr/>
          <a:p>
            <a:fld id="{2D4C1C20-2CCB-4F45-B899-A5C40DAEC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304920" y="457200"/>
            <a:ext cx="8305560" cy="1167480"/>
          </a:xfrm>
          <a:prstGeom prst="rect">
            <a:avLst/>
          </a:prstGeom>
          <a:noFill/>
          <a:ln w="0">
            <a:noFill/>
          </a:ln>
        </p:spPr>
        <p:style>
          <a:lnRef idx="0"/>
          <a:fillRef idx="0"/>
          <a:effectRef idx="0"/>
          <a:fontRef idx="minor"/>
        </p:style>
        <p:txBody>
          <a:bodyPr lIns="90000" rIns="90000" tIns="46800" bIns="46800" anchor="t">
            <a:spAutoFit/>
          </a:bodyPr>
          <a:p>
            <a:pPr marL="2382840" indent="-2382840">
              <a:lnSpc>
                <a:spcPct val="100000"/>
              </a:lnSpc>
              <a:spcBef>
                <a:spcPts val="1250"/>
              </a:spcBef>
              <a:tabLst>
                <a:tab algn="l" pos="0"/>
                <a:tab algn="l" pos="2382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ystem: </a:t>
            </a:r>
            <a:r>
              <a:rPr b="0" lang="en-GB" sz="2000" spc="-1" strike="noStrike">
                <a:solidFill>
                  <a:srgbClr val="000000"/>
                </a:solidFill>
                <a:latin typeface="Comic Sans MS"/>
              </a:rPr>
              <a:t>	</a:t>
            </a:r>
            <a:r>
              <a:rPr b="0" lang="en-GB" sz="2000" spc="-1" strike="noStrike">
                <a:solidFill>
                  <a:srgbClr val="000000"/>
                </a:solidFill>
                <a:latin typeface="Comic Sans MS"/>
              </a:rPr>
              <a:t>milk packaging</a:t>
            </a:r>
            <a:endParaRPr b="0" lang="en-US" sz="2000" spc="-1" strike="noStrike">
              <a:solidFill>
                <a:srgbClr val="000000"/>
              </a:solidFill>
              <a:latin typeface="Arial"/>
            </a:endParaRPr>
          </a:p>
          <a:p>
            <a:pPr marL="2382840" indent="-2382840">
              <a:lnSpc>
                <a:spcPct val="100000"/>
              </a:lnSpc>
              <a:spcBef>
                <a:spcPts val="1250"/>
              </a:spcBef>
              <a:tabLst>
                <a:tab algn="l" pos="0"/>
                <a:tab algn="l" pos="2382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unctional unit: </a:t>
            </a:r>
            <a:r>
              <a:rPr b="0" lang="en-GB" sz="2000" spc="-1" strike="noStrike">
                <a:solidFill>
                  <a:srgbClr val="000000"/>
                </a:solidFill>
                <a:latin typeface="Comic Sans MS"/>
              </a:rPr>
              <a:t>	</a:t>
            </a:r>
            <a:r>
              <a:rPr b="0" lang="en-GB" sz="2000" spc="-1" strike="noStrike">
                <a:solidFill>
                  <a:srgbClr val="000000"/>
                </a:solidFill>
                <a:latin typeface="Comic Sans MS"/>
              </a:rPr>
              <a:t>the quantity (kg) of packaging material used to deliver 1 L of beverage</a:t>
            </a:r>
            <a:endParaRPr b="0" lang="en-US" sz="2000" spc="-1" strike="noStrike">
              <a:solidFill>
                <a:srgbClr val="000000"/>
              </a:solidFill>
              <a:latin typeface="Arial"/>
            </a:endParaRPr>
          </a:p>
        </p:txBody>
      </p:sp>
      <p:pic>
        <p:nvPicPr>
          <p:cNvPr id="1287" name="" descr=""/>
          <p:cNvPicPr/>
          <p:nvPr/>
        </p:nvPicPr>
        <p:blipFill>
          <a:blip r:embed="rId1"/>
          <a:stretch/>
        </p:blipFill>
        <p:spPr>
          <a:xfrm>
            <a:off x="1295280" y="1981080"/>
            <a:ext cx="2659320" cy="3657600"/>
          </a:xfrm>
          <a:prstGeom prst="rect">
            <a:avLst/>
          </a:prstGeom>
          <a:ln w="0">
            <a:noFill/>
          </a:ln>
        </p:spPr>
      </p:pic>
      <p:pic>
        <p:nvPicPr>
          <p:cNvPr id="1288" name="" descr=""/>
          <p:cNvPicPr/>
          <p:nvPr/>
        </p:nvPicPr>
        <p:blipFill>
          <a:blip r:embed="rId2"/>
          <a:stretch/>
        </p:blipFill>
        <p:spPr>
          <a:xfrm>
            <a:off x="4495680" y="1676520"/>
            <a:ext cx="3973680" cy="4419360"/>
          </a:xfrm>
          <a:prstGeom prst="rect">
            <a:avLst/>
          </a:prstGeom>
          <a:ln w="0">
            <a:noFill/>
          </a:ln>
        </p:spPr>
      </p:pic>
      <p:sp>
        <p:nvSpPr>
          <p:cNvPr id="2" name="PlaceHolder 1"/>
          <p:cNvSpPr>
            <a:spLocks noGrp="1"/>
          </p:cNvSpPr>
          <p:nvPr>
            <p:ph type="sldNum" idx="3"/>
          </p:nvPr>
        </p:nvSpPr>
        <p:spPr/>
        <p:txBody>
          <a:bodyPr/>
          <a:p>
            <a:fld id="{3B8A8C39-4C7A-4ACE-9555-CD727AF1AF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9" name=""/>
          <p:cNvSpPr/>
          <p:nvPr/>
        </p:nvSpPr>
        <p:spPr>
          <a:xfrm>
            <a:off x="900000" y="5157720"/>
            <a:ext cx="32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1005 kg EC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organic milk </a:t>
            </a:r>
            <a:endParaRPr b="0" lang="en-US" sz="1800" spc="-1" strike="noStrike">
              <a:solidFill>
                <a:srgbClr val="000000"/>
              </a:solidFill>
              <a:latin typeface="Arial"/>
            </a:endParaRPr>
          </a:p>
        </p:txBody>
      </p:sp>
      <p:sp>
        <p:nvSpPr>
          <p:cNvPr id="1290" name=""/>
          <p:cNvSpPr/>
          <p:nvPr/>
        </p:nvSpPr>
        <p:spPr>
          <a:xfrm>
            <a:off x="304920" y="457200"/>
            <a:ext cx="8305560" cy="1777320"/>
          </a:xfrm>
          <a:prstGeom prst="rect">
            <a:avLst/>
          </a:prstGeom>
          <a:noFill/>
          <a:ln w="0">
            <a:noFill/>
          </a:ln>
        </p:spPr>
        <p:style>
          <a:lnRef idx="0"/>
          <a:fillRef idx="0"/>
          <a:effectRef idx="0"/>
          <a:fontRef idx="minor"/>
        </p:style>
        <p:txBody>
          <a:bodyPr lIns="90000" rIns="90000" tIns="46800" bIns="46800" anchor="t">
            <a:spAutoFit/>
          </a:bodyPr>
          <a:p>
            <a:pPr marL="2382840" indent="-2382840">
              <a:lnSpc>
                <a:spcPct val="100000"/>
              </a:lnSpc>
              <a:spcBef>
                <a:spcPts val="1250"/>
              </a:spcBef>
              <a:tabLst>
                <a:tab algn="l" pos="0"/>
                <a:tab algn="l" pos="2382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ystem: </a:t>
            </a:r>
            <a:r>
              <a:rPr b="0" lang="en-GB" sz="2000" spc="-1" strike="noStrike">
                <a:solidFill>
                  <a:srgbClr val="000000"/>
                </a:solidFill>
                <a:latin typeface="Comic Sans MS"/>
              </a:rPr>
              <a:t>	</a:t>
            </a:r>
            <a:r>
              <a:rPr b="0" lang="en-GB" sz="2000" spc="-1" strike="noStrike">
                <a:solidFill>
                  <a:srgbClr val="000000"/>
                </a:solidFill>
                <a:latin typeface="Comic Sans MS"/>
              </a:rPr>
              <a:t>milk </a:t>
            </a:r>
            <a:endParaRPr b="0" lang="en-US" sz="2000" spc="-1" strike="noStrike">
              <a:solidFill>
                <a:srgbClr val="000000"/>
              </a:solidFill>
              <a:latin typeface="Arial"/>
            </a:endParaRPr>
          </a:p>
          <a:p>
            <a:pPr marL="2382840" indent="-2382840">
              <a:lnSpc>
                <a:spcPct val="100000"/>
              </a:lnSpc>
              <a:spcBef>
                <a:spcPts val="1250"/>
              </a:spcBef>
              <a:tabLst>
                <a:tab algn="l" pos="0"/>
                <a:tab algn="l" pos="2382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unctional unit: </a:t>
            </a:r>
            <a:r>
              <a:rPr b="0" lang="en-GB" sz="2000" spc="-1" strike="noStrike">
                <a:solidFill>
                  <a:srgbClr val="000000"/>
                </a:solidFill>
                <a:latin typeface="Comic Sans MS"/>
              </a:rPr>
              <a:t>	</a:t>
            </a:r>
            <a:r>
              <a:rPr b="0" lang="en-GB" sz="2000" spc="-1" strike="noStrike">
                <a:solidFill>
                  <a:srgbClr val="000000"/>
                </a:solidFill>
                <a:latin typeface="Comic Sans MS"/>
              </a:rPr>
              <a:t>1000 kg energy corrected milk (ECM) leaving the farm gate. ECM is a correction factor used by the dairy industry: it considers both the fat and the protein content of milk</a:t>
            </a:r>
            <a:endParaRPr b="0" lang="en-US" sz="2000" spc="-1" strike="noStrike">
              <a:solidFill>
                <a:srgbClr val="000000"/>
              </a:solidFill>
              <a:latin typeface="Arial"/>
            </a:endParaRPr>
          </a:p>
        </p:txBody>
      </p:sp>
      <p:sp>
        <p:nvSpPr>
          <p:cNvPr id="1291" name=""/>
          <p:cNvSpPr/>
          <p:nvPr/>
        </p:nvSpPr>
        <p:spPr>
          <a:xfrm>
            <a:off x="5003640" y="5229360"/>
            <a:ext cx="32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00 kg EC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ventional milk </a:t>
            </a:r>
            <a:endParaRPr b="0" lang="en-US" sz="1800" spc="-1" strike="noStrike">
              <a:solidFill>
                <a:srgbClr val="000000"/>
              </a:solidFill>
              <a:latin typeface="Arial"/>
            </a:endParaRPr>
          </a:p>
        </p:txBody>
      </p:sp>
      <p:pic>
        <p:nvPicPr>
          <p:cNvPr id="1292" name="" descr=""/>
          <p:cNvPicPr/>
          <p:nvPr/>
        </p:nvPicPr>
        <p:blipFill>
          <a:blip r:embed="rId1"/>
          <a:stretch/>
        </p:blipFill>
        <p:spPr>
          <a:xfrm>
            <a:off x="1619280" y="2708280"/>
            <a:ext cx="1755720" cy="2416320"/>
          </a:xfrm>
          <a:prstGeom prst="rect">
            <a:avLst/>
          </a:prstGeom>
          <a:ln w="0">
            <a:noFill/>
          </a:ln>
        </p:spPr>
      </p:pic>
      <p:pic>
        <p:nvPicPr>
          <p:cNvPr id="1293" name="" descr=""/>
          <p:cNvPicPr/>
          <p:nvPr/>
        </p:nvPicPr>
        <p:blipFill>
          <a:blip r:embed="rId2"/>
          <a:stretch/>
        </p:blipFill>
        <p:spPr>
          <a:xfrm>
            <a:off x="5724360" y="2349360"/>
            <a:ext cx="2090880" cy="2878200"/>
          </a:xfrm>
          <a:prstGeom prst="rect">
            <a:avLst/>
          </a:prstGeom>
          <a:ln w="0">
            <a:noFill/>
          </a:ln>
        </p:spPr>
      </p:pic>
      <p:sp>
        <p:nvSpPr>
          <p:cNvPr id="2" name="PlaceHolder 1"/>
          <p:cNvSpPr>
            <a:spLocks noGrp="1"/>
          </p:cNvSpPr>
          <p:nvPr>
            <p:ph type="sldNum" idx="3"/>
          </p:nvPr>
        </p:nvSpPr>
        <p:spPr/>
        <p:txBody>
          <a:bodyPr/>
          <a:p>
            <a:fld id="{2EB45775-8CEE-4AC1-B3F2-5E6773621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900000" y="1887480"/>
          <a:ext cx="7458120" cy="4133880"/>
        </p:xfrm>
        <a:graphic>
          <a:graphicData uri="http://schemas.openxmlformats.org/drawingml/2006/table">
            <a:tbl>
              <a:tblPr/>
              <a:tblGrid>
                <a:gridCol w="1728720"/>
                <a:gridCol w="934920"/>
                <a:gridCol w="1584360"/>
                <a:gridCol w="1657440"/>
                <a:gridCol w="1552680"/>
              </a:tblGrid>
              <a:tr h="414000">
                <a:tc rowSpan="2">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Functional uni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rowSpan="2">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Farming intensit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Intensiv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xtensiv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ganic</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Far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06</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3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65</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re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3</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ivestock</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LU</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38</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2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6.5</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Product (milk)</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3</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5" name=""/>
          <p:cNvSpPr/>
          <p:nvPr/>
        </p:nvSpPr>
        <p:spPr>
          <a:xfrm>
            <a:off x="684360" y="525600"/>
            <a:ext cx="784836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Emission of CO</a:t>
            </a:r>
            <a:r>
              <a:rPr b="0" lang="es-ES" sz="1900" spc="-1" strike="noStrike" baseline="-25000">
                <a:solidFill>
                  <a:srgbClr val="000000"/>
                </a:solidFill>
                <a:latin typeface="Verdana"/>
              </a:rPr>
              <a:t>2</a:t>
            </a:r>
            <a:r>
              <a:rPr b="0" lang="es-ES" sz="1900" spc="-1" strike="noStrike">
                <a:solidFill>
                  <a:srgbClr val="000000"/>
                </a:solidFill>
                <a:latin typeface="Verdana"/>
              </a:rPr>
              <a:t>-equivalents of different farming intensities depending on the functional unit chosen of the Allgäu LCA (Haas et al., 2000)</a:t>
            </a:r>
            <a:endParaRPr b="0" lang="en-US" sz="1900" spc="-1" strike="noStrike">
              <a:solidFill>
                <a:srgbClr val="000000"/>
              </a:solidFill>
              <a:latin typeface="Arial"/>
            </a:endParaRPr>
          </a:p>
        </p:txBody>
      </p:sp>
      <p:sp>
        <p:nvSpPr>
          <p:cNvPr id="2" name="PlaceHolder 1"/>
          <p:cNvSpPr>
            <a:spLocks noGrp="1"/>
          </p:cNvSpPr>
          <p:nvPr>
            <p:ph type="sldNum" idx="3"/>
          </p:nvPr>
        </p:nvSpPr>
        <p:spPr/>
        <p:txBody>
          <a:bodyPr/>
          <a:p>
            <a:fld id="{1B8328AB-18F8-449E-A311-C33392267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Allocation procedures</a:t>
            </a:r>
            <a:endParaRPr b="0" lang="en-US" sz="3600" spc="-1" strike="noStrike">
              <a:solidFill>
                <a:srgbClr val="0000cc"/>
              </a:solidFill>
              <a:latin typeface="Arial"/>
            </a:endParaRPr>
          </a:p>
        </p:txBody>
      </p:sp>
      <p:sp>
        <p:nvSpPr>
          <p:cNvPr id="1297" name="PlaceHolder 2"/>
          <p:cNvSpPr>
            <a:spLocks noGrp="1"/>
          </p:cNvSpPr>
          <p:nvPr>
            <p:ph/>
          </p:nvPr>
        </p:nvSpPr>
        <p:spPr>
          <a:xfrm>
            <a:off x="1022400" y="1989000"/>
            <a:ext cx="8229600" cy="3733920"/>
          </a:xfrm>
          <a:prstGeom prst="rect">
            <a:avLst/>
          </a:prstGeom>
          <a:noFill/>
          <a:ln w="0">
            <a:noFill/>
          </a:ln>
        </p:spPr>
        <p:txBody>
          <a:bodyPr lIns="90000" rIns="90000" tIns="46800" bIns="46800" anchor="t">
            <a:normAutofit fontScale="90000"/>
          </a:bodyPr>
          <a:p>
            <a:pPr marL="308520" indent="-30852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allocation procedures are methods used to distribute environmental loads among products. </a:t>
            </a:r>
            <a:endParaRPr b="0" lang="en-US" sz="2900" spc="-1" strike="noStrike">
              <a:solidFill>
                <a:srgbClr val="000000"/>
              </a:solidFill>
              <a:latin typeface="Verdana"/>
            </a:endParaRPr>
          </a:p>
          <a:p>
            <a:pPr marL="308520" indent="-30852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y are necessary when a production process yields more than one product and quantitative models that link inputs to outputs are not available.</a:t>
            </a:r>
            <a:endParaRPr b="0" lang="en-US" sz="2900" spc="-1" strike="noStrike">
              <a:solidFill>
                <a:srgbClr val="000000"/>
              </a:solidFill>
              <a:latin typeface="Verdana"/>
            </a:endParaRPr>
          </a:p>
          <a:p>
            <a:pPr marL="308520" indent="-30852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llocation should be avoided whenever possible</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B70B9B4B-126A-4A27-8A9B-EF3E89EF88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1562040" y="609480"/>
            <a:ext cx="59436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duction of fertilisers, diesel, pesticide, seeds</a:t>
            </a:r>
            <a:endParaRPr b="0" lang="en-US" sz="2000" spc="-1" strike="noStrike">
              <a:solidFill>
                <a:srgbClr val="000000"/>
              </a:solidFill>
              <a:latin typeface="Arial"/>
            </a:endParaRPr>
          </a:p>
        </p:txBody>
      </p:sp>
      <p:sp>
        <p:nvSpPr>
          <p:cNvPr id="1299" name=""/>
          <p:cNvSpPr/>
          <p:nvPr/>
        </p:nvSpPr>
        <p:spPr>
          <a:xfrm>
            <a:off x="1733400" y="1752480"/>
            <a:ext cx="24004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ltivation of sugar beets</a:t>
            </a:r>
            <a:endParaRPr b="0" lang="en-US" sz="1800" spc="-1" strike="noStrike">
              <a:solidFill>
                <a:srgbClr val="000000"/>
              </a:solidFill>
              <a:latin typeface="Arial"/>
            </a:endParaRPr>
          </a:p>
        </p:txBody>
      </p:sp>
      <p:sp>
        <p:nvSpPr>
          <p:cNvPr id="1300" name=""/>
          <p:cNvSpPr/>
          <p:nvPr/>
        </p:nvSpPr>
        <p:spPr>
          <a:xfrm>
            <a:off x="1790640" y="3105000"/>
            <a:ext cx="217188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gar industry</a:t>
            </a:r>
            <a:endParaRPr b="0" lang="en-US" sz="1800" spc="-1" strike="noStrike">
              <a:solidFill>
                <a:srgbClr val="000000"/>
              </a:solidFill>
              <a:latin typeface="Arial"/>
            </a:endParaRPr>
          </a:p>
        </p:txBody>
      </p:sp>
      <p:sp>
        <p:nvSpPr>
          <p:cNvPr id="1301" name=""/>
          <p:cNvSpPr/>
          <p:nvPr/>
        </p:nvSpPr>
        <p:spPr>
          <a:xfrm>
            <a:off x="5334120" y="1752480"/>
            <a:ext cx="22096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ltivation of soybeans</a:t>
            </a:r>
            <a:endParaRPr b="0" lang="en-US" sz="1800" spc="-1" strike="noStrike">
              <a:solidFill>
                <a:srgbClr val="000000"/>
              </a:solidFill>
              <a:latin typeface="Arial"/>
            </a:endParaRPr>
          </a:p>
        </p:txBody>
      </p:sp>
      <p:sp>
        <p:nvSpPr>
          <p:cNvPr id="1302" name=""/>
          <p:cNvSpPr/>
          <p:nvPr/>
        </p:nvSpPr>
        <p:spPr>
          <a:xfrm>
            <a:off x="5105520" y="3162240"/>
            <a:ext cx="25146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il extraction industry</a:t>
            </a:r>
            <a:endParaRPr b="0" lang="en-US" sz="1800" spc="-1" strike="noStrike">
              <a:solidFill>
                <a:srgbClr val="000000"/>
              </a:solidFill>
              <a:latin typeface="Arial"/>
            </a:endParaRPr>
          </a:p>
        </p:txBody>
      </p:sp>
      <p:sp>
        <p:nvSpPr>
          <p:cNvPr id="1303" name=""/>
          <p:cNvSpPr/>
          <p:nvPr/>
        </p:nvSpPr>
        <p:spPr>
          <a:xfrm>
            <a:off x="7734240" y="3219480"/>
            <a:ext cx="16002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il</a:t>
            </a:r>
            <a:endParaRPr b="0" lang="en-US" sz="1800" spc="-1" strike="noStrike">
              <a:solidFill>
                <a:srgbClr val="000000"/>
              </a:solidFill>
              <a:latin typeface="Arial"/>
            </a:endParaRPr>
          </a:p>
        </p:txBody>
      </p:sp>
      <p:sp>
        <p:nvSpPr>
          <p:cNvPr id="1304" name=""/>
          <p:cNvSpPr/>
          <p:nvPr/>
        </p:nvSpPr>
        <p:spPr>
          <a:xfrm>
            <a:off x="-152280" y="312408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gar</a:t>
            </a:r>
            <a:endParaRPr b="0" lang="en-US" sz="1800" spc="-1" strike="noStrike">
              <a:solidFill>
                <a:srgbClr val="000000"/>
              </a:solidFill>
              <a:latin typeface="Arial"/>
            </a:endParaRPr>
          </a:p>
        </p:txBody>
      </p:sp>
      <p:sp>
        <p:nvSpPr>
          <p:cNvPr id="1305" name=""/>
          <p:cNvSpPr/>
          <p:nvPr/>
        </p:nvSpPr>
        <p:spPr>
          <a:xfrm>
            <a:off x="1692360" y="4005360"/>
            <a:ext cx="2286000" cy="57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products from sugar industry</a:t>
            </a:r>
            <a:endParaRPr b="0" lang="en-US" sz="1800" spc="-1" strike="noStrike">
              <a:solidFill>
                <a:srgbClr val="000000"/>
              </a:solidFill>
              <a:latin typeface="Arial"/>
            </a:endParaRPr>
          </a:p>
        </p:txBody>
      </p:sp>
      <p:sp>
        <p:nvSpPr>
          <p:cNvPr id="1306" name=""/>
          <p:cNvSpPr/>
          <p:nvPr/>
        </p:nvSpPr>
        <p:spPr>
          <a:xfrm>
            <a:off x="5361120" y="4005360"/>
            <a:ext cx="20192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products from oil industry</a:t>
            </a:r>
            <a:endParaRPr b="0" lang="en-US" sz="1800" spc="-1" strike="noStrike">
              <a:solidFill>
                <a:srgbClr val="000000"/>
              </a:solidFill>
              <a:latin typeface="Arial"/>
            </a:endParaRPr>
          </a:p>
        </p:txBody>
      </p:sp>
      <p:sp>
        <p:nvSpPr>
          <p:cNvPr id="1307" name=""/>
          <p:cNvSpPr/>
          <p:nvPr/>
        </p:nvSpPr>
        <p:spPr>
          <a:xfrm>
            <a:off x="1905120" y="5295960"/>
            <a:ext cx="5143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iry farm</a:t>
            </a:r>
            <a:endParaRPr b="0" lang="en-US" sz="1800" spc="-1" strike="noStrike">
              <a:solidFill>
                <a:srgbClr val="000000"/>
              </a:solidFill>
              <a:latin typeface="Arial"/>
            </a:endParaRPr>
          </a:p>
        </p:txBody>
      </p:sp>
      <p:sp>
        <p:nvSpPr>
          <p:cNvPr id="1308" name=""/>
          <p:cNvSpPr/>
          <p:nvPr/>
        </p:nvSpPr>
        <p:spPr>
          <a:xfrm>
            <a:off x="3276720" y="5981760"/>
            <a:ext cx="2438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ilk      </a:t>
            </a:r>
            <a:r>
              <a:rPr b="0" lang="en-GB" sz="1600" spc="-1" strike="noStrike">
                <a:solidFill>
                  <a:srgbClr val="000000"/>
                </a:solidFill>
                <a:latin typeface="Tahoma"/>
              </a:rPr>
              <a:t>             </a:t>
            </a:r>
            <a:r>
              <a:rPr b="0" lang="en-GB" sz="1800" spc="-1" strike="noStrike">
                <a:solidFill>
                  <a:srgbClr val="000000"/>
                </a:solidFill>
                <a:latin typeface="Tahoma"/>
              </a:rPr>
              <a:t>meat</a:t>
            </a:r>
            <a:endParaRPr b="0" lang="en-US" sz="1800" spc="-1" strike="noStrike">
              <a:solidFill>
                <a:srgbClr val="000000"/>
              </a:solidFill>
              <a:latin typeface="Arial"/>
            </a:endParaRPr>
          </a:p>
        </p:txBody>
      </p:sp>
      <p:sp>
        <p:nvSpPr>
          <p:cNvPr id="1309" name=""/>
          <p:cNvSpPr/>
          <p:nvPr/>
        </p:nvSpPr>
        <p:spPr>
          <a:xfrm>
            <a:off x="2819520" y="118116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2819520" y="23828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2819520" y="4610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477120" y="118116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477120" y="2438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362640" y="4610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819520" y="36957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636264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581280" y="5638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7620120" y="34480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990720" y="333360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410080" y="5638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BDB6A95-880E-4EEB-9B06-84343C2BBE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21" name=""/>
          <p:cNvGraphicFramePr/>
          <p:nvPr/>
        </p:nvGraphicFramePr>
        <p:xfrm>
          <a:off x="609480" y="1905120"/>
          <a:ext cx="8001000" cy="3875040"/>
        </p:xfrm>
        <a:graphic>
          <a:graphicData uri="http://schemas.openxmlformats.org/drawingml/2006/table">
            <a:tbl>
              <a:tblPr/>
              <a:tblGrid>
                <a:gridCol w="2000520"/>
                <a:gridCol w="2000160"/>
                <a:gridCol w="2000160"/>
                <a:gridCol w="2000160"/>
              </a:tblGrid>
              <a:tr h="124020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8000"/>
                          </a:solidFill>
                          <a:latin typeface="Verdana"/>
                        </a:rPr>
                        <a:t>Crop</a:t>
                      </a:r>
                      <a:endParaRPr b="0" lang="en-US" sz="2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8000"/>
                          </a:solidFill>
                          <a:latin typeface="Verdana"/>
                          <a:ea typeface="Times New Roman"/>
                        </a:rPr>
                        <a:t>Products</a:t>
                      </a:r>
                      <a:r>
                        <a:rPr b="1" lang="en-GB" sz="2500" spc="-1" strike="noStrike">
                          <a:solidFill>
                            <a:srgbClr val="008000"/>
                          </a:solidFill>
                          <a:latin typeface="Verdana"/>
                        </a:rPr>
                        <a:t> </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8000"/>
                          </a:solidFill>
                          <a:latin typeface="Verdana"/>
                        </a:rPr>
                        <a:t>Mass allocation %</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8000"/>
                          </a:solidFill>
                          <a:latin typeface="Verdana"/>
                        </a:rPr>
                        <a:t>Price allocation %</a:t>
                      </a:r>
                      <a:endParaRPr b="0" lang="en-US" sz="2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950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ugar beet</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ugar, </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Verdana"/>
                        </a:rPr>
                        <a:t>beet pulp, molasse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66</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22</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1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83</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11</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6</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9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oybean</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Oil, </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Verdana"/>
                        </a:rPr>
                        <a:t>meal</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20</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8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69</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31</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2" name=""/>
          <p:cNvSpPr/>
          <p:nvPr/>
        </p:nvSpPr>
        <p:spPr>
          <a:xfrm>
            <a:off x="609480" y="506520"/>
            <a:ext cx="79250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ss and price ratio of ingredients in dairy concentrate feed (Cederberg and Mattson, 2000).</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9851102-6C27-4F3E-BA24-6719423FA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134100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How can we evaluate the effects of food products on the environment?</a:t>
            </a:r>
            <a:endParaRPr b="0" lang="en-US" sz="3600" spc="-1" strike="noStrike">
              <a:solidFill>
                <a:srgbClr val="0000cc"/>
              </a:solidFill>
              <a:latin typeface="Arial"/>
            </a:endParaRPr>
          </a:p>
        </p:txBody>
      </p:sp>
      <p:pic>
        <p:nvPicPr>
          <p:cNvPr id="97" name="" descr=""/>
          <p:cNvPicPr/>
          <p:nvPr/>
        </p:nvPicPr>
        <p:blipFill>
          <a:blip r:embed="rId1"/>
          <a:stretch/>
        </p:blipFill>
        <p:spPr>
          <a:xfrm>
            <a:off x="3429000" y="2590920"/>
            <a:ext cx="2525760" cy="3406680"/>
          </a:xfrm>
          <a:prstGeom prst="rect">
            <a:avLst/>
          </a:prstGeom>
          <a:ln w="0">
            <a:noFill/>
          </a:ln>
        </p:spPr>
      </p:pic>
      <p:sp>
        <p:nvSpPr>
          <p:cNvPr id="98" name=""/>
          <p:cNvSpPr/>
          <p:nvPr/>
        </p:nvSpPr>
        <p:spPr>
          <a:xfrm>
            <a:off x="2195640" y="3429000"/>
            <a:ext cx="496728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fe Cycle Assessmen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47A9E1C-C52C-4BC5-B486-F228C0C250C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diamond(in)" transition="in">
                                      <p:cBhvr additive="repl">
                                        <p:cTn id="7" dur="2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8"/>
                                        </p:tgtEl>
                                        <p:attrNameLst>
                                          <p:attrName>style.visibility</p:attrName>
                                        </p:attrNameLst>
                                      </p:cBhvr>
                                      <p:to>
                                        <p:strVal val="visible"/>
                                      </p:to>
                                    </p:set>
                                    <p:animEffect filter="checkerboard(across)"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9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Allocation: </a:t>
            </a:r>
            <a:br>
              <a:rPr sz="3200"/>
            </a:br>
            <a:r>
              <a:rPr b="0" lang="en-GB" sz="3200" spc="-1" strike="noStrike">
                <a:solidFill>
                  <a:srgbClr val="0000cc"/>
                </a:solidFill>
                <a:latin typeface="Arial"/>
              </a:rPr>
              <a:t>crop rotation and fertilization</a:t>
            </a:r>
            <a:endParaRPr b="0" lang="en-US" sz="3200" spc="-1" strike="noStrike">
              <a:solidFill>
                <a:srgbClr val="0000cc"/>
              </a:solidFill>
              <a:latin typeface="Arial"/>
            </a:endParaRPr>
          </a:p>
        </p:txBody>
      </p:sp>
      <p:sp>
        <p:nvSpPr>
          <p:cNvPr id="13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ow to consider interaction between crops in the rotation?</a:t>
            </a:r>
            <a:endParaRPr b="0" lang="en-US" sz="2900" spc="-1" strike="noStrike">
              <a:solidFill>
                <a:srgbClr val="000000"/>
              </a:solidFill>
              <a:latin typeface="Verdana"/>
            </a:endParaRPr>
          </a:p>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deally all the crops in a crop rotation system should be studied, since a crop may be influenced by the previous crops; the environmental loads should then be allocated among the different crop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346ED345-FB41-48B9-837F-98E413D5AF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186920" y="301320"/>
            <a:ext cx="7705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Allocation: </a:t>
            </a:r>
            <a:br>
              <a:rPr sz="3200"/>
            </a:br>
            <a:r>
              <a:rPr b="0" lang="en-GB" sz="3200" spc="-1" strike="noStrike">
                <a:solidFill>
                  <a:srgbClr val="0000cc"/>
                </a:solidFill>
                <a:latin typeface="Arial"/>
              </a:rPr>
              <a:t>crop rotation and fertilization </a:t>
            </a:r>
            <a:r>
              <a:rPr b="0" lang="en-GB" sz="1800" spc="-1" strike="noStrike">
                <a:solidFill>
                  <a:srgbClr val="0000cc"/>
                </a:solidFill>
                <a:latin typeface="Arial"/>
              </a:rPr>
              <a:t>(van Zeits et al., 1999)</a:t>
            </a:r>
            <a:endParaRPr b="0" lang="en-US" sz="1800" spc="-1" strike="noStrike">
              <a:solidFill>
                <a:srgbClr val="0000cc"/>
              </a:solidFill>
              <a:latin typeface="Arial"/>
            </a:endParaRPr>
          </a:p>
        </p:txBody>
      </p:sp>
      <p:sp>
        <p:nvSpPr>
          <p:cNvPr id="13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Farmers usually apply nitrogen fertilisers separately for each crop. Environmental impacts caused by application of N fertilisers can be fully allocated to the crop of application. </a:t>
            </a:r>
            <a:endParaRPr b="0" lang="en-US" sz="2500" spc="-1" strike="noStrike">
              <a:solidFill>
                <a:srgbClr val="000000"/>
              </a:solidFill>
              <a:latin typeface="Verdana"/>
            </a:endParaRPr>
          </a:p>
          <a:p>
            <a:pPr marL="343080" indent="-343080">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hosphate and potassium do not easily leach to ground water: overfertilising one crop may be a benefit to following crop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F071B15F-F82B-457C-8204-FA42D72D65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27" name=""/>
          <p:cNvGrpSpPr/>
          <p:nvPr/>
        </p:nvGrpSpPr>
        <p:grpSpPr>
          <a:xfrm>
            <a:off x="1979640" y="2187720"/>
            <a:ext cx="5113440" cy="4033440"/>
            <a:chOff x="1979640" y="2187720"/>
            <a:chExt cx="5113440" cy="4033440"/>
          </a:xfrm>
        </p:grpSpPr>
        <p:sp>
          <p:nvSpPr>
            <p:cNvPr id="1328" name=""/>
            <p:cNvSpPr/>
            <p:nvPr/>
          </p:nvSpPr>
          <p:spPr>
            <a:xfrm>
              <a:off x="2739240" y="2627280"/>
              <a:ext cx="359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duction of manure</a:t>
              </a:r>
              <a:endParaRPr b="0" lang="en-US" sz="2000" spc="-1" strike="noStrike">
                <a:solidFill>
                  <a:srgbClr val="000000"/>
                </a:solidFill>
                <a:latin typeface="Arial"/>
              </a:endParaRPr>
            </a:p>
          </p:txBody>
        </p:sp>
        <p:sp>
          <p:nvSpPr>
            <p:cNvPr id="1329" name=""/>
            <p:cNvSpPr/>
            <p:nvPr/>
          </p:nvSpPr>
          <p:spPr>
            <a:xfrm>
              <a:off x="2497320" y="3573720"/>
              <a:ext cx="4076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torage and transport to farm</a:t>
              </a:r>
              <a:endParaRPr b="0" lang="en-US" sz="2000" spc="-1" strike="noStrike">
                <a:solidFill>
                  <a:srgbClr val="000000"/>
                </a:solidFill>
                <a:latin typeface="Arial"/>
              </a:endParaRPr>
            </a:p>
          </p:txBody>
        </p:sp>
        <p:sp>
          <p:nvSpPr>
            <p:cNvPr id="1330" name=""/>
            <p:cNvSpPr/>
            <p:nvPr/>
          </p:nvSpPr>
          <p:spPr>
            <a:xfrm>
              <a:off x="2532600" y="4518720"/>
              <a:ext cx="4007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plication of animal manure</a:t>
              </a:r>
              <a:endParaRPr b="0" lang="en-US" sz="2000" spc="-1" strike="noStrike">
                <a:solidFill>
                  <a:srgbClr val="000000"/>
                </a:solidFill>
                <a:latin typeface="Arial"/>
              </a:endParaRPr>
            </a:p>
          </p:txBody>
        </p:sp>
        <p:sp>
          <p:nvSpPr>
            <p:cNvPr id="1331" name=""/>
            <p:cNvSpPr/>
            <p:nvPr/>
          </p:nvSpPr>
          <p:spPr>
            <a:xfrm>
              <a:off x="1979640" y="5398200"/>
              <a:ext cx="511344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a:t>
              </a:r>
              <a:r>
                <a:rPr b="0" lang="es-ES" sz="1800" spc="-1" strike="noStrike" baseline="-25000">
                  <a:solidFill>
                    <a:srgbClr val="000000"/>
                  </a:solidFill>
                  <a:latin typeface="Verdana"/>
                </a:rPr>
                <a:t>min</a:t>
              </a:r>
              <a:r>
                <a:rPr b="0" lang="es-ES" sz="1800" spc="-1" strike="noStrike">
                  <a:solidFill>
                    <a:srgbClr val="000000"/>
                  </a:solidFill>
                  <a:latin typeface="Verdana"/>
                </a:rPr>
                <a:t>     N</a:t>
              </a:r>
              <a:r>
                <a:rPr b="0" lang="es-ES" sz="1800" spc="-1" strike="noStrike" baseline="-25000">
                  <a:solidFill>
                    <a:srgbClr val="000000"/>
                  </a:solidFill>
                  <a:latin typeface="Verdana"/>
                </a:rPr>
                <a:t>org</a:t>
              </a:r>
              <a:r>
                <a:rPr b="0" lang="es-ES" sz="1800" spc="-1" strike="noStrike">
                  <a:solidFill>
                    <a:srgbClr val="000000"/>
                  </a:solidFill>
                  <a:latin typeface="Verdana"/>
                </a:rPr>
                <a:t>     P</a:t>
              </a:r>
              <a:r>
                <a:rPr b="0" lang="es-ES" sz="1800" spc="-1" strike="noStrike" baseline="-25000">
                  <a:solidFill>
                    <a:srgbClr val="000000"/>
                  </a:solidFill>
                  <a:latin typeface="Verdana"/>
                </a:rPr>
                <a:t>2</a:t>
              </a:r>
              <a:r>
                <a:rPr b="0" lang="es-ES" sz="1800" spc="-1" strike="noStrike">
                  <a:solidFill>
                    <a:srgbClr val="000000"/>
                  </a:solidFill>
                  <a:latin typeface="Verdana"/>
                </a:rPr>
                <a:t>O</a:t>
              </a:r>
              <a:r>
                <a:rPr b="0" lang="es-ES" sz="1800" spc="-1" strike="noStrike" baseline="-25000">
                  <a:solidFill>
                    <a:srgbClr val="000000"/>
                  </a:solidFill>
                  <a:latin typeface="Verdana"/>
                </a:rPr>
                <a:t>5</a:t>
              </a:r>
              <a:r>
                <a:rPr b="0" lang="es-ES" sz="1800" spc="-1" strike="noStrike">
                  <a:solidFill>
                    <a:srgbClr val="000000"/>
                  </a:solidFill>
                  <a:latin typeface="Verdana"/>
                </a:rPr>
                <a:t>     K</a:t>
              </a:r>
              <a:r>
                <a:rPr b="0" lang="es-ES" sz="1800" spc="-1" strike="noStrike" baseline="-25000">
                  <a:solidFill>
                    <a:srgbClr val="000000"/>
                  </a:solidFill>
                  <a:latin typeface="Verdana"/>
                </a:rPr>
                <a:t>2</a:t>
              </a:r>
              <a:r>
                <a:rPr b="0" lang="es-ES" sz="1800" spc="-1" strike="noStrike">
                  <a:solidFill>
                    <a:srgbClr val="000000"/>
                  </a:solidFill>
                  <a:latin typeface="Verdana"/>
                </a:rPr>
                <a:t>O  organic ma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 crop production</a:t>
              </a:r>
              <a:endParaRPr b="0" lang="en-US" sz="1800" spc="-1" strike="noStrike">
                <a:solidFill>
                  <a:srgbClr val="000000"/>
                </a:solidFill>
                <a:latin typeface="Arial"/>
              </a:endParaRPr>
            </a:p>
          </p:txBody>
        </p:sp>
        <p:sp>
          <p:nvSpPr>
            <p:cNvPr id="1332" name=""/>
            <p:cNvSpPr/>
            <p:nvPr/>
          </p:nvSpPr>
          <p:spPr>
            <a:xfrm>
              <a:off x="2014200" y="4497480"/>
              <a:ext cx="4906440" cy="483840"/>
            </a:xfrm>
            <a:prstGeom prst="rect">
              <a:avLst/>
            </a:prstGeom>
            <a:noFill/>
            <a:ln w="2232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013120" y="3573720"/>
              <a:ext cx="4906440" cy="483840"/>
            </a:xfrm>
            <a:prstGeom prst="rect">
              <a:avLst/>
            </a:prstGeom>
            <a:noFill/>
            <a:ln w="2232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013120" y="2627280"/>
              <a:ext cx="4906440" cy="483840"/>
            </a:xfrm>
            <a:prstGeom prst="rect">
              <a:avLst/>
            </a:prstGeom>
            <a:noFill/>
            <a:ln w="2232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4326840" y="2187720"/>
              <a:ext cx="144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4328280" y="3112920"/>
              <a:ext cx="108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328280" y="4057560"/>
              <a:ext cx="108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325240" y="4981320"/>
              <a:ext cx="108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085200" y="4981320"/>
              <a:ext cx="144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3912480" y="4981320"/>
              <a:ext cx="108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742640" y="4981320"/>
              <a:ext cx="144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054120" y="4981320"/>
              <a:ext cx="1080" cy="439560"/>
            </a:xfrm>
            <a:prstGeom prst="line">
              <a:avLst/>
            </a:prstGeom>
            <a:ln w="158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43" name="" descr=""/>
          <p:cNvPicPr/>
          <p:nvPr/>
        </p:nvPicPr>
        <p:blipFill>
          <a:blip r:embed="rId1"/>
          <a:stretch/>
        </p:blipFill>
        <p:spPr>
          <a:xfrm>
            <a:off x="2987640" y="533520"/>
            <a:ext cx="3097080" cy="1671480"/>
          </a:xfrm>
          <a:prstGeom prst="rect">
            <a:avLst/>
          </a:prstGeom>
          <a:ln w="0">
            <a:noFill/>
          </a:ln>
        </p:spPr>
      </p:pic>
      <p:sp>
        <p:nvSpPr>
          <p:cNvPr id="2" name="PlaceHolder 1"/>
          <p:cNvSpPr>
            <a:spLocks noGrp="1"/>
          </p:cNvSpPr>
          <p:nvPr>
            <p:ph type="sldNum" idx="3"/>
          </p:nvPr>
        </p:nvSpPr>
        <p:spPr/>
        <p:txBody>
          <a:bodyPr/>
          <a:p>
            <a:fld id="{51CA7660-4FED-47FE-837F-2CAB9AE6C8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186920" y="301320"/>
            <a:ext cx="7705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Allocation: </a:t>
            </a:r>
            <a:br>
              <a:rPr sz="3200"/>
            </a:br>
            <a:r>
              <a:rPr b="0" lang="en-GB" sz="3200" spc="-1" strike="noStrike">
                <a:solidFill>
                  <a:srgbClr val="0000cc"/>
                </a:solidFill>
                <a:latin typeface="Arial"/>
              </a:rPr>
              <a:t>crop rotation and fertilization </a:t>
            </a:r>
            <a:r>
              <a:rPr b="0" lang="en-GB" sz="1800" spc="-1" strike="noStrike">
                <a:solidFill>
                  <a:srgbClr val="0000cc"/>
                </a:solidFill>
                <a:latin typeface="Arial"/>
              </a:rPr>
              <a:t>(van Zeits et al., 1999)</a:t>
            </a:r>
            <a:endParaRPr b="0" lang="en-US" sz="1800" spc="-1" strike="noStrike">
              <a:solidFill>
                <a:srgbClr val="0000cc"/>
              </a:solidFill>
              <a:latin typeface="Arial"/>
            </a:endParaRPr>
          </a:p>
        </p:txBody>
      </p:sp>
      <p:sp>
        <p:nvSpPr>
          <p:cNvPr id="13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Application of animal manure is multi-output process: N</a:t>
            </a:r>
            <a:r>
              <a:rPr b="0" lang="en-GB" sz="2200" spc="-1" strike="noStrike" baseline="-25000">
                <a:solidFill>
                  <a:srgbClr val="000000"/>
                </a:solidFill>
                <a:latin typeface="Verdana"/>
              </a:rPr>
              <a:t>min</a:t>
            </a:r>
            <a:r>
              <a:rPr b="0" lang="en-GB" sz="2200" spc="-1" strike="noStrike">
                <a:solidFill>
                  <a:srgbClr val="000000"/>
                </a:solidFill>
                <a:latin typeface="Verdana"/>
              </a:rPr>
              <a:t>, N</a:t>
            </a:r>
            <a:r>
              <a:rPr b="0" lang="en-GB" sz="2200" spc="-1" strike="noStrike" baseline="-25000">
                <a:solidFill>
                  <a:srgbClr val="000000"/>
                </a:solidFill>
                <a:latin typeface="Verdana"/>
              </a:rPr>
              <a:t>org</a:t>
            </a:r>
            <a:r>
              <a:rPr b="0" lang="en-GB" sz="2200" spc="-1" strike="noStrike">
                <a:solidFill>
                  <a:srgbClr val="000000"/>
                </a:solidFill>
                <a:latin typeface="Verdana"/>
              </a:rPr>
              <a:t>, P</a:t>
            </a:r>
            <a:r>
              <a:rPr b="0" lang="en-GB" sz="2200" spc="-1" strike="noStrike" baseline="-25000">
                <a:solidFill>
                  <a:srgbClr val="000000"/>
                </a:solidFill>
                <a:latin typeface="Verdana"/>
              </a:rPr>
              <a:t>2</a:t>
            </a:r>
            <a:r>
              <a:rPr b="0" lang="en-GB" sz="2200" spc="-1" strike="noStrike">
                <a:solidFill>
                  <a:srgbClr val="000000"/>
                </a:solidFill>
                <a:latin typeface="Verdana"/>
              </a:rPr>
              <a:t>O</a:t>
            </a:r>
            <a:r>
              <a:rPr b="0" lang="en-GB" sz="2200" spc="-1" strike="noStrike" baseline="-25000">
                <a:solidFill>
                  <a:srgbClr val="000000"/>
                </a:solidFill>
                <a:latin typeface="Verdana"/>
              </a:rPr>
              <a:t>5</a:t>
            </a:r>
            <a:r>
              <a:rPr b="0" lang="en-GB" sz="2200" spc="-1" strike="noStrike">
                <a:solidFill>
                  <a:srgbClr val="000000"/>
                </a:solidFill>
                <a:latin typeface="Verdana"/>
              </a:rPr>
              <a:t>, K</a:t>
            </a:r>
            <a:r>
              <a:rPr b="0" lang="en-GB" sz="2200" spc="-1" strike="noStrike" baseline="-25000">
                <a:solidFill>
                  <a:srgbClr val="000000"/>
                </a:solidFill>
                <a:latin typeface="Verdana"/>
              </a:rPr>
              <a:t>2</a:t>
            </a:r>
            <a:r>
              <a:rPr b="0" lang="en-GB" sz="2200" spc="-1" strike="noStrike">
                <a:solidFill>
                  <a:srgbClr val="000000"/>
                </a:solidFill>
                <a:latin typeface="Verdana"/>
              </a:rPr>
              <a:t>O, organic matter. </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a:t>
            </a:r>
            <a:r>
              <a:rPr b="0" lang="en-GB" sz="2200" spc="-1" strike="noStrike" baseline="-25000">
                <a:solidFill>
                  <a:srgbClr val="000000"/>
                </a:solidFill>
                <a:latin typeface="Verdana"/>
              </a:rPr>
              <a:t>min</a:t>
            </a:r>
            <a:r>
              <a:rPr b="0" lang="en-GB" sz="2200" spc="-1" strike="noStrike">
                <a:solidFill>
                  <a:srgbClr val="000000"/>
                </a:solidFill>
                <a:latin typeface="Verdana"/>
              </a:rPr>
              <a:t> and N</a:t>
            </a:r>
            <a:r>
              <a:rPr b="0" lang="en-GB" sz="2200" spc="-1" strike="noStrike" baseline="-25000">
                <a:solidFill>
                  <a:srgbClr val="000000"/>
                </a:solidFill>
                <a:latin typeface="Verdana"/>
              </a:rPr>
              <a:t>org</a:t>
            </a:r>
            <a:r>
              <a:rPr b="0" lang="en-GB" sz="2200" spc="-1" strike="noStrike">
                <a:solidFill>
                  <a:srgbClr val="000000"/>
                </a:solidFill>
                <a:latin typeface="Verdana"/>
              </a:rPr>
              <a:t> first year available should be allocated to the crop of application. N</a:t>
            </a:r>
            <a:r>
              <a:rPr b="0" lang="en-GB" sz="2200" spc="-1" strike="noStrike" baseline="-25000">
                <a:solidFill>
                  <a:srgbClr val="000000"/>
                </a:solidFill>
                <a:latin typeface="Verdana"/>
              </a:rPr>
              <a:t>org </a:t>
            </a:r>
            <a:r>
              <a:rPr b="0" lang="en-GB" sz="2200" spc="-1" strike="noStrike">
                <a:solidFill>
                  <a:srgbClr val="000000"/>
                </a:solidFill>
                <a:latin typeface="Verdana"/>
              </a:rPr>
              <a:t>following years available should be allocated to all crops in the rotation. </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P</a:t>
            </a:r>
            <a:r>
              <a:rPr b="0" lang="en-GB" sz="2200" spc="-1" strike="noStrike" baseline="-25000">
                <a:solidFill>
                  <a:srgbClr val="000000"/>
                </a:solidFill>
                <a:latin typeface="Verdana"/>
              </a:rPr>
              <a:t>2</a:t>
            </a:r>
            <a:r>
              <a:rPr b="0" lang="en-GB" sz="2200" spc="-1" strike="noStrike">
                <a:solidFill>
                  <a:srgbClr val="000000"/>
                </a:solidFill>
                <a:latin typeface="Verdana"/>
              </a:rPr>
              <a:t>O</a:t>
            </a:r>
            <a:r>
              <a:rPr b="0" lang="en-GB" sz="2200" spc="-1" strike="noStrike" baseline="-25000">
                <a:solidFill>
                  <a:srgbClr val="000000"/>
                </a:solidFill>
                <a:latin typeface="Verdana"/>
              </a:rPr>
              <a:t>5</a:t>
            </a:r>
            <a:r>
              <a:rPr b="0" lang="en-GB" sz="2200" spc="-1" strike="noStrike">
                <a:solidFill>
                  <a:srgbClr val="000000"/>
                </a:solidFill>
                <a:latin typeface="Verdana"/>
              </a:rPr>
              <a:t> and K</a:t>
            </a:r>
            <a:r>
              <a:rPr b="0" lang="en-GB" sz="2200" spc="-1" strike="noStrike" baseline="-25000">
                <a:solidFill>
                  <a:srgbClr val="000000"/>
                </a:solidFill>
                <a:latin typeface="Verdana"/>
              </a:rPr>
              <a:t>2</a:t>
            </a:r>
            <a:r>
              <a:rPr b="0" lang="en-GB" sz="2200" spc="-1" strike="noStrike">
                <a:solidFill>
                  <a:srgbClr val="000000"/>
                </a:solidFill>
                <a:latin typeface="Verdana"/>
              </a:rPr>
              <a:t>O the same allocation principles as for chemical fertilisers. </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Organic matter benefits soil structure and soil life. All crops profit from this. So impacts should be allocated to all crops. The same for green manure.</a:t>
            </a:r>
            <a:endParaRPr b="0" lang="en-US" sz="22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B535ED42-9A99-492D-AC79-7238D44D9D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cc"/>
                </a:solidFill>
                <a:latin typeface="Arial"/>
              </a:rPr>
              <a:t>Life cycle inventory</a:t>
            </a:r>
            <a:endParaRPr b="0" lang="en-US" sz="4000" spc="-1" strike="noStrike">
              <a:solidFill>
                <a:srgbClr val="0000cc"/>
              </a:solidFill>
              <a:latin typeface="Arial"/>
            </a:endParaRPr>
          </a:p>
        </p:txBody>
      </p:sp>
      <p:sp>
        <p:nvSpPr>
          <p:cNvPr id="1347"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62F3BB49-69CC-4E55-997E-C400E726EF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cc"/>
                </a:solidFill>
                <a:latin typeface="Arial"/>
              </a:rPr>
              <a:t>Inventory analysis</a:t>
            </a:r>
            <a:endParaRPr b="0" lang="en-US" sz="3800" spc="-1" strike="noStrike">
              <a:solidFill>
                <a:srgbClr val="0000cc"/>
              </a:solidFill>
              <a:latin typeface="Arial"/>
            </a:endParaRPr>
          </a:p>
        </p:txBody>
      </p:sp>
      <p:sp>
        <p:nvSpPr>
          <p:cNvPr id="1349" name="PlaceHolder 2"/>
          <p:cNvSpPr>
            <a:spLocks noGrp="1"/>
          </p:cNvSpPr>
          <p:nvPr>
            <p:ph/>
          </p:nvPr>
        </p:nvSpPr>
        <p:spPr>
          <a:xfrm>
            <a:off x="1115640" y="1827360"/>
            <a:ext cx="7567560" cy="4114800"/>
          </a:xfrm>
          <a:prstGeom prst="rect">
            <a:avLst/>
          </a:prstGeom>
          <a:noFill/>
          <a:ln w="0">
            <a:noFill/>
          </a:ln>
        </p:spPr>
        <p:txBody>
          <a:bodyPr lIns="90000" rIns="90000" tIns="46800" bIns="46800" anchor="t">
            <a:normAutofit/>
          </a:bodyPr>
          <a:p>
            <a:pPr marL="343080" indent="-343080">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re are many factors that have a considerable bear and must be taken into account when carrying out the LCI.</a:t>
            </a:r>
            <a:endParaRPr b="0" lang="en-US" sz="2500" spc="-1" strike="noStrike">
              <a:solidFill>
                <a:srgbClr val="000000"/>
              </a:solidFill>
              <a:latin typeface="Verdana"/>
            </a:endParaRPr>
          </a:p>
        </p:txBody>
      </p:sp>
      <p:grpSp>
        <p:nvGrpSpPr>
          <p:cNvPr id="1350" name=""/>
          <p:cNvGrpSpPr/>
          <p:nvPr/>
        </p:nvGrpSpPr>
        <p:grpSpPr>
          <a:xfrm>
            <a:off x="1406520" y="3352680"/>
            <a:ext cx="6467400" cy="2630520"/>
            <a:chOff x="1406520" y="3352680"/>
            <a:chExt cx="6467400" cy="2630520"/>
          </a:xfrm>
        </p:grpSpPr>
        <p:sp>
          <p:nvSpPr>
            <p:cNvPr id="1351" name=""/>
            <p:cNvSpPr/>
            <p:nvPr/>
          </p:nvSpPr>
          <p:spPr>
            <a:xfrm>
              <a:off x="1406520" y="3568680"/>
              <a:ext cx="272880" cy="1913040"/>
            </a:xfrm>
            <a:custGeom>
              <a:avLst/>
              <a:gdLst/>
              <a:ahLst/>
              <a:rect l="l" t="t" r="r" b="b"/>
              <a:pathLst>
                <a:path w="343" h="2410">
                  <a:moveTo>
                    <a:pt x="0" y="2353"/>
                  </a:moveTo>
                  <a:lnTo>
                    <a:pt x="0" y="2359"/>
                  </a:lnTo>
                  <a:lnTo>
                    <a:pt x="1" y="2366"/>
                  </a:lnTo>
                  <a:lnTo>
                    <a:pt x="1" y="2370"/>
                  </a:lnTo>
                  <a:lnTo>
                    <a:pt x="4" y="2376"/>
                  </a:lnTo>
                  <a:lnTo>
                    <a:pt x="6" y="2381"/>
                  </a:lnTo>
                  <a:lnTo>
                    <a:pt x="9" y="2386"/>
                  </a:lnTo>
                  <a:lnTo>
                    <a:pt x="12" y="2390"/>
                  </a:lnTo>
                  <a:lnTo>
                    <a:pt x="17" y="2393"/>
                  </a:lnTo>
                  <a:lnTo>
                    <a:pt x="20" y="2398"/>
                  </a:lnTo>
                  <a:lnTo>
                    <a:pt x="24" y="2401"/>
                  </a:lnTo>
                  <a:lnTo>
                    <a:pt x="29" y="2404"/>
                  </a:lnTo>
                  <a:lnTo>
                    <a:pt x="35" y="2406"/>
                  </a:lnTo>
                  <a:lnTo>
                    <a:pt x="40" y="2409"/>
                  </a:lnTo>
                  <a:lnTo>
                    <a:pt x="46" y="2410"/>
                  </a:lnTo>
                  <a:lnTo>
                    <a:pt x="50" y="2410"/>
                  </a:lnTo>
                  <a:lnTo>
                    <a:pt x="57" y="2410"/>
                  </a:lnTo>
                  <a:lnTo>
                    <a:pt x="286" y="2410"/>
                  </a:lnTo>
                  <a:lnTo>
                    <a:pt x="290" y="2410"/>
                  </a:lnTo>
                  <a:lnTo>
                    <a:pt x="296" y="2410"/>
                  </a:lnTo>
                  <a:lnTo>
                    <a:pt x="303" y="2409"/>
                  </a:lnTo>
                  <a:lnTo>
                    <a:pt x="307" y="2406"/>
                  </a:lnTo>
                  <a:lnTo>
                    <a:pt x="312" y="2404"/>
                  </a:lnTo>
                  <a:lnTo>
                    <a:pt x="316" y="2401"/>
                  </a:lnTo>
                  <a:lnTo>
                    <a:pt x="321" y="2398"/>
                  </a:lnTo>
                  <a:lnTo>
                    <a:pt x="326" y="2393"/>
                  </a:lnTo>
                  <a:lnTo>
                    <a:pt x="329" y="2390"/>
                  </a:lnTo>
                  <a:lnTo>
                    <a:pt x="332" y="2386"/>
                  </a:lnTo>
                  <a:lnTo>
                    <a:pt x="335" y="2381"/>
                  </a:lnTo>
                  <a:lnTo>
                    <a:pt x="338" y="2376"/>
                  </a:lnTo>
                  <a:lnTo>
                    <a:pt x="340" y="2370"/>
                  </a:lnTo>
                  <a:lnTo>
                    <a:pt x="341" y="2366"/>
                  </a:lnTo>
                  <a:lnTo>
                    <a:pt x="343" y="2359"/>
                  </a:lnTo>
                  <a:lnTo>
                    <a:pt x="343" y="2353"/>
                  </a:lnTo>
                  <a:lnTo>
                    <a:pt x="343" y="57"/>
                  </a:lnTo>
                  <a:lnTo>
                    <a:pt x="343" y="51"/>
                  </a:lnTo>
                  <a:lnTo>
                    <a:pt x="341" y="45"/>
                  </a:lnTo>
                  <a:lnTo>
                    <a:pt x="340" y="40"/>
                  </a:lnTo>
                  <a:lnTo>
                    <a:pt x="338" y="34"/>
                  </a:lnTo>
                  <a:lnTo>
                    <a:pt x="335" y="29"/>
                  </a:lnTo>
                  <a:lnTo>
                    <a:pt x="332" y="25"/>
                  </a:lnTo>
                  <a:lnTo>
                    <a:pt x="329" y="20"/>
                  </a:lnTo>
                  <a:lnTo>
                    <a:pt x="326" y="15"/>
                  </a:lnTo>
                  <a:lnTo>
                    <a:pt x="321" y="12"/>
                  </a:lnTo>
                  <a:lnTo>
                    <a:pt x="316" y="9"/>
                  </a:lnTo>
                  <a:lnTo>
                    <a:pt x="312" y="6"/>
                  </a:lnTo>
                  <a:lnTo>
                    <a:pt x="307" y="3"/>
                  </a:lnTo>
                  <a:lnTo>
                    <a:pt x="303" y="2"/>
                  </a:lnTo>
                  <a:lnTo>
                    <a:pt x="296" y="0"/>
                  </a:lnTo>
                  <a:lnTo>
                    <a:pt x="290" y="0"/>
                  </a:lnTo>
                  <a:lnTo>
                    <a:pt x="286" y="0"/>
                  </a:lnTo>
                  <a:lnTo>
                    <a:pt x="57" y="0"/>
                  </a:lnTo>
                  <a:lnTo>
                    <a:pt x="50" y="0"/>
                  </a:lnTo>
                  <a:lnTo>
                    <a:pt x="46" y="0"/>
                  </a:lnTo>
                  <a:lnTo>
                    <a:pt x="40" y="2"/>
                  </a:lnTo>
                  <a:lnTo>
                    <a:pt x="35" y="3"/>
                  </a:lnTo>
                  <a:lnTo>
                    <a:pt x="29" y="6"/>
                  </a:lnTo>
                  <a:lnTo>
                    <a:pt x="24" y="9"/>
                  </a:lnTo>
                  <a:lnTo>
                    <a:pt x="20" y="12"/>
                  </a:lnTo>
                  <a:lnTo>
                    <a:pt x="17" y="15"/>
                  </a:lnTo>
                  <a:lnTo>
                    <a:pt x="12" y="20"/>
                  </a:lnTo>
                  <a:lnTo>
                    <a:pt x="9" y="25"/>
                  </a:lnTo>
                  <a:lnTo>
                    <a:pt x="6" y="29"/>
                  </a:lnTo>
                  <a:lnTo>
                    <a:pt x="4" y="34"/>
                  </a:lnTo>
                  <a:lnTo>
                    <a:pt x="1" y="40"/>
                  </a:lnTo>
                  <a:lnTo>
                    <a:pt x="1" y="45"/>
                  </a:lnTo>
                  <a:lnTo>
                    <a:pt x="0" y="51"/>
                  </a:lnTo>
                  <a:lnTo>
                    <a:pt x="0" y="57"/>
                  </a:lnTo>
                  <a:lnTo>
                    <a:pt x="0" y="2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1406520" y="3568680"/>
              <a:ext cx="272880" cy="1913040"/>
            </a:xfrm>
            <a:custGeom>
              <a:avLst/>
              <a:gdLst/>
              <a:ahLst/>
              <a:rect l="l" t="t" r="r" b="b"/>
              <a:pathLst>
                <a:path w="343" h="2410">
                  <a:moveTo>
                    <a:pt x="0" y="2353"/>
                  </a:moveTo>
                  <a:lnTo>
                    <a:pt x="0" y="2359"/>
                  </a:lnTo>
                  <a:lnTo>
                    <a:pt x="1" y="2366"/>
                  </a:lnTo>
                  <a:lnTo>
                    <a:pt x="1" y="2370"/>
                  </a:lnTo>
                  <a:lnTo>
                    <a:pt x="4" y="2376"/>
                  </a:lnTo>
                  <a:lnTo>
                    <a:pt x="6" y="2381"/>
                  </a:lnTo>
                  <a:lnTo>
                    <a:pt x="9" y="2386"/>
                  </a:lnTo>
                  <a:lnTo>
                    <a:pt x="12" y="2390"/>
                  </a:lnTo>
                  <a:lnTo>
                    <a:pt x="17" y="2393"/>
                  </a:lnTo>
                  <a:lnTo>
                    <a:pt x="20" y="2398"/>
                  </a:lnTo>
                  <a:lnTo>
                    <a:pt x="24" y="2401"/>
                  </a:lnTo>
                  <a:lnTo>
                    <a:pt x="29" y="2404"/>
                  </a:lnTo>
                  <a:lnTo>
                    <a:pt x="35" y="2406"/>
                  </a:lnTo>
                  <a:lnTo>
                    <a:pt x="40" y="2409"/>
                  </a:lnTo>
                  <a:lnTo>
                    <a:pt x="46" y="2410"/>
                  </a:lnTo>
                  <a:lnTo>
                    <a:pt x="50" y="2410"/>
                  </a:lnTo>
                  <a:lnTo>
                    <a:pt x="57" y="2410"/>
                  </a:lnTo>
                  <a:lnTo>
                    <a:pt x="286" y="2410"/>
                  </a:lnTo>
                  <a:lnTo>
                    <a:pt x="290" y="2410"/>
                  </a:lnTo>
                  <a:lnTo>
                    <a:pt x="296" y="2410"/>
                  </a:lnTo>
                  <a:lnTo>
                    <a:pt x="303" y="2409"/>
                  </a:lnTo>
                  <a:lnTo>
                    <a:pt x="307" y="2406"/>
                  </a:lnTo>
                  <a:lnTo>
                    <a:pt x="312" y="2404"/>
                  </a:lnTo>
                  <a:lnTo>
                    <a:pt x="316" y="2401"/>
                  </a:lnTo>
                  <a:lnTo>
                    <a:pt x="321" y="2398"/>
                  </a:lnTo>
                  <a:lnTo>
                    <a:pt x="326" y="2393"/>
                  </a:lnTo>
                  <a:lnTo>
                    <a:pt x="329" y="2390"/>
                  </a:lnTo>
                  <a:lnTo>
                    <a:pt x="332" y="2386"/>
                  </a:lnTo>
                  <a:lnTo>
                    <a:pt x="335" y="2381"/>
                  </a:lnTo>
                  <a:lnTo>
                    <a:pt x="338" y="2376"/>
                  </a:lnTo>
                  <a:lnTo>
                    <a:pt x="340" y="2370"/>
                  </a:lnTo>
                  <a:lnTo>
                    <a:pt x="341" y="2366"/>
                  </a:lnTo>
                  <a:lnTo>
                    <a:pt x="343" y="2359"/>
                  </a:lnTo>
                  <a:lnTo>
                    <a:pt x="343" y="2353"/>
                  </a:lnTo>
                  <a:lnTo>
                    <a:pt x="343" y="57"/>
                  </a:lnTo>
                  <a:lnTo>
                    <a:pt x="343" y="51"/>
                  </a:lnTo>
                  <a:lnTo>
                    <a:pt x="341" y="45"/>
                  </a:lnTo>
                  <a:lnTo>
                    <a:pt x="340" y="40"/>
                  </a:lnTo>
                  <a:lnTo>
                    <a:pt x="338" y="34"/>
                  </a:lnTo>
                  <a:lnTo>
                    <a:pt x="335" y="29"/>
                  </a:lnTo>
                  <a:lnTo>
                    <a:pt x="332" y="25"/>
                  </a:lnTo>
                  <a:lnTo>
                    <a:pt x="329" y="20"/>
                  </a:lnTo>
                  <a:lnTo>
                    <a:pt x="326" y="15"/>
                  </a:lnTo>
                  <a:lnTo>
                    <a:pt x="321" y="12"/>
                  </a:lnTo>
                  <a:lnTo>
                    <a:pt x="316" y="9"/>
                  </a:lnTo>
                  <a:lnTo>
                    <a:pt x="312" y="6"/>
                  </a:lnTo>
                  <a:lnTo>
                    <a:pt x="307" y="3"/>
                  </a:lnTo>
                  <a:lnTo>
                    <a:pt x="303" y="2"/>
                  </a:lnTo>
                  <a:lnTo>
                    <a:pt x="296" y="0"/>
                  </a:lnTo>
                  <a:lnTo>
                    <a:pt x="290" y="0"/>
                  </a:lnTo>
                  <a:lnTo>
                    <a:pt x="286" y="0"/>
                  </a:lnTo>
                  <a:lnTo>
                    <a:pt x="57" y="0"/>
                  </a:lnTo>
                  <a:lnTo>
                    <a:pt x="50" y="0"/>
                  </a:lnTo>
                  <a:lnTo>
                    <a:pt x="46" y="0"/>
                  </a:lnTo>
                  <a:lnTo>
                    <a:pt x="40" y="2"/>
                  </a:lnTo>
                  <a:lnTo>
                    <a:pt x="35" y="3"/>
                  </a:lnTo>
                  <a:lnTo>
                    <a:pt x="29" y="6"/>
                  </a:lnTo>
                  <a:lnTo>
                    <a:pt x="24" y="9"/>
                  </a:lnTo>
                  <a:lnTo>
                    <a:pt x="20" y="12"/>
                  </a:lnTo>
                  <a:lnTo>
                    <a:pt x="17" y="15"/>
                  </a:lnTo>
                  <a:lnTo>
                    <a:pt x="12" y="20"/>
                  </a:lnTo>
                  <a:lnTo>
                    <a:pt x="9" y="25"/>
                  </a:lnTo>
                  <a:lnTo>
                    <a:pt x="6" y="29"/>
                  </a:lnTo>
                  <a:lnTo>
                    <a:pt x="4" y="34"/>
                  </a:lnTo>
                  <a:lnTo>
                    <a:pt x="1" y="40"/>
                  </a:lnTo>
                  <a:lnTo>
                    <a:pt x="1" y="45"/>
                  </a:lnTo>
                  <a:lnTo>
                    <a:pt x="0" y="51"/>
                  </a:lnTo>
                  <a:lnTo>
                    <a:pt x="0" y="57"/>
                  </a:lnTo>
                  <a:lnTo>
                    <a:pt x="0" y="235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rot="16200000">
              <a:off x="831600" y="4442040"/>
              <a:ext cx="1422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nvironmental interventions</a:t>
              </a:r>
              <a:endParaRPr b="0" lang="en-US" sz="1100" spc="-1" strike="noStrike">
                <a:solidFill>
                  <a:srgbClr val="000000"/>
                </a:solidFill>
                <a:latin typeface="Arial"/>
              </a:endParaRPr>
            </a:p>
          </p:txBody>
        </p:sp>
        <p:sp>
          <p:nvSpPr>
            <p:cNvPr id="1354" name=""/>
            <p:cNvSpPr/>
            <p:nvPr/>
          </p:nvSpPr>
          <p:spPr>
            <a:xfrm>
              <a:off x="2495520" y="3560760"/>
              <a:ext cx="1338120" cy="1806480"/>
            </a:xfrm>
            <a:custGeom>
              <a:avLst/>
              <a:gdLst/>
              <a:ahLst/>
              <a:rect l="l" t="t" r="r" b="b"/>
              <a:pathLst>
                <a:path w="1685" h="2277">
                  <a:moveTo>
                    <a:pt x="280" y="0"/>
                  </a:moveTo>
                  <a:lnTo>
                    <a:pt x="266" y="2"/>
                  </a:lnTo>
                  <a:lnTo>
                    <a:pt x="252" y="2"/>
                  </a:lnTo>
                  <a:lnTo>
                    <a:pt x="237" y="3"/>
                  </a:lnTo>
                  <a:lnTo>
                    <a:pt x="223" y="6"/>
                  </a:lnTo>
                  <a:lnTo>
                    <a:pt x="210" y="10"/>
                  </a:lnTo>
                  <a:lnTo>
                    <a:pt x="197" y="13"/>
                  </a:lnTo>
                  <a:lnTo>
                    <a:pt x="183" y="17"/>
                  </a:lnTo>
                  <a:lnTo>
                    <a:pt x="170" y="23"/>
                  </a:lnTo>
                  <a:lnTo>
                    <a:pt x="158" y="28"/>
                  </a:lnTo>
                  <a:lnTo>
                    <a:pt x="146" y="34"/>
                  </a:lnTo>
                  <a:lnTo>
                    <a:pt x="135" y="42"/>
                  </a:lnTo>
                  <a:lnTo>
                    <a:pt x="123" y="49"/>
                  </a:lnTo>
                  <a:lnTo>
                    <a:pt x="112" y="57"/>
                  </a:lnTo>
                  <a:lnTo>
                    <a:pt x="101" y="65"/>
                  </a:lnTo>
                  <a:lnTo>
                    <a:pt x="90" y="74"/>
                  </a:lnTo>
                  <a:lnTo>
                    <a:pt x="81" y="83"/>
                  </a:lnTo>
                  <a:lnTo>
                    <a:pt x="72" y="93"/>
                  </a:lnTo>
                  <a:lnTo>
                    <a:pt x="63" y="103"/>
                  </a:lnTo>
                  <a:lnTo>
                    <a:pt x="55" y="114"/>
                  </a:lnTo>
                  <a:lnTo>
                    <a:pt x="47" y="125"/>
                  </a:lnTo>
                  <a:lnTo>
                    <a:pt x="40" y="136"/>
                  </a:lnTo>
                  <a:lnTo>
                    <a:pt x="33" y="148"/>
                  </a:lnTo>
                  <a:lnTo>
                    <a:pt x="27" y="160"/>
                  </a:lnTo>
                  <a:lnTo>
                    <a:pt x="21" y="172"/>
                  </a:lnTo>
                  <a:lnTo>
                    <a:pt x="17" y="185"/>
                  </a:lnTo>
                  <a:lnTo>
                    <a:pt x="12" y="199"/>
                  </a:lnTo>
                  <a:lnTo>
                    <a:pt x="7" y="211"/>
                  </a:lnTo>
                  <a:lnTo>
                    <a:pt x="4" y="225"/>
                  </a:lnTo>
                  <a:lnTo>
                    <a:pt x="3" y="239"/>
                  </a:lnTo>
                  <a:lnTo>
                    <a:pt x="0" y="252"/>
                  </a:lnTo>
                  <a:lnTo>
                    <a:pt x="0" y="268"/>
                  </a:lnTo>
                  <a:lnTo>
                    <a:pt x="0" y="282"/>
                  </a:lnTo>
                  <a:lnTo>
                    <a:pt x="0" y="1995"/>
                  </a:lnTo>
                  <a:lnTo>
                    <a:pt x="0" y="2009"/>
                  </a:lnTo>
                  <a:lnTo>
                    <a:pt x="0" y="2023"/>
                  </a:lnTo>
                  <a:lnTo>
                    <a:pt x="3" y="2037"/>
                  </a:lnTo>
                  <a:lnTo>
                    <a:pt x="4" y="2052"/>
                  </a:lnTo>
                  <a:lnTo>
                    <a:pt x="7" y="2065"/>
                  </a:lnTo>
                  <a:lnTo>
                    <a:pt x="12" y="2078"/>
                  </a:lnTo>
                  <a:lnTo>
                    <a:pt x="17" y="2092"/>
                  </a:lnTo>
                  <a:lnTo>
                    <a:pt x="21" y="2105"/>
                  </a:lnTo>
                  <a:lnTo>
                    <a:pt x="27" y="2117"/>
                  </a:lnTo>
                  <a:lnTo>
                    <a:pt x="33" y="2129"/>
                  </a:lnTo>
                  <a:lnTo>
                    <a:pt x="40" y="2140"/>
                  </a:lnTo>
                  <a:lnTo>
                    <a:pt x="47" y="2152"/>
                  </a:lnTo>
                  <a:lnTo>
                    <a:pt x="55" y="2163"/>
                  </a:lnTo>
                  <a:lnTo>
                    <a:pt x="63" y="2174"/>
                  </a:lnTo>
                  <a:lnTo>
                    <a:pt x="72" y="2184"/>
                  </a:lnTo>
                  <a:lnTo>
                    <a:pt x="81" y="2194"/>
                  </a:lnTo>
                  <a:lnTo>
                    <a:pt x="90" y="2203"/>
                  </a:lnTo>
                  <a:lnTo>
                    <a:pt x="101" y="2212"/>
                  </a:lnTo>
                  <a:lnTo>
                    <a:pt x="112" y="2220"/>
                  </a:lnTo>
                  <a:lnTo>
                    <a:pt x="123" y="2227"/>
                  </a:lnTo>
                  <a:lnTo>
                    <a:pt x="135" y="2235"/>
                  </a:lnTo>
                  <a:lnTo>
                    <a:pt x="146" y="2241"/>
                  </a:lnTo>
                  <a:lnTo>
                    <a:pt x="158" y="2247"/>
                  </a:lnTo>
                  <a:lnTo>
                    <a:pt x="170" y="2254"/>
                  </a:lnTo>
                  <a:lnTo>
                    <a:pt x="183" y="2258"/>
                  </a:lnTo>
                  <a:lnTo>
                    <a:pt x="197" y="2263"/>
                  </a:lnTo>
                  <a:lnTo>
                    <a:pt x="210" y="2267"/>
                  </a:lnTo>
                  <a:lnTo>
                    <a:pt x="223" y="2271"/>
                  </a:lnTo>
                  <a:lnTo>
                    <a:pt x="237" y="2272"/>
                  </a:lnTo>
                  <a:lnTo>
                    <a:pt x="252" y="2275"/>
                  </a:lnTo>
                  <a:lnTo>
                    <a:pt x="266" y="2275"/>
                  </a:lnTo>
                  <a:lnTo>
                    <a:pt x="280" y="2277"/>
                  </a:lnTo>
                  <a:lnTo>
                    <a:pt x="1406" y="2277"/>
                  </a:lnTo>
                  <a:lnTo>
                    <a:pt x="1419" y="2275"/>
                  </a:lnTo>
                  <a:lnTo>
                    <a:pt x="1433" y="2275"/>
                  </a:lnTo>
                  <a:lnTo>
                    <a:pt x="1447" y="2272"/>
                  </a:lnTo>
                  <a:lnTo>
                    <a:pt x="1461" y="2271"/>
                  </a:lnTo>
                  <a:lnTo>
                    <a:pt x="1475" y="2267"/>
                  </a:lnTo>
                  <a:lnTo>
                    <a:pt x="1489" y="2263"/>
                  </a:lnTo>
                  <a:lnTo>
                    <a:pt x="1501" y="2258"/>
                  </a:lnTo>
                  <a:lnTo>
                    <a:pt x="1515" y="2254"/>
                  </a:lnTo>
                  <a:lnTo>
                    <a:pt x="1527" y="2247"/>
                  </a:lnTo>
                  <a:lnTo>
                    <a:pt x="1539" y="2241"/>
                  </a:lnTo>
                  <a:lnTo>
                    <a:pt x="1550" y="2235"/>
                  </a:lnTo>
                  <a:lnTo>
                    <a:pt x="1562" y="2227"/>
                  </a:lnTo>
                  <a:lnTo>
                    <a:pt x="1573" y="2220"/>
                  </a:lnTo>
                  <a:lnTo>
                    <a:pt x="1584" y="2212"/>
                  </a:lnTo>
                  <a:lnTo>
                    <a:pt x="1593" y="2203"/>
                  </a:lnTo>
                  <a:lnTo>
                    <a:pt x="1604" y="2194"/>
                  </a:lnTo>
                  <a:lnTo>
                    <a:pt x="1613" y="2184"/>
                  </a:lnTo>
                  <a:lnTo>
                    <a:pt x="1622" y="2174"/>
                  </a:lnTo>
                  <a:lnTo>
                    <a:pt x="1630" y="2163"/>
                  </a:lnTo>
                  <a:lnTo>
                    <a:pt x="1638" y="2152"/>
                  </a:lnTo>
                  <a:lnTo>
                    <a:pt x="1645" y="2140"/>
                  </a:lnTo>
                  <a:lnTo>
                    <a:pt x="1652" y="2129"/>
                  </a:lnTo>
                  <a:lnTo>
                    <a:pt x="1658" y="2117"/>
                  </a:lnTo>
                  <a:lnTo>
                    <a:pt x="1664" y="2105"/>
                  </a:lnTo>
                  <a:lnTo>
                    <a:pt x="1669" y="2092"/>
                  </a:lnTo>
                  <a:lnTo>
                    <a:pt x="1673" y="2078"/>
                  </a:lnTo>
                  <a:lnTo>
                    <a:pt x="1678" y="2065"/>
                  </a:lnTo>
                  <a:lnTo>
                    <a:pt x="1681" y="2052"/>
                  </a:lnTo>
                  <a:lnTo>
                    <a:pt x="1682" y="2037"/>
                  </a:lnTo>
                  <a:lnTo>
                    <a:pt x="1684" y="2023"/>
                  </a:lnTo>
                  <a:lnTo>
                    <a:pt x="1685" y="2009"/>
                  </a:lnTo>
                  <a:lnTo>
                    <a:pt x="1685" y="1995"/>
                  </a:lnTo>
                  <a:lnTo>
                    <a:pt x="1685" y="282"/>
                  </a:lnTo>
                  <a:lnTo>
                    <a:pt x="1685" y="268"/>
                  </a:lnTo>
                  <a:lnTo>
                    <a:pt x="1684" y="252"/>
                  </a:lnTo>
                  <a:lnTo>
                    <a:pt x="1682" y="239"/>
                  </a:lnTo>
                  <a:lnTo>
                    <a:pt x="1681" y="225"/>
                  </a:lnTo>
                  <a:lnTo>
                    <a:pt x="1678" y="211"/>
                  </a:lnTo>
                  <a:lnTo>
                    <a:pt x="1673" y="199"/>
                  </a:lnTo>
                  <a:lnTo>
                    <a:pt x="1669" y="185"/>
                  </a:lnTo>
                  <a:lnTo>
                    <a:pt x="1664" y="172"/>
                  </a:lnTo>
                  <a:lnTo>
                    <a:pt x="1658" y="160"/>
                  </a:lnTo>
                  <a:lnTo>
                    <a:pt x="1652" y="148"/>
                  </a:lnTo>
                  <a:lnTo>
                    <a:pt x="1645" y="136"/>
                  </a:lnTo>
                  <a:lnTo>
                    <a:pt x="1638" y="125"/>
                  </a:lnTo>
                  <a:lnTo>
                    <a:pt x="1630" y="114"/>
                  </a:lnTo>
                  <a:lnTo>
                    <a:pt x="1622" y="103"/>
                  </a:lnTo>
                  <a:lnTo>
                    <a:pt x="1613" y="93"/>
                  </a:lnTo>
                  <a:lnTo>
                    <a:pt x="1604" y="83"/>
                  </a:lnTo>
                  <a:lnTo>
                    <a:pt x="1593" y="74"/>
                  </a:lnTo>
                  <a:lnTo>
                    <a:pt x="1584" y="65"/>
                  </a:lnTo>
                  <a:lnTo>
                    <a:pt x="1573" y="57"/>
                  </a:lnTo>
                  <a:lnTo>
                    <a:pt x="1562" y="49"/>
                  </a:lnTo>
                  <a:lnTo>
                    <a:pt x="1550" y="42"/>
                  </a:lnTo>
                  <a:lnTo>
                    <a:pt x="1539" y="34"/>
                  </a:lnTo>
                  <a:lnTo>
                    <a:pt x="1527" y="28"/>
                  </a:lnTo>
                  <a:lnTo>
                    <a:pt x="1515" y="23"/>
                  </a:lnTo>
                  <a:lnTo>
                    <a:pt x="1501" y="17"/>
                  </a:lnTo>
                  <a:lnTo>
                    <a:pt x="1489" y="13"/>
                  </a:lnTo>
                  <a:lnTo>
                    <a:pt x="1475" y="10"/>
                  </a:lnTo>
                  <a:lnTo>
                    <a:pt x="1461" y="6"/>
                  </a:lnTo>
                  <a:lnTo>
                    <a:pt x="1447" y="3"/>
                  </a:lnTo>
                  <a:lnTo>
                    <a:pt x="1433" y="2"/>
                  </a:lnTo>
                  <a:lnTo>
                    <a:pt x="1419" y="2"/>
                  </a:lnTo>
                  <a:lnTo>
                    <a:pt x="1406" y="0"/>
                  </a:lnTo>
                  <a:lnTo>
                    <a:pt x="28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495520" y="3560760"/>
              <a:ext cx="1338120" cy="1806480"/>
            </a:xfrm>
            <a:custGeom>
              <a:avLst/>
              <a:gdLst/>
              <a:ahLst/>
              <a:rect l="l" t="t" r="r" b="b"/>
              <a:pathLst>
                <a:path w="1685" h="2277">
                  <a:moveTo>
                    <a:pt x="280" y="0"/>
                  </a:moveTo>
                  <a:lnTo>
                    <a:pt x="266" y="2"/>
                  </a:lnTo>
                  <a:lnTo>
                    <a:pt x="252" y="2"/>
                  </a:lnTo>
                  <a:lnTo>
                    <a:pt x="237" y="3"/>
                  </a:lnTo>
                  <a:lnTo>
                    <a:pt x="223" y="6"/>
                  </a:lnTo>
                  <a:lnTo>
                    <a:pt x="210" y="10"/>
                  </a:lnTo>
                  <a:lnTo>
                    <a:pt x="197" y="13"/>
                  </a:lnTo>
                  <a:lnTo>
                    <a:pt x="183" y="17"/>
                  </a:lnTo>
                  <a:lnTo>
                    <a:pt x="170" y="23"/>
                  </a:lnTo>
                  <a:lnTo>
                    <a:pt x="158" y="28"/>
                  </a:lnTo>
                  <a:lnTo>
                    <a:pt x="146" y="34"/>
                  </a:lnTo>
                  <a:lnTo>
                    <a:pt x="135" y="42"/>
                  </a:lnTo>
                  <a:lnTo>
                    <a:pt x="123" y="49"/>
                  </a:lnTo>
                  <a:lnTo>
                    <a:pt x="112" y="57"/>
                  </a:lnTo>
                  <a:lnTo>
                    <a:pt x="101" y="65"/>
                  </a:lnTo>
                  <a:lnTo>
                    <a:pt x="90" y="74"/>
                  </a:lnTo>
                  <a:lnTo>
                    <a:pt x="81" y="83"/>
                  </a:lnTo>
                  <a:lnTo>
                    <a:pt x="72" y="93"/>
                  </a:lnTo>
                  <a:lnTo>
                    <a:pt x="63" y="103"/>
                  </a:lnTo>
                  <a:lnTo>
                    <a:pt x="55" y="114"/>
                  </a:lnTo>
                  <a:lnTo>
                    <a:pt x="47" y="125"/>
                  </a:lnTo>
                  <a:lnTo>
                    <a:pt x="40" y="136"/>
                  </a:lnTo>
                  <a:lnTo>
                    <a:pt x="33" y="148"/>
                  </a:lnTo>
                  <a:lnTo>
                    <a:pt x="27" y="160"/>
                  </a:lnTo>
                  <a:lnTo>
                    <a:pt x="21" y="172"/>
                  </a:lnTo>
                  <a:lnTo>
                    <a:pt x="17" y="185"/>
                  </a:lnTo>
                  <a:lnTo>
                    <a:pt x="12" y="199"/>
                  </a:lnTo>
                  <a:lnTo>
                    <a:pt x="7" y="211"/>
                  </a:lnTo>
                  <a:lnTo>
                    <a:pt x="4" y="225"/>
                  </a:lnTo>
                  <a:lnTo>
                    <a:pt x="3" y="239"/>
                  </a:lnTo>
                  <a:lnTo>
                    <a:pt x="0" y="252"/>
                  </a:lnTo>
                  <a:lnTo>
                    <a:pt x="0" y="268"/>
                  </a:lnTo>
                  <a:lnTo>
                    <a:pt x="0" y="282"/>
                  </a:lnTo>
                  <a:lnTo>
                    <a:pt x="0" y="1995"/>
                  </a:lnTo>
                  <a:lnTo>
                    <a:pt x="0" y="2009"/>
                  </a:lnTo>
                  <a:lnTo>
                    <a:pt x="0" y="2023"/>
                  </a:lnTo>
                  <a:lnTo>
                    <a:pt x="3" y="2037"/>
                  </a:lnTo>
                  <a:lnTo>
                    <a:pt x="4" y="2052"/>
                  </a:lnTo>
                  <a:lnTo>
                    <a:pt x="7" y="2065"/>
                  </a:lnTo>
                  <a:lnTo>
                    <a:pt x="12" y="2078"/>
                  </a:lnTo>
                  <a:lnTo>
                    <a:pt x="17" y="2092"/>
                  </a:lnTo>
                  <a:lnTo>
                    <a:pt x="21" y="2105"/>
                  </a:lnTo>
                  <a:lnTo>
                    <a:pt x="27" y="2117"/>
                  </a:lnTo>
                  <a:lnTo>
                    <a:pt x="33" y="2129"/>
                  </a:lnTo>
                  <a:lnTo>
                    <a:pt x="40" y="2140"/>
                  </a:lnTo>
                  <a:lnTo>
                    <a:pt x="47" y="2152"/>
                  </a:lnTo>
                  <a:lnTo>
                    <a:pt x="55" y="2163"/>
                  </a:lnTo>
                  <a:lnTo>
                    <a:pt x="63" y="2174"/>
                  </a:lnTo>
                  <a:lnTo>
                    <a:pt x="72" y="2184"/>
                  </a:lnTo>
                  <a:lnTo>
                    <a:pt x="81" y="2194"/>
                  </a:lnTo>
                  <a:lnTo>
                    <a:pt x="90" y="2203"/>
                  </a:lnTo>
                  <a:lnTo>
                    <a:pt x="101" y="2212"/>
                  </a:lnTo>
                  <a:lnTo>
                    <a:pt x="112" y="2220"/>
                  </a:lnTo>
                  <a:lnTo>
                    <a:pt x="123" y="2227"/>
                  </a:lnTo>
                  <a:lnTo>
                    <a:pt x="135" y="2235"/>
                  </a:lnTo>
                  <a:lnTo>
                    <a:pt x="146" y="2241"/>
                  </a:lnTo>
                  <a:lnTo>
                    <a:pt x="158" y="2247"/>
                  </a:lnTo>
                  <a:lnTo>
                    <a:pt x="170" y="2254"/>
                  </a:lnTo>
                  <a:lnTo>
                    <a:pt x="183" y="2258"/>
                  </a:lnTo>
                  <a:lnTo>
                    <a:pt x="197" y="2263"/>
                  </a:lnTo>
                  <a:lnTo>
                    <a:pt x="210" y="2267"/>
                  </a:lnTo>
                  <a:lnTo>
                    <a:pt x="223" y="2271"/>
                  </a:lnTo>
                  <a:lnTo>
                    <a:pt x="237" y="2272"/>
                  </a:lnTo>
                  <a:lnTo>
                    <a:pt x="252" y="2275"/>
                  </a:lnTo>
                  <a:lnTo>
                    <a:pt x="266" y="2275"/>
                  </a:lnTo>
                  <a:lnTo>
                    <a:pt x="280" y="2277"/>
                  </a:lnTo>
                  <a:lnTo>
                    <a:pt x="1406" y="2277"/>
                  </a:lnTo>
                  <a:lnTo>
                    <a:pt x="1419" y="2275"/>
                  </a:lnTo>
                  <a:lnTo>
                    <a:pt x="1433" y="2275"/>
                  </a:lnTo>
                  <a:lnTo>
                    <a:pt x="1447" y="2272"/>
                  </a:lnTo>
                  <a:lnTo>
                    <a:pt x="1461" y="2271"/>
                  </a:lnTo>
                  <a:lnTo>
                    <a:pt x="1475" y="2267"/>
                  </a:lnTo>
                  <a:lnTo>
                    <a:pt x="1489" y="2263"/>
                  </a:lnTo>
                  <a:lnTo>
                    <a:pt x="1501" y="2258"/>
                  </a:lnTo>
                  <a:lnTo>
                    <a:pt x="1515" y="2254"/>
                  </a:lnTo>
                  <a:lnTo>
                    <a:pt x="1527" y="2247"/>
                  </a:lnTo>
                  <a:lnTo>
                    <a:pt x="1539" y="2241"/>
                  </a:lnTo>
                  <a:lnTo>
                    <a:pt x="1550" y="2235"/>
                  </a:lnTo>
                  <a:lnTo>
                    <a:pt x="1562" y="2227"/>
                  </a:lnTo>
                  <a:lnTo>
                    <a:pt x="1573" y="2220"/>
                  </a:lnTo>
                  <a:lnTo>
                    <a:pt x="1584" y="2212"/>
                  </a:lnTo>
                  <a:lnTo>
                    <a:pt x="1593" y="2203"/>
                  </a:lnTo>
                  <a:lnTo>
                    <a:pt x="1604" y="2194"/>
                  </a:lnTo>
                  <a:lnTo>
                    <a:pt x="1613" y="2184"/>
                  </a:lnTo>
                  <a:lnTo>
                    <a:pt x="1622" y="2174"/>
                  </a:lnTo>
                  <a:lnTo>
                    <a:pt x="1630" y="2163"/>
                  </a:lnTo>
                  <a:lnTo>
                    <a:pt x="1638" y="2152"/>
                  </a:lnTo>
                  <a:lnTo>
                    <a:pt x="1645" y="2140"/>
                  </a:lnTo>
                  <a:lnTo>
                    <a:pt x="1652" y="2129"/>
                  </a:lnTo>
                  <a:lnTo>
                    <a:pt x="1658" y="2117"/>
                  </a:lnTo>
                  <a:lnTo>
                    <a:pt x="1664" y="2105"/>
                  </a:lnTo>
                  <a:lnTo>
                    <a:pt x="1669" y="2092"/>
                  </a:lnTo>
                  <a:lnTo>
                    <a:pt x="1673" y="2078"/>
                  </a:lnTo>
                  <a:lnTo>
                    <a:pt x="1678" y="2065"/>
                  </a:lnTo>
                  <a:lnTo>
                    <a:pt x="1681" y="2052"/>
                  </a:lnTo>
                  <a:lnTo>
                    <a:pt x="1682" y="2037"/>
                  </a:lnTo>
                  <a:lnTo>
                    <a:pt x="1684" y="2023"/>
                  </a:lnTo>
                  <a:lnTo>
                    <a:pt x="1685" y="2009"/>
                  </a:lnTo>
                  <a:lnTo>
                    <a:pt x="1685" y="1995"/>
                  </a:lnTo>
                  <a:lnTo>
                    <a:pt x="1685" y="282"/>
                  </a:lnTo>
                  <a:lnTo>
                    <a:pt x="1685" y="268"/>
                  </a:lnTo>
                  <a:lnTo>
                    <a:pt x="1684" y="252"/>
                  </a:lnTo>
                  <a:lnTo>
                    <a:pt x="1682" y="239"/>
                  </a:lnTo>
                  <a:lnTo>
                    <a:pt x="1681" y="225"/>
                  </a:lnTo>
                  <a:lnTo>
                    <a:pt x="1678" y="211"/>
                  </a:lnTo>
                  <a:lnTo>
                    <a:pt x="1673" y="199"/>
                  </a:lnTo>
                  <a:lnTo>
                    <a:pt x="1669" y="185"/>
                  </a:lnTo>
                  <a:lnTo>
                    <a:pt x="1664" y="172"/>
                  </a:lnTo>
                  <a:lnTo>
                    <a:pt x="1658" y="160"/>
                  </a:lnTo>
                  <a:lnTo>
                    <a:pt x="1652" y="148"/>
                  </a:lnTo>
                  <a:lnTo>
                    <a:pt x="1645" y="136"/>
                  </a:lnTo>
                  <a:lnTo>
                    <a:pt x="1638" y="125"/>
                  </a:lnTo>
                  <a:lnTo>
                    <a:pt x="1630" y="114"/>
                  </a:lnTo>
                  <a:lnTo>
                    <a:pt x="1622" y="103"/>
                  </a:lnTo>
                  <a:lnTo>
                    <a:pt x="1613" y="93"/>
                  </a:lnTo>
                  <a:lnTo>
                    <a:pt x="1604" y="83"/>
                  </a:lnTo>
                  <a:lnTo>
                    <a:pt x="1593" y="74"/>
                  </a:lnTo>
                  <a:lnTo>
                    <a:pt x="1584" y="65"/>
                  </a:lnTo>
                  <a:lnTo>
                    <a:pt x="1573" y="57"/>
                  </a:lnTo>
                  <a:lnTo>
                    <a:pt x="1562" y="49"/>
                  </a:lnTo>
                  <a:lnTo>
                    <a:pt x="1550" y="42"/>
                  </a:lnTo>
                  <a:lnTo>
                    <a:pt x="1539" y="34"/>
                  </a:lnTo>
                  <a:lnTo>
                    <a:pt x="1527" y="28"/>
                  </a:lnTo>
                  <a:lnTo>
                    <a:pt x="1515" y="23"/>
                  </a:lnTo>
                  <a:lnTo>
                    <a:pt x="1501" y="17"/>
                  </a:lnTo>
                  <a:lnTo>
                    <a:pt x="1489" y="13"/>
                  </a:lnTo>
                  <a:lnTo>
                    <a:pt x="1475" y="10"/>
                  </a:lnTo>
                  <a:lnTo>
                    <a:pt x="1461" y="6"/>
                  </a:lnTo>
                  <a:lnTo>
                    <a:pt x="1447" y="3"/>
                  </a:lnTo>
                  <a:lnTo>
                    <a:pt x="1433" y="2"/>
                  </a:lnTo>
                  <a:lnTo>
                    <a:pt x="1419" y="2"/>
                  </a:lnTo>
                  <a:lnTo>
                    <a:pt x="1406" y="0"/>
                  </a:lnTo>
                  <a:lnTo>
                    <a:pt x="28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771640" y="3668760"/>
              <a:ext cx="8557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Narrow"/>
                </a:rPr>
                <a:t>Physical sit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Narrow"/>
                </a:rPr>
                <a:t>conditions </a:t>
              </a:r>
              <a:endParaRPr b="0" lang="en-US" sz="1300" spc="-1" strike="noStrike">
                <a:solidFill>
                  <a:srgbClr val="000000"/>
                </a:solidFill>
                <a:latin typeface="Arial"/>
              </a:endParaRPr>
            </a:p>
          </p:txBody>
        </p:sp>
        <p:sp>
          <p:nvSpPr>
            <p:cNvPr id="1357" name=""/>
            <p:cNvSpPr/>
            <p:nvPr/>
          </p:nvSpPr>
          <p:spPr>
            <a:xfrm>
              <a:off x="2674800" y="4570560"/>
              <a:ext cx="9604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e.g.: soil’s buff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capacity, permeability, weather, etc.</a:t>
              </a:r>
              <a:endParaRPr b="0" lang="en-US" sz="1200" spc="-1" strike="noStrike">
                <a:solidFill>
                  <a:srgbClr val="000000"/>
                </a:solidFill>
                <a:latin typeface="Arial"/>
              </a:endParaRPr>
            </a:p>
          </p:txBody>
        </p:sp>
        <p:sp>
          <p:nvSpPr>
            <p:cNvPr id="1358" name=""/>
            <p:cNvSpPr/>
            <p:nvPr/>
          </p:nvSpPr>
          <p:spPr>
            <a:xfrm>
              <a:off x="4454640" y="3535200"/>
              <a:ext cx="1338120" cy="1974960"/>
            </a:xfrm>
            <a:custGeom>
              <a:avLst/>
              <a:gdLst/>
              <a:ahLst/>
              <a:rect l="l" t="t" r="r" b="b"/>
              <a:pathLst>
                <a:path w="1686" h="2486">
                  <a:moveTo>
                    <a:pt x="280" y="0"/>
                  </a:moveTo>
                  <a:lnTo>
                    <a:pt x="266" y="0"/>
                  </a:lnTo>
                  <a:lnTo>
                    <a:pt x="252" y="0"/>
                  </a:lnTo>
                  <a:lnTo>
                    <a:pt x="237" y="3"/>
                  </a:lnTo>
                  <a:lnTo>
                    <a:pt x="224" y="4"/>
                  </a:lnTo>
                  <a:lnTo>
                    <a:pt x="211" y="7"/>
                  </a:lnTo>
                  <a:lnTo>
                    <a:pt x="197" y="12"/>
                  </a:lnTo>
                  <a:lnTo>
                    <a:pt x="184" y="16"/>
                  </a:lnTo>
                  <a:lnTo>
                    <a:pt x="171" y="21"/>
                  </a:lnTo>
                  <a:lnTo>
                    <a:pt x="158" y="27"/>
                  </a:lnTo>
                  <a:lnTo>
                    <a:pt x="146" y="33"/>
                  </a:lnTo>
                  <a:lnTo>
                    <a:pt x="135" y="40"/>
                  </a:lnTo>
                  <a:lnTo>
                    <a:pt x="123" y="47"/>
                  </a:lnTo>
                  <a:lnTo>
                    <a:pt x="112" y="55"/>
                  </a:lnTo>
                  <a:lnTo>
                    <a:pt x="101" y="63"/>
                  </a:lnTo>
                  <a:lnTo>
                    <a:pt x="92" y="72"/>
                  </a:lnTo>
                  <a:lnTo>
                    <a:pt x="81" y="81"/>
                  </a:lnTo>
                  <a:lnTo>
                    <a:pt x="72" y="90"/>
                  </a:lnTo>
                  <a:lnTo>
                    <a:pt x="63" y="101"/>
                  </a:lnTo>
                  <a:lnTo>
                    <a:pt x="55" y="112"/>
                  </a:lnTo>
                  <a:lnTo>
                    <a:pt x="48" y="123"/>
                  </a:lnTo>
                  <a:lnTo>
                    <a:pt x="40" y="133"/>
                  </a:lnTo>
                  <a:lnTo>
                    <a:pt x="34" y="146"/>
                  </a:lnTo>
                  <a:lnTo>
                    <a:pt x="28" y="158"/>
                  </a:lnTo>
                  <a:lnTo>
                    <a:pt x="21" y="170"/>
                  </a:lnTo>
                  <a:lnTo>
                    <a:pt x="17" y="182"/>
                  </a:lnTo>
                  <a:lnTo>
                    <a:pt x="12" y="196"/>
                  </a:lnTo>
                  <a:lnTo>
                    <a:pt x="9" y="210"/>
                  </a:lnTo>
                  <a:lnTo>
                    <a:pt x="4" y="222"/>
                  </a:lnTo>
                  <a:lnTo>
                    <a:pt x="3" y="236"/>
                  </a:lnTo>
                  <a:lnTo>
                    <a:pt x="1" y="252"/>
                  </a:lnTo>
                  <a:lnTo>
                    <a:pt x="0" y="265"/>
                  </a:lnTo>
                  <a:lnTo>
                    <a:pt x="0" y="279"/>
                  </a:lnTo>
                  <a:lnTo>
                    <a:pt x="0" y="2207"/>
                  </a:lnTo>
                  <a:lnTo>
                    <a:pt x="0" y="2221"/>
                  </a:lnTo>
                  <a:lnTo>
                    <a:pt x="1" y="2234"/>
                  </a:lnTo>
                  <a:lnTo>
                    <a:pt x="3" y="2248"/>
                  </a:lnTo>
                  <a:lnTo>
                    <a:pt x="4" y="2262"/>
                  </a:lnTo>
                  <a:lnTo>
                    <a:pt x="9" y="2276"/>
                  </a:lnTo>
                  <a:lnTo>
                    <a:pt x="12" y="2290"/>
                  </a:lnTo>
                  <a:lnTo>
                    <a:pt x="17" y="2302"/>
                  </a:lnTo>
                  <a:lnTo>
                    <a:pt x="21" y="2316"/>
                  </a:lnTo>
                  <a:lnTo>
                    <a:pt x="28" y="2328"/>
                  </a:lnTo>
                  <a:lnTo>
                    <a:pt x="34" y="2340"/>
                  </a:lnTo>
                  <a:lnTo>
                    <a:pt x="40" y="2351"/>
                  </a:lnTo>
                  <a:lnTo>
                    <a:pt x="48" y="2364"/>
                  </a:lnTo>
                  <a:lnTo>
                    <a:pt x="55" y="2374"/>
                  </a:lnTo>
                  <a:lnTo>
                    <a:pt x="63" y="2385"/>
                  </a:lnTo>
                  <a:lnTo>
                    <a:pt x="72" y="2394"/>
                  </a:lnTo>
                  <a:lnTo>
                    <a:pt x="81" y="2405"/>
                  </a:lnTo>
                  <a:lnTo>
                    <a:pt x="92" y="2414"/>
                  </a:lnTo>
                  <a:lnTo>
                    <a:pt x="101" y="2423"/>
                  </a:lnTo>
                  <a:lnTo>
                    <a:pt x="112" y="2431"/>
                  </a:lnTo>
                  <a:lnTo>
                    <a:pt x="123" y="2439"/>
                  </a:lnTo>
                  <a:lnTo>
                    <a:pt x="135" y="2447"/>
                  </a:lnTo>
                  <a:lnTo>
                    <a:pt x="146" y="2453"/>
                  </a:lnTo>
                  <a:lnTo>
                    <a:pt x="158" y="2459"/>
                  </a:lnTo>
                  <a:lnTo>
                    <a:pt x="171" y="2465"/>
                  </a:lnTo>
                  <a:lnTo>
                    <a:pt x="184" y="2470"/>
                  </a:lnTo>
                  <a:lnTo>
                    <a:pt x="197" y="2474"/>
                  </a:lnTo>
                  <a:lnTo>
                    <a:pt x="211" y="2479"/>
                  </a:lnTo>
                  <a:lnTo>
                    <a:pt x="224" y="2482"/>
                  </a:lnTo>
                  <a:lnTo>
                    <a:pt x="237" y="2483"/>
                  </a:lnTo>
                  <a:lnTo>
                    <a:pt x="252" y="2485"/>
                  </a:lnTo>
                  <a:lnTo>
                    <a:pt x="266" y="2486"/>
                  </a:lnTo>
                  <a:lnTo>
                    <a:pt x="280" y="2486"/>
                  </a:lnTo>
                  <a:lnTo>
                    <a:pt x="1404" y="2486"/>
                  </a:lnTo>
                  <a:lnTo>
                    <a:pt x="1418" y="2486"/>
                  </a:lnTo>
                  <a:lnTo>
                    <a:pt x="1433" y="2485"/>
                  </a:lnTo>
                  <a:lnTo>
                    <a:pt x="1447" y="2483"/>
                  </a:lnTo>
                  <a:lnTo>
                    <a:pt x="1461" y="2482"/>
                  </a:lnTo>
                  <a:lnTo>
                    <a:pt x="1475" y="2479"/>
                  </a:lnTo>
                  <a:lnTo>
                    <a:pt x="1487" y="2474"/>
                  </a:lnTo>
                  <a:lnTo>
                    <a:pt x="1501" y="2470"/>
                  </a:lnTo>
                  <a:lnTo>
                    <a:pt x="1513" y="2465"/>
                  </a:lnTo>
                  <a:lnTo>
                    <a:pt x="1526" y="2459"/>
                  </a:lnTo>
                  <a:lnTo>
                    <a:pt x="1538" y="2453"/>
                  </a:lnTo>
                  <a:lnTo>
                    <a:pt x="1550" y="2447"/>
                  </a:lnTo>
                  <a:lnTo>
                    <a:pt x="1561" y="2439"/>
                  </a:lnTo>
                  <a:lnTo>
                    <a:pt x="1572" y="2431"/>
                  </a:lnTo>
                  <a:lnTo>
                    <a:pt x="1583" y="2423"/>
                  </a:lnTo>
                  <a:lnTo>
                    <a:pt x="1593" y="2414"/>
                  </a:lnTo>
                  <a:lnTo>
                    <a:pt x="1603" y="2405"/>
                  </a:lnTo>
                  <a:lnTo>
                    <a:pt x="1612" y="2394"/>
                  </a:lnTo>
                  <a:lnTo>
                    <a:pt x="1621" y="2385"/>
                  </a:lnTo>
                  <a:lnTo>
                    <a:pt x="1629" y="2374"/>
                  </a:lnTo>
                  <a:lnTo>
                    <a:pt x="1636" y="2364"/>
                  </a:lnTo>
                  <a:lnTo>
                    <a:pt x="1644" y="2351"/>
                  </a:lnTo>
                  <a:lnTo>
                    <a:pt x="1650" y="2340"/>
                  </a:lnTo>
                  <a:lnTo>
                    <a:pt x="1658" y="2328"/>
                  </a:lnTo>
                  <a:lnTo>
                    <a:pt x="1663" y="2316"/>
                  </a:lnTo>
                  <a:lnTo>
                    <a:pt x="1667" y="2302"/>
                  </a:lnTo>
                  <a:lnTo>
                    <a:pt x="1672" y="2290"/>
                  </a:lnTo>
                  <a:lnTo>
                    <a:pt x="1676" y="2276"/>
                  </a:lnTo>
                  <a:lnTo>
                    <a:pt x="1679" y="2262"/>
                  </a:lnTo>
                  <a:lnTo>
                    <a:pt x="1681" y="2248"/>
                  </a:lnTo>
                  <a:lnTo>
                    <a:pt x="1684" y="2234"/>
                  </a:lnTo>
                  <a:lnTo>
                    <a:pt x="1684" y="2221"/>
                  </a:lnTo>
                  <a:lnTo>
                    <a:pt x="1686" y="2207"/>
                  </a:lnTo>
                  <a:lnTo>
                    <a:pt x="1686" y="279"/>
                  </a:lnTo>
                  <a:lnTo>
                    <a:pt x="1684" y="265"/>
                  </a:lnTo>
                  <a:lnTo>
                    <a:pt x="1684" y="252"/>
                  </a:lnTo>
                  <a:lnTo>
                    <a:pt x="1681" y="236"/>
                  </a:lnTo>
                  <a:lnTo>
                    <a:pt x="1679" y="222"/>
                  </a:lnTo>
                  <a:lnTo>
                    <a:pt x="1676" y="210"/>
                  </a:lnTo>
                  <a:lnTo>
                    <a:pt x="1672" y="196"/>
                  </a:lnTo>
                  <a:lnTo>
                    <a:pt x="1667" y="182"/>
                  </a:lnTo>
                  <a:lnTo>
                    <a:pt x="1663" y="170"/>
                  </a:lnTo>
                  <a:lnTo>
                    <a:pt x="1658" y="158"/>
                  </a:lnTo>
                  <a:lnTo>
                    <a:pt x="1650" y="146"/>
                  </a:lnTo>
                  <a:lnTo>
                    <a:pt x="1644" y="133"/>
                  </a:lnTo>
                  <a:lnTo>
                    <a:pt x="1636" y="123"/>
                  </a:lnTo>
                  <a:lnTo>
                    <a:pt x="1629" y="112"/>
                  </a:lnTo>
                  <a:lnTo>
                    <a:pt x="1621" y="101"/>
                  </a:lnTo>
                  <a:lnTo>
                    <a:pt x="1612" y="90"/>
                  </a:lnTo>
                  <a:lnTo>
                    <a:pt x="1603" y="81"/>
                  </a:lnTo>
                  <a:lnTo>
                    <a:pt x="1593" y="72"/>
                  </a:lnTo>
                  <a:lnTo>
                    <a:pt x="1583" y="63"/>
                  </a:lnTo>
                  <a:lnTo>
                    <a:pt x="1572" y="55"/>
                  </a:lnTo>
                  <a:lnTo>
                    <a:pt x="1561" y="47"/>
                  </a:lnTo>
                  <a:lnTo>
                    <a:pt x="1550" y="40"/>
                  </a:lnTo>
                  <a:lnTo>
                    <a:pt x="1538" y="33"/>
                  </a:lnTo>
                  <a:lnTo>
                    <a:pt x="1526" y="27"/>
                  </a:lnTo>
                  <a:lnTo>
                    <a:pt x="1513" y="21"/>
                  </a:lnTo>
                  <a:lnTo>
                    <a:pt x="1501" y="16"/>
                  </a:lnTo>
                  <a:lnTo>
                    <a:pt x="1487" y="12"/>
                  </a:lnTo>
                  <a:lnTo>
                    <a:pt x="1475" y="7"/>
                  </a:lnTo>
                  <a:lnTo>
                    <a:pt x="1461" y="4"/>
                  </a:lnTo>
                  <a:lnTo>
                    <a:pt x="1447" y="3"/>
                  </a:lnTo>
                  <a:lnTo>
                    <a:pt x="1433" y="0"/>
                  </a:lnTo>
                  <a:lnTo>
                    <a:pt x="1418" y="0"/>
                  </a:lnTo>
                  <a:lnTo>
                    <a:pt x="1404" y="0"/>
                  </a:lnTo>
                  <a:lnTo>
                    <a:pt x="28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4454640" y="3535200"/>
              <a:ext cx="1338120" cy="1974960"/>
            </a:xfrm>
            <a:custGeom>
              <a:avLst/>
              <a:gdLst/>
              <a:ahLst/>
              <a:rect l="l" t="t" r="r" b="b"/>
              <a:pathLst>
                <a:path w="1686" h="2486">
                  <a:moveTo>
                    <a:pt x="280" y="0"/>
                  </a:moveTo>
                  <a:lnTo>
                    <a:pt x="266" y="0"/>
                  </a:lnTo>
                  <a:lnTo>
                    <a:pt x="252" y="0"/>
                  </a:lnTo>
                  <a:lnTo>
                    <a:pt x="237" y="3"/>
                  </a:lnTo>
                  <a:lnTo>
                    <a:pt x="224" y="4"/>
                  </a:lnTo>
                  <a:lnTo>
                    <a:pt x="211" y="7"/>
                  </a:lnTo>
                  <a:lnTo>
                    <a:pt x="197" y="12"/>
                  </a:lnTo>
                  <a:lnTo>
                    <a:pt x="184" y="16"/>
                  </a:lnTo>
                  <a:lnTo>
                    <a:pt x="171" y="21"/>
                  </a:lnTo>
                  <a:lnTo>
                    <a:pt x="158" y="27"/>
                  </a:lnTo>
                  <a:lnTo>
                    <a:pt x="146" y="33"/>
                  </a:lnTo>
                  <a:lnTo>
                    <a:pt x="135" y="40"/>
                  </a:lnTo>
                  <a:lnTo>
                    <a:pt x="123" y="47"/>
                  </a:lnTo>
                  <a:lnTo>
                    <a:pt x="112" y="55"/>
                  </a:lnTo>
                  <a:lnTo>
                    <a:pt x="101" y="63"/>
                  </a:lnTo>
                  <a:lnTo>
                    <a:pt x="92" y="72"/>
                  </a:lnTo>
                  <a:lnTo>
                    <a:pt x="81" y="81"/>
                  </a:lnTo>
                  <a:lnTo>
                    <a:pt x="72" y="90"/>
                  </a:lnTo>
                  <a:lnTo>
                    <a:pt x="63" y="101"/>
                  </a:lnTo>
                  <a:lnTo>
                    <a:pt x="55" y="112"/>
                  </a:lnTo>
                  <a:lnTo>
                    <a:pt x="48" y="123"/>
                  </a:lnTo>
                  <a:lnTo>
                    <a:pt x="40" y="133"/>
                  </a:lnTo>
                  <a:lnTo>
                    <a:pt x="34" y="146"/>
                  </a:lnTo>
                  <a:lnTo>
                    <a:pt x="28" y="158"/>
                  </a:lnTo>
                  <a:lnTo>
                    <a:pt x="21" y="170"/>
                  </a:lnTo>
                  <a:lnTo>
                    <a:pt x="17" y="182"/>
                  </a:lnTo>
                  <a:lnTo>
                    <a:pt x="12" y="196"/>
                  </a:lnTo>
                  <a:lnTo>
                    <a:pt x="9" y="210"/>
                  </a:lnTo>
                  <a:lnTo>
                    <a:pt x="4" y="222"/>
                  </a:lnTo>
                  <a:lnTo>
                    <a:pt x="3" y="236"/>
                  </a:lnTo>
                  <a:lnTo>
                    <a:pt x="1" y="252"/>
                  </a:lnTo>
                  <a:lnTo>
                    <a:pt x="0" y="265"/>
                  </a:lnTo>
                  <a:lnTo>
                    <a:pt x="0" y="279"/>
                  </a:lnTo>
                  <a:lnTo>
                    <a:pt x="0" y="2207"/>
                  </a:lnTo>
                  <a:lnTo>
                    <a:pt x="0" y="2221"/>
                  </a:lnTo>
                  <a:lnTo>
                    <a:pt x="1" y="2234"/>
                  </a:lnTo>
                  <a:lnTo>
                    <a:pt x="3" y="2248"/>
                  </a:lnTo>
                  <a:lnTo>
                    <a:pt x="4" y="2262"/>
                  </a:lnTo>
                  <a:lnTo>
                    <a:pt x="9" y="2276"/>
                  </a:lnTo>
                  <a:lnTo>
                    <a:pt x="12" y="2290"/>
                  </a:lnTo>
                  <a:lnTo>
                    <a:pt x="17" y="2302"/>
                  </a:lnTo>
                  <a:lnTo>
                    <a:pt x="21" y="2316"/>
                  </a:lnTo>
                  <a:lnTo>
                    <a:pt x="28" y="2328"/>
                  </a:lnTo>
                  <a:lnTo>
                    <a:pt x="34" y="2340"/>
                  </a:lnTo>
                  <a:lnTo>
                    <a:pt x="40" y="2351"/>
                  </a:lnTo>
                  <a:lnTo>
                    <a:pt x="48" y="2364"/>
                  </a:lnTo>
                  <a:lnTo>
                    <a:pt x="55" y="2374"/>
                  </a:lnTo>
                  <a:lnTo>
                    <a:pt x="63" y="2385"/>
                  </a:lnTo>
                  <a:lnTo>
                    <a:pt x="72" y="2394"/>
                  </a:lnTo>
                  <a:lnTo>
                    <a:pt x="81" y="2405"/>
                  </a:lnTo>
                  <a:lnTo>
                    <a:pt x="92" y="2414"/>
                  </a:lnTo>
                  <a:lnTo>
                    <a:pt x="101" y="2423"/>
                  </a:lnTo>
                  <a:lnTo>
                    <a:pt x="112" y="2431"/>
                  </a:lnTo>
                  <a:lnTo>
                    <a:pt x="123" y="2439"/>
                  </a:lnTo>
                  <a:lnTo>
                    <a:pt x="135" y="2447"/>
                  </a:lnTo>
                  <a:lnTo>
                    <a:pt x="146" y="2453"/>
                  </a:lnTo>
                  <a:lnTo>
                    <a:pt x="158" y="2459"/>
                  </a:lnTo>
                  <a:lnTo>
                    <a:pt x="171" y="2465"/>
                  </a:lnTo>
                  <a:lnTo>
                    <a:pt x="184" y="2470"/>
                  </a:lnTo>
                  <a:lnTo>
                    <a:pt x="197" y="2474"/>
                  </a:lnTo>
                  <a:lnTo>
                    <a:pt x="211" y="2479"/>
                  </a:lnTo>
                  <a:lnTo>
                    <a:pt x="224" y="2482"/>
                  </a:lnTo>
                  <a:lnTo>
                    <a:pt x="237" y="2483"/>
                  </a:lnTo>
                  <a:lnTo>
                    <a:pt x="252" y="2485"/>
                  </a:lnTo>
                  <a:lnTo>
                    <a:pt x="266" y="2486"/>
                  </a:lnTo>
                  <a:lnTo>
                    <a:pt x="280" y="2486"/>
                  </a:lnTo>
                  <a:lnTo>
                    <a:pt x="1404" y="2486"/>
                  </a:lnTo>
                  <a:lnTo>
                    <a:pt x="1418" y="2486"/>
                  </a:lnTo>
                  <a:lnTo>
                    <a:pt x="1433" y="2485"/>
                  </a:lnTo>
                  <a:lnTo>
                    <a:pt x="1447" y="2483"/>
                  </a:lnTo>
                  <a:lnTo>
                    <a:pt x="1461" y="2482"/>
                  </a:lnTo>
                  <a:lnTo>
                    <a:pt x="1475" y="2479"/>
                  </a:lnTo>
                  <a:lnTo>
                    <a:pt x="1487" y="2474"/>
                  </a:lnTo>
                  <a:lnTo>
                    <a:pt x="1501" y="2470"/>
                  </a:lnTo>
                  <a:lnTo>
                    <a:pt x="1513" y="2465"/>
                  </a:lnTo>
                  <a:lnTo>
                    <a:pt x="1526" y="2459"/>
                  </a:lnTo>
                  <a:lnTo>
                    <a:pt x="1538" y="2453"/>
                  </a:lnTo>
                  <a:lnTo>
                    <a:pt x="1550" y="2447"/>
                  </a:lnTo>
                  <a:lnTo>
                    <a:pt x="1561" y="2439"/>
                  </a:lnTo>
                  <a:lnTo>
                    <a:pt x="1572" y="2431"/>
                  </a:lnTo>
                  <a:lnTo>
                    <a:pt x="1583" y="2423"/>
                  </a:lnTo>
                  <a:lnTo>
                    <a:pt x="1593" y="2414"/>
                  </a:lnTo>
                  <a:lnTo>
                    <a:pt x="1603" y="2405"/>
                  </a:lnTo>
                  <a:lnTo>
                    <a:pt x="1612" y="2394"/>
                  </a:lnTo>
                  <a:lnTo>
                    <a:pt x="1621" y="2385"/>
                  </a:lnTo>
                  <a:lnTo>
                    <a:pt x="1629" y="2374"/>
                  </a:lnTo>
                  <a:lnTo>
                    <a:pt x="1636" y="2364"/>
                  </a:lnTo>
                  <a:lnTo>
                    <a:pt x="1644" y="2351"/>
                  </a:lnTo>
                  <a:lnTo>
                    <a:pt x="1650" y="2340"/>
                  </a:lnTo>
                  <a:lnTo>
                    <a:pt x="1658" y="2328"/>
                  </a:lnTo>
                  <a:lnTo>
                    <a:pt x="1663" y="2316"/>
                  </a:lnTo>
                  <a:lnTo>
                    <a:pt x="1667" y="2302"/>
                  </a:lnTo>
                  <a:lnTo>
                    <a:pt x="1672" y="2290"/>
                  </a:lnTo>
                  <a:lnTo>
                    <a:pt x="1676" y="2276"/>
                  </a:lnTo>
                  <a:lnTo>
                    <a:pt x="1679" y="2262"/>
                  </a:lnTo>
                  <a:lnTo>
                    <a:pt x="1681" y="2248"/>
                  </a:lnTo>
                  <a:lnTo>
                    <a:pt x="1684" y="2234"/>
                  </a:lnTo>
                  <a:lnTo>
                    <a:pt x="1684" y="2221"/>
                  </a:lnTo>
                  <a:lnTo>
                    <a:pt x="1686" y="2207"/>
                  </a:lnTo>
                  <a:lnTo>
                    <a:pt x="1686" y="279"/>
                  </a:lnTo>
                  <a:lnTo>
                    <a:pt x="1684" y="265"/>
                  </a:lnTo>
                  <a:lnTo>
                    <a:pt x="1684" y="252"/>
                  </a:lnTo>
                  <a:lnTo>
                    <a:pt x="1681" y="236"/>
                  </a:lnTo>
                  <a:lnTo>
                    <a:pt x="1679" y="222"/>
                  </a:lnTo>
                  <a:lnTo>
                    <a:pt x="1676" y="210"/>
                  </a:lnTo>
                  <a:lnTo>
                    <a:pt x="1672" y="196"/>
                  </a:lnTo>
                  <a:lnTo>
                    <a:pt x="1667" y="182"/>
                  </a:lnTo>
                  <a:lnTo>
                    <a:pt x="1663" y="170"/>
                  </a:lnTo>
                  <a:lnTo>
                    <a:pt x="1658" y="158"/>
                  </a:lnTo>
                  <a:lnTo>
                    <a:pt x="1650" y="146"/>
                  </a:lnTo>
                  <a:lnTo>
                    <a:pt x="1644" y="133"/>
                  </a:lnTo>
                  <a:lnTo>
                    <a:pt x="1636" y="123"/>
                  </a:lnTo>
                  <a:lnTo>
                    <a:pt x="1629" y="112"/>
                  </a:lnTo>
                  <a:lnTo>
                    <a:pt x="1621" y="101"/>
                  </a:lnTo>
                  <a:lnTo>
                    <a:pt x="1612" y="90"/>
                  </a:lnTo>
                  <a:lnTo>
                    <a:pt x="1603" y="81"/>
                  </a:lnTo>
                  <a:lnTo>
                    <a:pt x="1593" y="72"/>
                  </a:lnTo>
                  <a:lnTo>
                    <a:pt x="1583" y="63"/>
                  </a:lnTo>
                  <a:lnTo>
                    <a:pt x="1572" y="55"/>
                  </a:lnTo>
                  <a:lnTo>
                    <a:pt x="1561" y="47"/>
                  </a:lnTo>
                  <a:lnTo>
                    <a:pt x="1550" y="40"/>
                  </a:lnTo>
                  <a:lnTo>
                    <a:pt x="1538" y="33"/>
                  </a:lnTo>
                  <a:lnTo>
                    <a:pt x="1526" y="27"/>
                  </a:lnTo>
                  <a:lnTo>
                    <a:pt x="1513" y="21"/>
                  </a:lnTo>
                  <a:lnTo>
                    <a:pt x="1501" y="16"/>
                  </a:lnTo>
                  <a:lnTo>
                    <a:pt x="1487" y="12"/>
                  </a:lnTo>
                  <a:lnTo>
                    <a:pt x="1475" y="7"/>
                  </a:lnTo>
                  <a:lnTo>
                    <a:pt x="1461" y="4"/>
                  </a:lnTo>
                  <a:lnTo>
                    <a:pt x="1447" y="3"/>
                  </a:lnTo>
                  <a:lnTo>
                    <a:pt x="1433" y="0"/>
                  </a:lnTo>
                  <a:lnTo>
                    <a:pt x="1418" y="0"/>
                  </a:lnTo>
                  <a:lnTo>
                    <a:pt x="1404" y="0"/>
                  </a:lnTo>
                  <a:lnTo>
                    <a:pt x="28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778280" y="3645000"/>
              <a:ext cx="7304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Narrow"/>
                </a:rPr>
                <a:t>Producer’s technique</a:t>
              </a:r>
              <a:endParaRPr b="0" lang="en-US" sz="1300" spc="-1" strike="noStrike">
                <a:solidFill>
                  <a:srgbClr val="000000"/>
                </a:solidFill>
                <a:latin typeface="Arial"/>
              </a:endParaRPr>
            </a:p>
          </p:txBody>
        </p:sp>
        <p:sp>
          <p:nvSpPr>
            <p:cNvPr id="1361" name=""/>
            <p:cNvSpPr/>
            <p:nvPr/>
          </p:nvSpPr>
          <p:spPr>
            <a:xfrm>
              <a:off x="4643280" y="4532400"/>
              <a:ext cx="1008360" cy="837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g.: time devoted to operations, election of active ingredients and fertilizer, etc.</a:t>
              </a:r>
              <a:endParaRPr b="0" lang="en-US" sz="1100" spc="-1" strike="noStrike">
                <a:solidFill>
                  <a:srgbClr val="000000"/>
                </a:solidFill>
                <a:latin typeface="Arial"/>
              </a:endParaRPr>
            </a:p>
          </p:txBody>
        </p:sp>
        <p:sp>
          <p:nvSpPr>
            <p:cNvPr id="1362" name=""/>
            <p:cNvSpPr/>
            <p:nvPr/>
          </p:nvSpPr>
          <p:spPr>
            <a:xfrm>
              <a:off x="6486480" y="3576600"/>
              <a:ext cx="1347840" cy="1370160"/>
            </a:xfrm>
            <a:custGeom>
              <a:avLst/>
              <a:gdLst/>
              <a:ahLst/>
              <a:rect l="l" t="t" r="r" b="b"/>
              <a:pathLst>
                <a:path w="1698" h="1728">
                  <a:moveTo>
                    <a:pt x="283" y="0"/>
                  </a:moveTo>
                  <a:lnTo>
                    <a:pt x="269" y="0"/>
                  </a:lnTo>
                  <a:lnTo>
                    <a:pt x="254" y="2"/>
                  </a:lnTo>
                  <a:lnTo>
                    <a:pt x="240" y="3"/>
                  </a:lnTo>
                  <a:lnTo>
                    <a:pt x="226" y="6"/>
                  </a:lnTo>
                  <a:lnTo>
                    <a:pt x="212" y="10"/>
                  </a:lnTo>
                  <a:lnTo>
                    <a:pt x="200" y="13"/>
                  </a:lnTo>
                  <a:lnTo>
                    <a:pt x="186" y="17"/>
                  </a:lnTo>
                  <a:lnTo>
                    <a:pt x="174" y="22"/>
                  </a:lnTo>
                  <a:lnTo>
                    <a:pt x="161" y="28"/>
                  </a:lnTo>
                  <a:lnTo>
                    <a:pt x="149" y="34"/>
                  </a:lnTo>
                  <a:lnTo>
                    <a:pt x="137" y="40"/>
                  </a:lnTo>
                  <a:lnTo>
                    <a:pt x="124" y="48"/>
                  </a:lnTo>
                  <a:lnTo>
                    <a:pt x="114" y="56"/>
                  </a:lnTo>
                  <a:lnTo>
                    <a:pt x="103" y="65"/>
                  </a:lnTo>
                  <a:lnTo>
                    <a:pt x="94" y="74"/>
                  </a:lnTo>
                  <a:lnTo>
                    <a:pt x="83" y="83"/>
                  </a:lnTo>
                  <a:lnTo>
                    <a:pt x="74" y="93"/>
                  </a:lnTo>
                  <a:lnTo>
                    <a:pt x="64" y="103"/>
                  </a:lnTo>
                  <a:lnTo>
                    <a:pt x="57" y="114"/>
                  </a:lnTo>
                  <a:lnTo>
                    <a:pt x="49" y="125"/>
                  </a:lnTo>
                  <a:lnTo>
                    <a:pt x="41" y="136"/>
                  </a:lnTo>
                  <a:lnTo>
                    <a:pt x="35" y="148"/>
                  </a:lnTo>
                  <a:lnTo>
                    <a:pt x="28" y="160"/>
                  </a:lnTo>
                  <a:lnTo>
                    <a:pt x="23" y="172"/>
                  </a:lnTo>
                  <a:lnTo>
                    <a:pt x="17" y="186"/>
                  </a:lnTo>
                  <a:lnTo>
                    <a:pt x="14" y="199"/>
                  </a:lnTo>
                  <a:lnTo>
                    <a:pt x="9" y="212"/>
                  </a:lnTo>
                  <a:lnTo>
                    <a:pt x="6" y="226"/>
                  </a:lnTo>
                  <a:lnTo>
                    <a:pt x="3" y="240"/>
                  </a:lnTo>
                  <a:lnTo>
                    <a:pt x="1" y="254"/>
                  </a:lnTo>
                  <a:lnTo>
                    <a:pt x="1" y="268"/>
                  </a:lnTo>
                  <a:lnTo>
                    <a:pt x="0" y="283"/>
                  </a:lnTo>
                  <a:lnTo>
                    <a:pt x="0" y="1445"/>
                  </a:lnTo>
                  <a:lnTo>
                    <a:pt x="1" y="1459"/>
                  </a:lnTo>
                  <a:lnTo>
                    <a:pt x="1" y="1474"/>
                  </a:lnTo>
                  <a:lnTo>
                    <a:pt x="3" y="1488"/>
                  </a:lnTo>
                  <a:lnTo>
                    <a:pt x="6" y="1502"/>
                  </a:lnTo>
                  <a:lnTo>
                    <a:pt x="9" y="1516"/>
                  </a:lnTo>
                  <a:lnTo>
                    <a:pt x="14" y="1530"/>
                  </a:lnTo>
                  <a:lnTo>
                    <a:pt x="17" y="1542"/>
                  </a:lnTo>
                  <a:lnTo>
                    <a:pt x="23" y="1556"/>
                  </a:lnTo>
                  <a:lnTo>
                    <a:pt x="28" y="1568"/>
                  </a:lnTo>
                  <a:lnTo>
                    <a:pt x="35" y="1580"/>
                  </a:lnTo>
                  <a:lnTo>
                    <a:pt x="41" y="1591"/>
                  </a:lnTo>
                  <a:lnTo>
                    <a:pt x="49" y="1603"/>
                  </a:lnTo>
                  <a:lnTo>
                    <a:pt x="57" y="1614"/>
                  </a:lnTo>
                  <a:lnTo>
                    <a:pt x="64" y="1625"/>
                  </a:lnTo>
                  <a:lnTo>
                    <a:pt x="74" y="1636"/>
                  </a:lnTo>
                  <a:lnTo>
                    <a:pt x="83" y="1645"/>
                  </a:lnTo>
                  <a:lnTo>
                    <a:pt x="94" y="1654"/>
                  </a:lnTo>
                  <a:lnTo>
                    <a:pt x="103" y="1663"/>
                  </a:lnTo>
                  <a:lnTo>
                    <a:pt x="114" y="1671"/>
                  </a:lnTo>
                  <a:lnTo>
                    <a:pt x="124" y="1679"/>
                  </a:lnTo>
                  <a:lnTo>
                    <a:pt x="137" y="1686"/>
                  </a:lnTo>
                  <a:lnTo>
                    <a:pt x="149" y="1694"/>
                  </a:lnTo>
                  <a:lnTo>
                    <a:pt x="161" y="1700"/>
                  </a:lnTo>
                  <a:lnTo>
                    <a:pt x="174" y="1705"/>
                  </a:lnTo>
                  <a:lnTo>
                    <a:pt x="186" y="1711"/>
                  </a:lnTo>
                  <a:lnTo>
                    <a:pt x="200" y="1716"/>
                  </a:lnTo>
                  <a:lnTo>
                    <a:pt x="212" y="1719"/>
                  </a:lnTo>
                  <a:lnTo>
                    <a:pt x="226" y="1722"/>
                  </a:lnTo>
                  <a:lnTo>
                    <a:pt x="240" y="1725"/>
                  </a:lnTo>
                  <a:lnTo>
                    <a:pt x="254" y="1726"/>
                  </a:lnTo>
                  <a:lnTo>
                    <a:pt x="269" y="1728"/>
                  </a:lnTo>
                  <a:lnTo>
                    <a:pt x="283" y="1728"/>
                  </a:lnTo>
                  <a:lnTo>
                    <a:pt x="1415" y="1728"/>
                  </a:lnTo>
                  <a:lnTo>
                    <a:pt x="1429" y="1728"/>
                  </a:lnTo>
                  <a:lnTo>
                    <a:pt x="1443" y="1726"/>
                  </a:lnTo>
                  <a:lnTo>
                    <a:pt x="1458" y="1725"/>
                  </a:lnTo>
                  <a:lnTo>
                    <a:pt x="1472" y="1722"/>
                  </a:lnTo>
                  <a:lnTo>
                    <a:pt x="1486" y="1719"/>
                  </a:lnTo>
                  <a:lnTo>
                    <a:pt x="1498" y="1716"/>
                  </a:lnTo>
                  <a:lnTo>
                    <a:pt x="1512" y="1711"/>
                  </a:lnTo>
                  <a:lnTo>
                    <a:pt x="1524" y="1705"/>
                  </a:lnTo>
                  <a:lnTo>
                    <a:pt x="1536" y="1700"/>
                  </a:lnTo>
                  <a:lnTo>
                    <a:pt x="1549" y="1694"/>
                  </a:lnTo>
                  <a:lnTo>
                    <a:pt x="1561" y="1686"/>
                  </a:lnTo>
                  <a:lnTo>
                    <a:pt x="1572" y="1679"/>
                  </a:lnTo>
                  <a:lnTo>
                    <a:pt x="1584" y="1671"/>
                  </a:lnTo>
                  <a:lnTo>
                    <a:pt x="1595" y="1663"/>
                  </a:lnTo>
                  <a:lnTo>
                    <a:pt x="1604" y="1654"/>
                  </a:lnTo>
                  <a:lnTo>
                    <a:pt x="1615" y="1645"/>
                  </a:lnTo>
                  <a:lnTo>
                    <a:pt x="1624" y="1636"/>
                  </a:lnTo>
                  <a:lnTo>
                    <a:pt x="1633" y="1625"/>
                  </a:lnTo>
                  <a:lnTo>
                    <a:pt x="1641" y="1614"/>
                  </a:lnTo>
                  <a:lnTo>
                    <a:pt x="1649" y="1603"/>
                  </a:lnTo>
                  <a:lnTo>
                    <a:pt x="1656" y="1591"/>
                  </a:lnTo>
                  <a:lnTo>
                    <a:pt x="1663" y="1580"/>
                  </a:lnTo>
                  <a:lnTo>
                    <a:pt x="1669" y="1568"/>
                  </a:lnTo>
                  <a:lnTo>
                    <a:pt x="1675" y="1556"/>
                  </a:lnTo>
                  <a:lnTo>
                    <a:pt x="1679" y="1542"/>
                  </a:lnTo>
                  <a:lnTo>
                    <a:pt x="1684" y="1530"/>
                  </a:lnTo>
                  <a:lnTo>
                    <a:pt x="1689" y="1516"/>
                  </a:lnTo>
                  <a:lnTo>
                    <a:pt x="1692" y="1502"/>
                  </a:lnTo>
                  <a:lnTo>
                    <a:pt x="1693" y="1488"/>
                  </a:lnTo>
                  <a:lnTo>
                    <a:pt x="1696" y="1474"/>
                  </a:lnTo>
                  <a:lnTo>
                    <a:pt x="1696" y="1459"/>
                  </a:lnTo>
                  <a:lnTo>
                    <a:pt x="1698" y="1445"/>
                  </a:lnTo>
                  <a:lnTo>
                    <a:pt x="1698" y="283"/>
                  </a:lnTo>
                  <a:lnTo>
                    <a:pt x="1696" y="268"/>
                  </a:lnTo>
                  <a:lnTo>
                    <a:pt x="1696" y="254"/>
                  </a:lnTo>
                  <a:lnTo>
                    <a:pt x="1693" y="240"/>
                  </a:lnTo>
                  <a:lnTo>
                    <a:pt x="1692" y="226"/>
                  </a:lnTo>
                  <a:lnTo>
                    <a:pt x="1689" y="212"/>
                  </a:lnTo>
                  <a:lnTo>
                    <a:pt x="1684" y="199"/>
                  </a:lnTo>
                  <a:lnTo>
                    <a:pt x="1679" y="186"/>
                  </a:lnTo>
                  <a:lnTo>
                    <a:pt x="1675" y="172"/>
                  </a:lnTo>
                  <a:lnTo>
                    <a:pt x="1669" y="160"/>
                  </a:lnTo>
                  <a:lnTo>
                    <a:pt x="1663" y="148"/>
                  </a:lnTo>
                  <a:lnTo>
                    <a:pt x="1656" y="136"/>
                  </a:lnTo>
                  <a:lnTo>
                    <a:pt x="1649" y="125"/>
                  </a:lnTo>
                  <a:lnTo>
                    <a:pt x="1641" y="114"/>
                  </a:lnTo>
                  <a:lnTo>
                    <a:pt x="1633" y="103"/>
                  </a:lnTo>
                  <a:lnTo>
                    <a:pt x="1624" y="93"/>
                  </a:lnTo>
                  <a:lnTo>
                    <a:pt x="1615" y="83"/>
                  </a:lnTo>
                  <a:lnTo>
                    <a:pt x="1604" y="74"/>
                  </a:lnTo>
                  <a:lnTo>
                    <a:pt x="1595" y="65"/>
                  </a:lnTo>
                  <a:lnTo>
                    <a:pt x="1584" y="56"/>
                  </a:lnTo>
                  <a:lnTo>
                    <a:pt x="1572" y="48"/>
                  </a:lnTo>
                  <a:lnTo>
                    <a:pt x="1561" y="40"/>
                  </a:lnTo>
                  <a:lnTo>
                    <a:pt x="1549" y="34"/>
                  </a:lnTo>
                  <a:lnTo>
                    <a:pt x="1536" y="28"/>
                  </a:lnTo>
                  <a:lnTo>
                    <a:pt x="1524" y="22"/>
                  </a:lnTo>
                  <a:lnTo>
                    <a:pt x="1512" y="17"/>
                  </a:lnTo>
                  <a:lnTo>
                    <a:pt x="1498" y="13"/>
                  </a:lnTo>
                  <a:lnTo>
                    <a:pt x="1486" y="10"/>
                  </a:lnTo>
                  <a:lnTo>
                    <a:pt x="1472" y="6"/>
                  </a:lnTo>
                  <a:lnTo>
                    <a:pt x="1458" y="3"/>
                  </a:lnTo>
                  <a:lnTo>
                    <a:pt x="1443" y="2"/>
                  </a:lnTo>
                  <a:lnTo>
                    <a:pt x="1429" y="0"/>
                  </a:lnTo>
                  <a:lnTo>
                    <a:pt x="1415"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6486480" y="3576600"/>
              <a:ext cx="1347840" cy="1370160"/>
            </a:xfrm>
            <a:custGeom>
              <a:avLst/>
              <a:gdLst/>
              <a:ahLst/>
              <a:rect l="l" t="t" r="r" b="b"/>
              <a:pathLst>
                <a:path w="1698" h="1728">
                  <a:moveTo>
                    <a:pt x="283" y="0"/>
                  </a:moveTo>
                  <a:lnTo>
                    <a:pt x="269" y="0"/>
                  </a:lnTo>
                  <a:lnTo>
                    <a:pt x="254" y="2"/>
                  </a:lnTo>
                  <a:lnTo>
                    <a:pt x="240" y="3"/>
                  </a:lnTo>
                  <a:lnTo>
                    <a:pt x="226" y="6"/>
                  </a:lnTo>
                  <a:lnTo>
                    <a:pt x="212" y="10"/>
                  </a:lnTo>
                  <a:lnTo>
                    <a:pt x="200" y="13"/>
                  </a:lnTo>
                  <a:lnTo>
                    <a:pt x="186" y="17"/>
                  </a:lnTo>
                  <a:lnTo>
                    <a:pt x="174" y="22"/>
                  </a:lnTo>
                  <a:lnTo>
                    <a:pt x="161" y="28"/>
                  </a:lnTo>
                  <a:lnTo>
                    <a:pt x="149" y="34"/>
                  </a:lnTo>
                  <a:lnTo>
                    <a:pt x="137" y="40"/>
                  </a:lnTo>
                  <a:lnTo>
                    <a:pt x="124" y="48"/>
                  </a:lnTo>
                  <a:lnTo>
                    <a:pt x="114" y="56"/>
                  </a:lnTo>
                  <a:lnTo>
                    <a:pt x="103" y="65"/>
                  </a:lnTo>
                  <a:lnTo>
                    <a:pt x="94" y="74"/>
                  </a:lnTo>
                  <a:lnTo>
                    <a:pt x="83" y="83"/>
                  </a:lnTo>
                  <a:lnTo>
                    <a:pt x="74" y="93"/>
                  </a:lnTo>
                  <a:lnTo>
                    <a:pt x="64" y="103"/>
                  </a:lnTo>
                  <a:lnTo>
                    <a:pt x="57" y="114"/>
                  </a:lnTo>
                  <a:lnTo>
                    <a:pt x="49" y="125"/>
                  </a:lnTo>
                  <a:lnTo>
                    <a:pt x="41" y="136"/>
                  </a:lnTo>
                  <a:lnTo>
                    <a:pt x="35" y="148"/>
                  </a:lnTo>
                  <a:lnTo>
                    <a:pt x="28" y="160"/>
                  </a:lnTo>
                  <a:lnTo>
                    <a:pt x="23" y="172"/>
                  </a:lnTo>
                  <a:lnTo>
                    <a:pt x="17" y="186"/>
                  </a:lnTo>
                  <a:lnTo>
                    <a:pt x="14" y="199"/>
                  </a:lnTo>
                  <a:lnTo>
                    <a:pt x="9" y="212"/>
                  </a:lnTo>
                  <a:lnTo>
                    <a:pt x="6" y="226"/>
                  </a:lnTo>
                  <a:lnTo>
                    <a:pt x="3" y="240"/>
                  </a:lnTo>
                  <a:lnTo>
                    <a:pt x="1" y="254"/>
                  </a:lnTo>
                  <a:lnTo>
                    <a:pt x="1" y="268"/>
                  </a:lnTo>
                  <a:lnTo>
                    <a:pt x="0" y="283"/>
                  </a:lnTo>
                  <a:lnTo>
                    <a:pt x="0" y="1445"/>
                  </a:lnTo>
                  <a:lnTo>
                    <a:pt x="1" y="1459"/>
                  </a:lnTo>
                  <a:lnTo>
                    <a:pt x="1" y="1474"/>
                  </a:lnTo>
                  <a:lnTo>
                    <a:pt x="3" y="1488"/>
                  </a:lnTo>
                  <a:lnTo>
                    <a:pt x="6" y="1502"/>
                  </a:lnTo>
                  <a:lnTo>
                    <a:pt x="9" y="1516"/>
                  </a:lnTo>
                  <a:lnTo>
                    <a:pt x="14" y="1530"/>
                  </a:lnTo>
                  <a:lnTo>
                    <a:pt x="17" y="1542"/>
                  </a:lnTo>
                  <a:lnTo>
                    <a:pt x="23" y="1556"/>
                  </a:lnTo>
                  <a:lnTo>
                    <a:pt x="28" y="1568"/>
                  </a:lnTo>
                  <a:lnTo>
                    <a:pt x="35" y="1580"/>
                  </a:lnTo>
                  <a:lnTo>
                    <a:pt x="41" y="1591"/>
                  </a:lnTo>
                  <a:lnTo>
                    <a:pt x="49" y="1603"/>
                  </a:lnTo>
                  <a:lnTo>
                    <a:pt x="57" y="1614"/>
                  </a:lnTo>
                  <a:lnTo>
                    <a:pt x="64" y="1625"/>
                  </a:lnTo>
                  <a:lnTo>
                    <a:pt x="74" y="1636"/>
                  </a:lnTo>
                  <a:lnTo>
                    <a:pt x="83" y="1645"/>
                  </a:lnTo>
                  <a:lnTo>
                    <a:pt x="94" y="1654"/>
                  </a:lnTo>
                  <a:lnTo>
                    <a:pt x="103" y="1663"/>
                  </a:lnTo>
                  <a:lnTo>
                    <a:pt x="114" y="1671"/>
                  </a:lnTo>
                  <a:lnTo>
                    <a:pt x="124" y="1679"/>
                  </a:lnTo>
                  <a:lnTo>
                    <a:pt x="137" y="1686"/>
                  </a:lnTo>
                  <a:lnTo>
                    <a:pt x="149" y="1694"/>
                  </a:lnTo>
                  <a:lnTo>
                    <a:pt x="161" y="1700"/>
                  </a:lnTo>
                  <a:lnTo>
                    <a:pt x="174" y="1705"/>
                  </a:lnTo>
                  <a:lnTo>
                    <a:pt x="186" y="1711"/>
                  </a:lnTo>
                  <a:lnTo>
                    <a:pt x="200" y="1716"/>
                  </a:lnTo>
                  <a:lnTo>
                    <a:pt x="212" y="1719"/>
                  </a:lnTo>
                  <a:lnTo>
                    <a:pt x="226" y="1722"/>
                  </a:lnTo>
                  <a:lnTo>
                    <a:pt x="240" y="1725"/>
                  </a:lnTo>
                  <a:lnTo>
                    <a:pt x="254" y="1726"/>
                  </a:lnTo>
                  <a:lnTo>
                    <a:pt x="269" y="1728"/>
                  </a:lnTo>
                  <a:lnTo>
                    <a:pt x="283" y="1728"/>
                  </a:lnTo>
                  <a:lnTo>
                    <a:pt x="1415" y="1728"/>
                  </a:lnTo>
                  <a:lnTo>
                    <a:pt x="1429" y="1728"/>
                  </a:lnTo>
                  <a:lnTo>
                    <a:pt x="1443" y="1726"/>
                  </a:lnTo>
                  <a:lnTo>
                    <a:pt x="1458" y="1725"/>
                  </a:lnTo>
                  <a:lnTo>
                    <a:pt x="1472" y="1722"/>
                  </a:lnTo>
                  <a:lnTo>
                    <a:pt x="1486" y="1719"/>
                  </a:lnTo>
                  <a:lnTo>
                    <a:pt x="1498" y="1716"/>
                  </a:lnTo>
                  <a:lnTo>
                    <a:pt x="1512" y="1711"/>
                  </a:lnTo>
                  <a:lnTo>
                    <a:pt x="1524" y="1705"/>
                  </a:lnTo>
                  <a:lnTo>
                    <a:pt x="1536" y="1700"/>
                  </a:lnTo>
                  <a:lnTo>
                    <a:pt x="1549" y="1694"/>
                  </a:lnTo>
                  <a:lnTo>
                    <a:pt x="1561" y="1686"/>
                  </a:lnTo>
                  <a:lnTo>
                    <a:pt x="1572" y="1679"/>
                  </a:lnTo>
                  <a:lnTo>
                    <a:pt x="1584" y="1671"/>
                  </a:lnTo>
                  <a:lnTo>
                    <a:pt x="1595" y="1663"/>
                  </a:lnTo>
                  <a:lnTo>
                    <a:pt x="1604" y="1654"/>
                  </a:lnTo>
                  <a:lnTo>
                    <a:pt x="1615" y="1645"/>
                  </a:lnTo>
                  <a:lnTo>
                    <a:pt x="1624" y="1636"/>
                  </a:lnTo>
                  <a:lnTo>
                    <a:pt x="1633" y="1625"/>
                  </a:lnTo>
                  <a:lnTo>
                    <a:pt x="1641" y="1614"/>
                  </a:lnTo>
                  <a:lnTo>
                    <a:pt x="1649" y="1603"/>
                  </a:lnTo>
                  <a:lnTo>
                    <a:pt x="1656" y="1591"/>
                  </a:lnTo>
                  <a:lnTo>
                    <a:pt x="1663" y="1580"/>
                  </a:lnTo>
                  <a:lnTo>
                    <a:pt x="1669" y="1568"/>
                  </a:lnTo>
                  <a:lnTo>
                    <a:pt x="1675" y="1556"/>
                  </a:lnTo>
                  <a:lnTo>
                    <a:pt x="1679" y="1542"/>
                  </a:lnTo>
                  <a:lnTo>
                    <a:pt x="1684" y="1530"/>
                  </a:lnTo>
                  <a:lnTo>
                    <a:pt x="1689" y="1516"/>
                  </a:lnTo>
                  <a:lnTo>
                    <a:pt x="1692" y="1502"/>
                  </a:lnTo>
                  <a:lnTo>
                    <a:pt x="1693" y="1488"/>
                  </a:lnTo>
                  <a:lnTo>
                    <a:pt x="1696" y="1474"/>
                  </a:lnTo>
                  <a:lnTo>
                    <a:pt x="1696" y="1459"/>
                  </a:lnTo>
                  <a:lnTo>
                    <a:pt x="1698" y="1445"/>
                  </a:lnTo>
                  <a:lnTo>
                    <a:pt x="1698" y="283"/>
                  </a:lnTo>
                  <a:lnTo>
                    <a:pt x="1696" y="268"/>
                  </a:lnTo>
                  <a:lnTo>
                    <a:pt x="1696" y="254"/>
                  </a:lnTo>
                  <a:lnTo>
                    <a:pt x="1693" y="240"/>
                  </a:lnTo>
                  <a:lnTo>
                    <a:pt x="1692" y="226"/>
                  </a:lnTo>
                  <a:lnTo>
                    <a:pt x="1689" y="212"/>
                  </a:lnTo>
                  <a:lnTo>
                    <a:pt x="1684" y="199"/>
                  </a:lnTo>
                  <a:lnTo>
                    <a:pt x="1679" y="186"/>
                  </a:lnTo>
                  <a:lnTo>
                    <a:pt x="1675" y="172"/>
                  </a:lnTo>
                  <a:lnTo>
                    <a:pt x="1669" y="160"/>
                  </a:lnTo>
                  <a:lnTo>
                    <a:pt x="1663" y="148"/>
                  </a:lnTo>
                  <a:lnTo>
                    <a:pt x="1656" y="136"/>
                  </a:lnTo>
                  <a:lnTo>
                    <a:pt x="1649" y="125"/>
                  </a:lnTo>
                  <a:lnTo>
                    <a:pt x="1641" y="114"/>
                  </a:lnTo>
                  <a:lnTo>
                    <a:pt x="1633" y="103"/>
                  </a:lnTo>
                  <a:lnTo>
                    <a:pt x="1624" y="93"/>
                  </a:lnTo>
                  <a:lnTo>
                    <a:pt x="1615" y="83"/>
                  </a:lnTo>
                  <a:lnTo>
                    <a:pt x="1604" y="74"/>
                  </a:lnTo>
                  <a:lnTo>
                    <a:pt x="1595" y="65"/>
                  </a:lnTo>
                  <a:lnTo>
                    <a:pt x="1584" y="56"/>
                  </a:lnTo>
                  <a:lnTo>
                    <a:pt x="1572" y="48"/>
                  </a:lnTo>
                  <a:lnTo>
                    <a:pt x="1561" y="40"/>
                  </a:lnTo>
                  <a:lnTo>
                    <a:pt x="1549" y="34"/>
                  </a:lnTo>
                  <a:lnTo>
                    <a:pt x="1536" y="28"/>
                  </a:lnTo>
                  <a:lnTo>
                    <a:pt x="1524" y="22"/>
                  </a:lnTo>
                  <a:lnTo>
                    <a:pt x="1512" y="17"/>
                  </a:lnTo>
                  <a:lnTo>
                    <a:pt x="1498" y="13"/>
                  </a:lnTo>
                  <a:lnTo>
                    <a:pt x="1486" y="10"/>
                  </a:lnTo>
                  <a:lnTo>
                    <a:pt x="1472" y="6"/>
                  </a:lnTo>
                  <a:lnTo>
                    <a:pt x="1458" y="3"/>
                  </a:lnTo>
                  <a:lnTo>
                    <a:pt x="1443" y="2"/>
                  </a:lnTo>
                  <a:lnTo>
                    <a:pt x="1429" y="0"/>
                  </a:lnTo>
                  <a:lnTo>
                    <a:pt x="1415" y="0"/>
                  </a:lnTo>
                  <a:lnTo>
                    <a:pt x="28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6659640" y="3684600"/>
              <a:ext cx="1081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Technology typ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e.g.: organic production, integrated, etc.)</a:t>
              </a:r>
              <a:endParaRPr b="0" lang="en-US" sz="1300" spc="-1" strike="noStrike">
                <a:solidFill>
                  <a:srgbClr val="000000"/>
                </a:solidFill>
                <a:latin typeface="Arial"/>
              </a:endParaRPr>
            </a:p>
          </p:txBody>
        </p:sp>
        <p:sp>
          <p:nvSpPr>
            <p:cNvPr id="1365" name=""/>
            <p:cNvSpPr/>
            <p:nvPr/>
          </p:nvSpPr>
          <p:spPr>
            <a:xfrm>
              <a:off x="1643040" y="4035600"/>
              <a:ext cx="201600" cy="236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1844640" y="4035600"/>
              <a:ext cx="190440" cy="23652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035080" y="4035600"/>
              <a:ext cx="152640" cy="2365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2187720" y="4035600"/>
              <a:ext cx="133200" cy="2365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2320920" y="4035600"/>
              <a:ext cx="114480" cy="23652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435400" y="4035600"/>
              <a:ext cx="114120" cy="2365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549520" y="4035600"/>
              <a:ext cx="95400" cy="23652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644920" y="4035600"/>
              <a:ext cx="75960" cy="236520"/>
            </a:xfrm>
            <a:prstGeom prst="rect">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720880" y="4035600"/>
              <a:ext cx="95400" cy="2365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2816280" y="4035600"/>
              <a:ext cx="76320" cy="23652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892600" y="4035600"/>
              <a:ext cx="75960" cy="236520"/>
            </a:xfrm>
            <a:prstGeom prst="rect">
              <a:avLst/>
            </a:prstGeom>
            <a:solidFill>
              <a:srgbClr val="94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968560" y="4035600"/>
              <a:ext cx="76320" cy="236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3044880" y="4035600"/>
              <a:ext cx="76320" cy="23652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21200" y="4035600"/>
              <a:ext cx="56880" cy="236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178080" y="4035600"/>
              <a:ext cx="77760" cy="23652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3255840" y="4035600"/>
              <a:ext cx="55800" cy="23652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311640" y="4035600"/>
              <a:ext cx="77760" cy="23652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3389400" y="4035600"/>
              <a:ext cx="57240" cy="23652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3446640" y="4035600"/>
              <a:ext cx="56880" cy="23652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3503520" y="4035600"/>
              <a:ext cx="57240" cy="2365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560760" y="4035600"/>
              <a:ext cx="76320" cy="23652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3637080" y="4035600"/>
              <a:ext cx="56880" cy="2365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3693960" y="4035600"/>
              <a:ext cx="57240" cy="23652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3751200" y="4035600"/>
              <a:ext cx="57240" cy="23652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3808440" y="4035600"/>
              <a:ext cx="76320" cy="236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3884760" y="4035600"/>
              <a:ext cx="56880" cy="236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3941640" y="4035600"/>
              <a:ext cx="57240" cy="2365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3998880" y="4035600"/>
              <a:ext cx="57240" cy="2365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4056120" y="4035600"/>
              <a:ext cx="57240" cy="2365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4113360" y="4035600"/>
              <a:ext cx="75960" cy="2365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189320" y="4035600"/>
              <a:ext cx="57240" cy="23652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246560" y="4035600"/>
              <a:ext cx="76320" cy="23652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4322880" y="4035600"/>
              <a:ext cx="56880" cy="23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4379760" y="4035600"/>
              <a:ext cx="76320" cy="23652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4456080" y="4035600"/>
              <a:ext cx="76320" cy="23652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4532400" y="4035600"/>
              <a:ext cx="77760" cy="23652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4610160" y="4035600"/>
              <a:ext cx="74520" cy="23652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4684680" y="4035600"/>
              <a:ext cx="77760" cy="2365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762440" y="4035600"/>
              <a:ext cx="95400" cy="236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857840" y="4035600"/>
              <a:ext cx="74520" cy="236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4932360" y="4035600"/>
              <a:ext cx="95400" cy="23652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5027760" y="4035600"/>
              <a:ext cx="115920" cy="236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5143680" y="4035600"/>
              <a:ext cx="114120" cy="2365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257800" y="4035600"/>
              <a:ext cx="114480" cy="2365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5372280" y="4035600"/>
              <a:ext cx="152280" cy="23652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5524560" y="4035600"/>
              <a:ext cx="171360" cy="2365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5695920" y="4035600"/>
              <a:ext cx="209520" cy="23652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5905440" y="4035600"/>
              <a:ext cx="285840" cy="2365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6191280" y="4035600"/>
              <a:ext cx="334800" cy="2365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644480" y="4035600"/>
              <a:ext cx="4881600" cy="236520"/>
            </a:xfrm>
            <a:custGeom>
              <a:avLst/>
              <a:gdLst/>
              <a:ahLst/>
              <a:rect l="l" t="t" r="r" b="b"/>
              <a:pathLst>
                <a:path w="6151" h="296">
                  <a:moveTo>
                    <a:pt x="408" y="0"/>
                  </a:moveTo>
                  <a:lnTo>
                    <a:pt x="408" y="41"/>
                  </a:lnTo>
                  <a:lnTo>
                    <a:pt x="6151" y="41"/>
                  </a:lnTo>
                  <a:lnTo>
                    <a:pt x="6151" y="255"/>
                  </a:lnTo>
                  <a:lnTo>
                    <a:pt x="408" y="255"/>
                  </a:lnTo>
                  <a:lnTo>
                    <a:pt x="408" y="296"/>
                  </a:lnTo>
                  <a:lnTo>
                    <a:pt x="0" y="147"/>
                  </a:lnTo>
                  <a:lnTo>
                    <a:pt x="40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1644480" y="4035600"/>
              <a:ext cx="4881600" cy="236520"/>
            </a:xfrm>
            <a:custGeom>
              <a:avLst/>
              <a:gdLst/>
              <a:ahLst/>
              <a:rect l="l" t="t" r="r" b="b"/>
              <a:pathLst>
                <a:path w="6151" h="296">
                  <a:moveTo>
                    <a:pt x="408" y="0"/>
                  </a:moveTo>
                  <a:lnTo>
                    <a:pt x="408" y="41"/>
                  </a:lnTo>
                  <a:lnTo>
                    <a:pt x="6151" y="41"/>
                  </a:lnTo>
                  <a:lnTo>
                    <a:pt x="6151" y="255"/>
                  </a:lnTo>
                  <a:lnTo>
                    <a:pt x="408" y="255"/>
                  </a:lnTo>
                  <a:lnTo>
                    <a:pt x="408" y="296"/>
                  </a:lnTo>
                  <a:lnTo>
                    <a:pt x="0" y="147"/>
                  </a:lnTo>
                  <a:lnTo>
                    <a:pt x="4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643040" y="4035600"/>
              <a:ext cx="201600" cy="236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844640" y="4035600"/>
              <a:ext cx="190440" cy="23652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035080" y="4035600"/>
              <a:ext cx="152640" cy="2365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2187720" y="4035600"/>
              <a:ext cx="133200" cy="2365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2320920" y="4035600"/>
              <a:ext cx="114480" cy="23652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435400" y="4035600"/>
              <a:ext cx="114120" cy="2365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549520" y="4035600"/>
              <a:ext cx="95400" cy="23652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2644920" y="4035600"/>
              <a:ext cx="75960" cy="236520"/>
            </a:xfrm>
            <a:prstGeom prst="rect">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720880" y="4035600"/>
              <a:ext cx="95400" cy="2365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2816280" y="4035600"/>
              <a:ext cx="76320" cy="23652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892600" y="4035600"/>
              <a:ext cx="75960" cy="236520"/>
            </a:xfrm>
            <a:prstGeom prst="rect">
              <a:avLst/>
            </a:prstGeom>
            <a:solidFill>
              <a:srgbClr val="94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2968560" y="4035600"/>
              <a:ext cx="76320" cy="236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3044880" y="4035600"/>
              <a:ext cx="76320" cy="23652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121200" y="4035600"/>
              <a:ext cx="56880" cy="236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3178080" y="4035600"/>
              <a:ext cx="77760" cy="23652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3255840" y="4035600"/>
              <a:ext cx="55800" cy="23652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3311640" y="4035600"/>
              <a:ext cx="77760" cy="23652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3389400" y="4035600"/>
              <a:ext cx="57240" cy="23652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446640" y="4035600"/>
              <a:ext cx="56880" cy="23652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503520" y="4035600"/>
              <a:ext cx="57240" cy="2365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560760" y="4035600"/>
              <a:ext cx="76320" cy="23652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637080" y="4035600"/>
              <a:ext cx="56880" cy="2365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693960" y="4035600"/>
              <a:ext cx="57240" cy="23652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3751200" y="4035600"/>
              <a:ext cx="57240" cy="23652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3808440" y="4035600"/>
              <a:ext cx="76320" cy="236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884760" y="4035600"/>
              <a:ext cx="56880" cy="236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3941640" y="4035600"/>
              <a:ext cx="57240" cy="2365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3998880" y="4035600"/>
              <a:ext cx="57240" cy="2365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056120" y="4035600"/>
              <a:ext cx="57240" cy="2365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4113360" y="4035600"/>
              <a:ext cx="75960" cy="2365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4189320" y="4035600"/>
              <a:ext cx="57240" cy="23652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4246560" y="4035600"/>
              <a:ext cx="76320" cy="23652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4322880" y="4035600"/>
              <a:ext cx="56880" cy="23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4379760" y="4035600"/>
              <a:ext cx="76320" cy="23652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4456080" y="4035600"/>
              <a:ext cx="76320" cy="23652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4532400" y="4035600"/>
              <a:ext cx="77760" cy="23652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4610160" y="4035600"/>
              <a:ext cx="74520" cy="23652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684680" y="4035600"/>
              <a:ext cx="77760" cy="2365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762440" y="4035600"/>
              <a:ext cx="95400" cy="236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857840" y="4035600"/>
              <a:ext cx="74520" cy="236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932360" y="4035600"/>
              <a:ext cx="95400" cy="23652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027760" y="4035600"/>
              <a:ext cx="115920" cy="236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143680" y="4035600"/>
              <a:ext cx="114120" cy="2365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257800" y="4035600"/>
              <a:ext cx="114480" cy="2365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5372280" y="4035600"/>
              <a:ext cx="152280" cy="23652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5524560" y="4035600"/>
              <a:ext cx="171360" cy="2365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5695920" y="4035600"/>
              <a:ext cx="209520" cy="23652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5905440" y="4035600"/>
              <a:ext cx="285840" cy="2365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6191280" y="4035600"/>
              <a:ext cx="334800" cy="2365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1644480" y="4035600"/>
              <a:ext cx="4881600" cy="236520"/>
            </a:xfrm>
            <a:custGeom>
              <a:avLst/>
              <a:gdLst/>
              <a:ahLst/>
              <a:rect l="l" t="t" r="r" b="b"/>
              <a:pathLst>
                <a:path w="6151" h="296">
                  <a:moveTo>
                    <a:pt x="408" y="0"/>
                  </a:moveTo>
                  <a:lnTo>
                    <a:pt x="408" y="41"/>
                  </a:lnTo>
                  <a:lnTo>
                    <a:pt x="6151" y="41"/>
                  </a:lnTo>
                  <a:lnTo>
                    <a:pt x="6151" y="255"/>
                  </a:lnTo>
                  <a:lnTo>
                    <a:pt x="408" y="255"/>
                  </a:lnTo>
                  <a:lnTo>
                    <a:pt x="408" y="296"/>
                  </a:lnTo>
                  <a:lnTo>
                    <a:pt x="0" y="147"/>
                  </a:lnTo>
                  <a:lnTo>
                    <a:pt x="40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6009840" y="4292640"/>
              <a:ext cx="4168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Arial Narrow"/>
                </a:rPr>
                <a:t>Type of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Arial Narrow"/>
                </a:rPr>
                <a:t>inputs</a:t>
              </a:r>
              <a:endParaRPr b="0" lang="en-US" sz="1100" spc="-1" strike="noStrike">
                <a:solidFill>
                  <a:srgbClr val="000000"/>
                </a:solidFill>
                <a:latin typeface="Arial"/>
              </a:endParaRPr>
            </a:p>
          </p:txBody>
        </p:sp>
        <p:sp>
          <p:nvSpPr>
            <p:cNvPr id="1467" name=""/>
            <p:cNvSpPr/>
            <p:nvPr/>
          </p:nvSpPr>
          <p:spPr>
            <a:xfrm>
              <a:off x="3851280" y="4332240"/>
              <a:ext cx="585720" cy="669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Arial Narrow"/>
                </a:rPr>
                <a:t>Specific substance and amounts </a:t>
              </a:r>
              <a:endParaRPr b="0" lang="en-US" sz="1100" spc="-1" strike="noStrike">
                <a:solidFill>
                  <a:srgbClr val="000000"/>
                </a:solidFill>
                <a:latin typeface="Arial"/>
              </a:endParaRPr>
            </a:p>
          </p:txBody>
        </p:sp>
        <p:sp>
          <p:nvSpPr>
            <p:cNvPr id="1468" name=""/>
            <p:cNvSpPr/>
            <p:nvPr/>
          </p:nvSpPr>
          <p:spPr>
            <a:xfrm>
              <a:off x="1926720" y="4332240"/>
              <a:ext cx="5950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Arial Narrow"/>
                </a:rPr>
                <a:t>Predicted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Arial Narrow"/>
                </a:rPr>
                <a:t>emissions</a:t>
              </a:r>
              <a:r>
                <a:rPr b="0" lang="es-ES" sz="1100" spc="-1" strike="noStrike">
                  <a:solidFill>
                    <a:srgbClr val="333399"/>
                  </a:solidFill>
                  <a:latin typeface="Arial Narrow"/>
                </a:rPr>
                <a:t> </a:t>
              </a:r>
              <a:endParaRPr b="0" lang="en-US" sz="1100" spc="-1" strike="noStrike">
                <a:solidFill>
                  <a:srgbClr val="000000"/>
                </a:solidFill>
                <a:latin typeface="Arial"/>
              </a:endParaRPr>
            </a:p>
          </p:txBody>
        </p:sp>
        <p:sp>
          <p:nvSpPr>
            <p:cNvPr id="1469" name=""/>
            <p:cNvSpPr/>
            <p:nvPr/>
          </p:nvSpPr>
          <p:spPr>
            <a:xfrm>
              <a:off x="2247840" y="3422520"/>
              <a:ext cx="3678120" cy="2241720"/>
            </a:xfrm>
            <a:custGeom>
              <a:avLst/>
              <a:gdLst/>
              <a:ahLst/>
              <a:rect l="l" t="t" r="r" b="b"/>
              <a:pathLst>
                <a:path w="4633" h="2825">
                  <a:moveTo>
                    <a:pt x="4149" y="9"/>
                  </a:moveTo>
                  <a:lnTo>
                    <a:pt x="4121" y="9"/>
                  </a:lnTo>
                  <a:lnTo>
                    <a:pt x="4118" y="9"/>
                  </a:lnTo>
                  <a:lnTo>
                    <a:pt x="4116" y="7"/>
                  </a:lnTo>
                  <a:lnTo>
                    <a:pt x="4116" y="6"/>
                  </a:lnTo>
                  <a:lnTo>
                    <a:pt x="4115" y="4"/>
                  </a:lnTo>
                  <a:lnTo>
                    <a:pt x="4116" y="3"/>
                  </a:lnTo>
                  <a:lnTo>
                    <a:pt x="4116" y="1"/>
                  </a:lnTo>
                  <a:lnTo>
                    <a:pt x="4118" y="0"/>
                  </a:lnTo>
                  <a:lnTo>
                    <a:pt x="4121" y="0"/>
                  </a:lnTo>
                  <a:lnTo>
                    <a:pt x="4149" y="0"/>
                  </a:lnTo>
                  <a:lnTo>
                    <a:pt x="4150" y="0"/>
                  </a:lnTo>
                  <a:lnTo>
                    <a:pt x="4152" y="1"/>
                  </a:lnTo>
                  <a:lnTo>
                    <a:pt x="4153" y="3"/>
                  </a:lnTo>
                  <a:lnTo>
                    <a:pt x="4153" y="4"/>
                  </a:lnTo>
                  <a:lnTo>
                    <a:pt x="4153" y="6"/>
                  </a:lnTo>
                  <a:lnTo>
                    <a:pt x="4152" y="7"/>
                  </a:lnTo>
                  <a:lnTo>
                    <a:pt x="4150" y="9"/>
                  </a:lnTo>
                  <a:lnTo>
                    <a:pt x="4149" y="9"/>
                  </a:lnTo>
                  <a:lnTo>
                    <a:pt x="4149" y="9"/>
                  </a:lnTo>
                  <a:close/>
                  <a:moveTo>
                    <a:pt x="4083" y="9"/>
                  </a:moveTo>
                  <a:lnTo>
                    <a:pt x="4053" y="9"/>
                  </a:lnTo>
                  <a:lnTo>
                    <a:pt x="4052" y="9"/>
                  </a:lnTo>
                  <a:lnTo>
                    <a:pt x="4049" y="7"/>
                  </a:lnTo>
                  <a:lnTo>
                    <a:pt x="4049" y="6"/>
                  </a:lnTo>
                  <a:lnTo>
                    <a:pt x="4049" y="4"/>
                  </a:lnTo>
                  <a:lnTo>
                    <a:pt x="4049" y="3"/>
                  </a:lnTo>
                  <a:lnTo>
                    <a:pt x="4049" y="1"/>
                  </a:lnTo>
                  <a:lnTo>
                    <a:pt x="4052" y="0"/>
                  </a:lnTo>
                  <a:lnTo>
                    <a:pt x="4053" y="0"/>
                  </a:lnTo>
                  <a:lnTo>
                    <a:pt x="4083" y="0"/>
                  </a:lnTo>
                  <a:lnTo>
                    <a:pt x="4084" y="0"/>
                  </a:lnTo>
                  <a:lnTo>
                    <a:pt x="4086" y="1"/>
                  </a:lnTo>
                  <a:lnTo>
                    <a:pt x="4086" y="3"/>
                  </a:lnTo>
                  <a:lnTo>
                    <a:pt x="4087" y="4"/>
                  </a:lnTo>
                  <a:lnTo>
                    <a:pt x="4086" y="6"/>
                  </a:lnTo>
                  <a:lnTo>
                    <a:pt x="4086" y="7"/>
                  </a:lnTo>
                  <a:lnTo>
                    <a:pt x="4084" y="9"/>
                  </a:lnTo>
                  <a:lnTo>
                    <a:pt x="4083" y="9"/>
                  </a:lnTo>
                  <a:lnTo>
                    <a:pt x="4083" y="9"/>
                  </a:lnTo>
                  <a:close/>
                  <a:moveTo>
                    <a:pt x="4015" y="9"/>
                  </a:moveTo>
                  <a:lnTo>
                    <a:pt x="3986" y="9"/>
                  </a:lnTo>
                  <a:lnTo>
                    <a:pt x="3984" y="9"/>
                  </a:lnTo>
                  <a:lnTo>
                    <a:pt x="3983" y="7"/>
                  </a:lnTo>
                  <a:lnTo>
                    <a:pt x="3981" y="6"/>
                  </a:lnTo>
                  <a:lnTo>
                    <a:pt x="3981" y="4"/>
                  </a:lnTo>
                  <a:lnTo>
                    <a:pt x="3981" y="3"/>
                  </a:lnTo>
                  <a:lnTo>
                    <a:pt x="3983" y="1"/>
                  </a:lnTo>
                  <a:lnTo>
                    <a:pt x="3984" y="0"/>
                  </a:lnTo>
                  <a:lnTo>
                    <a:pt x="3986" y="0"/>
                  </a:lnTo>
                  <a:lnTo>
                    <a:pt x="4015" y="0"/>
                  </a:lnTo>
                  <a:lnTo>
                    <a:pt x="4016" y="0"/>
                  </a:lnTo>
                  <a:lnTo>
                    <a:pt x="4018" y="1"/>
                  </a:lnTo>
                  <a:lnTo>
                    <a:pt x="4020" y="3"/>
                  </a:lnTo>
                  <a:lnTo>
                    <a:pt x="4020" y="4"/>
                  </a:lnTo>
                  <a:lnTo>
                    <a:pt x="4020" y="6"/>
                  </a:lnTo>
                  <a:lnTo>
                    <a:pt x="4018" y="7"/>
                  </a:lnTo>
                  <a:lnTo>
                    <a:pt x="4016" y="9"/>
                  </a:lnTo>
                  <a:lnTo>
                    <a:pt x="4015" y="9"/>
                  </a:lnTo>
                  <a:lnTo>
                    <a:pt x="4015" y="9"/>
                  </a:lnTo>
                  <a:close/>
                  <a:moveTo>
                    <a:pt x="3947" y="9"/>
                  </a:moveTo>
                  <a:lnTo>
                    <a:pt x="3918" y="9"/>
                  </a:lnTo>
                  <a:lnTo>
                    <a:pt x="3917" y="9"/>
                  </a:lnTo>
                  <a:lnTo>
                    <a:pt x="3915" y="7"/>
                  </a:lnTo>
                  <a:lnTo>
                    <a:pt x="3913" y="6"/>
                  </a:lnTo>
                  <a:lnTo>
                    <a:pt x="3913" y="4"/>
                  </a:lnTo>
                  <a:lnTo>
                    <a:pt x="3913" y="3"/>
                  </a:lnTo>
                  <a:lnTo>
                    <a:pt x="3915" y="1"/>
                  </a:lnTo>
                  <a:lnTo>
                    <a:pt x="3917" y="0"/>
                  </a:lnTo>
                  <a:lnTo>
                    <a:pt x="3918" y="0"/>
                  </a:lnTo>
                  <a:lnTo>
                    <a:pt x="3947" y="0"/>
                  </a:lnTo>
                  <a:lnTo>
                    <a:pt x="3949" y="0"/>
                  </a:lnTo>
                  <a:lnTo>
                    <a:pt x="3950" y="1"/>
                  </a:lnTo>
                  <a:lnTo>
                    <a:pt x="3952" y="3"/>
                  </a:lnTo>
                  <a:lnTo>
                    <a:pt x="3952" y="4"/>
                  </a:lnTo>
                  <a:lnTo>
                    <a:pt x="3952" y="6"/>
                  </a:lnTo>
                  <a:lnTo>
                    <a:pt x="3950" y="7"/>
                  </a:lnTo>
                  <a:lnTo>
                    <a:pt x="3949" y="9"/>
                  </a:lnTo>
                  <a:lnTo>
                    <a:pt x="3947" y="9"/>
                  </a:lnTo>
                  <a:lnTo>
                    <a:pt x="3947" y="9"/>
                  </a:lnTo>
                  <a:close/>
                  <a:moveTo>
                    <a:pt x="3880" y="9"/>
                  </a:moveTo>
                  <a:lnTo>
                    <a:pt x="3852" y="9"/>
                  </a:lnTo>
                  <a:lnTo>
                    <a:pt x="3849" y="9"/>
                  </a:lnTo>
                  <a:lnTo>
                    <a:pt x="3847" y="7"/>
                  </a:lnTo>
                  <a:lnTo>
                    <a:pt x="3847" y="6"/>
                  </a:lnTo>
                  <a:lnTo>
                    <a:pt x="3846" y="4"/>
                  </a:lnTo>
                  <a:lnTo>
                    <a:pt x="3847" y="3"/>
                  </a:lnTo>
                  <a:lnTo>
                    <a:pt x="3847" y="1"/>
                  </a:lnTo>
                  <a:lnTo>
                    <a:pt x="3849" y="0"/>
                  </a:lnTo>
                  <a:lnTo>
                    <a:pt x="3852" y="0"/>
                  </a:lnTo>
                  <a:lnTo>
                    <a:pt x="3880" y="0"/>
                  </a:lnTo>
                  <a:lnTo>
                    <a:pt x="3881" y="0"/>
                  </a:lnTo>
                  <a:lnTo>
                    <a:pt x="3883" y="1"/>
                  </a:lnTo>
                  <a:lnTo>
                    <a:pt x="3884" y="3"/>
                  </a:lnTo>
                  <a:lnTo>
                    <a:pt x="3884" y="4"/>
                  </a:lnTo>
                  <a:lnTo>
                    <a:pt x="3884" y="6"/>
                  </a:lnTo>
                  <a:lnTo>
                    <a:pt x="3883" y="7"/>
                  </a:lnTo>
                  <a:lnTo>
                    <a:pt x="3881" y="9"/>
                  </a:lnTo>
                  <a:lnTo>
                    <a:pt x="3880" y="9"/>
                  </a:lnTo>
                  <a:lnTo>
                    <a:pt x="3880" y="9"/>
                  </a:lnTo>
                  <a:close/>
                  <a:moveTo>
                    <a:pt x="3813" y="9"/>
                  </a:moveTo>
                  <a:lnTo>
                    <a:pt x="3784" y="9"/>
                  </a:lnTo>
                  <a:lnTo>
                    <a:pt x="3783" y="9"/>
                  </a:lnTo>
                  <a:lnTo>
                    <a:pt x="3780" y="7"/>
                  </a:lnTo>
                  <a:lnTo>
                    <a:pt x="3780" y="6"/>
                  </a:lnTo>
                  <a:lnTo>
                    <a:pt x="3780" y="4"/>
                  </a:lnTo>
                  <a:lnTo>
                    <a:pt x="3780" y="3"/>
                  </a:lnTo>
                  <a:lnTo>
                    <a:pt x="3780" y="1"/>
                  </a:lnTo>
                  <a:lnTo>
                    <a:pt x="3783" y="0"/>
                  </a:lnTo>
                  <a:lnTo>
                    <a:pt x="3784" y="0"/>
                  </a:lnTo>
                  <a:lnTo>
                    <a:pt x="3813" y="0"/>
                  </a:lnTo>
                  <a:lnTo>
                    <a:pt x="3815" y="0"/>
                  </a:lnTo>
                  <a:lnTo>
                    <a:pt x="3817" y="1"/>
                  </a:lnTo>
                  <a:lnTo>
                    <a:pt x="3817" y="3"/>
                  </a:lnTo>
                  <a:lnTo>
                    <a:pt x="3818" y="4"/>
                  </a:lnTo>
                  <a:lnTo>
                    <a:pt x="3817" y="6"/>
                  </a:lnTo>
                  <a:lnTo>
                    <a:pt x="3817" y="7"/>
                  </a:lnTo>
                  <a:lnTo>
                    <a:pt x="3815" y="9"/>
                  </a:lnTo>
                  <a:lnTo>
                    <a:pt x="3813" y="9"/>
                  </a:lnTo>
                  <a:lnTo>
                    <a:pt x="3813" y="9"/>
                  </a:lnTo>
                  <a:close/>
                  <a:moveTo>
                    <a:pt x="3746" y="9"/>
                  </a:moveTo>
                  <a:lnTo>
                    <a:pt x="3717" y="9"/>
                  </a:lnTo>
                  <a:lnTo>
                    <a:pt x="3715" y="9"/>
                  </a:lnTo>
                  <a:lnTo>
                    <a:pt x="3713" y="7"/>
                  </a:lnTo>
                  <a:lnTo>
                    <a:pt x="3712" y="6"/>
                  </a:lnTo>
                  <a:lnTo>
                    <a:pt x="3712" y="4"/>
                  </a:lnTo>
                  <a:lnTo>
                    <a:pt x="3712" y="3"/>
                  </a:lnTo>
                  <a:lnTo>
                    <a:pt x="3713" y="1"/>
                  </a:lnTo>
                  <a:lnTo>
                    <a:pt x="3715" y="0"/>
                  </a:lnTo>
                  <a:lnTo>
                    <a:pt x="3717" y="0"/>
                  </a:lnTo>
                  <a:lnTo>
                    <a:pt x="3746" y="0"/>
                  </a:lnTo>
                  <a:lnTo>
                    <a:pt x="3747" y="0"/>
                  </a:lnTo>
                  <a:lnTo>
                    <a:pt x="3749" y="1"/>
                  </a:lnTo>
                  <a:lnTo>
                    <a:pt x="3750" y="3"/>
                  </a:lnTo>
                  <a:lnTo>
                    <a:pt x="3750" y="4"/>
                  </a:lnTo>
                  <a:lnTo>
                    <a:pt x="3750" y="6"/>
                  </a:lnTo>
                  <a:lnTo>
                    <a:pt x="3749" y="7"/>
                  </a:lnTo>
                  <a:lnTo>
                    <a:pt x="3747" y="9"/>
                  </a:lnTo>
                  <a:lnTo>
                    <a:pt x="3746" y="9"/>
                  </a:lnTo>
                  <a:lnTo>
                    <a:pt x="3746" y="9"/>
                  </a:lnTo>
                  <a:close/>
                  <a:moveTo>
                    <a:pt x="3678" y="9"/>
                  </a:moveTo>
                  <a:lnTo>
                    <a:pt x="3649" y="9"/>
                  </a:lnTo>
                  <a:lnTo>
                    <a:pt x="3647" y="9"/>
                  </a:lnTo>
                  <a:lnTo>
                    <a:pt x="3646" y="7"/>
                  </a:lnTo>
                  <a:lnTo>
                    <a:pt x="3644" y="6"/>
                  </a:lnTo>
                  <a:lnTo>
                    <a:pt x="3644" y="4"/>
                  </a:lnTo>
                  <a:lnTo>
                    <a:pt x="3644" y="3"/>
                  </a:lnTo>
                  <a:lnTo>
                    <a:pt x="3646" y="1"/>
                  </a:lnTo>
                  <a:lnTo>
                    <a:pt x="3647" y="0"/>
                  </a:lnTo>
                  <a:lnTo>
                    <a:pt x="3649" y="0"/>
                  </a:lnTo>
                  <a:lnTo>
                    <a:pt x="3678" y="0"/>
                  </a:lnTo>
                  <a:lnTo>
                    <a:pt x="3680" y="0"/>
                  </a:lnTo>
                  <a:lnTo>
                    <a:pt x="3681" y="1"/>
                  </a:lnTo>
                  <a:lnTo>
                    <a:pt x="3683" y="3"/>
                  </a:lnTo>
                  <a:lnTo>
                    <a:pt x="3683" y="4"/>
                  </a:lnTo>
                  <a:lnTo>
                    <a:pt x="3683" y="6"/>
                  </a:lnTo>
                  <a:lnTo>
                    <a:pt x="3681" y="7"/>
                  </a:lnTo>
                  <a:lnTo>
                    <a:pt x="3680" y="9"/>
                  </a:lnTo>
                  <a:lnTo>
                    <a:pt x="3678" y="9"/>
                  </a:lnTo>
                  <a:lnTo>
                    <a:pt x="3678" y="9"/>
                  </a:lnTo>
                  <a:close/>
                  <a:moveTo>
                    <a:pt x="3610" y="9"/>
                  </a:moveTo>
                  <a:lnTo>
                    <a:pt x="3583" y="9"/>
                  </a:lnTo>
                  <a:lnTo>
                    <a:pt x="3580" y="9"/>
                  </a:lnTo>
                  <a:lnTo>
                    <a:pt x="3578" y="7"/>
                  </a:lnTo>
                  <a:lnTo>
                    <a:pt x="3578" y="6"/>
                  </a:lnTo>
                  <a:lnTo>
                    <a:pt x="3577" y="4"/>
                  </a:lnTo>
                  <a:lnTo>
                    <a:pt x="3578" y="3"/>
                  </a:lnTo>
                  <a:lnTo>
                    <a:pt x="3578" y="1"/>
                  </a:lnTo>
                  <a:lnTo>
                    <a:pt x="3580" y="0"/>
                  </a:lnTo>
                  <a:lnTo>
                    <a:pt x="3583" y="0"/>
                  </a:lnTo>
                  <a:lnTo>
                    <a:pt x="3610" y="0"/>
                  </a:lnTo>
                  <a:lnTo>
                    <a:pt x="3612" y="0"/>
                  </a:lnTo>
                  <a:lnTo>
                    <a:pt x="3613" y="1"/>
                  </a:lnTo>
                  <a:lnTo>
                    <a:pt x="3615" y="3"/>
                  </a:lnTo>
                  <a:lnTo>
                    <a:pt x="3615" y="4"/>
                  </a:lnTo>
                  <a:lnTo>
                    <a:pt x="3615" y="6"/>
                  </a:lnTo>
                  <a:lnTo>
                    <a:pt x="3613" y="7"/>
                  </a:lnTo>
                  <a:lnTo>
                    <a:pt x="3612" y="9"/>
                  </a:lnTo>
                  <a:lnTo>
                    <a:pt x="3610" y="9"/>
                  </a:lnTo>
                  <a:lnTo>
                    <a:pt x="3610" y="9"/>
                  </a:lnTo>
                  <a:close/>
                  <a:moveTo>
                    <a:pt x="3544" y="9"/>
                  </a:moveTo>
                  <a:lnTo>
                    <a:pt x="3515" y="9"/>
                  </a:lnTo>
                  <a:lnTo>
                    <a:pt x="3514" y="9"/>
                  </a:lnTo>
                  <a:lnTo>
                    <a:pt x="3510" y="7"/>
                  </a:lnTo>
                  <a:lnTo>
                    <a:pt x="3510" y="6"/>
                  </a:lnTo>
                  <a:lnTo>
                    <a:pt x="3510" y="4"/>
                  </a:lnTo>
                  <a:lnTo>
                    <a:pt x="3510" y="3"/>
                  </a:lnTo>
                  <a:lnTo>
                    <a:pt x="3510" y="1"/>
                  </a:lnTo>
                  <a:lnTo>
                    <a:pt x="3514" y="0"/>
                  </a:lnTo>
                  <a:lnTo>
                    <a:pt x="3515" y="0"/>
                  </a:lnTo>
                  <a:lnTo>
                    <a:pt x="3544" y="0"/>
                  </a:lnTo>
                  <a:lnTo>
                    <a:pt x="3546" y="0"/>
                  </a:lnTo>
                  <a:lnTo>
                    <a:pt x="3547" y="1"/>
                  </a:lnTo>
                  <a:lnTo>
                    <a:pt x="3547" y="3"/>
                  </a:lnTo>
                  <a:lnTo>
                    <a:pt x="3549" y="4"/>
                  </a:lnTo>
                  <a:lnTo>
                    <a:pt x="3547" y="6"/>
                  </a:lnTo>
                  <a:lnTo>
                    <a:pt x="3547" y="7"/>
                  </a:lnTo>
                  <a:lnTo>
                    <a:pt x="3546" y="9"/>
                  </a:lnTo>
                  <a:lnTo>
                    <a:pt x="3544" y="9"/>
                  </a:lnTo>
                  <a:lnTo>
                    <a:pt x="3544" y="9"/>
                  </a:lnTo>
                  <a:close/>
                  <a:moveTo>
                    <a:pt x="3477" y="9"/>
                  </a:moveTo>
                  <a:lnTo>
                    <a:pt x="3447" y="9"/>
                  </a:lnTo>
                  <a:lnTo>
                    <a:pt x="3446" y="9"/>
                  </a:lnTo>
                  <a:lnTo>
                    <a:pt x="3444" y="7"/>
                  </a:lnTo>
                  <a:lnTo>
                    <a:pt x="3443" y="6"/>
                  </a:lnTo>
                  <a:lnTo>
                    <a:pt x="3443" y="4"/>
                  </a:lnTo>
                  <a:lnTo>
                    <a:pt x="3443" y="3"/>
                  </a:lnTo>
                  <a:lnTo>
                    <a:pt x="3444" y="1"/>
                  </a:lnTo>
                  <a:lnTo>
                    <a:pt x="3446" y="0"/>
                  </a:lnTo>
                  <a:lnTo>
                    <a:pt x="3447" y="0"/>
                  </a:lnTo>
                  <a:lnTo>
                    <a:pt x="3477" y="0"/>
                  </a:lnTo>
                  <a:lnTo>
                    <a:pt x="3478" y="0"/>
                  </a:lnTo>
                  <a:lnTo>
                    <a:pt x="3480" y="1"/>
                  </a:lnTo>
                  <a:lnTo>
                    <a:pt x="3481" y="3"/>
                  </a:lnTo>
                  <a:lnTo>
                    <a:pt x="3481" y="4"/>
                  </a:lnTo>
                  <a:lnTo>
                    <a:pt x="3481" y="6"/>
                  </a:lnTo>
                  <a:lnTo>
                    <a:pt x="3480" y="7"/>
                  </a:lnTo>
                  <a:lnTo>
                    <a:pt x="3478" y="9"/>
                  </a:lnTo>
                  <a:lnTo>
                    <a:pt x="3477" y="9"/>
                  </a:lnTo>
                  <a:lnTo>
                    <a:pt x="3477" y="9"/>
                  </a:lnTo>
                  <a:close/>
                  <a:moveTo>
                    <a:pt x="3409" y="9"/>
                  </a:moveTo>
                  <a:lnTo>
                    <a:pt x="3380" y="9"/>
                  </a:lnTo>
                  <a:lnTo>
                    <a:pt x="3378" y="9"/>
                  </a:lnTo>
                  <a:lnTo>
                    <a:pt x="3377" y="7"/>
                  </a:lnTo>
                  <a:lnTo>
                    <a:pt x="3375" y="6"/>
                  </a:lnTo>
                  <a:lnTo>
                    <a:pt x="3375" y="4"/>
                  </a:lnTo>
                  <a:lnTo>
                    <a:pt x="3375" y="3"/>
                  </a:lnTo>
                  <a:lnTo>
                    <a:pt x="3377" y="1"/>
                  </a:lnTo>
                  <a:lnTo>
                    <a:pt x="3378" y="0"/>
                  </a:lnTo>
                  <a:lnTo>
                    <a:pt x="3380" y="0"/>
                  </a:lnTo>
                  <a:lnTo>
                    <a:pt x="3409" y="0"/>
                  </a:lnTo>
                  <a:lnTo>
                    <a:pt x="3410" y="0"/>
                  </a:lnTo>
                  <a:lnTo>
                    <a:pt x="3412" y="1"/>
                  </a:lnTo>
                  <a:lnTo>
                    <a:pt x="3414" y="3"/>
                  </a:lnTo>
                  <a:lnTo>
                    <a:pt x="3414" y="4"/>
                  </a:lnTo>
                  <a:lnTo>
                    <a:pt x="3414" y="6"/>
                  </a:lnTo>
                  <a:lnTo>
                    <a:pt x="3412" y="7"/>
                  </a:lnTo>
                  <a:lnTo>
                    <a:pt x="3410" y="9"/>
                  </a:lnTo>
                  <a:lnTo>
                    <a:pt x="3409" y="9"/>
                  </a:lnTo>
                  <a:lnTo>
                    <a:pt x="3409" y="9"/>
                  </a:lnTo>
                  <a:close/>
                  <a:moveTo>
                    <a:pt x="3341" y="9"/>
                  </a:moveTo>
                  <a:lnTo>
                    <a:pt x="3314" y="9"/>
                  </a:lnTo>
                  <a:lnTo>
                    <a:pt x="3310" y="9"/>
                  </a:lnTo>
                  <a:lnTo>
                    <a:pt x="3309" y="7"/>
                  </a:lnTo>
                  <a:lnTo>
                    <a:pt x="3309" y="6"/>
                  </a:lnTo>
                  <a:lnTo>
                    <a:pt x="3307" y="4"/>
                  </a:lnTo>
                  <a:lnTo>
                    <a:pt x="3309" y="3"/>
                  </a:lnTo>
                  <a:lnTo>
                    <a:pt x="3309" y="1"/>
                  </a:lnTo>
                  <a:lnTo>
                    <a:pt x="3310" y="0"/>
                  </a:lnTo>
                  <a:lnTo>
                    <a:pt x="3314" y="0"/>
                  </a:lnTo>
                  <a:lnTo>
                    <a:pt x="3341" y="0"/>
                  </a:lnTo>
                  <a:lnTo>
                    <a:pt x="3343" y="0"/>
                  </a:lnTo>
                  <a:lnTo>
                    <a:pt x="3344" y="1"/>
                  </a:lnTo>
                  <a:lnTo>
                    <a:pt x="3346" y="3"/>
                  </a:lnTo>
                  <a:lnTo>
                    <a:pt x="3346" y="4"/>
                  </a:lnTo>
                  <a:lnTo>
                    <a:pt x="3346" y="6"/>
                  </a:lnTo>
                  <a:lnTo>
                    <a:pt x="3344" y="7"/>
                  </a:lnTo>
                  <a:lnTo>
                    <a:pt x="3343" y="9"/>
                  </a:lnTo>
                  <a:lnTo>
                    <a:pt x="3341" y="9"/>
                  </a:lnTo>
                  <a:lnTo>
                    <a:pt x="3341" y="9"/>
                  </a:lnTo>
                  <a:close/>
                  <a:moveTo>
                    <a:pt x="3275" y="9"/>
                  </a:moveTo>
                  <a:lnTo>
                    <a:pt x="3246" y="9"/>
                  </a:lnTo>
                  <a:lnTo>
                    <a:pt x="3244" y="9"/>
                  </a:lnTo>
                  <a:lnTo>
                    <a:pt x="3241" y="7"/>
                  </a:lnTo>
                  <a:lnTo>
                    <a:pt x="3241" y="6"/>
                  </a:lnTo>
                  <a:lnTo>
                    <a:pt x="3241" y="4"/>
                  </a:lnTo>
                  <a:lnTo>
                    <a:pt x="3241" y="3"/>
                  </a:lnTo>
                  <a:lnTo>
                    <a:pt x="3241" y="1"/>
                  </a:lnTo>
                  <a:lnTo>
                    <a:pt x="3244" y="0"/>
                  </a:lnTo>
                  <a:lnTo>
                    <a:pt x="3246" y="0"/>
                  </a:lnTo>
                  <a:lnTo>
                    <a:pt x="3275" y="0"/>
                  </a:lnTo>
                  <a:lnTo>
                    <a:pt x="3277" y="0"/>
                  </a:lnTo>
                  <a:lnTo>
                    <a:pt x="3278" y="1"/>
                  </a:lnTo>
                  <a:lnTo>
                    <a:pt x="3278" y="3"/>
                  </a:lnTo>
                  <a:lnTo>
                    <a:pt x="3280" y="4"/>
                  </a:lnTo>
                  <a:lnTo>
                    <a:pt x="3278" y="6"/>
                  </a:lnTo>
                  <a:lnTo>
                    <a:pt x="3278" y="7"/>
                  </a:lnTo>
                  <a:lnTo>
                    <a:pt x="3277" y="9"/>
                  </a:lnTo>
                  <a:lnTo>
                    <a:pt x="3275" y="9"/>
                  </a:lnTo>
                  <a:lnTo>
                    <a:pt x="3275" y="9"/>
                  </a:lnTo>
                  <a:close/>
                  <a:moveTo>
                    <a:pt x="3207" y="9"/>
                  </a:moveTo>
                  <a:lnTo>
                    <a:pt x="3178" y="9"/>
                  </a:lnTo>
                  <a:lnTo>
                    <a:pt x="3177" y="9"/>
                  </a:lnTo>
                  <a:lnTo>
                    <a:pt x="3175" y="7"/>
                  </a:lnTo>
                  <a:lnTo>
                    <a:pt x="3174" y="6"/>
                  </a:lnTo>
                  <a:lnTo>
                    <a:pt x="3174" y="4"/>
                  </a:lnTo>
                  <a:lnTo>
                    <a:pt x="3174" y="3"/>
                  </a:lnTo>
                  <a:lnTo>
                    <a:pt x="3175" y="1"/>
                  </a:lnTo>
                  <a:lnTo>
                    <a:pt x="3177" y="0"/>
                  </a:lnTo>
                  <a:lnTo>
                    <a:pt x="3178" y="0"/>
                  </a:lnTo>
                  <a:lnTo>
                    <a:pt x="3207" y="0"/>
                  </a:lnTo>
                  <a:lnTo>
                    <a:pt x="3209" y="0"/>
                  </a:lnTo>
                  <a:lnTo>
                    <a:pt x="3210" y="1"/>
                  </a:lnTo>
                  <a:lnTo>
                    <a:pt x="3212" y="3"/>
                  </a:lnTo>
                  <a:lnTo>
                    <a:pt x="3212" y="4"/>
                  </a:lnTo>
                  <a:lnTo>
                    <a:pt x="3212" y="6"/>
                  </a:lnTo>
                  <a:lnTo>
                    <a:pt x="3210" y="7"/>
                  </a:lnTo>
                  <a:lnTo>
                    <a:pt x="3209" y="9"/>
                  </a:lnTo>
                  <a:lnTo>
                    <a:pt x="3207" y="9"/>
                  </a:lnTo>
                  <a:lnTo>
                    <a:pt x="3207" y="9"/>
                  </a:lnTo>
                  <a:close/>
                  <a:moveTo>
                    <a:pt x="3140" y="9"/>
                  </a:moveTo>
                  <a:lnTo>
                    <a:pt x="3111" y="9"/>
                  </a:lnTo>
                  <a:lnTo>
                    <a:pt x="3109" y="9"/>
                  </a:lnTo>
                  <a:lnTo>
                    <a:pt x="3107" y="7"/>
                  </a:lnTo>
                  <a:lnTo>
                    <a:pt x="3106" y="6"/>
                  </a:lnTo>
                  <a:lnTo>
                    <a:pt x="3106" y="4"/>
                  </a:lnTo>
                  <a:lnTo>
                    <a:pt x="3106" y="3"/>
                  </a:lnTo>
                  <a:lnTo>
                    <a:pt x="3107" y="1"/>
                  </a:lnTo>
                  <a:lnTo>
                    <a:pt x="3109" y="0"/>
                  </a:lnTo>
                  <a:lnTo>
                    <a:pt x="3111" y="0"/>
                  </a:lnTo>
                  <a:lnTo>
                    <a:pt x="3140" y="0"/>
                  </a:lnTo>
                  <a:lnTo>
                    <a:pt x="3141" y="0"/>
                  </a:lnTo>
                  <a:lnTo>
                    <a:pt x="3143" y="1"/>
                  </a:lnTo>
                  <a:lnTo>
                    <a:pt x="3144" y="3"/>
                  </a:lnTo>
                  <a:lnTo>
                    <a:pt x="3144" y="4"/>
                  </a:lnTo>
                  <a:lnTo>
                    <a:pt x="3144" y="6"/>
                  </a:lnTo>
                  <a:lnTo>
                    <a:pt x="3143" y="7"/>
                  </a:lnTo>
                  <a:lnTo>
                    <a:pt x="3141" y="9"/>
                  </a:lnTo>
                  <a:lnTo>
                    <a:pt x="3140" y="9"/>
                  </a:lnTo>
                  <a:lnTo>
                    <a:pt x="3140" y="9"/>
                  </a:lnTo>
                  <a:close/>
                  <a:moveTo>
                    <a:pt x="3072" y="9"/>
                  </a:moveTo>
                  <a:lnTo>
                    <a:pt x="3044" y="9"/>
                  </a:lnTo>
                  <a:lnTo>
                    <a:pt x="3041" y="9"/>
                  </a:lnTo>
                  <a:lnTo>
                    <a:pt x="3040" y="7"/>
                  </a:lnTo>
                  <a:lnTo>
                    <a:pt x="3040" y="6"/>
                  </a:lnTo>
                  <a:lnTo>
                    <a:pt x="3038" y="4"/>
                  </a:lnTo>
                  <a:lnTo>
                    <a:pt x="3040" y="3"/>
                  </a:lnTo>
                  <a:lnTo>
                    <a:pt x="3040" y="1"/>
                  </a:lnTo>
                  <a:lnTo>
                    <a:pt x="3041" y="0"/>
                  </a:lnTo>
                  <a:lnTo>
                    <a:pt x="3044" y="0"/>
                  </a:lnTo>
                  <a:lnTo>
                    <a:pt x="3072" y="0"/>
                  </a:lnTo>
                  <a:lnTo>
                    <a:pt x="3074" y="0"/>
                  </a:lnTo>
                  <a:lnTo>
                    <a:pt x="3075" y="1"/>
                  </a:lnTo>
                  <a:lnTo>
                    <a:pt x="3077" y="3"/>
                  </a:lnTo>
                  <a:lnTo>
                    <a:pt x="3077" y="4"/>
                  </a:lnTo>
                  <a:lnTo>
                    <a:pt x="3077" y="6"/>
                  </a:lnTo>
                  <a:lnTo>
                    <a:pt x="3075" y="7"/>
                  </a:lnTo>
                  <a:lnTo>
                    <a:pt x="3074" y="9"/>
                  </a:lnTo>
                  <a:lnTo>
                    <a:pt x="3072" y="9"/>
                  </a:lnTo>
                  <a:lnTo>
                    <a:pt x="3072" y="9"/>
                  </a:lnTo>
                  <a:close/>
                  <a:moveTo>
                    <a:pt x="3006" y="9"/>
                  </a:moveTo>
                  <a:lnTo>
                    <a:pt x="2977" y="9"/>
                  </a:lnTo>
                  <a:lnTo>
                    <a:pt x="2975" y="9"/>
                  </a:lnTo>
                  <a:lnTo>
                    <a:pt x="2972" y="7"/>
                  </a:lnTo>
                  <a:lnTo>
                    <a:pt x="2972" y="6"/>
                  </a:lnTo>
                  <a:lnTo>
                    <a:pt x="2972" y="4"/>
                  </a:lnTo>
                  <a:lnTo>
                    <a:pt x="2972" y="3"/>
                  </a:lnTo>
                  <a:lnTo>
                    <a:pt x="2972" y="1"/>
                  </a:lnTo>
                  <a:lnTo>
                    <a:pt x="2975" y="0"/>
                  </a:lnTo>
                  <a:lnTo>
                    <a:pt x="2977" y="0"/>
                  </a:lnTo>
                  <a:lnTo>
                    <a:pt x="3006" y="0"/>
                  </a:lnTo>
                  <a:lnTo>
                    <a:pt x="3007" y="0"/>
                  </a:lnTo>
                  <a:lnTo>
                    <a:pt x="3009" y="1"/>
                  </a:lnTo>
                  <a:lnTo>
                    <a:pt x="3009" y="3"/>
                  </a:lnTo>
                  <a:lnTo>
                    <a:pt x="3011" y="4"/>
                  </a:lnTo>
                  <a:lnTo>
                    <a:pt x="3009" y="6"/>
                  </a:lnTo>
                  <a:lnTo>
                    <a:pt x="3009" y="7"/>
                  </a:lnTo>
                  <a:lnTo>
                    <a:pt x="3007" y="9"/>
                  </a:lnTo>
                  <a:lnTo>
                    <a:pt x="3006" y="9"/>
                  </a:lnTo>
                  <a:lnTo>
                    <a:pt x="3006" y="9"/>
                  </a:lnTo>
                  <a:close/>
                  <a:moveTo>
                    <a:pt x="2938" y="9"/>
                  </a:moveTo>
                  <a:lnTo>
                    <a:pt x="2909" y="9"/>
                  </a:lnTo>
                  <a:lnTo>
                    <a:pt x="2907" y="9"/>
                  </a:lnTo>
                  <a:lnTo>
                    <a:pt x="2906" y="7"/>
                  </a:lnTo>
                  <a:lnTo>
                    <a:pt x="2904" y="6"/>
                  </a:lnTo>
                  <a:lnTo>
                    <a:pt x="2904" y="4"/>
                  </a:lnTo>
                  <a:lnTo>
                    <a:pt x="2904" y="3"/>
                  </a:lnTo>
                  <a:lnTo>
                    <a:pt x="2906" y="1"/>
                  </a:lnTo>
                  <a:lnTo>
                    <a:pt x="2907" y="0"/>
                  </a:lnTo>
                  <a:lnTo>
                    <a:pt x="2909" y="0"/>
                  </a:lnTo>
                  <a:lnTo>
                    <a:pt x="2938" y="0"/>
                  </a:lnTo>
                  <a:lnTo>
                    <a:pt x="2940" y="0"/>
                  </a:lnTo>
                  <a:lnTo>
                    <a:pt x="2941" y="1"/>
                  </a:lnTo>
                  <a:lnTo>
                    <a:pt x="2943" y="3"/>
                  </a:lnTo>
                  <a:lnTo>
                    <a:pt x="2943" y="4"/>
                  </a:lnTo>
                  <a:lnTo>
                    <a:pt x="2943" y="6"/>
                  </a:lnTo>
                  <a:lnTo>
                    <a:pt x="2941" y="7"/>
                  </a:lnTo>
                  <a:lnTo>
                    <a:pt x="2940" y="9"/>
                  </a:lnTo>
                  <a:lnTo>
                    <a:pt x="2938" y="9"/>
                  </a:lnTo>
                  <a:lnTo>
                    <a:pt x="2938" y="9"/>
                  </a:lnTo>
                  <a:close/>
                  <a:moveTo>
                    <a:pt x="2871" y="9"/>
                  </a:moveTo>
                  <a:lnTo>
                    <a:pt x="2841" y="9"/>
                  </a:lnTo>
                  <a:lnTo>
                    <a:pt x="2840" y="9"/>
                  </a:lnTo>
                  <a:lnTo>
                    <a:pt x="2838" y="7"/>
                  </a:lnTo>
                  <a:lnTo>
                    <a:pt x="2837" y="6"/>
                  </a:lnTo>
                  <a:lnTo>
                    <a:pt x="2837" y="4"/>
                  </a:lnTo>
                  <a:lnTo>
                    <a:pt x="2837" y="3"/>
                  </a:lnTo>
                  <a:lnTo>
                    <a:pt x="2838" y="1"/>
                  </a:lnTo>
                  <a:lnTo>
                    <a:pt x="2840" y="0"/>
                  </a:lnTo>
                  <a:lnTo>
                    <a:pt x="2841" y="0"/>
                  </a:lnTo>
                  <a:lnTo>
                    <a:pt x="2871" y="0"/>
                  </a:lnTo>
                  <a:lnTo>
                    <a:pt x="2872" y="0"/>
                  </a:lnTo>
                  <a:lnTo>
                    <a:pt x="2874" y="1"/>
                  </a:lnTo>
                  <a:lnTo>
                    <a:pt x="2875" y="3"/>
                  </a:lnTo>
                  <a:lnTo>
                    <a:pt x="2875" y="4"/>
                  </a:lnTo>
                  <a:lnTo>
                    <a:pt x="2875" y="6"/>
                  </a:lnTo>
                  <a:lnTo>
                    <a:pt x="2874" y="7"/>
                  </a:lnTo>
                  <a:lnTo>
                    <a:pt x="2872" y="9"/>
                  </a:lnTo>
                  <a:lnTo>
                    <a:pt x="2871" y="9"/>
                  </a:lnTo>
                  <a:lnTo>
                    <a:pt x="2871" y="9"/>
                  </a:lnTo>
                  <a:close/>
                  <a:moveTo>
                    <a:pt x="2803" y="9"/>
                  </a:moveTo>
                  <a:lnTo>
                    <a:pt x="2775" y="9"/>
                  </a:lnTo>
                  <a:lnTo>
                    <a:pt x="2772" y="9"/>
                  </a:lnTo>
                  <a:lnTo>
                    <a:pt x="2771" y="7"/>
                  </a:lnTo>
                  <a:lnTo>
                    <a:pt x="2771" y="6"/>
                  </a:lnTo>
                  <a:lnTo>
                    <a:pt x="2769" y="4"/>
                  </a:lnTo>
                  <a:lnTo>
                    <a:pt x="2771" y="3"/>
                  </a:lnTo>
                  <a:lnTo>
                    <a:pt x="2771" y="1"/>
                  </a:lnTo>
                  <a:lnTo>
                    <a:pt x="2772" y="0"/>
                  </a:lnTo>
                  <a:lnTo>
                    <a:pt x="2775" y="0"/>
                  </a:lnTo>
                  <a:lnTo>
                    <a:pt x="2803" y="0"/>
                  </a:lnTo>
                  <a:lnTo>
                    <a:pt x="2804" y="0"/>
                  </a:lnTo>
                  <a:lnTo>
                    <a:pt x="2806" y="1"/>
                  </a:lnTo>
                  <a:lnTo>
                    <a:pt x="2808" y="3"/>
                  </a:lnTo>
                  <a:lnTo>
                    <a:pt x="2808" y="4"/>
                  </a:lnTo>
                  <a:lnTo>
                    <a:pt x="2808" y="6"/>
                  </a:lnTo>
                  <a:lnTo>
                    <a:pt x="2806" y="7"/>
                  </a:lnTo>
                  <a:lnTo>
                    <a:pt x="2804" y="9"/>
                  </a:lnTo>
                  <a:lnTo>
                    <a:pt x="2803" y="9"/>
                  </a:lnTo>
                  <a:lnTo>
                    <a:pt x="2803" y="9"/>
                  </a:lnTo>
                  <a:close/>
                  <a:moveTo>
                    <a:pt x="2737" y="9"/>
                  </a:moveTo>
                  <a:lnTo>
                    <a:pt x="2708" y="9"/>
                  </a:lnTo>
                  <a:lnTo>
                    <a:pt x="2706" y="9"/>
                  </a:lnTo>
                  <a:lnTo>
                    <a:pt x="2703" y="7"/>
                  </a:lnTo>
                  <a:lnTo>
                    <a:pt x="2703" y="6"/>
                  </a:lnTo>
                  <a:lnTo>
                    <a:pt x="2703" y="4"/>
                  </a:lnTo>
                  <a:lnTo>
                    <a:pt x="2703" y="3"/>
                  </a:lnTo>
                  <a:lnTo>
                    <a:pt x="2703" y="1"/>
                  </a:lnTo>
                  <a:lnTo>
                    <a:pt x="2706" y="0"/>
                  </a:lnTo>
                  <a:lnTo>
                    <a:pt x="2708" y="0"/>
                  </a:lnTo>
                  <a:lnTo>
                    <a:pt x="2737" y="0"/>
                  </a:lnTo>
                  <a:lnTo>
                    <a:pt x="2738" y="0"/>
                  </a:lnTo>
                  <a:lnTo>
                    <a:pt x="2740" y="1"/>
                  </a:lnTo>
                  <a:lnTo>
                    <a:pt x="2740" y="3"/>
                  </a:lnTo>
                  <a:lnTo>
                    <a:pt x="2741" y="4"/>
                  </a:lnTo>
                  <a:lnTo>
                    <a:pt x="2740" y="6"/>
                  </a:lnTo>
                  <a:lnTo>
                    <a:pt x="2740" y="7"/>
                  </a:lnTo>
                  <a:lnTo>
                    <a:pt x="2738" y="9"/>
                  </a:lnTo>
                  <a:lnTo>
                    <a:pt x="2737" y="9"/>
                  </a:lnTo>
                  <a:lnTo>
                    <a:pt x="2737" y="9"/>
                  </a:lnTo>
                  <a:close/>
                  <a:moveTo>
                    <a:pt x="2669" y="9"/>
                  </a:moveTo>
                  <a:lnTo>
                    <a:pt x="2640" y="9"/>
                  </a:lnTo>
                  <a:lnTo>
                    <a:pt x="2638" y="9"/>
                  </a:lnTo>
                  <a:lnTo>
                    <a:pt x="2637" y="7"/>
                  </a:lnTo>
                  <a:lnTo>
                    <a:pt x="2635" y="6"/>
                  </a:lnTo>
                  <a:lnTo>
                    <a:pt x="2635" y="4"/>
                  </a:lnTo>
                  <a:lnTo>
                    <a:pt x="2635" y="3"/>
                  </a:lnTo>
                  <a:lnTo>
                    <a:pt x="2637" y="1"/>
                  </a:lnTo>
                  <a:lnTo>
                    <a:pt x="2638" y="0"/>
                  </a:lnTo>
                  <a:lnTo>
                    <a:pt x="2640" y="0"/>
                  </a:lnTo>
                  <a:lnTo>
                    <a:pt x="2669" y="0"/>
                  </a:lnTo>
                  <a:lnTo>
                    <a:pt x="2671" y="0"/>
                  </a:lnTo>
                  <a:lnTo>
                    <a:pt x="2672" y="1"/>
                  </a:lnTo>
                  <a:lnTo>
                    <a:pt x="2674" y="3"/>
                  </a:lnTo>
                  <a:lnTo>
                    <a:pt x="2674" y="4"/>
                  </a:lnTo>
                  <a:lnTo>
                    <a:pt x="2674" y="6"/>
                  </a:lnTo>
                  <a:lnTo>
                    <a:pt x="2672" y="7"/>
                  </a:lnTo>
                  <a:lnTo>
                    <a:pt x="2671" y="9"/>
                  </a:lnTo>
                  <a:lnTo>
                    <a:pt x="2669" y="9"/>
                  </a:lnTo>
                  <a:lnTo>
                    <a:pt x="2669" y="9"/>
                  </a:lnTo>
                  <a:close/>
                  <a:moveTo>
                    <a:pt x="2601" y="9"/>
                  </a:moveTo>
                  <a:lnTo>
                    <a:pt x="2572" y="9"/>
                  </a:lnTo>
                  <a:lnTo>
                    <a:pt x="2571" y="9"/>
                  </a:lnTo>
                  <a:lnTo>
                    <a:pt x="2569" y="7"/>
                  </a:lnTo>
                  <a:lnTo>
                    <a:pt x="2568" y="6"/>
                  </a:lnTo>
                  <a:lnTo>
                    <a:pt x="2568" y="4"/>
                  </a:lnTo>
                  <a:lnTo>
                    <a:pt x="2568" y="3"/>
                  </a:lnTo>
                  <a:lnTo>
                    <a:pt x="2569" y="1"/>
                  </a:lnTo>
                  <a:lnTo>
                    <a:pt x="2571" y="0"/>
                  </a:lnTo>
                  <a:lnTo>
                    <a:pt x="2572" y="0"/>
                  </a:lnTo>
                  <a:lnTo>
                    <a:pt x="2601" y="0"/>
                  </a:lnTo>
                  <a:lnTo>
                    <a:pt x="2603" y="0"/>
                  </a:lnTo>
                  <a:lnTo>
                    <a:pt x="2604" y="1"/>
                  </a:lnTo>
                  <a:lnTo>
                    <a:pt x="2606" y="3"/>
                  </a:lnTo>
                  <a:lnTo>
                    <a:pt x="2606" y="4"/>
                  </a:lnTo>
                  <a:lnTo>
                    <a:pt x="2606" y="6"/>
                  </a:lnTo>
                  <a:lnTo>
                    <a:pt x="2604" y="7"/>
                  </a:lnTo>
                  <a:lnTo>
                    <a:pt x="2603" y="9"/>
                  </a:lnTo>
                  <a:lnTo>
                    <a:pt x="2601" y="9"/>
                  </a:lnTo>
                  <a:lnTo>
                    <a:pt x="2601" y="9"/>
                  </a:lnTo>
                  <a:close/>
                  <a:moveTo>
                    <a:pt x="2534" y="9"/>
                  </a:moveTo>
                  <a:lnTo>
                    <a:pt x="2506" y="9"/>
                  </a:lnTo>
                  <a:lnTo>
                    <a:pt x="2503" y="9"/>
                  </a:lnTo>
                  <a:lnTo>
                    <a:pt x="2501" y="7"/>
                  </a:lnTo>
                  <a:lnTo>
                    <a:pt x="2501" y="6"/>
                  </a:lnTo>
                  <a:lnTo>
                    <a:pt x="2500" y="4"/>
                  </a:lnTo>
                  <a:lnTo>
                    <a:pt x="2501" y="3"/>
                  </a:lnTo>
                  <a:lnTo>
                    <a:pt x="2501" y="1"/>
                  </a:lnTo>
                  <a:lnTo>
                    <a:pt x="2503" y="0"/>
                  </a:lnTo>
                  <a:lnTo>
                    <a:pt x="2506" y="0"/>
                  </a:lnTo>
                  <a:lnTo>
                    <a:pt x="2534" y="0"/>
                  </a:lnTo>
                  <a:lnTo>
                    <a:pt x="2535" y="0"/>
                  </a:lnTo>
                  <a:lnTo>
                    <a:pt x="2537" y="1"/>
                  </a:lnTo>
                  <a:lnTo>
                    <a:pt x="2538" y="3"/>
                  </a:lnTo>
                  <a:lnTo>
                    <a:pt x="2538" y="4"/>
                  </a:lnTo>
                  <a:lnTo>
                    <a:pt x="2538" y="6"/>
                  </a:lnTo>
                  <a:lnTo>
                    <a:pt x="2537" y="7"/>
                  </a:lnTo>
                  <a:lnTo>
                    <a:pt x="2535" y="9"/>
                  </a:lnTo>
                  <a:lnTo>
                    <a:pt x="2534" y="9"/>
                  </a:lnTo>
                  <a:lnTo>
                    <a:pt x="2534" y="9"/>
                  </a:lnTo>
                  <a:close/>
                  <a:moveTo>
                    <a:pt x="2468" y="9"/>
                  </a:moveTo>
                  <a:lnTo>
                    <a:pt x="2438" y="9"/>
                  </a:lnTo>
                  <a:lnTo>
                    <a:pt x="2437" y="9"/>
                  </a:lnTo>
                  <a:lnTo>
                    <a:pt x="2434" y="7"/>
                  </a:lnTo>
                  <a:lnTo>
                    <a:pt x="2434" y="6"/>
                  </a:lnTo>
                  <a:lnTo>
                    <a:pt x="2434" y="4"/>
                  </a:lnTo>
                  <a:lnTo>
                    <a:pt x="2434" y="3"/>
                  </a:lnTo>
                  <a:lnTo>
                    <a:pt x="2434" y="1"/>
                  </a:lnTo>
                  <a:lnTo>
                    <a:pt x="2437" y="0"/>
                  </a:lnTo>
                  <a:lnTo>
                    <a:pt x="2438" y="0"/>
                  </a:lnTo>
                  <a:lnTo>
                    <a:pt x="2468" y="0"/>
                  </a:lnTo>
                  <a:lnTo>
                    <a:pt x="2469" y="0"/>
                  </a:lnTo>
                  <a:lnTo>
                    <a:pt x="2471" y="1"/>
                  </a:lnTo>
                  <a:lnTo>
                    <a:pt x="2471" y="3"/>
                  </a:lnTo>
                  <a:lnTo>
                    <a:pt x="2472" y="4"/>
                  </a:lnTo>
                  <a:lnTo>
                    <a:pt x="2471" y="6"/>
                  </a:lnTo>
                  <a:lnTo>
                    <a:pt x="2471" y="7"/>
                  </a:lnTo>
                  <a:lnTo>
                    <a:pt x="2469" y="9"/>
                  </a:lnTo>
                  <a:lnTo>
                    <a:pt x="2468" y="9"/>
                  </a:lnTo>
                  <a:lnTo>
                    <a:pt x="2468" y="9"/>
                  </a:lnTo>
                  <a:close/>
                  <a:moveTo>
                    <a:pt x="2400" y="9"/>
                  </a:moveTo>
                  <a:lnTo>
                    <a:pt x="2371" y="9"/>
                  </a:lnTo>
                  <a:lnTo>
                    <a:pt x="2369" y="9"/>
                  </a:lnTo>
                  <a:lnTo>
                    <a:pt x="2368" y="7"/>
                  </a:lnTo>
                  <a:lnTo>
                    <a:pt x="2366" y="6"/>
                  </a:lnTo>
                  <a:lnTo>
                    <a:pt x="2366" y="4"/>
                  </a:lnTo>
                  <a:lnTo>
                    <a:pt x="2366" y="3"/>
                  </a:lnTo>
                  <a:lnTo>
                    <a:pt x="2368" y="1"/>
                  </a:lnTo>
                  <a:lnTo>
                    <a:pt x="2369" y="0"/>
                  </a:lnTo>
                  <a:lnTo>
                    <a:pt x="2371" y="0"/>
                  </a:lnTo>
                  <a:lnTo>
                    <a:pt x="2400" y="0"/>
                  </a:lnTo>
                  <a:lnTo>
                    <a:pt x="2401" y="0"/>
                  </a:lnTo>
                  <a:lnTo>
                    <a:pt x="2403" y="1"/>
                  </a:lnTo>
                  <a:lnTo>
                    <a:pt x="2405" y="3"/>
                  </a:lnTo>
                  <a:lnTo>
                    <a:pt x="2405" y="4"/>
                  </a:lnTo>
                  <a:lnTo>
                    <a:pt x="2405" y="6"/>
                  </a:lnTo>
                  <a:lnTo>
                    <a:pt x="2403" y="7"/>
                  </a:lnTo>
                  <a:lnTo>
                    <a:pt x="2401" y="9"/>
                  </a:lnTo>
                  <a:lnTo>
                    <a:pt x="2400" y="9"/>
                  </a:lnTo>
                  <a:lnTo>
                    <a:pt x="2400" y="9"/>
                  </a:lnTo>
                  <a:close/>
                  <a:moveTo>
                    <a:pt x="2332" y="9"/>
                  </a:moveTo>
                  <a:lnTo>
                    <a:pt x="2303" y="9"/>
                  </a:lnTo>
                  <a:lnTo>
                    <a:pt x="2301" y="9"/>
                  </a:lnTo>
                  <a:lnTo>
                    <a:pt x="2300" y="7"/>
                  </a:lnTo>
                  <a:lnTo>
                    <a:pt x="2298" y="6"/>
                  </a:lnTo>
                  <a:lnTo>
                    <a:pt x="2298" y="4"/>
                  </a:lnTo>
                  <a:lnTo>
                    <a:pt x="2298" y="3"/>
                  </a:lnTo>
                  <a:lnTo>
                    <a:pt x="2300" y="1"/>
                  </a:lnTo>
                  <a:lnTo>
                    <a:pt x="2301" y="0"/>
                  </a:lnTo>
                  <a:lnTo>
                    <a:pt x="2303" y="0"/>
                  </a:lnTo>
                  <a:lnTo>
                    <a:pt x="2332" y="0"/>
                  </a:lnTo>
                  <a:lnTo>
                    <a:pt x="2334" y="0"/>
                  </a:lnTo>
                  <a:lnTo>
                    <a:pt x="2335" y="1"/>
                  </a:lnTo>
                  <a:lnTo>
                    <a:pt x="2337" y="3"/>
                  </a:lnTo>
                  <a:lnTo>
                    <a:pt x="2337" y="4"/>
                  </a:lnTo>
                  <a:lnTo>
                    <a:pt x="2337" y="6"/>
                  </a:lnTo>
                  <a:lnTo>
                    <a:pt x="2335" y="7"/>
                  </a:lnTo>
                  <a:lnTo>
                    <a:pt x="2334" y="9"/>
                  </a:lnTo>
                  <a:lnTo>
                    <a:pt x="2332" y="9"/>
                  </a:lnTo>
                  <a:lnTo>
                    <a:pt x="2332" y="9"/>
                  </a:lnTo>
                  <a:close/>
                  <a:moveTo>
                    <a:pt x="2265" y="9"/>
                  </a:moveTo>
                  <a:lnTo>
                    <a:pt x="2237" y="9"/>
                  </a:lnTo>
                  <a:lnTo>
                    <a:pt x="2234" y="9"/>
                  </a:lnTo>
                  <a:lnTo>
                    <a:pt x="2232" y="7"/>
                  </a:lnTo>
                  <a:lnTo>
                    <a:pt x="2232" y="6"/>
                  </a:lnTo>
                  <a:lnTo>
                    <a:pt x="2231" y="4"/>
                  </a:lnTo>
                  <a:lnTo>
                    <a:pt x="2232" y="3"/>
                  </a:lnTo>
                  <a:lnTo>
                    <a:pt x="2232" y="1"/>
                  </a:lnTo>
                  <a:lnTo>
                    <a:pt x="2234" y="0"/>
                  </a:lnTo>
                  <a:lnTo>
                    <a:pt x="2237" y="0"/>
                  </a:lnTo>
                  <a:lnTo>
                    <a:pt x="2265" y="0"/>
                  </a:lnTo>
                  <a:lnTo>
                    <a:pt x="2266" y="0"/>
                  </a:lnTo>
                  <a:lnTo>
                    <a:pt x="2268" y="1"/>
                  </a:lnTo>
                  <a:lnTo>
                    <a:pt x="2269" y="3"/>
                  </a:lnTo>
                  <a:lnTo>
                    <a:pt x="2269" y="4"/>
                  </a:lnTo>
                  <a:lnTo>
                    <a:pt x="2269" y="6"/>
                  </a:lnTo>
                  <a:lnTo>
                    <a:pt x="2268" y="7"/>
                  </a:lnTo>
                  <a:lnTo>
                    <a:pt x="2266" y="9"/>
                  </a:lnTo>
                  <a:lnTo>
                    <a:pt x="2265" y="9"/>
                  </a:lnTo>
                  <a:lnTo>
                    <a:pt x="2265" y="9"/>
                  </a:lnTo>
                  <a:close/>
                  <a:moveTo>
                    <a:pt x="2198" y="9"/>
                  </a:moveTo>
                  <a:lnTo>
                    <a:pt x="2169" y="9"/>
                  </a:lnTo>
                  <a:lnTo>
                    <a:pt x="2168" y="9"/>
                  </a:lnTo>
                  <a:lnTo>
                    <a:pt x="2165" y="7"/>
                  </a:lnTo>
                  <a:lnTo>
                    <a:pt x="2165" y="6"/>
                  </a:lnTo>
                  <a:lnTo>
                    <a:pt x="2165" y="4"/>
                  </a:lnTo>
                  <a:lnTo>
                    <a:pt x="2165" y="3"/>
                  </a:lnTo>
                  <a:lnTo>
                    <a:pt x="2165" y="1"/>
                  </a:lnTo>
                  <a:lnTo>
                    <a:pt x="2168" y="0"/>
                  </a:lnTo>
                  <a:lnTo>
                    <a:pt x="2169" y="0"/>
                  </a:lnTo>
                  <a:lnTo>
                    <a:pt x="2198" y="0"/>
                  </a:lnTo>
                  <a:lnTo>
                    <a:pt x="2200" y="0"/>
                  </a:lnTo>
                  <a:lnTo>
                    <a:pt x="2201" y="1"/>
                  </a:lnTo>
                  <a:lnTo>
                    <a:pt x="2201" y="3"/>
                  </a:lnTo>
                  <a:lnTo>
                    <a:pt x="2203" y="4"/>
                  </a:lnTo>
                  <a:lnTo>
                    <a:pt x="2201" y="6"/>
                  </a:lnTo>
                  <a:lnTo>
                    <a:pt x="2201" y="7"/>
                  </a:lnTo>
                  <a:lnTo>
                    <a:pt x="2200" y="9"/>
                  </a:lnTo>
                  <a:lnTo>
                    <a:pt x="2198" y="9"/>
                  </a:lnTo>
                  <a:lnTo>
                    <a:pt x="2198" y="9"/>
                  </a:lnTo>
                  <a:close/>
                  <a:moveTo>
                    <a:pt x="2131" y="9"/>
                  </a:moveTo>
                  <a:lnTo>
                    <a:pt x="2101" y="9"/>
                  </a:lnTo>
                  <a:lnTo>
                    <a:pt x="2100" y="9"/>
                  </a:lnTo>
                  <a:lnTo>
                    <a:pt x="2098" y="7"/>
                  </a:lnTo>
                  <a:lnTo>
                    <a:pt x="2097" y="6"/>
                  </a:lnTo>
                  <a:lnTo>
                    <a:pt x="2097" y="4"/>
                  </a:lnTo>
                  <a:lnTo>
                    <a:pt x="2097" y="3"/>
                  </a:lnTo>
                  <a:lnTo>
                    <a:pt x="2098" y="1"/>
                  </a:lnTo>
                  <a:lnTo>
                    <a:pt x="2100" y="0"/>
                  </a:lnTo>
                  <a:lnTo>
                    <a:pt x="2101" y="0"/>
                  </a:lnTo>
                  <a:lnTo>
                    <a:pt x="2131" y="0"/>
                  </a:lnTo>
                  <a:lnTo>
                    <a:pt x="2132" y="0"/>
                  </a:lnTo>
                  <a:lnTo>
                    <a:pt x="2134" y="1"/>
                  </a:lnTo>
                  <a:lnTo>
                    <a:pt x="2135" y="3"/>
                  </a:lnTo>
                  <a:lnTo>
                    <a:pt x="2135" y="4"/>
                  </a:lnTo>
                  <a:lnTo>
                    <a:pt x="2135" y="6"/>
                  </a:lnTo>
                  <a:lnTo>
                    <a:pt x="2134" y="7"/>
                  </a:lnTo>
                  <a:lnTo>
                    <a:pt x="2132" y="9"/>
                  </a:lnTo>
                  <a:lnTo>
                    <a:pt x="2131" y="9"/>
                  </a:lnTo>
                  <a:lnTo>
                    <a:pt x="2131" y="9"/>
                  </a:lnTo>
                  <a:close/>
                  <a:moveTo>
                    <a:pt x="2063" y="9"/>
                  </a:moveTo>
                  <a:lnTo>
                    <a:pt x="2034" y="9"/>
                  </a:lnTo>
                  <a:lnTo>
                    <a:pt x="2032" y="9"/>
                  </a:lnTo>
                  <a:lnTo>
                    <a:pt x="2031" y="7"/>
                  </a:lnTo>
                  <a:lnTo>
                    <a:pt x="2029" y="6"/>
                  </a:lnTo>
                  <a:lnTo>
                    <a:pt x="2029" y="4"/>
                  </a:lnTo>
                  <a:lnTo>
                    <a:pt x="2029" y="3"/>
                  </a:lnTo>
                  <a:lnTo>
                    <a:pt x="2031" y="1"/>
                  </a:lnTo>
                  <a:lnTo>
                    <a:pt x="2032" y="0"/>
                  </a:lnTo>
                  <a:lnTo>
                    <a:pt x="2034" y="0"/>
                  </a:lnTo>
                  <a:lnTo>
                    <a:pt x="2063" y="0"/>
                  </a:lnTo>
                  <a:lnTo>
                    <a:pt x="2065" y="0"/>
                  </a:lnTo>
                  <a:lnTo>
                    <a:pt x="2066" y="1"/>
                  </a:lnTo>
                  <a:lnTo>
                    <a:pt x="2068" y="3"/>
                  </a:lnTo>
                  <a:lnTo>
                    <a:pt x="2068" y="4"/>
                  </a:lnTo>
                  <a:lnTo>
                    <a:pt x="2068" y="6"/>
                  </a:lnTo>
                  <a:lnTo>
                    <a:pt x="2066" y="7"/>
                  </a:lnTo>
                  <a:lnTo>
                    <a:pt x="2065" y="9"/>
                  </a:lnTo>
                  <a:lnTo>
                    <a:pt x="2063" y="9"/>
                  </a:lnTo>
                  <a:lnTo>
                    <a:pt x="2063" y="9"/>
                  </a:lnTo>
                  <a:close/>
                  <a:moveTo>
                    <a:pt x="1995" y="9"/>
                  </a:moveTo>
                  <a:lnTo>
                    <a:pt x="1968" y="9"/>
                  </a:lnTo>
                  <a:lnTo>
                    <a:pt x="1965" y="9"/>
                  </a:lnTo>
                  <a:lnTo>
                    <a:pt x="1963" y="7"/>
                  </a:lnTo>
                  <a:lnTo>
                    <a:pt x="1963" y="6"/>
                  </a:lnTo>
                  <a:lnTo>
                    <a:pt x="1962" y="4"/>
                  </a:lnTo>
                  <a:lnTo>
                    <a:pt x="1963" y="3"/>
                  </a:lnTo>
                  <a:lnTo>
                    <a:pt x="1963" y="1"/>
                  </a:lnTo>
                  <a:lnTo>
                    <a:pt x="1965" y="0"/>
                  </a:lnTo>
                  <a:lnTo>
                    <a:pt x="1968" y="0"/>
                  </a:lnTo>
                  <a:lnTo>
                    <a:pt x="1995" y="0"/>
                  </a:lnTo>
                  <a:lnTo>
                    <a:pt x="1997" y="0"/>
                  </a:lnTo>
                  <a:lnTo>
                    <a:pt x="1998" y="1"/>
                  </a:lnTo>
                  <a:lnTo>
                    <a:pt x="2000" y="3"/>
                  </a:lnTo>
                  <a:lnTo>
                    <a:pt x="2000" y="4"/>
                  </a:lnTo>
                  <a:lnTo>
                    <a:pt x="2000" y="6"/>
                  </a:lnTo>
                  <a:lnTo>
                    <a:pt x="1998" y="7"/>
                  </a:lnTo>
                  <a:lnTo>
                    <a:pt x="1997" y="9"/>
                  </a:lnTo>
                  <a:lnTo>
                    <a:pt x="1995" y="9"/>
                  </a:lnTo>
                  <a:lnTo>
                    <a:pt x="1995" y="9"/>
                  </a:lnTo>
                  <a:close/>
                  <a:moveTo>
                    <a:pt x="1929" y="9"/>
                  </a:moveTo>
                  <a:lnTo>
                    <a:pt x="1900" y="9"/>
                  </a:lnTo>
                  <a:lnTo>
                    <a:pt x="1898" y="9"/>
                  </a:lnTo>
                  <a:lnTo>
                    <a:pt x="1895" y="7"/>
                  </a:lnTo>
                  <a:lnTo>
                    <a:pt x="1895" y="6"/>
                  </a:lnTo>
                  <a:lnTo>
                    <a:pt x="1895" y="4"/>
                  </a:lnTo>
                  <a:lnTo>
                    <a:pt x="1895" y="3"/>
                  </a:lnTo>
                  <a:lnTo>
                    <a:pt x="1895" y="1"/>
                  </a:lnTo>
                  <a:lnTo>
                    <a:pt x="1898" y="0"/>
                  </a:lnTo>
                  <a:lnTo>
                    <a:pt x="1900" y="0"/>
                  </a:lnTo>
                  <a:lnTo>
                    <a:pt x="1929" y="0"/>
                  </a:lnTo>
                  <a:lnTo>
                    <a:pt x="1931" y="0"/>
                  </a:lnTo>
                  <a:lnTo>
                    <a:pt x="1932" y="1"/>
                  </a:lnTo>
                  <a:lnTo>
                    <a:pt x="1932" y="3"/>
                  </a:lnTo>
                  <a:lnTo>
                    <a:pt x="1934" y="4"/>
                  </a:lnTo>
                  <a:lnTo>
                    <a:pt x="1932" y="6"/>
                  </a:lnTo>
                  <a:lnTo>
                    <a:pt x="1932" y="7"/>
                  </a:lnTo>
                  <a:lnTo>
                    <a:pt x="1931" y="9"/>
                  </a:lnTo>
                  <a:lnTo>
                    <a:pt x="1929" y="9"/>
                  </a:lnTo>
                  <a:lnTo>
                    <a:pt x="1929" y="9"/>
                  </a:lnTo>
                  <a:close/>
                  <a:moveTo>
                    <a:pt x="1862" y="9"/>
                  </a:moveTo>
                  <a:lnTo>
                    <a:pt x="1832" y="9"/>
                  </a:lnTo>
                  <a:lnTo>
                    <a:pt x="1831" y="9"/>
                  </a:lnTo>
                  <a:lnTo>
                    <a:pt x="1829" y="7"/>
                  </a:lnTo>
                  <a:lnTo>
                    <a:pt x="1828" y="6"/>
                  </a:lnTo>
                  <a:lnTo>
                    <a:pt x="1828" y="4"/>
                  </a:lnTo>
                  <a:lnTo>
                    <a:pt x="1828" y="3"/>
                  </a:lnTo>
                  <a:lnTo>
                    <a:pt x="1829" y="1"/>
                  </a:lnTo>
                  <a:lnTo>
                    <a:pt x="1831" y="0"/>
                  </a:lnTo>
                  <a:lnTo>
                    <a:pt x="1832" y="0"/>
                  </a:lnTo>
                  <a:lnTo>
                    <a:pt x="1862" y="0"/>
                  </a:lnTo>
                  <a:lnTo>
                    <a:pt x="1863" y="0"/>
                  </a:lnTo>
                  <a:lnTo>
                    <a:pt x="1865" y="1"/>
                  </a:lnTo>
                  <a:lnTo>
                    <a:pt x="1866" y="3"/>
                  </a:lnTo>
                  <a:lnTo>
                    <a:pt x="1866" y="4"/>
                  </a:lnTo>
                  <a:lnTo>
                    <a:pt x="1866" y="6"/>
                  </a:lnTo>
                  <a:lnTo>
                    <a:pt x="1865" y="7"/>
                  </a:lnTo>
                  <a:lnTo>
                    <a:pt x="1863" y="9"/>
                  </a:lnTo>
                  <a:lnTo>
                    <a:pt x="1862" y="9"/>
                  </a:lnTo>
                  <a:lnTo>
                    <a:pt x="1862" y="9"/>
                  </a:lnTo>
                  <a:close/>
                  <a:moveTo>
                    <a:pt x="1794" y="9"/>
                  </a:moveTo>
                  <a:lnTo>
                    <a:pt x="1765" y="9"/>
                  </a:lnTo>
                  <a:lnTo>
                    <a:pt x="1763" y="9"/>
                  </a:lnTo>
                  <a:lnTo>
                    <a:pt x="1762" y="7"/>
                  </a:lnTo>
                  <a:lnTo>
                    <a:pt x="1760" y="6"/>
                  </a:lnTo>
                  <a:lnTo>
                    <a:pt x="1760" y="4"/>
                  </a:lnTo>
                  <a:lnTo>
                    <a:pt x="1760" y="3"/>
                  </a:lnTo>
                  <a:lnTo>
                    <a:pt x="1762" y="1"/>
                  </a:lnTo>
                  <a:lnTo>
                    <a:pt x="1763" y="0"/>
                  </a:lnTo>
                  <a:lnTo>
                    <a:pt x="1765" y="0"/>
                  </a:lnTo>
                  <a:lnTo>
                    <a:pt x="1794" y="0"/>
                  </a:lnTo>
                  <a:lnTo>
                    <a:pt x="1795" y="0"/>
                  </a:lnTo>
                  <a:lnTo>
                    <a:pt x="1797" y="1"/>
                  </a:lnTo>
                  <a:lnTo>
                    <a:pt x="1798" y="3"/>
                  </a:lnTo>
                  <a:lnTo>
                    <a:pt x="1798" y="4"/>
                  </a:lnTo>
                  <a:lnTo>
                    <a:pt x="1798" y="6"/>
                  </a:lnTo>
                  <a:lnTo>
                    <a:pt x="1797" y="7"/>
                  </a:lnTo>
                  <a:lnTo>
                    <a:pt x="1795" y="9"/>
                  </a:lnTo>
                  <a:lnTo>
                    <a:pt x="1794" y="9"/>
                  </a:lnTo>
                  <a:lnTo>
                    <a:pt x="1794" y="9"/>
                  </a:lnTo>
                  <a:close/>
                  <a:moveTo>
                    <a:pt x="1726" y="9"/>
                  </a:moveTo>
                  <a:lnTo>
                    <a:pt x="1699" y="9"/>
                  </a:lnTo>
                  <a:lnTo>
                    <a:pt x="1695" y="9"/>
                  </a:lnTo>
                  <a:lnTo>
                    <a:pt x="1694" y="7"/>
                  </a:lnTo>
                  <a:lnTo>
                    <a:pt x="1694" y="6"/>
                  </a:lnTo>
                  <a:lnTo>
                    <a:pt x="1692" y="4"/>
                  </a:lnTo>
                  <a:lnTo>
                    <a:pt x="1694" y="3"/>
                  </a:lnTo>
                  <a:lnTo>
                    <a:pt x="1694" y="1"/>
                  </a:lnTo>
                  <a:lnTo>
                    <a:pt x="1695" y="0"/>
                  </a:lnTo>
                  <a:lnTo>
                    <a:pt x="1699" y="0"/>
                  </a:lnTo>
                  <a:lnTo>
                    <a:pt x="1726" y="0"/>
                  </a:lnTo>
                  <a:lnTo>
                    <a:pt x="1728" y="0"/>
                  </a:lnTo>
                  <a:lnTo>
                    <a:pt x="1729" y="1"/>
                  </a:lnTo>
                  <a:lnTo>
                    <a:pt x="1731" y="3"/>
                  </a:lnTo>
                  <a:lnTo>
                    <a:pt x="1731" y="4"/>
                  </a:lnTo>
                  <a:lnTo>
                    <a:pt x="1731" y="6"/>
                  </a:lnTo>
                  <a:lnTo>
                    <a:pt x="1729" y="7"/>
                  </a:lnTo>
                  <a:lnTo>
                    <a:pt x="1728" y="9"/>
                  </a:lnTo>
                  <a:lnTo>
                    <a:pt x="1726" y="9"/>
                  </a:lnTo>
                  <a:lnTo>
                    <a:pt x="1726" y="9"/>
                  </a:lnTo>
                  <a:close/>
                  <a:moveTo>
                    <a:pt x="1660" y="9"/>
                  </a:moveTo>
                  <a:lnTo>
                    <a:pt x="1631" y="9"/>
                  </a:lnTo>
                  <a:lnTo>
                    <a:pt x="1629" y="9"/>
                  </a:lnTo>
                  <a:lnTo>
                    <a:pt x="1626" y="7"/>
                  </a:lnTo>
                  <a:lnTo>
                    <a:pt x="1626" y="6"/>
                  </a:lnTo>
                  <a:lnTo>
                    <a:pt x="1626" y="4"/>
                  </a:lnTo>
                  <a:lnTo>
                    <a:pt x="1626" y="3"/>
                  </a:lnTo>
                  <a:lnTo>
                    <a:pt x="1626" y="1"/>
                  </a:lnTo>
                  <a:lnTo>
                    <a:pt x="1629" y="0"/>
                  </a:lnTo>
                  <a:lnTo>
                    <a:pt x="1631" y="0"/>
                  </a:lnTo>
                  <a:lnTo>
                    <a:pt x="1660" y="0"/>
                  </a:lnTo>
                  <a:lnTo>
                    <a:pt x="1662" y="0"/>
                  </a:lnTo>
                  <a:lnTo>
                    <a:pt x="1663" y="1"/>
                  </a:lnTo>
                  <a:lnTo>
                    <a:pt x="1663" y="3"/>
                  </a:lnTo>
                  <a:lnTo>
                    <a:pt x="1665" y="4"/>
                  </a:lnTo>
                  <a:lnTo>
                    <a:pt x="1663" y="6"/>
                  </a:lnTo>
                  <a:lnTo>
                    <a:pt x="1663" y="7"/>
                  </a:lnTo>
                  <a:lnTo>
                    <a:pt x="1662" y="9"/>
                  </a:lnTo>
                  <a:lnTo>
                    <a:pt x="1660" y="9"/>
                  </a:lnTo>
                  <a:lnTo>
                    <a:pt x="1660" y="9"/>
                  </a:lnTo>
                  <a:close/>
                  <a:moveTo>
                    <a:pt x="1592" y="9"/>
                  </a:moveTo>
                  <a:lnTo>
                    <a:pt x="1563" y="9"/>
                  </a:lnTo>
                  <a:lnTo>
                    <a:pt x="1562" y="9"/>
                  </a:lnTo>
                  <a:lnTo>
                    <a:pt x="1560" y="7"/>
                  </a:lnTo>
                  <a:lnTo>
                    <a:pt x="1559" y="6"/>
                  </a:lnTo>
                  <a:lnTo>
                    <a:pt x="1559" y="4"/>
                  </a:lnTo>
                  <a:lnTo>
                    <a:pt x="1559" y="3"/>
                  </a:lnTo>
                  <a:lnTo>
                    <a:pt x="1560" y="1"/>
                  </a:lnTo>
                  <a:lnTo>
                    <a:pt x="1562" y="0"/>
                  </a:lnTo>
                  <a:lnTo>
                    <a:pt x="1563" y="0"/>
                  </a:lnTo>
                  <a:lnTo>
                    <a:pt x="1592" y="0"/>
                  </a:lnTo>
                  <a:lnTo>
                    <a:pt x="1594" y="0"/>
                  </a:lnTo>
                  <a:lnTo>
                    <a:pt x="1595" y="1"/>
                  </a:lnTo>
                  <a:lnTo>
                    <a:pt x="1597" y="3"/>
                  </a:lnTo>
                  <a:lnTo>
                    <a:pt x="1597" y="4"/>
                  </a:lnTo>
                  <a:lnTo>
                    <a:pt x="1597" y="6"/>
                  </a:lnTo>
                  <a:lnTo>
                    <a:pt x="1595" y="7"/>
                  </a:lnTo>
                  <a:lnTo>
                    <a:pt x="1594" y="9"/>
                  </a:lnTo>
                  <a:lnTo>
                    <a:pt x="1592" y="9"/>
                  </a:lnTo>
                  <a:lnTo>
                    <a:pt x="1592" y="9"/>
                  </a:lnTo>
                  <a:close/>
                  <a:moveTo>
                    <a:pt x="1525" y="9"/>
                  </a:moveTo>
                  <a:lnTo>
                    <a:pt x="1495" y="9"/>
                  </a:lnTo>
                  <a:lnTo>
                    <a:pt x="1494" y="9"/>
                  </a:lnTo>
                  <a:lnTo>
                    <a:pt x="1492" y="7"/>
                  </a:lnTo>
                  <a:lnTo>
                    <a:pt x="1491" y="6"/>
                  </a:lnTo>
                  <a:lnTo>
                    <a:pt x="1491" y="4"/>
                  </a:lnTo>
                  <a:lnTo>
                    <a:pt x="1491" y="3"/>
                  </a:lnTo>
                  <a:lnTo>
                    <a:pt x="1492" y="1"/>
                  </a:lnTo>
                  <a:lnTo>
                    <a:pt x="1494" y="0"/>
                  </a:lnTo>
                  <a:lnTo>
                    <a:pt x="1495" y="0"/>
                  </a:lnTo>
                  <a:lnTo>
                    <a:pt x="1525" y="0"/>
                  </a:lnTo>
                  <a:lnTo>
                    <a:pt x="1526" y="0"/>
                  </a:lnTo>
                  <a:lnTo>
                    <a:pt x="1528" y="1"/>
                  </a:lnTo>
                  <a:lnTo>
                    <a:pt x="1529" y="3"/>
                  </a:lnTo>
                  <a:lnTo>
                    <a:pt x="1529" y="4"/>
                  </a:lnTo>
                  <a:lnTo>
                    <a:pt x="1529" y="6"/>
                  </a:lnTo>
                  <a:lnTo>
                    <a:pt x="1528" y="7"/>
                  </a:lnTo>
                  <a:lnTo>
                    <a:pt x="1526" y="9"/>
                  </a:lnTo>
                  <a:lnTo>
                    <a:pt x="1525" y="9"/>
                  </a:lnTo>
                  <a:lnTo>
                    <a:pt x="1525" y="9"/>
                  </a:lnTo>
                  <a:close/>
                  <a:moveTo>
                    <a:pt x="1457" y="9"/>
                  </a:moveTo>
                  <a:lnTo>
                    <a:pt x="1429" y="9"/>
                  </a:lnTo>
                  <a:lnTo>
                    <a:pt x="1426" y="9"/>
                  </a:lnTo>
                  <a:lnTo>
                    <a:pt x="1425" y="7"/>
                  </a:lnTo>
                  <a:lnTo>
                    <a:pt x="1425" y="6"/>
                  </a:lnTo>
                  <a:lnTo>
                    <a:pt x="1423" y="4"/>
                  </a:lnTo>
                  <a:lnTo>
                    <a:pt x="1425" y="3"/>
                  </a:lnTo>
                  <a:lnTo>
                    <a:pt x="1425" y="1"/>
                  </a:lnTo>
                  <a:lnTo>
                    <a:pt x="1426" y="0"/>
                  </a:lnTo>
                  <a:lnTo>
                    <a:pt x="1429" y="0"/>
                  </a:lnTo>
                  <a:lnTo>
                    <a:pt x="1457" y="0"/>
                  </a:lnTo>
                  <a:lnTo>
                    <a:pt x="1459" y="0"/>
                  </a:lnTo>
                  <a:lnTo>
                    <a:pt x="1460" y="1"/>
                  </a:lnTo>
                  <a:lnTo>
                    <a:pt x="1462" y="3"/>
                  </a:lnTo>
                  <a:lnTo>
                    <a:pt x="1462" y="4"/>
                  </a:lnTo>
                  <a:lnTo>
                    <a:pt x="1462" y="6"/>
                  </a:lnTo>
                  <a:lnTo>
                    <a:pt x="1460" y="7"/>
                  </a:lnTo>
                  <a:lnTo>
                    <a:pt x="1459" y="9"/>
                  </a:lnTo>
                  <a:lnTo>
                    <a:pt x="1457" y="9"/>
                  </a:lnTo>
                  <a:lnTo>
                    <a:pt x="1457" y="9"/>
                  </a:lnTo>
                  <a:close/>
                  <a:moveTo>
                    <a:pt x="1391" y="9"/>
                  </a:moveTo>
                  <a:lnTo>
                    <a:pt x="1362" y="9"/>
                  </a:lnTo>
                  <a:lnTo>
                    <a:pt x="1360" y="9"/>
                  </a:lnTo>
                  <a:lnTo>
                    <a:pt x="1357" y="7"/>
                  </a:lnTo>
                  <a:lnTo>
                    <a:pt x="1357" y="6"/>
                  </a:lnTo>
                  <a:lnTo>
                    <a:pt x="1357" y="4"/>
                  </a:lnTo>
                  <a:lnTo>
                    <a:pt x="1357" y="3"/>
                  </a:lnTo>
                  <a:lnTo>
                    <a:pt x="1357" y="1"/>
                  </a:lnTo>
                  <a:lnTo>
                    <a:pt x="1360" y="0"/>
                  </a:lnTo>
                  <a:lnTo>
                    <a:pt x="1362" y="0"/>
                  </a:lnTo>
                  <a:lnTo>
                    <a:pt x="1391" y="0"/>
                  </a:lnTo>
                  <a:lnTo>
                    <a:pt x="1392" y="0"/>
                  </a:lnTo>
                  <a:lnTo>
                    <a:pt x="1394" y="1"/>
                  </a:lnTo>
                  <a:lnTo>
                    <a:pt x="1394" y="3"/>
                  </a:lnTo>
                  <a:lnTo>
                    <a:pt x="1395" y="4"/>
                  </a:lnTo>
                  <a:lnTo>
                    <a:pt x="1394" y="6"/>
                  </a:lnTo>
                  <a:lnTo>
                    <a:pt x="1394" y="7"/>
                  </a:lnTo>
                  <a:lnTo>
                    <a:pt x="1392" y="9"/>
                  </a:lnTo>
                  <a:lnTo>
                    <a:pt x="1391" y="9"/>
                  </a:lnTo>
                  <a:lnTo>
                    <a:pt x="1391" y="9"/>
                  </a:lnTo>
                  <a:close/>
                  <a:moveTo>
                    <a:pt x="1323" y="9"/>
                  </a:moveTo>
                  <a:lnTo>
                    <a:pt x="1294" y="9"/>
                  </a:lnTo>
                  <a:lnTo>
                    <a:pt x="1292" y="9"/>
                  </a:lnTo>
                  <a:lnTo>
                    <a:pt x="1291" y="7"/>
                  </a:lnTo>
                  <a:lnTo>
                    <a:pt x="1289" y="6"/>
                  </a:lnTo>
                  <a:lnTo>
                    <a:pt x="1289" y="4"/>
                  </a:lnTo>
                  <a:lnTo>
                    <a:pt x="1289" y="3"/>
                  </a:lnTo>
                  <a:lnTo>
                    <a:pt x="1291" y="1"/>
                  </a:lnTo>
                  <a:lnTo>
                    <a:pt x="1292" y="0"/>
                  </a:lnTo>
                  <a:lnTo>
                    <a:pt x="1294" y="0"/>
                  </a:lnTo>
                  <a:lnTo>
                    <a:pt x="1323" y="0"/>
                  </a:lnTo>
                  <a:lnTo>
                    <a:pt x="1325" y="0"/>
                  </a:lnTo>
                  <a:lnTo>
                    <a:pt x="1326" y="1"/>
                  </a:lnTo>
                  <a:lnTo>
                    <a:pt x="1328" y="3"/>
                  </a:lnTo>
                  <a:lnTo>
                    <a:pt x="1328" y="4"/>
                  </a:lnTo>
                  <a:lnTo>
                    <a:pt x="1328" y="6"/>
                  </a:lnTo>
                  <a:lnTo>
                    <a:pt x="1326" y="7"/>
                  </a:lnTo>
                  <a:lnTo>
                    <a:pt x="1325" y="9"/>
                  </a:lnTo>
                  <a:lnTo>
                    <a:pt x="1323" y="9"/>
                  </a:lnTo>
                  <a:lnTo>
                    <a:pt x="1323" y="9"/>
                  </a:lnTo>
                  <a:close/>
                  <a:moveTo>
                    <a:pt x="1256" y="9"/>
                  </a:moveTo>
                  <a:lnTo>
                    <a:pt x="1226" y="9"/>
                  </a:lnTo>
                  <a:lnTo>
                    <a:pt x="1225" y="9"/>
                  </a:lnTo>
                  <a:lnTo>
                    <a:pt x="1223" y="7"/>
                  </a:lnTo>
                  <a:lnTo>
                    <a:pt x="1222" y="6"/>
                  </a:lnTo>
                  <a:lnTo>
                    <a:pt x="1222" y="4"/>
                  </a:lnTo>
                  <a:lnTo>
                    <a:pt x="1222" y="3"/>
                  </a:lnTo>
                  <a:lnTo>
                    <a:pt x="1223" y="1"/>
                  </a:lnTo>
                  <a:lnTo>
                    <a:pt x="1225" y="0"/>
                  </a:lnTo>
                  <a:lnTo>
                    <a:pt x="1226" y="0"/>
                  </a:lnTo>
                  <a:lnTo>
                    <a:pt x="1256" y="0"/>
                  </a:lnTo>
                  <a:lnTo>
                    <a:pt x="1257" y="0"/>
                  </a:lnTo>
                  <a:lnTo>
                    <a:pt x="1259" y="1"/>
                  </a:lnTo>
                  <a:lnTo>
                    <a:pt x="1260" y="3"/>
                  </a:lnTo>
                  <a:lnTo>
                    <a:pt x="1260" y="4"/>
                  </a:lnTo>
                  <a:lnTo>
                    <a:pt x="1260" y="6"/>
                  </a:lnTo>
                  <a:lnTo>
                    <a:pt x="1259" y="7"/>
                  </a:lnTo>
                  <a:lnTo>
                    <a:pt x="1257" y="9"/>
                  </a:lnTo>
                  <a:lnTo>
                    <a:pt x="1256" y="9"/>
                  </a:lnTo>
                  <a:lnTo>
                    <a:pt x="1256" y="9"/>
                  </a:lnTo>
                  <a:close/>
                  <a:moveTo>
                    <a:pt x="1188" y="9"/>
                  </a:moveTo>
                  <a:lnTo>
                    <a:pt x="1160" y="9"/>
                  </a:lnTo>
                  <a:lnTo>
                    <a:pt x="1157" y="9"/>
                  </a:lnTo>
                  <a:lnTo>
                    <a:pt x="1156" y="7"/>
                  </a:lnTo>
                  <a:lnTo>
                    <a:pt x="1156" y="6"/>
                  </a:lnTo>
                  <a:lnTo>
                    <a:pt x="1154" y="4"/>
                  </a:lnTo>
                  <a:lnTo>
                    <a:pt x="1156" y="3"/>
                  </a:lnTo>
                  <a:lnTo>
                    <a:pt x="1156" y="1"/>
                  </a:lnTo>
                  <a:lnTo>
                    <a:pt x="1157" y="0"/>
                  </a:lnTo>
                  <a:lnTo>
                    <a:pt x="1160" y="0"/>
                  </a:lnTo>
                  <a:lnTo>
                    <a:pt x="1188" y="0"/>
                  </a:lnTo>
                  <a:lnTo>
                    <a:pt x="1189" y="0"/>
                  </a:lnTo>
                  <a:lnTo>
                    <a:pt x="1191" y="1"/>
                  </a:lnTo>
                  <a:lnTo>
                    <a:pt x="1192" y="3"/>
                  </a:lnTo>
                  <a:lnTo>
                    <a:pt x="1192" y="4"/>
                  </a:lnTo>
                  <a:lnTo>
                    <a:pt x="1192" y="6"/>
                  </a:lnTo>
                  <a:lnTo>
                    <a:pt x="1191" y="7"/>
                  </a:lnTo>
                  <a:lnTo>
                    <a:pt x="1189" y="9"/>
                  </a:lnTo>
                  <a:lnTo>
                    <a:pt x="1188" y="9"/>
                  </a:lnTo>
                  <a:lnTo>
                    <a:pt x="1188" y="9"/>
                  </a:lnTo>
                  <a:close/>
                  <a:moveTo>
                    <a:pt x="1122" y="9"/>
                  </a:moveTo>
                  <a:lnTo>
                    <a:pt x="1092" y="9"/>
                  </a:lnTo>
                  <a:lnTo>
                    <a:pt x="1091" y="9"/>
                  </a:lnTo>
                  <a:lnTo>
                    <a:pt x="1088" y="7"/>
                  </a:lnTo>
                  <a:lnTo>
                    <a:pt x="1088" y="6"/>
                  </a:lnTo>
                  <a:lnTo>
                    <a:pt x="1088" y="4"/>
                  </a:lnTo>
                  <a:lnTo>
                    <a:pt x="1088" y="3"/>
                  </a:lnTo>
                  <a:lnTo>
                    <a:pt x="1088" y="1"/>
                  </a:lnTo>
                  <a:lnTo>
                    <a:pt x="1091" y="0"/>
                  </a:lnTo>
                  <a:lnTo>
                    <a:pt x="1092" y="0"/>
                  </a:lnTo>
                  <a:lnTo>
                    <a:pt x="1122" y="0"/>
                  </a:lnTo>
                  <a:lnTo>
                    <a:pt x="1123" y="0"/>
                  </a:lnTo>
                  <a:lnTo>
                    <a:pt x="1125" y="1"/>
                  </a:lnTo>
                  <a:lnTo>
                    <a:pt x="1125" y="3"/>
                  </a:lnTo>
                  <a:lnTo>
                    <a:pt x="1126" y="4"/>
                  </a:lnTo>
                  <a:lnTo>
                    <a:pt x="1125" y="6"/>
                  </a:lnTo>
                  <a:lnTo>
                    <a:pt x="1125" y="7"/>
                  </a:lnTo>
                  <a:lnTo>
                    <a:pt x="1123" y="9"/>
                  </a:lnTo>
                  <a:lnTo>
                    <a:pt x="1122" y="9"/>
                  </a:lnTo>
                  <a:lnTo>
                    <a:pt x="1122" y="9"/>
                  </a:lnTo>
                  <a:close/>
                  <a:moveTo>
                    <a:pt x="1054" y="9"/>
                  </a:moveTo>
                  <a:lnTo>
                    <a:pt x="1025" y="9"/>
                  </a:lnTo>
                  <a:lnTo>
                    <a:pt x="1023" y="9"/>
                  </a:lnTo>
                  <a:lnTo>
                    <a:pt x="1022" y="7"/>
                  </a:lnTo>
                  <a:lnTo>
                    <a:pt x="1020" y="6"/>
                  </a:lnTo>
                  <a:lnTo>
                    <a:pt x="1020" y="4"/>
                  </a:lnTo>
                  <a:lnTo>
                    <a:pt x="1020" y="3"/>
                  </a:lnTo>
                  <a:lnTo>
                    <a:pt x="1022" y="1"/>
                  </a:lnTo>
                  <a:lnTo>
                    <a:pt x="1023" y="0"/>
                  </a:lnTo>
                  <a:lnTo>
                    <a:pt x="1025" y="0"/>
                  </a:lnTo>
                  <a:lnTo>
                    <a:pt x="1054" y="0"/>
                  </a:lnTo>
                  <a:lnTo>
                    <a:pt x="1056" y="0"/>
                  </a:lnTo>
                  <a:lnTo>
                    <a:pt x="1057" y="1"/>
                  </a:lnTo>
                  <a:lnTo>
                    <a:pt x="1059" y="3"/>
                  </a:lnTo>
                  <a:lnTo>
                    <a:pt x="1059" y="4"/>
                  </a:lnTo>
                  <a:lnTo>
                    <a:pt x="1059" y="6"/>
                  </a:lnTo>
                  <a:lnTo>
                    <a:pt x="1057" y="7"/>
                  </a:lnTo>
                  <a:lnTo>
                    <a:pt x="1056" y="9"/>
                  </a:lnTo>
                  <a:lnTo>
                    <a:pt x="1054" y="9"/>
                  </a:lnTo>
                  <a:lnTo>
                    <a:pt x="1054" y="9"/>
                  </a:lnTo>
                  <a:close/>
                  <a:moveTo>
                    <a:pt x="986" y="9"/>
                  </a:moveTo>
                  <a:lnTo>
                    <a:pt x="957" y="9"/>
                  </a:lnTo>
                  <a:lnTo>
                    <a:pt x="956" y="9"/>
                  </a:lnTo>
                  <a:lnTo>
                    <a:pt x="954" y="7"/>
                  </a:lnTo>
                  <a:lnTo>
                    <a:pt x="953" y="6"/>
                  </a:lnTo>
                  <a:lnTo>
                    <a:pt x="953" y="4"/>
                  </a:lnTo>
                  <a:lnTo>
                    <a:pt x="953" y="3"/>
                  </a:lnTo>
                  <a:lnTo>
                    <a:pt x="954" y="1"/>
                  </a:lnTo>
                  <a:lnTo>
                    <a:pt x="956" y="0"/>
                  </a:lnTo>
                  <a:lnTo>
                    <a:pt x="957" y="0"/>
                  </a:lnTo>
                  <a:lnTo>
                    <a:pt x="986" y="0"/>
                  </a:lnTo>
                  <a:lnTo>
                    <a:pt x="988" y="0"/>
                  </a:lnTo>
                  <a:lnTo>
                    <a:pt x="989" y="1"/>
                  </a:lnTo>
                  <a:lnTo>
                    <a:pt x="991" y="3"/>
                  </a:lnTo>
                  <a:lnTo>
                    <a:pt x="991" y="4"/>
                  </a:lnTo>
                  <a:lnTo>
                    <a:pt x="991" y="6"/>
                  </a:lnTo>
                  <a:lnTo>
                    <a:pt x="989" y="7"/>
                  </a:lnTo>
                  <a:lnTo>
                    <a:pt x="988" y="9"/>
                  </a:lnTo>
                  <a:lnTo>
                    <a:pt x="986" y="9"/>
                  </a:lnTo>
                  <a:lnTo>
                    <a:pt x="986" y="9"/>
                  </a:lnTo>
                  <a:close/>
                  <a:moveTo>
                    <a:pt x="919" y="9"/>
                  </a:moveTo>
                  <a:lnTo>
                    <a:pt x="891" y="9"/>
                  </a:lnTo>
                  <a:lnTo>
                    <a:pt x="888" y="9"/>
                  </a:lnTo>
                  <a:lnTo>
                    <a:pt x="886" y="7"/>
                  </a:lnTo>
                  <a:lnTo>
                    <a:pt x="886" y="6"/>
                  </a:lnTo>
                  <a:lnTo>
                    <a:pt x="885" y="4"/>
                  </a:lnTo>
                  <a:lnTo>
                    <a:pt x="886" y="3"/>
                  </a:lnTo>
                  <a:lnTo>
                    <a:pt x="886" y="1"/>
                  </a:lnTo>
                  <a:lnTo>
                    <a:pt x="888" y="0"/>
                  </a:lnTo>
                  <a:lnTo>
                    <a:pt x="891" y="0"/>
                  </a:lnTo>
                  <a:lnTo>
                    <a:pt x="919" y="0"/>
                  </a:lnTo>
                  <a:lnTo>
                    <a:pt x="920" y="0"/>
                  </a:lnTo>
                  <a:lnTo>
                    <a:pt x="922" y="1"/>
                  </a:lnTo>
                  <a:lnTo>
                    <a:pt x="923" y="3"/>
                  </a:lnTo>
                  <a:lnTo>
                    <a:pt x="923" y="4"/>
                  </a:lnTo>
                  <a:lnTo>
                    <a:pt x="923" y="6"/>
                  </a:lnTo>
                  <a:lnTo>
                    <a:pt x="922" y="7"/>
                  </a:lnTo>
                  <a:lnTo>
                    <a:pt x="920" y="9"/>
                  </a:lnTo>
                  <a:lnTo>
                    <a:pt x="919" y="9"/>
                  </a:lnTo>
                  <a:lnTo>
                    <a:pt x="919" y="9"/>
                  </a:lnTo>
                  <a:close/>
                  <a:moveTo>
                    <a:pt x="853" y="9"/>
                  </a:moveTo>
                  <a:lnTo>
                    <a:pt x="823" y="9"/>
                  </a:lnTo>
                  <a:lnTo>
                    <a:pt x="822" y="9"/>
                  </a:lnTo>
                  <a:lnTo>
                    <a:pt x="819" y="7"/>
                  </a:lnTo>
                  <a:lnTo>
                    <a:pt x="819" y="6"/>
                  </a:lnTo>
                  <a:lnTo>
                    <a:pt x="819" y="4"/>
                  </a:lnTo>
                  <a:lnTo>
                    <a:pt x="819" y="3"/>
                  </a:lnTo>
                  <a:lnTo>
                    <a:pt x="819" y="1"/>
                  </a:lnTo>
                  <a:lnTo>
                    <a:pt x="822" y="0"/>
                  </a:lnTo>
                  <a:lnTo>
                    <a:pt x="823" y="0"/>
                  </a:lnTo>
                  <a:lnTo>
                    <a:pt x="853" y="0"/>
                  </a:lnTo>
                  <a:lnTo>
                    <a:pt x="854" y="0"/>
                  </a:lnTo>
                  <a:lnTo>
                    <a:pt x="856" y="1"/>
                  </a:lnTo>
                  <a:lnTo>
                    <a:pt x="856" y="3"/>
                  </a:lnTo>
                  <a:lnTo>
                    <a:pt x="857" y="4"/>
                  </a:lnTo>
                  <a:lnTo>
                    <a:pt x="856" y="6"/>
                  </a:lnTo>
                  <a:lnTo>
                    <a:pt x="856" y="7"/>
                  </a:lnTo>
                  <a:lnTo>
                    <a:pt x="854" y="9"/>
                  </a:lnTo>
                  <a:lnTo>
                    <a:pt x="853" y="9"/>
                  </a:lnTo>
                  <a:lnTo>
                    <a:pt x="853" y="9"/>
                  </a:lnTo>
                  <a:close/>
                  <a:moveTo>
                    <a:pt x="785" y="9"/>
                  </a:moveTo>
                  <a:lnTo>
                    <a:pt x="756" y="9"/>
                  </a:lnTo>
                  <a:lnTo>
                    <a:pt x="754" y="9"/>
                  </a:lnTo>
                  <a:lnTo>
                    <a:pt x="753" y="7"/>
                  </a:lnTo>
                  <a:lnTo>
                    <a:pt x="751" y="6"/>
                  </a:lnTo>
                  <a:lnTo>
                    <a:pt x="751" y="4"/>
                  </a:lnTo>
                  <a:lnTo>
                    <a:pt x="751" y="3"/>
                  </a:lnTo>
                  <a:lnTo>
                    <a:pt x="753" y="1"/>
                  </a:lnTo>
                  <a:lnTo>
                    <a:pt x="754" y="0"/>
                  </a:lnTo>
                  <a:lnTo>
                    <a:pt x="756" y="0"/>
                  </a:lnTo>
                  <a:lnTo>
                    <a:pt x="785" y="0"/>
                  </a:lnTo>
                  <a:lnTo>
                    <a:pt x="786" y="0"/>
                  </a:lnTo>
                  <a:lnTo>
                    <a:pt x="788" y="1"/>
                  </a:lnTo>
                  <a:lnTo>
                    <a:pt x="789" y="3"/>
                  </a:lnTo>
                  <a:lnTo>
                    <a:pt x="789" y="4"/>
                  </a:lnTo>
                  <a:lnTo>
                    <a:pt x="789" y="6"/>
                  </a:lnTo>
                  <a:lnTo>
                    <a:pt x="788" y="7"/>
                  </a:lnTo>
                  <a:lnTo>
                    <a:pt x="786" y="9"/>
                  </a:lnTo>
                  <a:lnTo>
                    <a:pt x="785" y="9"/>
                  </a:lnTo>
                  <a:lnTo>
                    <a:pt x="785" y="9"/>
                  </a:lnTo>
                  <a:close/>
                  <a:moveTo>
                    <a:pt x="717" y="9"/>
                  </a:moveTo>
                  <a:lnTo>
                    <a:pt x="688" y="9"/>
                  </a:lnTo>
                  <a:lnTo>
                    <a:pt x="686" y="9"/>
                  </a:lnTo>
                  <a:lnTo>
                    <a:pt x="685" y="7"/>
                  </a:lnTo>
                  <a:lnTo>
                    <a:pt x="683" y="6"/>
                  </a:lnTo>
                  <a:lnTo>
                    <a:pt x="683" y="4"/>
                  </a:lnTo>
                  <a:lnTo>
                    <a:pt x="683" y="3"/>
                  </a:lnTo>
                  <a:lnTo>
                    <a:pt x="685" y="1"/>
                  </a:lnTo>
                  <a:lnTo>
                    <a:pt x="686" y="0"/>
                  </a:lnTo>
                  <a:lnTo>
                    <a:pt x="688" y="0"/>
                  </a:lnTo>
                  <a:lnTo>
                    <a:pt x="717" y="0"/>
                  </a:lnTo>
                  <a:lnTo>
                    <a:pt x="719" y="0"/>
                  </a:lnTo>
                  <a:lnTo>
                    <a:pt x="720" y="1"/>
                  </a:lnTo>
                  <a:lnTo>
                    <a:pt x="722" y="3"/>
                  </a:lnTo>
                  <a:lnTo>
                    <a:pt x="722" y="4"/>
                  </a:lnTo>
                  <a:lnTo>
                    <a:pt x="722" y="6"/>
                  </a:lnTo>
                  <a:lnTo>
                    <a:pt x="720" y="7"/>
                  </a:lnTo>
                  <a:lnTo>
                    <a:pt x="719" y="9"/>
                  </a:lnTo>
                  <a:lnTo>
                    <a:pt x="717" y="9"/>
                  </a:lnTo>
                  <a:lnTo>
                    <a:pt x="717" y="9"/>
                  </a:lnTo>
                  <a:close/>
                  <a:moveTo>
                    <a:pt x="649" y="9"/>
                  </a:moveTo>
                  <a:lnTo>
                    <a:pt x="622" y="9"/>
                  </a:lnTo>
                  <a:lnTo>
                    <a:pt x="619" y="9"/>
                  </a:lnTo>
                  <a:lnTo>
                    <a:pt x="617" y="7"/>
                  </a:lnTo>
                  <a:lnTo>
                    <a:pt x="617" y="6"/>
                  </a:lnTo>
                  <a:lnTo>
                    <a:pt x="616" y="4"/>
                  </a:lnTo>
                  <a:lnTo>
                    <a:pt x="617" y="3"/>
                  </a:lnTo>
                  <a:lnTo>
                    <a:pt x="617" y="1"/>
                  </a:lnTo>
                  <a:lnTo>
                    <a:pt x="619" y="0"/>
                  </a:lnTo>
                  <a:lnTo>
                    <a:pt x="622" y="0"/>
                  </a:lnTo>
                  <a:lnTo>
                    <a:pt x="649" y="0"/>
                  </a:lnTo>
                  <a:lnTo>
                    <a:pt x="651" y="0"/>
                  </a:lnTo>
                  <a:lnTo>
                    <a:pt x="653" y="1"/>
                  </a:lnTo>
                  <a:lnTo>
                    <a:pt x="654" y="3"/>
                  </a:lnTo>
                  <a:lnTo>
                    <a:pt x="654" y="4"/>
                  </a:lnTo>
                  <a:lnTo>
                    <a:pt x="654" y="6"/>
                  </a:lnTo>
                  <a:lnTo>
                    <a:pt x="653" y="7"/>
                  </a:lnTo>
                  <a:lnTo>
                    <a:pt x="651" y="9"/>
                  </a:lnTo>
                  <a:lnTo>
                    <a:pt x="649" y="9"/>
                  </a:lnTo>
                  <a:lnTo>
                    <a:pt x="649" y="9"/>
                  </a:lnTo>
                  <a:close/>
                  <a:moveTo>
                    <a:pt x="583" y="9"/>
                  </a:moveTo>
                  <a:lnTo>
                    <a:pt x="554" y="9"/>
                  </a:lnTo>
                  <a:lnTo>
                    <a:pt x="553" y="9"/>
                  </a:lnTo>
                  <a:lnTo>
                    <a:pt x="550" y="7"/>
                  </a:lnTo>
                  <a:lnTo>
                    <a:pt x="550" y="6"/>
                  </a:lnTo>
                  <a:lnTo>
                    <a:pt x="550" y="4"/>
                  </a:lnTo>
                  <a:lnTo>
                    <a:pt x="550" y="3"/>
                  </a:lnTo>
                  <a:lnTo>
                    <a:pt x="550" y="1"/>
                  </a:lnTo>
                  <a:lnTo>
                    <a:pt x="553" y="0"/>
                  </a:lnTo>
                  <a:lnTo>
                    <a:pt x="554" y="0"/>
                  </a:lnTo>
                  <a:lnTo>
                    <a:pt x="583" y="0"/>
                  </a:lnTo>
                  <a:lnTo>
                    <a:pt x="585" y="0"/>
                  </a:lnTo>
                  <a:lnTo>
                    <a:pt x="586" y="1"/>
                  </a:lnTo>
                  <a:lnTo>
                    <a:pt x="586" y="3"/>
                  </a:lnTo>
                  <a:lnTo>
                    <a:pt x="588" y="4"/>
                  </a:lnTo>
                  <a:lnTo>
                    <a:pt x="586" y="6"/>
                  </a:lnTo>
                  <a:lnTo>
                    <a:pt x="586" y="7"/>
                  </a:lnTo>
                  <a:lnTo>
                    <a:pt x="585" y="9"/>
                  </a:lnTo>
                  <a:lnTo>
                    <a:pt x="583" y="9"/>
                  </a:lnTo>
                  <a:lnTo>
                    <a:pt x="583" y="9"/>
                  </a:lnTo>
                  <a:close/>
                  <a:moveTo>
                    <a:pt x="516" y="9"/>
                  </a:moveTo>
                  <a:lnTo>
                    <a:pt x="486" y="9"/>
                  </a:lnTo>
                  <a:lnTo>
                    <a:pt x="485" y="9"/>
                  </a:lnTo>
                  <a:lnTo>
                    <a:pt x="483" y="7"/>
                  </a:lnTo>
                  <a:lnTo>
                    <a:pt x="482" y="6"/>
                  </a:lnTo>
                  <a:lnTo>
                    <a:pt x="482" y="4"/>
                  </a:lnTo>
                  <a:lnTo>
                    <a:pt x="482" y="3"/>
                  </a:lnTo>
                  <a:lnTo>
                    <a:pt x="483" y="1"/>
                  </a:lnTo>
                  <a:lnTo>
                    <a:pt x="485" y="0"/>
                  </a:lnTo>
                  <a:lnTo>
                    <a:pt x="486" y="0"/>
                  </a:lnTo>
                  <a:lnTo>
                    <a:pt x="516" y="0"/>
                  </a:lnTo>
                  <a:lnTo>
                    <a:pt x="517" y="0"/>
                  </a:lnTo>
                  <a:lnTo>
                    <a:pt x="519" y="1"/>
                  </a:lnTo>
                  <a:lnTo>
                    <a:pt x="520" y="3"/>
                  </a:lnTo>
                  <a:lnTo>
                    <a:pt x="520" y="4"/>
                  </a:lnTo>
                  <a:lnTo>
                    <a:pt x="520" y="6"/>
                  </a:lnTo>
                  <a:lnTo>
                    <a:pt x="519" y="7"/>
                  </a:lnTo>
                  <a:lnTo>
                    <a:pt x="517" y="9"/>
                  </a:lnTo>
                  <a:lnTo>
                    <a:pt x="516" y="9"/>
                  </a:lnTo>
                  <a:lnTo>
                    <a:pt x="516" y="9"/>
                  </a:lnTo>
                  <a:close/>
                  <a:moveTo>
                    <a:pt x="448" y="10"/>
                  </a:moveTo>
                  <a:lnTo>
                    <a:pt x="426" y="12"/>
                  </a:lnTo>
                  <a:lnTo>
                    <a:pt x="420" y="12"/>
                  </a:lnTo>
                  <a:lnTo>
                    <a:pt x="419" y="12"/>
                  </a:lnTo>
                  <a:lnTo>
                    <a:pt x="416" y="12"/>
                  </a:lnTo>
                  <a:lnTo>
                    <a:pt x="416" y="10"/>
                  </a:lnTo>
                  <a:lnTo>
                    <a:pt x="414" y="9"/>
                  </a:lnTo>
                  <a:lnTo>
                    <a:pt x="414" y="6"/>
                  </a:lnTo>
                  <a:lnTo>
                    <a:pt x="416" y="4"/>
                  </a:lnTo>
                  <a:lnTo>
                    <a:pt x="417" y="3"/>
                  </a:lnTo>
                  <a:lnTo>
                    <a:pt x="419" y="3"/>
                  </a:lnTo>
                  <a:lnTo>
                    <a:pt x="426" y="3"/>
                  </a:lnTo>
                  <a:lnTo>
                    <a:pt x="448" y="0"/>
                  </a:lnTo>
                  <a:lnTo>
                    <a:pt x="450" y="0"/>
                  </a:lnTo>
                  <a:lnTo>
                    <a:pt x="451" y="1"/>
                  </a:lnTo>
                  <a:lnTo>
                    <a:pt x="453" y="3"/>
                  </a:lnTo>
                  <a:lnTo>
                    <a:pt x="453" y="4"/>
                  </a:lnTo>
                  <a:lnTo>
                    <a:pt x="453" y="7"/>
                  </a:lnTo>
                  <a:lnTo>
                    <a:pt x="451" y="9"/>
                  </a:lnTo>
                  <a:lnTo>
                    <a:pt x="450" y="9"/>
                  </a:lnTo>
                  <a:lnTo>
                    <a:pt x="448" y="10"/>
                  </a:lnTo>
                  <a:lnTo>
                    <a:pt x="448" y="10"/>
                  </a:lnTo>
                  <a:close/>
                  <a:moveTo>
                    <a:pt x="382" y="18"/>
                  </a:moveTo>
                  <a:lnTo>
                    <a:pt x="380" y="18"/>
                  </a:lnTo>
                  <a:lnTo>
                    <a:pt x="357" y="24"/>
                  </a:lnTo>
                  <a:lnTo>
                    <a:pt x="354" y="24"/>
                  </a:lnTo>
                  <a:lnTo>
                    <a:pt x="353" y="24"/>
                  </a:lnTo>
                  <a:lnTo>
                    <a:pt x="351" y="24"/>
                  </a:lnTo>
                  <a:lnTo>
                    <a:pt x="350" y="23"/>
                  </a:lnTo>
                  <a:lnTo>
                    <a:pt x="348" y="21"/>
                  </a:lnTo>
                  <a:lnTo>
                    <a:pt x="348" y="20"/>
                  </a:lnTo>
                  <a:lnTo>
                    <a:pt x="350" y="18"/>
                  </a:lnTo>
                  <a:lnTo>
                    <a:pt x="350" y="17"/>
                  </a:lnTo>
                  <a:lnTo>
                    <a:pt x="353" y="15"/>
                  </a:lnTo>
                  <a:lnTo>
                    <a:pt x="356" y="15"/>
                  </a:lnTo>
                  <a:lnTo>
                    <a:pt x="379" y="9"/>
                  </a:lnTo>
                  <a:lnTo>
                    <a:pt x="380" y="9"/>
                  </a:lnTo>
                  <a:lnTo>
                    <a:pt x="382" y="9"/>
                  </a:lnTo>
                  <a:lnTo>
                    <a:pt x="383" y="9"/>
                  </a:lnTo>
                  <a:lnTo>
                    <a:pt x="385" y="10"/>
                  </a:lnTo>
                  <a:lnTo>
                    <a:pt x="386" y="12"/>
                  </a:lnTo>
                  <a:lnTo>
                    <a:pt x="386" y="15"/>
                  </a:lnTo>
                  <a:lnTo>
                    <a:pt x="385" y="17"/>
                  </a:lnTo>
                  <a:lnTo>
                    <a:pt x="383" y="18"/>
                  </a:lnTo>
                  <a:lnTo>
                    <a:pt x="382" y="18"/>
                  </a:lnTo>
                  <a:lnTo>
                    <a:pt x="382" y="18"/>
                  </a:lnTo>
                  <a:close/>
                  <a:moveTo>
                    <a:pt x="319" y="37"/>
                  </a:moveTo>
                  <a:lnTo>
                    <a:pt x="314" y="38"/>
                  </a:lnTo>
                  <a:lnTo>
                    <a:pt x="293" y="46"/>
                  </a:lnTo>
                  <a:lnTo>
                    <a:pt x="291" y="46"/>
                  </a:lnTo>
                  <a:lnTo>
                    <a:pt x="290" y="47"/>
                  </a:lnTo>
                  <a:lnTo>
                    <a:pt x="288" y="46"/>
                  </a:lnTo>
                  <a:lnTo>
                    <a:pt x="286" y="46"/>
                  </a:lnTo>
                  <a:lnTo>
                    <a:pt x="285" y="44"/>
                  </a:lnTo>
                  <a:lnTo>
                    <a:pt x="285" y="43"/>
                  </a:lnTo>
                  <a:lnTo>
                    <a:pt x="285" y="40"/>
                  </a:lnTo>
                  <a:lnTo>
                    <a:pt x="286" y="38"/>
                  </a:lnTo>
                  <a:lnTo>
                    <a:pt x="288" y="38"/>
                  </a:lnTo>
                  <a:lnTo>
                    <a:pt x="290" y="37"/>
                  </a:lnTo>
                  <a:lnTo>
                    <a:pt x="311" y="29"/>
                  </a:lnTo>
                  <a:lnTo>
                    <a:pt x="316" y="27"/>
                  </a:lnTo>
                  <a:lnTo>
                    <a:pt x="317" y="27"/>
                  </a:lnTo>
                  <a:lnTo>
                    <a:pt x="319" y="27"/>
                  </a:lnTo>
                  <a:lnTo>
                    <a:pt x="320" y="29"/>
                  </a:lnTo>
                  <a:lnTo>
                    <a:pt x="322" y="30"/>
                  </a:lnTo>
                  <a:lnTo>
                    <a:pt x="322" y="32"/>
                  </a:lnTo>
                  <a:lnTo>
                    <a:pt x="320" y="33"/>
                  </a:lnTo>
                  <a:lnTo>
                    <a:pt x="320" y="35"/>
                  </a:lnTo>
                  <a:lnTo>
                    <a:pt x="319" y="37"/>
                  </a:lnTo>
                  <a:lnTo>
                    <a:pt x="319" y="37"/>
                  </a:lnTo>
                  <a:close/>
                  <a:moveTo>
                    <a:pt x="257" y="63"/>
                  </a:moveTo>
                  <a:lnTo>
                    <a:pt x="253" y="66"/>
                  </a:lnTo>
                  <a:lnTo>
                    <a:pt x="233" y="76"/>
                  </a:lnTo>
                  <a:lnTo>
                    <a:pt x="233" y="76"/>
                  </a:lnTo>
                  <a:lnTo>
                    <a:pt x="231" y="76"/>
                  </a:lnTo>
                  <a:lnTo>
                    <a:pt x="228" y="76"/>
                  </a:lnTo>
                  <a:lnTo>
                    <a:pt x="227" y="76"/>
                  </a:lnTo>
                  <a:lnTo>
                    <a:pt x="227" y="75"/>
                  </a:lnTo>
                  <a:lnTo>
                    <a:pt x="225" y="73"/>
                  </a:lnTo>
                  <a:lnTo>
                    <a:pt x="225" y="72"/>
                  </a:lnTo>
                  <a:lnTo>
                    <a:pt x="227" y="70"/>
                  </a:lnTo>
                  <a:lnTo>
                    <a:pt x="228" y="69"/>
                  </a:lnTo>
                  <a:lnTo>
                    <a:pt x="228" y="69"/>
                  </a:lnTo>
                  <a:lnTo>
                    <a:pt x="248" y="56"/>
                  </a:lnTo>
                  <a:lnTo>
                    <a:pt x="253" y="55"/>
                  </a:lnTo>
                  <a:lnTo>
                    <a:pt x="254" y="53"/>
                  </a:lnTo>
                  <a:lnTo>
                    <a:pt x="256" y="53"/>
                  </a:lnTo>
                  <a:lnTo>
                    <a:pt x="259" y="55"/>
                  </a:lnTo>
                  <a:lnTo>
                    <a:pt x="259" y="56"/>
                  </a:lnTo>
                  <a:lnTo>
                    <a:pt x="260" y="58"/>
                  </a:lnTo>
                  <a:lnTo>
                    <a:pt x="259" y="60"/>
                  </a:lnTo>
                  <a:lnTo>
                    <a:pt x="259" y="61"/>
                  </a:lnTo>
                  <a:lnTo>
                    <a:pt x="257" y="63"/>
                  </a:lnTo>
                  <a:lnTo>
                    <a:pt x="257" y="63"/>
                  </a:lnTo>
                  <a:close/>
                  <a:moveTo>
                    <a:pt x="200" y="98"/>
                  </a:moveTo>
                  <a:lnTo>
                    <a:pt x="196" y="101"/>
                  </a:lnTo>
                  <a:lnTo>
                    <a:pt x="179" y="115"/>
                  </a:lnTo>
                  <a:lnTo>
                    <a:pt x="179" y="115"/>
                  </a:lnTo>
                  <a:lnTo>
                    <a:pt x="176" y="116"/>
                  </a:lnTo>
                  <a:lnTo>
                    <a:pt x="174" y="116"/>
                  </a:lnTo>
                  <a:lnTo>
                    <a:pt x="173" y="116"/>
                  </a:lnTo>
                  <a:lnTo>
                    <a:pt x="171" y="115"/>
                  </a:lnTo>
                  <a:lnTo>
                    <a:pt x="171" y="113"/>
                  </a:lnTo>
                  <a:lnTo>
                    <a:pt x="170" y="112"/>
                  </a:lnTo>
                  <a:lnTo>
                    <a:pt x="171" y="109"/>
                  </a:lnTo>
                  <a:lnTo>
                    <a:pt x="173" y="109"/>
                  </a:lnTo>
                  <a:lnTo>
                    <a:pt x="173" y="107"/>
                  </a:lnTo>
                  <a:lnTo>
                    <a:pt x="191" y="93"/>
                  </a:lnTo>
                  <a:lnTo>
                    <a:pt x="196" y="90"/>
                  </a:lnTo>
                  <a:lnTo>
                    <a:pt x="197" y="89"/>
                  </a:lnTo>
                  <a:lnTo>
                    <a:pt x="199" y="89"/>
                  </a:lnTo>
                  <a:lnTo>
                    <a:pt x="200" y="90"/>
                  </a:lnTo>
                  <a:lnTo>
                    <a:pt x="202" y="92"/>
                  </a:lnTo>
                  <a:lnTo>
                    <a:pt x="203" y="93"/>
                  </a:lnTo>
                  <a:lnTo>
                    <a:pt x="202" y="95"/>
                  </a:lnTo>
                  <a:lnTo>
                    <a:pt x="202" y="96"/>
                  </a:lnTo>
                  <a:lnTo>
                    <a:pt x="200" y="98"/>
                  </a:lnTo>
                  <a:lnTo>
                    <a:pt x="200" y="98"/>
                  </a:lnTo>
                  <a:close/>
                  <a:moveTo>
                    <a:pt x="150" y="141"/>
                  </a:moveTo>
                  <a:lnTo>
                    <a:pt x="145" y="146"/>
                  </a:lnTo>
                  <a:lnTo>
                    <a:pt x="130" y="161"/>
                  </a:lnTo>
                  <a:lnTo>
                    <a:pt x="128" y="163"/>
                  </a:lnTo>
                  <a:lnTo>
                    <a:pt x="127" y="163"/>
                  </a:lnTo>
                  <a:lnTo>
                    <a:pt x="125" y="163"/>
                  </a:lnTo>
                  <a:lnTo>
                    <a:pt x="123" y="161"/>
                  </a:lnTo>
                  <a:lnTo>
                    <a:pt x="122" y="159"/>
                  </a:lnTo>
                  <a:lnTo>
                    <a:pt x="122" y="158"/>
                  </a:lnTo>
                  <a:lnTo>
                    <a:pt x="122" y="156"/>
                  </a:lnTo>
                  <a:lnTo>
                    <a:pt x="123" y="155"/>
                  </a:lnTo>
                  <a:lnTo>
                    <a:pt x="139" y="138"/>
                  </a:lnTo>
                  <a:lnTo>
                    <a:pt x="143" y="133"/>
                  </a:lnTo>
                  <a:lnTo>
                    <a:pt x="145" y="133"/>
                  </a:lnTo>
                  <a:lnTo>
                    <a:pt x="147" y="132"/>
                  </a:lnTo>
                  <a:lnTo>
                    <a:pt x="148" y="133"/>
                  </a:lnTo>
                  <a:lnTo>
                    <a:pt x="150" y="135"/>
                  </a:lnTo>
                  <a:lnTo>
                    <a:pt x="151" y="136"/>
                  </a:lnTo>
                  <a:lnTo>
                    <a:pt x="151" y="138"/>
                  </a:lnTo>
                  <a:lnTo>
                    <a:pt x="151" y="139"/>
                  </a:lnTo>
                  <a:lnTo>
                    <a:pt x="150" y="141"/>
                  </a:lnTo>
                  <a:lnTo>
                    <a:pt x="150" y="141"/>
                  </a:lnTo>
                  <a:close/>
                  <a:moveTo>
                    <a:pt x="107" y="190"/>
                  </a:moveTo>
                  <a:lnTo>
                    <a:pt x="102" y="196"/>
                  </a:lnTo>
                  <a:lnTo>
                    <a:pt x="90" y="213"/>
                  </a:lnTo>
                  <a:lnTo>
                    <a:pt x="88" y="215"/>
                  </a:lnTo>
                  <a:lnTo>
                    <a:pt x="85" y="215"/>
                  </a:lnTo>
                  <a:lnTo>
                    <a:pt x="83" y="216"/>
                  </a:lnTo>
                  <a:lnTo>
                    <a:pt x="82" y="215"/>
                  </a:lnTo>
                  <a:lnTo>
                    <a:pt x="80" y="213"/>
                  </a:lnTo>
                  <a:lnTo>
                    <a:pt x="80" y="212"/>
                  </a:lnTo>
                  <a:lnTo>
                    <a:pt x="80" y="210"/>
                  </a:lnTo>
                  <a:lnTo>
                    <a:pt x="80" y="209"/>
                  </a:lnTo>
                  <a:lnTo>
                    <a:pt x="94" y="190"/>
                  </a:lnTo>
                  <a:lnTo>
                    <a:pt x="99" y="184"/>
                  </a:lnTo>
                  <a:lnTo>
                    <a:pt x="99" y="184"/>
                  </a:lnTo>
                  <a:lnTo>
                    <a:pt x="102" y="183"/>
                  </a:lnTo>
                  <a:lnTo>
                    <a:pt x="103" y="183"/>
                  </a:lnTo>
                  <a:lnTo>
                    <a:pt x="105" y="184"/>
                  </a:lnTo>
                  <a:lnTo>
                    <a:pt x="107" y="186"/>
                  </a:lnTo>
                  <a:lnTo>
                    <a:pt x="107" y="187"/>
                  </a:lnTo>
                  <a:lnTo>
                    <a:pt x="107" y="189"/>
                  </a:lnTo>
                  <a:lnTo>
                    <a:pt x="107" y="190"/>
                  </a:lnTo>
                  <a:lnTo>
                    <a:pt x="107" y="190"/>
                  </a:lnTo>
                  <a:close/>
                  <a:moveTo>
                    <a:pt x="70" y="246"/>
                  </a:moveTo>
                  <a:lnTo>
                    <a:pt x="65" y="252"/>
                  </a:lnTo>
                  <a:lnTo>
                    <a:pt x="56" y="272"/>
                  </a:lnTo>
                  <a:lnTo>
                    <a:pt x="54" y="273"/>
                  </a:lnTo>
                  <a:lnTo>
                    <a:pt x="53" y="273"/>
                  </a:lnTo>
                  <a:lnTo>
                    <a:pt x="51" y="273"/>
                  </a:lnTo>
                  <a:lnTo>
                    <a:pt x="50" y="273"/>
                  </a:lnTo>
                  <a:lnTo>
                    <a:pt x="48" y="272"/>
                  </a:lnTo>
                  <a:lnTo>
                    <a:pt x="47" y="270"/>
                  </a:lnTo>
                  <a:lnTo>
                    <a:pt x="47" y="269"/>
                  </a:lnTo>
                  <a:lnTo>
                    <a:pt x="47" y="267"/>
                  </a:lnTo>
                  <a:lnTo>
                    <a:pt x="57" y="247"/>
                  </a:lnTo>
                  <a:lnTo>
                    <a:pt x="60" y="241"/>
                  </a:lnTo>
                  <a:lnTo>
                    <a:pt x="62" y="239"/>
                  </a:lnTo>
                  <a:lnTo>
                    <a:pt x="63" y="239"/>
                  </a:lnTo>
                  <a:lnTo>
                    <a:pt x="65" y="239"/>
                  </a:lnTo>
                  <a:lnTo>
                    <a:pt x="67" y="239"/>
                  </a:lnTo>
                  <a:lnTo>
                    <a:pt x="68" y="241"/>
                  </a:lnTo>
                  <a:lnTo>
                    <a:pt x="70" y="242"/>
                  </a:lnTo>
                  <a:lnTo>
                    <a:pt x="70" y="244"/>
                  </a:lnTo>
                  <a:lnTo>
                    <a:pt x="70" y="246"/>
                  </a:lnTo>
                  <a:lnTo>
                    <a:pt x="70" y="246"/>
                  </a:lnTo>
                  <a:close/>
                  <a:moveTo>
                    <a:pt x="40" y="305"/>
                  </a:moveTo>
                  <a:lnTo>
                    <a:pt x="37" y="315"/>
                  </a:lnTo>
                  <a:lnTo>
                    <a:pt x="31" y="333"/>
                  </a:lnTo>
                  <a:lnTo>
                    <a:pt x="30" y="335"/>
                  </a:lnTo>
                  <a:lnTo>
                    <a:pt x="28" y="336"/>
                  </a:lnTo>
                  <a:lnTo>
                    <a:pt x="27" y="336"/>
                  </a:lnTo>
                  <a:lnTo>
                    <a:pt x="25" y="336"/>
                  </a:lnTo>
                  <a:lnTo>
                    <a:pt x="23" y="335"/>
                  </a:lnTo>
                  <a:lnTo>
                    <a:pt x="22" y="333"/>
                  </a:lnTo>
                  <a:lnTo>
                    <a:pt x="22" y="332"/>
                  </a:lnTo>
                  <a:lnTo>
                    <a:pt x="22" y="330"/>
                  </a:lnTo>
                  <a:lnTo>
                    <a:pt x="28" y="310"/>
                  </a:lnTo>
                  <a:lnTo>
                    <a:pt x="31" y="302"/>
                  </a:lnTo>
                  <a:lnTo>
                    <a:pt x="33" y="301"/>
                  </a:lnTo>
                  <a:lnTo>
                    <a:pt x="34" y="299"/>
                  </a:lnTo>
                  <a:lnTo>
                    <a:pt x="36" y="299"/>
                  </a:lnTo>
                  <a:lnTo>
                    <a:pt x="37" y="299"/>
                  </a:lnTo>
                  <a:lnTo>
                    <a:pt x="39" y="301"/>
                  </a:lnTo>
                  <a:lnTo>
                    <a:pt x="40" y="302"/>
                  </a:lnTo>
                  <a:lnTo>
                    <a:pt x="40" y="304"/>
                  </a:lnTo>
                  <a:lnTo>
                    <a:pt x="40" y="305"/>
                  </a:lnTo>
                  <a:lnTo>
                    <a:pt x="40" y="305"/>
                  </a:lnTo>
                  <a:close/>
                  <a:moveTo>
                    <a:pt x="20" y="370"/>
                  </a:moveTo>
                  <a:lnTo>
                    <a:pt x="19" y="381"/>
                  </a:lnTo>
                  <a:lnTo>
                    <a:pt x="16" y="398"/>
                  </a:lnTo>
                  <a:lnTo>
                    <a:pt x="14" y="399"/>
                  </a:lnTo>
                  <a:lnTo>
                    <a:pt x="13" y="401"/>
                  </a:lnTo>
                  <a:lnTo>
                    <a:pt x="11" y="401"/>
                  </a:lnTo>
                  <a:lnTo>
                    <a:pt x="10" y="402"/>
                  </a:lnTo>
                  <a:lnTo>
                    <a:pt x="8" y="401"/>
                  </a:lnTo>
                  <a:lnTo>
                    <a:pt x="7" y="399"/>
                  </a:lnTo>
                  <a:lnTo>
                    <a:pt x="7" y="398"/>
                  </a:lnTo>
                  <a:lnTo>
                    <a:pt x="7" y="396"/>
                  </a:lnTo>
                  <a:lnTo>
                    <a:pt x="10" y="378"/>
                  </a:lnTo>
                  <a:lnTo>
                    <a:pt x="11" y="367"/>
                  </a:lnTo>
                  <a:lnTo>
                    <a:pt x="13" y="365"/>
                  </a:lnTo>
                  <a:lnTo>
                    <a:pt x="14" y="364"/>
                  </a:lnTo>
                  <a:lnTo>
                    <a:pt x="16" y="364"/>
                  </a:lnTo>
                  <a:lnTo>
                    <a:pt x="17" y="364"/>
                  </a:lnTo>
                  <a:lnTo>
                    <a:pt x="19" y="364"/>
                  </a:lnTo>
                  <a:lnTo>
                    <a:pt x="20" y="365"/>
                  </a:lnTo>
                  <a:lnTo>
                    <a:pt x="20" y="367"/>
                  </a:lnTo>
                  <a:lnTo>
                    <a:pt x="20" y="370"/>
                  </a:lnTo>
                  <a:lnTo>
                    <a:pt x="20" y="370"/>
                  </a:lnTo>
                  <a:close/>
                  <a:moveTo>
                    <a:pt x="11" y="436"/>
                  </a:moveTo>
                  <a:lnTo>
                    <a:pt x="10" y="450"/>
                  </a:lnTo>
                  <a:lnTo>
                    <a:pt x="10" y="464"/>
                  </a:lnTo>
                  <a:lnTo>
                    <a:pt x="10" y="465"/>
                  </a:lnTo>
                  <a:lnTo>
                    <a:pt x="8" y="467"/>
                  </a:lnTo>
                  <a:lnTo>
                    <a:pt x="7" y="468"/>
                  </a:lnTo>
                  <a:lnTo>
                    <a:pt x="5" y="468"/>
                  </a:lnTo>
                  <a:lnTo>
                    <a:pt x="3" y="468"/>
                  </a:lnTo>
                  <a:lnTo>
                    <a:pt x="0" y="467"/>
                  </a:lnTo>
                  <a:lnTo>
                    <a:pt x="0" y="465"/>
                  </a:lnTo>
                  <a:lnTo>
                    <a:pt x="0" y="464"/>
                  </a:lnTo>
                  <a:lnTo>
                    <a:pt x="0" y="450"/>
                  </a:lnTo>
                  <a:lnTo>
                    <a:pt x="2" y="435"/>
                  </a:lnTo>
                  <a:lnTo>
                    <a:pt x="2" y="433"/>
                  </a:lnTo>
                  <a:lnTo>
                    <a:pt x="3" y="432"/>
                  </a:lnTo>
                  <a:lnTo>
                    <a:pt x="5" y="430"/>
                  </a:lnTo>
                  <a:lnTo>
                    <a:pt x="7" y="430"/>
                  </a:lnTo>
                  <a:lnTo>
                    <a:pt x="8" y="430"/>
                  </a:lnTo>
                  <a:lnTo>
                    <a:pt x="10" y="432"/>
                  </a:lnTo>
                  <a:lnTo>
                    <a:pt x="11" y="433"/>
                  </a:lnTo>
                  <a:lnTo>
                    <a:pt x="11" y="436"/>
                  </a:lnTo>
                  <a:lnTo>
                    <a:pt x="11" y="436"/>
                  </a:lnTo>
                  <a:close/>
                  <a:moveTo>
                    <a:pt x="10" y="502"/>
                  </a:moveTo>
                  <a:lnTo>
                    <a:pt x="10" y="531"/>
                  </a:lnTo>
                  <a:lnTo>
                    <a:pt x="10" y="533"/>
                  </a:lnTo>
                  <a:lnTo>
                    <a:pt x="8" y="535"/>
                  </a:lnTo>
                  <a:lnTo>
                    <a:pt x="7" y="536"/>
                  </a:lnTo>
                  <a:lnTo>
                    <a:pt x="5" y="536"/>
                  </a:lnTo>
                  <a:lnTo>
                    <a:pt x="2" y="536"/>
                  </a:lnTo>
                  <a:lnTo>
                    <a:pt x="0" y="535"/>
                  </a:lnTo>
                  <a:lnTo>
                    <a:pt x="0" y="533"/>
                  </a:lnTo>
                  <a:lnTo>
                    <a:pt x="0" y="531"/>
                  </a:lnTo>
                  <a:lnTo>
                    <a:pt x="0" y="502"/>
                  </a:lnTo>
                  <a:lnTo>
                    <a:pt x="0" y="501"/>
                  </a:lnTo>
                  <a:lnTo>
                    <a:pt x="0" y="499"/>
                  </a:lnTo>
                  <a:lnTo>
                    <a:pt x="2" y="498"/>
                  </a:lnTo>
                  <a:lnTo>
                    <a:pt x="5" y="498"/>
                  </a:lnTo>
                  <a:lnTo>
                    <a:pt x="7" y="498"/>
                  </a:lnTo>
                  <a:lnTo>
                    <a:pt x="8" y="499"/>
                  </a:lnTo>
                  <a:lnTo>
                    <a:pt x="10" y="501"/>
                  </a:lnTo>
                  <a:lnTo>
                    <a:pt x="10" y="502"/>
                  </a:lnTo>
                  <a:lnTo>
                    <a:pt x="10" y="502"/>
                  </a:lnTo>
                  <a:close/>
                  <a:moveTo>
                    <a:pt x="10" y="570"/>
                  </a:moveTo>
                  <a:lnTo>
                    <a:pt x="10" y="598"/>
                  </a:lnTo>
                  <a:lnTo>
                    <a:pt x="10" y="601"/>
                  </a:lnTo>
                  <a:lnTo>
                    <a:pt x="8" y="602"/>
                  </a:lnTo>
                  <a:lnTo>
                    <a:pt x="7" y="602"/>
                  </a:lnTo>
                  <a:lnTo>
                    <a:pt x="5" y="604"/>
                  </a:lnTo>
                  <a:lnTo>
                    <a:pt x="2" y="602"/>
                  </a:lnTo>
                  <a:lnTo>
                    <a:pt x="0" y="602"/>
                  </a:lnTo>
                  <a:lnTo>
                    <a:pt x="0" y="601"/>
                  </a:lnTo>
                  <a:lnTo>
                    <a:pt x="0" y="598"/>
                  </a:lnTo>
                  <a:lnTo>
                    <a:pt x="0" y="570"/>
                  </a:lnTo>
                  <a:lnTo>
                    <a:pt x="0" y="567"/>
                  </a:lnTo>
                  <a:lnTo>
                    <a:pt x="0" y="565"/>
                  </a:lnTo>
                  <a:lnTo>
                    <a:pt x="2" y="565"/>
                  </a:lnTo>
                  <a:lnTo>
                    <a:pt x="5" y="565"/>
                  </a:lnTo>
                  <a:lnTo>
                    <a:pt x="7" y="565"/>
                  </a:lnTo>
                  <a:lnTo>
                    <a:pt x="8" y="565"/>
                  </a:lnTo>
                  <a:lnTo>
                    <a:pt x="10" y="567"/>
                  </a:lnTo>
                  <a:lnTo>
                    <a:pt x="10" y="570"/>
                  </a:lnTo>
                  <a:lnTo>
                    <a:pt x="10" y="570"/>
                  </a:lnTo>
                  <a:close/>
                  <a:moveTo>
                    <a:pt x="10" y="636"/>
                  </a:moveTo>
                  <a:lnTo>
                    <a:pt x="10" y="665"/>
                  </a:lnTo>
                  <a:lnTo>
                    <a:pt x="10" y="667"/>
                  </a:lnTo>
                  <a:lnTo>
                    <a:pt x="8" y="668"/>
                  </a:lnTo>
                  <a:lnTo>
                    <a:pt x="7" y="670"/>
                  </a:lnTo>
                  <a:lnTo>
                    <a:pt x="5" y="670"/>
                  </a:lnTo>
                  <a:lnTo>
                    <a:pt x="2" y="670"/>
                  </a:lnTo>
                  <a:lnTo>
                    <a:pt x="0" y="668"/>
                  </a:lnTo>
                  <a:lnTo>
                    <a:pt x="0" y="667"/>
                  </a:lnTo>
                  <a:lnTo>
                    <a:pt x="0" y="665"/>
                  </a:lnTo>
                  <a:lnTo>
                    <a:pt x="0" y="636"/>
                  </a:lnTo>
                  <a:lnTo>
                    <a:pt x="0" y="634"/>
                  </a:lnTo>
                  <a:lnTo>
                    <a:pt x="0" y="633"/>
                  </a:lnTo>
                  <a:lnTo>
                    <a:pt x="2" y="633"/>
                  </a:lnTo>
                  <a:lnTo>
                    <a:pt x="5" y="631"/>
                  </a:lnTo>
                  <a:lnTo>
                    <a:pt x="7" y="633"/>
                  </a:lnTo>
                  <a:lnTo>
                    <a:pt x="8" y="633"/>
                  </a:lnTo>
                  <a:lnTo>
                    <a:pt x="10" y="634"/>
                  </a:lnTo>
                  <a:lnTo>
                    <a:pt x="10" y="636"/>
                  </a:lnTo>
                  <a:lnTo>
                    <a:pt x="10" y="636"/>
                  </a:lnTo>
                  <a:close/>
                  <a:moveTo>
                    <a:pt x="10" y="704"/>
                  </a:moveTo>
                  <a:lnTo>
                    <a:pt x="10" y="733"/>
                  </a:lnTo>
                  <a:lnTo>
                    <a:pt x="10" y="734"/>
                  </a:lnTo>
                  <a:lnTo>
                    <a:pt x="8" y="736"/>
                  </a:lnTo>
                  <a:lnTo>
                    <a:pt x="7" y="737"/>
                  </a:lnTo>
                  <a:lnTo>
                    <a:pt x="5" y="737"/>
                  </a:lnTo>
                  <a:lnTo>
                    <a:pt x="2" y="737"/>
                  </a:lnTo>
                  <a:lnTo>
                    <a:pt x="0" y="736"/>
                  </a:lnTo>
                  <a:lnTo>
                    <a:pt x="0" y="734"/>
                  </a:lnTo>
                  <a:lnTo>
                    <a:pt x="0" y="733"/>
                  </a:lnTo>
                  <a:lnTo>
                    <a:pt x="0" y="704"/>
                  </a:lnTo>
                  <a:lnTo>
                    <a:pt x="0" y="702"/>
                  </a:lnTo>
                  <a:lnTo>
                    <a:pt x="0" y="701"/>
                  </a:lnTo>
                  <a:lnTo>
                    <a:pt x="2" y="699"/>
                  </a:lnTo>
                  <a:lnTo>
                    <a:pt x="5" y="699"/>
                  </a:lnTo>
                  <a:lnTo>
                    <a:pt x="7" y="699"/>
                  </a:lnTo>
                  <a:lnTo>
                    <a:pt x="8" y="701"/>
                  </a:lnTo>
                  <a:lnTo>
                    <a:pt x="10" y="702"/>
                  </a:lnTo>
                  <a:lnTo>
                    <a:pt x="10" y="704"/>
                  </a:lnTo>
                  <a:lnTo>
                    <a:pt x="10" y="704"/>
                  </a:lnTo>
                  <a:close/>
                  <a:moveTo>
                    <a:pt x="10" y="771"/>
                  </a:moveTo>
                  <a:lnTo>
                    <a:pt x="10" y="800"/>
                  </a:lnTo>
                  <a:lnTo>
                    <a:pt x="10" y="802"/>
                  </a:lnTo>
                  <a:lnTo>
                    <a:pt x="8" y="803"/>
                  </a:lnTo>
                  <a:lnTo>
                    <a:pt x="7" y="805"/>
                  </a:lnTo>
                  <a:lnTo>
                    <a:pt x="5" y="805"/>
                  </a:lnTo>
                  <a:lnTo>
                    <a:pt x="2" y="805"/>
                  </a:lnTo>
                  <a:lnTo>
                    <a:pt x="0" y="803"/>
                  </a:lnTo>
                  <a:lnTo>
                    <a:pt x="0" y="802"/>
                  </a:lnTo>
                  <a:lnTo>
                    <a:pt x="0" y="800"/>
                  </a:lnTo>
                  <a:lnTo>
                    <a:pt x="0" y="771"/>
                  </a:lnTo>
                  <a:lnTo>
                    <a:pt x="0" y="770"/>
                  </a:lnTo>
                  <a:lnTo>
                    <a:pt x="0" y="768"/>
                  </a:lnTo>
                  <a:lnTo>
                    <a:pt x="2" y="767"/>
                  </a:lnTo>
                  <a:lnTo>
                    <a:pt x="5" y="767"/>
                  </a:lnTo>
                  <a:lnTo>
                    <a:pt x="7" y="767"/>
                  </a:lnTo>
                  <a:lnTo>
                    <a:pt x="8" y="768"/>
                  </a:lnTo>
                  <a:lnTo>
                    <a:pt x="10" y="770"/>
                  </a:lnTo>
                  <a:lnTo>
                    <a:pt x="10" y="771"/>
                  </a:lnTo>
                  <a:lnTo>
                    <a:pt x="10" y="771"/>
                  </a:lnTo>
                  <a:close/>
                  <a:moveTo>
                    <a:pt x="10" y="839"/>
                  </a:moveTo>
                  <a:lnTo>
                    <a:pt x="10" y="867"/>
                  </a:lnTo>
                  <a:lnTo>
                    <a:pt x="10" y="870"/>
                  </a:lnTo>
                  <a:lnTo>
                    <a:pt x="8" y="871"/>
                  </a:lnTo>
                  <a:lnTo>
                    <a:pt x="7" y="871"/>
                  </a:lnTo>
                  <a:lnTo>
                    <a:pt x="5" y="873"/>
                  </a:lnTo>
                  <a:lnTo>
                    <a:pt x="2" y="871"/>
                  </a:lnTo>
                  <a:lnTo>
                    <a:pt x="0" y="871"/>
                  </a:lnTo>
                  <a:lnTo>
                    <a:pt x="0" y="870"/>
                  </a:lnTo>
                  <a:lnTo>
                    <a:pt x="0" y="867"/>
                  </a:lnTo>
                  <a:lnTo>
                    <a:pt x="0" y="839"/>
                  </a:lnTo>
                  <a:lnTo>
                    <a:pt x="0" y="836"/>
                  </a:lnTo>
                  <a:lnTo>
                    <a:pt x="0" y="834"/>
                  </a:lnTo>
                  <a:lnTo>
                    <a:pt x="2" y="834"/>
                  </a:lnTo>
                  <a:lnTo>
                    <a:pt x="5" y="834"/>
                  </a:lnTo>
                  <a:lnTo>
                    <a:pt x="7" y="834"/>
                  </a:lnTo>
                  <a:lnTo>
                    <a:pt x="8" y="834"/>
                  </a:lnTo>
                  <a:lnTo>
                    <a:pt x="10" y="836"/>
                  </a:lnTo>
                  <a:lnTo>
                    <a:pt x="10" y="839"/>
                  </a:lnTo>
                  <a:lnTo>
                    <a:pt x="10" y="839"/>
                  </a:lnTo>
                  <a:close/>
                  <a:moveTo>
                    <a:pt x="10" y="905"/>
                  </a:moveTo>
                  <a:lnTo>
                    <a:pt x="10" y="934"/>
                  </a:lnTo>
                  <a:lnTo>
                    <a:pt x="10" y="936"/>
                  </a:lnTo>
                  <a:lnTo>
                    <a:pt x="8" y="937"/>
                  </a:lnTo>
                  <a:lnTo>
                    <a:pt x="7" y="939"/>
                  </a:lnTo>
                  <a:lnTo>
                    <a:pt x="5" y="939"/>
                  </a:lnTo>
                  <a:lnTo>
                    <a:pt x="2" y="939"/>
                  </a:lnTo>
                  <a:lnTo>
                    <a:pt x="0" y="937"/>
                  </a:lnTo>
                  <a:lnTo>
                    <a:pt x="0" y="936"/>
                  </a:lnTo>
                  <a:lnTo>
                    <a:pt x="0" y="934"/>
                  </a:lnTo>
                  <a:lnTo>
                    <a:pt x="0" y="905"/>
                  </a:lnTo>
                  <a:lnTo>
                    <a:pt x="0" y="903"/>
                  </a:lnTo>
                  <a:lnTo>
                    <a:pt x="0" y="902"/>
                  </a:lnTo>
                  <a:lnTo>
                    <a:pt x="2" y="902"/>
                  </a:lnTo>
                  <a:lnTo>
                    <a:pt x="5" y="900"/>
                  </a:lnTo>
                  <a:lnTo>
                    <a:pt x="7" y="902"/>
                  </a:lnTo>
                  <a:lnTo>
                    <a:pt x="8" y="902"/>
                  </a:lnTo>
                  <a:lnTo>
                    <a:pt x="10" y="903"/>
                  </a:lnTo>
                  <a:lnTo>
                    <a:pt x="10" y="905"/>
                  </a:lnTo>
                  <a:lnTo>
                    <a:pt x="10" y="905"/>
                  </a:lnTo>
                  <a:close/>
                  <a:moveTo>
                    <a:pt x="10" y="973"/>
                  </a:moveTo>
                  <a:lnTo>
                    <a:pt x="10" y="1002"/>
                  </a:lnTo>
                  <a:lnTo>
                    <a:pt x="10" y="1003"/>
                  </a:lnTo>
                  <a:lnTo>
                    <a:pt x="8" y="1005"/>
                  </a:lnTo>
                  <a:lnTo>
                    <a:pt x="7" y="1006"/>
                  </a:lnTo>
                  <a:lnTo>
                    <a:pt x="5" y="1006"/>
                  </a:lnTo>
                  <a:lnTo>
                    <a:pt x="2" y="1006"/>
                  </a:lnTo>
                  <a:lnTo>
                    <a:pt x="0" y="1005"/>
                  </a:lnTo>
                  <a:lnTo>
                    <a:pt x="0" y="1003"/>
                  </a:lnTo>
                  <a:lnTo>
                    <a:pt x="0" y="1002"/>
                  </a:lnTo>
                  <a:lnTo>
                    <a:pt x="0" y="973"/>
                  </a:lnTo>
                  <a:lnTo>
                    <a:pt x="0" y="971"/>
                  </a:lnTo>
                  <a:lnTo>
                    <a:pt x="0" y="969"/>
                  </a:lnTo>
                  <a:lnTo>
                    <a:pt x="2" y="968"/>
                  </a:lnTo>
                  <a:lnTo>
                    <a:pt x="5" y="968"/>
                  </a:lnTo>
                  <a:lnTo>
                    <a:pt x="7" y="968"/>
                  </a:lnTo>
                  <a:lnTo>
                    <a:pt x="8" y="969"/>
                  </a:lnTo>
                  <a:lnTo>
                    <a:pt x="10" y="971"/>
                  </a:lnTo>
                  <a:lnTo>
                    <a:pt x="10" y="973"/>
                  </a:lnTo>
                  <a:lnTo>
                    <a:pt x="10" y="973"/>
                  </a:lnTo>
                  <a:close/>
                  <a:moveTo>
                    <a:pt x="10" y="1040"/>
                  </a:moveTo>
                  <a:lnTo>
                    <a:pt x="10" y="1069"/>
                  </a:lnTo>
                  <a:lnTo>
                    <a:pt x="10" y="1071"/>
                  </a:lnTo>
                  <a:lnTo>
                    <a:pt x="8" y="1072"/>
                  </a:lnTo>
                  <a:lnTo>
                    <a:pt x="7" y="1074"/>
                  </a:lnTo>
                  <a:lnTo>
                    <a:pt x="5" y="1074"/>
                  </a:lnTo>
                  <a:lnTo>
                    <a:pt x="2" y="1074"/>
                  </a:lnTo>
                  <a:lnTo>
                    <a:pt x="0" y="1072"/>
                  </a:lnTo>
                  <a:lnTo>
                    <a:pt x="0" y="1071"/>
                  </a:lnTo>
                  <a:lnTo>
                    <a:pt x="0" y="1069"/>
                  </a:lnTo>
                  <a:lnTo>
                    <a:pt x="0" y="1040"/>
                  </a:lnTo>
                  <a:lnTo>
                    <a:pt x="0" y="1039"/>
                  </a:lnTo>
                  <a:lnTo>
                    <a:pt x="0" y="1037"/>
                  </a:lnTo>
                  <a:lnTo>
                    <a:pt x="2" y="1036"/>
                  </a:lnTo>
                  <a:lnTo>
                    <a:pt x="5" y="1036"/>
                  </a:lnTo>
                  <a:lnTo>
                    <a:pt x="7" y="1036"/>
                  </a:lnTo>
                  <a:lnTo>
                    <a:pt x="8" y="1037"/>
                  </a:lnTo>
                  <a:lnTo>
                    <a:pt x="10" y="1039"/>
                  </a:lnTo>
                  <a:lnTo>
                    <a:pt x="10" y="1040"/>
                  </a:lnTo>
                  <a:lnTo>
                    <a:pt x="10" y="1040"/>
                  </a:lnTo>
                  <a:close/>
                  <a:moveTo>
                    <a:pt x="10" y="1108"/>
                  </a:moveTo>
                  <a:lnTo>
                    <a:pt x="10" y="1135"/>
                  </a:lnTo>
                  <a:lnTo>
                    <a:pt x="10" y="1139"/>
                  </a:lnTo>
                  <a:lnTo>
                    <a:pt x="8" y="1140"/>
                  </a:lnTo>
                  <a:lnTo>
                    <a:pt x="7" y="1140"/>
                  </a:lnTo>
                  <a:lnTo>
                    <a:pt x="5" y="1142"/>
                  </a:lnTo>
                  <a:lnTo>
                    <a:pt x="2" y="1140"/>
                  </a:lnTo>
                  <a:lnTo>
                    <a:pt x="0" y="1140"/>
                  </a:lnTo>
                  <a:lnTo>
                    <a:pt x="0" y="1139"/>
                  </a:lnTo>
                  <a:lnTo>
                    <a:pt x="0" y="1135"/>
                  </a:lnTo>
                  <a:lnTo>
                    <a:pt x="0" y="1108"/>
                  </a:lnTo>
                  <a:lnTo>
                    <a:pt x="0" y="1105"/>
                  </a:lnTo>
                  <a:lnTo>
                    <a:pt x="0" y="1103"/>
                  </a:lnTo>
                  <a:lnTo>
                    <a:pt x="2" y="1103"/>
                  </a:lnTo>
                  <a:lnTo>
                    <a:pt x="5" y="1103"/>
                  </a:lnTo>
                  <a:lnTo>
                    <a:pt x="7" y="1103"/>
                  </a:lnTo>
                  <a:lnTo>
                    <a:pt x="8" y="1103"/>
                  </a:lnTo>
                  <a:lnTo>
                    <a:pt x="10" y="1105"/>
                  </a:lnTo>
                  <a:lnTo>
                    <a:pt x="10" y="1108"/>
                  </a:lnTo>
                  <a:lnTo>
                    <a:pt x="10" y="1108"/>
                  </a:lnTo>
                  <a:close/>
                  <a:moveTo>
                    <a:pt x="10" y="1174"/>
                  </a:moveTo>
                  <a:lnTo>
                    <a:pt x="10" y="1203"/>
                  </a:lnTo>
                  <a:lnTo>
                    <a:pt x="10" y="1205"/>
                  </a:lnTo>
                  <a:lnTo>
                    <a:pt x="8" y="1206"/>
                  </a:lnTo>
                  <a:lnTo>
                    <a:pt x="7" y="1208"/>
                  </a:lnTo>
                  <a:lnTo>
                    <a:pt x="5" y="1208"/>
                  </a:lnTo>
                  <a:lnTo>
                    <a:pt x="2" y="1208"/>
                  </a:lnTo>
                  <a:lnTo>
                    <a:pt x="0" y="1206"/>
                  </a:lnTo>
                  <a:lnTo>
                    <a:pt x="0" y="1205"/>
                  </a:lnTo>
                  <a:lnTo>
                    <a:pt x="0" y="1203"/>
                  </a:lnTo>
                  <a:lnTo>
                    <a:pt x="0" y="1174"/>
                  </a:lnTo>
                  <a:lnTo>
                    <a:pt x="0" y="1172"/>
                  </a:lnTo>
                  <a:lnTo>
                    <a:pt x="0" y="1171"/>
                  </a:lnTo>
                  <a:lnTo>
                    <a:pt x="2" y="1171"/>
                  </a:lnTo>
                  <a:lnTo>
                    <a:pt x="5" y="1169"/>
                  </a:lnTo>
                  <a:lnTo>
                    <a:pt x="7" y="1171"/>
                  </a:lnTo>
                  <a:lnTo>
                    <a:pt x="8" y="1171"/>
                  </a:lnTo>
                  <a:lnTo>
                    <a:pt x="10" y="1172"/>
                  </a:lnTo>
                  <a:lnTo>
                    <a:pt x="10" y="1174"/>
                  </a:lnTo>
                  <a:lnTo>
                    <a:pt x="10" y="1174"/>
                  </a:lnTo>
                  <a:close/>
                  <a:moveTo>
                    <a:pt x="10" y="1242"/>
                  </a:moveTo>
                  <a:lnTo>
                    <a:pt x="10" y="1271"/>
                  </a:lnTo>
                  <a:lnTo>
                    <a:pt x="10" y="1272"/>
                  </a:lnTo>
                  <a:lnTo>
                    <a:pt x="8" y="1274"/>
                  </a:lnTo>
                  <a:lnTo>
                    <a:pt x="7" y="1275"/>
                  </a:lnTo>
                  <a:lnTo>
                    <a:pt x="5" y="1275"/>
                  </a:lnTo>
                  <a:lnTo>
                    <a:pt x="2" y="1275"/>
                  </a:lnTo>
                  <a:lnTo>
                    <a:pt x="0" y="1274"/>
                  </a:lnTo>
                  <a:lnTo>
                    <a:pt x="0" y="1272"/>
                  </a:lnTo>
                  <a:lnTo>
                    <a:pt x="0" y="1271"/>
                  </a:lnTo>
                  <a:lnTo>
                    <a:pt x="0" y="1242"/>
                  </a:lnTo>
                  <a:lnTo>
                    <a:pt x="0" y="1240"/>
                  </a:lnTo>
                  <a:lnTo>
                    <a:pt x="0" y="1238"/>
                  </a:lnTo>
                  <a:lnTo>
                    <a:pt x="2" y="1237"/>
                  </a:lnTo>
                  <a:lnTo>
                    <a:pt x="5" y="1237"/>
                  </a:lnTo>
                  <a:lnTo>
                    <a:pt x="7" y="1237"/>
                  </a:lnTo>
                  <a:lnTo>
                    <a:pt x="8" y="1238"/>
                  </a:lnTo>
                  <a:lnTo>
                    <a:pt x="10" y="1240"/>
                  </a:lnTo>
                  <a:lnTo>
                    <a:pt x="10" y="1242"/>
                  </a:lnTo>
                  <a:lnTo>
                    <a:pt x="10" y="1242"/>
                  </a:lnTo>
                  <a:close/>
                  <a:moveTo>
                    <a:pt x="10" y="1309"/>
                  </a:moveTo>
                  <a:lnTo>
                    <a:pt x="10" y="1338"/>
                  </a:lnTo>
                  <a:lnTo>
                    <a:pt x="10" y="1340"/>
                  </a:lnTo>
                  <a:lnTo>
                    <a:pt x="8" y="1341"/>
                  </a:lnTo>
                  <a:lnTo>
                    <a:pt x="7" y="1343"/>
                  </a:lnTo>
                  <a:lnTo>
                    <a:pt x="5" y="1343"/>
                  </a:lnTo>
                  <a:lnTo>
                    <a:pt x="2" y="1343"/>
                  </a:lnTo>
                  <a:lnTo>
                    <a:pt x="0" y="1341"/>
                  </a:lnTo>
                  <a:lnTo>
                    <a:pt x="0" y="1340"/>
                  </a:lnTo>
                  <a:lnTo>
                    <a:pt x="0" y="1338"/>
                  </a:lnTo>
                  <a:lnTo>
                    <a:pt x="0" y="1309"/>
                  </a:lnTo>
                  <a:lnTo>
                    <a:pt x="0" y="1308"/>
                  </a:lnTo>
                  <a:lnTo>
                    <a:pt x="0" y="1306"/>
                  </a:lnTo>
                  <a:lnTo>
                    <a:pt x="2" y="1305"/>
                  </a:lnTo>
                  <a:lnTo>
                    <a:pt x="5" y="1305"/>
                  </a:lnTo>
                  <a:lnTo>
                    <a:pt x="7" y="1305"/>
                  </a:lnTo>
                  <a:lnTo>
                    <a:pt x="8" y="1306"/>
                  </a:lnTo>
                  <a:lnTo>
                    <a:pt x="10" y="1308"/>
                  </a:lnTo>
                  <a:lnTo>
                    <a:pt x="10" y="1309"/>
                  </a:lnTo>
                  <a:lnTo>
                    <a:pt x="10" y="1309"/>
                  </a:lnTo>
                  <a:close/>
                  <a:moveTo>
                    <a:pt x="10" y="1377"/>
                  </a:moveTo>
                  <a:lnTo>
                    <a:pt x="10" y="1404"/>
                  </a:lnTo>
                  <a:lnTo>
                    <a:pt x="10" y="1408"/>
                  </a:lnTo>
                  <a:lnTo>
                    <a:pt x="8" y="1409"/>
                  </a:lnTo>
                  <a:lnTo>
                    <a:pt x="7" y="1409"/>
                  </a:lnTo>
                  <a:lnTo>
                    <a:pt x="5" y="1411"/>
                  </a:lnTo>
                  <a:lnTo>
                    <a:pt x="2" y="1409"/>
                  </a:lnTo>
                  <a:lnTo>
                    <a:pt x="0" y="1409"/>
                  </a:lnTo>
                  <a:lnTo>
                    <a:pt x="0" y="1408"/>
                  </a:lnTo>
                  <a:lnTo>
                    <a:pt x="0" y="1404"/>
                  </a:lnTo>
                  <a:lnTo>
                    <a:pt x="0" y="1377"/>
                  </a:lnTo>
                  <a:lnTo>
                    <a:pt x="0" y="1374"/>
                  </a:lnTo>
                  <a:lnTo>
                    <a:pt x="0" y="1372"/>
                  </a:lnTo>
                  <a:lnTo>
                    <a:pt x="2" y="1372"/>
                  </a:lnTo>
                  <a:lnTo>
                    <a:pt x="5" y="1372"/>
                  </a:lnTo>
                  <a:lnTo>
                    <a:pt x="7" y="1372"/>
                  </a:lnTo>
                  <a:lnTo>
                    <a:pt x="8" y="1372"/>
                  </a:lnTo>
                  <a:lnTo>
                    <a:pt x="10" y="1374"/>
                  </a:lnTo>
                  <a:lnTo>
                    <a:pt x="10" y="1377"/>
                  </a:lnTo>
                  <a:lnTo>
                    <a:pt x="10" y="1377"/>
                  </a:lnTo>
                  <a:close/>
                  <a:moveTo>
                    <a:pt x="10" y="1443"/>
                  </a:moveTo>
                  <a:lnTo>
                    <a:pt x="10" y="1472"/>
                  </a:lnTo>
                  <a:lnTo>
                    <a:pt x="10" y="1474"/>
                  </a:lnTo>
                  <a:lnTo>
                    <a:pt x="8" y="1475"/>
                  </a:lnTo>
                  <a:lnTo>
                    <a:pt x="7" y="1477"/>
                  </a:lnTo>
                  <a:lnTo>
                    <a:pt x="5" y="1477"/>
                  </a:lnTo>
                  <a:lnTo>
                    <a:pt x="2" y="1477"/>
                  </a:lnTo>
                  <a:lnTo>
                    <a:pt x="0" y="1475"/>
                  </a:lnTo>
                  <a:lnTo>
                    <a:pt x="0" y="1474"/>
                  </a:lnTo>
                  <a:lnTo>
                    <a:pt x="0" y="1472"/>
                  </a:lnTo>
                  <a:lnTo>
                    <a:pt x="0" y="1443"/>
                  </a:lnTo>
                  <a:lnTo>
                    <a:pt x="0" y="1441"/>
                  </a:lnTo>
                  <a:lnTo>
                    <a:pt x="0" y="1440"/>
                  </a:lnTo>
                  <a:lnTo>
                    <a:pt x="2" y="1440"/>
                  </a:lnTo>
                  <a:lnTo>
                    <a:pt x="5" y="1438"/>
                  </a:lnTo>
                  <a:lnTo>
                    <a:pt x="7" y="1440"/>
                  </a:lnTo>
                  <a:lnTo>
                    <a:pt x="8" y="1440"/>
                  </a:lnTo>
                  <a:lnTo>
                    <a:pt x="10" y="1441"/>
                  </a:lnTo>
                  <a:lnTo>
                    <a:pt x="10" y="1443"/>
                  </a:lnTo>
                  <a:lnTo>
                    <a:pt x="10" y="1443"/>
                  </a:lnTo>
                  <a:close/>
                  <a:moveTo>
                    <a:pt x="10" y="1511"/>
                  </a:moveTo>
                  <a:lnTo>
                    <a:pt x="10" y="1540"/>
                  </a:lnTo>
                  <a:lnTo>
                    <a:pt x="10" y="1541"/>
                  </a:lnTo>
                  <a:lnTo>
                    <a:pt x="8" y="1543"/>
                  </a:lnTo>
                  <a:lnTo>
                    <a:pt x="7" y="1544"/>
                  </a:lnTo>
                  <a:lnTo>
                    <a:pt x="5" y="1544"/>
                  </a:lnTo>
                  <a:lnTo>
                    <a:pt x="2" y="1544"/>
                  </a:lnTo>
                  <a:lnTo>
                    <a:pt x="0" y="1543"/>
                  </a:lnTo>
                  <a:lnTo>
                    <a:pt x="0" y="1541"/>
                  </a:lnTo>
                  <a:lnTo>
                    <a:pt x="0" y="1540"/>
                  </a:lnTo>
                  <a:lnTo>
                    <a:pt x="0" y="1511"/>
                  </a:lnTo>
                  <a:lnTo>
                    <a:pt x="0" y="1509"/>
                  </a:lnTo>
                  <a:lnTo>
                    <a:pt x="0" y="1507"/>
                  </a:lnTo>
                  <a:lnTo>
                    <a:pt x="2" y="1506"/>
                  </a:lnTo>
                  <a:lnTo>
                    <a:pt x="5" y="1506"/>
                  </a:lnTo>
                  <a:lnTo>
                    <a:pt x="7" y="1506"/>
                  </a:lnTo>
                  <a:lnTo>
                    <a:pt x="8" y="1507"/>
                  </a:lnTo>
                  <a:lnTo>
                    <a:pt x="10" y="1509"/>
                  </a:lnTo>
                  <a:lnTo>
                    <a:pt x="10" y="1511"/>
                  </a:lnTo>
                  <a:lnTo>
                    <a:pt x="10" y="1511"/>
                  </a:lnTo>
                  <a:close/>
                  <a:moveTo>
                    <a:pt x="10" y="1578"/>
                  </a:moveTo>
                  <a:lnTo>
                    <a:pt x="10" y="1607"/>
                  </a:lnTo>
                  <a:lnTo>
                    <a:pt x="10" y="1609"/>
                  </a:lnTo>
                  <a:lnTo>
                    <a:pt x="8" y="1610"/>
                  </a:lnTo>
                  <a:lnTo>
                    <a:pt x="7" y="1612"/>
                  </a:lnTo>
                  <a:lnTo>
                    <a:pt x="5" y="1612"/>
                  </a:lnTo>
                  <a:lnTo>
                    <a:pt x="2" y="1612"/>
                  </a:lnTo>
                  <a:lnTo>
                    <a:pt x="0" y="1610"/>
                  </a:lnTo>
                  <a:lnTo>
                    <a:pt x="0" y="1609"/>
                  </a:lnTo>
                  <a:lnTo>
                    <a:pt x="0" y="1607"/>
                  </a:lnTo>
                  <a:lnTo>
                    <a:pt x="0" y="1578"/>
                  </a:lnTo>
                  <a:lnTo>
                    <a:pt x="0" y="1577"/>
                  </a:lnTo>
                  <a:lnTo>
                    <a:pt x="0" y="1575"/>
                  </a:lnTo>
                  <a:lnTo>
                    <a:pt x="2" y="1574"/>
                  </a:lnTo>
                  <a:lnTo>
                    <a:pt x="5" y="1574"/>
                  </a:lnTo>
                  <a:lnTo>
                    <a:pt x="7" y="1574"/>
                  </a:lnTo>
                  <a:lnTo>
                    <a:pt x="8" y="1575"/>
                  </a:lnTo>
                  <a:lnTo>
                    <a:pt x="10" y="1577"/>
                  </a:lnTo>
                  <a:lnTo>
                    <a:pt x="10" y="1578"/>
                  </a:lnTo>
                  <a:lnTo>
                    <a:pt x="10" y="1578"/>
                  </a:lnTo>
                  <a:close/>
                  <a:moveTo>
                    <a:pt x="10" y="1646"/>
                  </a:moveTo>
                  <a:lnTo>
                    <a:pt x="10" y="1673"/>
                  </a:lnTo>
                  <a:lnTo>
                    <a:pt x="10" y="1677"/>
                  </a:lnTo>
                  <a:lnTo>
                    <a:pt x="8" y="1678"/>
                  </a:lnTo>
                  <a:lnTo>
                    <a:pt x="7" y="1678"/>
                  </a:lnTo>
                  <a:lnTo>
                    <a:pt x="5" y="1680"/>
                  </a:lnTo>
                  <a:lnTo>
                    <a:pt x="2" y="1678"/>
                  </a:lnTo>
                  <a:lnTo>
                    <a:pt x="0" y="1678"/>
                  </a:lnTo>
                  <a:lnTo>
                    <a:pt x="0" y="1677"/>
                  </a:lnTo>
                  <a:lnTo>
                    <a:pt x="0" y="1673"/>
                  </a:lnTo>
                  <a:lnTo>
                    <a:pt x="0" y="1646"/>
                  </a:lnTo>
                  <a:lnTo>
                    <a:pt x="0" y="1643"/>
                  </a:lnTo>
                  <a:lnTo>
                    <a:pt x="0" y="1641"/>
                  </a:lnTo>
                  <a:lnTo>
                    <a:pt x="2" y="1641"/>
                  </a:lnTo>
                  <a:lnTo>
                    <a:pt x="5" y="1641"/>
                  </a:lnTo>
                  <a:lnTo>
                    <a:pt x="7" y="1641"/>
                  </a:lnTo>
                  <a:lnTo>
                    <a:pt x="8" y="1641"/>
                  </a:lnTo>
                  <a:lnTo>
                    <a:pt x="10" y="1643"/>
                  </a:lnTo>
                  <a:lnTo>
                    <a:pt x="10" y="1646"/>
                  </a:lnTo>
                  <a:lnTo>
                    <a:pt x="10" y="1646"/>
                  </a:lnTo>
                  <a:close/>
                  <a:moveTo>
                    <a:pt x="10" y="1712"/>
                  </a:moveTo>
                  <a:lnTo>
                    <a:pt x="10" y="1741"/>
                  </a:lnTo>
                  <a:lnTo>
                    <a:pt x="10" y="1743"/>
                  </a:lnTo>
                  <a:lnTo>
                    <a:pt x="8" y="1744"/>
                  </a:lnTo>
                  <a:lnTo>
                    <a:pt x="7" y="1746"/>
                  </a:lnTo>
                  <a:lnTo>
                    <a:pt x="5" y="1746"/>
                  </a:lnTo>
                  <a:lnTo>
                    <a:pt x="2" y="1746"/>
                  </a:lnTo>
                  <a:lnTo>
                    <a:pt x="0" y="1744"/>
                  </a:lnTo>
                  <a:lnTo>
                    <a:pt x="0" y="1743"/>
                  </a:lnTo>
                  <a:lnTo>
                    <a:pt x="0" y="1741"/>
                  </a:lnTo>
                  <a:lnTo>
                    <a:pt x="0" y="1712"/>
                  </a:lnTo>
                  <a:lnTo>
                    <a:pt x="0" y="1710"/>
                  </a:lnTo>
                  <a:lnTo>
                    <a:pt x="0" y="1709"/>
                  </a:lnTo>
                  <a:lnTo>
                    <a:pt x="2" y="1709"/>
                  </a:lnTo>
                  <a:lnTo>
                    <a:pt x="5" y="1707"/>
                  </a:lnTo>
                  <a:lnTo>
                    <a:pt x="7" y="1709"/>
                  </a:lnTo>
                  <a:lnTo>
                    <a:pt x="8" y="1709"/>
                  </a:lnTo>
                  <a:lnTo>
                    <a:pt x="10" y="1710"/>
                  </a:lnTo>
                  <a:lnTo>
                    <a:pt x="10" y="1712"/>
                  </a:lnTo>
                  <a:lnTo>
                    <a:pt x="10" y="1712"/>
                  </a:lnTo>
                  <a:close/>
                  <a:moveTo>
                    <a:pt x="10" y="1780"/>
                  </a:moveTo>
                  <a:lnTo>
                    <a:pt x="10" y="1809"/>
                  </a:lnTo>
                  <a:lnTo>
                    <a:pt x="10" y="1810"/>
                  </a:lnTo>
                  <a:lnTo>
                    <a:pt x="8" y="1812"/>
                  </a:lnTo>
                  <a:lnTo>
                    <a:pt x="7" y="1813"/>
                  </a:lnTo>
                  <a:lnTo>
                    <a:pt x="5" y="1813"/>
                  </a:lnTo>
                  <a:lnTo>
                    <a:pt x="2" y="1813"/>
                  </a:lnTo>
                  <a:lnTo>
                    <a:pt x="0" y="1812"/>
                  </a:lnTo>
                  <a:lnTo>
                    <a:pt x="0" y="1810"/>
                  </a:lnTo>
                  <a:lnTo>
                    <a:pt x="0" y="1809"/>
                  </a:lnTo>
                  <a:lnTo>
                    <a:pt x="0" y="1780"/>
                  </a:lnTo>
                  <a:lnTo>
                    <a:pt x="0" y="1778"/>
                  </a:lnTo>
                  <a:lnTo>
                    <a:pt x="0" y="1776"/>
                  </a:lnTo>
                  <a:lnTo>
                    <a:pt x="2" y="1775"/>
                  </a:lnTo>
                  <a:lnTo>
                    <a:pt x="5" y="1775"/>
                  </a:lnTo>
                  <a:lnTo>
                    <a:pt x="7" y="1775"/>
                  </a:lnTo>
                  <a:lnTo>
                    <a:pt x="8" y="1776"/>
                  </a:lnTo>
                  <a:lnTo>
                    <a:pt x="10" y="1778"/>
                  </a:lnTo>
                  <a:lnTo>
                    <a:pt x="10" y="1780"/>
                  </a:lnTo>
                  <a:lnTo>
                    <a:pt x="10" y="1780"/>
                  </a:lnTo>
                  <a:close/>
                  <a:moveTo>
                    <a:pt x="10" y="1847"/>
                  </a:moveTo>
                  <a:lnTo>
                    <a:pt x="10" y="1876"/>
                  </a:lnTo>
                  <a:lnTo>
                    <a:pt x="10" y="1878"/>
                  </a:lnTo>
                  <a:lnTo>
                    <a:pt x="8" y="1879"/>
                  </a:lnTo>
                  <a:lnTo>
                    <a:pt x="7" y="1881"/>
                  </a:lnTo>
                  <a:lnTo>
                    <a:pt x="5" y="1881"/>
                  </a:lnTo>
                  <a:lnTo>
                    <a:pt x="2" y="1881"/>
                  </a:lnTo>
                  <a:lnTo>
                    <a:pt x="0" y="1879"/>
                  </a:lnTo>
                  <a:lnTo>
                    <a:pt x="0" y="1878"/>
                  </a:lnTo>
                  <a:lnTo>
                    <a:pt x="0" y="1876"/>
                  </a:lnTo>
                  <a:lnTo>
                    <a:pt x="0" y="1847"/>
                  </a:lnTo>
                  <a:lnTo>
                    <a:pt x="0" y="1846"/>
                  </a:lnTo>
                  <a:lnTo>
                    <a:pt x="0" y="1844"/>
                  </a:lnTo>
                  <a:lnTo>
                    <a:pt x="2" y="1843"/>
                  </a:lnTo>
                  <a:lnTo>
                    <a:pt x="5" y="1843"/>
                  </a:lnTo>
                  <a:lnTo>
                    <a:pt x="7" y="1843"/>
                  </a:lnTo>
                  <a:lnTo>
                    <a:pt x="8" y="1844"/>
                  </a:lnTo>
                  <a:lnTo>
                    <a:pt x="10" y="1846"/>
                  </a:lnTo>
                  <a:lnTo>
                    <a:pt x="10" y="1847"/>
                  </a:lnTo>
                  <a:lnTo>
                    <a:pt x="10" y="1847"/>
                  </a:lnTo>
                  <a:close/>
                  <a:moveTo>
                    <a:pt x="10" y="1915"/>
                  </a:moveTo>
                  <a:lnTo>
                    <a:pt x="10" y="1942"/>
                  </a:lnTo>
                  <a:lnTo>
                    <a:pt x="10" y="1946"/>
                  </a:lnTo>
                  <a:lnTo>
                    <a:pt x="8" y="1947"/>
                  </a:lnTo>
                  <a:lnTo>
                    <a:pt x="7" y="1947"/>
                  </a:lnTo>
                  <a:lnTo>
                    <a:pt x="5" y="1949"/>
                  </a:lnTo>
                  <a:lnTo>
                    <a:pt x="2" y="1947"/>
                  </a:lnTo>
                  <a:lnTo>
                    <a:pt x="0" y="1947"/>
                  </a:lnTo>
                  <a:lnTo>
                    <a:pt x="0" y="1946"/>
                  </a:lnTo>
                  <a:lnTo>
                    <a:pt x="0" y="1942"/>
                  </a:lnTo>
                  <a:lnTo>
                    <a:pt x="0" y="1915"/>
                  </a:lnTo>
                  <a:lnTo>
                    <a:pt x="0" y="1912"/>
                  </a:lnTo>
                  <a:lnTo>
                    <a:pt x="0" y="1910"/>
                  </a:lnTo>
                  <a:lnTo>
                    <a:pt x="2" y="1910"/>
                  </a:lnTo>
                  <a:lnTo>
                    <a:pt x="5" y="1910"/>
                  </a:lnTo>
                  <a:lnTo>
                    <a:pt x="7" y="1910"/>
                  </a:lnTo>
                  <a:lnTo>
                    <a:pt x="8" y="1910"/>
                  </a:lnTo>
                  <a:lnTo>
                    <a:pt x="10" y="1912"/>
                  </a:lnTo>
                  <a:lnTo>
                    <a:pt x="10" y="1915"/>
                  </a:lnTo>
                  <a:lnTo>
                    <a:pt x="10" y="1915"/>
                  </a:lnTo>
                  <a:close/>
                  <a:moveTo>
                    <a:pt x="10" y="1981"/>
                  </a:moveTo>
                  <a:lnTo>
                    <a:pt x="10" y="2010"/>
                  </a:lnTo>
                  <a:lnTo>
                    <a:pt x="10" y="2012"/>
                  </a:lnTo>
                  <a:lnTo>
                    <a:pt x="8" y="2013"/>
                  </a:lnTo>
                  <a:lnTo>
                    <a:pt x="7" y="2015"/>
                  </a:lnTo>
                  <a:lnTo>
                    <a:pt x="5" y="2015"/>
                  </a:lnTo>
                  <a:lnTo>
                    <a:pt x="2" y="2015"/>
                  </a:lnTo>
                  <a:lnTo>
                    <a:pt x="0" y="2013"/>
                  </a:lnTo>
                  <a:lnTo>
                    <a:pt x="0" y="2012"/>
                  </a:lnTo>
                  <a:lnTo>
                    <a:pt x="0" y="2010"/>
                  </a:lnTo>
                  <a:lnTo>
                    <a:pt x="0" y="1981"/>
                  </a:lnTo>
                  <a:lnTo>
                    <a:pt x="0" y="1979"/>
                  </a:lnTo>
                  <a:lnTo>
                    <a:pt x="0" y="1978"/>
                  </a:lnTo>
                  <a:lnTo>
                    <a:pt x="2" y="1978"/>
                  </a:lnTo>
                  <a:lnTo>
                    <a:pt x="5" y="1976"/>
                  </a:lnTo>
                  <a:lnTo>
                    <a:pt x="7" y="1978"/>
                  </a:lnTo>
                  <a:lnTo>
                    <a:pt x="8" y="1978"/>
                  </a:lnTo>
                  <a:lnTo>
                    <a:pt x="10" y="1979"/>
                  </a:lnTo>
                  <a:lnTo>
                    <a:pt x="10" y="1981"/>
                  </a:lnTo>
                  <a:lnTo>
                    <a:pt x="10" y="1981"/>
                  </a:lnTo>
                  <a:close/>
                  <a:moveTo>
                    <a:pt x="10" y="2048"/>
                  </a:moveTo>
                  <a:lnTo>
                    <a:pt x="10" y="2078"/>
                  </a:lnTo>
                  <a:lnTo>
                    <a:pt x="10" y="2079"/>
                  </a:lnTo>
                  <a:lnTo>
                    <a:pt x="8" y="2081"/>
                  </a:lnTo>
                  <a:lnTo>
                    <a:pt x="7" y="2082"/>
                  </a:lnTo>
                  <a:lnTo>
                    <a:pt x="5" y="2082"/>
                  </a:lnTo>
                  <a:lnTo>
                    <a:pt x="2" y="2082"/>
                  </a:lnTo>
                  <a:lnTo>
                    <a:pt x="0" y="2081"/>
                  </a:lnTo>
                  <a:lnTo>
                    <a:pt x="0" y="2079"/>
                  </a:lnTo>
                  <a:lnTo>
                    <a:pt x="0" y="2078"/>
                  </a:lnTo>
                  <a:lnTo>
                    <a:pt x="0" y="2048"/>
                  </a:lnTo>
                  <a:lnTo>
                    <a:pt x="0" y="2047"/>
                  </a:lnTo>
                  <a:lnTo>
                    <a:pt x="0" y="2045"/>
                  </a:lnTo>
                  <a:lnTo>
                    <a:pt x="2" y="2044"/>
                  </a:lnTo>
                  <a:lnTo>
                    <a:pt x="5" y="2044"/>
                  </a:lnTo>
                  <a:lnTo>
                    <a:pt x="7" y="2044"/>
                  </a:lnTo>
                  <a:lnTo>
                    <a:pt x="8" y="2045"/>
                  </a:lnTo>
                  <a:lnTo>
                    <a:pt x="10" y="2047"/>
                  </a:lnTo>
                  <a:lnTo>
                    <a:pt x="10" y="2048"/>
                  </a:lnTo>
                  <a:lnTo>
                    <a:pt x="10" y="2048"/>
                  </a:lnTo>
                  <a:close/>
                  <a:moveTo>
                    <a:pt x="10" y="2116"/>
                  </a:moveTo>
                  <a:lnTo>
                    <a:pt x="10" y="2145"/>
                  </a:lnTo>
                  <a:lnTo>
                    <a:pt x="10" y="2147"/>
                  </a:lnTo>
                  <a:lnTo>
                    <a:pt x="8" y="2148"/>
                  </a:lnTo>
                  <a:lnTo>
                    <a:pt x="7" y="2150"/>
                  </a:lnTo>
                  <a:lnTo>
                    <a:pt x="5" y="2150"/>
                  </a:lnTo>
                  <a:lnTo>
                    <a:pt x="2" y="2150"/>
                  </a:lnTo>
                  <a:lnTo>
                    <a:pt x="0" y="2148"/>
                  </a:lnTo>
                  <a:lnTo>
                    <a:pt x="0" y="2147"/>
                  </a:lnTo>
                  <a:lnTo>
                    <a:pt x="0" y="2145"/>
                  </a:lnTo>
                  <a:lnTo>
                    <a:pt x="0" y="2116"/>
                  </a:lnTo>
                  <a:lnTo>
                    <a:pt x="0" y="2115"/>
                  </a:lnTo>
                  <a:lnTo>
                    <a:pt x="0" y="2113"/>
                  </a:lnTo>
                  <a:lnTo>
                    <a:pt x="2" y="2112"/>
                  </a:lnTo>
                  <a:lnTo>
                    <a:pt x="5" y="2112"/>
                  </a:lnTo>
                  <a:lnTo>
                    <a:pt x="7" y="2112"/>
                  </a:lnTo>
                  <a:lnTo>
                    <a:pt x="8" y="2113"/>
                  </a:lnTo>
                  <a:lnTo>
                    <a:pt x="10" y="2115"/>
                  </a:lnTo>
                  <a:lnTo>
                    <a:pt x="10" y="2116"/>
                  </a:lnTo>
                  <a:lnTo>
                    <a:pt x="10" y="2116"/>
                  </a:lnTo>
                  <a:close/>
                  <a:moveTo>
                    <a:pt x="10" y="2184"/>
                  </a:moveTo>
                  <a:lnTo>
                    <a:pt x="10" y="2211"/>
                  </a:lnTo>
                  <a:lnTo>
                    <a:pt x="10" y="2214"/>
                  </a:lnTo>
                  <a:lnTo>
                    <a:pt x="8" y="2216"/>
                  </a:lnTo>
                  <a:lnTo>
                    <a:pt x="7" y="2216"/>
                  </a:lnTo>
                  <a:lnTo>
                    <a:pt x="5" y="2218"/>
                  </a:lnTo>
                  <a:lnTo>
                    <a:pt x="2" y="2216"/>
                  </a:lnTo>
                  <a:lnTo>
                    <a:pt x="0" y="2216"/>
                  </a:lnTo>
                  <a:lnTo>
                    <a:pt x="0" y="2214"/>
                  </a:lnTo>
                  <a:lnTo>
                    <a:pt x="0" y="2211"/>
                  </a:lnTo>
                  <a:lnTo>
                    <a:pt x="0" y="2184"/>
                  </a:lnTo>
                  <a:lnTo>
                    <a:pt x="0" y="2181"/>
                  </a:lnTo>
                  <a:lnTo>
                    <a:pt x="0" y="2179"/>
                  </a:lnTo>
                  <a:lnTo>
                    <a:pt x="2" y="2179"/>
                  </a:lnTo>
                  <a:lnTo>
                    <a:pt x="5" y="2179"/>
                  </a:lnTo>
                  <a:lnTo>
                    <a:pt x="7" y="2179"/>
                  </a:lnTo>
                  <a:lnTo>
                    <a:pt x="8" y="2179"/>
                  </a:lnTo>
                  <a:lnTo>
                    <a:pt x="10" y="2181"/>
                  </a:lnTo>
                  <a:lnTo>
                    <a:pt x="10" y="2184"/>
                  </a:lnTo>
                  <a:lnTo>
                    <a:pt x="10" y="2184"/>
                  </a:lnTo>
                  <a:close/>
                  <a:moveTo>
                    <a:pt x="10" y="2250"/>
                  </a:moveTo>
                  <a:lnTo>
                    <a:pt x="10" y="2279"/>
                  </a:lnTo>
                  <a:lnTo>
                    <a:pt x="10" y="2281"/>
                  </a:lnTo>
                  <a:lnTo>
                    <a:pt x="8" y="2282"/>
                  </a:lnTo>
                  <a:lnTo>
                    <a:pt x="7" y="2284"/>
                  </a:lnTo>
                  <a:lnTo>
                    <a:pt x="5" y="2284"/>
                  </a:lnTo>
                  <a:lnTo>
                    <a:pt x="2" y="2284"/>
                  </a:lnTo>
                  <a:lnTo>
                    <a:pt x="0" y="2282"/>
                  </a:lnTo>
                  <a:lnTo>
                    <a:pt x="0" y="2281"/>
                  </a:lnTo>
                  <a:lnTo>
                    <a:pt x="0" y="2279"/>
                  </a:lnTo>
                  <a:lnTo>
                    <a:pt x="0" y="2250"/>
                  </a:lnTo>
                  <a:lnTo>
                    <a:pt x="0" y="2248"/>
                  </a:lnTo>
                  <a:lnTo>
                    <a:pt x="0" y="2247"/>
                  </a:lnTo>
                  <a:lnTo>
                    <a:pt x="2" y="2247"/>
                  </a:lnTo>
                  <a:lnTo>
                    <a:pt x="5" y="2245"/>
                  </a:lnTo>
                  <a:lnTo>
                    <a:pt x="7" y="2247"/>
                  </a:lnTo>
                  <a:lnTo>
                    <a:pt x="8" y="2247"/>
                  </a:lnTo>
                  <a:lnTo>
                    <a:pt x="10" y="2248"/>
                  </a:lnTo>
                  <a:lnTo>
                    <a:pt x="10" y="2250"/>
                  </a:lnTo>
                  <a:lnTo>
                    <a:pt x="10" y="2250"/>
                  </a:lnTo>
                  <a:close/>
                  <a:moveTo>
                    <a:pt x="10" y="2317"/>
                  </a:moveTo>
                  <a:lnTo>
                    <a:pt x="10" y="2347"/>
                  </a:lnTo>
                  <a:lnTo>
                    <a:pt x="10" y="2348"/>
                  </a:lnTo>
                  <a:lnTo>
                    <a:pt x="8" y="2350"/>
                  </a:lnTo>
                  <a:lnTo>
                    <a:pt x="7" y="2351"/>
                  </a:lnTo>
                  <a:lnTo>
                    <a:pt x="5" y="2351"/>
                  </a:lnTo>
                  <a:lnTo>
                    <a:pt x="2" y="2351"/>
                  </a:lnTo>
                  <a:lnTo>
                    <a:pt x="0" y="2350"/>
                  </a:lnTo>
                  <a:lnTo>
                    <a:pt x="0" y="2348"/>
                  </a:lnTo>
                  <a:lnTo>
                    <a:pt x="0" y="2347"/>
                  </a:lnTo>
                  <a:lnTo>
                    <a:pt x="0" y="2317"/>
                  </a:lnTo>
                  <a:lnTo>
                    <a:pt x="0" y="2316"/>
                  </a:lnTo>
                  <a:lnTo>
                    <a:pt x="0" y="2314"/>
                  </a:lnTo>
                  <a:lnTo>
                    <a:pt x="2" y="2313"/>
                  </a:lnTo>
                  <a:lnTo>
                    <a:pt x="5" y="2313"/>
                  </a:lnTo>
                  <a:lnTo>
                    <a:pt x="7" y="2313"/>
                  </a:lnTo>
                  <a:lnTo>
                    <a:pt x="8" y="2314"/>
                  </a:lnTo>
                  <a:lnTo>
                    <a:pt x="10" y="2316"/>
                  </a:lnTo>
                  <a:lnTo>
                    <a:pt x="10" y="2317"/>
                  </a:lnTo>
                  <a:lnTo>
                    <a:pt x="10" y="2317"/>
                  </a:lnTo>
                  <a:close/>
                  <a:moveTo>
                    <a:pt x="11" y="2385"/>
                  </a:moveTo>
                  <a:lnTo>
                    <a:pt x="11" y="2399"/>
                  </a:lnTo>
                  <a:lnTo>
                    <a:pt x="14" y="2413"/>
                  </a:lnTo>
                  <a:lnTo>
                    <a:pt x="13" y="2414"/>
                  </a:lnTo>
                  <a:lnTo>
                    <a:pt x="13" y="2416"/>
                  </a:lnTo>
                  <a:lnTo>
                    <a:pt x="11" y="2417"/>
                  </a:lnTo>
                  <a:lnTo>
                    <a:pt x="10" y="2419"/>
                  </a:lnTo>
                  <a:lnTo>
                    <a:pt x="8" y="2417"/>
                  </a:lnTo>
                  <a:lnTo>
                    <a:pt x="5" y="2417"/>
                  </a:lnTo>
                  <a:lnTo>
                    <a:pt x="5" y="2416"/>
                  </a:lnTo>
                  <a:lnTo>
                    <a:pt x="3" y="2414"/>
                  </a:lnTo>
                  <a:lnTo>
                    <a:pt x="2" y="2399"/>
                  </a:lnTo>
                  <a:lnTo>
                    <a:pt x="0" y="2385"/>
                  </a:lnTo>
                  <a:lnTo>
                    <a:pt x="0" y="2384"/>
                  </a:lnTo>
                  <a:lnTo>
                    <a:pt x="2" y="2382"/>
                  </a:lnTo>
                  <a:lnTo>
                    <a:pt x="3" y="2380"/>
                  </a:lnTo>
                  <a:lnTo>
                    <a:pt x="5" y="2380"/>
                  </a:lnTo>
                  <a:lnTo>
                    <a:pt x="8" y="2380"/>
                  </a:lnTo>
                  <a:lnTo>
                    <a:pt x="10" y="2380"/>
                  </a:lnTo>
                  <a:lnTo>
                    <a:pt x="10" y="2382"/>
                  </a:lnTo>
                  <a:lnTo>
                    <a:pt x="11" y="2385"/>
                  </a:lnTo>
                  <a:lnTo>
                    <a:pt x="11" y="2385"/>
                  </a:lnTo>
                  <a:close/>
                  <a:moveTo>
                    <a:pt x="20" y="2451"/>
                  </a:moveTo>
                  <a:lnTo>
                    <a:pt x="23" y="2468"/>
                  </a:lnTo>
                  <a:lnTo>
                    <a:pt x="27" y="2479"/>
                  </a:lnTo>
                  <a:lnTo>
                    <a:pt x="27" y="2480"/>
                  </a:lnTo>
                  <a:lnTo>
                    <a:pt x="27" y="2482"/>
                  </a:lnTo>
                  <a:lnTo>
                    <a:pt x="25" y="2483"/>
                  </a:lnTo>
                  <a:lnTo>
                    <a:pt x="23" y="2483"/>
                  </a:lnTo>
                  <a:lnTo>
                    <a:pt x="22" y="2483"/>
                  </a:lnTo>
                  <a:lnTo>
                    <a:pt x="20" y="2483"/>
                  </a:lnTo>
                  <a:lnTo>
                    <a:pt x="19" y="2482"/>
                  </a:lnTo>
                  <a:lnTo>
                    <a:pt x="17" y="2480"/>
                  </a:lnTo>
                  <a:lnTo>
                    <a:pt x="14" y="2470"/>
                  </a:lnTo>
                  <a:lnTo>
                    <a:pt x="11" y="2453"/>
                  </a:lnTo>
                  <a:lnTo>
                    <a:pt x="11" y="2451"/>
                  </a:lnTo>
                  <a:lnTo>
                    <a:pt x="11" y="2450"/>
                  </a:lnTo>
                  <a:lnTo>
                    <a:pt x="13" y="2448"/>
                  </a:lnTo>
                  <a:lnTo>
                    <a:pt x="14" y="2447"/>
                  </a:lnTo>
                  <a:lnTo>
                    <a:pt x="16" y="2447"/>
                  </a:lnTo>
                  <a:lnTo>
                    <a:pt x="17" y="2448"/>
                  </a:lnTo>
                  <a:lnTo>
                    <a:pt x="19" y="2448"/>
                  </a:lnTo>
                  <a:lnTo>
                    <a:pt x="20" y="2451"/>
                  </a:lnTo>
                  <a:lnTo>
                    <a:pt x="20" y="2451"/>
                  </a:lnTo>
                  <a:close/>
                  <a:moveTo>
                    <a:pt x="39" y="2514"/>
                  </a:moveTo>
                  <a:lnTo>
                    <a:pt x="47" y="2533"/>
                  </a:lnTo>
                  <a:lnTo>
                    <a:pt x="50" y="2540"/>
                  </a:lnTo>
                  <a:lnTo>
                    <a:pt x="50" y="2542"/>
                  </a:lnTo>
                  <a:lnTo>
                    <a:pt x="50" y="2545"/>
                  </a:lnTo>
                  <a:lnTo>
                    <a:pt x="48" y="2546"/>
                  </a:lnTo>
                  <a:lnTo>
                    <a:pt x="48" y="2546"/>
                  </a:lnTo>
                  <a:lnTo>
                    <a:pt x="45" y="2548"/>
                  </a:lnTo>
                  <a:lnTo>
                    <a:pt x="43" y="2546"/>
                  </a:lnTo>
                  <a:lnTo>
                    <a:pt x="42" y="2546"/>
                  </a:lnTo>
                  <a:lnTo>
                    <a:pt x="40" y="2545"/>
                  </a:lnTo>
                  <a:lnTo>
                    <a:pt x="37" y="2536"/>
                  </a:lnTo>
                  <a:lnTo>
                    <a:pt x="30" y="2517"/>
                  </a:lnTo>
                  <a:lnTo>
                    <a:pt x="30" y="2516"/>
                  </a:lnTo>
                  <a:lnTo>
                    <a:pt x="30" y="2514"/>
                  </a:lnTo>
                  <a:lnTo>
                    <a:pt x="31" y="2513"/>
                  </a:lnTo>
                  <a:lnTo>
                    <a:pt x="33" y="2511"/>
                  </a:lnTo>
                  <a:lnTo>
                    <a:pt x="34" y="2511"/>
                  </a:lnTo>
                  <a:lnTo>
                    <a:pt x="36" y="2511"/>
                  </a:lnTo>
                  <a:lnTo>
                    <a:pt x="37" y="2513"/>
                  </a:lnTo>
                  <a:lnTo>
                    <a:pt x="39" y="2514"/>
                  </a:lnTo>
                  <a:lnTo>
                    <a:pt x="39" y="2514"/>
                  </a:lnTo>
                  <a:close/>
                  <a:moveTo>
                    <a:pt x="67" y="2574"/>
                  </a:moveTo>
                  <a:lnTo>
                    <a:pt x="77" y="2593"/>
                  </a:lnTo>
                  <a:lnTo>
                    <a:pt x="82" y="2599"/>
                  </a:lnTo>
                  <a:lnTo>
                    <a:pt x="82" y="2600"/>
                  </a:lnTo>
                  <a:lnTo>
                    <a:pt x="82" y="2603"/>
                  </a:lnTo>
                  <a:lnTo>
                    <a:pt x="80" y="2605"/>
                  </a:lnTo>
                  <a:lnTo>
                    <a:pt x="80" y="2606"/>
                  </a:lnTo>
                  <a:lnTo>
                    <a:pt x="77" y="2606"/>
                  </a:lnTo>
                  <a:lnTo>
                    <a:pt x="76" y="2606"/>
                  </a:lnTo>
                  <a:lnTo>
                    <a:pt x="74" y="2605"/>
                  </a:lnTo>
                  <a:lnTo>
                    <a:pt x="73" y="2605"/>
                  </a:lnTo>
                  <a:lnTo>
                    <a:pt x="68" y="2597"/>
                  </a:lnTo>
                  <a:lnTo>
                    <a:pt x="59" y="2579"/>
                  </a:lnTo>
                  <a:lnTo>
                    <a:pt x="57" y="2577"/>
                  </a:lnTo>
                  <a:lnTo>
                    <a:pt x="57" y="2576"/>
                  </a:lnTo>
                  <a:lnTo>
                    <a:pt x="59" y="2574"/>
                  </a:lnTo>
                  <a:lnTo>
                    <a:pt x="60" y="2573"/>
                  </a:lnTo>
                  <a:lnTo>
                    <a:pt x="62" y="2573"/>
                  </a:lnTo>
                  <a:lnTo>
                    <a:pt x="63" y="2573"/>
                  </a:lnTo>
                  <a:lnTo>
                    <a:pt x="65" y="2573"/>
                  </a:lnTo>
                  <a:lnTo>
                    <a:pt x="67" y="2574"/>
                  </a:lnTo>
                  <a:lnTo>
                    <a:pt x="67" y="2574"/>
                  </a:lnTo>
                  <a:close/>
                  <a:moveTo>
                    <a:pt x="103" y="2631"/>
                  </a:moveTo>
                  <a:lnTo>
                    <a:pt x="116" y="2646"/>
                  </a:lnTo>
                  <a:lnTo>
                    <a:pt x="120" y="2653"/>
                  </a:lnTo>
                  <a:lnTo>
                    <a:pt x="122" y="2654"/>
                  </a:lnTo>
                  <a:lnTo>
                    <a:pt x="122" y="2656"/>
                  </a:lnTo>
                  <a:lnTo>
                    <a:pt x="122" y="2657"/>
                  </a:lnTo>
                  <a:lnTo>
                    <a:pt x="120" y="2660"/>
                  </a:lnTo>
                  <a:lnTo>
                    <a:pt x="119" y="2660"/>
                  </a:lnTo>
                  <a:lnTo>
                    <a:pt x="117" y="2660"/>
                  </a:lnTo>
                  <a:lnTo>
                    <a:pt x="114" y="2660"/>
                  </a:lnTo>
                  <a:lnTo>
                    <a:pt x="113" y="2659"/>
                  </a:lnTo>
                  <a:lnTo>
                    <a:pt x="108" y="2653"/>
                  </a:lnTo>
                  <a:lnTo>
                    <a:pt x="96" y="2637"/>
                  </a:lnTo>
                  <a:lnTo>
                    <a:pt x="94" y="2634"/>
                  </a:lnTo>
                  <a:lnTo>
                    <a:pt x="94" y="2633"/>
                  </a:lnTo>
                  <a:lnTo>
                    <a:pt x="94" y="2631"/>
                  </a:lnTo>
                  <a:lnTo>
                    <a:pt x="96" y="2629"/>
                  </a:lnTo>
                  <a:lnTo>
                    <a:pt x="97" y="2629"/>
                  </a:lnTo>
                  <a:lnTo>
                    <a:pt x="99" y="2628"/>
                  </a:lnTo>
                  <a:lnTo>
                    <a:pt x="100" y="2629"/>
                  </a:lnTo>
                  <a:lnTo>
                    <a:pt x="103" y="2631"/>
                  </a:lnTo>
                  <a:lnTo>
                    <a:pt x="103" y="2631"/>
                  </a:lnTo>
                  <a:close/>
                  <a:moveTo>
                    <a:pt x="147" y="2680"/>
                  </a:moveTo>
                  <a:lnTo>
                    <a:pt x="162" y="2696"/>
                  </a:lnTo>
                  <a:lnTo>
                    <a:pt x="168" y="2700"/>
                  </a:lnTo>
                  <a:lnTo>
                    <a:pt x="168" y="2702"/>
                  </a:lnTo>
                  <a:lnTo>
                    <a:pt x="168" y="2703"/>
                  </a:lnTo>
                  <a:lnTo>
                    <a:pt x="168" y="2705"/>
                  </a:lnTo>
                  <a:lnTo>
                    <a:pt x="168" y="2706"/>
                  </a:lnTo>
                  <a:lnTo>
                    <a:pt x="167" y="2708"/>
                  </a:lnTo>
                  <a:lnTo>
                    <a:pt x="165" y="2708"/>
                  </a:lnTo>
                  <a:lnTo>
                    <a:pt x="162" y="2708"/>
                  </a:lnTo>
                  <a:lnTo>
                    <a:pt x="160" y="2708"/>
                  </a:lnTo>
                  <a:lnTo>
                    <a:pt x="156" y="2702"/>
                  </a:lnTo>
                  <a:lnTo>
                    <a:pt x="140" y="2688"/>
                  </a:lnTo>
                  <a:lnTo>
                    <a:pt x="139" y="2686"/>
                  </a:lnTo>
                  <a:lnTo>
                    <a:pt x="139" y="2685"/>
                  </a:lnTo>
                  <a:lnTo>
                    <a:pt x="139" y="2682"/>
                  </a:lnTo>
                  <a:lnTo>
                    <a:pt x="140" y="2680"/>
                  </a:lnTo>
                  <a:lnTo>
                    <a:pt x="140" y="2680"/>
                  </a:lnTo>
                  <a:lnTo>
                    <a:pt x="143" y="2679"/>
                  </a:lnTo>
                  <a:lnTo>
                    <a:pt x="145" y="2680"/>
                  </a:lnTo>
                  <a:lnTo>
                    <a:pt x="147" y="2680"/>
                  </a:lnTo>
                  <a:lnTo>
                    <a:pt x="147" y="2680"/>
                  </a:lnTo>
                  <a:close/>
                  <a:moveTo>
                    <a:pt x="197" y="2725"/>
                  </a:moveTo>
                  <a:lnTo>
                    <a:pt x="214" y="2737"/>
                  </a:lnTo>
                  <a:lnTo>
                    <a:pt x="220" y="2740"/>
                  </a:lnTo>
                  <a:lnTo>
                    <a:pt x="222" y="2742"/>
                  </a:lnTo>
                  <a:lnTo>
                    <a:pt x="222" y="2743"/>
                  </a:lnTo>
                  <a:lnTo>
                    <a:pt x="222" y="2745"/>
                  </a:lnTo>
                  <a:lnTo>
                    <a:pt x="222" y="2746"/>
                  </a:lnTo>
                  <a:lnTo>
                    <a:pt x="220" y="2748"/>
                  </a:lnTo>
                  <a:lnTo>
                    <a:pt x="219" y="2749"/>
                  </a:lnTo>
                  <a:lnTo>
                    <a:pt x="217" y="2749"/>
                  </a:lnTo>
                  <a:lnTo>
                    <a:pt x="216" y="2748"/>
                  </a:lnTo>
                  <a:lnTo>
                    <a:pt x="208" y="2745"/>
                  </a:lnTo>
                  <a:lnTo>
                    <a:pt x="191" y="2732"/>
                  </a:lnTo>
                  <a:lnTo>
                    <a:pt x="190" y="2731"/>
                  </a:lnTo>
                  <a:lnTo>
                    <a:pt x="190" y="2728"/>
                  </a:lnTo>
                  <a:lnTo>
                    <a:pt x="190" y="2726"/>
                  </a:lnTo>
                  <a:lnTo>
                    <a:pt x="190" y="2725"/>
                  </a:lnTo>
                  <a:lnTo>
                    <a:pt x="191" y="2723"/>
                  </a:lnTo>
                  <a:lnTo>
                    <a:pt x="193" y="2723"/>
                  </a:lnTo>
                  <a:lnTo>
                    <a:pt x="194" y="2723"/>
                  </a:lnTo>
                  <a:lnTo>
                    <a:pt x="197" y="2725"/>
                  </a:lnTo>
                  <a:lnTo>
                    <a:pt x="197" y="2725"/>
                  </a:lnTo>
                  <a:close/>
                  <a:moveTo>
                    <a:pt x="253" y="2760"/>
                  </a:moveTo>
                  <a:lnTo>
                    <a:pt x="273" y="2769"/>
                  </a:lnTo>
                  <a:lnTo>
                    <a:pt x="279" y="2772"/>
                  </a:lnTo>
                  <a:lnTo>
                    <a:pt x="280" y="2774"/>
                  </a:lnTo>
                  <a:lnTo>
                    <a:pt x="280" y="2776"/>
                  </a:lnTo>
                  <a:lnTo>
                    <a:pt x="282" y="2777"/>
                  </a:lnTo>
                  <a:lnTo>
                    <a:pt x="280" y="2779"/>
                  </a:lnTo>
                  <a:lnTo>
                    <a:pt x="280" y="2780"/>
                  </a:lnTo>
                  <a:lnTo>
                    <a:pt x="279" y="2782"/>
                  </a:lnTo>
                  <a:lnTo>
                    <a:pt x="276" y="2782"/>
                  </a:lnTo>
                  <a:lnTo>
                    <a:pt x="274" y="2782"/>
                  </a:lnTo>
                  <a:lnTo>
                    <a:pt x="268" y="2779"/>
                  </a:lnTo>
                  <a:lnTo>
                    <a:pt x="248" y="2768"/>
                  </a:lnTo>
                  <a:lnTo>
                    <a:pt x="246" y="2768"/>
                  </a:lnTo>
                  <a:lnTo>
                    <a:pt x="246" y="2765"/>
                  </a:lnTo>
                  <a:lnTo>
                    <a:pt x="245" y="2763"/>
                  </a:lnTo>
                  <a:lnTo>
                    <a:pt x="246" y="2762"/>
                  </a:lnTo>
                  <a:lnTo>
                    <a:pt x="248" y="2760"/>
                  </a:lnTo>
                  <a:lnTo>
                    <a:pt x="250" y="2760"/>
                  </a:lnTo>
                  <a:lnTo>
                    <a:pt x="251" y="2759"/>
                  </a:lnTo>
                  <a:lnTo>
                    <a:pt x="253" y="2760"/>
                  </a:lnTo>
                  <a:lnTo>
                    <a:pt x="253" y="2760"/>
                  </a:lnTo>
                  <a:close/>
                  <a:moveTo>
                    <a:pt x="314" y="2788"/>
                  </a:moveTo>
                  <a:lnTo>
                    <a:pt x="314" y="2788"/>
                  </a:lnTo>
                  <a:lnTo>
                    <a:pt x="336" y="2795"/>
                  </a:lnTo>
                  <a:lnTo>
                    <a:pt x="340" y="2795"/>
                  </a:lnTo>
                  <a:lnTo>
                    <a:pt x="342" y="2797"/>
                  </a:lnTo>
                  <a:lnTo>
                    <a:pt x="343" y="2799"/>
                  </a:lnTo>
                  <a:lnTo>
                    <a:pt x="343" y="2800"/>
                  </a:lnTo>
                  <a:lnTo>
                    <a:pt x="343" y="2802"/>
                  </a:lnTo>
                  <a:lnTo>
                    <a:pt x="343" y="2803"/>
                  </a:lnTo>
                  <a:lnTo>
                    <a:pt x="342" y="2805"/>
                  </a:lnTo>
                  <a:lnTo>
                    <a:pt x="340" y="2806"/>
                  </a:lnTo>
                  <a:lnTo>
                    <a:pt x="339" y="2806"/>
                  </a:lnTo>
                  <a:lnTo>
                    <a:pt x="333" y="2805"/>
                  </a:lnTo>
                  <a:lnTo>
                    <a:pt x="311" y="2797"/>
                  </a:lnTo>
                  <a:lnTo>
                    <a:pt x="310" y="2797"/>
                  </a:lnTo>
                  <a:lnTo>
                    <a:pt x="308" y="2795"/>
                  </a:lnTo>
                  <a:lnTo>
                    <a:pt x="308" y="2794"/>
                  </a:lnTo>
                  <a:lnTo>
                    <a:pt x="306" y="2792"/>
                  </a:lnTo>
                  <a:lnTo>
                    <a:pt x="308" y="2789"/>
                  </a:lnTo>
                  <a:lnTo>
                    <a:pt x="308" y="2788"/>
                  </a:lnTo>
                  <a:lnTo>
                    <a:pt x="310" y="2788"/>
                  </a:lnTo>
                  <a:lnTo>
                    <a:pt x="311" y="2786"/>
                  </a:lnTo>
                  <a:lnTo>
                    <a:pt x="314" y="2788"/>
                  </a:lnTo>
                  <a:lnTo>
                    <a:pt x="314" y="2788"/>
                  </a:lnTo>
                  <a:close/>
                  <a:moveTo>
                    <a:pt x="377" y="2806"/>
                  </a:moveTo>
                  <a:lnTo>
                    <a:pt x="380" y="2806"/>
                  </a:lnTo>
                  <a:lnTo>
                    <a:pt x="403" y="2811"/>
                  </a:lnTo>
                  <a:lnTo>
                    <a:pt x="405" y="2811"/>
                  </a:lnTo>
                  <a:lnTo>
                    <a:pt x="406" y="2811"/>
                  </a:lnTo>
                  <a:lnTo>
                    <a:pt x="408" y="2812"/>
                  </a:lnTo>
                  <a:lnTo>
                    <a:pt x="410" y="2814"/>
                  </a:lnTo>
                  <a:lnTo>
                    <a:pt x="410" y="2815"/>
                  </a:lnTo>
                  <a:lnTo>
                    <a:pt x="410" y="2817"/>
                  </a:lnTo>
                  <a:lnTo>
                    <a:pt x="408" y="2819"/>
                  </a:lnTo>
                  <a:lnTo>
                    <a:pt x="406" y="2820"/>
                  </a:lnTo>
                  <a:lnTo>
                    <a:pt x="405" y="2820"/>
                  </a:lnTo>
                  <a:lnTo>
                    <a:pt x="402" y="2820"/>
                  </a:lnTo>
                  <a:lnTo>
                    <a:pt x="379" y="2815"/>
                  </a:lnTo>
                  <a:lnTo>
                    <a:pt x="376" y="2815"/>
                  </a:lnTo>
                  <a:lnTo>
                    <a:pt x="374" y="2814"/>
                  </a:lnTo>
                  <a:lnTo>
                    <a:pt x="373" y="2812"/>
                  </a:lnTo>
                  <a:lnTo>
                    <a:pt x="371" y="2811"/>
                  </a:lnTo>
                  <a:lnTo>
                    <a:pt x="373" y="2809"/>
                  </a:lnTo>
                  <a:lnTo>
                    <a:pt x="373" y="2808"/>
                  </a:lnTo>
                  <a:lnTo>
                    <a:pt x="374" y="2806"/>
                  </a:lnTo>
                  <a:lnTo>
                    <a:pt x="376" y="2806"/>
                  </a:lnTo>
                  <a:lnTo>
                    <a:pt x="377" y="2806"/>
                  </a:lnTo>
                  <a:lnTo>
                    <a:pt x="377" y="2806"/>
                  </a:lnTo>
                  <a:close/>
                  <a:moveTo>
                    <a:pt x="443" y="2815"/>
                  </a:moveTo>
                  <a:lnTo>
                    <a:pt x="451" y="2815"/>
                  </a:lnTo>
                  <a:lnTo>
                    <a:pt x="473" y="2815"/>
                  </a:lnTo>
                  <a:lnTo>
                    <a:pt x="474" y="2815"/>
                  </a:lnTo>
                  <a:lnTo>
                    <a:pt x="476" y="2817"/>
                  </a:lnTo>
                  <a:lnTo>
                    <a:pt x="476" y="2819"/>
                  </a:lnTo>
                  <a:lnTo>
                    <a:pt x="477" y="2820"/>
                  </a:lnTo>
                  <a:lnTo>
                    <a:pt x="476" y="2822"/>
                  </a:lnTo>
                  <a:lnTo>
                    <a:pt x="476" y="2823"/>
                  </a:lnTo>
                  <a:lnTo>
                    <a:pt x="474" y="2825"/>
                  </a:lnTo>
                  <a:lnTo>
                    <a:pt x="473" y="2825"/>
                  </a:lnTo>
                  <a:lnTo>
                    <a:pt x="450" y="2825"/>
                  </a:lnTo>
                  <a:lnTo>
                    <a:pt x="443" y="2825"/>
                  </a:lnTo>
                  <a:lnTo>
                    <a:pt x="440" y="2823"/>
                  </a:lnTo>
                  <a:lnTo>
                    <a:pt x="439" y="2823"/>
                  </a:lnTo>
                  <a:lnTo>
                    <a:pt x="439" y="2822"/>
                  </a:lnTo>
                  <a:lnTo>
                    <a:pt x="439" y="2819"/>
                  </a:lnTo>
                  <a:lnTo>
                    <a:pt x="439" y="2817"/>
                  </a:lnTo>
                  <a:lnTo>
                    <a:pt x="440" y="2815"/>
                  </a:lnTo>
                  <a:lnTo>
                    <a:pt x="442" y="2815"/>
                  </a:lnTo>
                  <a:lnTo>
                    <a:pt x="443" y="2815"/>
                  </a:lnTo>
                  <a:lnTo>
                    <a:pt x="443" y="2815"/>
                  </a:lnTo>
                  <a:close/>
                  <a:moveTo>
                    <a:pt x="511" y="2815"/>
                  </a:moveTo>
                  <a:lnTo>
                    <a:pt x="539" y="2815"/>
                  </a:lnTo>
                  <a:lnTo>
                    <a:pt x="540" y="2815"/>
                  </a:lnTo>
                  <a:lnTo>
                    <a:pt x="542" y="2817"/>
                  </a:lnTo>
                  <a:lnTo>
                    <a:pt x="543" y="2819"/>
                  </a:lnTo>
                  <a:lnTo>
                    <a:pt x="543" y="2820"/>
                  </a:lnTo>
                  <a:lnTo>
                    <a:pt x="543" y="2822"/>
                  </a:lnTo>
                  <a:lnTo>
                    <a:pt x="542" y="2823"/>
                  </a:lnTo>
                  <a:lnTo>
                    <a:pt x="540" y="2825"/>
                  </a:lnTo>
                  <a:lnTo>
                    <a:pt x="539" y="2825"/>
                  </a:lnTo>
                  <a:lnTo>
                    <a:pt x="511" y="2825"/>
                  </a:lnTo>
                  <a:lnTo>
                    <a:pt x="508" y="2825"/>
                  </a:lnTo>
                  <a:lnTo>
                    <a:pt x="506" y="2823"/>
                  </a:lnTo>
                  <a:lnTo>
                    <a:pt x="506" y="2822"/>
                  </a:lnTo>
                  <a:lnTo>
                    <a:pt x="505" y="2820"/>
                  </a:lnTo>
                  <a:lnTo>
                    <a:pt x="506" y="2819"/>
                  </a:lnTo>
                  <a:lnTo>
                    <a:pt x="506" y="2817"/>
                  </a:lnTo>
                  <a:lnTo>
                    <a:pt x="508" y="2815"/>
                  </a:lnTo>
                  <a:lnTo>
                    <a:pt x="511" y="2815"/>
                  </a:lnTo>
                  <a:lnTo>
                    <a:pt x="511" y="2815"/>
                  </a:lnTo>
                  <a:close/>
                  <a:moveTo>
                    <a:pt x="577" y="2815"/>
                  </a:moveTo>
                  <a:lnTo>
                    <a:pt x="606" y="2815"/>
                  </a:lnTo>
                  <a:lnTo>
                    <a:pt x="608" y="2815"/>
                  </a:lnTo>
                  <a:lnTo>
                    <a:pt x="609" y="2817"/>
                  </a:lnTo>
                  <a:lnTo>
                    <a:pt x="611" y="2819"/>
                  </a:lnTo>
                  <a:lnTo>
                    <a:pt x="611" y="2820"/>
                  </a:lnTo>
                  <a:lnTo>
                    <a:pt x="611" y="2822"/>
                  </a:lnTo>
                  <a:lnTo>
                    <a:pt x="609" y="2823"/>
                  </a:lnTo>
                  <a:lnTo>
                    <a:pt x="608" y="2825"/>
                  </a:lnTo>
                  <a:lnTo>
                    <a:pt x="606" y="2825"/>
                  </a:lnTo>
                  <a:lnTo>
                    <a:pt x="577" y="2825"/>
                  </a:lnTo>
                  <a:lnTo>
                    <a:pt x="576" y="2825"/>
                  </a:lnTo>
                  <a:lnTo>
                    <a:pt x="574" y="2823"/>
                  </a:lnTo>
                  <a:lnTo>
                    <a:pt x="573" y="2822"/>
                  </a:lnTo>
                  <a:lnTo>
                    <a:pt x="573" y="2820"/>
                  </a:lnTo>
                  <a:lnTo>
                    <a:pt x="573" y="2819"/>
                  </a:lnTo>
                  <a:lnTo>
                    <a:pt x="574" y="2817"/>
                  </a:lnTo>
                  <a:lnTo>
                    <a:pt x="576" y="2815"/>
                  </a:lnTo>
                  <a:lnTo>
                    <a:pt x="577" y="2815"/>
                  </a:lnTo>
                  <a:lnTo>
                    <a:pt x="577" y="2815"/>
                  </a:lnTo>
                  <a:close/>
                  <a:moveTo>
                    <a:pt x="645" y="2815"/>
                  </a:moveTo>
                  <a:lnTo>
                    <a:pt x="674" y="2815"/>
                  </a:lnTo>
                  <a:lnTo>
                    <a:pt x="676" y="2815"/>
                  </a:lnTo>
                  <a:lnTo>
                    <a:pt x="677" y="2817"/>
                  </a:lnTo>
                  <a:lnTo>
                    <a:pt x="679" y="2819"/>
                  </a:lnTo>
                  <a:lnTo>
                    <a:pt x="679" y="2820"/>
                  </a:lnTo>
                  <a:lnTo>
                    <a:pt x="679" y="2822"/>
                  </a:lnTo>
                  <a:lnTo>
                    <a:pt x="677" y="2823"/>
                  </a:lnTo>
                  <a:lnTo>
                    <a:pt x="676" y="2825"/>
                  </a:lnTo>
                  <a:lnTo>
                    <a:pt x="674" y="2825"/>
                  </a:lnTo>
                  <a:lnTo>
                    <a:pt x="645" y="2825"/>
                  </a:lnTo>
                  <a:lnTo>
                    <a:pt x="643" y="2825"/>
                  </a:lnTo>
                  <a:lnTo>
                    <a:pt x="642" y="2823"/>
                  </a:lnTo>
                  <a:lnTo>
                    <a:pt x="640" y="2822"/>
                  </a:lnTo>
                  <a:lnTo>
                    <a:pt x="640" y="2820"/>
                  </a:lnTo>
                  <a:lnTo>
                    <a:pt x="640" y="2819"/>
                  </a:lnTo>
                  <a:lnTo>
                    <a:pt x="642" y="2817"/>
                  </a:lnTo>
                  <a:lnTo>
                    <a:pt x="643" y="2815"/>
                  </a:lnTo>
                  <a:lnTo>
                    <a:pt x="645" y="2815"/>
                  </a:lnTo>
                  <a:lnTo>
                    <a:pt x="645" y="2815"/>
                  </a:lnTo>
                  <a:close/>
                  <a:moveTo>
                    <a:pt x="713" y="2815"/>
                  </a:moveTo>
                  <a:lnTo>
                    <a:pt x="742" y="2815"/>
                  </a:lnTo>
                  <a:lnTo>
                    <a:pt x="743" y="2815"/>
                  </a:lnTo>
                  <a:lnTo>
                    <a:pt x="745" y="2817"/>
                  </a:lnTo>
                  <a:lnTo>
                    <a:pt x="745" y="2819"/>
                  </a:lnTo>
                  <a:lnTo>
                    <a:pt x="746" y="2820"/>
                  </a:lnTo>
                  <a:lnTo>
                    <a:pt x="745" y="2822"/>
                  </a:lnTo>
                  <a:lnTo>
                    <a:pt x="745" y="2823"/>
                  </a:lnTo>
                  <a:lnTo>
                    <a:pt x="743" y="2825"/>
                  </a:lnTo>
                  <a:lnTo>
                    <a:pt x="742" y="2825"/>
                  </a:lnTo>
                  <a:lnTo>
                    <a:pt x="713" y="2825"/>
                  </a:lnTo>
                  <a:lnTo>
                    <a:pt x="711" y="2825"/>
                  </a:lnTo>
                  <a:lnTo>
                    <a:pt x="708" y="2823"/>
                  </a:lnTo>
                  <a:lnTo>
                    <a:pt x="708" y="2822"/>
                  </a:lnTo>
                  <a:lnTo>
                    <a:pt x="708" y="2820"/>
                  </a:lnTo>
                  <a:lnTo>
                    <a:pt x="708" y="2819"/>
                  </a:lnTo>
                  <a:lnTo>
                    <a:pt x="708" y="2817"/>
                  </a:lnTo>
                  <a:lnTo>
                    <a:pt x="711" y="2815"/>
                  </a:lnTo>
                  <a:lnTo>
                    <a:pt x="713" y="2815"/>
                  </a:lnTo>
                  <a:lnTo>
                    <a:pt x="713" y="2815"/>
                  </a:lnTo>
                  <a:close/>
                  <a:moveTo>
                    <a:pt x="780" y="2815"/>
                  </a:moveTo>
                  <a:lnTo>
                    <a:pt x="808" y="2815"/>
                  </a:lnTo>
                  <a:lnTo>
                    <a:pt x="809" y="2815"/>
                  </a:lnTo>
                  <a:lnTo>
                    <a:pt x="811" y="2817"/>
                  </a:lnTo>
                  <a:lnTo>
                    <a:pt x="813" y="2819"/>
                  </a:lnTo>
                  <a:lnTo>
                    <a:pt x="813" y="2820"/>
                  </a:lnTo>
                  <a:lnTo>
                    <a:pt x="813" y="2822"/>
                  </a:lnTo>
                  <a:lnTo>
                    <a:pt x="811" y="2823"/>
                  </a:lnTo>
                  <a:lnTo>
                    <a:pt x="809" y="2825"/>
                  </a:lnTo>
                  <a:lnTo>
                    <a:pt x="808" y="2825"/>
                  </a:lnTo>
                  <a:lnTo>
                    <a:pt x="780" y="2825"/>
                  </a:lnTo>
                  <a:lnTo>
                    <a:pt x="777" y="2825"/>
                  </a:lnTo>
                  <a:lnTo>
                    <a:pt x="776" y="2823"/>
                  </a:lnTo>
                  <a:lnTo>
                    <a:pt x="776" y="2822"/>
                  </a:lnTo>
                  <a:lnTo>
                    <a:pt x="774" y="2820"/>
                  </a:lnTo>
                  <a:lnTo>
                    <a:pt x="776" y="2819"/>
                  </a:lnTo>
                  <a:lnTo>
                    <a:pt x="776" y="2817"/>
                  </a:lnTo>
                  <a:lnTo>
                    <a:pt x="777" y="2815"/>
                  </a:lnTo>
                  <a:lnTo>
                    <a:pt x="780" y="2815"/>
                  </a:lnTo>
                  <a:lnTo>
                    <a:pt x="780" y="2815"/>
                  </a:lnTo>
                  <a:close/>
                  <a:moveTo>
                    <a:pt x="846" y="2815"/>
                  </a:moveTo>
                  <a:lnTo>
                    <a:pt x="876" y="2815"/>
                  </a:lnTo>
                  <a:lnTo>
                    <a:pt x="877" y="2815"/>
                  </a:lnTo>
                  <a:lnTo>
                    <a:pt x="879" y="2817"/>
                  </a:lnTo>
                  <a:lnTo>
                    <a:pt x="880" y="2819"/>
                  </a:lnTo>
                  <a:lnTo>
                    <a:pt x="880" y="2820"/>
                  </a:lnTo>
                  <a:lnTo>
                    <a:pt x="880" y="2822"/>
                  </a:lnTo>
                  <a:lnTo>
                    <a:pt x="879" y="2823"/>
                  </a:lnTo>
                  <a:lnTo>
                    <a:pt x="877" y="2825"/>
                  </a:lnTo>
                  <a:lnTo>
                    <a:pt x="876" y="2825"/>
                  </a:lnTo>
                  <a:lnTo>
                    <a:pt x="846" y="2825"/>
                  </a:lnTo>
                  <a:lnTo>
                    <a:pt x="845" y="2825"/>
                  </a:lnTo>
                  <a:lnTo>
                    <a:pt x="843" y="2823"/>
                  </a:lnTo>
                  <a:lnTo>
                    <a:pt x="842" y="2822"/>
                  </a:lnTo>
                  <a:lnTo>
                    <a:pt x="842" y="2820"/>
                  </a:lnTo>
                  <a:lnTo>
                    <a:pt x="842" y="2819"/>
                  </a:lnTo>
                  <a:lnTo>
                    <a:pt x="843" y="2817"/>
                  </a:lnTo>
                  <a:lnTo>
                    <a:pt x="845" y="2815"/>
                  </a:lnTo>
                  <a:lnTo>
                    <a:pt x="846" y="2815"/>
                  </a:lnTo>
                  <a:lnTo>
                    <a:pt x="846" y="2815"/>
                  </a:lnTo>
                  <a:close/>
                  <a:moveTo>
                    <a:pt x="914" y="2815"/>
                  </a:moveTo>
                  <a:lnTo>
                    <a:pt x="943" y="2815"/>
                  </a:lnTo>
                  <a:lnTo>
                    <a:pt x="945" y="2815"/>
                  </a:lnTo>
                  <a:lnTo>
                    <a:pt x="946" y="2817"/>
                  </a:lnTo>
                  <a:lnTo>
                    <a:pt x="948" y="2819"/>
                  </a:lnTo>
                  <a:lnTo>
                    <a:pt x="948" y="2820"/>
                  </a:lnTo>
                  <a:lnTo>
                    <a:pt x="948" y="2822"/>
                  </a:lnTo>
                  <a:lnTo>
                    <a:pt x="946" y="2823"/>
                  </a:lnTo>
                  <a:lnTo>
                    <a:pt x="945" y="2825"/>
                  </a:lnTo>
                  <a:lnTo>
                    <a:pt x="943" y="2825"/>
                  </a:lnTo>
                  <a:lnTo>
                    <a:pt x="914" y="2825"/>
                  </a:lnTo>
                  <a:lnTo>
                    <a:pt x="913" y="2825"/>
                  </a:lnTo>
                  <a:lnTo>
                    <a:pt x="911" y="2823"/>
                  </a:lnTo>
                  <a:lnTo>
                    <a:pt x="909" y="2822"/>
                  </a:lnTo>
                  <a:lnTo>
                    <a:pt x="909" y="2820"/>
                  </a:lnTo>
                  <a:lnTo>
                    <a:pt x="909" y="2819"/>
                  </a:lnTo>
                  <a:lnTo>
                    <a:pt x="911" y="2817"/>
                  </a:lnTo>
                  <a:lnTo>
                    <a:pt x="913" y="2815"/>
                  </a:lnTo>
                  <a:lnTo>
                    <a:pt x="914" y="2815"/>
                  </a:lnTo>
                  <a:lnTo>
                    <a:pt x="914" y="2815"/>
                  </a:lnTo>
                  <a:close/>
                  <a:moveTo>
                    <a:pt x="982" y="2815"/>
                  </a:moveTo>
                  <a:lnTo>
                    <a:pt x="1011" y="2815"/>
                  </a:lnTo>
                  <a:lnTo>
                    <a:pt x="1012" y="2815"/>
                  </a:lnTo>
                  <a:lnTo>
                    <a:pt x="1014" y="2817"/>
                  </a:lnTo>
                  <a:lnTo>
                    <a:pt x="1014" y="2819"/>
                  </a:lnTo>
                  <a:lnTo>
                    <a:pt x="1016" y="2820"/>
                  </a:lnTo>
                  <a:lnTo>
                    <a:pt x="1014" y="2822"/>
                  </a:lnTo>
                  <a:lnTo>
                    <a:pt x="1014" y="2823"/>
                  </a:lnTo>
                  <a:lnTo>
                    <a:pt x="1012" y="2825"/>
                  </a:lnTo>
                  <a:lnTo>
                    <a:pt x="1011" y="2825"/>
                  </a:lnTo>
                  <a:lnTo>
                    <a:pt x="982" y="2825"/>
                  </a:lnTo>
                  <a:lnTo>
                    <a:pt x="980" y="2825"/>
                  </a:lnTo>
                  <a:lnTo>
                    <a:pt x="977" y="2823"/>
                  </a:lnTo>
                  <a:lnTo>
                    <a:pt x="977" y="2822"/>
                  </a:lnTo>
                  <a:lnTo>
                    <a:pt x="977" y="2820"/>
                  </a:lnTo>
                  <a:lnTo>
                    <a:pt x="977" y="2819"/>
                  </a:lnTo>
                  <a:lnTo>
                    <a:pt x="977" y="2817"/>
                  </a:lnTo>
                  <a:lnTo>
                    <a:pt x="980" y="2815"/>
                  </a:lnTo>
                  <a:lnTo>
                    <a:pt x="982" y="2815"/>
                  </a:lnTo>
                  <a:lnTo>
                    <a:pt x="982" y="2815"/>
                  </a:lnTo>
                  <a:close/>
                  <a:moveTo>
                    <a:pt x="1049" y="2815"/>
                  </a:moveTo>
                  <a:lnTo>
                    <a:pt x="1077" y="2815"/>
                  </a:lnTo>
                  <a:lnTo>
                    <a:pt x="1079" y="2815"/>
                  </a:lnTo>
                  <a:lnTo>
                    <a:pt x="1080" y="2817"/>
                  </a:lnTo>
                  <a:lnTo>
                    <a:pt x="1082" y="2819"/>
                  </a:lnTo>
                  <a:lnTo>
                    <a:pt x="1082" y="2820"/>
                  </a:lnTo>
                  <a:lnTo>
                    <a:pt x="1082" y="2822"/>
                  </a:lnTo>
                  <a:lnTo>
                    <a:pt x="1080" y="2823"/>
                  </a:lnTo>
                  <a:lnTo>
                    <a:pt x="1079" y="2825"/>
                  </a:lnTo>
                  <a:lnTo>
                    <a:pt x="1077" y="2825"/>
                  </a:lnTo>
                  <a:lnTo>
                    <a:pt x="1049" y="2825"/>
                  </a:lnTo>
                  <a:lnTo>
                    <a:pt x="1046" y="2825"/>
                  </a:lnTo>
                  <a:lnTo>
                    <a:pt x="1045" y="2823"/>
                  </a:lnTo>
                  <a:lnTo>
                    <a:pt x="1045" y="2822"/>
                  </a:lnTo>
                  <a:lnTo>
                    <a:pt x="1043" y="2820"/>
                  </a:lnTo>
                  <a:lnTo>
                    <a:pt x="1045" y="2819"/>
                  </a:lnTo>
                  <a:lnTo>
                    <a:pt x="1045" y="2817"/>
                  </a:lnTo>
                  <a:lnTo>
                    <a:pt x="1046" y="2815"/>
                  </a:lnTo>
                  <a:lnTo>
                    <a:pt x="1049" y="2815"/>
                  </a:lnTo>
                  <a:lnTo>
                    <a:pt x="1049" y="2815"/>
                  </a:lnTo>
                  <a:close/>
                  <a:moveTo>
                    <a:pt x="1116" y="2815"/>
                  </a:moveTo>
                  <a:lnTo>
                    <a:pt x="1145" y="2815"/>
                  </a:lnTo>
                  <a:lnTo>
                    <a:pt x="1146" y="2815"/>
                  </a:lnTo>
                  <a:lnTo>
                    <a:pt x="1148" y="2817"/>
                  </a:lnTo>
                  <a:lnTo>
                    <a:pt x="1149" y="2819"/>
                  </a:lnTo>
                  <a:lnTo>
                    <a:pt x="1149" y="2820"/>
                  </a:lnTo>
                  <a:lnTo>
                    <a:pt x="1149" y="2822"/>
                  </a:lnTo>
                  <a:lnTo>
                    <a:pt x="1148" y="2823"/>
                  </a:lnTo>
                  <a:lnTo>
                    <a:pt x="1146" y="2825"/>
                  </a:lnTo>
                  <a:lnTo>
                    <a:pt x="1145" y="2825"/>
                  </a:lnTo>
                  <a:lnTo>
                    <a:pt x="1116" y="2825"/>
                  </a:lnTo>
                  <a:lnTo>
                    <a:pt x="1114" y="2825"/>
                  </a:lnTo>
                  <a:lnTo>
                    <a:pt x="1112" y="2823"/>
                  </a:lnTo>
                  <a:lnTo>
                    <a:pt x="1111" y="2822"/>
                  </a:lnTo>
                  <a:lnTo>
                    <a:pt x="1111" y="2820"/>
                  </a:lnTo>
                  <a:lnTo>
                    <a:pt x="1111" y="2819"/>
                  </a:lnTo>
                  <a:lnTo>
                    <a:pt x="1112" y="2817"/>
                  </a:lnTo>
                  <a:lnTo>
                    <a:pt x="1114" y="2815"/>
                  </a:lnTo>
                  <a:lnTo>
                    <a:pt x="1116" y="2815"/>
                  </a:lnTo>
                  <a:lnTo>
                    <a:pt x="1116" y="2815"/>
                  </a:lnTo>
                  <a:close/>
                  <a:moveTo>
                    <a:pt x="1183" y="2815"/>
                  </a:moveTo>
                  <a:lnTo>
                    <a:pt x="1212" y="2815"/>
                  </a:lnTo>
                  <a:lnTo>
                    <a:pt x="1214" y="2815"/>
                  </a:lnTo>
                  <a:lnTo>
                    <a:pt x="1216" y="2817"/>
                  </a:lnTo>
                  <a:lnTo>
                    <a:pt x="1217" y="2819"/>
                  </a:lnTo>
                  <a:lnTo>
                    <a:pt x="1217" y="2820"/>
                  </a:lnTo>
                  <a:lnTo>
                    <a:pt x="1217" y="2822"/>
                  </a:lnTo>
                  <a:lnTo>
                    <a:pt x="1216" y="2823"/>
                  </a:lnTo>
                  <a:lnTo>
                    <a:pt x="1214" y="2825"/>
                  </a:lnTo>
                  <a:lnTo>
                    <a:pt x="1212" y="2825"/>
                  </a:lnTo>
                  <a:lnTo>
                    <a:pt x="1183" y="2825"/>
                  </a:lnTo>
                  <a:lnTo>
                    <a:pt x="1182" y="2825"/>
                  </a:lnTo>
                  <a:lnTo>
                    <a:pt x="1180" y="2823"/>
                  </a:lnTo>
                  <a:lnTo>
                    <a:pt x="1179" y="2822"/>
                  </a:lnTo>
                  <a:lnTo>
                    <a:pt x="1179" y="2820"/>
                  </a:lnTo>
                  <a:lnTo>
                    <a:pt x="1179" y="2819"/>
                  </a:lnTo>
                  <a:lnTo>
                    <a:pt x="1180" y="2817"/>
                  </a:lnTo>
                  <a:lnTo>
                    <a:pt x="1182" y="2815"/>
                  </a:lnTo>
                  <a:lnTo>
                    <a:pt x="1183" y="2815"/>
                  </a:lnTo>
                  <a:lnTo>
                    <a:pt x="1183" y="2815"/>
                  </a:lnTo>
                  <a:close/>
                  <a:moveTo>
                    <a:pt x="1251" y="2815"/>
                  </a:moveTo>
                  <a:lnTo>
                    <a:pt x="1280" y="2815"/>
                  </a:lnTo>
                  <a:lnTo>
                    <a:pt x="1282" y="2815"/>
                  </a:lnTo>
                  <a:lnTo>
                    <a:pt x="1283" y="2817"/>
                  </a:lnTo>
                  <a:lnTo>
                    <a:pt x="1283" y="2819"/>
                  </a:lnTo>
                  <a:lnTo>
                    <a:pt x="1285" y="2820"/>
                  </a:lnTo>
                  <a:lnTo>
                    <a:pt x="1283" y="2822"/>
                  </a:lnTo>
                  <a:lnTo>
                    <a:pt x="1283" y="2823"/>
                  </a:lnTo>
                  <a:lnTo>
                    <a:pt x="1282" y="2825"/>
                  </a:lnTo>
                  <a:lnTo>
                    <a:pt x="1280" y="2825"/>
                  </a:lnTo>
                  <a:lnTo>
                    <a:pt x="1251" y="2825"/>
                  </a:lnTo>
                  <a:lnTo>
                    <a:pt x="1249" y="2825"/>
                  </a:lnTo>
                  <a:lnTo>
                    <a:pt x="1246" y="2823"/>
                  </a:lnTo>
                  <a:lnTo>
                    <a:pt x="1246" y="2822"/>
                  </a:lnTo>
                  <a:lnTo>
                    <a:pt x="1246" y="2820"/>
                  </a:lnTo>
                  <a:lnTo>
                    <a:pt x="1246" y="2819"/>
                  </a:lnTo>
                  <a:lnTo>
                    <a:pt x="1246" y="2817"/>
                  </a:lnTo>
                  <a:lnTo>
                    <a:pt x="1249" y="2815"/>
                  </a:lnTo>
                  <a:lnTo>
                    <a:pt x="1251" y="2815"/>
                  </a:lnTo>
                  <a:lnTo>
                    <a:pt x="1251" y="2815"/>
                  </a:lnTo>
                  <a:close/>
                  <a:moveTo>
                    <a:pt x="1319" y="2815"/>
                  </a:moveTo>
                  <a:lnTo>
                    <a:pt x="1346" y="2815"/>
                  </a:lnTo>
                  <a:lnTo>
                    <a:pt x="1348" y="2815"/>
                  </a:lnTo>
                  <a:lnTo>
                    <a:pt x="1349" y="2817"/>
                  </a:lnTo>
                  <a:lnTo>
                    <a:pt x="1351" y="2819"/>
                  </a:lnTo>
                  <a:lnTo>
                    <a:pt x="1351" y="2820"/>
                  </a:lnTo>
                  <a:lnTo>
                    <a:pt x="1351" y="2822"/>
                  </a:lnTo>
                  <a:lnTo>
                    <a:pt x="1349" y="2823"/>
                  </a:lnTo>
                  <a:lnTo>
                    <a:pt x="1348" y="2825"/>
                  </a:lnTo>
                  <a:lnTo>
                    <a:pt x="1346" y="2825"/>
                  </a:lnTo>
                  <a:lnTo>
                    <a:pt x="1319" y="2825"/>
                  </a:lnTo>
                  <a:lnTo>
                    <a:pt x="1316" y="2825"/>
                  </a:lnTo>
                  <a:lnTo>
                    <a:pt x="1314" y="2823"/>
                  </a:lnTo>
                  <a:lnTo>
                    <a:pt x="1314" y="2822"/>
                  </a:lnTo>
                  <a:lnTo>
                    <a:pt x="1312" y="2820"/>
                  </a:lnTo>
                  <a:lnTo>
                    <a:pt x="1314" y="2819"/>
                  </a:lnTo>
                  <a:lnTo>
                    <a:pt x="1314" y="2817"/>
                  </a:lnTo>
                  <a:lnTo>
                    <a:pt x="1316" y="2815"/>
                  </a:lnTo>
                  <a:lnTo>
                    <a:pt x="1319" y="2815"/>
                  </a:lnTo>
                  <a:lnTo>
                    <a:pt x="1319" y="2815"/>
                  </a:lnTo>
                  <a:close/>
                  <a:moveTo>
                    <a:pt x="1385" y="2815"/>
                  </a:moveTo>
                  <a:lnTo>
                    <a:pt x="1414" y="2815"/>
                  </a:lnTo>
                  <a:lnTo>
                    <a:pt x="1415" y="2815"/>
                  </a:lnTo>
                  <a:lnTo>
                    <a:pt x="1417" y="2817"/>
                  </a:lnTo>
                  <a:lnTo>
                    <a:pt x="1419" y="2819"/>
                  </a:lnTo>
                  <a:lnTo>
                    <a:pt x="1419" y="2820"/>
                  </a:lnTo>
                  <a:lnTo>
                    <a:pt x="1419" y="2822"/>
                  </a:lnTo>
                  <a:lnTo>
                    <a:pt x="1417" y="2823"/>
                  </a:lnTo>
                  <a:lnTo>
                    <a:pt x="1415" y="2825"/>
                  </a:lnTo>
                  <a:lnTo>
                    <a:pt x="1414" y="2825"/>
                  </a:lnTo>
                  <a:lnTo>
                    <a:pt x="1385" y="2825"/>
                  </a:lnTo>
                  <a:lnTo>
                    <a:pt x="1383" y="2825"/>
                  </a:lnTo>
                  <a:lnTo>
                    <a:pt x="1382" y="2823"/>
                  </a:lnTo>
                  <a:lnTo>
                    <a:pt x="1380" y="2822"/>
                  </a:lnTo>
                  <a:lnTo>
                    <a:pt x="1380" y="2820"/>
                  </a:lnTo>
                  <a:lnTo>
                    <a:pt x="1380" y="2819"/>
                  </a:lnTo>
                  <a:lnTo>
                    <a:pt x="1382" y="2817"/>
                  </a:lnTo>
                  <a:lnTo>
                    <a:pt x="1383" y="2815"/>
                  </a:lnTo>
                  <a:lnTo>
                    <a:pt x="1385" y="2815"/>
                  </a:lnTo>
                  <a:lnTo>
                    <a:pt x="1385" y="2815"/>
                  </a:lnTo>
                  <a:close/>
                  <a:moveTo>
                    <a:pt x="1452" y="2815"/>
                  </a:moveTo>
                  <a:lnTo>
                    <a:pt x="1482" y="2815"/>
                  </a:lnTo>
                  <a:lnTo>
                    <a:pt x="1483" y="2815"/>
                  </a:lnTo>
                  <a:lnTo>
                    <a:pt x="1485" y="2817"/>
                  </a:lnTo>
                  <a:lnTo>
                    <a:pt x="1486" y="2819"/>
                  </a:lnTo>
                  <a:lnTo>
                    <a:pt x="1486" y="2820"/>
                  </a:lnTo>
                  <a:lnTo>
                    <a:pt x="1486" y="2822"/>
                  </a:lnTo>
                  <a:lnTo>
                    <a:pt x="1485" y="2823"/>
                  </a:lnTo>
                  <a:lnTo>
                    <a:pt x="1483" y="2825"/>
                  </a:lnTo>
                  <a:lnTo>
                    <a:pt x="1482" y="2825"/>
                  </a:lnTo>
                  <a:lnTo>
                    <a:pt x="1452" y="2825"/>
                  </a:lnTo>
                  <a:lnTo>
                    <a:pt x="1451" y="2825"/>
                  </a:lnTo>
                  <a:lnTo>
                    <a:pt x="1449" y="2823"/>
                  </a:lnTo>
                  <a:lnTo>
                    <a:pt x="1448" y="2822"/>
                  </a:lnTo>
                  <a:lnTo>
                    <a:pt x="1448" y="2820"/>
                  </a:lnTo>
                  <a:lnTo>
                    <a:pt x="1448" y="2819"/>
                  </a:lnTo>
                  <a:lnTo>
                    <a:pt x="1449" y="2817"/>
                  </a:lnTo>
                  <a:lnTo>
                    <a:pt x="1451" y="2815"/>
                  </a:lnTo>
                  <a:lnTo>
                    <a:pt x="1452" y="2815"/>
                  </a:lnTo>
                  <a:lnTo>
                    <a:pt x="1452" y="2815"/>
                  </a:lnTo>
                  <a:close/>
                  <a:moveTo>
                    <a:pt x="1520" y="2815"/>
                  </a:moveTo>
                  <a:lnTo>
                    <a:pt x="1549" y="2815"/>
                  </a:lnTo>
                  <a:lnTo>
                    <a:pt x="1551" y="2815"/>
                  </a:lnTo>
                  <a:lnTo>
                    <a:pt x="1552" y="2817"/>
                  </a:lnTo>
                  <a:lnTo>
                    <a:pt x="1552" y="2819"/>
                  </a:lnTo>
                  <a:lnTo>
                    <a:pt x="1554" y="2820"/>
                  </a:lnTo>
                  <a:lnTo>
                    <a:pt x="1552" y="2822"/>
                  </a:lnTo>
                  <a:lnTo>
                    <a:pt x="1552" y="2823"/>
                  </a:lnTo>
                  <a:lnTo>
                    <a:pt x="1551" y="2825"/>
                  </a:lnTo>
                  <a:lnTo>
                    <a:pt x="1549" y="2825"/>
                  </a:lnTo>
                  <a:lnTo>
                    <a:pt x="1520" y="2825"/>
                  </a:lnTo>
                  <a:lnTo>
                    <a:pt x="1519" y="2825"/>
                  </a:lnTo>
                  <a:lnTo>
                    <a:pt x="1515" y="2823"/>
                  </a:lnTo>
                  <a:lnTo>
                    <a:pt x="1515" y="2822"/>
                  </a:lnTo>
                  <a:lnTo>
                    <a:pt x="1515" y="2820"/>
                  </a:lnTo>
                  <a:lnTo>
                    <a:pt x="1515" y="2819"/>
                  </a:lnTo>
                  <a:lnTo>
                    <a:pt x="1515" y="2817"/>
                  </a:lnTo>
                  <a:lnTo>
                    <a:pt x="1519" y="2815"/>
                  </a:lnTo>
                  <a:lnTo>
                    <a:pt x="1520" y="2815"/>
                  </a:lnTo>
                  <a:lnTo>
                    <a:pt x="1520" y="2815"/>
                  </a:lnTo>
                  <a:close/>
                  <a:moveTo>
                    <a:pt x="1588" y="2815"/>
                  </a:moveTo>
                  <a:lnTo>
                    <a:pt x="1615" y="2815"/>
                  </a:lnTo>
                  <a:lnTo>
                    <a:pt x="1617" y="2815"/>
                  </a:lnTo>
                  <a:lnTo>
                    <a:pt x="1619" y="2817"/>
                  </a:lnTo>
                  <a:lnTo>
                    <a:pt x="1620" y="2819"/>
                  </a:lnTo>
                  <a:lnTo>
                    <a:pt x="1620" y="2820"/>
                  </a:lnTo>
                  <a:lnTo>
                    <a:pt x="1620" y="2822"/>
                  </a:lnTo>
                  <a:lnTo>
                    <a:pt x="1619" y="2823"/>
                  </a:lnTo>
                  <a:lnTo>
                    <a:pt x="1617" y="2825"/>
                  </a:lnTo>
                  <a:lnTo>
                    <a:pt x="1615" y="2825"/>
                  </a:lnTo>
                  <a:lnTo>
                    <a:pt x="1588" y="2825"/>
                  </a:lnTo>
                  <a:lnTo>
                    <a:pt x="1585" y="2825"/>
                  </a:lnTo>
                  <a:lnTo>
                    <a:pt x="1583" y="2823"/>
                  </a:lnTo>
                  <a:lnTo>
                    <a:pt x="1583" y="2822"/>
                  </a:lnTo>
                  <a:lnTo>
                    <a:pt x="1582" y="2820"/>
                  </a:lnTo>
                  <a:lnTo>
                    <a:pt x="1583" y="2819"/>
                  </a:lnTo>
                  <a:lnTo>
                    <a:pt x="1583" y="2817"/>
                  </a:lnTo>
                  <a:lnTo>
                    <a:pt x="1585" y="2815"/>
                  </a:lnTo>
                  <a:lnTo>
                    <a:pt x="1588" y="2815"/>
                  </a:lnTo>
                  <a:lnTo>
                    <a:pt x="1588" y="2815"/>
                  </a:lnTo>
                  <a:close/>
                  <a:moveTo>
                    <a:pt x="1654" y="2815"/>
                  </a:moveTo>
                  <a:lnTo>
                    <a:pt x="1683" y="2815"/>
                  </a:lnTo>
                  <a:lnTo>
                    <a:pt x="1685" y="2815"/>
                  </a:lnTo>
                  <a:lnTo>
                    <a:pt x="1686" y="2817"/>
                  </a:lnTo>
                  <a:lnTo>
                    <a:pt x="1688" y="2819"/>
                  </a:lnTo>
                  <a:lnTo>
                    <a:pt x="1688" y="2820"/>
                  </a:lnTo>
                  <a:lnTo>
                    <a:pt x="1688" y="2822"/>
                  </a:lnTo>
                  <a:lnTo>
                    <a:pt x="1686" y="2823"/>
                  </a:lnTo>
                  <a:lnTo>
                    <a:pt x="1685" y="2825"/>
                  </a:lnTo>
                  <a:lnTo>
                    <a:pt x="1683" y="2825"/>
                  </a:lnTo>
                  <a:lnTo>
                    <a:pt x="1654" y="2825"/>
                  </a:lnTo>
                  <a:lnTo>
                    <a:pt x="1652" y="2825"/>
                  </a:lnTo>
                  <a:lnTo>
                    <a:pt x="1651" y="2823"/>
                  </a:lnTo>
                  <a:lnTo>
                    <a:pt x="1649" y="2822"/>
                  </a:lnTo>
                  <a:lnTo>
                    <a:pt x="1649" y="2820"/>
                  </a:lnTo>
                  <a:lnTo>
                    <a:pt x="1649" y="2819"/>
                  </a:lnTo>
                  <a:lnTo>
                    <a:pt x="1651" y="2817"/>
                  </a:lnTo>
                  <a:lnTo>
                    <a:pt x="1652" y="2815"/>
                  </a:lnTo>
                  <a:lnTo>
                    <a:pt x="1654" y="2815"/>
                  </a:lnTo>
                  <a:lnTo>
                    <a:pt x="1654" y="2815"/>
                  </a:lnTo>
                  <a:close/>
                  <a:moveTo>
                    <a:pt x="1722" y="2815"/>
                  </a:moveTo>
                  <a:lnTo>
                    <a:pt x="1751" y="2815"/>
                  </a:lnTo>
                  <a:lnTo>
                    <a:pt x="1752" y="2815"/>
                  </a:lnTo>
                  <a:lnTo>
                    <a:pt x="1754" y="2817"/>
                  </a:lnTo>
                  <a:lnTo>
                    <a:pt x="1755" y="2819"/>
                  </a:lnTo>
                  <a:lnTo>
                    <a:pt x="1755" y="2820"/>
                  </a:lnTo>
                  <a:lnTo>
                    <a:pt x="1755" y="2822"/>
                  </a:lnTo>
                  <a:lnTo>
                    <a:pt x="1754" y="2823"/>
                  </a:lnTo>
                  <a:lnTo>
                    <a:pt x="1752" y="2825"/>
                  </a:lnTo>
                  <a:lnTo>
                    <a:pt x="1751" y="2825"/>
                  </a:lnTo>
                  <a:lnTo>
                    <a:pt x="1722" y="2825"/>
                  </a:lnTo>
                  <a:lnTo>
                    <a:pt x="1720" y="2825"/>
                  </a:lnTo>
                  <a:lnTo>
                    <a:pt x="1719" y="2823"/>
                  </a:lnTo>
                  <a:lnTo>
                    <a:pt x="1717" y="2822"/>
                  </a:lnTo>
                  <a:lnTo>
                    <a:pt x="1717" y="2820"/>
                  </a:lnTo>
                  <a:lnTo>
                    <a:pt x="1717" y="2819"/>
                  </a:lnTo>
                  <a:lnTo>
                    <a:pt x="1719" y="2817"/>
                  </a:lnTo>
                  <a:lnTo>
                    <a:pt x="1720" y="2815"/>
                  </a:lnTo>
                  <a:lnTo>
                    <a:pt x="1722" y="2815"/>
                  </a:lnTo>
                  <a:lnTo>
                    <a:pt x="1722" y="2815"/>
                  </a:lnTo>
                  <a:close/>
                  <a:moveTo>
                    <a:pt x="1789" y="2815"/>
                  </a:moveTo>
                  <a:lnTo>
                    <a:pt x="1818" y="2815"/>
                  </a:lnTo>
                  <a:lnTo>
                    <a:pt x="1820" y="2815"/>
                  </a:lnTo>
                  <a:lnTo>
                    <a:pt x="1822" y="2817"/>
                  </a:lnTo>
                  <a:lnTo>
                    <a:pt x="1822" y="2819"/>
                  </a:lnTo>
                  <a:lnTo>
                    <a:pt x="1823" y="2820"/>
                  </a:lnTo>
                  <a:lnTo>
                    <a:pt x="1822" y="2822"/>
                  </a:lnTo>
                  <a:lnTo>
                    <a:pt x="1822" y="2823"/>
                  </a:lnTo>
                  <a:lnTo>
                    <a:pt x="1820" y="2825"/>
                  </a:lnTo>
                  <a:lnTo>
                    <a:pt x="1818" y="2825"/>
                  </a:lnTo>
                  <a:lnTo>
                    <a:pt x="1789" y="2825"/>
                  </a:lnTo>
                  <a:lnTo>
                    <a:pt x="1788" y="2825"/>
                  </a:lnTo>
                  <a:lnTo>
                    <a:pt x="1785" y="2823"/>
                  </a:lnTo>
                  <a:lnTo>
                    <a:pt x="1785" y="2822"/>
                  </a:lnTo>
                  <a:lnTo>
                    <a:pt x="1785" y="2820"/>
                  </a:lnTo>
                  <a:lnTo>
                    <a:pt x="1785" y="2819"/>
                  </a:lnTo>
                  <a:lnTo>
                    <a:pt x="1785" y="2817"/>
                  </a:lnTo>
                  <a:lnTo>
                    <a:pt x="1788" y="2815"/>
                  </a:lnTo>
                  <a:lnTo>
                    <a:pt x="1789" y="2815"/>
                  </a:lnTo>
                  <a:lnTo>
                    <a:pt x="1789" y="2815"/>
                  </a:lnTo>
                  <a:close/>
                  <a:moveTo>
                    <a:pt x="1857" y="2815"/>
                  </a:moveTo>
                  <a:lnTo>
                    <a:pt x="1885" y="2815"/>
                  </a:lnTo>
                  <a:lnTo>
                    <a:pt x="1886" y="2815"/>
                  </a:lnTo>
                  <a:lnTo>
                    <a:pt x="1888" y="2817"/>
                  </a:lnTo>
                  <a:lnTo>
                    <a:pt x="1889" y="2819"/>
                  </a:lnTo>
                  <a:lnTo>
                    <a:pt x="1889" y="2820"/>
                  </a:lnTo>
                  <a:lnTo>
                    <a:pt x="1889" y="2822"/>
                  </a:lnTo>
                  <a:lnTo>
                    <a:pt x="1888" y="2823"/>
                  </a:lnTo>
                  <a:lnTo>
                    <a:pt x="1886" y="2825"/>
                  </a:lnTo>
                  <a:lnTo>
                    <a:pt x="1885" y="2825"/>
                  </a:lnTo>
                  <a:lnTo>
                    <a:pt x="1857" y="2825"/>
                  </a:lnTo>
                  <a:lnTo>
                    <a:pt x="1854" y="2825"/>
                  </a:lnTo>
                  <a:lnTo>
                    <a:pt x="1852" y="2823"/>
                  </a:lnTo>
                  <a:lnTo>
                    <a:pt x="1852" y="2822"/>
                  </a:lnTo>
                  <a:lnTo>
                    <a:pt x="1851" y="2820"/>
                  </a:lnTo>
                  <a:lnTo>
                    <a:pt x="1852" y="2819"/>
                  </a:lnTo>
                  <a:lnTo>
                    <a:pt x="1852" y="2817"/>
                  </a:lnTo>
                  <a:lnTo>
                    <a:pt x="1854" y="2815"/>
                  </a:lnTo>
                  <a:lnTo>
                    <a:pt x="1857" y="2815"/>
                  </a:lnTo>
                  <a:lnTo>
                    <a:pt x="1857" y="2815"/>
                  </a:lnTo>
                  <a:close/>
                  <a:moveTo>
                    <a:pt x="1923" y="2815"/>
                  </a:moveTo>
                  <a:lnTo>
                    <a:pt x="1952" y="2815"/>
                  </a:lnTo>
                  <a:lnTo>
                    <a:pt x="1954" y="2815"/>
                  </a:lnTo>
                  <a:lnTo>
                    <a:pt x="1955" y="2817"/>
                  </a:lnTo>
                  <a:lnTo>
                    <a:pt x="1957" y="2819"/>
                  </a:lnTo>
                  <a:lnTo>
                    <a:pt x="1957" y="2820"/>
                  </a:lnTo>
                  <a:lnTo>
                    <a:pt x="1957" y="2822"/>
                  </a:lnTo>
                  <a:lnTo>
                    <a:pt x="1955" y="2823"/>
                  </a:lnTo>
                  <a:lnTo>
                    <a:pt x="1954" y="2825"/>
                  </a:lnTo>
                  <a:lnTo>
                    <a:pt x="1952" y="2825"/>
                  </a:lnTo>
                  <a:lnTo>
                    <a:pt x="1923" y="2825"/>
                  </a:lnTo>
                  <a:lnTo>
                    <a:pt x="1922" y="2825"/>
                  </a:lnTo>
                  <a:lnTo>
                    <a:pt x="1920" y="2823"/>
                  </a:lnTo>
                  <a:lnTo>
                    <a:pt x="1918" y="2822"/>
                  </a:lnTo>
                  <a:lnTo>
                    <a:pt x="1918" y="2820"/>
                  </a:lnTo>
                  <a:lnTo>
                    <a:pt x="1918" y="2819"/>
                  </a:lnTo>
                  <a:lnTo>
                    <a:pt x="1920" y="2817"/>
                  </a:lnTo>
                  <a:lnTo>
                    <a:pt x="1922" y="2815"/>
                  </a:lnTo>
                  <a:lnTo>
                    <a:pt x="1923" y="2815"/>
                  </a:lnTo>
                  <a:lnTo>
                    <a:pt x="1923" y="2815"/>
                  </a:lnTo>
                  <a:close/>
                  <a:moveTo>
                    <a:pt x="1991" y="2815"/>
                  </a:moveTo>
                  <a:lnTo>
                    <a:pt x="2020" y="2815"/>
                  </a:lnTo>
                  <a:lnTo>
                    <a:pt x="2022" y="2815"/>
                  </a:lnTo>
                  <a:lnTo>
                    <a:pt x="2023" y="2817"/>
                  </a:lnTo>
                  <a:lnTo>
                    <a:pt x="2025" y="2819"/>
                  </a:lnTo>
                  <a:lnTo>
                    <a:pt x="2025" y="2820"/>
                  </a:lnTo>
                  <a:lnTo>
                    <a:pt x="2025" y="2822"/>
                  </a:lnTo>
                  <a:lnTo>
                    <a:pt x="2023" y="2823"/>
                  </a:lnTo>
                  <a:lnTo>
                    <a:pt x="2022" y="2825"/>
                  </a:lnTo>
                  <a:lnTo>
                    <a:pt x="2020" y="2825"/>
                  </a:lnTo>
                  <a:lnTo>
                    <a:pt x="1991" y="2825"/>
                  </a:lnTo>
                  <a:lnTo>
                    <a:pt x="1989" y="2825"/>
                  </a:lnTo>
                  <a:lnTo>
                    <a:pt x="1988" y="2823"/>
                  </a:lnTo>
                  <a:lnTo>
                    <a:pt x="1986" y="2822"/>
                  </a:lnTo>
                  <a:lnTo>
                    <a:pt x="1986" y="2820"/>
                  </a:lnTo>
                  <a:lnTo>
                    <a:pt x="1986" y="2819"/>
                  </a:lnTo>
                  <a:lnTo>
                    <a:pt x="1988" y="2817"/>
                  </a:lnTo>
                  <a:lnTo>
                    <a:pt x="1989" y="2815"/>
                  </a:lnTo>
                  <a:lnTo>
                    <a:pt x="1991" y="2815"/>
                  </a:lnTo>
                  <a:lnTo>
                    <a:pt x="1991" y="2815"/>
                  </a:lnTo>
                  <a:close/>
                  <a:moveTo>
                    <a:pt x="2058" y="2815"/>
                  </a:moveTo>
                  <a:lnTo>
                    <a:pt x="2088" y="2815"/>
                  </a:lnTo>
                  <a:lnTo>
                    <a:pt x="2089" y="2815"/>
                  </a:lnTo>
                  <a:lnTo>
                    <a:pt x="2091" y="2817"/>
                  </a:lnTo>
                  <a:lnTo>
                    <a:pt x="2091" y="2819"/>
                  </a:lnTo>
                  <a:lnTo>
                    <a:pt x="2092" y="2820"/>
                  </a:lnTo>
                  <a:lnTo>
                    <a:pt x="2091" y="2822"/>
                  </a:lnTo>
                  <a:lnTo>
                    <a:pt x="2091" y="2823"/>
                  </a:lnTo>
                  <a:lnTo>
                    <a:pt x="2089" y="2825"/>
                  </a:lnTo>
                  <a:lnTo>
                    <a:pt x="2088" y="2825"/>
                  </a:lnTo>
                  <a:lnTo>
                    <a:pt x="2058" y="2825"/>
                  </a:lnTo>
                  <a:lnTo>
                    <a:pt x="2057" y="2825"/>
                  </a:lnTo>
                  <a:lnTo>
                    <a:pt x="2054" y="2823"/>
                  </a:lnTo>
                  <a:lnTo>
                    <a:pt x="2054" y="2822"/>
                  </a:lnTo>
                  <a:lnTo>
                    <a:pt x="2054" y="2820"/>
                  </a:lnTo>
                  <a:lnTo>
                    <a:pt x="2054" y="2819"/>
                  </a:lnTo>
                  <a:lnTo>
                    <a:pt x="2054" y="2817"/>
                  </a:lnTo>
                  <a:lnTo>
                    <a:pt x="2057" y="2815"/>
                  </a:lnTo>
                  <a:lnTo>
                    <a:pt x="2058" y="2815"/>
                  </a:lnTo>
                  <a:lnTo>
                    <a:pt x="2058" y="2815"/>
                  </a:lnTo>
                  <a:close/>
                  <a:moveTo>
                    <a:pt x="2126" y="2815"/>
                  </a:moveTo>
                  <a:lnTo>
                    <a:pt x="2154" y="2815"/>
                  </a:lnTo>
                  <a:lnTo>
                    <a:pt x="2155" y="2815"/>
                  </a:lnTo>
                  <a:lnTo>
                    <a:pt x="2157" y="2817"/>
                  </a:lnTo>
                  <a:lnTo>
                    <a:pt x="2158" y="2819"/>
                  </a:lnTo>
                  <a:lnTo>
                    <a:pt x="2158" y="2820"/>
                  </a:lnTo>
                  <a:lnTo>
                    <a:pt x="2158" y="2822"/>
                  </a:lnTo>
                  <a:lnTo>
                    <a:pt x="2157" y="2823"/>
                  </a:lnTo>
                  <a:lnTo>
                    <a:pt x="2155" y="2825"/>
                  </a:lnTo>
                  <a:lnTo>
                    <a:pt x="2154" y="2825"/>
                  </a:lnTo>
                  <a:lnTo>
                    <a:pt x="2126" y="2825"/>
                  </a:lnTo>
                  <a:lnTo>
                    <a:pt x="2123" y="2825"/>
                  </a:lnTo>
                  <a:lnTo>
                    <a:pt x="2121" y="2823"/>
                  </a:lnTo>
                  <a:lnTo>
                    <a:pt x="2121" y="2822"/>
                  </a:lnTo>
                  <a:lnTo>
                    <a:pt x="2120" y="2820"/>
                  </a:lnTo>
                  <a:lnTo>
                    <a:pt x="2121" y="2819"/>
                  </a:lnTo>
                  <a:lnTo>
                    <a:pt x="2121" y="2817"/>
                  </a:lnTo>
                  <a:lnTo>
                    <a:pt x="2123" y="2815"/>
                  </a:lnTo>
                  <a:lnTo>
                    <a:pt x="2126" y="2815"/>
                  </a:lnTo>
                  <a:lnTo>
                    <a:pt x="2126" y="2815"/>
                  </a:lnTo>
                  <a:close/>
                  <a:moveTo>
                    <a:pt x="2192" y="2815"/>
                  </a:moveTo>
                  <a:lnTo>
                    <a:pt x="2221" y="2815"/>
                  </a:lnTo>
                  <a:lnTo>
                    <a:pt x="2223" y="2815"/>
                  </a:lnTo>
                  <a:lnTo>
                    <a:pt x="2225" y="2817"/>
                  </a:lnTo>
                  <a:lnTo>
                    <a:pt x="2226" y="2819"/>
                  </a:lnTo>
                  <a:lnTo>
                    <a:pt x="2226" y="2820"/>
                  </a:lnTo>
                  <a:lnTo>
                    <a:pt x="2226" y="2822"/>
                  </a:lnTo>
                  <a:lnTo>
                    <a:pt x="2225" y="2823"/>
                  </a:lnTo>
                  <a:lnTo>
                    <a:pt x="2223" y="2825"/>
                  </a:lnTo>
                  <a:lnTo>
                    <a:pt x="2221" y="2825"/>
                  </a:lnTo>
                  <a:lnTo>
                    <a:pt x="2192" y="2825"/>
                  </a:lnTo>
                  <a:lnTo>
                    <a:pt x="2191" y="2825"/>
                  </a:lnTo>
                  <a:lnTo>
                    <a:pt x="2189" y="2823"/>
                  </a:lnTo>
                  <a:lnTo>
                    <a:pt x="2188" y="2822"/>
                  </a:lnTo>
                  <a:lnTo>
                    <a:pt x="2188" y="2820"/>
                  </a:lnTo>
                  <a:lnTo>
                    <a:pt x="2188" y="2819"/>
                  </a:lnTo>
                  <a:lnTo>
                    <a:pt x="2189" y="2817"/>
                  </a:lnTo>
                  <a:lnTo>
                    <a:pt x="2191" y="2815"/>
                  </a:lnTo>
                  <a:lnTo>
                    <a:pt x="2192" y="2815"/>
                  </a:lnTo>
                  <a:lnTo>
                    <a:pt x="2192" y="2815"/>
                  </a:lnTo>
                  <a:close/>
                  <a:moveTo>
                    <a:pt x="2260" y="2815"/>
                  </a:moveTo>
                  <a:lnTo>
                    <a:pt x="2289" y="2815"/>
                  </a:lnTo>
                  <a:lnTo>
                    <a:pt x="2291" y="2815"/>
                  </a:lnTo>
                  <a:lnTo>
                    <a:pt x="2292" y="2817"/>
                  </a:lnTo>
                  <a:lnTo>
                    <a:pt x="2294" y="2819"/>
                  </a:lnTo>
                  <a:lnTo>
                    <a:pt x="2294" y="2820"/>
                  </a:lnTo>
                  <a:lnTo>
                    <a:pt x="2294" y="2822"/>
                  </a:lnTo>
                  <a:lnTo>
                    <a:pt x="2292" y="2823"/>
                  </a:lnTo>
                  <a:lnTo>
                    <a:pt x="2291" y="2825"/>
                  </a:lnTo>
                  <a:lnTo>
                    <a:pt x="2289" y="2825"/>
                  </a:lnTo>
                  <a:lnTo>
                    <a:pt x="2260" y="2825"/>
                  </a:lnTo>
                  <a:lnTo>
                    <a:pt x="2258" y="2825"/>
                  </a:lnTo>
                  <a:lnTo>
                    <a:pt x="2257" y="2823"/>
                  </a:lnTo>
                  <a:lnTo>
                    <a:pt x="2255" y="2822"/>
                  </a:lnTo>
                  <a:lnTo>
                    <a:pt x="2255" y="2820"/>
                  </a:lnTo>
                  <a:lnTo>
                    <a:pt x="2255" y="2819"/>
                  </a:lnTo>
                  <a:lnTo>
                    <a:pt x="2257" y="2817"/>
                  </a:lnTo>
                  <a:lnTo>
                    <a:pt x="2258" y="2815"/>
                  </a:lnTo>
                  <a:lnTo>
                    <a:pt x="2260" y="2815"/>
                  </a:lnTo>
                  <a:lnTo>
                    <a:pt x="2260" y="2815"/>
                  </a:lnTo>
                  <a:close/>
                  <a:moveTo>
                    <a:pt x="2328" y="2815"/>
                  </a:moveTo>
                  <a:lnTo>
                    <a:pt x="2357" y="2815"/>
                  </a:lnTo>
                  <a:lnTo>
                    <a:pt x="2358" y="2815"/>
                  </a:lnTo>
                  <a:lnTo>
                    <a:pt x="2360" y="2817"/>
                  </a:lnTo>
                  <a:lnTo>
                    <a:pt x="2360" y="2819"/>
                  </a:lnTo>
                  <a:lnTo>
                    <a:pt x="2361" y="2820"/>
                  </a:lnTo>
                  <a:lnTo>
                    <a:pt x="2360" y="2822"/>
                  </a:lnTo>
                  <a:lnTo>
                    <a:pt x="2360" y="2823"/>
                  </a:lnTo>
                  <a:lnTo>
                    <a:pt x="2358" y="2825"/>
                  </a:lnTo>
                  <a:lnTo>
                    <a:pt x="2357" y="2825"/>
                  </a:lnTo>
                  <a:lnTo>
                    <a:pt x="2328" y="2825"/>
                  </a:lnTo>
                  <a:lnTo>
                    <a:pt x="2326" y="2825"/>
                  </a:lnTo>
                  <a:lnTo>
                    <a:pt x="2323" y="2823"/>
                  </a:lnTo>
                  <a:lnTo>
                    <a:pt x="2323" y="2822"/>
                  </a:lnTo>
                  <a:lnTo>
                    <a:pt x="2323" y="2820"/>
                  </a:lnTo>
                  <a:lnTo>
                    <a:pt x="2323" y="2819"/>
                  </a:lnTo>
                  <a:lnTo>
                    <a:pt x="2323" y="2817"/>
                  </a:lnTo>
                  <a:lnTo>
                    <a:pt x="2326" y="2815"/>
                  </a:lnTo>
                  <a:lnTo>
                    <a:pt x="2328" y="2815"/>
                  </a:lnTo>
                  <a:lnTo>
                    <a:pt x="2328" y="2815"/>
                  </a:lnTo>
                  <a:close/>
                  <a:moveTo>
                    <a:pt x="2395" y="2815"/>
                  </a:moveTo>
                  <a:lnTo>
                    <a:pt x="2423" y="2815"/>
                  </a:lnTo>
                  <a:lnTo>
                    <a:pt x="2425" y="2815"/>
                  </a:lnTo>
                  <a:lnTo>
                    <a:pt x="2426" y="2817"/>
                  </a:lnTo>
                  <a:lnTo>
                    <a:pt x="2428" y="2819"/>
                  </a:lnTo>
                  <a:lnTo>
                    <a:pt x="2428" y="2820"/>
                  </a:lnTo>
                  <a:lnTo>
                    <a:pt x="2428" y="2822"/>
                  </a:lnTo>
                  <a:lnTo>
                    <a:pt x="2426" y="2823"/>
                  </a:lnTo>
                  <a:lnTo>
                    <a:pt x="2425" y="2825"/>
                  </a:lnTo>
                  <a:lnTo>
                    <a:pt x="2423" y="2825"/>
                  </a:lnTo>
                  <a:lnTo>
                    <a:pt x="2395" y="2825"/>
                  </a:lnTo>
                  <a:lnTo>
                    <a:pt x="2392" y="2825"/>
                  </a:lnTo>
                  <a:lnTo>
                    <a:pt x="2391" y="2823"/>
                  </a:lnTo>
                  <a:lnTo>
                    <a:pt x="2391" y="2822"/>
                  </a:lnTo>
                  <a:lnTo>
                    <a:pt x="2389" y="2820"/>
                  </a:lnTo>
                  <a:lnTo>
                    <a:pt x="2391" y="2819"/>
                  </a:lnTo>
                  <a:lnTo>
                    <a:pt x="2391" y="2817"/>
                  </a:lnTo>
                  <a:lnTo>
                    <a:pt x="2392" y="2815"/>
                  </a:lnTo>
                  <a:lnTo>
                    <a:pt x="2395" y="2815"/>
                  </a:lnTo>
                  <a:lnTo>
                    <a:pt x="2395" y="2815"/>
                  </a:lnTo>
                  <a:close/>
                  <a:moveTo>
                    <a:pt x="2461" y="2815"/>
                  </a:moveTo>
                  <a:lnTo>
                    <a:pt x="2491" y="2815"/>
                  </a:lnTo>
                  <a:lnTo>
                    <a:pt x="2492" y="2815"/>
                  </a:lnTo>
                  <a:lnTo>
                    <a:pt x="2494" y="2817"/>
                  </a:lnTo>
                  <a:lnTo>
                    <a:pt x="2495" y="2819"/>
                  </a:lnTo>
                  <a:lnTo>
                    <a:pt x="2495" y="2820"/>
                  </a:lnTo>
                  <a:lnTo>
                    <a:pt x="2495" y="2822"/>
                  </a:lnTo>
                  <a:lnTo>
                    <a:pt x="2494" y="2823"/>
                  </a:lnTo>
                  <a:lnTo>
                    <a:pt x="2492" y="2825"/>
                  </a:lnTo>
                  <a:lnTo>
                    <a:pt x="2491" y="2825"/>
                  </a:lnTo>
                  <a:lnTo>
                    <a:pt x="2461" y="2825"/>
                  </a:lnTo>
                  <a:lnTo>
                    <a:pt x="2460" y="2825"/>
                  </a:lnTo>
                  <a:lnTo>
                    <a:pt x="2458" y="2823"/>
                  </a:lnTo>
                  <a:lnTo>
                    <a:pt x="2457" y="2822"/>
                  </a:lnTo>
                  <a:lnTo>
                    <a:pt x="2457" y="2820"/>
                  </a:lnTo>
                  <a:lnTo>
                    <a:pt x="2457" y="2819"/>
                  </a:lnTo>
                  <a:lnTo>
                    <a:pt x="2458" y="2817"/>
                  </a:lnTo>
                  <a:lnTo>
                    <a:pt x="2460" y="2815"/>
                  </a:lnTo>
                  <a:lnTo>
                    <a:pt x="2461" y="2815"/>
                  </a:lnTo>
                  <a:lnTo>
                    <a:pt x="2461" y="2815"/>
                  </a:lnTo>
                  <a:close/>
                  <a:moveTo>
                    <a:pt x="2529" y="2815"/>
                  </a:moveTo>
                  <a:lnTo>
                    <a:pt x="2558" y="2815"/>
                  </a:lnTo>
                  <a:lnTo>
                    <a:pt x="2560" y="2815"/>
                  </a:lnTo>
                  <a:lnTo>
                    <a:pt x="2561" y="2817"/>
                  </a:lnTo>
                  <a:lnTo>
                    <a:pt x="2563" y="2819"/>
                  </a:lnTo>
                  <a:lnTo>
                    <a:pt x="2563" y="2820"/>
                  </a:lnTo>
                  <a:lnTo>
                    <a:pt x="2563" y="2822"/>
                  </a:lnTo>
                  <a:lnTo>
                    <a:pt x="2561" y="2823"/>
                  </a:lnTo>
                  <a:lnTo>
                    <a:pt x="2560" y="2825"/>
                  </a:lnTo>
                  <a:lnTo>
                    <a:pt x="2558" y="2825"/>
                  </a:lnTo>
                  <a:lnTo>
                    <a:pt x="2529" y="2825"/>
                  </a:lnTo>
                  <a:lnTo>
                    <a:pt x="2528" y="2825"/>
                  </a:lnTo>
                  <a:lnTo>
                    <a:pt x="2526" y="2823"/>
                  </a:lnTo>
                  <a:lnTo>
                    <a:pt x="2524" y="2822"/>
                  </a:lnTo>
                  <a:lnTo>
                    <a:pt x="2524" y="2820"/>
                  </a:lnTo>
                  <a:lnTo>
                    <a:pt x="2524" y="2819"/>
                  </a:lnTo>
                  <a:lnTo>
                    <a:pt x="2526" y="2817"/>
                  </a:lnTo>
                  <a:lnTo>
                    <a:pt x="2528" y="2815"/>
                  </a:lnTo>
                  <a:lnTo>
                    <a:pt x="2529" y="2815"/>
                  </a:lnTo>
                  <a:lnTo>
                    <a:pt x="2529" y="2815"/>
                  </a:lnTo>
                  <a:close/>
                  <a:moveTo>
                    <a:pt x="2597" y="2815"/>
                  </a:moveTo>
                  <a:lnTo>
                    <a:pt x="2626" y="2815"/>
                  </a:lnTo>
                  <a:lnTo>
                    <a:pt x="2628" y="2815"/>
                  </a:lnTo>
                  <a:lnTo>
                    <a:pt x="2629" y="2817"/>
                  </a:lnTo>
                  <a:lnTo>
                    <a:pt x="2629" y="2819"/>
                  </a:lnTo>
                  <a:lnTo>
                    <a:pt x="2631" y="2820"/>
                  </a:lnTo>
                  <a:lnTo>
                    <a:pt x="2629" y="2822"/>
                  </a:lnTo>
                  <a:lnTo>
                    <a:pt x="2629" y="2823"/>
                  </a:lnTo>
                  <a:lnTo>
                    <a:pt x="2628" y="2825"/>
                  </a:lnTo>
                  <a:lnTo>
                    <a:pt x="2626" y="2825"/>
                  </a:lnTo>
                  <a:lnTo>
                    <a:pt x="2597" y="2825"/>
                  </a:lnTo>
                  <a:lnTo>
                    <a:pt x="2595" y="2825"/>
                  </a:lnTo>
                  <a:lnTo>
                    <a:pt x="2592" y="2823"/>
                  </a:lnTo>
                  <a:lnTo>
                    <a:pt x="2592" y="2822"/>
                  </a:lnTo>
                  <a:lnTo>
                    <a:pt x="2592" y="2820"/>
                  </a:lnTo>
                  <a:lnTo>
                    <a:pt x="2592" y="2819"/>
                  </a:lnTo>
                  <a:lnTo>
                    <a:pt x="2592" y="2817"/>
                  </a:lnTo>
                  <a:lnTo>
                    <a:pt x="2595" y="2815"/>
                  </a:lnTo>
                  <a:lnTo>
                    <a:pt x="2597" y="2815"/>
                  </a:lnTo>
                  <a:lnTo>
                    <a:pt x="2597" y="2815"/>
                  </a:lnTo>
                  <a:close/>
                  <a:moveTo>
                    <a:pt x="2664" y="2815"/>
                  </a:moveTo>
                  <a:lnTo>
                    <a:pt x="2692" y="2815"/>
                  </a:lnTo>
                  <a:lnTo>
                    <a:pt x="2694" y="2815"/>
                  </a:lnTo>
                  <a:lnTo>
                    <a:pt x="2695" y="2817"/>
                  </a:lnTo>
                  <a:lnTo>
                    <a:pt x="2697" y="2819"/>
                  </a:lnTo>
                  <a:lnTo>
                    <a:pt x="2697" y="2820"/>
                  </a:lnTo>
                  <a:lnTo>
                    <a:pt x="2697" y="2822"/>
                  </a:lnTo>
                  <a:lnTo>
                    <a:pt x="2695" y="2823"/>
                  </a:lnTo>
                  <a:lnTo>
                    <a:pt x="2694" y="2825"/>
                  </a:lnTo>
                  <a:lnTo>
                    <a:pt x="2692" y="2825"/>
                  </a:lnTo>
                  <a:lnTo>
                    <a:pt x="2664" y="2825"/>
                  </a:lnTo>
                  <a:lnTo>
                    <a:pt x="2661" y="2825"/>
                  </a:lnTo>
                  <a:lnTo>
                    <a:pt x="2660" y="2823"/>
                  </a:lnTo>
                  <a:lnTo>
                    <a:pt x="2660" y="2822"/>
                  </a:lnTo>
                  <a:lnTo>
                    <a:pt x="2658" y="2820"/>
                  </a:lnTo>
                  <a:lnTo>
                    <a:pt x="2660" y="2819"/>
                  </a:lnTo>
                  <a:lnTo>
                    <a:pt x="2660" y="2817"/>
                  </a:lnTo>
                  <a:lnTo>
                    <a:pt x="2661" y="2815"/>
                  </a:lnTo>
                  <a:lnTo>
                    <a:pt x="2664" y="2815"/>
                  </a:lnTo>
                  <a:lnTo>
                    <a:pt x="2664" y="2815"/>
                  </a:lnTo>
                  <a:close/>
                  <a:moveTo>
                    <a:pt x="2731" y="2815"/>
                  </a:moveTo>
                  <a:lnTo>
                    <a:pt x="2760" y="2815"/>
                  </a:lnTo>
                  <a:lnTo>
                    <a:pt x="2761" y="2815"/>
                  </a:lnTo>
                  <a:lnTo>
                    <a:pt x="2763" y="2817"/>
                  </a:lnTo>
                  <a:lnTo>
                    <a:pt x="2764" y="2819"/>
                  </a:lnTo>
                  <a:lnTo>
                    <a:pt x="2764" y="2820"/>
                  </a:lnTo>
                  <a:lnTo>
                    <a:pt x="2764" y="2822"/>
                  </a:lnTo>
                  <a:lnTo>
                    <a:pt x="2763" y="2823"/>
                  </a:lnTo>
                  <a:lnTo>
                    <a:pt x="2761" y="2825"/>
                  </a:lnTo>
                  <a:lnTo>
                    <a:pt x="2760" y="2825"/>
                  </a:lnTo>
                  <a:lnTo>
                    <a:pt x="2731" y="2825"/>
                  </a:lnTo>
                  <a:lnTo>
                    <a:pt x="2729" y="2825"/>
                  </a:lnTo>
                  <a:lnTo>
                    <a:pt x="2728" y="2823"/>
                  </a:lnTo>
                  <a:lnTo>
                    <a:pt x="2726" y="2822"/>
                  </a:lnTo>
                  <a:lnTo>
                    <a:pt x="2726" y="2820"/>
                  </a:lnTo>
                  <a:lnTo>
                    <a:pt x="2726" y="2819"/>
                  </a:lnTo>
                  <a:lnTo>
                    <a:pt x="2728" y="2817"/>
                  </a:lnTo>
                  <a:lnTo>
                    <a:pt x="2729" y="2815"/>
                  </a:lnTo>
                  <a:lnTo>
                    <a:pt x="2731" y="2815"/>
                  </a:lnTo>
                  <a:lnTo>
                    <a:pt x="2731" y="2815"/>
                  </a:lnTo>
                  <a:close/>
                  <a:moveTo>
                    <a:pt x="2798" y="2815"/>
                  </a:moveTo>
                  <a:lnTo>
                    <a:pt x="2828" y="2815"/>
                  </a:lnTo>
                  <a:lnTo>
                    <a:pt x="2829" y="2815"/>
                  </a:lnTo>
                  <a:lnTo>
                    <a:pt x="2831" y="2817"/>
                  </a:lnTo>
                  <a:lnTo>
                    <a:pt x="2832" y="2819"/>
                  </a:lnTo>
                  <a:lnTo>
                    <a:pt x="2832" y="2820"/>
                  </a:lnTo>
                  <a:lnTo>
                    <a:pt x="2832" y="2822"/>
                  </a:lnTo>
                  <a:lnTo>
                    <a:pt x="2831" y="2823"/>
                  </a:lnTo>
                  <a:lnTo>
                    <a:pt x="2829" y="2825"/>
                  </a:lnTo>
                  <a:lnTo>
                    <a:pt x="2828" y="2825"/>
                  </a:lnTo>
                  <a:lnTo>
                    <a:pt x="2798" y="2825"/>
                  </a:lnTo>
                  <a:lnTo>
                    <a:pt x="2797" y="2825"/>
                  </a:lnTo>
                  <a:lnTo>
                    <a:pt x="2795" y="2823"/>
                  </a:lnTo>
                  <a:lnTo>
                    <a:pt x="2794" y="2822"/>
                  </a:lnTo>
                  <a:lnTo>
                    <a:pt x="2794" y="2820"/>
                  </a:lnTo>
                  <a:lnTo>
                    <a:pt x="2794" y="2819"/>
                  </a:lnTo>
                  <a:lnTo>
                    <a:pt x="2795" y="2817"/>
                  </a:lnTo>
                  <a:lnTo>
                    <a:pt x="2797" y="2815"/>
                  </a:lnTo>
                  <a:lnTo>
                    <a:pt x="2798" y="2815"/>
                  </a:lnTo>
                  <a:lnTo>
                    <a:pt x="2798" y="2815"/>
                  </a:lnTo>
                  <a:close/>
                  <a:moveTo>
                    <a:pt x="2866" y="2815"/>
                  </a:moveTo>
                  <a:lnTo>
                    <a:pt x="2895" y="2815"/>
                  </a:lnTo>
                  <a:lnTo>
                    <a:pt x="2897" y="2815"/>
                  </a:lnTo>
                  <a:lnTo>
                    <a:pt x="2898" y="2817"/>
                  </a:lnTo>
                  <a:lnTo>
                    <a:pt x="2898" y="2819"/>
                  </a:lnTo>
                  <a:lnTo>
                    <a:pt x="2900" y="2820"/>
                  </a:lnTo>
                  <a:lnTo>
                    <a:pt x="2898" y="2822"/>
                  </a:lnTo>
                  <a:lnTo>
                    <a:pt x="2898" y="2823"/>
                  </a:lnTo>
                  <a:lnTo>
                    <a:pt x="2897" y="2825"/>
                  </a:lnTo>
                  <a:lnTo>
                    <a:pt x="2895" y="2825"/>
                  </a:lnTo>
                  <a:lnTo>
                    <a:pt x="2866" y="2825"/>
                  </a:lnTo>
                  <a:lnTo>
                    <a:pt x="2864" y="2825"/>
                  </a:lnTo>
                  <a:lnTo>
                    <a:pt x="2861" y="2823"/>
                  </a:lnTo>
                  <a:lnTo>
                    <a:pt x="2861" y="2822"/>
                  </a:lnTo>
                  <a:lnTo>
                    <a:pt x="2861" y="2820"/>
                  </a:lnTo>
                  <a:lnTo>
                    <a:pt x="2861" y="2819"/>
                  </a:lnTo>
                  <a:lnTo>
                    <a:pt x="2861" y="2817"/>
                  </a:lnTo>
                  <a:lnTo>
                    <a:pt x="2864" y="2815"/>
                  </a:lnTo>
                  <a:lnTo>
                    <a:pt x="2866" y="2815"/>
                  </a:lnTo>
                  <a:lnTo>
                    <a:pt x="2866" y="2815"/>
                  </a:lnTo>
                  <a:close/>
                  <a:moveTo>
                    <a:pt x="2934" y="2815"/>
                  </a:moveTo>
                  <a:lnTo>
                    <a:pt x="2961" y="2815"/>
                  </a:lnTo>
                  <a:lnTo>
                    <a:pt x="2963" y="2815"/>
                  </a:lnTo>
                  <a:lnTo>
                    <a:pt x="2964" y="2817"/>
                  </a:lnTo>
                  <a:lnTo>
                    <a:pt x="2966" y="2819"/>
                  </a:lnTo>
                  <a:lnTo>
                    <a:pt x="2966" y="2820"/>
                  </a:lnTo>
                  <a:lnTo>
                    <a:pt x="2966" y="2822"/>
                  </a:lnTo>
                  <a:lnTo>
                    <a:pt x="2964" y="2823"/>
                  </a:lnTo>
                  <a:lnTo>
                    <a:pt x="2963" y="2825"/>
                  </a:lnTo>
                  <a:lnTo>
                    <a:pt x="2961" y="2825"/>
                  </a:lnTo>
                  <a:lnTo>
                    <a:pt x="2934" y="2825"/>
                  </a:lnTo>
                  <a:lnTo>
                    <a:pt x="2931" y="2825"/>
                  </a:lnTo>
                  <a:lnTo>
                    <a:pt x="2929" y="2823"/>
                  </a:lnTo>
                  <a:lnTo>
                    <a:pt x="2929" y="2822"/>
                  </a:lnTo>
                  <a:lnTo>
                    <a:pt x="2927" y="2820"/>
                  </a:lnTo>
                  <a:lnTo>
                    <a:pt x="2929" y="2819"/>
                  </a:lnTo>
                  <a:lnTo>
                    <a:pt x="2929" y="2817"/>
                  </a:lnTo>
                  <a:lnTo>
                    <a:pt x="2931" y="2815"/>
                  </a:lnTo>
                  <a:lnTo>
                    <a:pt x="2934" y="2815"/>
                  </a:lnTo>
                  <a:lnTo>
                    <a:pt x="2934" y="2815"/>
                  </a:lnTo>
                  <a:close/>
                  <a:moveTo>
                    <a:pt x="3000" y="2815"/>
                  </a:moveTo>
                  <a:lnTo>
                    <a:pt x="3029" y="2815"/>
                  </a:lnTo>
                  <a:lnTo>
                    <a:pt x="3031" y="2815"/>
                  </a:lnTo>
                  <a:lnTo>
                    <a:pt x="3032" y="2817"/>
                  </a:lnTo>
                  <a:lnTo>
                    <a:pt x="3034" y="2819"/>
                  </a:lnTo>
                  <a:lnTo>
                    <a:pt x="3034" y="2820"/>
                  </a:lnTo>
                  <a:lnTo>
                    <a:pt x="3034" y="2822"/>
                  </a:lnTo>
                  <a:lnTo>
                    <a:pt x="3032" y="2823"/>
                  </a:lnTo>
                  <a:lnTo>
                    <a:pt x="3031" y="2825"/>
                  </a:lnTo>
                  <a:lnTo>
                    <a:pt x="3029" y="2825"/>
                  </a:lnTo>
                  <a:lnTo>
                    <a:pt x="3000" y="2825"/>
                  </a:lnTo>
                  <a:lnTo>
                    <a:pt x="2998" y="2825"/>
                  </a:lnTo>
                  <a:lnTo>
                    <a:pt x="2997" y="2823"/>
                  </a:lnTo>
                  <a:lnTo>
                    <a:pt x="2995" y="2822"/>
                  </a:lnTo>
                  <a:lnTo>
                    <a:pt x="2995" y="2820"/>
                  </a:lnTo>
                  <a:lnTo>
                    <a:pt x="2995" y="2819"/>
                  </a:lnTo>
                  <a:lnTo>
                    <a:pt x="2997" y="2817"/>
                  </a:lnTo>
                  <a:lnTo>
                    <a:pt x="2998" y="2815"/>
                  </a:lnTo>
                  <a:lnTo>
                    <a:pt x="3000" y="2815"/>
                  </a:lnTo>
                  <a:lnTo>
                    <a:pt x="3000" y="2815"/>
                  </a:lnTo>
                  <a:close/>
                  <a:moveTo>
                    <a:pt x="3067" y="2815"/>
                  </a:moveTo>
                  <a:lnTo>
                    <a:pt x="3097" y="2815"/>
                  </a:lnTo>
                  <a:lnTo>
                    <a:pt x="3098" y="2815"/>
                  </a:lnTo>
                  <a:lnTo>
                    <a:pt x="3100" y="2817"/>
                  </a:lnTo>
                  <a:lnTo>
                    <a:pt x="3101" y="2819"/>
                  </a:lnTo>
                  <a:lnTo>
                    <a:pt x="3101" y="2820"/>
                  </a:lnTo>
                  <a:lnTo>
                    <a:pt x="3101" y="2822"/>
                  </a:lnTo>
                  <a:lnTo>
                    <a:pt x="3100" y="2823"/>
                  </a:lnTo>
                  <a:lnTo>
                    <a:pt x="3098" y="2825"/>
                  </a:lnTo>
                  <a:lnTo>
                    <a:pt x="3097" y="2825"/>
                  </a:lnTo>
                  <a:lnTo>
                    <a:pt x="3067" y="2825"/>
                  </a:lnTo>
                  <a:lnTo>
                    <a:pt x="3066" y="2825"/>
                  </a:lnTo>
                  <a:lnTo>
                    <a:pt x="3064" y="2823"/>
                  </a:lnTo>
                  <a:lnTo>
                    <a:pt x="3063" y="2822"/>
                  </a:lnTo>
                  <a:lnTo>
                    <a:pt x="3063" y="2820"/>
                  </a:lnTo>
                  <a:lnTo>
                    <a:pt x="3063" y="2819"/>
                  </a:lnTo>
                  <a:lnTo>
                    <a:pt x="3064" y="2817"/>
                  </a:lnTo>
                  <a:lnTo>
                    <a:pt x="3066" y="2815"/>
                  </a:lnTo>
                  <a:lnTo>
                    <a:pt x="3067" y="2815"/>
                  </a:lnTo>
                  <a:lnTo>
                    <a:pt x="3067" y="2815"/>
                  </a:lnTo>
                  <a:close/>
                  <a:moveTo>
                    <a:pt x="3135" y="2815"/>
                  </a:moveTo>
                  <a:lnTo>
                    <a:pt x="3164" y="2815"/>
                  </a:lnTo>
                  <a:lnTo>
                    <a:pt x="3166" y="2815"/>
                  </a:lnTo>
                  <a:lnTo>
                    <a:pt x="3167" y="2817"/>
                  </a:lnTo>
                  <a:lnTo>
                    <a:pt x="3167" y="2819"/>
                  </a:lnTo>
                  <a:lnTo>
                    <a:pt x="3169" y="2820"/>
                  </a:lnTo>
                  <a:lnTo>
                    <a:pt x="3167" y="2822"/>
                  </a:lnTo>
                  <a:lnTo>
                    <a:pt x="3167" y="2823"/>
                  </a:lnTo>
                  <a:lnTo>
                    <a:pt x="3166" y="2825"/>
                  </a:lnTo>
                  <a:lnTo>
                    <a:pt x="3164" y="2825"/>
                  </a:lnTo>
                  <a:lnTo>
                    <a:pt x="3135" y="2825"/>
                  </a:lnTo>
                  <a:lnTo>
                    <a:pt x="3134" y="2825"/>
                  </a:lnTo>
                  <a:lnTo>
                    <a:pt x="3131" y="2823"/>
                  </a:lnTo>
                  <a:lnTo>
                    <a:pt x="3131" y="2822"/>
                  </a:lnTo>
                  <a:lnTo>
                    <a:pt x="3131" y="2820"/>
                  </a:lnTo>
                  <a:lnTo>
                    <a:pt x="3131" y="2819"/>
                  </a:lnTo>
                  <a:lnTo>
                    <a:pt x="3131" y="2817"/>
                  </a:lnTo>
                  <a:lnTo>
                    <a:pt x="3134" y="2815"/>
                  </a:lnTo>
                  <a:lnTo>
                    <a:pt x="3135" y="2815"/>
                  </a:lnTo>
                  <a:lnTo>
                    <a:pt x="3135" y="2815"/>
                  </a:lnTo>
                  <a:close/>
                  <a:moveTo>
                    <a:pt x="3203" y="2815"/>
                  </a:moveTo>
                  <a:lnTo>
                    <a:pt x="3230" y="2815"/>
                  </a:lnTo>
                  <a:lnTo>
                    <a:pt x="3232" y="2815"/>
                  </a:lnTo>
                  <a:lnTo>
                    <a:pt x="3234" y="2817"/>
                  </a:lnTo>
                  <a:lnTo>
                    <a:pt x="3235" y="2819"/>
                  </a:lnTo>
                  <a:lnTo>
                    <a:pt x="3235" y="2820"/>
                  </a:lnTo>
                  <a:lnTo>
                    <a:pt x="3235" y="2822"/>
                  </a:lnTo>
                  <a:lnTo>
                    <a:pt x="3234" y="2823"/>
                  </a:lnTo>
                  <a:lnTo>
                    <a:pt x="3232" y="2825"/>
                  </a:lnTo>
                  <a:lnTo>
                    <a:pt x="3230" y="2825"/>
                  </a:lnTo>
                  <a:lnTo>
                    <a:pt x="3203" y="2825"/>
                  </a:lnTo>
                  <a:lnTo>
                    <a:pt x="3200" y="2825"/>
                  </a:lnTo>
                  <a:lnTo>
                    <a:pt x="3198" y="2823"/>
                  </a:lnTo>
                  <a:lnTo>
                    <a:pt x="3198" y="2822"/>
                  </a:lnTo>
                  <a:lnTo>
                    <a:pt x="3197" y="2820"/>
                  </a:lnTo>
                  <a:lnTo>
                    <a:pt x="3198" y="2819"/>
                  </a:lnTo>
                  <a:lnTo>
                    <a:pt x="3198" y="2817"/>
                  </a:lnTo>
                  <a:lnTo>
                    <a:pt x="3200" y="2815"/>
                  </a:lnTo>
                  <a:lnTo>
                    <a:pt x="3203" y="2815"/>
                  </a:lnTo>
                  <a:lnTo>
                    <a:pt x="3203" y="2815"/>
                  </a:lnTo>
                  <a:close/>
                  <a:moveTo>
                    <a:pt x="3269" y="2815"/>
                  </a:moveTo>
                  <a:lnTo>
                    <a:pt x="3298" y="2815"/>
                  </a:lnTo>
                  <a:lnTo>
                    <a:pt x="3300" y="2815"/>
                  </a:lnTo>
                  <a:lnTo>
                    <a:pt x="3301" y="2817"/>
                  </a:lnTo>
                  <a:lnTo>
                    <a:pt x="3303" y="2819"/>
                  </a:lnTo>
                  <a:lnTo>
                    <a:pt x="3303" y="2820"/>
                  </a:lnTo>
                  <a:lnTo>
                    <a:pt x="3303" y="2822"/>
                  </a:lnTo>
                  <a:lnTo>
                    <a:pt x="3301" y="2823"/>
                  </a:lnTo>
                  <a:lnTo>
                    <a:pt x="3300" y="2825"/>
                  </a:lnTo>
                  <a:lnTo>
                    <a:pt x="3298" y="2825"/>
                  </a:lnTo>
                  <a:lnTo>
                    <a:pt x="3269" y="2825"/>
                  </a:lnTo>
                  <a:lnTo>
                    <a:pt x="3267" y="2825"/>
                  </a:lnTo>
                  <a:lnTo>
                    <a:pt x="3266" y="2823"/>
                  </a:lnTo>
                  <a:lnTo>
                    <a:pt x="3264" y="2822"/>
                  </a:lnTo>
                  <a:lnTo>
                    <a:pt x="3264" y="2820"/>
                  </a:lnTo>
                  <a:lnTo>
                    <a:pt x="3264" y="2819"/>
                  </a:lnTo>
                  <a:lnTo>
                    <a:pt x="3266" y="2817"/>
                  </a:lnTo>
                  <a:lnTo>
                    <a:pt x="3267" y="2815"/>
                  </a:lnTo>
                  <a:lnTo>
                    <a:pt x="3269" y="2815"/>
                  </a:lnTo>
                  <a:lnTo>
                    <a:pt x="3269" y="2815"/>
                  </a:lnTo>
                  <a:close/>
                  <a:moveTo>
                    <a:pt x="3337" y="2815"/>
                  </a:moveTo>
                  <a:lnTo>
                    <a:pt x="3366" y="2815"/>
                  </a:lnTo>
                  <a:lnTo>
                    <a:pt x="3367" y="2815"/>
                  </a:lnTo>
                  <a:lnTo>
                    <a:pt x="3369" y="2817"/>
                  </a:lnTo>
                  <a:lnTo>
                    <a:pt x="3370" y="2819"/>
                  </a:lnTo>
                  <a:lnTo>
                    <a:pt x="3370" y="2820"/>
                  </a:lnTo>
                  <a:lnTo>
                    <a:pt x="3370" y="2822"/>
                  </a:lnTo>
                  <a:lnTo>
                    <a:pt x="3369" y="2823"/>
                  </a:lnTo>
                  <a:lnTo>
                    <a:pt x="3367" y="2825"/>
                  </a:lnTo>
                  <a:lnTo>
                    <a:pt x="3366" y="2825"/>
                  </a:lnTo>
                  <a:lnTo>
                    <a:pt x="3337" y="2825"/>
                  </a:lnTo>
                  <a:lnTo>
                    <a:pt x="3335" y="2825"/>
                  </a:lnTo>
                  <a:lnTo>
                    <a:pt x="3334" y="2823"/>
                  </a:lnTo>
                  <a:lnTo>
                    <a:pt x="3332" y="2822"/>
                  </a:lnTo>
                  <a:lnTo>
                    <a:pt x="3332" y="2820"/>
                  </a:lnTo>
                  <a:lnTo>
                    <a:pt x="3332" y="2819"/>
                  </a:lnTo>
                  <a:lnTo>
                    <a:pt x="3334" y="2817"/>
                  </a:lnTo>
                  <a:lnTo>
                    <a:pt x="3335" y="2815"/>
                  </a:lnTo>
                  <a:lnTo>
                    <a:pt x="3337" y="2815"/>
                  </a:lnTo>
                  <a:lnTo>
                    <a:pt x="3337" y="2815"/>
                  </a:lnTo>
                  <a:close/>
                  <a:moveTo>
                    <a:pt x="3404" y="2815"/>
                  </a:moveTo>
                  <a:lnTo>
                    <a:pt x="3434" y="2815"/>
                  </a:lnTo>
                  <a:lnTo>
                    <a:pt x="3435" y="2815"/>
                  </a:lnTo>
                  <a:lnTo>
                    <a:pt x="3437" y="2817"/>
                  </a:lnTo>
                  <a:lnTo>
                    <a:pt x="3437" y="2819"/>
                  </a:lnTo>
                  <a:lnTo>
                    <a:pt x="3438" y="2820"/>
                  </a:lnTo>
                  <a:lnTo>
                    <a:pt x="3437" y="2822"/>
                  </a:lnTo>
                  <a:lnTo>
                    <a:pt x="3437" y="2823"/>
                  </a:lnTo>
                  <a:lnTo>
                    <a:pt x="3435" y="2825"/>
                  </a:lnTo>
                  <a:lnTo>
                    <a:pt x="3434" y="2825"/>
                  </a:lnTo>
                  <a:lnTo>
                    <a:pt x="3404" y="2825"/>
                  </a:lnTo>
                  <a:lnTo>
                    <a:pt x="3403" y="2825"/>
                  </a:lnTo>
                  <a:lnTo>
                    <a:pt x="3400" y="2823"/>
                  </a:lnTo>
                  <a:lnTo>
                    <a:pt x="3400" y="2822"/>
                  </a:lnTo>
                  <a:lnTo>
                    <a:pt x="3400" y="2820"/>
                  </a:lnTo>
                  <a:lnTo>
                    <a:pt x="3400" y="2819"/>
                  </a:lnTo>
                  <a:lnTo>
                    <a:pt x="3400" y="2817"/>
                  </a:lnTo>
                  <a:lnTo>
                    <a:pt x="3403" y="2815"/>
                  </a:lnTo>
                  <a:lnTo>
                    <a:pt x="3404" y="2815"/>
                  </a:lnTo>
                  <a:lnTo>
                    <a:pt x="3404" y="2815"/>
                  </a:lnTo>
                  <a:close/>
                  <a:moveTo>
                    <a:pt x="3472" y="2815"/>
                  </a:moveTo>
                  <a:lnTo>
                    <a:pt x="3500" y="2815"/>
                  </a:lnTo>
                  <a:lnTo>
                    <a:pt x="3501" y="2815"/>
                  </a:lnTo>
                  <a:lnTo>
                    <a:pt x="3503" y="2817"/>
                  </a:lnTo>
                  <a:lnTo>
                    <a:pt x="3504" y="2819"/>
                  </a:lnTo>
                  <a:lnTo>
                    <a:pt x="3504" y="2820"/>
                  </a:lnTo>
                  <a:lnTo>
                    <a:pt x="3504" y="2822"/>
                  </a:lnTo>
                  <a:lnTo>
                    <a:pt x="3503" y="2823"/>
                  </a:lnTo>
                  <a:lnTo>
                    <a:pt x="3501" y="2825"/>
                  </a:lnTo>
                  <a:lnTo>
                    <a:pt x="3500" y="2825"/>
                  </a:lnTo>
                  <a:lnTo>
                    <a:pt x="3472" y="2825"/>
                  </a:lnTo>
                  <a:lnTo>
                    <a:pt x="3469" y="2825"/>
                  </a:lnTo>
                  <a:lnTo>
                    <a:pt x="3467" y="2823"/>
                  </a:lnTo>
                  <a:lnTo>
                    <a:pt x="3467" y="2822"/>
                  </a:lnTo>
                  <a:lnTo>
                    <a:pt x="3466" y="2820"/>
                  </a:lnTo>
                  <a:lnTo>
                    <a:pt x="3467" y="2819"/>
                  </a:lnTo>
                  <a:lnTo>
                    <a:pt x="3467" y="2817"/>
                  </a:lnTo>
                  <a:lnTo>
                    <a:pt x="3469" y="2815"/>
                  </a:lnTo>
                  <a:lnTo>
                    <a:pt x="3472" y="2815"/>
                  </a:lnTo>
                  <a:lnTo>
                    <a:pt x="3472" y="2815"/>
                  </a:lnTo>
                  <a:close/>
                  <a:moveTo>
                    <a:pt x="3538" y="2815"/>
                  </a:moveTo>
                  <a:lnTo>
                    <a:pt x="3567" y="2815"/>
                  </a:lnTo>
                  <a:lnTo>
                    <a:pt x="3569" y="2815"/>
                  </a:lnTo>
                  <a:lnTo>
                    <a:pt x="3570" y="2817"/>
                  </a:lnTo>
                  <a:lnTo>
                    <a:pt x="3572" y="2819"/>
                  </a:lnTo>
                  <a:lnTo>
                    <a:pt x="3572" y="2820"/>
                  </a:lnTo>
                  <a:lnTo>
                    <a:pt x="3572" y="2822"/>
                  </a:lnTo>
                  <a:lnTo>
                    <a:pt x="3570" y="2823"/>
                  </a:lnTo>
                  <a:lnTo>
                    <a:pt x="3569" y="2825"/>
                  </a:lnTo>
                  <a:lnTo>
                    <a:pt x="3567" y="2825"/>
                  </a:lnTo>
                  <a:lnTo>
                    <a:pt x="3538" y="2825"/>
                  </a:lnTo>
                  <a:lnTo>
                    <a:pt x="3537" y="2825"/>
                  </a:lnTo>
                  <a:lnTo>
                    <a:pt x="3535" y="2823"/>
                  </a:lnTo>
                  <a:lnTo>
                    <a:pt x="3534" y="2822"/>
                  </a:lnTo>
                  <a:lnTo>
                    <a:pt x="3534" y="2820"/>
                  </a:lnTo>
                  <a:lnTo>
                    <a:pt x="3534" y="2819"/>
                  </a:lnTo>
                  <a:lnTo>
                    <a:pt x="3535" y="2817"/>
                  </a:lnTo>
                  <a:lnTo>
                    <a:pt x="3537" y="2815"/>
                  </a:lnTo>
                  <a:lnTo>
                    <a:pt x="3538" y="2815"/>
                  </a:lnTo>
                  <a:lnTo>
                    <a:pt x="3538" y="2815"/>
                  </a:lnTo>
                  <a:close/>
                  <a:moveTo>
                    <a:pt x="3606" y="2815"/>
                  </a:moveTo>
                  <a:lnTo>
                    <a:pt x="3635" y="2815"/>
                  </a:lnTo>
                  <a:lnTo>
                    <a:pt x="3637" y="2815"/>
                  </a:lnTo>
                  <a:lnTo>
                    <a:pt x="3638" y="2817"/>
                  </a:lnTo>
                  <a:lnTo>
                    <a:pt x="3640" y="2819"/>
                  </a:lnTo>
                  <a:lnTo>
                    <a:pt x="3640" y="2820"/>
                  </a:lnTo>
                  <a:lnTo>
                    <a:pt x="3640" y="2822"/>
                  </a:lnTo>
                  <a:lnTo>
                    <a:pt x="3638" y="2823"/>
                  </a:lnTo>
                  <a:lnTo>
                    <a:pt x="3637" y="2825"/>
                  </a:lnTo>
                  <a:lnTo>
                    <a:pt x="3635" y="2825"/>
                  </a:lnTo>
                  <a:lnTo>
                    <a:pt x="3606" y="2825"/>
                  </a:lnTo>
                  <a:lnTo>
                    <a:pt x="3604" y="2825"/>
                  </a:lnTo>
                  <a:lnTo>
                    <a:pt x="3603" y="2823"/>
                  </a:lnTo>
                  <a:lnTo>
                    <a:pt x="3601" y="2822"/>
                  </a:lnTo>
                  <a:lnTo>
                    <a:pt x="3601" y="2820"/>
                  </a:lnTo>
                  <a:lnTo>
                    <a:pt x="3601" y="2819"/>
                  </a:lnTo>
                  <a:lnTo>
                    <a:pt x="3603" y="2817"/>
                  </a:lnTo>
                  <a:lnTo>
                    <a:pt x="3604" y="2815"/>
                  </a:lnTo>
                  <a:lnTo>
                    <a:pt x="3606" y="2815"/>
                  </a:lnTo>
                  <a:lnTo>
                    <a:pt x="3606" y="2815"/>
                  </a:lnTo>
                  <a:close/>
                  <a:moveTo>
                    <a:pt x="3673" y="2815"/>
                  </a:moveTo>
                  <a:lnTo>
                    <a:pt x="3703" y="2815"/>
                  </a:lnTo>
                  <a:lnTo>
                    <a:pt x="3704" y="2815"/>
                  </a:lnTo>
                  <a:lnTo>
                    <a:pt x="3706" y="2817"/>
                  </a:lnTo>
                  <a:lnTo>
                    <a:pt x="3706" y="2819"/>
                  </a:lnTo>
                  <a:lnTo>
                    <a:pt x="3707" y="2820"/>
                  </a:lnTo>
                  <a:lnTo>
                    <a:pt x="3706" y="2822"/>
                  </a:lnTo>
                  <a:lnTo>
                    <a:pt x="3706" y="2823"/>
                  </a:lnTo>
                  <a:lnTo>
                    <a:pt x="3704" y="2825"/>
                  </a:lnTo>
                  <a:lnTo>
                    <a:pt x="3703" y="2825"/>
                  </a:lnTo>
                  <a:lnTo>
                    <a:pt x="3673" y="2825"/>
                  </a:lnTo>
                  <a:lnTo>
                    <a:pt x="3672" y="2825"/>
                  </a:lnTo>
                  <a:lnTo>
                    <a:pt x="3669" y="2823"/>
                  </a:lnTo>
                  <a:lnTo>
                    <a:pt x="3669" y="2822"/>
                  </a:lnTo>
                  <a:lnTo>
                    <a:pt x="3669" y="2820"/>
                  </a:lnTo>
                  <a:lnTo>
                    <a:pt x="3669" y="2819"/>
                  </a:lnTo>
                  <a:lnTo>
                    <a:pt x="3669" y="2817"/>
                  </a:lnTo>
                  <a:lnTo>
                    <a:pt x="3672" y="2815"/>
                  </a:lnTo>
                  <a:lnTo>
                    <a:pt x="3673" y="2815"/>
                  </a:lnTo>
                  <a:lnTo>
                    <a:pt x="3673" y="2815"/>
                  </a:lnTo>
                  <a:close/>
                  <a:moveTo>
                    <a:pt x="3741" y="2815"/>
                  </a:moveTo>
                  <a:lnTo>
                    <a:pt x="3769" y="2815"/>
                  </a:lnTo>
                  <a:lnTo>
                    <a:pt x="3770" y="2815"/>
                  </a:lnTo>
                  <a:lnTo>
                    <a:pt x="3772" y="2817"/>
                  </a:lnTo>
                  <a:lnTo>
                    <a:pt x="3773" y="2819"/>
                  </a:lnTo>
                  <a:lnTo>
                    <a:pt x="3773" y="2820"/>
                  </a:lnTo>
                  <a:lnTo>
                    <a:pt x="3773" y="2822"/>
                  </a:lnTo>
                  <a:lnTo>
                    <a:pt x="3772" y="2823"/>
                  </a:lnTo>
                  <a:lnTo>
                    <a:pt x="3770" y="2825"/>
                  </a:lnTo>
                  <a:lnTo>
                    <a:pt x="3769" y="2825"/>
                  </a:lnTo>
                  <a:lnTo>
                    <a:pt x="3741" y="2825"/>
                  </a:lnTo>
                  <a:lnTo>
                    <a:pt x="3738" y="2825"/>
                  </a:lnTo>
                  <a:lnTo>
                    <a:pt x="3737" y="2823"/>
                  </a:lnTo>
                  <a:lnTo>
                    <a:pt x="3737" y="2822"/>
                  </a:lnTo>
                  <a:lnTo>
                    <a:pt x="3735" y="2820"/>
                  </a:lnTo>
                  <a:lnTo>
                    <a:pt x="3737" y="2819"/>
                  </a:lnTo>
                  <a:lnTo>
                    <a:pt x="3737" y="2817"/>
                  </a:lnTo>
                  <a:lnTo>
                    <a:pt x="3738" y="2815"/>
                  </a:lnTo>
                  <a:lnTo>
                    <a:pt x="3741" y="2815"/>
                  </a:lnTo>
                  <a:lnTo>
                    <a:pt x="3741" y="2815"/>
                  </a:lnTo>
                  <a:close/>
                  <a:moveTo>
                    <a:pt x="3807" y="2815"/>
                  </a:moveTo>
                  <a:lnTo>
                    <a:pt x="3837" y="2815"/>
                  </a:lnTo>
                  <a:lnTo>
                    <a:pt x="3838" y="2815"/>
                  </a:lnTo>
                  <a:lnTo>
                    <a:pt x="3840" y="2817"/>
                  </a:lnTo>
                  <a:lnTo>
                    <a:pt x="3841" y="2819"/>
                  </a:lnTo>
                  <a:lnTo>
                    <a:pt x="3841" y="2820"/>
                  </a:lnTo>
                  <a:lnTo>
                    <a:pt x="3841" y="2822"/>
                  </a:lnTo>
                  <a:lnTo>
                    <a:pt x="3840" y="2823"/>
                  </a:lnTo>
                  <a:lnTo>
                    <a:pt x="3838" y="2825"/>
                  </a:lnTo>
                  <a:lnTo>
                    <a:pt x="3837" y="2825"/>
                  </a:lnTo>
                  <a:lnTo>
                    <a:pt x="3807" y="2825"/>
                  </a:lnTo>
                  <a:lnTo>
                    <a:pt x="3806" y="2825"/>
                  </a:lnTo>
                  <a:lnTo>
                    <a:pt x="3804" y="2823"/>
                  </a:lnTo>
                  <a:lnTo>
                    <a:pt x="3803" y="2822"/>
                  </a:lnTo>
                  <a:lnTo>
                    <a:pt x="3803" y="2820"/>
                  </a:lnTo>
                  <a:lnTo>
                    <a:pt x="3803" y="2819"/>
                  </a:lnTo>
                  <a:lnTo>
                    <a:pt x="3804" y="2817"/>
                  </a:lnTo>
                  <a:lnTo>
                    <a:pt x="3806" y="2815"/>
                  </a:lnTo>
                  <a:lnTo>
                    <a:pt x="3807" y="2815"/>
                  </a:lnTo>
                  <a:lnTo>
                    <a:pt x="3807" y="2815"/>
                  </a:lnTo>
                  <a:close/>
                  <a:moveTo>
                    <a:pt x="3875" y="2815"/>
                  </a:moveTo>
                  <a:lnTo>
                    <a:pt x="3904" y="2815"/>
                  </a:lnTo>
                  <a:lnTo>
                    <a:pt x="3906" y="2815"/>
                  </a:lnTo>
                  <a:lnTo>
                    <a:pt x="3907" y="2817"/>
                  </a:lnTo>
                  <a:lnTo>
                    <a:pt x="3909" y="2819"/>
                  </a:lnTo>
                  <a:lnTo>
                    <a:pt x="3909" y="2820"/>
                  </a:lnTo>
                  <a:lnTo>
                    <a:pt x="3909" y="2822"/>
                  </a:lnTo>
                  <a:lnTo>
                    <a:pt x="3907" y="2823"/>
                  </a:lnTo>
                  <a:lnTo>
                    <a:pt x="3906" y="2825"/>
                  </a:lnTo>
                  <a:lnTo>
                    <a:pt x="3904" y="2825"/>
                  </a:lnTo>
                  <a:lnTo>
                    <a:pt x="3875" y="2825"/>
                  </a:lnTo>
                  <a:lnTo>
                    <a:pt x="3873" y="2825"/>
                  </a:lnTo>
                  <a:lnTo>
                    <a:pt x="3872" y="2823"/>
                  </a:lnTo>
                  <a:lnTo>
                    <a:pt x="3870" y="2822"/>
                  </a:lnTo>
                  <a:lnTo>
                    <a:pt x="3870" y="2820"/>
                  </a:lnTo>
                  <a:lnTo>
                    <a:pt x="3870" y="2819"/>
                  </a:lnTo>
                  <a:lnTo>
                    <a:pt x="3872" y="2817"/>
                  </a:lnTo>
                  <a:lnTo>
                    <a:pt x="3873" y="2815"/>
                  </a:lnTo>
                  <a:lnTo>
                    <a:pt x="3875" y="2815"/>
                  </a:lnTo>
                  <a:lnTo>
                    <a:pt x="3875" y="2815"/>
                  </a:lnTo>
                  <a:close/>
                  <a:moveTo>
                    <a:pt x="3943" y="2815"/>
                  </a:moveTo>
                  <a:lnTo>
                    <a:pt x="3972" y="2815"/>
                  </a:lnTo>
                  <a:lnTo>
                    <a:pt x="3973" y="2815"/>
                  </a:lnTo>
                  <a:lnTo>
                    <a:pt x="3975" y="2817"/>
                  </a:lnTo>
                  <a:lnTo>
                    <a:pt x="3975" y="2819"/>
                  </a:lnTo>
                  <a:lnTo>
                    <a:pt x="3976" y="2820"/>
                  </a:lnTo>
                  <a:lnTo>
                    <a:pt x="3975" y="2822"/>
                  </a:lnTo>
                  <a:lnTo>
                    <a:pt x="3975" y="2823"/>
                  </a:lnTo>
                  <a:lnTo>
                    <a:pt x="3973" y="2825"/>
                  </a:lnTo>
                  <a:lnTo>
                    <a:pt x="3972" y="2825"/>
                  </a:lnTo>
                  <a:lnTo>
                    <a:pt x="3943" y="2825"/>
                  </a:lnTo>
                  <a:lnTo>
                    <a:pt x="3941" y="2825"/>
                  </a:lnTo>
                  <a:lnTo>
                    <a:pt x="3938" y="2823"/>
                  </a:lnTo>
                  <a:lnTo>
                    <a:pt x="3938" y="2822"/>
                  </a:lnTo>
                  <a:lnTo>
                    <a:pt x="3938" y="2820"/>
                  </a:lnTo>
                  <a:lnTo>
                    <a:pt x="3938" y="2819"/>
                  </a:lnTo>
                  <a:lnTo>
                    <a:pt x="3938" y="2817"/>
                  </a:lnTo>
                  <a:lnTo>
                    <a:pt x="3941" y="2815"/>
                  </a:lnTo>
                  <a:lnTo>
                    <a:pt x="3943" y="2815"/>
                  </a:lnTo>
                  <a:lnTo>
                    <a:pt x="3943" y="2815"/>
                  </a:lnTo>
                  <a:close/>
                  <a:moveTo>
                    <a:pt x="4010" y="2815"/>
                  </a:moveTo>
                  <a:lnTo>
                    <a:pt x="4038" y="2815"/>
                  </a:lnTo>
                  <a:lnTo>
                    <a:pt x="4040" y="2815"/>
                  </a:lnTo>
                  <a:lnTo>
                    <a:pt x="4041" y="2817"/>
                  </a:lnTo>
                  <a:lnTo>
                    <a:pt x="4043" y="2819"/>
                  </a:lnTo>
                  <a:lnTo>
                    <a:pt x="4043" y="2820"/>
                  </a:lnTo>
                  <a:lnTo>
                    <a:pt x="4043" y="2822"/>
                  </a:lnTo>
                  <a:lnTo>
                    <a:pt x="4041" y="2823"/>
                  </a:lnTo>
                  <a:lnTo>
                    <a:pt x="4040" y="2825"/>
                  </a:lnTo>
                  <a:lnTo>
                    <a:pt x="4038" y="2825"/>
                  </a:lnTo>
                  <a:lnTo>
                    <a:pt x="4010" y="2825"/>
                  </a:lnTo>
                  <a:lnTo>
                    <a:pt x="4007" y="2825"/>
                  </a:lnTo>
                  <a:lnTo>
                    <a:pt x="4006" y="2823"/>
                  </a:lnTo>
                  <a:lnTo>
                    <a:pt x="4006" y="2822"/>
                  </a:lnTo>
                  <a:lnTo>
                    <a:pt x="4004" y="2820"/>
                  </a:lnTo>
                  <a:lnTo>
                    <a:pt x="4006" y="2819"/>
                  </a:lnTo>
                  <a:lnTo>
                    <a:pt x="4006" y="2817"/>
                  </a:lnTo>
                  <a:lnTo>
                    <a:pt x="4007" y="2815"/>
                  </a:lnTo>
                  <a:lnTo>
                    <a:pt x="4010" y="2815"/>
                  </a:lnTo>
                  <a:lnTo>
                    <a:pt x="4010" y="2815"/>
                  </a:lnTo>
                  <a:close/>
                  <a:moveTo>
                    <a:pt x="4076" y="2815"/>
                  </a:moveTo>
                  <a:lnTo>
                    <a:pt x="4106" y="2815"/>
                  </a:lnTo>
                  <a:lnTo>
                    <a:pt x="4107" y="2815"/>
                  </a:lnTo>
                  <a:lnTo>
                    <a:pt x="4109" y="2817"/>
                  </a:lnTo>
                  <a:lnTo>
                    <a:pt x="4110" y="2819"/>
                  </a:lnTo>
                  <a:lnTo>
                    <a:pt x="4110" y="2820"/>
                  </a:lnTo>
                  <a:lnTo>
                    <a:pt x="4110" y="2822"/>
                  </a:lnTo>
                  <a:lnTo>
                    <a:pt x="4109" y="2823"/>
                  </a:lnTo>
                  <a:lnTo>
                    <a:pt x="4107" y="2825"/>
                  </a:lnTo>
                  <a:lnTo>
                    <a:pt x="4106" y="2825"/>
                  </a:lnTo>
                  <a:lnTo>
                    <a:pt x="4076" y="2825"/>
                  </a:lnTo>
                  <a:lnTo>
                    <a:pt x="4075" y="2825"/>
                  </a:lnTo>
                  <a:lnTo>
                    <a:pt x="4073" y="2823"/>
                  </a:lnTo>
                  <a:lnTo>
                    <a:pt x="4072" y="2822"/>
                  </a:lnTo>
                  <a:lnTo>
                    <a:pt x="4072" y="2820"/>
                  </a:lnTo>
                  <a:lnTo>
                    <a:pt x="4072" y="2819"/>
                  </a:lnTo>
                  <a:lnTo>
                    <a:pt x="4073" y="2817"/>
                  </a:lnTo>
                  <a:lnTo>
                    <a:pt x="4075" y="2815"/>
                  </a:lnTo>
                  <a:lnTo>
                    <a:pt x="4076" y="2815"/>
                  </a:lnTo>
                  <a:lnTo>
                    <a:pt x="4076" y="2815"/>
                  </a:lnTo>
                  <a:close/>
                  <a:moveTo>
                    <a:pt x="4144" y="2815"/>
                  </a:moveTo>
                  <a:lnTo>
                    <a:pt x="4160" y="2815"/>
                  </a:lnTo>
                  <a:lnTo>
                    <a:pt x="4173" y="2815"/>
                  </a:lnTo>
                  <a:lnTo>
                    <a:pt x="4175" y="2815"/>
                  </a:lnTo>
                  <a:lnTo>
                    <a:pt x="4176" y="2817"/>
                  </a:lnTo>
                  <a:lnTo>
                    <a:pt x="4178" y="2819"/>
                  </a:lnTo>
                  <a:lnTo>
                    <a:pt x="4178" y="2820"/>
                  </a:lnTo>
                  <a:lnTo>
                    <a:pt x="4178" y="2822"/>
                  </a:lnTo>
                  <a:lnTo>
                    <a:pt x="4176" y="2823"/>
                  </a:lnTo>
                  <a:lnTo>
                    <a:pt x="4175" y="2825"/>
                  </a:lnTo>
                  <a:lnTo>
                    <a:pt x="4173" y="2825"/>
                  </a:lnTo>
                  <a:lnTo>
                    <a:pt x="4160" y="2825"/>
                  </a:lnTo>
                  <a:lnTo>
                    <a:pt x="4144" y="2825"/>
                  </a:lnTo>
                  <a:lnTo>
                    <a:pt x="4143" y="2825"/>
                  </a:lnTo>
                  <a:lnTo>
                    <a:pt x="4141" y="2823"/>
                  </a:lnTo>
                  <a:lnTo>
                    <a:pt x="4140" y="2822"/>
                  </a:lnTo>
                  <a:lnTo>
                    <a:pt x="4140" y="2820"/>
                  </a:lnTo>
                  <a:lnTo>
                    <a:pt x="4140" y="2819"/>
                  </a:lnTo>
                  <a:lnTo>
                    <a:pt x="4141" y="2817"/>
                  </a:lnTo>
                  <a:lnTo>
                    <a:pt x="4143" y="2815"/>
                  </a:lnTo>
                  <a:lnTo>
                    <a:pt x="4144" y="2815"/>
                  </a:lnTo>
                  <a:lnTo>
                    <a:pt x="4144" y="2815"/>
                  </a:lnTo>
                  <a:close/>
                  <a:moveTo>
                    <a:pt x="4210" y="2812"/>
                  </a:moveTo>
                  <a:lnTo>
                    <a:pt x="4230" y="2811"/>
                  </a:lnTo>
                  <a:lnTo>
                    <a:pt x="4240" y="2809"/>
                  </a:lnTo>
                  <a:lnTo>
                    <a:pt x="4241" y="2809"/>
                  </a:lnTo>
                  <a:lnTo>
                    <a:pt x="4243" y="2809"/>
                  </a:lnTo>
                  <a:lnTo>
                    <a:pt x="4244" y="2811"/>
                  </a:lnTo>
                  <a:lnTo>
                    <a:pt x="4244" y="2812"/>
                  </a:lnTo>
                  <a:lnTo>
                    <a:pt x="4244" y="2814"/>
                  </a:lnTo>
                  <a:lnTo>
                    <a:pt x="4244" y="2815"/>
                  </a:lnTo>
                  <a:lnTo>
                    <a:pt x="4243" y="2817"/>
                  </a:lnTo>
                  <a:lnTo>
                    <a:pt x="4241" y="2819"/>
                  </a:lnTo>
                  <a:lnTo>
                    <a:pt x="4230" y="2820"/>
                  </a:lnTo>
                  <a:lnTo>
                    <a:pt x="4212" y="2823"/>
                  </a:lnTo>
                  <a:lnTo>
                    <a:pt x="4210" y="2822"/>
                  </a:lnTo>
                  <a:lnTo>
                    <a:pt x="4209" y="2822"/>
                  </a:lnTo>
                  <a:lnTo>
                    <a:pt x="4207" y="2820"/>
                  </a:lnTo>
                  <a:lnTo>
                    <a:pt x="4207" y="2819"/>
                  </a:lnTo>
                  <a:lnTo>
                    <a:pt x="4207" y="2817"/>
                  </a:lnTo>
                  <a:lnTo>
                    <a:pt x="4207" y="2814"/>
                  </a:lnTo>
                  <a:lnTo>
                    <a:pt x="4209" y="2814"/>
                  </a:lnTo>
                  <a:lnTo>
                    <a:pt x="4210" y="2812"/>
                  </a:lnTo>
                  <a:lnTo>
                    <a:pt x="4210" y="2812"/>
                  </a:lnTo>
                  <a:close/>
                  <a:moveTo>
                    <a:pt x="4276" y="2800"/>
                  </a:moveTo>
                  <a:lnTo>
                    <a:pt x="4298" y="2795"/>
                  </a:lnTo>
                  <a:lnTo>
                    <a:pt x="4304" y="2792"/>
                  </a:lnTo>
                  <a:lnTo>
                    <a:pt x="4306" y="2792"/>
                  </a:lnTo>
                  <a:lnTo>
                    <a:pt x="4307" y="2792"/>
                  </a:lnTo>
                  <a:lnTo>
                    <a:pt x="4309" y="2794"/>
                  </a:lnTo>
                  <a:lnTo>
                    <a:pt x="4310" y="2795"/>
                  </a:lnTo>
                  <a:lnTo>
                    <a:pt x="4310" y="2797"/>
                  </a:lnTo>
                  <a:lnTo>
                    <a:pt x="4309" y="2799"/>
                  </a:lnTo>
                  <a:lnTo>
                    <a:pt x="4309" y="2800"/>
                  </a:lnTo>
                  <a:lnTo>
                    <a:pt x="4307" y="2802"/>
                  </a:lnTo>
                  <a:lnTo>
                    <a:pt x="4300" y="2805"/>
                  </a:lnTo>
                  <a:lnTo>
                    <a:pt x="4280" y="2809"/>
                  </a:lnTo>
                  <a:lnTo>
                    <a:pt x="4276" y="2809"/>
                  </a:lnTo>
                  <a:lnTo>
                    <a:pt x="4275" y="2809"/>
                  </a:lnTo>
                  <a:lnTo>
                    <a:pt x="4273" y="2808"/>
                  </a:lnTo>
                  <a:lnTo>
                    <a:pt x="4273" y="2806"/>
                  </a:lnTo>
                  <a:lnTo>
                    <a:pt x="4273" y="2805"/>
                  </a:lnTo>
                  <a:lnTo>
                    <a:pt x="4273" y="2803"/>
                  </a:lnTo>
                  <a:lnTo>
                    <a:pt x="4275" y="2802"/>
                  </a:lnTo>
                  <a:lnTo>
                    <a:pt x="4276" y="2800"/>
                  </a:lnTo>
                  <a:lnTo>
                    <a:pt x="4276" y="2800"/>
                  </a:lnTo>
                  <a:close/>
                  <a:moveTo>
                    <a:pt x="4339" y="2780"/>
                  </a:moveTo>
                  <a:lnTo>
                    <a:pt x="4339" y="2779"/>
                  </a:lnTo>
                  <a:lnTo>
                    <a:pt x="4361" y="2769"/>
                  </a:lnTo>
                  <a:lnTo>
                    <a:pt x="4366" y="2768"/>
                  </a:lnTo>
                  <a:lnTo>
                    <a:pt x="4367" y="2766"/>
                  </a:lnTo>
                  <a:lnTo>
                    <a:pt x="4369" y="2768"/>
                  </a:lnTo>
                  <a:lnTo>
                    <a:pt x="4370" y="2768"/>
                  </a:lnTo>
                  <a:lnTo>
                    <a:pt x="4372" y="2769"/>
                  </a:lnTo>
                  <a:lnTo>
                    <a:pt x="4372" y="2771"/>
                  </a:lnTo>
                  <a:lnTo>
                    <a:pt x="4372" y="2772"/>
                  </a:lnTo>
                  <a:lnTo>
                    <a:pt x="4370" y="2776"/>
                  </a:lnTo>
                  <a:lnTo>
                    <a:pt x="4370" y="2776"/>
                  </a:lnTo>
                  <a:lnTo>
                    <a:pt x="4364" y="2779"/>
                  </a:lnTo>
                  <a:lnTo>
                    <a:pt x="4344" y="2788"/>
                  </a:lnTo>
                  <a:lnTo>
                    <a:pt x="4343" y="2788"/>
                  </a:lnTo>
                  <a:lnTo>
                    <a:pt x="4341" y="2789"/>
                  </a:lnTo>
                  <a:lnTo>
                    <a:pt x="4339" y="2788"/>
                  </a:lnTo>
                  <a:lnTo>
                    <a:pt x="4338" y="2788"/>
                  </a:lnTo>
                  <a:lnTo>
                    <a:pt x="4336" y="2786"/>
                  </a:lnTo>
                  <a:lnTo>
                    <a:pt x="4336" y="2783"/>
                  </a:lnTo>
                  <a:lnTo>
                    <a:pt x="4336" y="2782"/>
                  </a:lnTo>
                  <a:lnTo>
                    <a:pt x="4338" y="2780"/>
                  </a:lnTo>
                  <a:lnTo>
                    <a:pt x="4339" y="2780"/>
                  </a:lnTo>
                  <a:lnTo>
                    <a:pt x="4339" y="2780"/>
                  </a:lnTo>
                  <a:close/>
                  <a:moveTo>
                    <a:pt x="4399" y="2749"/>
                  </a:moveTo>
                  <a:lnTo>
                    <a:pt x="4399" y="2748"/>
                  </a:lnTo>
                  <a:lnTo>
                    <a:pt x="4419" y="2737"/>
                  </a:lnTo>
                  <a:lnTo>
                    <a:pt x="4423" y="2734"/>
                  </a:lnTo>
                  <a:lnTo>
                    <a:pt x="4424" y="2732"/>
                  </a:lnTo>
                  <a:lnTo>
                    <a:pt x="4426" y="2732"/>
                  </a:lnTo>
                  <a:lnTo>
                    <a:pt x="4427" y="2734"/>
                  </a:lnTo>
                  <a:lnTo>
                    <a:pt x="4429" y="2736"/>
                  </a:lnTo>
                  <a:lnTo>
                    <a:pt x="4430" y="2737"/>
                  </a:lnTo>
                  <a:lnTo>
                    <a:pt x="4430" y="2739"/>
                  </a:lnTo>
                  <a:lnTo>
                    <a:pt x="4429" y="2740"/>
                  </a:lnTo>
                  <a:lnTo>
                    <a:pt x="4429" y="2742"/>
                  </a:lnTo>
                  <a:lnTo>
                    <a:pt x="4424" y="2745"/>
                  </a:lnTo>
                  <a:lnTo>
                    <a:pt x="4404" y="2757"/>
                  </a:lnTo>
                  <a:lnTo>
                    <a:pt x="4404" y="2757"/>
                  </a:lnTo>
                  <a:lnTo>
                    <a:pt x="4401" y="2759"/>
                  </a:lnTo>
                  <a:lnTo>
                    <a:pt x="4399" y="2757"/>
                  </a:lnTo>
                  <a:lnTo>
                    <a:pt x="4398" y="2757"/>
                  </a:lnTo>
                  <a:lnTo>
                    <a:pt x="4396" y="2756"/>
                  </a:lnTo>
                  <a:lnTo>
                    <a:pt x="4396" y="2754"/>
                  </a:lnTo>
                  <a:lnTo>
                    <a:pt x="4396" y="2752"/>
                  </a:lnTo>
                  <a:lnTo>
                    <a:pt x="4398" y="2751"/>
                  </a:lnTo>
                  <a:lnTo>
                    <a:pt x="4399" y="2749"/>
                  </a:lnTo>
                  <a:lnTo>
                    <a:pt x="4399" y="2749"/>
                  </a:lnTo>
                  <a:close/>
                  <a:moveTo>
                    <a:pt x="4453" y="2711"/>
                  </a:moveTo>
                  <a:lnTo>
                    <a:pt x="4455" y="2709"/>
                  </a:lnTo>
                  <a:lnTo>
                    <a:pt x="4472" y="2696"/>
                  </a:lnTo>
                  <a:lnTo>
                    <a:pt x="4475" y="2693"/>
                  </a:lnTo>
                  <a:lnTo>
                    <a:pt x="4476" y="2691"/>
                  </a:lnTo>
                  <a:lnTo>
                    <a:pt x="4478" y="2691"/>
                  </a:lnTo>
                  <a:lnTo>
                    <a:pt x="4479" y="2691"/>
                  </a:lnTo>
                  <a:lnTo>
                    <a:pt x="4481" y="2693"/>
                  </a:lnTo>
                  <a:lnTo>
                    <a:pt x="4483" y="2694"/>
                  </a:lnTo>
                  <a:lnTo>
                    <a:pt x="4483" y="2696"/>
                  </a:lnTo>
                  <a:lnTo>
                    <a:pt x="4483" y="2697"/>
                  </a:lnTo>
                  <a:lnTo>
                    <a:pt x="4481" y="2699"/>
                  </a:lnTo>
                  <a:lnTo>
                    <a:pt x="4478" y="2702"/>
                  </a:lnTo>
                  <a:lnTo>
                    <a:pt x="4461" y="2717"/>
                  </a:lnTo>
                  <a:lnTo>
                    <a:pt x="4459" y="2719"/>
                  </a:lnTo>
                  <a:lnTo>
                    <a:pt x="4456" y="2719"/>
                  </a:lnTo>
                  <a:lnTo>
                    <a:pt x="4455" y="2719"/>
                  </a:lnTo>
                  <a:lnTo>
                    <a:pt x="4453" y="2719"/>
                  </a:lnTo>
                  <a:lnTo>
                    <a:pt x="4452" y="2717"/>
                  </a:lnTo>
                  <a:lnTo>
                    <a:pt x="4452" y="2716"/>
                  </a:lnTo>
                  <a:lnTo>
                    <a:pt x="4452" y="2714"/>
                  </a:lnTo>
                  <a:lnTo>
                    <a:pt x="4452" y="2712"/>
                  </a:lnTo>
                  <a:lnTo>
                    <a:pt x="4453" y="2711"/>
                  </a:lnTo>
                  <a:lnTo>
                    <a:pt x="4453" y="2711"/>
                  </a:lnTo>
                  <a:close/>
                  <a:moveTo>
                    <a:pt x="4501" y="2665"/>
                  </a:moveTo>
                  <a:lnTo>
                    <a:pt x="4503" y="2663"/>
                  </a:lnTo>
                  <a:lnTo>
                    <a:pt x="4518" y="2646"/>
                  </a:lnTo>
                  <a:lnTo>
                    <a:pt x="4519" y="2643"/>
                  </a:lnTo>
                  <a:lnTo>
                    <a:pt x="4521" y="2642"/>
                  </a:lnTo>
                  <a:lnTo>
                    <a:pt x="4523" y="2642"/>
                  </a:lnTo>
                  <a:lnTo>
                    <a:pt x="4524" y="2642"/>
                  </a:lnTo>
                  <a:lnTo>
                    <a:pt x="4527" y="2643"/>
                  </a:lnTo>
                  <a:lnTo>
                    <a:pt x="4527" y="2645"/>
                  </a:lnTo>
                  <a:lnTo>
                    <a:pt x="4529" y="2646"/>
                  </a:lnTo>
                  <a:lnTo>
                    <a:pt x="4529" y="2648"/>
                  </a:lnTo>
                  <a:lnTo>
                    <a:pt x="4527" y="2649"/>
                  </a:lnTo>
                  <a:lnTo>
                    <a:pt x="4526" y="2653"/>
                  </a:lnTo>
                  <a:lnTo>
                    <a:pt x="4510" y="2669"/>
                  </a:lnTo>
                  <a:lnTo>
                    <a:pt x="4509" y="2673"/>
                  </a:lnTo>
                  <a:lnTo>
                    <a:pt x="4507" y="2673"/>
                  </a:lnTo>
                  <a:lnTo>
                    <a:pt x="4506" y="2673"/>
                  </a:lnTo>
                  <a:lnTo>
                    <a:pt x="4503" y="2673"/>
                  </a:lnTo>
                  <a:lnTo>
                    <a:pt x="4501" y="2673"/>
                  </a:lnTo>
                  <a:lnTo>
                    <a:pt x="4501" y="2669"/>
                  </a:lnTo>
                  <a:lnTo>
                    <a:pt x="4499" y="2668"/>
                  </a:lnTo>
                  <a:lnTo>
                    <a:pt x="4501" y="2666"/>
                  </a:lnTo>
                  <a:lnTo>
                    <a:pt x="4501" y="2665"/>
                  </a:lnTo>
                  <a:lnTo>
                    <a:pt x="4501" y="2665"/>
                  </a:lnTo>
                  <a:close/>
                  <a:moveTo>
                    <a:pt x="4543" y="2613"/>
                  </a:moveTo>
                  <a:lnTo>
                    <a:pt x="4544" y="2611"/>
                  </a:lnTo>
                  <a:lnTo>
                    <a:pt x="4556" y="2593"/>
                  </a:lnTo>
                  <a:lnTo>
                    <a:pt x="4558" y="2590"/>
                  </a:lnTo>
                  <a:lnTo>
                    <a:pt x="4559" y="2588"/>
                  </a:lnTo>
                  <a:lnTo>
                    <a:pt x="4561" y="2586"/>
                  </a:lnTo>
                  <a:lnTo>
                    <a:pt x="4563" y="2586"/>
                  </a:lnTo>
                  <a:lnTo>
                    <a:pt x="4564" y="2588"/>
                  </a:lnTo>
                  <a:lnTo>
                    <a:pt x="4566" y="2588"/>
                  </a:lnTo>
                  <a:lnTo>
                    <a:pt x="4567" y="2590"/>
                  </a:lnTo>
                  <a:lnTo>
                    <a:pt x="4567" y="2593"/>
                  </a:lnTo>
                  <a:lnTo>
                    <a:pt x="4567" y="2594"/>
                  </a:lnTo>
                  <a:lnTo>
                    <a:pt x="4564" y="2597"/>
                  </a:lnTo>
                  <a:lnTo>
                    <a:pt x="4552" y="2617"/>
                  </a:lnTo>
                  <a:lnTo>
                    <a:pt x="4550" y="2619"/>
                  </a:lnTo>
                  <a:lnTo>
                    <a:pt x="4549" y="2620"/>
                  </a:lnTo>
                  <a:lnTo>
                    <a:pt x="4547" y="2620"/>
                  </a:lnTo>
                  <a:lnTo>
                    <a:pt x="4546" y="2620"/>
                  </a:lnTo>
                  <a:lnTo>
                    <a:pt x="4544" y="2620"/>
                  </a:lnTo>
                  <a:lnTo>
                    <a:pt x="4543" y="2619"/>
                  </a:lnTo>
                  <a:lnTo>
                    <a:pt x="4543" y="2616"/>
                  </a:lnTo>
                  <a:lnTo>
                    <a:pt x="4543" y="2614"/>
                  </a:lnTo>
                  <a:lnTo>
                    <a:pt x="4543" y="2613"/>
                  </a:lnTo>
                  <a:lnTo>
                    <a:pt x="4543" y="2613"/>
                  </a:lnTo>
                  <a:close/>
                  <a:moveTo>
                    <a:pt x="4576" y="2556"/>
                  </a:moveTo>
                  <a:lnTo>
                    <a:pt x="4578" y="2553"/>
                  </a:lnTo>
                  <a:lnTo>
                    <a:pt x="4587" y="2533"/>
                  </a:lnTo>
                  <a:lnTo>
                    <a:pt x="4589" y="2530"/>
                  </a:lnTo>
                  <a:lnTo>
                    <a:pt x="4589" y="2528"/>
                  </a:lnTo>
                  <a:lnTo>
                    <a:pt x="4590" y="2527"/>
                  </a:lnTo>
                  <a:lnTo>
                    <a:pt x="4592" y="2527"/>
                  </a:lnTo>
                  <a:lnTo>
                    <a:pt x="4595" y="2527"/>
                  </a:lnTo>
                  <a:lnTo>
                    <a:pt x="4596" y="2528"/>
                  </a:lnTo>
                  <a:lnTo>
                    <a:pt x="4596" y="2530"/>
                  </a:lnTo>
                  <a:lnTo>
                    <a:pt x="4598" y="2531"/>
                  </a:lnTo>
                  <a:lnTo>
                    <a:pt x="4596" y="2533"/>
                  </a:lnTo>
                  <a:lnTo>
                    <a:pt x="4596" y="2536"/>
                  </a:lnTo>
                  <a:lnTo>
                    <a:pt x="4587" y="2557"/>
                  </a:lnTo>
                  <a:lnTo>
                    <a:pt x="4586" y="2560"/>
                  </a:lnTo>
                  <a:lnTo>
                    <a:pt x="4584" y="2562"/>
                  </a:lnTo>
                  <a:lnTo>
                    <a:pt x="4583" y="2562"/>
                  </a:lnTo>
                  <a:lnTo>
                    <a:pt x="4579" y="2562"/>
                  </a:lnTo>
                  <a:lnTo>
                    <a:pt x="4578" y="2562"/>
                  </a:lnTo>
                  <a:lnTo>
                    <a:pt x="4576" y="2560"/>
                  </a:lnTo>
                  <a:lnTo>
                    <a:pt x="4576" y="2559"/>
                  </a:lnTo>
                  <a:lnTo>
                    <a:pt x="4576" y="2557"/>
                  </a:lnTo>
                  <a:lnTo>
                    <a:pt x="4576" y="2556"/>
                  </a:lnTo>
                  <a:lnTo>
                    <a:pt x="4576" y="2556"/>
                  </a:lnTo>
                  <a:close/>
                  <a:moveTo>
                    <a:pt x="4601" y="2494"/>
                  </a:moveTo>
                  <a:lnTo>
                    <a:pt x="4603" y="2490"/>
                  </a:lnTo>
                  <a:lnTo>
                    <a:pt x="4609" y="2467"/>
                  </a:lnTo>
                  <a:lnTo>
                    <a:pt x="4609" y="2467"/>
                  </a:lnTo>
                  <a:lnTo>
                    <a:pt x="4610" y="2465"/>
                  </a:lnTo>
                  <a:lnTo>
                    <a:pt x="4612" y="2463"/>
                  </a:lnTo>
                  <a:lnTo>
                    <a:pt x="4613" y="2463"/>
                  </a:lnTo>
                  <a:lnTo>
                    <a:pt x="4615" y="2463"/>
                  </a:lnTo>
                  <a:lnTo>
                    <a:pt x="4616" y="2463"/>
                  </a:lnTo>
                  <a:lnTo>
                    <a:pt x="4618" y="2465"/>
                  </a:lnTo>
                  <a:lnTo>
                    <a:pt x="4618" y="2467"/>
                  </a:lnTo>
                  <a:lnTo>
                    <a:pt x="4618" y="2470"/>
                  </a:lnTo>
                  <a:lnTo>
                    <a:pt x="4618" y="2470"/>
                  </a:lnTo>
                  <a:lnTo>
                    <a:pt x="4612" y="2493"/>
                  </a:lnTo>
                  <a:lnTo>
                    <a:pt x="4610" y="2497"/>
                  </a:lnTo>
                  <a:lnTo>
                    <a:pt x="4609" y="2499"/>
                  </a:lnTo>
                  <a:lnTo>
                    <a:pt x="4607" y="2500"/>
                  </a:lnTo>
                  <a:lnTo>
                    <a:pt x="4606" y="2500"/>
                  </a:lnTo>
                  <a:lnTo>
                    <a:pt x="4604" y="2500"/>
                  </a:lnTo>
                  <a:lnTo>
                    <a:pt x="4603" y="2499"/>
                  </a:lnTo>
                  <a:lnTo>
                    <a:pt x="4601" y="2497"/>
                  </a:lnTo>
                  <a:lnTo>
                    <a:pt x="4601" y="2496"/>
                  </a:lnTo>
                  <a:lnTo>
                    <a:pt x="4601" y="2494"/>
                  </a:lnTo>
                  <a:lnTo>
                    <a:pt x="4601" y="2494"/>
                  </a:lnTo>
                  <a:close/>
                  <a:moveTo>
                    <a:pt x="4616" y="2430"/>
                  </a:moveTo>
                  <a:lnTo>
                    <a:pt x="4618" y="2422"/>
                  </a:lnTo>
                  <a:lnTo>
                    <a:pt x="4621" y="2400"/>
                  </a:lnTo>
                  <a:lnTo>
                    <a:pt x="4621" y="2399"/>
                  </a:lnTo>
                  <a:lnTo>
                    <a:pt x="4623" y="2397"/>
                  </a:lnTo>
                  <a:lnTo>
                    <a:pt x="4624" y="2397"/>
                  </a:lnTo>
                  <a:lnTo>
                    <a:pt x="4627" y="2397"/>
                  </a:lnTo>
                  <a:lnTo>
                    <a:pt x="4629" y="2397"/>
                  </a:lnTo>
                  <a:lnTo>
                    <a:pt x="4630" y="2399"/>
                  </a:lnTo>
                  <a:lnTo>
                    <a:pt x="4630" y="2400"/>
                  </a:lnTo>
                  <a:lnTo>
                    <a:pt x="4630" y="2402"/>
                  </a:lnTo>
                  <a:lnTo>
                    <a:pt x="4629" y="2424"/>
                  </a:lnTo>
                  <a:lnTo>
                    <a:pt x="4627" y="2431"/>
                  </a:lnTo>
                  <a:lnTo>
                    <a:pt x="4626" y="2433"/>
                  </a:lnTo>
                  <a:lnTo>
                    <a:pt x="4624" y="2434"/>
                  </a:lnTo>
                  <a:lnTo>
                    <a:pt x="4623" y="2434"/>
                  </a:lnTo>
                  <a:lnTo>
                    <a:pt x="4621" y="2434"/>
                  </a:lnTo>
                  <a:lnTo>
                    <a:pt x="4619" y="2434"/>
                  </a:lnTo>
                  <a:lnTo>
                    <a:pt x="4618" y="2433"/>
                  </a:lnTo>
                  <a:lnTo>
                    <a:pt x="4616" y="2431"/>
                  </a:lnTo>
                  <a:lnTo>
                    <a:pt x="4616" y="2430"/>
                  </a:lnTo>
                  <a:lnTo>
                    <a:pt x="4616" y="2430"/>
                  </a:lnTo>
                  <a:close/>
                  <a:moveTo>
                    <a:pt x="4624" y="2364"/>
                  </a:moveTo>
                  <a:lnTo>
                    <a:pt x="4624" y="2351"/>
                  </a:lnTo>
                  <a:lnTo>
                    <a:pt x="4624" y="2334"/>
                  </a:lnTo>
                  <a:lnTo>
                    <a:pt x="4624" y="2333"/>
                  </a:lnTo>
                  <a:lnTo>
                    <a:pt x="4626" y="2331"/>
                  </a:lnTo>
                  <a:lnTo>
                    <a:pt x="4627" y="2330"/>
                  </a:lnTo>
                  <a:lnTo>
                    <a:pt x="4629" y="2330"/>
                  </a:lnTo>
                  <a:lnTo>
                    <a:pt x="4630" y="2330"/>
                  </a:lnTo>
                  <a:lnTo>
                    <a:pt x="4632" y="2331"/>
                  </a:lnTo>
                  <a:lnTo>
                    <a:pt x="4633" y="2333"/>
                  </a:lnTo>
                  <a:lnTo>
                    <a:pt x="4633" y="2334"/>
                  </a:lnTo>
                  <a:lnTo>
                    <a:pt x="4633" y="2351"/>
                  </a:lnTo>
                  <a:lnTo>
                    <a:pt x="4633" y="2364"/>
                  </a:lnTo>
                  <a:lnTo>
                    <a:pt x="4633" y="2365"/>
                  </a:lnTo>
                  <a:lnTo>
                    <a:pt x="4632" y="2367"/>
                  </a:lnTo>
                  <a:lnTo>
                    <a:pt x="4630" y="2368"/>
                  </a:lnTo>
                  <a:lnTo>
                    <a:pt x="4629" y="2368"/>
                  </a:lnTo>
                  <a:lnTo>
                    <a:pt x="4626" y="2368"/>
                  </a:lnTo>
                  <a:lnTo>
                    <a:pt x="4624" y="2367"/>
                  </a:lnTo>
                  <a:lnTo>
                    <a:pt x="4624" y="2365"/>
                  </a:lnTo>
                  <a:lnTo>
                    <a:pt x="4624" y="2364"/>
                  </a:lnTo>
                  <a:lnTo>
                    <a:pt x="4624" y="2364"/>
                  </a:lnTo>
                  <a:close/>
                  <a:moveTo>
                    <a:pt x="4624" y="2296"/>
                  </a:moveTo>
                  <a:lnTo>
                    <a:pt x="4624" y="2267"/>
                  </a:lnTo>
                  <a:lnTo>
                    <a:pt x="4624" y="2265"/>
                  </a:lnTo>
                  <a:lnTo>
                    <a:pt x="4626" y="2264"/>
                  </a:lnTo>
                  <a:lnTo>
                    <a:pt x="4627" y="2262"/>
                  </a:lnTo>
                  <a:lnTo>
                    <a:pt x="4629" y="2262"/>
                  </a:lnTo>
                  <a:lnTo>
                    <a:pt x="4630" y="2262"/>
                  </a:lnTo>
                  <a:lnTo>
                    <a:pt x="4632" y="2264"/>
                  </a:lnTo>
                  <a:lnTo>
                    <a:pt x="4633" y="2265"/>
                  </a:lnTo>
                  <a:lnTo>
                    <a:pt x="4633" y="2267"/>
                  </a:lnTo>
                  <a:lnTo>
                    <a:pt x="4633" y="2296"/>
                  </a:lnTo>
                  <a:lnTo>
                    <a:pt x="4633" y="2297"/>
                  </a:lnTo>
                  <a:lnTo>
                    <a:pt x="4632" y="2299"/>
                  </a:lnTo>
                  <a:lnTo>
                    <a:pt x="4630" y="2301"/>
                  </a:lnTo>
                  <a:lnTo>
                    <a:pt x="4629" y="2301"/>
                  </a:lnTo>
                  <a:lnTo>
                    <a:pt x="4627" y="2301"/>
                  </a:lnTo>
                  <a:lnTo>
                    <a:pt x="4626" y="2299"/>
                  </a:lnTo>
                  <a:lnTo>
                    <a:pt x="4624" y="2297"/>
                  </a:lnTo>
                  <a:lnTo>
                    <a:pt x="4624" y="2296"/>
                  </a:lnTo>
                  <a:lnTo>
                    <a:pt x="4624" y="2296"/>
                  </a:lnTo>
                  <a:close/>
                  <a:moveTo>
                    <a:pt x="4624" y="2228"/>
                  </a:moveTo>
                  <a:lnTo>
                    <a:pt x="4624" y="2201"/>
                  </a:lnTo>
                  <a:lnTo>
                    <a:pt x="4624" y="2198"/>
                  </a:lnTo>
                  <a:lnTo>
                    <a:pt x="4626" y="2196"/>
                  </a:lnTo>
                  <a:lnTo>
                    <a:pt x="4627" y="2196"/>
                  </a:lnTo>
                  <a:lnTo>
                    <a:pt x="4629" y="2196"/>
                  </a:lnTo>
                  <a:lnTo>
                    <a:pt x="4630" y="2196"/>
                  </a:lnTo>
                  <a:lnTo>
                    <a:pt x="4632" y="2196"/>
                  </a:lnTo>
                  <a:lnTo>
                    <a:pt x="4633" y="2198"/>
                  </a:lnTo>
                  <a:lnTo>
                    <a:pt x="4633" y="2201"/>
                  </a:lnTo>
                  <a:lnTo>
                    <a:pt x="4633" y="2228"/>
                  </a:lnTo>
                  <a:lnTo>
                    <a:pt x="4633" y="2231"/>
                  </a:lnTo>
                  <a:lnTo>
                    <a:pt x="4632" y="2233"/>
                  </a:lnTo>
                  <a:lnTo>
                    <a:pt x="4630" y="2233"/>
                  </a:lnTo>
                  <a:lnTo>
                    <a:pt x="4629" y="2234"/>
                  </a:lnTo>
                  <a:lnTo>
                    <a:pt x="4627" y="2233"/>
                  </a:lnTo>
                  <a:lnTo>
                    <a:pt x="4626" y="2233"/>
                  </a:lnTo>
                  <a:lnTo>
                    <a:pt x="4624" y="2231"/>
                  </a:lnTo>
                  <a:lnTo>
                    <a:pt x="4624" y="2228"/>
                  </a:lnTo>
                  <a:lnTo>
                    <a:pt x="4624" y="2228"/>
                  </a:lnTo>
                  <a:close/>
                  <a:moveTo>
                    <a:pt x="4624" y="2162"/>
                  </a:moveTo>
                  <a:lnTo>
                    <a:pt x="4624" y="2133"/>
                  </a:lnTo>
                  <a:lnTo>
                    <a:pt x="4624" y="2131"/>
                  </a:lnTo>
                  <a:lnTo>
                    <a:pt x="4626" y="2130"/>
                  </a:lnTo>
                  <a:lnTo>
                    <a:pt x="4627" y="2128"/>
                  </a:lnTo>
                  <a:lnTo>
                    <a:pt x="4629" y="2128"/>
                  </a:lnTo>
                  <a:lnTo>
                    <a:pt x="4630" y="2128"/>
                  </a:lnTo>
                  <a:lnTo>
                    <a:pt x="4632" y="2130"/>
                  </a:lnTo>
                  <a:lnTo>
                    <a:pt x="4633" y="2131"/>
                  </a:lnTo>
                  <a:lnTo>
                    <a:pt x="4633" y="2133"/>
                  </a:lnTo>
                  <a:lnTo>
                    <a:pt x="4633" y="2162"/>
                  </a:lnTo>
                  <a:lnTo>
                    <a:pt x="4633" y="2164"/>
                  </a:lnTo>
                  <a:lnTo>
                    <a:pt x="4632" y="2165"/>
                  </a:lnTo>
                  <a:lnTo>
                    <a:pt x="4630" y="2167"/>
                  </a:lnTo>
                  <a:lnTo>
                    <a:pt x="4629" y="2167"/>
                  </a:lnTo>
                  <a:lnTo>
                    <a:pt x="4627" y="2167"/>
                  </a:lnTo>
                  <a:lnTo>
                    <a:pt x="4626" y="2165"/>
                  </a:lnTo>
                  <a:lnTo>
                    <a:pt x="4624" y="2164"/>
                  </a:lnTo>
                  <a:lnTo>
                    <a:pt x="4624" y="2162"/>
                  </a:lnTo>
                  <a:lnTo>
                    <a:pt x="4624" y="2162"/>
                  </a:lnTo>
                  <a:close/>
                  <a:moveTo>
                    <a:pt x="4624" y="2095"/>
                  </a:moveTo>
                  <a:lnTo>
                    <a:pt x="4624" y="2065"/>
                  </a:lnTo>
                  <a:lnTo>
                    <a:pt x="4624" y="2064"/>
                  </a:lnTo>
                  <a:lnTo>
                    <a:pt x="4626" y="2062"/>
                  </a:lnTo>
                  <a:lnTo>
                    <a:pt x="4627" y="2061"/>
                  </a:lnTo>
                  <a:lnTo>
                    <a:pt x="4629" y="2061"/>
                  </a:lnTo>
                  <a:lnTo>
                    <a:pt x="4630" y="2061"/>
                  </a:lnTo>
                  <a:lnTo>
                    <a:pt x="4632" y="2062"/>
                  </a:lnTo>
                  <a:lnTo>
                    <a:pt x="4633" y="2064"/>
                  </a:lnTo>
                  <a:lnTo>
                    <a:pt x="4633" y="2065"/>
                  </a:lnTo>
                  <a:lnTo>
                    <a:pt x="4633" y="2095"/>
                  </a:lnTo>
                  <a:lnTo>
                    <a:pt x="4633" y="2096"/>
                  </a:lnTo>
                  <a:lnTo>
                    <a:pt x="4632" y="2098"/>
                  </a:lnTo>
                  <a:lnTo>
                    <a:pt x="4630" y="2099"/>
                  </a:lnTo>
                  <a:lnTo>
                    <a:pt x="4629" y="2099"/>
                  </a:lnTo>
                  <a:lnTo>
                    <a:pt x="4627" y="2099"/>
                  </a:lnTo>
                  <a:lnTo>
                    <a:pt x="4626" y="2098"/>
                  </a:lnTo>
                  <a:lnTo>
                    <a:pt x="4624" y="2096"/>
                  </a:lnTo>
                  <a:lnTo>
                    <a:pt x="4624" y="2095"/>
                  </a:lnTo>
                  <a:lnTo>
                    <a:pt x="4624" y="2095"/>
                  </a:lnTo>
                  <a:close/>
                  <a:moveTo>
                    <a:pt x="4624" y="2027"/>
                  </a:moveTo>
                  <a:lnTo>
                    <a:pt x="4624" y="1998"/>
                  </a:lnTo>
                  <a:lnTo>
                    <a:pt x="4624" y="1996"/>
                  </a:lnTo>
                  <a:lnTo>
                    <a:pt x="4626" y="1995"/>
                  </a:lnTo>
                  <a:lnTo>
                    <a:pt x="4627" y="1993"/>
                  </a:lnTo>
                  <a:lnTo>
                    <a:pt x="4629" y="1993"/>
                  </a:lnTo>
                  <a:lnTo>
                    <a:pt x="4630" y="1993"/>
                  </a:lnTo>
                  <a:lnTo>
                    <a:pt x="4632" y="1995"/>
                  </a:lnTo>
                  <a:lnTo>
                    <a:pt x="4633" y="1996"/>
                  </a:lnTo>
                  <a:lnTo>
                    <a:pt x="4633" y="1998"/>
                  </a:lnTo>
                  <a:lnTo>
                    <a:pt x="4633" y="2027"/>
                  </a:lnTo>
                  <a:lnTo>
                    <a:pt x="4633" y="2029"/>
                  </a:lnTo>
                  <a:lnTo>
                    <a:pt x="4632" y="2030"/>
                  </a:lnTo>
                  <a:lnTo>
                    <a:pt x="4630" y="2032"/>
                  </a:lnTo>
                  <a:lnTo>
                    <a:pt x="4629" y="2032"/>
                  </a:lnTo>
                  <a:lnTo>
                    <a:pt x="4627" y="2032"/>
                  </a:lnTo>
                  <a:lnTo>
                    <a:pt x="4626" y="2030"/>
                  </a:lnTo>
                  <a:lnTo>
                    <a:pt x="4624" y="2029"/>
                  </a:lnTo>
                  <a:lnTo>
                    <a:pt x="4624" y="2027"/>
                  </a:lnTo>
                  <a:lnTo>
                    <a:pt x="4624" y="2027"/>
                  </a:lnTo>
                  <a:close/>
                  <a:moveTo>
                    <a:pt x="4624" y="1959"/>
                  </a:moveTo>
                  <a:lnTo>
                    <a:pt x="4624" y="1932"/>
                  </a:lnTo>
                  <a:lnTo>
                    <a:pt x="4624" y="1929"/>
                  </a:lnTo>
                  <a:lnTo>
                    <a:pt x="4626" y="1927"/>
                  </a:lnTo>
                  <a:lnTo>
                    <a:pt x="4627" y="1927"/>
                  </a:lnTo>
                  <a:lnTo>
                    <a:pt x="4629" y="1927"/>
                  </a:lnTo>
                  <a:lnTo>
                    <a:pt x="4630" y="1927"/>
                  </a:lnTo>
                  <a:lnTo>
                    <a:pt x="4632" y="1927"/>
                  </a:lnTo>
                  <a:lnTo>
                    <a:pt x="4633" y="1929"/>
                  </a:lnTo>
                  <a:lnTo>
                    <a:pt x="4633" y="1932"/>
                  </a:lnTo>
                  <a:lnTo>
                    <a:pt x="4633" y="1959"/>
                  </a:lnTo>
                  <a:lnTo>
                    <a:pt x="4633" y="1962"/>
                  </a:lnTo>
                  <a:lnTo>
                    <a:pt x="4632" y="1964"/>
                  </a:lnTo>
                  <a:lnTo>
                    <a:pt x="4630" y="1964"/>
                  </a:lnTo>
                  <a:lnTo>
                    <a:pt x="4629" y="1965"/>
                  </a:lnTo>
                  <a:lnTo>
                    <a:pt x="4627" y="1964"/>
                  </a:lnTo>
                  <a:lnTo>
                    <a:pt x="4626" y="1964"/>
                  </a:lnTo>
                  <a:lnTo>
                    <a:pt x="4624" y="1962"/>
                  </a:lnTo>
                  <a:lnTo>
                    <a:pt x="4624" y="1959"/>
                  </a:lnTo>
                  <a:lnTo>
                    <a:pt x="4624" y="1959"/>
                  </a:lnTo>
                  <a:close/>
                  <a:moveTo>
                    <a:pt x="4624" y="1893"/>
                  </a:moveTo>
                  <a:lnTo>
                    <a:pt x="4624" y="1864"/>
                  </a:lnTo>
                  <a:lnTo>
                    <a:pt x="4624" y="1863"/>
                  </a:lnTo>
                  <a:lnTo>
                    <a:pt x="4626" y="1861"/>
                  </a:lnTo>
                  <a:lnTo>
                    <a:pt x="4627" y="1859"/>
                  </a:lnTo>
                  <a:lnTo>
                    <a:pt x="4629" y="1859"/>
                  </a:lnTo>
                  <a:lnTo>
                    <a:pt x="4630" y="1859"/>
                  </a:lnTo>
                  <a:lnTo>
                    <a:pt x="4632" y="1861"/>
                  </a:lnTo>
                  <a:lnTo>
                    <a:pt x="4633" y="1863"/>
                  </a:lnTo>
                  <a:lnTo>
                    <a:pt x="4633" y="1864"/>
                  </a:lnTo>
                  <a:lnTo>
                    <a:pt x="4633" y="1893"/>
                  </a:lnTo>
                  <a:lnTo>
                    <a:pt x="4633" y="1895"/>
                  </a:lnTo>
                  <a:lnTo>
                    <a:pt x="4632" y="1896"/>
                  </a:lnTo>
                  <a:lnTo>
                    <a:pt x="4630" y="1898"/>
                  </a:lnTo>
                  <a:lnTo>
                    <a:pt x="4629" y="1898"/>
                  </a:lnTo>
                  <a:lnTo>
                    <a:pt x="4627" y="1898"/>
                  </a:lnTo>
                  <a:lnTo>
                    <a:pt x="4626" y="1896"/>
                  </a:lnTo>
                  <a:lnTo>
                    <a:pt x="4624" y="1895"/>
                  </a:lnTo>
                  <a:lnTo>
                    <a:pt x="4624" y="1893"/>
                  </a:lnTo>
                  <a:lnTo>
                    <a:pt x="4624" y="1893"/>
                  </a:lnTo>
                  <a:close/>
                  <a:moveTo>
                    <a:pt x="4624" y="1826"/>
                  </a:moveTo>
                  <a:lnTo>
                    <a:pt x="4624" y="1796"/>
                  </a:lnTo>
                  <a:lnTo>
                    <a:pt x="4624" y="1795"/>
                  </a:lnTo>
                  <a:lnTo>
                    <a:pt x="4626" y="1793"/>
                  </a:lnTo>
                  <a:lnTo>
                    <a:pt x="4627" y="1792"/>
                  </a:lnTo>
                  <a:lnTo>
                    <a:pt x="4629" y="1792"/>
                  </a:lnTo>
                  <a:lnTo>
                    <a:pt x="4630" y="1792"/>
                  </a:lnTo>
                  <a:lnTo>
                    <a:pt x="4632" y="1793"/>
                  </a:lnTo>
                  <a:lnTo>
                    <a:pt x="4633" y="1795"/>
                  </a:lnTo>
                  <a:lnTo>
                    <a:pt x="4633" y="1796"/>
                  </a:lnTo>
                  <a:lnTo>
                    <a:pt x="4633" y="1826"/>
                  </a:lnTo>
                  <a:lnTo>
                    <a:pt x="4633" y="1827"/>
                  </a:lnTo>
                  <a:lnTo>
                    <a:pt x="4632" y="1829"/>
                  </a:lnTo>
                  <a:lnTo>
                    <a:pt x="4630" y="1830"/>
                  </a:lnTo>
                  <a:lnTo>
                    <a:pt x="4629" y="1830"/>
                  </a:lnTo>
                  <a:lnTo>
                    <a:pt x="4627" y="1830"/>
                  </a:lnTo>
                  <a:lnTo>
                    <a:pt x="4626" y="1829"/>
                  </a:lnTo>
                  <a:lnTo>
                    <a:pt x="4624" y="1827"/>
                  </a:lnTo>
                  <a:lnTo>
                    <a:pt x="4624" y="1826"/>
                  </a:lnTo>
                  <a:lnTo>
                    <a:pt x="4624" y="1826"/>
                  </a:lnTo>
                  <a:close/>
                  <a:moveTo>
                    <a:pt x="4624" y="1758"/>
                  </a:moveTo>
                  <a:lnTo>
                    <a:pt x="4624" y="1729"/>
                  </a:lnTo>
                  <a:lnTo>
                    <a:pt x="4624" y="1727"/>
                  </a:lnTo>
                  <a:lnTo>
                    <a:pt x="4626" y="1726"/>
                  </a:lnTo>
                  <a:lnTo>
                    <a:pt x="4627" y="1724"/>
                  </a:lnTo>
                  <a:lnTo>
                    <a:pt x="4629" y="1724"/>
                  </a:lnTo>
                  <a:lnTo>
                    <a:pt x="4630" y="1724"/>
                  </a:lnTo>
                  <a:lnTo>
                    <a:pt x="4632" y="1726"/>
                  </a:lnTo>
                  <a:lnTo>
                    <a:pt x="4633" y="1727"/>
                  </a:lnTo>
                  <a:lnTo>
                    <a:pt x="4633" y="1729"/>
                  </a:lnTo>
                  <a:lnTo>
                    <a:pt x="4633" y="1758"/>
                  </a:lnTo>
                  <a:lnTo>
                    <a:pt x="4633" y="1760"/>
                  </a:lnTo>
                  <a:lnTo>
                    <a:pt x="4632" y="1761"/>
                  </a:lnTo>
                  <a:lnTo>
                    <a:pt x="4630" y="1763"/>
                  </a:lnTo>
                  <a:lnTo>
                    <a:pt x="4629" y="1763"/>
                  </a:lnTo>
                  <a:lnTo>
                    <a:pt x="4627" y="1763"/>
                  </a:lnTo>
                  <a:lnTo>
                    <a:pt x="4626" y="1761"/>
                  </a:lnTo>
                  <a:lnTo>
                    <a:pt x="4624" y="1760"/>
                  </a:lnTo>
                  <a:lnTo>
                    <a:pt x="4624" y="1758"/>
                  </a:lnTo>
                  <a:lnTo>
                    <a:pt x="4624" y="1758"/>
                  </a:lnTo>
                  <a:close/>
                  <a:moveTo>
                    <a:pt x="4624" y="1690"/>
                  </a:moveTo>
                  <a:lnTo>
                    <a:pt x="4624" y="1663"/>
                  </a:lnTo>
                  <a:lnTo>
                    <a:pt x="4624" y="1660"/>
                  </a:lnTo>
                  <a:lnTo>
                    <a:pt x="4626" y="1658"/>
                  </a:lnTo>
                  <a:lnTo>
                    <a:pt x="4627" y="1658"/>
                  </a:lnTo>
                  <a:lnTo>
                    <a:pt x="4629" y="1658"/>
                  </a:lnTo>
                  <a:lnTo>
                    <a:pt x="4630" y="1658"/>
                  </a:lnTo>
                  <a:lnTo>
                    <a:pt x="4632" y="1658"/>
                  </a:lnTo>
                  <a:lnTo>
                    <a:pt x="4633" y="1660"/>
                  </a:lnTo>
                  <a:lnTo>
                    <a:pt x="4633" y="1663"/>
                  </a:lnTo>
                  <a:lnTo>
                    <a:pt x="4633" y="1690"/>
                  </a:lnTo>
                  <a:lnTo>
                    <a:pt x="4633" y="1693"/>
                  </a:lnTo>
                  <a:lnTo>
                    <a:pt x="4632" y="1695"/>
                  </a:lnTo>
                  <a:lnTo>
                    <a:pt x="4630" y="1695"/>
                  </a:lnTo>
                  <a:lnTo>
                    <a:pt x="4629" y="1697"/>
                  </a:lnTo>
                  <a:lnTo>
                    <a:pt x="4627" y="1695"/>
                  </a:lnTo>
                  <a:lnTo>
                    <a:pt x="4626" y="1695"/>
                  </a:lnTo>
                  <a:lnTo>
                    <a:pt x="4624" y="1693"/>
                  </a:lnTo>
                  <a:lnTo>
                    <a:pt x="4624" y="1690"/>
                  </a:lnTo>
                  <a:lnTo>
                    <a:pt x="4624" y="1690"/>
                  </a:lnTo>
                  <a:close/>
                  <a:moveTo>
                    <a:pt x="4624" y="1624"/>
                  </a:moveTo>
                  <a:lnTo>
                    <a:pt x="4624" y="1595"/>
                  </a:lnTo>
                  <a:lnTo>
                    <a:pt x="4624" y="1594"/>
                  </a:lnTo>
                  <a:lnTo>
                    <a:pt x="4626" y="1592"/>
                  </a:lnTo>
                  <a:lnTo>
                    <a:pt x="4627" y="1590"/>
                  </a:lnTo>
                  <a:lnTo>
                    <a:pt x="4629" y="1590"/>
                  </a:lnTo>
                  <a:lnTo>
                    <a:pt x="4630" y="1590"/>
                  </a:lnTo>
                  <a:lnTo>
                    <a:pt x="4632" y="1592"/>
                  </a:lnTo>
                  <a:lnTo>
                    <a:pt x="4633" y="1594"/>
                  </a:lnTo>
                  <a:lnTo>
                    <a:pt x="4633" y="1595"/>
                  </a:lnTo>
                  <a:lnTo>
                    <a:pt x="4633" y="1624"/>
                  </a:lnTo>
                  <a:lnTo>
                    <a:pt x="4633" y="1626"/>
                  </a:lnTo>
                  <a:lnTo>
                    <a:pt x="4632" y="1627"/>
                  </a:lnTo>
                  <a:lnTo>
                    <a:pt x="4630" y="1629"/>
                  </a:lnTo>
                  <a:lnTo>
                    <a:pt x="4629" y="1629"/>
                  </a:lnTo>
                  <a:lnTo>
                    <a:pt x="4627" y="1629"/>
                  </a:lnTo>
                  <a:lnTo>
                    <a:pt x="4626" y="1627"/>
                  </a:lnTo>
                  <a:lnTo>
                    <a:pt x="4624" y="1626"/>
                  </a:lnTo>
                  <a:lnTo>
                    <a:pt x="4624" y="1624"/>
                  </a:lnTo>
                  <a:lnTo>
                    <a:pt x="4624" y="1624"/>
                  </a:lnTo>
                  <a:close/>
                  <a:moveTo>
                    <a:pt x="4624" y="1557"/>
                  </a:moveTo>
                  <a:lnTo>
                    <a:pt x="4624" y="1527"/>
                  </a:lnTo>
                  <a:lnTo>
                    <a:pt x="4624" y="1526"/>
                  </a:lnTo>
                  <a:lnTo>
                    <a:pt x="4626" y="1524"/>
                  </a:lnTo>
                  <a:lnTo>
                    <a:pt x="4627" y="1523"/>
                  </a:lnTo>
                  <a:lnTo>
                    <a:pt x="4629" y="1523"/>
                  </a:lnTo>
                  <a:lnTo>
                    <a:pt x="4630" y="1523"/>
                  </a:lnTo>
                  <a:lnTo>
                    <a:pt x="4632" y="1524"/>
                  </a:lnTo>
                  <a:lnTo>
                    <a:pt x="4633" y="1526"/>
                  </a:lnTo>
                  <a:lnTo>
                    <a:pt x="4633" y="1527"/>
                  </a:lnTo>
                  <a:lnTo>
                    <a:pt x="4633" y="1557"/>
                  </a:lnTo>
                  <a:lnTo>
                    <a:pt x="4633" y="1558"/>
                  </a:lnTo>
                  <a:lnTo>
                    <a:pt x="4632" y="1560"/>
                  </a:lnTo>
                  <a:lnTo>
                    <a:pt x="4630" y="1561"/>
                  </a:lnTo>
                  <a:lnTo>
                    <a:pt x="4629" y="1561"/>
                  </a:lnTo>
                  <a:lnTo>
                    <a:pt x="4627" y="1561"/>
                  </a:lnTo>
                  <a:lnTo>
                    <a:pt x="4626" y="1560"/>
                  </a:lnTo>
                  <a:lnTo>
                    <a:pt x="4624" y="1558"/>
                  </a:lnTo>
                  <a:lnTo>
                    <a:pt x="4624" y="1557"/>
                  </a:lnTo>
                  <a:lnTo>
                    <a:pt x="4624" y="1557"/>
                  </a:lnTo>
                  <a:close/>
                  <a:moveTo>
                    <a:pt x="4624" y="1489"/>
                  </a:moveTo>
                  <a:lnTo>
                    <a:pt x="4624" y="1460"/>
                  </a:lnTo>
                  <a:lnTo>
                    <a:pt x="4624" y="1458"/>
                  </a:lnTo>
                  <a:lnTo>
                    <a:pt x="4626" y="1457"/>
                  </a:lnTo>
                  <a:lnTo>
                    <a:pt x="4627" y="1455"/>
                  </a:lnTo>
                  <a:lnTo>
                    <a:pt x="4629" y="1455"/>
                  </a:lnTo>
                  <a:lnTo>
                    <a:pt x="4630" y="1455"/>
                  </a:lnTo>
                  <a:lnTo>
                    <a:pt x="4632" y="1457"/>
                  </a:lnTo>
                  <a:lnTo>
                    <a:pt x="4633" y="1458"/>
                  </a:lnTo>
                  <a:lnTo>
                    <a:pt x="4633" y="1460"/>
                  </a:lnTo>
                  <a:lnTo>
                    <a:pt x="4633" y="1489"/>
                  </a:lnTo>
                  <a:lnTo>
                    <a:pt x="4633" y="1491"/>
                  </a:lnTo>
                  <a:lnTo>
                    <a:pt x="4632" y="1492"/>
                  </a:lnTo>
                  <a:lnTo>
                    <a:pt x="4630" y="1494"/>
                  </a:lnTo>
                  <a:lnTo>
                    <a:pt x="4629" y="1494"/>
                  </a:lnTo>
                  <a:lnTo>
                    <a:pt x="4627" y="1494"/>
                  </a:lnTo>
                  <a:lnTo>
                    <a:pt x="4626" y="1492"/>
                  </a:lnTo>
                  <a:lnTo>
                    <a:pt x="4624" y="1491"/>
                  </a:lnTo>
                  <a:lnTo>
                    <a:pt x="4624" y="1489"/>
                  </a:lnTo>
                  <a:lnTo>
                    <a:pt x="4624" y="1489"/>
                  </a:lnTo>
                  <a:close/>
                  <a:moveTo>
                    <a:pt x="4624" y="1421"/>
                  </a:moveTo>
                  <a:lnTo>
                    <a:pt x="4624" y="1394"/>
                  </a:lnTo>
                  <a:lnTo>
                    <a:pt x="4624" y="1391"/>
                  </a:lnTo>
                  <a:lnTo>
                    <a:pt x="4626" y="1389"/>
                  </a:lnTo>
                  <a:lnTo>
                    <a:pt x="4627" y="1389"/>
                  </a:lnTo>
                  <a:lnTo>
                    <a:pt x="4629" y="1389"/>
                  </a:lnTo>
                  <a:lnTo>
                    <a:pt x="4630" y="1389"/>
                  </a:lnTo>
                  <a:lnTo>
                    <a:pt x="4632" y="1389"/>
                  </a:lnTo>
                  <a:lnTo>
                    <a:pt x="4633" y="1391"/>
                  </a:lnTo>
                  <a:lnTo>
                    <a:pt x="4633" y="1394"/>
                  </a:lnTo>
                  <a:lnTo>
                    <a:pt x="4633" y="1421"/>
                  </a:lnTo>
                  <a:lnTo>
                    <a:pt x="4633" y="1424"/>
                  </a:lnTo>
                  <a:lnTo>
                    <a:pt x="4632" y="1426"/>
                  </a:lnTo>
                  <a:lnTo>
                    <a:pt x="4630" y="1426"/>
                  </a:lnTo>
                  <a:lnTo>
                    <a:pt x="4629" y="1428"/>
                  </a:lnTo>
                  <a:lnTo>
                    <a:pt x="4627" y="1426"/>
                  </a:lnTo>
                  <a:lnTo>
                    <a:pt x="4626" y="1426"/>
                  </a:lnTo>
                  <a:lnTo>
                    <a:pt x="4624" y="1424"/>
                  </a:lnTo>
                  <a:lnTo>
                    <a:pt x="4624" y="1421"/>
                  </a:lnTo>
                  <a:lnTo>
                    <a:pt x="4624" y="1421"/>
                  </a:lnTo>
                  <a:close/>
                  <a:moveTo>
                    <a:pt x="4624" y="1355"/>
                  </a:moveTo>
                  <a:lnTo>
                    <a:pt x="4624" y="1326"/>
                  </a:lnTo>
                  <a:lnTo>
                    <a:pt x="4624" y="1325"/>
                  </a:lnTo>
                  <a:lnTo>
                    <a:pt x="4626" y="1323"/>
                  </a:lnTo>
                  <a:lnTo>
                    <a:pt x="4627" y="1321"/>
                  </a:lnTo>
                  <a:lnTo>
                    <a:pt x="4629" y="1321"/>
                  </a:lnTo>
                  <a:lnTo>
                    <a:pt x="4630" y="1321"/>
                  </a:lnTo>
                  <a:lnTo>
                    <a:pt x="4632" y="1323"/>
                  </a:lnTo>
                  <a:lnTo>
                    <a:pt x="4633" y="1325"/>
                  </a:lnTo>
                  <a:lnTo>
                    <a:pt x="4633" y="1326"/>
                  </a:lnTo>
                  <a:lnTo>
                    <a:pt x="4633" y="1355"/>
                  </a:lnTo>
                  <a:lnTo>
                    <a:pt x="4633" y="1357"/>
                  </a:lnTo>
                  <a:lnTo>
                    <a:pt x="4632" y="1358"/>
                  </a:lnTo>
                  <a:lnTo>
                    <a:pt x="4630" y="1360"/>
                  </a:lnTo>
                  <a:lnTo>
                    <a:pt x="4629" y="1360"/>
                  </a:lnTo>
                  <a:lnTo>
                    <a:pt x="4627" y="1360"/>
                  </a:lnTo>
                  <a:lnTo>
                    <a:pt x="4626" y="1358"/>
                  </a:lnTo>
                  <a:lnTo>
                    <a:pt x="4624" y="1357"/>
                  </a:lnTo>
                  <a:lnTo>
                    <a:pt x="4624" y="1355"/>
                  </a:lnTo>
                  <a:lnTo>
                    <a:pt x="4624" y="1355"/>
                  </a:lnTo>
                  <a:close/>
                  <a:moveTo>
                    <a:pt x="4624" y="1288"/>
                  </a:moveTo>
                  <a:lnTo>
                    <a:pt x="4624" y="1258"/>
                  </a:lnTo>
                  <a:lnTo>
                    <a:pt x="4624" y="1257"/>
                  </a:lnTo>
                  <a:lnTo>
                    <a:pt x="4626" y="1255"/>
                  </a:lnTo>
                  <a:lnTo>
                    <a:pt x="4627" y="1254"/>
                  </a:lnTo>
                  <a:lnTo>
                    <a:pt x="4629" y="1254"/>
                  </a:lnTo>
                  <a:lnTo>
                    <a:pt x="4630" y="1254"/>
                  </a:lnTo>
                  <a:lnTo>
                    <a:pt x="4632" y="1255"/>
                  </a:lnTo>
                  <a:lnTo>
                    <a:pt x="4633" y="1257"/>
                  </a:lnTo>
                  <a:lnTo>
                    <a:pt x="4633" y="1258"/>
                  </a:lnTo>
                  <a:lnTo>
                    <a:pt x="4633" y="1288"/>
                  </a:lnTo>
                  <a:lnTo>
                    <a:pt x="4633" y="1289"/>
                  </a:lnTo>
                  <a:lnTo>
                    <a:pt x="4632" y="1291"/>
                  </a:lnTo>
                  <a:lnTo>
                    <a:pt x="4630" y="1292"/>
                  </a:lnTo>
                  <a:lnTo>
                    <a:pt x="4629" y="1292"/>
                  </a:lnTo>
                  <a:lnTo>
                    <a:pt x="4627" y="1292"/>
                  </a:lnTo>
                  <a:lnTo>
                    <a:pt x="4626" y="1291"/>
                  </a:lnTo>
                  <a:lnTo>
                    <a:pt x="4624" y="1289"/>
                  </a:lnTo>
                  <a:lnTo>
                    <a:pt x="4624" y="1288"/>
                  </a:lnTo>
                  <a:lnTo>
                    <a:pt x="4624" y="1288"/>
                  </a:lnTo>
                  <a:close/>
                  <a:moveTo>
                    <a:pt x="4624" y="1220"/>
                  </a:moveTo>
                  <a:lnTo>
                    <a:pt x="4624" y="1191"/>
                  </a:lnTo>
                  <a:lnTo>
                    <a:pt x="4624" y="1189"/>
                  </a:lnTo>
                  <a:lnTo>
                    <a:pt x="4626" y="1188"/>
                  </a:lnTo>
                  <a:lnTo>
                    <a:pt x="4627" y="1186"/>
                  </a:lnTo>
                  <a:lnTo>
                    <a:pt x="4629" y="1186"/>
                  </a:lnTo>
                  <a:lnTo>
                    <a:pt x="4630" y="1186"/>
                  </a:lnTo>
                  <a:lnTo>
                    <a:pt x="4632" y="1188"/>
                  </a:lnTo>
                  <a:lnTo>
                    <a:pt x="4633" y="1189"/>
                  </a:lnTo>
                  <a:lnTo>
                    <a:pt x="4633" y="1191"/>
                  </a:lnTo>
                  <a:lnTo>
                    <a:pt x="4633" y="1220"/>
                  </a:lnTo>
                  <a:lnTo>
                    <a:pt x="4633" y="1222"/>
                  </a:lnTo>
                  <a:lnTo>
                    <a:pt x="4632" y="1223"/>
                  </a:lnTo>
                  <a:lnTo>
                    <a:pt x="4630" y="1225"/>
                  </a:lnTo>
                  <a:lnTo>
                    <a:pt x="4629" y="1225"/>
                  </a:lnTo>
                  <a:lnTo>
                    <a:pt x="4627" y="1225"/>
                  </a:lnTo>
                  <a:lnTo>
                    <a:pt x="4626" y="1223"/>
                  </a:lnTo>
                  <a:lnTo>
                    <a:pt x="4624" y="1222"/>
                  </a:lnTo>
                  <a:lnTo>
                    <a:pt x="4624" y="1220"/>
                  </a:lnTo>
                  <a:lnTo>
                    <a:pt x="4624" y="1220"/>
                  </a:lnTo>
                  <a:close/>
                  <a:moveTo>
                    <a:pt x="4624" y="1152"/>
                  </a:moveTo>
                  <a:lnTo>
                    <a:pt x="4624" y="1125"/>
                  </a:lnTo>
                  <a:lnTo>
                    <a:pt x="4624" y="1122"/>
                  </a:lnTo>
                  <a:lnTo>
                    <a:pt x="4626" y="1120"/>
                  </a:lnTo>
                  <a:lnTo>
                    <a:pt x="4627" y="1120"/>
                  </a:lnTo>
                  <a:lnTo>
                    <a:pt x="4629" y="1120"/>
                  </a:lnTo>
                  <a:lnTo>
                    <a:pt x="4630" y="1120"/>
                  </a:lnTo>
                  <a:lnTo>
                    <a:pt x="4632" y="1120"/>
                  </a:lnTo>
                  <a:lnTo>
                    <a:pt x="4633" y="1122"/>
                  </a:lnTo>
                  <a:lnTo>
                    <a:pt x="4633" y="1125"/>
                  </a:lnTo>
                  <a:lnTo>
                    <a:pt x="4633" y="1152"/>
                  </a:lnTo>
                  <a:lnTo>
                    <a:pt x="4633" y="1155"/>
                  </a:lnTo>
                  <a:lnTo>
                    <a:pt x="4632" y="1157"/>
                  </a:lnTo>
                  <a:lnTo>
                    <a:pt x="4630" y="1157"/>
                  </a:lnTo>
                  <a:lnTo>
                    <a:pt x="4629" y="1159"/>
                  </a:lnTo>
                  <a:lnTo>
                    <a:pt x="4627" y="1157"/>
                  </a:lnTo>
                  <a:lnTo>
                    <a:pt x="4626" y="1157"/>
                  </a:lnTo>
                  <a:lnTo>
                    <a:pt x="4624" y="1155"/>
                  </a:lnTo>
                  <a:lnTo>
                    <a:pt x="4624" y="1152"/>
                  </a:lnTo>
                  <a:lnTo>
                    <a:pt x="4624" y="1152"/>
                  </a:lnTo>
                  <a:close/>
                  <a:moveTo>
                    <a:pt x="4624" y="1086"/>
                  </a:moveTo>
                  <a:lnTo>
                    <a:pt x="4624" y="1057"/>
                  </a:lnTo>
                  <a:lnTo>
                    <a:pt x="4624" y="1056"/>
                  </a:lnTo>
                  <a:lnTo>
                    <a:pt x="4626" y="1054"/>
                  </a:lnTo>
                  <a:lnTo>
                    <a:pt x="4627" y="1052"/>
                  </a:lnTo>
                  <a:lnTo>
                    <a:pt x="4629" y="1052"/>
                  </a:lnTo>
                  <a:lnTo>
                    <a:pt x="4630" y="1052"/>
                  </a:lnTo>
                  <a:lnTo>
                    <a:pt x="4632" y="1054"/>
                  </a:lnTo>
                  <a:lnTo>
                    <a:pt x="4633" y="1056"/>
                  </a:lnTo>
                  <a:lnTo>
                    <a:pt x="4633" y="1057"/>
                  </a:lnTo>
                  <a:lnTo>
                    <a:pt x="4633" y="1086"/>
                  </a:lnTo>
                  <a:lnTo>
                    <a:pt x="4633" y="1088"/>
                  </a:lnTo>
                  <a:lnTo>
                    <a:pt x="4632" y="1089"/>
                  </a:lnTo>
                  <a:lnTo>
                    <a:pt x="4630" y="1091"/>
                  </a:lnTo>
                  <a:lnTo>
                    <a:pt x="4629" y="1091"/>
                  </a:lnTo>
                  <a:lnTo>
                    <a:pt x="4627" y="1091"/>
                  </a:lnTo>
                  <a:lnTo>
                    <a:pt x="4626" y="1089"/>
                  </a:lnTo>
                  <a:lnTo>
                    <a:pt x="4624" y="1088"/>
                  </a:lnTo>
                  <a:lnTo>
                    <a:pt x="4624" y="1086"/>
                  </a:lnTo>
                  <a:lnTo>
                    <a:pt x="4624" y="1086"/>
                  </a:lnTo>
                  <a:close/>
                  <a:moveTo>
                    <a:pt x="4624" y="1019"/>
                  </a:moveTo>
                  <a:lnTo>
                    <a:pt x="4624" y="989"/>
                  </a:lnTo>
                  <a:lnTo>
                    <a:pt x="4624" y="988"/>
                  </a:lnTo>
                  <a:lnTo>
                    <a:pt x="4626" y="986"/>
                  </a:lnTo>
                  <a:lnTo>
                    <a:pt x="4627" y="985"/>
                  </a:lnTo>
                  <a:lnTo>
                    <a:pt x="4629" y="985"/>
                  </a:lnTo>
                  <a:lnTo>
                    <a:pt x="4630" y="985"/>
                  </a:lnTo>
                  <a:lnTo>
                    <a:pt x="4632" y="986"/>
                  </a:lnTo>
                  <a:lnTo>
                    <a:pt x="4633" y="988"/>
                  </a:lnTo>
                  <a:lnTo>
                    <a:pt x="4633" y="989"/>
                  </a:lnTo>
                  <a:lnTo>
                    <a:pt x="4633" y="1019"/>
                  </a:lnTo>
                  <a:lnTo>
                    <a:pt x="4633" y="1020"/>
                  </a:lnTo>
                  <a:lnTo>
                    <a:pt x="4632" y="1022"/>
                  </a:lnTo>
                  <a:lnTo>
                    <a:pt x="4630" y="1023"/>
                  </a:lnTo>
                  <a:lnTo>
                    <a:pt x="4629" y="1023"/>
                  </a:lnTo>
                  <a:lnTo>
                    <a:pt x="4627" y="1023"/>
                  </a:lnTo>
                  <a:lnTo>
                    <a:pt x="4626" y="1022"/>
                  </a:lnTo>
                  <a:lnTo>
                    <a:pt x="4624" y="1020"/>
                  </a:lnTo>
                  <a:lnTo>
                    <a:pt x="4624" y="1019"/>
                  </a:lnTo>
                  <a:lnTo>
                    <a:pt x="4624" y="1019"/>
                  </a:lnTo>
                  <a:close/>
                  <a:moveTo>
                    <a:pt x="4624" y="951"/>
                  </a:moveTo>
                  <a:lnTo>
                    <a:pt x="4624" y="922"/>
                  </a:lnTo>
                  <a:lnTo>
                    <a:pt x="4624" y="920"/>
                  </a:lnTo>
                  <a:lnTo>
                    <a:pt x="4626" y="919"/>
                  </a:lnTo>
                  <a:lnTo>
                    <a:pt x="4627" y="917"/>
                  </a:lnTo>
                  <a:lnTo>
                    <a:pt x="4629" y="917"/>
                  </a:lnTo>
                  <a:lnTo>
                    <a:pt x="4630" y="917"/>
                  </a:lnTo>
                  <a:lnTo>
                    <a:pt x="4632" y="919"/>
                  </a:lnTo>
                  <a:lnTo>
                    <a:pt x="4633" y="920"/>
                  </a:lnTo>
                  <a:lnTo>
                    <a:pt x="4633" y="922"/>
                  </a:lnTo>
                  <a:lnTo>
                    <a:pt x="4633" y="951"/>
                  </a:lnTo>
                  <a:lnTo>
                    <a:pt x="4633" y="953"/>
                  </a:lnTo>
                  <a:lnTo>
                    <a:pt x="4632" y="954"/>
                  </a:lnTo>
                  <a:lnTo>
                    <a:pt x="4630" y="956"/>
                  </a:lnTo>
                  <a:lnTo>
                    <a:pt x="4629" y="956"/>
                  </a:lnTo>
                  <a:lnTo>
                    <a:pt x="4627" y="956"/>
                  </a:lnTo>
                  <a:lnTo>
                    <a:pt x="4626" y="954"/>
                  </a:lnTo>
                  <a:lnTo>
                    <a:pt x="4624" y="953"/>
                  </a:lnTo>
                  <a:lnTo>
                    <a:pt x="4624" y="951"/>
                  </a:lnTo>
                  <a:lnTo>
                    <a:pt x="4624" y="951"/>
                  </a:lnTo>
                  <a:close/>
                  <a:moveTo>
                    <a:pt x="4624" y="883"/>
                  </a:moveTo>
                  <a:lnTo>
                    <a:pt x="4624" y="856"/>
                  </a:lnTo>
                  <a:lnTo>
                    <a:pt x="4624" y="853"/>
                  </a:lnTo>
                  <a:lnTo>
                    <a:pt x="4626" y="851"/>
                  </a:lnTo>
                  <a:lnTo>
                    <a:pt x="4627" y="851"/>
                  </a:lnTo>
                  <a:lnTo>
                    <a:pt x="4629" y="851"/>
                  </a:lnTo>
                  <a:lnTo>
                    <a:pt x="4630" y="851"/>
                  </a:lnTo>
                  <a:lnTo>
                    <a:pt x="4632" y="851"/>
                  </a:lnTo>
                  <a:lnTo>
                    <a:pt x="4633" y="853"/>
                  </a:lnTo>
                  <a:lnTo>
                    <a:pt x="4633" y="856"/>
                  </a:lnTo>
                  <a:lnTo>
                    <a:pt x="4633" y="883"/>
                  </a:lnTo>
                  <a:lnTo>
                    <a:pt x="4633" y="886"/>
                  </a:lnTo>
                  <a:lnTo>
                    <a:pt x="4632" y="888"/>
                  </a:lnTo>
                  <a:lnTo>
                    <a:pt x="4630" y="888"/>
                  </a:lnTo>
                  <a:lnTo>
                    <a:pt x="4629" y="890"/>
                  </a:lnTo>
                  <a:lnTo>
                    <a:pt x="4627" y="888"/>
                  </a:lnTo>
                  <a:lnTo>
                    <a:pt x="4626" y="888"/>
                  </a:lnTo>
                  <a:lnTo>
                    <a:pt x="4624" y="886"/>
                  </a:lnTo>
                  <a:lnTo>
                    <a:pt x="4624" y="883"/>
                  </a:lnTo>
                  <a:lnTo>
                    <a:pt x="4624" y="883"/>
                  </a:lnTo>
                  <a:close/>
                  <a:moveTo>
                    <a:pt x="4624" y="817"/>
                  </a:moveTo>
                  <a:lnTo>
                    <a:pt x="4624" y="788"/>
                  </a:lnTo>
                  <a:lnTo>
                    <a:pt x="4624" y="787"/>
                  </a:lnTo>
                  <a:lnTo>
                    <a:pt x="4626" y="785"/>
                  </a:lnTo>
                  <a:lnTo>
                    <a:pt x="4627" y="784"/>
                  </a:lnTo>
                  <a:lnTo>
                    <a:pt x="4629" y="784"/>
                  </a:lnTo>
                  <a:lnTo>
                    <a:pt x="4630" y="784"/>
                  </a:lnTo>
                  <a:lnTo>
                    <a:pt x="4632" y="785"/>
                  </a:lnTo>
                  <a:lnTo>
                    <a:pt x="4633" y="787"/>
                  </a:lnTo>
                  <a:lnTo>
                    <a:pt x="4633" y="788"/>
                  </a:lnTo>
                  <a:lnTo>
                    <a:pt x="4633" y="817"/>
                  </a:lnTo>
                  <a:lnTo>
                    <a:pt x="4633" y="819"/>
                  </a:lnTo>
                  <a:lnTo>
                    <a:pt x="4632" y="820"/>
                  </a:lnTo>
                  <a:lnTo>
                    <a:pt x="4630" y="822"/>
                  </a:lnTo>
                  <a:lnTo>
                    <a:pt x="4629" y="822"/>
                  </a:lnTo>
                  <a:lnTo>
                    <a:pt x="4627" y="822"/>
                  </a:lnTo>
                  <a:lnTo>
                    <a:pt x="4626" y="820"/>
                  </a:lnTo>
                  <a:lnTo>
                    <a:pt x="4624" y="819"/>
                  </a:lnTo>
                  <a:lnTo>
                    <a:pt x="4624" y="817"/>
                  </a:lnTo>
                  <a:lnTo>
                    <a:pt x="4624" y="817"/>
                  </a:lnTo>
                  <a:close/>
                  <a:moveTo>
                    <a:pt x="4624" y="750"/>
                  </a:moveTo>
                  <a:lnTo>
                    <a:pt x="4624" y="720"/>
                  </a:lnTo>
                  <a:lnTo>
                    <a:pt x="4624" y="719"/>
                  </a:lnTo>
                  <a:lnTo>
                    <a:pt x="4626" y="717"/>
                  </a:lnTo>
                  <a:lnTo>
                    <a:pt x="4627" y="716"/>
                  </a:lnTo>
                  <a:lnTo>
                    <a:pt x="4629" y="716"/>
                  </a:lnTo>
                  <a:lnTo>
                    <a:pt x="4630" y="716"/>
                  </a:lnTo>
                  <a:lnTo>
                    <a:pt x="4632" y="717"/>
                  </a:lnTo>
                  <a:lnTo>
                    <a:pt x="4633" y="719"/>
                  </a:lnTo>
                  <a:lnTo>
                    <a:pt x="4633" y="720"/>
                  </a:lnTo>
                  <a:lnTo>
                    <a:pt x="4633" y="750"/>
                  </a:lnTo>
                  <a:lnTo>
                    <a:pt x="4633" y="751"/>
                  </a:lnTo>
                  <a:lnTo>
                    <a:pt x="4632" y="753"/>
                  </a:lnTo>
                  <a:lnTo>
                    <a:pt x="4630" y="754"/>
                  </a:lnTo>
                  <a:lnTo>
                    <a:pt x="4629" y="754"/>
                  </a:lnTo>
                  <a:lnTo>
                    <a:pt x="4627" y="754"/>
                  </a:lnTo>
                  <a:lnTo>
                    <a:pt x="4626" y="753"/>
                  </a:lnTo>
                  <a:lnTo>
                    <a:pt x="4624" y="751"/>
                  </a:lnTo>
                  <a:lnTo>
                    <a:pt x="4624" y="750"/>
                  </a:lnTo>
                  <a:lnTo>
                    <a:pt x="4624" y="750"/>
                  </a:lnTo>
                  <a:close/>
                  <a:moveTo>
                    <a:pt x="4624" y="682"/>
                  </a:moveTo>
                  <a:lnTo>
                    <a:pt x="4624" y="653"/>
                  </a:lnTo>
                  <a:lnTo>
                    <a:pt x="4624" y="651"/>
                  </a:lnTo>
                  <a:lnTo>
                    <a:pt x="4626" y="650"/>
                  </a:lnTo>
                  <a:lnTo>
                    <a:pt x="4627" y="648"/>
                  </a:lnTo>
                  <a:lnTo>
                    <a:pt x="4629" y="648"/>
                  </a:lnTo>
                  <a:lnTo>
                    <a:pt x="4630" y="648"/>
                  </a:lnTo>
                  <a:lnTo>
                    <a:pt x="4632" y="650"/>
                  </a:lnTo>
                  <a:lnTo>
                    <a:pt x="4633" y="651"/>
                  </a:lnTo>
                  <a:lnTo>
                    <a:pt x="4633" y="653"/>
                  </a:lnTo>
                  <a:lnTo>
                    <a:pt x="4633" y="682"/>
                  </a:lnTo>
                  <a:lnTo>
                    <a:pt x="4633" y="684"/>
                  </a:lnTo>
                  <a:lnTo>
                    <a:pt x="4632" y="685"/>
                  </a:lnTo>
                  <a:lnTo>
                    <a:pt x="4630" y="687"/>
                  </a:lnTo>
                  <a:lnTo>
                    <a:pt x="4629" y="687"/>
                  </a:lnTo>
                  <a:lnTo>
                    <a:pt x="4627" y="687"/>
                  </a:lnTo>
                  <a:lnTo>
                    <a:pt x="4626" y="685"/>
                  </a:lnTo>
                  <a:lnTo>
                    <a:pt x="4624" y="684"/>
                  </a:lnTo>
                  <a:lnTo>
                    <a:pt x="4624" y="682"/>
                  </a:lnTo>
                  <a:lnTo>
                    <a:pt x="4624" y="682"/>
                  </a:lnTo>
                  <a:close/>
                  <a:moveTo>
                    <a:pt x="4624" y="614"/>
                  </a:moveTo>
                  <a:lnTo>
                    <a:pt x="4624" y="587"/>
                  </a:lnTo>
                  <a:lnTo>
                    <a:pt x="4624" y="584"/>
                  </a:lnTo>
                  <a:lnTo>
                    <a:pt x="4626" y="582"/>
                  </a:lnTo>
                  <a:lnTo>
                    <a:pt x="4627" y="582"/>
                  </a:lnTo>
                  <a:lnTo>
                    <a:pt x="4629" y="582"/>
                  </a:lnTo>
                  <a:lnTo>
                    <a:pt x="4630" y="582"/>
                  </a:lnTo>
                  <a:lnTo>
                    <a:pt x="4632" y="582"/>
                  </a:lnTo>
                  <a:lnTo>
                    <a:pt x="4633" y="584"/>
                  </a:lnTo>
                  <a:lnTo>
                    <a:pt x="4633" y="587"/>
                  </a:lnTo>
                  <a:lnTo>
                    <a:pt x="4633" y="614"/>
                  </a:lnTo>
                  <a:lnTo>
                    <a:pt x="4633" y="618"/>
                  </a:lnTo>
                  <a:lnTo>
                    <a:pt x="4632" y="619"/>
                  </a:lnTo>
                  <a:lnTo>
                    <a:pt x="4630" y="619"/>
                  </a:lnTo>
                  <a:lnTo>
                    <a:pt x="4629" y="621"/>
                  </a:lnTo>
                  <a:lnTo>
                    <a:pt x="4627" y="619"/>
                  </a:lnTo>
                  <a:lnTo>
                    <a:pt x="4626" y="619"/>
                  </a:lnTo>
                  <a:lnTo>
                    <a:pt x="4624" y="618"/>
                  </a:lnTo>
                  <a:lnTo>
                    <a:pt x="4624" y="614"/>
                  </a:lnTo>
                  <a:lnTo>
                    <a:pt x="4624" y="614"/>
                  </a:lnTo>
                  <a:close/>
                  <a:moveTo>
                    <a:pt x="4624" y="548"/>
                  </a:moveTo>
                  <a:lnTo>
                    <a:pt x="4624" y="519"/>
                  </a:lnTo>
                  <a:lnTo>
                    <a:pt x="4624" y="518"/>
                  </a:lnTo>
                  <a:lnTo>
                    <a:pt x="4626" y="516"/>
                  </a:lnTo>
                  <a:lnTo>
                    <a:pt x="4627" y="515"/>
                  </a:lnTo>
                  <a:lnTo>
                    <a:pt x="4629" y="515"/>
                  </a:lnTo>
                  <a:lnTo>
                    <a:pt x="4630" y="515"/>
                  </a:lnTo>
                  <a:lnTo>
                    <a:pt x="4632" y="516"/>
                  </a:lnTo>
                  <a:lnTo>
                    <a:pt x="4633" y="518"/>
                  </a:lnTo>
                  <a:lnTo>
                    <a:pt x="4633" y="519"/>
                  </a:lnTo>
                  <a:lnTo>
                    <a:pt x="4633" y="548"/>
                  </a:lnTo>
                  <a:lnTo>
                    <a:pt x="4633" y="550"/>
                  </a:lnTo>
                  <a:lnTo>
                    <a:pt x="4632" y="551"/>
                  </a:lnTo>
                  <a:lnTo>
                    <a:pt x="4630" y="553"/>
                  </a:lnTo>
                  <a:lnTo>
                    <a:pt x="4629" y="553"/>
                  </a:lnTo>
                  <a:lnTo>
                    <a:pt x="4627" y="553"/>
                  </a:lnTo>
                  <a:lnTo>
                    <a:pt x="4626" y="551"/>
                  </a:lnTo>
                  <a:lnTo>
                    <a:pt x="4624" y="550"/>
                  </a:lnTo>
                  <a:lnTo>
                    <a:pt x="4624" y="548"/>
                  </a:lnTo>
                  <a:lnTo>
                    <a:pt x="4624" y="548"/>
                  </a:lnTo>
                  <a:close/>
                  <a:moveTo>
                    <a:pt x="4624" y="481"/>
                  </a:moveTo>
                  <a:lnTo>
                    <a:pt x="4624" y="473"/>
                  </a:lnTo>
                  <a:lnTo>
                    <a:pt x="4623" y="452"/>
                  </a:lnTo>
                  <a:lnTo>
                    <a:pt x="4624" y="450"/>
                  </a:lnTo>
                  <a:lnTo>
                    <a:pt x="4624" y="448"/>
                  </a:lnTo>
                  <a:lnTo>
                    <a:pt x="4626" y="447"/>
                  </a:lnTo>
                  <a:lnTo>
                    <a:pt x="4629" y="447"/>
                  </a:lnTo>
                  <a:lnTo>
                    <a:pt x="4630" y="447"/>
                  </a:lnTo>
                  <a:lnTo>
                    <a:pt x="4632" y="448"/>
                  </a:lnTo>
                  <a:lnTo>
                    <a:pt x="4632" y="450"/>
                  </a:lnTo>
                  <a:lnTo>
                    <a:pt x="4633" y="452"/>
                  </a:lnTo>
                  <a:lnTo>
                    <a:pt x="4633" y="473"/>
                  </a:lnTo>
                  <a:lnTo>
                    <a:pt x="4633" y="481"/>
                  </a:lnTo>
                  <a:lnTo>
                    <a:pt x="4633" y="482"/>
                  </a:lnTo>
                  <a:lnTo>
                    <a:pt x="4632" y="484"/>
                  </a:lnTo>
                  <a:lnTo>
                    <a:pt x="4630" y="485"/>
                  </a:lnTo>
                  <a:lnTo>
                    <a:pt x="4629" y="485"/>
                  </a:lnTo>
                  <a:lnTo>
                    <a:pt x="4627" y="485"/>
                  </a:lnTo>
                  <a:lnTo>
                    <a:pt x="4626" y="484"/>
                  </a:lnTo>
                  <a:lnTo>
                    <a:pt x="4624" y="482"/>
                  </a:lnTo>
                  <a:lnTo>
                    <a:pt x="4624" y="481"/>
                  </a:lnTo>
                  <a:lnTo>
                    <a:pt x="4624" y="481"/>
                  </a:lnTo>
                  <a:close/>
                  <a:moveTo>
                    <a:pt x="4619" y="415"/>
                  </a:moveTo>
                  <a:lnTo>
                    <a:pt x="4618" y="402"/>
                  </a:lnTo>
                  <a:lnTo>
                    <a:pt x="4615" y="385"/>
                  </a:lnTo>
                  <a:lnTo>
                    <a:pt x="4615" y="384"/>
                  </a:lnTo>
                  <a:lnTo>
                    <a:pt x="4616" y="382"/>
                  </a:lnTo>
                  <a:lnTo>
                    <a:pt x="4618" y="381"/>
                  </a:lnTo>
                  <a:lnTo>
                    <a:pt x="4619" y="381"/>
                  </a:lnTo>
                  <a:lnTo>
                    <a:pt x="4621" y="381"/>
                  </a:lnTo>
                  <a:lnTo>
                    <a:pt x="4623" y="381"/>
                  </a:lnTo>
                  <a:lnTo>
                    <a:pt x="4624" y="382"/>
                  </a:lnTo>
                  <a:lnTo>
                    <a:pt x="4626" y="384"/>
                  </a:lnTo>
                  <a:lnTo>
                    <a:pt x="4629" y="402"/>
                  </a:lnTo>
                  <a:lnTo>
                    <a:pt x="4629" y="413"/>
                  </a:lnTo>
                  <a:lnTo>
                    <a:pt x="4629" y="415"/>
                  </a:lnTo>
                  <a:lnTo>
                    <a:pt x="4629" y="416"/>
                  </a:lnTo>
                  <a:lnTo>
                    <a:pt x="4627" y="418"/>
                  </a:lnTo>
                  <a:lnTo>
                    <a:pt x="4626" y="418"/>
                  </a:lnTo>
                  <a:lnTo>
                    <a:pt x="4623" y="418"/>
                  </a:lnTo>
                  <a:lnTo>
                    <a:pt x="4621" y="418"/>
                  </a:lnTo>
                  <a:lnTo>
                    <a:pt x="4621" y="416"/>
                  </a:lnTo>
                  <a:lnTo>
                    <a:pt x="4619" y="415"/>
                  </a:lnTo>
                  <a:lnTo>
                    <a:pt x="4619" y="415"/>
                  </a:lnTo>
                  <a:close/>
                  <a:moveTo>
                    <a:pt x="4607" y="349"/>
                  </a:moveTo>
                  <a:lnTo>
                    <a:pt x="4603" y="335"/>
                  </a:lnTo>
                  <a:lnTo>
                    <a:pt x="4598" y="322"/>
                  </a:lnTo>
                  <a:lnTo>
                    <a:pt x="4598" y="319"/>
                  </a:lnTo>
                  <a:lnTo>
                    <a:pt x="4598" y="318"/>
                  </a:lnTo>
                  <a:lnTo>
                    <a:pt x="4599" y="316"/>
                  </a:lnTo>
                  <a:lnTo>
                    <a:pt x="4601" y="316"/>
                  </a:lnTo>
                  <a:lnTo>
                    <a:pt x="4603" y="315"/>
                  </a:lnTo>
                  <a:lnTo>
                    <a:pt x="4604" y="316"/>
                  </a:lnTo>
                  <a:lnTo>
                    <a:pt x="4606" y="316"/>
                  </a:lnTo>
                  <a:lnTo>
                    <a:pt x="4607" y="319"/>
                  </a:lnTo>
                  <a:lnTo>
                    <a:pt x="4612" y="333"/>
                  </a:lnTo>
                  <a:lnTo>
                    <a:pt x="4616" y="347"/>
                  </a:lnTo>
                  <a:lnTo>
                    <a:pt x="4616" y="349"/>
                  </a:lnTo>
                  <a:lnTo>
                    <a:pt x="4615" y="350"/>
                  </a:lnTo>
                  <a:lnTo>
                    <a:pt x="4615" y="352"/>
                  </a:lnTo>
                  <a:lnTo>
                    <a:pt x="4613" y="352"/>
                  </a:lnTo>
                  <a:lnTo>
                    <a:pt x="4610" y="352"/>
                  </a:lnTo>
                  <a:lnTo>
                    <a:pt x="4609" y="352"/>
                  </a:lnTo>
                  <a:lnTo>
                    <a:pt x="4607" y="350"/>
                  </a:lnTo>
                  <a:lnTo>
                    <a:pt x="4607" y="349"/>
                  </a:lnTo>
                  <a:lnTo>
                    <a:pt x="4607" y="349"/>
                  </a:lnTo>
                  <a:close/>
                  <a:moveTo>
                    <a:pt x="4584" y="287"/>
                  </a:moveTo>
                  <a:lnTo>
                    <a:pt x="4578" y="272"/>
                  </a:lnTo>
                  <a:lnTo>
                    <a:pt x="4572" y="261"/>
                  </a:lnTo>
                  <a:lnTo>
                    <a:pt x="4572" y="258"/>
                  </a:lnTo>
                  <a:lnTo>
                    <a:pt x="4572" y="256"/>
                  </a:lnTo>
                  <a:lnTo>
                    <a:pt x="4572" y="255"/>
                  </a:lnTo>
                  <a:lnTo>
                    <a:pt x="4573" y="255"/>
                  </a:lnTo>
                  <a:lnTo>
                    <a:pt x="4575" y="253"/>
                  </a:lnTo>
                  <a:lnTo>
                    <a:pt x="4578" y="253"/>
                  </a:lnTo>
                  <a:lnTo>
                    <a:pt x="4579" y="255"/>
                  </a:lnTo>
                  <a:lnTo>
                    <a:pt x="4581" y="256"/>
                  </a:lnTo>
                  <a:lnTo>
                    <a:pt x="4587" y="269"/>
                  </a:lnTo>
                  <a:lnTo>
                    <a:pt x="4593" y="282"/>
                  </a:lnTo>
                  <a:lnTo>
                    <a:pt x="4593" y="284"/>
                  </a:lnTo>
                  <a:lnTo>
                    <a:pt x="4593" y="286"/>
                  </a:lnTo>
                  <a:lnTo>
                    <a:pt x="4592" y="287"/>
                  </a:lnTo>
                  <a:lnTo>
                    <a:pt x="4590" y="289"/>
                  </a:lnTo>
                  <a:lnTo>
                    <a:pt x="4589" y="289"/>
                  </a:lnTo>
                  <a:lnTo>
                    <a:pt x="4587" y="289"/>
                  </a:lnTo>
                  <a:lnTo>
                    <a:pt x="4586" y="287"/>
                  </a:lnTo>
                  <a:lnTo>
                    <a:pt x="4584" y="287"/>
                  </a:lnTo>
                  <a:lnTo>
                    <a:pt x="4584" y="287"/>
                  </a:lnTo>
                  <a:close/>
                  <a:moveTo>
                    <a:pt x="4553" y="227"/>
                  </a:moveTo>
                  <a:lnTo>
                    <a:pt x="4544" y="213"/>
                  </a:lnTo>
                  <a:lnTo>
                    <a:pt x="4538" y="204"/>
                  </a:lnTo>
                  <a:lnTo>
                    <a:pt x="4536" y="203"/>
                  </a:lnTo>
                  <a:lnTo>
                    <a:pt x="4536" y="199"/>
                  </a:lnTo>
                  <a:lnTo>
                    <a:pt x="4536" y="198"/>
                  </a:lnTo>
                  <a:lnTo>
                    <a:pt x="4538" y="198"/>
                  </a:lnTo>
                  <a:lnTo>
                    <a:pt x="4539" y="196"/>
                  </a:lnTo>
                  <a:lnTo>
                    <a:pt x="4541" y="196"/>
                  </a:lnTo>
                  <a:lnTo>
                    <a:pt x="4544" y="196"/>
                  </a:lnTo>
                  <a:lnTo>
                    <a:pt x="4546" y="198"/>
                  </a:lnTo>
                  <a:lnTo>
                    <a:pt x="4552" y="209"/>
                  </a:lnTo>
                  <a:lnTo>
                    <a:pt x="4561" y="222"/>
                  </a:lnTo>
                  <a:lnTo>
                    <a:pt x="4561" y="224"/>
                  </a:lnTo>
                  <a:lnTo>
                    <a:pt x="4561" y="226"/>
                  </a:lnTo>
                  <a:lnTo>
                    <a:pt x="4561" y="227"/>
                  </a:lnTo>
                  <a:lnTo>
                    <a:pt x="4559" y="229"/>
                  </a:lnTo>
                  <a:lnTo>
                    <a:pt x="4558" y="230"/>
                  </a:lnTo>
                  <a:lnTo>
                    <a:pt x="4556" y="230"/>
                  </a:lnTo>
                  <a:lnTo>
                    <a:pt x="4555" y="229"/>
                  </a:lnTo>
                  <a:lnTo>
                    <a:pt x="4553" y="227"/>
                  </a:lnTo>
                  <a:lnTo>
                    <a:pt x="4553" y="227"/>
                  </a:lnTo>
                  <a:close/>
                  <a:moveTo>
                    <a:pt x="4513" y="173"/>
                  </a:moveTo>
                  <a:lnTo>
                    <a:pt x="4503" y="161"/>
                  </a:lnTo>
                  <a:lnTo>
                    <a:pt x="4495" y="153"/>
                  </a:lnTo>
                  <a:lnTo>
                    <a:pt x="4493" y="150"/>
                  </a:lnTo>
                  <a:lnTo>
                    <a:pt x="4493" y="149"/>
                  </a:lnTo>
                  <a:lnTo>
                    <a:pt x="4493" y="147"/>
                  </a:lnTo>
                  <a:lnTo>
                    <a:pt x="4495" y="146"/>
                  </a:lnTo>
                  <a:lnTo>
                    <a:pt x="4496" y="144"/>
                  </a:lnTo>
                  <a:lnTo>
                    <a:pt x="4498" y="144"/>
                  </a:lnTo>
                  <a:lnTo>
                    <a:pt x="4499" y="146"/>
                  </a:lnTo>
                  <a:lnTo>
                    <a:pt x="4501" y="146"/>
                  </a:lnTo>
                  <a:lnTo>
                    <a:pt x="4510" y="155"/>
                  </a:lnTo>
                  <a:lnTo>
                    <a:pt x="4521" y="167"/>
                  </a:lnTo>
                  <a:lnTo>
                    <a:pt x="4523" y="169"/>
                  </a:lnTo>
                  <a:lnTo>
                    <a:pt x="4523" y="170"/>
                  </a:lnTo>
                  <a:lnTo>
                    <a:pt x="4521" y="173"/>
                  </a:lnTo>
                  <a:lnTo>
                    <a:pt x="4521" y="175"/>
                  </a:lnTo>
                  <a:lnTo>
                    <a:pt x="4519" y="175"/>
                  </a:lnTo>
                  <a:lnTo>
                    <a:pt x="4516" y="175"/>
                  </a:lnTo>
                  <a:lnTo>
                    <a:pt x="4515" y="175"/>
                  </a:lnTo>
                  <a:lnTo>
                    <a:pt x="4513" y="173"/>
                  </a:lnTo>
                  <a:lnTo>
                    <a:pt x="4513" y="173"/>
                  </a:lnTo>
                  <a:close/>
                  <a:moveTo>
                    <a:pt x="4467" y="126"/>
                  </a:moveTo>
                  <a:lnTo>
                    <a:pt x="4455" y="115"/>
                  </a:lnTo>
                  <a:lnTo>
                    <a:pt x="4446" y="109"/>
                  </a:lnTo>
                  <a:lnTo>
                    <a:pt x="4444" y="107"/>
                  </a:lnTo>
                  <a:lnTo>
                    <a:pt x="4444" y="104"/>
                  </a:lnTo>
                  <a:lnTo>
                    <a:pt x="4444" y="103"/>
                  </a:lnTo>
                  <a:lnTo>
                    <a:pt x="4444" y="101"/>
                  </a:lnTo>
                  <a:lnTo>
                    <a:pt x="4446" y="100"/>
                  </a:lnTo>
                  <a:lnTo>
                    <a:pt x="4447" y="100"/>
                  </a:lnTo>
                  <a:lnTo>
                    <a:pt x="4449" y="100"/>
                  </a:lnTo>
                  <a:lnTo>
                    <a:pt x="4452" y="101"/>
                  </a:lnTo>
                  <a:lnTo>
                    <a:pt x="4461" y="107"/>
                  </a:lnTo>
                  <a:lnTo>
                    <a:pt x="4473" y="120"/>
                  </a:lnTo>
                  <a:lnTo>
                    <a:pt x="4475" y="121"/>
                  </a:lnTo>
                  <a:lnTo>
                    <a:pt x="4475" y="123"/>
                  </a:lnTo>
                  <a:lnTo>
                    <a:pt x="4475" y="124"/>
                  </a:lnTo>
                  <a:lnTo>
                    <a:pt x="4475" y="126"/>
                  </a:lnTo>
                  <a:lnTo>
                    <a:pt x="4472" y="127"/>
                  </a:lnTo>
                  <a:lnTo>
                    <a:pt x="4470" y="127"/>
                  </a:lnTo>
                  <a:lnTo>
                    <a:pt x="4469" y="127"/>
                  </a:lnTo>
                  <a:lnTo>
                    <a:pt x="4467" y="126"/>
                  </a:lnTo>
                  <a:lnTo>
                    <a:pt x="4467" y="126"/>
                  </a:lnTo>
                  <a:close/>
                  <a:moveTo>
                    <a:pt x="4415" y="86"/>
                  </a:moveTo>
                  <a:lnTo>
                    <a:pt x="4399" y="76"/>
                  </a:lnTo>
                  <a:lnTo>
                    <a:pt x="4390" y="70"/>
                  </a:lnTo>
                  <a:lnTo>
                    <a:pt x="4389" y="69"/>
                  </a:lnTo>
                  <a:lnTo>
                    <a:pt x="4387" y="67"/>
                  </a:lnTo>
                  <a:lnTo>
                    <a:pt x="4387" y="66"/>
                  </a:lnTo>
                  <a:lnTo>
                    <a:pt x="4389" y="64"/>
                  </a:lnTo>
                  <a:lnTo>
                    <a:pt x="4390" y="63"/>
                  </a:lnTo>
                  <a:lnTo>
                    <a:pt x="4392" y="63"/>
                  </a:lnTo>
                  <a:lnTo>
                    <a:pt x="4393" y="61"/>
                  </a:lnTo>
                  <a:lnTo>
                    <a:pt x="4395" y="63"/>
                  </a:lnTo>
                  <a:lnTo>
                    <a:pt x="4406" y="69"/>
                  </a:lnTo>
                  <a:lnTo>
                    <a:pt x="4419" y="78"/>
                  </a:lnTo>
                  <a:lnTo>
                    <a:pt x="4421" y="80"/>
                  </a:lnTo>
                  <a:lnTo>
                    <a:pt x="4421" y="81"/>
                  </a:lnTo>
                  <a:lnTo>
                    <a:pt x="4421" y="83"/>
                  </a:lnTo>
                  <a:lnTo>
                    <a:pt x="4421" y="84"/>
                  </a:lnTo>
                  <a:lnTo>
                    <a:pt x="4419" y="86"/>
                  </a:lnTo>
                  <a:lnTo>
                    <a:pt x="4418" y="86"/>
                  </a:lnTo>
                  <a:lnTo>
                    <a:pt x="4416" y="86"/>
                  </a:lnTo>
                  <a:lnTo>
                    <a:pt x="4415" y="86"/>
                  </a:lnTo>
                  <a:lnTo>
                    <a:pt x="4415" y="86"/>
                  </a:lnTo>
                  <a:close/>
                  <a:moveTo>
                    <a:pt x="4356" y="53"/>
                  </a:moveTo>
                  <a:lnTo>
                    <a:pt x="4339" y="46"/>
                  </a:lnTo>
                  <a:lnTo>
                    <a:pt x="4330" y="43"/>
                  </a:lnTo>
                  <a:lnTo>
                    <a:pt x="4329" y="41"/>
                  </a:lnTo>
                  <a:lnTo>
                    <a:pt x="4327" y="40"/>
                  </a:lnTo>
                  <a:lnTo>
                    <a:pt x="4327" y="38"/>
                  </a:lnTo>
                  <a:lnTo>
                    <a:pt x="4327" y="35"/>
                  </a:lnTo>
                  <a:lnTo>
                    <a:pt x="4329" y="33"/>
                  </a:lnTo>
                  <a:lnTo>
                    <a:pt x="4330" y="33"/>
                  </a:lnTo>
                  <a:lnTo>
                    <a:pt x="4332" y="32"/>
                  </a:lnTo>
                  <a:lnTo>
                    <a:pt x="4333" y="33"/>
                  </a:lnTo>
                  <a:lnTo>
                    <a:pt x="4344" y="37"/>
                  </a:lnTo>
                  <a:lnTo>
                    <a:pt x="4361" y="44"/>
                  </a:lnTo>
                  <a:lnTo>
                    <a:pt x="4363" y="46"/>
                  </a:lnTo>
                  <a:lnTo>
                    <a:pt x="4363" y="47"/>
                  </a:lnTo>
                  <a:lnTo>
                    <a:pt x="4363" y="49"/>
                  </a:lnTo>
                  <a:lnTo>
                    <a:pt x="4363" y="50"/>
                  </a:lnTo>
                  <a:lnTo>
                    <a:pt x="4363" y="52"/>
                  </a:lnTo>
                  <a:lnTo>
                    <a:pt x="4359" y="53"/>
                  </a:lnTo>
                  <a:lnTo>
                    <a:pt x="4358" y="53"/>
                  </a:lnTo>
                  <a:lnTo>
                    <a:pt x="4356" y="53"/>
                  </a:lnTo>
                  <a:lnTo>
                    <a:pt x="4356" y="53"/>
                  </a:lnTo>
                  <a:close/>
                  <a:moveTo>
                    <a:pt x="4295" y="29"/>
                  </a:moveTo>
                  <a:lnTo>
                    <a:pt x="4275" y="24"/>
                  </a:lnTo>
                  <a:lnTo>
                    <a:pt x="4267" y="21"/>
                  </a:lnTo>
                  <a:lnTo>
                    <a:pt x="4266" y="21"/>
                  </a:lnTo>
                  <a:lnTo>
                    <a:pt x="4264" y="20"/>
                  </a:lnTo>
                  <a:lnTo>
                    <a:pt x="4263" y="18"/>
                  </a:lnTo>
                  <a:lnTo>
                    <a:pt x="4263" y="17"/>
                  </a:lnTo>
                  <a:lnTo>
                    <a:pt x="4264" y="15"/>
                  </a:lnTo>
                  <a:lnTo>
                    <a:pt x="4266" y="13"/>
                  </a:lnTo>
                  <a:lnTo>
                    <a:pt x="4267" y="12"/>
                  </a:lnTo>
                  <a:lnTo>
                    <a:pt x="4269" y="12"/>
                  </a:lnTo>
                  <a:lnTo>
                    <a:pt x="4278" y="15"/>
                  </a:lnTo>
                  <a:lnTo>
                    <a:pt x="4296" y="20"/>
                  </a:lnTo>
                  <a:lnTo>
                    <a:pt x="4298" y="21"/>
                  </a:lnTo>
                  <a:lnTo>
                    <a:pt x="4300" y="23"/>
                  </a:lnTo>
                  <a:lnTo>
                    <a:pt x="4301" y="24"/>
                  </a:lnTo>
                  <a:lnTo>
                    <a:pt x="4301" y="26"/>
                  </a:lnTo>
                  <a:lnTo>
                    <a:pt x="4300" y="27"/>
                  </a:lnTo>
                  <a:lnTo>
                    <a:pt x="4298" y="29"/>
                  </a:lnTo>
                  <a:lnTo>
                    <a:pt x="4296" y="29"/>
                  </a:lnTo>
                  <a:lnTo>
                    <a:pt x="4295" y="29"/>
                  </a:lnTo>
                  <a:lnTo>
                    <a:pt x="4295" y="29"/>
                  </a:lnTo>
                  <a:close/>
                  <a:moveTo>
                    <a:pt x="4230" y="15"/>
                  </a:moveTo>
                  <a:lnTo>
                    <a:pt x="4206" y="12"/>
                  </a:lnTo>
                  <a:lnTo>
                    <a:pt x="4201" y="10"/>
                  </a:lnTo>
                  <a:lnTo>
                    <a:pt x="4200" y="10"/>
                  </a:lnTo>
                  <a:lnTo>
                    <a:pt x="4198" y="9"/>
                  </a:lnTo>
                  <a:lnTo>
                    <a:pt x="4196" y="7"/>
                  </a:lnTo>
                  <a:lnTo>
                    <a:pt x="4196" y="6"/>
                  </a:lnTo>
                  <a:lnTo>
                    <a:pt x="4198" y="4"/>
                  </a:lnTo>
                  <a:lnTo>
                    <a:pt x="4198" y="3"/>
                  </a:lnTo>
                  <a:lnTo>
                    <a:pt x="4200" y="1"/>
                  </a:lnTo>
                  <a:lnTo>
                    <a:pt x="4203" y="1"/>
                  </a:lnTo>
                  <a:lnTo>
                    <a:pt x="4207" y="3"/>
                  </a:lnTo>
                  <a:lnTo>
                    <a:pt x="4230" y="4"/>
                  </a:lnTo>
                  <a:lnTo>
                    <a:pt x="4232" y="6"/>
                  </a:lnTo>
                  <a:lnTo>
                    <a:pt x="4233" y="6"/>
                  </a:lnTo>
                  <a:lnTo>
                    <a:pt x="4235" y="9"/>
                  </a:lnTo>
                  <a:lnTo>
                    <a:pt x="4235" y="10"/>
                  </a:lnTo>
                  <a:lnTo>
                    <a:pt x="4235" y="12"/>
                  </a:lnTo>
                  <a:lnTo>
                    <a:pt x="4233" y="13"/>
                  </a:lnTo>
                  <a:lnTo>
                    <a:pt x="4232" y="13"/>
                  </a:lnTo>
                  <a:lnTo>
                    <a:pt x="4230" y="15"/>
                  </a:lnTo>
                  <a:lnTo>
                    <a:pt x="4230" y="15"/>
                  </a:lnTo>
                  <a:close/>
                  <a:moveTo>
                    <a:pt x="4163" y="9"/>
                  </a:moveTo>
                  <a:lnTo>
                    <a:pt x="4158" y="9"/>
                  </a:lnTo>
                  <a:lnTo>
                    <a:pt x="4156" y="9"/>
                  </a:lnTo>
                  <a:lnTo>
                    <a:pt x="4155" y="7"/>
                  </a:lnTo>
                  <a:lnTo>
                    <a:pt x="4155" y="6"/>
                  </a:lnTo>
                  <a:lnTo>
                    <a:pt x="4153" y="4"/>
                  </a:lnTo>
                  <a:lnTo>
                    <a:pt x="4155" y="3"/>
                  </a:lnTo>
                  <a:lnTo>
                    <a:pt x="4155" y="1"/>
                  </a:lnTo>
                  <a:lnTo>
                    <a:pt x="4156" y="0"/>
                  </a:lnTo>
                  <a:lnTo>
                    <a:pt x="4160" y="0"/>
                  </a:lnTo>
                  <a:lnTo>
                    <a:pt x="4164" y="0"/>
                  </a:lnTo>
                  <a:lnTo>
                    <a:pt x="4166" y="0"/>
                  </a:lnTo>
                  <a:lnTo>
                    <a:pt x="4167" y="1"/>
                  </a:lnTo>
                  <a:lnTo>
                    <a:pt x="4167" y="3"/>
                  </a:lnTo>
                  <a:lnTo>
                    <a:pt x="4169" y="4"/>
                  </a:lnTo>
                  <a:lnTo>
                    <a:pt x="4167" y="6"/>
                  </a:lnTo>
                  <a:lnTo>
                    <a:pt x="4167" y="7"/>
                  </a:lnTo>
                  <a:lnTo>
                    <a:pt x="4166" y="9"/>
                  </a:lnTo>
                  <a:lnTo>
                    <a:pt x="4163" y="9"/>
                  </a:lnTo>
                  <a:lnTo>
                    <a:pt x="4163" y="9"/>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3655080" y="547704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Narrow"/>
                </a:rPr>
                <a:t>Site-dependency</a:t>
              </a:r>
              <a:endParaRPr b="0" lang="en-US" sz="1200" spc="-1" strike="noStrike">
                <a:solidFill>
                  <a:srgbClr val="000000"/>
                </a:solidFill>
                <a:latin typeface="Arial"/>
              </a:endParaRPr>
            </a:p>
          </p:txBody>
        </p:sp>
        <p:sp>
          <p:nvSpPr>
            <p:cNvPr id="1471" name=""/>
            <p:cNvSpPr/>
            <p:nvPr/>
          </p:nvSpPr>
          <p:spPr>
            <a:xfrm>
              <a:off x="2066760" y="3352680"/>
              <a:ext cx="5807160" cy="2630520"/>
            </a:xfrm>
            <a:custGeom>
              <a:avLst/>
              <a:gdLst/>
              <a:ahLst/>
              <a:rect l="l" t="t" r="r" b="b"/>
              <a:pathLst>
                <a:path w="7315" h="3314">
                  <a:moveTo>
                    <a:pt x="6749" y="9"/>
                  </a:moveTo>
                  <a:lnTo>
                    <a:pt x="6720" y="9"/>
                  </a:lnTo>
                  <a:lnTo>
                    <a:pt x="6718" y="9"/>
                  </a:lnTo>
                  <a:lnTo>
                    <a:pt x="6717" y="8"/>
                  </a:lnTo>
                  <a:lnTo>
                    <a:pt x="6715" y="6"/>
                  </a:lnTo>
                  <a:lnTo>
                    <a:pt x="6715" y="5"/>
                  </a:lnTo>
                  <a:lnTo>
                    <a:pt x="6715" y="2"/>
                  </a:lnTo>
                  <a:lnTo>
                    <a:pt x="6717" y="0"/>
                  </a:lnTo>
                  <a:lnTo>
                    <a:pt x="6718" y="0"/>
                  </a:lnTo>
                  <a:lnTo>
                    <a:pt x="6720" y="0"/>
                  </a:lnTo>
                  <a:lnTo>
                    <a:pt x="6749" y="0"/>
                  </a:lnTo>
                  <a:lnTo>
                    <a:pt x="6751" y="0"/>
                  </a:lnTo>
                  <a:lnTo>
                    <a:pt x="6752" y="0"/>
                  </a:lnTo>
                  <a:lnTo>
                    <a:pt x="6754" y="2"/>
                  </a:lnTo>
                  <a:lnTo>
                    <a:pt x="6754" y="5"/>
                  </a:lnTo>
                  <a:lnTo>
                    <a:pt x="6754" y="6"/>
                  </a:lnTo>
                  <a:lnTo>
                    <a:pt x="6752" y="8"/>
                  </a:lnTo>
                  <a:lnTo>
                    <a:pt x="6751" y="9"/>
                  </a:lnTo>
                  <a:lnTo>
                    <a:pt x="6749" y="9"/>
                  </a:lnTo>
                  <a:lnTo>
                    <a:pt x="6749" y="9"/>
                  </a:lnTo>
                  <a:close/>
                  <a:moveTo>
                    <a:pt x="6681" y="9"/>
                  </a:moveTo>
                  <a:lnTo>
                    <a:pt x="6654" y="9"/>
                  </a:lnTo>
                  <a:lnTo>
                    <a:pt x="6651" y="9"/>
                  </a:lnTo>
                  <a:lnTo>
                    <a:pt x="6649" y="8"/>
                  </a:lnTo>
                  <a:lnTo>
                    <a:pt x="6649" y="6"/>
                  </a:lnTo>
                  <a:lnTo>
                    <a:pt x="6649" y="5"/>
                  </a:lnTo>
                  <a:lnTo>
                    <a:pt x="6649" y="2"/>
                  </a:lnTo>
                  <a:lnTo>
                    <a:pt x="6649" y="0"/>
                  </a:lnTo>
                  <a:lnTo>
                    <a:pt x="6651" y="0"/>
                  </a:lnTo>
                  <a:lnTo>
                    <a:pt x="6654" y="0"/>
                  </a:lnTo>
                  <a:lnTo>
                    <a:pt x="6681" y="0"/>
                  </a:lnTo>
                  <a:lnTo>
                    <a:pt x="6685" y="0"/>
                  </a:lnTo>
                  <a:lnTo>
                    <a:pt x="6686" y="0"/>
                  </a:lnTo>
                  <a:lnTo>
                    <a:pt x="6686" y="2"/>
                  </a:lnTo>
                  <a:lnTo>
                    <a:pt x="6688" y="5"/>
                  </a:lnTo>
                  <a:lnTo>
                    <a:pt x="6686" y="6"/>
                  </a:lnTo>
                  <a:lnTo>
                    <a:pt x="6686" y="8"/>
                  </a:lnTo>
                  <a:lnTo>
                    <a:pt x="6685" y="9"/>
                  </a:lnTo>
                  <a:lnTo>
                    <a:pt x="6681" y="9"/>
                  </a:lnTo>
                  <a:lnTo>
                    <a:pt x="6681" y="9"/>
                  </a:lnTo>
                  <a:close/>
                  <a:moveTo>
                    <a:pt x="6615" y="9"/>
                  </a:moveTo>
                  <a:lnTo>
                    <a:pt x="6586" y="9"/>
                  </a:lnTo>
                  <a:lnTo>
                    <a:pt x="6585" y="9"/>
                  </a:lnTo>
                  <a:lnTo>
                    <a:pt x="6583" y="8"/>
                  </a:lnTo>
                  <a:lnTo>
                    <a:pt x="6581" y="6"/>
                  </a:lnTo>
                  <a:lnTo>
                    <a:pt x="6581" y="5"/>
                  </a:lnTo>
                  <a:lnTo>
                    <a:pt x="6581" y="2"/>
                  </a:lnTo>
                  <a:lnTo>
                    <a:pt x="6583" y="0"/>
                  </a:lnTo>
                  <a:lnTo>
                    <a:pt x="6585" y="0"/>
                  </a:lnTo>
                  <a:lnTo>
                    <a:pt x="6586" y="0"/>
                  </a:lnTo>
                  <a:lnTo>
                    <a:pt x="6615" y="0"/>
                  </a:lnTo>
                  <a:lnTo>
                    <a:pt x="6617" y="0"/>
                  </a:lnTo>
                  <a:lnTo>
                    <a:pt x="6618" y="0"/>
                  </a:lnTo>
                  <a:lnTo>
                    <a:pt x="6620" y="2"/>
                  </a:lnTo>
                  <a:lnTo>
                    <a:pt x="6620" y="5"/>
                  </a:lnTo>
                  <a:lnTo>
                    <a:pt x="6620" y="6"/>
                  </a:lnTo>
                  <a:lnTo>
                    <a:pt x="6618" y="8"/>
                  </a:lnTo>
                  <a:lnTo>
                    <a:pt x="6617" y="9"/>
                  </a:lnTo>
                  <a:lnTo>
                    <a:pt x="6615" y="9"/>
                  </a:lnTo>
                  <a:lnTo>
                    <a:pt x="6615" y="9"/>
                  </a:lnTo>
                  <a:close/>
                  <a:moveTo>
                    <a:pt x="6548" y="9"/>
                  </a:moveTo>
                  <a:lnTo>
                    <a:pt x="6518" y="9"/>
                  </a:lnTo>
                  <a:lnTo>
                    <a:pt x="6517" y="9"/>
                  </a:lnTo>
                  <a:lnTo>
                    <a:pt x="6515" y="8"/>
                  </a:lnTo>
                  <a:lnTo>
                    <a:pt x="6514" y="6"/>
                  </a:lnTo>
                  <a:lnTo>
                    <a:pt x="6514" y="5"/>
                  </a:lnTo>
                  <a:lnTo>
                    <a:pt x="6514" y="2"/>
                  </a:lnTo>
                  <a:lnTo>
                    <a:pt x="6515" y="0"/>
                  </a:lnTo>
                  <a:lnTo>
                    <a:pt x="6517" y="0"/>
                  </a:lnTo>
                  <a:lnTo>
                    <a:pt x="6518" y="0"/>
                  </a:lnTo>
                  <a:lnTo>
                    <a:pt x="6548" y="0"/>
                  </a:lnTo>
                  <a:lnTo>
                    <a:pt x="6549" y="0"/>
                  </a:lnTo>
                  <a:lnTo>
                    <a:pt x="6551" y="0"/>
                  </a:lnTo>
                  <a:lnTo>
                    <a:pt x="6552" y="2"/>
                  </a:lnTo>
                  <a:lnTo>
                    <a:pt x="6552" y="5"/>
                  </a:lnTo>
                  <a:lnTo>
                    <a:pt x="6552" y="6"/>
                  </a:lnTo>
                  <a:lnTo>
                    <a:pt x="6551" y="8"/>
                  </a:lnTo>
                  <a:lnTo>
                    <a:pt x="6549" y="9"/>
                  </a:lnTo>
                  <a:lnTo>
                    <a:pt x="6548" y="9"/>
                  </a:lnTo>
                  <a:lnTo>
                    <a:pt x="6548" y="9"/>
                  </a:lnTo>
                  <a:close/>
                  <a:moveTo>
                    <a:pt x="6480" y="9"/>
                  </a:moveTo>
                  <a:lnTo>
                    <a:pt x="6451" y="9"/>
                  </a:lnTo>
                  <a:lnTo>
                    <a:pt x="6449" y="9"/>
                  </a:lnTo>
                  <a:lnTo>
                    <a:pt x="6448" y="8"/>
                  </a:lnTo>
                  <a:lnTo>
                    <a:pt x="6446" y="6"/>
                  </a:lnTo>
                  <a:lnTo>
                    <a:pt x="6446" y="5"/>
                  </a:lnTo>
                  <a:lnTo>
                    <a:pt x="6446" y="2"/>
                  </a:lnTo>
                  <a:lnTo>
                    <a:pt x="6448" y="0"/>
                  </a:lnTo>
                  <a:lnTo>
                    <a:pt x="6449" y="0"/>
                  </a:lnTo>
                  <a:lnTo>
                    <a:pt x="6451" y="0"/>
                  </a:lnTo>
                  <a:lnTo>
                    <a:pt x="6480" y="0"/>
                  </a:lnTo>
                  <a:lnTo>
                    <a:pt x="6481" y="0"/>
                  </a:lnTo>
                  <a:lnTo>
                    <a:pt x="6483" y="0"/>
                  </a:lnTo>
                  <a:lnTo>
                    <a:pt x="6485" y="2"/>
                  </a:lnTo>
                  <a:lnTo>
                    <a:pt x="6485" y="5"/>
                  </a:lnTo>
                  <a:lnTo>
                    <a:pt x="6485" y="6"/>
                  </a:lnTo>
                  <a:lnTo>
                    <a:pt x="6483" y="8"/>
                  </a:lnTo>
                  <a:lnTo>
                    <a:pt x="6481" y="9"/>
                  </a:lnTo>
                  <a:lnTo>
                    <a:pt x="6480" y="9"/>
                  </a:lnTo>
                  <a:lnTo>
                    <a:pt x="6480" y="9"/>
                  </a:lnTo>
                  <a:close/>
                  <a:moveTo>
                    <a:pt x="6412" y="9"/>
                  </a:moveTo>
                  <a:lnTo>
                    <a:pt x="6385" y="9"/>
                  </a:lnTo>
                  <a:lnTo>
                    <a:pt x="6382" y="9"/>
                  </a:lnTo>
                  <a:lnTo>
                    <a:pt x="6380" y="8"/>
                  </a:lnTo>
                  <a:lnTo>
                    <a:pt x="6380" y="6"/>
                  </a:lnTo>
                  <a:lnTo>
                    <a:pt x="6380" y="5"/>
                  </a:lnTo>
                  <a:lnTo>
                    <a:pt x="6380" y="2"/>
                  </a:lnTo>
                  <a:lnTo>
                    <a:pt x="6380" y="0"/>
                  </a:lnTo>
                  <a:lnTo>
                    <a:pt x="6382" y="0"/>
                  </a:lnTo>
                  <a:lnTo>
                    <a:pt x="6385" y="0"/>
                  </a:lnTo>
                  <a:lnTo>
                    <a:pt x="6412" y="0"/>
                  </a:lnTo>
                  <a:lnTo>
                    <a:pt x="6415" y="0"/>
                  </a:lnTo>
                  <a:lnTo>
                    <a:pt x="6417" y="0"/>
                  </a:lnTo>
                  <a:lnTo>
                    <a:pt x="6417" y="2"/>
                  </a:lnTo>
                  <a:lnTo>
                    <a:pt x="6418" y="5"/>
                  </a:lnTo>
                  <a:lnTo>
                    <a:pt x="6417" y="6"/>
                  </a:lnTo>
                  <a:lnTo>
                    <a:pt x="6417" y="8"/>
                  </a:lnTo>
                  <a:lnTo>
                    <a:pt x="6415" y="9"/>
                  </a:lnTo>
                  <a:lnTo>
                    <a:pt x="6412" y="9"/>
                  </a:lnTo>
                  <a:lnTo>
                    <a:pt x="6412" y="9"/>
                  </a:lnTo>
                  <a:close/>
                  <a:moveTo>
                    <a:pt x="6346" y="9"/>
                  </a:moveTo>
                  <a:lnTo>
                    <a:pt x="6317" y="9"/>
                  </a:lnTo>
                  <a:lnTo>
                    <a:pt x="6315" y="9"/>
                  </a:lnTo>
                  <a:lnTo>
                    <a:pt x="6314" y="8"/>
                  </a:lnTo>
                  <a:lnTo>
                    <a:pt x="6312" y="6"/>
                  </a:lnTo>
                  <a:lnTo>
                    <a:pt x="6312" y="5"/>
                  </a:lnTo>
                  <a:lnTo>
                    <a:pt x="6312" y="2"/>
                  </a:lnTo>
                  <a:lnTo>
                    <a:pt x="6314" y="0"/>
                  </a:lnTo>
                  <a:lnTo>
                    <a:pt x="6315" y="0"/>
                  </a:lnTo>
                  <a:lnTo>
                    <a:pt x="6317" y="0"/>
                  </a:lnTo>
                  <a:lnTo>
                    <a:pt x="6346" y="0"/>
                  </a:lnTo>
                  <a:lnTo>
                    <a:pt x="6348" y="0"/>
                  </a:lnTo>
                  <a:lnTo>
                    <a:pt x="6349" y="0"/>
                  </a:lnTo>
                  <a:lnTo>
                    <a:pt x="6351" y="2"/>
                  </a:lnTo>
                  <a:lnTo>
                    <a:pt x="6351" y="5"/>
                  </a:lnTo>
                  <a:lnTo>
                    <a:pt x="6351" y="6"/>
                  </a:lnTo>
                  <a:lnTo>
                    <a:pt x="6349" y="8"/>
                  </a:lnTo>
                  <a:lnTo>
                    <a:pt x="6348" y="9"/>
                  </a:lnTo>
                  <a:lnTo>
                    <a:pt x="6346" y="9"/>
                  </a:lnTo>
                  <a:lnTo>
                    <a:pt x="6346" y="9"/>
                  </a:lnTo>
                  <a:close/>
                  <a:moveTo>
                    <a:pt x="6278" y="9"/>
                  </a:moveTo>
                  <a:lnTo>
                    <a:pt x="6249" y="9"/>
                  </a:lnTo>
                  <a:lnTo>
                    <a:pt x="6248" y="9"/>
                  </a:lnTo>
                  <a:lnTo>
                    <a:pt x="6246" y="8"/>
                  </a:lnTo>
                  <a:lnTo>
                    <a:pt x="6245" y="6"/>
                  </a:lnTo>
                  <a:lnTo>
                    <a:pt x="6245" y="5"/>
                  </a:lnTo>
                  <a:lnTo>
                    <a:pt x="6245" y="2"/>
                  </a:lnTo>
                  <a:lnTo>
                    <a:pt x="6246" y="0"/>
                  </a:lnTo>
                  <a:lnTo>
                    <a:pt x="6248" y="0"/>
                  </a:lnTo>
                  <a:lnTo>
                    <a:pt x="6249" y="0"/>
                  </a:lnTo>
                  <a:lnTo>
                    <a:pt x="6278" y="0"/>
                  </a:lnTo>
                  <a:lnTo>
                    <a:pt x="6280" y="0"/>
                  </a:lnTo>
                  <a:lnTo>
                    <a:pt x="6282" y="0"/>
                  </a:lnTo>
                  <a:lnTo>
                    <a:pt x="6283" y="2"/>
                  </a:lnTo>
                  <a:lnTo>
                    <a:pt x="6283" y="5"/>
                  </a:lnTo>
                  <a:lnTo>
                    <a:pt x="6283" y="6"/>
                  </a:lnTo>
                  <a:lnTo>
                    <a:pt x="6282" y="8"/>
                  </a:lnTo>
                  <a:lnTo>
                    <a:pt x="6280" y="9"/>
                  </a:lnTo>
                  <a:lnTo>
                    <a:pt x="6278" y="9"/>
                  </a:lnTo>
                  <a:lnTo>
                    <a:pt x="6278" y="9"/>
                  </a:lnTo>
                  <a:close/>
                  <a:moveTo>
                    <a:pt x="6211" y="9"/>
                  </a:moveTo>
                  <a:lnTo>
                    <a:pt x="6182" y="9"/>
                  </a:lnTo>
                  <a:lnTo>
                    <a:pt x="6180" y="9"/>
                  </a:lnTo>
                  <a:lnTo>
                    <a:pt x="6178" y="8"/>
                  </a:lnTo>
                  <a:lnTo>
                    <a:pt x="6177" y="6"/>
                  </a:lnTo>
                  <a:lnTo>
                    <a:pt x="6177" y="5"/>
                  </a:lnTo>
                  <a:lnTo>
                    <a:pt x="6177" y="2"/>
                  </a:lnTo>
                  <a:lnTo>
                    <a:pt x="6178" y="0"/>
                  </a:lnTo>
                  <a:lnTo>
                    <a:pt x="6180" y="0"/>
                  </a:lnTo>
                  <a:lnTo>
                    <a:pt x="6182" y="0"/>
                  </a:lnTo>
                  <a:lnTo>
                    <a:pt x="6211" y="0"/>
                  </a:lnTo>
                  <a:lnTo>
                    <a:pt x="6212" y="0"/>
                  </a:lnTo>
                  <a:lnTo>
                    <a:pt x="6214" y="0"/>
                  </a:lnTo>
                  <a:lnTo>
                    <a:pt x="6215" y="2"/>
                  </a:lnTo>
                  <a:lnTo>
                    <a:pt x="6215" y="5"/>
                  </a:lnTo>
                  <a:lnTo>
                    <a:pt x="6215" y="6"/>
                  </a:lnTo>
                  <a:lnTo>
                    <a:pt x="6214" y="8"/>
                  </a:lnTo>
                  <a:lnTo>
                    <a:pt x="6212" y="9"/>
                  </a:lnTo>
                  <a:lnTo>
                    <a:pt x="6211" y="9"/>
                  </a:lnTo>
                  <a:lnTo>
                    <a:pt x="6211" y="9"/>
                  </a:lnTo>
                  <a:close/>
                  <a:moveTo>
                    <a:pt x="6143" y="9"/>
                  </a:moveTo>
                  <a:lnTo>
                    <a:pt x="6115" y="9"/>
                  </a:lnTo>
                  <a:lnTo>
                    <a:pt x="6112" y="9"/>
                  </a:lnTo>
                  <a:lnTo>
                    <a:pt x="6111" y="8"/>
                  </a:lnTo>
                  <a:lnTo>
                    <a:pt x="6111" y="6"/>
                  </a:lnTo>
                  <a:lnTo>
                    <a:pt x="6111" y="5"/>
                  </a:lnTo>
                  <a:lnTo>
                    <a:pt x="6111" y="2"/>
                  </a:lnTo>
                  <a:lnTo>
                    <a:pt x="6111" y="0"/>
                  </a:lnTo>
                  <a:lnTo>
                    <a:pt x="6112" y="0"/>
                  </a:lnTo>
                  <a:lnTo>
                    <a:pt x="6115" y="0"/>
                  </a:lnTo>
                  <a:lnTo>
                    <a:pt x="6143" y="0"/>
                  </a:lnTo>
                  <a:lnTo>
                    <a:pt x="6146" y="0"/>
                  </a:lnTo>
                  <a:lnTo>
                    <a:pt x="6148" y="0"/>
                  </a:lnTo>
                  <a:lnTo>
                    <a:pt x="6148" y="2"/>
                  </a:lnTo>
                  <a:lnTo>
                    <a:pt x="6149" y="5"/>
                  </a:lnTo>
                  <a:lnTo>
                    <a:pt x="6148" y="6"/>
                  </a:lnTo>
                  <a:lnTo>
                    <a:pt x="6148" y="8"/>
                  </a:lnTo>
                  <a:lnTo>
                    <a:pt x="6146" y="9"/>
                  </a:lnTo>
                  <a:lnTo>
                    <a:pt x="6143" y="9"/>
                  </a:lnTo>
                  <a:lnTo>
                    <a:pt x="6143" y="9"/>
                  </a:lnTo>
                  <a:close/>
                  <a:moveTo>
                    <a:pt x="6077" y="9"/>
                  </a:moveTo>
                  <a:lnTo>
                    <a:pt x="6048" y="9"/>
                  </a:lnTo>
                  <a:lnTo>
                    <a:pt x="6046" y="9"/>
                  </a:lnTo>
                  <a:lnTo>
                    <a:pt x="6045" y="8"/>
                  </a:lnTo>
                  <a:lnTo>
                    <a:pt x="6043" y="6"/>
                  </a:lnTo>
                  <a:lnTo>
                    <a:pt x="6043" y="5"/>
                  </a:lnTo>
                  <a:lnTo>
                    <a:pt x="6043" y="2"/>
                  </a:lnTo>
                  <a:lnTo>
                    <a:pt x="6045" y="0"/>
                  </a:lnTo>
                  <a:lnTo>
                    <a:pt x="6046" y="0"/>
                  </a:lnTo>
                  <a:lnTo>
                    <a:pt x="6048" y="0"/>
                  </a:lnTo>
                  <a:lnTo>
                    <a:pt x="6077" y="0"/>
                  </a:lnTo>
                  <a:lnTo>
                    <a:pt x="6078" y="0"/>
                  </a:lnTo>
                  <a:lnTo>
                    <a:pt x="6080" y="0"/>
                  </a:lnTo>
                  <a:lnTo>
                    <a:pt x="6082" y="2"/>
                  </a:lnTo>
                  <a:lnTo>
                    <a:pt x="6082" y="5"/>
                  </a:lnTo>
                  <a:lnTo>
                    <a:pt x="6082" y="6"/>
                  </a:lnTo>
                  <a:lnTo>
                    <a:pt x="6080" y="8"/>
                  </a:lnTo>
                  <a:lnTo>
                    <a:pt x="6078" y="9"/>
                  </a:lnTo>
                  <a:lnTo>
                    <a:pt x="6077" y="9"/>
                  </a:lnTo>
                  <a:lnTo>
                    <a:pt x="6077" y="9"/>
                  </a:lnTo>
                  <a:close/>
                  <a:moveTo>
                    <a:pt x="6009" y="9"/>
                  </a:moveTo>
                  <a:lnTo>
                    <a:pt x="5980" y="9"/>
                  </a:lnTo>
                  <a:lnTo>
                    <a:pt x="5979" y="9"/>
                  </a:lnTo>
                  <a:lnTo>
                    <a:pt x="5977" y="8"/>
                  </a:lnTo>
                  <a:lnTo>
                    <a:pt x="5975" y="6"/>
                  </a:lnTo>
                  <a:lnTo>
                    <a:pt x="5975" y="5"/>
                  </a:lnTo>
                  <a:lnTo>
                    <a:pt x="5975" y="2"/>
                  </a:lnTo>
                  <a:lnTo>
                    <a:pt x="5977" y="0"/>
                  </a:lnTo>
                  <a:lnTo>
                    <a:pt x="5979" y="0"/>
                  </a:lnTo>
                  <a:lnTo>
                    <a:pt x="5980" y="0"/>
                  </a:lnTo>
                  <a:lnTo>
                    <a:pt x="6009" y="0"/>
                  </a:lnTo>
                  <a:lnTo>
                    <a:pt x="6011" y="0"/>
                  </a:lnTo>
                  <a:lnTo>
                    <a:pt x="6012" y="0"/>
                  </a:lnTo>
                  <a:lnTo>
                    <a:pt x="6014" y="2"/>
                  </a:lnTo>
                  <a:lnTo>
                    <a:pt x="6014" y="5"/>
                  </a:lnTo>
                  <a:lnTo>
                    <a:pt x="6014" y="6"/>
                  </a:lnTo>
                  <a:lnTo>
                    <a:pt x="6012" y="8"/>
                  </a:lnTo>
                  <a:lnTo>
                    <a:pt x="6011" y="9"/>
                  </a:lnTo>
                  <a:lnTo>
                    <a:pt x="6009" y="9"/>
                  </a:lnTo>
                  <a:lnTo>
                    <a:pt x="6009" y="9"/>
                  </a:lnTo>
                  <a:close/>
                  <a:moveTo>
                    <a:pt x="5942" y="9"/>
                  </a:moveTo>
                  <a:lnTo>
                    <a:pt x="5912" y="9"/>
                  </a:lnTo>
                  <a:lnTo>
                    <a:pt x="5911" y="9"/>
                  </a:lnTo>
                  <a:lnTo>
                    <a:pt x="5909" y="8"/>
                  </a:lnTo>
                  <a:lnTo>
                    <a:pt x="5908" y="6"/>
                  </a:lnTo>
                  <a:lnTo>
                    <a:pt x="5908" y="5"/>
                  </a:lnTo>
                  <a:lnTo>
                    <a:pt x="5908" y="2"/>
                  </a:lnTo>
                  <a:lnTo>
                    <a:pt x="5909" y="0"/>
                  </a:lnTo>
                  <a:lnTo>
                    <a:pt x="5911" y="0"/>
                  </a:lnTo>
                  <a:lnTo>
                    <a:pt x="5912" y="0"/>
                  </a:lnTo>
                  <a:lnTo>
                    <a:pt x="5942" y="0"/>
                  </a:lnTo>
                  <a:lnTo>
                    <a:pt x="5943" y="0"/>
                  </a:lnTo>
                  <a:lnTo>
                    <a:pt x="5945" y="0"/>
                  </a:lnTo>
                  <a:lnTo>
                    <a:pt x="5946" y="2"/>
                  </a:lnTo>
                  <a:lnTo>
                    <a:pt x="5946" y="5"/>
                  </a:lnTo>
                  <a:lnTo>
                    <a:pt x="5946" y="6"/>
                  </a:lnTo>
                  <a:lnTo>
                    <a:pt x="5945" y="8"/>
                  </a:lnTo>
                  <a:lnTo>
                    <a:pt x="5943" y="9"/>
                  </a:lnTo>
                  <a:lnTo>
                    <a:pt x="5942" y="9"/>
                  </a:lnTo>
                  <a:lnTo>
                    <a:pt x="5942" y="9"/>
                  </a:lnTo>
                  <a:close/>
                  <a:moveTo>
                    <a:pt x="5874" y="9"/>
                  </a:moveTo>
                  <a:lnTo>
                    <a:pt x="5846" y="9"/>
                  </a:lnTo>
                  <a:lnTo>
                    <a:pt x="5843" y="9"/>
                  </a:lnTo>
                  <a:lnTo>
                    <a:pt x="5842" y="8"/>
                  </a:lnTo>
                  <a:lnTo>
                    <a:pt x="5842" y="6"/>
                  </a:lnTo>
                  <a:lnTo>
                    <a:pt x="5842" y="5"/>
                  </a:lnTo>
                  <a:lnTo>
                    <a:pt x="5842" y="2"/>
                  </a:lnTo>
                  <a:lnTo>
                    <a:pt x="5842" y="0"/>
                  </a:lnTo>
                  <a:lnTo>
                    <a:pt x="5843" y="0"/>
                  </a:lnTo>
                  <a:lnTo>
                    <a:pt x="5846" y="0"/>
                  </a:lnTo>
                  <a:lnTo>
                    <a:pt x="5874" y="0"/>
                  </a:lnTo>
                  <a:lnTo>
                    <a:pt x="5877" y="0"/>
                  </a:lnTo>
                  <a:lnTo>
                    <a:pt x="5879" y="0"/>
                  </a:lnTo>
                  <a:lnTo>
                    <a:pt x="5879" y="2"/>
                  </a:lnTo>
                  <a:lnTo>
                    <a:pt x="5880" y="5"/>
                  </a:lnTo>
                  <a:lnTo>
                    <a:pt x="5879" y="6"/>
                  </a:lnTo>
                  <a:lnTo>
                    <a:pt x="5879" y="8"/>
                  </a:lnTo>
                  <a:lnTo>
                    <a:pt x="5877" y="9"/>
                  </a:lnTo>
                  <a:lnTo>
                    <a:pt x="5874" y="9"/>
                  </a:lnTo>
                  <a:lnTo>
                    <a:pt x="5874" y="9"/>
                  </a:lnTo>
                  <a:close/>
                  <a:moveTo>
                    <a:pt x="5808" y="9"/>
                  </a:moveTo>
                  <a:lnTo>
                    <a:pt x="5779" y="9"/>
                  </a:lnTo>
                  <a:lnTo>
                    <a:pt x="5777" y="9"/>
                  </a:lnTo>
                  <a:lnTo>
                    <a:pt x="5775" y="8"/>
                  </a:lnTo>
                  <a:lnTo>
                    <a:pt x="5774" y="6"/>
                  </a:lnTo>
                  <a:lnTo>
                    <a:pt x="5774" y="5"/>
                  </a:lnTo>
                  <a:lnTo>
                    <a:pt x="5774" y="2"/>
                  </a:lnTo>
                  <a:lnTo>
                    <a:pt x="5775" y="0"/>
                  </a:lnTo>
                  <a:lnTo>
                    <a:pt x="5777" y="0"/>
                  </a:lnTo>
                  <a:lnTo>
                    <a:pt x="5779" y="0"/>
                  </a:lnTo>
                  <a:lnTo>
                    <a:pt x="5808" y="0"/>
                  </a:lnTo>
                  <a:lnTo>
                    <a:pt x="5809" y="0"/>
                  </a:lnTo>
                  <a:lnTo>
                    <a:pt x="5811" y="0"/>
                  </a:lnTo>
                  <a:lnTo>
                    <a:pt x="5812" y="2"/>
                  </a:lnTo>
                  <a:lnTo>
                    <a:pt x="5812" y="5"/>
                  </a:lnTo>
                  <a:lnTo>
                    <a:pt x="5812" y="6"/>
                  </a:lnTo>
                  <a:lnTo>
                    <a:pt x="5811" y="8"/>
                  </a:lnTo>
                  <a:lnTo>
                    <a:pt x="5809" y="9"/>
                  </a:lnTo>
                  <a:lnTo>
                    <a:pt x="5808" y="9"/>
                  </a:lnTo>
                  <a:lnTo>
                    <a:pt x="5808" y="9"/>
                  </a:lnTo>
                  <a:close/>
                  <a:moveTo>
                    <a:pt x="5740" y="9"/>
                  </a:moveTo>
                  <a:lnTo>
                    <a:pt x="5711" y="9"/>
                  </a:lnTo>
                  <a:lnTo>
                    <a:pt x="5709" y="9"/>
                  </a:lnTo>
                  <a:lnTo>
                    <a:pt x="5708" y="8"/>
                  </a:lnTo>
                  <a:lnTo>
                    <a:pt x="5706" y="6"/>
                  </a:lnTo>
                  <a:lnTo>
                    <a:pt x="5706" y="5"/>
                  </a:lnTo>
                  <a:lnTo>
                    <a:pt x="5706" y="2"/>
                  </a:lnTo>
                  <a:lnTo>
                    <a:pt x="5708" y="0"/>
                  </a:lnTo>
                  <a:lnTo>
                    <a:pt x="5709" y="0"/>
                  </a:lnTo>
                  <a:lnTo>
                    <a:pt x="5711" y="0"/>
                  </a:lnTo>
                  <a:lnTo>
                    <a:pt x="5740" y="0"/>
                  </a:lnTo>
                  <a:lnTo>
                    <a:pt x="5742" y="0"/>
                  </a:lnTo>
                  <a:lnTo>
                    <a:pt x="5743" y="0"/>
                  </a:lnTo>
                  <a:lnTo>
                    <a:pt x="5745" y="2"/>
                  </a:lnTo>
                  <a:lnTo>
                    <a:pt x="5745" y="5"/>
                  </a:lnTo>
                  <a:lnTo>
                    <a:pt x="5745" y="6"/>
                  </a:lnTo>
                  <a:lnTo>
                    <a:pt x="5743" y="8"/>
                  </a:lnTo>
                  <a:lnTo>
                    <a:pt x="5742" y="9"/>
                  </a:lnTo>
                  <a:lnTo>
                    <a:pt x="5740" y="9"/>
                  </a:lnTo>
                  <a:lnTo>
                    <a:pt x="5740" y="9"/>
                  </a:lnTo>
                  <a:close/>
                  <a:moveTo>
                    <a:pt x="5672" y="9"/>
                  </a:moveTo>
                  <a:lnTo>
                    <a:pt x="5643" y="9"/>
                  </a:lnTo>
                  <a:lnTo>
                    <a:pt x="5642" y="9"/>
                  </a:lnTo>
                  <a:lnTo>
                    <a:pt x="5640" y="8"/>
                  </a:lnTo>
                  <a:lnTo>
                    <a:pt x="5639" y="6"/>
                  </a:lnTo>
                  <a:lnTo>
                    <a:pt x="5639" y="5"/>
                  </a:lnTo>
                  <a:lnTo>
                    <a:pt x="5639" y="2"/>
                  </a:lnTo>
                  <a:lnTo>
                    <a:pt x="5640" y="0"/>
                  </a:lnTo>
                  <a:lnTo>
                    <a:pt x="5642" y="0"/>
                  </a:lnTo>
                  <a:lnTo>
                    <a:pt x="5643" y="0"/>
                  </a:lnTo>
                  <a:lnTo>
                    <a:pt x="5672" y="0"/>
                  </a:lnTo>
                  <a:lnTo>
                    <a:pt x="5674" y="0"/>
                  </a:lnTo>
                  <a:lnTo>
                    <a:pt x="5675" y="0"/>
                  </a:lnTo>
                  <a:lnTo>
                    <a:pt x="5677" y="2"/>
                  </a:lnTo>
                  <a:lnTo>
                    <a:pt x="5677" y="5"/>
                  </a:lnTo>
                  <a:lnTo>
                    <a:pt x="5677" y="6"/>
                  </a:lnTo>
                  <a:lnTo>
                    <a:pt x="5675" y="8"/>
                  </a:lnTo>
                  <a:lnTo>
                    <a:pt x="5674" y="9"/>
                  </a:lnTo>
                  <a:lnTo>
                    <a:pt x="5672" y="9"/>
                  </a:lnTo>
                  <a:lnTo>
                    <a:pt x="5672" y="9"/>
                  </a:lnTo>
                  <a:close/>
                  <a:moveTo>
                    <a:pt x="5605" y="9"/>
                  </a:moveTo>
                  <a:lnTo>
                    <a:pt x="5577" y="9"/>
                  </a:lnTo>
                  <a:lnTo>
                    <a:pt x="5574" y="9"/>
                  </a:lnTo>
                  <a:lnTo>
                    <a:pt x="5572" y="8"/>
                  </a:lnTo>
                  <a:lnTo>
                    <a:pt x="5572" y="6"/>
                  </a:lnTo>
                  <a:lnTo>
                    <a:pt x="5572" y="5"/>
                  </a:lnTo>
                  <a:lnTo>
                    <a:pt x="5572" y="2"/>
                  </a:lnTo>
                  <a:lnTo>
                    <a:pt x="5572" y="0"/>
                  </a:lnTo>
                  <a:lnTo>
                    <a:pt x="5574" y="0"/>
                  </a:lnTo>
                  <a:lnTo>
                    <a:pt x="5577" y="0"/>
                  </a:lnTo>
                  <a:lnTo>
                    <a:pt x="5605" y="0"/>
                  </a:lnTo>
                  <a:lnTo>
                    <a:pt x="5608" y="0"/>
                  </a:lnTo>
                  <a:lnTo>
                    <a:pt x="5609" y="0"/>
                  </a:lnTo>
                  <a:lnTo>
                    <a:pt x="5609" y="2"/>
                  </a:lnTo>
                  <a:lnTo>
                    <a:pt x="5611" y="5"/>
                  </a:lnTo>
                  <a:lnTo>
                    <a:pt x="5609" y="6"/>
                  </a:lnTo>
                  <a:lnTo>
                    <a:pt x="5609" y="8"/>
                  </a:lnTo>
                  <a:lnTo>
                    <a:pt x="5608" y="9"/>
                  </a:lnTo>
                  <a:lnTo>
                    <a:pt x="5605" y="9"/>
                  </a:lnTo>
                  <a:lnTo>
                    <a:pt x="5605" y="9"/>
                  </a:lnTo>
                  <a:close/>
                  <a:moveTo>
                    <a:pt x="5539" y="9"/>
                  </a:moveTo>
                  <a:lnTo>
                    <a:pt x="5509" y="9"/>
                  </a:lnTo>
                  <a:lnTo>
                    <a:pt x="5508" y="9"/>
                  </a:lnTo>
                  <a:lnTo>
                    <a:pt x="5506" y="8"/>
                  </a:lnTo>
                  <a:lnTo>
                    <a:pt x="5505" y="6"/>
                  </a:lnTo>
                  <a:lnTo>
                    <a:pt x="5505" y="5"/>
                  </a:lnTo>
                  <a:lnTo>
                    <a:pt x="5505" y="2"/>
                  </a:lnTo>
                  <a:lnTo>
                    <a:pt x="5506" y="0"/>
                  </a:lnTo>
                  <a:lnTo>
                    <a:pt x="5508" y="0"/>
                  </a:lnTo>
                  <a:lnTo>
                    <a:pt x="5509" y="0"/>
                  </a:lnTo>
                  <a:lnTo>
                    <a:pt x="5539" y="0"/>
                  </a:lnTo>
                  <a:lnTo>
                    <a:pt x="5540" y="0"/>
                  </a:lnTo>
                  <a:lnTo>
                    <a:pt x="5542" y="0"/>
                  </a:lnTo>
                  <a:lnTo>
                    <a:pt x="5543" y="2"/>
                  </a:lnTo>
                  <a:lnTo>
                    <a:pt x="5543" y="5"/>
                  </a:lnTo>
                  <a:lnTo>
                    <a:pt x="5543" y="6"/>
                  </a:lnTo>
                  <a:lnTo>
                    <a:pt x="5542" y="8"/>
                  </a:lnTo>
                  <a:lnTo>
                    <a:pt x="5540" y="9"/>
                  </a:lnTo>
                  <a:lnTo>
                    <a:pt x="5539" y="9"/>
                  </a:lnTo>
                  <a:lnTo>
                    <a:pt x="5539" y="9"/>
                  </a:lnTo>
                  <a:close/>
                  <a:moveTo>
                    <a:pt x="5471" y="9"/>
                  </a:moveTo>
                  <a:lnTo>
                    <a:pt x="5442" y="9"/>
                  </a:lnTo>
                  <a:lnTo>
                    <a:pt x="5440" y="9"/>
                  </a:lnTo>
                  <a:lnTo>
                    <a:pt x="5439" y="8"/>
                  </a:lnTo>
                  <a:lnTo>
                    <a:pt x="5437" y="6"/>
                  </a:lnTo>
                  <a:lnTo>
                    <a:pt x="5437" y="5"/>
                  </a:lnTo>
                  <a:lnTo>
                    <a:pt x="5437" y="2"/>
                  </a:lnTo>
                  <a:lnTo>
                    <a:pt x="5439" y="0"/>
                  </a:lnTo>
                  <a:lnTo>
                    <a:pt x="5440" y="0"/>
                  </a:lnTo>
                  <a:lnTo>
                    <a:pt x="5442" y="0"/>
                  </a:lnTo>
                  <a:lnTo>
                    <a:pt x="5471" y="0"/>
                  </a:lnTo>
                  <a:lnTo>
                    <a:pt x="5472" y="0"/>
                  </a:lnTo>
                  <a:lnTo>
                    <a:pt x="5474" y="0"/>
                  </a:lnTo>
                  <a:lnTo>
                    <a:pt x="5476" y="2"/>
                  </a:lnTo>
                  <a:lnTo>
                    <a:pt x="5476" y="5"/>
                  </a:lnTo>
                  <a:lnTo>
                    <a:pt x="5476" y="6"/>
                  </a:lnTo>
                  <a:lnTo>
                    <a:pt x="5474" y="8"/>
                  </a:lnTo>
                  <a:lnTo>
                    <a:pt x="5472" y="9"/>
                  </a:lnTo>
                  <a:lnTo>
                    <a:pt x="5471" y="9"/>
                  </a:lnTo>
                  <a:lnTo>
                    <a:pt x="5471" y="9"/>
                  </a:lnTo>
                  <a:close/>
                  <a:moveTo>
                    <a:pt x="5403" y="9"/>
                  </a:moveTo>
                  <a:lnTo>
                    <a:pt x="5374" y="9"/>
                  </a:lnTo>
                  <a:lnTo>
                    <a:pt x="5372" y="9"/>
                  </a:lnTo>
                  <a:lnTo>
                    <a:pt x="5371" y="8"/>
                  </a:lnTo>
                  <a:lnTo>
                    <a:pt x="5369" y="6"/>
                  </a:lnTo>
                  <a:lnTo>
                    <a:pt x="5369" y="5"/>
                  </a:lnTo>
                  <a:lnTo>
                    <a:pt x="5369" y="2"/>
                  </a:lnTo>
                  <a:lnTo>
                    <a:pt x="5371" y="0"/>
                  </a:lnTo>
                  <a:lnTo>
                    <a:pt x="5372" y="0"/>
                  </a:lnTo>
                  <a:lnTo>
                    <a:pt x="5374" y="0"/>
                  </a:lnTo>
                  <a:lnTo>
                    <a:pt x="5403" y="0"/>
                  </a:lnTo>
                  <a:lnTo>
                    <a:pt x="5405" y="0"/>
                  </a:lnTo>
                  <a:lnTo>
                    <a:pt x="5406" y="0"/>
                  </a:lnTo>
                  <a:lnTo>
                    <a:pt x="5408" y="2"/>
                  </a:lnTo>
                  <a:lnTo>
                    <a:pt x="5408" y="5"/>
                  </a:lnTo>
                  <a:lnTo>
                    <a:pt x="5408" y="6"/>
                  </a:lnTo>
                  <a:lnTo>
                    <a:pt x="5406" y="8"/>
                  </a:lnTo>
                  <a:lnTo>
                    <a:pt x="5405" y="9"/>
                  </a:lnTo>
                  <a:lnTo>
                    <a:pt x="5403" y="9"/>
                  </a:lnTo>
                  <a:lnTo>
                    <a:pt x="5403" y="9"/>
                  </a:lnTo>
                  <a:close/>
                  <a:moveTo>
                    <a:pt x="5336" y="9"/>
                  </a:moveTo>
                  <a:lnTo>
                    <a:pt x="5308" y="9"/>
                  </a:lnTo>
                  <a:lnTo>
                    <a:pt x="5305" y="9"/>
                  </a:lnTo>
                  <a:lnTo>
                    <a:pt x="5303" y="8"/>
                  </a:lnTo>
                  <a:lnTo>
                    <a:pt x="5303" y="6"/>
                  </a:lnTo>
                  <a:lnTo>
                    <a:pt x="5303" y="5"/>
                  </a:lnTo>
                  <a:lnTo>
                    <a:pt x="5303" y="2"/>
                  </a:lnTo>
                  <a:lnTo>
                    <a:pt x="5303" y="0"/>
                  </a:lnTo>
                  <a:lnTo>
                    <a:pt x="5305" y="0"/>
                  </a:lnTo>
                  <a:lnTo>
                    <a:pt x="5308" y="0"/>
                  </a:lnTo>
                  <a:lnTo>
                    <a:pt x="5336" y="0"/>
                  </a:lnTo>
                  <a:lnTo>
                    <a:pt x="5339" y="0"/>
                  </a:lnTo>
                  <a:lnTo>
                    <a:pt x="5340" y="0"/>
                  </a:lnTo>
                  <a:lnTo>
                    <a:pt x="5340" y="2"/>
                  </a:lnTo>
                  <a:lnTo>
                    <a:pt x="5342" y="5"/>
                  </a:lnTo>
                  <a:lnTo>
                    <a:pt x="5340" y="6"/>
                  </a:lnTo>
                  <a:lnTo>
                    <a:pt x="5340" y="8"/>
                  </a:lnTo>
                  <a:lnTo>
                    <a:pt x="5339" y="9"/>
                  </a:lnTo>
                  <a:lnTo>
                    <a:pt x="5336" y="9"/>
                  </a:lnTo>
                  <a:lnTo>
                    <a:pt x="5336" y="9"/>
                  </a:lnTo>
                  <a:close/>
                  <a:moveTo>
                    <a:pt x="5269" y="9"/>
                  </a:moveTo>
                  <a:lnTo>
                    <a:pt x="5240" y="9"/>
                  </a:lnTo>
                  <a:lnTo>
                    <a:pt x="5239" y="9"/>
                  </a:lnTo>
                  <a:lnTo>
                    <a:pt x="5237" y="8"/>
                  </a:lnTo>
                  <a:lnTo>
                    <a:pt x="5236" y="6"/>
                  </a:lnTo>
                  <a:lnTo>
                    <a:pt x="5236" y="5"/>
                  </a:lnTo>
                  <a:lnTo>
                    <a:pt x="5236" y="2"/>
                  </a:lnTo>
                  <a:lnTo>
                    <a:pt x="5237" y="0"/>
                  </a:lnTo>
                  <a:lnTo>
                    <a:pt x="5239" y="0"/>
                  </a:lnTo>
                  <a:lnTo>
                    <a:pt x="5240" y="0"/>
                  </a:lnTo>
                  <a:lnTo>
                    <a:pt x="5269" y="0"/>
                  </a:lnTo>
                  <a:lnTo>
                    <a:pt x="5271" y="0"/>
                  </a:lnTo>
                  <a:lnTo>
                    <a:pt x="5273" y="0"/>
                  </a:lnTo>
                  <a:lnTo>
                    <a:pt x="5274" y="2"/>
                  </a:lnTo>
                  <a:lnTo>
                    <a:pt x="5274" y="5"/>
                  </a:lnTo>
                  <a:lnTo>
                    <a:pt x="5274" y="6"/>
                  </a:lnTo>
                  <a:lnTo>
                    <a:pt x="5273" y="8"/>
                  </a:lnTo>
                  <a:lnTo>
                    <a:pt x="5271" y="9"/>
                  </a:lnTo>
                  <a:lnTo>
                    <a:pt x="5269" y="9"/>
                  </a:lnTo>
                  <a:lnTo>
                    <a:pt x="5269" y="9"/>
                  </a:lnTo>
                  <a:close/>
                  <a:moveTo>
                    <a:pt x="5202" y="9"/>
                  </a:moveTo>
                  <a:lnTo>
                    <a:pt x="5173" y="9"/>
                  </a:lnTo>
                  <a:lnTo>
                    <a:pt x="5171" y="9"/>
                  </a:lnTo>
                  <a:lnTo>
                    <a:pt x="5169" y="8"/>
                  </a:lnTo>
                  <a:lnTo>
                    <a:pt x="5168" y="6"/>
                  </a:lnTo>
                  <a:lnTo>
                    <a:pt x="5168" y="5"/>
                  </a:lnTo>
                  <a:lnTo>
                    <a:pt x="5168" y="2"/>
                  </a:lnTo>
                  <a:lnTo>
                    <a:pt x="5169" y="0"/>
                  </a:lnTo>
                  <a:lnTo>
                    <a:pt x="5171" y="0"/>
                  </a:lnTo>
                  <a:lnTo>
                    <a:pt x="5173" y="0"/>
                  </a:lnTo>
                  <a:lnTo>
                    <a:pt x="5202" y="0"/>
                  </a:lnTo>
                  <a:lnTo>
                    <a:pt x="5203" y="0"/>
                  </a:lnTo>
                  <a:lnTo>
                    <a:pt x="5205" y="0"/>
                  </a:lnTo>
                  <a:lnTo>
                    <a:pt x="5206" y="2"/>
                  </a:lnTo>
                  <a:lnTo>
                    <a:pt x="5206" y="5"/>
                  </a:lnTo>
                  <a:lnTo>
                    <a:pt x="5206" y="6"/>
                  </a:lnTo>
                  <a:lnTo>
                    <a:pt x="5205" y="8"/>
                  </a:lnTo>
                  <a:lnTo>
                    <a:pt x="5203" y="9"/>
                  </a:lnTo>
                  <a:lnTo>
                    <a:pt x="5202" y="9"/>
                  </a:lnTo>
                  <a:lnTo>
                    <a:pt x="5202" y="9"/>
                  </a:lnTo>
                  <a:close/>
                  <a:moveTo>
                    <a:pt x="5134" y="9"/>
                  </a:moveTo>
                  <a:lnTo>
                    <a:pt x="5105" y="9"/>
                  </a:lnTo>
                  <a:lnTo>
                    <a:pt x="5103" y="9"/>
                  </a:lnTo>
                  <a:lnTo>
                    <a:pt x="5102" y="8"/>
                  </a:lnTo>
                  <a:lnTo>
                    <a:pt x="5100" y="6"/>
                  </a:lnTo>
                  <a:lnTo>
                    <a:pt x="5100" y="5"/>
                  </a:lnTo>
                  <a:lnTo>
                    <a:pt x="5100" y="2"/>
                  </a:lnTo>
                  <a:lnTo>
                    <a:pt x="5102" y="0"/>
                  </a:lnTo>
                  <a:lnTo>
                    <a:pt x="5103" y="0"/>
                  </a:lnTo>
                  <a:lnTo>
                    <a:pt x="5105" y="0"/>
                  </a:lnTo>
                  <a:lnTo>
                    <a:pt x="5134" y="0"/>
                  </a:lnTo>
                  <a:lnTo>
                    <a:pt x="5136" y="0"/>
                  </a:lnTo>
                  <a:lnTo>
                    <a:pt x="5137" y="0"/>
                  </a:lnTo>
                  <a:lnTo>
                    <a:pt x="5139" y="2"/>
                  </a:lnTo>
                  <a:lnTo>
                    <a:pt x="5139" y="5"/>
                  </a:lnTo>
                  <a:lnTo>
                    <a:pt x="5139" y="6"/>
                  </a:lnTo>
                  <a:lnTo>
                    <a:pt x="5137" y="8"/>
                  </a:lnTo>
                  <a:lnTo>
                    <a:pt x="5136" y="9"/>
                  </a:lnTo>
                  <a:lnTo>
                    <a:pt x="5134" y="9"/>
                  </a:lnTo>
                  <a:lnTo>
                    <a:pt x="5134" y="9"/>
                  </a:lnTo>
                  <a:close/>
                  <a:moveTo>
                    <a:pt x="5066" y="9"/>
                  </a:moveTo>
                  <a:lnTo>
                    <a:pt x="5039" y="9"/>
                  </a:lnTo>
                  <a:lnTo>
                    <a:pt x="5036" y="9"/>
                  </a:lnTo>
                  <a:lnTo>
                    <a:pt x="5034" y="8"/>
                  </a:lnTo>
                  <a:lnTo>
                    <a:pt x="5034" y="6"/>
                  </a:lnTo>
                  <a:lnTo>
                    <a:pt x="5034" y="5"/>
                  </a:lnTo>
                  <a:lnTo>
                    <a:pt x="5034" y="2"/>
                  </a:lnTo>
                  <a:lnTo>
                    <a:pt x="5034" y="0"/>
                  </a:lnTo>
                  <a:lnTo>
                    <a:pt x="5036" y="0"/>
                  </a:lnTo>
                  <a:lnTo>
                    <a:pt x="5039" y="0"/>
                  </a:lnTo>
                  <a:lnTo>
                    <a:pt x="5066" y="0"/>
                  </a:lnTo>
                  <a:lnTo>
                    <a:pt x="5069" y="0"/>
                  </a:lnTo>
                  <a:lnTo>
                    <a:pt x="5071" y="0"/>
                  </a:lnTo>
                  <a:lnTo>
                    <a:pt x="5071" y="2"/>
                  </a:lnTo>
                  <a:lnTo>
                    <a:pt x="5073" y="5"/>
                  </a:lnTo>
                  <a:lnTo>
                    <a:pt x="5071" y="6"/>
                  </a:lnTo>
                  <a:lnTo>
                    <a:pt x="5071" y="8"/>
                  </a:lnTo>
                  <a:lnTo>
                    <a:pt x="5069" y="9"/>
                  </a:lnTo>
                  <a:lnTo>
                    <a:pt x="5066" y="9"/>
                  </a:lnTo>
                  <a:lnTo>
                    <a:pt x="5066" y="9"/>
                  </a:lnTo>
                  <a:close/>
                  <a:moveTo>
                    <a:pt x="5000" y="9"/>
                  </a:moveTo>
                  <a:lnTo>
                    <a:pt x="4971" y="9"/>
                  </a:lnTo>
                  <a:lnTo>
                    <a:pt x="4969" y="9"/>
                  </a:lnTo>
                  <a:lnTo>
                    <a:pt x="4968" y="8"/>
                  </a:lnTo>
                  <a:lnTo>
                    <a:pt x="4966" y="6"/>
                  </a:lnTo>
                  <a:lnTo>
                    <a:pt x="4966" y="5"/>
                  </a:lnTo>
                  <a:lnTo>
                    <a:pt x="4966" y="2"/>
                  </a:lnTo>
                  <a:lnTo>
                    <a:pt x="4968" y="0"/>
                  </a:lnTo>
                  <a:lnTo>
                    <a:pt x="4969" y="0"/>
                  </a:lnTo>
                  <a:lnTo>
                    <a:pt x="4971" y="0"/>
                  </a:lnTo>
                  <a:lnTo>
                    <a:pt x="5000" y="0"/>
                  </a:lnTo>
                  <a:lnTo>
                    <a:pt x="5002" y="0"/>
                  </a:lnTo>
                  <a:lnTo>
                    <a:pt x="5003" y="0"/>
                  </a:lnTo>
                  <a:lnTo>
                    <a:pt x="5005" y="2"/>
                  </a:lnTo>
                  <a:lnTo>
                    <a:pt x="5005" y="5"/>
                  </a:lnTo>
                  <a:lnTo>
                    <a:pt x="5005" y="6"/>
                  </a:lnTo>
                  <a:lnTo>
                    <a:pt x="5003" y="8"/>
                  </a:lnTo>
                  <a:lnTo>
                    <a:pt x="5002" y="9"/>
                  </a:lnTo>
                  <a:lnTo>
                    <a:pt x="5000" y="9"/>
                  </a:lnTo>
                  <a:lnTo>
                    <a:pt x="5000" y="9"/>
                  </a:lnTo>
                  <a:close/>
                  <a:moveTo>
                    <a:pt x="4933" y="9"/>
                  </a:moveTo>
                  <a:lnTo>
                    <a:pt x="4903" y="9"/>
                  </a:lnTo>
                  <a:lnTo>
                    <a:pt x="4902" y="9"/>
                  </a:lnTo>
                  <a:lnTo>
                    <a:pt x="4900" y="8"/>
                  </a:lnTo>
                  <a:lnTo>
                    <a:pt x="4899" y="6"/>
                  </a:lnTo>
                  <a:lnTo>
                    <a:pt x="4899" y="5"/>
                  </a:lnTo>
                  <a:lnTo>
                    <a:pt x="4899" y="2"/>
                  </a:lnTo>
                  <a:lnTo>
                    <a:pt x="4900" y="0"/>
                  </a:lnTo>
                  <a:lnTo>
                    <a:pt x="4902" y="0"/>
                  </a:lnTo>
                  <a:lnTo>
                    <a:pt x="4903" y="0"/>
                  </a:lnTo>
                  <a:lnTo>
                    <a:pt x="4933" y="0"/>
                  </a:lnTo>
                  <a:lnTo>
                    <a:pt x="4934" y="0"/>
                  </a:lnTo>
                  <a:lnTo>
                    <a:pt x="4936" y="0"/>
                  </a:lnTo>
                  <a:lnTo>
                    <a:pt x="4937" y="2"/>
                  </a:lnTo>
                  <a:lnTo>
                    <a:pt x="4937" y="5"/>
                  </a:lnTo>
                  <a:lnTo>
                    <a:pt x="4937" y="6"/>
                  </a:lnTo>
                  <a:lnTo>
                    <a:pt x="4936" y="8"/>
                  </a:lnTo>
                  <a:lnTo>
                    <a:pt x="4934" y="9"/>
                  </a:lnTo>
                  <a:lnTo>
                    <a:pt x="4933" y="9"/>
                  </a:lnTo>
                  <a:lnTo>
                    <a:pt x="4933" y="9"/>
                  </a:lnTo>
                  <a:close/>
                  <a:moveTo>
                    <a:pt x="4865" y="9"/>
                  </a:moveTo>
                  <a:lnTo>
                    <a:pt x="4836" y="9"/>
                  </a:lnTo>
                  <a:lnTo>
                    <a:pt x="4834" y="9"/>
                  </a:lnTo>
                  <a:lnTo>
                    <a:pt x="4833" y="8"/>
                  </a:lnTo>
                  <a:lnTo>
                    <a:pt x="4831" y="6"/>
                  </a:lnTo>
                  <a:lnTo>
                    <a:pt x="4831" y="5"/>
                  </a:lnTo>
                  <a:lnTo>
                    <a:pt x="4831" y="2"/>
                  </a:lnTo>
                  <a:lnTo>
                    <a:pt x="4833" y="0"/>
                  </a:lnTo>
                  <a:lnTo>
                    <a:pt x="4834" y="0"/>
                  </a:lnTo>
                  <a:lnTo>
                    <a:pt x="4836" y="0"/>
                  </a:lnTo>
                  <a:lnTo>
                    <a:pt x="4865" y="0"/>
                  </a:lnTo>
                  <a:lnTo>
                    <a:pt x="4866" y="0"/>
                  </a:lnTo>
                  <a:lnTo>
                    <a:pt x="4868" y="0"/>
                  </a:lnTo>
                  <a:lnTo>
                    <a:pt x="4870" y="2"/>
                  </a:lnTo>
                  <a:lnTo>
                    <a:pt x="4870" y="5"/>
                  </a:lnTo>
                  <a:lnTo>
                    <a:pt x="4870" y="6"/>
                  </a:lnTo>
                  <a:lnTo>
                    <a:pt x="4868" y="8"/>
                  </a:lnTo>
                  <a:lnTo>
                    <a:pt x="4866" y="9"/>
                  </a:lnTo>
                  <a:lnTo>
                    <a:pt x="4865" y="9"/>
                  </a:lnTo>
                  <a:lnTo>
                    <a:pt x="4865" y="9"/>
                  </a:lnTo>
                  <a:close/>
                  <a:moveTo>
                    <a:pt x="4797" y="9"/>
                  </a:moveTo>
                  <a:lnTo>
                    <a:pt x="4770" y="9"/>
                  </a:lnTo>
                  <a:lnTo>
                    <a:pt x="4766" y="9"/>
                  </a:lnTo>
                  <a:lnTo>
                    <a:pt x="4765" y="8"/>
                  </a:lnTo>
                  <a:lnTo>
                    <a:pt x="4765" y="6"/>
                  </a:lnTo>
                  <a:lnTo>
                    <a:pt x="4765" y="5"/>
                  </a:lnTo>
                  <a:lnTo>
                    <a:pt x="4765" y="2"/>
                  </a:lnTo>
                  <a:lnTo>
                    <a:pt x="4765" y="0"/>
                  </a:lnTo>
                  <a:lnTo>
                    <a:pt x="4766" y="0"/>
                  </a:lnTo>
                  <a:lnTo>
                    <a:pt x="4770" y="0"/>
                  </a:lnTo>
                  <a:lnTo>
                    <a:pt x="4797" y="0"/>
                  </a:lnTo>
                  <a:lnTo>
                    <a:pt x="4800" y="0"/>
                  </a:lnTo>
                  <a:lnTo>
                    <a:pt x="4802" y="0"/>
                  </a:lnTo>
                  <a:lnTo>
                    <a:pt x="4802" y="2"/>
                  </a:lnTo>
                  <a:lnTo>
                    <a:pt x="4803" y="5"/>
                  </a:lnTo>
                  <a:lnTo>
                    <a:pt x="4802" y="6"/>
                  </a:lnTo>
                  <a:lnTo>
                    <a:pt x="4802" y="8"/>
                  </a:lnTo>
                  <a:lnTo>
                    <a:pt x="4800" y="9"/>
                  </a:lnTo>
                  <a:lnTo>
                    <a:pt x="4797" y="9"/>
                  </a:lnTo>
                  <a:lnTo>
                    <a:pt x="4797" y="9"/>
                  </a:lnTo>
                  <a:close/>
                  <a:moveTo>
                    <a:pt x="4731" y="9"/>
                  </a:moveTo>
                  <a:lnTo>
                    <a:pt x="4702" y="9"/>
                  </a:lnTo>
                  <a:lnTo>
                    <a:pt x="4700" y="9"/>
                  </a:lnTo>
                  <a:lnTo>
                    <a:pt x="4699" y="8"/>
                  </a:lnTo>
                  <a:lnTo>
                    <a:pt x="4697" y="6"/>
                  </a:lnTo>
                  <a:lnTo>
                    <a:pt x="4697" y="5"/>
                  </a:lnTo>
                  <a:lnTo>
                    <a:pt x="4697" y="2"/>
                  </a:lnTo>
                  <a:lnTo>
                    <a:pt x="4699" y="0"/>
                  </a:lnTo>
                  <a:lnTo>
                    <a:pt x="4700" y="0"/>
                  </a:lnTo>
                  <a:lnTo>
                    <a:pt x="4702" y="0"/>
                  </a:lnTo>
                  <a:lnTo>
                    <a:pt x="4731" y="0"/>
                  </a:lnTo>
                  <a:lnTo>
                    <a:pt x="4733" y="0"/>
                  </a:lnTo>
                  <a:lnTo>
                    <a:pt x="4734" y="0"/>
                  </a:lnTo>
                  <a:lnTo>
                    <a:pt x="4736" y="2"/>
                  </a:lnTo>
                  <a:lnTo>
                    <a:pt x="4736" y="5"/>
                  </a:lnTo>
                  <a:lnTo>
                    <a:pt x="4736" y="6"/>
                  </a:lnTo>
                  <a:lnTo>
                    <a:pt x="4734" y="8"/>
                  </a:lnTo>
                  <a:lnTo>
                    <a:pt x="4733" y="9"/>
                  </a:lnTo>
                  <a:lnTo>
                    <a:pt x="4731" y="9"/>
                  </a:lnTo>
                  <a:lnTo>
                    <a:pt x="4731" y="9"/>
                  </a:lnTo>
                  <a:close/>
                  <a:moveTo>
                    <a:pt x="4663" y="9"/>
                  </a:moveTo>
                  <a:lnTo>
                    <a:pt x="4634" y="9"/>
                  </a:lnTo>
                  <a:lnTo>
                    <a:pt x="4633" y="9"/>
                  </a:lnTo>
                  <a:lnTo>
                    <a:pt x="4631" y="8"/>
                  </a:lnTo>
                  <a:lnTo>
                    <a:pt x="4630" y="6"/>
                  </a:lnTo>
                  <a:lnTo>
                    <a:pt x="4630" y="5"/>
                  </a:lnTo>
                  <a:lnTo>
                    <a:pt x="4630" y="2"/>
                  </a:lnTo>
                  <a:lnTo>
                    <a:pt x="4631" y="0"/>
                  </a:lnTo>
                  <a:lnTo>
                    <a:pt x="4633" y="0"/>
                  </a:lnTo>
                  <a:lnTo>
                    <a:pt x="4634" y="0"/>
                  </a:lnTo>
                  <a:lnTo>
                    <a:pt x="4663" y="0"/>
                  </a:lnTo>
                  <a:lnTo>
                    <a:pt x="4665" y="0"/>
                  </a:lnTo>
                  <a:lnTo>
                    <a:pt x="4666" y="0"/>
                  </a:lnTo>
                  <a:lnTo>
                    <a:pt x="4668" y="2"/>
                  </a:lnTo>
                  <a:lnTo>
                    <a:pt x="4668" y="5"/>
                  </a:lnTo>
                  <a:lnTo>
                    <a:pt x="4668" y="6"/>
                  </a:lnTo>
                  <a:lnTo>
                    <a:pt x="4666" y="8"/>
                  </a:lnTo>
                  <a:lnTo>
                    <a:pt x="4665" y="9"/>
                  </a:lnTo>
                  <a:lnTo>
                    <a:pt x="4663" y="9"/>
                  </a:lnTo>
                  <a:lnTo>
                    <a:pt x="4663" y="9"/>
                  </a:lnTo>
                  <a:close/>
                  <a:moveTo>
                    <a:pt x="4596" y="9"/>
                  </a:moveTo>
                  <a:lnTo>
                    <a:pt x="4566" y="9"/>
                  </a:lnTo>
                  <a:lnTo>
                    <a:pt x="4565" y="9"/>
                  </a:lnTo>
                  <a:lnTo>
                    <a:pt x="4563" y="8"/>
                  </a:lnTo>
                  <a:lnTo>
                    <a:pt x="4562" y="6"/>
                  </a:lnTo>
                  <a:lnTo>
                    <a:pt x="4562" y="5"/>
                  </a:lnTo>
                  <a:lnTo>
                    <a:pt x="4562" y="2"/>
                  </a:lnTo>
                  <a:lnTo>
                    <a:pt x="4563" y="0"/>
                  </a:lnTo>
                  <a:lnTo>
                    <a:pt x="4565" y="0"/>
                  </a:lnTo>
                  <a:lnTo>
                    <a:pt x="4566" y="0"/>
                  </a:lnTo>
                  <a:lnTo>
                    <a:pt x="4596" y="0"/>
                  </a:lnTo>
                  <a:lnTo>
                    <a:pt x="4597" y="0"/>
                  </a:lnTo>
                  <a:lnTo>
                    <a:pt x="4599" y="0"/>
                  </a:lnTo>
                  <a:lnTo>
                    <a:pt x="4600" y="2"/>
                  </a:lnTo>
                  <a:lnTo>
                    <a:pt x="4600" y="5"/>
                  </a:lnTo>
                  <a:lnTo>
                    <a:pt x="4600" y="6"/>
                  </a:lnTo>
                  <a:lnTo>
                    <a:pt x="4599" y="8"/>
                  </a:lnTo>
                  <a:lnTo>
                    <a:pt x="4597" y="9"/>
                  </a:lnTo>
                  <a:lnTo>
                    <a:pt x="4596" y="9"/>
                  </a:lnTo>
                  <a:lnTo>
                    <a:pt x="4596" y="9"/>
                  </a:lnTo>
                  <a:close/>
                  <a:moveTo>
                    <a:pt x="4528" y="9"/>
                  </a:moveTo>
                  <a:lnTo>
                    <a:pt x="4500" y="9"/>
                  </a:lnTo>
                  <a:lnTo>
                    <a:pt x="4497" y="9"/>
                  </a:lnTo>
                  <a:lnTo>
                    <a:pt x="4496" y="8"/>
                  </a:lnTo>
                  <a:lnTo>
                    <a:pt x="4496" y="6"/>
                  </a:lnTo>
                  <a:lnTo>
                    <a:pt x="4496" y="5"/>
                  </a:lnTo>
                  <a:lnTo>
                    <a:pt x="4496" y="2"/>
                  </a:lnTo>
                  <a:lnTo>
                    <a:pt x="4496" y="0"/>
                  </a:lnTo>
                  <a:lnTo>
                    <a:pt x="4497" y="0"/>
                  </a:lnTo>
                  <a:lnTo>
                    <a:pt x="4500" y="0"/>
                  </a:lnTo>
                  <a:lnTo>
                    <a:pt x="4528" y="0"/>
                  </a:lnTo>
                  <a:lnTo>
                    <a:pt x="4531" y="0"/>
                  </a:lnTo>
                  <a:lnTo>
                    <a:pt x="4533" y="0"/>
                  </a:lnTo>
                  <a:lnTo>
                    <a:pt x="4533" y="2"/>
                  </a:lnTo>
                  <a:lnTo>
                    <a:pt x="4534" y="5"/>
                  </a:lnTo>
                  <a:lnTo>
                    <a:pt x="4533" y="6"/>
                  </a:lnTo>
                  <a:lnTo>
                    <a:pt x="4533" y="8"/>
                  </a:lnTo>
                  <a:lnTo>
                    <a:pt x="4531" y="9"/>
                  </a:lnTo>
                  <a:lnTo>
                    <a:pt x="4528" y="9"/>
                  </a:lnTo>
                  <a:lnTo>
                    <a:pt x="4528" y="9"/>
                  </a:lnTo>
                  <a:close/>
                  <a:moveTo>
                    <a:pt x="4462" y="9"/>
                  </a:moveTo>
                  <a:lnTo>
                    <a:pt x="4433" y="9"/>
                  </a:lnTo>
                  <a:lnTo>
                    <a:pt x="4431" y="9"/>
                  </a:lnTo>
                  <a:lnTo>
                    <a:pt x="4430" y="8"/>
                  </a:lnTo>
                  <a:lnTo>
                    <a:pt x="4428" y="6"/>
                  </a:lnTo>
                  <a:lnTo>
                    <a:pt x="4428" y="5"/>
                  </a:lnTo>
                  <a:lnTo>
                    <a:pt x="4428" y="2"/>
                  </a:lnTo>
                  <a:lnTo>
                    <a:pt x="4430" y="0"/>
                  </a:lnTo>
                  <a:lnTo>
                    <a:pt x="4431" y="0"/>
                  </a:lnTo>
                  <a:lnTo>
                    <a:pt x="4433" y="0"/>
                  </a:lnTo>
                  <a:lnTo>
                    <a:pt x="4462" y="0"/>
                  </a:lnTo>
                  <a:lnTo>
                    <a:pt x="4463" y="0"/>
                  </a:lnTo>
                  <a:lnTo>
                    <a:pt x="4465" y="0"/>
                  </a:lnTo>
                  <a:lnTo>
                    <a:pt x="4467" y="2"/>
                  </a:lnTo>
                  <a:lnTo>
                    <a:pt x="4467" y="5"/>
                  </a:lnTo>
                  <a:lnTo>
                    <a:pt x="4467" y="6"/>
                  </a:lnTo>
                  <a:lnTo>
                    <a:pt x="4465" y="8"/>
                  </a:lnTo>
                  <a:lnTo>
                    <a:pt x="4463" y="9"/>
                  </a:lnTo>
                  <a:lnTo>
                    <a:pt x="4462" y="9"/>
                  </a:lnTo>
                  <a:lnTo>
                    <a:pt x="4462" y="9"/>
                  </a:lnTo>
                  <a:close/>
                  <a:moveTo>
                    <a:pt x="4394" y="9"/>
                  </a:moveTo>
                  <a:lnTo>
                    <a:pt x="4365" y="9"/>
                  </a:lnTo>
                  <a:lnTo>
                    <a:pt x="4363" y="9"/>
                  </a:lnTo>
                  <a:lnTo>
                    <a:pt x="4362" y="8"/>
                  </a:lnTo>
                  <a:lnTo>
                    <a:pt x="4360" y="6"/>
                  </a:lnTo>
                  <a:lnTo>
                    <a:pt x="4360" y="5"/>
                  </a:lnTo>
                  <a:lnTo>
                    <a:pt x="4360" y="2"/>
                  </a:lnTo>
                  <a:lnTo>
                    <a:pt x="4362" y="0"/>
                  </a:lnTo>
                  <a:lnTo>
                    <a:pt x="4363" y="0"/>
                  </a:lnTo>
                  <a:lnTo>
                    <a:pt x="4365" y="0"/>
                  </a:lnTo>
                  <a:lnTo>
                    <a:pt x="4394" y="0"/>
                  </a:lnTo>
                  <a:lnTo>
                    <a:pt x="4396" y="0"/>
                  </a:lnTo>
                  <a:lnTo>
                    <a:pt x="4397" y="0"/>
                  </a:lnTo>
                  <a:lnTo>
                    <a:pt x="4399" y="2"/>
                  </a:lnTo>
                  <a:lnTo>
                    <a:pt x="4399" y="5"/>
                  </a:lnTo>
                  <a:lnTo>
                    <a:pt x="4399" y="6"/>
                  </a:lnTo>
                  <a:lnTo>
                    <a:pt x="4397" y="8"/>
                  </a:lnTo>
                  <a:lnTo>
                    <a:pt x="4396" y="9"/>
                  </a:lnTo>
                  <a:lnTo>
                    <a:pt x="4394" y="9"/>
                  </a:lnTo>
                  <a:lnTo>
                    <a:pt x="4394" y="9"/>
                  </a:lnTo>
                  <a:close/>
                  <a:moveTo>
                    <a:pt x="4327" y="9"/>
                  </a:moveTo>
                  <a:lnTo>
                    <a:pt x="4297" y="9"/>
                  </a:lnTo>
                  <a:lnTo>
                    <a:pt x="4296" y="9"/>
                  </a:lnTo>
                  <a:lnTo>
                    <a:pt x="4294" y="8"/>
                  </a:lnTo>
                  <a:lnTo>
                    <a:pt x="4293" y="6"/>
                  </a:lnTo>
                  <a:lnTo>
                    <a:pt x="4293" y="5"/>
                  </a:lnTo>
                  <a:lnTo>
                    <a:pt x="4293" y="2"/>
                  </a:lnTo>
                  <a:lnTo>
                    <a:pt x="4294" y="0"/>
                  </a:lnTo>
                  <a:lnTo>
                    <a:pt x="4296" y="0"/>
                  </a:lnTo>
                  <a:lnTo>
                    <a:pt x="4297" y="0"/>
                  </a:lnTo>
                  <a:lnTo>
                    <a:pt x="4327" y="0"/>
                  </a:lnTo>
                  <a:lnTo>
                    <a:pt x="4328" y="0"/>
                  </a:lnTo>
                  <a:lnTo>
                    <a:pt x="4330" y="0"/>
                  </a:lnTo>
                  <a:lnTo>
                    <a:pt x="4331" y="2"/>
                  </a:lnTo>
                  <a:lnTo>
                    <a:pt x="4331" y="5"/>
                  </a:lnTo>
                  <a:lnTo>
                    <a:pt x="4331" y="6"/>
                  </a:lnTo>
                  <a:lnTo>
                    <a:pt x="4330" y="8"/>
                  </a:lnTo>
                  <a:lnTo>
                    <a:pt x="4328" y="9"/>
                  </a:lnTo>
                  <a:lnTo>
                    <a:pt x="4327" y="9"/>
                  </a:lnTo>
                  <a:lnTo>
                    <a:pt x="4327" y="9"/>
                  </a:lnTo>
                  <a:close/>
                  <a:moveTo>
                    <a:pt x="4259" y="9"/>
                  </a:moveTo>
                  <a:lnTo>
                    <a:pt x="4231" y="9"/>
                  </a:lnTo>
                  <a:lnTo>
                    <a:pt x="4228" y="9"/>
                  </a:lnTo>
                  <a:lnTo>
                    <a:pt x="4227" y="8"/>
                  </a:lnTo>
                  <a:lnTo>
                    <a:pt x="4227" y="6"/>
                  </a:lnTo>
                  <a:lnTo>
                    <a:pt x="4227" y="5"/>
                  </a:lnTo>
                  <a:lnTo>
                    <a:pt x="4227" y="2"/>
                  </a:lnTo>
                  <a:lnTo>
                    <a:pt x="4227" y="0"/>
                  </a:lnTo>
                  <a:lnTo>
                    <a:pt x="4228" y="0"/>
                  </a:lnTo>
                  <a:lnTo>
                    <a:pt x="4231" y="0"/>
                  </a:lnTo>
                  <a:lnTo>
                    <a:pt x="4259" y="0"/>
                  </a:lnTo>
                  <a:lnTo>
                    <a:pt x="4262" y="0"/>
                  </a:lnTo>
                  <a:lnTo>
                    <a:pt x="4263" y="0"/>
                  </a:lnTo>
                  <a:lnTo>
                    <a:pt x="4263" y="2"/>
                  </a:lnTo>
                  <a:lnTo>
                    <a:pt x="4265" y="5"/>
                  </a:lnTo>
                  <a:lnTo>
                    <a:pt x="4263" y="6"/>
                  </a:lnTo>
                  <a:lnTo>
                    <a:pt x="4263" y="8"/>
                  </a:lnTo>
                  <a:lnTo>
                    <a:pt x="4262" y="9"/>
                  </a:lnTo>
                  <a:lnTo>
                    <a:pt x="4259" y="9"/>
                  </a:lnTo>
                  <a:lnTo>
                    <a:pt x="4259" y="9"/>
                  </a:lnTo>
                  <a:close/>
                  <a:moveTo>
                    <a:pt x="4193" y="9"/>
                  </a:moveTo>
                  <a:lnTo>
                    <a:pt x="4164" y="9"/>
                  </a:lnTo>
                  <a:lnTo>
                    <a:pt x="4162" y="9"/>
                  </a:lnTo>
                  <a:lnTo>
                    <a:pt x="4160" y="8"/>
                  </a:lnTo>
                  <a:lnTo>
                    <a:pt x="4159" y="6"/>
                  </a:lnTo>
                  <a:lnTo>
                    <a:pt x="4159" y="5"/>
                  </a:lnTo>
                  <a:lnTo>
                    <a:pt x="4159" y="2"/>
                  </a:lnTo>
                  <a:lnTo>
                    <a:pt x="4160" y="0"/>
                  </a:lnTo>
                  <a:lnTo>
                    <a:pt x="4162" y="0"/>
                  </a:lnTo>
                  <a:lnTo>
                    <a:pt x="4164" y="0"/>
                  </a:lnTo>
                  <a:lnTo>
                    <a:pt x="4193" y="0"/>
                  </a:lnTo>
                  <a:lnTo>
                    <a:pt x="4194" y="0"/>
                  </a:lnTo>
                  <a:lnTo>
                    <a:pt x="4196" y="0"/>
                  </a:lnTo>
                  <a:lnTo>
                    <a:pt x="4197" y="2"/>
                  </a:lnTo>
                  <a:lnTo>
                    <a:pt x="4197" y="5"/>
                  </a:lnTo>
                  <a:lnTo>
                    <a:pt x="4197" y="6"/>
                  </a:lnTo>
                  <a:lnTo>
                    <a:pt x="4196" y="8"/>
                  </a:lnTo>
                  <a:lnTo>
                    <a:pt x="4194" y="9"/>
                  </a:lnTo>
                  <a:lnTo>
                    <a:pt x="4193" y="9"/>
                  </a:lnTo>
                  <a:lnTo>
                    <a:pt x="4193" y="9"/>
                  </a:lnTo>
                  <a:close/>
                  <a:moveTo>
                    <a:pt x="4125" y="9"/>
                  </a:moveTo>
                  <a:lnTo>
                    <a:pt x="4096" y="9"/>
                  </a:lnTo>
                  <a:lnTo>
                    <a:pt x="4094" y="9"/>
                  </a:lnTo>
                  <a:lnTo>
                    <a:pt x="4093" y="8"/>
                  </a:lnTo>
                  <a:lnTo>
                    <a:pt x="4091" y="6"/>
                  </a:lnTo>
                  <a:lnTo>
                    <a:pt x="4091" y="5"/>
                  </a:lnTo>
                  <a:lnTo>
                    <a:pt x="4091" y="2"/>
                  </a:lnTo>
                  <a:lnTo>
                    <a:pt x="4093" y="0"/>
                  </a:lnTo>
                  <a:lnTo>
                    <a:pt x="4094" y="0"/>
                  </a:lnTo>
                  <a:lnTo>
                    <a:pt x="4096" y="0"/>
                  </a:lnTo>
                  <a:lnTo>
                    <a:pt x="4125" y="0"/>
                  </a:lnTo>
                  <a:lnTo>
                    <a:pt x="4127" y="0"/>
                  </a:lnTo>
                  <a:lnTo>
                    <a:pt x="4128" y="0"/>
                  </a:lnTo>
                  <a:lnTo>
                    <a:pt x="4130" y="2"/>
                  </a:lnTo>
                  <a:lnTo>
                    <a:pt x="4130" y="5"/>
                  </a:lnTo>
                  <a:lnTo>
                    <a:pt x="4130" y="6"/>
                  </a:lnTo>
                  <a:lnTo>
                    <a:pt x="4128" y="8"/>
                  </a:lnTo>
                  <a:lnTo>
                    <a:pt x="4127" y="9"/>
                  </a:lnTo>
                  <a:lnTo>
                    <a:pt x="4125" y="9"/>
                  </a:lnTo>
                  <a:lnTo>
                    <a:pt x="4125" y="9"/>
                  </a:lnTo>
                  <a:close/>
                  <a:moveTo>
                    <a:pt x="4057" y="9"/>
                  </a:moveTo>
                  <a:lnTo>
                    <a:pt x="4028" y="9"/>
                  </a:lnTo>
                  <a:lnTo>
                    <a:pt x="4027" y="9"/>
                  </a:lnTo>
                  <a:lnTo>
                    <a:pt x="4025" y="8"/>
                  </a:lnTo>
                  <a:lnTo>
                    <a:pt x="4024" y="6"/>
                  </a:lnTo>
                  <a:lnTo>
                    <a:pt x="4024" y="5"/>
                  </a:lnTo>
                  <a:lnTo>
                    <a:pt x="4024" y="2"/>
                  </a:lnTo>
                  <a:lnTo>
                    <a:pt x="4025" y="0"/>
                  </a:lnTo>
                  <a:lnTo>
                    <a:pt x="4027" y="0"/>
                  </a:lnTo>
                  <a:lnTo>
                    <a:pt x="4028" y="0"/>
                  </a:lnTo>
                  <a:lnTo>
                    <a:pt x="4057" y="0"/>
                  </a:lnTo>
                  <a:lnTo>
                    <a:pt x="4059" y="0"/>
                  </a:lnTo>
                  <a:lnTo>
                    <a:pt x="4060" y="0"/>
                  </a:lnTo>
                  <a:lnTo>
                    <a:pt x="4062" y="2"/>
                  </a:lnTo>
                  <a:lnTo>
                    <a:pt x="4062" y="5"/>
                  </a:lnTo>
                  <a:lnTo>
                    <a:pt x="4062" y="6"/>
                  </a:lnTo>
                  <a:lnTo>
                    <a:pt x="4060" y="8"/>
                  </a:lnTo>
                  <a:lnTo>
                    <a:pt x="4059" y="9"/>
                  </a:lnTo>
                  <a:lnTo>
                    <a:pt x="4057" y="9"/>
                  </a:lnTo>
                  <a:lnTo>
                    <a:pt x="4057" y="9"/>
                  </a:lnTo>
                  <a:close/>
                  <a:moveTo>
                    <a:pt x="3990" y="9"/>
                  </a:moveTo>
                  <a:lnTo>
                    <a:pt x="3962" y="9"/>
                  </a:lnTo>
                  <a:lnTo>
                    <a:pt x="3959" y="9"/>
                  </a:lnTo>
                  <a:lnTo>
                    <a:pt x="3957" y="8"/>
                  </a:lnTo>
                  <a:lnTo>
                    <a:pt x="3957" y="6"/>
                  </a:lnTo>
                  <a:lnTo>
                    <a:pt x="3957" y="5"/>
                  </a:lnTo>
                  <a:lnTo>
                    <a:pt x="3957" y="2"/>
                  </a:lnTo>
                  <a:lnTo>
                    <a:pt x="3957" y="0"/>
                  </a:lnTo>
                  <a:lnTo>
                    <a:pt x="3959" y="0"/>
                  </a:lnTo>
                  <a:lnTo>
                    <a:pt x="3962" y="0"/>
                  </a:lnTo>
                  <a:lnTo>
                    <a:pt x="3990" y="0"/>
                  </a:lnTo>
                  <a:lnTo>
                    <a:pt x="3993" y="0"/>
                  </a:lnTo>
                  <a:lnTo>
                    <a:pt x="3994" y="0"/>
                  </a:lnTo>
                  <a:lnTo>
                    <a:pt x="3994" y="2"/>
                  </a:lnTo>
                  <a:lnTo>
                    <a:pt x="3996" y="5"/>
                  </a:lnTo>
                  <a:lnTo>
                    <a:pt x="3994" y="6"/>
                  </a:lnTo>
                  <a:lnTo>
                    <a:pt x="3994" y="8"/>
                  </a:lnTo>
                  <a:lnTo>
                    <a:pt x="3993" y="9"/>
                  </a:lnTo>
                  <a:lnTo>
                    <a:pt x="3990" y="9"/>
                  </a:lnTo>
                  <a:lnTo>
                    <a:pt x="3990" y="9"/>
                  </a:lnTo>
                  <a:close/>
                  <a:moveTo>
                    <a:pt x="3924" y="9"/>
                  </a:moveTo>
                  <a:lnTo>
                    <a:pt x="3894" y="9"/>
                  </a:lnTo>
                  <a:lnTo>
                    <a:pt x="3893" y="9"/>
                  </a:lnTo>
                  <a:lnTo>
                    <a:pt x="3891" y="8"/>
                  </a:lnTo>
                  <a:lnTo>
                    <a:pt x="3890" y="6"/>
                  </a:lnTo>
                  <a:lnTo>
                    <a:pt x="3890" y="5"/>
                  </a:lnTo>
                  <a:lnTo>
                    <a:pt x="3890" y="2"/>
                  </a:lnTo>
                  <a:lnTo>
                    <a:pt x="3891" y="0"/>
                  </a:lnTo>
                  <a:lnTo>
                    <a:pt x="3893" y="0"/>
                  </a:lnTo>
                  <a:lnTo>
                    <a:pt x="3894" y="0"/>
                  </a:lnTo>
                  <a:lnTo>
                    <a:pt x="3924" y="0"/>
                  </a:lnTo>
                  <a:lnTo>
                    <a:pt x="3925" y="0"/>
                  </a:lnTo>
                  <a:lnTo>
                    <a:pt x="3927" y="0"/>
                  </a:lnTo>
                  <a:lnTo>
                    <a:pt x="3928" y="2"/>
                  </a:lnTo>
                  <a:lnTo>
                    <a:pt x="3928" y="5"/>
                  </a:lnTo>
                  <a:lnTo>
                    <a:pt x="3928" y="6"/>
                  </a:lnTo>
                  <a:lnTo>
                    <a:pt x="3927" y="8"/>
                  </a:lnTo>
                  <a:lnTo>
                    <a:pt x="3925" y="9"/>
                  </a:lnTo>
                  <a:lnTo>
                    <a:pt x="3924" y="9"/>
                  </a:lnTo>
                  <a:lnTo>
                    <a:pt x="3924" y="9"/>
                  </a:lnTo>
                  <a:close/>
                  <a:moveTo>
                    <a:pt x="3856" y="9"/>
                  </a:moveTo>
                  <a:lnTo>
                    <a:pt x="3827" y="9"/>
                  </a:lnTo>
                  <a:lnTo>
                    <a:pt x="3825" y="9"/>
                  </a:lnTo>
                  <a:lnTo>
                    <a:pt x="3824" y="8"/>
                  </a:lnTo>
                  <a:lnTo>
                    <a:pt x="3822" y="6"/>
                  </a:lnTo>
                  <a:lnTo>
                    <a:pt x="3822" y="5"/>
                  </a:lnTo>
                  <a:lnTo>
                    <a:pt x="3822" y="2"/>
                  </a:lnTo>
                  <a:lnTo>
                    <a:pt x="3824" y="0"/>
                  </a:lnTo>
                  <a:lnTo>
                    <a:pt x="3825" y="0"/>
                  </a:lnTo>
                  <a:lnTo>
                    <a:pt x="3827" y="0"/>
                  </a:lnTo>
                  <a:lnTo>
                    <a:pt x="3856" y="0"/>
                  </a:lnTo>
                  <a:lnTo>
                    <a:pt x="3857" y="0"/>
                  </a:lnTo>
                  <a:lnTo>
                    <a:pt x="3859" y="0"/>
                  </a:lnTo>
                  <a:lnTo>
                    <a:pt x="3860" y="2"/>
                  </a:lnTo>
                  <a:lnTo>
                    <a:pt x="3860" y="5"/>
                  </a:lnTo>
                  <a:lnTo>
                    <a:pt x="3860" y="6"/>
                  </a:lnTo>
                  <a:lnTo>
                    <a:pt x="3859" y="8"/>
                  </a:lnTo>
                  <a:lnTo>
                    <a:pt x="3857" y="9"/>
                  </a:lnTo>
                  <a:lnTo>
                    <a:pt x="3856" y="9"/>
                  </a:lnTo>
                  <a:lnTo>
                    <a:pt x="3856" y="9"/>
                  </a:lnTo>
                  <a:close/>
                  <a:moveTo>
                    <a:pt x="3788" y="9"/>
                  </a:moveTo>
                  <a:lnTo>
                    <a:pt x="3759" y="9"/>
                  </a:lnTo>
                  <a:lnTo>
                    <a:pt x="3757" y="9"/>
                  </a:lnTo>
                  <a:lnTo>
                    <a:pt x="3756" y="8"/>
                  </a:lnTo>
                  <a:lnTo>
                    <a:pt x="3754" y="6"/>
                  </a:lnTo>
                  <a:lnTo>
                    <a:pt x="3754" y="5"/>
                  </a:lnTo>
                  <a:lnTo>
                    <a:pt x="3754" y="2"/>
                  </a:lnTo>
                  <a:lnTo>
                    <a:pt x="3756" y="0"/>
                  </a:lnTo>
                  <a:lnTo>
                    <a:pt x="3757" y="0"/>
                  </a:lnTo>
                  <a:lnTo>
                    <a:pt x="3759" y="0"/>
                  </a:lnTo>
                  <a:lnTo>
                    <a:pt x="3788" y="0"/>
                  </a:lnTo>
                  <a:lnTo>
                    <a:pt x="3790" y="0"/>
                  </a:lnTo>
                  <a:lnTo>
                    <a:pt x="3791" y="0"/>
                  </a:lnTo>
                  <a:lnTo>
                    <a:pt x="3793" y="2"/>
                  </a:lnTo>
                  <a:lnTo>
                    <a:pt x="3793" y="5"/>
                  </a:lnTo>
                  <a:lnTo>
                    <a:pt x="3793" y="6"/>
                  </a:lnTo>
                  <a:lnTo>
                    <a:pt x="3791" y="8"/>
                  </a:lnTo>
                  <a:lnTo>
                    <a:pt x="3790" y="9"/>
                  </a:lnTo>
                  <a:lnTo>
                    <a:pt x="3788" y="9"/>
                  </a:lnTo>
                  <a:lnTo>
                    <a:pt x="3788" y="9"/>
                  </a:lnTo>
                  <a:close/>
                  <a:moveTo>
                    <a:pt x="3721" y="9"/>
                  </a:moveTo>
                  <a:lnTo>
                    <a:pt x="3693" y="9"/>
                  </a:lnTo>
                  <a:lnTo>
                    <a:pt x="3690" y="9"/>
                  </a:lnTo>
                  <a:lnTo>
                    <a:pt x="3688" y="8"/>
                  </a:lnTo>
                  <a:lnTo>
                    <a:pt x="3688" y="6"/>
                  </a:lnTo>
                  <a:lnTo>
                    <a:pt x="3688" y="5"/>
                  </a:lnTo>
                  <a:lnTo>
                    <a:pt x="3688" y="2"/>
                  </a:lnTo>
                  <a:lnTo>
                    <a:pt x="3688" y="0"/>
                  </a:lnTo>
                  <a:lnTo>
                    <a:pt x="3690" y="0"/>
                  </a:lnTo>
                  <a:lnTo>
                    <a:pt x="3693" y="0"/>
                  </a:lnTo>
                  <a:lnTo>
                    <a:pt x="3721" y="0"/>
                  </a:lnTo>
                  <a:lnTo>
                    <a:pt x="3724" y="0"/>
                  </a:lnTo>
                  <a:lnTo>
                    <a:pt x="3725" y="0"/>
                  </a:lnTo>
                  <a:lnTo>
                    <a:pt x="3725" y="2"/>
                  </a:lnTo>
                  <a:lnTo>
                    <a:pt x="3727" y="5"/>
                  </a:lnTo>
                  <a:lnTo>
                    <a:pt x="3725" y="6"/>
                  </a:lnTo>
                  <a:lnTo>
                    <a:pt x="3725" y="8"/>
                  </a:lnTo>
                  <a:lnTo>
                    <a:pt x="3724" y="9"/>
                  </a:lnTo>
                  <a:lnTo>
                    <a:pt x="3721" y="9"/>
                  </a:lnTo>
                  <a:lnTo>
                    <a:pt x="3721" y="9"/>
                  </a:lnTo>
                  <a:close/>
                  <a:moveTo>
                    <a:pt x="3654" y="9"/>
                  </a:moveTo>
                  <a:lnTo>
                    <a:pt x="3625" y="9"/>
                  </a:lnTo>
                  <a:lnTo>
                    <a:pt x="3624" y="9"/>
                  </a:lnTo>
                  <a:lnTo>
                    <a:pt x="3622" y="8"/>
                  </a:lnTo>
                  <a:lnTo>
                    <a:pt x="3621" y="6"/>
                  </a:lnTo>
                  <a:lnTo>
                    <a:pt x="3621" y="5"/>
                  </a:lnTo>
                  <a:lnTo>
                    <a:pt x="3621" y="2"/>
                  </a:lnTo>
                  <a:lnTo>
                    <a:pt x="3622" y="0"/>
                  </a:lnTo>
                  <a:lnTo>
                    <a:pt x="3624" y="0"/>
                  </a:lnTo>
                  <a:lnTo>
                    <a:pt x="3625" y="0"/>
                  </a:lnTo>
                  <a:lnTo>
                    <a:pt x="3654" y="0"/>
                  </a:lnTo>
                  <a:lnTo>
                    <a:pt x="3656" y="0"/>
                  </a:lnTo>
                  <a:lnTo>
                    <a:pt x="3657" y="0"/>
                  </a:lnTo>
                  <a:lnTo>
                    <a:pt x="3659" y="2"/>
                  </a:lnTo>
                  <a:lnTo>
                    <a:pt x="3659" y="5"/>
                  </a:lnTo>
                  <a:lnTo>
                    <a:pt x="3659" y="6"/>
                  </a:lnTo>
                  <a:lnTo>
                    <a:pt x="3657" y="8"/>
                  </a:lnTo>
                  <a:lnTo>
                    <a:pt x="3656" y="9"/>
                  </a:lnTo>
                  <a:lnTo>
                    <a:pt x="3654" y="9"/>
                  </a:lnTo>
                  <a:lnTo>
                    <a:pt x="3654" y="9"/>
                  </a:lnTo>
                  <a:close/>
                  <a:moveTo>
                    <a:pt x="3587" y="9"/>
                  </a:moveTo>
                  <a:lnTo>
                    <a:pt x="3557" y="9"/>
                  </a:lnTo>
                  <a:lnTo>
                    <a:pt x="3556" y="9"/>
                  </a:lnTo>
                  <a:lnTo>
                    <a:pt x="3554" y="8"/>
                  </a:lnTo>
                  <a:lnTo>
                    <a:pt x="3553" y="6"/>
                  </a:lnTo>
                  <a:lnTo>
                    <a:pt x="3553" y="5"/>
                  </a:lnTo>
                  <a:lnTo>
                    <a:pt x="3553" y="2"/>
                  </a:lnTo>
                  <a:lnTo>
                    <a:pt x="3554" y="0"/>
                  </a:lnTo>
                  <a:lnTo>
                    <a:pt x="3556" y="0"/>
                  </a:lnTo>
                  <a:lnTo>
                    <a:pt x="3557" y="0"/>
                  </a:lnTo>
                  <a:lnTo>
                    <a:pt x="3587" y="0"/>
                  </a:lnTo>
                  <a:lnTo>
                    <a:pt x="3588" y="0"/>
                  </a:lnTo>
                  <a:lnTo>
                    <a:pt x="3590" y="0"/>
                  </a:lnTo>
                  <a:lnTo>
                    <a:pt x="3591" y="2"/>
                  </a:lnTo>
                  <a:lnTo>
                    <a:pt x="3591" y="5"/>
                  </a:lnTo>
                  <a:lnTo>
                    <a:pt x="3591" y="6"/>
                  </a:lnTo>
                  <a:lnTo>
                    <a:pt x="3590" y="8"/>
                  </a:lnTo>
                  <a:lnTo>
                    <a:pt x="3588" y="9"/>
                  </a:lnTo>
                  <a:lnTo>
                    <a:pt x="3587" y="9"/>
                  </a:lnTo>
                  <a:lnTo>
                    <a:pt x="3587" y="9"/>
                  </a:lnTo>
                  <a:close/>
                  <a:moveTo>
                    <a:pt x="3519" y="9"/>
                  </a:moveTo>
                  <a:lnTo>
                    <a:pt x="3490" y="9"/>
                  </a:lnTo>
                  <a:lnTo>
                    <a:pt x="3488" y="9"/>
                  </a:lnTo>
                  <a:lnTo>
                    <a:pt x="3487" y="8"/>
                  </a:lnTo>
                  <a:lnTo>
                    <a:pt x="3485" y="6"/>
                  </a:lnTo>
                  <a:lnTo>
                    <a:pt x="3485" y="5"/>
                  </a:lnTo>
                  <a:lnTo>
                    <a:pt x="3485" y="2"/>
                  </a:lnTo>
                  <a:lnTo>
                    <a:pt x="3487" y="0"/>
                  </a:lnTo>
                  <a:lnTo>
                    <a:pt x="3488" y="0"/>
                  </a:lnTo>
                  <a:lnTo>
                    <a:pt x="3490" y="0"/>
                  </a:lnTo>
                  <a:lnTo>
                    <a:pt x="3519" y="0"/>
                  </a:lnTo>
                  <a:lnTo>
                    <a:pt x="3521" y="0"/>
                  </a:lnTo>
                  <a:lnTo>
                    <a:pt x="3522" y="0"/>
                  </a:lnTo>
                  <a:lnTo>
                    <a:pt x="3524" y="2"/>
                  </a:lnTo>
                  <a:lnTo>
                    <a:pt x="3524" y="5"/>
                  </a:lnTo>
                  <a:lnTo>
                    <a:pt x="3524" y="6"/>
                  </a:lnTo>
                  <a:lnTo>
                    <a:pt x="3522" y="8"/>
                  </a:lnTo>
                  <a:lnTo>
                    <a:pt x="3521" y="9"/>
                  </a:lnTo>
                  <a:lnTo>
                    <a:pt x="3519" y="9"/>
                  </a:lnTo>
                  <a:lnTo>
                    <a:pt x="3519" y="9"/>
                  </a:lnTo>
                  <a:close/>
                  <a:moveTo>
                    <a:pt x="3451" y="9"/>
                  </a:moveTo>
                  <a:lnTo>
                    <a:pt x="3424" y="9"/>
                  </a:lnTo>
                  <a:lnTo>
                    <a:pt x="3421" y="9"/>
                  </a:lnTo>
                  <a:lnTo>
                    <a:pt x="3419" y="8"/>
                  </a:lnTo>
                  <a:lnTo>
                    <a:pt x="3419" y="6"/>
                  </a:lnTo>
                  <a:lnTo>
                    <a:pt x="3419" y="5"/>
                  </a:lnTo>
                  <a:lnTo>
                    <a:pt x="3419" y="2"/>
                  </a:lnTo>
                  <a:lnTo>
                    <a:pt x="3419" y="0"/>
                  </a:lnTo>
                  <a:lnTo>
                    <a:pt x="3421" y="0"/>
                  </a:lnTo>
                  <a:lnTo>
                    <a:pt x="3424" y="0"/>
                  </a:lnTo>
                  <a:lnTo>
                    <a:pt x="3451" y="0"/>
                  </a:lnTo>
                  <a:lnTo>
                    <a:pt x="3454" y="0"/>
                  </a:lnTo>
                  <a:lnTo>
                    <a:pt x="3456" y="0"/>
                  </a:lnTo>
                  <a:lnTo>
                    <a:pt x="3456" y="2"/>
                  </a:lnTo>
                  <a:lnTo>
                    <a:pt x="3457" y="5"/>
                  </a:lnTo>
                  <a:lnTo>
                    <a:pt x="3456" y="6"/>
                  </a:lnTo>
                  <a:lnTo>
                    <a:pt x="3456" y="8"/>
                  </a:lnTo>
                  <a:lnTo>
                    <a:pt x="3454" y="9"/>
                  </a:lnTo>
                  <a:lnTo>
                    <a:pt x="3451" y="9"/>
                  </a:lnTo>
                  <a:lnTo>
                    <a:pt x="3451" y="9"/>
                  </a:lnTo>
                  <a:close/>
                  <a:moveTo>
                    <a:pt x="3385" y="9"/>
                  </a:moveTo>
                  <a:lnTo>
                    <a:pt x="3356" y="9"/>
                  </a:lnTo>
                  <a:lnTo>
                    <a:pt x="3354" y="9"/>
                  </a:lnTo>
                  <a:lnTo>
                    <a:pt x="3353" y="8"/>
                  </a:lnTo>
                  <a:lnTo>
                    <a:pt x="3351" y="6"/>
                  </a:lnTo>
                  <a:lnTo>
                    <a:pt x="3351" y="5"/>
                  </a:lnTo>
                  <a:lnTo>
                    <a:pt x="3351" y="2"/>
                  </a:lnTo>
                  <a:lnTo>
                    <a:pt x="3353" y="0"/>
                  </a:lnTo>
                  <a:lnTo>
                    <a:pt x="3354" y="0"/>
                  </a:lnTo>
                  <a:lnTo>
                    <a:pt x="3356" y="0"/>
                  </a:lnTo>
                  <a:lnTo>
                    <a:pt x="3385" y="0"/>
                  </a:lnTo>
                  <a:lnTo>
                    <a:pt x="3387" y="0"/>
                  </a:lnTo>
                  <a:lnTo>
                    <a:pt x="3388" y="0"/>
                  </a:lnTo>
                  <a:lnTo>
                    <a:pt x="3390" y="2"/>
                  </a:lnTo>
                  <a:lnTo>
                    <a:pt x="3390" y="5"/>
                  </a:lnTo>
                  <a:lnTo>
                    <a:pt x="3390" y="6"/>
                  </a:lnTo>
                  <a:lnTo>
                    <a:pt x="3388" y="8"/>
                  </a:lnTo>
                  <a:lnTo>
                    <a:pt x="3387" y="9"/>
                  </a:lnTo>
                  <a:lnTo>
                    <a:pt x="3385" y="9"/>
                  </a:lnTo>
                  <a:lnTo>
                    <a:pt x="3385" y="9"/>
                  </a:lnTo>
                  <a:close/>
                  <a:moveTo>
                    <a:pt x="3318" y="9"/>
                  </a:moveTo>
                  <a:lnTo>
                    <a:pt x="3288" y="9"/>
                  </a:lnTo>
                  <a:lnTo>
                    <a:pt x="3287" y="9"/>
                  </a:lnTo>
                  <a:lnTo>
                    <a:pt x="3285" y="8"/>
                  </a:lnTo>
                  <a:lnTo>
                    <a:pt x="3284" y="6"/>
                  </a:lnTo>
                  <a:lnTo>
                    <a:pt x="3284" y="5"/>
                  </a:lnTo>
                  <a:lnTo>
                    <a:pt x="3284" y="2"/>
                  </a:lnTo>
                  <a:lnTo>
                    <a:pt x="3285" y="0"/>
                  </a:lnTo>
                  <a:lnTo>
                    <a:pt x="3287" y="0"/>
                  </a:lnTo>
                  <a:lnTo>
                    <a:pt x="3288" y="0"/>
                  </a:lnTo>
                  <a:lnTo>
                    <a:pt x="3318" y="0"/>
                  </a:lnTo>
                  <a:lnTo>
                    <a:pt x="3319" y="0"/>
                  </a:lnTo>
                  <a:lnTo>
                    <a:pt x="3321" y="0"/>
                  </a:lnTo>
                  <a:lnTo>
                    <a:pt x="3322" y="2"/>
                  </a:lnTo>
                  <a:lnTo>
                    <a:pt x="3322" y="5"/>
                  </a:lnTo>
                  <a:lnTo>
                    <a:pt x="3322" y="6"/>
                  </a:lnTo>
                  <a:lnTo>
                    <a:pt x="3321" y="8"/>
                  </a:lnTo>
                  <a:lnTo>
                    <a:pt x="3319" y="9"/>
                  </a:lnTo>
                  <a:lnTo>
                    <a:pt x="3318" y="9"/>
                  </a:lnTo>
                  <a:lnTo>
                    <a:pt x="3318" y="9"/>
                  </a:lnTo>
                  <a:close/>
                  <a:moveTo>
                    <a:pt x="3250" y="9"/>
                  </a:moveTo>
                  <a:lnTo>
                    <a:pt x="3221" y="9"/>
                  </a:lnTo>
                  <a:lnTo>
                    <a:pt x="3219" y="9"/>
                  </a:lnTo>
                  <a:lnTo>
                    <a:pt x="3218" y="8"/>
                  </a:lnTo>
                  <a:lnTo>
                    <a:pt x="3216" y="6"/>
                  </a:lnTo>
                  <a:lnTo>
                    <a:pt x="3216" y="5"/>
                  </a:lnTo>
                  <a:lnTo>
                    <a:pt x="3216" y="2"/>
                  </a:lnTo>
                  <a:lnTo>
                    <a:pt x="3218" y="0"/>
                  </a:lnTo>
                  <a:lnTo>
                    <a:pt x="3219" y="0"/>
                  </a:lnTo>
                  <a:lnTo>
                    <a:pt x="3221" y="0"/>
                  </a:lnTo>
                  <a:lnTo>
                    <a:pt x="3250" y="0"/>
                  </a:lnTo>
                  <a:lnTo>
                    <a:pt x="3251" y="0"/>
                  </a:lnTo>
                  <a:lnTo>
                    <a:pt x="3253" y="0"/>
                  </a:lnTo>
                  <a:lnTo>
                    <a:pt x="3254" y="2"/>
                  </a:lnTo>
                  <a:lnTo>
                    <a:pt x="3254" y="5"/>
                  </a:lnTo>
                  <a:lnTo>
                    <a:pt x="3254" y="6"/>
                  </a:lnTo>
                  <a:lnTo>
                    <a:pt x="3253" y="8"/>
                  </a:lnTo>
                  <a:lnTo>
                    <a:pt x="3251" y="9"/>
                  </a:lnTo>
                  <a:lnTo>
                    <a:pt x="3250" y="9"/>
                  </a:lnTo>
                  <a:lnTo>
                    <a:pt x="3250" y="9"/>
                  </a:lnTo>
                  <a:close/>
                  <a:moveTo>
                    <a:pt x="3182" y="9"/>
                  </a:moveTo>
                  <a:lnTo>
                    <a:pt x="3154" y="9"/>
                  </a:lnTo>
                  <a:lnTo>
                    <a:pt x="3151" y="9"/>
                  </a:lnTo>
                  <a:lnTo>
                    <a:pt x="3150" y="8"/>
                  </a:lnTo>
                  <a:lnTo>
                    <a:pt x="3150" y="6"/>
                  </a:lnTo>
                  <a:lnTo>
                    <a:pt x="3150" y="5"/>
                  </a:lnTo>
                  <a:lnTo>
                    <a:pt x="3150" y="2"/>
                  </a:lnTo>
                  <a:lnTo>
                    <a:pt x="3150" y="0"/>
                  </a:lnTo>
                  <a:lnTo>
                    <a:pt x="3151" y="0"/>
                  </a:lnTo>
                  <a:lnTo>
                    <a:pt x="3154" y="0"/>
                  </a:lnTo>
                  <a:lnTo>
                    <a:pt x="3182" y="0"/>
                  </a:lnTo>
                  <a:lnTo>
                    <a:pt x="3185" y="0"/>
                  </a:lnTo>
                  <a:lnTo>
                    <a:pt x="3187" y="0"/>
                  </a:lnTo>
                  <a:lnTo>
                    <a:pt x="3187" y="2"/>
                  </a:lnTo>
                  <a:lnTo>
                    <a:pt x="3188" y="5"/>
                  </a:lnTo>
                  <a:lnTo>
                    <a:pt x="3187" y="6"/>
                  </a:lnTo>
                  <a:lnTo>
                    <a:pt x="3187" y="8"/>
                  </a:lnTo>
                  <a:lnTo>
                    <a:pt x="3185" y="9"/>
                  </a:lnTo>
                  <a:lnTo>
                    <a:pt x="3182" y="9"/>
                  </a:lnTo>
                  <a:lnTo>
                    <a:pt x="3182" y="9"/>
                  </a:lnTo>
                  <a:close/>
                  <a:moveTo>
                    <a:pt x="3116" y="9"/>
                  </a:moveTo>
                  <a:lnTo>
                    <a:pt x="3087" y="9"/>
                  </a:lnTo>
                  <a:lnTo>
                    <a:pt x="3085" y="9"/>
                  </a:lnTo>
                  <a:lnTo>
                    <a:pt x="3084" y="8"/>
                  </a:lnTo>
                  <a:lnTo>
                    <a:pt x="3082" y="6"/>
                  </a:lnTo>
                  <a:lnTo>
                    <a:pt x="3082" y="5"/>
                  </a:lnTo>
                  <a:lnTo>
                    <a:pt x="3082" y="2"/>
                  </a:lnTo>
                  <a:lnTo>
                    <a:pt x="3084" y="0"/>
                  </a:lnTo>
                  <a:lnTo>
                    <a:pt x="3085" y="0"/>
                  </a:lnTo>
                  <a:lnTo>
                    <a:pt x="3087" y="0"/>
                  </a:lnTo>
                  <a:lnTo>
                    <a:pt x="3116" y="0"/>
                  </a:lnTo>
                  <a:lnTo>
                    <a:pt x="3118" y="0"/>
                  </a:lnTo>
                  <a:lnTo>
                    <a:pt x="3119" y="0"/>
                  </a:lnTo>
                  <a:lnTo>
                    <a:pt x="3121" y="2"/>
                  </a:lnTo>
                  <a:lnTo>
                    <a:pt x="3121" y="5"/>
                  </a:lnTo>
                  <a:lnTo>
                    <a:pt x="3121" y="6"/>
                  </a:lnTo>
                  <a:lnTo>
                    <a:pt x="3119" y="8"/>
                  </a:lnTo>
                  <a:lnTo>
                    <a:pt x="3118" y="9"/>
                  </a:lnTo>
                  <a:lnTo>
                    <a:pt x="3116" y="9"/>
                  </a:lnTo>
                  <a:lnTo>
                    <a:pt x="3116" y="9"/>
                  </a:lnTo>
                  <a:close/>
                  <a:moveTo>
                    <a:pt x="3048" y="9"/>
                  </a:moveTo>
                  <a:lnTo>
                    <a:pt x="3019" y="9"/>
                  </a:lnTo>
                  <a:lnTo>
                    <a:pt x="3018" y="9"/>
                  </a:lnTo>
                  <a:lnTo>
                    <a:pt x="3016" y="8"/>
                  </a:lnTo>
                  <a:lnTo>
                    <a:pt x="3015" y="6"/>
                  </a:lnTo>
                  <a:lnTo>
                    <a:pt x="3015" y="5"/>
                  </a:lnTo>
                  <a:lnTo>
                    <a:pt x="3015" y="2"/>
                  </a:lnTo>
                  <a:lnTo>
                    <a:pt x="3016" y="0"/>
                  </a:lnTo>
                  <a:lnTo>
                    <a:pt x="3018" y="0"/>
                  </a:lnTo>
                  <a:lnTo>
                    <a:pt x="3019" y="0"/>
                  </a:lnTo>
                  <a:lnTo>
                    <a:pt x="3048" y="0"/>
                  </a:lnTo>
                  <a:lnTo>
                    <a:pt x="3050" y="0"/>
                  </a:lnTo>
                  <a:lnTo>
                    <a:pt x="3051" y="0"/>
                  </a:lnTo>
                  <a:lnTo>
                    <a:pt x="3053" y="2"/>
                  </a:lnTo>
                  <a:lnTo>
                    <a:pt x="3053" y="5"/>
                  </a:lnTo>
                  <a:lnTo>
                    <a:pt x="3053" y="6"/>
                  </a:lnTo>
                  <a:lnTo>
                    <a:pt x="3051" y="8"/>
                  </a:lnTo>
                  <a:lnTo>
                    <a:pt x="3050" y="9"/>
                  </a:lnTo>
                  <a:lnTo>
                    <a:pt x="3048" y="9"/>
                  </a:lnTo>
                  <a:lnTo>
                    <a:pt x="3048" y="9"/>
                  </a:lnTo>
                  <a:close/>
                  <a:moveTo>
                    <a:pt x="2981" y="9"/>
                  </a:moveTo>
                  <a:lnTo>
                    <a:pt x="2951" y="9"/>
                  </a:lnTo>
                  <a:lnTo>
                    <a:pt x="2950" y="9"/>
                  </a:lnTo>
                  <a:lnTo>
                    <a:pt x="2948" y="8"/>
                  </a:lnTo>
                  <a:lnTo>
                    <a:pt x="2947" y="6"/>
                  </a:lnTo>
                  <a:lnTo>
                    <a:pt x="2947" y="5"/>
                  </a:lnTo>
                  <a:lnTo>
                    <a:pt x="2947" y="2"/>
                  </a:lnTo>
                  <a:lnTo>
                    <a:pt x="2948" y="0"/>
                  </a:lnTo>
                  <a:lnTo>
                    <a:pt x="2950" y="0"/>
                  </a:lnTo>
                  <a:lnTo>
                    <a:pt x="2951" y="0"/>
                  </a:lnTo>
                  <a:lnTo>
                    <a:pt x="2981" y="0"/>
                  </a:lnTo>
                  <a:lnTo>
                    <a:pt x="2982" y="0"/>
                  </a:lnTo>
                  <a:lnTo>
                    <a:pt x="2984" y="0"/>
                  </a:lnTo>
                  <a:lnTo>
                    <a:pt x="2985" y="2"/>
                  </a:lnTo>
                  <a:lnTo>
                    <a:pt x="2985" y="5"/>
                  </a:lnTo>
                  <a:lnTo>
                    <a:pt x="2985" y="6"/>
                  </a:lnTo>
                  <a:lnTo>
                    <a:pt x="2984" y="8"/>
                  </a:lnTo>
                  <a:lnTo>
                    <a:pt x="2982" y="9"/>
                  </a:lnTo>
                  <a:lnTo>
                    <a:pt x="2981" y="9"/>
                  </a:lnTo>
                  <a:lnTo>
                    <a:pt x="2981" y="9"/>
                  </a:lnTo>
                  <a:close/>
                  <a:moveTo>
                    <a:pt x="2913" y="9"/>
                  </a:moveTo>
                  <a:lnTo>
                    <a:pt x="2885" y="9"/>
                  </a:lnTo>
                  <a:lnTo>
                    <a:pt x="2882" y="9"/>
                  </a:lnTo>
                  <a:lnTo>
                    <a:pt x="2881" y="8"/>
                  </a:lnTo>
                  <a:lnTo>
                    <a:pt x="2881" y="6"/>
                  </a:lnTo>
                  <a:lnTo>
                    <a:pt x="2881" y="5"/>
                  </a:lnTo>
                  <a:lnTo>
                    <a:pt x="2881" y="2"/>
                  </a:lnTo>
                  <a:lnTo>
                    <a:pt x="2881" y="0"/>
                  </a:lnTo>
                  <a:lnTo>
                    <a:pt x="2882" y="0"/>
                  </a:lnTo>
                  <a:lnTo>
                    <a:pt x="2885" y="0"/>
                  </a:lnTo>
                  <a:lnTo>
                    <a:pt x="2913" y="0"/>
                  </a:lnTo>
                  <a:lnTo>
                    <a:pt x="2916" y="0"/>
                  </a:lnTo>
                  <a:lnTo>
                    <a:pt x="2918" y="0"/>
                  </a:lnTo>
                  <a:lnTo>
                    <a:pt x="2918" y="2"/>
                  </a:lnTo>
                  <a:lnTo>
                    <a:pt x="2919" y="5"/>
                  </a:lnTo>
                  <a:lnTo>
                    <a:pt x="2918" y="6"/>
                  </a:lnTo>
                  <a:lnTo>
                    <a:pt x="2918" y="8"/>
                  </a:lnTo>
                  <a:lnTo>
                    <a:pt x="2916" y="9"/>
                  </a:lnTo>
                  <a:lnTo>
                    <a:pt x="2913" y="9"/>
                  </a:lnTo>
                  <a:lnTo>
                    <a:pt x="2913" y="9"/>
                  </a:lnTo>
                  <a:close/>
                  <a:moveTo>
                    <a:pt x="2847" y="9"/>
                  </a:moveTo>
                  <a:lnTo>
                    <a:pt x="2818" y="9"/>
                  </a:lnTo>
                  <a:lnTo>
                    <a:pt x="2816" y="9"/>
                  </a:lnTo>
                  <a:lnTo>
                    <a:pt x="2815" y="8"/>
                  </a:lnTo>
                  <a:lnTo>
                    <a:pt x="2813" y="6"/>
                  </a:lnTo>
                  <a:lnTo>
                    <a:pt x="2813" y="5"/>
                  </a:lnTo>
                  <a:lnTo>
                    <a:pt x="2813" y="2"/>
                  </a:lnTo>
                  <a:lnTo>
                    <a:pt x="2815" y="0"/>
                  </a:lnTo>
                  <a:lnTo>
                    <a:pt x="2816" y="0"/>
                  </a:lnTo>
                  <a:lnTo>
                    <a:pt x="2818" y="0"/>
                  </a:lnTo>
                  <a:lnTo>
                    <a:pt x="2847" y="0"/>
                  </a:lnTo>
                  <a:lnTo>
                    <a:pt x="2848" y="0"/>
                  </a:lnTo>
                  <a:lnTo>
                    <a:pt x="2850" y="0"/>
                  </a:lnTo>
                  <a:lnTo>
                    <a:pt x="2851" y="2"/>
                  </a:lnTo>
                  <a:lnTo>
                    <a:pt x="2851" y="5"/>
                  </a:lnTo>
                  <a:lnTo>
                    <a:pt x="2851" y="6"/>
                  </a:lnTo>
                  <a:lnTo>
                    <a:pt x="2850" y="8"/>
                  </a:lnTo>
                  <a:lnTo>
                    <a:pt x="2848" y="9"/>
                  </a:lnTo>
                  <a:lnTo>
                    <a:pt x="2847" y="9"/>
                  </a:lnTo>
                  <a:lnTo>
                    <a:pt x="2847" y="9"/>
                  </a:lnTo>
                  <a:close/>
                  <a:moveTo>
                    <a:pt x="2779" y="9"/>
                  </a:moveTo>
                  <a:lnTo>
                    <a:pt x="2750" y="9"/>
                  </a:lnTo>
                  <a:lnTo>
                    <a:pt x="2748" y="9"/>
                  </a:lnTo>
                  <a:lnTo>
                    <a:pt x="2747" y="8"/>
                  </a:lnTo>
                  <a:lnTo>
                    <a:pt x="2745" y="6"/>
                  </a:lnTo>
                  <a:lnTo>
                    <a:pt x="2745" y="5"/>
                  </a:lnTo>
                  <a:lnTo>
                    <a:pt x="2745" y="2"/>
                  </a:lnTo>
                  <a:lnTo>
                    <a:pt x="2747" y="0"/>
                  </a:lnTo>
                  <a:lnTo>
                    <a:pt x="2748" y="0"/>
                  </a:lnTo>
                  <a:lnTo>
                    <a:pt x="2750" y="0"/>
                  </a:lnTo>
                  <a:lnTo>
                    <a:pt x="2779" y="0"/>
                  </a:lnTo>
                  <a:lnTo>
                    <a:pt x="2781" y="0"/>
                  </a:lnTo>
                  <a:lnTo>
                    <a:pt x="2782" y="0"/>
                  </a:lnTo>
                  <a:lnTo>
                    <a:pt x="2784" y="2"/>
                  </a:lnTo>
                  <a:lnTo>
                    <a:pt x="2784" y="5"/>
                  </a:lnTo>
                  <a:lnTo>
                    <a:pt x="2784" y="6"/>
                  </a:lnTo>
                  <a:lnTo>
                    <a:pt x="2782" y="8"/>
                  </a:lnTo>
                  <a:lnTo>
                    <a:pt x="2781" y="9"/>
                  </a:lnTo>
                  <a:lnTo>
                    <a:pt x="2779" y="9"/>
                  </a:lnTo>
                  <a:lnTo>
                    <a:pt x="2779" y="9"/>
                  </a:lnTo>
                  <a:close/>
                  <a:moveTo>
                    <a:pt x="2711" y="9"/>
                  </a:moveTo>
                  <a:lnTo>
                    <a:pt x="2682" y="9"/>
                  </a:lnTo>
                  <a:lnTo>
                    <a:pt x="2681" y="9"/>
                  </a:lnTo>
                  <a:lnTo>
                    <a:pt x="2679" y="8"/>
                  </a:lnTo>
                  <a:lnTo>
                    <a:pt x="2678" y="6"/>
                  </a:lnTo>
                  <a:lnTo>
                    <a:pt x="2678" y="5"/>
                  </a:lnTo>
                  <a:lnTo>
                    <a:pt x="2678" y="2"/>
                  </a:lnTo>
                  <a:lnTo>
                    <a:pt x="2679" y="0"/>
                  </a:lnTo>
                  <a:lnTo>
                    <a:pt x="2681" y="0"/>
                  </a:lnTo>
                  <a:lnTo>
                    <a:pt x="2682" y="0"/>
                  </a:lnTo>
                  <a:lnTo>
                    <a:pt x="2711" y="0"/>
                  </a:lnTo>
                  <a:lnTo>
                    <a:pt x="2713" y="0"/>
                  </a:lnTo>
                  <a:lnTo>
                    <a:pt x="2715" y="0"/>
                  </a:lnTo>
                  <a:lnTo>
                    <a:pt x="2716" y="2"/>
                  </a:lnTo>
                  <a:lnTo>
                    <a:pt x="2716" y="5"/>
                  </a:lnTo>
                  <a:lnTo>
                    <a:pt x="2716" y="6"/>
                  </a:lnTo>
                  <a:lnTo>
                    <a:pt x="2715" y="8"/>
                  </a:lnTo>
                  <a:lnTo>
                    <a:pt x="2713" y="9"/>
                  </a:lnTo>
                  <a:lnTo>
                    <a:pt x="2711" y="9"/>
                  </a:lnTo>
                  <a:lnTo>
                    <a:pt x="2711" y="9"/>
                  </a:lnTo>
                  <a:close/>
                  <a:moveTo>
                    <a:pt x="2644" y="9"/>
                  </a:moveTo>
                  <a:lnTo>
                    <a:pt x="2616" y="9"/>
                  </a:lnTo>
                  <a:lnTo>
                    <a:pt x="2613" y="9"/>
                  </a:lnTo>
                  <a:lnTo>
                    <a:pt x="2612" y="8"/>
                  </a:lnTo>
                  <a:lnTo>
                    <a:pt x="2612" y="6"/>
                  </a:lnTo>
                  <a:lnTo>
                    <a:pt x="2612" y="5"/>
                  </a:lnTo>
                  <a:lnTo>
                    <a:pt x="2612" y="2"/>
                  </a:lnTo>
                  <a:lnTo>
                    <a:pt x="2612" y="0"/>
                  </a:lnTo>
                  <a:lnTo>
                    <a:pt x="2613" y="0"/>
                  </a:lnTo>
                  <a:lnTo>
                    <a:pt x="2616" y="0"/>
                  </a:lnTo>
                  <a:lnTo>
                    <a:pt x="2644" y="0"/>
                  </a:lnTo>
                  <a:lnTo>
                    <a:pt x="2647" y="0"/>
                  </a:lnTo>
                  <a:lnTo>
                    <a:pt x="2648" y="0"/>
                  </a:lnTo>
                  <a:lnTo>
                    <a:pt x="2648" y="2"/>
                  </a:lnTo>
                  <a:lnTo>
                    <a:pt x="2650" y="5"/>
                  </a:lnTo>
                  <a:lnTo>
                    <a:pt x="2648" y="6"/>
                  </a:lnTo>
                  <a:lnTo>
                    <a:pt x="2648" y="8"/>
                  </a:lnTo>
                  <a:lnTo>
                    <a:pt x="2647" y="9"/>
                  </a:lnTo>
                  <a:lnTo>
                    <a:pt x="2644" y="9"/>
                  </a:lnTo>
                  <a:lnTo>
                    <a:pt x="2644" y="9"/>
                  </a:lnTo>
                  <a:close/>
                  <a:moveTo>
                    <a:pt x="2578" y="9"/>
                  </a:moveTo>
                  <a:lnTo>
                    <a:pt x="2548" y="9"/>
                  </a:lnTo>
                  <a:lnTo>
                    <a:pt x="2547" y="9"/>
                  </a:lnTo>
                  <a:lnTo>
                    <a:pt x="2545" y="8"/>
                  </a:lnTo>
                  <a:lnTo>
                    <a:pt x="2544" y="6"/>
                  </a:lnTo>
                  <a:lnTo>
                    <a:pt x="2544" y="5"/>
                  </a:lnTo>
                  <a:lnTo>
                    <a:pt x="2544" y="2"/>
                  </a:lnTo>
                  <a:lnTo>
                    <a:pt x="2545" y="0"/>
                  </a:lnTo>
                  <a:lnTo>
                    <a:pt x="2547" y="0"/>
                  </a:lnTo>
                  <a:lnTo>
                    <a:pt x="2548" y="0"/>
                  </a:lnTo>
                  <a:lnTo>
                    <a:pt x="2578" y="0"/>
                  </a:lnTo>
                  <a:lnTo>
                    <a:pt x="2579" y="0"/>
                  </a:lnTo>
                  <a:lnTo>
                    <a:pt x="2581" y="0"/>
                  </a:lnTo>
                  <a:lnTo>
                    <a:pt x="2582" y="2"/>
                  </a:lnTo>
                  <a:lnTo>
                    <a:pt x="2582" y="5"/>
                  </a:lnTo>
                  <a:lnTo>
                    <a:pt x="2582" y="6"/>
                  </a:lnTo>
                  <a:lnTo>
                    <a:pt x="2581" y="8"/>
                  </a:lnTo>
                  <a:lnTo>
                    <a:pt x="2579" y="9"/>
                  </a:lnTo>
                  <a:lnTo>
                    <a:pt x="2578" y="9"/>
                  </a:lnTo>
                  <a:lnTo>
                    <a:pt x="2578" y="9"/>
                  </a:lnTo>
                  <a:close/>
                  <a:moveTo>
                    <a:pt x="2510" y="9"/>
                  </a:moveTo>
                  <a:lnTo>
                    <a:pt x="2481" y="9"/>
                  </a:lnTo>
                  <a:lnTo>
                    <a:pt x="2479" y="9"/>
                  </a:lnTo>
                  <a:lnTo>
                    <a:pt x="2478" y="8"/>
                  </a:lnTo>
                  <a:lnTo>
                    <a:pt x="2476" y="6"/>
                  </a:lnTo>
                  <a:lnTo>
                    <a:pt x="2476" y="5"/>
                  </a:lnTo>
                  <a:lnTo>
                    <a:pt x="2476" y="2"/>
                  </a:lnTo>
                  <a:lnTo>
                    <a:pt x="2478" y="0"/>
                  </a:lnTo>
                  <a:lnTo>
                    <a:pt x="2479" y="0"/>
                  </a:lnTo>
                  <a:lnTo>
                    <a:pt x="2481" y="0"/>
                  </a:lnTo>
                  <a:lnTo>
                    <a:pt x="2510" y="0"/>
                  </a:lnTo>
                  <a:lnTo>
                    <a:pt x="2512" y="0"/>
                  </a:lnTo>
                  <a:lnTo>
                    <a:pt x="2513" y="0"/>
                  </a:lnTo>
                  <a:lnTo>
                    <a:pt x="2515" y="2"/>
                  </a:lnTo>
                  <a:lnTo>
                    <a:pt x="2515" y="5"/>
                  </a:lnTo>
                  <a:lnTo>
                    <a:pt x="2515" y="6"/>
                  </a:lnTo>
                  <a:lnTo>
                    <a:pt x="2513" y="8"/>
                  </a:lnTo>
                  <a:lnTo>
                    <a:pt x="2512" y="9"/>
                  </a:lnTo>
                  <a:lnTo>
                    <a:pt x="2510" y="9"/>
                  </a:lnTo>
                  <a:lnTo>
                    <a:pt x="2510" y="9"/>
                  </a:lnTo>
                  <a:close/>
                  <a:moveTo>
                    <a:pt x="2442" y="9"/>
                  </a:moveTo>
                  <a:lnTo>
                    <a:pt x="2413" y="9"/>
                  </a:lnTo>
                  <a:lnTo>
                    <a:pt x="2412" y="9"/>
                  </a:lnTo>
                  <a:lnTo>
                    <a:pt x="2410" y="8"/>
                  </a:lnTo>
                  <a:lnTo>
                    <a:pt x="2408" y="6"/>
                  </a:lnTo>
                  <a:lnTo>
                    <a:pt x="2408" y="5"/>
                  </a:lnTo>
                  <a:lnTo>
                    <a:pt x="2408" y="2"/>
                  </a:lnTo>
                  <a:lnTo>
                    <a:pt x="2410" y="0"/>
                  </a:lnTo>
                  <a:lnTo>
                    <a:pt x="2412" y="0"/>
                  </a:lnTo>
                  <a:lnTo>
                    <a:pt x="2413" y="0"/>
                  </a:lnTo>
                  <a:lnTo>
                    <a:pt x="2442" y="0"/>
                  </a:lnTo>
                  <a:lnTo>
                    <a:pt x="2444" y="0"/>
                  </a:lnTo>
                  <a:lnTo>
                    <a:pt x="2445" y="0"/>
                  </a:lnTo>
                  <a:lnTo>
                    <a:pt x="2447" y="2"/>
                  </a:lnTo>
                  <a:lnTo>
                    <a:pt x="2447" y="5"/>
                  </a:lnTo>
                  <a:lnTo>
                    <a:pt x="2447" y="6"/>
                  </a:lnTo>
                  <a:lnTo>
                    <a:pt x="2445" y="8"/>
                  </a:lnTo>
                  <a:lnTo>
                    <a:pt x="2444" y="9"/>
                  </a:lnTo>
                  <a:lnTo>
                    <a:pt x="2442" y="9"/>
                  </a:lnTo>
                  <a:lnTo>
                    <a:pt x="2442" y="9"/>
                  </a:lnTo>
                  <a:close/>
                  <a:moveTo>
                    <a:pt x="2375" y="9"/>
                  </a:moveTo>
                  <a:lnTo>
                    <a:pt x="2347" y="9"/>
                  </a:lnTo>
                  <a:lnTo>
                    <a:pt x="2344" y="9"/>
                  </a:lnTo>
                  <a:lnTo>
                    <a:pt x="2342" y="8"/>
                  </a:lnTo>
                  <a:lnTo>
                    <a:pt x="2342" y="6"/>
                  </a:lnTo>
                  <a:lnTo>
                    <a:pt x="2342" y="5"/>
                  </a:lnTo>
                  <a:lnTo>
                    <a:pt x="2342" y="2"/>
                  </a:lnTo>
                  <a:lnTo>
                    <a:pt x="2342" y="0"/>
                  </a:lnTo>
                  <a:lnTo>
                    <a:pt x="2344" y="0"/>
                  </a:lnTo>
                  <a:lnTo>
                    <a:pt x="2347" y="0"/>
                  </a:lnTo>
                  <a:lnTo>
                    <a:pt x="2375" y="0"/>
                  </a:lnTo>
                  <a:lnTo>
                    <a:pt x="2378" y="0"/>
                  </a:lnTo>
                  <a:lnTo>
                    <a:pt x="2379" y="0"/>
                  </a:lnTo>
                  <a:lnTo>
                    <a:pt x="2379" y="2"/>
                  </a:lnTo>
                  <a:lnTo>
                    <a:pt x="2381" y="5"/>
                  </a:lnTo>
                  <a:lnTo>
                    <a:pt x="2379" y="6"/>
                  </a:lnTo>
                  <a:lnTo>
                    <a:pt x="2379" y="8"/>
                  </a:lnTo>
                  <a:lnTo>
                    <a:pt x="2378" y="9"/>
                  </a:lnTo>
                  <a:lnTo>
                    <a:pt x="2375" y="9"/>
                  </a:lnTo>
                  <a:lnTo>
                    <a:pt x="2375" y="9"/>
                  </a:lnTo>
                  <a:close/>
                  <a:moveTo>
                    <a:pt x="2309" y="9"/>
                  </a:moveTo>
                  <a:lnTo>
                    <a:pt x="2279" y="9"/>
                  </a:lnTo>
                  <a:lnTo>
                    <a:pt x="2278" y="9"/>
                  </a:lnTo>
                  <a:lnTo>
                    <a:pt x="2276" y="8"/>
                  </a:lnTo>
                  <a:lnTo>
                    <a:pt x="2275" y="6"/>
                  </a:lnTo>
                  <a:lnTo>
                    <a:pt x="2275" y="5"/>
                  </a:lnTo>
                  <a:lnTo>
                    <a:pt x="2275" y="2"/>
                  </a:lnTo>
                  <a:lnTo>
                    <a:pt x="2276" y="0"/>
                  </a:lnTo>
                  <a:lnTo>
                    <a:pt x="2278" y="0"/>
                  </a:lnTo>
                  <a:lnTo>
                    <a:pt x="2279" y="0"/>
                  </a:lnTo>
                  <a:lnTo>
                    <a:pt x="2309" y="0"/>
                  </a:lnTo>
                  <a:lnTo>
                    <a:pt x="2310" y="0"/>
                  </a:lnTo>
                  <a:lnTo>
                    <a:pt x="2312" y="0"/>
                  </a:lnTo>
                  <a:lnTo>
                    <a:pt x="2313" y="2"/>
                  </a:lnTo>
                  <a:lnTo>
                    <a:pt x="2313" y="5"/>
                  </a:lnTo>
                  <a:lnTo>
                    <a:pt x="2313" y="6"/>
                  </a:lnTo>
                  <a:lnTo>
                    <a:pt x="2312" y="8"/>
                  </a:lnTo>
                  <a:lnTo>
                    <a:pt x="2310" y="9"/>
                  </a:lnTo>
                  <a:lnTo>
                    <a:pt x="2309" y="9"/>
                  </a:lnTo>
                  <a:lnTo>
                    <a:pt x="2309" y="9"/>
                  </a:lnTo>
                  <a:close/>
                  <a:moveTo>
                    <a:pt x="2241" y="9"/>
                  </a:moveTo>
                  <a:lnTo>
                    <a:pt x="2212" y="9"/>
                  </a:lnTo>
                  <a:lnTo>
                    <a:pt x="2210" y="9"/>
                  </a:lnTo>
                  <a:lnTo>
                    <a:pt x="2209" y="8"/>
                  </a:lnTo>
                  <a:lnTo>
                    <a:pt x="2207" y="6"/>
                  </a:lnTo>
                  <a:lnTo>
                    <a:pt x="2207" y="5"/>
                  </a:lnTo>
                  <a:lnTo>
                    <a:pt x="2207" y="2"/>
                  </a:lnTo>
                  <a:lnTo>
                    <a:pt x="2209" y="0"/>
                  </a:lnTo>
                  <a:lnTo>
                    <a:pt x="2210" y="0"/>
                  </a:lnTo>
                  <a:lnTo>
                    <a:pt x="2212" y="0"/>
                  </a:lnTo>
                  <a:lnTo>
                    <a:pt x="2241" y="0"/>
                  </a:lnTo>
                  <a:lnTo>
                    <a:pt x="2242" y="0"/>
                  </a:lnTo>
                  <a:lnTo>
                    <a:pt x="2244" y="0"/>
                  </a:lnTo>
                  <a:lnTo>
                    <a:pt x="2245" y="2"/>
                  </a:lnTo>
                  <a:lnTo>
                    <a:pt x="2245" y="5"/>
                  </a:lnTo>
                  <a:lnTo>
                    <a:pt x="2245" y="6"/>
                  </a:lnTo>
                  <a:lnTo>
                    <a:pt x="2244" y="8"/>
                  </a:lnTo>
                  <a:lnTo>
                    <a:pt x="2242" y="9"/>
                  </a:lnTo>
                  <a:lnTo>
                    <a:pt x="2241" y="9"/>
                  </a:lnTo>
                  <a:lnTo>
                    <a:pt x="2241" y="9"/>
                  </a:lnTo>
                  <a:close/>
                  <a:moveTo>
                    <a:pt x="2173" y="9"/>
                  </a:moveTo>
                  <a:lnTo>
                    <a:pt x="2144" y="9"/>
                  </a:lnTo>
                  <a:lnTo>
                    <a:pt x="2142" y="9"/>
                  </a:lnTo>
                  <a:lnTo>
                    <a:pt x="2141" y="8"/>
                  </a:lnTo>
                  <a:lnTo>
                    <a:pt x="2139" y="6"/>
                  </a:lnTo>
                  <a:lnTo>
                    <a:pt x="2139" y="5"/>
                  </a:lnTo>
                  <a:lnTo>
                    <a:pt x="2139" y="2"/>
                  </a:lnTo>
                  <a:lnTo>
                    <a:pt x="2141" y="0"/>
                  </a:lnTo>
                  <a:lnTo>
                    <a:pt x="2142" y="0"/>
                  </a:lnTo>
                  <a:lnTo>
                    <a:pt x="2144" y="0"/>
                  </a:lnTo>
                  <a:lnTo>
                    <a:pt x="2173" y="0"/>
                  </a:lnTo>
                  <a:lnTo>
                    <a:pt x="2175" y="0"/>
                  </a:lnTo>
                  <a:lnTo>
                    <a:pt x="2176" y="0"/>
                  </a:lnTo>
                  <a:lnTo>
                    <a:pt x="2178" y="2"/>
                  </a:lnTo>
                  <a:lnTo>
                    <a:pt x="2178" y="5"/>
                  </a:lnTo>
                  <a:lnTo>
                    <a:pt x="2178" y="6"/>
                  </a:lnTo>
                  <a:lnTo>
                    <a:pt x="2176" y="8"/>
                  </a:lnTo>
                  <a:lnTo>
                    <a:pt x="2175" y="9"/>
                  </a:lnTo>
                  <a:lnTo>
                    <a:pt x="2173" y="9"/>
                  </a:lnTo>
                  <a:lnTo>
                    <a:pt x="2173" y="9"/>
                  </a:lnTo>
                  <a:close/>
                  <a:moveTo>
                    <a:pt x="2105" y="9"/>
                  </a:moveTo>
                  <a:lnTo>
                    <a:pt x="2078" y="9"/>
                  </a:lnTo>
                  <a:lnTo>
                    <a:pt x="2075" y="9"/>
                  </a:lnTo>
                  <a:lnTo>
                    <a:pt x="2073" y="8"/>
                  </a:lnTo>
                  <a:lnTo>
                    <a:pt x="2073" y="6"/>
                  </a:lnTo>
                  <a:lnTo>
                    <a:pt x="2073" y="5"/>
                  </a:lnTo>
                  <a:lnTo>
                    <a:pt x="2073" y="2"/>
                  </a:lnTo>
                  <a:lnTo>
                    <a:pt x="2073" y="0"/>
                  </a:lnTo>
                  <a:lnTo>
                    <a:pt x="2075" y="0"/>
                  </a:lnTo>
                  <a:lnTo>
                    <a:pt x="2078" y="0"/>
                  </a:lnTo>
                  <a:lnTo>
                    <a:pt x="2105" y="0"/>
                  </a:lnTo>
                  <a:lnTo>
                    <a:pt x="2109" y="0"/>
                  </a:lnTo>
                  <a:lnTo>
                    <a:pt x="2110" y="0"/>
                  </a:lnTo>
                  <a:lnTo>
                    <a:pt x="2110" y="2"/>
                  </a:lnTo>
                  <a:lnTo>
                    <a:pt x="2112" y="5"/>
                  </a:lnTo>
                  <a:lnTo>
                    <a:pt x="2110" y="6"/>
                  </a:lnTo>
                  <a:lnTo>
                    <a:pt x="2110" y="8"/>
                  </a:lnTo>
                  <a:lnTo>
                    <a:pt x="2109" y="9"/>
                  </a:lnTo>
                  <a:lnTo>
                    <a:pt x="2105" y="9"/>
                  </a:lnTo>
                  <a:lnTo>
                    <a:pt x="2105" y="9"/>
                  </a:lnTo>
                  <a:close/>
                  <a:moveTo>
                    <a:pt x="2039" y="9"/>
                  </a:moveTo>
                  <a:lnTo>
                    <a:pt x="2010" y="9"/>
                  </a:lnTo>
                  <a:lnTo>
                    <a:pt x="2009" y="9"/>
                  </a:lnTo>
                  <a:lnTo>
                    <a:pt x="2007" y="8"/>
                  </a:lnTo>
                  <a:lnTo>
                    <a:pt x="2005" y="6"/>
                  </a:lnTo>
                  <a:lnTo>
                    <a:pt x="2005" y="5"/>
                  </a:lnTo>
                  <a:lnTo>
                    <a:pt x="2005" y="2"/>
                  </a:lnTo>
                  <a:lnTo>
                    <a:pt x="2007" y="0"/>
                  </a:lnTo>
                  <a:lnTo>
                    <a:pt x="2009" y="0"/>
                  </a:lnTo>
                  <a:lnTo>
                    <a:pt x="2010" y="0"/>
                  </a:lnTo>
                  <a:lnTo>
                    <a:pt x="2039" y="0"/>
                  </a:lnTo>
                  <a:lnTo>
                    <a:pt x="2041" y="0"/>
                  </a:lnTo>
                  <a:lnTo>
                    <a:pt x="2042" y="0"/>
                  </a:lnTo>
                  <a:lnTo>
                    <a:pt x="2044" y="2"/>
                  </a:lnTo>
                  <a:lnTo>
                    <a:pt x="2044" y="5"/>
                  </a:lnTo>
                  <a:lnTo>
                    <a:pt x="2044" y="6"/>
                  </a:lnTo>
                  <a:lnTo>
                    <a:pt x="2042" y="8"/>
                  </a:lnTo>
                  <a:lnTo>
                    <a:pt x="2041" y="9"/>
                  </a:lnTo>
                  <a:lnTo>
                    <a:pt x="2039" y="9"/>
                  </a:lnTo>
                  <a:lnTo>
                    <a:pt x="2039" y="9"/>
                  </a:lnTo>
                  <a:close/>
                  <a:moveTo>
                    <a:pt x="1972" y="9"/>
                  </a:moveTo>
                  <a:lnTo>
                    <a:pt x="1942" y="9"/>
                  </a:lnTo>
                  <a:lnTo>
                    <a:pt x="1941" y="9"/>
                  </a:lnTo>
                  <a:lnTo>
                    <a:pt x="1939" y="8"/>
                  </a:lnTo>
                  <a:lnTo>
                    <a:pt x="1938" y="6"/>
                  </a:lnTo>
                  <a:lnTo>
                    <a:pt x="1938" y="5"/>
                  </a:lnTo>
                  <a:lnTo>
                    <a:pt x="1938" y="2"/>
                  </a:lnTo>
                  <a:lnTo>
                    <a:pt x="1939" y="0"/>
                  </a:lnTo>
                  <a:lnTo>
                    <a:pt x="1941" y="0"/>
                  </a:lnTo>
                  <a:lnTo>
                    <a:pt x="1942" y="0"/>
                  </a:lnTo>
                  <a:lnTo>
                    <a:pt x="1972" y="0"/>
                  </a:lnTo>
                  <a:lnTo>
                    <a:pt x="1973" y="0"/>
                  </a:lnTo>
                  <a:lnTo>
                    <a:pt x="1975" y="0"/>
                  </a:lnTo>
                  <a:lnTo>
                    <a:pt x="1976" y="2"/>
                  </a:lnTo>
                  <a:lnTo>
                    <a:pt x="1976" y="5"/>
                  </a:lnTo>
                  <a:lnTo>
                    <a:pt x="1976" y="6"/>
                  </a:lnTo>
                  <a:lnTo>
                    <a:pt x="1975" y="8"/>
                  </a:lnTo>
                  <a:lnTo>
                    <a:pt x="1973" y="9"/>
                  </a:lnTo>
                  <a:lnTo>
                    <a:pt x="1972" y="9"/>
                  </a:lnTo>
                  <a:lnTo>
                    <a:pt x="1972" y="9"/>
                  </a:lnTo>
                  <a:close/>
                  <a:moveTo>
                    <a:pt x="1904" y="9"/>
                  </a:moveTo>
                  <a:lnTo>
                    <a:pt x="1875" y="9"/>
                  </a:lnTo>
                  <a:lnTo>
                    <a:pt x="1873" y="9"/>
                  </a:lnTo>
                  <a:lnTo>
                    <a:pt x="1872" y="8"/>
                  </a:lnTo>
                  <a:lnTo>
                    <a:pt x="1870" y="6"/>
                  </a:lnTo>
                  <a:lnTo>
                    <a:pt x="1870" y="5"/>
                  </a:lnTo>
                  <a:lnTo>
                    <a:pt x="1870" y="2"/>
                  </a:lnTo>
                  <a:lnTo>
                    <a:pt x="1872" y="0"/>
                  </a:lnTo>
                  <a:lnTo>
                    <a:pt x="1873" y="0"/>
                  </a:lnTo>
                  <a:lnTo>
                    <a:pt x="1875" y="0"/>
                  </a:lnTo>
                  <a:lnTo>
                    <a:pt x="1904" y="0"/>
                  </a:lnTo>
                  <a:lnTo>
                    <a:pt x="1906" y="0"/>
                  </a:lnTo>
                  <a:lnTo>
                    <a:pt x="1907" y="0"/>
                  </a:lnTo>
                  <a:lnTo>
                    <a:pt x="1909" y="2"/>
                  </a:lnTo>
                  <a:lnTo>
                    <a:pt x="1909" y="5"/>
                  </a:lnTo>
                  <a:lnTo>
                    <a:pt x="1909" y="6"/>
                  </a:lnTo>
                  <a:lnTo>
                    <a:pt x="1907" y="8"/>
                  </a:lnTo>
                  <a:lnTo>
                    <a:pt x="1906" y="9"/>
                  </a:lnTo>
                  <a:lnTo>
                    <a:pt x="1904" y="9"/>
                  </a:lnTo>
                  <a:lnTo>
                    <a:pt x="1904" y="9"/>
                  </a:lnTo>
                  <a:close/>
                  <a:moveTo>
                    <a:pt x="1836" y="9"/>
                  </a:moveTo>
                  <a:lnTo>
                    <a:pt x="1809" y="9"/>
                  </a:lnTo>
                  <a:lnTo>
                    <a:pt x="1806" y="9"/>
                  </a:lnTo>
                  <a:lnTo>
                    <a:pt x="1804" y="8"/>
                  </a:lnTo>
                  <a:lnTo>
                    <a:pt x="1804" y="6"/>
                  </a:lnTo>
                  <a:lnTo>
                    <a:pt x="1804" y="5"/>
                  </a:lnTo>
                  <a:lnTo>
                    <a:pt x="1804" y="2"/>
                  </a:lnTo>
                  <a:lnTo>
                    <a:pt x="1804" y="0"/>
                  </a:lnTo>
                  <a:lnTo>
                    <a:pt x="1806" y="0"/>
                  </a:lnTo>
                  <a:lnTo>
                    <a:pt x="1809" y="0"/>
                  </a:lnTo>
                  <a:lnTo>
                    <a:pt x="1836" y="0"/>
                  </a:lnTo>
                  <a:lnTo>
                    <a:pt x="1839" y="0"/>
                  </a:lnTo>
                  <a:lnTo>
                    <a:pt x="1841" y="0"/>
                  </a:lnTo>
                  <a:lnTo>
                    <a:pt x="1841" y="2"/>
                  </a:lnTo>
                  <a:lnTo>
                    <a:pt x="1842" y="5"/>
                  </a:lnTo>
                  <a:lnTo>
                    <a:pt x="1841" y="6"/>
                  </a:lnTo>
                  <a:lnTo>
                    <a:pt x="1841" y="8"/>
                  </a:lnTo>
                  <a:lnTo>
                    <a:pt x="1839" y="9"/>
                  </a:lnTo>
                  <a:lnTo>
                    <a:pt x="1836" y="9"/>
                  </a:lnTo>
                  <a:lnTo>
                    <a:pt x="1836" y="9"/>
                  </a:lnTo>
                  <a:close/>
                  <a:moveTo>
                    <a:pt x="1770" y="9"/>
                  </a:moveTo>
                  <a:lnTo>
                    <a:pt x="1741" y="9"/>
                  </a:lnTo>
                  <a:lnTo>
                    <a:pt x="1739" y="9"/>
                  </a:lnTo>
                  <a:lnTo>
                    <a:pt x="1738" y="8"/>
                  </a:lnTo>
                  <a:lnTo>
                    <a:pt x="1736" y="6"/>
                  </a:lnTo>
                  <a:lnTo>
                    <a:pt x="1736" y="5"/>
                  </a:lnTo>
                  <a:lnTo>
                    <a:pt x="1736" y="2"/>
                  </a:lnTo>
                  <a:lnTo>
                    <a:pt x="1738" y="0"/>
                  </a:lnTo>
                  <a:lnTo>
                    <a:pt x="1739" y="0"/>
                  </a:lnTo>
                  <a:lnTo>
                    <a:pt x="1741" y="0"/>
                  </a:lnTo>
                  <a:lnTo>
                    <a:pt x="1770" y="0"/>
                  </a:lnTo>
                  <a:lnTo>
                    <a:pt x="1772" y="0"/>
                  </a:lnTo>
                  <a:lnTo>
                    <a:pt x="1773" y="0"/>
                  </a:lnTo>
                  <a:lnTo>
                    <a:pt x="1775" y="2"/>
                  </a:lnTo>
                  <a:lnTo>
                    <a:pt x="1775" y="5"/>
                  </a:lnTo>
                  <a:lnTo>
                    <a:pt x="1775" y="6"/>
                  </a:lnTo>
                  <a:lnTo>
                    <a:pt x="1773" y="8"/>
                  </a:lnTo>
                  <a:lnTo>
                    <a:pt x="1772" y="9"/>
                  </a:lnTo>
                  <a:lnTo>
                    <a:pt x="1770" y="9"/>
                  </a:lnTo>
                  <a:lnTo>
                    <a:pt x="1770" y="9"/>
                  </a:lnTo>
                  <a:close/>
                  <a:moveTo>
                    <a:pt x="1702" y="9"/>
                  </a:moveTo>
                  <a:lnTo>
                    <a:pt x="1673" y="9"/>
                  </a:lnTo>
                  <a:lnTo>
                    <a:pt x="1672" y="9"/>
                  </a:lnTo>
                  <a:lnTo>
                    <a:pt x="1670" y="8"/>
                  </a:lnTo>
                  <a:lnTo>
                    <a:pt x="1669" y="6"/>
                  </a:lnTo>
                  <a:lnTo>
                    <a:pt x="1669" y="5"/>
                  </a:lnTo>
                  <a:lnTo>
                    <a:pt x="1669" y="2"/>
                  </a:lnTo>
                  <a:lnTo>
                    <a:pt x="1670" y="0"/>
                  </a:lnTo>
                  <a:lnTo>
                    <a:pt x="1672" y="0"/>
                  </a:lnTo>
                  <a:lnTo>
                    <a:pt x="1673" y="0"/>
                  </a:lnTo>
                  <a:lnTo>
                    <a:pt x="1702" y="0"/>
                  </a:lnTo>
                  <a:lnTo>
                    <a:pt x="1704" y="0"/>
                  </a:lnTo>
                  <a:lnTo>
                    <a:pt x="1706" y="0"/>
                  </a:lnTo>
                  <a:lnTo>
                    <a:pt x="1707" y="2"/>
                  </a:lnTo>
                  <a:lnTo>
                    <a:pt x="1707" y="5"/>
                  </a:lnTo>
                  <a:lnTo>
                    <a:pt x="1707" y="6"/>
                  </a:lnTo>
                  <a:lnTo>
                    <a:pt x="1706" y="8"/>
                  </a:lnTo>
                  <a:lnTo>
                    <a:pt x="1704" y="9"/>
                  </a:lnTo>
                  <a:lnTo>
                    <a:pt x="1702" y="9"/>
                  </a:lnTo>
                  <a:lnTo>
                    <a:pt x="1702" y="9"/>
                  </a:lnTo>
                  <a:close/>
                  <a:moveTo>
                    <a:pt x="1635" y="9"/>
                  </a:moveTo>
                  <a:lnTo>
                    <a:pt x="1606" y="9"/>
                  </a:lnTo>
                  <a:lnTo>
                    <a:pt x="1604" y="9"/>
                  </a:lnTo>
                  <a:lnTo>
                    <a:pt x="1602" y="8"/>
                  </a:lnTo>
                  <a:lnTo>
                    <a:pt x="1601" y="6"/>
                  </a:lnTo>
                  <a:lnTo>
                    <a:pt x="1601" y="5"/>
                  </a:lnTo>
                  <a:lnTo>
                    <a:pt x="1601" y="2"/>
                  </a:lnTo>
                  <a:lnTo>
                    <a:pt x="1602" y="0"/>
                  </a:lnTo>
                  <a:lnTo>
                    <a:pt x="1604" y="0"/>
                  </a:lnTo>
                  <a:lnTo>
                    <a:pt x="1606" y="0"/>
                  </a:lnTo>
                  <a:lnTo>
                    <a:pt x="1635" y="0"/>
                  </a:lnTo>
                  <a:lnTo>
                    <a:pt x="1636" y="0"/>
                  </a:lnTo>
                  <a:lnTo>
                    <a:pt x="1638" y="0"/>
                  </a:lnTo>
                  <a:lnTo>
                    <a:pt x="1639" y="2"/>
                  </a:lnTo>
                  <a:lnTo>
                    <a:pt x="1639" y="5"/>
                  </a:lnTo>
                  <a:lnTo>
                    <a:pt x="1639" y="6"/>
                  </a:lnTo>
                  <a:lnTo>
                    <a:pt x="1638" y="8"/>
                  </a:lnTo>
                  <a:lnTo>
                    <a:pt x="1636" y="9"/>
                  </a:lnTo>
                  <a:lnTo>
                    <a:pt x="1635" y="9"/>
                  </a:lnTo>
                  <a:lnTo>
                    <a:pt x="1635" y="9"/>
                  </a:lnTo>
                  <a:close/>
                  <a:moveTo>
                    <a:pt x="1567" y="9"/>
                  </a:moveTo>
                  <a:lnTo>
                    <a:pt x="1539" y="9"/>
                  </a:lnTo>
                  <a:lnTo>
                    <a:pt x="1536" y="9"/>
                  </a:lnTo>
                  <a:lnTo>
                    <a:pt x="1535" y="8"/>
                  </a:lnTo>
                  <a:lnTo>
                    <a:pt x="1535" y="6"/>
                  </a:lnTo>
                  <a:lnTo>
                    <a:pt x="1535" y="5"/>
                  </a:lnTo>
                  <a:lnTo>
                    <a:pt x="1535" y="2"/>
                  </a:lnTo>
                  <a:lnTo>
                    <a:pt x="1535" y="0"/>
                  </a:lnTo>
                  <a:lnTo>
                    <a:pt x="1536" y="0"/>
                  </a:lnTo>
                  <a:lnTo>
                    <a:pt x="1539" y="0"/>
                  </a:lnTo>
                  <a:lnTo>
                    <a:pt x="1567" y="0"/>
                  </a:lnTo>
                  <a:lnTo>
                    <a:pt x="1570" y="0"/>
                  </a:lnTo>
                  <a:lnTo>
                    <a:pt x="1572" y="0"/>
                  </a:lnTo>
                  <a:lnTo>
                    <a:pt x="1572" y="2"/>
                  </a:lnTo>
                  <a:lnTo>
                    <a:pt x="1573" y="5"/>
                  </a:lnTo>
                  <a:lnTo>
                    <a:pt x="1572" y="6"/>
                  </a:lnTo>
                  <a:lnTo>
                    <a:pt x="1572" y="8"/>
                  </a:lnTo>
                  <a:lnTo>
                    <a:pt x="1570" y="9"/>
                  </a:lnTo>
                  <a:lnTo>
                    <a:pt x="1567" y="9"/>
                  </a:lnTo>
                  <a:lnTo>
                    <a:pt x="1567" y="9"/>
                  </a:lnTo>
                  <a:close/>
                  <a:moveTo>
                    <a:pt x="1501" y="9"/>
                  </a:moveTo>
                  <a:lnTo>
                    <a:pt x="1472" y="9"/>
                  </a:lnTo>
                  <a:lnTo>
                    <a:pt x="1470" y="9"/>
                  </a:lnTo>
                  <a:lnTo>
                    <a:pt x="1469" y="8"/>
                  </a:lnTo>
                  <a:lnTo>
                    <a:pt x="1467" y="6"/>
                  </a:lnTo>
                  <a:lnTo>
                    <a:pt x="1467" y="5"/>
                  </a:lnTo>
                  <a:lnTo>
                    <a:pt x="1467" y="2"/>
                  </a:lnTo>
                  <a:lnTo>
                    <a:pt x="1469" y="0"/>
                  </a:lnTo>
                  <a:lnTo>
                    <a:pt x="1470" y="0"/>
                  </a:lnTo>
                  <a:lnTo>
                    <a:pt x="1472" y="0"/>
                  </a:lnTo>
                  <a:lnTo>
                    <a:pt x="1501" y="0"/>
                  </a:lnTo>
                  <a:lnTo>
                    <a:pt x="1503" y="0"/>
                  </a:lnTo>
                  <a:lnTo>
                    <a:pt x="1504" y="0"/>
                  </a:lnTo>
                  <a:lnTo>
                    <a:pt x="1506" y="2"/>
                  </a:lnTo>
                  <a:lnTo>
                    <a:pt x="1506" y="5"/>
                  </a:lnTo>
                  <a:lnTo>
                    <a:pt x="1506" y="6"/>
                  </a:lnTo>
                  <a:lnTo>
                    <a:pt x="1504" y="8"/>
                  </a:lnTo>
                  <a:lnTo>
                    <a:pt x="1503" y="9"/>
                  </a:lnTo>
                  <a:lnTo>
                    <a:pt x="1501" y="9"/>
                  </a:lnTo>
                  <a:lnTo>
                    <a:pt x="1501" y="9"/>
                  </a:lnTo>
                  <a:close/>
                  <a:moveTo>
                    <a:pt x="1433" y="9"/>
                  </a:moveTo>
                  <a:lnTo>
                    <a:pt x="1404" y="9"/>
                  </a:lnTo>
                  <a:lnTo>
                    <a:pt x="1403" y="9"/>
                  </a:lnTo>
                  <a:lnTo>
                    <a:pt x="1401" y="8"/>
                  </a:lnTo>
                  <a:lnTo>
                    <a:pt x="1399" y="6"/>
                  </a:lnTo>
                  <a:lnTo>
                    <a:pt x="1399" y="5"/>
                  </a:lnTo>
                  <a:lnTo>
                    <a:pt x="1399" y="2"/>
                  </a:lnTo>
                  <a:lnTo>
                    <a:pt x="1401" y="0"/>
                  </a:lnTo>
                  <a:lnTo>
                    <a:pt x="1403" y="0"/>
                  </a:lnTo>
                  <a:lnTo>
                    <a:pt x="1404" y="0"/>
                  </a:lnTo>
                  <a:lnTo>
                    <a:pt x="1433" y="0"/>
                  </a:lnTo>
                  <a:lnTo>
                    <a:pt x="1435" y="0"/>
                  </a:lnTo>
                  <a:lnTo>
                    <a:pt x="1436" y="0"/>
                  </a:lnTo>
                  <a:lnTo>
                    <a:pt x="1438" y="2"/>
                  </a:lnTo>
                  <a:lnTo>
                    <a:pt x="1438" y="5"/>
                  </a:lnTo>
                  <a:lnTo>
                    <a:pt x="1438" y="6"/>
                  </a:lnTo>
                  <a:lnTo>
                    <a:pt x="1436" y="8"/>
                  </a:lnTo>
                  <a:lnTo>
                    <a:pt x="1435" y="9"/>
                  </a:lnTo>
                  <a:lnTo>
                    <a:pt x="1433" y="9"/>
                  </a:lnTo>
                  <a:lnTo>
                    <a:pt x="1433" y="9"/>
                  </a:lnTo>
                  <a:close/>
                  <a:moveTo>
                    <a:pt x="1366" y="9"/>
                  </a:moveTo>
                  <a:lnTo>
                    <a:pt x="1336" y="9"/>
                  </a:lnTo>
                  <a:lnTo>
                    <a:pt x="1335" y="9"/>
                  </a:lnTo>
                  <a:lnTo>
                    <a:pt x="1333" y="8"/>
                  </a:lnTo>
                  <a:lnTo>
                    <a:pt x="1332" y="6"/>
                  </a:lnTo>
                  <a:lnTo>
                    <a:pt x="1332" y="5"/>
                  </a:lnTo>
                  <a:lnTo>
                    <a:pt x="1332" y="2"/>
                  </a:lnTo>
                  <a:lnTo>
                    <a:pt x="1333" y="0"/>
                  </a:lnTo>
                  <a:lnTo>
                    <a:pt x="1335" y="0"/>
                  </a:lnTo>
                  <a:lnTo>
                    <a:pt x="1336" y="0"/>
                  </a:lnTo>
                  <a:lnTo>
                    <a:pt x="1366" y="0"/>
                  </a:lnTo>
                  <a:lnTo>
                    <a:pt x="1367" y="0"/>
                  </a:lnTo>
                  <a:lnTo>
                    <a:pt x="1369" y="0"/>
                  </a:lnTo>
                  <a:lnTo>
                    <a:pt x="1370" y="2"/>
                  </a:lnTo>
                  <a:lnTo>
                    <a:pt x="1370" y="5"/>
                  </a:lnTo>
                  <a:lnTo>
                    <a:pt x="1370" y="6"/>
                  </a:lnTo>
                  <a:lnTo>
                    <a:pt x="1369" y="8"/>
                  </a:lnTo>
                  <a:lnTo>
                    <a:pt x="1367" y="9"/>
                  </a:lnTo>
                  <a:lnTo>
                    <a:pt x="1366" y="9"/>
                  </a:lnTo>
                  <a:lnTo>
                    <a:pt x="1366" y="9"/>
                  </a:lnTo>
                  <a:close/>
                  <a:moveTo>
                    <a:pt x="1298" y="9"/>
                  </a:moveTo>
                  <a:lnTo>
                    <a:pt x="1270" y="9"/>
                  </a:lnTo>
                  <a:lnTo>
                    <a:pt x="1267" y="9"/>
                  </a:lnTo>
                  <a:lnTo>
                    <a:pt x="1266" y="8"/>
                  </a:lnTo>
                  <a:lnTo>
                    <a:pt x="1266" y="6"/>
                  </a:lnTo>
                  <a:lnTo>
                    <a:pt x="1266" y="5"/>
                  </a:lnTo>
                  <a:lnTo>
                    <a:pt x="1266" y="2"/>
                  </a:lnTo>
                  <a:lnTo>
                    <a:pt x="1266" y="0"/>
                  </a:lnTo>
                  <a:lnTo>
                    <a:pt x="1267" y="0"/>
                  </a:lnTo>
                  <a:lnTo>
                    <a:pt x="1270" y="0"/>
                  </a:lnTo>
                  <a:lnTo>
                    <a:pt x="1298" y="0"/>
                  </a:lnTo>
                  <a:lnTo>
                    <a:pt x="1301" y="0"/>
                  </a:lnTo>
                  <a:lnTo>
                    <a:pt x="1303" y="0"/>
                  </a:lnTo>
                  <a:lnTo>
                    <a:pt x="1303" y="2"/>
                  </a:lnTo>
                  <a:lnTo>
                    <a:pt x="1304" y="5"/>
                  </a:lnTo>
                  <a:lnTo>
                    <a:pt x="1303" y="6"/>
                  </a:lnTo>
                  <a:lnTo>
                    <a:pt x="1303" y="8"/>
                  </a:lnTo>
                  <a:lnTo>
                    <a:pt x="1301" y="9"/>
                  </a:lnTo>
                  <a:lnTo>
                    <a:pt x="1298" y="9"/>
                  </a:lnTo>
                  <a:lnTo>
                    <a:pt x="1298" y="9"/>
                  </a:lnTo>
                  <a:close/>
                  <a:moveTo>
                    <a:pt x="1232" y="9"/>
                  </a:moveTo>
                  <a:lnTo>
                    <a:pt x="1203" y="9"/>
                  </a:lnTo>
                  <a:lnTo>
                    <a:pt x="1201" y="9"/>
                  </a:lnTo>
                  <a:lnTo>
                    <a:pt x="1200" y="8"/>
                  </a:lnTo>
                  <a:lnTo>
                    <a:pt x="1198" y="6"/>
                  </a:lnTo>
                  <a:lnTo>
                    <a:pt x="1198" y="5"/>
                  </a:lnTo>
                  <a:lnTo>
                    <a:pt x="1198" y="2"/>
                  </a:lnTo>
                  <a:lnTo>
                    <a:pt x="1200" y="0"/>
                  </a:lnTo>
                  <a:lnTo>
                    <a:pt x="1201" y="0"/>
                  </a:lnTo>
                  <a:lnTo>
                    <a:pt x="1203" y="0"/>
                  </a:lnTo>
                  <a:lnTo>
                    <a:pt x="1232" y="0"/>
                  </a:lnTo>
                  <a:lnTo>
                    <a:pt x="1233" y="0"/>
                  </a:lnTo>
                  <a:lnTo>
                    <a:pt x="1235" y="0"/>
                  </a:lnTo>
                  <a:lnTo>
                    <a:pt x="1236" y="2"/>
                  </a:lnTo>
                  <a:lnTo>
                    <a:pt x="1236" y="5"/>
                  </a:lnTo>
                  <a:lnTo>
                    <a:pt x="1236" y="6"/>
                  </a:lnTo>
                  <a:lnTo>
                    <a:pt x="1235" y="8"/>
                  </a:lnTo>
                  <a:lnTo>
                    <a:pt x="1233" y="9"/>
                  </a:lnTo>
                  <a:lnTo>
                    <a:pt x="1232" y="9"/>
                  </a:lnTo>
                  <a:lnTo>
                    <a:pt x="1232" y="9"/>
                  </a:lnTo>
                  <a:close/>
                  <a:moveTo>
                    <a:pt x="1164" y="9"/>
                  </a:moveTo>
                  <a:lnTo>
                    <a:pt x="1135" y="9"/>
                  </a:lnTo>
                  <a:lnTo>
                    <a:pt x="1133" y="9"/>
                  </a:lnTo>
                  <a:lnTo>
                    <a:pt x="1132" y="8"/>
                  </a:lnTo>
                  <a:lnTo>
                    <a:pt x="1130" y="6"/>
                  </a:lnTo>
                  <a:lnTo>
                    <a:pt x="1130" y="5"/>
                  </a:lnTo>
                  <a:lnTo>
                    <a:pt x="1130" y="2"/>
                  </a:lnTo>
                  <a:lnTo>
                    <a:pt x="1132" y="0"/>
                  </a:lnTo>
                  <a:lnTo>
                    <a:pt x="1133" y="0"/>
                  </a:lnTo>
                  <a:lnTo>
                    <a:pt x="1135" y="0"/>
                  </a:lnTo>
                  <a:lnTo>
                    <a:pt x="1164" y="0"/>
                  </a:lnTo>
                  <a:lnTo>
                    <a:pt x="1166" y="0"/>
                  </a:lnTo>
                  <a:lnTo>
                    <a:pt x="1167" y="0"/>
                  </a:lnTo>
                  <a:lnTo>
                    <a:pt x="1169" y="2"/>
                  </a:lnTo>
                  <a:lnTo>
                    <a:pt x="1169" y="5"/>
                  </a:lnTo>
                  <a:lnTo>
                    <a:pt x="1169" y="6"/>
                  </a:lnTo>
                  <a:lnTo>
                    <a:pt x="1167" y="8"/>
                  </a:lnTo>
                  <a:lnTo>
                    <a:pt x="1166" y="9"/>
                  </a:lnTo>
                  <a:lnTo>
                    <a:pt x="1164" y="9"/>
                  </a:lnTo>
                  <a:lnTo>
                    <a:pt x="1164" y="9"/>
                  </a:lnTo>
                  <a:close/>
                  <a:moveTo>
                    <a:pt x="1096" y="9"/>
                  </a:moveTo>
                  <a:lnTo>
                    <a:pt x="1067" y="9"/>
                  </a:lnTo>
                  <a:lnTo>
                    <a:pt x="1066" y="9"/>
                  </a:lnTo>
                  <a:lnTo>
                    <a:pt x="1064" y="8"/>
                  </a:lnTo>
                  <a:lnTo>
                    <a:pt x="1063" y="6"/>
                  </a:lnTo>
                  <a:lnTo>
                    <a:pt x="1063" y="5"/>
                  </a:lnTo>
                  <a:lnTo>
                    <a:pt x="1063" y="2"/>
                  </a:lnTo>
                  <a:lnTo>
                    <a:pt x="1064" y="0"/>
                  </a:lnTo>
                  <a:lnTo>
                    <a:pt x="1066" y="0"/>
                  </a:lnTo>
                  <a:lnTo>
                    <a:pt x="1067" y="0"/>
                  </a:lnTo>
                  <a:lnTo>
                    <a:pt x="1096" y="0"/>
                  </a:lnTo>
                  <a:lnTo>
                    <a:pt x="1098" y="0"/>
                  </a:lnTo>
                  <a:lnTo>
                    <a:pt x="1100" y="0"/>
                  </a:lnTo>
                  <a:lnTo>
                    <a:pt x="1101" y="2"/>
                  </a:lnTo>
                  <a:lnTo>
                    <a:pt x="1101" y="5"/>
                  </a:lnTo>
                  <a:lnTo>
                    <a:pt x="1101" y="6"/>
                  </a:lnTo>
                  <a:lnTo>
                    <a:pt x="1100" y="8"/>
                  </a:lnTo>
                  <a:lnTo>
                    <a:pt x="1098" y="9"/>
                  </a:lnTo>
                  <a:lnTo>
                    <a:pt x="1096" y="9"/>
                  </a:lnTo>
                  <a:lnTo>
                    <a:pt x="1096" y="9"/>
                  </a:lnTo>
                  <a:close/>
                  <a:moveTo>
                    <a:pt x="1029" y="9"/>
                  </a:moveTo>
                  <a:lnTo>
                    <a:pt x="1001" y="9"/>
                  </a:lnTo>
                  <a:lnTo>
                    <a:pt x="998" y="9"/>
                  </a:lnTo>
                  <a:lnTo>
                    <a:pt x="996" y="8"/>
                  </a:lnTo>
                  <a:lnTo>
                    <a:pt x="996" y="6"/>
                  </a:lnTo>
                  <a:lnTo>
                    <a:pt x="996" y="5"/>
                  </a:lnTo>
                  <a:lnTo>
                    <a:pt x="996" y="2"/>
                  </a:lnTo>
                  <a:lnTo>
                    <a:pt x="996" y="0"/>
                  </a:lnTo>
                  <a:lnTo>
                    <a:pt x="998" y="0"/>
                  </a:lnTo>
                  <a:lnTo>
                    <a:pt x="1001" y="0"/>
                  </a:lnTo>
                  <a:lnTo>
                    <a:pt x="1029" y="0"/>
                  </a:lnTo>
                  <a:lnTo>
                    <a:pt x="1032" y="0"/>
                  </a:lnTo>
                  <a:lnTo>
                    <a:pt x="1033" y="0"/>
                  </a:lnTo>
                  <a:lnTo>
                    <a:pt x="1033" y="2"/>
                  </a:lnTo>
                  <a:lnTo>
                    <a:pt x="1035" y="5"/>
                  </a:lnTo>
                  <a:lnTo>
                    <a:pt x="1033" y="6"/>
                  </a:lnTo>
                  <a:lnTo>
                    <a:pt x="1033" y="8"/>
                  </a:lnTo>
                  <a:lnTo>
                    <a:pt x="1032" y="9"/>
                  </a:lnTo>
                  <a:lnTo>
                    <a:pt x="1029" y="9"/>
                  </a:lnTo>
                  <a:lnTo>
                    <a:pt x="1029" y="9"/>
                  </a:lnTo>
                  <a:close/>
                  <a:moveTo>
                    <a:pt x="963" y="9"/>
                  </a:moveTo>
                  <a:lnTo>
                    <a:pt x="933" y="9"/>
                  </a:lnTo>
                  <a:lnTo>
                    <a:pt x="932" y="9"/>
                  </a:lnTo>
                  <a:lnTo>
                    <a:pt x="930" y="8"/>
                  </a:lnTo>
                  <a:lnTo>
                    <a:pt x="929" y="6"/>
                  </a:lnTo>
                  <a:lnTo>
                    <a:pt x="929" y="5"/>
                  </a:lnTo>
                  <a:lnTo>
                    <a:pt x="929" y="2"/>
                  </a:lnTo>
                  <a:lnTo>
                    <a:pt x="930" y="0"/>
                  </a:lnTo>
                  <a:lnTo>
                    <a:pt x="932" y="0"/>
                  </a:lnTo>
                  <a:lnTo>
                    <a:pt x="933" y="0"/>
                  </a:lnTo>
                  <a:lnTo>
                    <a:pt x="963" y="0"/>
                  </a:lnTo>
                  <a:lnTo>
                    <a:pt x="964" y="0"/>
                  </a:lnTo>
                  <a:lnTo>
                    <a:pt x="966" y="0"/>
                  </a:lnTo>
                  <a:lnTo>
                    <a:pt x="967" y="2"/>
                  </a:lnTo>
                  <a:lnTo>
                    <a:pt x="967" y="5"/>
                  </a:lnTo>
                  <a:lnTo>
                    <a:pt x="967" y="6"/>
                  </a:lnTo>
                  <a:lnTo>
                    <a:pt x="966" y="8"/>
                  </a:lnTo>
                  <a:lnTo>
                    <a:pt x="964" y="9"/>
                  </a:lnTo>
                  <a:lnTo>
                    <a:pt x="963" y="9"/>
                  </a:lnTo>
                  <a:lnTo>
                    <a:pt x="963" y="9"/>
                  </a:lnTo>
                  <a:close/>
                  <a:moveTo>
                    <a:pt x="895" y="9"/>
                  </a:moveTo>
                  <a:lnTo>
                    <a:pt x="866" y="9"/>
                  </a:lnTo>
                  <a:lnTo>
                    <a:pt x="864" y="9"/>
                  </a:lnTo>
                  <a:lnTo>
                    <a:pt x="863" y="8"/>
                  </a:lnTo>
                  <a:lnTo>
                    <a:pt x="861" y="6"/>
                  </a:lnTo>
                  <a:lnTo>
                    <a:pt x="861" y="5"/>
                  </a:lnTo>
                  <a:lnTo>
                    <a:pt x="861" y="2"/>
                  </a:lnTo>
                  <a:lnTo>
                    <a:pt x="863" y="0"/>
                  </a:lnTo>
                  <a:lnTo>
                    <a:pt x="864" y="0"/>
                  </a:lnTo>
                  <a:lnTo>
                    <a:pt x="866" y="0"/>
                  </a:lnTo>
                  <a:lnTo>
                    <a:pt x="895" y="0"/>
                  </a:lnTo>
                  <a:lnTo>
                    <a:pt x="896" y="0"/>
                  </a:lnTo>
                  <a:lnTo>
                    <a:pt x="898" y="0"/>
                  </a:lnTo>
                  <a:lnTo>
                    <a:pt x="900" y="2"/>
                  </a:lnTo>
                  <a:lnTo>
                    <a:pt x="900" y="5"/>
                  </a:lnTo>
                  <a:lnTo>
                    <a:pt x="900" y="6"/>
                  </a:lnTo>
                  <a:lnTo>
                    <a:pt x="898" y="8"/>
                  </a:lnTo>
                  <a:lnTo>
                    <a:pt x="896" y="9"/>
                  </a:lnTo>
                  <a:lnTo>
                    <a:pt x="895" y="9"/>
                  </a:lnTo>
                  <a:lnTo>
                    <a:pt x="895" y="9"/>
                  </a:lnTo>
                  <a:close/>
                  <a:moveTo>
                    <a:pt x="827" y="9"/>
                  </a:moveTo>
                  <a:lnTo>
                    <a:pt x="798" y="9"/>
                  </a:lnTo>
                  <a:lnTo>
                    <a:pt x="797" y="9"/>
                  </a:lnTo>
                  <a:lnTo>
                    <a:pt x="795" y="8"/>
                  </a:lnTo>
                  <a:lnTo>
                    <a:pt x="793" y="6"/>
                  </a:lnTo>
                  <a:lnTo>
                    <a:pt x="793" y="5"/>
                  </a:lnTo>
                  <a:lnTo>
                    <a:pt x="793" y="2"/>
                  </a:lnTo>
                  <a:lnTo>
                    <a:pt x="795" y="0"/>
                  </a:lnTo>
                  <a:lnTo>
                    <a:pt x="797" y="0"/>
                  </a:lnTo>
                  <a:lnTo>
                    <a:pt x="798" y="0"/>
                  </a:lnTo>
                  <a:lnTo>
                    <a:pt x="827" y="0"/>
                  </a:lnTo>
                  <a:lnTo>
                    <a:pt x="829" y="0"/>
                  </a:lnTo>
                  <a:lnTo>
                    <a:pt x="830" y="0"/>
                  </a:lnTo>
                  <a:lnTo>
                    <a:pt x="832" y="2"/>
                  </a:lnTo>
                  <a:lnTo>
                    <a:pt x="832" y="5"/>
                  </a:lnTo>
                  <a:lnTo>
                    <a:pt x="832" y="6"/>
                  </a:lnTo>
                  <a:lnTo>
                    <a:pt x="830" y="8"/>
                  </a:lnTo>
                  <a:lnTo>
                    <a:pt x="829" y="9"/>
                  </a:lnTo>
                  <a:lnTo>
                    <a:pt x="827" y="9"/>
                  </a:lnTo>
                  <a:lnTo>
                    <a:pt x="827" y="9"/>
                  </a:lnTo>
                  <a:close/>
                  <a:moveTo>
                    <a:pt x="760" y="9"/>
                  </a:moveTo>
                  <a:lnTo>
                    <a:pt x="732" y="9"/>
                  </a:lnTo>
                  <a:lnTo>
                    <a:pt x="729" y="9"/>
                  </a:lnTo>
                  <a:lnTo>
                    <a:pt x="727" y="8"/>
                  </a:lnTo>
                  <a:lnTo>
                    <a:pt x="727" y="6"/>
                  </a:lnTo>
                  <a:lnTo>
                    <a:pt x="727" y="5"/>
                  </a:lnTo>
                  <a:lnTo>
                    <a:pt x="727" y="2"/>
                  </a:lnTo>
                  <a:lnTo>
                    <a:pt x="727" y="0"/>
                  </a:lnTo>
                  <a:lnTo>
                    <a:pt x="729" y="0"/>
                  </a:lnTo>
                  <a:lnTo>
                    <a:pt x="732" y="0"/>
                  </a:lnTo>
                  <a:lnTo>
                    <a:pt x="760" y="0"/>
                  </a:lnTo>
                  <a:lnTo>
                    <a:pt x="763" y="0"/>
                  </a:lnTo>
                  <a:lnTo>
                    <a:pt x="764" y="0"/>
                  </a:lnTo>
                  <a:lnTo>
                    <a:pt x="764" y="2"/>
                  </a:lnTo>
                  <a:lnTo>
                    <a:pt x="766" y="5"/>
                  </a:lnTo>
                  <a:lnTo>
                    <a:pt x="764" y="6"/>
                  </a:lnTo>
                  <a:lnTo>
                    <a:pt x="764" y="8"/>
                  </a:lnTo>
                  <a:lnTo>
                    <a:pt x="763" y="9"/>
                  </a:lnTo>
                  <a:lnTo>
                    <a:pt x="760" y="9"/>
                  </a:lnTo>
                  <a:lnTo>
                    <a:pt x="760" y="9"/>
                  </a:lnTo>
                  <a:close/>
                  <a:moveTo>
                    <a:pt x="693" y="9"/>
                  </a:moveTo>
                  <a:lnTo>
                    <a:pt x="664" y="9"/>
                  </a:lnTo>
                  <a:lnTo>
                    <a:pt x="663" y="9"/>
                  </a:lnTo>
                  <a:lnTo>
                    <a:pt x="661" y="8"/>
                  </a:lnTo>
                  <a:lnTo>
                    <a:pt x="660" y="6"/>
                  </a:lnTo>
                  <a:lnTo>
                    <a:pt x="660" y="5"/>
                  </a:lnTo>
                  <a:lnTo>
                    <a:pt x="660" y="2"/>
                  </a:lnTo>
                  <a:lnTo>
                    <a:pt x="661" y="0"/>
                  </a:lnTo>
                  <a:lnTo>
                    <a:pt x="663" y="0"/>
                  </a:lnTo>
                  <a:lnTo>
                    <a:pt x="664" y="0"/>
                  </a:lnTo>
                  <a:lnTo>
                    <a:pt x="693" y="0"/>
                  </a:lnTo>
                  <a:lnTo>
                    <a:pt x="695" y="0"/>
                  </a:lnTo>
                  <a:lnTo>
                    <a:pt x="697" y="0"/>
                  </a:lnTo>
                  <a:lnTo>
                    <a:pt x="698" y="2"/>
                  </a:lnTo>
                  <a:lnTo>
                    <a:pt x="698" y="5"/>
                  </a:lnTo>
                  <a:lnTo>
                    <a:pt x="698" y="6"/>
                  </a:lnTo>
                  <a:lnTo>
                    <a:pt x="697" y="8"/>
                  </a:lnTo>
                  <a:lnTo>
                    <a:pt x="695" y="9"/>
                  </a:lnTo>
                  <a:lnTo>
                    <a:pt x="693" y="9"/>
                  </a:lnTo>
                  <a:lnTo>
                    <a:pt x="693" y="9"/>
                  </a:lnTo>
                  <a:close/>
                  <a:moveTo>
                    <a:pt x="626" y="9"/>
                  </a:moveTo>
                  <a:lnTo>
                    <a:pt x="597" y="9"/>
                  </a:lnTo>
                  <a:lnTo>
                    <a:pt x="595" y="9"/>
                  </a:lnTo>
                  <a:lnTo>
                    <a:pt x="593" y="8"/>
                  </a:lnTo>
                  <a:lnTo>
                    <a:pt x="592" y="6"/>
                  </a:lnTo>
                  <a:lnTo>
                    <a:pt x="592" y="5"/>
                  </a:lnTo>
                  <a:lnTo>
                    <a:pt x="592" y="2"/>
                  </a:lnTo>
                  <a:lnTo>
                    <a:pt x="593" y="0"/>
                  </a:lnTo>
                  <a:lnTo>
                    <a:pt x="595" y="0"/>
                  </a:lnTo>
                  <a:lnTo>
                    <a:pt x="597" y="0"/>
                  </a:lnTo>
                  <a:lnTo>
                    <a:pt x="626" y="0"/>
                  </a:lnTo>
                  <a:lnTo>
                    <a:pt x="627" y="0"/>
                  </a:lnTo>
                  <a:lnTo>
                    <a:pt x="629" y="0"/>
                  </a:lnTo>
                  <a:lnTo>
                    <a:pt x="630" y="2"/>
                  </a:lnTo>
                  <a:lnTo>
                    <a:pt x="630" y="5"/>
                  </a:lnTo>
                  <a:lnTo>
                    <a:pt x="630" y="6"/>
                  </a:lnTo>
                  <a:lnTo>
                    <a:pt x="629" y="8"/>
                  </a:lnTo>
                  <a:lnTo>
                    <a:pt x="627" y="9"/>
                  </a:lnTo>
                  <a:lnTo>
                    <a:pt x="626" y="9"/>
                  </a:lnTo>
                  <a:lnTo>
                    <a:pt x="626" y="9"/>
                  </a:lnTo>
                  <a:close/>
                  <a:moveTo>
                    <a:pt x="558" y="9"/>
                  </a:moveTo>
                  <a:lnTo>
                    <a:pt x="555" y="9"/>
                  </a:lnTo>
                  <a:lnTo>
                    <a:pt x="530" y="9"/>
                  </a:lnTo>
                  <a:lnTo>
                    <a:pt x="527" y="9"/>
                  </a:lnTo>
                  <a:lnTo>
                    <a:pt x="526" y="8"/>
                  </a:lnTo>
                  <a:lnTo>
                    <a:pt x="526" y="6"/>
                  </a:lnTo>
                  <a:lnTo>
                    <a:pt x="524" y="5"/>
                  </a:lnTo>
                  <a:lnTo>
                    <a:pt x="524" y="3"/>
                  </a:lnTo>
                  <a:lnTo>
                    <a:pt x="526" y="2"/>
                  </a:lnTo>
                  <a:lnTo>
                    <a:pt x="527" y="0"/>
                  </a:lnTo>
                  <a:lnTo>
                    <a:pt x="529" y="0"/>
                  </a:lnTo>
                  <a:lnTo>
                    <a:pt x="555" y="0"/>
                  </a:lnTo>
                  <a:lnTo>
                    <a:pt x="558" y="0"/>
                  </a:lnTo>
                  <a:lnTo>
                    <a:pt x="560" y="0"/>
                  </a:lnTo>
                  <a:lnTo>
                    <a:pt x="561" y="0"/>
                  </a:lnTo>
                  <a:lnTo>
                    <a:pt x="563" y="2"/>
                  </a:lnTo>
                  <a:lnTo>
                    <a:pt x="563" y="5"/>
                  </a:lnTo>
                  <a:lnTo>
                    <a:pt x="563" y="6"/>
                  </a:lnTo>
                  <a:lnTo>
                    <a:pt x="561" y="8"/>
                  </a:lnTo>
                  <a:lnTo>
                    <a:pt x="560" y="9"/>
                  </a:lnTo>
                  <a:lnTo>
                    <a:pt x="558" y="9"/>
                  </a:lnTo>
                  <a:lnTo>
                    <a:pt x="558" y="9"/>
                  </a:lnTo>
                  <a:close/>
                  <a:moveTo>
                    <a:pt x="492" y="12"/>
                  </a:moveTo>
                  <a:lnTo>
                    <a:pt x="472" y="15"/>
                  </a:lnTo>
                  <a:lnTo>
                    <a:pt x="464" y="17"/>
                  </a:lnTo>
                  <a:lnTo>
                    <a:pt x="461" y="17"/>
                  </a:lnTo>
                  <a:lnTo>
                    <a:pt x="460" y="15"/>
                  </a:lnTo>
                  <a:lnTo>
                    <a:pt x="458" y="14"/>
                  </a:lnTo>
                  <a:lnTo>
                    <a:pt x="458" y="12"/>
                  </a:lnTo>
                  <a:lnTo>
                    <a:pt x="458" y="11"/>
                  </a:lnTo>
                  <a:lnTo>
                    <a:pt x="458" y="9"/>
                  </a:lnTo>
                  <a:lnTo>
                    <a:pt x="460" y="8"/>
                  </a:lnTo>
                  <a:lnTo>
                    <a:pt x="461" y="8"/>
                  </a:lnTo>
                  <a:lnTo>
                    <a:pt x="470" y="6"/>
                  </a:lnTo>
                  <a:lnTo>
                    <a:pt x="490" y="3"/>
                  </a:lnTo>
                  <a:lnTo>
                    <a:pt x="492" y="3"/>
                  </a:lnTo>
                  <a:lnTo>
                    <a:pt x="493" y="5"/>
                  </a:lnTo>
                  <a:lnTo>
                    <a:pt x="495" y="6"/>
                  </a:lnTo>
                  <a:lnTo>
                    <a:pt x="497" y="8"/>
                  </a:lnTo>
                  <a:lnTo>
                    <a:pt x="495" y="9"/>
                  </a:lnTo>
                  <a:lnTo>
                    <a:pt x="495" y="11"/>
                  </a:lnTo>
                  <a:lnTo>
                    <a:pt x="493" y="12"/>
                  </a:lnTo>
                  <a:lnTo>
                    <a:pt x="492" y="12"/>
                  </a:lnTo>
                  <a:lnTo>
                    <a:pt x="492" y="12"/>
                  </a:lnTo>
                  <a:close/>
                  <a:moveTo>
                    <a:pt x="426" y="25"/>
                  </a:moveTo>
                  <a:lnTo>
                    <a:pt x="418" y="26"/>
                  </a:lnTo>
                  <a:lnTo>
                    <a:pt x="398" y="32"/>
                  </a:lnTo>
                  <a:lnTo>
                    <a:pt x="397" y="32"/>
                  </a:lnTo>
                  <a:lnTo>
                    <a:pt x="395" y="31"/>
                  </a:lnTo>
                  <a:lnTo>
                    <a:pt x="394" y="31"/>
                  </a:lnTo>
                  <a:lnTo>
                    <a:pt x="392" y="29"/>
                  </a:lnTo>
                  <a:lnTo>
                    <a:pt x="392" y="26"/>
                  </a:lnTo>
                  <a:lnTo>
                    <a:pt x="394" y="25"/>
                  </a:lnTo>
                  <a:lnTo>
                    <a:pt x="394" y="23"/>
                  </a:lnTo>
                  <a:lnTo>
                    <a:pt x="397" y="23"/>
                  </a:lnTo>
                  <a:lnTo>
                    <a:pt x="417" y="17"/>
                  </a:lnTo>
                  <a:lnTo>
                    <a:pt x="424" y="15"/>
                  </a:lnTo>
                  <a:lnTo>
                    <a:pt x="426" y="15"/>
                  </a:lnTo>
                  <a:lnTo>
                    <a:pt x="427" y="15"/>
                  </a:lnTo>
                  <a:lnTo>
                    <a:pt x="429" y="17"/>
                  </a:lnTo>
                  <a:lnTo>
                    <a:pt x="430" y="18"/>
                  </a:lnTo>
                  <a:lnTo>
                    <a:pt x="429" y="20"/>
                  </a:lnTo>
                  <a:lnTo>
                    <a:pt x="429" y="22"/>
                  </a:lnTo>
                  <a:lnTo>
                    <a:pt x="427" y="23"/>
                  </a:lnTo>
                  <a:lnTo>
                    <a:pt x="426" y="25"/>
                  </a:lnTo>
                  <a:lnTo>
                    <a:pt x="426" y="25"/>
                  </a:lnTo>
                  <a:close/>
                  <a:moveTo>
                    <a:pt x="363" y="45"/>
                  </a:moveTo>
                  <a:lnTo>
                    <a:pt x="343" y="52"/>
                  </a:lnTo>
                  <a:lnTo>
                    <a:pt x="337" y="55"/>
                  </a:lnTo>
                  <a:lnTo>
                    <a:pt x="334" y="55"/>
                  </a:lnTo>
                  <a:lnTo>
                    <a:pt x="332" y="55"/>
                  </a:lnTo>
                  <a:lnTo>
                    <a:pt x="330" y="54"/>
                  </a:lnTo>
                  <a:lnTo>
                    <a:pt x="330" y="52"/>
                  </a:lnTo>
                  <a:lnTo>
                    <a:pt x="329" y="51"/>
                  </a:lnTo>
                  <a:lnTo>
                    <a:pt x="329" y="49"/>
                  </a:lnTo>
                  <a:lnTo>
                    <a:pt x="330" y="48"/>
                  </a:lnTo>
                  <a:lnTo>
                    <a:pt x="332" y="46"/>
                  </a:lnTo>
                  <a:lnTo>
                    <a:pt x="338" y="43"/>
                  </a:lnTo>
                  <a:lnTo>
                    <a:pt x="360" y="35"/>
                  </a:lnTo>
                  <a:lnTo>
                    <a:pt x="361" y="35"/>
                  </a:lnTo>
                  <a:lnTo>
                    <a:pt x="363" y="35"/>
                  </a:lnTo>
                  <a:lnTo>
                    <a:pt x="364" y="37"/>
                  </a:lnTo>
                  <a:lnTo>
                    <a:pt x="366" y="38"/>
                  </a:lnTo>
                  <a:lnTo>
                    <a:pt x="366" y="40"/>
                  </a:lnTo>
                  <a:lnTo>
                    <a:pt x="364" y="42"/>
                  </a:lnTo>
                  <a:lnTo>
                    <a:pt x="364" y="43"/>
                  </a:lnTo>
                  <a:lnTo>
                    <a:pt x="363" y="45"/>
                  </a:lnTo>
                  <a:lnTo>
                    <a:pt x="363" y="45"/>
                  </a:lnTo>
                  <a:close/>
                  <a:moveTo>
                    <a:pt x="301" y="71"/>
                  </a:moveTo>
                  <a:lnTo>
                    <a:pt x="295" y="75"/>
                  </a:lnTo>
                  <a:lnTo>
                    <a:pt x="277" y="86"/>
                  </a:lnTo>
                  <a:lnTo>
                    <a:pt x="275" y="86"/>
                  </a:lnTo>
                  <a:lnTo>
                    <a:pt x="274" y="86"/>
                  </a:lnTo>
                  <a:lnTo>
                    <a:pt x="270" y="85"/>
                  </a:lnTo>
                  <a:lnTo>
                    <a:pt x="270" y="83"/>
                  </a:lnTo>
                  <a:lnTo>
                    <a:pt x="269" y="81"/>
                  </a:lnTo>
                  <a:lnTo>
                    <a:pt x="269" y="80"/>
                  </a:lnTo>
                  <a:lnTo>
                    <a:pt x="270" y="78"/>
                  </a:lnTo>
                  <a:lnTo>
                    <a:pt x="272" y="77"/>
                  </a:lnTo>
                  <a:lnTo>
                    <a:pt x="290" y="66"/>
                  </a:lnTo>
                  <a:lnTo>
                    <a:pt x="297" y="63"/>
                  </a:lnTo>
                  <a:lnTo>
                    <a:pt x="298" y="61"/>
                  </a:lnTo>
                  <a:lnTo>
                    <a:pt x="301" y="63"/>
                  </a:lnTo>
                  <a:lnTo>
                    <a:pt x="303" y="63"/>
                  </a:lnTo>
                  <a:lnTo>
                    <a:pt x="304" y="65"/>
                  </a:lnTo>
                  <a:lnTo>
                    <a:pt x="304" y="66"/>
                  </a:lnTo>
                  <a:lnTo>
                    <a:pt x="304" y="69"/>
                  </a:lnTo>
                  <a:lnTo>
                    <a:pt x="303" y="71"/>
                  </a:lnTo>
                  <a:lnTo>
                    <a:pt x="301" y="71"/>
                  </a:lnTo>
                  <a:lnTo>
                    <a:pt x="301" y="71"/>
                  </a:lnTo>
                  <a:close/>
                  <a:moveTo>
                    <a:pt x="244" y="106"/>
                  </a:moveTo>
                  <a:lnTo>
                    <a:pt x="229" y="117"/>
                  </a:lnTo>
                  <a:lnTo>
                    <a:pt x="221" y="123"/>
                  </a:lnTo>
                  <a:lnTo>
                    <a:pt x="220" y="123"/>
                  </a:lnTo>
                  <a:lnTo>
                    <a:pt x="218" y="123"/>
                  </a:lnTo>
                  <a:lnTo>
                    <a:pt x="217" y="123"/>
                  </a:lnTo>
                  <a:lnTo>
                    <a:pt x="215" y="121"/>
                  </a:lnTo>
                  <a:lnTo>
                    <a:pt x="214" y="120"/>
                  </a:lnTo>
                  <a:lnTo>
                    <a:pt x="214" y="118"/>
                  </a:lnTo>
                  <a:lnTo>
                    <a:pt x="215" y="117"/>
                  </a:lnTo>
                  <a:lnTo>
                    <a:pt x="215" y="115"/>
                  </a:lnTo>
                  <a:lnTo>
                    <a:pt x="223" y="109"/>
                  </a:lnTo>
                  <a:lnTo>
                    <a:pt x="240" y="98"/>
                  </a:lnTo>
                  <a:lnTo>
                    <a:pt x="241" y="97"/>
                  </a:lnTo>
                  <a:lnTo>
                    <a:pt x="243" y="97"/>
                  </a:lnTo>
                  <a:lnTo>
                    <a:pt x="244" y="98"/>
                  </a:lnTo>
                  <a:lnTo>
                    <a:pt x="246" y="98"/>
                  </a:lnTo>
                  <a:lnTo>
                    <a:pt x="246" y="100"/>
                  </a:lnTo>
                  <a:lnTo>
                    <a:pt x="246" y="103"/>
                  </a:lnTo>
                  <a:lnTo>
                    <a:pt x="246" y="105"/>
                  </a:lnTo>
                  <a:lnTo>
                    <a:pt x="244" y="106"/>
                  </a:lnTo>
                  <a:lnTo>
                    <a:pt x="244" y="106"/>
                  </a:lnTo>
                  <a:close/>
                  <a:moveTo>
                    <a:pt x="192" y="148"/>
                  </a:moveTo>
                  <a:lnTo>
                    <a:pt x="187" y="151"/>
                  </a:lnTo>
                  <a:lnTo>
                    <a:pt x="172" y="166"/>
                  </a:lnTo>
                  <a:lnTo>
                    <a:pt x="169" y="168"/>
                  </a:lnTo>
                  <a:lnTo>
                    <a:pt x="167" y="168"/>
                  </a:lnTo>
                  <a:lnTo>
                    <a:pt x="166" y="168"/>
                  </a:lnTo>
                  <a:lnTo>
                    <a:pt x="164" y="166"/>
                  </a:lnTo>
                  <a:lnTo>
                    <a:pt x="163" y="164"/>
                  </a:lnTo>
                  <a:lnTo>
                    <a:pt x="163" y="163"/>
                  </a:lnTo>
                  <a:lnTo>
                    <a:pt x="163" y="161"/>
                  </a:lnTo>
                  <a:lnTo>
                    <a:pt x="164" y="160"/>
                  </a:lnTo>
                  <a:lnTo>
                    <a:pt x="181" y="144"/>
                  </a:lnTo>
                  <a:lnTo>
                    <a:pt x="186" y="140"/>
                  </a:lnTo>
                  <a:lnTo>
                    <a:pt x="187" y="138"/>
                  </a:lnTo>
                  <a:lnTo>
                    <a:pt x="189" y="138"/>
                  </a:lnTo>
                  <a:lnTo>
                    <a:pt x="190" y="140"/>
                  </a:lnTo>
                  <a:lnTo>
                    <a:pt x="192" y="140"/>
                  </a:lnTo>
                  <a:lnTo>
                    <a:pt x="194" y="141"/>
                  </a:lnTo>
                  <a:lnTo>
                    <a:pt x="194" y="143"/>
                  </a:lnTo>
                  <a:lnTo>
                    <a:pt x="194" y="146"/>
                  </a:lnTo>
                  <a:lnTo>
                    <a:pt x="192" y="148"/>
                  </a:lnTo>
                  <a:lnTo>
                    <a:pt x="192" y="148"/>
                  </a:lnTo>
                  <a:close/>
                  <a:moveTo>
                    <a:pt x="146" y="194"/>
                  </a:moveTo>
                  <a:lnTo>
                    <a:pt x="134" y="208"/>
                  </a:lnTo>
                  <a:lnTo>
                    <a:pt x="127" y="217"/>
                  </a:lnTo>
                  <a:lnTo>
                    <a:pt x="126" y="217"/>
                  </a:lnTo>
                  <a:lnTo>
                    <a:pt x="123" y="218"/>
                  </a:lnTo>
                  <a:lnTo>
                    <a:pt x="121" y="218"/>
                  </a:lnTo>
                  <a:lnTo>
                    <a:pt x="120" y="217"/>
                  </a:lnTo>
                  <a:lnTo>
                    <a:pt x="118" y="215"/>
                  </a:lnTo>
                  <a:lnTo>
                    <a:pt x="118" y="214"/>
                  </a:lnTo>
                  <a:lnTo>
                    <a:pt x="118" y="212"/>
                  </a:lnTo>
                  <a:lnTo>
                    <a:pt x="120" y="211"/>
                  </a:lnTo>
                  <a:lnTo>
                    <a:pt x="126" y="201"/>
                  </a:lnTo>
                  <a:lnTo>
                    <a:pt x="138" y="188"/>
                  </a:lnTo>
                  <a:lnTo>
                    <a:pt x="140" y="188"/>
                  </a:lnTo>
                  <a:lnTo>
                    <a:pt x="141" y="186"/>
                  </a:lnTo>
                  <a:lnTo>
                    <a:pt x="143" y="186"/>
                  </a:lnTo>
                  <a:lnTo>
                    <a:pt x="144" y="188"/>
                  </a:lnTo>
                  <a:lnTo>
                    <a:pt x="146" y="189"/>
                  </a:lnTo>
                  <a:lnTo>
                    <a:pt x="146" y="191"/>
                  </a:lnTo>
                  <a:lnTo>
                    <a:pt x="146" y="192"/>
                  </a:lnTo>
                  <a:lnTo>
                    <a:pt x="146" y="194"/>
                  </a:lnTo>
                  <a:lnTo>
                    <a:pt x="146" y="194"/>
                  </a:lnTo>
                  <a:close/>
                  <a:moveTo>
                    <a:pt x="104" y="247"/>
                  </a:moveTo>
                  <a:lnTo>
                    <a:pt x="101" y="251"/>
                  </a:lnTo>
                  <a:lnTo>
                    <a:pt x="89" y="271"/>
                  </a:lnTo>
                  <a:lnTo>
                    <a:pt x="87" y="272"/>
                  </a:lnTo>
                  <a:lnTo>
                    <a:pt x="86" y="272"/>
                  </a:lnTo>
                  <a:lnTo>
                    <a:pt x="83" y="272"/>
                  </a:lnTo>
                  <a:lnTo>
                    <a:pt x="81" y="272"/>
                  </a:lnTo>
                  <a:lnTo>
                    <a:pt x="80" y="271"/>
                  </a:lnTo>
                  <a:lnTo>
                    <a:pt x="80" y="269"/>
                  </a:lnTo>
                  <a:lnTo>
                    <a:pt x="80" y="267"/>
                  </a:lnTo>
                  <a:lnTo>
                    <a:pt x="80" y="266"/>
                  </a:lnTo>
                  <a:lnTo>
                    <a:pt x="94" y="244"/>
                  </a:lnTo>
                  <a:lnTo>
                    <a:pt x="97" y="241"/>
                  </a:lnTo>
                  <a:lnTo>
                    <a:pt x="98" y="240"/>
                  </a:lnTo>
                  <a:lnTo>
                    <a:pt x="100" y="240"/>
                  </a:lnTo>
                  <a:lnTo>
                    <a:pt x="101" y="240"/>
                  </a:lnTo>
                  <a:lnTo>
                    <a:pt x="103" y="240"/>
                  </a:lnTo>
                  <a:lnTo>
                    <a:pt x="104" y="241"/>
                  </a:lnTo>
                  <a:lnTo>
                    <a:pt x="104" y="243"/>
                  </a:lnTo>
                  <a:lnTo>
                    <a:pt x="104" y="244"/>
                  </a:lnTo>
                  <a:lnTo>
                    <a:pt x="104" y="247"/>
                  </a:lnTo>
                  <a:lnTo>
                    <a:pt x="104" y="247"/>
                  </a:lnTo>
                  <a:close/>
                  <a:moveTo>
                    <a:pt x="71" y="304"/>
                  </a:moveTo>
                  <a:lnTo>
                    <a:pt x="63" y="318"/>
                  </a:lnTo>
                  <a:lnTo>
                    <a:pt x="58" y="329"/>
                  </a:lnTo>
                  <a:lnTo>
                    <a:pt x="57" y="330"/>
                  </a:lnTo>
                  <a:lnTo>
                    <a:pt x="55" y="332"/>
                  </a:lnTo>
                  <a:lnTo>
                    <a:pt x="54" y="332"/>
                  </a:lnTo>
                  <a:lnTo>
                    <a:pt x="51" y="332"/>
                  </a:lnTo>
                  <a:lnTo>
                    <a:pt x="49" y="330"/>
                  </a:lnTo>
                  <a:lnTo>
                    <a:pt x="49" y="329"/>
                  </a:lnTo>
                  <a:lnTo>
                    <a:pt x="47" y="327"/>
                  </a:lnTo>
                  <a:lnTo>
                    <a:pt x="49" y="326"/>
                  </a:lnTo>
                  <a:lnTo>
                    <a:pt x="54" y="314"/>
                  </a:lnTo>
                  <a:lnTo>
                    <a:pt x="61" y="300"/>
                  </a:lnTo>
                  <a:lnTo>
                    <a:pt x="63" y="298"/>
                  </a:lnTo>
                  <a:lnTo>
                    <a:pt x="64" y="297"/>
                  </a:lnTo>
                  <a:lnTo>
                    <a:pt x="66" y="297"/>
                  </a:lnTo>
                  <a:lnTo>
                    <a:pt x="67" y="298"/>
                  </a:lnTo>
                  <a:lnTo>
                    <a:pt x="69" y="298"/>
                  </a:lnTo>
                  <a:lnTo>
                    <a:pt x="71" y="300"/>
                  </a:lnTo>
                  <a:lnTo>
                    <a:pt x="71" y="301"/>
                  </a:lnTo>
                  <a:lnTo>
                    <a:pt x="71" y="304"/>
                  </a:lnTo>
                  <a:lnTo>
                    <a:pt x="71" y="304"/>
                  </a:lnTo>
                  <a:close/>
                  <a:moveTo>
                    <a:pt x="43" y="364"/>
                  </a:moveTo>
                  <a:lnTo>
                    <a:pt x="41" y="367"/>
                  </a:lnTo>
                  <a:lnTo>
                    <a:pt x="34" y="392"/>
                  </a:lnTo>
                  <a:lnTo>
                    <a:pt x="32" y="393"/>
                  </a:lnTo>
                  <a:lnTo>
                    <a:pt x="31" y="395"/>
                  </a:lnTo>
                  <a:lnTo>
                    <a:pt x="29" y="395"/>
                  </a:lnTo>
                  <a:lnTo>
                    <a:pt x="27" y="395"/>
                  </a:lnTo>
                  <a:lnTo>
                    <a:pt x="26" y="393"/>
                  </a:lnTo>
                  <a:lnTo>
                    <a:pt x="24" y="392"/>
                  </a:lnTo>
                  <a:lnTo>
                    <a:pt x="24" y="390"/>
                  </a:lnTo>
                  <a:lnTo>
                    <a:pt x="24" y="389"/>
                  </a:lnTo>
                  <a:lnTo>
                    <a:pt x="34" y="364"/>
                  </a:lnTo>
                  <a:lnTo>
                    <a:pt x="34" y="361"/>
                  </a:lnTo>
                  <a:lnTo>
                    <a:pt x="35" y="360"/>
                  </a:lnTo>
                  <a:lnTo>
                    <a:pt x="37" y="358"/>
                  </a:lnTo>
                  <a:lnTo>
                    <a:pt x="38" y="358"/>
                  </a:lnTo>
                  <a:lnTo>
                    <a:pt x="40" y="358"/>
                  </a:lnTo>
                  <a:lnTo>
                    <a:pt x="41" y="360"/>
                  </a:lnTo>
                  <a:lnTo>
                    <a:pt x="43" y="361"/>
                  </a:lnTo>
                  <a:lnTo>
                    <a:pt x="43" y="363"/>
                  </a:lnTo>
                  <a:lnTo>
                    <a:pt x="43" y="364"/>
                  </a:lnTo>
                  <a:lnTo>
                    <a:pt x="43" y="364"/>
                  </a:lnTo>
                  <a:close/>
                  <a:moveTo>
                    <a:pt x="24" y="429"/>
                  </a:moveTo>
                  <a:lnTo>
                    <a:pt x="20" y="446"/>
                  </a:lnTo>
                  <a:lnTo>
                    <a:pt x="18" y="457"/>
                  </a:lnTo>
                  <a:lnTo>
                    <a:pt x="17" y="458"/>
                  </a:lnTo>
                  <a:lnTo>
                    <a:pt x="15" y="460"/>
                  </a:lnTo>
                  <a:lnTo>
                    <a:pt x="14" y="460"/>
                  </a:lnTo>
                  <a:lnTo>
                    <a:pt x="12" y="461"/>
                  </a:lnTo>
                  <a:lnTo>
                    <a:pt x="11" y="460"/>
                  </a:lnTo>
                  <a:lnTo>
                    <a:pt x="9" y="458"/>
                  </a:lnTo>
                  <a:lnTo>
                    <a:pt x="9" y="457"/>
                  </a:lnTo>
                  <a:lnTo>
                    <a:pt x="9" y="455"/>
                  </a:lnTo>
                  <a:lnTo>
                    <a:pt x="11" y="443"/>
                  </a:lnTo>
                  <a:lnTo>
                    <a:pt x="14" y="426"/>
                  </a:lnTo>
                  <a:lnTo>
                    <a:pt x="15" y="424"/>
                  </a:lnTo>
                  <a:lnTo>
                    <a:pt x="17" y="423"/>
                  </a:lnTo>
                  <a:lnTo>
                    <a:pt x="18" y="423"/>
                  </a:lnTo>
                  <a:lnTo>
                    <a:pt x="20" y="423"/>
                  </a:lnTo>
                  <a:lnTo>
                    <a:pt x="21" y="423"/>
                  </a:lnTo>
                  <a:lnTo>
                    <a:pt x="23" y="424"/>
                  </a:lnTo>
                  <a:lnTo>
                    <a:pt x="23" y="426"/>
                  </a:lnTo>
                  <a:lnTo>
                    <a:pt x="24" y="429"/>
                  </a:lnTo>
                  <a:lnTo>
                    <a:pt x="24" y="429"/>
                  </a:lnTo>
                  <a:close/>
                  <a:moveTo>
                    <a:pt x="12" y="495"/>
                  </a:moveTo>
                  <a:lnTo>
                    <a:pt x="12" y="500"/>
                  </a:lnTo>
                  <a:lnTo>
                    <a:pt x="11" y="523"/>
                  </a:lnTo>
                  <a:lnTo>
                    <a:pt x="9" y="524"/>
                  </a:lnTo>
                  <a:lnTo>
                    <a:pt x="7" y="526"/>
                  </a:lnTo>
                  <a:lnTo>
                    <a:pt x="6" y="527"/>
                  </a:lnTo>
                  <a:lnTo>
                    <a:pt x="4" y="527"/>
                  </a:lnTo>
                  <a:lnTo>
                    <a:pt x="3" y="527"/>
                  </a:lnTo>
                  <a:lnTo>
                    <a:pt x="1" y="526"/>
                  </a:lnTo>
                  <a:lnTo>
                    <a:pt x="0" y="524"/>
                  </a:lnTo>
                  <a:lnTo>
                    <a:pt x="0" y="523"/>
                  </a:lnTo>
                  <a:lnTo>
                    <a:pt x="3" y="498"/>
                  </a:lnTo>
                  <a:lnTo>
                    <a:pt x="3" y="493"/>
                  </a:lnTo>
                  <a:lnTo>
                    <a:pt x="3" y="492"/>
                  </a:lnTo>
                  <a:lnTo>
                    <a:pt x="4" y="490"/>
                  </a:lnTo>
                  <a:lnTo>
                    <a:pt x="6" y="489"/>
                  </a:lnTo>
                  <a:lnTo>
                    <a:pt x="7" y="489"/>
                  </a:lnTo>
                  <a:lnTo>
                    <a:pt x="9" y="489"/>
                  </a:lnTo>
                  <a:lnTo>
                    <a:pt x="11" y="490"/>
                  </a:lnTo>
                  <a:lnTo>
                    <a:pt x="12" y="492"/>
                  </a:lnTo>
                  <a:lnTo>
                    <a:pt x="12" y="495"/>
                  </a:lnTo>
                  <a:lnTo>
                    <a:pt x="12" y="495"/>
                  </a:lnTo>
                  <a:close/>
                  <a:moveTo>
                    <a:pt x="9" y="561"/>
                  </a:moveTo>
                  <a:lnTo>
                    <a:pt x="9" y="590"/>
                  </a:lnTo>
                  <a:lnTo>
                    <a:pt x="9" y="592"/>
                  </a:lnTo>
                  <a:lnTo>
                    <a:pt x="7" y="593"/>
                  </a:lnTo>
                  <a:lnTo>
                    <a:pt x="6" y="593"/>
                  </a:lnTo>
                  <a:lnTo>
                    <a:pt x="4" y="595"/>
                  </a:lnTo>
                  <a:lnTo>
                    <a:pt x="1" y="593"/>
                  </a:lnTo>
                  <a:lnTo>
                    <a:pt x="0" y="593"/>
                  </a:lnTo>
                  <a:lnTo>
                    <a:pt x="0" y="592"/>
                  </a:lnTo>
                  <a:lnTo>
                    <a:pt x="0" y="590"/>
                  </a:lnTo>
                  <a:lnTo>
                    <a:pt x="0" y="561"/>
                  </a:lnTo>
                  <a:lnTo>
                    <a:pt x="0" y="559"/>
                  </a:lnTo>
                  <a:lnTo>
                    <a:pt x="0" y="556"/>
                  </a:lnTo>
                  <a:lnTo>
                    <a:pt x="1" y="556"/>
                  </a:lnTo>
                  <a:lnTo>
                    <a:pt x="4" y="556"/>
                  </a:lnTo>
                  <a:lnTo>
                    <a:pt x="6" y="556"/>
                  </a:lnTo>
                  <a:lnTo>
                    <a:pt x="7" y="556"/>
                  </a:lnTo>
                  <a:lnTo>
                    <a:pt x="9" y="559"/>
                  </a:lnTo>
                  <a:lnTo>
                    <a:pt x="9" y="561"/>
                  </a:lnTo>
                  <a:lnTo>
                    <a:pt x="9" y="561"/>
                  </a:lnTo>
                  <a:close/>
                  <a:moveTo>
                    <a:pt x="9" y="629"/>
                  </a:moveTo>
                  <a:lnTo>
                    <a:pt x="9" y="656"/>
                  </a:lnTo>
                  <a:lnTo>
                    <a:pt x="9" y="658"/>
                  </a:lnTo>
                  <a:lnTo>
                    <a:pt x="7" y="659"/>
                  </a:lnTo>
                  <a:lnTo>
                    <a:pt x="6" y="661"/>
                  </a:lnTo>
                  <a:lnTo>
                    <a:pt x="4" y="661"/>
                  </a:lnTo>
                  <a:lnTo>
                    <a:pt x="1" y="661"/>
                  </a:lnTo>
                  <a:lnTo>
                    <a:pt x="0" y="659"/>
                  </a:lnTo>
                  <a:lnTo>
                    <a:pt x="0" y="658"/>
                  </a:lnTo>
                  <a:lnTo>
                    <a:pt x="0" y="656"/>
                  </a:lnTo>
                  <a:lnTo>
                    <a:pt x="0" y="629"/>
                  </a:lnTo>
                  <a:lnTo>
                    <a:pt x="0" y="626"/>
                  </a:lnTo>
                  <a:lnTo>
                    <a:pt x="0" y="624"/>
                  </a:lnTo>
                  <a:lnTo>
                    <a:pt x="1" y="624"/>
                  </a:lnTo>
                  <a:lnTo>
                    <a:pt x="4" y="623"/>
                  </a:lnTo>
                  <a:lnTo>
                    <a:pt x="6" y="624"/>
                  </a:lnTo>
                  <a:lnTo>
                    <a:pt x="7" y="624"/>
                  </a:lnTo>
                  <a:lnTo>
                    <a:pt x="9" y="626"/>
                  </a:lnTo>
                  <a:lnTo>
                    <a:pt x="9" y="629"/>
                  </a:lnTo>
                  <a:lnTo>
                    <a:pt x="9" y="629"/>
                  </a:lnTo>
                  <a:close/>
                  <a:moveTo>
                    <a:pt x="9" y="695"/>
                  </a:moveTo>
                  <a:lnTo>
                    <a:pt x="9" y="724"/>
                  </a:lnTo>
                  <a:lnTo>
                    <a:pt x="9" y="725"/>
                  </a:lnTo>
                  <a:lnTo>
                    <a:pt x="7" y="727"/>
                  </a:lnTo>
                  <a:lnTo>
                    <a:pt x="6" y="729"/>
                  </a:lnTo>
                  <a:lnTo>
                    <a:pt x="4" y="729"/>
                  </a:lnTo>
                  <a:lnTo>
                    <a:pt x="1" y="729"/>
                  </a:lnTo>
                  <a:lnTo>
                    <a:pt x="0" y="727"/>
                  </a:lnTo>
                  <a:lnTo>
                    <a:pt x="0" y="725"/>
                  </a:lnTo>
                  <a:lnTo>
                    <a:pt x="0" y="724"/>
                  </a:lnTo>
                  <a:lnTo>
                    <a:pt x="0" y="695"/>
                  </a:lnTo>
                  <a:lnTo>
                    <a:pt x="0" y="693"/>
                  </a:lnTo>
                  <a:lnTo>
                    <a:pt x="0" y="692"/>
                  </a:lnTo>
                  <a:lnTo>
                    <a:pt x="1" y="690"/>
                  </a:lnTo>
                  <a:lnTo>
                    <a:pt x="4" y="690"/>
                  </a:lnTo>
                  <a:lnTo>
                    <a:pt x="6" y="690"/>
                  </a:lnTo>
                  <a:lnTo>
                    <a:pt x="7" y="692"/>
                  </a:lnTo>
                  <a:lnTo>
                    <a:pt x="9" y="693"/>
                  </a:lnTo>
                  <a:lnTo>
                    <a:pt x="9" y="695"/>
                  </a:lnTo>
                  <a:lnTo>
                    <a:pt x="9" y="695"/>
                  </a:lnTo>
                  <a:close/>
                  <a:moveTo>
                    <a:pt x="9" y="762"/>
                  </a:moveTo>
                  <a:lnTo>
                    <a:pt x="9" y="792"/>
                  </a:lnTo>
                  <a:lnTo>
                    <a:pt x="9" y="793"/>
                  </a:lnTo>
                  <a:lnTo>
                    <a:pt x="7" y="795"/>
                  </a:lnTo>
                  <a:lnTo>
                    <a:pt x="6" y="796"/>
                  </a:lnTo>
                  <a:lnTo>
                    <a:pt x="4" y="796"/>
                  </a:lnTo>
                  <a:lnTo>
                    <a:pt x="1" y="796"/>
                  </a:lnTo>
                  <a:lnTo>
                    <a:pt x="0" y="795"/>
                  </a:lnTo>
                  <a:lnTo>
                    <a:pt x="0" y="793"/>
                  </a:lnTo>
                  <a:lnTo>
                    <a:pt x="0" y="792"/>
                  </a:lnTo>
                  <a:lnTo>
                    <a:pt x="0" y="762"/>
                  </a:lnTo>
                  <a:lnTo>
                    <a:pt x="0" y="761"/>
                  </a:lnTo>
                  <a:lnTo>
                    <a:pt x="0" y="759"/>
                  </a:lnTo>
                  <a:lnTo>
                    <a:pt x="1" y="758"/>
                  </a:lnTo>
                  <a:lnTo>
                    <a:pt x="4" y="758"/>
                  </a:lnTo>
                  <a:lnTo>
                    <a:pt x="6" y="758"/>
                  </a:lnTo>
                  <a:lnTo>
                    <a:pt x="7" y="759"/>
                  </a:lnTo>
                  <a:lnTo>
                    <a:pt x="9" y="761"/>
                  </a:lnTo>
                  <a:lnTo>
                    <a:pt x="9" y="762"/>
                  </a:lnTo>
                  <a:lnTo>
                    <a:pt x="9" y="762"/>
                  </a:lnTo>
                  <a:close/>
                  <a:moveTo>
                    <a:pt x="9" y="830"/>
                  </a:moveTo>
                  <a:lnTo>
                    <a:pt x="9" y="859"/>
                  </a:lnTo>
                  <a:lnTo>
                    <a:pt x="9" y="861"/>
                  </a:lnTo>
                  <a:lnTo>
                    <a:pt x="7" y="862"/>
                  </a:lnTo>
                  <a:lnTo>
                    <a:pt x="6" y="862"/>
                  </a:lnTo>
                  <a:lnTo>
                    <a:pt x="4" y="864"/>
                  </a:lnTo>
                  <a:lnTo>
                    <a:pt x="1" y="862"/>
                  </a:lnTo>
                  <a:lnTo>
                    <a:pt x="0" y="862"/>
                  </a:lnTo>
                  <a:lnTo>
                    <a:pt x="0" y="861"/>
                  </a:lnTo>
                  <a:lnTo>
                    <a:pt x="0" y="859"/>
                  </a:lnTo>
                  <a:lnTo>
                    <a:pt x="0" y="830"/>
                  </a:lnTo>
                  <a:lnTo>
                    <a:pt x="0" y="828"/>
                  </a:lnTo>
                  <a:lnTo>
                    <a:pt x="0" y="825"/>
                  </a:lnTo>
                  <a:lnTo>
                    <a:pt x="1" y="825"/>
                  </a:lnTo>
                  <a:lnTo>
                    <a:pt x="4" y="825"/>
                  </a:lnTo>
                  <a:lnTo>
                    <a:pt x="6" y="825"/>
                  </a:lnTo>
                  <a:lnTo>
                    <a:pt x="7" y="825"/>
                  </a:lnTo>
                  <a:lnTo>
                    <a:pt x="9" y="828"/>
                  </a:lnTo>
                  <a:lnTo>
                    <a:pt x="9" y="830"/>
                  </a:lnTo>
                  <a:lnTo>
                    <a:pt x="9" y="830"/>
                  </a:lnTo>
                  <a:close/>
                  <a:moveTo>
                    <a:pt x="9" y="898"/>
                  </a:moveTo>
                  <a:lnTo>
                    <a:pt x="9" y="925"/>
                  </a:lnTo>
                  <a:lnTo>
                    <a:pt x="9" y="927"/>
                  </a:lnTo>
                  <a:lnTo>
                    <a:pt x="7" y="928"/>
                  </a:lnTo>
                  <a:lnTo>
                    <a:pt x="6" y="930"/>
                  </a:lnTo>
                  <a:lnTo>
                    <a:pt x="4" y="930"/>
                  </a:lnTo>
                  <a:lnTo>
                    <a:pt x="1" y="930"/>
                  </a:lnTo>
                  <a:lnTo>
                    <a:pt x="0" y="928"/>
                  </a:lnTo>
                  <a:lnTo>
                    <a:pt x="0" y="927"/>
                  </a:lnTo>
                  <a:lnTo>
                    <a:pt x="0" y="925"/>
                  </a:lnTo>
                  <a:lnTo>
                    <a:pt x="0" y="898"/>
                  </a:lnTo>
                  <a:lnTo>
                    <a:pt x="0" y="895"/>
                  </a:lnTo>
                  <a:lnTo>
                    <a:pt x="0" y="893"/>
                  </a:lnTo>
                  <a:lnTo>
                    <a:pt x="1" y="893"/>
                  </a:lnTo>
                  <a:lnTo>
                    <a:pt x="4" y="891"/>
                  </a:lnTo>
                  <a:lnTo>
                    <a:pt x="6" y="893"/>
                  </a:lnTo>
                  <a:lnTo>
                    <a:pt x="7" y="893"/>
                  </a:lnTo>
                  <a:lnTo>
                    <a:pt x="9" y="895"/>
                  </a:lnTo>
                  <a:lnTo>
                    <a:pt x="9" y="898"/>
                  </a:lnTo>
                  <a:lnTo>
                    <a:pt x="9" y="898"/>
                  </a:lnTo>
                  <a:close/>
                  <a:moveTo>
                    <a:pt x="9" y="964"/>
                  </a:moveTo>
                  <a:lnTo>
                    <a:pt x="9" y="993"/>
                  </a:lnTo>
                  <a:lnTo>
                    <a:pt x="9" y="994"/>
                  </a:lnTo>
                  <a:lnTo>
                    <a:pt x="7" y="996"/>
                  </a:lnTo>
                  <a:lnTo>
                    <a:pt x="6" y="998"/>
                  </a:lnTo>
                  <a:lnTo>
                    <a:pt x="4" y="998"/>
                  </a:lnTo>
                  <a:lnTo>
                    <a:pt x="1" y="998"/>
                  </a:lnTo>
                  <a:lnTo>
                    <a:pt x="0" y="996"/>
                  </a:lnTo>
                  <a:lnTo>
                    <a:pt x="0" y="994"/>
                  </a:lnTo>
                  <a:lnTo>
                    <a:pt x="0" y="993"/>
                  </a:lnTo>
                  <a:lnTo>
                    <a:pt x="0" y="964"/>
                  </a:lnTo>
                  <a:lnTo>
                    <a:pt x="0" y="962"/>
                  </a:lnTo>
                  <a:lnTo>
                    <a:pt x="0" y="961"/>
                  </a:lnTo>
                  <a:lnTo>
                    <a:pt x="1" y="959"/>
                  </a:lnTo>
                  <a:lnTo>
                    <a:pt x="4" y="959"/>
                  </a:lnTo>
                  <a:lnTo>
                    <a:pt x="6" y="959"/>
                  </a:lnTo>
                  <a:lnTo>
                    <a:pt x="7" y="961"/>
                  </a:lnTo>
                  <a:lnTo>
                    <a:pt x="9" y="962"/>
                  </a:lnTo>
                  <a:lnTo>
                    <a:pt x="9" y="964"/>
                  </a:lnTo>
                  <a:lnTo>
                    <a:pt x="9" y="964"/>
                  </a:lnTo>
                  <a:close/>
                  <a:moveTo>
                    <a:pt x="9" y="1031"/>
                  </a:moveTo>
                  <a:lnTo>
                    <a:pt x="9" y="1061"/>
                  </a:lnTo>
                  <a:lnTo>
                    <a:pt x="9" y="1062"/>
                  </a:lnTo>
                  <a:lnTo>
                    <a:pt x="7" y="1064"/>
                  </a:lnTo>
                  <a:lnTo>
                    <a:pt x="6" y="1065"/>
                  </a:lnTo>
                  <a:lnTo>
                    <a:pt x="4" y="1065"/>
                  </a:lnTo>
                  <a:lnTo>
                    <a:pt x="1" y="1065"/>
                  </a:lnTo>
                  <a:lnTo>
                    <a:pt x="0" y="1064"/>
                  </a:lnTo>
                  <a:lnTo>
                    <a:pt x="0" y="1062"/>
                  </a:lnTo>
                  <a:lnTo>
                    <a:pt x="0" y="1061"/>
                  </a:lnTo>
                  <a:lnTo>
                    <a:pt x="0" y="1031"/>
                  </a:lnTo>
                  <a:lnTo>
                    <a:pt x="0" y="1030"/>
                  </a:lnTo>
                  <a:lnTo>
                    <a:pt x="0" y="1028"/>
                  </a:lnTo>
                  <a:lnTo>
                    <a:pt x="1" y="1027"/>
                  </a:lnTo>
                  <a:lnTo>
                    <a:pt x="4" y="1027"/>
                  </a:lnTo>
                  <a:lnTo>
                    <a:pt x="6" y="1027"/>
                  </a:lnTo>
                  <a:lnTo>
                    <a:pt x="7" y="1028"/>
                  </a:lnTo>
                  <a:lnTo>
                    <a:pt x="9" y="1030"/>
                  </a:lnTo>
                  <a:lnTo>
                    <a:pt x="9" y="1031"/>
                  </a:lnTo>
                  <a:lnTo>
                    <a:pt x="9" y="1031"/>
                  </a:lnTo>
                  <a:close/>
                  <a:moveTo>
                    <a:pt x="9" y="1099"/>
                  </a:moveTo>
                  <a:lnTo>
                    <a:pt x="9" y="1128"/>
                  </a:lnTo>
                  <a:lnTo>
                    <a:pt x="9" y="1130"/>
                  </a:lnTo>
                  <a:lnTo>
                    <a:pt x="7" y="1131"/>
                  </a:lnTo>
                  <a:lnTo>
                    <a:pt x="6" y="1131"/>
                  </a:lnTo>
                  <a:lnTo>
                    <a:pt x="4" y="1133"/>
                  </a:lnTo>
                  <a:lnTo>
                    <a:pt x="1" y="1131"/>
                  </a:lnTo>
                  <a:lnTo>
                    <a:pt x="0" y="1131"/>
                  </a:lnTo>
                  <a:lnTo>
                    <a:pt x="0" y="1130"/>
                  </a:lnTo>
                  <a:lnTo>
                    <a:pt x="0" y="1128"/>
                  </a:lnTo>
                  <a:lnTo>
                    <a:pt x="0" y="1099"/>
                  </a:lnTo>
                  <a:lnTo>
                    <a:pt x="0" y="1097"/>
                  </a:lnTo>
                  <a:lnTo>
                    <a:pt x="0" y="1094"/>
                  </a:lnTo>
                  <a:lnTo>
                    <a:pt x="1" y="1094"/>
                  </a:lnTo>
                  <a:lnTo>
                    <a:pt x="4" y="1094"/>
                  </a:lnTo>
                  <a:lnTo>
                    <a:pt x="6" y="1094"/>
                  </a:lnTo>
                  <a:lnTo>
                    <a:pt x="7" y="1094"/>
                  </a:lnTo>
                  <a:lnTo>
                    <a:pt x="9" y="1097"/>
                  </a:lnTo>
                  <a:lnTo>
                    <a:pt x="9" y="1099"/>
                  </a:lnTo>
                  <a:lnTo>
                    <a:pt x="9" y="1099"/>
                  </a:lnTo>
                  <a:close/>
                  <a:moveTo>
                    <a:pt x="9" y="1167"/>
                  </a:moveTo>
                  <a:lnTo>
                    <a:pt x="9" y="1194"/>
                  </a:lnTo>
                  <a:lnTo>
                    <a:pt x="9" y="1196"/>
                  </a:lnTo>
                  <a:lnTo>
                    <a:pt x="7" y="1197"/>
                  </a:lnTo>
                  <a:lnTo>
                    <a:pt x="6" y="1199"/>
                  </a:lnTo>
                  <a:lnTo>
                    <a:pt x="4" y="1199"/>
                  </a:lnTo>
                  <a:lnTo>
                    <a:pt x="1" y="1199"/>
                  </a:lnTo>
                  <a:lnTo>
                    <a:pt x="0" y="1197"/>
                  </a:lnTo>
                  <a:lnTo>
                    <a:pt x="0" y="1196"/>
                  </a:lnTo>
                  <a:lnTo>
                    <a:pt x="0" y="1194"/>
                  </a:lnTo>
                  <a:lnTo>
                    <a:pt x="0" y="1167"/>
                  </a:lnTo>
                  <a:lnTo>
                    <a:pt x="0" y="1164"/>
                  </a:lnTo>
                  <a:lnTo>
                    <a:pt x="0" y="1162"/>
                  </a:lnTo>
                  <a:lnTo>
                    <a:pt x="1" y="1162"/>
                  </a:lnTo>
                  <a:lnTo>
                    <a:pt x="4" y="1160"/>
                  </a:lnTo>
                  <a:lnTo>
                    <a:pt x="6" y="1162"/>
                  </a:lnTo>
                  <a:lnTo>
                    <a:pt x="7" y="1162"/>
                  </a:lnTo>
                  <a:lnTo>
                    <a:pt x="9" y="1164"/>
                  </a:lnTo>
                  <a:lnTo>
                    <a:pt x="9" y="1167"/>
                  </a:lnTo>
                  <a:lnTo>
                    <a:pt x="9" y="1167"/>
                  </a:lnTo>
                  <a:close/>
                  <a:moveTo>
                    <a:pt x="9" y="1233"/>
                  </a:moveTo>
                  <a:lnTo>
                    <a:pt x="9" y="1262"/>
                  </a:lnTo>
                  <a:lnTo>
                    <a:pt x="9" y="1263"/>
                  </a:lnTo>
                  <a:lnTo>
                    <a:pt x="7" y="1265"/>
                  </a:lnTo>
                  <a:lnTo>
                    <a:pt x="6" y="1267"/>
                  </a:lnTo>
                  <a:lnTo>
                    <a:pt x="4" y="1267"/>
                  </a:lnTo>
                  <a:lnTo>
                    <a:pt x="1" y="1267"/>
                  </a:lnTo>
                  <a:lnTo>
                    <a:pt x="0" y="1265"/>
                  </a:lnTo>
                  <a:lnTo>
                    <a:pt x="0" y="1263"/>
                  </a:lnTo>
                  <a:lnTo>
                    <a:pt x="0" y="1262"/>
                  </a:lnTo>
                  <a:lnTo>
                    <a:pt x="0" y="1233"/>
                  </a:lnTo>
                  <a:lnTo>
                    <a:pt x="0" y="1231"/>
                  </a:lnTo>
                  <a:lnTo>
                    <a:pt x="0" y="1230"/>
                  </a:lnTo>
                  <a:lnTo>
                    <a:pt x="1" y="1228"/>
                  </a:lnTo>
                  <a:lnTo>
                    <a:pt x="4" y="1228"/>
                  </a:lnTo>
                  <a:lnTo>
                    <a:pt x="6" y="1228"/>
                  </a:lnTo>
                  <a:lnTo>
                    <a:pt x="7" y="1230"/>
                  </a:lnTo>
                  <a:lnTo>
                    <a:pt x="9" y="1231"/>
                  </a:lnTo>
                  <a:lnTo>
                    <a:pt x="9" y="1233"/>
                  </a:lnTo>
                  <a:lnTo>
                    <a:pt x="9" y="1233"/>
                  </a:lnTo>
                  <a:close/>
                  <a:moveTo>
                    <a:pt x="9" y="1300"/>
                  </a:moveTo>
                  <a:lnTo>
                    <a:pt x="9" y="1330"/>
                  </a:lnTo>
                  <a:lnTo>
                    <a:pt x="9" y="1331"/>
                  </a:lnTo>
                  <a:lnTo>
                    <a:pt x="7" y="1333"/>
                  </a:lnTo>
                  <a:lnTo>
                    <a:pt x="6" y="1334"/>
                  </a:lnTo>
                  <a:lnTo>
                    <a:pt x="4" y="1334"/>
                  </a:lnTo>
                  <a:lnTo>
                    <a:pt x="1" y="1334"/>
                  </a:lnTo>
                  <a:lnTo>
                    <a:pt x="0" y="1333"/>
                  </a:lnTo>
                  <a:lnTo>
                    <a:pt x="0" y="1331"/>
                  </a:lnTo>
                  <a:lnTo>
                    <a:pt x="0" y="1330"/>
                  </a:lnTo>
                  <a:lnTo>
                    <a:pt x="0" y="1300"/>
                  </a:lnTo>
                  <a:lnTo>
                    <a:pt x="0" y="1299"/>
                  </a:lnTo>
                  <a:lnTo>
                    <a:pt x="0" y="1297"/>
                  </a:lnTo>
                  <a:lnTo>
                    <a:pt x="1" y="1296"/>
                  </a:lnTo>
                  <a:lnTo>
                    <a:pt x="4" y="1296"/>
                  </a:lnTo>
                  <a:lnTo>
                    <a:pt x="6" y="1296"/>
                  </a:lnTo>
                  <a:lnTo>
                    <a:pt x="7" y="1297"/>
                  </a:lnTo>
                  <a:lnTo>
                    <a:pt x="9" y="1299"/>
                  </a:lnTo>
                  <a:lnTo>
                    <a:pt x="9" y="1300"/>
                  </a:lnTo>
                  <a:lnTo>
                    <a:pt x="9" y="1300"/>
                  </a:lnTo>
                  <a:close/>
                  <a:moveTo>
                    <a:pt x="9" y="1368"/>
                  </a:moveTo>
                  <a:lnTo>
                    <a:pt x="9" y="1397"/>
                  </a:lnTo>
                  <a:lnTo>
                    <a:pt x="9" y="1399"/>
                  </a:lnTo>
                  <a:lnTo>
                    <a:pt x="7" y="1400"/>
                  </a:lnTo>
                  <a:lnTo>
                    <a:pt x="6" y="1400"/>
                  </a:lnTo>
                  <a:lnTo>
                    <a:pt x="4" y="1402"/>
                  </a:lnTo>
                  <a:lnTo>
                    <a:pt x="1" y="1400"/>
                  </a:lnTo>
                  <a:lnTo>
                    <a:pt x="0" y="1400"/>
                  </a:lnTo>
                  <a:lnTo>
                    <a:pt x="0" y="1399"/>
                  </a:lnTo>
                  <a:lnTo>
                    <a:pt x="0" y="1397"/>
                  </a:lnTo>
                  <a:lnTo>
                    <a:pt x="0" y="1368"/>
                  </a:lnTo>
                  <a:lnTo>
                    <a:pt x="0" y="1366"/>
                  </a:lnTo>
                  <a:lnTo>
                    <a:pt x="0" y="1363"/>
                  </a:lnTo>
                  <a:lnTo>
                    <a:pt x="1" y="1363"/>
                  </a:lnTo>
                  <a:lnTo>
                    <a:pt x="4" y="1363"/>
                  </a:lnTo>
                  <a:lnTo>
                    <a:pt x="6" y="1363"/>
                  </a:lnTo>
                  <a:lnTo>
                    <a:pt x="7" y="1363"/>
                  </a:lnTo>
                  <a:lnTo>
                    <a:pt x="9" y="1366"/>
                  </a:lnTo>
                  <a:lnTo>
                    <a:pt x="9" y="1368"/>
                  </a:lnTo>
                  <a:lnTo>
                    <a:pt x="9" y="1368"/>
                  </a:lnTo>
                  <a:close/>
                  <a:moveTo>
                    <a:pt x="9" y="1436"/>
                  </a:moveTo>
                  <a:lnTo>
                    <a:pt x="9" y="1463"/>
                  </a:lnTo>
                  <a:lnTo>
                    <a:pt x="9" y="1465"/>
                  </a:lnTo>
                  <a:lnTo>
                    <a:pt x="7" y="1466"/>
                  </a:lnTo>
                  <a:lnTo>
                    <a:pt x="6" y="1468"/>
                  </a:lnTo>
                  <a:lnTo>
                    <a:pt x="4" y="1468"/>
                  </a:lnTo>
                  <a:lnTo>
                    <a:pt x="1" y="1468"/>
                  </a:lnTo>
                  <a:lnTo>
                    <a:pt x="0" y="1466"/>
                  </a:lnTo>
                  <a:lnTo>
                    <a:pt x="0" y="1465"/>
                  </a:lnTo>
                  <a:lnTo>
                    <a:pt x="0" y="1463"/>
                  </a:lnTo>
                  <a:lnTo>
                    <a:pt x="0" y="1436"/>
                  </a:lnTo>
                  <a:lnTo>
                    <a:pt x="0" y="1433"/>
                  </a:lnTo>
                  <a:lnTo>
                    <a:pt x="0" y="1431"/>
                  </a:lnTo>
                  <a:lnTo>
                    <a:pt x="1" y="1431"/>
                  </a:lnTo>
                  <a:lnTo>
                    <a:pt x="4" y="1429"/>
                  </a:lnTo>
                  <a:lnTo>
                    <a:pt x="6" y="1431"/>
                  </a:lnTo>
                  <a:lnTo>
                    <a:pt x="7" y="1431"/>
                  </a:lnTo>
                  <a:lnTo>
                    <a:pt x="9" y="1433"/>
                  </a:lnTo>
                  <a:lnTo>
                    <a:pt x="9" y="1436"/>
                  </a:lnTo>
                  <a:lnTo>
                    <a:pt x="9" y="1436"/>
                  </a:lnTo>
                  <a:close/>
                  <a:moveTo>
                    <a:pt x="9" y="1502"/>
                  </a:moveTo>
                  <a:lnTo>
                    <a:pt x="9" y="1531"/>
                  </a:lnTo>
                  <a:lnTo>
                    <a:pt x="9" y="1532"/>
                  </a:lnTo>
                  <a:lnTo>
                    <a:pt x="7" y="1534"/>
                  </a:lnTo>
                  <a:lnTo>
                    <a:pt x="6" y="1536"/>
                  </a:lnTo>
                  <a:lnTo>
                    <a:pt x="4" y="1536"/>
                  </a:lnTo>
                  <a:lnTo>
                    <a:pt x="1" y="1536"/>
                  </a:lnTo>
                  <a:lnTo>
                    <a:pt x="0" y="1534"/>
                  </a:lnTo>
                  <a:lnTo>
                    <a:pt x="0" y="1532"/>
                  </a:lnTo>
                  <a:lnTo>
                    <a:pt x="0" y="1531"/>
                  </a:lnTo>
                  <a:lnTo>
                    <a:pt x="0" y="1502"/>
                  </a:lnTo>
                  <a:lnTo>
                    <a:pt x="0" y="1500"/>
                  </a:lnTo>
                  <a:lnTo>
                    <a:pt x="0" y="1499"/>
                  </a:lnTo>
                  <a:lnTo>
                    <a:pt x="1" y="1497"/>
                  </a:lnTo>
                  <a:lnTo>
                    <a:pt x="4" y="1497"/>
                  </a:lnTo>
                  <a:lnTo>
                    <a:pt x="6" y="1497"/>
                  </a:lnTo>
                  <a:lnTo>
                    <a:pt x="7" y="1499"/>
                  </a:lnTo>
                  <a:lnTo>
                    <a:pt x="9" y="1500"/>
                  </a:lnTo>
                  <a:lnTo>
                    <a:pt x="9" y="1502"/>
                  </a:lnTo>
                  <a:lnTo>
                    <a:pt x="9" y="1502"/>
                  </a:lnTo>
                  <a:close/>
                  <a:moveTo>
                    <a:pt x="9" y="1569"/>
                  </a:moveTo>
                  <a:lnTo>
                    <a:pt x="9" y="1599"/>
                  </a:lnTo>
                  <a:lnTo>
                    <a:pt x="9" y="1600"/>
                  </a:lnTo>
                  <a:lnTo>
                    <a:pt x="7" y="1602"/>
                  </a:lnTo>
                  <a:lnTo>
                    <a:pt x="6" y="1603"/>
                  </a:lnTo>
                  <a:lnTo>
                    <a:pt x="4" y="1603"/>
                  </a:lnTo>
                  <a:lnTo>
                    <a:pt x="1" y="1603"/>
                  </a:lnTo>
                  <a:lnTo>
                    <a:pt x="0" y="1602"/>
                  </a:lnTo>
                  <a:lnTo>
                    <a:pt x="0" y="1600"/>
                  </a:lnTo>
                  <a:lnTo>
                    <a:pt x="0" y="1599"/>
                  </a:lnTo>
                  <a:lnTo>
                    <a:pt x="0" y="1569"/>
                  </a:lnTo>
                  <a:lnTo>
                    <a:pt x="0" y="1568"/>
                  </a:lnTo>
                  <a:lnTo>
                    <a:pt x="0" y="1566"/>
                  </a:lnTo>
                  <a:lnTo>
                    <a:pt x="1" y="1565"/>
                  </a:lnTo>
                  <a:lnTo>
                    <a:pt x="4" y="1565"/>
                  </a:lnTo>
                  <a:lnTo>
                    <a:pt x="6" y="1565"/>
                  </a:lnTo>
                  <a:lnTo>
                    <a:pt x="7" y="1566"/>
                  </a:lnTo>
                  <a:lnTo>
                    <a:pt x="9" y="1568"/>
                  </a:lnTo>
                  <a:lnTo>
                    <a:pt x="9" y="1569"/>
                  </a:lnTo>
                  <a:lnTo>
                    <a:pt x="9" y="1569"/>
                  </a:lnTo>
                  <a:close/>
                  <a:moveTo>
                    <a:pt x="9" y="1637"/>
                  </a:moveTo>
                  <a:lnTo>
                    <a:pt x="9" y="1666"/>
                  </a:lnTo>
                  <a:lnTo>
                    <a:pt x="9" y="1668"/>
                  </a:lnTo>
                  <a:lnTo>
                    <a:pt x="7" y="1669"/>
                  </a:lnTo>
                  <a:lnTo>
                    <a:pt x="6" y="1669"/>
                  </a:lnTo>
                  <a:lnTo>
                    <a:pt x="4" y="1671"/>
                  </a:lnTo>
                  <a:lnTo>
                    <a:pt x="1" y="1669"/>
                  </a:lnTo>
                  <a:lnTo>
                    <a:pt x="0" y="1669"/>
                  </a:lnTo>
                  <a:lnTo>
                    <a:pt x="0" y="1668"/>
                  </a:lnTo>
                  <a:lnTo>
                    <a:pt x="0" y="1666"/>
                  </a:lnTo>
                  <a:lnTo>
                    <a:pt x="0" y="1637"/>
                  </a:lnTo>
                  <a:lnTo>
                    <a:pt x="0" y="1635"/>
                  </a:lnTo>
                  <a:lnTo>
                    <a:pt x="0" y="1632"/>
                  </a:lnTo>
                  <a:lnTo>
                    <a:pt x="1" y="1632"/>
                  </a:lnTo>
                  <a:lnTo>
                    <a:pt x="4" y="1632"/>
                  </a:lnTo>
                  <a:lnTo>
                    <a:pt x="6" y="1632"/>
                  </a:lnTo>
                  <a:lnTo>
                    <a:pt x="7" y="1632"/>
                  </a:lnTo>
                  <a:lnTo>
                    <a:pt x="9" y="1635"/>
                  </a:lnTo>
                  <a:lnTo>
                    <a:pt x="9" y="1637"/>
                  </a:lnTo>
                  <a:lnTo>
                    <a:pt x="9" y="1637"/>
                  </a:lnTo>
                  <a:close/>
                  <a:moveTo>
                    <a:pt x="9" y="1705"/>
                  </a:moveTo>
                  <a:lnTo>
                    <a:pt x="9" y="1732"/>
                  </a:lnTo>
                  <a:lnTo>
                    <a:pt x="9" y="1734"/>
                  </a:lnTo>
                  <a:lnTo>
                    <a:pt x="7" y="1735"/>
                  </a:lnTo>
                  <a:lnTo>
                    <a:pt x="6" y="1737"/>
                  </a:lnTo>
                  <a:lnTo>
                    <a:pt x="4" y="1737"/>
                  </a:lnTo>
                  <a:lnTo>
                    <a:pt x="1" y="1737"/>
                  </a:lnTo>
                  <a:lnTo>
                    <a:pt x="0" y="1735"/>
                  </a:lnTo>
                  <a:lnTo>
                    <a:pt x="0" y="1734"/>
                  </a:lnTo>
                  <a:lnTo>
                    <a:pt x="0" y="1732"/>
                  </a:lnTo>
                  <a:lnTo>
                    <a:pt x="0" y="1705"/>
                  </a:lnTo>
                  <a:lnTo>
                    <a:pt x="0" y="1702"/>
                  </a:lnTo>
                  <a:lnTo>
                    <a:pt x="0" y="1700"/>
                  </a:lnTo>
                  <a:lnTo>
                    <a:pt x="1" y="1700"/>
                  </a:lnTo>
                  <a:lnTo>
                    <a:pt x="4" y="1698"/>
                  </a:lnTo>
                  <a:lnTo>
                    <a:pt x="6" y="1700"/>
                  </a:lnTo>
                  <a:lnTo>
                    <a:pt x="7" y="1700"/>
                  </a:lnTo>
                  <a:lnTo>
                    <a:pt x="9" y="1702"/>
                  </a:lnTo>
                  <a:lnTo>
                    <a:pt x="9" y="1705"/>
                  </a:lnTo>
                  <a:lnTo>
                    <a:pt x="9" y="1705"/>
                  </a:lnTo>
                  <a:close/>
                  <a:moveTo>
                    <a:pt x="9" y="1771"/>
                  </a:moveTo>
                  <a:lnTo>
                    <a:pt x="9" y="1800"/>
                  </a:lnTo>
                  <a:lnTo>
                    <a:pt x="9" y="1801"/>
                  </a:lnTo>
                  <a:lnTo>
                    <a:pt x="7" y="1803"/>
                  </a:lnTo>
                  <a:lnTo>
                    <a:pt x="6" y="1804"/>
                  </a:lnTo>
                  <a:lnTo>
                    <a:pt x="4" y="1804"/>
                  </a:lnTo>
                  <a:lnTo>
                    <a:pt x="1" y="1804"/>
                  </a:lnTo>
                  <a:lnTo>
                    <a:pt x="0" y="1803"/>
                  </a:lnTo>
                  <a:lnTo>
                    <a:pt x="0" y="1801"/>
                  </a:lnTo>
                  <a:lnTo>
                    <a:pt x="0" y="1800"/>
                  </a:lnTo>
                  <a:lnTo>
                    <a:pt x="0" y="1771"/>
                  </a:lnTo>
                  <a:lnTo>
                    <a:pt x="0" y="1769"/>
                  </a:lnTo>
                  <a:lnTo>
                    <a:pt x="0" y="1768"/>
                  </a:lnTo>
                  <a:lnTo>
                    <a:pt x="1" y="1766"/>
                  </a:lnTo>
                  <a:lnTo>
                    <a:pt x="4" y="1766"/>
                  </a:lnTo>
                  <a:lnTo>
                    <a:pt x="6" y="1766"/>
                  </a:lnTo>
                  <a:lnTo>
                    <a:pt x="7" y="1768"/>
                  </a:lnTo>
                  <a:lnTo>
                    <a:pt x="9" y="1769"/>
                  </a:lnTo>
                  <a:lnTo>
                    <a:pt x="9" y="1771"/>
                  </a:lnTo>
                  <a:lnTo>
                    <a:pt x="9" y="1771"/>
                  </a:lnTo>
                  <a:close/>
                  <a:moveTo>
                    <a:pt x="9" y="1838"/>
                  </a:moveTo>
                  <a:lnTo>
                    <a:pt x="9" y="1868"/>
                  </a:lnTo>
                  <a:lnTo>
                    <a:pt x="9" y="1869"/>
                  </a:lnTo>
                  <a:lnTo>
                    <a:pt x="7" y="1871"/>
                  </a:lnTo>
                  <a:lnTo>
                    <a:pt x="6" y="1872"/>
                  </a:lnTo>
                  <a:lnTo>
                    <a:pt x="4" y="1872"/>
                  </a:lnTo>
                  <a:lnTo>
                    <a:pt x="1" y="1872"/>
                  </a:lnTo>
                  <a:lnTo>
                    <a:pt x="0" y="1871"/>
                  </a:lnTo>
                  <a:lnTo>
                    <a:pt x="0" y="1869"/>
                  </a:lnTo>
                  <a:lnTo>
                    <a:pt x="0" y="1868"/>
                  </a:lnTo>
                  <a:lnTo>
                    <a:pt x="0" y="1838"/>
                  </a:lnTo>
                  <a:lnTo>
                    <a:pt x="0" y="1837"/>
                  </a:lnTo>
                  <a:lnTo>
                    <a:pt x="0" y="1835"/>
                  </a:lnTo>
                  <a:lnTo>
                    <a:pt x="1" y="1834"/>
                  </a:lnTo>
                  <a:lnTo>
                    <a:pt x="4" y="1834"/>
                  </a:lnTo>
                  <a:lnTo>
                    <a:pt x="6" y="1834"/>
                  </a:lnTo>
                  <a:lnTo>
                    <a:pt x="7" y="1835"/>
                  </a:lnTo>
                  <a:lnTo>
                    <a:pt x="9" y="1837"/>
                  </a:lnTo>
                  <a:lnTo>
                    <a:pt x="9" y="1838"/>
                  </a:lnTo>
                  <a:lnTo>
                    <a:pt x="9" y="1838"/>
                  </a:lnTo>
                  <a:close/>
                  <a:moveTo>
                    <a:pt x="9" y="1906"/>
                  </a:moveTo>
                  <a:lnTo>
                    <a:pt x="9" y="1935"/>
                  </a:lnTo>
                  <a:lnTo>
                    <a:pt x="9" y="1937"/>
                  </a:lnTo>
                  <a:lnTo>
                    <a:pt x="7" y="1938"/>
                  </a:lnTo>
                  <a:lnTo>
                    <a:pt x="6" y="1938"/>
                  </a:lnTo>
                  <a:lnTo>
                    <a:pt x="4" y="1940"/>
                  </a:lnTo>
                  <a:lnTo>
                    <a:pt x="1" y="1938"/>
                  </a:lnTo>
                  <a:lnTo>
                    <a:pt x="0" y="1938"/>
                  </a:lnTo>
                  <a:lnTo>
                    <a:pt x="0" y="1937"/>
                  </a:lnTo>
                  <a:lnTo>
                    <a:pt x="0" y="1935"/>
                  </a:lnTo>
                  <a:lnTo>
                    <a:pt x="0" y="1906"/>
                  </a:lnTo>
                  <a:lnTo>
                    <a:pt x="0" y="1904"/>
                  </a:lnTo>
                  <a:lnTo>
                    <a:pt x="0" y="1901"/>
                  </a:lnTo>
                  <a:lnTo>
                    <a:pt x="1" y="1901"/>
                  </a:lnTo>
                  <a:lnTo>
                    <a:pt x="4" y="1901"/>
                  </a:lnTo>
                  <a:lnTo>
                    <a:pt x="6" y="1901"/>
                  </a:lnTo>
                  <a:lnTo>
                    <a:pt x="7" y="1901"/>
                  </a:lnTo>
                  <a:lnTo>
                    <a:pt x="9" y="1904"/>
                  </a:lnTo>
                  <a:lnTo>
                    <a:pt x="9" y="1906"/>
                  </a:lnTo>
                  <a:lnTo>
                    <a:pt x="9" y="1906"/>
                  </a:lnTo>
                  <a:close/>
                  <a:moveTo>
                    <a:pt x="9" y="1974"/>
                  </a:moveTo>
                  <a:lnTo>
                    <a:pt x="9" y="2001"/>
                  </a:lnTo>
                  <a:lnTo>
                    <a:pt x="9" y="2003"/>
                  </a:lnTo>
                  <a:lnTo>
                    <a:pt x="7" y="2004"/>
                  </a:lnTo>
                  <a:lnTo>
                    <a:pt x="6" y="2006"/>
                  </a:lnTo>
                  <a:lnTo>
                    <a:pt x="4" y="2006"/>
                  </a:lnTo>
                  <a:lnTo>
                    <a:pt x="1" y="2006"/>
                  </a:lnTo>
                  <a:lnTo>
                    <a:pt x="0" y="2004"/>
                  </a:lnTo>
                  <a:lnTo>
                    <a:pt x="0" y="2003"/>
                  </a:lnTo>
                  <a:lnTo>
                    <a:pt x="0" y="2001"/>
                  </a:lnTo>
                  <a:lnTo>
                    <a:pt x="0" y="1974"/>
                  </a:lnTo>
                  <a:lnTo>
                    <a:pt x="0" y="1970"/>
                  </a:lnTo>
                  <a:lnTo>
                    <a:pt x="0" y="1969"/>
                  </a:lnTo>
                  <a:lnTo>
                    <a:pt x="1" y="1969"/>
                  </a:lnTo>
                  <a:lnTo>
                    <a:pt x="4" y="1967"/>
                  </a:lnTo>
                  <a:lnTo>
                    <a:pt x="6" y="1969"/>
                  </a:lnTo>
                  <a:lnTo>
                    <a:pt x="7" y="1969"/>
                  </a:lnTo>
                  <a:lnTo>
                    <a:pt x="9" y="1970"/>
                  </a:lnTo>
                  <a:lnTo>
                    <a:pt x="9" y="1974"/>
                  </a:lnTo>
                  <a:lnTo>
                    <a:pt x="9" y="1974"/>
                  </a:lnTo>
                  <a:close/>
                  <a:moveTo>
                    <a:pt x="9" y="2040"/>
                  </a:moveTo>
                  <a:lnTo>
                    <a:pt x="9" y="2069"/>
                  </a:lnTo>
                  <a:lnTo>
                    <a:pt x="9" y="2070"/>
                  </a:lnTo>
                  <a:lnTo>
                    <a:pt x="7" y="2072"/>
                  </a:lnTo>
                  <a:lnTo>
                    <a:pt x="6" y="2073"/>
                  </a:lnTo>
                  <a:lnTo>
                    <a:pt x="4" y="2073"/>
                  </a:lnTo>
                  <a:lnTo>
                    <a:pt x="1" y="2073"/>
                  </a:lnTo>
                  <a:lnTo>
                    <a:pt x="0" y="2072"/>
                  </a:lnTo>
                  <a:lnTo>
                    <a:pt x="0" y="2070"/>
                  </a:lnTo>
                  <a:lnTo>
                    <a:pt x="0" y="2069"/>
                  </a:lnTo>
                  <a:lnTo>
                    <a:pt x="0" y="2040"/>
                  </a:lnTo>
                  <a:lnTo>
                    <a:pt x="0" y="2038"/>
                  </a:lnTo>
                  <a:lnTo>
                    <a:pt x="0" y="2037"/>
                  </a:lnTo>
                  <a:lnTo>
                    <a:pt x="1" y="2035"/>
                  </a:lnTo>
                  <a:lnTo>
                    <a:pt x="4" y="2035"/>
                  </a:lnTo>
                  <a:lnTo>
                    <a:pt x="6" y="2035"/>
                  </a:lnTo>
                  <a:lnTo>
                    <a:pt x="7" y="2037"/>
                  </a:lnTo>
                  <a:lnTo>
                    <a:pt x="9" y="2038"/>
                  </a:lnTo>
                  <a:lnTo>
                    <a:pt x="9" y="2040"/>
                  </a:lnTo>
                  <a:lnTo>
                    <a:pt x="9" y="2040"/>
                  </a:lnTo>
                  <a:close/>
                  <a:moveTo>
                    <a:pt x="9" y="2107"/>
                  </a:moveTo>
                  <a:lnTo>
                    <a:pt x="9" y="2136"/>
                  </a:lnTo>
                  <a:lnTo>
                    <a:pt x="9" y="2138"/>
                  </a:lnTo>
                  <a:lnTo>
                    <a:pt x="7" y="2140"/>
                  </a:lnTo>
                  <a:lnTo>
                    <a:pt x="6" y="2141"/>
                  </a:lnTo>
                  <a:lnTo>
                    <a:pt x="4" y="2141"/>
                  </a:lnTo>
                  <a:lnTo>
                    <a:pt x="1" y="2141"/>
                  </a:lnTo>
                  <a:lnTo>
                    <a:pt x="0" y="2140"/>
                  </a:lnTo>
                  <a:lnTo>
                    <a:pt x="0" y="2138"/>
                  </a:lnTo>
                  <a:lnTo>
                    <a:pt x="0" y="2136"/>
                  </a:lnTo>
                  <a:lnTo>
                    <a:pt x="0" y="2107"/>
                  </a:lnTo>
                  <a:lnTo>
                    <a:pt x="0" y="2106"/>
                  </a:lnTo>
                  <a:lnTo>
                    <a:pt x="0" y="2104"/>
                  </a:lnTo>
                  <a:lnTo>
                    <a:pt x="1" y="2103"/>
                  </a:lnTo>
                  <a:lnTo>
                    <a:pt x="4" y="2103"/>
                  </a:lnTo>
                  <a:lnTo>
                    <a:pt x="6" y="2103"/>
                  </a:lnTo>
                  <a:lnTo>
                    <a:pt x="7" y="2104"/>
                  </a:lnTo>
                  <a:lnTo>
                    <a:pt x="9" y="2106"/>
                  </a:lnTo>
                  <a:lnTo>
                    <a:pt x="9" y="2107"/>
                  </a:lnTo>
                  <a:lnTo>
                    <a:pt x="9" y="2107"/>
                  </a:lnTo>
                  <a:close/>
                  <a:moveTo>
                    <a:pt x="9" y="2175"/>
                  </a:moveTo>
                  <a:lnTo>
                    <a:pt x="9" y="2204"/>
                  </a:lnTo>
                  <a:lnTo>
                    <a:pt x="9" y="2206"/>
                  </a:lnTo>
                  <a:lnTo>
                    <a:pt x="7" y="2207"/>
                  </a:lnTo>
                  <a:lnTo>
                    <a:pt x="6" y="2207"/>
                  </a:lnTo>
                  <a:lnTo>
                    <a:pt x="4" y="2209"/>
                  </a:lnTo>
                  <a:lnTo>
                    <a:pt x="1" y="2207"/>
                  </a:lnTo>
                  <a:lnTo>
                    <a:pt x="0" y="2207"/>
                  </a:lnTo>
                  <a:lnTo>
                    <a:pt x="0" y="2206"/>
                  </a:lnTo>
                  <a:lnTo>
                    <a:pt x="0" y="2204"/>
                  </a:lnTo>
                  <a:lnTo>
                    <a:pt x="0" y="2175"/>
                  </a:lnTo>
                  <a:lnTo>
                    <a:pt x="0" y="2173"/>
                  </a:lnTo>
                  <a:lnTo>
                    <a:pt x="0" y="2170"/>
                  </a:lnTo>
                  <a:lnTo>
                    <a:pt x="1" y="2170"/>
                  </a:lnTo>
                  <a:lnTo>
                    <a:pt x="4" y="2170"/>
                  </a:lnTo>
                  <a:lnTo>
                    <a:pt x="6" y="2170"/>
                  </a:lnTo>
                  <a:lnTo>
                    <a:pt x="7" y="2170"/>
                  </a:lnTo>
                  <a:lnTo>
                    <a:pt x="9" y="2173"/>
                  </a:lnTo>
                  <a:lnTo>
                    <a:pt x="9" y="2175"/>
                  </a:lnTo>
                  <a:lnTo>
                    <a:pt x="9" y="2175"/>
                  </a:lnTo>
                  <a:close/>
                  <a:moveTo>
                    <a:pt x="9" y="2243"/>
                  </a:moveTo>
                  <a:lnTo>
                    <a:pt x="9" y="2270"/>
                  </a:lnTo>
                  <a:lnTo>
                    <a:pt x="9" y="2272"/>
                  </a:lnTo>
                  <a:lnTo>
                    <a:pt x="7" y="2273"/>
                  </a:lnTo>
                  <a:lnTo>
                    <a:pt x="6" y="2275"/>
                  </a:lnTo>
                  <a:lnTo>
                    <a:pt x="4" y="2275"/>
                  </a:lnTo>
                  <a:lnTo>
                    <a:pt x="1" y="2275"/>
                  </a:lnTo>
                  <a:lnTo>
                    <a:pt x="0" y="2273"/>
                  </a:lnTo>
                  <a:lnTo>
                    <a:pt x="0" y="2272"/>
                  </a:lnTo>
                  <a:lnTo>
                    <a:pt x="0" y="2270"/>
                  </a:lnTo>
                  <a:lnTo>
                    <a:pt x="0" y="2243"/>
                  </a:lnTo>
                  <a:lnTo>
                    <a:pt x="0" y="2239"/>
                  </a:lnTo>
                  <a:lnTo>
                    <a:pt x="0" y="2238"/>
                  </a:lnTo>
                  <a:lnTo>
                    <a:pt x="1" y="2238"/>
                  </a:lnTo>
                  <a:lnTo>
                    <a:pt x="4" y="2236"/>
                  </a:lnTo>
                  <a:lnTo>
                    <a:pt x="6" y="2238"/>
                  </a:lnTo>
                  <a:lnTo>
                    <a:pt x="7" y="2238"/>
                  </a:lnTo>
                  <a:lnTo>
                    <a:pt x="9" y="2239"/>
                  </a:lnTo>
                  <a:lnTo>
                    <a:pt x="9" y="2243"/>
                  </a:lnTo>
                  <a:lnTo>
                    <a:pt x="9" y="2243"/>
                  </a:lnTo>
                  <a:close/>
                  <a:moveTo>
                    <a:pt x="9" y="2309"/>
                  </a:moveTo>
                  <a:lnTo>
                    <a:pt x="9" y="2338"/>
                  </a:lnTo>
                  <a:lnTo>
                    <a:pt x="9" y="2339"/>
                  </a:lnTo>
                  <a:lnTo>
                    <a:pt x="7" y="2341"/>
                  </a:lnTo>
                  <a:lnTo>
                    <a:pt x="6" y="2342"/>
                  </a:lnTo>
                  <a:lnTo>
                    <a:pt x="4" y="2342"/>
                  </a:lnTo>
                  <a:lnTo>
                    <a:pt x="1" y="2342"/>
                  </a:lnTo>
                  <a:lnTo>
                    <a:pt x="0" y="2341"/>
                  </a:lnTo>
                  <a:lnTo>
                    <a:pt x="0" y="2339"/>
                  </a:lnTo>
                  <a:lnTo>
                    <a:pt x="0" y="2338"/>
                  </a:lnTo>
                  <a:lnTo>
                    <a:pt x="0" y="2309"/>
                  </a:lnTo>
                  <a:lnTo>
                    <a:pt x="0" y="2307"/>
                  </a:lnTo>
                  <a:lnTo>
                    <a:pt x="0" y="2306"/>
                  </a:lnTo>
                  <a:lnTo>
                    <a:pt x="1" y="2304"/>
                  </a:lnTo>
                  <a:lnTo>
                    <a:pt x="4" y="2304"/>
                  </a:lnTo>
                  <a:lnTo>
                    <a:pt x="6" y="2304"/>
                  </a:lnTo>
                  <a:lnTo>
                    <a:pt x="7" y="2306"/>
                  </a:lnTo>
                  <a:lnTo>
                    <a:pt x="9" y="2307"/>
                  </a:lnTo>
                  <a:lnTo>
                    <a:pt x="9" y="2309"/>
                  </a:lnTo>
                  <a:lnTo>
                    <a:pt x="9" y="2309"/>
                  </a:lnTo>
                  <a:close/>
                  <a:moveTo>
                    <a:pt x="9" y="2376"/>
                  </a:moveTo>
                  <a:lnTo>
                    <a:pt x="9" y="2405"/>
                  </a:lnTo>
                  <a:lnTo>
                    <a:pt x="9" y="2407"/>
                  </a:lnTo>
                  <a:lnTo>
                    <a:pt x="7" y="2409"/>
                  </a:lnTo>
                  <a:lnTo>
                    <a:pt x="6" y="2410"/>
                  </a:lnTo>
                  <a:lnTo>
                    <a:pt x="4" y="2410"/>
                  </a:lnTo>
                  <a:lnTo>
                    <a:pt x="1" y="2410"/>
                  </a:lnTo>
                  <a:lnTo>
                    <a:pt x="0" y="2409"/>
                  </a:lnTo>
                  <a:lnTo>
                    <a:pt x="0" y="2407"/>
                  </a:lnTo>
                  <a:lnTo>
                    <a:pt x="0" y="2405"/>
                  </a:lnTo>
                  <a:lnTo>
                    <a:pt x="0" y="2376"/>
                  </a:lnTo>
                  <a:lnTo>
                    <a:pt x="0" y="2375"/>
                  </a:lnTo>
                  <a:lnTo>
                    <a:pt x="0" y="2373"/>
                  </a:lnTo>
                  <a:lnTo>
                    <a:pt x="1" y="2372"/>
                  </a:lnTo>
                  <a:lnTo>
                    <a:pt x="4" y="2372"/>
                  </a:lnTo>
                  <a:lnTo>
                    <a:pt x="6" y="2372"/>
                  </a:lnTo>
                  <a:lnTo>
                    <a:pt x="7" y="2373"/>
                  </a:lnTo>
                  <a:lnTo>
                    <a:pt x="9" y="2375"/>
                  </a:lnTo>
                  <a:lnTo>
                    <a:pt x="9" y="2376"/>
                  </a:lnTo>
                  <a:lnTo>
                    <a:pt x="9" y="2376"/>
                  </a:lnTo>
                  <a:close/>
                  <a:moveTo>
                    <a:pt x="9" y="2444"/>
                  </a:moveTo>
                  <a:lnTo>
                    <a:pt x="9" y="2473"/>
                  </a:lnTo>
                  <a:lnTo>
                    <a:pt x="9" y="2475"/>
                  </a:lnTo>
                  <a:lnTo>
                    <a:pt x="7" y="2476"/>
                  </a:lnTo>
                  <a:lnTo>
                    <a:pt x="6" y="2476"/>
                  </a:lnTo>
                  <a:lnTo>
                    <a:pt x="4" y="2478"/>
                  </a:lnTo>
                  <a:lnTo>
                    <a:pt x="1" y="2476"/>
                  </a:lnTo>
                  <a:lnTo>
                    <a:pt x="0" y="2476"/>
                  </a:lnTo>
                  <a:lnTo>
                    <a:pt x="0" y="2475"/>
                  </a:lnTo>
                  <a:lnTo>
                    <a:pt x="0" y="2473"/>
                  </a:lnTo>
                  <a:lnTo>
                    <a:pt x="0" y="2444"/>
                  </a:lnTo>
                  <a:lnTo>
                    <a:pt x="0" y="2442"/>
                  </a:lnTo>
                  <a:lnTo>
                    <a:pt x="0" y="2439"/>
                  </a:lnTo>
                  <a:lnTo>
                    <a:pt x="1" y="2439"/>
                  </a:lnTo>
                  <a:lnTo>
                    <a:pt x="4" y="2439"/>
                  </a:lnTo>
                  <a:lnTo>
                    <a:pt x="6" y="2439"/>
                  </a:lnTo>
                  <a:lnTo>
                    <a:pt x="7" y="2439"/>
                  </a:lnTo>
                  <a:lnTo>
                    <a:pt x="9" y="2442"/>
                  </a:lnTo>
                  <a:lnTo>
                    <a:pt x="9" y="2444"/>
                  </a:lnTo>
                  <a:lnTo>
                    <a:pt x="9" y="2444"/>
                  </a:lnTo>
                  <a:close/>
                  <a:moveTo>
                    <a:pt x="9" y="2512"/>
                  </a:moveTo>
                  <a:lnTo>
                    <a:pt x="9" y="2539"/>
                  </a:lnTo>
                  <a:lnTo>
                    <a:pt x="9" y="2541"/>
                  </a:lnTo>
                  <a:lnTo>
                    <a:pt x="7" y="2542"/>
                  </a:lnTo>
                  <a:lnTo>
                    <a:pt x="6" y="2544"/>
                  </a:lnTo>
                  <a:lnTo>
                    <a:pt x="4" y="2544"/>
                  </a:lnTo>
                  <a:lnTo>
                    <a:pt x="1" y="2544"/>
                  </a:lnTo>
                  <a:lnTo>
                    <a:pt x="0" y="2542"/>
                  </a:lnTo>
                  <a:lnTo>
                    <a:pt x="0" y="2541"/>
                  </a:lnTo>
                  <a:lnTo>
                    <a:pt x="0" y="2539"/>
                  </a:lnTo>
                  <a:lnTo>
                    <a:pt x="0" y="2512"/>
                  </a:lnTo>
                  <a:lnTo>
                    <a:pt x="0" y="2508"/>
                  </a:lnTo>
                  <a:lnTo>
                    <a:pt x="0" y="2507"/>
                  </a:lnTo>
                  <a:lnTo>
                    <a:pt x="1" y="2507"/>
                  </a:lnTo>
                  <a:lnTo>
                    <a:pt x="4" y="2505"/>
                  </a:lnTo>
                  <a:lnTo>
                    <a:pt x="6" y="2507"/>
                  </a:lnTo>
                  <a:lnTo>
                    <a:pt x="7" y="2507"/>
                  </a:lnTo>
                  <a:lnTo>
                    <a:pt x="9" y="2508"/>
                  </a:lnTo>
                  <a:lnTo>
                    <a:pt x="9" y="2512"/>
                  </a:lnTo>
                  <a:lnTo>
                    <a:pt x="9" y="2512"/>
                  </a:lnTo>
                  <a:close/>
                  <a:moveTo>
                    <a:pt x="9" y="2578"/>
                  </a:moveTo>
                  <a:lnTo>
                    <a:pt x="9" y="2607"/>
                  </a:lnTo>
                  <a:lnTo>
                    <a:pt x="9" y="2608"/>
                  </a:lnTo>
                  <a:lnTo>
                    <a:pt x="7" y="2610"/>
                  </a:lnTo>
                  <a:lnTo>
                    <a:pt x="6" y="2611"/>
                  </a:lnTo>
                  <a:lnTo>
                    <a:pt x="4" y="2611"/>
                  </a:lnTo>
                  <a:lnTo>
                    <a:pt x="1" y="2611"/>
                  </a:lnTo>
                  <a:lnTo>
                    <a:pt x="0" y="2610"/>
                  </a:lnTo>
                  <a:lnTo>
                    <a:pt x="0" y="2608"/>
                  </a:lnTo>
                  <a:lnTo>
                    <a:pt x="0" y="2607"/>
                  </a:lnTo>
                  <a:lnTo>
                    <a:pt x="0" y="2578"/>
                  </a:lnTo>
                  <a:lnTo>
                    <a:pt x="0" y="2576"/>
                  </a:lnTo>
                  <a:lnTo>
                    <a:pt x="0" y="2575"/>
                  </a:lnTo>
                  <a:lnTo>
                    <a:pt x="1" y="2573"/>
                  </a:lnTo>
                  <a:lnTo>
                    <a:pt x="4" y="2573"/>
                  </a:lnTo>
                  <a:lnTo>
                    <a:pt x="6" y="2573"/>
                  </a:lnTo>
                  <a:lnTo>
                    <a:pt x="7" y="2575"/>
                  </a:lnTo>
                  <a:lnTo>
                    <a:pt x="9" y="2576"/>
                  </a:lnTo>
                  <a:lnTo>
                    <a:pt x="9" y="2578"/>
                  </a:lnTo>
                  <a:lnTo>
                    <a:pt x="9" y="2578"/>
                  </a:lnTo>
                  <a:close/>
                  <a:moveTo>
                    <a:pt x="9" y="2645"/>
                  </a:moveTo>
                  <a:lnTo>
                    <a:pt x="9" y="2674"/>
                  </a:lnTo>
                  <a:lnTo>
                    <a:pt x="9" y="2676"/>
                  </a:lnTo>
                  <a:lnTo>
                    <a:pt x="7" y="2678"/>
                  </a:lnTo>
                  <a:lnTo>
                    <a:pt x="6" y="2679"/>
                  </a:lnTo>
                  <a:lnTo>
                    <a:pt x="4" y="2679"/>
                  </a:lnTo>
                  <a:lnTo>
                    <a:pt x="1" y="2679"/>
                  </a:lnTo>
                  <a:lnTo>
                    <a:pt x="0" y="2678"/>
                  </a:lnTo>
                  <a:lnTo>
                    <a:pt x="0" y="2676"/>
                  </a:lnTo>
                  <a:lnTo>
                    <a:pt x="0" y="2674"/>
                  </a:lnTo>
                  <a:lnTo>
                    <a:pt x="0" y="2645"/>
                  </a:lnTo>
                  <a:lnTo>
                    <a:pt x="0" y="2644"/>
                  </a:lnTo>
                  <a:lnTo>
                    <a:pt x="0" y="2642"/>
                  </a:lnTo>
                  <a:lnTo>
                    <a:pt x="1" y="2641"/>
                  </a:lnTo>
                  <a:lnTo>
                    <a:pt x="4" y="2641"/>
                  </a:lnTo>
                  <a:lnTo>
                    <a:pt x="6" y="2641"/>
                  </a:lnTo>
                  <a:lnTo>
                    <a:pt x="7" y="2642"/>
                  </a:lnTo>
                  <a:lnTo>
                    <a:pt x="9" y="2644"/>
                  </a:lnTo>
                  <a:lnTo>
                    <a:pt x="9" y="2645"/>
                  </a:lnTo>
                  <a:lnTo>
                    <a:pt x="9" y="2645"/>
                  </a:lnTo>
                  <a:close/>
                  <a:moveTo>
                    <a:pt x="9" y="2713"/>
                  </a:moveTo>
                  <a:lnTo>
                    <a:pt x="9" y="2742"/>
                  </a:lnTo>
                  <a:lnTo>
                    <a:pt x="9" y="2744"/>
                  </a:lnTo>
                  <a:lnTo>
                    <a:pt x="7" y="2745"/>
                  </a:lnTo>
                  <a:lnTo>
                    <a:pt x="6" y="2745"/>
                  </a:lnTo>
                  <a:lnTo>
                    <a:pt x="4" y="2747"/>
                  </a:lnTo>
                  <a:lnTo>
                    <a:pt x="1" y="2745"/>
                  </a:lnTo>
                  <a:lnTo>
                    <a:pt x="0" y="2745"/>
                  </a:lnTo>
                  <a:lnTo>
                    <a:pt x="0" y="2744"/>
                  </a:lnTo>
                  <a:lnTo>
                    <a:pt x="0" y="2742"/>
                  </a:lnTo>
                  <a:lnTo>
                    <a:pt x="0" y="2713"/>
                  </a:lnTo>
                  <a:lnTo>
                    <a:pt x="0" y="2711"/>
                  </a:lnTo>
                  <a:lnTo>
                    <a:pt x="0" y="2708"/>
                  </a:lnTo>
                  <a:lnTo>
                    <a:pt x="1" y="2708"/>
                  </a:lnTo>
                  <a:lnTo>
                    <a:pt x="4" y="2708"/>
                  </a:lnTo>
                  <a:lnTo>
                    <a:pt x="6" y="2708"/>
                  </a:lnTo>
                  <a:lnTo>
                    <a:pt x="7" y="2708"/>
                  </a:lnTo>
                  <a:lnTo>
                    <a:pt x="9" y="2711"/>
                  </a:lnTo>
                  <a:lnTo>
                    <a:pt x="9" y="2713"/>
                  </a:lnTo>
                  <a:lnTo>
                    <a:pt x="9" y="2713"/>
                  </a:lnTo>
                  <a:close/>
                  <a:moveTo>
                    <a:pt x="9" y="2781"/>
                  </a:moveTo>
                  <a:lnTo>
                    <a:pt x="9" y="2787"/>
                  </a:lnTo>
                  <a:lnTo>
                    <a:pt x="11" y="2808"/>
                  </a:lnTo>
                  <a:lnTo>
                    <a:pt x="11" y="2810"/>
                  </a:lnTo>
                  <a:lnTo>
                    <a:pt x="11" y="2811"/>
                  </a:lnTo>
                  <a:lnTo>
                    <a:pt x="9" y="2813"/>
                  </a:lnTo>
                  <a:lnTo>
                    <a:pt x="7" y="2813"/>
                  </a:lnTo>
                  <a:lnTo>
                    <a:pt x="4" y="2813"/>
                  </a:lnTo>
                  <a:lnTo>
                    <a:pt x="3" y="2813"/>
                  </a:lnTo>
                  <a:lnTo>
                    <a:pt x="1" y="2811"/>
                  </a:lnTo>
                  <a:lnTo>
                    <a:pt x="1" y="2810"/>
                  </a:lnTo>
                  <a:lnTo>
                    <a:pt x="0" y="2787"/>
                  </a:lnTo>
                  <a:lnTo>
                    <a:pt x="0" y="2781"/>
                  </a:lnTo>
                  <a:lnTo>
                    <a:pt x="0" y="2777"/>
                  </a:lnTo>
                  <a:lnTo>
                    <a:pt x="1" y="2776"/>
                  </a:lnTo>
                  <a:lnTo>
                    <a:pt x="3" y="2776"/>
                  </a:lnTo>
                  <a:lnTo>
                    <a:pt x="4" y="2774"/>
                  </a:lnTo>
                  <a:lnTo>
                    <a:pt x="6" y="2776"/>
                  </a:lnTo>
                  <a:lnTo>
                    <a:pt x="7" y="2776"/>
                  </a:lnTo>
                  <a:lnTo>
                    <a:pt x="9" y="2777"/>
                  </a:lnTo>
                  <a:lnTo>
                    <a:pt x="9" y="2781"/>
                  </a:lnTo>
                  <a:lnTo>
                    <a:pt x="9" y="2781"/>
                  </a:lnTo>
                  <a:close/>
                  <a:moveTo>
                    <a:pt x="17" y="2847"/>
                  </a:moveTo>
                  <a:lnTo>
                    <a:pt x="20" y="2868"/>
                  </a:lnTo>
                  <a:lnTo>
                    <a:pt x="21" y="2874"/>
                  </a:lnTo>
                  <a:lnTo>
                    <a:pt x="21" y="2876"/>
                  </a:lnTo>
                  <a:lnTo>
                    <a:pt x="21" y="2877"/>
                  </a:lnTo>
                  <a:lnTo>
                    <a:pt x="20" y="2879"/>
                  </a:lnTo>
                  <a:lnTo>
                    <a:pt x="18" y="2880"/>
                  </a:lnTo>
                  <a:lnTo>
                    <a:pt x="15" y="2879"/>
                  </a:lnTo>
                  <a:lnTo>
                    <a:pt x="14" y="2879"/>
                  </a:lnTo>
                  <a:lnTo>
                    <a:pt x="12" y="2877"/>
                  </a:lnTo>
                  <a:lnTo>
                    <a:pt x="12" y="2876"/>
                  </a:lnTo>
                  <a:lnTo>
                    <a:pt x="11" y="2870"/>
                  </a:lnTo>
                  <a:lnTo>
                    <a:pt x="6" y="2848"/>
                  </a:lnTo>
                  <a:lnTo>
                    <a:pt x="6" y="2845"/>
                  </a:lnTo>
                  <a:lnTo>
                    <a:pt x="7" y="2844"/>
                  </a:lnTo>
                  <a:lnTo>
                    <a:pt x="9" y="2842"/>
                  </a:lnTo>
                  <a:lnTo>
                    <a:pt x="11" y="2842"/>
                  </a:lnTo>
                  <a:lnTo>
                    <a:pt x="12" y="2842"/>
                  </a:lnTo>
                  <a:lnTo>
                    <a:pt x="14" y="2842"/>
                  </a:lnTo>
                  <a:lnTo>
                    <a:pt x="15" y="2844"/>
                  </a:lnTo>
                  <a:lnTo>
                    <a:pt x="17" y="2847"/>
                  </a:lnTo>
                  <a:lnTo>
                    <a:pt x="17" y="2847"/>
                  </a:lnTo>
                  <a:close/>
                  <a:moveTo>
                    <a:pt x="31" y="2911"/>
                  </a:moveTo>
                  <a:lnTo>
                    <a:pt x="34" y="2920"/>
                  </a:lnTo>
                  <a:lnTo>
                    <a:pt x="40" y="2939"/>
                  </a:lnTo>
                  <a:lnTo>
                    <a:pt x="40" y="2940"/>
                  </a:lnTo>
                  <a:lnTo>
                    <a:pt x="40" y="2942"/>
                  </a:lnTo>
                  <a:lnTo>
                    <a:pt x="38" y="2943"/>
                  </a:lnTo>
                  <a:lnTo>
                    <a:pt x="37" y="2945"/>
                  </a:lnTo>
                  <a:lnTo>
                    <a:pt x="34" y="2945"/>
                  </a:lnTo>
                  <a:lnTo>
                    <a:pt x="32" y="2943"/>
                  </a:lnTo>
                  <a:lnTo>
                    <a:pt x="31" y="2943"/>
                  </a:lnTo>
                  <a:lnTo>
                    <a:pt x="31" y="2942"/>
                  </a:lnTo>
                  <a:lnTo>
                    <a:pt x="24" y="2923"/>
                  </a:lnTo>
                  <a:lnTo>
                    <a:pt x="21" y="2914"/>
                  </a:lnTo>
                  <a:lnTo>
                    <a:pt x="21" y="2911"/>
                  </a:lnTo>
                  <a:lnTo>
                    <a:pt x="21" y="2910"/>
                  </a:lnTo>
                  <a:lnTo>
                    <a:pt x="23" y="2908"/>
                  </a:lnTo>
                  <a:lnTo>
                    <a:pt x="24" y="2908"/>
                  </a:lnTo>
                  <a:lnTo>
                    <a:pt x="26" y="2908"/>
                  </a:lnTo>
                  <a:lnTo>
                    <a:pt x="29" y="2908"/>
                  </a:lnTo>
                  <a:lnTo>
                    <a:pt x="29" y="2910"/>
                  </a:lnTo>
                  <a:lnTo>
                    <a:pt x="31" y="2911"/>
                  </a:lnTo>
                  <a:lnTo>
                    <a:pt x="31" y="2911"/>
                  </a:lnTo>
                  <a:close/>
                  <a:moveTo>
                    <a:pt x="54" y="2974"/>
                  </a:moveTo>
                  <a:lnTo>
                    <a:pt x="63" y="2994"/>
                  </a:lnTo>
                  <a:lnTo>
                    <a:pt x="66" y="3000"/>
                  </a:lnTo>
                  <a:lnTo>
                    <a:pt x="66" y="3002"/>
                  </a:lnTo>
                  <a:lnTo>
                    <a:pt x="66" y="3003"/>
                  </a:lnTo>
                  <a:lnTo>
                    <a:pt x="64" y="3005"/>
                  </a:lnTo>
                  <a:lnTo>
                    <a:pt x="63" y="3006"/>
                  </a:lnTo>
                  <a:lnTo>
                    <a:pt x="61" y="3006"/>
                  </a:lnTo>
                  <a:lnTo>
                    <a:pt x="60" y="3006"/>
                  </a:lnTo>
                  <a:lnTo>
                    <a:pt x="58" y="3005"/>
                  </a:lnTo>
                  <a:lnTo>
                    <a:pt x="57" y="3003"/>
                  </a:lnTo>
                  <a:lnTo>
                    <a:pt x="54" y="2999"/>
                  </a:lnTo>
                  <a:lnTo>
                    <a:pt x="44" y="2977"/>
                  </a:lnTo>
                  <a:lnTo>
                    <a:pt x="44" y="2976"/>
                  </a:lnTo>
                  <a:lnTo>
                    <a:pt x="44" y="2974"/>
                  </a:lnTo>
                  <a:lnTo>
                    <a:pt x="44" y="2973"/>
                  </a:lnTo>
                  <a:lnTo>
                    <a:pt x="47" y="2971"/>
                  </a:lnTo>
                  <a:lnTo>
                    <a:pt x="49" y="2971"/>
                  </a:lnTo>
                  <a:lnTo>
                    <a:pt x="51" y="2971"/>
                  </a:lnTo>
                  <a:lnTo>
                    <a:pt x="52" y="2973"/>
                  </a:lnTo>
                  <a:lnTo>
                    <a:pt x="54" y="2974"/>
                  </a:lnTo>
                  <a:lnTo>
                    <a:pt x="54" y="2974"/>
                  </a:lnTo>
                  <a:close/>
                  <a:moveTo>
                    <a:pt x="83" y="3033"/>
                  </a:moveTo>
                  <a:lnTo>
                    <a:pt x="87" y="3042"/>
                  </a:lnTo>
                  <a:lnTo>
                    <a:pt x="98" y="3057"/>
                  </a:lnTo>
                  <a:lnTo>
                    <a:pt x="98" y="3059"/>
                  </a:lnTo>
                  <a:lnTo>
                    <a:pt x="98" y="3060"/>
                  </a:lnTo>
                  <a:lnTo>
                    <a:pt x="98" y="3063"/>
                  </a:lnTo>
                  <a:lnTo>
                    <a:pt x="97" y="3063"/>
                  </a:lnTo>
                  <a:lnTo>
                    <a:pt x="95" y="3065"/>
                  </a:lnTo>
                  <a:lnTo>
                    <a:pt x="94" y="3065"/>
                  </a:lnTo>
                  <a:lnTo>
                    <a:pt x="92" y="3063"/>
                  </a:lnTo>
                  <a:lnTo>
                    <a:pt x="91" y="3063"/>
                  </a:lnTo>
                  <a:lnTo>
                    <a:pt x="80" y="3046"/>
                  </a:lnTo>
                  <a:lnTo>
                    <a:pt x="75" y="3037"/>
                  </a:lnTo>
                  <a:lnTo>
                    <a:pt x="74" y="3036"/>
                  </a:lnTo>
                  <a:lnTo>
                    <a:pt x="74" y="3034"/>
                  </a:lnTo>
                  <a:lnTo>
                    <a:pt x="75" y="3033"/>
                  </a:lnTo>
                  <a:lnTo>
                    <a:pt x="77" y="3031"/>
                  </a:lnTo>
                  <a:lnTo>
                    <a:pt x="78" y="3031"/>
                  </a:lnTo>
                  <a:lnTo>
                    <a:pt x="80" y="3031"/>
                  </a:lnTo>
                  <a:lnTo>
                    <a:pt x="81" y="3031"/>
                  </a:lnTo>
                  <a:lnTo>
                    <a:pt x="83" y="3033"/>
                  </a:lnTo>
                  <a:lnTo>
                    <a:pt x="83" y="3033"/>
                  </a:lnTo>
                  <a:close/>
                  <a:moveTo>
                    <a:pt x="120" y="3088"/>
                  </a:moveTo>
                  <a:lnTo>
                    <a:pt x="134" y="3105"/>
                  </a:lnTo>
                  <a:lnTo>
                    <a:pt x="138" y="3111"/>
                  </a:lnTo>
                  <a:lnTo>
                    <a:pt x="140" y="3113"/>
                  </a:lnTo>
                  <a:lnTo>
                    <a:pt x="140" y="3114"/>
                  </a:lnTo>
                  <a:lnTo>
                    <a:pt x="138" y="3116"/>
                  </a:lnTo>
                  <a:lnTo>
                    <a:pt x="138" y="3117"/>
                  </a:lnTo>
                  <a:lnTo>
                    <a:pt x="135" y="3119"/>
                  </a:lnTo>
                  <a:lnTo>
                    <a:pt x="134" y="3119"/>
                  </a:lnTo>
                  <a:lnTo>
                    <a:pt x="132" y="3119"/>
                  </a:lnTo>
                  <a:lnTo>
                    <a:pt x="130" y="3117"/>
                  </a:lnTo>
                  <a:lnTo>
                    <a:pt x="126" y="3111"/>
                  </a:lnTo>
                  <a:lnTo>
                    <a:pt x="112" y="3094"/>
                  </a:lnTo>
                  <a:lnTo>
                    <a:pt x="112" y="3093"/>
                  </a:lnTo>
                  <a:lnTo>
                    <a:pt x="112" y="3091"/>
                  </a:lnTo>
                  <a:lnTo>
                    <a:pt x="112" y="3089"/>
                  </a:lnTo>
                  <a:lnTo>
                    <a:pt x="114" y="3088"/>
                  </a:lnTo>
                  <a:lnTo>
                    <a:pt x="115" y="3086"/>
                  </a:lnTo>
                  <a:lnTo>
                    <a:pt x="117" y="3086"/>
                  </a:lnTo>
                  <a:lnTo>
                    <a:pt x="118" y="3086"/>
                  </a:lnTo>
                  <a:lnTo>
                    <a:pt x="120" y="3088"/>
                  </a:lnTo>
                  <a:lnTo>
                    <a:pt x="120" y="3088"/>
                  </a:lnTo>
                  <a:close/>
                  <a:moveTo>
                    <a:pt x="164" y="3139"/>
                  </a:moveTo>
                  <a:lnTo>
                    <a:pt x="169" y="3145"/>
                  </a:lnTo>
                  <a:lnTo>
                    <a:pt x="184" y="3159"/>
                  </a:lnTo>
                  <a:lnTo>
                    <a:pt x="186" y="3160"/>
                  </a:lnTo>
                  <a:lnTo>
                    <a:pt x="186" y="3162"/>
                  </a:lnTo>
                  <a:lnTo>
                    <a:pt x="186" y="3163"/>
                  </a:lnTo>
                  <a:lnTo>
                    <a:pt x="184" y="3166"/>
                  </a:lnTo>
                  <a:lnTo>
                    <a:pt x="183" y="3166"/>
                  </a:lnTo>
                  <a:lnTo>
                    <a:pt x="181" y="3166"/>
                  </a:lnTo>
                  <a:lnTo>
                    <a:pt x="180" y="3166"/>
                  </a:lnTo>
                  <a:lnTo>
                    <a:pt x="178" y="3166"/>
                  </a:lnTo>
                  <a:lnTo>
                    <a:pt x="161" y="3151"/>
                  </a:lnTo>
                  <a:lnTo>
                    <a:pt x="157" y="3146"/>
                  </a:lnTo>
                  <a:lnTo>
                    <a:pt x="155" y="3143"/>
                  </a:lnTo>
                  <a:lnTo>
                    <a:pt x="155" y="3142"/>
                  </a:lnTo>
                  <a:lnTo>
                    <a:pt x="157" y="3140"/>
                  </a:lnTo>
                  <a:lnTo>
                    <a:pt x="157" y="3139"/>
                  </a:lnTo>
                  <a:lnTo>
                    <a:pt x="158" y="3137"/>
                  </a:lnTo>
                  <a:lnTo>
                    <a:pt x="160" y="3137"/>
                  </a:lnTo>
                  <a:lnTo>
                    <a:pt x="163" y="3137"/>
                  </a:lnTo>
                  <a:lnTo>
                    <a:pt x="164" y="3139"/>
                  </a:lnTo>
                  <a:lnTo>
                    <a:pt x="164" y="3139"/>
                  </a:lnTo>
                  <a:close/>
                  <a:moveTo>
                    <a:pt x="214" y="3183"/>
                  </a:moveTo>
                  <a:lnTo>
                    <a:pt x="229" y="3196"/>
                  </a:lnTo>
                  <a:lnTo>
                    <a:pt x="237" y="3202"/>
                  </a:lnTo>
                  <a:lnTo>
                    <a:pt x="237" y="3202"/>
                  </a:lnTo>
                  <a:lnTo>
                    <a:pt x="238" y="3205"/>
                  </a:lnTo>
                  <a:lnTo>
                    <a:pt x="238" y="3206"/>
                  </a:lnTo>
                  <a:lnTo>
                    <a:pt x="237" y="3208"/>
                  </a:lnTo>
                  <a:lnTo>
                    <a:pt x="235" y="3209"/>
                  </a:lnTo>
                  <a:lnTo>
                    <a:pt x="234" y="3209"/>
                  </a:lnTo>
                  <a:lnTo>
                    <a:pt x="232" y="3209"/>
                  </a:lnTo>
                  <a:lnTo>
                    <a:pt x="230" y="3209"/>
                  </a:lnTo>
                  <a:lnTo>
                    <a:pt x="223" y="3203"/>
                  </a:lnTo>
                  <a:lnTo>
                    <a:pt x="207" y="3191"/>
                  </a:lnTo>
                  <a:lnTo>
                    <a:pt x="206" y="3189"/>
                  </a:lnTo>
                  <a:lnTo>
                    <a:pt x="206" y="3188"/>
                  </a:lnTo>
                  <a:lnTo>
                    <a:pt x="206" y="3186"/>
                  </a:lnTo>
                  <a:lnTo>
                    <a:pt x="206" y="3185"/>
                  </a:lnTo>
                  <a:lnTo>
                    <a:pt x="207" y="3183"/>
                  </a:lnTo>
                  <a:lnTo>
                    <a:pt x="209" y="3182"/>
                  </a:lnTo>
                  <a:lnTo>
                    <a:pt x="210" y="3183"/>
                  </a:lnTo>
                  <a:lnTo>
                    <a:pt x="214" y="3183"/>
                  </a:lnTo>
                  <a:lnTo>
                    <a:pt x="214" y="3183"/>
                  </a:lnTo>
                  <a:close/>
                  <a:moveTo>
                    <a:pt x="267" y="3222"/>
                  </a:moveTo>
                  <a:lnTo>
                    <a:pt x="272" y="3225"/>
                  </a:lnTo>
                  <a:lnTo>
                    <a:pt x="292" y="3237"/>
                  </a:lnTo>
                  <a:lnTo>
                    <a:pt x="294" y="3239"/>
                  </a:lnTo>
                  <a:lnTo>
                    <a:pt x="294" y="3240"/>
                  </a:lnTo>
                  <a:lnTo>
                    <a:pt x="295" y="3242"/>
                  </a:lnTo>
                  <a:lnTo>
                    <a:pt x="294" y="3243"/>
                  </a:lnTo>
                  <a:lnTo>
                    <a:pt x="292" y="3245"/>
                  </a:lnTo>
                  <a:lnTo>
                    <a:pt x="290" y="3245"/>
                  </a:lnTo>
                  <a:lnTo>
                    <a:pt x="289" y="3245"/>
                  </a:lnTo>
                  <a:lnTo>
                    <a:pt x="287" y="3245"/>
                  </a:lnTo>
                  <a:lnTo>
                    <a:pt x="267" y="3232"/>
                  </a:lnTo>
                  <a:lnTo>
                    <a:pt x="263" y="3231"/>
                  </a:lnTo>
                  <a:lnTo>
                    <a:pt x="261" y="3229"/>
                  </a:lnTo>
                  <a:lnTo>
                    <a:pt x="260" y="3228"/>
                  </a:lnTo>
                  <a:lnTo>
                    <a:pt x="260" y="3225"/>
                  </a:lnTo>
                  <a:lnTo>
                    <a:pt x="261" y="3223"/>
                  </a:lnTo>
                  <a:lnTo>
                    <a:pt x="263" y="3222"/>
                  </a:lnTo>
                  <a:lnTo>
                    <a:pt x="264" y="3222"/>
                  </a:lnTo>
                  <a:lnTo>
                    <a:pt x="266" y="3222"/>
                  </a:lnTo>
                  <a:lnTo>
                    <a:pt x="267" y="3222"/>
                  </a:lnTo>
                  <a:lnTo>
                    <a:pt x="267" y="3222"/>
                  </a:lnTo>
                  <a:close/>
                  <a:moveTo>
                    <a:pt x="326" y="3254"/>
                  </a:moveTo>
                  <a:lnTo>
                    <a:pt x="343" y="3262"/>
                  </a:lnTo>
                  <a:lnTo>
                    <a:pt x="352" y="3265"/>
                  </a:lnTo>
                  <a:lnTo>
                    <a:pt x="354" y="3266"/>
                  </a:lnTo>
                  <a:lnTo>
                    <a:pt x="355" y="3268"/>
                  </a:lnTo>
                  <a:lnTo>
                    <a:pt x="355" y="3269"/>
                  </a:lnTo>
                  <a:lnTo>
                    <a:pt x="355" y="3271"/>
                  </a:lnTo>
                  <a:lnTo>
                    <a:pt x="354" y="3272"/>
                  </a:lnTo>
                  <a:lnTo>
                    <a:pt x="352" y="3274"/>
                  </a:lnTo>
                  <a:lnTo>
                    <a:pt x="350" y="3274"/>
                  </a:lnTo>
                  <a:lnTo>
                    <a:pt x="349" y="3274"/>
                  </a:lnTo>
                  <a:lnTo>
                    <a:pt x="338" y="3269"/>
                  </a:lnTo>
                  <a:lnTo>
                    <a:pt x="323" y="3263"/>
                  </a:lnTo>
                  <a:lnTo>
                    <a:pt x="321" y="3262"/>
                  </a:lnTo>
                  <a:lnTo>
                    <a:pt x="320" y="3260"/>
                  </a:lnTo>
                  <a:lnTo>
                    <a:pt x="320" y="3259"/>
                  </a:lnTo>
                  <a:lnTo>
                    <a:pt x="320" y="3255"/>
                  </a:lnTo>
                  <a:lnTo>
                    <a:pt x="321" y="3254"/>
                  </a:lnTo>
                  <a:lnTo>
                    <a:pt x="323" y="3254"/>
                  </a:lnTo>
                  <a:lnTo>
                    <a:pt x="324" y="3252"/>
                  </a:lnTo>
                  <a:lnTo>
                    <a:pt x="326" y="3254"/>
                  </a:lnTo>
                  <a:lnTo>
                    <a:pt x="326" y="3254"/>
                  </a:lnTo>
                  <a:close/>
                  <a:moveTo>
                    <a:pt x="389" y="3279"/>
                  </a:moveTo>
                  <a:lnTo>
                    <a:pt x="394" y="3280"/>
                  </a:lnTo>
                  <a:lnTo>
                    <a:pt x="417" y="3286"/>
                  </a:lnTo>
                  <a:lnTo>
                    <a:pt x="418" y="3286"/>
                  </a:lnTo>
                  <a:lnTo>
                    <a:pt x="418" y="3288"/>
                  </a:lnTo>
                  <a:lnTo>
                    <a:pt x="420" y="3289"/>
                  </a:lnTo>
                  <a:lnTo>
                    <a:pt x="420" y="3292"/>
                  </a:lnTo>
                  <a:lnTo>
                    <a:pt x="418" y="3294"/>
                  </a:lnTo>
                  <a:lnTo>
                    <a:pt x="417" y="3295"/>
                  </a:lnTo>
                  <a:lnTo>
                    <a:pt x="415" y="3295"/>
                  </a:lnTo>
                  <a:lnTo>
                    <a:pt x="414" y="3295"/>
                  </a:lnTo>
                  <a:lnTo>
                    <a:pt x="390" y="3289"/>
                  </a:lnTo>
                  <a:lnTo>
                    <a:pt x="386" y="3288"/>
                  </a:lnTo>
                  <a:lnTo>
                    <a:pt x="384" y="3286"/>
                  </a:lnTo>
                  <a:lnTo>
                    <a:pt x="383" y="3285"/>
                  </a:lnTo>
                  <a:lnTo>
                    <a:pt x="381" y="3283"/>
                  </a:lnTo>
                  <a:lnTo>
                    <a:pt x="383" y="3282"/>
                  </a:lnTo>
                  <a:lnTo>
                    <a:pt x="383" y="3280"/>
                  </a:lnTo>
                  <a:lnTo>
                    <a:pt x="384" y="3279"/>
                  </a:lnTo>
                  <a:lnTo>
                    <a:pt x="386" y="3277"/>
                  </a:lnTo>
                  <a:lnTo>
                    <a:pt x="389" y="3279"/>
                  </a:lnTo>
                  <a:lnTo>
                    <a:pt x="389" y="3279"/>
                  </a:lnTo>
                  <a:close/>
                  <a:moveTo>
                    <a:pt x="454" y="3294"/>
                  </a:moveTo>
                  <a:lnTo>
                    <a:pt x="472" y="3298"/>
                  </a:lnTo>
                  <a:lnTo>
                    <a:pt x="481" y="3298"/>
                  </a:lnTo>
                  <a:lnTo>
                    <a:pt x="483" y="3300"/>
                  </a:lnTo>
                  <a:lnTo>
                    <a:pt x="484" y="3300"/>
                  </a:lnTo>
                  <a:lnTo>
                    <a:pt x="484" y="3302"/>
                  </a:lnTo>
                  <a:lnTo>
                    <a:pt x="486" y="3305"/>
                  </a:lnTo>
                  <a:lnTo>
                    <a:pt x="484" y="3306"/>
                  </a:lnTo>
                  <a:lnTo>
                    <a:pt x="483" y="3308"/>
                  </a:lnTo>
                  <a:lnTo>
                    <a:pt x="481" y="3308"/>
                  </a:lnTo>
                  <a:lnTo>
                    <a:pt x="480" y="3308"/>
                  </a:lnTo>
                  <a:lnTo>
                    <a:pt x="470" y="3308"/>
                  </a:lnTo>
                  <a:lnTo>
                    <a:pt x="452" y="3303"/>
                  </a:lnTo>
                  <a:lnTo>
                    <a:pt x="449" y="3303"/>
                  </a:lnTo>
                  <a:lnTo>
                    <a:pt x="447" y="3302"/>
                  </a:lnTo>
                  <a:lnTo>
                    <a:pt x="447" y="3300"/>
                  </a:lnTo>
                  <a:lnTo>
                    <a:pt x="447" y="3298"/>
                  </a:lnTo>
                  <a:lnTo>
                    <a:pt x="447" y="3297"/>
                  </a:lnTo>
                  <a:lnTo>
                    <a:pt x="449" y="3295"/>
                  </a:lnTo>
                  <a:lnTo>
                    <a:pt x="450" y="3294"/>
                  </a:lnTo>
                  <a:lnTo>
                    <a:pt x="454" y="3294"/>
                  </a:lnTo>
                  <a:lnTo>
                    <a:pt x="454" y="3294"/>
                  </a:lnTo>
                  <a:close/>
                  <a:moveTo>
                    <a:pt x="520" y="3303"/>
                  </a:moveTo>
                  <a:lnTo>
                    <a:pt x="527" y="3303"/>
                  </a:lnTo>
                  <a:lnTo>
                    <a:pt x="547" y="3305"/>
                  </a:lnTo>
                  <a:lnTo>
                    <a:pt x="549" y="3305"/>
                  </a:lnTo>
                  <a:lnTo>
                    <a:pt x="550" y="3305"/>
                  </a:lnTo>
                  <a:lnTo>
                    <a:pt x="552" y="3306"/>
                  </a:lnTo>
                  <a:lnTo>
                    <a:pt x="552" y="3309"/>
                  </a:lnTo>
                  <a:lnTo>
                    <a:pt x="552" y="3311"/>
                  </a:lnTo>
                  <a:lnTo>
                    <a:pt x="550" y="3312"/>
                  </a:lnTo>
                  <a:lnTo>
                    <a:pt x="549" y="3312"/>
                  </a:lnTo>
                  <a:lnTo>
                    <a:pt x="547" y="3314"/>
                  </a:lnTo>
                  <a:lnTo>
                    <a:pt x="526" y="3312"/>
                  </a:lnTo>
                  <a:lnTo>
                    <a:pt x="518" y="3312"/>
                  </a:lnTo>
                  <a:lnTo>
                    <a:pt x="517" y="3312"/>
                  </a:lnTo>
                  <a:lnTo>
                    <a:pt x="515" y="3311"/>
                  </a:lnTo>
                  <a:lnTo>
                    <a:pt x="513" y="3309"/>
                  </a:lnTo>
                  <a:lnTo>
                    <a:pt x="513" y="3308"/>
                  </a:lnTo>
                  <a:lnTo>
                    <a:pt x="515" y="3305"/>
                  </a:lnTo>
                  <a:lnTo>
                    <a:pt x="515" y="3303"/>
                  </a:lnTo>
                  <a:lnTo>
                    <a:pt x="517" y="3303"/>
                  </a:lnTo>
                  <a:lnTo>
                    <a:pt x="520" y="3303"/>
                  </a:lnTo>
                  <a:lnTo>
                    <a:pt x="520" y="3303"/>
                  </a:lnTo>
                  <a:close/>
                  <a:moveTo>
                    <a:pt x="586" y="3305"/>
                  </a:moveTo>
                  <a:lnTo>
                    <a:pt x="615" y="3305"/>
                  </a:lnTo>
                  <a:lnTo>
                    <a:pt x="617" y="3305"/>
                  </a:lnTo>
                  <a:lnTo>
                    <a:pt x="618" y="3305"/>
                  </a:lnTo>
                  <a:lnTo>
                    <a:pt x="620" y="3306"/>
                  </a:lnTo>
                  <a:lnTo>
                    <a:pt x="620" y="3309"/>
                  </a:lnTo>
                  <a:lnTo>
                    <a:pt x="620" y="3311"/>
                  </a:lnTo>
                  <a:lnTo>
                    <a:pt x="618" y="3312"/>
                  </a:lnTo>
                  <a:lnTo>
                    <a:pt x="617" y="3314"/>
                  </a:lnTo>
                  <a:lnTo>
                    <a:pt x="615" y="3314"/>
                  </a:lnTo>
                  <a:lnTo>
                    <a:pt x="586" y="3314"/>
                  </a:lnTo>
                  <a:lnTo>
                    <a:pt x="584" y="3314"/>
                  </a:lnTo>
                  <a:lnTo>
                    <a:pt x="583" y="3312"/>
                  </a:lnTo>
                  <a:lnTo>
                    <a:pt x="581" y="3311"/>
                  </a:lnTo>
                  <a:lnTo>
                    <a:pt x="581" y="3309"/>
                  </a:lnTo>
                  <a:lnTo>
                    <a:pt x="581" y="3306"/>
                  </a:lnTo>
                  <a:lnTo>
                    <a:pt x="583" y="3305"/>
                  </a:lnTo>
                  <a:lnTo>
                    <a:pt x="584" y="3305"/>
                  </a:lnTo>
                  <a:lnTo>
                    <a:pt x="586" y="3305"/>
                  </a:lnTo>
                  <a:lnTo>
                    <a:pt x="586" y="3305"/>
                  </a:lnTo>
                  <a:close/>
                  <a:moveTo>
                    <a:pt x="653" y="3305"/>
                  </a:moveTo>
                  <a:lnTo>
                    <a:pt x="683" y="3305"/>
                  </a:lnTo>
                  <a:lnTo>
                    <a:pt x="684" y="3305"/>
                  </a:lnTo>
                  <a:lnTo>
                    <a:pt x="686" y="3305"/>
                  </a:lnTo>
                  <a:lnTo>
                    <a:pt x="687" y="3306"/>
                  </a:lnTo>
                  <a:lnTo>
                    <a:pt x="687" y="3309"/>
                  </a:lnTo>
                  <a:lnTo>
                    <a:pt x="687" y="3311"/>
                  </a:lnTo>
                  <a:lnTo>
                    <a:pt x="686" y="3312"/>
                  </a:lnTo>
                  <a:lnTo>
                    <a:pt x="684" y="3314"/>
                  </a:lnTo>
                  <a:lnTo>
                    <a:pt x="683" y="3314"/>
                  </a:lnTo>
                  <a:lnTo>
                    <a:pt x="653" y="3314"/>
                  </a:lnTo>
                  <a:lnTo>
                    <a:pt x="652" y="3314"/>
                  </a:lnTo>
                  <a:lnTo>
                    <a:pt x="650" y="3312"/>
                  </a:lnTo>
                  <a:lnTo>
                    <a:pt x="649" y="3311"/>
                  </a:lnTo>
                  <a:lnTo>
                    <a:pt x="649" y="3309"/>
                  </a:lnTo>
                  <a:lnTo>
                    <a:pt x="649" y="3306"/>
                  </a:lnTo>
                  <a:lnTo>
                    <a:pt x="650" y="3305"/>
                  </a:lnTo>
                  <a:lnTo>
                    <a:pt x="652" y="3305"/>
                  </a:lnTo>
                  <a:lnTo>
                    <a:pt x="653" y="3305"/>
                  </a:lnTo>
                  <a:lnTo>
                    <a:pt x="653" y="3305"/>
                  </a:lnTo>
                  <a:close/>
                  <a:moveTo>
                    <a:pt x="721" y="3305"/>
                  </a:moveTo>
                  <a:lnTo>
                    <a:pt x="749" y="3305"/>
                  </a:lnTo>
                  <a:lnTo>
                    <a:pt x="752" y="3305"/>
                  </a:lnTo>
                  <a:lnTo>
                    <a:pt x="753" y="3305"/>
                  </a:lnTo>
                  <a:lnTo>
                    <a:pt x="753" y="3306"/>
                  </a:lnTo>
                  <a:lnTo>
                    <a:pt x="755" y="3309"/>
                  </a:lnTo>
                  <a:lnTo>
                    <a:pt x="753" y="3311"/>
                  </a:lnTo>
                  <a:lnTo>
                    <a:pt x="753" y="3312"/>
                  </a:lnTo>
                  <a:lnTo>
                    <a:pt x="752" y="3314"/>
                  </a:lnTo>
                  <a:lnTo>
                    <a:pt x="749" y="3314"/>
                  </a:lnTo>
                  <a:lnTo>
                    <a:pt x="721" y="3314"/>
                  </a:lnTo>
                  <a:lnTo>
                    <a:pt x="718" y="3314"/>
                  </a:lnTo>
                  <a:lnTo>
                    <a:pt x="717" y="3312"/>
                  </a:lnTo>
                  <a:lnTo>
                    <a:pt x="717" y="3311"/>
                  </a:lnTo>
                  <a:lnTo>
                    <a:pt x="717" y="3309"/>
                  </a:lnTo>
                  <a:lnTo>
                    <a:pt x="717" y="3306"/>
                  </a:lnTo>
                  <a:lnTo>
                    <a:pt x="717" y="3305"/>
                  </a:lnTo>
                  <a:lnTo>
                    <a:pt x="718" y="3305"/>
                  </a:lnTo>
                  <a:lnTo>
                    <a:pt x="721" y="3305"/>
                  </a:lnTo>
                  <a:lnTo>
                    <a:pt x="721" y="3305"/>
                  </a:lnTo>
                  <a:close/>
                  <a:moveTo>
                    <a:pt x="787" y="3305"/>
                  </a:moveTo>
                  <a:lnTo>
                    <a:pt x="817" y="3305"/>
                  </a:lnTo>
                  <a:lnTo>
                    <a:pt x="818" y="3305"/>
                  </a:lnTo>
                  <a:lnTo>
                    <a:pt x="820" y="3305"/>
                  </a:lnTo>
                  <a:lnTo>
                    <a:pt x="821" y="3306"/>
                  </a:lnTo>
                  <a:lnTo>
                    <a:pt x="821" y="3309"/>
                  </a:lnTo>
                  <a:lnTo>
                    <a:pt x="821" y="3311"/>
                  </a:lnTo>
                  <a:lnTo>
                    <a:pt x="820" y="3312"/>
                  </a:lnTo>
                  <a:lnTo>
                    <a:pt x="818" y="3314"/>
                  </a:lnTo>
                  <a:lnTo>
                    <a:pt x="817" y="3314"/>
                  </a:lnTo>
                  <a:lnTo>
                    <a:pt x="787" y="3314"/>
                  </a:lnTo>
                  <a:lnTo>
                    <a:pt x="786" y="3314"/>
                  </a:lnTo>
                  <a:lnTo>
                    <a:pt x="784" y="3312"/>
                  </a:lnTo>
                  <a:lnTo>
                    <a:pt x="783" y="3311"/>
                  </a:lnTo>
                  <a:lnTo>
                    <a:pt x="783" y="3309"/>
                  </a:lnTo>
                  <a:lnTo>
                    <a:pt x="783" y="3306"/>
                  </a:lnTo>
                  <a:lnTo>
                    <a:pt x="784" y="3305"/>
                  </a:lnTo>
                  <a:lnTo>
                    <a:pt x="786" y="3305"/>
                  </a:lnTo>
                  <a:lnTo>
                    <a:pt x="787" y="3305"/>
                  </a:lnTo>
                  <a:lnTo>
                    <a:pt x="787" y="3305"/>
                  </a:lnTo>
                  <a:close/>
                  <a:moveTo>
                    <a:pt x="855" y="3305"/>
                  </a:moveTo>
                  <a:lnTo>
                    <a:pt x="884" y="3305"/>
                  </a:lnTo>
                  <a:lnTo>
                    <a:pt x="886" y="3305"/>
                  </a:lnTo>
                  <a:lnTo>
                    <a:pt x="887" y="3305"/>
                  </a:lnTo>
                  <a:lnTo>
                    <a:pt x="889" y="3306"/>
                  </a:lnTo>
                  <a:lnTo>
                    <a:pt x="889" y="3309"/>
                  </a:lnTo>
                  <a:lnTo>
                    <a:pt x="889" y="3311"/>
                  </a:lnTo>
                  <a:lnTo>
                    <a:pt x="887" y="3312"/>
                  </a:lnTo>
                  <a:lnTo>
                    <a:pt x="886" y="3314"/>
                  </a:lnTo>
                  <a:lnTo>
                    <a:pt x="884" y="3314"/>
                  </a:lnTo>
                  <a:lnTo>
                    <a:pt x="855" y="3314"/>
                  </a:lnTo>
                  <a:lnTo>
                    <a:pt x="853" y="3314"/>
                  </a:lnTo>
                  <a:lnTo>
                    <a:pt x="852" y="3312"/>
                  </a:lnTo>
                  <a:lnTo>
                    <a:pt x="850" y="3311"/>
                  </a:lnTo>
                  <a:lnTo>
                    <a:pt x="850" y="3309"/>
                  </a:lnTo>
                  <a:lnTo>
                    <a:pt x="850" y="3306"/>
                  </a:lnTo>
                  <a:lnTo>
                    <a:pt x="852" y="3305"/>
                  </a:lnTo>
                  <a:lnTo>
                    <a:pt x="853" y="3305"/>
                  </a:lnTo>
                  <a:lnTo>
                    <a:pt x="855" y="3305"/>
                  </a:lnTo>
                  <a:lnTo>
                    <a:pt x="855" y="3305"/>
                  </a:lnTo>
                  <a:close/>
                  <a:moveTo>
                    <a:pt x="923" y="3305"/>
                  </a:moveTo>
                  <a:lnTo>
                    <a:pt x="952" y="3305"/>
                  </a:lnTo>
                  <a:lnTo>
                    <a:pt x="953" y="3305"/>
                  </a:lnTo>
                  <a:lnTo>
                    <a:pt x="955" y="3305"/>
                  </a:lnTo>
                  <a:lnTo>
                    <a:pt x="956" y="3306"/>
                  </a:lnTo>
                  <a:lnTo>
                    <a:pt x="956" y="3309"/>
                  </a:lnTo>
                  <a:lnTo>
                    <a:pt x="956" y="3311"/>
                  </a:lnTo>
                  <a:lnTo>
                    <a:pt x="955" y="3312"/>
                  </a:lnTo>
                  <a:lnTo>
                    <a:pt x="953" y="3314"/>
                  </a:lnTo>
                  <a:lnTo>
                    <a:pt x="952" y="3314"/>
                  </a:lnTo>
                  <a:lnTo>
                    <a:pt x="923" y="3314"/>
                  </a:lnTo>
                  <a:lnTo>
                    <a:pt x="921" y="3314"/>
                  </a:lnTo>
                  <a:lnTo>
                    <a:pt x="920" y="3312"/>
                  </a:lnTo>
                  <a:lnTo>
                    <a:pt x="918" y="3311"/>
                  </a:lnTo>
                  <a:lnTo>
                    <a:pt x="918" y="3309"/>
                  </a:lnTo>
                  <a:lnTo>
                    <a:pt x="918" y="3306"/>
                  </a:lnTo>
                  <a:lnTo>
                    <a:pt x="920" y="3305"/>
                  </a:lnTo>
                  <a:lnTo>
                    <a:pt x="921" y="3305"/>
                  </a:lnTo>
                  <a:lnTo>
                    <a:pt x="923" y="3305"/>
                  </a:lnTo>
                  <a:lnTo>
                    <a:pt x="923" y="3305"/>
                  </a:lnTo>
                  <a:close/>
                  <a:moveTo>
                    <a:pt x="990" y="3305"/>
                  </a:moveTo>
                  <a:lnTo>
                    <a:pt x="1018" y="3305"/>
                  </a:lnTo>
                  <a:lnTo>
                    <a:pt x="1021" y="3305"/>
                  </a:lnTo>
                  <a:lnTo>
                    <a:pt x="1023" y="3305"/>
                  </a:lnTo>
                  <a:lnTo>
                    <a:pt x="1023" y="3306"/>
                  </a:lnTo>
                  <a:lnTo>
                    <a:pt x="1024" y="3309"/>
                  </a:lnTo>
                  <a:lnTo>
                    <a:pt x="1023" y="3311"/>
                  </a:lnTo>
                  <a:lnTo>
                    <a:pt x="1023" y="3312"/>
                  </a:lnTo>
                  <a:lnTo>
                    <a:pt x="1021" y="3314"/>
                  </a:lnTo>
                  <a:lnTo>
                    <a:pt x="1018" y="3314"/>
                  </a:lnTo>
                  <a:lnTo>
                    <a:pt x="990" y="3314"/>
                  </a:lnTo>
                  <a:lnTo>
                    <a:pt x="987" y="3314"/>
                  </a:lnTo>
                  <a:lnTo>
                    <a:pt x="986" y="3312"/>
                  </a:lnTo>
                  <a:lnTo>
                    <a:pt x="986" y="3311"/>
                  </a:lnTo>
                  <a:lnTo>
                    <a:pt x="986" y="3309"/>
                  </a:lnTo>
                  <a:lnTo>
                    <a:pt x="986" y="3306"/>
                  </a:lnTo>
                  <a:lnTo>
                    <a:pt x="986" y="3305"/>
                  </a:lnTo>
                  <a:lnTo>
                    <a:pt x="987" y="3305"/>
                  </a:lnTo>
                  <a:lnTo>
                    <a:pt x="990" y="3305"/>
                  </a:lnTo>
                  <a:lnTo>
                    <a:pt x="990" y="3305"/>
                  </a:lnTo>
                  <a:close/>
                  <a:moveTo>
                    <a:pt x="1056" y="3305"/>
                  </a:moveTo>
                  <a:lnTo>
                    <a:pt x="1086" y="3305"/>
                  </a:lnTo>
                  <a:lnTo>
                    <a:pt x="1087" y="3305"/>
                  </a:lnTo>
                  <a:lnTo>
                    <a:pt x="1089" y="3305"/>
                  </a:lnTo>
                  <a:lnTo>
                    <a:pt x="1090" y="3306"/>
                  </a:lnTo>
                  <a:lnTo>
                    <a:pt x="1090" y="3309"/>
                  </a:lnTo>
                  <a:lnTo>
                    <a:pt x="1090" y="3311"/>
                  </a:lnTo>
                  <a:lnTo>
                    <a:pt x="1089" y="3312"/>
                  </a:lnTo>
                  <a:lnTo>
                    <a:pt x="1087" y="3314"/>
                  </a:lnTo>
                  <a:lnTo>
                    <a:pt x="1086" y="3314"/>
                  </a:lnTo>
                  <a:lnTo>
                    <a:pt x="1056" y="3314"/>
                  </a:lnTo>
                  <a:lnTo>
                    <a:pt x="1055" y="3314"/>
                  </a:lnTo>
                  <a:lnTo>
                    <a:pt x="1053" y="3312"/>
                  </a:lnTo>
                  <a:lnTo>
                    <a:pt x="1052" y="3311"/>
                  </a:lnTo>
                  <a:lnTo>
                    <a:pt x="1052" y="3309"/>
                  </a:lnTo>
                  <a:lnTo>
                    <a:pt x="1052" y="3306"/>
                  </a:lnTo>
                  <a:lnTo>
                    <a:pt x="1053" y="3305"/>
                  </a:lnTo>
                  <a:lnTo>
                    <a:pt x="1055" y="3305"/>
                  </a:lnTo>
                  <a:lnTo>
                    <a:pt x="1056" y="3305"/>
                  </a:lnTo>
                  <a:lnTo>
                    <a:pt x="1056" y="3305"/>
                  </a:lnTo>
                  <a:close/>
                  <a:moveTo>
                    <a:pt x="1124" y="3305"/>
                  </a:moveTo>
                  <a:lnTo>
                    <a:pt x="1153" y="3305"/>
                  </a:lnTo>
                  <a:lnTo>
                    <a:pt x="1155" y="3305"/>
                  </a:lnTo>
                  <a:lnTo>
                    <a:pt x="1156" y="3305"/>
                  </a:lnTo>
                  <a:lnTo>
                    <a:pt x="1158" y="3306"/>
                  </a:lnTo>
                  <a:lnTo>
                    <a:pt x="1158" y="3309"/>
                  </a:lnTo>
                  <a:lnTo>
                    <a:pt x="1158" y="3311"/>
                  </a:lnTo>
                  <a:lnTo>
                    <a:pt x="1156" y="3312"/>
                  </a:lnTo>
                  <a:lnTo>
                    <a:pt x="1155" y="3314"/>
                  </a:lnTo>
                  <a:lnTo>
                    <a:pt x="1153" y="3314"/>
                  </a:lnTo>
                  <a:lnTo>
                    <a:pt x="1124" y="3314"/>
                  </a:lnTo>
                  <a:lnTo>
                    <a:pt x="1123" y="3314"/>
                  </a:lnTo>
                  <a:lnTo>
                    <a:pt x="1121" y="3312"/>
                  </a:lnTo>
                  <a:lnTo>
                    <a:pt x="1120" y="3311"/>
                  </a:lnTo>
                  <a:lnTo>
                    <a:pt x="1120" y="3309"/>
                  </a:lnTo>
                  <a:lnTo>
                    <a:pt x="1120" y="3306"/>
                  </a:lnTo>
                  <a:lnTo>
                    <a:pt x="1121" y="3305"/>
                  </a:lnTo>
                  <a:lnTo>
                    <a:pt x="1123" y="3305"/>
                  </a:lnTo>
                  <a:lnTo>
                    <a:pt x="1124" y="3305"/>
                  </a:lnTo>
                  <a:lnTo>
                    <a:pt x="1124" y="3305"/>
                  </a:lnTo>
                  <a:close/>
                  <a:moveTo>
                    <a:pt x="1192" y="3305"/>
                  </a:moveTo>
                  <a:lnTo>
                    <a:pt x="1221" y="3305"/>
                  </a:lnTo>
                  <a:lnTo>
                    <a:pt x="1223" y="3305"/>
                  </a:lnTo>
                  <a:lnTo>
                    <a:pt x="1224" y="3305"/>
                  </a:lnTo>
                  <a:lnTo>
                    <a:pt x="1226" y="3306"/>
                  </a:lnTo>
                  <a:lnTo>
                    <a:pt x="1226" y="3309"/>
                  </a:lnTo>
                  <a:lnTo>
                    <a:pt x="1226" y="3311"/>
                  </a:lnTo>
                  <a:lnTo>
                    <a:pt x="1224" y="3312"/>
                  </a:lnTo>
                  <a:lnTo>
                    <a:pt x="1223" y="3314"/>
                  </a:lnTo>
                  <a:lnTo>
                    <a:pt x="1221" y="3314"/>
                  </a:lnTo>
                  <a:lnTo>
                    <a:pt x="1192" y="3314"/>
                  </a:lnTo>
                  <a:lnTo>
                    <a:pt x="1190" y="3314"/>
                  </a:lnTo>
                  <a:lnTo>
                    <a:pt x="1189" y="3312"/>
                  </a:lnTo>
                  <a:lnTo>
                    <a:pt x="1187" y="3311"/>
                  </a:lnTo>
                  <a:lnTo>
                    <a:pt x="1187" y="3309"/>
                  </a:lnTo>
                  <a:lnTo>
                    <a:pt x="1187" y="3306"/>
                  </a:lnTo>
                  <a:lnTo>
                    <a:pt x="1189" y="3305"/>
                  </a:lnTo>
                  <a:lnTo>
                    <a:pt x="1190" y="3305"/>
                  </a:lnTo>
                  <a:lnTo>
                    <a:pt x="1192" y="3305"/>
                  </a:lnTo>
                  <a:lnTo>
                    <a:pt x="1192" y="3305"/>
                  </a:lnTo>
                  <a:close/>
                  <a:moveTo>
                    <a:pt x="1259" y="3305"/>
                  </a:moveTo>
                  <a:lnTo>
                    <a:pt x="1287" y="3305"/>
                  </a:lnTo>
                  <a:lnTo>
                    <a:pt x="1290" y="3305"/>
                  </a:lnTo>
                  <a:lnTo>
                    <a:pt x="1292" y="3305"/>
                  </a:lnTo>
                  <a:lnTo>
                    <a:pt x="1292" y="3306"/>
                  </a:lnTo>
                  <a:lnTo>
                    <a:pt x="1293" y="3309"/>
                  </a:lnTo>
                  <a:lnTo>
                    <a:pt x="1292" y="3311"/>
                  </a:lnTo>
                  <a:lnTo>
                    <a:pt x="1292" y="3312"/>
                  </a:lnTo>
                  <a:lnTo>
                    <a:pt x="1290" y="3314"/>
                  </a:lnTo>
                  <a:lnTo>
                    <a:pt x="1287" y="3314"/>
                  </a:lnTo>
                  <a:lnTo>
                    <a:pt x="1259" y="3314"/>
                  </a:lnTo>
                  <a:lnTo>
                    <a:pt x="1256" y="3314"/>
                  </a:lnTo>
                  <a:lnTo>
                    <a:pt x="1255" y="3312"/>
                  </a:lnTo>
                  <a:lnTo>
                    <a:pt x="1255" y="3311"/>
                  </a:lnTo>
                  <a:lnTo>
                    <a:pt x="1255" y="3309"/>
                  </a:lnTo>
                  <a:lnTo>
                    <a:pt x="1255" y="3306"/>
                  </a:lnTo>
                  <a:lnTo>
                    <a:pt x="1255" y="3305"/>
                  </a:lnTo>
                  <a:lnTo>
                    <a:pt x="1256" y="3305"/>
                  </a:lnTo>
                  <a:lnTo>
                    <a:pt x="1259" y="3305"/>
                  </a:lnTo>
                  <a:lnTo>
                    <a:pt x="1259" y="3305"/>
                  </a:lnTo>
                  <a:close/>
                  <a:moveTo>
                    <a:pt x="1326" y="3305"/>
                  </a:moveTo>
                  <a:lnTo>
                    <a:pt x="1355" y="3305"/>
                  </a:lnTo>
                  <a:lnTo>
                    <a:pt x="1356" y="3305"/>
                  </a:lnTo>
                  <a:lnTo>
                    <a:pt x="1358" y="3305"/>
                  </a:lnTo>
                  <a:lnTo>
                    <a:pt x="1359" y="3306"/>
                  </a:lnTo>
                  <a:lnTo>
                    <a:pt x="1359" y="3309"/>
                  </a:lnTo>
                  <a:lnTo>
                    <a:pt x="1359" y="3311"/>
                  </a:lnTo>
                  <a:lnTo>
                    <a:pt x="1358" y="3312"/>
                  </a:lnTo>
                  <a:lnTo>
                    <a:pt x="1356" y="3314"/>
                  </a:lnTo>
                  <a:lnTo>
                    <a:pt x="1355" y="3314"/>
                  </a:lnTo>
                  <a:lnTo>
                    <a:pt x="1326" y="3314"/>
                  </a:lnTo>
                  <a:lnTo>
                    <a:pt x="1324" y="3314"/>
                  </a:lnTo>
                  <a:lnTo>
                    <a:pt x="1323" y="3312"/>
                  </a:lnTo>
                  <a:lnTo>
                    <a:pt x="1321" y="3311"/>
                  </a:lnTo>
                  <a:lnTo>
                    <a:pt x="1321" y="3309"/>
                  </a:lnTo>
                  <a:lnTo>
                    <a:pt x="1321" y="3306"/>
                  </a:lnTo>
                  <a:lnTo>
                    <a:pt x="1323" y="3305"/>
                  </a:lnTo>
                  <a:lnTo>
                    <a:pt x="1324" y="3305"/>
                  </a:lnTo>
                  <a:lnTo>
                    <a:pt x="1326" y="3305"/>
                  </a:lnTo>
                  <a:lnTo>
                    <a:pt x="1326" y="3305"/>
                  </a:lnTo>
                  <a:close/>
                  <a:moveTo>
                    <a:pt x="1393" y="3305"/>
                  </a:moveTo>
                  <a:lnTo>
                    <a:pt x="1423" y="3305"/>
                  </a:lnTo>
                  <a:lnTo>
                    <a:pt x="1424" y="3305"/>
                  </a:lnTo>
                  <a:lnTo>
                    <a:pt x="1426" y="3305"/>
                  </a:lnTo>
                  <a:lnTo>
                    <a:pt x="1427" y="3306"/>
                  </a:lnTo>
                  <a:lnTo>
                    <a:pt x="1427" y="3309"/>
                  </a:lnTo>
                  <a:lnTo>
                    <a:pt x="1427" y="3311"/>
                  </a:lnTo>
                  <a:lnTo>
                    <a:pt x="1426" y="3312"/>
                  </a:lnTo>
                  <a:lnTo>
                    <a:pt x="1424" y="3314"/>
                  </a:lnTo>
                  <a:lnTo>
                    <a:pt x="1423" y="3314"/>
                  </a:lnTo>
                  <a:lnTo>
                    <a:pt x="1393" y="3314"/>
                  </a:lnTo>
                  <a:lnTo>
                    <a:pt x="1392" y="3314"/>
                  </a:lnTo>
                  <a:lnTo>
                    <a:pt x="1390" y="3312"/>
                  </a:lnTo>
                  <a:lnTo>
                    <a:pt x="1389" y="3311"/>
                  </a:lnTo>
                  <a:lnTo>
                    <a:pt x="1389" y="3309"/>
                  </a:lnTo>
                  <a:lnTo>
                    <a:pt x="1389" y="3306"/>
                  </a:lnTo>
                  <a:lnTo>
                    <a:pt x="1390" y="3305"/>
                  </a:lnTo>
                  <a:lnTo>
                    <a:pt x="1392" y="3305"/>
                  </a:lnTo>
                  <a:lnTo>
                    <a:pt x="1393" y="3305"/>
                  </a:lnTo>
                  <a:lnTo>
                    <a:pt x="1393" y="3305"/>
                  </a:lnTo>
                  <a:close/>
                  <a:moveTo>
                    <a:pt x="1461" y="3305"/>
                  </a:moveTo>
                  <a:lnTo>
                    <a:pt x="1490" y="3305"/>
                  </a:lnTo>
                  <a:lnTo>
                    <a:pt x="1492" y="3305"/>
                  </a:lnTo>
                  <a:lnTo>
                    <a:pt x="1493" y="3305"/>
                  </a:lnTo>
                  <a:lnTo>
                    <a:pt x="1495" y="3306"/>
                  </a:lnTo>
                  <a:lnTo>
                    <a:pt x="1495" y="3309"/>
                  </a:lnTo>
                  <a:lnTo>
                    <a:pt x="1495" y="3311"/>
                  </a:lnTo>
                  <a:lnTo>
                    <a:pt x="1493" y="3312"/>
                  </a:lnTo>
                  <a:lnTo>
                    <a:pt x="1492" y="3314"/>
                  </a:lnTo>
                  <a:lnTo>
                    <a:pt x="1490" y="3314"/>
                  </a:lnTo>
                  <a:lnTo>
                    <a:pt x="1461" y="3314"/>
                  </a:lnTo>
                  <a:lnTo>
                    <a:pt x="1459" y="3314"/>
                  </a:lnTo>
                  <a:lnTo>
                    <a:pt x="1458" y="3312"/>
                  </a:lnTo>
                  <a:lnTo>
                    <a:pt x="1456" y="3311"/>
                  </a:lnTo>
                  <a:lnTo>
                    <a:pt x="1456" y="3309"/>
                  </a:lnTo>
                  <a:lnTo>
                    <a:pt x="1456" y="3306"/>
                  </a:lnTo>
                  <a:lnTo>
                    <a:pt x="1458" y="3305"/>
                  </a:lnTo>
                  <a:lnTo>
                    <a:pt x="1459" y="3305"/>
                  </a:lnTo>
                  <a:lnTo>
                    <a:pt x="1461" y="3305"/>
                  </a:lnTo>
                  <a:lnTo>
                    <a:pt x="1461" y="3305"/>
                  </a:lnTo>
                  <a:close/>
                  <a:moveTo>
                    <a:pt x="1529" y="3305"/>
                  </a:moveTo>
                  <a:lnTo>
                    <a:pt x="1556" y="3305"/>
                  </a:lnTo>
                  <a:lnTo>
                    <a:pt x="1559" y="3305"/>
                  </a:lnTo>
                  <a:lnTo>
                    <a:pt x="1561" y="3305"/>
                  </a:lnTo>
                  <a:lnTo>
                    <a:pt x="1561" y="3306"/>
                  </a:lnTo>
                  <a:lnTo>
                    <a:pt x="1563" y="3309"/>
                  </a:lnTo>
                  <a:lnTo>
                    <a:pt x="1561" y="3311"/>
                  </a:lnTo>
                  <a:lnTo>
                    <a:pt x="1561" y="3312"/>
                  </a:lnTo>
                  <a:lnTo>
                    <a:pt x="1559" y="3314"/>
                  </a:lnTo>
                  <a:lnTo>
                    <a:pt x="1556" y="3314"/>
                  </a:lnTo>
                  <a:lnTo>
                    <a:pt x="1529" y="3314"/>
                  </a:lnTo>
                  <a:lnTo>
                    <a:pt x="1526" y="3314"/>
                  </a:lnTo>
                  <a:lnTo>
                    <a:pt x="1524" y="3312"/>
                  </a:lnTo>
                  <a:lnTo>
                    <a:pt x="1524" y="3311"/>
                  </a:lnTo>
                  <a:lnTo>
                    <a:pt x="1524" y="3309"/>
                  </a:lnTo>
                  <a:lnTo>
                    <a:pt x="1524" y="3306"/>
                  </a:lnTo>
                  <a:lnTo>
                    <a:pt x="1524" y="3305"/>
                  </a:lnTo>
                  <a:lnTo>
                    <a:pt x="1526" y="3305"/>
                  </a:lnTo>
                  <a:lnTo>
                    <a:pt x="1529" y="3305"/>
                  </a:lnTo>
                  <a:lnTo>
                    <a:pt x="1529" y="3305"/>
                  </a:lnTo>
                  <a:close/>
                  <a:moveTo>
                    <a:pt x="1595" y="3305"/>
                  </a:moveTo>
                  <a:lnTo>
                    <a:pt x="1624" y="3305"/>
                  </a:lnTo>
                  <a:lnTo>
                    <a:pt x="1626" y="3305"/>
                  </a:lnTo>
                  <a:lnTo>
                    <a:pt x="1627" y="3305"/>
                  </a:lnTo>
                  <a:lnTo>
                    <a:pt x="1629" y="3306"/>
                  </a:lnTo>
                  <a:lnTo>
                    <a:pt x="1629" y="3309"/>
                  </a:lnTo>
                  <a:lnTo>
                    <a:pt x="1629" y="3311"/>
                  </a:lnTo>
                  <a:lnTo>
                    <a:pt x="1627" y="3312"/>
                  </a:lnTo>
                  <a:lnTo>
                    <a:pt x="1626" y="3314"/>
                  </a:lnTo>
                  <a:lnTo>
                    <a:pt x="1624" y="3314"/>
                  </a:lnTo>
                  <a:lnTo>
                    <a:pt x="1595" y="3314"/>
                  </a:lnTo>
                  <a:lnTo>
                    <a:pt x="1593" y="3314"/>
                  </a:lnTo>
                  <a:lnTo>
                    <a:pt x="1592" y="3312"/>
                  </a:lnTo>
                  <a:lnTo>
                    <a:pt x="1590" y="3311"/>
                  </a:lnTo>
                  <a:lnTo>
                    <a:pt x="1590" y="3309"/>
                  </a:lnTo>
                  <a:lnTo>
                    <a:pt x="1590" y="3306"/>
                  </a:lnTo>
                  <a:lnTo>
                    <a:pt x="1592" y="3305"/>
                  </a:lnTo>
                  <a:lnTo>
                    <a:pt x="1593" y="3305"/>
                  </a:lnTo>
                  <a:lnTo>
                    <a:pt x="1595" y="3305"/>
                  </a:lnTo>
                  <a:lnTo>
                    <a:pt x="1595" y="3305"/>
                  </a:lnTo>
                  <a:close/>
                  <a:moveTo>
                    <a:pt x="1662" y="3305"/>
                  </a:moveTo>
                  <a:lnTo>
                    <a:pt x="1692" y="3305"/>
                  </a:lnTo>
                  <a:lnTo>
                    <a:pt x="1693" y="3305"/>
                  </a:lnTo>
                  <a:lnTo>
                    <a:pt x="1695" y="3305"/>
                  </a:lnTo>
                  <a:lnTo>
                    <a:pt x="1696" y="3306"/>
                  </a:lnTo>
                  <a:lnTo>
                    <a:pt x="1696" y="3309"/>
                  </a:lnTo>
                  <a:lnTo>
                    <a:pt x="1696" y="3311"/>
                  </a:lnTo>
                  <a:lnTo>
                    <a:pt x="1695" y="3312"/>
                  </a:lnTo>
                  <a:lnTo>
                    <a:pt x="1693" y="3314"/>
                  </a:lnTo>
                  <a:lnTo>
                    <a:pt x="1692" y="3314"/>
                  </a:lnTo>
                  <a:lnTo>
                    <a:pt x="1662" y="3314"/>
                  </a:lnTo>
                  <a:lnTo>
                    <a:pt x="1661" y="3314"/>
                  </a:lnTo>
                  <a:lnTo>
                    <a:pt x="1659" y="3312"/>
                  </a:lnTo>
                  <a:lnTo>
                    <a:pt x="1658" y="3311"/>
                  </a:lnTo>
                  <a:lnTo>
                    <a:pt x="1658" y="3309"/>
                  </a:lnTo>
                  <a:lnTo>
                    <a:pt x="1658" y="3306"/>
                  </a:lnTo>
                  <a:lnTo>
                    <a:pt x="1659" y="3305"/>
                  </a:lnTo>
                  <a:lnTo>
                    <a:pt x="1661" y="3305"/>
                  </a:lnTo>
                  <a:lnTo>
                    <a:pt x="1662" y="3305"/>
                  </a:lnTo>
                  <a:lnTo>
                    <a:pt x="1662" y="3305"/>
                  </a:lnTo>
                  <a:close/>
                  <a:moveTo>
                    <a:pt x="1730" y="3305"/>
                  </a:moveTo>
                  <a:lnTo>
                    <a:pt x="1759" y="3305"/>
                  </a:lnTo>
                  <a:lnTo>
                    <a:pt x="1761" y="3305"/>
                  </a:lnTo>
                  <a:lnTo>
                    <a:pt x="1762" y="3305"/>
                  </a:lnTo>
                  <a:lnTo>
                    <a:pt x="1764" y="3306"/>
                  </a:lnTo>
                  <a:lnTo>
                    <a:pt x="1764" y="3309"/>
                  </a:lnTo>
                  <a:lnTo>
                    <a:pt x="1764" y="3311"/>
                  </a:lnTo>
                  <a:lnTo>
                    <a:pt x="1762" y="3312"/>
                  </a:lnTo>
                  <a:lnTo>
                    <a:pt x="1761" y="3314"/>
                  </a:lnTo>
                  <a:lnTo>
                    <a:pt x="1759" y="3314"/>
                  </a:lnTo>
                  <a:lnTo>
                    <a:pt x="1730" y="3314"/>
                  </a:lnTo>
                  <a:lnTo>
                    <a:pt x="1729" y="3314"/>
                  </a:lnTo>
                  <a:lnTo>
                    <a:pt x="1727" y="3312"/>
                  </a:lnTo>
                  <a:lnTo>
                    <a:pt x="1726" y="3311"/>
                  </a:lnTo>
                  <a:lnTo>
                    <a:pt x="1726" y="3309"/>
                  </a:lnTo>
                  <a:lnTo>
                    <a:pt x="1726" y="3306"/>
                  </a:lnTo>
                  <a:lnTo>
                    <a:pt x="1727" y="3305"/>
                  </a:lnTo>
                  <a:lnTo>
                    <a:pt x="1729" y="3305"/>
                  </a:lnTo>
                  <a:lnTo>
                    <a:pt x="1730" y="3305"/>
                  </a:lnTo>
                  <a:lnTo>
                    <a:pt x="1730" y="3305"/>
                  </a:lnTo>
                  <a:close/>
                  <a:moveTo>
                    <a:pt x="1798" y="3305"/>
                  </a:moveTo>
                  <a:lnTo>
                    <a:pt x="1826" y="3305"/>
                  </a:lnTo>
                  <a:lnTo>
                    <a:pt x="1829" y="3305"/>
                  </a:lnTo>
                  <a:lnTo>
                    <a:pt x="1830" y="3305"/>
                  </a:lnTo>
                  <a:lnTo>
                    <a:pt x="1830" y="3306"/>
                  </a:lnTo>
                  <a:lnTo>
                    <a:pt x="1832" y="3309"/>
                  </a:lnTo>
                  <a:lnTo>
                    <a:pt x="1830" y="3311"/>
                  </a:lnTo>
                  <a:lnTo>
                    <a:pt x="1830" y="3312"/>
                  </a:lnTo>
                  <a:lnTo>
                    <a:pt x="1829" y="3314"/>
                  </a:lnTo>
                  <a:lnTo>
                    <a:pt x="1826" y="3314"/>
                  </a:lnTo>
                  <a:lnTo>
                    <a:pt x="1798" y="3314"/>
                  </a:lnTo>
                  <a:lnTo>
                    <a:pt x="1795" y="3314"/>
                  </a:lnTo>
                  <a:lnTo>
                    <a:pt x="1793" y="3312"/>
                  </a:lnTo>
                  <a:lnTo>
                    <a:pt x="1793" y="3311"/>
                  </a:lnTo>
                  <a:lnTo>
                    <a:pt x="1793" y="3309"/>
                  </a:lnTo>
                  <a:lnTo>
                    <a:pt x="1793" y="3306"/>
                  </a:lnTo>
                  <a:lnTo>
                    <a:pt x="1793" y="3305"/>
                  </a:lnTo>
                  <a:lnTo>
                    <a:pt x="1795" y="3305"/>
                  </a:lnTo>
                  <a:lnTo>
                    <a:pt x="1798" y="3305"/>
                  </a:lnTo>
                  <a:lnTo>
                    <a:pt x="1798" y="3305"/>
                  </a:lnTo>
                  <a:close/>
                  <a:moveTo>
                    <a:pt x="1864" y="3305"/>
                  </a:moveTo>
                  <a:lnTo>
                    <a:pt x="1893" y="3305"/>
                  </a:lnTo>
                  <a:lnTo>
                    <a:pt x="1895" y="3305"/>
                  </a:lnTo>
                  <a:lnTo>
                    <a:pt x="1896" y="3305"/>
                  </a:lnTo>
                  <a:lnTo>
                    <a:pt x="1898" y="3306"/>
                  </a:lnTo>
                  <a:lnTo>
                    <a:pt x="1898" y="3309"/>
                  </a:lnTo>
                  <a:lnTo>
                    <a:pt x="1898" y="3311"/>
                  </a:lnTo>
                  <a:lnTo>
                    <a:pt x="1896" y="3312"/>
                  </a:lnTo>
                  <a:lnTo>
                    <a:pt x="1895" y="3314"/>
                  </a:lnTo>
                  <a:lnTo>
                    <a:pt x="1893" y="3314"/>
                  </a:lnTo>
                  <a:lnTo>
                    <a:pt x="1864" y="3314"/>
                  </a:lnTo>
                  <a:lnTo>
                    <a:pt x="1862" y="3314"/>
                  </a:lnTo>
                  <a:lnTo>
                    <a:pt x="1861" y="3312"/>
                  </a:lnTo>
                  <a:lnTo>
                    <a:pt x="1859" y="3311"/>
                  </a:lnTo>
                  <a:lnTo>
                    <a:pt x="1859" y="3309"/>
                  </a:lnTo>
                  <a:lnTo>
                    <a:pt x="1859" y="3306"/>
                  </a:lnTo>
                  <a:lnTo>
                    <a:pt x="1861" y="3305"/>
                  </a:lnTo>
                  <a:lnTo>
                    <a:pt x="1862" y="3305"/>
                  </a:lnTo>
                  <a:lnTo>
                    <a:pt x="1864" y="3305"/>
                  </a:lnTo>
                  <a:lnTo>
                    <a:pt x="1864" y="3305"/>
                  </a:lnTo>
                  <a:close/>
                  <a:moveTo>
                    <a:pt x="1932" y="3305"/>
                  </a:moveTo>
                  <a:lnTo>
                    <a:pt x="1961" y="3305"/>
                  </a:lnTo>
                  <a:lnTo>
                    <a:pt x="1962" y="3305"/>
                  </a:lnTo>
                  <a:lnTo>
                    <a:pt x="1964" y="3305"/>
                  </a:lnTo>
                  <a:lnTo>
                    <a:pt x="1965" y="3306"/>
                  </a:lnTo>
                  <a:lnTo>
                    <a:pt x="1965" y="3309"/>
                  </a:lnTo>
                  <a:lnTo>
                    <a:pt x="1965" y="3311"/>
                  </a:lnTo>
                  <a:lnTo>
                    <a:pt x="1964" y="3312"/>
                  </a:lnTo>
                  <a:lnTo>
                    <a:pt x="1962" y="3314"/>
                  </a:lnTo>
                  <a:lnTo>
                    <a:pt x="1961" y="3314"/>
                  </a:lnTo>
                  <a:lnTo>
                    <a:pt x="1932" y="3314"/>
                  </a:lnTo>
                  <a:lnTo>
                    <a:pt x="1930" y="3314"/>
                  </a:lnTo>
                  <a:lnTo>
                    <a:pt x="1929" y="3312"/>
                  </a:lnTo>
                  <a:lnTo>
                    <a:pt x="1927" y="3311"/>
                  </a:lnTo>
                  <a:lnTo>
                    <a:pt x="1927" y="3309"/>
                  </a:lnTo>
                  <a:lnTo>
                    <a:pt x="1927" y="3306"/>
                  </a:lnTo>
                  <a:lnTo>
                    <a:pt x="1929" y="3305"/>
                  </a:lnTo>
                  <a:lnTo>
                    <a:pt x="1930" y="3305"/>
                  </a:lnTo>
                  <a:lnTo>
                    <a:pt x="1932" y="3305"/>
                  </a:lnTo>
                  <a:lnTo>
                    <a:pt x="1932" y="3305"/>
                  </a:lnTo>
                  <a:close/>
                  <a:moveTo>
                    <a:pt x="1999" y="3305"/>
                  </a:moveTo>
                  <a:lnTo>
                    <a:pt x="2029" y="3305"/>
                  </a:lnTo>
                  <a:lnTo>
                    <a:pt x="2030" y="3305"/>
                  </a:lnTo>
                  <a:lnTo>
                    <a:pt x="2032" y="3305"/>
                  </a:lnTo>
                  <a:lnTo>
                    <a:pt x="2033" y="3306"/>
                  </a:lnTo>
                  <a:lnTo>
                    <a:pt x="2033" y="3309"/>
                  </a:lnTo>
                  <a:lnTo>
                    <a:pt x="2033" y="3311"/>
                  </a:lnTo>
                  <a:lnTo>
                    <a:pt x="2032" y="3312"/>
                  </a:lnTo>
                  <a:lnTo>
                    <a:pt x="2030" y="3314"/>
                  </a:lnTo>
                  <a:lnTo>
                    <a:pt x="2029" y="3314"/>
                  </a:lnTo>
                  <a:lnTo>
                    <a:pt x="1999" y="3314"/>
                  </a:lnTo>
                  <a:lnTo>
                    <a:pt x="1998" y="3314"/>
                  </a:lnTo>
                  <a:lnTo>
                    <a:pt x="1996" y="3312"/>
                  </a:lnTo>
                  <a:lnTo>
                    <a:pt x="1995" y="3311"/>
                  </a:lnTo>
                  <a:lnTo>
                    <a:pt x="1995" y="3309"/>
                  </a:lnTo>
                  <a:lnTo>
                    <a:pt x="1995" y="3306"/>
                  </a:lnTo>
                  <a:lnTo>
                    <a:pt x="1996" y="3305"/>
                  </a:lnTo>
                  <a:lnTo>
                    <a:pt x="1998" y="3305"/>
                  </a:lnTo>
                  <a:lnTo>
                    <a:pt x="1999" y="3305"/>
                  </a:lnTo>
                  <a:lnTo>
                    <a:pt x="1999" y="3305"/>
                  </a:lnTo>
                  <a:close/>
                  <a:moveTo>
                    <a:pt x="2067" y="3305"/>
                  </a:moveTo>
                  <a:lnTo>
                    <a:pt x="2095" y="3305"/>
                  </a:lnTo>
                  <a:lnTo>
                    <a:pt x="2098" y="3305"/>
                  </a:lnTo>
                  <a:lnTo>
                    <a:pt x="2099" y="3305"/>
                  </a:lnTo>
                  <a:lnTo>
                    <a:pt x="2099" y="3306"/>
                  </a:lnTo>
                  <a:lnTo>
                    <a:pt x="2101" y="3309"/>
                  </a:lnTo>
                  <a:lnTo>
                    <a:pt x="2099" y="3311"/>
                  </a:lnTo>
                  <a:lnTo>
                    <a:pt x="2099" y="3312"/>
                  </a:lnTo>
                  <a:lnTo>
                    <a:pt x="2098" y="3314"/>
                  </a:lnTo>
                  <a:lnTo>
                    <a:pt x="2095" y="3314"/>
                  </a:lnTo>
                  <a:lnTo>
                    <a:pt x="2067" y="3314"/>
                  </a:lnTo>
                  <a:lnTo>
                    <a:pt x="2064" y="3314"/>
                  </a:lnTo>
                  <a:lnTo>
                    <a:pt x="2062" y="3312"/>
                  </a:lnTo>
                  <a:lnTo>
                    <a:pt x="2062" y="3311"/>
                  </a:lnTo>
                  <a:lnTo>
                    <a:pt x="2062" y="3309"/>
                  </a:lnTo>
                  <a:lnTo>
                    <a:pt x="2062" y="3306"/>
                  </a:lnTo>
                  <a:lnTo>
                    <a:pt x="2062" y="3305"/>
                  </a:lnTo>
                  <a:lnTo>
                    <a:pt x="2064" y="3305"/>
                  </a:lnTo>
                  <a:lnTo>
                    <a:pt x="2067" y="3305"/>
                  </a:lnTo>
                  <a:lnTo>
                    <a:pt x="2067" y="3305"/>
                  </a:lnTo>
                  <a:close/>
                  <a:moveTo>
                    <a:pt x="2133" y="3305"/>
                  </a:moveTo>
                  <a:lnTo>
                    <a:pt x="2162" y="3305"/>
                  </a:lnTo>
                  <a:lnTo>
                    <a:pt x="2164" y="3305"/>
                  </a:lnTo>
                  <a:lnTo>
                    <a:pt x="2165" y="3305"/>
                  </a:lnTo>
                  <a:lnTo>
                    <a:pt x="2167" y="3306"/>
                  </a:lnTo>
                  <a:lnTo>
                    <a:pt x="2167" y="3309"/>
                  </a:lnTo>
                  <a:lnTo>
                    <a:pt x="2167" y="3311"/>
                  </a:lnTo>
                  <a:lnTo>
                    <a:pt x="2165" y="3312"/>
                  </a:lnTo>
                  <a:lnTo>
                    <a:pt x="2164" y="3314"/>
                  </a:lnTo>
                  <a:lnTo>
                    <a:pt x="2162" y="3314"/>
                  </a:lnTo>
                  <a:lnTo>
                    <a:pt x="2133" y="3314"/>
                  </a:lnTo>
                  <a:lnTo>
                    <a:pt x="2132" y="3314"/>
                  </a:lnTo>
                  <a:lnTo>
                    <a:pt x="2130" y="3312"/>
                  </a:lnTo>
                  <a:lnTo>
                    <a:pt x="2129" y="3311"/>
                  </a:lnTo>
                  <a:lnTo>
                    <a:pt x="2129" y="3309"/>
                  </a:lnTo>
                  <a:lnTo>
                    <a:pt x="2129" y="3306"/>
                  </a:lnTo>
                  <a:lnTo>
                    <a:pt x="2130" y="3305"/>
                  </a:lnTo>
                  <a:lnTo>
                    <a:pt x="2132" y="3305"/>
                  </a:lnTo>
                  <a:lnTo>
                    <a:pt x="2133" y="3305"/>
                  </a:lnTo>
                  <a:lnTo>
                    <a:pt x="2133" y="3305"/>
                  </a:lnTo>
                  <a:close/>
                  <a:moveTo>
                    <a:pt x="2201" y="3305"/>
                  </a:moveTo>
                  <a:lnTo>
                    <a:pt x="2230" y="3305"/>
                  </a:lnTo>
                  <a:lnTo>
                    <a:pt x="2232" y="3305"/>
                  </a:lnTo>
                  <a:lnTo>
                    <a:pt x="2233" y="3305"/>
                  </a:lnTo>
                  <a:lnTo>
                    <a:pt x="2235" y="3306"/>
                  </a:lnTo>
                  <a:lnTo>
                    <a:pt x="2235" y="3309"/>
                  </a:lnTo>
                  <a:lnTo>
                    <a:pt x="2235" y="3311"/>
                  </a:lnTo>
                  <a:lnTo>
                    <a:pt x="2233" y="3312"/>
                  </a:lnTo>
                  <a:lnTo>
                    <a:pt x="2232" y="3314"/>
                  </a:lnTo>
                  <a:lnTo>
                    <a:pt x="2230" y="3314"/>
                  </a:lnTo>
                  <a:lnTo>
                    <a:pt x="2201" y="3314"/>
                  </a:lnTo>
                  <a:lnTo>
                    <a:pt x="2199" y="3314"/>
                  </a:lnTo>
                  <a:lnTo>
                    <a:pt x="2198" y="3312"/>
                  </a:lnTo>
                  <a:lnTo>
                    <a:pt x="2196" y="3311"/>
                  </a:lnTo>
                  <a:lnTo>
                    <a:pt x="2196" y="3309"/>
                  </a:lnTo>
                  <a:lnTo>
                    <a:pt x="2196" y="3306"/>
                  </a:lnTo>
                  <a:lnTo>
                    <a:pt x="2198" y="3305"/>
                  </a:lnTo>
                  <a:lnTo>
                    <a:pt x="2199" y="3305"/>
                  </a:lnTo>
                  <a:lnTo>
                    <a:pt x="2201" y="3305"/>
                  </a:lnTo>
                  <a:lnTo>
                    <a:pt x="2201" y="3305"/>
                  </a:lnTo>
                  <a:close/>
                  <a:moveTo>
                    <a:pt x="2269" y="3305"/>
                  </a:moveTo>
                  <a:lnTo>
                    <a:pt x="2298" y="3305"/>
                  </a:lnTo>
                  <a:lnTo>
                    <a:pt x="2299" y="3305"/>
                  </a:lnTo>
                  <a:lnTo>
                    <a:pt x="2301" y="3305"/>
                  </a:lnTo>
                  <a:lnTo>
                    <a:pt x="2302" y="3306"/>
                  </a:lnTo>
                  <a:lnTo>
                    <a:pt x="2302" y="3309"/>
                  </a:lnTo>
                  <a:lnTo>
                    <a:pt x="2302" y="3311"/>
                  </a:lnTo>
                  <a:lnTo>
                    <a:pt x="2301" y="3312"/>
                  </a:lnTo>
                  <a:lnTo>
                    <a:pt x="2299" y="3314"/>
                  </a:lnTo>
                  <a:lnTo>
                    <a:pt x="2298" y="3314"/>
                  </a:lnTo>
                  <a:lnTo>
                    <a:pt x="2269" y="3314"/>
                  </a:lnTo>
                  <a:lnTo>
                    <a:pt x="2267" y="3314"/>
                  </a:lnTo>
                  <a:lnTo>
                    <a:pt x="2265" y="3312"/>
                  </a:lnTo>
                  <a:lnTo>
                    <a:pt x="2264" y="3311"/>
                  </a:lnTo>
                  <a:lnTo>
                    <a:pt x="2264" y="3309"/>
                  </a:lnTo>
                  <a:lnTo>
                    <a:pt x="2264" y="3306"/>
                  </a:lnTo>
                  <a:lnTo>
                    <a:pt x="2265" y="3305"/>
                  </a:lnTo>
                  <a:lnTo>
                    <a:pt x="2267" y="3305"/>
                  </a:lnTo>
                  <a:lnTo>
                    <a:pt x="2269" y="3305"/>
                  </a:lnTo>
                  <a:lnTo>
                    <a:pt x="2269" y="3305"/>
                  </a:lnTo>
                  <a:close/>
                  <a:moveTo>
                    <a:pt x="2336" y="3305"/>
                  </a:moveTo>
                  <a:lnTo>
                    <a:pt x="2364" y="3305"/>
                  </a:lnTo>
                  <a:lnTo>
                    <a:pt x="2367" y="3305"/>
                  </a:lnTo>
                  <a:lnTo>
                    <a:pt x="2368" y="3305"/>
                  </a:lnTo>
                  <a:lnTo>
                    <a:pt x="2368" y="3306"/>
                  </a:lnTo>
                  <a:lnTo>
                    <a:pt x="2370" y="3309"/>
                  </a:lnTo>
                  <a:lnTo>
                    <a:pt x="2368" y="3311"/>
                  </a:lnTo>
                  <a:lnTo>
                    <a:pt x="2368" y="3312"/>
                  </a:lnTo>
                  <a:lnTo>
                    <a:pt x="2367" y="3314"/>
                  </a:lnTo>
                  <a:lnTo>
                    <a:pt x="2364" y="3314"/>
                  </a:lnTo>
                  <a:lnTo>
                    <a:pt x="2336" y="3314"/>
                  </a:lnTo>
                  <a:lnTo>
                    <a:pt x="2333" y="3314"/>
                  </a:lnTo>
                  <a:lnTo>
                    <a:pt x="2332" y="3312"/>
                  </a:lnTo>
                  <a:lnTo>
                    <a:pt x="2332" y="3311"/>
                  </a:lnTo>
                  <a:lnTo>
                    <a:pt x="2332" y="3309"/>
                  </a:lnTo>
                  <a:lnTo>
                    <a:pt x="2332" y="3306"/>
                  </a:lnTo>
                  <a:lnTo>
                    <a:pt x="2332" y="3305"/>
                  </a:lnTo>
                  <a:lnTo>
                    <a:pt x="2333" y="3305"/>
                  </a:lnTo>
                  <a:lnTo>
                    <a:pt x="2336" y="3305"/>
                  </a:lnTo>
                  <a:lnTo>
                    <a:pt x="2336" y="3305"/>
                  </a:lnTo>
                  <a:close/>
                  <a:moveTo>
                    <a:pt x="2402" y="3305"/>
                  </a:moveTo>
                  <a:lnTo>
                    <a:pt x="2432" y="3305"/>
                  </a:lnTo>
                  <a:lnTo>
                    <a:pt x="2433" y="3305"/>
                  </a:lnTo>
                  <a:lnTo>
                    <a:pt x="2435" y="3305"/>
                  </a:lnTo>
                  <a:lnTo>
                    <a:pt x="2436" y="3306"/>
                  </a:lnTo>
                  <a:lnTo>
                    <a:pt x="2436" y="3309"/>
                  </a:lnTo>
                  <a:lnTo>
                    <a:pt x="2436" y="3311"/>
                  </a:lnTo>
                  <a:lnTo>
                    <a:pt x="2435" y="3312"/>
                  </a:lnTo>
                  <a:lnTo>
                    <a:pt x="2433" y="3314"/>
                  </a:lnTo>
                  <a:lnTo>
                    <a:pt x="2432" y="3314"/>
                  </a:lnTo>
                  <a:lnTo>
                    <a:pt x="2402" y="3314"/>
                  </a:lnTo>
                  <a:lnTo>
                    <a:pt x="2401" y="3314"/>
                  </a:lnTo>
                  <a:lnTo>
                    <a:pt x="2399" y="3312"/>
                  </a:lnTo>
                  <a:lnTo>
                    <a:pt x="2398" y="3311"/>
                  </a:lnTo>
                  <a:lnTo>
                    <a:pt x="2398" y="3309"/>
                  </a:lnTo>
                  <a:lnTo>
                    <a:pt x="2398" y="3306"/>
                  </a:lnTo>
                  <a:lnTo>
                    <a:pt x="2399" y="3305"/>
                  </a:lnTo>
                  <a:lnTo>
                    <a:pt x="2401" y="3305"/>
                  </a:lnTo>
                  <a:lnTo>
                    <a:pt x="2402" y="3305"/>
                  </a:lnTo>
                  <a:lnTo>
                    <a:pt x="2402" y="3305"/>
                  </a:lnTo>
                  <a:close/>
                  <a:moveTo>
                    <a:pt x="2470" y="3305"/>
                  </a:moveTo>
                  <a:lnTo>
                    <a:pt x="2499" y="3305"/>
                  </a:lnTo>
                  <a:lnTo>
                    <a:pt x="2501" y="3305"/>
                  </a:lnTo>
                  <a:lnTo>
                    <a:pt x="2502" y="3305"/>
                  </a:lnTo>
                  <a:lnTo>
                    <a:pt x="2504" y="3306"/>
                  </a:lnTo>
                  <a:lnTo>
                    <a:pt x="2504" y="3309"/>
                  </a:lnTo>
                  <a:lnTo>
                    <a:pt x="2504" y="3311"/>
                  </a:lnTo>
                  <a:lnTo>
                    <a:pt x="2502" y="3312"/>
                  </a:lnTo>
                  <a:lnTo>
                    <a:pt x="2501" y="3314"/>
                  </a:lnTo>
                  <a:lnTo>
                    <a:pt x="2499" y="3314"/>
                  </a:lnTo>
                  <a:lnTo>
                    <a:pt x="2470" y="3314"/>
                  </a:lnTo>
                  <a:lnTo>
                    <a:pt x="2468" y="3314"/>
                  </a:lnTo>
                  <a:lnTo>
                    <a:pt x="2467" y="3312"/>
                  </a:lnTo>
                  <a:lnTo>
                    <a:pt x="2465" y="3311"/>
                  </a:lnTo>
                  <a:lnTo>
                    <a:pt x="2465" y="3309"/>
                  </a:lnTo>
                  <a:lnTo>
                    <a:pt x="2465" y="3306"/>
                  </a:lnTo>
                  <a:lnTo>
                    <a:pt x="2467" y="3305"/>
                  </a:lnTo>
                  <a:lnTo>
                    <a:pt x="2468" y="3305"/>
                  </a:lnTo>
                  <a:lnTo>
                    <a:pt x="2470" y="3305"/>
                  </a:lnTo>
                  <a:lnTo>
                    <a:pt x="2470" y="3305"/>
                  </a:lnTo>
                  <a:close/>
                  <a:moveTo>
                    <a:pt x="2538" y="3305"/>
                  </a:moveTo>
                  <a:lnTo>
                    <a:pt x="2567" y="3305"/>
                  </a:lnTo>
                  <a:lnTo>
                    <a:pt x="2568" y="3305"/>
                  </a:lnTo>
                  <a:lnTo>
                    <a:pt x="2570" y="3305"/>
                  </a:lnTo>
                  <a:lnTo>
                    <a:pt x="2572" y="3306"/>
                  </a:lnTo>
                  <a:lnTo>
                    <a:pt x="2572" y="3309"/>
                  </a:lnTo>
                  <a:lnTo>
                    <a:pt x="2572" y="3311"/>
                  </a:lnTo>
                  <a:lnTo>
                    <a:pt x="2570" y="3312"/>
                  </a:lnTo>
                  <a:lnTo>
                    <a:pt x="2568" y="3314"/>
                  </a:lnTo>
                  <a:lnTo>
                    <a:pt x="2567" y="3314"/>
                  </a:lnTo>
                  <a:lnTo>
                    <a:pt x="2538" y="3314"/>
                  </a:lnTo>
                  <a:lnTo>
                    <a:pt x="2536" y="3314"/>
                  </a:lnTo>
                  <a:lnTo>
                    <a:pt x="2535" y="3312"/>
                  </a:lnTo>
                  <a:lnTo>
                    <a:pt x="2533" y="3311"/>
                  </a:lnTo>
                  <a:lnTo>
                    <a:pt x="2533" y="3309"/>
                  </a:lnTo>
                  <a:lnTo>
                    <a:pt x="2533" y="3306"/>
                  </a:lnTo>
                  <a:lnTo>
                    <a:pt x="2535" y="3305"/>
                  </a:lnTo>
                  <a:lnTo>
                    <a:pt x="2536" y="3305"/>
                  </a:lnTo>
                  <a:lnTo>
                    <a:pt x="2538" y="3305"/>
                  </a:lnTo>
                  <a:lnTo>
                    <a:pt x="2538" y="3305"/>
                  </a:lnTo>
                  <a:close/>
                  <a:moveTo>
                    <a:pt x="2605" y="3305"/>
                  </a:moveTo>
                  <a:lnTo>
                    <a:pt x="2633" y="3305"/>
                  </a:lnTo>
                  <a:lnTo>
                    <a:pt x="2636" y="3305"/>
                  </a:lnTo>
                  <a:lnTo>
                    <a:pt x="2638" y="3305"/>
                  </a:lnTo>
                  <a:lnTo>
                    <a:pt x="2638" y="3306"/>
                  </a:lnTo>
                  <a:lnTo>
                    <a:pt x="2639" y="3309"/>
                  </a:lnTo>
                  <a:lnTo>
                    <a:pt x="2638" y="3311"/>
                  </a:lnTo>
                  <a:lnTo>
                    <a:pt x="2638" y="3312"/>
                  </a:lnTo>
                  <a:lnTo>
                    <a:pt x="2636" y="3314"/>
                  </a:lnTo>
                  <a:lnTo>
                    <a:pt x="2633" y="3314"/>
                  </a:lnTo>
                  <a:lnTo>
                    <a:pt x="2605" y="3314"/>
                  </a:lnTo>
                  <a:lnTo>
                    <a:pt x="2602" y="3314"/>
                  </a:lnTo>
                  <a:lnTo>
                    <a:pt x="2601" y="3312"/>
                  </a:lnTo>
                  <a:lnTo>
                    <a:pt x="2601" y="3311"/>
                  </a:lnTo>
                  <a:lnTo>
                    <a:pt x="2601" y="3309"/>
                  </a:lnTo>
                  <a:lnTo>
                    <a:pt x="2601" y="3306"/>
                  </a:lnTo>
                  <a:lnTo>
                    <a:pt x="2601" y="3305"/>
                  </a:lnTo>
                  <a:lnTo>
                    <a:pt x="2602" y="3305"/>
                  </a:lnTo>
                  <a:lnTo>
                    <a:pt x="2605" y="3305"/>
                  </a:lnTo>
                  <a:lnTo>
                    <a:pt x="2605" y="3305"/>
                  </a:lnTo>
                  <a:close/>
                  <a:moveTo>
                    <a:pt x="2672" y="3305"/>
                  </a:moveTo>
                  <a:lnTo>
                    <a:pt x="2701" y="3305"/>
                  </a:lnTo>
                  <a:lnTo>
                    <a:pt x="2702" y="3305"/>
                  </a:lnTo>
                  <a:lnTo>
                    <a:pt x="2704" y="3305"/>
                  </a:lnTo>
                  <a:lnTo>
                    <a:pt x="2705" y="3306"/>
                  </a:lnTo>
                  <a:lnTo>
                    <a:pt x="2705" y="3309"/>
                  </a:lnTo>
                  <a:lnTo>
                    <a:pt x="2705" y="3311"/>
                  </a:lnTo>
                  <a:lnTo>
                    <a:pt x="2704" y="3312"/>
                  </a:lnTo>
                  <a:lnTo>
                    <a:pt x="2702" y="3314"/>
                  </a:lnTo>
                  <a:lnTo>
                    <a:pt x="2701" y="3314"/>
                  </a:lnTo>
                  <a:lnTo>
                    <a:pt x="2672" y="3314"/>
                  </a:lnTo>
                  <a:lnTo>
                    <a:pt x="2670" y="3314"/>
                  </a:lnTo>
                  <a:lnTo>
                    <a:pt x="2668" y="3312"/>
                  </a:lnTo>
                  <a:lnTo>
                    <a:pt x="2667" y="3311"/>
                  </a:lnTo>
                  <a:lnTo>
                    <a:pt x="2667" y="3309"/>
                  </a:lnTo>
                  <a:lnTo>
                    <a:pt x="2667" y="3306"/>
                  </a:lnTo>
                  <a:lnTo>
                    <a:pt x="2668" y="3305"/>
                  </a:lnTo>
                  <a:lnTo>
                    <a:pt x="2670" y="3305"/>
                  </a:lnTo>
                  <a:lnTo>
                    <a:pt x="2672" y="3305"/>
                  </a:lnTo>
                  <a:lnTo>
                    <a:pt x="2672" y="3305"/>
                  </a:lnTo>
                  <a:close/>
                  <a:moveTo>
                    <a:pt x="2739" y="3305"/>
                  </a:moveTo>
                  <a:lnTo>
                    <a:pt x="2768" y="3305"/>
                  </a:lnTo>
                  <a:lnTo>
                    <a:pt x="2770" y="3305"/>
                  </a:lnTo>
                  <a:lnTo>
                    <a:pt x="2771" y="3305"/>
                  </a:lnTo>
                  <a:lnTo>
                    <a:pt x="2773" y="3306"/>
                  </a:lnTo>
                  <a:lnTo>
                    <a:pt x="2773" y="3309"/>
                  </a:lnTo>
                  <a:lnTo>
                    <a:pt x="2773" y="3311"/>
                  </a:lnTo>
                  <a:lnTo>
                    <a:pt x="2771" y="3312"/>
                  </a:lnTo>
                  <a:lnTo>
                    <a:pt x="2770" y="3314"/>
                  </a:lnTo>
                  <a:lnTo>
                    <a:pt x="2768" y="3314"/>
                  </a:lnTo>
                  <a:lnTo>
                    <a:pt x="2739" y="3314"/>
                  </a:lnTo>
                  <a:lnTo>
                    <a:pt x="2738" y="3314"/>
                  </a:lnTo>
                  <a:lnTo>
                    <a:pt x="2736" y="3312"/>
                  </a:lnTo>
                  <a:lnTo>
                    <a:pt x="2735" y="3311"/>
                  </a:lnTo>
                  <a:lnTo>
                    <a:pt x="2735" y="3309"/>
                  </a:lnTo>
                  <a:lnTo>
                    <a:pt x="2735" y="3306"/>
                  </a:lnTo>
                  <a:lnTo>
                    <a:pt x="2736" y="3305"/>
                  </a:lnTo>
                  <a:lnTo>
                    <a:pt x="2738" y="3305"/>
                  </a:lnTo>
                  <a:lnTo>
                    <a:pt x="2739" y="3305"/>
                  </a:lnTo>
                  <a:lnTo>
                    <a:pt x="2739" y="3305"/>
                  </a:lnTo>
                  <a:close/>
                  <a:moveTo>
                    <a:pt x="2807" y="3305"/>
                  </a:moveTo>
                  <a:lnTo>
                    <a:pt x="2836" y="3305"/>
                  </a:lnTo>
                  <a:lnTo>
                    <a:pt x="2838" y="3305"/>
                  </a:lnTo>
                  <a:lnTo>
                    <a:pt x="2839" y="3305"/>
                  </a:lnTo>
                  <a:lnTo>
                    <a:pt x="2841" y="3306"/>
                  </a:lnTo>
                  <a:lnTo>
                    <a:pt x="2841" y="3309"/>
                  </a:lnTo>
                  <a:lnTo>
                    <a:pt x="2841" y="3311"/>
                  </a:lnTo>
                  <a:lnTo>
                    <a:pt x="2839" y="3312"/>
                  </a:lnTo>
                  <a:lnTo>
                    <a:pt x="2838" y="3314"/>
                  </a:lnTo>
                  <a:lnTo>
                    <a:pt x="2836" y="3314"/>
                  </a:lnTo>
                  <a:lnTo>
                    <a:pt x="2807" y="3314"/>
                  </a:lnTo>
                  <a:lnTo>
                    <a:pt x="2805" y="3314"/>
                  </a:lnTo>
                  <a:lnTo>
                    <a:pt x="2804" y="3312"/>
                  </a:lnTo>
                  <a:lnTo>
                    <a:pt x="2802" y="3311"/>
                  </a:lnTo>
                  <a:lnTo>
                    <a:pt x="2802" y="3309"/>
                  </a:lnTo>
                  <a:lnTo>
                    <a:pt x="2802" y="3306"/>
                  </a:lnTo>
                  <a:lnTo>
                    <a:pt x="2804" y="3305"/>
                  </a:lnTo>
                  <a:lnTo>
                    <a:pt x="2805" y="3305"/>
                  </a:lnTo>
                  <a:lnTo>
                    <a:pt x="2807" y="3305"/>
                  </a:lnTo>
                  <a:lnTo>
                    <a:pt x="2807" y="3305"/>
                  </a:lnTo>
                  <a:close/>
                  <a:moveTo>
                    <a:pt x="2875" y="3305"/>
                  </a:moveTo>
                  <a:lnTo>
                    <a:pt x="2902" y="3305"/>
                  </a:lnTo>
                  <a:lnTo>
                    <a:pt x="2905" y="3305"/>
                  </a:lnTo>
                  <a:lnTo>
                    <a:pt x="2907" y="3305"/>
                  </a:lnTo>
                  <a:lnTo>
                    <a:pt x="2907" y="3306"/>
                  </a:lnTo>
                  <a:lnTo>
                    <a:pt x="2908" y="3309"/>
                  </a:lnTo>
                  <a:lnTo>
                    <a:pt x="2907" y="3311"/>
                  </a:lnTo>
                  <a:lnTo>
                    <a:pt x="2907" y="3312"/>
                  </a:lnTo>
                  <a:lnTo>
                    <a:pt x="2905" y="3314"/>
                  </a:lnTo>
                  <a:lnTo>
                    <a:pt x="2902" y="3314"/>
                  </a:lnTo>
                  <a:lnTo>
                    <a:pt x="2875" y="3314"/>
                  </a:lnTo>
                  <a:lnTo>
                    <a:pt x="2871" y="3314"/>
                  </a:lnTo>
                  <a:lnTo>
                    <a:pt x="2870" y="3312"/>
                  </a:lnTo>
                  <a:lnTo>
                    <a:pt x="2870" y="3311"/>
                  </a:lnTo>
                  <a:lnTo>
                    <a:pt x="2870" y="3309"/>
                  </a:lnTo>
                  <a:lnTo>
                    <a:pt x="2870" y="3306"/>
                  </a:lnTo>
                  <a:lnTo>
                    <a:pt x="2870" y="3305"/>
                  </a:lnTo>
                  <a:lnTo>
                    <a:pt x="2871" y="3305"/>
                  </a:lnTo>
                  <a:lnTo>
                    <a:pt x="2875" y="3305"/>
                  </a:lnTo>
                  <a:lnTo>
                    <a:pt x="2875" y="3305"/>
                  </a:lnTo>
                  <a:close/>
                  <a:moveTo>
                    <a:pt x="2941" y="3305"/>
                  </a:moveTo>
                  <a:lnTo>
                    <a:pt x="2970" y="3305"/>
                  </a:lnTo>
                  <a:lnTo>
                    <a:pt x="2971" y="3305"/>
                  </a:lnTo>
                  <a:lnTo>
                    <a:pt x="2973" y="3305"/>
                  </a:lnTo>
                  <a:lnTo>
                    <a:pt x="2975" y="3306"/>
                  </a:lnTo>
                  <a:lnTo>
                    <a:pt x="2975" y="3309"/>
                  </a:lnTo>
                  <a:lnTo>
                    <a:pt x="2975" y="3311"/>
                  </a:lnTo>
                  <a:lnTo>
                    <a:pt x="2973" y="3312"/>
                  </a:lnTo>
                  <a:lnTo>
                    <a:pt x="2971" y="3314"/>
                  </a:lnTo>
                  <a:lnTo>
                    <a:pt x="2970" y="3314"/>
                  </a:lnTo>
                  <a:lnTo>
                    <a:pt x="2941" y="3314"/>
                  </a:lnTo>
                  <a:lnTo>
                    <a:pt x="2939" y="3314"/>
                  </a:lnTo>
                  <a:lnTo>
                    <a:pt x="2938" y="3312"/>
                  </a:lnTo>
                  <a:lnTo>
                    <a:pt x="2936" y="3311"/>
                  </a:lnTo>
                  <a:lnTo>
                    <a:pt x="2936" y="3309"/>
                  </a:lnTo>
                  <a:lnTo>
                    <a:pt x="2936" y="3306"/>
                  </a:lnTo>
                  <a:lnTo>
                    <a:pt x="2938" y="3305"/>
                  </a:lnTo>
                  <a:lnTo>
                    <a:pt x="2939" y="3305"/>
                  </a:lnTo>
                  <a:lnTo>
                    <a:pt x="2941" y="3305"/>
                  </a:lnTo>
                  <a:lnTo>
                    <a:pt x="2941" y="3305"/>
                  </a:lnTo>
                  <a:close/>
                  <a:moveTo>
                    <a:pt x="3008" y="3305"/>
                  </a:moveTo>
                  <a:lnTo>
                    <a:pt x="3038" y="3305"/>
                  </a:lnTo>
                  <a:lnTo>
                    <a:pt x="3039" y="3305"/>
                  </a:lnTo>
                  <a:lnTo>
                    <a:pt x="3041" y="3305"/>
                  </a:lnTo>
                  <a:lnTo>
                    <a:pt x="3042" y="3306"/>
                  </a:lnTo>
                  <a:lnTo>
                    <a:pt x="3042" y="3309"/>
                  </a:lnTo>
                  <a:lnTo>
                    <a:pt x="3042" y="3311"/>
                  </a:lnTo>
                  <a:lnTo>
                    <a:pt x="3041" y="3312"/>
                  </a:lnTo>
                  <a:lnTo>
                    <a:pt x="3039" y="3314"/>
                  </a:lnTo>
                  <a:lnTo>
                    <a:pt x="3038" y="3314"/>
                  </a:lnTo>
                  <a:lnTo>
                    <a:pt x="3008" y="3314"/>
                  </a:lnTo>
                  <a:lnTo>
                    <a:pt x="3007" y="3314"/>
                  </a:lnTo>
                  <a:lnTo>
                    <a:pt x="3005" y="3312"/>
                  </a:lnTo>
                  <a:lnTo>
                    <a:pt x="3004" y="3311"/>
                  </a:lnTo>
                  <a:lnTo>
                    <a:pt x="3004" y="3309"/>
                  </a:lnTo>
                  <a:lnTo>
                    <a:pt x="3004" y="3306"/>
                  </a:lnTo>
                  <a:lnTo>
                    <a:pt x="3005" y="3305"/>
                  </a:lnTo>
                  <a:lnTo>
                    <a:pt x="3007" y="3305"/>
                  </a:lnTo>
                  <a:lnTo>
                    <a:pt x="3008" y="3305"/>
                  </a:lnTo>
                  <a:lnTo>
                    <a:pt x="3008" y="3305"/>
                  </a:lnTo>
                  <a:close/>
                  <a:moveTo>
                    <a:pt x="3076" y="3305"/>
                  </a:moveTo>
                  <a:lnTo>
                    <a:pt x="3105" y="3305"/>
                  </a:lnTo>
                  <a:lnTo>
                    <a:pt x="3107" y="3305"/>
                  </a:lnTo>
                  <a:lnTo>
                    <a:pt x="3108" y="3305"/>
                  </a:lnTo>
                  <a:lnTo>
                    <a:pt x="3110" y="3306"/>
                  </a:lnTo>
                  <a:lnTo>
                    <a:pt x="3110" y="3309"/>
                  </a:lnTo>
                  <a:lnTo>
                    <a:pt x="3110" y="3311"/>
                  </a:lnTo>
                  <a:lnTo>
                    <a:pt x="3108" y="3312"/>
                  </a:lnTo>
                  <a:lnTo>
                    <a:pt x="3107" y="3314"/>
                  </a:lnTo>
                  <a:lnTo>
                    <a:pt x="3105" y="3314"/>
                  </a:lnTo>
                  <a:lnTo>
                    <a:pt x="3076" y="3314"/>
                  </a:lnTo>
                  <a:lnTo>
                    <a:pt x="3074" y="3314"/>
                  </a:lnTo>
                  <a:lnTo>
                    <a:pt x="3073" y="3312"/>
                  </a:lnTo>
                  <a:lnTo>
                    <a:pt x="3071" y="3311"/>
                  </a:lnTo>
                  <a:lnTo>
                    <a:pt x="3071" y="3309"/>
                  </a:lnTo>
                  <a:lnTo>
                    <a:pt x="3071" y="3306"/>
                  </a:lnTo>
                  <a:lnTo>
                    <a:pt x="3073" y="3305"/>
                  </a:lnTo>
                  <a:lnTo>
                    <a:pt x="3074" y="3305"/>
                  </a:lnTo>
                  <a:lnTo>
                    <a:pt x="3076" y="3305"/>
                  </a:lnTo>
                  <a:lnTo>
                    <a:pt x="3076" y="3305"/>
                  </a:lnTo>
                  <a:close/>
                  <a:moveTo>
                    <a:pt x="3144" y="3305"/>
                  </a:moveTo>
                  <a:lnTo>
                    <a:pt x="3171" y="3305"/>
                  </a:lnTo>
                  <a:lnTo>
                    <a:pt x="3174" y="3305"/>
                  </a:lnTo>
                  <a:lnTo>
                    <a:pt x="3176" y="3305"/>
                  </a:lnTo>
                  <a:lnTo>
                    <a:pt x="3176" y="3306"/>
                  </a:lnTo>
                  <a:lnTo>
                    <a:pt x="3178" y="3309"/>
                  </a:lnTo>
                  <a:lnTo>
                    <a:pt x="3176" y="3311"/>
                  </a:lnTo>
                  <a:lnTo>
                    <a:pt x="3176" y="3312"/>
                  </a:lnTo>
                  <a:lnTo>
                    <a:pt x="3174" y="3314"/>
                  </a:lnTo>
                  <a:lnTo>
                    <a:pt x="3171" y="3314"/>
                  </a:lnTo>
                  <a:lnTo>
                    <a:pt x="3144" y="3314"/>
                  </a:lnTo>
                  <a:lnTo>
                    <a:pt x="3141" y="3314"/>
                  </a:lnTo>
                  <a:lnTo>
                    <a:pt x="3139" y="3312"/>
                  </a:lnTo>
                  <a:lnTo>
                    <a:pt x="3139" y="3311"/>
                  </a:lnTo>
                  <a:lnTo>
                    <a:pt x="3139" y="3309"/>
                  </a:lnTo>
                  <a:lnTo>
                    <a:pt x="3139" y="3306"/>
                  </a:lnTo>
                  <a:lnTo>
                    <a:pt x="3139" y="3305"/>
                  </a:lnTo>
                  <a:lnTo>
                    <a:pt x="3141" y="3305"/>
                  </a:lnTo>
                  <a:lnTo>
                    <a:pt x="3144" y="3305"/>
                  </a:lnTo>
                  <a:lnTo>
                    <a:pt x="3144" y="3305"/>
                  </a:lnTo>
                  <a:close/>
                  <a:moveTo>
                    <a:pt x="3210" y="3305"/>
                  </a:moveTo>
                  <a:lnTo>
                    <a:pt x="3239" y="3305"/>
                  </a:lnTo>
                  <a:lnTo>
                    <a:pt x="3241" y="3305"/>
                  </a:lnTo>
                  <a:lnTo>
                    <a:pt x="3242" y="3305"/>
                  </a:lnTo>
                  <a:lnTo>
                    <a:pt x="3244" y="3306"/>
                  </a:lnTo>
                  <a:lnTo>
                    <a:pt x="3244" y="3309"/>
                  </a:lnTo>
                  <a:lnTo>
                    <a:pt x="3244" y="3311"/>
                  </a:lnTo>
                  <a:lnTo>
                    <a:pt x="3242" y="3312"/>
                  </a:lnTo>
                  <a:lnTo>
                    <a:pt x="3241" y="3314"/>
                  </a:lnTo>
                  <a:lnTo>
                    <a:pt x="3239" y="3314"/>
                  </a:lnTo>
                  <a:lnTo>
                    <a:pt x="3210" y="3314"/>
                  </a:lnTo>
                  <a:lnTo>
                    <a:pt x="3208" y="3314"/>
                  </a:lnTo>
                  <a:lnTo>
                    <a:pt x="3207" y="3312"/>
                  </a:lnTo>
                  <a:lnTo>
                    <a:pt x="3205" y="3311"/>
                  </a:lnTo>
                  <a:lnTo>
                    <a:pt x="3205" y="3309"/>
                  </a:lnTo>
                  <a:lnTo>
                    <a:pt x="3205" y="3306"/>
                  </a:lnTo>
                  <a:lnTo>
                    <a:pt x="3207" y="3305"/>
                  </a:lnTo>
                  <a:lnTo>
                    <a:pt x="3208" y="3305"/>
                  </a:lnTo>
                  <a:lnTo>
                    <a:pt x="3210" y="3305"/>
                  </a:lnTo>
                  <a:lnTo>
                    <a:pt x="3210" y="3305"/>
                  </a:lnTo>
                  <a:close/>
                  <a:moveTo>
                    <a:pt x="3278" y="3305"/>
                  </a:moveTo>
                  <a:lnTo>
                    <a:pt x="3307" y="3305"/>
                  </a:lnTo>
                  <a:lnTo>
                    <a:pt x="3308" y="3305"/>
                  </a:lnTo>
                  <a:lnTo>
                    <a:pt x="3310" y="3305"/>
                  </a:lnTo>
                  <a:lnTo>
                    <a:pt x="3311" y="3306"/>
                  </a:lnTo>
                  <a:lnTo>
                    <a:pt x="3311" y="3309"/>
                  </a:lnTo>
                  <a:lnTo>
                    <a:pt x="3311" y="3311"/>
                  </a:lnTo>
                  <a:lnTo>
                    <a:pt x="3310" y="3312"/>
                  </a:lnTo>
                  <a:lnTo>
                    <a:pt x="3308" y="3314"/>
                  </a:lnTo>
                  <a:lnTo>
                    <a:pt x="3307" y="3314"/>
                  </a:lnTo>
                  <a:lnTo>
                    <a:pt x="3278" y="3314"/>
                  </a:lnTo>
                  <a:lnTo>
                    <a:pt x="3276" y="3314"/>
                  </a:lnTo>
                  <a:lnTo>
                    <a:pt x="3274" y="3312"/>
                  </a:lnTo>
                  <a:lnTo>
                    <a:pt x="3273" y="3311"/>
                  </a:lnTo>
                  <a:lnTo>
                    <a:pt x="3273" y="3309"/>
                  </a:lnTo>
                  <a:lnTo>
                    <a:pt x="3273" y="3306"/>
                  </a:lnTo>
                  <a:lnTo>
                    <a:pt x="3274" y="3305"/>
                  </a:lnTo>
                  <a:lnTo>
                    <a:pt x="3276" y="3305"/>
                  </a:lnTo>
                  <a:lnTo>
                    <a:pt x="3278" y="3305"/>
                  </a:lnTo>
                  <a:lnTo>
                    <a:pt x="3278" y="3305"/>
                  </a:lnTo>
                  <a:close/>
                  <a:moveTo>
                    <a:pt x="3345" y="3305"/>
                  </a:moveTo>
                  <a:lnTo>
                    <a:pt x="3374" y="3305"/>
                  </a:lnTo>
                  <a:lnTo>
                    <a:pt x="3376" y="3305"/>
                  </a:lnTo>
                  <a:lnTo>
                    <a:pt x="3378" y="3305"/>
                  </a:lnTo>
                  <a:lnTo>
                    <a:pt x="3379" y="3306"/>
                  </a:lnTo>
                  <a:lnTo>
                    <a:pt x="3379" y="3309"/>
                  </a:lnTo>
                  <a:lnTo>
                    <a:pt x="3379" y="3311"/>
                  </a:lnTo>
                  <a:lnTo>
                    <a:pt x="3378" y="3312"/>
                  </a:lnTo>
                  <a:lnTo>
                    <a:pt x="3376" y="3314"/>
                  </a:lnTo>
                  <a:lnTo>
                    <a:pt x="3374" y="3314"/>
                  </a:lnTo>
                  <a:lnTo>
                    <a:pt x="3345" y="3314"/>
                  </a:lnTo>
                  <a:lnTo>
                    <a:pt x="3344" y="3314"/>
                  </a:lnTo>
                  <a:lnTo>
                    <a:pt x="3342" y="3312"/>
                  </a:lnTo>
                  <a:lnTo>
                    <a:pt x="3341" y="3311"/>
                  </a:lnTo>
                  <a:lnTo>
                    <a:pt x="3341" y="3309"/>
                  </a:lnTo>
                  <a:lnTo>
                    <a:pt x="3341" y="3306"/>
                  </a:lnTo>
                  <a:lnTo>
                    <a:pt x="3342" y="3305"/>
                  </a:lnTo>
                  <a:lnTo>
                    <a:pt x="3344" y="3305"/>
                  </a:lnTo>
                  <a:lnTo>
                    <a:pt x="3345" y="3305"/>
                  </a:lnTo>
                  <a:lnTo>
                    <a:pt x="3345" y="3305"/>
                  </a:lnTo>
                  <a:close/>
                  <a:moveTo>
                    <a:pt x="3413" y="3305"/>
                  </a:moveTo>
                  <a:lnTo>
                    <a:pt x="3441" y="3305"/>
                  </a:lnTo>
                  <a:lnTo>
                    <a:pt x="3444" y="3305"/>
                  </a:lnTo>
                  <a:lnTo>
                    <a:pt x="3445" y="3305"/>
                  </a:lnTo>
                  <a:lnTo>
                    <a:pt x="3445" y="3306"/>
                  </a:lnTo>
                  <a:lnTo>
                    <a:pt x="3447" y="3309"/>
                  </a:lnTo>
                  <a:lnTo>
                    <a:pt x="3445" y="3311"/>
                  </a:lnTo>
                  <a:lnTo>
                    <a:pt x="3445" y="3312"/>
                  </a:lnTo>
                  <a:lnTo>
                    <a:pt x="3444" y="3314"/>
                  </a:lnTo>
                  <a:lnTo>
                    <a:pt x="3441" y="3314"/>
                  </a:lnTo>
                  <a:lnTo>
                    <a:pt x="3413" y="3314"/>
                  </a:lnTo>
                  <a:lnTo>
                    <a:pt x="3410" y="3314"/>
                  </a:lnTo>
                  <a:lnTo>
                    <a:pt x="3408" y="3312"/>
                  </a:lnTo>
                  <a:lnTo>
                    <a:pt x="3408" y="3311"/>
                  </a:lnTo>
                  <a:lnTo>
                    <a:pt x="3408" y="3309"/>
                  </a:lnTo>
                  <a:lnTo>
                    <a:pt x="3408" y="3306"/>
                  </a:lnTo>
                  <a:lnTo>
                    <a:pt x="3408" y="3305"/>
                  </a:lnTo>
                  <a:lnTo>
                    <a:pt x="3410" y="3305"/>
                  </a:lnTo>
                  <a:lnTo>
                    <a:pt x="3413" y="3305"/>
                  </a:lnTo>
                  <a:lnTo>
                    <a:pt x="3413" y="3305"/>
                  </a:lnTo>
                  <a:close/>
                  <a:moveTo>
                    <a:pt x="3479" y="3305"/>
                  </a:moveTo>
                  <a:lnTo>
                    <a:pt x="3508" y="3305"/>
                  </a:lnTo>
                  <a:lnTo>
                    <a:pt x="3510" y="3305"/>
                  </a:lnTo>
                  <a:lnTo>
                    <a:pt x="3511" y="3305"/>
                  </a:lnTo>
                  <a:lnTo>
                    <a:pt x="3513" y="3306"/>
                  </a:lnTo>
                  <a:lnTo>
                    <a:pt x="3513" y="3309"/>
                  </a:lnTo>
                  <a:lnTo>
                    <a:pt x="3513" y="3311"/>
                  </a:lnTo>
                  <a:lnTo>
                    <a:pt x="3511" y="3312"/>
                  </a:lnTo>
                  <a:lnTo>
                    <a:pt x="3510" y="3314"/>
                  </a:lnTo>
                  <a:lnTo>
                    <a:pt x="3508" y="3314"/>
                  </a:lnTo>
                  <a:lnTo>
                    <a:pt x="3479" y="3314"/>
                  </a:lnTo>
                  <a:lnTo>
                    <a:pt x="3477" y="3314"/>
                  </a:lnTo>
                  <a:lnTo>
                    <a:pt x="3476" y="3312"/>
                  </a:lnTo>
                  <a:lnTo>
                    <a:pt x="3474" y="3311"/>
                  </a:lnTo>
                  <a:lnTo>
                    <a:pt x="3474" y="3309"/>
                  </a:lnTo>
                  <a:lnTo>
                    <a:pt x="3474" y="3306"/>
                  </a:lnTo>
                  <a:lnTo>
                    <a:pt x="3476" y="3305"/>
                  </a:lnTo>
                  <a:lnTo>
                    <a:pt x="3477" y="3305"/>
                  </a:lnTo>
                  <a:lnTo>
                    <a:pt x="3479" y="3305"/>
                  </a:lnTo>
                  <a:lnTo>
                    <a:pt x="3479" y="3305"/>
                  </a:lnTo>
                  <a:close/>
                  <a:moveTo>
                    <a:pt x="3547" y="3305"/>
                  </a:moveTo>
                  <a:lnTo>
                    <a:pt x="3576" y="3305"/>
                  </a:lnTo>
                  <a:lnTo>
                    <a:pt x="3577" y="3305"/>
                  </a:lnTo>
                  <a:lnTo>
                    <a:pt x="3579" y="3305"/>
                  </a:lnTo>
                  <a:lnTo>
                    <a:pt x="3581" y="3306"/>
                  </a:lnTo>
                  <a:lnTo>
                    <a:pt x="3581" y="3309"/>
                  </a:lnTo>
                  <a:lnTo>
                    <a:pt x="3581" y="3311"/>
                  </a:lnTo>
                  <a:lnTo>
                    <a:pt x="3579" y="3312"/>
                  </a:lnTo>
                  <a:lnTo>
                    <a:pt x="3577" y="3314"/>
                  </a:lnTo>
                  <a:lnTo>
                    <a:pt x="3576" y="3314"/>
                  </a:lnTo>
                  <a:lnTo>
                    <a:pt x="3547" y="3314"/>
                  </a:lnTo>
                  <a:lnTo>
                    <a:pt x="3545" y="3314"/>
                  </a:lnTo>
                  <a:lnTo>
                    <a:pt x="3544" y="3312"/>
                  </a:lnTo>
                  <a:lnTo>
                    <a:pt x="3542" y="3311"/>
                  </a:lnTo>
                  <a:lnTo>
                    <a:pt x="3542" y="3309"/>
                  </a:lnTo>
                  <a:lnTo>
                    <a:pt x="3542" y="3306"/>
                  </a:lnTo>
                  <a:lnTo>
                    <a:pt x="3544" y="3305"/>
                  </a:lnTo>
                  <a:lnTo>
                    <a:pt x="3545" y="3305"/>
                  </a:lnTo>
                  <a:lnTo>
                    <a:pt x="3547" y="3305"/>
                  </a:lnTo>
                  <a:lnTo>
                    <a:pt x="3547" y="3305"/>
                  </a:lnTo>
                  <a:close/>
                  <a:moveTo>
                    <a:pt x="3614" y="3305"/>
                  </a:moveTo>
                  <a:lnTo>
                    <a:pt x="3644" y="3305"/>
                  </a:lnTo>
                  <a:lnTo>
                    <a:pt x="3645" y="3305"/>
                  </a:lnTo>
                  <a:lnTo>
                    <a:pt x="3647" y="3305"/>
                  </a:lnTo>
                  <a:lnTo>
                    <a:pt x="3648" y="3306"/>
                  </a:lnTo>
                  <a:lnTo>
                    <a:pt x="3648" y="3309"/>
                  </a:lnTo>
                  <a:lnTo>
                    <a:pt x="3648" y="3311"/>
                  </a:lnTo>
                  <a:lnTo>
                    <a:pt x="3647" y="3312"/>
                  </a:lnTo>
                  <a:lnTo>
                    <a:pt x="3645" y="3314"/>
                  </a:lnTo>
                  <a:lnTo>
                    <a:pt x="3644" y="3314"/>
                  </a:lnTo>
                  <a:lnTo>
                    <a:pt x="3614" y="3314"/>
                  </a:lnTo>
                  <a:lnTo>
                    <a:pt x="3613" y="3314"/>
                  </a:lnTo>
                  <a:lnTo>
                    <a:pt x="3611" y="3312"/>
                  </a:lnTo>
                  <a:lnTo>
                    <a:pt x="3610" y="3311"/>
                  </a:lnTo>
                  <a:lnTo>
                    <a:pt x="3610" y="3309"/>
                  </a:lnTo>
                  <a:lnTo>
                    <a:pt x="3610" y="3306"/>
                  </a:lnTo>
                  <a:lnTo>
                    <a:pt x="3611" y="3305"/>
                  </a:lnTo>
                  <a:lnTo>
                    <a:pt x="3613" y="3305"/>
                  </a:lnTo>
                  <a:lnTo>
                    <a:pt x="3614" y="3305"/>
                  </a:lnTo>
                  <a:lnTo>
                    <a:pt x="3614" y="3305"/>
                  </a:lnTo>
                  <a:close/>
                  <a:moveTo>
                    <a:pt x="3682" y="3305"/>
                  </a:moveTo>
                  <a:lnTo>
                    <a:pt x="3710" y="3305"/>
                  </a:lnTo>
                  <a:lnTo>
                    <a:pt x="3713" y="3305"/>
                  </a:lnTo>
                  <a:lnTo>
                    <a:pt x="3714" y="3305"/>
                  </a:lnTo>
                  <a:lnTo>
                    <a:pt x="3714" y="3306"/>
                  </a:lnTo>
                  <a:lnTo>
                    <a:pt x="3716" y="3309"/>
                  </a:lnTo>
                  <a:lnTo>
                    <a:pt x="3714" y="3311"/>
                  </a:lnTo>
                  <a:lnTo>
                    <a:pt x="3714" y="3312"/>
                  </a:lnTo>
                  <a:lnTo>
                    <a:pt x="3713" y="3314"/>
                  </a:lnTo>
                  <a:lnTo>
                    <a:pt x="3710" y="3314"/>
                  </a:lnTo>
                  <a:lnTo>
                    <a:pt x="3682" y="3314"/>
                  </a:lnTo>
                  <a:lnTo>
                    <a:pt x="3679" y="3314"/>
                  </a:lnTo>
                  <a:lnTo>
                    <a:pt x="3677" y="3312"/>
                  </a:lnTo>
                  <a:lnTo>
                    <a:pt x="3677" y="3311"/>
                  </a:lnTo>
                  <a:lnTo>
                    <a:pt x="3677" y="3309"/>
                  </a:lnTo>
                  <a:lnTo>
                    <a:pt x="3677" y="3306"/>
                  </a:lnTo>
                  <a:lnTo>
                    <a:pt x="3677" y="3305"/>
                  </a:lnTo>
                  <a:lnTo>
                    <a:pt x="3679" y="3305"/>
                  </a:lnTo>
                  <a:lnTo>
                    <a:pt x="3682" y="3305"/>
                  </a:lnTo>
                  <a:lnTo>
                    <a:pt x="3682" y="3305"/>
                  </a:lnTo>
                  <a:close/>
                  <a:moveTo>
                    <a:pt x="3748" y="3305"/>
                  </a:moveTo>
                  <a:lnTo>
                    <a:pt x="3777" y="3305"/>
                  </a:lnTo>
                  <a:lnTo>
                    <a:pt x="3779" y="3305"/>
                  </a:lnTo>
                  <a:lnTo>
                    <a:pt x="3781" y="3305"/>
                  </a:lnTo>
                  <a:lnTo>
                    <a:pt x="3782" y="3306"/>
                  </a:lnTo>
                  <a:lnTo>
                    <a:pt x="3782" y="3309"/>
                  </a:lnTo>
                  <a:lnTo>
                    <a:pt x="3782" y="3311"/>
                  </a:lnTo>
                  <a:lnTo>
                    <a:pt x="3781" y="3312"/>
                  </a:lnTo>
                  <a:lnTo>
                    <a:pt x="3779" y="3314"/>
                  </a:lnTo>
                  <a:lnTo>
                    <a:pt x="3777" y="3314"/>
                  </a:lnTo>
                  <a:lnTo>
                    <a:pt x="3748" y="3314"/>
                  </a:lnTo>
                  <a:lnTo>
                    <a:pt x="3747" y="3314"/>
                  </a:lnTo>
                  <a:lnTo>
                    <a:pt x="3745" y="3312"/>
                  </a:lnTo>
                  <a:lnTo>
                    <a:pt x="3744" y="3311"/>
                  </a:lnTo>
                  <a:lnTo>
                    <a:pt x="3744" y="3309"/>
                  </a:lnTo>
                  <a:lnTo>
                    <a:pt x="3744" y="3306"/>
                  </a:lnTo>
                  <a:lnTo>
                    <a:pt x="3745" y="3305"/>
                  </a:lnTo>
                  <a:lnTo>
                    <a:pt x="3747" y="3305"/>
                  </a:lnTo>
                  <a:lnTo>
                    <a:pt x="3748" y="3305"/>
                  </a:lnTo>
                  <a:lnTo>
                    <a:pt x="3748" y="3305"/>
                  </a:lnTo>
                  <a:close/>
                  <a:moveTo>
                    <a:pt x="3816" y="3305"/>
                  </a:moveTo>
                  <a:lnTo>
                    <a:pt x="3845" y="3305"/>
                  </a:lnTo>
                  <a:lnTo>
                    <a:pt x="3847" y="3305"/>
                  </a:lnTo>
                  <a:lnTo>
                    <a:pt x="3848" y="3305"/>
                  </a:lnTo>
                  <a:lnTo>
                    <a:pt x="3850" y="3306"/>
                  </a:lnTo>
                  <a:lnTo>
                    <a:pt x="3850" y="3309"/>
                  </a:lnTo>
                  <a:lnTo>
                    <a:pt x="3850" y="3311"/>
                  </a:lnTo>
                  <a:lnTo>
                    <a:pt x="3848" y="3312"/>
                  </a:lnTo>
                  <a:lnTo>
                    <a:pt x="3847" y="3314"/>
                  </a:lnTo>
                  <a:lnTo>
                    <a:pt x="3845" y="3314"/>
                  </a:lnTo>
                  <a:lnTo>
                    <a:pt x="3816" y="3314"/>
                  </a:lnTo>
                  <a:lnTo>
                    <a:pt x="3814" y="3314"/>
                  </a:lnTo>
                  <a:lnTo>
                    <a:pt x="3813" y="3312"/>
                  </a:lnTo>
                  <a:lnTo>
                    <a:pt x="3811" y="3311"/>
                  </a:lnTo>
                  <a:lnTo>
                    <a:pt x="3811" y="3309"/>
                  </a:lnTo>
                  <a:lnTo>
                    <a:pt x="3811" y="3306"/>
                  </a:lnTo>
                  <a:lnTo>
                    <a:pt x="3813" y="3305"/>
                  </a:lnTo>
                  <a:lnTo>
                    <a:pt x="3814" y="3305"/>
                  </a:lnTo>
                  <a:lnTo>
                    <a:pt x="3816" y="3305"/>
                  </a:lnTo>
                  <a:lnTo>
                    <a:pt x="3816" y="3305"/>
                  </a:lnTo>
                  <a:close/>
                  <a:moveTo>
                    <a:pt x="3884" y="3305"/>
                  </a:moveTo>
                  <a:lnTo>
                    <a:pt x="3913" y="3305"/>
                  </a:lnTo>
                  <a:lnTo>
                    <a:pt x="3914" y="3305"/>
                  </a:lnTo>
                  <a:lnTo>
                    <a:pt x="3916" y="3305"/>
                  </a:lnTo>
                  <a:lnTo>
                    <a:pt x="3917" y="3306"/>
                  </a:lnTo>
                  <a:lnTo>
                    <a:pt x="3917" y="3309"/>
                  </a:lnTo>
                  <a:lnTo>
                    <a:pt x="3917" y="3311"/>
                  </a:lnTo>
                  <a:lnTo>
                    <a:pt x="3916" y="3312"/>
                  </a:lnTo>
                  <a:lnTo>
                    <a:pt x="3914" y="3314"/>
                  </a:lnTo>
                  <a:lnTo>
                    <a:pt x="3913" y="3314"/>
                  </a:lnTo>
                  <a:lnTo>
                    <a:pt x="3884" y="3314"/>
                  </a:lnTo>
                  <a:lnTo>
                    <a:pt x="3882" y="3314"/>
                  </a:lnTo>
                  <a:lnTo>
                    <a:pt x="3880" y="3312"/>
                  </a:lnTo>
                  <a:lnTo>
                    <a:pt x="3879" y="3311"/>
                  </a:lnTo>
                  <a:lnTo>
                    <a:pt x="3879" y="3309"/>
                  </a:lnTo>
                  <a:lnTo>
                    <a:pt x="3879" y="3306"/>
                  </a:lnTo>
                  <a:lnTo>
                    <a:pt x="3880" y="3305"/>
                  </a:lnTo>
                  <a:lnTo>
                    <a:pt x="3882" y="3305"/>
                  </a:lnTo>
                  <a:lnTo>
                    <a:pt x="3884" y="3305"/>
                  </a:lnTo>
                  <a:lnTo>
                    <a:pt x="3884" y="3305"/>
                  </a:lnTo>
                  <a:close/>
                  <a:moveTo>
                    <a:pt x="3951" y="3305"/>
                  </a:moveTo>
                  <a:lnTo>
                    <a:pt x="3979" y="3305"/>
                  </a:lnTo>
                  <a:lnTo>
                    <a:pt x="3982" y="3305"/>
                  </a:lnTo>
                  <a:lnTo>
                    <a:pt x="3984" y="3305"/>
                  </a:lnTo>
                  <a:lnTo>
                    <a:pt x="3984" y="3306"/>
                  </a:lnTo>
                  <a:lnTo>
                    <a:pt x="3985" y="3309"/>
                  </a:lnTo>
                  <a:lnTo>
                    <a:pt x="3984" y="3311"/>
                  </a:lnTo>
                  <a:lnTo>
                    <a:pt x="3984" y="3312"/>
                  </a:lnTo>
                  <a:lnTo>
                    <a:pt x="3982" y="3314"/>
                  </a:lnTo>
                  <a:lnTo>
                    <a:pt x="3979" y="3314"/>
                  </a:lnTo>
                  <a:lnTo>
                    <a:pt x="3951" y="3314"/>
                  </a:lnTo>
                  <a:lnTo>
                    <a:pt x="3948" y="3314"/>
                  </a:lnTo>
                  <a:lnTo>
                    <a:pt x="3947" y="3312"/>
                  </a:lnTo>
                  <a:lnTo>
                    <a:pt x="3947" y="3311"/>
                  </a:lnTo>
                  <a:lnTo>
                    <a:pt x="3947" y="3309"/>
                  </a:lnTo>
                  <a:lnTo>
                    <a:pt x="3947" y="3306"/>
                  </a:lnTo>
                  <a:lnTo>
                    <a:pt x="3947" y="3305"/>
                  </a:lnTo>
                  <a:lnTo>
                    <a:pt x="3948" y="3305"/>
                  </a:lnTo>
                  <a:lnTo>
                    <a:pt x="3951" y="3305"/>
                  </a:lnTo>
                  <a:lnTo>
                    <a:pt x="3951" y="3305"/>
                  </a:lnTo>
                  <a:close/>
                  <a:moveTo>
                    <a:pt x="4017" y="3305"/>
                  </a:moveTo>
                  <a:lnTo>
                    <a:pt x="4047" y="3305"/>
                  </a:lnTo>
                  <a:lnTo>
                    <a:pt x="4048" y="3305"/>
                  </a:lnTo>
                  <a:lnTo>
                    <a:pt x="4050" y="3305"/>
                  </a:lnTo>
                  <a:lnTo>
                    <a:pt x="4051" y="3306"/>
                  </a:lnTo>
                  <a:lnTo>
                    <a:pt x="4051" y="3309"/>
                  </a:lnTo>
                  <a:lnTo>
                    <a:pt x="4051" y="3311"/>
                  </a:lnTo>
                  <a:lnTo>
                    <a:pt x="4050" y="3312"/>
                  </a:lnTo>
                  <a:lnTo>
                    <a:pt x="4048" y="3314"/>
                  </a:lnTo>
                  <a:lnTo>
                    <a:pt x="4047" y="3314"/>
                  </a:lnTo>
                  <a:lnTo>
                    <a:pt x="4017" y="3314"/>
                  </a:lnTo>
                  <a:lnTo>
                    <a:pt x="4016" y="3314"/>
                  </a:lnTo>
                  <a:lnTo>
                    <a:pt x="4014" y="3312"/>
                  </a:lnTo>
                  <a:lnTo>
                    <a:pt x="4013" y="3311"/>
                  </a:lnTo>
                  <a:lnTo>
                    <a:pt x="4013" y="3309"/>
                  </a:lnTo>
                  <a:lnTo>
                    <a:pt x="4013" y="3306"/>
                  </a:lnTo>
                  <a:lnTo>
                    <a:pt x="4014" y="3305"/>
                  </a:lnTo>
                  <a:lnTo>
                    <a:pt x="4016" y="3305"/>
                  </a:lnTo>
                  <a:lnTo>
                    <a:pt x="4017" y="3305"/>
                  </a:lnTo>
                  <a:lnTo>
                    <a:pt x="4017" y="3305"/>
                  </a:lnTo>
                  <a:close/>
                  <a:moveTo>
                    <a:pt x="4085" y="3305"/>
                  </a:moveTo>
                  <a:lnTo>
                    <a:pt x="4114" y="3305"/>
                  </a:lnTo>
                  <a:lnTo>
                    <a:pt x="4116" y="3305"/>
                  </a:lnTo>
                  <a:lnTo>
                    <a:pt x="4117" y="3305"/>
                  </a:lnTo>
                  <a:lnTo>
                    <a:pt x="4119" y="3306"/>
                  </a:lnTo>
                  <a:lnTo>
                    <a:pt x="4119" y="3309"/>
                  </a:lnTo>
                  <a:lnTo>
                    <a:pt x="4119" y="3311"/>
                  </a:lnTo>
                  <a:lnTo>
                    <a:pt x="4117" y="3312"/>
                  </a:lnTo>
                  <a:lnTo>
                    <a:pt x="4116" y="3314"/>
                  </a:lnTo>
                  <a:lnTo>
                    <a:pt x="4114" y="3314"/>
                  </a:lnTo>
                  <a:lnTo>
                    <a:pt x="4085" y="3314"/>
                  </a:lnTo>
                  <a:lnTo>
                    <a:pt x="4084" y="3314"/>
                  </a:lnTo>
                  <a:lnTo>
                    <a:pt x="4082" y="3312"/>
                  </a:lnTo>
                  <a:lnTo>
                    <a:pt x="4080" y="3311"/>
                  </a:lnTo>
                  <a:lnTo>
                    <a:pt x="4080" y="3309"/>
                  </a:lnTo>
                  <a:lnTo>
                    <a:pt x="4080" y="3306"/>
                  </a:lnTo>
                  <a:lnTo>
                    <a:pt x="4082" y="3305"/>
                  </a:lnTo>
                  <a:lnTo>
                    <a:pt x="4084" y="3305"/>
                  </a:lnTo>
                  <a:lnTo>
                    <a:pt x="4085" y="3305"/>
                  </a:lnTo>
                  <a:lnTo>
                    <a:pt x="4085" y="3305"/>
                  </a:lnTo>
                  <a:close/>
                  <a:moveTo>
                    <a:pt x="4153" y="3305"/>
                  </a:moveTo>
                  <a:lnTo>
                    <a:pt x="4182" y="3305"/>
                  </a:lnTo>
                  <a:lnTo>
                    <a:pt x="4183" y="3305"/>
                  </a:lnTo>
                  <a:lnTo>
                    <a:pt x="4185" y="3305"/>
                  </a:lnTo>
                  <a:lnTo>
                    <a:pt x="4187" y="3306"/>
                  </a:lnTo>
                  <a:lnTo>
                    <a:pt x="4187" y="3309"/>
                  </a:lnTo>
                  <a:lnTo>
                    <a:pt x="4187" y="3311"/>
                  </a:lnTo>
                  <a:lnTo>
                    <a:pt x="4185" y="3312"/>
                  </a:lnTo>
                  <a:lnTo>
                    <a:pt x="4183" y="3314"/>
                  </a:lnTo>
                  <a:lnTo>
                    <a:pt x="4182" y="3314"/>
                  </a:lnTo>
                  <a:lnTo>
                    <a:pt x="4153" y="3314"/>
                  </a:lnTo>
                  <a:lnTo>
                    <a:pt x="4151" y="3314"/>
                  </a:lnTo>
                  <a:lnTo>
                    <a:pt x="4150" y="3312"/>
                  </a:lnTo>
                  <a:lnTo>
                    <a:pt x="4148" y="3311"/>
                  </a:lnTo>
                  <a:lnTo>
                    <a:pt x="4148" y="3309"/>
                  </a:lnTo>
                  <a:lnTo>
                    <a:pt x="4148" y="3306"/>
                  </a:lnTo>
                  <a:lnTo>
                    <a:pt x="4150" y="3305"/>
                  </a:lnTo>
                  <a:lnTo>
                    <a:pt x="4151" y="3305"/>
                  </a:lnTo>
                  <a:lnTo>
                    <a:pt x="4153" y="3305"/>
                  </a:lnTo>
                  <a:lnTo>
                    <a:pt x="4153" y="3305"/>
                  </a:lnTo>
                  <a:close/>
                  <a:moveTo>
                    <a:pt x="4220" y="3305"/>
                  </a:moveTo>
                  <a:lnTo>
                    <a:pt x="4248" y="3305"/>
                  </a:lnTo>
                  <a:lnTo>
                    <a:pt x="4251" y="3305"/>
                  </a:lnTo>
                  <a:lnTo>
                    <a:pt x="4253" y="3305"/>
                  </a:lnTo>
                  <a:lnTo>
                    <a:pt x="4253" y="3306"/>
                  </a:lnTo>
                  <a:lnTo>
                    <a:pt x="4254" y="3309"/>
                  </a:lnTo>
                  <a:lnTo>
                    <a:pt x="4253" y="3311"/>
                  </a:lnTo>
                  <a:lnTo>
                    <a:pt x="4253" y="3312"/>
                  </a:lnTo>
                  <a:lnTo>
                    <a:pt x="4251" y="3314"/>
                  </a:lnTo>
                  <a:lnTo>
                    <a:pt x="4248" y="3314"/>
                  </a:lnTo>
                  <a:lnTo>
                    <a:pt x="4220" y="3314"/>
                  </a:lnTo>
                  <a:lnTo>
                    <a:pt x="4217" y="3314"/>
                  </a:lnTo>
                  <a:lnTo>
                    <a:pt x="4216" y="3312"/>
                  </a:lnTo>
                  <a:lnTo>
                    <a:pt x="4216" y="3311"/>
                  </a:lnTo>
                  <a:lnTo>
                    <a:pt x="4216" y="3309"/>
                  </a:lnTo>
                  <a:lnTo>
                    <a:pt x="4216" y="3306"/>
                  </a:lnTo>
                  <a:lnTo>
                    <a:pt x="4216" y="3305"/>
                  </a:lnTo>
                  <a:lnTo>
                    <a:pt x="4217" y="3305"/>
                  </a:lnTo>
                  <a:lnTo>
                    <a:pt x="4220" y="3305"/>
                  </a:lnTo>
                  <a:lnTo>
                    <a:pt x="4220" y="3305"/>
                  </a:lnTo>
                  <a:close/>
                  <a:moveTo>
                    <a:pt x="4287" y="3305"/>
                  </a:moveTo>
                  <a:lnTo>
                    <a:pt x="4316" y="3305"/>
                  </a:lnTo>
                  <a:lnTo>
                    <a:pt x="4317" y="3305"/>
                  </a:lnTo>
                  <a:lnTo>
                    <a:pt x="4319" y="3305"/>
                  </a:lnTo>
                  <a:lnTo>
                    <a:pt x="4320" y="3306"/>
                  </a:lnTo>
                  <a:lnTo>
                    <a:pt x="4320" y="3309"/>
                  </a:lnTo>
                  <a:lnTo>
                    <a:pt x="4320" y="3311"/>
                  </a:lnTo>
                  <a:lnTo>
                    <a:pt x="4319" y="3312"/>
                  </a:lnTo>
                  <a:lnTo>
                    <a:pt x="4317" y="3314"/>
                  </a:lnTo>
                  <a:lnTo>
                    <a:pt x="4316" y="3314"/>
                  </a:lnTo>
                  <a:lnTo>
                    <a:pt x="4287" y="3314"/>
                  </a:lnTo>
                  <a:lnTo>
                    <a:pt x="4285" y="3314"/>
                  </a:lnTo>
                  <a:lnTo>
                    <a:pt x="4283" y="3312"/>
                  </a:lnTo>
                  <a:lnTo>
                    <a:pt x="4282" y="3311"/>
                  </a:lnTo>
                  <a:lnTo>
                    <a:pt x="4282" y="3309"/>
                  </a:lnTo>
                  <a:lnTo>
                    <a:pt x="4282" y="3306"/>
                  </a:lnTo>
                  <a:lnTo>
                    <a:pt x="4283" y="3305"/>
                  </a:lnTo>
                  <a:lnTo>
                    <a:pt x="4285" y="3305"/>
                  </a:lnTo>
                  <a:lnTo>
                    <a:pt x="4287" y="3305"/>
                  </a:lnTo>
                  <a:lnTo>
                    <a:pt x="4287" y="3305"/>
                  </a:lnTo>
                  <a:close/>
                  <a:moveTo>
                    <a:pt x="4354" y="3305"/>
                  </a:moveTo>
                  <a:lnTo>
                    <a:pt x="4383" y="3305"/>
                  </a:lnTo>
                  <a:lnTo>
                    <a:pt x="4385" y="3305"/>
                  </a:lnTo>
                  <a:lnTo>
                    <a:pt x="4387" y="3305"/>
                  </a:lnTo>
                  <a:lnTo>
                    <a:pt x="4388" y="3306"/>
                  </a:lnTo>
                  <a:lnTo>
                    <a:pt x="4388" y="3309"/>
                  </a:lnTo>
                  <a:lnTo>
                    <a:pt x="4388" y="3311"/>
                  </a:lnTo>
                  <a:lnTo>
                    <a:pt x="4387" y="3312"/>
                  </a:lnTo>
                  <a:lnTo>
                    <a:pt x="4385" y="3314"/>
                  </a:lnTo>
                  <a:lnTo>
                    <a:pt x="4383" y="3314"/>
                  </a:lnTo>
                  <a:lnTo>
                    <a:pt x="4354" y="3314"/>
                  </a:lnTo>
                  <a:lnTo>
                    <a:pt x="4353" y="3314"/>
                  </a:lnTo>
                  <a:lnTo>
                    <a:pt x="4351" y="3312"/>
                  </a:lnTo>
                  <a:lnTo>
                    <a:pt x="4350" y="3311"/>
                  </a:lnTo>
                  <a:lnTo>
                    <a:pt x="4350" y="3309"/>
                  </a:lnTo>
                  <a:lnTo>
                    <a:pt x="4350" y="3306"/>
                  </a:lnTo>
                  <a:lnTo>
                    <a:pt x="4351" y="3305"/>
                  </a:lnTo>
                  <a:lnTo>
                    <a:pt x="4353" y="3305"/>
                  </a:lnTo>
                  <a:lnTo>
                    <a:pt x="4354" y="3305"/>
                  </a:lnTo>
                  <a:lnTo>
                    <a:pt x="4354" y="3305"/>
                  </a:lnTo>
                  <a:close/>
                  <a:moveTo>
                    <a:pt x="4422" y="3305"/>
                  </a:moveTo>
                  <a:lnTo>
                    <a:pt x="4451" y="3305"/>
                  </a:lnTo>
                  <a:lnTo>
                    <a:pt x="4453" y="3305"/>
                  </a:lnTo>
                  <a:lnTo>
                    <a:pt x="4454" y="3305"/>
                  </a:lnTo>
                  <a:lnTo>
                    <a:pt x="4456" y="3306"/>
                  </a:lnTo>
                  <a:lnTo>
                    <a:pt x="4456" y="3309"/>
                  </a:lnTo>
                  <a:lnTo>
                    <a:pt x="4456" y="3311"/>
                  </a:lnTo>
                  <a:lnTo>
                    <a:pt x="4454" y="3312"/>
                  </a:lnTo>
                  <a:lnTo>
                    <a:pt x="4453" y="3314"/>
                  </a:lnTo>
                  <a:lnTo>
                    <a:pt x="4451" y="3314"/>
                  </a:lnTo>
                  <a:lnTo>
                    <a:pt x="4422" y="3314"/>
                  </a:lnTo>
                  <a:lnTo>
                    <a:pt x="4420" y="3314"/>
                  </a:lnTo>
                  <a:lnTo>
                    <a:pt x="4419" y="3312"/>
                  </a:lnTo>
                  <a:lnTo>
                    <a:pt x="4417" y="3311"/>
                  </a:lnTo>
                  <a:lnTo>
                    <a:pt x="4417" y="3309"/>
                  </a:lnTo>
                  <a:lnTo>
                    <a:pt x="4417" y="3306"/>
                  </a:lnTo>
                  <a:lnTo>
                    <a:pt x="4419" y="3305"/>
                  </a:lnTo>
                  <a:lnTo>
                    <a:pt x="4420" y="3305"/>
                  </a:lnTo>
                  <a:lnTo>
                    <a:pt x="4422" y="3305"/>
                  </a:lnTo>
                  <a:lnTo>
                    <a:pt x="4422" y="3305"/>
                  </a:lnTo>
                  <a:close/>
                  <a:moveTo>
                    <a:pt x="4490" y="3305"/>
                  </a:moveTo>
                  <a:lnTo>
                    <a:pt x="4517" y="3305"/>
                  </a:lnTo>
                  <a:lnTo>
                    <a:pt x="4520" y="3305"/>
                  </a:lnTo>
                  <a:lnTo>
                    <a:pt x="4522" y="3305"/>
                  </a:lnTo>
                  <a:lnTo>
                    <a:pt x="4522" y="3306"/>
                  </a:lnTo>
                  <a:lnTo>
                    <a:pt x="4523" y="3309"/>
                  </a:lnTo>
                  <a:lnTo>
                    <a:pt x="4522" y="3311"/>
                  </a:lnTo>
                  <a:lnTo>
                    <a:pt x="4522" y="3312"/>
                  </a:lnTo>
                  <a:lnTo>
                    <a:pt x="4520" y="3314"/>
                  </a:lnTo>
                  <a:lnTo>
                    <a:pt x="4517" y="3314"/>
                  </a:lnTo>
                  <a:lnTo>
                    <a:pt x="4490" y="3314"/>
                  </a:lnTo>
                  <a:lnTo>
                    <a:pt x="4487" y="3314"/>
                  </a:lnTo>
                  <a:lnTo>
                    <a:pt x="4485" y="3312"/>
                  </a:lnTo>
                  <a:lnTo>
                    <a:pt x="4485" y="3311"/>
                  </a:lnTo>
                  <a:lnTo>
                    <a:pt x="4485" y="3309"/>
                  </a:lnTo>
                  <a:lnTo>
                    <a:pt x="4485" y="3306"/>
                  </a:lnTo>
                  <a:lnTo>
                    <a:pt x="4485" y="3305"/>
                  </a:lnTo>
                  <a:lnTo>
                    <a:pt x="4487" y="3305"/>
                  </a:lnTo>
                  <a:lnTo>
                    <a:pt x="4490" y="3305"/>
                  </a:lnTo>
                  <a:lnTo>
                    <a:pt x="4490" y="3305"/>
                  </a:lnTo>
                  <a:close/>
                  <a:moveTo>
                    <a:pt x="4556" y="3305"/>
                  </a:moveTo>
                  <a:lnTo>
                    <a:pt x="4585" y="3305"/>
                  </a:lnTo>
                  <a:lnTo>
                    <a:pt x="4586" y="3305"/>
                  </a:lnTo>
                  <a:lnTo>
                    <a:pt x="4588" y="3305"/>
                  </a:lnTo>
                  <a:lnTo>
                    <a:pt x="4590" y="3306"/>
                  </a:lnTo>
                  <a:lnTo>
                    <a:pt x="4590" y="3309"/>
                  </a:lnTo>
                  <a:lnTo>
                    <a:pt x="4590" y="3311"/>
                  </a:lnTo>
                  <a:lnTo>
                    <a:pt x="4588" y="3312"/>
                  </a:lnTo>
                  <a:lnTo>
                    <a:pt x="4586" y="3314"/>
                  </a:lnTo>
                  <a:lnTo>
                    <a:pt x="4585" y="3314"/>
                  </a:lnTo>
                  <a:lnTo>
                    <a:pt x="4556" y="3314"/>
                  </a:lnTo>
                  <a:lnTo>
                    <a:pt x="4554" y="3314"/>
                  </a:lnTo>
                  <a:lnTo>
                    <a:pt x="4553" y="3312"/>
                  </a:lnTo>
                  <a:lnTo>
                    <a:pt x="4551" y="3311"/>
                  </a:lnTo>
                  <a:lnTo>
                    <a:pt x="4551" y="3309"/>
                  </a:lnTo>
                  <a:lnTo>
                    <a:pt x="4551" y="3306"/>
                  </a:lnTo>
                  <a:lnTo>
                    <a:pt x="4553" y="3305"/>
                  </a:lnTo>
                  <a:lnTo>
                    <a:pt x="4554" y="3305"/>
                  </a:lnTo>
                  <a:lnTo>
                    <a:pt x="4556" y="3305"/>
                  </a:lnTo>
                  <a:lnTo>
                    <a:pt x="4556" y="3305"/>
                  </a:lnTo>
                  <a:close/>
                  <a:moveTo>
                    <a:pt x="4623" y="3305"/>
                  </a:moveTo>
                  <a:lnTo>
                    <a:pt x="4653" y="3305"/>
                  </a:lnTo>
                  <a:lnTo>
                    <a:pt x="4654" y="3305"/>
                  </a:lnTo>
                  <a:lnTo>
                    <a:pt x="4656" y="3305"/>
                  </a:lnTo>
                  <a:lnTo>
                    <a:pt x="4657" y="3306"/>
                  </a:lnTo>
                  <a:lnTo>
                    <a:pt x="4657" y="3309"/>
                  </a:lnTo>
                  <a:lnTo>
                    <a:pt x="4657" y="3311"/>
                  </a:lnTo>
                  <a:lnTo>
                    <a:pt x="4656" y="3312"/>
                  </a:lnTo>
                  <a:lnTo>
                    <a:pt x="4654" y="3314"/>
                  </a:lnTo>
                  <a:lnTo>
                    <a:pt x="4653" y="3314"/>
                  </a:lnTo>
                  <a:lnTo>
                    <a:pt x="4623" y="3314"/>
                  </a:lnTo>
                  <a:lnTo>
                    <a:pt x="4622" y="3314"/>
                  </a:lnTo>
                  <a:lnTo>
                    <a:pt x="4620" y="3312"/>
                  </a:lnTo>
                  <a:lnTo>
                    <a:pt x="4619" y="3311"/>
                  </a:lnTo>
                  <a:lnTo>
                    <a:pt x="4619" y="3309"/>
                  </a:lnTo>
                  <a:lnTo>
                    <a:pt x="4619" y="3306"/>
                  </a:lnTo>
                  <a:lnTo>
                    <a:pt x="4620" y="3305"/>
                  </a:lnTo>
                  <a:lnTo>
                    <a:pt x="4622" y="3305"/>
                  </a:lnTo>
                  <a:lnTo>
                    <a:pt x="4623" y="3305"/>
                  </a:lnTo>
                  <a:lnTo>
                    <a:pt x="4623" y="3305"/>
                  </a:lnTo>
                  <a:close/>
                  <a:moveTo>
                    <a:pt x="4691" y="3305"/>
                  </a:moveTo>
                  <a:lnTo>
                    <a:pt x="4720" y="3305"/>
                  </a:lnTo>
                  <a:lnTo>
                    <a:pt x="4722" y="3305"/>
                  </a:lnTo>
                  <a:lnTo>
                    <a:pt x="4723" y="3305"/>
                  </a:lnTo>
                  <a:lnTo>
                    <a:pt x="4725" y="3306"/>
                  </a:lnTo>
                  <a:lnTo>
                    <a:pt x="4725" y="3309"/>
                  </a:lnTo>
                  <a:lnTo>
                    <a:pt x="4725" y="3311"/>
                  </a:lnTo>
                  <a:lnTo>
                    <a:pt x="4723" y="3312"/>
                  </a:lnTo>
                  <a:lnTo>
                    <a:pt x="4722" y="3314"/>
                  </a:lnTo>
                  <a:lnTo>
                    <a:pt x="4720" y="3314"/>
                  </a:lnTo>
                  <a:lnTo>
                    <a:pt x="4691" y="3314"/>
                  </a:lnTo>
                  <a:lnTo>
                    <a:pt x="4690" y="3314"/>
                  </a:lnTo>
                  <a:lnTo>
                    <a:pt x="4688" y="3312"/>
                  </a:lnTo>
                  <a:lnTo>
                    <a:pt x="4686" y="3311"/>
                  </a:lnTo>
                  <a:lnTo>
                    <a:pt x="4686" y="3309"/>
                  </a:lnTo>
                  <a:lnTo>
                    <a:pt x="4686" y="3306"/>
                  </a:lnTo>
                  <a:lnTo>
                    <a:pt x="4688" y="3305"/>
                  </a:lnTo>
                  <a:lnTo>
                    <a:pt x="4690" y="3305"/>
                  </a:lnTo>
                  <a:lnTo>
                    <a:pt x="4691" y="3305"/>
                  </a:lnTo>
                  <a:lnTo>
                    <a:pt x="4691" y="3305"/>
                  </a:lnTo>
                  <a:close/>
                  <a:moveTo>
                    <a:pt x="4759" y="3305"/>
                  </a:moveTo>
                  <a:lnTo>
                    <a:pt x="4786" y="3305"/>
                  </a:lnTo>
                  <a:lnTo>
                    <a:pt x="4790" y="3305"/>
                  </a:lnTo>
                  <a:lnTo>
                    <a:pt x="4791" y="3305"/>
                  </a:lnTo>
                  <a:lnTo>
                    <a:pt x="4791" y="3306"/>
                  </a:lnTo>
                  <a:lnTo>
                    <a:pt x="4793" y="3309"/>
                  </a:lnTo>
                  <a:lnTo>
                    <a:pt x="4791" y="3311"/>
                  </a:lnTo>
                  <a:lnTo>
                    <a:pt x="4791" y="3312"/>
                  </a:lnTo>
                  <a:lnTo>
                    <a:pt x="4790" y="3314"/>
                  </a:lnTo>
                  <a:lnTo>
                    <a:pt x="4786" y="3314"/>
                  </a:lnTo>
                  <a:lnTo>
                    <a:pt x="4759" y="3314"/>
                  </a:lnTo>
                  <a:lnTo>
                    <a:pt x="4756" y="3314"/>
                  </a:lnTo>
                  <a:lnTo>
                    <a:pt x="4754" y="3312"/>
                  </a:lnTo>
                  <a:lnTo>
                    <a:pt x="4754" y="3311"/>
                  </a:lnTo>
                  <a:lnTo>
                    <a:pt x="4754" y="3309"/>
                  </a:lnTo>
                  <a:lnTo>
                    <a:pt x="4754" y="3306"/>
                  </a:lnTo>
                  <a:lnTo>
                    <a:pt x="4754" y="3305"/>
                  </a:lnTo>
                  <a:lnTo>
                    <a:pt x="4756" y="3305"/>
                  </a:lnTo>
                  <a:lnTo>
                    <a:pt x="4759" y="3305"/>
                  </a:lnTo>
                  <a:lnTo>
                    <a:pt x="4759" y="3305"/>
                  </a:lnTo>
                  <a:close/>
                  <a:moveTo>
                    <a:pt x="4825" y="3305"/>
                  </a:moveTo>
                  <a:lnTo>
                    <a:pt x="4854" y="3305"/>
                  </a:lnTo>
                  <a:lnTo>
                    <a:pt x="4856" y="3305"/>
                  </a:lnTo>
                  <a:lnTo>
                    <a:pt x="4857" y="3305"/>
                  </a:lnTo>
                  <a:lnTo>
                    <a:pt x="4859" y="3306"/>
                  </a:lnTo>
                  <a:lnTo>
                    <a:pt x="4859" y="3309"/>
                  </a:lnTo>
                  <a:lnTo>
                    <a:pt x="4859" y="3311"/>
                  </a:lnTo>
                  <a:lnTo>
                    <a:pt x="4857" y="3312"/>
                  </a:lnTo>
                  <a:lnTo>
                    <a:pt x="4856" y="3314"/>
                  </a:lnTo>
                  <a:lnTo>
                    <a:pt x="4854" y="3314"/>
                  </a:lnTo>
                  <a:lnTo>
                    <a:pt x="4825" y="3314"/>
                  </a:lnTo>
                  <a:lnTo>
                    <a:pt x="4823" y="3314"/>
                  </a:lnTo>
                  <a:lnTo>
                    <a:pt x="4822" y="3312"/>
                  </a:lnTo>
                  <a:lnTo>
                    <a:pt x="4820" y="3311"/>
                  </a:lnTo>
                  <a:lnTo>
                    <a:pt x="4820" y="3309"/>
                  </a:lnTo>
                  <a:lnTo>
                    <a:pt x="4820" y="3306"/>
                  </a:lnTo>
                  <a:lnTo>
                    <a:pt x="4822" y="3305"/>
                  </a:lnTo>
                  <a:lnTo>
                    <a:pt x="4823" y="3305"/>
                  </a:lnTo>
                  <a:lnTo>
                    <a:pt x="4825" y="3305"/>
                  </a:lnTo>
                  <a:lnTo>
                    <a:pt x="4825" y="3305"/>
                  </a:lnTo>
                  <a:close/>
                  <a:moveTo>
                    <a:pt x="4893" y="3305"/>
                  </a:moveTo>
                  <a:lnTo>
                    <a:pt x="4922" y="3305"/>
                  </a:lnTo>
                  <a:lnTo>
                    <a:pt x="4923" y="3305"/>
                  </a:lnTo>
                  <a:lnTo>
                    <a:pt x="4925" y="3305"/>
                  </a:lnTo>
                  <a:lnTo>
                    <a:pt x="4926" y="3306"/>
                  </a:lnTo>
                  <a:lnTo>
                    <a:pt x="4926" y="3309"/>
                  </a:lnTo>
                  <a:lnTo>
                    <a:pt x="4926" y="3311"/>
                  </a:lnTo>
                  <a:lnTo>
                    <a:pt x="4925" y="3312"/>
                  </a:lnTo>
                  <a:lnTo>
                    <a:pt x="4923" y="3314"/>
                  </a:lnTo>
                  <a:lnTo>
                    <a:pt x="4922" y="3314"/>
                  </a:lnTo>
                  <a:lnTo>
                    <a:pt x="4893" y="3314"/>
                  </a:lnTo>
                  <a:lnTo>
                    <a:pt x="4891" y="3314"/>
                  </a:lnTo>
                  <a:lnTo>
                    <a:pt x="4890" y="3312"/>
                  </a:lnTo>
                  <a:lnTo>
                    <a:pt x="4888" y="3311"/>
                  </a:lnTo>
                  <a:lnTo>
                    <a:pt x="4888" y="3309"/>
                  </a:lnTo>
                  <a:lnTo>
                    <a:pt x="4888" y="3306"/>
                  </a:lnTo>
                  <a:lnTo>
                    <a:pt x="4890" y="3305"/>
                  </a:lnTo>
                  <a:lnTo>
                    <a:pt x="4891" y="3305"/>
                  </a:lnTo>
                  <a:lnTo>
                    <a:pt x="4893" y="3305"/>
                  </a:lnTo>
                  <a:lnTo>
                    <a:pt x="4893" y="3305"/>
                  </a:lnTo>
                  <a:close/>
                  <a:moveTo>
                    <a:pt x="4960" y="3305"/>
                  </a:moveTo>
                  <a:lnTo>
                    <a:pt x="4989" y="3305"/>
                  </a:lnTo>
                  <a:lnTo>
                    <a:pt x="4991" y="3305"/>
                  </a:lnTo>
                  <a:lnTo>
                    <a:pt x="4993" y="3305"/>
                  </a:lnTo>
                  <a:lnTo>
                    <a:pt x="4994" y="3306"/>
                  </a:lnTo>
                  <a:lnTo>
                    <a:pt x="4994" y="3309"/>
                  </a:lnTo>
                  <a:lnTo>
                    <a:pt x="4994" y="3311"/>
                  </a:lnTo>
                  <a:lnTo>
                    <a:pt x="4993" y="3312"/>
                  </a:lnTo>
                  <a:lnTo>
                    <a:pt x="4991" y="3314"/>
                  </a:lnTo>
                  <a:lnTo>
                    <a:pt x="4989" y="3314"/>
                  </a:lnTo>
                  <a:lnTo>
                    <a:pt x="4960" y="3314"/>
                  </a:lnTo>
                  <a:lnTo>
                    <a:pt x="4959" y="3314"/>
                  </a:lnTo>
                  <a:lnTo>
                    <a:pt x="4957" y="3312"/>
                  </a:lnTo>
                  <a:lnTo>
                    <a:pt x="4956" y="3311"/>
                  </a:lnTo>
                  <a:lnTo>
                    <a:pt x="4956" y="3309"/>
                  </a:lnTo>
                  <a:lnTo>
                    <a:pt x="4956" y="3306"/>
                  </a:lnTo>
                  <a:lnTo>
                    <a:pt x="4957" y="3305"/>
                  </a:lnTo>
                  <a:lnTo>
                    <a:pt x="4959" y="3305"/>
                  </a:lnTo>
                  <a:lnTo>
                    <a:pt x="4960" y="3305"/>
                  </a:lnTo>
                  <a:lnTo>
                    <a:pt x="4960" y="3305"/>
                  </a:lnTo>
                  <a:close/>
                  <a:moveTo>
                    <a:pt x="5028" y="3305"/>
                  </a:moveTo>
                  <a:lnTo>
                    <a:pt x="5056" y="3305"/>
                  </a:lnTo>
                  <a:lnTo>
                    <a:pt x="5059" y="3305"/>
                  </a:lnTo>
                  <a:lnTo>
                    <a:pt x="5060" y="3305"/>
                  </a:lnTo>
                  <a:lnTo>
                    <a:pt x="5060" y="3306"/>
                  </a:lnTo>
                  <a:lnTo>
                    <a:pt x="5062" y="3309"/>
                  </a:lnTo>
                  <a:lnTo>
                    <a:pt x="5060" y="3311"/>
                  </a:lnTo>
                  <a:lnTo>
                    <a:pt x="5060" y="3312"/>
                  </a:lnTo>
                  <a:lnTo>
                    <a:pt x="5059" y="3314"/>
                  </a:lnTo>
                  <a:lnTo>
                    <a:pt x="5056" y="3314"/>
                  </a:lnTo>
                  <a:lnTo>
                    <a:pt x="5028" y="3314"/>
                  </a:lnTo>
                  <a:lnTo>
                    <a:pt x="5025" y="3314"/>
                  </a:lnTo>
                  <a:lnTo>
                    <a:pt x="5023" y="3312"/>
                  </a:lnTo>
                  <a:lnTo>
                    <a:pt x="5023" y="3311"/>
                  </a:lnTo>
                  <a:lnTo>
                    <a:pt x="5023" y="3309"/>
                  </a:lnTo>
                  <a:lnTo>
                    <a:pt x="5023" y="3306"/>
                  </a:lnTo>
                  <a:lnTo>
                    <a:pt x="5023" y="3305"/>
                  </a:lnTo>
                  <a:lnTo>
                    <a:pt x="5025" y="3305"/>
                  </a:lnTo>
                  <a:lnTo>
                    <a:pt x="5028" y="3305"/>
                  </a:lnTo>
                  <a:lnTo>
                    <a:pt x="5028" y="3305"/>
                  </a:lnTo>
                  <a:close/>
                  <a:moveTo>
                    <a:pt x="5094" y="3305"/>
                  </a:moveTo>
                  <a:lnTo>
                    <a:pt x="5123" y="3305"/>
                  </a:lnTo>
                  <a:lnTo>
                    <a:pt x="5125" y="3305"/>
                  </a:lnTo>
                  <a:lnTo>
                    <a:pt x="5126" y="3305"/>
                  </a:lnTo>
                  <a:lnTo>
                    <a:pt x="5128" y="3306"/>
                  </a:lnTo>
                  <a:lnTo>
                    <a:pt x="5128" y="3309"/>
                  </a:lnTo>
                  <a:lnTo>
                    <a:pt x="5128" y="3311"/>
                  </a:lnTo>
                  <a:lnTo>
                    <a:pt x="5126" y="3312"/>
                  </a:lnTo>
                  <a:lnTo>
                    <a:pt x="5125" y="3314"/>
                  </a:lnTo>
                  <a:lnTo>
                    <a:pt x="5123" y="3314"/>
                  </a:lnTo>
                  <a:lnTo>
                    <a:pt x="5094" y="3314"/>
                  </a:lnTo>
                  <a:lnTo>
                    <a:pt x="5093" y="3314"/>
                  </a:lnTo>
                  <a:lnTo>
                    <a:pt x="5091" y="3312"/>
                  </a:lnTo>
                  <a:lnTo>
                    <a:pt x="5089" y="3311"/>
                  </a:lnTo>
                  <a:lnTo>
                    <a:pt x="5089" y="3309"/>
                  </a:lnTo>
                  <a:lnTo>
                    <a:pt x="5089" y="3306"/>
                  </a:lnTo>
                  <a:lnTo>
                    <a:pt x="5091" y="3305"/>
                  </a:lnTo>
                  <a:lnTo>
                    <a:pt x="5093" y="3305"/>
                  </a:lnTo>
                  <a:lnTo>
                    <a:pt x="5094" y="3305"/>
                  </a:lnTo>
                  <a:lnTo>
                    <a:pt x="5094" y="3305"/>
                  </a:lnTo>
                  <a:close/>
                  <a:moveTo>
                    <a:pt x="5162" y="3305"/>
                  </a:moveTo>
                  <a:lnTo>
                    <a:pt x="5191" y="3305"/>
                  </a:lnTo>
                  <a:lnTo>
                    <a:pt x="5193" y="3305"/>
                  </a:lnTo>
                  <a:lnTo>
                    <a:pt x="5194" y="3305"/>
                  </a:lnTo>
                  <a:lnTo>
                    <a:pt x="5196" y="3306"/>
                  </a:lnTo>
                  <a:lnTo>
                    <a:pt x="5196" y="3309"/>
                  </a:lnTo>
                  <a:lnTo>
                    <a:pt x="5196" y="3311"/>
                  </a:lnTo>
                  <a:lnTo>
                    <a:pt x="5194" y="3312"/>
                  </a:lnTo>
                  <a:lnTo>
                    <a:pt x="5193" y="3314"/>
                  </a:lnTo>
                  <a:lnTo>
                    <a:pt x="5191" y="3314"/>
                  </a:lnTo>
                  <a:lnTo>
                    <a:pt x="5162" y="3314"/>
                  </a:lnTo>
                  <a:lnTo>
                    <a:pt x="5160" y="3314"/>
                  </a:lnTo>
                  <a:lnTo>
                    <a:pt x="5159" y="3312"/>
                  </a:lnTo>
                  <a:lnTo>
                    <a:pt x="5157" y="3311"/>
                  </a:lnTo>
                  <a:lnTo>
                    <a:pt x="5157" y="3309"/>
                  </a:lnTo>
                  <a:lnTo>
                    <a:pt x="5157" y="3306"/>
                  </a:lnTo>
                  <a:lnTo>
                    <a:pt x="5159" y="3305"/>
                  </a:lnTo>
                  <a:lnTo>
                    <a:pt x="5160" y="3305"/>
                  </a:lnTo>
                  <a:lnTo>
                    <a:pt x="5162" y="3305"/>
                  </a:lnTo>
                  <a:lnTo>
                    <a:pt x="5162" y="3305"/>
                  </a:lnTo>
                  <a:close/>
                  <a:moveTo>
                    <a:pt x="5229" y="3305"/>
                  </a:moveTo>
                  <a:lnTo>
                    <a:pt x="5259" y="3305"/>
                  </a:lnTo>
                  <a:lnTo>
                    <a:pt x="5260" y="3305"/>
                  </a:lnTo>
                  <a:lnTo>
                    <a:pt x="5262" y="3305"/>
                  </a:lnTo>
                  <a:lnTo>
                    <a:pt x="5263" y="3306"/>
                  </a:lnTo>
                  <a:lnTo>
                    <a:pt x="5263" y="3309"/>
                  </a:lnTo>
                  <a:lnTo>
                    <a:pt x="5263" y="3311"/>
                  </a:lnTo>
                  <a:lnTo>
                    <a:pt x="5262" y="3312"/>
                  </a:lnTo>
                  <a:lnTo>
                    <a:pt x="5260" y="3314"/>
                  </a:lnTo>
                  <a:lnTo>
                    <a:pt x="5259" y="3314"/>
                  </a:lnTo>
                  <a:lnTo>
                    <a:pt x="5229" y="3314"/>
                  </a:lnTo>
                  <a:lnTo>
                    <a:pt x="5228" y="3314"/>
                  </a:lnTo>
                  <a:lnTo>
                    <a:pt x="5226" y="3312"/>
                  </a:lnTo>
                  <a:lnTo>
                    <a:pt x="5225" y="3311"/>
                  </a:lnTo>
                  <a:lnTo>
                    <a:pt x="5225" y="3309"/>
                  </a:lnTo>
                  <a:lnTo>
                    <a:pt x="5225" y="3306"/>
                  </a:lnTo>
                  <a:lnTo>
                    <a:pt x="5226" y="3305"/>
                  </a:lnTo>
                  <a:lnTo>
                    <a:pt x="5228" y="3305"/>
                  </a:lnTo>
                  <a:lnTo>
                    <a:pt x="5229" y="3305"/>
                  </a:lnTo>
                  <a:lnTo>
                    <a:pt x="5229" y="3305"/>
                  </a:lnTo>
                  <a:close/>
                  <a:moveTo>
                    <a:pt x="5297" y="3305"/>
                  </a:moveTo>
                  <a:lnTo>
                    <a:pt x="5325" y="3305"/>
                  </a:lnTo>
                  <a:lnTo>
                    <a:pt x="5328" y="3305"/>
                  </a:lnTo>
                  <a:lnTo>
                    <a:pt x="5329" y="3305"/>
                  </a:lnTo>
                  <a:lnTo>
                    <a:pt x="5329" y="3306"/>
                  </a:lnTo>
                  <a:lnTo>
                    <a:pt x="5331" y="3309"/>
                  </a:lnTo>
                  <a:lnTo>
                    <a:pt x="5329" y="3311"/>
                  </a:lnTo>
                  <a:lnTo>
                    <a:pt x="5329" y="3312"/>
                  </a:lnTo>
                  <a:lnTo>
                    <a:pt x="5328" y="3314"/>
                  </a:lnTo>
                  <a:lnTo>
                    <a:pt x="5325" y="3314"/>
                  </a:lnTo>
                  <a:lnTo>
                    <a:pt x="5297" y="3314"/>
                  </a:lnTo>
                  <a:lnTo>
                    <a:pt x="5294" y="3314"/>
                  </a:lnTo>
                  <a:lnTo>
                    <a:pt x="5292" y="3312"/>
                  </a:lnTo>
                  <a:lnTo>
                    <a:pt x="5292" y="3311"/>
                  </a:lnTo>
                  <a:lnTo>
                    <a:pt x="5292" y="3309"/>
                  </a:lnTo>
                  <a:lnTo>
                    <a:pt x="5292" y="3306"/>
                  </a:lnTo>
                  <a:lnTo>
                    <a:pt x="5292" y="3305"/>
                  </a:lnTo>
                  <a:lnTo>
                    <a:pt x="5294" y="3305"/>
                  </a:lnTo>
                  <a:lnTo>
                    <a:pt x="5297" y="3305"/>
                  </a:lnTo>
                  <a:lnTo>
                    <a:pt x="5297" y="3305"/>
                  </a:lnTo>
                  <a:close/>
                  <a:moveTo>
                    <a:pt x="5363" y="3305"/>
                  </a:moveTo>
                  <a:lnTo>
                    <a:pt x="5392" y="3305"/>
                  </a:lnTo>
                  <a:lnTo>
                    <a:pt x="5394" y="3305"/>
                  </a:lnTo>
                  <a:lnTo>
                    <a:pt x="5396" y="3305"/>
                  </a:lnTo>
                  <a:lnTo>
                    <a:pt x="5397" y="3306"/>
                  </a:lnTo>
                  <a:lnTo>
                    <a:pt x="5397" y="3309"/>
                  </a:lnTo>
                  <a:lnTo>
                    <a:pt x="5397" y="3311"/>
                  </a:lnTo>
                  <a:lnTo>
                    <a:pt x="5396" y="3312"/>
                  </a:lnTo>
                  <a:lnTo>
                    <a:pt x="5394" y="3314"/>
                  </a:lnTo>
                  <a:lnTo>
                    <a:pt x="5392" y="3314"/>
                  </a:lnTo>
                  <a:lnTo>
                    <a:pt x="5363" y="3314"/>
                  </a:lnTo>
                  <a:lnTo>
                    <a:pt x="5362" y="3314"/>
                  </a:lnTo>
                  <a:lnTo>
                    <a:pt x="5360" y="3312"/>
                  </a:lnTo>
                  <a:lnTo>
                    <a:pt x="5359" y="3311"/>
                  </a:lnTo>
                  <a:lnTo>
                    <a:pt x="5359" y="3309"/>
                  </a:lnTo>
                  <a:lnTo>
                    <a:pt x="5359" y="3306"/>
                  </a:lnTo>
                  <a:lnTo>
                    <a:pt x="5360" y="3305"/>
                  </a:lnTo>
                  <a:lnTo>
                    <a:pt x="5362" y="3305"/>
                  </a:lnTo>
                  <a:lnTo>
                    <a:pt x="5363" y="3305"/>
                  </a:lnTo>
                  <a:lnTo>
                    <a:pt x="5363" y="3305"/>
                  </a:lnTo>
                  <a:close/>
                  <a:moveTo>
                    <a:pt x="5431" y="3305"/>
                  </a:moveTo>
                  <a:lnTo>
                    <a:pt x="5460" y="3305"/>
                  </a:lnTo>
                  <a:lnTo>
                    <a:pt x="5462" y="3305"/>
                  </a:lnTo>
                  <a:lnTo>
                    <a:pt x="5463" y="3305"/>
                  </a:lnTo>
                  <a:lnTo>
                    <a:pt x="5465" y="3306"/>
                  </a:lnTo>
                  <a:lnTo>
                    <a:pt x="5465" y="3309"/>
                  </a:lnTo>
                  <a:lnTo>
                    <a:pt x="5465" y="3311"/>
                  </a:lnTo>
                  <a:lnTo>
                    <a:pt x="5463" y="3312"/>
                  </a:lnTo>
                  <a:lnTo>
                    <a:pt x="5462" y="3314"/>
                  </a:lnTo>
                  <a:lnTo>
                    <a:pt x="5460" y="3314"/>
                  </a:lnTo>
                  <a:lnTo>
                    <a:pt x="5431" y="3314"/>
                  </a:lnTo>
                  <a:lnTo>
                    <a:pt x="5429" y="3314"/>
                  </a:lnTo>
                  <a:lnTo>
                    <a:pt x="5428" y="3312"/>
                  </a:lnTo>
                  <a:lnTo>
                    <a:pt x="5426" y="3311"/>
                  </a:lnTo>
                  <a:lnTo>
                    <a:pt x="5426" y="3309"/>
                  </a:lnTo>
                  <a:lnTo>
                    <a:pt x="5426" y="3306"/>
                  </a:lnTo>
                  <a:lnTo>
                    <a:pt x="5428" y="3305"/>
                  </a:lnTo>
                  <a:lnTo>
                    <a:pt x="5429" y="3305"/>
                  </a:lnTo>
                  <a:lnTo>
                    <a:pt x="5431" y="3305"/>
                  </a:lnTo>
                  <a:lnTo>
                    <a:pt x="5431" y="3305"/>
                  </a:lnTo>
                  <a:close/>
                  <a:moveTo>
                    <a:pt x="5499" y="3305"/>
                  </a:moveTo>
                  <a:lnTo>
                    <a:pt x="5528" y="3305"/>
                  </a:lnTo>
                  <a:lnTo>
                    <a:pt x="5529" y="3305"/>
                  </a:lnTo>
                  <a:lnTo>
                    <a:pt x="5531" y="3305"/>
                  </a:lnTo>
                  <a:lnTo>
                    <a:pt x="5532" y="3306"/>
                  </a:lnTo>
                  <a:lnTo>
                    <a:pt x="5532" y="3309"/>
                  </a:lnTo>
                  <a:lnTo>
                    <a:pt x="5532" y="3311"/>
                  </a:lnTo>
                  <a:lnTo>
                    <a:pt x="5531" y="3312"/>
                  </a:lnTo>
                  <a:lnTo>
                    <a:pt x="5529" y="3314"/>
                  </a:lnTo>
                  <a:lnTo>
                    <a:pt x="5528" y="3314"/>
                  </a:lnTo>
                  <a:lnTo>
                    <a:pt x="5499" y="3314"/>
                  </a:lnTo>
                  <a:lnTo>
                    <a:pt x="5497" y="3314"/>
                  </a:lnTo>
                  <a:lnTo>
                    <a:pt x="5496" y="3312"/>
                  </a:lnTo>
                  <a:lnTo>
                    <a:pt x="5494" y="3311"/>
                  </a:lnTo>
                  <a:lnTo>
                    <a:pt x="5494" y="3309"/>
                  </a:lnTo>
                  <a:lnTo>
                    <a:pt x="5494" y="3306"/>
                  </a:lnTo>
                  <a:lnTo>
                    <a:pt x="5496" y="3305"/>
                  </a:lnTo>
                  <a:lnTo>
                    <a:pt x="5497" y="3305"/>
                  </a:lnTo>
                  <a:lnTo>
                    <a:pt x="5499" y="3305"/>
                  </a:lnTo>
                  <a:lnTo>
                    <a:pt x="5499" y="3305"/>
                  </a:lnTo>
                  <a:close/>
                  <a:moveTo>
                    <a:pt x="5566" y="3305"/>
                  </a:moveTo>
                  <a:lnTo>
                    <a:pt x="5594" y="3305"/>
                  </a:lnTo>
                  <a:lnTo>
                    <a:pt x="5597" y="3305"/>
                  </a:lnTo>
                  <a:lnTo>
                    <a:pt x="5599" y="3305"/>
                  </a:lnTo>
                  <a:lnTo>
                    <a:pt x="5599" y="3306"/>
                  </a:lnTo>
                  <a:lnTo>
                    <a:pt x="5600" y="3309"/>
                  </a:lnTo>
                  <a:lnTo>
                    <a:pt x="5599" y="3311"/>
                  </a:lnTo>
                  <a:lnTo>
                    <a:pt x="5599" y="3312"/>
                  </a:lnTo>
                  <a:lnTo>
                    <a:pt x="5597" y="3314"/>
                  </a:lnTo>
                  <a:lnTo>
                    <a:pt x="5594" y="3314"/>
                  </a:lnTo>
                  <a:lnTo>
                    <a:pt x="5566" y="3314"/>
                  </a:lnTo>
                  <a:lnTo>
                    <a:pt x="5563" y="3314"/>
                  </a:lnTo>
                  <a:lnTo>
                    <a:pt x="5562" y="3312"/>
                  </a:lnTo>
                  <a:lnTo>
                    <a:pt x="5562" y="3311"/>
                  </a:lnTo>
                  <a:lnTo>
                    <a:pt x="5562" y="3309"/>
                  </a:lnTo>
                  <a:lnTo>
                    <a:pt x="5562" y="3306"/>
                  </a:lnTo>
                  <a:lnTo>
                    <a:pt x="5562" y="3305"/>
                  </a:lnTo>
                  <a:lnTo>
                    <a:pt x="5563" y="3305"/>
                  </a:lnTo>
                  <a:lnTo>
                    <a:pt x="5566" y="3305"/>
                  </a:lnTo>
                  <a:lnTo>
                    <a:pt x="5566" y="3305"/>
                  </a:lnTo>
                  <a:close/>
                  <a:moveTo>
                    <a:pt x="5632" y="3305"/>
                  </a:moveTo>
                  <a:lnTo>
                    <a:pt x="5662" y="3305"/>
                  </a:lnTo>
                  <a:lnTo>
                    <a:pt x="5663" y="3305"/>
                  </a:lnTo>
                  <a:lnTo>
                    <a:pt x="5665" y="3305"/>
                  </a:lnTo>
                  <a:lnTo>
                    <a:pt x="5666" y="3306"/>
                  </a:lnTo>
                  <a:lnTo>
                    <a:pt x="5666" y="3309"/>
                  </a:lnTo>
                  <a:lnTo>
                    <a:pt x="5666" y="3311"/>
                  </a:lnTo>
                  <a:lnTo>
                    <a:pt x="5665" y="3312"/>
                  </a:lnTo>
                  <a:lnTo>
                    <a:pt x="5663" y="3314"/>
                  </a:lnTo>
                  <a:lnTo>
                    <a:pt x="5662" y="3314"/>
                  </a:lnTo>
                  <a:lnTo>
                    <a:pt x="5632" y="3314"/>
                  </a:lnTo>
                  <a:lnTo>
                    <a:pt x="5631" y="3314"/>
                  </a:lnTo>
                  <a:lnTo>
                    <a:pt x="5629" y="3312"/>
                  </a:lnTo>
                  <a:lnTo>
                    <a:pt x="5628" y="3311"/>
                  </a:lnTo>
                  <a:lnTo>
                    <a:pt x="5628" y="3309"/>
                  </a:lnTo>
                  <a:lnTo>
                    <a:pt x="5628" y="3306"/>
                  </a:lnTo>
                  <a:lnTo>
                    <a:pt x="5629" y="3305"/>
                  </a:lnTo>
                  <a:lnTo>
                    <a:pt x="5631" y="3305"/>
                  </a:lnTo>
                  <a:lnTo>
                    <a:pt x="5632" y="3305"/>
                  </a:lnTo>
                  <a:lnTo>
                    <a:pt x="5632" y="3305"/>
                  </a:lnTo>
                  <a:close/>
                  <a:moveTo>
                    <a:pt x="5700" y="3305"/>
                  </a:moveTo>
                  <a:lnTo>
                    <a:pt x="5729" y="3305"/>
                  </a:lnTo>
                  <a:lnTo>
                    <a:pt x="5731" y="3305"/>
                  </a:lnTo>
                  <a:lnTo>
                    <a:pt x="5732" y="3305"/>
                  </a:lnTo>
                  <a:lnTo>
                    <a:pt x="5734" y="3306"/>
                  </a:lnTo>
                  <a:lnTo>
                    <a:pt x="5734" y="3309"/>
                  </a:lnTo>
                  <a:lnTo>
                    <a:pt x="5734" y="3311"/>
                  </a:lnTo>
                  <a:lnTo>
                    <a:pt x="5732" y="3312"/>
                  </a:lnTo>
                  <a:lnTo>
                    <a:pt x="5731" y="3314"/>
                  </a:lnTo>
                  <a:lnTo>
                    <a:pt x="5729" y="3314"/>
                  </a:lnTo>
                  <a:lnTo>
                    <a:pt x="5700" y="3314"/>
                  </a:lnTo>
                  <a:lnTo>
                    <a:pt x="5699" y="3314"/>
                  </a:lnTo>
                  <a:lnTo>
                    <a:pt x="5697" y="3312"/>
                  </a:lnTo>
                  <a:lnTo>
                    <a:pt x="5695" y="3311"/>
                  </a:lnTo>
                  <a:lnTo>
                    <a:pt x="5695" y="3309"/>
                  </a:lnTo>
                  <a:lnTo>
                    <a:pt x="5695" y="3306"/>
                  </a:lnTo>
                  <a:lnTo>
                    <a:pt x="5697" y="3305"/>
                  </a:lnTo>
                  <a:lnTo>
                    <a:pt x="5699" y="3305"/>
                  </a:lnTo>
                  <a:lnTo>
                    <a:pt x="5700" y="3305"/>
                  </a:lnTo>
                  <a:lnTo>
                    <a:pt x="5700" y="3305"/>
                  </a:lnTo>
                  <a:close/>
                  <a:moveTo>
                    <a:pt x="5768" y="3305"/>
                  </a:moveTo>
                  <a:lnTo>
                    <a:pt x="5797" y="3305"/>
                  </a:lnTo>
                  <a:lnTo>
                    <a:pt x="5799" y="3305"/>
                  </a:lnTo>
                  <a:lnTo>
                    <a:pt x="5800" y="3305"/>
                  </a:lnTo>
                  <a:lnTo>
                    <a:pt x="5802" y="3306"/>
                  </a:lnTo>
                  <a:lnTo>
                    <a:pt x="5802" y="3309"/>
                  </a:lnTo>
                  <a:lnTo>
                    <a:pt x="5802" y="3311"/>
                  </a:lnTo>
                  <a:lnTo>
                    <a:pt x="5800" y="3312"/>
                  </a:lnTo>
                  <a:lnTo>
                    <a:pt x="5799" y="3314"/>
                  </a:lnTo>
                  <a:lnTo>
                    <a:pt x="5797" y="3314"/>
                  </a:lnTo>
                  <a:lnTo>
                    <a:pt x="5768" y="3314"/>
                  </a:lnTo>
                  <a:lnTo>
                    <a:pt x="5766" y="3314"/>
                  </a:lnTo>
                  <a:lnTo>
                    <a:pt x="5765" y="3312"/>
                  </a:lnTo>
                  <a:lnTo>
                    <a:pt x="5763" y="3311"/>
                  </a:lnTo>
                  <a:lnTo>
                    <a:pt x="5763" y="3309"/>
                  </a:lnTo>
                  <a:lnTo>
                    <a:pt x="5763" y="3306"/>
                  </a:lnTo>
                  <a:lnTo>
                    <a:pt x="5765" y="3305"/>
                  </a:lnTo>
                  <a:lnTo>
                    <a:pt x="5766" y="3305"/>
                  </a:lnTo>
                  <a:lnTo>
                    <a:pt x="5768" y="3305"/>
                  </a:lnTo>
                  <a:lnTo>
                    <a:pt x="5768" y="3305"/>
                  </a:lnTo>
                  <a:close/>
                  <a:moveTo>
                    <a:pt x="5835" y="3305"/>
                  </a:moveTo>
                  <a:lnTo>
                    <a:pt x="5863" y="3305"/>
                  </a:lnTo>
                  <a:lnTo>
                    <a:pt x="5866" y="3305"/>
                  </a:lnTo>
                  <a:lnTo>
                    <a:pt x="5868" y="3305"/>
                  </a:lnTo>
                  <a:lnTo>
                    <a:pt x="5868" y="3306"/>
                  </a:lnTo>
                  <a:lnTo>
                    <a:pt x="5869" y="3309"/>
                  </a:lnTo>
                  <a:lnTo>
                    <a:pt x="5868" y="3311"/>
                  </a:lnTo>
                  <a:lnTo>
                    <a:pt x="5868" y="3312"/>
                  </a:lnTo>
                  <a:lnTo>
                    <a:pt x="5866" y="3314"/>
                  </a:lnTo>
                  <a:lnTo>
                    <a:pt x="5863" y="3314"/>
                  </a:lnTo>
                  <a:lnTo>
                    <a:pt x="5835" y="3314"/>
                  </a:lnTo>
                  <a:lnTo>
                    <a:pt x="5832" y="3314"/>
                  </a:lnTo>
                  <a:lnTo>
                    <a:pt x="5831" y="3312"/>
                  </a:lnTo>
                  <a:lnTo>
                    <a:pt x="5831" y="3311"/>
                  </a:lnTo>
                  <a:lnTo>
                    <a:pt x="5831" y="3309"/>
                  </a:lnTo>
                  <a:lnTo>
                    <a:pt x="5831" y="3306"/>
                  </a:lnTo>
                  <a:lnTo>
                    <a:pt x="5831" y="3305"/>
                  </a:lnTo>
                  <a:lnTo>
                    <a:pt x="5832" y="3305"/>
                  </a:lnTo>
                  <a:lnTo>
                    <a:pt x="5835" y="3305"/>
                  </a:lnTo>
                  <a:lnTo>
                    <a:pt x="5835" y="3305"/>
                  </a:lnTo>
                  <a:close/>
                  <a:moveTo>
                    <a:pt x="5902" y="3305"/>
                  </a:moveTo>
                  <a:lnTo>
                    <a:pt x="5931" y="3305"/>
                  </a:lnTo>
                  <a:lnTo>
                    <a:pt x="5932" y="3305"/>
                  </a:lnTo>
                  <a:lnTo>
                    <a:pt x="5934" y="3305"/>
                  </a:lnTo>
                  <a:lnTo>
                    <a:pt x="5935" y="3306"/>
                  </a:lnTo>
                  <a:lnTo>
                    <a:pt x="5935" y="3309"/>
                  </a:lnTo>
                  <a:lnTo>
                    <a:pt x="5935" y="3311"/>
                  </a:lnTo>
                  <a:lnTo>
                    <a:pt x="5934" y="3312"/>
                  </a:lnTo>
                  <a:lnTo>
                    <a:pt x="5932" y="3314"/>
                  </a:lnTo>
                  <a:lnTo>
                    <a:pt x="5931" y="3314"/>
                  </a:lnTo>
                  <a:lnTo>
                    <a:pt x="5902" y="3314"/>
                  </a:lnTo>
                  <a:lnTo>
                    <a:pt x="5900" y="3314"/>
                  </a:lnTo>
                  <a:lnTo>
                    <a:pt x="5899" y="3312"/>
                  </a:lnTo>
                  <a:lnTo>
                    <a:pt x="5897" y="3311"/>
                  </a:lnTo>
                  <a:lnTo>
                    <a:pt x="5897" y="3309"/>
                  </a:lnTo>
                  <a:lnTo>
                    <a:pt x="5897" y="3306"/>
                  </a:lnTo>
                  <a:lnTo>
                    <a:pt x="5899" y="3305"/>
                  </a:lnTo>
                  <a:lnTo>
                    <a:pt x="5900" y="3305"/>
                  </a:lnTo>
                  <a:lnTo>
                    <a:pt x="5902" y="3305"/>
                  </a:lnTo>
                  <a:lnTo>
                    <a:pt x="5902" y="3305"/>
                  </a:lnTo>
                  <a:close/>
                  <a:moveTo>
                    <a:pt x="5969" y="3305"/>
                  </a:moveTo>
                  <a:lnTo>
                    <a:pt x="5999" y="3305"/>
                  </a:lnTo>
                  <a:lnTo>
                    <a:pt x="6000" y="3305"/>
                  </a:lnTo>
                  <a:lnTo>
                    <a:pt x="6002" y="3305"/>
                  </a:lnTo>
                  <a:lnTo>
                    <a:pt x="6003" y="3306"/>
                  </a:lnTo>
                  <a:lnTo>
                    <a:pt x="6003" y="3309"/>
                  </a:lnTo>
                  <a:lnTo>
                    <a:pt x="6003" y="3311"/>
                  </a:lnTo>
                  <a:lnTo>
                    <a:pt x="6002" y="3312"/>
                  </a:lnTo>
                  <a:lnTo>
                    <a:pt x="6000" y="3314"/>
                  </a:lnTo>
                  <a:lnTo>
                    <a:pt x="5999" y="3314"/>
                  </a:lnTo>
                  <a:lnTo>
                    <a:pt x="5969" y="3314"/>
                  </a:lnTo>
                  <a:lnTo>
                    <a:pt x="5968" y="3314"/>
                  </a:lnTo>
                  <a:lnTo>
                    <a:pt x="5966" y="3312"/>
                  </a:lnTo>
                  <a:lnTo>
                    <a:pt x="5965" y="3311"/>
                  </a:lnTo>
                  <a:lnTo>
                    <a:pt x="5965" y="3309"/>
                  </a:lnTo>
                  <a:lnTo>
                    <a:pt x="5965" y="3306"/>
                  </a:lnTo>
                  <a:lnTo>
                    <a:pt x="5966" y="3305"/>
                  </a:lnTo>
                  <a:lnTo>
                    <a:pt x="5968" y="3305"/>
                  </a:lnTo>
                  <a:lnTo>
                    <a:pt x="5969" y="3305"/>
                  </a:lnTo>
                  <a:lnTo>
                    <a:pt x="5969" y="3305"/>
                  </a:lnTo>
                  <a:close/>
                  <a:moveTo>
                    <a:pt x="6037" y="3305"/>
                  </a:moveTo>
                  <a:lnTo>
                    <a:pt x="6066" y="3305"/>
                  </a:lnTo>
                  <a:lnTo>
                    <a:pt x="6068" y="3305"/>
                  </a:lnTo>
                  <a:lnTo>
                    <a:pt x="6069" y="3305"/>
                  </a:lnTo>
                  <a:lnTo>
                    <a:pt x="6071" y="3306"/>
                  </a:lnTo>
                  <a:lnTo>
                    <a:pt x="6071" y="3309"/>
                  </a:lnTo>
                  <a:lnTo>
                    <a:pt x="6071" y="3311"/>
                  </a:lnTo>
                  <a:lnTo>
                    <a:pt x="6069" y="3312"/>
                  </a:lnTo>
                  <a:lnTo>
                    <a:pt x="6068" y="3314"/>
                  </a:lnTo>
                  <a:lnTo>
                    <a:pt x="6066" y="3314"/>
                  </a:lnTo>
                  <a:lnTo>
                    <a:pt x="6037" y="3314"/>
                  </a:lnTo>
                  <a:lnTo>
                    <a:pt x="6035" y="3314"/>
                  </a:lnTo>
                  <a:lnTo>
                    <a:pt x="6034" y="3312"/>
                  </a:lnTo>
                  <a:lnTo>
                    <a:pt x="6032" y="3311"/>
                  </a:lnTo>
                  <a:lnTo>
                    <a:pt x="6032" y="3309"/>
                  </a:lnTo>
                  <a:lnTo>
                    <a:pt x="6032" y="3306"/>
                  </a:lnTo>
                  <a:lnTo>
                    <a:pt x="6034" y="3305"/>
                  </a:lnTo>
                  <a:lnTo>
                    <a:pt x="6035" y="3305"/>
                  </a:lnTo>
                  <a:lnTo>
                    <a:pt x="6037" y="3305"/>
                  </a:lnTo>
                  <a:lnTo>
                    <a:pt x="6037" y="3305"/>
                  </a:lnTo>
                  <a:close/>
                  <a:moveTo>
                    <a:pt x="6105" y="3305"/>
                  </a:moveTo>
                  <a:lnTo>
                    <a:pt x="6132" y="3305"/>
                  </a:lnTo>
                  <a:lnTo>
                    <a:pt x="6135" y="3305"/>
                  </a:lnTo>
                  <a:lnTo>
                    <a:pt x="6137" y="3305"/>
                  </a:lnTo>
                  <a:lnTo>
                    <a:pt x="6137" y="3306"/>
                  </a:lnTo>
                  <a:lnTo>
                    <a:pt x="6138" y="3309"/>
                  </a:lnTo>
                  <a:lnTo>
                    <a:pt x="6137" y="3311"/>
                  </a:lnTo>
                  <a:lnTo>
                    <a:pt x="6137" y="3312"/>
                  </a:lnTo>
                  <a:lnTo>
                    <a:pt x="6135" y="3314"/>
                  </a:lnTo>
                  <a:lnTo>
                    <a:pt x="6132" y="3314"/>
                  </a:lnTo>
                  <a:lnTo>
                    <a:pt x="6105" y="3314"/>
                  </a:lnTo>
                  <a:lnTo>
                    <a:pt x="6102" y="3314"/>
                  </a:lnTo>
                  <a:lnTo>
                    <a:pt x="6100" y="3312"/>
                  </a:lnTo>
                  <a:lnTo>
                    <a:pt x="6100" y="3311"/>
                  </a:lnTo>
                  <a:lnTo>
                    <a:pt x="6100" y="3309"/>
                  </a:lnTo>
                  <a:lnTo>
                    <a:pt x="6100" y="3306"/>
                  </a:lnTo>
                  <a:lnTo>
                    <a:pt x="6100" y="3305"/>
                  </a:lnTo>
                  <a:lnTo>
                    <a:pt x="6102" y="3305"/>
                  </a:lnTo>
                  <a:lnTo>
                    <a:pt x="6105" y="3305"/>
                  </a:lnTo>
                  <a:lnTo>
                    <a:pt x="6105" y="3305"/>
                  </a:lnTo>
                  <a:close/>
                  <a:moveTo>
                    <a:pt x="6171" y="3305"/>
                  </a:moveTo>
                  <a:lnTo>
                    <a:pt x="6200" y="3305"/>
                  </a:lnTo>
                  <a:lnTo>
                    <a:pt x="6202" y="3305"/>
                  </a:lnTo>
                  <a:lnTo>
                    <a:pt x="6203" y="3305"/>
                  </a:lnTo>
                  <a:lnTo>
                    <a:pt x="6205" y="3306"/>
                  </a:lnTo>
                  <a:lnTo>
                    <a:pt x="6205" y="3309"/>
                  </a:lnTo>
                  <a:lnTo>
                    <a:pt x="6205" y="3311"/>
                  </a:lnTo>
                  <a:lnTo>
                    <a:pt x="6203" y="3312"/>
                  </a:lnTo>
                  <a:lnTo>
                    <a:pt x="6202" y="3314"/>
                  </a:lnTo>
                  <a:lnTo>
                    <a:pt x="6200" y="3314"/>
                  </a:lnTo>
                  <a:lnTo>
                    <a:pt x="6171" y="3314"/>
                  </a:lnTo>
                  <a:lnTo>
                    <a:pt x="6169" y="3314"/>
                  </a:lnTo>
                  <a:lnTo>
                    <a:pt x="6168" y="3312"/>
                  </a:lnTo>
                  <a:lnTo>
                    <a:pt x="6166" y="3311"/>
                  </a:lnTo>
                  <a:lnTo>
                    <a:pt x="6166" y="3309"/>
                  </a:lnTo>
                  <a:lnTo>
                    <a:pt x="6166" y="3306"/>
                  </a:lnTo>
                  <a:lnTo>
                    <a:pt x="6168" y="3305"/>
                  </a:lnTo>
                  <a:lnTo>
                    <a:pt x="6169" y="3305"/>
                  </a:lnTo>
                  <a:lnTo>
                    <a:pt x="6171" y="3305"/>
                  </a:lnTo>
                  <a:lnTo>
                    <a:pt x="6171" y="3305"/>
                  </a:lnTo>
                  <a:close/>
                  <a:moveTo>
                    <a:pt x="6238" y="3305"/>
                  </a:moveTo>
                  <a:lnTo>
                    <a:pt x="6268" y="3305"/>
                  </a:lnTo>
                  <a:lnTo>
                    <a:pt x="6269" y="3305"/>
                  </a:lnTo>
                  <a:lnTo>
                    <a:pt x="6271" y="3305"/>
                  </a:lnTo>
                  <a:lnTo>
                    <a:pt x="6272" y="3306"/>
                  </a:lnTo>
                  <a:lnTo>
                    <a:pt x="6272" y="3309"/>
                  </a:lnTo>
                  <a:lnTo>
                    <a:pt x="6272" y="3311"/>
                  </a:lnTo>
                  <a:lnTo>
                    <a:pt x="6271" y="3312"/>
                  </a:lnTo>
                  <a:lnTo>
                    <a:pt x="6269" y="3314"/>
                  </a:lnTo>
                  <a:lnTo>
                    <a:pt x="6268" y="3314"/>
                  </a:lnTo>
                  <a:lnTo>
                    <a:pt x="6238" y="3314"/>
                  </a:lnTo>
                  <a:lnTo>
                    <a:pt x="6237" y="3314"/>
                  </a:lnTo>
                  <a:lnTo>
                    <a:pt x="6235" y="3312"/>
                  </a:lnTo>
                  <a:lnTo>
                    <a:pt x="6234" y="3311"/>
                  </a:lnTo>
                  <a:lnTo>
                    <a:pt x="6234" y="3309"/>
                  </a:lnTo>
                  <a:lnTo>
                    <a:pt x="6234" y="3306"/>
                  </a:lnTo>
                  <a:lnTo>
                    <a:pt x="6235" y="3305"/>
                  </a:lnTo>
                  <a:lnTo>
                    <a:pt x="6237" y="3305"/>
                  </a:lnTo>
                  <a:lnTo>
                    <a:pt x="6238" y="3305"/>
                  </a:lnTo>
                  <a:lnTo>
                    <a:pt x="6238" y="3305"/>
                  </a:lnTo>
                  <a:close/>
                  <a:moveTo>
                    <a:pt x="6306" y="3305"/>
                  </a:moveTo>
                  <a:lnTo>
                    <a:pt x="6335" y="3305"/>
                  </a:lnTo>
                  <a:lnTo>
                    <a:pt x="6337" y="3305"/>
                  </a:lnTo>
                  <a:lnTo>
                    <a:pt x="6338" y="3305"/>
                  </a:lnTo>
                  <a:lnTo>
                    <a:pt x="6340" y="3306"/>
                  </a:lnTo>
                  <a:lnTo>
                    <a:pt x="6340" y="3309"/>
                  </a:lnTo>
                  <a:lnTo>
                    <a:pt x="6340" y="3311"/>
                  </a:lnTo>
                  <a:lnTo>
                    <a:pt x="6338" y="3312"/>
                  </a:lnTo>
                  <a:lnTo>
                    <a:pt x="6337" y="3314"/>
                  </a:lnTo>
                  <a:lnTo>
                    <a:pt x="6335" y="3314"/>
                  </a:lnTo>
                  <a:lnTo>
                    <a:pt x="6306" y="3314"/>
                  </a:lnTo>
                  <a:lnTo>
                    <a:pt x="6305" y="3314"/>
                  </a:lnTo>
                  <a:lnTo>
                    <a:pt x="6303" y="3312"/>
                  </a:lnTo>
                  <a:lnTo>
                    <a:pt x="6302" y="3311"/>
                  </a:lnTo>
                  <a:lnTo>
                    <a:pt x="6302" y="3309"/>
                  </a:lnTo>
                  <a:lnTo>
                    <a:pt x="6302" y="3306"/>
                  </a:lnTo>
                  <a:lnTo>
                    <a:pt x="6303" y="3305"/>
                  </a:lnTo>
                  <a:lnTo>
                    <a:pt x="6305" y="3305"/>
                  </a:lnTo>
                  <a:lnTo>
                    <a:pt x="6306" y="3305"/>
                  </a:lnTo>
                  <a:lnTo>
                    <a:pt x="6306" y="3305"/>
                  </a:lnTo>
                  <a:close/>
                  <a:moveTo>
                    <a:pt x="6374" y="3305"/>
                  </a:moveTo>
                  <a:lnTo>
                    <a:pt x="6401" y="3305"/>
                  </a:lnTo>
                  <a:lnTo>
                    <a:pt x="6405" y="3305"/>
                  </a:lnTo>
                  <a:lnTo>
                    <a:pt x="6406" y="3305"/>
                  </a:lnTo>
                  <a:lnTo>
                    <a:pt x="6406" y="3306"/>
                  </a:lnTo>
                  <a:lnTo>
                    <a:pt x="6408" y="3309"/>
                  </a:lnTo>
                  <a:lnTo>
                    <a:pt x="6406" y="3311"/>
                  </a:lnTo>
                  <a:lnTo>
                    <a:pt x="6406" y="3312"/>
                  </a:lnTo>
                  <a:lnTo>
                    <a:pt x="6405" y="3314"/>
                  </a:lnTo>
                  <a:lnTo>
                    <a:pt x="6401" y="3314"/>
                  </a:lnTo>
                  <a:lnTo>
                    <a:pt x="6374" y="3314"/>
                  </a:lnTo>
                  <a:lnTo>
                    <a:pt x="6371" y="3314"/>
                  </a:lnTo>
                  <a:lnTo>
                    <a:pt x="6369" y="3312"/>
                  </a:lnTo>
                  <a:lnTo>
                    <a:pt x="6369" y="3311"/>
                  </a:lnTo>
                  <a:lnTo>
                    <a:pt x="6369" y="3309"/>
                  </a:lnTo>
                  <a:lnTo>
                    <a:pt x="6369" y="3306"/>
                  </a:lnTo>
                  <a:lnTo>
                    <a:pt x="6369" y="3305"/>
                  </a:lnTo>
                  <a:lnTo>
                    <a:pt x="6371" y="3305"/>
                  </a:lnTo>
                  <a:lnTo>
                    <a:pt x="6374" y="3305"/>
                  </a:lnTo>
                  <a:lnTo>
                    <a:pt x="6374" y="3305"/>
                  </a:lnTo>
                  <a:close/>
                  <a:moveTo>
                    <a:pt x="6440" y="3305"/>
                  </a:moveTo>
                  <a:lnTo>
                    <a:pt x="6469" y="3305"/>
                  </a:lnTo>
                  <a:lnTo>
                    <a:pt x="6471" y="3305"/>
                  </a:lnTo>
                  <a:lnTo>
                    <a:pt x="6472" y="3305"/>
                  </a:lnTo>
                  <a:lnTo>
                    <a:pt x="6474" y="3306"/>
                  </a:lnTo>
                  <a:lnTo>
                    <a:pt x="6474" y="3309"/>
                  </a:lnTo>
                  <a:lnTo>
                    <a:pt x="6474" y="3311"/>
                  </a:lnTo>
                  <a:lnTo>
                    <a:pt x="6472" y="3312"/>
                  </a:lnTo>
                  <a:lnTo>
                    <a:pt x="6471" y="3314"/>
                  </a:lnTo>
                  <a:lnTo>
                    <a:pt x="6469" y="3314"/>
                  </a:lnTo>
                  <a:lnTo>
                    <a:pt x="6440" y="3314"/>
                  </a:lnTo>
                  <a:lnTo>
                    <a:pt x="6438" y="3314"/>
                  </a:lnTo>
                  <a:lnTo>
                    <a:pt x="6437" y="3312"/>
                  </a:lnTo>
                  <a:lnTo>
                    <a:pt x="6435" y="3311"/>
                  </a:lnTo>
                  <a:lnTo>
                    <a:pt x="6435" y="3309"/>
                  </a:lnTo>
                  <a:lnTo>
                    <a:pt x="6435" y="3306"/>
                  </a:lnTo>
                  <a:lnTo>
                    <a:pt x="6437" y="3305"/>
                  </a:lnTo>
                  <a:lnTo>
                    <a:pt x="6438" y="3305"/>
                  </a:lnTo>
                  <a:lnTo>
                    <a:pt x="6440" y="3305"/>
                  </a:lnTo>
                  <a:lnTo>
                    <a:pt x="6440" y="3305"/>
                  </a:lnTo>
                  <a:close/>
                  <a:moveTo>
                    <a:pt x="6508" y="3305"/>
                  </a:moveTo>
                  <a:lnTo>
                    <a:pt x="6537" y="3305"/>
                  </a:lnTo>
                  <a:lnTo>
                    <a:pt x="6538" y="3305"/>
                  </a:lnTo>
                  <a:lnTo>
                    <a:pt x="6540" y="3305"/>
                  </a:lnTo>
                  <a:lnTo>
                    <a:pt x="6541" y="3306"/>
                  </a:lnTo>
                  <a:lnTo>
                    <a:pt x="6541" y="3309"/>
                  </a:lnTo>
                  <a:lnTo>
                    <a:pt x="6541" y="3311"/>
                  </a:lnTo>
                  <a:lnTo>
                    <a:pt x="6540" y="3312"/>
                  </a:lnTo>
                  <a:lnTo>
                    <a:pt x="6538" y="3314"/>
                  </a:lnTo>
                  <a:lnTo>
                    <a:pt x="6537" y="3314"/>
                  </a:lnTo>
                  <a:lnTo>
                    <a:pt x="6508" y="3314"/>
                  </a:lnTo>
                  <a:lnTo>
                    <a:pt x="6506" y="3314"/>
                  </a:lnTo>
                  <a:lnTo>
                    <a:pt x="6505" y="3312"/>
                  </a:lnTo>
                  <a:lnTo>
                    <a:pt x="6503" y="3311"/>
                  </a:lnTo>
                  <a:lnTo>
                    <a:pt x="6503" y="3309"/>
                  </a:lnTo>
                  <a:lnTo>
                    <a:pt x="6503" y="3306"/>
                  </a:lnTo>
                  <a:lnTo>
                    <a:pt x="6505" y="3305"/>
                  </a:lnTo>
                  <a:lnTo>
                    <a:pt x="6506" y="3305"/>
                  </a:lnTo>
                  <a:lnTo>
                    <a:pt x="6508" y="3305"/>
                  </a:lnTo>
                  <a:lnTo>
                    <a:pt x="6508" y="3305"/>
                  </a:lnTo>
                  <a:close/>
                  <a:moveTo>
                    <a:pt x="6575" y="3305"/>
                  </a:moveTo>
                  <a:lnTo>
                    <a:pt x="6605" y="3305"/>
                  </a:lnTo>
                  <a:lnTo>
                    <a:pt x="6606" y="3305"/>
                  </a:lnTo>
                  <a:lnTo>
                    <a:pt x="6608" y="3305"/>
                  </a:lnTo>
                  <a:lnTo>
                    <a:pt x="6609" y="3306"/>
                  </a:lnTo>
                  <a:lnTo>
                    <a:pt x="6609" y="3309"/>
                  </a:lnTo>
                  <a:lnTo>
                    <a:pt x="6609" y="3311"/>
                  </a:lnTo>
                  <a:lnTo>
                    <a:pt x="6608" y="3312"/>
                  </a:lnTo>
                  <a:lnTo>
                    <a:pt x="6606" y="3314"/>
                  </a:lnTo>
                  <a:lnTo>
                    <a:pt x="6605" y="3314"/>
                  </a:lnTo>
                  <a:lnTo>
                    <a:pt x="6575" y="3314"/>
                  </a:lnTo>
                  <a:lnTo>
                    <a:pt x="6574" y="3314"/>
                  </a:lnTo>
                  <a:lnTo>
                    <a:pt x="6572" y="3312"/>
                  </a:lnTo>
                  <a:lnTo>
                    <a:pt x="6571" y="3311"/>
                  </a:lnTo>
                  <a:lnTo>
                    <a:pt x="6571" y="3309"/>
                  </a:lnTo>
                  <a:lnTo>
                    <a:pt x="6571" y="3306"/>
                  </a:lnTo>
                  <a:lnTo>
                    <a:pt x="6572" y="3305"/>
                  </a:lnTo>
                  <a:lnTo>
                    <a:pt x="6574" y="3305"/>
                  </a:lnTo>
                  <a:lnTo>
                    <a:pt x="6575" y="3305"/>
                  </a:lnTo>
                  <a:lnTo>
                    <a:pt x="6575" y="3305"/>
                  </a:lnTo>
                  <a:close/>
                  <a:moveTo>
                    <a:pt x="6643" y="3305"/>
                  </a:moveTo>
                  <a:lnTo>
                    <a:pt x="6671" y="3305"/>
                  </a:lnTo>
                  <a:lnTo>
                    <a:pt x="6674" y="3305"/>
                  </a:lnTo>
                  <a:lnTo>
                    <a:pt x="6675" y="3305"/>
                  </a:lnTo>
                  <a:lnTo>
                    <a:pt x="6675" y="3306"/>
                  </a:lnTo>
                  <a:lnTo>
                    <a:pt x="6677" y="3309"/>
                  </a:lnTo>
                  <a:lnTo>
                    <a:pt x="6675" y="3311"/>
                  </a:lnTo>
                  <a:lnTo>
                    <a:pt x="6675" y="3312"/>
                  </a:lnTo>
                  <a:lnTo>
                    <a:pt x="6674" y="3314"/>
                  </a:lnTo>
                  <a:lnTo>
                    <a:pt x="6671" y="3314"/>
                  </a:lnTo>
                  <a:lnTo>
                    <a:pt x="6643" y="3314"/>
                  </a:lnTo>
                  <a:lnTo>
                    <a:pt x="6640" y="3314"/>
                  </a:lnTo>
                  <a:lnTo>
                    <a:pt x="6638" y="3312"/>
                  </a:lnTo>
                  <a:lnTo>
                    <a:pt x="6638" y="3311"/>
                  </a:lnTo>
                  <a:lnTo>
                    <a:pt x="6638" y="3309"/>
                  </a:lnTo>
                  <a:lnTo>
                    <a:pt x="6638" y="3306"/>
                  </a:lnTo>
                  <a:lnTo>
                    <a:pt x="6638" y="3305"/>
                  </a:lnTo>
                  <a:lnTo>
                    <a:pt x="6640" y="3305"/>
                  </a:lnTo>
                  <a:lnTo>
                    <a:pt x="6643" y="3305"/>
                  </a:lnTo>
                  <a:lnTo>
                    <a:pt x="6643" y="3305"/>
                  </a:lnTo>
                  <a:close/>
                  <a:moveTo>
                    <a:pt x="6709" y="3305"/>
                  </a:moveTo>
                  <a:lnTo>
                    <a:pt x="6738" y="3305"/>
                  </a:lnTo>
                  <a:lnTo>
                    <a:pt x="6740" y="3305"/>
                  </a:lnTo>
                  <a:lnTo>
                    <a:pt x="6741" y="3305"/>
                  </a:lnTo>
                  <a:lnTo>
                    <a:pt x="6743" y="3306"/>
                  </a:lnTo>
                  <a:lnTo>
                    <a:pt x="6743" y="3309"/>
                  </a:lnTo>
                  <a:lnTo>
                    <a:pt x="6743" y="3311"/>
                  </a:lnTo>
                  <a:lnTo>
                    <a:pt x="6741" y="3312"/>
                  </a:lnTo>
                  <a:lnTo>
                    <a:pt x="6740" y="3314"/>
                  </a:lnTo>
                  <a:lnTo>
                    <a:pt x="6738" y="3314"/>
                  </a:lnTo>
                  <a:lnTo>
                    <a:pt x="6709" y="3314"/>
                  </a:lnTo>
                  <a:lnTo>
                    <a:pt x="6708" y="3314"/>
                  </a:lnTo>
                  <a:lnTo>
                    <a:pt x="6706" y="3312"/>
                  </a:lnTo>
                  <a:lnTo>
                    <a:pt x="6705" y="3311"/>
                  </a:lnTo>
                  <a:lnTo>
                    <a:pt x="6705" y="3309"/>
                  </a:lnTo>
                  <a:lnTo>
                    <a:pt x="6705" y="3306"/>
                  </a:lnTo>
                  <a:lnTo>
                    <a:pt x="6706" y="3305"/>
                  </a:lnTo>
                  <a:lnTo>
                    <a:pt x="6708" y="3305"/>
                  </a:lnTo>
                  <a:lnTo>
                    <a:pt x="6709" y="3305"/>
                  </a:lnTo>
                  <a:lnTo>
                    <a:pt x="6709" y="3305"/>
                  </a:lnTo>
                  <a:close/>
                  <a:moveTo>
                    <a:pt x="6777" y="3303"/>
                  </a:moveTo>
                  <a:lnTo>
                    <a:pt x="6788" y="3303"/>
                  </a:lnTo>
                  <a:lnTo>
                    <a:pt x="6806" y="3302"/>
                  </a:lnTo>
                  <a:lnTo>
                    <a:pt x="6808" y="3302"/>
                  </a:lnTo>
                  <a:lnTo>
                    <a:pt x="6809" y="3303"/>
                  </a:lnTo>
                  <a:lnTo>
                    <a:pt x="6811" y="3305"/>
                  </a:lnTo>
                  <a:lnTo>
                    <a:pt x="6811" y="3306"/>
                  </a:lnTo>
                  <a:lnTo>
                    <a:pt x="6811" y="3308"/>
                  </a:lnTo>
                  <a:lnTo>
                    <a:pt x="6809" y="3309"/>
                  </a:lnTo>
                  <a:lnTo>
                    <a:pt x="6808" y="3311"/>
                  </a:lnTo>
                  <a:lnTo>
                    <a:pt x="6806" y="3311"/>
                  </a:lnTo>
                  <a:lnTo>
                    <a:pt x="6788" y="3312"/>
                  </a:lnTo>
                  <a:lnTo>
                    <a:pt x="6777" y="3314"/>
                  </a:lnTo>
                  <a:lnTo>
                    <a:pt x="6775" y="3312"/>
                  </a:lnTo>
                  <a:lnTo>
                    <a:pt x="6774" y="3312"/>
                  </a:lnTo>
                  <a:lnTo>
                    <a:pt x="6772" y="3311"/>
                  </a:lnTo>
                  <a:lnTo>
                    <a:pt x="6772" y="3309"/>
                  </a:lnTo>
                  <a:lnTo>
                    <a:pt x="6772" y="3306"/>
                  </a:lnTo>
                  <a:lnTo>
                    <a:pt x="6774" y="3305"/>
                  </a:lnTo>
                  <a:lnTo>
                    <a:pt x="6775" y="3305"/>
                  </a:lnTo>
                  <a:lnTo>
                    <a:pt x="6777" y="3303"/>
                  </a:lnTo>
                  <a:lnTo>
                    <a:pt x="6777" y="3303"/>
                  </a:lnTo>
                  <a:close/>
                  <a:moveTo>
                    <a:pt x="6843" y="3297"/>
                  </a:moveTo>
                  <a:lnTo>
                    <a:pt x="6869" y="3292"/>
                  </a:lnTo>
                  <a:lnTo>
                    <a:pt x="6871" y="3292"/>
                  </a:lnTo>
                  <a:lnTo>
                    <a:pt x="6874" y="3292"/>
                  </a:lnTo>
                  <a:lnTo>
                    <a:pt x="6875" y="3292"/>
                  </a:lnTo>
                  <a:lnTo>
                    <a:pt x="6877" y="3294"/>
                  </a:lnTo>
                  <a:lnTo>
                    <a:pt x="6877" y="3295"/>
                  </a:lnTo>
                  <a:lnTo>
                    <a:pt x="6877" y="3298"/>
                  </a:lnTo>
                  <a:lnTo>
                    <a:pt x="6877" y="3300"/>
                  </a:lnTo>
                  <a:lnTo>
                    <a:pt x="6875" y="3302"/>
                  </a:lnTo>
                  <a:lnTo>
                    <a:pt x="6874" y="3302"/>
                  </a:lnTo>
                  <a:lnTo>
                    <a:pt x="6871" y="3303"/>
                  </a:lnTo>
                  <a:lnTo>
                    <a:pt x="6844" y="3308"/>
                  </a:lnTo>
                  <a:lnTo>
                    <a:pt x="6843" y="3306"/>
                  </a:lnTo>
                  <a:lnTo>
                    <a:pt x="6841" y="3306"/>
                  </a:lnTo>
                  <a:lnTo>
                    <a:pt x="6840" y="3305"/>
                  </a:lnTo>
                  <a:lnTo>
                    <a:pt x="6840" y="3303"/>
                  </a:lnTo>
                  <a:lnTo>
                    <a:pt x="6840" y="3302"/>
                  </a:lnTo>
                  <a:lnTo>
                    <a:pt x="6840" y="3300"/>
                  </a:lnTo>
                  <a:lnTo>
                    <a:pt x="6841" y="3298"/>
                  </a:lnTo>
                  <a:lnTo>
                    <a:pt x="6843" y="3297"/>
                  </a:lnTo>
                  <a:lnTo>
                    <a:pt x="6843" y="3297"/>
                  </a:lnTo>
                  <a:close/>
                  <a:moveTo>
                    <a:pt x="6909" y="3283"/>
                  </a:moveTo>
                  <a:lnTo>
                    <a:pt x="6921" y="3280"/>
                  </a:lnTo>
                  <a:lnTo>
                    <a:pt x="6935" y="3275"/>
                  </a:lnTo>
                  <a:lnTo>
                    <a:pt x="6937" y="3274"/>
                  </a:lnTo>
                  <a:lnTo>
                    <a:pt x="6940" y="3275"/>
                  </a:lnTo>
                  <a:lnTo>
                    <a:pt x="6940" y="3275"/>
                  </a:lnTo>
                  <a:lnTo>
                    <a:pt x="6941" y="3277"/>
                  </a:lnTo>
                  <a:lnTo>
                    <a:pt x="6941" y="3280"/>
                  </a:lnTo>
                  <a:lnTo>
                    <a:pt x="6941" y="3282"/>
                  </a:lnTo>
                  <a:lnTo>
                    <a:pt x="6940" y="3283"/>
                  </a:lnTo>
                  <a:lnTo>
                    <a:pt x="6938" y="3283"/>
                  </a:lnTo>
                  <a:lnTo>
                    <a:pt x="6924" y="3289"/>
                  </a:lnTo>
                  <a:lnTo>
                    <a:pt x="6911" y="3292"/>
                  </a:lnTo>
                  <a:lnTo>
                    <a:pt x="6909" y="3292"/>
                  </a:lnTo>
                  <a:lnTo>
                    <a:pt x="6908" y="3292"/>
                  </a:lnTo>
                  <a:lnTo>
                    <a:pt x="6906" y="3291"/>
                  </a:lnTo>
                  <a:lnTo>
                    <a:pt x="6904" y="3289"/>
                  </a:lnTo>
                  <a:lnTo>
                    <a:pt x="6904" y="3288"/>
                  </a:lnTo>
                  <a:lnTo>
                    <a:pt x="6906" y="3285"/>
                  </a:lnTo>
                  <a:lnTo>
                    <a:pt x="6906" y="3285"/>
                  </a:lnTo>
                  <a:lnTo>
                    <a:pt x="6909" y="3283"/>
                  </a:lnTo>
                  <a:lnTo>
                    <a:pt x="6909" y="3283"/>
                  </a:lnTo>
                  <a:close/>
                  <a:moveTo>
                    <a:pt x="6972" y="3262"/>
                  </a:moveTo>
                  <a:lnTo>
                    <a:pt x="6972" y="3262"/>
                  </a:lnTo>
                  <a:lnTo>
                    <a:pt x="6995" y="3251"/>
                  </a:lnTo>
                  <a:lnTo>
                    <a:pt x="6997" y="3249"/>
                  </a:lnTo>
                  <a:lnTo>
                    <a:pt x="6998" y="3249"/>
                  </a:lnTo>
                  <a:lnTo>
                    <a:pt x="7001" y="3249"/>
                  </a:lnTo>
                  <a:lnTo>
                    <a:pt x="7003" y="3249"/>
                  </a:lnTo>
                  <a:lnTo>
                    <a:pt x="7004" y="3251"/>
                  </a:lnTo>
                  <a:lnTo>
                    <a:pt x="7004" y="3254"/>
                  </a:lnTo>
                  <a:lnTo>
                    <a:pt x="7004" y="3255"/>
                  </a:lnTo>
                  <a:lnTo>
                    <a:pt x="7003" y="3257"/>
                  </a:lnTo>
                  <a:lnTo>
                    <a:pt x="7001" y="3259"/>
                  </a:lnTo>
                  <a:lnTo>
                    <a:pt x="7000" y="3259"/>
                  </a:lnTo>
                  <a:lnTo>
                    <a:pt x="6975" y="3269"/>
                  </a:lnTo>
                  <a:lnTo>
                    <a:pt x="6975" y="3271"/>
                  </a:lnTo>
                  <a:lnTo>
                    <a:pt x="6972" y="3271"/>
                  </a:lnTo>
                  <a:lnTo>
                    <a:pt x="6971" y="3269"/>
                  </a:lnTo>
                  <a:lnTo>
                    <a:pt x="6969" y="3269"/>
                  </a:lnTo>
                  <a:lnTo>
                    <a:pt x="6969" y="3268"/>
                  </a:lnTo>
                  <a:lnTo>
                    <a:pt x="6968" y="3265"/>
                  </a:lnTo>
                  <a:lnTo>
                    <a:pt x="6969" y="3263"/>
                  </a:lnTo>
                  <a:lnTo>
                    <a:pt x="6969" y="3262"/>
                  </a:lnTo>
                  <a:lnTo>
                    <a:pt x="6972" y="3262"/>
                  </a:lnTo>
                  <a:lnTo>
                    <a:pt x="6972" y="3262"/>
                  </a:lnTo>
                  <a:close/>
                  <a:moveTo>
                    <a:pt x="7031" y="3231"/>
                  </a:moveTo>
                  <a:lnTo>
                    <a:pt x="7043" y="3225"/>
                  </a:lnTo>
                  <a:lnTo>
                    <a:pt x="7055" y="3217"/>
                  </a:lnTo>
                  <a:lnTo>
                    <a:pt x="7057" y="3215"/>
                  </a:lnTo>
                  <a:lnTo>
                    <a:pt x="7058" y="3215"/>
                  </a:lnTo>
                  <a:lnTo>
                    <a:pt x="7060" y="3217"/>
                  </a:lnTo>
                  <a:lnTo>
                    <a:pt x="7061" y="3219"/>
                  </a:lnTo>
                  <a:lnTo>
                    <a:pt x="7063" y="3220"/>
                  </a:lnTo>
                  <a:lnTo>
                    <a:pt x="7063" y="3222"/>
                  </a:lnTo>
                  <a:lnTo>
                    <a:pt x="7061" y="3223"/>
                  </a:lnTo>
                  <a:lnTo>
                    <a:pt x="7060" y="3225"/>
                  </a:lnTo>
                  <a:lnTo>
                    <a:pt x="7048" y="3234"/>
                  </a:lnTo>
                  <a:lnTo>
                    <a:pt x="7035" y="3240"/>
                  </a:lnTo>
                  <a:lnTo>
                    <a:pt x="7034" y="3240"/>
                  </a:lnTo>
                  <a:lnTo>
                    <a:pt x="7032" y="3240"/>
                  </a:lnTo>
                  <a:lnTo>
                    <a:pt x="7031" y="3239"/>
                  </a:lnTo>
                  <a:lnTo>
                    <a:pt x="7029" y="3239"/>
                  </a:lnTo>
                  <a:lnTo>
                    <a:pt x="7029" y="3235"/>
                  </a:lnTo>
                  <a:lnTo>
                    <a:pt x="7029" y="3234"/>
                  </a:lnTo>
                  <a:lnTo>
                    <a:pt x="7029" y="3232"/>
                  </a:lnTo>
                  <a:lnTo>
                    <a:pt x="7031" y="3231"/>
                  </a:lnTo>
                  <a:lnTo>
                    <a:pt x="7031" y="3231"/>
                  </a:lnTo>
                  <a:close/>
                  <a:moveTo>
                    <a:pt x="7086" y="3196"/>
                  </a:moveTo>
                  <a:lnTo>
                    <a:pt x="7106" y="3179"/>
                  </a:lnTo>
                  <a:lnTo>
                    <a:pt x="7109" y="3177"/>
                  </a:lnTo>
                  <a:lnTo>
                    <a:pt x="7111" y="3176"/>
                  </a:lnTo>
                  <a:lnTo>
                    <a:pt x="7112" y="3176"/>
                  </a:lnTo>
                  <a:lnTo>
                    <a:pt x="7114" y="3177"/>
                  </a:lnTo>
                  <a:lnTo>
                    <a:pt x="7115" y="3177"/>
                  </a:lnTo>
                  <a:lnTo>
                    <a:pt x="7117" y="3179"/>
                  </a:lnTo>
                  <a:lnTo>
                    <a:pt x="7117" y="3182"/>
                  </a:lnTo>
                  <a:lnTo>
                    <a:pt x="7117" y="3183"/>
                  </a:lnTo>
                  <a:lnTo>
                    <a:pt x="7115" y="3185"/>
                  </a:lnTo>
                  <a:lnTo>
                    <a:pt x="7112" y="3186"/>
                  </a:lnTo>
                  <a:lnTo>
                    <a:pt x="7092" y="3203"/>
                  </a:lnTo>
                  <a:lnTo>
                    <a:pt x="7091" y="3203"/>
                  </a:lnTo>
                  <a:lnTo>
                    <a:pt x="7089" y="3203"/>
                  </a:lnTo>
                  <a:lnTo>
                    <a:pt x="7088" y="3203"/>
                  </a:lnTo>
                  <a:lnTo>
                    <a:pt x="7086" y="3202"/>
                  </a:lnTo>
                  <a:lnTo>
                    <a:pt x="7084" y="3200"/>
                  </a:lnTo>
                  <a:lnTo>
                    <a:pt x="7084" y="3199"/>
                  </a:lnTo>
                  <a:lnTo>
                    <a:pt x="7086" y="3196"/>
                  </a:lnTo>
                  <a:lnTo>
                    <a:pt x="7086" y="3196"/>
                  </a:lnTo>
                  <a:lnTo>
                    <a:pt x="7086" y="3196"/>
                  </a:lnTo>
                  <a:close/>
                  <a:moveTo>
                    <a:pt x="7137" y="3152"/>
                  </a:moveTo>
                  <a:lnTo>
                    <a:pt x="7146" y="3145"/>
                  </a:lnTo>
                  <a:lnTo>
                    <a:pt x="7158" y="3131"/>
                  </a:lnTo>
                  <a:lnTo>
                    <a:pt x="7158" y="3131"/>
                  </a:lnTo>
                  <a:lnTo>
                    <a:pt x="7161" y="3129"/>
                  </a:lnTo>
                  <a:lnTo>
                    <a:pt x="7163" y="3129"/>
                  </a:lnTo>
                  <a:lnTo>
                    <a:pt x="7164" y="3131"/>
                  </a:lnTo>
                  <a:lnTo>
                    <a:pt x="7164" y="3132"/>
                  </a:lnTo>
                  <a:lnTo>
                    <a:pt x="7166" y="3134"/>
                  </a:lnTo>
                  <a:lnTo>
                    <a:pt x="7166" y="3136"/>
                  </a:lnTo>
                  <a:lnTo>
                    <a:pt x="7164" y="3139"/>
                  </a:lnTo>
                  <a:lnTo>
                    <a:pt x="7152" y="3151"/>
                  </a:lnTo>
                  <a:lnTo>
                    <a:pt x="7144" y="3159"/>
                  </a:lnTo>
                  <a:lnTo>
                    <a:pt x="7143" y="3160"/>
                  </a:lnTo>
                  <a:lnTo>
                    <a:pt x="7141" y="3160"/>
                  </a:lnTo>
                  <a:lnTo>
                    <a:pt x="7138" y="3159"/>
                  </a:lnTo>
                  <a:lnTo>
                    <a:pt x="7137" y="3159"/>
                  </a:lnTo>
                  <a:lnTo>
                    <a:pt x="7137" y="3157"/>
                  </a:lnTo>
                  <a:lnTo>
                    <a:pt x="7135" y="3156"/>
                  </a:lnTo>
                  <a:lnTo>
                    <a:pt x="7137" y="3152"/>
                  </a:lnTo>
                  <a:lnTo>
                    <a:pt x="7137" y="3152"/>
                  </a:lnTo>
                  <a:lnTo>
                    <a:pt x="7137" y="3152"/>
                  </a:lnTo>
                  <a:close/>
                  <a:moveTo>
                    <a:pt x="7183" y="3103"/>
                  </a:moveTo>
                  <a:lnTo>
                    <a:pt x="7197" y="3085"/>
                  </a:lnTo>
                  <a:lnTo>
                    <a:pt x="7200" y="3080"/>
                  </a:lnTo>
                  <a:lnTo>
                    <a:pt x="7201" y="3079"/>
                  </a:lnTo>
                  <a:lnTo>
                    <a:pt x="7203" y="3079"/>
                  </a:lnTo>
                  <a:lnTo>
                    <a:pt x="7204" y="3079"/>
                  </a:lnTo>
                  <a:lnTo>
                    <a:pt x="7207" y="3079"/>
                  </a:lnTo>
                  <a:lnTo>
                    <a:pt x="7207" y="3080"/>
                  </a:lnTo>
                  <a:lnTo>
                    <a:pt x="7209" y="3082"/>
                  </a:lnTo>
                  <a:lnTo>
                    <a:pt x="7209" y="3083"/>
                  </a:lnTo>
                  <a:lnTo>
                    <a:pt x="7207" y="3086"/>
                  </a:lnTo>
                  <a:lnTo>
                    <a:pt x="7204" y="3091"/>
                  </a:lnTo>
                  <a:lnTo>
                    <a:pt x="7191" y="3109"/>
                  </a:lnTo>
                  <a:lnTo>
                    <a:pt x="7189" y="3109"/>
                  </a:lnTo>
                  <a:lnTo>
                    <a:pt x="7186" y="3111"/>
                  </a:lnTo>
                  <a:lnTo>
                    <a:pt x="7184" y="3111"/>
                  </a:lnTo>
                  <a:lnTo>
                    <a:pt x="7183" y="3109"/>
                  </a:lnTo>
                  <a:lnTo>
                    <a:pt x="7181" y="3108"/>
                  </a:lnTo>
                  <a:lnTo>
                    <a:pt x="7181" y="3106"/>
                  </a:lnTo>
                  <a:lnTo>
                    <a:pt x="7181" y="3105"/>
                  </a:lnTo>
                  <a:lnTo>
                    <a:pt x="7183" y="3103"/>
                  </a:lnTo>
                  <a:lnTo>
                    <a:pt x="7183" y="3103"/>
                  </a:lnTo>
                  <a:close/>
                  <a:moveTo>
                    <a:pt x="7221" y="3048"/>
                  </a:moveTo>
                  <a:lnTo>
                    <a:pt x="7226" y="3042"/>
                  </a:lnTo>
                  <a:lnTo>
                    <a:pt x="7237" y="3023"/>
                  </a:lnTo>
                  <a:lnTo>
                    <a:pt x="7237" y="3022"/>
                  </a:lnTo>
                  <a:lnTo>
                    <a:pt x="7238" y="3022"/>
                  </a:lnTo>
                  <a:lnTo>
                    <a:pt x="7241" y="3022"/>
                  </a:lnTo>
                  <a:lnTo>
                    <a:pt x="7243" y="3022"/>
                  </a:lnTo>
                  <a:lnTo>
                    <a:pt x="7244" y="3023"/>
                  </a:lnTo>
                  <a:lnTo>
                    <a:pt x="7244" y="3025"/>
                  </a:lnTo>
                  <a:lnTo>
                    <a:pt x="7244" y="3026"/>
                  </a:lnTo>
                  <a:lnTo>
                    <a:pt x="7244" y="3030"/>
                  </a:lnTo>
                  <a:lnTo>
                    <a:pt x="7234" y="3046"/>
                  </a:lnTo>
                  <a:lnTo>
                    <a:pt x="7229" y="3054"/>
                  </a:lnTo>
                  <a:lnTo>
                    <a:pt x="7227" y="3056"/>
                  </a:lnTo>
                  <a:lnTo>
                    <a:pt x="7226" y="3056"/>
                  </a:lnTo>
                  <a:lnTo>
                    <a:pt x="7224" y="3056"/>
                  </a:lnTo>
                  <a:lnTo>
                    <a:pt x="7223" y="3056"/>
                  </a:lnTo>
                  <a:lnTo>
                    <a:pt x="7221" y="3054"/>
                  </a:lnTo>
                  <a:lnTo>
                    <a:pt x="7221" y="3053"/>
                  </a:lnTo>
                  <a:lnTo>
                    <a:pt x="7221" y="3049"/>
                  </a:lnTo>
                  <a:lnTo>
                    <a:pt x="7221" y="3048"/>
                  </a:lnTo>
                  <a:lnTo>
                    <a:pt x="7221" y="3048"/>
                  </a:lnTo>
                  <a:close/>
                  <a:moveTo>
                    <a:pt x="7254" y="2991"/>
                  </a:moveTo>
                  <a:lnTo>
                    <a:pt x="7263" y="2971"/>
                  </a:lnTo>
                  <a:lnTo>
                    <a:pt x="7264" y="2963"/>
                  </a:lnTo>
                  <a:lnTo>
                    <a:pt x="7266" y="2962"/>
                  </a:lnTo>
                  <a:lnTo>
                    <a:pt x="7267" y="2962"/>
                  </a:lnTo>
                  <a:lnTo>
                    <a:pt x="7269" y="2960"/>
                  </a:lnTo>
                  <a:lnTo>
                    <a:pt x="7271" y="2962"/>
                  </a:lnTo>
                  <a:lnTo>
                    <a:pt x="7272" y="2962"/>
                  </a:lnTo>
                  <a:lnTo>
                    <a:pt x="7274" y="2963"/>
                  </a:lnTo>
                  <a:lnTo>
                    <a:pt x="7274" y="2965"/>
                  </a:lnTo>
                  <a:lnTo>
                    <a:pt x="7274" y="2968"/>
                  </a:lnTo>
                  <a:lnTo>
                    <a:pt x="7271" y="2974"/>
                  </a:lnTo>
                  <a:lnTo>
                    <a:pt x="7263" y="2994"/>
                  </a:lnTo>
                  <a:lnTo>
                    <a:pt x="7261" y="2996"/>
                  </a:lnTo>
                  <a:lnTo>
                    <a:pt x="7260" y="2997"/>
                  </a:lnTo>
                  <a:lnTo>
                    <a:pt x="7258" y="2997"/>
                  </a:lnTo>
                  <a:lnTo>
                    <a:pt x="7255" y="2997"/>
                  </a:lnTo>
                  <a:lnTo>
                    <a:pt x="7254" y="2996"/>
                  </a:lnTo>
                  <a:lnTo>
                    <a:pt x="7254" y="2994"/>
                  </a:lnTo>
                  <a:lnTo>
                    <a:pt x="7252" y="2993"/>
                  </a:lnTo>
                  <a:lnTo>
                    <a:pt x="7254" y="2991"/>
                  </a:lnTo>
                  <a:lnTo>
                    <a:pt x="7254" y="2991"/>
                  </a:lnTo>
                  <a:close/>
                  <a:moveTo>
                    <a:pt x="7278" y="2928"/>
                  </a:moveTo>
                  <a:lnTo>
                    <a:pt x="7281" y="2920"/>
                  </a:lnTo>
                  <a:lnTo>
                    <a:pt x="7286" y="2900"/>
                  </a:lnTo>
                  <a:lnTo>
                    <a:pt x="7287" y="2899"/>
                  </a:lnTo>
                  <a:lnTo>
                    <a:pt x="7289" y="2897"/>
                  </a:lnTo>
                  <a:lnTo>
                    <a:pt x="7291" y="2897"/>
                  </a:lnTo>
                  <a:lnTo>
                    <a:pt x="7292" y="2897"/>
                  </a:lnTo>
                  <a:lnTo>
                    <a:pt x="7294" y="2899"/>
                  </a:lnTo>
                  <a:lnTo>
                    <a:pt x="7295" y="2900"/>
                  </a:lnTo>
                  <a:lnTo>
                    <a:pt x="7295" y="2902"/>
                  </a:lnTo>
                  <a:lnTo>
                    <a:pt x="7295" y="2903"/>
                  </a:lnTo>
                  <a:lnTo>
                    <a:pt x="7291" y="2923"/>
                  </a:lnTo>
                  <a:lnTo>
                    <a:pt x="7287" y="2931"/>
                  </a:lnTo>
                  <a:lnTo>
                    <a:pt x="7286" y="2933"/>
                  </a:lnTo>
                  <a:lnTo>
                    <a:pt x="7284" y="2934"/>
                  </a:lnTo>
                  <a:lnTo>
                    <a:pt x="7283" y="2934"/>
                  </a:lnTo>
                  <a:lnTo>
                    <a:pt x="7281" y="2934"/>
                  </a:lnTo>
                  <a:lnTo>
                    <a:pt x="7280" y="2933"/>
                  </a:lnTo>
                  <a:lnTo>
                    <a:pt x="7278" y="2931"/>
                  </a:lnTo>
                  <a:lnTo>
                    <a:pt x="7278" y="2930"/>
                  </a:lnTo>
                  <a:lnTo>
                    <a:pt x="7278" y="2928"/>
                  </a:lnTo>
                  <a:lnTo>
                    <a:pt x="7278" y="2928"/>
                  </a:lnTo>
                  <a:close/>
                  <a:moveTo>
                    <a:pt x="7295" y="2864"/>
                  </a:moveTo>
                  <a:lnTo>
                    <a:pt x="7300" y="2840"/>
                  </a:lnTo>
                  <a:lnTo>
                    <a:pt x="7300" y="2836"/>
                  </a:lnTo>
                  <a:lnTo>
                    <a:pt x="7300" y="2834"/>
                  </a:lnTo>
                  <a:lnTo>
                    <a:pt x="7301" y="2833"/>
                  </a:lnTo>
                  <a:lnTo>
                    <a:pt x="7303" y="2831"/>
                  </a:lnTo>
                  <a:lnTo>
                    <a:pt x="7304" y="2831"/>
                  </a:lnTo>
                  <a:lnTo>
                    <a:pt x="7306" y="2833"/>
                  </a:lnTo>
                  <a:lnTo>
                    <a:pt x="7307" y="2833"/>
                  </a:lnTo>
                  <a:lnTo>
                    <a:pt x="7309" y="2834"/>
                  </a:lnTo>
                  <a:lnTo>
                    <a:pt x="7309" y="2837"/>
                  </a:lnTo>
                  <a:lnTo>
                    <a:pt x="7309" y="2844"/>
                  </a:lnTo>
                  <a:lnTo>
                    <a:pt x="7304" y="2865"/>
                  </a:lnTo>
                  <a:lnTo>
                    <a:pt x="7304" y="2867"/>
                  </a:lnTo>
                  <a:lnTo>
                    <a:pt x="7303" y="2868"/>
                  </a:lnTo>
                  <a:lnTo>
                    <a:pt x="7301" y="2870"/>
                  </a:lnTo>
                  <a:lnTo>
                    <a:pt x="7298" y="2870"/>
                  </a:lnTo>
                  <a:lnTo>
                    <a:pt x="7297" y="2868"/>
                  </a:lnTo>
                  <a:lnTo>
                    <a:pt x="7295" y="2868"/>
                  </a:lnTo>
                  <a:lnTo>
                    <a:pt x="7295" y="2867"/>
                  </a:lnTo>
                  <a:lnTo>
                    <a:pt x="7295" y="2864"/>
                  </a:lnTo>
                  <a:lnTo>
                    <a:pt x="7295" y="2864"/>
                  </a:lnTo>
                  <a:close/>
                  <a:moveTo>
                    <a:pt x="7304" y="2797"/>
                  </a:moveTo>
                  <a:lnTo>
                    <a:pt x="7304" y="2787"/>
                  </a:lnTo>
                  <a:lnTo>
                    <a:pt x="7304" y="2770"/>
                  </a:lnTo>
                  <a:lnTo>
                    <a:pt x="7306" y="2767"/>
                  </a:lnTo>
                  <a:lnTo>
                    <a:pt x="7306" y="2765"/>
                  </a:lnTo>
                  <a:lnTo>
                    <a:pt x="7307" y="2765"/>
                  </a:lnTo>
                  <a:lnTo>
                    <a:pt x="7311" y="2765"/>
                  </a:lnTo>
                  <a:lnTo>
                    <a:pt x="7312" y="2765"/>
                  </a:lnTo>
                  <a:lnTo>
                    <a:pt x="7314" y="2765"/>
                  </a:lnTo>
                  <a:lnTo>
                    <a:pt x="7314" y="2768"/>
                  </a:lnTo>
                  <a:lnTo>
                    <a:pt x="7315" y="2770"/>
                  </a:lnTo>
                  <a:lnTo>
                    <a:pt x="7314" y="2787"/>
                  </a:lnTo>
                  <a:lnTo>
                    <a:pt x="7314" y="2799"/>
                  </a:lnTo>
                  <a:lnTo>
                    <a:pt x="7312" y="2800"/>
                  </a:lnTo>
                  <a:lnTo>
                    <a:pt x="7312" y="2802"/>
                  </a:lnTo>
                  <a:lnTo>
                    <a:pt x="7311" y="2802"/>
                  </a:lnTo>
                  <a:lnTo>
                    <a:pt x="7307" y="2804"/>
                  </a:lnTo>
                  <a:lnTo>
                    <a:pt x="7306" y="2802"/>
                  </a:lnTo>
                  <a:lnTo>
                    <a:pt x="7304" y="2800"/>
                  </a:lnTo>
                  <a:lnTo>
                    <a:pt x="7304" y="2799"/>
                  </a:lnTo>
                  <a:lnTo>
                    <a:pt x="7304" y="2797"/>
                  </a:lnTo>
                  <a:lnTo>
                    <a:pt x="7304" y="2797"/>
                  </a:lnTo>
                  <a:close/>
                  <a:moveTo>
                    <a:pt x="7306" y="2731"/>
                  </a:moveTo>
                  <a:lnTo>
                    <a:pt x="7306" y="2702"/>
                  </a:lnTo>
                  <a:lnTo>
                    <a:pt x="7306" y="2701"/>
                  </a:lnTo>
                  <a:lnTo>
                    <a:pt x="7306" y="2699"/>
                  </a:lnTo>
                  <a:lnTo>
                    <a:pt x="7307" y="2698"/>
                  </a:lnTo>
                  <a:lnTo>
                    <a:pt x="7311" y="2698"/>
                  </a:lnTo>
                  <a:lnTo>
                    <a:pt x="7312" y="2698"/>
                  </a:lnTo>
                  <a:lnTo>
                    <a:pt x="7314" y="2699"/>
                  </a:lnTo>
                  <a:lnTo>
                    <a:pt x="7315" y="2701"/>
                  </a:lnTo>
                  <a:lnTo>
                    <a:pt x="7315" y="2702"/>
                  </a:lnTo>
                  <a:lnTo>
                    <a:pt x="7315" y="2731"/>
                  </a:lnTo>
                  <a:lnTo>
                    <a:pt x="7315" y="2733"/>
                  </a:lnTo>
                  <a:lnTo>
                    <a:pt x="7314" y="2734"/>
                  </a:lnTo>
                  <a:lnTo>
                    <a:pt x="7312" y="2736"/>
                  </a:lnTo>
                  <a:lnTo>
                    <a:pt x="7311" y="2736"/>
                  </a:lnTo>
                  <a:lnTo>
                    <a:pt x="7307" y="2736"/>
                  </a:lnTo>
                  <a:lnTo>
                    <a:pt x="7306" y="2734"/>
                  </a:lnTo>
                  <a:lnTo>
                    <a:pt x="7306" y="2733"/>
                  </a:lnTo>
                  <a:lnTo>
                    <a:pt x="7306" y="2731"/>
                  </a:lnTo>
                  <a:lnTo>
                    <a:pt x="7306" y="2731"/>
                  </a:lnTo>
                  <a:close/>
                  <a:moveTo>
                    <a:pt x="7306" y="2664"/>
                  </a:moveTo>
                  <a:lnTo>
                    <a:pt x="7306" y="2634"/>
                  </a:lnTo>
                  <a:lnTo>
                    <a:pt x="7306" y="2633"/>
                  </a:lnTo>
                  <a:lnTo>
                    <a:pt x="7306" y="2631"/>
                  </a:lnTo>
                  <a:lnTo>
                    <a:pt x="7307" y="2630"/>
                  </a:lnTo>
                  <a:lnTo>
                    <a:pt x="7311" y="2630"/>
                  </a:lnTo>
                  <a:lnTo>
                    <a:pt x="7312" y="2630"/>
                  </a:lnTo>
                  <a:lnTo>
                    <a:pt x="7314" y="2631"/>
                  </a:lnTo>
                  <a:lnTo>
                    <a:pt x="7315" y="2633"/>
                  </a:lnTo>
                  <a:lnTo>
                    <a:pt x="7315" y="2634"/>
                  </a:lnTo>
                  <a:lnTo>
                    <a:pt x="7315" y="2664"/>
                  </a:lnTo>
                  <a:lnTo>
                    <a:pt x="7315" y="2665"/>
                  </a:lnTo>
                  <a:lnTo>
                    <a:pt x="7314" y="2667"/>
                  </a:lnTo>
                  <a:lnTo>
                    <a:pt x="7312" y="2668"/>
                  </a:lnTo>
                  <a:lnTo>
                    <a:pt x="7311" y="2668"/>
                  </a:lnTo>
                  <a:lnTo>
                    <a:pt x="7307" y="2668"/>
                  </a:lnTo>
                  <a:lnTo>
                    <a:pt x="7306" y="2667"/>
                  </a:lnTo>
                  <a:lnTo>
                    <a:pt x="7306" y="2665"/>
                  </a:lnTo>
                  <a:lnTo>
                    <a:pt x="7306" y="2664"/>
                  </a:lnTo>
                  <a:lnTo>
                    <a:pt x="7306" y="2664"/>
                  </a:lnTo>
                  <a:close/>
                  <a:moveTo>
                    <a:pt x="7306" y="2596"/>
                  </a:moveTo>
                  <a:lnTo>
                    <a:pt x="7306" y="2568"/>
                  </a:lnTo>
                  <a:lnTo>
                    <a:pt x="7306" y="2565"/>
                  </a:lnTo>
                  <a:lnTo>
                    <a:pt x="7306" y="2564"/>
                  </a:lnTo>
                  <a:lnTo>
                    <a:pt x="7307" y="2564"/>
                  </a:lnTo>
                  <a:lnTo>
                    <a:pt x="7311" y="2562"/>
                  </a:lnTo>
                  <a:lnTo>
                    <a:pt x="7312" y="2564"/>
                  </a:lnTo>
                  <a:lnTo>
                    <a:pt x="7314" y="2564"/>
                  </a:lnTo>
                  <a:lnTo>
                    <a:pt x="7315" y="2565"/>
                  </a:lnTo>
                  <a:lnTo>
                    <a:pt x="7315" y="2568"/>
                  </a:lnTo>
                  <a:lnTo>
                    <a:pt x="7315" y="2596"/>
                  </a:lnTo>
                  <a:lnTo>
                    <a:pt x="7315" y="2598"/>
                  </a:lnTo>
                  <a:lnTo>
                    <a:pt x="7314" y="2599"/>
                  </a:lnTo>
                  <a:lnTo>
                    <a:pt x="7312" y="2601"/>
                  </a:lnTo>
                  <a:lnTo>
                    <a:pt x="7311" y="2601"/>
                  </a:lnTo>
                  <a:lnTo>
                    <a:pt x="7307" y="2601"/>
                  </a:lnTo>
                  <a:lnTo>
                    <a:pt x="7306" y="2599"/>
                  </a:lnTo>
                  <a:lnTo>
                    <a:pt x="7306" y="2598"/>
                  </a:lnTo>
                  <a:lnTo>
                    <a:pt x="7306" y="2596"/>
                  </a:lnTo>
                  <a:lnTo>
                    <a:pt x="7306" y="2596"/>
                  </a:lnTo>
                  <a:close/>
                  <a:moveTo>
                    <a:pt x="7306" y="2530"/>
                  </a:moveTo>
                  <a:lnTo>
                    <a:pt x="7306" y="2501"/>
                  </a:lnTo>
                  <a:lnTo>
                    <a:pt x="7306" y="2499"/>
                  </a:lnTo>
                  <a:lnTo>
                    <a:pt x="7306" y="2496"/>
                  </a:lnTo>
                  <a:lnTo>
                    <a:pt x="7307" y="2496"/>
                  </a:lnTo>
                  <a:lnTo>
                    <a:pt x="7311" y="2496"/>
                  </a:lnTo>
                  <a:lnTo>
                    <a:pt x="7312" y="2496"/>
                  </a:lnTo>
                  <a:lnTo>
                    <a:pt x="7314" y="2496"/>
                  </a:lnTo>
                  <a:lnTo>
                    <a:pt x="7315" y="2499"/>
                  </a:lnTo>
                  <a:lnTo>
                    <a:pt x="7315" y="2501"/>
                  </a:lnTo>
                  <a:lnTo>
                    <a:pt x="7315" y="2530"/>
                  </a:lnTo>
                  <a:lnTo>
                    <a:pt x="7315" y="2532"/>
                  </a:lnTo>
                  <a:lnTo>
                    <a:pt x="7314" y="2533"/>
                  </a:lnTo>
                  <a:lnTo>
                    <a:pt x="7312" y="2533"/>
                  </a:lnTo>
                  <a:lnTo>
                    <a:pt x="7311" y="2535"/>
                  </a:lnTo>
                  <a:lnTo>
                    <a:pt x="7307" y="2533"/>
                  </a:lnTo>
                  <a:lnTo>
                    <a:pt x="7306" y="2533"/>
                  </a:lnTo>
                  <a:lnTo>
                    <a:pt x="7306" y="2532"/>
                  </a:lnTo>
                  <a:lnTo>
                    <a:pt x="7306" y="2530"/>
                  </a:lnTo>
                  <a:lnTo>
                    <a:pt x="7306" y="2530"/>
                  </a:lnTo>
                  <a:close/>
                  <a:moveTo>
                    <a:pt x="7306" y="2462"/>
                  </a:moveTo>
                  <a:lnTo>
                    <a:pt x="7306" y="2433"/>
                  </a:lnTo>
                  <a:lnTo>
                    <a:pt x="7306" y="2432"/>
                  </a:lnTo>
                  <a:lnTo>
                    <a:pt x="7306" y="2430"/>
                  </a:lnTo>
                  <a:lnTo>
                    <a:pt x="7307" y="2429"/>
                  </a:lnTo>
                  <a:lnTo>
                    <a:pt x="7311" y="2429"/>
                  </a:lnTo>
                  <a:lnTo>
                    <a:pt x="7312" y="2429"/>
                  </a:lnTo>
                  <a:lnTo>
                    <a:pt x="7314" y="2430"/>
                  </a:lnTo>
                  <a:lnTo>
                    <a:pt x="7315" y="2432"/>
                  </a:lnTo>
                  <a:lnTo>
                    <a:pt x="7315" y="2433"/>
                  </a:lnTo>
                  <a:lnTo>
                    <a:pt x="7315" y="2462"/>
                  </a:lnTo>
                  <a:lnTo>
                    <a:pt x="7315" y="2464"/>
                  </a:lnTo>
                  <a:lnTo>
                    <a:pt x="7314" y="2465"/>
                  </a:lnTo>
                  <a:lnTo>
                    <a:pt x="7312" y="2467"/>
                  </a:lnTo>
                  <a:lnTo>
                    <a:pt x="7311" y="2467"/>
                  </a:lnTo>
                  <a:lnTo>
                    <a:pt x="7307" y="2467"/>
                  </a:lnTo>
                  <a:lnTo>
                    <a:pt x="7306" y="2465"/>
                  </a:lnTo>
                  <a:lnTo>
                    <a:pt x="7306" y="2464"/>
                  </a:lnTo>
                  <a:lnTo>
                    <a:pt x="7306" y="2462"/>
                  </a:lnTo>
                  <a:lnTo>
                    <a:pt x="7306" y="2462"/>
                  </a:lnTo>
                  <a:close/>
                  <a:moveTo>
                    <a:pt x="7306" y="2395"/>
                  </a:moveTo>
                  <a:lnTo>
                    <a:pt x="7306" y="2366"/>
                  </a:lnTo>
                  <a:lnTo>
                    <a:pt x="7306" y="2364"/>
                  </a:lnTo>
                  <a:lnTo>
                    <a:pt x="7306" y="2362"/>
                  </a:lnTo>
                  <a:lnTo>
                    <a:pt x="7307" y="2361"/>
                  </a:lnTo>
                  <a:lnTo>
                    <a:pt x="7311" y="2361"/>
                  </a:lnTo>
                  <a:lnTo>
                    <a:pt x="7312" y="2361"/>
                  </a:lnTo>
                  <a:lnTo>
                    <a:pt x="7314" y="2362"/>
                  </a:lnTo>
                  <a:lnTo>
                    <a:pt x="7315" y="2364"/>
                  </a:lnTo>
                  <a:lnTo>
                    <a:pt x="7315" y="2366"/>
                  </a:lnTo>
                  <a:lnTo>
                    <a:pt x="7315" y="2395"/>
                  </a:lnTo>
                  <a:lnTo>
                    <a:pt x="7315" y="2396"/>
                  </a:lnTo>
                  <a:lnTo>
                    <a:pt x="7314" y="2398"/>
                  </a:lnTo>
                  <a:lnTo>
                    <a:pt x="7312" y="2399"/>
                  </a:lnTo>
                  <a:lnTo>
                    <a:pt x="7311" y="2399"/>
                  </a:lnTo>
                  <a:lnTo>
                    <a:pt x="7307" y="2399"/>
                  </a:lnTo>
                  <a:lnTo>
                    <a:pt x="7306" y="2398"/>
                  </a:lnTo>
                  <a:lnTo>
                    <a:pt x="7306" y="2396"/>
                  </a:lnTo>
                  <a:lnTo>
                    <a:pt x="7306" y="2395"/>
                  </a:lnTo>
                  <a:lnTo>
                    <a:pt x="7306" y="2395"/>
                  </a:lnTo>
                  <a:close/>
                  <a:moveTo>
                    <a:pt x="7306" y="2327"/>
                  </a:moveTo>
                  <a:lnTo>
                    <a:pt x="7306" y="2299"/>
                  </a:lnTo>
                  <a:lnTo>
                    <a:pt x="7306" y="2296"/>
                  </a:lnTo>
                  <a:lnTo>
                    <a:pt x="7306" y="2295"/>
                  </a:lnTo>
                  <a:lnTo>
                    <a:pt x="7307" y="2295"/>
                  </a:lnTo>
                  <a:lnTo>
                    <a:pt x="7311" y="2293"/>
                  </a:lnTo>
                  <a:lnTo>
                    <a:pt x="7312" y="2295"/>
                  </a:lnTo>
                  <a:lnTo>
                    <a:pt x="7314" y="2295"/>
                  </a:lnTo>
                  <a:lnTo>
                    <a:pt x="7315" y="2296"/>
                  </a:lnTo>
                  <a:lnTo>
                    <a:pt x="7315" y="2299"/>
                  </a:lnTo>
                  <a:lnTo>
                    <a:pt x="7315" y="2327"/>
                  </a:lnTo>
                  <a:lnTo>
                    <a:pt x="7315" y="2329"/>
                  </a:lnTo>
                  <a:lnTo>
                    <a:pt x="7314" y="2330"/>
                  </a:lnTo>
                  <a:lnTo>
                    <a:pt x="7312" y="2332"/>
                  </a:lnTo>
                  <a:lnTo>
                    <a:pt x="7311" y="2332"/>
                  </a:lnTo>
                  <a:lnTo>
                    <a:pt x="7307" y="2332"/>
                  </a:lnTo>
                  <a:lnTo>
                    <a:pt x="7306" y="2330"/>
                  </a:lnTo>
                  <a:lnTo>
                    <a:pt x="7306" y="2329"/>
                  </a:lnTo>
                  <a:lnTo>
                    <a:pt x="7306" y="2327"/>
                  </a:lnTo>
                  <a:lnTo>
                    <a:pt x="7306" y="2327"/>
                  </a:lnTo>
                  <a:close/>
                  <a:moveTo>
                    <a:pt x="7306" y="2261"/>
                  </a:moveTo>
                  <a:lnTo>
                    <a:pt x="7306" y="2232"/>
                  </a:lnTo>
                  <a:lnTo>
                    <a:pt x="7306" y="2230"/>
                  </a:lnTo>
                  <a:lnTo>
                    <a:pt x="7306" y="2227"/>
                  </a:lnTo>
                  <a:lnTo>
                    <a:pt x="7307" y="2227"/>
                  </a:lnTo>
                  <a:lnTo>
                    <a:pt x="7311" y="2227"/>
                  </a:lnTo>
                  <a:lnTo>
                    <a:pt x="7312" y="2227"/>
                  </a:lnTo>
                  <a:lnTo>
                    <a:pt x="7314" y="2227"/>
                  </a:lnTo>
                  <a:lnTo>
                    <a:pt x="7315" y="2230"/>
                  </a:lnTo>
                  <a:lnTo>
                    <a:pt x="7315" y="2232"/>
                  </a:lnTo>
                  <a:lnTo>
                    <a:pt x="7315" y="2261"/>
                  </a:lnTo>
                  <a:lnTo>
                    <a:pt x="7315" y="2263"/>
                  </a:lnTo>
                  <a:lnTo>
                    <a:pt x="7314" y="2264"/>
                  </a:lnTo>
                  <a:lnTo>
                    <a:pt x="7312" y="2264"/>
                  </a:lnTo>
                  <a:lnTo>
                    <a:pt x="7311" y="2266"/>
                  </a:lnTo>
                  <a:lnTo>
                    <a:pt x="7307" y="2264"/>
                  </a:lnTo>
                  <a:lnTo>
                    <a:pt x="7306" y="2264"/>
                  </a:lnTo>
                  <a:lnTo>
                    <a:pt x="7306" y="2263"/>
                  </a:lnTo>
                  <a:lnTo>
                    <a:pt x="7306" y="2261"/>
                  </a:lnTo>
                  <a:lnTo>
                    <a:pt x="7306" y="2261"/>
                  </a:lnTo>
                  <a:close/>
                  <a:moveTo>
                    <a:pt x="7306" y="2193"/>
                  </a:moveTo>
                  <a:lnTo>
                    <a:pt x="7306" y="2164"/>
                  </a:lnTo>
                  <a:lnTo>
                    <a:pt x="7306" y="2163"/>
                  </a:lnTo>
                  <a:lnTo>
                    <a:pt x="7306" y="2161"/>
                  </a:lnTo>
                  <a:lnTo>
                    <a:pt x="7307" y="2160"/>
                  </a:lnTo>
                  <a:lnTo>
                    <a:pt x="7311" y="2160"/>
                  </a:lnTo>
                  <a:lnTo>
                    <a:pt x="7312" y="2160"/>
                  </a:lnTo>
                  <a:lnTo>
                    <a:pt x="7314" y="2161"/>
                  </a:lnTo>
                  <a:lnTo>
                    <a:pt x="7315" y="2163"/>
                  </a:lnTo>
                  <a:lnTo>
                    <a:pt x="7315" y="2164"/>
                  </a:lnTo>
                  <a:lnTo>
                    <a:pt x="7315" y="2193"/>
                  </a:lnTo>
                  <a:lnTo>
                    <a:pt x="7315" y="2195"/>
                  </a:lnTo>
                  <a:lnTo>
                    <a:pt x="7314" y="2196"/>
                  </a:lnTo>
                  <a:lnTo>
                    <a:pt x="7312" y="2198"/>
                  </a:lnTo>
                  <a:lnTo>
                    <a:pt x="7311" y="2198"/>
                  </a:lnTo>
                  <a:lnTo>
                    <a:pt x="7307" y="2198"/>
                  </a:lnTo>
                  <a:lnTo>
                    <a:pt x="7306" y="2196"/>
                  </a:lnTo>
                  <a:lnTo>
                    <a:pt x="7306" y="2195"/>
                  </a:lnTo>
                  <a:lnTo>
                    <a:pt x="7306" y="2193"/>
                  </a:lnTo>
                  <a:lnTo>
                    <a:pt x="7306" y="2193"/>
                  </a:lnTo>
                  <a:close/>
                  <a:moveTo>
                    <a:pt x="7306" y="2126"/>
                  </a:moveTo>
                  <a:lnTo>
                    <a:pt x="7306" y="2097"/>
                  </a:lnTo>
                  <a:lnTo>
                    <a:pt x="7306" y="2095"/>
                  </a:lnTo>
                  <a:lnTo>
                    <a:pt x="7306" y="2093"/>
                  </a:lnTo>
                  <a:lnTo>
                    <a:pt x="7307" y="2092"/>
                  </a:lnTo>
                  <a:lnTo>
                    <a:pt x="7311" y="2092"/>
                  </a:lnTo>
                  <a:lnTo>
                    <a:pt x="7312" y="2092"/>
                  </a:lnTo>
                  <a:lnTo>
                    <a:pt x="7314" y="2093"/>
                  </a:lnTo>
                  <a:lnTo>
                    <a:pt x="7315" y="2095"/>
                  </a:lnTo>
                  <a:lnTo>
                    <a:pt x="7315" y="2097"/>
                  </a:lnTo>
                  <a:lnTo>
                    <a:pt x="7315" y="2126"/>
                  </a:lnTo>
                  <a:lnTo>
                    <a:pt x="7315" y="2127"/>
                  </a:lnTo>
                  <a:lnTo>
                    <a:pt x="7314" y="2129"/>
                  </a:lnTo>
                  <a:lnTo>
                    <a:pt x="7312" y="2130"/>
                  </a:lnTo>
                  <a:lnTo>
                    <a:pt x="7311" y="2130"/>
                  </a:lnTo>
                  <a:lnTo>
                    <a:pt x="7307" y="2130"/>
                  </a:lnTo>
                  <a:lnTo>
                    <a:pt x="7306" y="2129"/>
                  </a:lnTo>
                  <a:lnTo>
                    <a:pt x="7306" y="2127"/>
                  </a:lnTo>
                  <a:lnTo>
                    <a:pt x="7306" y="2126"/>
                  </a:lnTo>
                  <a:lnTo>
                    <a:pt x="7306" y="2126"/>
                  </a:lnTo>
                  <a:close/>
                  <a:moveTo>
                    <a:pt x="7306" y="2058"/>
                  </a:moveTo>
                  <a:lnTo>
                    <a:pt x="7306" y="2030"/>
                  </a:lnTo>
                  <a:lnTo>
                    <a:pt x="7306" y="2027"/>
                  </a:lnTo>
                  <a:lnTo>
                    <a:pt x="7306" y="2026"/>
                  </a:lnTo>
                  <a:lnTo>
                    <a:pt x="7307" y="2026"/>
                  </a:lnTo>
                  <a:lnTo>
                    <a:pt x="7311" y="2024"/>
                  </a:lnTo>
                  <a:lnTo>
                    <a:pt x="7312" y="2026"/>
                  </a:lnTo>
                  <a:lnTo>
                    <a:pt x="7314" y="2026"/>
                  </a:lnTo>
                  <a:lnTo>
                    <a:pt x="7315" y="2027"/>
                  </a:lnTo>
                  <a:lnTo>
                    <a:pt x="7315" y="2030"/>
                  </a:lnTo>
                  <a:lnTo>
                    <a:pt x="7315" y="2058"/>
                  </a:lnTo>
                  <a:lnTo>
                    <a:pt x="7315" y="2060"/>
                  </a:lnTo>
                  <a:lnTo>
                    <a:pt x="7314" y="2061"/>
                  </a:lnTo>
                  <a:lnTo>
                    <a:pt x="7312" y="2063"/>
                  </a:lnTo>
                  <a:lnTo>
                    <a:pt x="7311" y="2063"/>
                  </a:lnTo>
                  <a:lnTo>
                    <a:pt x="7307" y="2063"/>
                  </a:lnTo>
                  <a:lnTo>
                    <a:pt x="7306" y="2061"/>
                  </a:lnTo>
                  <a:lnTo>
                    <a:pt x="7306" y="2060"/>
                  </a:lnTo>
                  <a:lnTo>
                    <a:pt x="7306" y="2058"/>
                  </a:lnTo>
                  <a:lnTo>
                    <a:pt x="7306" y="2058"/>
                  </a:lnTo>
                  <a:close/>
                  <a:moveTo>
                    <a:pt x="7306" y="1992"/>
                  </a:moveTo>
                  <a:lnTo>
                    <a:pt x="7306" y="1963"/>
                  </a:lnTo>
                  <a:lnTo>
                    <a:pt x="7306" y="1961"/>
                  </a:lnTo>
                  <a:lnTo>
                    <a:pt x="7306" y="1958"/>
                  </a:lnTo>
                  <a:lnTo>
                    <a:pt x="7307" y="1958"/>
                  </a:lnTo>
                  <a:lnTo>
                    <a:pt x="7311" y="1958"/>
                  </a:lnTo>
                  <a:lnTo>
                    <a:pt x="7312" y="1958"/>
                  </a:lnTo>
                  <a:lnTo>
                    <a:pt x="7314" y="1958"/>
                  </a:lnTo>
                  <a:lnTo>
                    <a:pt x="7315" y="1961"/>
                  </a:lnTo>
                  <a:lnTo>
                    <a:pt x="7315" y="1963"/>
                  </a:lnTo>
                  <a:lnTo>
                    <a:pt x="7315" y="1992"/>
                  </a:lnTo>
                  <a:lnTo>
                    <a:pt x="7315" y="1994"/>
                  </a:lnTo>
                  <a:lnTo>
                    <a:pt x="7314" y="1995"/>
                  </a:lnTo>
                  <a:lnTo>
                    <a:pt x="7312" y="1995"/>
                  </a:lnTo>
                  <a:lnTo>
                    <a:pt x="7311" y="1997"/>
                  </a:lnTo>
                  <a:lnTo>
                    <a:pt x="7307" y="1995"/>
                  </a:lnTo>
                  <a:lnTo>
                    <a:pt x="7306" y="1995"/>
                  </a:lnTo>
                  <a:lnTo>
                    <a:pt x="7306" y="1994"/>
                  </a:lnTo>
                  <a:lnTo>
                    <a:pt x="7306" y="1992"/>
                  </a:lnTo>
                  <a:lnTo>
                    <a:pt x="7306" y="1992"/>
                  </a:lnTo>
                  <a:close/>
                  <a:moveTo>
                    <a:pt x="7306" y="1924"/>
                  </a:moveTo>
                  <a:lnTo>
                    <a:pt x="7306" y="1895"/>
                  </a:lnTo>
                  <a:lnTo>
                    <a:pt x="7306" y="1894"/>
                  </a:lnTo>
                  <a:lnTo>
                    <a:pt x="7306" y="1892"/>
                  </a:lnTo>
                  <a:lnTo>
                    <a:pt x="7307" y="1891"/>
                  </a:lnTo>
                  <a:lnTo>
                    <a:pt x="7311" y="1891"/>
                  </a:lnTo>
                  <a:lnTo>
                    <a:pt x="7312" y="1891"/>
                  </a:lnTo>
                  <a:lnTo>
                    <a:pt x="7314" y="1892"/>
                  </a:lnTo>
                  <a:lnTo>
                    <a:pt x="7315" y="1894"/>
                  </a:lnTo>
                  <a:lnTo>
                    <a:pt x="7315" y="1895"/>
                  </a:lnTo>
                  <a:lnTo>
                    <a:pt x="7315" y="1924"/>
                  </a:lnTo>
                  <a:lnTo>
                    <a:pt x="7315" y="1926"/>
                  </a:lnTo>
                  <a:lnTo>
                    <a:pt x="7314" y="1927"/>
                  </a:lnTo>
                  <a:lnTo>
                    <a:pt x="7312" y="1929"/>
                  </a:lnTo>
                  <a:lnTo>
                    <a:pt x="7311" y="1929"/>
                  </a:lnTo>
                  <a:lnTo>
                    <a:pt x="7307" y="1929"/>
                  </a:lnTo>
                  <a:lnTo>
                    <a:pt x="7306" y="1927"/>
                  </a:lnTo>
                  <a:lnTo>
                    <a:pt x="7306" y="1926"/>
                  </a:lnTo>
                  <a:lnTo>
                    <a:pt x="7306" y="1924"/>
                  </a:lnTo>
                  <a:lnTo>
                    <a:pt x="7306" y="1924"/>
                  </a:lnTo>
                  <a:close/>
                  <a:moveTo>
                    <a:pt x="7306" y="1857"/>
                  </a:moveTo>
                  <a:lnTo>
                    <a:pt x="7306" y="1828"/>
                  </a:lnTo>
                  <a:lnTo>
                    <a:pt x="7306" y="1826"/>
                  </a:lnTo>
                  <a:lnTo>
                    <a:pt x="7306" y="1824"/>
                  </a:lnTo>
                  <a:lnTo>
                    <a:pt x="7307" y="1823"/>
                  </a:lnTo>
                  <a:lnTo>
                    <a:pt x="7311" y="1823"/>
                  </a:lnTo>
                  <a:lnTo>
                    <a:pt x="7312" y="1823"/>
                  </a:lnTo>
                  <a:lnTo>
                    <a:pt x="7314" y="1824"/>
                  </a:lnTo>
                  <a:lnTo>
                    <a:pt x="7315" y="1826"/>
                  </a:lnTo>
                  <a:lnTo>
                    <a:pt x="7315" y="1828"/>
                  </a:lnTo>
                  <a:lnTo>
                    <a:pt x="7315" y="1857"/>
                  </a:lnTo>
                  <a:lnTo>
                    <a:pt x="7315" y="1858"/>
                  </a:lnTo>
                  <a:lnTo>
                    <a:pt x="7314" y="1860"/>
                  </a:lnTo>
                  <a:lnTo>
                    <a:pt x="7312" y="1861"/>
                  </a:lnTo>
                  <a:lnTo>
                    <a:pt x="7311" y="1861"/>
                  </a:lnTo>
                  <a:lnTo>
                    <a:pt x="7307" y="1861"/>
                  </a:lnTo>
                  <a:lnTo>
                    <a:pt x="7306" y="1860"/>
                  </a:lnTo>
                  <a:lnTo>
                    <a:pt x="7306" y="1858"/>
                  </a:lnTo>
                  <a:lnTo>
                    <a:pt x="7306" y="1857"/>
                  </a:lnTo>
                  <a:lnTo>
                    <a:pt x="7306" y="1857"/>
                  </a:lnTo>
                  <a:close/>
                  <a:moveTo>
                    <a:pt x="7306" y="1789"/>
                  </a:moveTo>
                  <a:lnTo>
                    <a:pt x="7306" y="1761"/>
                  </a:lnTo>
                  <a:lnTo>
                    <a:pt x="7306" y="1758"/>
                  </a:lnTo>
                  <a:lnTo>
                    <a:pt x="7306" y="1757"/>
                  </a:lnTo>
                  <a:lnTo>
                    <a:pt x="7307" y="1757"/>
                  </a:lnTo>
                  <a:lnTo>
                    <a:pt x="7311" y="1755"/>
                  </a:lnTo>
                  <a:lnTo>
                    <a:pt x="7312" y="1757"/>
                  </a:lnTo>
                  <a:lnTo>
                    <a:pt x="7314" y="1757"/>
                  </a:lnTo>
                  <a:lnTo>
                    <a:pt x="7315" y="1758"/>
                  </a:lnTo>
                  <a:lnTo>
                    <a:pt x="7315" y="1761"/>
                  </a:lnTo>
                  <a:lnTo>
                    <a:pt x="7315" y="1789"/>
                  </a:lnTo>
                  <a:lnTo>
                    <a:pt x="7315" y="1791"/>
                  </a:lnTo>
                  <a:lnTo>
                    <a:pt x="7314" y="1792"/>
                  </a:lnTo>
                  <a:lnTo>
                    <a:pt x="7312" y="1794"/>
                  </a:lnTo>
                  <a:lnTo>
                    <a:pt x="7311" y="1794"/>
                  </a:lnTo>
                  <a:lnTo>
                    <a:pt x="7307" y="1794"/>
                  </a:lnTo>
                  <a:lnTo>
                    <a:pt x="7306" y="1792"/>
                  </a:lnTo>
                  <a:lnTo>
                    <a:pt x="7306" y="1791"/>
                  </a:lnTo>
                  <a:lnTo>
                    <a:pt x="7306" y="1789"/>
                  </a:lnTo>
                  <a:lnTo>
                    <a:pt x="7306" y="1789"/>
                  </a:lnTo>
                  <a:close/>
                  <a:moveTo>
                    <a:pt x="7306" y="1723"/>
                  </a:moveTo>
                  <a:lnTo>
                    <a:pt x="7306" y="1694"/>
                  </a:lnTo>
                  <a:lnTo>
                    <a:pt x="7306" y="1692"/>
                  </a:lnTo>
                  <a:lnTo>
                    <a:pt x="7306" y="1689"/>
                  </a:lnTo>
                  <a:lnTo>
                    <a:pt x="7307" y="1689"/>
                  </a:lnTo>
                  <a:lnTo>
                    <a:pt x="7311" y="1689"/>
                  </a:lnTo>
                  <a:lnTo>
                    <a:pt x="7312" y="1689"/>
                  </a:lnTo>
                  <a:lnTo>
                    <a:pt x="7314" y="1689"/>
                  </a:lnTo>
                  <a:lnTo>
                    <a:pt x="7315" y="1692"/>
                  </a:lnTo>
                  <a:lnTo>
                    <a:pt x="7315" y="1694"/>
                  </a:lnTo>
                  <a:lnTo>
                    <a:pt x="7315" y="1723"/>
                  </a:lnTo>
                  <a:lnTo>
                    <a:pt x="7315" y="1725"/>
                  </a:lnTo>
                  <a:lnTo>
                    <a:pt x="7314" y="1726"/>
                  </a:lnTo>
                  <a:lnTo>
                    <a:pt x="7312" y="1726"/>
                  </a:lnTo>
                  <a:lnTo>
                    <a:pt x="7311" y="1728"/>
                  </a:lnTo>
                  <a:lnTo>
                    <a:pt x="7307" y="1726"/>
                  </a:lnTo>
                  <a:lnTo>
                    <a:pt x="7306" y="1726"/>
                  </a:lnTo>
                  <a:lnTo>
                    <a:pt x="7306" y="1725"/>
                  </a:lnTo>
                  <a:lnTo>
                    <a:pt x="7306" y="1723"/>
                  </a:lnTo>
                  <a:lnTo>
                    <a:pt x="7306" y="1723"/>
                  </a:lnTo>
                  <a:close/>
                  <a:moveTo>
                    <a:pt x="7306" y="1655"/>
                  </a:moveTo>
                  <a:lnTo>
                    <a:pt x="7306" y="1626"/>
                  </a:lnTo>
                  <a:lnTo>
                    <a:pt x="7306" y="1625"/>
                  </a:lnTo>
                  <a:lnTo>
                    <a:pt x="7306" y="1623"/>
                  </a:lnTo>
                  <a:lnTo>
                    <a:pt x="7307" y="1622"/>
                  </a:lnTo>
                  <a:lnTo>
                    <a:pt x="7311" y="1622"/>
                  </a:lnTo>
                  <a:lnTo>
                    <a:pt x="7312" y="1622"/>
                  </a:lnTo>
                  <a:lnTo>
                    <a:pt x="7314" y="1623"/>
                  </a:lnTo>
                  <a:lnTo>
                    <a:pt x="7315" y="1625"/>
                  </a:lnTo>
                  <a:lnTo>
                    <a:pt x="7315" y="1626"/>
                  </a:lnTo>
                  <a:lnTo>
                    <a:pt x="7315" y="1655"/>
                  </a:lnTo>
                  <a:lnTo>
                    <a:pt x="7315" y="1657"/>
                  </a:lnTo>
                  <a:lnTo>
                    <a:pt x="7314" y="1658"/>
                  </a:lnTo>
                  <a:lnTo>
                    <a:pt x="7312" y="1660"/>
                  </a:lnTo>
                  <a:lnTo>
                    <a:pt x="7311" y="1660"/>
                  </a:lnTo>
                  <a:lnTo>
                    <a:pt x="7307" y="1660"/>
                  </a:lnTo>
                  <a:lnTo>
                    <a:pt x="7306" y="1658"/>
                  </a:lnTo>
                  <a:lnTo>
                    <a:pt x="7306" y="1657"/>
                  </a:lnTo>
                  <a:lnTo>
                    <a:pt x="7306" y="1655"/>
                  </a:lnTo>
                  <a:lnTo>
                    <a:pt x="7306" y="1655"/>
                  </a:lnTo>
                  <a:close/>
                  <a:moveTo>
                    <a:pt x="7306" y="1588"/>
                  </a:moveTo>
                  <a:lnTo>
                    <a:pt x="7306" y="1559"/>
                  </a:lnTo>
                  <a:lnTo>
                    <a:pt x="7306" y="1557"/>
                  </a:lnTo>
                  <a:lnTo>
                    <a:pt x="7306" y="1555"/>
                  </a:lnTo>
                  <a:lnTo>
                    <a:pt x="7307" y="1554"/>
                  </a:lnTo>
                  <a:lnTo>
                    <a:pt x="7311" y="1554"/>
                  </a:lnTo>
                  <a:lnTo>
                    <a:pt x="7312" y="1554"/>
                  </a:lnTo>
                  <a:lnTo>
                    <a:pt x="7314" y="1555"/>
                  </a:lnTo>
                  <a:lnTo>
                    <a:pt x="7315" y="1557"/>
                  </a:lnTo>
                  <a:lnTo>
                    <a:pt x="7315" y="1559"/>
                  </a:lnTo>
                  <a:lnTo>
                    <a:pt x="7315" y="1588"/>
                  </a:lnTo>
                  <a:lnTo>
                    <a:pt x="7315" y="1589"/>
                  </a:lnTo>
                  <a:lnTo>
                    <a:pt x="7314" y="1591"/>
                  </a:lnTo>
                  <a:lnTo>
                    <a:pt x="7312" y="1592"/>
                  </a:lnTo>
                  <a:lnTo>
                    <a:pt x="7311" y="1592"/>
                  </a:lnTo>
                  <a:lnTo>
                    <a:pt x="7307" y="1592"/>
                  </a:lnTo>
                  <a:lnTo>
                    <a:pt x="7306" y="1591"/>
                  </a:lnTo>
                  <a:lnTo>
                    <a:pt x="7306" y="1589"/>
                  </a:lnTo>
                  <a:lnTo>
                    <a:pt x="7306" y="1588"/>
                  </a:lnTo>
                  <a:lnTo>
                    <a:pt x="7306" y="1588"/>
                  </a:lnTo>
                  <a:close/>
                  <a:moveTo>
                    <a:pt x="7306" y="1520"/>
                  </a:moveTo>
                  <a:lnTo>
                    <a:pt x="7306" y="1492"/>
                  </a:lnTo>
                  <a:lnTo>
                    <a:pt x="7306" y="1489"/>
                  </a:lnTo>
                  <a:lnTo>
                    <a:pt x="7306" y="1488"/>
                  </a:lnTo>
                  <a:lnTo>
                    <a:pt x="7307" y="1488"/>
                  </a:lnTo>
                  <a:lnTo>
                    <a:pt x="7311" y="1486"/>
                  </a:lnTo>
                  <a:lnTo>
                    <a:pt x="7312" y="1488"/>
                  </a:lnTo>
                  <a:lnTo>
                    <a:pt x="7314" y="1488"/>
                  </a:lnTo>
                  <a:lnTo>
                    <a:pt x="7315" y="1489"/>
                  </a:lnTo>
                  <a:lnTo>
                    <a:pt x="7315" y="1492"/>
                  </a:lnTo>
                  <a:lnTo>
                    <a:pt x="7315" y="1520"/>
                  </a:lnTo>
                  <a:lnTo>
                    <a:pt x="7315" y="1522"/>
                  </a:lnTo>
                  <a:lnTo>
                    <a:pt x="7314" y="1523"/>
                  </a:lnTo>
                  <a:lnTo>
                    <a:pt x="7312" y="1525"/>
                  </a:lnTo>
                  <a:lnTo>
                    <a:pt x="7311" y="1525"/>
                  </a:lnTo>
                  <a:lnTo>
                    <a:pt x="7307" y="1525"/>
                  </a:lnTo>
                  <a:lnTo>
                    <a:pt x="7306" y="1523"/>
                  </a:lnTo>
                  <a:lnTo>
                    <a:pt x="7306" y="1522"/>
                  </a:lnTo>
                  <a:lnTo>
                    <a:pt x="7306" y="1520"/>
                  </a:lnTo>
                  <a:lnTo>
                    <a:pt x="7306" y="1520"/>
                  </a:lnTo>
                  <a:close/>
                  <a:moveTo>
                    <a:pt x="7306" y="1454"/>
                  </a:moveTo>
                  <a:lnTo>
                    <a:pt x="7306" y="1425"/>
                  </a:lnTo>
                  <a:lnTo>
                    <a:pt x="7306" y="1423"/>
                  </a:lnTo>
                  <a:lnTo>
                    <a:pt x="7306" y="1420"/>
                  </a:lnTo>
                  <a:lnTo>
                    <a:pt x="7307" y="1420"/>
                  </a:lnTo>
                  <a:lnTo>
                    <a:pt x="7311" y="1420"/>
                  </a:lnTo>
                  <a:lnTo>
                    <a:pt x="7312" y="1420"/>
                  </a:lnTo>
                  <a:lnTo>
                    <a:pt x="7314" y="1420"/>
                  </a:lnTo>
                  <a:lnTo>
                    <a:pt x="7315" y="1423"/>
                  </a:lnTo>
                  <a:lnTo>
                    <a:pt x="7315" y="1425"/>
                  </a:lnTo>
                  <a:lnTo>
                    <a:pt x="7315" y="1454"/>
                  </a:lnTo>
                  <a:lnTo>
                    <a:pt x="7315" y="1456"/>
                  </a:lnTo>
                  <a:lnTo>
                    <a:pt x="7314" y="1457"/>
                  </a:lnTo>
                  <a:lnTo>
                    <a:pt x="7312" y="1457"/>
                  </a:lnTo>
                  <a:lnTo>
                    <a:pt x="7311" y="1459"/>
                  </a:lnTo>
                  <a:lnTo>
                    <a:pt x="7307" y="1457"/>
                  </a:lnTo>
                  <a:lnTo>
                    <a:pt x="7306" y="1457"/>
                  </a:lnTo>
                  <a:lnTo>
                    <a:pt x="7306" y="1456"/>
                  </a:lnTo>
                  <a:lnTo>
                    <a:pt x="7306" y="1454"/>
                  </a:lnTo>
                  <a:lnTo>
                    <a:pt x="7306" y="1454"/>
                  </a:lnTo>
                  <a:close/>
                  <a:moveTo>
                    <a:pt x="7306" y="1386"/>
                  </a:moveTo>
                  <a:lnTo>
                    <a:pt x="7306" y="1357"/>
                  </a:lnTo>
                  <a:lnTo>
                    <a:pt x="7306" y="1356"/>
                  </a:lnTo>
                  <a:lnTo>
                    <a:pt x="7306" y="1354"/>
                  </a:lnTo>
                  <a:lnTo>
                    <a:pt x="7307" y="1353"/>
                  </a:lnTo>
                  <a:lnTo>
                    <a:pt x="7311" y="1353"/>
                  </a:lnTo>
                  <a:lnTo>
                    <a:pt x="7312" y="1353"/>
                  </a:lnTo>
                  <a:lnTo>
                    <a:pt x="7314" y="1354"/>
                  </a:lnTo>
                  <a:lnTo>
                    <a:pt x="7315" y="1356"/>
                  </a:lnTo>
                  <a:lnTo>
                    <a:pt x="7315" y="1357"/>
                  </a:lnTo>
                  <a:lnTo>
                    <a:pt x="7315" y="1386"/>
                  </a:lnTo>
                  <a:lnTo>
                    <a:pt x="7315" y="1388"/>
                  </a:lnTo>
                  <a:lnTo>
                    <a:pt x="7314" y="1389"/>
                  </a:lnTo>
                  <a:lnTo>
                    <a:pt x="7312" y="1391"/>
                  </a:lnTo>
                  <a:lnTo>
                    <a:pt x="7311" y="1391"/>
                  </a:lnTo>
                  <a:lnTo>
                    <a:pt x="7307" y="1391"/>
                  </a:lnTo>
                  <a:lnTo>
                    <a:pt x="7306" y="1389"/>
                  </a:lnTo>
                  <a:lnTo>
                    <a:pt x="7306" y="1388"/>
                  </a:lnTo>
                  <a:lnTo>
                    <a:pt x="7306" y="1386"/>
                  </a:lnTo>
                  <a:lnTo>
                    <a:pt x="7306" y="1386"/>
                  </a:lnTo>
                  <a:close/>
                  <a:moveTo>
                    <a:pt x="7306" y="1319"/>
                  </a:moveTo>
                  <a:lnTo>
                    <a:pt x="7306" y="1290"/>
                  </a:lnTo>
                  <a:lnTo>
                    <a:pt x="7306" y="1288"/>
                  </a:lnTo>
                  <a:lnTo>
                    <a:pt x="7306" y="1287"/>
                  </a:lnTo>
                  <a:lnTo>
                    <a:pt x="7307" y="1285"/>
                  </a:lnTo>
                  <a:lnTo>
                    <a:pt x="7311" y="1285"/>
                  </a:lnTo>
                  <a:lnTo>
                    <a:pt x="7312" y="1285"/>
                  </a:lnTo>
                  <a:lnTo>
                    <a:pt x="7314" y="1287"/>
                  </a:lnTo>
                  <a:lnTo>
                    <a:pt x="7315" y="1288"/>
                  </a:lnTo>
                  <a:lnTo>
                    <a:pt x="7315" y="1290"/>
                  </a:lnTo>
                  <a:lnTo>
                    <a:pt x="7315" y="1319"/>
                  </a:lnTo>
                  <a:lnTo>
                    <a:pt x="7315" y="1320"/>
                  </a:lnTo>
                  <a:lnTo>
                    <a:pt x="7314" y="1322"/>
                  </a:lnTo>
                  <a:lnTo>
                    <a:pt x="7312" y="1323"/>
                  </a:lnTo>
                  <a:lnTo>
                    <a:pt x="7311" y="1323"/>
                  </a:lnTo>
                  <a:lnTo>
                    <a:pt x="7307" y="1323"/>
                  </a:lnTo>
                  <a:lnTo>
                    <a:pt x="7306" y="1322"/>
                  </a:lnTo>
                  <a:lnTo>
                    <a:pt x="7306" y="1320"/>
                  </a:lnTo>
                  <a:lnTo>
                    <a:pt x="7306" y="1319"/>
                  </a:lnTo>
                  <a:lnTo>
                    <a:pt x="7306" y="1319"/>
                  </a:lnTo>
                  <a:close/>
                  <a:moveTo>
                    <a:pt x="7306" y="1251"/>
                  </a:moveTo>
                  <a:lnTo>
                    <a:pt x="7306" y="1223"/>
                  </a:lnTo>
                  <a:lnTo>
                    <a:pt x="7306" y="1220"/>
                  </a:lnTo>
                  <a:lnTo>
                    <a:pt x="7306" y="1219"/>
                  </a:lnTo>
                  <a:lnTo>
                    <a:pt x="7307" y="1219"/>
                  </a:lnTo>
                  <a:lnTo>
                    <a:pt x="7311" y="1217"/>
                  </a:lnTo>
                  <a:lnTo>
                    <a:pt x="7312" y="1219"/>
                  </a:lnTo>
                  <a:lnTo>
                    <a:pt x="7314" y="1219"/>
                  </a:lnTo>
                  <a:lnTo>
                    <a:pt x="7315" y="1220"/>
                  </a:lnTo>
                  <a:lnTo>
                    <a:pt x="7315" y="1223"/>
                  </a:lnTo>
                  <a:lnTo>
                    <a:pt x="7315" y="1251"/>
                  </a:lnTo>
                  <a:lnTo>
                    <a:pt x="7315" y="1253"/>
                  </a:lnTo>
                  <a:lnTo>
                    <a:pt x="7314" y="1254"/>
                  </a:lnTo>
                  <a:lnTo>
                    <a:pt x="7312" y="1256"/>
                  </a:lnTo>
                  <a:lnTo>
                    <a:pt x="7311" y="1256"/>
                  </a:lnTo>
                  <a:lnTo>
                    <a:pt x="7307" y="1256"/>
                  </a:lnTo>
                  <a:lnTo>
                    <a:pt x="7306" y="1254"/>
                  </a:lnTo>
                  <a:lnTo>
                    <a:pt x="7306" y="1253"/>
                  </a:lnTo>
                  <a:lnTo>
                    <a:pt x="7306" y="1251"/>
                  </a:lnTo>
                  <a:lnTo>
                    <a:pt x="7306" y="1251"/>
                  </a:lnTo>
                  <a:close/>
                  <a:moveTo>
                    <a:pt x="7306" y="1185"/>
                  </a:moveTo>
                  <a:lnTo>
                    <a:pt x="7306" y="1156"/>
                  </a:lnTo>
                  <a:lnTo>
                    <a:pt x="7306" y="1154"/>
                  </a:lnTo>
                  <a:lnTo>
                    <a:pt x="7306" y="1151"/>
                  </a:lnTo>
                  <a:lnTo>
                    <a:pt x="7307" y="1151"/>
                  </a:lnTo>
                  <a:lnTo>
                    <a:pt x="7311" y="1151"/>
                  </a:lnTo>
                  <a:lnTo>
                    <a:pt x="7312" y="1151"/>
                  </a:lnTo>
                  <a:lnTo>
                    <a:pt x="7314" y="1151"/>
                  </a:lnTo>
                  <a:lnTo>
                    <a:pt x="7315" y="1154"/>
                  </a:lnTo>
                  <a:lnTo>
                    <a:pt x="7315" y="1156"/>
                  </a:lnTo>
                  <a:lnTo>
                    <a:pt x="7315" y="1185"/>
                  </a:lnTo>
                  <a:lnTo>
                    <a:pt x="7315" y="1187"/>
                  </a:lnTo>
                  <a:lnTo>
                    <a:pt x="7314" y="1188"/>
                  </a:lnTo>
                  <a:lnTo>
                    <a:pt x="7312" y="1188"/>
                  </a:lnTo>
                  <a:lnTo>
                    <a:pt x="7311" y="1190"/>
                  </a:lnTo>
                  <a:lnTo>
                    <a:pt x="7307" y="1188"/>
                  </a:lnTo>
                  <a:lnTo>
                    <a:pt x="7306" y="1188"/>
                  </a:lnTo>
                  <a:lnTo>
                    <a:pt x="7306" y="1187"/>
                  </a:lnTo>
                  <a:lnTo>
                    <a:pt x="7306" y="1185"/>
                  </a:lnTo>
                  <a:lnTo>
                    <a:pt x="7306" y="1185"/>
                  </a:lnTo>
                  <a:close/>
                  <a:moveTo>
                    <a:pt x="7306" y="1117"/>
                  </a:moveTo>
                  <a:lnTo>
                    <a:pt x="7306" y="1088"/>
                  </a:lnTo>
                  <a:lnTo>
                    <a:pt x="7306" y="1087"/>
                  </a:lnTo>
                  <a:lnTo>
                    <a:pt x="7306" y="1085"/>
                  </a:lnTo>
                  <a:lnTo>
                    <a:pt x="7307" y="1084"/>
                  </a:lnTo>
                  <a:lnTo>
                    <a:pt x="7311" y="1084"/>
                  </a:lnTo>
                  <a:lnTo>
                    <a:pt x="7312" y="1084"/>
                  </a:lnTo>
                  <a:lnTo>
                    <a:pt x="7314" y="1085"/>
                  </a:lnTo>
                  <a:lnTo>
                    <a:pt x="7315" y="1087"/>
                  </a:lnTo>
                  <a:lnTo>
                    <a:pt x="7315" y="1088"/>
                  </a:lnTo>
                  <a:lnTo>
                    <a:pt x="7315" y="1117"/>
                  </a:lnTo>
                  <a:lnTo>
                    <a:pt x="7315" y="1119"/>
                  </a:lnTo>
                  <a:lnTo>
                    <a:pt x="7314" y="1121"/>
                  </a:lnTo>
                  <a:lnTo>
                    <a:pt x="7312" y="1122"/>
                  </a:lnTo>
                  <a:lnTo>
                    <a:pt x="7311" y="1122"/>
                  </a:lnTo>
                  <a:lnTo>
                    <a:pt x="7307" y="1122"/>
                  </a:lnTo>
                  <a:lnTo>
                    <a:pt x="7306" y="1121"/>
                  </a:lnTo>
                  <a:lnTo>
                    <a:pt x="7306" y="1119"/>
                  </a:lnTo>
                  <a:lnTo>
                    <a:pt x="7306" y="1117"/>
                  </a:lnTo>
                  <a:lnTo>
                    <a:pt x="7306" y="1117"/>
                  </a:lnTo>
                  <a:close/>
                  <a:moveTo>
                    <a:pt x="7306" y="1050"/>
                  </a:moveTo>
                  <a:lnTo>
                    <a:pt x="7306" y="1021"/>
                  </a:lnTo>
                  <a:lnTo>
                    <a:pt x="7306" y="1019"/>
                  </a:lnTo>
                  <a:lnTo>
                    <a:pt x="7306" y="1018"/>
                  </a:lnTo>
                  <a:lnTo>
                    <a:pt x="7307" y="1016"/>
                  </a:lnTo>
                  <a:lnTo>
                    <a:pt x="7311" y="1016"/>
                  </a:lnTo>
                  <a:lnTo>
                    <a:pt x="7312" y="1016"/>
                  </a:lnTo>
                  <a:lnTo>
                    <a:pt x="7314" y="1018"/>
                  </a:lnTo>
                  <a:lnTo>
                    <a:pt x="7315" y="1019"/>
                  </a:lnTo>
                  <a:lnTo>
                    <a:pt x="7315" y="1021"/>
                  </a:lnTo>
                  <a:lnTo>
                    <a:pt x="7315" y="1050"/>
                  </a:lnTo>
                  <a:lnTo>
                    <a:pt x="7315" y="1051"/>
                  </a:lnTo>
                  <a:lnTo>
                    <a:pt x="7314" y="1053"/>
                  </a:lnTo>
                  <a:lnTo>
                    <a:pt x="7312" y="1054"/>
                  </a:lnTo>
                  <a:lnTo>
                    <a:pt x="7311" y="1054"/>
                  </a:lnTo>
                  <a:lnTo>
                    <a:pt x="7307" y="1054"/>
                  </a:lnTo>
                  <a:lnTo>
                    <a:pt x="7306" y="1053"/>
                  </a:lnTo>
                  <a:lnTo>
                    <a:pt x="7306" y="1051"/>
                  </a:lnTo>
                  <a:lnTo>
                    <a:pt x="7306" y="1050"/>
                  </a:lnTo>
                  <a:lnTo>
                    <a:pt x="7306" y="1050"/>
                  </a:lnTo>
                  <a:close/>
                  <a:moveTo>
                    <a:pt x="7306" y="982"/>
                  </a:moveTo>
                  <a:lnTo>
                    <a:pt x="7306" y="955"/>
                  </a:lnTo>
                  <a:lnTo>
                    <a:pt x="7306" y="951"/>
                  </a:lnTo>
                  <a:lnTo>
                    <a:pt x="7306" y="950"/>
                  </a:lnTo>
                  <a:lnTo>
                    <a:pt x="7307" y="950"/>
                  </a:lnTo>
                  <a:lnTo>
                    <a:pt x="7311" y="948"/>
                  </a:lnTo>
                  <a:lnTo>
                    <a:pt x="7312" y="950"/>
                  </a:lnTo>
                  <a:lnTo>
                    <a:pt x="7314" y="950"/>
                  </a:lnTo>
                  <a:lnTo>
                    <a:pt x="7315" y="951"/>
                  </a:lnTo>
                  <a:lnTo>
                    <a:pt x="7315" y="955"/>
                  </a:lnTo>
                  <a:lnTo>
                    <a:pt x="7315" y="982"/>
                  </a:lnTo>
                  <a:lnTo>
                    <a:pt x="7315" y="984"/>
                  </a:lnTo>
                  <a:lnTo>
                    <a:pt x="7314" y="985"/>
                  </a:lnTo>
                  <a:lnTo>
                    <a:pt x="7312" y="987"/>
                  </a:lnTo>
                  <a:lnTo>
                    <a:pt x="7311" y="987"/>
                  </a:lnTo>
                  <a:lnTo>
                    <a:pt x="7307" y="987"/>
                  </a:lnTo>
                  <a:lnTo>
                    <a:pt x="7306" y="985"/>
                  </a:lnTo>
                  <a:lnTo>
                    <a:pt x="7306" y="984"/>
                  </a:lnTo>
                  <a:lnTo>
                    <a:pt x="7306" y="982"/>
                  </a:lnTo>
                  <a:lnTo>
                    <a:pt x="7306" y="982"/>
                  </a:lnTo>
                  <a:close/>
                  <a:moveTo>
                    <a:pt x="7306" y="916"/>
                  </a:moveTo>
                  <a:lnTo>
                    <a:pt x="7306" y="887"/>
                  </a:lnTo>
                  <a:lnTo>
                    <a:pt x="7306" y="885"/>
                  </a:lnTo>
                  <a:lnTo>
                    <a:pt x="7306" y="882"/>
                  </a:lnTo>
                  <a:lnTo>
                    <a:pt x="7307" y="882"/>
                  </a:lnTo>
                  <a:lnTo>
                    <a:pt x="7311" y="882"/>
                  </a:lnTo>
                  <a:lnTo>
                    <a:pt x="7312" y="882"/>
                  </a:lnTo>
                  <a:lnTo>
                    <a:pt x="7314" y="882"/>
                  </a:lnTo>
                  <a:lnTo>
                    <a:pt x="7315" y="885"/>
                  </a:lnTo>
                  <a:lnTo>
                    <a:pt x="7315" y="887"/>
                  </a:lnTo>
                  <a:lnTo>
                    <a:pt x="7315" y="916"/>
                  </a:lnTo>
                  <a:lnTo>
                    <a:pt x="7315" y="918"/>
                  </a:lnTo>
                  <a:lnTo>
                    <a:pt x="7314" y="919"/>
                  </a:lnTo>
                  <a:lnTo>
                    <a:pt x="7312" y="919"/>
                  </a:lnTo>
                  <a:lnTo>
                    <a:pt x="7311" y="921"/>
                  </a:lnTo>
                  <a:lnTo>
                    <a:pt x="7307" y="919"/>
                  </a:lnTo>
                  <a:lnTo>
                    <a:pt x="7306" y="919"/>
                  </a:lnTo>
                  <a:lnTo>
                    <a:pt x="7306" y="918"/>
                  </a:lnTo>
                  <a:lnTo>
                    <a:pt x="7306" y="916"/>
                  </a:lnTo>
                  <a:lnTo>
                    <a:pt x="7306" y="916"/>
                  </a:lnTo>
                  <a:close/>
                  <a:moveTo>
                    <a:pt x="7306" y="848"/>
                  </a:moveTo>
                  <a:lnTo>
                    <a:pt x="7306" y="819"/>
                  </a:lnTo>
                  <a:lnTo>
                    <a:pt x="7306" y="818"/>
                  </a:lnTo>
                  <a:lnTo>
                    <a:pt x="7306" y="816"/>
                  </a:lnTo>
                  <a:lnTo>
                    <a:pt x="7307" y="815"/>
                  </a:lnTo>
                  <a:lnTo>
                    <a:pt x="7311" y="815"/>
                  </a:lnTo>
                  <a:lnTo>
                    <a:pt x="7312" y="815"/>
                  </a:lnTo>
                  <a:lnTo>
                    <a:pt x="7314" y="816"/>
                  </a:lnTo>
                  <a:lnTo>
                    <a:pt x="7315" y="818"/>
                  </a:lnTo>
                  <a:lnTo>
                    <a:pt x="7315" y="819"/>
                  </a:lnTo>
                  <a:lnTo>
                    <a:pt x="7315" y="848"/>
                  </a:lnTo>
                  <a:lnTo>
                    <a:pt x="7315" y="850"/>
                  </a:lnTo>
                  <a:lnTo>
                    <a:pt x="7314" y="852"/>
                  </a:lnTo>
                  <a:lnTo>
                    <a:pt x="7312" y="853"/>
                  </a:lnTo>
                  <a:lnTo>
                    <a:pt x="7311" y="853"/>
                  </a:lnTo>
                  <a:lnTo>
                    <a:pt x="7307" y="853"/>
                  </a:lnTo>
                  <a:lnTo>
                    <a:pt x="7306" y="852"/>
                  </a:lnTo>
                  <a:lnTo>
                    <a:pt x="7306" y="850"/>
                  </a:lnTo>
                  <a:lnTo>
                    <a:pt x="7306" y="848"/>
                  </a:lnTo>
                  <a:lnTo>
                    <a:pt x="7306" y="848"/>
                  </a:lnTo>
                  <a:close/>
                  <a:moveTo>
                    <a:pt x="7306" y="781"/>
                  </a:moveTo>
                  <a:lnTo>
                    <a:pt x="7306" y="752"/>
                  </a:lnTo>
                  <a:lnTo>
                    <a:pt x="7306" y="750"/>
                  </a:lnTo>
                  <a:lnTo>
                    <a:pt x="7306" y="749"/>
                  </a:lnTo>
                  <a:lnTo>
                    <a:pt x="7307" y="747"/>
                  </a:lnTo>
                  <a:lnTo>
                    <a:pt x="7311" y="747"/>
                  </a:lnTo>
                  <a:lnTo>
                    <a:pt x="7312" y="747"/>
                  </a:lnTo>
                  <a:lnTo>
                    <a:pt x="7314" y="749"/>
                  </a:lnTo>
                  <a:lnTo>
                    <a:pt x="7315" y="750"/>
                  </a:lnTo>
                  <a:lnTo>
                    <a:pt x="7315" y="752"/>
                  </a:lnTo>
                  <a:lnTo>
                    <a:pt x="7315" y="781"/>
                  </a:lnTo>
                  <a:lnTo>
                    <a:pt x="7315" y="782"/>
                  </a:lnTo>
                  <a:lnTo>
                    <a:pt x="7314" y="784"/>
                  </a:lnTo>
                  <a:lnTo>
                    <a:pt x="7312" y="785"/>
                  </a:lnTo>
                  <a:lnTo>
                    <a:pt x="7311" y="785"/>
                  </a:lnTo>
                  <a:lnTo>
                    <a:pt x="7307" y="785"/>
                  </a:lnTo>
                  <a:lnTo>
                    <a:pt x="7306" y="784"/>
                  </a:lnTo>
                  <a:lnTo>
                    <a:pt x="7306" y="782"/>
                  </a:lnTo>
                  <a:lnTo>
                    <a:pt x="7306" y="781"/>
                  </a:lnTo>
                  <a:lnTo>
                    <a:pt x="7306" y="781"/>
                  </a:lnTo>
                  <a:close/>
                  <a:moveTo>
                    <a:pt x="7306" y="713"/>
                  </a:moveTo>
                  <a:lnTo>
                    <a:pt x="7306" y="686"/>
                  </a:lnTo>
                  <a:lnTo>
                    <a:pt x="7306" y="682"/>
                  </a:lnTo>
                  <a:lnTo>
                    <a:pt x="7306" y="681"/>
                  </a:lnTo>
                  <a:lnTo>
                    <a:pt x="7307" y="681"/>
                  </a:lnTo>
                  <a:lnTo>
                    <a:pt x="7311" y="679"/>
                  </a:lnTo>
                  <a:lnTo>
                    <a:pt x="7312" y="681"/>
                  </a:lnTo>
                  <a:lnTo>
                    <a:pt x="7314" y="681"/>
                  </a:lnTo>
                  <a:lnTo>
                    <a:pt x="7315" y="682"/>
                  </a:lnTo>
                  <a:lnTo>
                    <a:pt x="7315" y="686"/>
                  </a:lnTo>
                  <a:lnTo>
                    <a:pt x="7315" y="713"/>
                  </a:lnTo>
                  <a:lnTo>
                    <a:pt x="7315" y="715"/>
                  </a:lnTo>
                  <a:lnTo>
                    <a:pt x="7314" y="716"/>
                  </a:lnTo>
                  <a:lnTo>
                    <a:pt x="7312" y="718"/>
                  </a:lnTo>
                  <a:lnTo>
                    <a:pt x="7311" y="718"/>
                  </a:lnTo>
                  <a:lnTo>
                    <a:pt x="7307" y="718"/>
                  </a:lnTo>
                  <a:lnTo>
                    <a:pt x="7306" y="716"/>
                  </a:lnTo>
                  <a:lnTo>
                    <a:pt x="7306" y="715"/>
                  </a:lnTo>
                  <a:lnTo>
                    <a:pt x="7306" y="713"/>
                  </a:lnTo>
                  <a:lnTo>
                    <a:pt x="7306" y="713"/>
                  </a:lnTo>
                  <a:close/>
                  <a:moveTo>
                    <a:pt x="7306" y="647"/>
                  </a:moveTo>
                  <a:lnTo>
                    <a:pt x="7306" y="618"/>
                  </a:lnTo>
                  <a:lnTo>
                    <a:pt x="7306" y="616"/>
                  </a:lnTo>
                  <a:lnTo>
                    <a:pt x="7306" y="613"/>
                  </a:lnTo>
                  <a:lnTo>
                    <a:pt x="7307" y="613"/>
                  </a:lnTo>
                  <a:lnTo>
                    <a:pt x="7311" y="613"/>
                  </a:lnTo>
                  <a:lnTo>
                    <a:pt x="7312" y="613"/>
                  </a:lnTo>
                  <a:lnTo>
                    <a:pt x="7314" y="613"/>
                  </a:lnTo>
                  <a:lnTo>
                    <a:pt x="7315" y="616"/>
                  </a:lnTo>
                  <a:lnTo>
                    <a:pt x="7315" y="618"/>
                  </a:lnTo>
                  <a:lnTo>
                    <a:pt x="7315" y="647"/>
                  </a:lnTo>
                  <a:lnTo>
                    <a:pt x="7315" y="649"/>
                  </a:lnTo>
                  <a:lnTo>
                    <a:pt x="7314" y="650"/>
                  </a:lnTo>
                  <a:lnTo>
                    <a:pt x="7312" y="650"/>
                  </a:lnTo>
                  <a:lnTo>
                    <a:pt x="7311" y="652"/>
                  </a:lnTo>
                  <a:lnTo>
                    <a:pt x="7307" y="650"/>
                  </a:lnTo>
                  <a:lnTo>
                    <a:pt x="7306" y="650"/>
                  </a:lnTo>
                  <a:lnTo>
                    <a:pt x="7306" y="649"/>
                  </a:lnTo>
                  <a:lnTo>
                    <a:pt x="7306" y="647"/>
                  </a:lnTo>
                  <a:lnTo>
                    <a:pt x="7306" y="647"/>
                  </a:lnTo>
                  <a:close/>
                  <a:moveTo>
                    <a:pt x="7306" y="579"/>
                  </a:moveTo>
                  <a:lnTo>
                    <a:pt x="7306" y="555"/>
                  </a:lnTo>
                  <a:lnTo>
                    <a:pt x="7306" y="550"/>
                  </a:lnTo>
                  <a:lnTo>
                    <a:pt x="7306" y="549"/>
                  </a:lnTo>
                  <a:lnTo>
                    <a:pt x="7306" y="547"/>
                  </a:lnTo>
                  <a:lnTo>
                    <a:pt x="7307" y="546"/>
                  </a:lnTo>
                  <a:lnTo>
                    <a:pt x="7311" y="546"/>
                  </a:lnTo>
                  <a:lnTo>
                    <a:pt x="7312" y="546"/>
                  </a:lnTo>
                  <a:lnTo>
                    <a:pt x="7314" y="547"/>
                  </a:lnTo>
                  <a:lnTo>
                    <a:pt x="7315" y="549"/>
                  </a:lnTo>
                  <a:lnTo>
                    <a:pt x="7315" y="550"/>
                  </a:lnTo>
                  <a:lnTo>
                    <a:pt x="7315" y="555"/>
                  </a:lnTo>
                  <a:lnTo>
                    <a:pt x="7315" y="579"/>
                  </a:lnTo>
                  <a:lnTo>
                    <a:pt x="7315" y="581"/>
                  </a:lnTo>
                  <a:lnTo>
                    <a:pt x="7314" y="583"/>
                  </a:lnTo>
                  <a:lnTo>
                    <a:pt x="7312" y="584"/>
                  </a:lnTo>
                  <a:lnTo>
                    <a:pt x="7311" y="584"/>
                  </a:lnTo>
                  <a:lnTo>
                    <a:pt x="7307" y="584"/>
                  </a:lnTo>
                  <a:lnTo>
                    <a:pt x="7306" y="583"/>
                  </a:lnTo>
                  <a:lnTo>
                    <a:pt x="7306" y="581"/>
                  </a:lnTo>
                  <a:lnTo>
                    <a:pt x="7306" y="579"/>
                  </a:lnTo>
                  <a:lnTo>
                    <a:pt x="7306" y="579"/>
                  </a:lnTo>
                  <a:close/>
                  <a:moveTo>
                    <a:pt x="7303" y="512"/>
                  </a:moveTo>
                  <a:lnTo>
                    <a:pt x="7303" y="500"/>
                  </a:lnTo>
                  <a:lnTo>
                    <a:pt x="7301" y="484"/>
                  </a:lnTo>
                  <a:lnTo>
                    <a:pt x="7301" y="483"/>
                  </a:lnTo>
                  <a:lnTo>
                    <a:pt x="7301" y="480"/>
                  </a:lnTo>
                  <a:lnTo>
                    <a:pt x="7303" y="480"/>
                  </a:lnTo>
                  <a:lnTo>
                    <a:pt x="7304" y="478"/>
                  </a:lnTo>
                  <a:lnTo>
                    <a:pt x="7306" y="478"/>
                  </a:lnTo>
                  <a:lnTo>
                    <a:pt x="7307" y="480"/>
                  </a:lnTo>
                  <a:lnTo>
                    <a:pt x="7309" y="481"/>
                  </a:lnTo>
                  <a:lnTo>
                    <a:pt x="7311" y="483"/>
                  </a:lnTo>
                  <a:lnTo>
                    <a:pt x="7312" y="498"/>
                  </a:lnTo>
                  <a:lnTo>
                    <a:pt x="7314" y="512"/>
                  </a:lnTo>
                  <a:lnTo>
                    <a:pt x="7312" y="513"/>
                  </a:lnTo>
                  <a:lnTo>
                    <a:pt x="7312" y="515"/>
                  </a:lnTo>
                  <a:lnTo>
                    <a:pt x="7311" y="516"/>
                  </a:lnTo>
                  <a:lnTo>
                    <a:pt x="7309" y="516"/>
                  </a:lnTo>
                  <a:lnTo>
                    <a:pt x="7307" y="516"/>
                  </a:lnTo>
                  <a:lnTo>
                    <a:pt x="7304" y="515"/>
                  </a:lnTo>
                  <a:lnTo>
                    <a:pt x="7304" y="513"/>
                  </a:lnTo>
                  <a:lnTo>
                    <a:pt x="7303" y="512"/>
                  </a:lnTo>
                  <a:lnTo>
                    <a:pt x="7303" y="512"/>
                  </a:lnTo>
                  <a:close/>
                  <a:moveTo>
                    <a:pt x="7295" y="446"/>
                  </a:moveTo>
                  <a:lnTo>
                    <a:pt x="7294" y="444"/>
                  </a:lnTo>
                  <a:lnTo>
                    <a:pt x="7287" y="418"/>
                  </a:lnTo>
                  <a:lnTo>
                    <a:pt x="7287" y="418"/>
                  </a:lnTo>
                  <a:lnTo>
                    <a:pt x="7287" y="418"/>
                  </a:lnTo>
                  <a:lnTo>
                    <a:pt x="7287" y="417"/>
                  </a:lnTo>
                  <a:lnTo>
                    <a:pt x="7289" y="415"/>
                  </a:lnTo>
                  <a:lnTo>
                    <a:pt x="7289" y="413"/>
                  </a:lnTo>
                  <a:lnTo>
                    <a:pt x="7292" y="412"/>
                  </a:lnTo>
                  <a:lnTo>
                    <a:pt x="7294" y="412"/>
                  </a:lnTo>
                  <a:lnTo>
                    <a:pt x="7295" y="413"/>
                  </a:lnTo>
                  <a:lnTo>
                    <a:pt x="7297" y="413"/>
                  </a:lnTo>
                  <a:lnTo>
                    <a:pt x="7297" y="417"/>
                  </a:lnTo>
                  <a:lnTo>
                    <a:pt x="7297" y="417"/>
                  </a:lnTo>
                  <a:lnTo>
                    <a:pt x="7304" y="443"/>
                  </a:lnTo>
                  <a:lnTo>
                    <a:pt x="7304" y="444"/>
                  </a:lnTo>
                  <a:lnTo>
                    <a:pt x="7304" y="446"/>
                  </a:lnTo>
                  <a:lnTo>
                    <a:pt x="7303" y="447"/>
                  </a:lnTo>
                  <a:lnTo>
                    <a:pt x="7301" y="449"/>
                  </a:lnTo>
                  <a:lnTo>
                    <a:pt x="7300" y="450"/>
                  </a:lnTo>
                  <a:lnTo>
                    <a:pt x="7298" y="450"/>
                  </a:lnTo>
                  <a:lnTo>
                    <a:pt x="7297" y="449"/>
                  </a:lnTo>
                  <a:lnTo>
                    <a:pt x="7295" y="447"/>
                  </a:lnTo>
                  <a:lnTo>
                    <a:pt x="7295" y="446"/>
                  </a:lnTo>
                  <a:lnTo>
                    <a:pt x="7295" y="446"/>
                  </a:lnTo>
                  <a:close/>
                  <a:moveTo>
                    <a:pt x="7277" y="383"/>
                  </a:moveTo>
                  <a:lnTo>
                    <a:pt x="7272" y="367"/>
                  </a:lnTo>
                  <a:lnTo>
                    <a:pt x="7267" y="355"/>
                  </a:lnTo>
                  <a:lnTo>
                    <a:pt x="7267" y="354"/>
                  </a:lnTo>
                  <a:lnTo>
                    <a:pt x="7267" y="352"/>
                  </a:lnTo>
                  <a:lnTo>
                    <a:pt x="7269" y="350"/>
                  </a:lnTo>
                  <a:lnTo>
                    <a:pt x="7271" y="349"/>
                  </a:lnTo>
                  <a:lnTo>
                    <a:pt x="7272" y="349"/>
                  </a:lnTo>
                  <a:lnTo>
                    <a:pt x="7274" y="349"/>
                  </a:lnTo>
                  <a:lnTo>
                    <a:pt x="7275" y="350"/>
                  </a:lnTo>
                  <a:lnTo>
                    <a:pt x="7277" y="352"/>
                  </a:lnTo>
                  <a:lnTo>
                    <a:pt x="7281" y="364"/>
                  </a:lnTo>
                  <a:lnTo>
                    <a:pt x="7286" y="380"/>
                  </a:lnTo>
                  <a:lnTo>
                    <a:pt x="7286" y="381"/>
                  </a:lnTo>
                  <a:lnTo>
                    <a:pt x="7286" y="383"/>
                  </a:lnTo>
                  <a:lnTo>
                    <a:pt x="7284" y="384"/>
                  </a:lnTo>
                  <a:lnTo>
                    <a:pt x="7283" y="386"/>
                  </a:lnTo>
                  <a:lnTo>
                    <a:pt x="7281" y="386"/>
                  </a:lnTo>
                  <a:lnTo>
                    <a:pt x="7280" y="384"/>
                  </a:lnTo>
                  <a:lnTo>
                    <a:pt x="7278" y="384"/>
                  </a:lnTo>
                  <a:lnTo>
                    <a:pt x="7277" y="383"/>
                  </a:lnTo>
                  <a:lnTo>
                    <a:pt x="7277" y="383"/>
                  </a:lnTo>
                  <a:close/>
                  <a:moveTo>
                    <a:pt x="7252" y="320"/>
                  </a:moveTo>
                  <a:lnTo>
                    <a:pt x="7252" y="318"/>
                  </a:lnTo>
                  <a:lnTo>
                    <a:pt x="7240" y="295"/>
                  </a:lnTo>
                  <a:lnTo>
                    <a:pt x="7240" y="295"/>
                  </a:lnTo>
                  <a:lnTo>
                    <a:pt x="7240" y="295"/>
                  </a:lnTo>
                  <a:lnTo>
                    <a:pt x="7238" y="294"/>
                  </a:lnTo>
                  <a:lnTo>
                    <a:pt x="7238" y="291"/>
                  </a:lnTo>
                  <a:lnTo>
                    <a:pt x="7240" y="289"/>
                  </a:lnTo>
                  <a:lnTo>
                    <a:pt x="7241" y="289"/>
                  </a:lnTo>
                  <a:lnTo>
                    <a:pt x="7243" y="287"/>
                  </a:lnTo>
                  <a:lnTo>
                    <a:pt x="7244" y="287"/>
                  </a:lnTo>
                  <a:lnTo>
                    <a:pt x="7246" y="289"/>
                  </a:lnTo>
                  <a:lnTo>
                    <a:pt x="7247" y="291"/>
                  </a:lnTo>
                  <a:lnTo>
                    <a:pt x="7247" y="291"/>
                  </a:lnTo>
                  <a:lnTo>
                    <a:pt x="7260" y="314"/>
                  </a:lnTo>
                  <a:lnTo>
                    <a:pt x="7261" y="317"/>
                  </a:lnTo>
                  <a:lnTo>
                    <a:pt x="7261" y="318"/>
                  </a:lnTo>
                  <a:lnTo>
                    <a:pt x="7261" y="320"/>
                  </a:lnTo>
                  <a:lnTo>
                    <a:pt x="7260" y="321"/>
                  </a:lnTo>
                  <a:lnTo>
                    <a:pt x="7258" y="323"/>
                  </a:lnTo>
                  <a:lnTo>
                    <a:pt x="7257" y="323"/>
                  </a:lnTo>
                  <a:lnTo>
                    <a:pt x="7255" y="323"/>
                  </a:lnTo>
                  <a:lnTo>
                    <a:pt x="7254" y="321"/>
                  </a:lnTo>
                  <a:lnTo>
                    <a:pt x="7252" y="320"/>
                  </a:lnTo>
                  <a:lnTo>
                    <a:pt x="7252" y="320"/>
                  </a:lnTo>
                  <a:close/>
                  <a:moveTo>
                    <a:pt x="7220" y="261"/>
                  </a:moveTo>
                  <a:lnTo>
                    <a:pt x="7212" y="249"/>
                  </a:lnTo>
                  <a:lnTo>
                    <a:pt x="7204" y="238"/>
                  </a:lnTo>
                  <a:lnTo>
                    <a:pt x="7203" y="237"/>
                  </a:lnTo>
                  <a:lnTo>
                    <a:pt x="7203" y="235"/>
                  </a:lnTo>
                  <a:lnTo>
                    <a:pt x="7203" y="232"/>
                  </a:lnTo>
                  <a:lnTo>
                    <a:pt x="7204" y="232"/>
                  </a:lnTo>
                  <a:lnTo>
                    <a:pt x="7206" y="231"/>
                  </a:lnTo>
                  <a:lnTo>
                    <a:pt x="7209" y="231"/>
                  </a:lnTo>
                  <a:lnTo>
                    <a:pt x="7211" y="231"/>
                  </a:lnTo>
                  <a:lnTo>
                    <a:pt x="7212" y="232"/>
                  </a:lnTo>
                  <a:lnTo>
                    <a:pt x="7220" y="244"/>
                  </a:lnTo>
                  <a:lnTo>
                    <a:pt x="7227" y="257"/>
                  </a:lnTo>
                  <a:lnTo>
                    <a:pt x="7229" y="258"/>
                  </a:lnTo>
                  <a:lnTo>
                    <a:pt x="7229" y="260"/>
                  </a:lnTo>
                  <a:lnTo>
                    <a:pt x="7227" y="261"/>
                  </a:lnTo>
                  <a:lnTo>
                    <a:pt x="7226" y="263"/>
                  </a:lnTo>
                  <a:lnTo>
                    <a:pt x="7224" y="264"/>
                  </a:lnTo>
                  <a:lnTo>
                    <a:pt x="7223" y="264"/>
                  </a:lnTo>
                  <a:lnTo>
                    <a:pt x="7221" y="263"/>
                  </a:lnTo>
                  <a:lnTo>
                    <a:pt x="7220" y="261"/>
                  </a:lnTo>
                  <a:lnTo>
                    <a:pt x="7220" y="261"/>
                  </a:lnTo>
                  <a:close/>
                  <a:moveTo>
                    <a:pt x="7181" y="208"/>
                  </a:moveTo>
                  <a:lnTo>
                    <a:pt x="7180" y="208"/>
                  </a:lnTo>
                  <a:lnTo>
                    <a:pt x="7163" y="188"/>
                  </a:lnTo>
                  <a:lnTo>
                    <a:pt x="7163" y="186"/>
                  </a:lnTo>
                  <a:lnTo>
                    <a:pt x="7161" y="184"/>
                  </a:lnTo>
                  <a:lnTo>
                    <a:pt x="7161" y="183"/>
                  </a:lnTo>
                  <a:lnTo>
                    <a:pt x="7161" y="181"/>
                  </a:lnTo>
                  <a:lnTo>
                    <a:pt x="7163" y="180"/>
                  </a:lnTo>
                  <a:lnTo>
                    <a:pt x="7164" y="178"/>
                  </a:lnTo>
                  <a:lnTo>
                    <a:pt x="7166" y="178"/>
                  </a:lnTo>
                  <a:lnTo>
                    <a:pt x="7167" y="178"/>
                  </a:lnTo>
                  <a:lnTo>
                    <a:pt x="7169" y="180"/>
                  </a:lnTo>
                  <a:lnTo>
                    <a:pt x="7171" y="181"/>
                  </a:lnTo>
                  <a:lnTo>
                    <a:pt x="7187" y="201"/>
                  </a:lnTo>
                  <a:lnTo>
                    <a:pt x="7189" y="201"/>
                  </a:lnTo>
                  <a:lnTo>
                    <a:pt x="7189" y="203"/>
                  </a:lnTo>
                  <a:lnTo>
                    <a:pt x="7189" y="206"/>
                  </a:lnTo>
                  <a:lnTo>
                    <a:pt x="7189" y="208"/>
                  </a:lnTo>
                  <a:lnTo>
                    <a:pt x="7187" y="209"/>
                  </a:lnTo>
                  <a:lnTo>
                    <a:pt x="7186" y="209"/>
                  </a:lnTo>
                  <a:lnTo>
                    <a:pt x="7184" y="209"/>
                  </a:lnTo>
                  <a:lnTo>
                    <a:pt x="7181" y="209"/>
                  </a:lnTo>
                  <a:lnTo>
                    <a:pt x="7181" y="208"/>
                  </a:lnTo>
                  <a:lnTo>
                    <a:pt x="7181" y="208"/>
                  </a:lnTo>
                  <a:close/>
                  <a:moveTo>
                    <a:pt x="7135" y="160"/>
                  </a:moveTo>
                  <a:lnTo>
                    <a:pt x="7126" y="151"/>
                  </a:lnTo>
                  <a:lnTo>
                    <a:pt x="7114" y="140"/>
                  </a:lnTo>
                  <a:lnTo>
                    <a:pt x="7112" y="138"/>
                  </a:lnTo>
                  <a:lnTo>
                    <a:pt x="7112" y="137"/>
                  </a:lnTo>
                  <a:lnTo>
                    <a:pt x="7112" y="135"/>
                  </a:lnTo>
                  <a:lnTo>
                    <a:pt x="7114" y="134"/>
                  </a:lnTo>
                  <a:lnTo>
                    <a:pt x="7115" y="132"/>
                  </a:lnTo>
                  <a:lnTo>
                    <a:pt x="7117" y="132"/>
                  </a:lnTo>
                  <a:lnTo>
                    <a:pt x="7118" y="132"/>
                  </a:lnTo>
                  <a:lnTo>
                    <a:pt x="7120" y="134"/>
                  </a:lnTo>
                  <a:lnTo>
                    <a:pt x="7134" y="144"/>
                  </a:lnTo>
                  <a:lnTo>
                    <a:pt x="7141" y="152"/>
                  </a:lnTo>
                  <a:lnTo>
                    <a:pt x="7143" y="154"/>
                  </a:lnTo>
                  <a:lnTo>
                    <a:pt x="7143" y="155"/>
                  </a:lnTo>
                  <a:lnTo>
                    <a:pt x="7143" y="157"/>
                  </a:lnTo>
                  <a:lnTo>
                    <a:pt x="7141" y="160"/>
                  </a:lnTo>
                  <a:lnTo>
                    <a:pt x="7140" y="160"/>
                  </a:lnTo>
                  <a:lnTo>
                    <a:pt x="7138" y="160"/>
                  </a:lnTo>
                  <a:lnTo>
                    <a:pt x="7137" y="160"/>
                  </a:lnTo>
                  <a:lnTo>
                    <a:pt x="7135" y="160"/>
                  </a:lnTo>
                  <a:lnTo>
                    <a:pt x="7135" y="160"/>
                  </a:lnTo>
                  <a:close/>
                  <a:moveTo>
                    <a:pt x="7084" y="117"/>
                  </a:moveTo>
                  <a:lnTo>
                    <a:pt x="7064" y="101"/>
                  </a:lnTo>
                  <a:lnTo>
                    <a:pt x="7061" y="100"/>
                  </a:lnTo>
                  <a:lnTo>
                    <a:pt x="7060" y="98"/>
                  </a:lnTo>
                  <a:lnTo>
                    <a:pt x="7058" y="97"/>
                  </a:lnTo>
                  <a:lnTo>
                    <a:pt x="7058" y="95"/>
                  </a:lnTo>
                  <a:lnTo>
                    <a:pt x="7060" y="94"/>
                  </a:lnTo>
                  <a:lnTo>
                    <a:pt x="7061" y="92"/>
                  </a:lnTo>
                  <a:lnTo>
                    <a:pt x="7063" y="91"/>
                  </a:lnTo>
                  <a:lnTo>
                    <a:pt x="7064" y="91"/>
                  </a:lnTo>
                  <a:lnTo>
                    <a:pt x="7066" y="92"/>
                  </a:lnTo>
                  <a:lnTo>
                    <a:pt x="7071" y="94"/>
                  </a:lnTo>
                  <a:lnTo>
                    <a:pt x="7091" y="109"/>
                  </a:lnTo>
                  <a:lnTo>
                    <a:pt x="7091" y="109"/>
                  </a:lnTo>
                  <a:lnTo>
                    <a:pt x="7092" y="112"/>
                  </a:lnTo>
                  <a:lnTo>
                    <a:pt x="7092" y="114"/>
                  </a:lnTo>
                  <a:lnTo>
                    <a:pt x="7091" y="115"/>
                  </a:lnTo>
                  <a:lnTo>
                    <a:pt x="7089" y="117"/>
                  </a:lnTo>
                  <a:lnTo>
                    <a:pt x="7088" y="117"/>
                  </a:lnTo>
                  <a:lnTo>
                    <a:pt x="7086" y="117"/>
                  </a:lnTo>
                  <a:lnTo>
                    <a:pt x="7084" y="117"/>
                  </a:lnTo>
                  <a:lnTo>
                    <a:pt x="7084" y="117"/>
                  </a:lnTo>
                  <a:close/>
                  <a:moveTo>
                    <a:pt x="7029" y="80"/>
                  </a:moveTo>
                  <a:lnTo>
                    <a:pt x="7020" y="75"/>
                  </a:lnTo>
                  <a:lnTo>
                    <a:pt x="7003" y="66"/>
                  </a:lnTo>
                  <a:lnTo>
                    <a:pt x="7001" y="66"/>
                  </a:lnTo>
                  <a:lnTo>
                    <a:pt x="7001" y="63"/>
                  </a:lnTo>
                  <a:lnTo>
                    <a:pt x="7000" y="61"/>
                  </a:lnTo>
                  <a:lnTo>
                    <a:pt x="7001" y="60"/>
                  </a:lnTo>
                  <a:lnTo>
                    <a:pt x="7003" y="58"/>
                  </a:lnTo>
                  <a:lnTo>
                    <a:pt x="7004" y="58"/>
                  </a:lnTo>
                  <a:lnTo>
                    <a:pt x="7006" y="57"/>
                  </a:lnTo>
                  <a:lnTo>
                    <a:pt x="7008" y="58"/>
                  </a:lnTo>
                  <a:lnTo>
                    <a:pt x="7024" y="66"/>
                  </a:lnTo>
                  <a:lnTo>
                    <a:pt x="7034" y="72"/>
                  </a:lnTo>
                  <a:lnTo>
                    <a:pt x="7034" y="72"/>
                  </a:lnTo>
                  <a:lnTo>
                    <a:pt x="7035" y="74"/>
                  </a:lnTo>
                  <a:lnTo>
                    <a:pt x="7035" y="77"/>
                  </a:lnTo>
                  <a:lnTo>
                    <a:pt x="7035" y="78"/>
                  </a:lnTo>
                  <a:lnTo>
                    <a:pt x="7034" y="80"/>
                  </a:lnTo>
                  <a:lnTo>
                    <a:pt x="7032" y="80"/>
                  </a:lnTo>
                  <a:lnTo>
                    <a:pt x="7031" y="80"/>
                  </a:lnTo>
                  <a:lnTo>
                    <a:pt x="7029" y="80"/>
                  </a:lnTo>
                  <a:lnTo>
                    <a:pt x="7029" y="80"/>
                  </a:lnTo>
                  <a:close/>
                  <a:moveTo>
                    <a:pt x="6969" y="51"/>
                  </a:moveTo>
                  <a:lnTo>
                    <a:pt x="6946" y="42"/>
                  </a:lnTo>
                  <a:lnTo>
                    <a:pt x="6941" y="40"/>
                  </a:lnTo>
                  <a:lnTo>
                    <a:pt x="6940" y="40"/>
                  </a:lnTo>
                  <a:lnTo>
                    <a:pt x="6940" y="38"/>
                  </a:lnTo>
                  <a:lnTo>
                    <a:pt x="6938" y="37"/>
                  </a:lnTo>
                  <a:lnTo>
                    <a:pt x="6938" y="34"/>
                  </a:lnTo>
                  <a:lnTo>
                    <a:pt x="6940" y="32"/>
                  </a:lnTo>
                  <a:lnTo>
                    <a:pt x="6941" y="32"/>
                  </a:lnTo>
                  <a:lnTo>
                    <a:pt x="6943" y="31"/>
                  </a:lnTo>
                  <a:lnTo>
                    <a:pt x="6944" y="31"/>
                  </a:lnTo>
                  <a:lnTo>
                    <a:pt x="6951" y="34"/>
                  </a:lnTo>
                  <a:lnTo>
                    <a:pt x="6972" y="42"/>
                  </a:lnTo>
                  <a:lnTo>
                    <a:pt x="6974" y="43"/>
                  </a:lnTo>
                  <a:lnTo>
                    <a:pt x="6975" y="45"/>
                  </a:lnTo>
                  <a:lnTo>
                    <a:pt x="6975" y="46"/>
                  </a:lnTo>
                  <a:lnTo>
                    <a:pt x="6975" y="48"/>
                  </a:lnTo>
                  <a:lnTo>
                    <a:pt x="6974" y="49"/>
                  </a:lnTo>
                  <a:lnTo>
                    <a:pt x="6972" y="51"/>
                  </a:lnTo>
                  <a:lnTo>
                    <a:pt x="6971" y="51"/>
                  </a:lnTo>
                  <a:lnTo>
                    <a:pt x="6969" y="51"/>
                  </a:lnTo>
                  <a:lnTo>
                    <a:pt x="6969" y="51"/>
                  </a:lnTo>
                  <a:close/>
                  <a:moveTo>
                    <a:pt x="6906" y="29"/>
                  </a:moveTo>
                  <a:lnTo>
                    <a:pt x="6895" y="26"/>
                  </a:lnTo>
                  <a:lnTo>
                    <a:pt x="6878" y="22"/>
                  </a:lnTo>
                  <a:lnTo>
                    <a:pt x="6875" y="22"/>
                  </a:lnTo>
                  <a:lnTo>
                    <a:pt x="6875" y="20"/>
                  </a:lnTo>
                  <a:lnTo>
                    <a:pt x="6874" y="18"/>
                  </a:lnTo>
                  <a:lnTo>
                    <a:pt x="6874" y="17"/>
                  </a:lnTo>
                  <a:lnTo>
                    <a:pt x="6875" y="14"/>
                  </a:lnTo>
                  <a:lnTo>
                    <a:pt x="6877" y="14"/>
                  </a:lnTo>
                  <a:lnTo>
                    <a:pt x="6878" y="12"/>
                  </a:lnTo>
                  <a:lnTo>
                    <a:pt x="6880" y="12"/>
                  </a:lnTo>
                  <a:lnTo>
                    <a:pt x="6898" y="17"/>
                  </a:lnTo>
                  <a:lnTo>
                    <a:pt x="6908" y="20"/>
                  </a:lnTo>
                  <a:lnTo>
                    <a:pt x="6909" y="20"/>
                  </a:lnTo>
                  <a:lnTo>
                    <a:pt x="6911" y="22"/>
                  </a:lnTo>
                  <a:lnTo>
                    <a:pt x="6912" y="23"/>
                  </a:lnTo>
                  <a:lnTo>
                    <a:pt x="6912" y="26"/>
                  </a:lnTo>
                  <a:lnTo>
                    <a:pt x="6911" y="28"/>
                  </a:lnTo>
                  <a:lnTo>
                    <a:pt x="6909" y="29"/>
                  </a:lnTo>
                  <a:lnTo>
                    <a:pt x="6908" y="29"/>
                  </a:lnTo>
                  <a:lnTo>
                    <a:pt x="6906" y="29"/>
                  </a:lnTo>
                  <a:lnTo>
                    <a:pt x="6906" y="29"/>
                  </a:lnTo>
                  <a:close/>
                  <a:moveTo>
                    <a:pt x="6840" y="15"/>
                  </a:moveTo>
                  <a:lnTo>
                    <a:pt x="6815" y="12"/>
                  </a:lnTo>
                  <a:lnTo>
                    <a:pt x="6812" y="12"/>
                  </a:lnTo>
                  <a:lnTo>
                    <a:pt x="6811" y="11"/>
                  </a:lnTo>
                  <a:lnTo>
                    <a:pt x="6809" y="9"/>
                  </a:lnTo>
                  <a:lnTo>
                    <a:pt x="6808" y="8"/>
                  </a:lnTo>
                  <a:lnTo>
                    <a:pt x="6808" y="6"/>
                  </a:lnTo>
                  <a:lnTo>
                    <a:pt x="6808" y="5"/>
                  </a:lnTo>
                  <a:lnTo>
                    <a:pt x="6809" y="3"/>
                  </a:lnTo>
                  <a:lnTo>
                    <a:pt x="6811" y="2"/>
                  </a:lnTo>
                  <a:lnTo>
                    <a:pt x="6812" y="2"/>
                  </a:lnTo>
                  <a:lnTo>
                    <a:pt x="6815" y="3"/>
                  </a:lnTo>
                  <a:lnTo>
                    <a:pt x="6841" y="6"/>
                  </a:lnTo>
                  <a:lnTo>
                    <a:pt x="6843" y="6"/>
                  </a:lnTo>
                  <a:lnTo>
                    <a:pt x="6844" y="8"/>
                  </a:lnTo>
                  <a:lnTo>
                    <a:pt x="6846" y="9"/>
                  </a:lnTo>
                  <a:lnTo>
                    <a:pt x="6846" y="11"/>
                  </a:lnTo>
                  <a:lnTo>
                    <a:pt x="6844" y="12"/>
                  </a:lnTo>
                  <a:lnTo>
                    <a:pt x="6844" y="14"/>
                  </a:lnTo>
                  <a:lnTo>
                    <a:pt x="6843" y="15"/>
                  </a:lnTo>
                  <a:lnTo>
                    <a:pt x="6840" y="15"/>
                  </a:lnTo>
                  <a:lnTo>
                    <a:pt x="6840" y="15"/>
                  </a:lnTo>
                  <a:close/>
                  <a:moveTo>
                    <a:pt x="6774" y="9"/>
                  </a:moveTo>
                  <a:lnTo>
                    <a:pt x="6758" y="9"/>
                  </a:lnTo>
                  <a:lnTo>
                    <a:pt x="6757" y="9"/>
                  </a:lnTo>
                  <a:lnTo>
                    <a:pt x="6755" y="8"/>
                  </a:lnTo>
                  <a:lnTo>
                    <a:pt x="6754" y="6"/>
                  </a:lnTo>
                  <a:lnTo>
                    <a:pt x="6754" y="5"/>
                  </a:lnTo>
                  <a:lnTo>
                    <a:pt x="6755" y="2"/>
                  </a:lnTo>
                  <a:lnTo>
                    <a:pt x="6755" y="0"/>
                  </a:lnTo>
                  <a:lnTo>
                    <a:pt x="6757" y="0"/>
                  </a:lnTo>
                  <a:lnTo>
                    <a:pt x="6760" y="0"/>
                  </a:lnTo>
                  <a:lnTo>
                    <a:pt x="6774" y="0"/>
                  </a:lnTo>
                  <a:lnTo>
                    <a:pt x="6775" y="0"/>
                  </a:lnTo>
                  <a:lnTo>
                    <a:pt x="6777" y="2"/>
                  </a:lnTo>
                  <a:lnTo>
                    <a:pt x="6778" y="3"/>
                  </a:lnTo>
                  <a:lnTo>
                    <a:pt x="6778" y="5"/>
                  </a:lnTo>
                  <a:lnTo>
                    <a:pt x="6778" y="6"/>
                  </a:lnTo>
                  <a:lnTo>
                    <a:pt x="6777" y="8"/>
                  </a:lnTo>
                  <a:lnTo>
                    <a:pt x="6775" y="9"/>
                  </a:lnTo>
                  <a:lnTo>
                    <a:pt x="6774" y="9"/>
                  </a:lnTo>
                  <a:lnTo>
                    <a:pt x="6774"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6150600" y="5781600"/>
              <a:ext cx="1154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System characteristics</a:t>
              </a:r>
              <a:endParaRPr b="0" lang="en-US" sz="1100" spc="-1" strike="noStrike">
                <a:solidFill>
                  <a:srgbClr val="000000"/>
                </a:solidFill>
                <a:latin typeface="Arial"/>
              </a:endParaRPr>
            </a:p>
          </p:txBody>
        </p:sp>
      </p:grpSp>
      <p:sp>
        <p:nvSpPr>
          <p:cNvPr id="4" name="PlaceHolder 3"/>
          <p:cNvSpPr>
            <a:spLocks noGrp="1"/>
          </p:cNvSpPr>
          <p:nvPr>
            <p:ph type="sldNum" idx="3"/>
          </p:nvPr>
        </p:nvSpPr>
        <p:spPr/>
        <p:txBody>
          <a:bodyPr/>
          <a:p>
            <a:fld id="{ABF0FE2A-E407-4187-8648-F9A2C829C3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cc"/>
                </a:solidFill>
                <a:latin typeface="Arial"/>
              </a:rPr>
              <a:t>Pesticides fate analysis</a:t>
            </a:r>
            <a:endParaRPr b="0" lang="en-US" sz="3800" spc="-1" strike="noStrike">
              <a:solidFill>
                <a:srgbClr val="0000cc"/>
              </a:solidFill>
              <a:latin typeface="Arial"/>
            </a:endParaRPr>
          </a:p>
        </p:txBody>
      </p:sp>
      <p:sp>
        <p:nvSpPr>
          <p:cNvPr id="1474" name="PlaceHolder 2"/>
          <p:cNvSpPr>
            <a:spLocks noGrp="1"/>
          </p:cNvSpPr>
          <p:nvPr>
            <p:ph/>
          </p:nvPr>
        </p:nvSpPr>
        <p:spPr>
          <a:xfrm>
            <a:off x="1258920" y="1827360"/>
            <a:ext cx="7424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difference between pesticides and other pollutants: pesticides are directly applied in the biosphere in order to control some life forma, while the seconds reach the environment indirectly. </a:t>
            </a:r>
            <a:endParaRPr b="0" lang="en-US" sz="2000" spc="-1" strike="noStrike">
              <a:solidFill>
                <a:srgbClr val="000000"/>
              </a:solidFill>
              <a:latin typeface="Verdana"/>
            </a:endParaRPr>
          </a:p>
          <a:p>
            <a:pPr marL="343080" indent="-343080">
              <a:lnSpc>
                <a:spcPct val="8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tors affecting pesticide fate: </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 dose and system</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port: substance type, climatology, plant morphology, area of aquatic and terrestrial surfaces</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te: physic-chemical characteristics of the pesticide and degradability, soil properties, and microorganism metabolism</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ition: the impact will be determined by the number of individuals exposed</a:t>
            </a:r>
            <a:endParaRPr b="0" lang="en-US" sz="2000" spc="-1" strike="noStrike">
              <a:solidFill>
                <a:srgbClr val="000000"/>
              </a:solidFill>
              <a:latin typeface="Verdana"/>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 sensibility of the exposed popula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D649DB0-0326-420E-81D7-838BB65724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cc"/>
                </a:solidFill>
                <a:latin typeface="Arial"/>
              </a:rPr>
              <a:t>Impact assessment</a:t>
            </a:r>
            <a:endParaRPr b="0" lang="en-US" sz="4000" spc="-1" strike="noStrike">
              <a:solidFill>
                <a:srgbClr val="0000cc"/>
              </a:solidFill>
              <a:latin typeface="Arial"/>
            </a:endParaRPr>
          </a:p>
        </p:txBody>
      </p:sp>
      <p:sp>
        <p:nvSpPr>
          <p:cNvPr id="1476"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ED668F23-306E-4E96-8722-859025B885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Land use</a:t>
            </a:r>
            <a:endParaRPr b="0" lang="en-US" sz="3600" spc="-1" strike="noStrike">
              <a:solidFill>
                <a:srgbClr val="0000cc"/>
              </a:solidFill>
              <a:latin typeface="Arial"/>
            </a:endParaRPr>
          </a:p>
        </p:txBody>
      </p:sp>
      <p:sp>
        <p:nvSpPr>
          <p:cNvPr id="1478" name="PlaceHolder 2"/>
          <p:cNvSpPr>
            <a:spLocks noGrp="1"/>
          </p:cNvSpPr>
          <p:nvPr>
            <p:ph/>
          </p:nvPr>
        </p:nvSpPr>
        <p:spPr>
          <a:xfrm>
            <a:off x="1042560" y="1827360"/>
            <a:ext cx="7777080" cy="448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til now the area occupied by a system (e.g. ha·year) has been considered as an indicator of “land use”.</a:t>
            </a:r>
            <a:endParaRPr b="0" lang="en-US" sz="2000" spc="-1" strike="noStrike">
              <a:solidFill>
                <a:srgbClr val="000000"/>
              </a:solidFill>
              <a:latin typeface="Verdana"/>
            </a:endParaRPr>
          </a:p>
          <a:p>
            <a:pPr marL="343080" indent="-3430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studies show the importance of defining soil quality indicators taking into account: </a:t>
            </a:r>
            <a:endParaRPr b="0" lang="en-US" sz="2000" spc="-1" strike="noStrike">
              <a:solidFill>
                <a:srgbClr val="000000"/>
              </a:solidFill>
              <a:latin typeface="Verdana"/>
            </a:endParaRPr>
          </a:p>
          <a:p>
            <a:pPr lvl="1" marL="743040" indent="-285840">
              <a:lnSpc>
                <a:spcPct val="9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decrease of soil quality (yield, organic matter content, salinization, erosion,...)</a:t>
            </a:r>
            <a:endParaRPr b="0" lang="en-US" sz="1900" spc="-1" strike="noStrike">
              <a:solidFill>
                <a:srgbClr val="000000"/>
              </a:solidFill>
              <a:latin typeface="Verdana"/>
            </a:endParaRPr>
          </a:p>
          <a:p>
            <a:pPr lvl="1" marL="743040" indent="-285840">
              <a:lnSpc>
                <a:spcPct val="9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Effects on biodiversity</a:t>
            </a:r>
            <a:endParaRPr b="0" lang="en-US" sz="1900" spc="-1" strike="noStrike">
              <a:solidFill>
                <a:srgbClr val="000000"/>
              </a:solidFill>
              <a:latin typeface="Verdana"/>
            </a:endParaRPr>
          </a:p>
          <a:p>
            <a:pPr marL="343080" indent="-3430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is no an internationally accepted indicator for this impact category. </a:t>
            </a:r>
            <a:endParaRPr b="0" lang="en-US" sz="2000" spc="-1" strike="noStrike">
              <a:solidFill>
                <a:srgbClr val="000000"/>
              </a:solidFill>
              <a:latin typeface="Verdana"/>
            </a:endParaRPr>
          </a:p>
          <a:p>
            <a:pPr marL="343080" indent="-343080">
              <a:lnSpc>
                <a:spcPct val="90000"/>
              </a:lnSpc>
              <a:spcBef>
                <a:spcPts val="499"/>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s one of the key aspects of the working group of the </a:t>
            </a:r>
            <a:r>
              <a:rPr b="0" i="1" lang="en-GB" sz="2000" spc="-1" strike="noStrike">
                <a:solidFill>
                  <a:srgbClr val="000000"/>
                </a:solidFill>
                <a:latin typeface="Verdana"/>
              </a:rPr>
              <a:t>Life Cycle Iniciative</a:t>
            </a:r>
            <a:r>
              <a:rPr b="0" lang="en-GB" sz="2000" spc="-1" strike="noStrike">
                <a:solidFill>
                  <a:srgbClr val="000000"/>
                </a:solidFill>
                <a:latin typeface="Verdana"/>
              </a:rPr>
              <a:t> (UNEP-SETAC) about Impact Assessments together with water consumption. More information in:  </a:t>
            </a:r>
            <a:r>
              <a:rPr b="0" lang="en-GB" sz="2000" spc="-1" strike="noStrike" u="sng">
                <a:solidFill>
                  <a:srgbClr val="ff0000"/>
                </a:solidFill>
                <a:uFillTx/>
                <a:latin typeface="Verdana"/>
                <a:hlinkClick r:id="rId1"/>
              </a:rPr>
              <a:t>http://</a:t>
            </a:r>
            <a:r>
              <a:rPr b="0" lang="en-GB" sz="2000" spc="-1" strike="noStrike" u="sng">
                <a:solidFill>
                  <a:srgbClr val="ff0000"/>
                </a:solidFill>
                <a:uFillTx/>
                <a:latin typeface="Verdana"/>
                <a:hlinkClick r:id="rId2"/>
              </a:rPr>
              <a:t>unep.greenriver.org/init/LCA/resources.html</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A713813-98E3-4EB2-98B3-5A92719A11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Water use</a:t>
            </a:r>
            <a:endParaRPr b="0" lang="en-US" sz="3600" spc="-1" strike="noStrike">
              <a:solidFill>
                <a:srgbClr val="0000cc"/>
              </a:solidFill>
              <a:latin typeface="Arial"/>
            </a:endParaRPr>
          </a:p>
        </p:txBody>
      </p:sp>
      <p:sp>
        <p:nvSpPr>
          <p:cNvPr id="1480" name="PlaceHolder 2"/>
          <p:cNvSpPr>
            <a:spLocks noGrp="1"/>
          </p:cNvSpPr>
          <p:nvPr>
            <p:ph/>
          </p:nvPr>
        </p:nvSpPr>
        <p:spPr>
          <a:xfrm>
            <a:off x="1187280" y="1827000"/>
            <a:ext cx="7561440" cy="4554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Use of water may be considered as a resource depletion and/or disturbance impact</a:t>
            </a:r>
            <a:endParaRPr b="0" lang="en-US" sz="2200" spc="-1" strike="noStrike">
              <a:solidFill>
                <a:srgbClr val="000000"/>
              </a:solidFill>
              <a:latin typeface="Verdana"/>
            </a:endParaRPr>
          </a:p>
          <a:p>
            <a:pPr marL="343080" indent="-343080">
              <a:lnSpc>
                <a:spcPct val="8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As a resource issue, relevant aspects for consideration are: </a:t>
            </a:r>
            <a:endParaRPr b="0" lang="en-US" sz="2200" spc="-1" strike="noStrike">
              <a:solidFill>
                <a:srgbClr val="000000"/>
              </a:solidFill>
              <a:latin typeface="Verdana"/>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otal use of water</a:t>
            </a:r>
            <a:endParaRPr b="0" lang="en-US" sz="2200" spc="-1" strike="noStrike">
              <a:solidFill>
                <a:srgbClr val="000000"/>
              </a:solidFill>
              <a:latin typeface="Verdana"/>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Use of surface water versus groundwater</a:t>
            </a:r>
            <a:endParaRPr b="0" lang="en-US" sz="2200" spc="-1" strike="noStrike">
              <a:solidFill>
                <a:srgbClr val="000000"/>
              </a:solidFill>
              <a:latin typeface="Verdana"/>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emporary versus permanent removal of water from sources</a:t>
            </a:r>
            <a:endParaRPr b="0" lang="en-US" sz="2200" spc="-1" strike="noStrike">
              <a:solidFill>
                <a:srgbClr val="000000"/>
              </a:solidFill>
              <a:latin typeface="Verdana"/>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Use of water taken from the environment versus use of recycled water</a:t>
            </a:r>
            <a:endParaRPr b="0" lang="en-US" sz="2200" spc="-1" strike="noStrike">
              <a:solidFill>
                <a:srgbClr val="000000"/>
              </a:solidFill>
              <a:latin typeface="Verdana"/>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otal use of water in relation to water supplies in particular regions</a:t>
            </a:r>
            <a:endParaRPr b="0" lang="en-US" sz="2200" spc="-1" strike="noStrike">
              <a:solidFill>
                <a:srgbClr val="000000"/>
              </a:solidFill>
              <a:latin typeface="Verdana"/>
            </a:endParaRPr>
          </a:p>
          <a:p>
            <a:pPr marL="343080" indent="-343080">
              <a:lnSpc>
                <a:spcPct val="8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As a disturbance impact, “harmful” use of water is assessed as use that causes desiccation.</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24A60ED9-FABE-4777-9660-E43290682C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What is Life Cycle Assessment?</a:t>
            </a:r>
            <a:endParaRPr b="0" lang="en-US" sz="3600" spc="-1" strike="noStrike">
              <a:solidFill>
                <a:srgbClr val="0000cc"/>
              </a:solidFill>
              <a:latin typeface="Arial"/>
            </a:endParaRPr>
          </a:p>
        </p:txBody>
      </p:sp>
      <p:sp>
        <p:nvSpPr>
          <p:cNvPr id="100" name="PlaceHolder 2"/>
          <p:cNvSpPr>
            <a:spLocks noGrp="1"/>
          </p:cNvSpPr>
          <p:nvPr>
            <p:ph/>
          </p:nvPr>
        </p:nvSpPr>
        <p:spPr>
          <a:xfrm>
            <a:off x="1369800" y="2060640"/>
            <a:ext cx="7313400" cy="388152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CA is a method for analysing and assessing the environmental loadings and effects caused by a product, process or service throughout its life cycle or lifetime</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B6B74160-699D-4D28-9DB4-D429959A5B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Pesticides exposition and toxic effects </a:t>
            </a:r>
            <a:endParaRPr b="0" lang="en-US" sz="3200" spc="-1" strike="noStrike">
              <a:solidFill>
                <a:srgbClr val="0000cc"/>
              </a:solidFill>
              <a:latin typeface="Arial"/>
            </a:endParaRPr>
          </a:p>
        </p:txBody>
      </p:sp>
      <p:sp>
        <p:nvSpPr>
          <p:cNvPr id="14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ifferent methods have been proposed in LCA for the calculation of potential toxicity of substances.</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Most of them does not take into account the toxicity caused by food ingestion and do not include many authorized pesticides.</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most known methods: Critical Surface Time (CST) (Jolliet, 1996), USES-LCA (Huigbregts </a:t>
            </a:r>
            <a:r>
              <a:rPr b="0" i="1" lang="en-GB" sz="2200" spc="-1" strike="noStrike">
                <a:solidFill>
                  <a:srgbClr val="000000"/>
                </a:solidFill>
                <a:latin typeface="Verdana"/>
              </a:rPr>
              <a:t>et al</a:t>
            </a:r>
            <a:r>
              <a:rPr b="0" lang="en-GB" sz="2200" spc="-1" strike="noStrike">
                <a:solidFill>
                  <a:srgbClr val="000000"/>
                </a:solidFill>
                <a:latin typeface="Verdana"/>
              </a:rPr>
              <a:t>., 2000), IMPACT 2002+ (Jolliet </a:t>
            </a:r>
            <a:r>
              <a:rPr b="0" i="1" lang="en-GB" sz="2200" spc="-1" strike="noStrike">
                <a:solidFill>
                  <a:srgbClr val="000000"/>
                </a:solidFill>
                <a:latin typeface="Verdana"/>
              </a:rPr>
              <a:t>et al</a:t>
            </a:r>
            <a:r>
              <a:rPr b="0" lang="en-GB" sz="2200" spc="-1" strike="noStrike">
                <a:solidFill>
                  <a:srgbClr val="000000"/>
                </a:solidFill>
                <a:latin typeface="Verdana"/>
              </a:rPr>
              <a:t>., 2002)</a:t>
            </a:r>
            <a:endParaRPr b="0" lang="en-US" sz="2200" spc="-1" strike="noStrike">
              <a:solidFill>
                <a:srgbClr val="000000"/>
              </a:solidFill>
              <a:latin typeface="Verdana"/>
            </a:endParaRPr>
          </a:p>
          <a:p>
            <a:pPr marL="343080" indent="-343080">
              <a:lnSpc>
                <a:spcPct val="90000"/>
              </a:lnSpc>
              <a:spcBef>
                <a:spcPts val="55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webpage of the european project OMNIITOX (</a:t>
            </a:r>
            <a:r>
              <a:rPr b="0" lang="en-GB" sz="2200" spc="-1" strike="noStrike" u="sng">
                <a:solidFill>
                  <a:srgbClr val="ff0000"/>
                </a:solidFill>
                <a:uFillTx/>
                <a:latin typeface="Verdana"/>
                <a:hlinkClick r:id="rId1"/>
              </a:rPr>
              <a:t>www.omniitox.net</a:t>
            </a:r>
            <a:r>
              <a:rPr b="0" lang="en-GB" sz="2200" spc="-1" strike="noStrike">
                <a:solidFill>
                  <a:srgbClr val="000000"/>
                </a:solidFill>
                <a:latin typeface="Verdana"/>
              </a:rPr>
              <a:t>) presents the nowadays situation of toxicity analysis in LCA, including local factors. </a:t>
            </a: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AE858D18-EBA0-463B-8914-BFB0B84126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Livestock welfare</a:t>
            </a:r>
            <a:endParaRPr b="0" lang="en-US" sz="3600" spc="-1" strike="noStrike">
              <a:solidFill>
                <a:srgbClr val="0000cc"/>
              </a:solidFill>
              <a:latin typeface="Arial"/>
            </a:endParaRPr>
          </a:p>
        </p:txBody>
      </p:sp>
      <p:sp>
        <p:nvSpPr>
          <p:cNvPr id="148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lthough welfare of livestock should be an important issue in decision-making, it is debatable whether it should be included as an impact category in LCA. </a:t>
            </a:r>
            <a:endParaRPr b="0" lang="en-US" sz="2500" spc="-1" strike="noStrike">
              <a:solidFill>
                <a:srgbClr val="000000"/>
              </a:solidFill>
              <a:latin typeface="Verdana"/>
            </a:endParaRPr>
          </a:p>
          <a:p>
            <a:pPr marL="343080" indent="-343080">
              <a:lnSpc>
                <a:spcPct val="9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debate concerns whether animal welfare is regarded as environmental issue or not according to interpretation of that term in LCA. </a:t>
            </a:r>
            <a:endParaRPr b="0" lang="en-US" sz="2500" spc="-1" strike="noStrike">
              <a:solidFill>
                <a:srgbClr val="000000"/>
              </a:solidFill>
              <a:latin typeface="Verdana"/>
            </a:endParaRPr>
          </a:p>
          <a:p>
            <a:pPr marL="343080" indent="-343080">
              <a:lnSpc>
                <a:spcPct val="9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Flagging up this aspect in a qualitative way during the Interpretation phase may be sufficien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0EE122BA-84DA-471F-8E3F-E1FA6026F69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262640" y="2457360"/>
            <a:ext cx="819360" cy="31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214040" y="251604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Packaging</a:t>
            </a:r>
            <a:endParaRPr b="0" lang="en-US" sz="1200" spc="-1" strike="noStrike">
              <a:solidFill>
                <a:srgbClr val="000000"/>
              </a:solidFill>
              <a:latin typeface="Arial"/>
            </a:endParaRPr>
          </a:p>
        </p:txBody>
      </p:sp>
      <p:grpSp>
        <p:nvGrpSpPr>
          <p:cNvPr id="103" name=""/>
          <p:cNvGrpSpPr/>
          <p:nvPr/>
        </p:nvGrpSpPr>
        <p:grpSpPr>
          <a:xfrm>
            <a:off x="1776240" y="1374840"/>
            <a:ext cx="5607000" cy="3975120"/>
            <a:chOff x="1776240" y="1374840"/>
            <a:chExt cx="5607000" cy="3975120"/>
          </a:xfrm>
        </p:grpSpPr>
        <p:grpSp>
          <p:nvGrpSpPr>
            <p:cNvPr id="104" name=""/>
            <p:cNvGrpSpPr/>
            <p:nvPr/>
          </p:nvGrpSpPr>
          <p:grpSpPr>
            <a:xfrm>
              <a:off x="1776240" y="1506600"/>
              <a:ext cx="5434200" cy="3684600"/>
              <a:chOff x="1776240" y="1506600"/>
              <a:chExt cx="5434200" cy="3684600"/>
            </a:xfrm>
          </p:grpSpPr>
          <p:sp>
            <p:nvSpPr>
              <p:cNvPr id="105" name=""/>
              <p:cNvSpPr/>
              <p:nvPr/>
            </p:nvSpPr>
            <p:spPr>
              <a:xfrm>
                <a:off x="1776240" y="2986200"/>
                <a:ext cx="2068560" cy="2035080"/>
              </a:xfrm>
              <a:custGeom>
                <a:avLst/>
                <a:gdLst/>
                <a:ahLst/>
                <a:rect l="l" t="t" r="r" b="b"/>
                <a:pathLst>
                  <a:path w="1303" h="1282">
                    <a:moveTo>
                      <a:pt x="1179" y="1278"/>
                    </a:moveTo>
                    <a:lnTo>
                      <a:pt x="1206" y="1282"/>
                    </a:lnTo>
                    <a:lnTo>
                      <a:pt x="1303" y="1112"/>
                    </a:lnTo>
                    <a:lnTo>
                      <a:pt x="1276" y="1104"/>
                    </a:lnTo>
                    <a:lnTo>
                      <a:pt x="1255" y="1100"/>
                    </a:lnTo>
                    <a:lnTo>
                      <a:pt x="1234" y="1094"/>
                    </a:lnTo>
                    <a:lnTo>
                      <a:pt x="1206" y="1088"/>
                    </a:lnTo>
                    <a:lnTo>
                      <a:pt x="1182" y="1081"/>
                    </a:lnTo>
                    <a:lnTo>
                      <a:pt x="1158" y="1074"/>
                    </a:lnTo>
                    <a:lnTo>
                      <a:pt x="1138" y="1068"/>
                    </a:lnTo>
                    <a:lnTo>
                      <a:pt x="1112" y="1060"/>
                    </a:lnTo>
                    <a:lnTo>
                      <a:pt x="1091" y="1053"/>
                    </a:lnTo>
                    <a:lnTo>
                      <a:pt x="1067" y="1044"/>
                    </a:lnTo>
                    <a:lnTo>
                      <a:pt x="1044" y="1036"/>
                    </a:lnTo>
                    <a:lnTo>
                      <a:pt x="1022" y="1026"/>
                    </a:lnTo>
                    <a:lnTo>
                      <a:pt x="1001" y="1018"/>
                    </a:lnTo>
                    <a:lnTo>
                      <a:pt x="983" y="1010"/>
                    </a:lnTo>
                    <a:lnTo>
                      <a:pt x="967" y="1002"/>
                    </a:lnTo>
                    <a:lnTo>
                      <a:pt x="946" y="993"/>
                    </a:lnTo>
                    <a:lnTo>
                      <a:pt x="926" y="983"/>
                    </a:lnTo>
                    <a:lnTo>
                      <a:pt x="905" y="973"/>
                    </a:lnTo>
                    <a:lnTo>
                      <a:pt x="886" y="963"/>
                    </a:lnTo>
                    <a:lnTo>
                      <a:pt x="871" y="956"/>
                    </a:lnTo>
                    <a:lnTo>
                      <a:pt x="855" y="947"/>
                    </a:lnTo>
                    <a:lnTo>
                      <a:pt x="833" y="935"/>
                    </a:lnTo>
                    <a:lnTo>
                      <a:pt x="812" y="922"/>
                    </a:lnTo>
                    <a:lnTo>
                      <a:pt x="784" y="906"/>
                    </a:lnTo>
                    <a:lnTo>
                      <a:pt x="760" y="891"/>
                    </a:lnTo>
                    <a:lnTo>
                      <a:pt x="734" y="874"/>
                    </a:lnTo>
                    <a:lnTo>
                      <a:pt x="710" y="857"/>
                    </a:lnTo>
                    <a:lnTo>
                      <a:pt x="685" y="837"/>
                    </a:lnTo>
                    <a:lnTo>
                      <a:pt x="666" y="822"/>
                    </a:lnTo>
                    <a:lnTo>
                      <a:pt x="647" y="805"/>
                    </a:lnTo>
                    <a:lnTo>
                      <a:pt x="626" y="786"/>
                    </a:lnTo>
                    <a:lnTo>
                      <a:pt x="603" y="765"/>
                    </a:lnTo>
                    <a:lnTo>
                      <a:pt x="580" y="743"/>
                    </a:lnTo>
                    <a:lnTo>
                      <a:pt x="561" y="723"/>
                    </a:lnTo>
                    <a:lnTo>
                      <a:pt x="540" y="699"/>
                    </a:lnTo>
                    <a:lnTo>
                      <a:pt x="519" y="675"/>
                    </a:lnTo>
                    <a:lnTo>
                      <a:pt x="503" y="651"/>
                    </a:lnTo>
                    <a:lnTo>
                      <a:pt x="487" y="629"/>
                    </a:lnTo>
                    <a:lnTo>
                      <a:pt x="472" y="608"/>
                    </a:lnTo>
                    <a:lnTo>
                      <a:pt x="459" y="588"/>
                    </a:lnTo>
                    <a:lnTo>
                      <a:pt x="444" y="565"/>
                    </a:lnTo>
                    <a:lnTo>
                      <a:pt x="433" y="542"/>
                    </a:lnTo>
                    <a:lnTo>
                      <a:pt x="422" y="520"/>
                    </a:lnTo>
                    <a:lnTo>
                      <a:pt x="411" y="496"/>
                    </a:lnTo>
                    <a:lnTo>
                      <a:pt x="401" y="475"/>
                    </a:lnTo>
                    <a:lnTo>
                      <a:pt x="391" y="449"/>
                    </a:lnTo>
                    <a:lnTo>
                      <a:pt x="381" y="423"/>
                    </a:lnTo>
                    <a:lnTo>
                      <a:pt x="373" y="398"/>
                    </a:lnTo>
                    <a:lnTo>
                      <a:pt x="367" y="371"/>
                    </a:lnTo>
                    <a:lnTo>
                      <a:pt x="360" y="343"/>
                    </a:lnTo>
                    <a:lnTo>
                      <a:pt x="357" y="319"/>
                    </a:lnTo>
                    <a:lnTo>
                      <a:pt x="354" y="293"/>
                    </a:lnTo>
                    <a:lnTo>
                      <a:pt x="352" y="263"/>
                    </a:lnTo>
                    <a:lnTo>
                      <a:pt x="352" y="239"/>
                    </a:lnTo>
                    <a:lnTo>
                      <a:pt x="352" y="209"/>
                    </a:lnTo>
                    <a:lnTo>
                      <a:pt x="444" y="209"/>
                    </a:lnTo>
                    <a:lnTo>
                      <a:pt x="231" y="0"/>
                    </a:lnTo>
                    <a:lnTo>
                      <a:pt x="0" y="209"/>
                    </a:lnTo>
                    <a:lnTo>
                      <a:pt x="87" y="209"/>
                    </a:lnTo>
                    <a:lnTo>
                      <a:pt x="87" y="242"/>
                    </a:lnTo>
                    <a:lnTo>
                      <a:pt x="89" y="272"/>
                    </a:lnTo>
                    <a:lnTo>
                      <a:pt x="92" y="303"/>
                    </a:lnTo>
                    <a:lnTo>
                      <a:pt x="95" y="331"/>
                    </a:lnTo>
                    <a:lnTo>
                      <a:pt x="98" y="358"/>
                    </a:lnTo>
                    <a:lnTo>
                      <a:pt x="103" y="383"/>
                    </a:lnTo>
                    <a:lnTo>
                      <a:pt x="110" y="411"/>
                    </a:lnTo>
                    <a:lnTo>
                      <a:pt x="116" y="436"/>
                    </a:lnTo>
                    <a:lnTo>
                      <a:pt x="123" y="459"/>
                    </a:lnTo>
                    <a:lnTo>
                      <a:pt x="131" y="485"/>
                    </a:lnTo>
                    <a:lnTo>
                      <a:pt x="142" y="517"/>
                    </a:lnTo>
                    <a:lnTo>
                      <a:pt x="152" y="541"/>
                    </a:lnTo>
                    <a:lnTo>
                      <a:pt x="163" y="566"/>
                    </a:lnTo>
                    <a:lnTo>
                      <a:pt x="174" y="589"/>
                    </a:lnTo>
                    <a:lnTo>
                      <a:pt x="189" y="617"/>
                    </a:lnTo>
                    <a:lnTo>
                      <a:pt x="204" y="643"/>
                    </a:lnTo>
                    <a:lnTo>
                      <a:pt x="218" y="666"/>
                    </a:lnTo>
                    <a:lnTo>
                      <a:pt x="233" y="689"/>
                    </a:lnTo>
                    <a:lnTo>
                      <a:pt x="252" y="716"/>
                    </a:lnTo>
                    <a:lnTo>
                      <a:pt x="270" y="740"/>
                    </a:lnTo>
                    <a:lnTo>
                      <a:pt x="288" y="764"/>
                    </a:lnTo>
                    <a:lnTo>
                      <a:pt x="305" y="786"/>
                    </a:lnTo>
                    <a:lnTo>
                      <a:pt x="323" y="807"/>
                    </a:lnTo>
                    <a:lnTo>
                      <a:pt x="343" y="828"/>
                    </a:lnTo>
                    <a:lnTo>
                      <a:pt x="362" y="848"/>
                    </a:lnTo>
                    <a:lnTo>
                      <a:pt x="385" y="872"/>
                    </a:lnTo>
                    <a:lnTo>
                      <a:pt x="407" y="894"/>
                    </a:lnTo>
                    <a:lnTo>
                      <a:pt x="432" y="914"/>
                    </a:lnTo>
                    <a:lnTo>
                      <a:pt x="456" y="934"/>
                    </a:lnTo>
                    <a:lnTo>
                      <a:pt x="478" y="953"/>
                    </a:lnTo>
                    <a:lnTo>
                      <a:pt x="501" y="971"/>
                    </a:lnTo>
                    <a:lnTo>
                      <a:pt x="522" y="986"/>
                    </a:lnTo>
                    <a:lnTo>
                      <a:pt x="550" y="1006"/>
                    </a:lnTo>
                    <a:lnTo>
                      <a:pt x="579" y="1024"/>
                    </a:lnTo>
                    <a:lnTo>
                      <a:pt x="601" y="1040"/>
                    </a:lnTo>
                    <a:lnTo>
                      <a:pt x="629" y="1056"/>
                    </a:lnTo>
                    <a:lnTo>
                      <a:pt x="656" y="1072"/>
                    </a:lnTo>
                    <a:lnTo>
                      <a:pt x="685" y="1089"/>
                    </a:lnTo>
                    <a:lnTo>
                      <a:pt x="714" y="1104"/>
                    </a:lnTo>
                    <a:lnTo>
                      <a:pt x="742" y="1119"/>
                    </a:lnTo>
                    <a:lnTo>
                      <a:pt x="773" y="1135"/>
                    </a:lnTo>
                    <a:lnTo>
                      <a:pt x="799" y="1148"/>
                    </a:lnTo>
                    <a:lnTo>
                      <a:pt x="824" y="1160"/>
                    </a:lnTo>
                    <a:lnTo>
                      <a:pt x="844" y="1168"/>
                    </a:lnTo>
                    <a:lnTo>
                      <a:pt x="860" y="1177"/>
                    </a:lnTo>
                    <a:lnTo>
                      <a:pt x="875" y="1183"/>
                    </a:lnTo>
                    <a:lnTo>
                      <a:pt x="889" y="1188"/>
                    </a:lnTo>
                    <a:lnTo>
                      <a:pt x="905" y="1194"/>
                    </a:lnTo>
                    <a:lnTo>
                      <a:pt x="925" y="1200"/>
                    </a:lnTo>
                    <a:lnTo>
                      <a:pt x="944" y="1207"/>
                    </a:lnTo>
                    <a:lnTo>
                      <a:pt x="962" y="1213"/>
                    </a:lnTo>
                    <a:lnTo>
                      <a:pt x="976" y="1219"/>
                    </a:lnTo>
                    <a:lnTo>
                      <a:pt x="994" y="1226"/>
                    </a:lnTo>
                    <a:lnTo>
                      <a:pt x="1014" y="1232"/>
                    </a:lnTo>
                    <a:lnTo>
                      <a:pt x="1033" y="1238"/>
                    </a:lnTo>
                    <a:lnTo>
                      <a:pt x="1054" y="1246"/>
                    </a:lnTo>
                    <a:lnTo>
                      <a:pt x="1072" y="1250"/>
                    </a:lnTo>
                    <a:lnTo>
                      <a:pt x="1088" y="1256"/>
                    </a:lnTo>
                    <a:lnTo>
                      <a:pt x="1107" y="1260"/>
                    </a:lnTo>
                    <a:lnTo>
                      <a:pt x="1127" y="1266"/>
                    </a:lnTo>
                    <a:lnTo>
                      <a:pt x="1146" y="1270"/>
                    </a:lnTo>
                    <a:lnTo>
                      <a:pt x="1161" y="1273"/>
                    </a:lnTo>
                    <a:lnTo>
                      <a:pt x="1179" y="12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38640" y="1665360"/>
                <a:ext cx="2071800" cy="2036520"/>
              </a:xfrm>
              <a:custGeom>
                <a:avLst/>
                <a:gdLst/>
                <a:ahLst/>
                <a:rect l="l" t="t" r="r" b="b"/>
                <a:pathLst>
                  <a:path w="1305" h="1283">
                    <a:moveTo>
                      <a:pt x="124" y="5"/>
                    </a:moveTo>
                    <a:lnTo>
                      <a:pt x="97" y="0"/>
                    </a:lnTo>
                    <a:lnTo>
                      <a:pt x="0" y="171"/>
                    </a:lnTo>
                    <a:lnTo>
                      <a:pt x="27" y="178"/>
                    </a:lnTo>
                    <a:lnTo>
                      <a:pt x="48" y="183"/>
                    </a:lnTo>
                    <a:lnTo>
                      <a:pt x="69" y="188"/>
                    </a:lnTo>
                    <a:lnTo>
                      <a:pt x="97" y="195"/>
                    </a:lnTo>
                    <a:lnTo>
                      <a:pt x="121" y="202"/>
                    </a:lnTo>
                    <a:lnTo>
                      <a:pt x="145" y="209"/>
                    </a:lnTo>
                    <a:lnTo>
                      <a:pt x="165" y="215"/>
                    </a:lnTo>
                    <a:lnTo>
                      <a:pt x="191" y="223"/>
                    </a:lnTo>
                    <a:lnTo>
                      <a:pt x="212" y="230"/>
                    </a:lnTo>
                    <a:lnTo>
                      <a:pt x="236" y="239"/>
                    </a:lnTo>
                    <a:lnTo>
                      <a:pt x="259" y="246"/>
                    </a:lnTo>
                    <a:lnTo>
                      <a:pt x="281" y="256"/>
                    </a:lnTo>
                    <a:lnTo>
                      <a:pt x="302" y="265"/>
                    </a:lnTo>
                    <a:lnTo>
                      <a:pt x="320" y="273"/>
                    </a:lnTo>
                    <a:lnTo>
                      <a:pt x="336" y="281"/>
                    </a:lnTo>
                    <a:lnTo>
                      <a:pt x="357" y="290"/>
                    </a:lnTo>
                    <a:lnTo>
                      <a:pt x="377" y="300"/>
                    </a:lnTo>
                    <a:lnTo>
                      <a:pt x="398" y="310"/>
                    </a:lnTo>
                    <a:lnTo>
                      <a:pt x="417" y="320"/>
                    </a:lnTo>
                    <a:lnTo>
                      <a:pt x="432" y="326"/>
                    </a:lnTo>
                    <a:lnTo>
                      <a:pt x="449" y="335"/>
                    </a:lnTo>
                    <a:lnTo>
                      <a:pt x="470" y="348"/>
                    </a:lnTo>
                    <a:lnTo>
                      <a:pt x="491" y="361"/>
                    </a:lnTo>
                    <a:lnTo>
                      <a:pt x="519" y="377"/>
                    </a:lnTo>
                    <a:lnTo>
                      <a:pt x="543" y="392"/>
                    </a:lnTo>
                    <a:lnTo>
                      <a:pt x="569" y="409"/>
                    </a:lnTo>
                    <a:lnTo>
                      <a:pt x="593" y="425"/>
                    </a:lnTo>
                    <a:lnTo>
                      <a:pt x="618" y="445"/>
                    </a:lnTo>
                    <a:lnTo>
                      <a:pt x="637" y="461"/>
                    </a:lnTo>
                    <a:lnTo>
                      <a:pt x="656" y="479"/>
                    </a:lnTo>
                    <a:lnTo>
                      <a:pt x="677" y="497"/>
                    </a:lnTo>
                    <a:lnTo>
                      <a:pt x="700" y="518"/>
                    </a:lnTo>
                    <a:lnTo>
                      <a:pt x="723" y="540"/>
                    </a:lnTo>
                    <a:lnTo>
                      <a:pt x="742" y="560"/>
                    </a:lnTo>
                    <a:lnTo>
                      <a:pt x="763" y="583"/>
                    </a:lnTo>
                    <a:lnTo>
                      <a:pt x="784" y="608"/>
                    </a:lnTo>
                    <a:lnTo>
                      <a:pt x="800" y="631"/>
                    </a:lnTo>
                    <a:lnTo>
                      <a:pt x="816" y="654"/>
                    </a:lnTo>
                    <a:lnTo>
                      <a:pt x="831" y="675"/>
                    </a:lnTo>
                    <a:lnTo>
                      <a:pt x="844" y="695"/>
                    </a:lnTo>
                    <a:lnTo>
                      <a:pt x="859" y="718"/>
                    </a:lnTo>
                    <a:lnTo>
                      <a:pt x="870" y="740"/>
                    </a:lnTo>
                    <a:lnTo>
                      <a:pt x="881" y="763"/>
                    </a:lnTo>
                    <a:lnTo>
                      <a:pt x="892" y="787"/>
                    </a:lnTo>
                    <a:lnTo>
                      <a:pt x="902" y="808"/>
                    </a:lnTo>
                    <a:lnTo>
                      <a:pt x="912" y="834"/>
                    </a:lnTo>
                    <a:lnTo>
                      <a:pt x="922" y="859"/>
                    </a:lnTo>
                    <a:lnTo>
                      <a:pt x="930" y="885"/>
                    </a:lnTo>
                    <a:lnTo>
                      <a:pt x="936" y="912"/>
                    </a:lnTo>
                    <a:lnTo>
                      <a:pt x="943" y="939"/>
                    </a:lnTo>
                    <a:lnTo>
                      <a:pt x="946" y="964"/>
                    </a:lnTo>
                    <a:lnTo>
                      <a:pt x="949" y="990"/>
                    </a:lnTo>
                    <a:lnTo>
                      <a:pt x="951" y="1020"/>
                    </a:lnTo>
                    <a:lnTo>
                      <a:pt x="951" y="1044"/>
                    </a:lnTo>
                    <a:lnTo>
                      <a:pt x="951" y="1074"/>
                    </a:lnTo>
                    <a:lnTo>
                      <a:pt x="859" y="1074"/>
                    </a:lnTo>
                    <a:lnTo>
                      <a:pt x="1072" y="1283"/>
                    </a:lnTo>
                    <a:lnTo>
                      <a:pt x="1305" y="1074"/>
                    </a:lnTo>
                    <a:lnTo>
                      <a:pt x="1216" y="1074"/>
                    </a:lnTo>
                    <a:lnTo>
                      <a:pt x="1216" y="1041"/>
                    </a:lnTo>
                    <a:lnTo>
                      <a:pt x="1214" y="1011"/>
                    </a:lnTo>
                    <a:lnTo>
                      <a:pt x="1211" y="980"/>
                    </a:lnTo>
                    <a:lnTo>
                      <a:pt x="1208" y="952"/>
                    </a:lnTo>
                    <a:lnTo>
                      <a:pt x="1205" y="925"/>
                    </a:lnTo>
                    <a:lnTo>
                      <a:pt x="1200" y="899"/>
                    </a:lnTo>
                    <a:lnTo>
                      <a:pt x="1193" y="872"/>
                    </a:lnTo>
                    <a:lnTo>
                      <a:pt x="1187" y="847"/>
                    </a:lnTo>
                    <a:lnTo>
                      <a:pt x="1180" y="824"/>
                    </a:lnTo>
                    <a:lnTo>
                      <a:pt x="1172" y="798"/>
                    </a:lnTo>
                    <a:lnTo>
                      <a:pt x="1161" y="766"/>
                    </a:lnTo>
                    <a:lnTo>
                      <a:pt x="1151" y="741"/>
                    </a:lnTo>
                    <a:lnTo>
                      <a:pt x="1140" y="717"/>
                    </a:lnTo>
                    <a:lnTo>
                      <a:pt x="1129" y="694"/>
                    </a:lnTo>
                    <a:lnTo>
                      <a:pt x="1114" y="666"/>
                    </a:lnTo>
                    <a:lnTo>
                      <a:pt x="1099" y="640"/>
                    </a:lnTo>
                    <a:lnTo>
                      <a:pt x="1085" y="617"/>
                    </a:lnTo>
                    <a:lnTo>
                      <a:pt x="1070" y="593"/>
                    </a:lnTo>
                    <a:lnTo>
                      <a:pt x="1051" y="567"/>
                    </a:lnTo>
                    <a:lnTo>
                      <a:pt x="1033" y="542"/>
                    </a:lnTo>
                    <a:lnTo>
                      <a:pt x="1017" y="519"/>
                    </a:lnTo>
                    <a:lnTo>
                      <a:pt x="998" y="497"/>
                    </a:lnTo>
                    <a:lnTo>
                      <a:pt x="980" y="477"/>
                    </a:lnTo>
                    <a:lnTo>
                      <a:pt x="960" y="454"/>
                    </a:lnTo>
                    <a:lnTo>
                      <a:pt x="941" y="434"/>
                    </a:lnTo>
                    <a:lnTo>
                      <a:pt x="918" y="411"/>
                    </a:lnTo>
                    <a:lnTo>
                      <a:pt x="896" y="389"/>
                    </a:lnTo>
                    <a:lnTo>
                      <a:pt x="871" y="369"/>
                    </a:lnTo>
                    <a:lnTo>
                      <a:pt x="847" y="349"/>
                    </a:lnTo>
                    <a:lnTo>
                      <a:pt x="825" y="330"/>
                    </a:lnTo>
                    <a:lnTo>
                      <a:pt x="802" y="312"/>
                    </a:lnTo>
                    <a:lnTo>
                      <a:pt x="781" y="296"/>
                    </a:lnTo>
                    <a:lnTo>
                      <a:pt x="753" y="276"/>
                    </a:lnTo>
                    <a:lnTo>
                      <a:pt x="724" y="259"/>
                    </a:lnTo>
                    <a:lnTo>
                      <a:pt x="702" y="243"/>
                    </a:lnTo>
                    <a:lnTo>
                      <a:pt x="674" y="226"/>
                    </a:lnTo>
                    <a:lnTo>
                      <a:pt x="647" y="211"/>
                    </a:lnTo>
                    <a:lnTo>
                      <a:pt x="618" y="194"/>
                    </a:lnTo>
                    <a:lnTo>
                      <a:pt x="588" y="178"/>
                    </a:lnTo>
                    <a:lnTo>
                      <a:pt x="561" y="164"/>
                    </a:lnTo>
                    <a:lnTo>
                      <a:pt x="530" y="147"/>
                    </a:lnTo>
                    <a:lnTo>
                      <a:pt x="504" y="135"/>
                    </a:lnTo>
                    <a:lnTo>
                      <a:pt x="479" y="123"/>
                    </a:lnTo>
                    <a:lnTo>
                      <a:pt x="459" y="115"/>
                    </a:lnTo>
                    <a:lnTo>
                      <a:pt x="443" y="106"/>
                    </a:lnTo>
                    <a:lnTo>
                      <a:pt x="428" y="99"/>
                    </a:lnTo>
                    <a:lnTo>
                      <a:pt x="414" y="95"/>
                    </a:lnTo>
                    <a:lnTo>
                      <a:pt x="398" y="89"/>
                    </a:lnTo>
                    <a:lnTo>
                      <a:pt x="378" y="83"/>
                    </a:lnTo>
                    <a:lnTo>
                      <a:pt x="359" y="76"/>
                    </a:lnTo>
                    <a:lnTo>
                      <a:pt x="341" y="69"/>
                    </a:lnTo>
                    <a:lnTo>
                      <a:pt x="327" y="64"/>
                    </a:lnTo>
                    <a:lnTo>
                      <a:pt x="309" y="57"/>
                    </a:lnTo>
                    <a:lnTo>
                      <a:pt x="289" y="51"/>
                    </a:lnTo>
                    <a:lnTo>
                      <a:pt x="270" y="45"/>
                    </a:lnTo>
                    <a:lnTo>
                      <a:pt x="249" y="37"/>
                    </a:lnTo>
                    <a:lnTo>
                      <a:pt x="231" y="33"/>
                    </a:lnTo>
                    <a:lnTo>
                      <a:pt x="215" y="27"/>
                    </a:lnTo>
                    <a:lnTo>
                      <a:pt x="196" y="23"/>
                    </a:lnTo>
                    <a:lnTo>
                      <a:pt x="176" y="17"/>
                    </a:lnTo>
                    <a:lnTo>
                      <a:pt x="157" y="13"/>
                    </a:lnTo>
                    <a:lnTo>
                      <a:pt x="142" y="9"/>
                    </a:lnTo>
                    <a:lnTo>
                      <a:pt x="124" y="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52360" y="1506600"/>
                <a:ext cx="2949840" cy="1393920"/>
              </a:xfrm>
              <a:custGeom>
                <a:avLst/>
                <a:gdLst/>
                <a:ahLst/>
                <a:rect l="l" t="t" r="r" b="b"/>
                <a:pathLst>
                  <a:path w="1858" h="878">
                    <a:moveTo>
                      <a:pt x="0" y="811"/>
                    </a:moveTo>
                    <a:lnTo>
                      <a:pt x="253" y="878"/>
                    </a:lnTo>
                    <a:lnTo>
                      <a:pt x="259" y="864"/>
                    </a:lnTo>
                    <a:lnTo>
                      <a:pt x="267" y="849"/>
                    </a:lnTo>
                    <a:lnTo>
                      <a:pt x="277" y="830"/>
                    </a:lnTo>
                    <a:lnTo>
                      <a:pt x="287" y="814"/>
                    </a:lnTo>
                    <a:lnTo>
                      <a:pt x="296" y="797"/>
                    </a:lnTo>
                    <a:lnTo>
                      <a:pt x="306" y="784"/>
                    </a:lnTo>
                    <a:lnTo>
                      <a:pt x="317" y="766"/>
                    </a:lnTo>
                    <a:lnTo>
                      <a:pt x="327" y="751"/>
                    </a:lnTo>
                    <a:lnTo>
                      <a:pt x="340" y="735"/>
                    </a:lnTo>
                    <a:lnTo>
                      <a:pt x="351" y="719"/>
                    </a:lnTo>
                    <a:lnTo>
                      <a:pt x="366" y="703"/>
                    </a:lnTo>
                    <a:lnTo>
                      <a:pt x="379" y="689"/>
                    </a:lnTo>
                    <a:lnTo>
                      <a:pt x="390" y="677"/>
                    </a:lnTo>
                    <a:lnTo>
                      <a:pt x="401" y="665"/>
                    </a:lnTo>
                    <a:lnTo>
                      <a:pt x="414" y="651"/>
                    </a:lnTo>
                    <a:lnTo>
                      <a:pt x="429" y="638"/>
                    </a:lnTo>
                    <a:lnTo>
                      <a:pt x="443" y="623"/>
                    </a:lnTo>
                    <a:lnTo>
                      <a:pt x="458" y="610"/>
                    </a:lnTo>
                    <a:lnTo>
                      <a:pt x="468" y="600"/>
                    </a:lnTo>
                    <a:lnTo>
                      <a:pt x="481" y="588"/>
                    </a:lnTo>
                    <a:lnTo>
                      <a:pt x="498" y="573"/>
                    </a:lnTo>
                    <a:lnTo>
                      <a:pt x="518" y="559"/>
                    </a:lnTo>
                    <a:lnTo>
                      <a:pt x="540" y="540"/>
                    </a:lnTo>
                    <a:lnTo>
                      <a:pt x="563" y="523"/>
                    </a:lnTo>
                    <a:lnTo>
                      <a:pt x="587" y="505"/>
                    </a:lnTo>
                    <a:lnTo>
                      <a:pt x="612" y="489"/>
                    </a:lnTo>
                    <a:lnTo>
                      <a:pt x="641" y="472"/>
                    </a:lnTo>
                    <a:lnTo>
                      <a:pt x="663" y="459"/>
                    </a:lnTo>
                    <a:lnTo>
                      <a:pt x="688" y="445"/>
                    </a:lnTo>
                    <a:lnTo>
                      <a:pt x="715" y="431"/>
                    </a:lnTo>
                    <a:lnTo>
                      <a:pt x="746" y="415"/>
                    </a:lnTo>
                    <a:lnTo>
                      <a:pt x="778" y="400"/>
                    </a:lnTo>
                    <a:lnTo>
                      <a:pt x="807" y="386"/>
                    </a:lnTo>
                    <a:lnTo>
                      <a:pt x="841" y="372"/>
                    </a:lnTo>
                    <a:lnTo>
                      <a:pt x="877" y="357"/>
                    </a:lnTo>
                    <a:lnTo>
                      <a:pt x="911" y="346"/>
                    </a:lnTo>
                    <a:lnTo>
                      <a:pt x="943" y="335"/>
                    </a:lnTo>
                    <a:lnTo>
                      <a:pt x="974" y="325"/>
                    </a:lnTo>
                    <a:lnTo>
                      <a:pt x="1003" y="316"/>
                    </a:lnTo>
                    <a:lnTo>
                      <a:pt x="1037" y="306"/>
                    </a:lnTo>
                    <a:lnTo>
                      <a:pt x="1069" y="298"/>
                    </a:lnTo>
                    <a:lnTo>
                      <a:pt x="1102" y="291"/>
                    </a:lnTo>
                    <a:lnTo>
                      <a:pt x="1137" y="283"/>
                    </a:lnTo>
                    <a:lnTo>
                      <a:pt x="1168" y="276"/>
                    </a:lnTo>
                    <a:lnTo>
                      <a:pt x="1205" y="270"/>
                    </a:lnTo>
                    <a:lnTo>
                      <a:pt x="1242" y="263"/>
                    </a:lnTo>
                    <a:lnTo>
                      <a:pt x="1279" y="257"/>
                    </a:lnTo>
                    <a:lnTo>
                      <a:pt x="1318" y="253"/>
                    </a:lnTo>
                    <a:lnTo>
                      <a:pt x="1359" y="248"/>
                    </a:lnTo>
                    <a:lnTo>
                      <a:pt x="1394" y="246"/>
                    </a:lnTo>
                    <a:lnTo>
                      <a:pt x="1431" y="244"/>
                    </a:lnTo>
                    <a:lnTo>
                      <a:pt x="1475" y="243"/>
                    </a:lnTo>
                    <a:lnTo>
                      <a:pt x="1511" y="243"/>
                    </a:lnTo>
                    <a:lnTo>
                      <a:pt x="1554" y="243"/>
                    </a:lnTo>
                    <a:lnTo>
                      <a:pt x="1554" y="306"/>
                    </a:lnTo>
                    <a:lnTo>
                      <a:pt x="1858" y="159"/>
                    </a:lnTo>
                    <a:lnTo>
                      <a:pt x="1554" y="0"/>
                    </a:lnTo>
                    <a:lnTo>
                      <a:pt x="1554" y="60"/>
                    </a:lnTo>
                    <a:lnTo>
                      <a:pt x="1506" y="60"/>
                    </a:lnTo>
                    <a:lnTo>
                      <a:pt x="1462" y="62"/>
                    </a:lnTo>
                    <a:lnTo>
                      <a:pt x="1417" y="64"/>
                    </a:lnTo>
                    <a:lnTo>
                      <a:pt x="1376" y="66"/>
                    </a:lnTo>
                    <a:lnTo>
                      <a:pt x="1338" y="68"/>
                    </a:lnTo>
                    <a:lnTo>
                      <a:pt x="1300" y="72"/>
                    </a:lnTo>
                    <a:lnTo>
                      <a:pt x="1260" y="76"/>
                    </a:lnTo>
                    <a:lnTo>
                      <a:pt x="1224" y="80"/>
                    </a:lnTo>
                    <a:lnTo>
                      <a:pt x="1190" y="85"/>
                    </a:lnTo>
                    <a:lnTo>
                      <a:pt x="1153" y="90"/>
                    </a:lnTo>
                    <a:lnTo>
                      <a:pt x="1106" y="98"/>
                    </a:lnTo>
                    <a:lnTo>
                      <a:pt x="1071" y="105"/>
                    </a:lnTo>
                    <a:lnTo>
                      <a:pt x="1035" y="113"/>
                    </a:lnTo>
                    <a:lnTo>
                      <a:pt x="1001" y="120"/>
                    </a:lnTo>
                    <a:lnTo>
                      <a:pt x="961" y="131"/>
                    </a:lnTo>
                    <a:lnTo>
                      <a:pt x="924" y="141"/>
                    </a:lnTo>
                    <a:lnTo>
                      <a:pt x="890" y="151"/>
                    </a:lnTo>
                    <a:lnTo>
                      <a:pt x="856" y="161"/>
                    </a:lnTo>
                    <a:lnTo>
                      <a:pt x="817" y="174"/>
                    </a:lnTo>
                    <a:lnTo>
                      <a:pt x="781" y="186"/>
                    </a:lnTo>
                    <a:lnTo>
                      <a:pt x="747" y="197"/>
                    </a:lnTo>
                    <a:lnTo>
                      <a:pt x="715" y="211"/>
                    </a:lnTo>
                    <a:lnTo>
                      <a:pt x="684" y="222"/>
                    </a:lnTo>
                    <a:lnTo>
                      <a:pt x="654" y="236"/>
                    </a:lnTo>
                    <a:lnTo>
                      <a:pt x="625" y="250"/>
                    </a:lnTo>
                    <a:lnTo>
                      <a:pt x="591" y="265"/>
                    </a:lnTo>
                    <a:lnTo>
                      <a:pt x="558" y="281"/>
                    </a:lnTo>
                    <a:lnTo>
                      <a:pt x="529" y="297"/>
                    </a:lnTo>
                    <a:lnTo>
                      <a:pt x="500" y="314"/>
                    </a:lnTo>
                    <a:lnTo>
                      <a:pt x="473" y="330"/>
                    </a:lnTo>
                    <a:lnTo>
                      <a:pt x="447" y="345"/>
                    </a:lnTo>
                    <a:lnTo>
                      <a:pt x="424" y="360"/>
                    </a:lnTo>
                    <a:lnTo>
                      <a:pt x="395" y="379"/>
                    </a:lnTo>
                    <a:lnTo>
                      <a:pt x="369" y="399"/>
                    </a:lnTo>
                    <a:lnTo>
                      <a:pt x="346" y="414"/>
                    </a:lnTo>
                    <a:lnTo>
                      <a:pt x="322" y="433"/>
                    </a:lnTo>
                    <a:lnTo>
                      <a:pt x="300" y="452"/>
                    </a:lnTo>
                    <a:lnTo>
                      <a:pt x="275" y="472"/>
                    </a:lnTo>
                    <a:lnTo>
                      <a:pt x="253" y="492"/>
                    </a:lnTo>
                    <a:lnTo>
                      <a:pt x="232" y="511"/>
                    </a:lnTo>
                    <a:lnTo>
                      <a:pt x="207" y="532"/>
                    </a:lnTo>
                    <a:lnTo>
                      <a:pt x="190" y="550"/>
                    </a:lnTo>
                    <a:lnTo>
                      <a:pt x="172" y="568"/>
                    </a:lnTo>
                    <a:lnTo>
                      <a:pt x="161" y="580"/>
                    </a:lnTo>
                    <a:lnTo>
                      <a:pt x="148" y="592"/>
                    </a:lnTo>
                    <a:lnTo>
                      <a:pt x="138" y="602"/>
                    </a:lnTo>
                    <a:lnTo>
                      <a:pt x="131" y="612"/>
                    </a:lnTo>
                    <a:lnTo>
                      <a:pt x="122" y="623"/>
                    </a:lnTo>
                    <a:lnTo>
                      <a:pt x="114" y="637"/>
                    </a:lnTo>
                    <a:lnTo>
                      <a:pt x="104" y="650"/>
                    </a:lnTo>
                    <a:lnTo>
                      <a:pt x="94" y="661"/>
                    </a:lnTo>
                    <a:lnTo>
                      <a:pt x="86" y="671"/>
                    </a:lnTo>
                    <a:lnTo>
                      <a:pt x="76" y="685"/>
                    </a:lnTo>
                    <a:lnTo>
                      <a:pt x="67" y="698"/>
                    </a:lnTo>
                    <a:lnTo>
                      <a:pt x="59" y="711"/>
                    </a:lnTo>
                    <a:lnTo>
                      <a:pt x="47" y="726"/>
                    </a:lnTo>
                    <a:lnTo>
                      <a:pt x="41" y="738"/>
                    </a:lnTo>
                    <a:lnTo>
                      <a:pt x="33" y="749"/>
                    </a:lnTo>
                    <a:lnTo>
                      <a:pt x="26" y="762"/>
                    </a:lnTo>
                    <a:lnTo>
                      <a:pt x="18" y="776"/>
                    </a:lnTo>
                    <a:lnTo>
                      <a:pt x="12" y="789"/>
                    </a:lnTo>
                    <a:lnTo>
                      <a:pt x="7" y="799"/>
                    </a:lnTo>
                    <a:lnTo>
                      <a:pt x="0" y="81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98880" y="3795840"/>
                <a:ext cx="2949480" cy="1395360"/>
              </a:xfrm>
              <a:custGeom>
                <a:avLst/>
                <a:gdLst/>
                <a:ahLst/>
                <a:rect l="l" t="t" r="r" b="b"/>
                <a:pathLst>
                  <a:path w="1858" h="879">
                    <a:moveTo>
                      <a:pt x="1858" y="67"/>
                    </a:moveTo>
                    <a:lnTo>
                      <a:pt x="1606" y="0"/>
                    </a:lnTo>
                    <a:lnTo>
                      <a:pt x="1599" y="15"/>
                    </a:lnTo>
                    <a:lnTo>
                      <a:pt x="1591" y="29"/>
                    </a:lnTo>
                    <a:lnTo>
                      <a:pt x="1581" y="48"/>
                    </a:lnTo>
                    <a:lnTo>
                      <a:pt x="1572" y="65"/>
                    </a:lnTo>
                    <a:lnTo>
                      <a:pt x="1562" y="81"/>
                    </a:lnTo>
                    <a:lnTo>
                      <a:pt x="1552" y="95"/>
                    </a:lnTo>
                    <a:lnTo>
                      <a:pt x="1541" y="113"/>
                    </a:lnTo>
                    <a:lnTo>
                      <a:pt x="1531" y="127"/>
                    </a:lnTo>
                    <a:lnTo>
                      <a:pt x="1518" y="144"/>
                    </a:lnTo>
                    <a:lnTo>
                      <a:pt x="1507" y="159"/>
                    </a:lnTo>
                    <a:lnTo>
                      <a:pt x="1492" y="175"/>
                    </a:lnTo>
                    <a:lnTo>
                      <a:pt x="1479" y="189"/>
                    </a:lnTo>
                    <a:lnTo>
                      <a:pt x="1468" y="202"/>
                    </a:lnTo>
                    <a:lnTo>
                      <a:pt x="1457" y="214"/>
                    </a:lnTo>
                    <a:lnTo>
                      <a:pt x="1444" y="227"/>
                    </a:lnTo>
                    <a:lnTo>
                      <a:pt x="1429" y="241"/>
                    </a:lnTo>
                    <a:lnTo>
                      <a:pt x="1415" y="255"/>
                    </a:lnTo>
                    <a:lnTo>
                      <a:pt x="1400" y="268"/>
                    </a:lnTo>
                    <a:lnTo>
                      <a:pt x="1391" y="278"/>
                    </a:lnTo>
                    <a:lnTo>
                      <a:pt x="1378" y="291"/>
                    </a:lnTo>
                    <a:lnTo>
                      <a:pt x="1360" y="305"/>
                    </a:lnTo>
                    <a:lnTo>
                      <a:pt x="1340" y="319"/>
                    </a:lnTo>
                    <a:lnTo>
                      <a:pt x="1318" y="338"/>
                    </a:lnTo>
                    <a:lnTo>
                      <a:pt x="1295" y="355"/>
                    </a:lnTo>
                    <a:lnTo>
                      <a:pt x="1271" y="373"/>
                    </a:lnTo>
                    <a:lnTo>
                      <a:pt x="1247" y="390"/>
                    </a:lnTo>
                    <a:lnTo>
                      <a:pt x="1218" y="406"/>
                    </a:lnTo>
                    <a:lnTo>
                      <a:pt x="1195" y="420"/>
                    </a:lnTo>
                    <a:lnTo>
                      <a:pt x="1171" y="433"/>
                    </a:lnTo>
                    <a:lnTo>
                      <a:pt x="1143" y="447"/>
                    </a:lnTo>
                    <a:lnTo>
                      <a:pt x="1112" y="463"/>
                    </a:lnTo>
                    <a:lnTo>
                      <a:pt x="1080" y="479"/>
                    </a:lnTo>
                    <a:lnTo>
                      <a:pt x="1051" y="492"/>
                    </a:lnTo>
                    <a:lnTo>
                      <a:pt x="1017" y="506"/>
                    </a:lnTo>
                    <a:lnTo>
                      <a:pt x="981" y="521"/>
                    </a:lnTo>
                    <a:lnTo>
                      <a:pt x="948" y="532"/>
                    </a:lnTo>
                    <a:lnTo>
                      <a:pt x="915" y="543"/>
                    </a:lnTo>
                    <a:lnTo>
                      <a:pt x="884" y="553"/>
                    </a:lnTo>
                    <a:lnTo>
                      <a:pt x="855" y="562"/>
                    </a:lnTo>
                    <a:lnTo>
                      <a:pt x="821" y="572"/>
                    </a:lnTo>
                    <a:lnTo>
                      <a:pt x="789" y="580"/>
                    </a:lnTo>
                    <a:lnTo>
                      <a:pt x="757" y="588"/>
                    </a:lnTo>
                    <a:lnTo>
                      <a:pt x="721" y="595"/>
                    </a:lnTo>
                    <a:lnTo>
                      <a:pt x="690" y="602"/>
                    </a:lnTo>
                    <a:lnTo>
                      <a:pt x="653" y="609"/>
                    </a:lnTo>
                    <a:lnTo>
                      <a:pt x="616" y="615"/>
                    </a:lnTo>
                    <a:lnTo>
                      <a:pt x="579" y="621"/>
                    </a:lnTo>
                    <a:lnTo>
                      <a:pt x="540" y="625"/>
                    </a:lnTo>
                    <a:lnTo>
                      <a:pt x="500" y="630"/>
                    </a:lnTo>
                    <a:lnTo>
                      <a:pt x="464" y="632"/>
                    </a:lnTo>
                    <a:lnTo>
                      <a:pt x="427" y="634"/>
                    </a:lnTo>
                    <a:lnTo>
                      <a:pt x="383" y="635"/>
                    </a:lnTo>
                    <a:lnTo>
                      <a:pt x="348" y="635"/>
                    </a:lnTo>
                    <a:lnTo>
                      <a:pt x="304" y="635"/>
                    </a:lnTo>
                    <a:lnTo>
                      <a:pt x="304" y="572"/>
                    </a:lnTo>
                    <a:lnTo>
                      <a:pt x="0" y="719"/>
                    </a:lnTo>
                    <a:lnTo>
                      <a:pt x="304" y="879"/>
                    </a:lnTo>
                    <a:lnTo>
                      <a:pt x="304" y="818"/>
                    </a:lnTo>
                    <a:lnTo>
                      <a:pt x="353" y="818"/>
                    </a:lnTo>
                    <a:lnTo>
                      <a:pt x="396" y="817"/>
                    </a:lnTo>
                    <a:lnTo>
                      <a:pt x="441" y="815"/>
                    </a:lnTo>
                    <a:lnTo>
                      <a:pt x="482" y="812"/>
                    </a:lnTo>
                    <a:lnTo>
                      <a:pt x="521" y="810"/>
                    </a:lnTo>
                    <a:lnTo>
                      <a:pt x="558" y="807"/>
                    </a:lnTo>
                    <a:lnTo>
                      <a:pt x="598" y="802"/>
                    </a:lnTo>
                    <a:lnTo>
                      <a:pt x="634" y="798"/>
                    </a:lnTo>
                    <a:lnTo>
                      <a:pt x="668" y="793"/>
                    </a:lnTo>
                    <a:lnTo>
                      <a:pt x="705" y="788"/>
                    </a:lnTo>
                    <a:lnTo>
                      <a:pt x="752" y="780"/>
                    </a:lnTo>
                    <a:lnTo>
                      <a:pt x="787" y="773"/>
                    </a:lnTo>
                    <a:lnTo>
                      <a:pt x="823" y="766"/>
                    </a:lnTo>
                    <a:lnTo>
                      <a:pt x="857" y="758"/>
                    </a:lnTo>
                    <a:lnTo>
                      <a:pt x="897" y="748"/>
                    </a:lnTo>
                    <a:lnTo>
                      <a:pt x="935" y="738"/>
                    </a:lnTo>
                    <a:lnTo>
                      <a:pt x="969" y="728"/>
                    </a:lnTo>
                    <a:lnTo>
                      <a:pt x="1003" y="718"/>
                    </a:lnTo>
                    <a:lnTo>
                      <a:pt x="1041" y="704"/>
                    </a:lnTo>
                    <a:lnTo>
                      <a:pt x="1077" y="692"/>
                    </a:lnTo>
                    <a:lnTo>
                      <a:pt x="1111" y="681"/>
                    </a:lnTo>
                    <a:lnTo>
                      <a:pt x="1143" y="668"/>
                    </a:lnTo>
                    <a:lnTo>
                      <a:pt x="1172" y="657"/>
                    </a:lnTo>
                    <a:lnTo>
                      <a:pt x="1205" y="642"/>
                    </a:lnTo>
                    <a:lnTo>
                      <a:pt x="1234" y="629"/>
                    </a:lnTo>
                    <a:lnTo>
                      <a:pt x="1268" y="613"/>
                    </a:lnTo>
                    <a:lnTo>
                      <a:pt x="1300" y="598"/>
                    </a:lnTo>
                    <a:lnTo>
                      <a:pt x="1329" y="581"/>
                    </a:lnTo>
                    <a:lnTo>
                      <a:pt x="1358" y="564"/>
                    </a:lnTo>
                    <a:lnTo>
                      <a:pt x="1386" y="549"/>
                    </a:lnTo>
                    <a:lnTo>
                      <a:pt x="1412" y="533"/>
                    </a:lnTo>
                    <a:lnTo>
                      <a:pt x="1434" y="519"/>
                    </a:lnTo>
                    <a:lnTo>
                      <a:pt x="1463" y="500"/>
                    </a:lnTo>
                    <a:lnTo>
                      <a:pt x="1489" y="480"/>
                    </a:lnTo>
                    <a:lnTo>
                      <a:pt x="1512" y="464"/>
                    </a:lnTo>
                    <a:lnTo>
                      <a:pt x="1536" y="445"/>
                    </a:lnTo>
                    <a:lnTo>
                      <a:pt x="1559" y="426"/>
                    </a:lnTo>
                    <a:lnTo>
                      <a:pt x="1583" y="406"/>
                    </a:lnTo>
                    <a:lnTo>
                      <a:pt x="1606" y="386"/>
                    </a:lnTo>
                    <a:lnTo>
                      <a:pt x="1627" y="367"/>
                    </a:lnTo>
                    <a:lnTo>
                      <a:pt x="1651" y="346"/>
                    </a:lnTo>
                    <a:lnTo>
                      <a:pt x="1669" y="328"/>
                    </a:lnTo>
                    <a:lnTo>
                      <a:pt x="1686" y="311"/>
                    </a:lnTo>
                    <a:lnTo>
                      <a:pt x="1698" y="298"/>
                    </a:lnTo>
                    <a:lnTo>
                      <a:pt x="1711" y="286"/>
                    </a:lnTo>
                    <a:lnTo>
                      <a:pt x="1720" y="276"/>
                    </a:lnTo>
                    <a:lnTo>
                      <a:pt x="1727" y="266"/>
                    </a:lnTo>
                    <a:lnTo>
                      <a:pt x="1737" y="255"/>
                    </a:lnTo>
                    <a:lnTo>
                      <a:pt x="1745" y="242"/>
                    </a:lnTo>
                    <a:lnTo>
                      <a:pt x="1754" y="228"/>
                    </a:lnTo>
                    <a:lnTo>
                      <a:pt x="1764" y="217"/>
                    </a:lnTo>
                    <a:lnTo>
                      <a:pt x="1772" y="207"/>
                    </a:lnTo>
                    <a:lnTo>
                      <a:pt x="1782" y="194"/>
                    </a:lnTo>
                    <a:lnTo>
                      <a:pt x="1792" y="180"/>
                    </a:lnTo>
                    <a:lnTo>
                      <a:pt x="1800" y="167"/>
                    </a:lnTo>
                    <a:lnTo>
                      <a:pt x="1811" y="153"/>
                    </a:lnTo>
                    <a:lnTo>
                      <a:pt x="1817" y="140"/>
                    </a:lnTo>
                    <a:lnTo>
                      <a:pt x="1825" y="129"/>
                    </a:lnTo>
                    <a:lnTo>
                      <a:pt x="1832" y="116"/>
                    </a:lnTo>
                    <a:lnTo>
                      <a:pt x="1840" y="103"/>
                    </a:lnTo>
                    <a:lnTo>
                      <a:pt x="1847" y="89"/>
                    </a:lnTo>
                    <a:lnTo>
                      <a:pt x="1851" y="79"/>
                    </a:lnTo>
                    <a:lnTo>
                      <a:pt x="1858" y="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
            <p:cNvGrpSpPr/>
            <p:nvPr/>
          </p:nvGrpSpPr>
          <p:grpSpPr>
            <a:xfrm>
              <a:off x="2068200" y="1374840"/>
              <a:ext cx="5315040" cy="3975120"/>
              <a:chOff x="2068200" y="1374840"/>
              <a:chExt cx="5315040" cy="3975120"/>
            </a:xfrm>
          </p:grpSpPr>
          <p:grpSp>
            <p:nvGrpSpPr>
              <p:cNvPr id="110" name=""/>
              <p:cNvGrpSpPr/>
              <p:nvPr/>
            </p:nvGrpSpPr>
            <p:grpSpPr>
              <a:xfrm>
                <a:off x="3367080" y="1374840"/>
                <a:ext cx="1069920" cy="792000"/>
                <a:chOff x="3367080" y="1374840"/>
                <a:chExt cx="1069920" cy="792000"/>
              </a:xfrm>
            </p:grpSpPr>
            <p:sp>
              <p:nvSpPr>
                <p:cNvPr id="111" name=""/>
                <p:cNvSpPr/>
                <p:nvPr/>
              </p:nvSpPr>
              <p:spPr>
                <a:xfrm>
                  <a:off x="3384360" y="1415880"/>
                  <a:ext cx="905040" cy="227160"/>
                </a:xfrm>
                <a:custGeom>
                  <a:avLst/>
                  <a:gdLst/>
                  <a:ahLst/>
                  <a:rect l="l" t="t" r="r" b="b"/>
                  <a:pathLst>
                    <a:path w="1141" h="285">
                      <a:moveTo>
                        <a:pt x="0" y="285"/>
                      </a:moveTo>
                      <a:lnTo>
                        <a:pt x="0" y="116"/>
                      </a:lnTo>
                      <a:lnTo>
                        <a:pt x="3" y="93"/>
                      </a:lnTo>
                      <a:lnTo>
                        <a:pt x="13" y="71"/>
                      </a:lnTo>
                      <a:lnTo>
                        <a:pt x="25" y="50"/>
                      </a:lnTo>
                      <a:lnTo>
                        <a:pt x="43" y="33"/>
                      </a:lnTo>
                      <a:lnTo>
                        <a:pt x="64" y="19"/>
                      </a:lnTo>
                      <a:lnTo>
                        <a:pt x="89" y="9"/>
                      </a:lnTo>
                      <a:lnTo>
                        <a:pt x="116" y="2"/>
                      </a:lnTo>
                      <a:lnTo>
                        <a:pt x="145" y="0"/>
                      </a:lnTo>
                      <a:lnTo>
                        <a:pt x="995" y="0"/>
                      </a:lnTo>
                      <a:lnTo>
                        <a:pt x="1024" y="2"/>
                      </a:lnTo>
                      <a:lnTo>
                        <a:pt x="1052" y="9"/>
                      </a:lnTo>
                      <a:lnTo>
                        <a:pt x="1078" y="19"/>
                      </a:lnTo>
                      <a:lnTo>
                        <a:pt x="1099" y="33"/>
                      </a:lnTo>
                      <a:lnTo>
                        <a:pt x="1117" y="50"/>
                      </a:lnTo>
                      <a:lnTo>
                        <a:pt x="1129" y="71"/>
                      </a:lnTo>
                      <a:lnTo>
                        <a:pt x="1138" y="93"/>
                      </a:lnTo>
                      <a:lnTo>
                        <a:pt x="1141" y="116"/>
                      </a:lnTo>
                      <a:lnTo>
                        <a:pt x="1141" y="285"/>
                      </a:lnTo>
                      <a:lnTo>
                        <a:pt x="0" y="285"/>
                      </a:lnTo>
                      <a:close/>
                    </a:path>
                  </a:pathLst>
                </a:custGeom>
                <a:solidFill>
                  <a:srgbClr val="1e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84360" y="1415880"/>
                  <a:ext cx="905040" cy="227160"/>
                </a:xfrm>
                <a:custGeom>
                  <a:avLst/>
                  <a:gdLst/>
                  <a:ahLst/>
                  <a:rect l="l" t="t" r="r" b="b"/>
                  <a:pathLst>
                    <a:path w="1141" h="285">
                      <a:moveTo>
                        <a:pt x="0" y="285"/>
                      </a:moveTo>
                      <a:lnTo>
                        <a:pt x="0" y="116"/>
                      </a:lnTo>
                      <a:lnTo>
                        <a:pt x="0" y="116"/>
                      </a:lnTo>
                      <a:lnTo>
                        <a:pt x="3" y="93"/>
                      </a:lnTo>
                      <a:lnTo>
                        <a:pt x="13" y="71"/>
                      </a:lnTo>
                      <a:lnTo>
                        <a:pt x="25" y="50"/>
                      </a:lnTo>
                      <a:lnTo>
                        <a:pt x="43" y="33"/>
                      </a:lnTo>
                      <a:lnTo>
                        <a:pt x="64" y="19"/>
                      </a:lnTo>
                      <a:lnTo>
                        <a:pt x="89" y="9"/>
                      </a:lnTo>
                      <a:lnTo>
                        <a:pt x="116" y="2"/>
                      </a:lnTo>
                      <a:lnTo>
                        <a:pt x="145" y="0"/>
                      </a:lnTo>
                      <a:lnTo>
                        <a:pt x="995" y="0"/>
                      </a:lnTo>
                      <a:lnTo>
                        <a:pt x="995" y="0"/>
                      </a:lnTo>
                      <a:lnTo>
                        <a:pt x="1024" y="2"/>
                      </a:lnTo>
                      <a:lnTo>
                        <a:pt x="1052" y="9"/>
                      </a:lnTo>
                      <a:lnTo>
                        <a:pt x="1078" y="19"/>
                      </a:lnTo>
                      <a:lnTo>
                        <a:pt x="1099" y="33"/>
                      </a:lnTo>
                      <a:lnTo>
                        <a:pt x="1117" y="50"/>
                      </a:lnTo>
                      <a:lnTo>
                        <a:pt x="1129" y="71"/>
                      </a:lnTo>
                      <a:lnTo>
                        <a:pt x="1138" y="93"/>
                      </a:lnTo>
                      <a:lnTo>
                        <a:pt x="1141" y="116"/>
                      </a:lnTo>
                      <a:lnTo>
                        <a:pt x="1141" y="285"/>
                      </a:lnTo>
                      <a:lnTo>
                        <a:pt x="0" y="2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84360" y="1643040"/>
                  <a:ext cx="905040" cy="492120"/>
                </a:xfrm>
                <a:custGeom>
                  <a:avLst/>
                  <a:gdLst/>
                  <a:ahLst/>
                  <a:rect l="l" t="t" r="r" b="b"/>
                  <a:pathLst>
                    <a:path w="1141" h="621">
                      <a:moveTo>
                        <a:pt x="0" y="0"/>
                      </a:moveTo>
                      <a:lnTo>
                        <a:pt x="0" y="506"/>
                      </a:lnTo>
                      <a:lnTo>
                        <a:pt x="3" y="529"/>
                      </a:lnTo>
                      <a:lnTo>
                        <a:pt x="13" y="551"/>
                      </a:lnTo>
                      <a:lnTo>
                        <a:pt x="25" y="570"/>
                      </a:lnTo>
                      <a:lnTo>
                        <a:pt x="43" y="587"/>
                      </a:lnTo>
                      <a:lnTo>
                        <a:pt x="64" y="601"/>
                      </a:lnTo>
                      <a:lnTo>
                        <a:pt x="89" y="611"/>
                      </a:lnTo>
                      <a:lnTo>
                        <a:pt x="116" y="618"/>
                      </a:lnTo>
                      <a:lnTo>
                        <a:pt x="145" y="621"/>
                      </a:lnTo>
                      <a:lnTo>
                        <a:pt x="995" y="621"/>
                      </a:lnTo>
                      <a:lnTo>
                        <a:pt x="1024" y="618"/>
                      </a:lnTo>
                      <a:lnTo>
                        <a:pt x="1052" y="611"/>
                      </a:lnTo>
                      <a:lnTo>
                        <a:pt x="1078" y="601"/>
                      </a:lnTo>
                      <a:lnTo>
                        <a:pt x="1099" y="587"/>
                      </a:lnTo>
                      <a:lnTo>
                        <a:pt x="1117" y="570"/>
                      </a:lnTo>
                      <a:lnTo>
                        <a:pt x="1129" y="551"/>
                      </a:lnTo>
                      <a:lnTo>
                        <a:pt x="1138" y="529"/>
                      </a:lnTo>
                      <a:lnTo>
                        <a:pt x="1141" y="506"/>
                      </a:lnTo>
                      <a:lnTo>
                        <a:pt x="1141" y="0"/>
                      </a:lnTo>
                      <a:lnTo>
                        <a:pt x="0" y="0"/>
                      </a:lnTo>
                      <a:close/>
                    </a:path>
                  </a:pathLst>
                </a:custGeom>
                <a:solidFill>
                  <a:srgbClr val="b25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84360" y="1643040"/>
                  <a:ext cx="905040" cy="492120"/>
                </a:xfrm>
                <a:custGeom>
                  <a:avLst/>
                  <a:gdLst/>
                  <a:ahLst/>
                  <a:rect l="l" t="t" r="r" b="b"/>
                  <a:pathLst>
                    <a:path w="1141" h="621">
                      <a:moveTo>
                        <a:pt x="0" y="0"/>
                      </a:moveTo>
                      <a:lnTo>
                        <a:pt x="0" y="506"/>
                      </a:lnTo>
                      <a:lnTo>
                        <a:pt x="0" y="506"/>
                      </a:lnTo>
                      <a:lnTo>
                        <a:pt x="3" y="529"/>
                      </a:lnTo>
                      <a:lnTo>
                        <a:pt x="13" y="551"/>
                      </a:lnTo>
                      <a:lnTo>
                        <a:pt x="25" y="570"/>
                      </a:lnTo>
                      <a:lnTo>
                        <a:pt x="43" y="587"/>
                      </a:lnTo>
                      <a:lnTo>
                        <a:pt x="64" y="601"/>
                      </a:lnTo>
                      <a:lnTo>
                        <a:pt x="89" y="611"/>
                      </a:lnTo>
                      <a:lnTo>
                        <a:pt x="116" y="618"/>
                      </a:lnTo>
                      <a:lnTo>
                        <a:pt x="145" y="621"/>
                      </a:lnTo>
                      <a:lnTo>
                        <a:pt x="995" y="621"/>
                      </a:lnTo>
                      <a:lnTo>
                        <a:pt x="995" y="621"/>
                      </a:lnTo>
                      <a:lnTo>
                        <a:pt x="1024" y="618"/>
                      </a:lnTo>
                      <a:lnTo>
                        <a:pt x="1052" y="611"/>
                      </a:lnTo>
                      <a:lnTo>
                        <a:pt x="1078" y="601"/>
                      </a:lnTo>
                      <a:lnTo>
                        <a:pt x="1099" y="587"/>
                      </a:lnTo>
                      <a:lnTo>
                        <a:pt x="1117" y="570"/>
                      </a:lnTo>
                      <a:lnTo>
                        <a:pt x="1129" y="551"/>
                      </a:lnTo>
                      <a:lnTo>
                        <a:pt x="1138" y="529"/>
                      </a:lnTo>
                      <a:lnTo>
                        <a:pt x="1141" y="506"/>
                      </a:lnTo>
                      <a:lnTo>
                        <a:pt x="1141"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84360" y="1646280"/>
                  <a:ext cx="439920" cy="103320"/>
                </a:xfrm>
                <a:custGeom>
                  <a:avLst/>
                  <a:gdLst/>
                  <a:ahLst/>
                  <a:rect l="l" t="t" r="r" b="b"/>
                  <a:pathLst>
                    <a:path w="556" h="130">
                      <a:moveTo>
                        <a:pt x="0" y="130"/>
                      </a:moveTo>
                      <a:lnTo>
                        <a:pt x="0" y="130"/>
                      </a:lnTo>
                      <a:lnTo>
                        <a:pt x="5" y="126"/>
                      </a:lnTo>
                      <a:lnTo>
                        <a:pt x="9" y="124"/>
                      </a:lnTo>
                      <a:lnTo>
                        <a:pt x="14" y="120"/>
                      </a:lnTo>
                      <a:lnTo>
                        <a:pt x="19" y="118"/>
                      </a:lnTo>
                      <a:lnTo>
                        <a:pt x="19" y="118"/>
                      </a:lnTo>
                      <a:lnTo>
                        <a:pt x="28" y="114"/>
                      </a:lnTo>
                      <a:lnTo>
                        <a:pt x="37" y="112"/>
                      </a:lnTo>
                      <a:lnTo>
                        <a:pt x="48" y="111"/>
                      </a:lnTo>
                      <a:lnTo>
                        <a:pt x="58" y="111"/>
                      </a:lnTo>
                      <a:lnTo>
                        <a:pt x="67" y="111"/>
                      </a:lnTo>
                      <a:lnTo>
                        <a:pt x="78" y="111"/>
                      </a:lnTo>
                      <a:lnTo>
                        <a:pt x="89" y="111"/>
                      </a:lnTo>
                      <a:lnTo>
                        <a:pt x="98" y="109"/>
                      </a:lnTo>
                      <a:lnTo>
                        <a:pt x="98" y="109"/>
                      </a:lnTo>
                      <a:lnTo>
                        <a:pt x="105" y="107"/>
                      </a:lnTo>
                      <a:lnTo>
                        <a:pt x="111" y="105"/>
                      </a:lnTo>
                      <a:lnTo>
                        <a:pt x="118" y="101"/>
                      </a:lnTo>
                      <a:lnTo>
                        <a:pt x="125" y="97"/>
                      </a:lnTo>
                      <a:lnTo>
                        <a:pt x="131" y="95"/>
                      </a:lnTo>
                      <a:lnTo>
                        <a:pt x="137" y="91"/>
                      </a:lnTo>
                      <a:lnTo>
                        <a:pt x="143" y="89"/>
                      </a:lnTo>
                      <a:lnTo>
                        <a:pt x="151" y="86"/>
                      </a:lnTo>
                      <a:lnTo>
                        <a:pt x="151" y="86"/>
                      </a:lnTo>
                      <a:lnTo>
                        <a:pt x="163" y="84"/>
                      </a:lnTo>
                      <a:lnTo>
                        <a:pt x="175" y="84"/>
                      </a:lnTo>
                      <a:lnTo>
                        <a:pt x="189" y="84"/>
                      </a:lnTo>
                      <a:lnTo>
                        <a:pt x="203" y="84"/>
                      </a:lnTo>
                      <a:lnTo>
                        <a:pt x="215" y="85"/>
                      </a:lnTo>
                      <a:lnTo>
                        <a:pt x="227" y="84"/>
                      </a:lnTo>
                      <a:lnTo>
                        <a:pt x="239" y="80"/>
                      </a:lnTo>
                      <a:lnTo>
                        <a:pt x="250" y="76"/>
                      </a:lnTo>
                      <a:lnTo>
                        <a:pt x="250" y="76"/>
                      </a:lnTo>
                      <a:lnTo>
                        <a:pt x="262" y="68"/>
                      </a:lnTo>
                      <a:lnTo>
                        <a:pt x="276" y="64"/>
                      </a:lnTo>
                      <a:lnTo>
                        <a:pt x="289" y="60"/>
                      </a:lnTo>
                      <a:lnTo>
                        <a:pt x="305" y="57"/>
                      </a:lnTo>
                      <a:lnTo>
                        <a:pt x="318" y="56"/>
                      </a:lnTo>
                      <a:lnTo>
                        <a:pt x="334" y="55"/>
                      </a:lnTo>
                      <a:lnTo>
                        <a:pt x="347" y="54"/>
                      </a:lnTo>
                      <a:lnTo>
                        <a:pt x="362" y="51"/>
                      </a:lnTo>
                      <a:lnTo>
                        <a:pt x="362" y="51"/>
                      </a:lnTo>
                      <a:lnTo>
                        <a:pt x="370" y="50"/>
                      </a:lnTo>
                      <a:lnTo>
                        <a:pt x="376" y="48"/>
                      </a:lnTo>
                      <a:lnTo>
                        <a:pt x="384" y="45"/>
                      </a:lnTo>
                      <a:lnTo>
                        <a:pt x="390" y="41"/>
                      </a:lnTo>
                      <a:lnTo>
                        <a:pt x="390" y="41"/>
                      </a:lnTo>
                      <a:lnTo>
                        <a:pt x="396" y="36"/>
                      </a:lnTo>
                      <a:lnTo>
                        <a:pt x="405" y="32"/>
                      </a:lnTo>
                      <a:lnTo>
                        <a:pt x="416" y="30"/>
                      </a:lnTo>
                      <a:lnTo>
                        <a:pt x="426" y="28"/>
                      </a:lnTo>
                      <a:lnTo>
                        <a:pt x="426" y="28"/>
                      </a:lnTo>
                      <a:lnTo>
                        <a:pt x="434" y="28"/>
                      </a:lnTo>
                      <a:lnTo>
                        <a:pt x="442" y="27"/>
                      </a:lnTo>
                      <a:lnTo>
                        <a:pt x="449" y="28"/>
                      </a:lnTo>
                      <a:lnTo>
                        <a:pt x="455" y="28"/>
                      </a:lnTo>
                      <a:lnTo>
                        <a:pt x="463" y="28"/>
                      </a:lnTo>
                      <a:lnTo>
                        <a:pt x="470" y="28"/>
                      </a:lnTo>
                      <a:lnTo>
                        <a:pt x="477" y="27"/>
                      </a:lnTo>
                      <a:lnTo>
                        <a:pt x="484" y="26"/>
                      </a:lnTo>
                      <a:lnTo>
                        <a:pt x="484" y="26"/>
                      </a:lnTo>
                      <a:lnTo>
                        <a:pt x="490" y="25"/>
                      </a:lnTo>
                      <a:lnTo>
                        <a:pt x="496" y="22"/>
                      </a:lnTo>
                      <a:lnTo>
                        <a:pt x="502" y="19"/>
                      </a:lnTo>
                      <a:lnTo>
                        <a:pt x="509" y="16"/>
                      </a:lnTo>
                      <a:lnTo>
                        <a:pt x="513" y="14"/>
                      </a:lnTo>
                      <a:lnTo>
                        <a:pt x="519" y="10"/>
                      </a:lnTo>
                      <a:lnTo>
                        <a:pt x="525" y="8"/>
                      </a:lnTo>
                      <a:lnTo>
                        <a:pt x="531" y="7"/>
                      </a:lnTo>
                      <a:lnTo>
                        <a:pt x="531" y="7"/>
                      </a:lnTo>
                      <a:lnTo>
                        <a:pt x="537" y="6"/>
                      </a:lnTo>
                      <a:lnTo>
                        <a:pt x="544" y="3"/>
                      </a:lnTo>
                      <a:lnTo>
                        <a:pt x="548" y="2"/>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84360" y="1644480"/>
                  <a:ext cx="638280" cy="235080"/>
                </a:xfrm>
                <a:custGeom>
                  <a:avLst/>
                  <a:gdLst/>
                  <a:ahLst/>
                  <a:rect l="l" t="t" r="r" b="b"/>
                  <a:pathLst>
                    <a:path w="805" h="296">
                      <a:moveTo>
                        <a:pt x="0" y="296"/>
                      </a:moveTo>
                      <a:lnTo>
                        <a:pt x="0" y="296"/>
                      </a:lnTo>
                      <a:lnTo>
                        <a:pt x="9" y="290"/>
                      </a:lnTo>
                      <a:lnTo>
                        <a:pt x="19" y="284"/>
                      </a:lnTo>
                      <a:lnTo>
                        <a:pt x="28" y="278"/>
                      </a:lnTo>
                      <a:lnTo>
                        <a:pt x="40" y="276"/>
                      </a:lnTo>
                      <a:lnTo>
                        <a:pt x="40" y="276"/>
                      </a:lnTo>
                      <a:lnTo>
                        <a:pt x="57" y="274"/>
                      </a:lnTo>
                      <a:lnTo>
                        <a:pt x="73" y="272"/>
                      </a:lnTo>
                      <a:lnTo>
                        <a:pt x="89" y="271"/>
                      </a:lnTo>
                      <a:lnTo>
                        <a:pt x="104" y="267"/>
                      </a:lnTo>
                      <a:lnTo>
                        <a:pt x="119" y="263"/>
                      </a:lnTo>
                      <a:lnTo>
                        <a:pt x="134" y="257"/>
                      </a:lnTo>
                      <a:lnTo>
                        <a:pt x="148" y="250"/>
                      </a:lnTo>
                      <a:lnTo>
                        <a:pt x="162" y="242"/>
                      </a:lnTo>
                      <a:lnTo>
                        <a:pt x="162" y="242"/>
                      </a:lnTo>
                      <a:lnTo>
                        <a:pt x="171" y="237"/>
                      </a:lnTo>
                      <a:lnTo>
                        <a:pt x="181" y="233"/>
                      </a:lnTo>
                      <a:lnTo>
                        <a:pt x="192" y="232"/>
                      </a:lnTo>
                      <a:lnTo>
                        <a:pt x="203" y="231"/>
                      </a:lnTo>
                      <a:lnTo>
                        <a:pt x="215" y="230"/>
                      </a:lnTo>
                      <a:lnTo>
                        <a:pt x="226" y="230"/>
                      </a:lnTo>
                      <a:lnTo>
                        <a:pt x="236" y="228"/>
                      </a:lnTo>
                      <a:lnTo>
                        <a:pt x="247" y="226"/>
                      </a:lnTo>
                      <a:lnTo>
                        <a:pt x="247" y="226"/>
                      </a:lnTo>
                      <a:lnTo>
                        <a:pt x="253" y="224"/>
                      </a:lnTo>
                      <a:lnTo>
                        <a:pt x="259" y="220"/>
                      </a:lnTo>
                      <a:lnTo>
                        <a:pt x="265" y="216"/>
                      </a:lnTo>
                      <a:lnTo>
                        <a:pt x="271" y="213"/>
                      </a:lnTo>
                      <a:lnTo>
                        <a:pt x="277" y="210"/>
                      </a:lnTo>
                      <a:lnTo>
                        <a:pt x="282" y="207"/>
                      </a:lnTo>
                      <a:lnTo>
                        <a:pt x="288" y="203"/>
                      </a:lnTo>
                      <a:lnTo>
                        <a:pt x="294" y="201"/>
                      </a:lnTo>
                      <a:lnTo>
                        <a:pt x="294" y="201"/>
                      </a:lnTo>
                      <a:lnTo>
                        <a:pt x="311" y="196"/>
                      </a:lnTo>
                      <a:lnTo>
                        <a:pt x="329" y="192"/>
                      </a:lnTo>
                      <a:lnTo>
                        <a:pt x="347" y="190"/>
                      </a:lnTo>
                      <a:lnTo>
                        <a:pt x="365" y="187"/>
                      </a:lnTo>
                      <a:lnTo>
                        <a:pt x="382" y="186"/>
                      </a:lnTo>
                      <a:lnTo>
                        <a:pt x="400" y="183"/>
                      </a:lnTo>
                      <a:lnTo>
                        <a:pt x="419" y="179"/>
                      </a:lnTo>
                      <a:lnTo>
                        <a:pt x="435" y="173"/>
                      </a:lnTo>
                      <a:lnTo>
                        <a:pt x="435" y="173"/>
                      </a:lnTo>
                      <a:lnTo>
                        <a:pt x="445" y="169"/>
                      </a:lnTo>
                      <a:lnTo>
                        <a:pt x="454" y="164"/>
                      </a:lnTo>
                      <a:lnTo>
                        <a:pt x="461" y="160"/>
                      </a:lnTo>
                      <a:lnTo>
                        <a:pt x="470" y="155"/>
                      </a:lnTo>
                      <a:lnTo>
                        <a:pt x="478" y="149"/>
                      </a:lnTo>
                      <a:lnTo>
                        <a:pt x="486" y="144"/>
                      </a:lnTo>
                      <a:lnTo>
                        <a:pt x="495" y="139"/>
                      </a:lnTo>
                      <a:lnTo>
                        <a:pt x="504" y="134"/>
                      </a:lnTo>
                      <a:lnTo>
                        <a:pt x="504" y="134"/>
                      </a:lnTo>
                      <a:lnTo>
                        <a:pt x="516" y="129"/>
                      </a:lnTo>
                      <a:lnTo>
                        <a:pt x="528" y="125"/>
                      </a:lnTo>
                      <a:lnTo>
                        <a:pt x="540" y="122"/>
                      </a:lnTo>
                      <a:lnTo>
                        <a:pt x="553" y="118"/>
                      </a:lnTo>
                      <a:lnTo>
                        <a:pt x="565" y="116"/>
                      </a:lnTo>
                      <a:lnTo>
                        <a:pt x="578" y="114"/>
                      </a:lnTo>
                      <a:lnTo>
                        <a:pt x="591" y="109"/>
                      </a:lnTo>
                      <a:lnTo>
                        <a:pt x="603" y="104"/>
                      </a:lnTo>
                      <a:lnTo>
                        <a:pt x="603" y="104"/>
                      </a:lnTo>
                      <a:lnTo>
                        <a:pt x="613" y="98"/>
                      </a:lnTo>
                      <a:lnTo>
                        <a:pt x="623" y="91"/>
                      </a:lnTo>
                      <a:lnTo>
                        <a:pt x="633" y="85"/>
                      </a:lnTo>
                      <a:lnTo>
                        <a:pt x="642" y="80"/>
                      </a:lnTo>
                      <a:lnTo>
                        <a:pt x="642" y="80"/>
                      </a:lnTo>
                      <a:lnTo>
                        <a:pt x="659" y="74"/>
                      </a:lnTo>
                      <a:lnTo>
                        <a:pt x="676" y="68"/>
                      </a:lnTo>
                      <a:lnTo>
                        <a:pt x="693" y="63"/>
                      </a:lnTo>
                      <a:lnTo>
                        <a:pt x="709" y="57"/>
                      </a:lnTo>
                      <a:lnTo>
                        <a:pt x="725" y="52"/>
                      </a:lnTo>
                      <a:lnTo>
                        <a:pt x="740" y="45"/>
                      </a:lnTo>
                      <a:lnTo>
                        <a:pt x="755" y="36"/>
                      </a:lnTo>
                      <a:lnTo>
                        <a:pt x="769" y="27"/>
                      </a:lnTo>
                      <a:lnTo>
                        <a:pt x="769" y="27"/>
                      </a:lnTo>
                      <a:lnTo>
                        <a:pt x="775" y="23"/>
                      </a:lnTo>
                      <a:lnTo>
                        <a:pt x="784" y="19"/>
                      </a:lnTo>
                      <a:lnTo>
                        <a:pt x="792" y="17"/>
                      </a:lnTo>
                      <a:lnTo>
                        <a:pt x="798" y="13"/>
                      </a:lnTo>
                      <a:lnTo>
                        <a:pt x="798" y="13"/>
                      </a:lnTo>
                      <a:lnTo>
                        <a:pt x="799" y="12"/>
                      </a:lnTo>
                      <a:lnTo>
                        <a:pt x="799" y="9"/>
                      </a:lnTo>
                      <a:lnTo>
                        <a:pt x="799" y="6"/>
                      </a:lnTo>
                      <a:lnTo>
                        <a:pt x="799" y="3"/>
                      </a:lnTo>
                      <a:lnTo>
                        <a:pt x="799" y="3"/>
                      </a:lnTo>
                      <a:lnTo>
                        <a:pt x="801" y="3"/>
                      </a:lnTo>
                      <a:lnTo>
                        <a:pt x="802" y="3"/>
                      </a:lnTo>
                      <a:lnTo>
                        <a:pt x="804" y="1"/>
                      </a:lnTo>
                      <a:lnTo>
                        <a:pt x="80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389040" y="1646280"/>
                  <a:ext cx="812880" cy="419040"/>
                </a:xfrm>
                <a:custGeom>
                  <a:avLst/>
                  <a:gdLst/>
                  <a:ahLst/>
                  <a:rect l="l" t="t" r="r" b="b"/>
                  <a:pathLst>
                    <a:path w="1024" h="526">
                      <a:moveTo>
                        <a:pt x="0" y="526"/>
                      </a:moveTo>
                      <a:lnTo>
                        <a:pt x="0" y="526"/>
                      </a:lnTo>
                      <a:lnTo>
                        <a:pt x="6" y="524"/>
                      </a:lnTo>
                      <a:lnTo>
                        <a:pt x="11" y="519"/>
                      </a:lnTo>
                      <a:lnTo>
                        <a:pt x="14" y="514"/>
                      </a:lnTo>
                      <a:lnTo>
                        <a:pt x="18" y="511"/>
                      </a:lnTo>
                      <a:lnTo>
                        <a:pt x="18" y="511"/>
                      </a:lnTo>
                      <a:lnTo>
                        <a:pt x="24" y="507"/>
                      </a:lnTo>
                      <a:lnTo>
                        <a:pt x="32" y="503"/>
                      </a:lnTo>
                      <a:lnTo>
                        <a:pt x="40" y="501"/>
                      </a:lnTo>
                      <a:lnTo>
                        <a:pt x="47" y="500"/>
                      </a:lnTo>
                      <a:lnTo>
                        <a:pt x="55" y="498"/>
                      </a:lnTo>
                      <a:lnTo>
                        <a:pt x="62" y="497"/>
                      </a:lnTo>
                      <a:lnTo>
                        <a:pt x="71" y="496"/>
                      </a:lnTo>
                      <a:lnTo>
                        <a:pt x="79" y="495"/>
                      </a:lnTo>
                      <a:lnTo>
                        <a:pt x="79" y="495"/>
                      </a:lnTo>
                      <a:lnTo>
                        <a:pt x="87" y="492"/>
                      </a:lnTo>
                      <a:lnTo>
                        <a:pt x="96" y="491"/>
                      </a:lnTo>
                      <a:lnTo>
                        <a:pt x="103" y="488"/>
                      </a:lnTo>
                      <a:lnTo>
                        <a:pt x="111" y="484"/>
                      </a:lnTo>
                      <a:lnTo>
                        <a:pt x="111" y="484"/>
                      </a:lnTo>
                      <a:lnTo>
                        <a:pt x="122" y="475"/>
                      </a:lnTo>
                      <a:lnTo>
                        <a:pt x="128" y="466"/>
                      </a:lnTo>
                      <a:lnTo>
                        <a:pt x="134" y="456"/>
                      </a:lnTo>
                      <a:lnTo>
                        <a:pt x="143" y="446"/>
                      </a:lnTo>
                      <a:lnTo>
                        <a:pt x="143" y="446"/>
                      </a:lnTo>
                      <a:lnTo>
                        <a:pt x="154" y="442"/>
                      </a:lnTo>
                      <a:lnTo>
                        <a:pt x="164" y="439"/>
                      </a:lnTo>
                      <a:lnTo>
                        <a:pt x="176" y="439"/>
                      </a:lnTo>
                      <a:lnTo>
                        <a:pt x="187" y="437"/>
                      </a:lnTo>
                      <a:lnTo>
                        <a:pt x="187" y="437"/>
                      </a:lnTo>
                      <a:lnTo>
                        <a:pt x="192" y="434"/>
                      </a:lnTo>
                      <a:lnTo>
                        <a:pt x="195" y="432"/>
                      </a:lnTo>
                      <a:lnTo>
                        <a:pt x="198" y="428"/>
                      </a:lnTo>
                      <a:lnTo>
                        <a:pt x="202" y="427"/>
                      </a:lnTo>
                      <a:lnTo>
                        <a:pt x="202" y="427"/>
                      </a:lnTo>
                      <a:lnTo>
                        <a:pt x="216" y="422"/>
                      </a:lnTo>
                      <a:lnTo>
                        <a:pt x="230" y="417"/>
                      </a:lnTo>
                      <a:lnTo>
                        <a:pt x="242" y="410"/>
                      </a:lnTo>
                      <a:lnTo>
                        <a:pt x="254" y="404"/>
                      </a:lnTo>
                      <a:lnTo>
                        <a:pt x="266" y="397"/>
                      </a:lnTo>
                      <a:lnTo>
                        <a:pt x="278" y="389"/>
                      </a:lnTo>
                      <a:lnTo>
                        <a:pt x="289" y="380"/>
                      </a:lnTo>
                      <a:lnTo>
                        <a:pt x="301" y="372"/>
                      </a:lnTo>
                      <a:lnTo>
                        <a:pt x="301" y="372"/>
                      </a:lnTo>
                      <a:lnTo>
                        <a:pt x="312" y="366"/>
                      </a:lnTo>
                      <a:lnTo>
                        <a:pt x="323" y="360"/>
                      </a:lnTo>
                      <a:lnTo>
                        <a:pt x="333" y="356"/>
                      </a:lnTo>
                      <a:lnTo>
                        <a:pt x="345" y="352"/>
                      </a:lnTo>
                      <a:lnTo>
                        <a:pt x="357" y="349"/>
                      </a:lnTo>
                      <a:lnTo>
                        <a:pt x="370" y="346"/>
                      </a:lnTo>
                      <a:lnTo>
                        <a:pt x="383" y="344"/>
                      </a:lnTo>
                      <a:lnTo>
                        <a:pt x="397" y="341"/>
                      </a:lnTo>
                      <a:lnTo>
                        <a:pt x="397" y="341"/>
                      </a:lnTo>
                      <a:lnTo>
                        <a:pt x="402" y="340"/>
                      </a:lnTo>
                      <a:lnTo>
                        <a:pt x="405" y="339"/>
                      </a:lnTo>
                      <a:lnTo>
                        <a:pt x="409" y="337"/>
                      </a:lnTo>
                      <a:lnTo>
                        <a:pt x="412" y="334"/>
                      </a:lnTo>
                      <a:lnTo>
                        <a:pt x="412" y="334"/>
                      </a:lnTo>
                      <a:lnTo>
                        <a:pt x="423" y="322"/>
                      </a:lnTo>
                      <a:lnTo>
                        <a:pt x="434" y="311"/>
                      </a:lnTo>
                      <a:lnTo>
                        <a:pt x="444" y="302"/>
                      </a:lnTo>
                      <a:lnTo>
                        <a:pt x="455" y="292"/>
                      </a:lnTo>
                      <a:lnTo>
                        <a:pt x="455" y="292"/>
                      </a:lnTo>
                      <a:lnTo>
                        <a:pt x="466" y="285"/>
                      </a:lnTo>
                      <a:lnTo>
                        <a:pt x="478" y="279"/>
                      </a:lnTo>
                      <a:lnTo>
                        <a:pt x="490" y="273"/>
                      </a:lnTo>
                      <a:lnTo>
                        <a:pt x="502" y="268"/>
                      </a:lnTo>
                      <a:lnTo>
                        <a:pt x="516" y="262"/>
                      </a:lnTo>
                      <a:lnTo>
                        <a:pt x="528" y="257"/>
                      </a:lnTo>
                      <a:lnTo>
                        <a:pt x="542" y="252"/>
                      </a:lnTo>
                      <a:lnTo>
                        <a:pt x="554" y="247"/>
                      </a:lnTo>
                      <a:lnTo>
                        <a:pt x="554" y="247"/>
                      </a:lnTo>
                      <a:lnTo>
                        <a:pt x="564" y="244"/>
                      </a:lnTo>
                      <a:lnTo>
                        <a:pt x="575" y="240"/>
                      </a:lnTo>
                      <a:lnTo>
                        <a:pt x="587" y="236"/>
                      </a:lnTo>
                      <a:lnTo>
                        <a:pt x="598" y="234"/>
                      </a:lnTo>
                      <a:lnTo>
                        <a:pt x="609" y="230"/>
                      </a:lnTo>
                      <a:lnTo>
                        <a:pt x="621" y="227"/>
                      </a:lnTo>
                      <a:lnTo>
                        <a:pt x="631" y="221"/>
                      </a:lnTo>
                      <a:lnTo>
                        <a:pt x="642" y="215"/>
                      </a:lnTo>
                      <a:lnTo>
                        <a:pt x="642" y="215"/>
                      </a:lnTo>
                      <a:lnTo>
                        <a:pt x="648" y="212"/>
                      </a:lnTo>
                      <a:lnTo>
                        <a:pt x="654" y="210"/>
                      </a:lnTo>
                      <a:lnTo>
                        <a:pt x="662" y="209"/>
                      </a:lnTo>
                      <a:lnTo>
                        <a:pt x="669" y="207"/>
                      </a:lnTo>
                      <a:lnTo>
                        <a:pt x="675" y="206"/>
                      </a:lnTo>
                      <a:lnTo>
                        <a:pt x="683" y="205"/>
                      </a:lnTo>
                      <a:lnTo>
                        <a:pt x="689" y="204"/>
                      </a:lnTo>
                      <a:lnTo>
                        <a:pt x="695" y="200"/>
                      </a:lnTo>
                      <a:lnTo>
                        <a:pt x="695" y="200"/>
                      </a:lnTo>
                      <a:lnTo>
                        <a:pt x="710" y="193"/>
                      </a:lnTo>
                      <a:lnTo>
                        <a:pt x="727" y="187"/>
                      </a:lnTo>
                      <a:lnTo>
                        <a:pt x="744" y="182"/>
                      </a:lnTo>
                      <a:lnTo>
                        <a:pt x="761" y="178"/>
                      </a:lnTo>
                      <a:lnTo>
                        <a:pt x="777" y="173"/>
                      </a:lnTo>
                      <a:lnTo>
                        <a:pt x="793" y="169"/>
                      </a:lnTo>
                      <a:lnTo>
                        <a:pt x="808" y="161"/>
                      </a:lnTo>
                      <a:lnTo>
                        <a:pt x="820" y="153"/>
                      </a:lnTo>
                      <a:lnTo>
                        <a:pt x="820" y="153"/>
                      </a:lnTo>
                      <a:lnTo>
                        <a:pt x="832" y="141"/>
                      </a:lnTo>
                      <a:lnTo>
                        <a:pt x="844" y="129"/>
                      </a:lnTo>
                      <a:lnTo>
                        <a:pt x="855" y="117"/>
                      </a:lnTo>
                      <a:lnTo>
                        <a:pt x="866" y="105"/>
                      </a:lnTo>
                      <a:lnTo>
                        <a:pt x="878" y="93"/>
                      </a:lnTo>
                      <a:lnTo>
                        <a:pt x="890" y="82"/>
                      </a:lnTo>
                      <a:lnTo>
                        <a:pt x="904" y="72"/>
                      </a:lnTo>
                      <a:lnTo>
                        <a:pt x="920" y="62"/>
                      </a:lnTo>
                      <a:lnTo>
                        <a:pt x="920" y="62"/>
                      </a:lnTo>
                      <a:lnTo>
                        <a:pt x="927" y="60"/>
                      </a:lnTo>
                      <a:lnTo>
                        <a:pt x="933" y="57"/>
                      </a:lnTo>
                      <a:lnTo>
                        <a:pt x="939" y="55"/>
                      </a:lnTo>
                      <a:lnTo>
                        <a:pt x="945" y="53"/>
                      </a:lnTo>
                      <a:lnTo>
                        <a:pt x="951" y="51"/>
                      </a:lnTo>
                      <a:lnTo>
                        <a:pt x="957" y="49"/>
                      </a:lnTo>
                      <a:lnTo>
                        <a:pt x="963" y="47"/>
                      </a:lnTo>
                      <a:lnTo>
                        <a:pt x="968" y="43"/>
                      </a:lnTo>
                      <a:lnTo>
                        <a:pt x="968" y="43"/>
                      </a:lnTo>
                      <a:lnTo>
                        <a:pt x="974" y="37"/>
                      </a:lnTo>
                      <a:lnTo>
                        <a:pt x="980" y="31"/>
                      </a:lnTo>
                      <a:lnTo>
                        <a:pt x="986" y="24"/>
                      </a:lnTo>
                      <a:lnTo>
                        <a:pt x="992" y="18"/>
                      </a:lnTo>
                      <a:lnTo>
                        <a:pt x="1000" y="12"/>
                      </a:lnTo>
                      <a:lnTo>
                        <a:pt x="1006" y="7"/>
                      </a:lnTo>
                      <a:lnTo>
                        <a:pt x="1015" y="2"/>
                      </a:lnTo>
                      <a:lnTo>
                        <a:pt x="10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00360" y="1711440"/>
                  <a:ext cx="691920" cy="425160"/>
                </a:xfrm>
                <a:custGeom>
                  <a:avLst/>
                  <a:gdLst/>
                  <a:ahLst/>
                  <a:rect l="l" t="t" r="r" b="b"/>
                  <a:pathLst>
                    <a:path w="871" h="537">
                      <a:moveTo>
                        <a:pt x="0" y="537"/>
                      </a:moveTo>
                      <a:lnTo>
                        <a:pt x="0" y="537"/>
                      </a:lnTo>
                      <a:lnTo>
                        <a:pt x="12" y="526"/>
                      </a:lnTo>
                      <a:lnTo>
                        <a:pt x="26" y="516"/>
                      </a:lnTo>
                      <a:lnTo>
                        <a:pt x="41" y="510"/>
                      </a:lnTo>
                      <a:lnTo>
                        <a:pt x="56" y="504"/>
                      </a:lnTo>
                      <a:lnTo>
                        <a:pt x="74" y="501"/>
                      </a:lnTo>
                      <a:lnTo>
                        <a:pt x="91" y="497"/>
                      </a:lnTo>
                      <a:lnTo>
                        <a:pt x="111" y="495"/>
                      </a:lnTo>
                      <a:lnTo>
                        <a:pt x="129" y="492"/>
                      </a:lnTo>
                      <a:lnTo>
                        <a:pt x="129" y="492"/>
                      </a:lnTo>
                      <a:lnTo>
                        <a:pt x="140" y="490"/>
                      </a:lnTo>
                      <a:lnTo>
                        <a:pt x="150" y="487"/>
                      </a:lnTo>
                      <a:lnTo>
                        <a:pt x="158" y="484"/>
                      </a:lnTo>
                      <a:lnTo>
                        <a:pt x="164" y="478"/>
                      </a:lnTo>
                      <a:lnTo>
                        <a:pt x="164" y="478"/>
                      </a:lnTo>
                      <a:lnTo>
                        <a:pt x="172" y="468"/>
                      </a:lnTo>
                      <a:lnTo>
                        <a:pt x="181" y="460"/>
                      </a:lnTo>
                      <a:lnTo>
                        <a:pt x="190" y="451"/>
                      </a:lnTo>
                      <a:lnTo>
                        <a:pt x="201" y="445"/>
                      </a:lnTo>
                      <a:lnTo>
                        <a:pt x="201" y="445"/>
                      </a:lnTo>
                      <a:lnTo>
                        <a:pt x="213" y="438"/>
                      </a:lnTo>
                      <a:lnTo>
                        <a:pt x="226" y="431"/>
                      </a:lnTo>
                      <a:lnTo>
                        <a:pt x="242" y="424"/>
                      </a:lnTo>
                      <a:lnTo>
                        <a:pt x="255" y="420"/>
                      </a:lnTo>
                      <a:lnTo>
                        <a:pt x="269" y="414"/>
                      </a:lnTo>
                      <a:lnTo>
                        <a:pt x="281" y="406"/>
                      </a:lnTo>
                      <a:lnTo>
                        <a:pt x="292" y="398"/>
                      </a:lnTo>
                      <a:lnTo>
                        <a:pt x="299" y="387"/>
                      </a:lnTo>
                      <a:lnTo>
                        <a:pt x="299" y="387"/>
                      </a:lnTo>
                      <a:lnTo>
                        <a:pt x="304" y="379"/>
                      </a:lnTo>
                      <a:lnTo>
                        <a:pt x="307" y="371"/>
                      </a:lnTo>
                      <a:lnTo>
                        <a:pt x="312" y="364"/>
                      </a:lnTo>
                      <a:lnTo>
                        <a:pt x="318" y="357"/>
                      </a:lnTo>
                      <a:lnTo>
                        <a:pt x="322" y="351"/>
                      </a:lnTo>
                      <a:lnTo>
                        <a:pt x="330" y="345"/>
                      </a:lnTo>
                      <a:lnTo>
                        <a:pt x="336" y="339"/>
                      </a:lnTo>
                      <a:lnTo>
                        <a:pt x="345" y="334"/>
                      </a:lnTo>
                      <a:lnTo>
                        <a:pt x="345" y="334"/>
                      </a:lnTo>
                      <a:lnTo>
                        <a:pt x="366" y="323"/>
                      </a:lnTo>
                      <a:lnTo>
                        <a:pt x="385" y="311"/>
                      </a:lnTo>
                      <a:lnTo>
                        <a:pt x="404" y="300"/>
                      </a:lnTo>
                      <a:lnTo>
                        <a:pt x="423" y="288"/>
                      </a:lnTo>
                      <a:lnTo>
                        <a:pt x="441" y="276"/>
                      </a:lnTo>
                      <a:lnTo>
                        <a:pt x="459" y="264"/>
                      </a:lnTo>
                      <a:lnTo>
                        <a:pt x="477" y="252"/>
                      </a:lnTo>
                      <a:lnTo>
                        <a:pt x="496" y="240"/>
                      </a:lnTo>
                      <a:lnTo>
                        <a:pt x="496" y="240"/>
                      </a:lnTo>
                      <a:lnTo>
                        <a:pt x="505" y="231"/>
                      </a:lnTo>
                      <a:lnTo>
                        <a:pt x="514" y="222"/>
                      </a:lnTo>
                      <a:lnTo>
                        <a:pt x="522" y="212"/>
                      </a:lnTo>
                      <a:lnTo>
                        <a:pt x="531" y="203"/>
                      </a:lnTo>
                      <a:lnTo>
                        <a:pt x="531" y="203"/>
                      </a:lnTo>
                      <a:lnTo>
                        <a:pt x="544" y="194"/>
                      </a:lnTo>
                      <a:lnTo>
                        <a:pt x="560" y="186"/>
                      </a:lnTo>
                      <a:lnTo>
                        <a:pt x="576" y="180"/>
                      </a:lnTo>
                      <a:lnTo>
                        <a:pt x="593" y="176"/>
                      </a:lnTo>
                      <a:lnTo>
                        <a:pt x="610" y="170"/>
                      </a:lnTo>
                      <a:lnTo>
                        <a:pt x="625" y="164"/>
                      </a:lnTo>
                      <a:lnTo>
                        <a:pt x="640" y="156"/>
                      </a:lnTo>
                      <a:lnTo>
                        <a:pt x="652" y="145"/>
                      </a:lnTo>
                      <a:lnTo>
                        <a:pt x="652" y="145"/>
                      </a:lnTo>
                      <a:lnTo>
                        <a:pt x="665" y="133"/>
                      </a:lnTo>
                      <a:lnTo>
                        <a:pt x="675" y="121"/>
                      </a:lnTo>
                      <a:lnTo>
                        <a:pt x="687" y="110"/>
                      </a:lnTo>
                      <a:lnTo>
                        <a:pt x="701" y="100"/>
                      </a:lnTo>
                      <a:lnTo>
                        <a:pt x="713" y="90"/>
                      </a:lnTo>
                      <a:lnTo>
                        <a:pt x="728" y="81"/>
                      </a:lnTo>
                      <a:lnTo>
                        <a:pt x="745" y="74"/>
                      </a:lnTo>
                      <a:lnTo>
                        <a:pt x="763" y="69"/>
                      </a:lnTo>
                      <a:lnTo>
                        <a:pt x="763" y="69"/>
                      </a:lnTo>
                      <a:lnTo>
                        <a:pt x="774" y="58"/>
                      </a:lnTo>
                      <a:lnTo>
                        <a:pt x="785" y="48"/>
                      </a:lnTo>
                      <a:lnTo>
                        <a:pt x="797" y="37"/>
                      </a:lnTo>
                      <a:lnTo>
                        <a:pt x="811" y="28"/>
                      </a:lnTo>
                      <a:lnTo>
                        <a:pt x="824" y="20"/>
                      </a:lnTo>
                      <a:lnTo>
                        <a:pt x="840" y="13"/>
                      </a:lnTo>
                      <a:lnTo>
                        <a:pt x="855" y="6"/>
                      </a:lnTo>
                      <a:lnTo>
                        <a:pt x="87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6040" y="1876320"/>
                  <a:ext cx="336240" cy="260280"/>
                </a:xfrm>
                <a:custGeom>
                  <a:avLst/>
                  <a:gdLst/>
                  <a:ahLst/>
                  <a:rect l="l" t="t" r="r" b="b"/>
                  <a:pathLst>
                    <a:path w="422" h="329">
                      <a:moveTo>
                        <a:pt x="0" y="329"/>
                      </a:moveTo>
                      <a:lnTo>
                        <a:pt x="0" y="329"/>
                      </a:lnTo>
                      <a:lnTo>
                        <a:pt x="6" y="325"/>
                      </a:lnTo>
                      <a:lnTo>
                        <a:pt x="12" y="322"/>
                      </a:lnTo>
                      <a:lnTo>
                        <a:pt x="18" y="318"/>
                      </a:lnTo>
                      <a:lnTo>
                        <a:pt x="24" y="314"/>
                      </a:lnTo>
                      <a:lnTo>
                        <a:pt x="30" y="311"/>
                      </a:lnTo>
                      <a:lnTo>
                        <a:pt x="36" y="307"/>
                      </a:lnTo>
                      <a:lnTo>
                        <a:pt x="42" y="303"/>
                      </a:lnTo>
                      <a:lnTo>
                        <a:pt x="48" y="300"/>
                      </a:lnTo>
                      <a:lnTo>
                        <a:pt x="48" y="300"/>
                      </a:lnTo>
                      <a:lnTo>
                        <a:pt x="57" y="290"/>
                      </a:lnTo>
                      <a:lnTo>
                        <a:pt x="63" y="279"/>
                      </a:lnTo>
                      <a:lnTo>
                        <a:pt x="70" y="268"/>
                      </a:lnTo>
                      <a:lnTo>
                        <a:pt x="79" y="259"/>
                      </a:lnTo>
                      <a:lnTo>
                        <a:pt x="79" y="259"/>
                      </a:lnTo>
                      <a:lnTo>
                        <a:pt x="91" y="252"/>
                      </a:lnTo>
                      <a:lnTo>
                        <a:pt x="103" y="245"/>
                      </a:lnTo>
                      <a:lnTo>
                        <a:pt x="117" y="241"/>
                      </a:lnTo>
                      <a:lnTo>
                        <a:pt x="130" y="237"/>
                      </a:lnTo>
                      <a:lnTo>
                        <a:pt x="144" y="232"/>
                      </a:lnTo>
                      <a:lnTo>
                        <a:pt x="156" y="229"/>
                      </a:lnTo>
                      <a:lnTo>
                        <a:pt x="168" y="223"/>
                      </a:lnTo>
                      <a:lnTo>
                        <a:pt x="178" y="214"/>
                      </a:lnTo>
                      <a:lnTo>
                        <a:pt x="178" y="214"/>
                      </a:lnTo>
                      <a:lnTo>
                        <a:pt x="193" y="198"/>
                      </a:lnTo>
                      <a:lnTo>
                        <a:pt x="208" y="184"/>
                      </a:lnTo>
                      <a:lnTo>
                        <a:pt x="223" y="168"/>
                      </a:lnTo>
                      <a:lnTo>
                        <a:pt x="238" y="154"/>
                      </a:lnTo>
                      <a:lnTo>
                        <a:pt x="254" y="139"/>
                      </a:lnTo>
                      <a:lnTo>
                        <a:pt x="269" y="125"/>
                      </a:lnTo>
                      <a:lnTo>
                        <a:pt x="286" y="110"/>
                      </a:lnTo>
                      <a:lnTo>
                        <a:pt x="301" y="94"/>
                      </a:lnTo>
                      <a:lnTo>
                        <a:pt x="301" y="94"/>
                      </a:lnTo>
                      <a:lnTo>
                        <a:pt x="308" y="82"/>
                      </a:lnTo>
                      <a:lnTo>
                        <a:pt x="314" y="69"/>
                      </a:lnTo>
                      <a:lnTo>
                        <a:pt x="319" y="55"/>
                      </a:lnTo>
                      <a:lnTo>
                        <a:pt x="327" y="43"/>
                      </a:lnTo>
                      <a:lnTo>
                        <a:pt x="327" y="43"/>
                      </a:lnTo>
                      <a:lnTo>
                        <a:pt x="336" y="34"/>
                      </a:lnTo>
                      <a:lnTo>
                        <a:pt x="346" y="27"/>
                      </a:lnTo>
                      <a:lnTo>
                        <a:pt x="357" y="21"/>
                      </a:lnTo>
                      <a:lnTo>
                        <a:pt x="369" y="15"/>
                      </a:lnTo>
                      <a:lnTo>
                        <a:pt x="381" y="10"/>
                      </a:lnTo>
                      <a:lnTo>
                        <a:pt x="395" y="5"/>
                      </a:lnTo>
                      <a:lnTo>
                        <a:pt x="409" y="3"/>
                      </a:lnTo>
                      <a:lnTo>
                        <a:pt x="4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168800" y="2044800"/>
                  <a:ext cx="126720" cy="95040"/>
                </a:xfrm>
                <a:custGeom>
                  <a:avLst/>
                  <a:gdLst/>
                  <a:ahLst/>
                  <a:rect l="l" t="t" r="r" b="b"/>
                  <a:pathLst>
                    <a:path w="160" h="121">
                      <a:moveTo>
                        <a:pt x="6" y="121"/>
                      </a:moveTo>
                      <a:lnTo>
                        <a:pt x="6" y="121"/>
                      </a:lnTo>
                      <a:lnTo>
                        <a:pt x="37" y="117"/>
                      </a:lnTo>
                      <a:lnTo>
                        <a:pt x="64" y="110"/>
                      </a:lnTo>
                      <a:lnTo>
                        <a:pt x="92" y="100"/>
                      </a:lnTo>
                      <a:lnTo>
                        <a:pt x="114" y="84"/>
                      </a:lnTo>
                      <a:lnTo>
                        <a:pt x="134" y="66"/>
                      </a:lnTo>
                      <a:lnTo>
                        <a:pt x="146" y="46"/>
                      </a:lnTo>
                      <a:lnTo>
                        <a:pt x="155" y="24"/>
                      </a:lnTo>
                      <a:lnTo>
                        <a:pt x="160" y="0"/>
                      </a:lnTo>
                      <a:lnTo>
                        <a:pt x="145" y="0"/>
                      </a:lnTo>
                      <a:lnTo>
                        <a:pt x="143" y="22"/>
                      </a:lnTo>
                      <a:lnTo>
                        <a:pt x="134" y="43"/>
                      </a:lnTo>
                      <a:lnTo>
                        <a:pt x="122" y="61"/>
                      </a:lnTo>
                      <a:lnTo>
                        <a:pt x="105" y="77"/>
                      </a:lnTo>
                      <a:lnTo>
                        <a:pt x="85" y="90"/>
                      </a:lnTo>
                      <a:lnTo>
                        <a:pt x="61" y="100"/>
                      </a:lnTo>
                      <a:lnTo>
                        <a:pt x="34" y="107"/>
                      </a:lnTo>
                      <a:lnTo>
                        <a:pt x="6" y="109"/>
                      </a:lnTo>
                      <a:lnTo>
                        <a:pt x="6" y="109"/>
                      </a:lnTo>
                      <a:lnTo>
                        <a:pt x="6" y="109"/>
                      </a:lnTo>
                      <a:lnTo>
                        <a:pt x="2" y="111"/>
                      </a:lnTo>
                      <a:lnTo>
                        <a:pt x="0" y="115"/>
                      </a:lnTo>
                      <a:lnTo>
                        <a:pt x="2" y="118"/>
                      </a:lnTo>
                      <a:lnTo>
                        <a:pt x="6"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93800" y="2130480"/>
                  <a:ext cx="679680" cy="9360"/>
                </a:xfrm>
                <a:custGeom>
                  <a:avLst/>
                  <a:gdLst/>
                  <a:ahLst/>
                  <a:rect l="l" t="t" r="r" b="b"/>
                  <a:pathLst>
                    <a:path w="856" h="12">
                      <a:moveTo>
                        <a:pt x="6" y="12"/>
                      </a:moveTo>
                      <a:lnTo>
                        <a:pt x="6" y="12"/>
                      </a:lnTo>
                      <a:lnTo>
                        <a:pt x="856" y="12"/>
                      </a:lnTo>
                      <a:lnTo>
                        <a:pt x="856" y="0"/>
                      </a:lnTo>
                      <a:lnTo>
                        <a:pt x="6" y="0"/>
                      </a:lnTo>
                      <a:lnTo>
                        <a:pt x="6" y="0"/>
                      </a:lnTo>
                      <a:lnTo>
                        <a:pt x="6" y="0"/>
                      </a:lnTo>
                      <a:lnTo>
                        <a:pt x="1" y="2"/>
                      </a:lnTo>
                      <a:lnTo>
                        <a:pt x="0" y="6"/>
                      </a:lnTo>
                      <a:lnTo>
                        <a:pt x="1" y="9"/>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a:off x="3377880" y="2039760"/>
                  <a:ext cx="120960" cy="100080"/>
                </a:xfrm>
                <a:custGeom>
                  <a:avLst/>
                  <a:gdLst/>
                  <a:ahLst/>
                  <a:rect l="l" t="t" r="r" b="b"/>
                  <a:pathLst>
                    <a:path w="152" h="127">
                      <a:moveTo>
                        <a:pt x="0" y="6"/>
                      </a:moveTo>
                      <a:lnTo>
                        <a:pt x="0" y="6"/>
                      </a:lnTo>
                      <a:lnTo>
                        <a:pt x="4" y="30"/>
                      </a:lnTo>
                      <a:lnTo>
                        <a:pt x="13" y="52"/>
                      </a:lnTo>
                      <a:lnTo>
                        <a:pt x="26" y="72"/>
                      </a:lnTo>
                      <a:lnTo>
                        <a:pt x="45" y="90"/>
                      </a:lnTo>
                      <a:lnTo>
                        <a:pt x="68" y="106"/>
                      </a:lnTo>
                      <a:lnTo>
                        <a:pt x="94" y="116"/>
                      </a:lnTo>
                      <a:lnTo>
                        <a:pt x="121" y="123"/>
                      </a:lnTo>
                      <a:lnTo>
                        <a:pt x="152" y="127"/>
                      </a:lnTo>
                      <a:lnTo>
                        <a:pt x="152" y="115"/>
                      </a:lnTo>
                      <a:lnTo>
                        <a:pt x="125" y="113"/>
                      </a:lnTo>
                      <a:lnTo>
                        <a:pt x="97" y="106"/>
                      </a:lnTo>
                      <a:lnTo>
                        <a:pt x="74" y="96"/>
                      </a:lnTo>
                      <a:lnTo>
                        <a:pt x="55" y="83"/>
                      </a:lnTo>
                      <a:lnTo>
                        <a:pt x="38" y="67"/>
                      </a:lnTo>
                      <a:lnTo>
                        <a:pt x="26" y="49"/>
                      </a:lnTo>
                      <a:lnTo>
                        <a:pt x="16" y="28"/>
                      </a:lnTo>
                      <a:lnTo>
                        <a:pt x="15" y="6"/>
                      </a:lnTo>
                      <a:lnTo>
                        <a:pt x="15" y="6"/>
                      </a:lnTo>
                      <a:lnTo>
                        <a:pt x="15" y="6"/>
                      </a:lnTo>
                      <a:lnTo>
                        <a:pt x="12" y="2"/>
                      </a:lnTo>
                      <a:lnTo>
                        <a:pt x="7" y="0"/>
                      </a:lnTo>
                      <a:lnTo>
                        <a:pt x="3"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77880" y="1503360"/>
                  <a:ext cx="11160" cy="541440"/>
                </a:xfrm>
                <a:custGeom>
                  <a:avLst/>
                  <a:gdLst/>
                  <a:ahLst/>
                  <a:rect l="l" t="t" r="r" b="b"/>
                  <a:pathLst>
                    <a:path w="15" h="682">
                      <a:moveTo>
                        <a:pt x="0" y="7"/>
                      </a:moveTo>
                      <a:lnTo>
                        <a:pt x="0" y="7"/>
                      </a:lnTo>
                      <a:lnTo>
                        <a:pt x="0" y="682"/>
                      </a:lnTo>
                      <a:lnTo>
                        <a:pt x="15" y="682"/>
                      </a:lnTo>
                      <a:lnTo>
                        <a:pt x="15" y="7"/>
                      </a:lnTo>
                      <a:lnTo>
                        <a:pt x="15" y="7"/>
                      </a:lnTo>
                      <a:lnTo>
                        <a:pt x="15" y="7"/>
                      </a:lnTo>
                      <a:lnTo>
                        <a:pt x="12" y="3"/>
                      </a:lnTo>
                      <a:lnTo>
                        <a:pt x="7" y="0"/>
                      </a:lnTo>
                      <a:lnTo>
                        <a:pt x="3" y="3"/>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377880" y="1411200"/>
                  <a:ext cx="127080" cy="96840"/>
                </a:xfrm>
                <a:custGeom>
                  <a:avLst/>
                  <a:gdLst/>
                  <a:ahLst/>
                  <a:rect l="l" t="t" r="r" b="b"/>
                  <a:pathLst>
                    <a:path w="159" h="122">
                      <a:moveTo>
                        <a:pt x="152" y="0"/>
                      </a:moveTo>
                      <a:lnTo>
                        <a:pt x="152" y="0"/>
                      </a:lnTo>
                      <a:lnTo>
                        <a:pt x="121" y="3"/>
                      </a:lnTo>
                      <a:lnTo>
                        <a:pt x="94" y="10"/>
                      </a:lnTo>
                      <a:lnTo>
                        <a:pt x="68" y="20"/>
                      </a:lnTo>
                      <a:lnTo>
                        <a:pt x="45" y="36"/>
                      </a:lnTo>
                      <a:lnTo>
                        <a:pt x="26" y="54"/>
                      </a:lnTo>
                      <a:lnTo>
                        <a:pt x="13" y="76"/>
                      </a:lnTo>
                      <a:lnTo>
                        <a:pt x="4" y="97"/>
                      </a:lnTo>
                      <a:lnTo>
                        <a:pt x="0" y="122"/>
                      </a:lnTo>
                      <a:lnTo>
                        <a:pt x="15" y="122"/>
                      </a:lnTo>
                      <a:lnTo>
                        <a:pt x="16" y="100"/>
                      </a:lnTo>
                      <a:lnTo>
                        <a:pt x="26" y="78"/>
                      </a:lnTo>
                      <a:lnTo>
                        <a:pt x="38" y="59"/>
                      </a:lnTo>
                      <a:lnTo>
                        <a:pt x="55" y="43"/>
                      </a:lnTo>
                      <a:lnTo>
                        <a:pt x="74" y="30"/>
                      </a:lnTo>
                      <a:lnTo>
                        <a:pt x="97" y="20"/>
                      </a:lnTo>
                      <a:lnTo>
                        <a:pt x="125" y="13"/>
                      </a:lnTo>
                      <a:lnTo>
                        <a:pt x="152" y="12"/>
                      </a:lnTo>
                      <a:lnTo>
                        <a:pt x="152" y="12"/>
                      </a:lnTo>
                      <a:lnTo>
                        <a:pt x="152" y="12"/>
                      </a:lnTo>
                      <a:lnTo>
                        <a:pt x="156" y="9"/>
                      </a:lnTo>
                      <a:lnTo>
                        <a:pt x="159" y="6"/>
                      </a:lnTo>
                      <a:lnTo>
                        <a:pt x="156" y="2"/>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498840" y="1411200"/>
                  <a:ext cx="680760" cy="9720"/>
                </a:xfrm>
                <a:custGeom>
                  <a:avLst/>
                  <a:gdLst/>
                  <a:ahLst/>
                  <a:rect l="l" t="t" r="r" b="b"/>
                  <a:pathLst>
                    <a:path w="858" h="12">
                      <a:moveTo>
                        <a:pt x="850" y="0"/>
                      </a:moveTo>
                      <a:lnTo>
                        <a:pt x="850" y="0"/>
                      </a:lnTo>
                      <a:lnTo>
                        <a:pt x="0" y="0"/>
                      </a:lnTo>
                      <a:lnTo>
                        <a:pt x="0" y="12"/>
                      </a:lnTo>
                      <a:lnTo>
                        <a:pt x="850" y="12"/>
                      </a:lnTo>
                      <a:lnTo>
                        <a:pt x="850" y="12"/>
                      </a:lnTo>
                      <a:lnTo>
                        <a:pt x="850" y="12"/>
                      </a:lnTo>
                      <a:lnTo>
                        <a:pt x="855" y="9"/>
                      </a:lnTo>
                      <a:lnTo>
                        <a:pt x="858" y="6"/>
                      </a:lnTo>
                      <a:lnTo>
                        <a:pt x="855" y="2"/>
                      </a:lnTo>
                      <a:lnTo>
                        <a:pt x="85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4173480" y="1411200"/>
                  <a:ext cx="122040" cy="101520"/>
                </a:xfrm>
                <a:custGeom>
                  <a:avLst/>
                  <a:gdLst/>
                  <a:ahLst/>
                  <a:rect l="l" t="t" r="r" b="b"/>
                  <a:pathLst>
                    <a:path w="154" h="126">
                      <a:moveTo>
                        <a:pt x="154" y="122"/>
                      </a:moveTo>
                      <a:lnTo>
                        <a:pt x="154" y="122"/>
                      </a:lnTo>
                      <a:lnTo>
                        <a:pt x="149" y="97"/>
                      </a:lnTo>
                      <a:lnTo>
                        <a:pt x="140" y="76"/>
                      </a:lnTo>
                      <a:lnTo>
                        <a:pt x="128" y="54"/>
                      </a:lnTo>
                      <a:lnTo>
                        <a:pt x="108" y="36"/>
                      </a:lnTo>
                      <a:lnTo>
                        <a:pt x="86" y="20"/>
                      </a:lnTo>
                      <a:lnTo>
                        <a:pt x="58" y="10"/>
                      </a:lnTo>
                      <a:lnTo>
                        <a:pt x="31" y="3"/>
                      </a:lnTo>
                      <a:lnTo>
                        <a:pt x="0" y="0"/>
                      </a:lnTo>
                      <a:lnTo>
                        <a:pt x="0" y="12"/>
                      </a:lnTo>
                      <a:lnTo>
                        <a:pt x="28" y="13"/>
                      </a:lnTo>
                      <a:lnTo>
                        <a:pt x="55" y="20"/>
                      </a:lnTo>
                      <a:lnTo>
                        <a:pt x="79" y="30"/>
                      </a:lnTo>
                      <a:lnTo>
                        <a:pt x="99" y="43"/>
                      </a:lnTo>
                      <a:lnTo>
                        <a:pt x="116" y="59"/>
                      </a:lnTo>
                      <a:lnTo>
                        <a:pt x="128" y="78"/>
                      </a:lnTo>
                      <a:lnTo>
                        <a:pt x="137" y="100"/>
                      </a:lnTo>
                      <a:lnTo>
                        <a:pt x="139" y="122"/>
                      </a:lnTo>
                      <a:lnTo>
                        <a:pt x="139" y="122"/>
                      </a:lnTo>
                      <a:lnTo>
                        <a:pt x="139" y="122"/>
                      </a:lnTo>
                      <a:lnTo>
                        <a:pt x="142" y="125"/>
                      </a:lnTo>
                      <a:lnTo>
                        <a:pt x="146" y="126"/>
                      </a:lnTo>
                      <a:lnTo>
                        <a:pt x="151" y="125"/>
                      </a:lnTo>
                      <a:lnTo>
                        <a:pt x="15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82920" y="1508040"/>
                  <a:ext cx="12600" cy="540000"/>
                </a:xfrm>
                <a:custGeom>
                  <a:avLst/>
                  <a:gdLst/>
                  <a:ahLst/>
                  <a:rect l="l" t="t" r="r" b="b"/>
                  <a:pathLst>
                    <a:path w="15" h="680">
                      <a:moveTo>
                        <a:pt x="15" y="675"/>
                      </a:moveTo>
                      <a:lnTo>
                        <a:pt x="15" y="675"/>
                      </a:lnTo>
                      <a:lnTo>
                        <a:pt x="15" y="0"/>
                      </a:lnTo>
                      <a:lnTo>
                        <a:pt x="0" y="0"/>
                      </a:lnTo>
                      <a:lnTo>
                        <a:pt x="0" y="675"/>
                      </a:lnTo>
                      <a:lnTo>
                        <a:pt x="0" y="675"/>
                      </a:lnTo>
                      <a:lnTo>
                        <a:pt x="0" y="675"/>
                      </a:lnTo>
                      <a:lnTo>
                        <a:pt x="3" y="678"/>
                      </a:lnTo>
                      <a:lnTo>
                        <a:pt x="7" y="680"/>
                      </a:lnTo>
                      <a:lnTo>
                        <a:pt x="12" y="678"/>
                      </a:lnTo>
                      <a:lnTo>
                        <a:pt x="15"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89120" y="1452600"/>
                  <a:ext cx="276120" cy="111240"/>
                </a:xfrm>
                <a:custGeom>
                  <a:avLst/>
                  <a:gdLst/>
                  <a:ahLst/>
                  <a:rect l="l" t="t" r="r" b="b"/>
                  <a:pathLst>
                    <a:path w="348" h="142">
                      <a:moveTo>
                        <a:pt x="348" y="142"/>
                      </a:moveTo>
                      <a:lnTo>
                        <a:pt x="309" y="61"/>
                      </a:lnTo>
                      <a:lnTo>
                        <a:pt x="194" y="0"/>
                      </a:lnTo>
                      <a:lnTo>
                        <a:pt x="0" y="0"/>
                      </a:lnTo>
                      <a:lnTo>
                        <a:pt x="114" y="61"/>
                      </a:lnTo>
                      <a:lnTo>
                        <a:pt x="153" y="142"/>
                      </a:lnTo>
                      <a:lnTo>
                        <a:pt x="348" y="142"/>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489120" y="1452600"/>
                  <a:ext cx="276120" cy="111240"/>
                </a:xfrm>
                <a:custGeom>
                  <a:avLst/>
                  <a:gdLst/>
                  <a:ahLst/>
                  <a:rect l="l" t="t" r="r" b="b"/>
                  <a:pathLst>
                    <a:path w="348" h="142">
                      <a:moveTo>
                        <a:pt x="348" y="142"/>
                      </a:moveTo>
                      <a:lnTo>
                        <a:pt x="309" y="61"/>
                      </a:lnTo>
                      <a:lnTo>
                        <a:pt x="194" y="0"/>
                      </a:lnTo>
                      <a:lnTo>
                        <a:pt x="0" y="0"/>
                      </a:lnTo>
                      <a:lnTo>
                        <a:pt x="114" y="61"/>
                      </a:lnTo>
                      <a:lnTo>
                        <a:pt x="153" y="142"/>
                      </a:lnTo>
                      <a:lnTo>
                        <a:pt x="348" y="1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7080" y="1452600"/>
                  <a:ext cx="134640" cy="111240"/>
                </a:xfrm>
                <a:custGeom>
                  <a:avLst/>
                  <a:gdLst/>
                  <a:ahLst/>
                  <a:rect l="l" t="t" r="r" b="b"/>
                  <a:pathLst>
                    <a:path w="170" h="142">
                      <a:moveTo>
                        <a:pt x="170" y="9"/>
                      </a:moveTo>
                      <a:lnTo>
                        <a:pt x="73" y="61"/>
                      </a:lnTo>
                      <a:lnTo>
                        <a:pt x="35" y="142"/>
                      </a:lnTo>
                      <a:lnTo>
                        <a:pt x="0" y="142"/>
                      </a:lnTo>
                      <a:lnTo>
                        <a:pt x="38" y="61"/>
                      </a:lnTo>
                      <a:lnTo>
                        <a:pt x="154" y="0"/>
                      </a:lnTo>
                      <a:lnTo>
                        <a:pt x="170" y="9"/>
                      </a:lnTo>
                      <a:close/>
                    </a:path>
                  </a:pathLst>
                </a:custGeom>
                <a:solidFill>
                  <a:srgbClr val="ad8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67080" y="1452600"/>
                  <a:ext cx="134640" cy="111240"/>
                </a:xfrm>
                <a:custGeom>
                  <a:avLst/>
                  <a:gdLst/>
                  <a:ahLst/>
                  <a:rect l="l" t="t" r="r" b="b"/>
                  <a:pathLst>
                    <a:path w="170" h="142">
                      <a:moveTo>
                        <a:pt x="170" y="9"/>
                      </a:moveTo>
                      <a:lnTo>
                        <a:pt x="73" y="61"/>
                      </a:lnTo>
                      <a:lnTo>
                        <a:pt x="35" y="142"/>
                      </a:lnTo>
                      <a:lnTo>
                        <a:pt x="0" y="142"/>
                      </a:lnTo>
                      <a:lnTo>
                        <a:pt x="38" y="61"/>
                      </a:lnTo>
                      <a:lnTo>
                        <a:pt x="154" y="0"/>
                      </a:lnTo>
                      <a:lnTo>
                        <a:pt x="170" y="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39800" y="1563840"/>
                  <a:ext cx="60480" cy="79200"/>
                </a:xfrm>
                <a:prstGeom prst="rect">
                  <a:avLst/>
                </a:prstGeom>
                <a:solidFill>
                  <a:srgbClr val="ad8e9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 name=""/>
                <p:cNvSpPr/>
                <p:nvPr/>
              </p:nvSpPr>
              <p:spPr>
                <a:xfrm>
                  <a:off x="3439800" y="1563840"/>
                  <a:ext cx="60480" cy="79200"/>
                </a:xfrm>
                <a:prstGeom prst="rect">
                  <a:avLst/>
                </a:pr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4" name=""/>
                <p:cNvSpPr/>
                <p:nvPr/>
              </p:nvSpPr>
              <p:spPr>
                <a:xfrm>
                  <a:off x="3500280" y="1563840"/>
                  <a:ext cx="58680" cy="79200"/>
                </a:xfrm>
                <a:prstGeom prst="rect">
                  <a:avLst/>
                </a:prstGeom>
                <a:solidFill>
                  <a:srgbClr val="ad8e9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5" name=""/>
                <p:cNvSpPr/>
                <p:nvPr/>
              </p:nvSpPr>
              <p:spPr>
                <a:xfrm>
                  <a:off x="3500280" y="1563840"/>
                  <a:ext cx="58680" cy="79200"/>
                </a:xfrm>
                <a:prstGeom prst="rect">
                  <a:avLst/>
                </a:pr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 name=""/>
                <p:cNvSpPr/>
                <p:nvPr/>
              </p:nvSpPr>
              <p:spPr>
                <a:xfrm>
                  <a:off x="3395520" y="1459080"/>
                  <a:ext cx="228600" cy="183960"/>
                </a:xfrm>
                <a:custGeom>
                  <a:avLst/>
                  <a:gdLst/>
                  <a:ahLst/>
                  <a:rect l="l" t="t" r="r" b="b"/>
                  <a:pathLst>
                    <a:path w="289" h="232">
                      <a:moveTo>
                        <a:pt x="58" y="232"/>
                      </a:moveTo>
                      <a:lnTo>
                        <a:pt x="58" y="133"/>
                      </a:lnTo>
                      <a:lnTo>
                        <a:pt x="207" y="133"/>
                      </a:lnTo>
                      <a:lnTo>
                        <a:pt x="207" y="232"/>
                      </a:lnTo>
                      <a:lnTo>
                        <a:pt x="289" y="232"/>
                      </a:lnTo>
                      <a:lnTo>
                        <a:pt x="289" y="133"/>
                      </a:lnTo>
                      <a:lnTo>
                        <a:pt x="272" y="133"/>
                      </a:lnTo>
                      <a:lnTo>
                        <a:pt x="233" y="52"/>
                      </a:lnTo>
                      <a:lnTo>
                        <a:pt x="135" y="0"/>
                      </a:lnTo>
                      <a:lnTo>
                        <a:pt x="38" y="52"/>
                      </a:lnTo>
                      <a:lnTo>
                        <a:pt x="0" y="133"/>
                      </a:lnTo>
                      <a:lnTo>
                        <a:pt x="0" y="232"/>
                      </a:lnTo>
                      <a:lnTo>
                        <a:pt x="58" y="2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95520" y="1459080"/>
                  <a:ext cx="228600" cy="183960"/>
                </a:xfrm>
                <a:custGeom>
                  <a:avLst/>
                  <a:gdLst/>
                  <a:ahLst/>
                  <a:rect l="l" t="t" r="r" b="b"/>
                  <a:pathLst>
                    <a:path w="289" h="232">
                      <a:moveTo>
                        <a:pt x="58" y="232"/>
                      </a:moveTo>
                      <a:lnTo>
                        <a:pt x="58" y="133"/>
                      </a:lnTo>
                      <a:lnTo>
                        <a:pt x="207" y="133"/>
                      </a:lnTo>
                      <a:lnTo>
                        <a:pt x="207" y="232"/>
                      </a:lnTo>
                      <a:lnTo>
                        <a:pt x="289" y="232"/>
                      </a:lnTo>
                      <a:lnTo>
                        <a:pt x="289" y="133"/>
                      </a:lnTo>
                      <a:lnTo>
                        <a:pt x="272" y="133"/>
                      </a:lnTo>
                      <a:lnTo>
                        <a:pt x="233" y="52"/>
                      </a:lnTo>
                      <a:lnTo>
                        <a:pt x="135" y="0"/>
                      </a:lnTo>
                      <a:lnTo>
                        <a:pt x="38" y="52"/>
                      </a:lnTo>
                      <a:lnTo>
                        <a:pt x="0" y="133"/>
                      </a:lnTo>
                      <a:lnTo>
                        <a:pt x="0" y="232"/>
                      </a:lnTo>
                      <a:lnTo>
                        <a:pt x="58" y="2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624120" y="1563840"/>
                  <a:ext cx="128520" cy="79200"/>
                </a:xfrm>
                <a:prstGeom prst="rect">
                  <a:avLst/>
                </a:prstGeom>
                <a:solidFill>
                  <a:srgbClr val="ff4c4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 name=""/>
                <p:cNvSpPr/>
                <p:nvPr/>
              </p:nvSpPr>
              <p:spPr>
                <a:xfrm>
                  <a:off x="3624120" y="1563840"/>
                  <a:ext cx="128520" cy="79200"/>
                </a:xfrm>
                <a:prstGeom prst="rect">
                  <a:avLst/>
                </a:pr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 name=""/>
                <p:cNvSpPr/>
                <p:nvPr/>
              </p:nvSpPr>
              <p:spPr>
                <a:xfrm>
                  <a:off x="3894120" y="1603440"/>
                  <a:ext cx="276120" cy="311040"/>
                </a:xfrm>
                <a:custGeom>
                  <a:avLst/>
                  <a:gdLst/>
                  <a:ahLst/>
                  <a:rect l="l" t="t" r="r" b="b"/>
                  <a:pathLst>
                    <a:path w="349" h="393">
                      <a:moveTo>
                        <a:pt x="86" y="393"/>
                      </a:moveTo>
                      <a:lnTo>
                        <a:pt x="66" y="390"/>
                      </a:lnTo>
                      <a:lnTo>
                        <a:pt x="48" y="384"/>
                      </a:lnTo>
                      <a:lnTo>
                        <a:pt x="34" y="376"/>
                      </a:lnTo>
                      <a:lnTo>
                        <a:pt x="22" y="366"/>
                      </a:lnTo>
                      <a:lnTo>
                        <a:pt x="13" y="355"/>
                      </a:lnTo>
                      <a:lnTo>
                        <a:pt x="5" y="343"/>
                      </a:lnTo>
                      <a:lnTo>
                        <a:pt x="2" y="334"/>
                      </a:lnTo>
                      <a:lnTo>
                        <a:pt x="0" y="325"/>
                      </a:lnTo>
                      <a:lnTo>
                        <a:pt x="0" y="299"/>
                      </a:lnTo>
                      <a:lnTo>
                        <a:pt x="0" y="250"/>
                      </a:lnTo>
                      <a:lnTo>
                        <a:pt x="0" y="189"/>
                      </a:lnTo>
                      <a:lnTo>
                        <a:pt x="0" y="119"/>
                      </a:lnTo>
                      <a:lnTo>
                        <a:pt x="5" y="86"/>
                      </a:lnTo>
                      <a:lnTo>
                        <a:pt x="17" y="59"/>
                      </a:lnTo>
                      <a:lnTo>
                        <a:pt x="35" y="39"/>
                      </a:lnTo>
                      <a:lnTo>
                        <a:pt x="58" y="23"/>
                      </a:lnTo>
                      <a:lnTo>
                        <a:pt x="83" y="12"/>
                      </a:lnTo>
                      <a:lnTo>
                        <a:pt x="107" y="5"/>
                      </a:lnTo>
                      <a:lnTo>
                        <a:pt x="130" y="1"/>
                      </a:lnTo>
                      <a:lnTo>
                        <a:pt x="150" y="0"/>
                      </a:lnTo>
                      <a:lnTo>
                        <a:pt x="198" y="0"/>
                      </a:lnTo>
                      <a:lnTo>
                        <a:pt x="218" y="1"/>
                      </a:lnTo>
                      <a:lnTo>
                        <a:pt x="241" y="5"/>
                      </a:lnTo>
                      <a:lnTo>
                        <a:pt x="267" y="12"/>
                      </a:lnTo>
                      <a:lnTo>
                        <a:pt x="291" y="23"/>
                      </a:lnTo>
                      <a:lnTo>
                        <a:pt x="314" y="39"/>
                      </a:lnTo>
                      <a:lnTo>
                        <a:pt x="332" y="59"/>
                      </a:lnTo>
                      <a:lnTo>
                        <a:pt x="344" y="86"/>
                      </a:lnTo>
                      <a:lnTo>
                        <a:pt x="349" y="119"/>
                      </a:lnTo>
                      <a:lnTo>
                        <a:pt x="349" y="189"/>
                      </a:lnTo>
                      <a:lnTo>
                        <a:pt x="349" y="250"/>
                      </a:lnTo>
                      <a:lnTo>
                        <a:pt x="349" y="299"/>
                      </a:lnTo>
                      <a:lnTo>
                        <a:pt x="349" y="325"/>
                      </a:lnTo>
                      <a:lnTo>
                        <a:pt x="347" y="334"/>
                      </a:lnTo>
                      <a:lnTo>
                        <a:pt x="344" y="343"/>
                      </a:lnTo>
                      <a:lnTo>
                        <a:pt x="337" y="355"/>
                      </a:lnTo>
                      <a:lnTo>
                        <a:pt x="328" y="366"/>
                      </a:lnTo>
                      <a:lnTo>
                        <a:pt x="315" y="376"/>
                      </a:lnTo>
                      <a:lnTo>
                        <a:pt x="302" y="384"/>
                      </a:lnTo>
                      <a:lnTo>
                        <a:pt x="283" y="390"/>
                      </a:lnTo>
                      <a:lnTo>
                        <a:pt x="264" y="393"/>
                      </a:lnTo>
                      <a:lnTo>
                        <a:pt x="86" y="393"/>
                      </a:lnTo>
                      <a:close/>
                    </a:path>
                  </a:pathLst>
                </a:custGeom>
                <a:solidFill>
                  <a:srgbClr val="99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94120" y="1603440"/>
                  <a:ext cx="276120" cy="311040"/>
                </a:xfrm>
                <a:custGeom>
                  <a:avLst/>
                  <a:gdLst/>
                  <a:ahLst/>
                  <a:rect l="l" t="t" r="r" b="b"/>
                  <a:pathLst>
                    <a:path w="349" h="393">
                      <a:moveTo>
                        <a:pt x="86" y="393"/>
                      </a:moveTo>
                      <a:lnTo>
                        <a:pt x="86" y="393"/>
                      </a:lnTo>
                      <a:lnTo>
                        <a:pt x="66" y="390"/>
                      </a:lnTo>
                      <a:lnTo>
                        <a:pt x="48" y="384"/>
                      </a:lnTo>
                      <a:lnTo>
                        <a:pt x="34" y="376"/>
                      </a:lnTo>
                      <a:lnTo>
                        <a:pt x="22" y="366"/>
                      </a:lnTo>
                      <a:lnTo>
                        <a:pt x="13" y="355"/>
                      </a:lnTo>
                      <a:lnTo>
                        <a:pt x="5" y="343"/>
                      </a:lnTo>
                      <a:lnTo>
                        <a:pt x="2" y="334"/>
                      </a:lnTo>
                      <a:lnTo>
                        <a:pt x="0" y="325"/>
                      </a:lnTo>
                      <a:lnTo>
                        <a:pt x="0" y="325"/>
                      </a:lnTo>
                      <a:lnTo>
                        <a:pt x="0" y="299"/>
                      </a:lnTo>
                      <a:lnTo>
                        <a:pt x="0" y="250"/>
                      </a:lnTo>
                      <a:lnTo>
                        <a:pt x="0" y="189"/>
                      </a:lnTo>
                      <a:lnTo>
                        <a:pt x="0" y="119"/>
                      </a:lnTo>
                      <a:lnTo>
                        <a:pt x="0" y="119"/>
                      </a:lnTo>
                      <a:lnTo>
                        <a:pt x="5" y="86"/>
                      </a:lnTo>
                      <a:lnTo>
                        <a:pt x="17" y="59"/>
                      </a:lnTo>
                      <a:lnTo>
                        <a:pt x="35" y="39"/>
                      </a:lnTo>
                      <a:lnTo>
                        <a:pt x="58" y="23"/>
                      </a:lnTo>
                      <a:lnTo>
                        <a:pt x="83" y="12"/>
                      </a:lnTo>
                      <a:lnTo>
                        <a:pt x="107" y="5"/>
                      </a:lnTo>
                      <a:lnTo>
                        <a:pt x="130" y="1"/>
                      </a:lnTo>
                      <a:lnTo>
                        <a:pt x="150" y="0"/>
                      </a:lnTo>
                      <a:lnTo>
                        <a:pt x="198" y="0"/>
                      </a:lnTo>
                      <a:lnTo>
                        <a:pt x="198" y="0"/>
                      </a:lnTo>
                      <a:lnTo>
                        <a:pt x="218" y="1"/>
                      </a:lnTo>
                      <a:lnTo>
                        <a:pt x="241" y="5"/>
                      </a:lnTo>
                      <a:lnTo>
                        <a:pt x="267" y="12"/>
                      </a:lnTo>
                      <a:lnTo>
                        <a:pt x="291" y="23"/>
                      </a:lnTo>
                      <a:lnTo>
                        <a:pt x="314" y="39"/>
                      </a:lnTo>
                      <a:lnTo>
                        <a:pt x="332" y="59"/>
                      </a:lnTo>
                      <a:lnTo>
                        <a:pt x="344" y="86"/>
                      </a:lnTo>
                      <a:lnTo>
                        <a:pt x="349" y="119"/>
                      </a:lnTo>
                      <a:lnTo>
                        <a:pt x="349" y="119"/>
                      </a:lnTo>
                      <a:lnTo>
                        <a:pt x="349" y="189"/>
                      </a:lnTo>
                      <a:lnTo>
                        <a:pt x="349" y="250"/>
                      </a:lnTo>
                      <a:lnTo>
                        <a:pt x="349" y="299"/>
                      </a:lnTo>
                      <a:lnTo>
                        <a:pt x="349" y="325"/>
                      </a:lnTo>
                      <a:lnTo>
                        <a:pt x="349" y="325"/>
                      </a:lnTo>
                      <a:lnTo>
                        <a:pt x="347" y="334"/>
                      </a:lnTo>
                      <a:lnTo>
                        <a:pt x="344" y="343"/>
                      </a:lnTo>
                      <a:lnTo>
                        <a:pt x="337" y="355"/>
                      </a:lnTo>
                      <a:lnTo>
                        <a:pt x="328" y="366"/>
                      </a:lnTo>
                      <a:lnTo>
                        <a:pt x="315" y="376"/>
                      </a:lnTo>
                      <a:lnTo>
                        <a:pt x="302" y="384"/>
                      </a:lnTo>
                      <a:lnTo>
                        <a:pt x="283" y="390"/>
                      </a:lnTo>
                      <a:lnTo>
                        <a:pt x="264" y="393"/>
                      </a:lnTo>
                      <a:lnTo>
                        <a:pt x="86" y="3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51040" y="1658880"/>
                  <a:ext cx="268200" cy="461880"/>
                </a:xfrm>
                <a:custGeom>
                  <a:avLst/>
                  <a:gdLst/>
                  <a:ahLst/>
                  <a:rect l="l" t="t" r="r" b="b"/>
                  <a:pathLst>
                    <a:path w="340" h="583">
                      <a:moveTo>
                        <a:pt x="137" y="0"/>
                      </a:moveTo>
                      <a:lnTo>
                        <a:pt x="117" y="3"/>
                      </a:lnTo>
                      <a:lnTo>
                        <a:pt x="96" y="7"/>
                      </a:lnTo>
                      <a:lnTo>
                        <a:pt x="75" y="17"/>
                      </a:lnTo>
                      <a:lnTo>
                        <a:pt x="54" y="33"/>
                      </a:lnTo>
                      <a:lnTo>
                        <a:pt x="35" y="55"/>
                      </a:lnTo>
                      <a:lnTo>
                        <a:pt x="19" y="84"/>
                      </a:lnTo>
                      <a:lnTo>
                        <a:pt x="8" y="122"/>
                      </a:lnTo>
                      <a:lnTo>
                        <a:pt x="2" y="171"/>
                      </a:lnTo>
                      <a:lnTo>
                        <a:pt x="0" y="222"/>
                      </a:lnTo>
                      <a:lnTo>
                        <a:pt x="2" y="272"/>
                      </a:lnTo>
                      <a:lnTo>
                        <a:pt x="6" y="317"/>
                      </a:lnTo>
                      <a:lnTo>
                        <a:pt x="11" y="359"/>
                      </a:lnTo>
                      <a:lnTo>
                        <a:pt x="17" y="396"/>
                      </a:lnTo>
                      <a:lnTo>
                        <a:pt x="25" y="430"/>
                      </a:lnTo>
                      <a:lnTo>
                        <a:pt x="34" y="459"/>
                      </a:lnTo>
                      <a:lnTo>
                        <a:pt x="43" y="485"/>
                      </a:lnTo>
                      <a:lnTo>
                        <a:pt x="54" y="506"/>
                      </a:lnTo>
                      <a:lnTo>
                        <a:pt x="67" y="526"/>
                      </a:lnTo>
                      <a:lnTo>
                        <a:pt x="82" y="543"/>
                      </a:lnTo>
                      <a:lnTo>
                        <a:pt x="102" y="557"/>
                      </a:lnTo>
                      <a:lnTo>
                        <a:pt x="124" y="569"/>
                      </a:lnTo>
                      <a:lnTo>
                        <a:pt x="146" y="578"/>
                      </a:lnTo>
                      <a:lnTo>
                        <a:pt x="174" y="581"/>
                      </a:lnTo>
                      <a:lnTo>
                        <a:pt x="203" y="583"/>
                      </a:lnTo>
                      <a:lnTo>
                        <a:pt x="232" y="579"/>
                      </a:lnTo>
                      <a:lnTo>
                        <a:pt x="257" y="570"/>
                      </a:lnTo>
                      <a:lnTo>
                        <a:pt x="282" y="557"/>
                      </a:lnTo>
                      <a:lnTo>
                        <a:pt x="302" y="540"/>
                      </a:lnTo>
                      <a:lnTo>
                        <a:pt x="317" y="517"/>
                      </a:lnTo>
                      <a:lnTo>
                        <a:pt x="329" y="491"/>
                      </a:lnTo>
                      <a:lnTo>
                        <a:pt x="337" y="459"/>
                      </a:lnTo>
                      <a:lnTo>
                        <a:pt x="340" y="423"/>
                      </a:lnTo>
                      <a:lnTo>
                        <a:pt x="337" y="342"/>
                      </a:lnTo>
                      <a:lnTo>
                        <a:pt x="329" y="256"/>
                      </a:lnTo>
                      <a:lnTo>
                        <a:pt x="315" y="177"/>
                      </a:lnTo>
                      <a:lnTo>
                        <a:pt x="299" y="109"/>
                      </a:lnTo>
                      <a:lnTo>
                        <a:pt x="289" y="81"/>
                      </a:lnTo>
                      <a:lnTo>
                        <a:pt x="279" y="58"/>
                      </a:lnTo>
                      <a:lnTo>
                        <a:pt x="265" y="39"/>
                      </a:lnTo>
                      <a:lnTo>
                        <a:pt x="248" y="23"/>
                      </a:lnTo>
                      <a:lnTo>
                        <a:pt x="227" y="11"/>
                      </a:lnTo>
                      <a:lnTo>
                        <a:pt x="203" y="4"/>
                      </a:lnTo>
                      <a:lnTo>
                        <a:pt x="172" y="0"/>
                      </a:lnTo>
                      <a:lnTo>
                        <a:pt x="137" y="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51040" y="1658880"/>
                  <a:ext cx="268200" cy="461880"/>
                </a:xfrm>
                <a:custGeom>
                  <a:avLst/>
                  <a:gdLst/>
                  <a:ahLst/>
                  <a:rect l="l" t="t" r="r" b="b"/>
                  <a:pathLst>
                    <a:path w="340" h="583">
                      <a:moveTo>
                        <a:pt x="137" y="0"/>
                      </a:moveTo>
                      <a:lnTo>
                        <a:pt x="137" y="0"/>
                      </a:lnTo>
                      <a:lnTo>
                        <a:pt x="117" y="3"/>
                      </a:lnTo>
                      <a:lnTo>
                        <a:pt x="96" y="7"/>
                      </a:lnTo>
                      <a:lnTo>
                        <a:pt x="75" y="17"/>
                      </a:lnTo>
                      <a:lnTo>
                        <a:pt x="54" y="33"/>
                      </a:lnTo>
                      <a:lnTo>
                        <a:pt x="35" y="55"/>
                      </a:lnTo>
                      <a:lnTo>
                        <a:pt x="19" y="84"/>
                      </a:lnTo>
                      <a:lnTo>
                        <a:pt x="8" y="122"/>
                      </a:lnTo>
                      <a:lnTo>
                        <a:pt x="2" y="171"/>
                      </a:lnTo>
                      <a:lnTo>
                        <a:pt x="2" y="171"/>
                      </a:lnTo>
                      <a:lnTo>
                        <a:pt x="0" y="222"/>
                      </a:lnTo>
                      <a:lnTo>
                        <a:pt x="2" y="272"/>
                      </a:lnTo>
                      <a:lnTo>
                        <a:pt x="6" y="317"/>
                      </a:lnTo>
                      <a:lnTo>
                        <a:pt x="11" y="359"/>
                      </a:lnTo>
                      <a:lnTo>
                        <a:pt x="17" y="396"/>
                      </a:lnTo>
                      <a:lnTo>
                        <a:pt x="25" y="430"/>
                      </a:lnTo>
                      <a:lnTo>
                        <a:pt x="34" y="459"/>
                      </a:lnTo>
                      <a:lnTo>
                        <a:pt x="43" y="485"/>
                      </a:lnTo>
                      <a:lnTo>
                        <a:pt x="43" y="485"/>
                      </a:lnTo>
                      <a:lnTo>
                        <a:pt x="54" y="506"/>
                      </a:lnTo>
                      <a:lnTo>
                        <a:pt x="67" y="526"/>
                      </a:lnTo>
                      <a:lnTo>
                        <a:pt x="82" y="543"/>
                      </a:lnTo>
                      <a:lnTo>
                        <a:pt x="102" y="557"/>
                      </a:lnTo>
                      <a:lnTo>
                        <a:pt x="124" y="569"/>
                      </a:lnTo>
                      <a:lnTo>
                        <a:pt x="146" y="578"/>
                      </a:lnTo>
                      <a:lnTo>
                        <a:pt x="174" y="581"/>
                      </a:lnTo>
                      <a:lnTo>
                        <a:pt x="203" y="583"/>
                      </a:lnTo>
                      <a:lnTo>
                        <a:pt x="203" y="583"/>
                      </a:lnTo>
                      <a:lnTo>
                        <a:pt x="232" y="579"/>
                      </a:lnTo>
                      <a:lnTo>
                        <a:pt x="257" y="570"/>
                      </a:lnTo>
                      <a:lnTo>
                        <a:pt x="282" y="557"/>
                      </a:lnTo>
                      <a:lnTo>
                        <a:pt x="302" y="540"/>
                      </a:lnTo>
                      <a:lnTo>
                        <a:pt x="317" y="517"/>
                      </a:lnTo>
                      <a:lnTo>
                        <a:pt x="329" y="491"/>
                      </a:lnTo>
                      <a:lnTo>
                        <a:pt x="337" y="459"/>
                      </a:lnTo>
                      <a:lnTo>
                        <a:pt x="340" y="423"/>
                      </a:lnTo>
                      <a:lnTo>
                        <a:pt x="340" y="423"/>
                      </a:lnTo>
                      <a:lnTo>
                        <a:pt x="337" y="342"/>
                      </a:lnTo>
                      <a:lnTo>
                        <a:pt x="329" y="256"/>
                      </a:lnTo>
                      <a:lnTo>
                        <a:pt x="315" y="177"/>
                      </a:lnTo>
                      <a:lnTo>
                        <a:pt x="299" y="109"/>
                      </a:lnTo>
                      <a:lnTo>
                        <a:pt x="299" y="109"/>
                      </a:lnTo>
                      <a:lnTo>
                        <a:pt x="289" y="81"/>
                      </a:lnTo>
                      <a:lnTo>
                        <a:pt x="279" y="58"/>
                      </a:lnTo>
                      <a:lnTo>
                        <a:pt x="265" y="39"/>
                      </a:lnTo>
                      <a:lnTo>
                        <a:pt x="248" y="23"/>
                      </a:lnTo>
                      <a:lnTo>
                        <a:pt x="227" y="11"/>
                      </a:lnTo>
                      <a:lnTo>
                        <a:pt x="203" y="4"/>
                      </a:lnTo>
                      <a:lnTo>
                        <a:pt x="172" y="0"/>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051080" y="1603440"/>
                  <a:ext cx="349200" cy="311040"/>
                </a:xfrm>
                <a:custGeom>
                  <a:avLst/>
                  <a:gdLst/>
                  <a:ahLst/>
                  <a:rect l="l" t="t" r="r" b="b"/>
                  <a:pathLst>
                    <a:path w="441" h="393">
                      <a:moveTo>
                        <a:pt x="66" y="393"/>
                      </a:moveTo>
                      <a:lnTo>
                        <a:pt x="85" y="390"/>
                      </a:lnTo>
                      <a:lnTo>
                        <a:pt x="104" y="384"/>
                      </a:lnTo>
                      <a:lnTo>
                        <a:pt x="117" y="376"/>
                      </a:lnTo>
                      <a:lnTo>
                        <a:pt x="130" y="366"/>
                      </a:lnTo>
                      <a:lnTo>
                        <a:pt x="139" y="355"/>
                      </a:lnTo>
                      <a:lnTo>
                        <a:pt x="146" y="343"/>
                      </a:lnTo>
                      <a:lnTo>
                        <a:pt x="149" y="334"/>
                      </a:lnTo>
                      <a:lnTo>
                        <a:pt x="151" y="325"/>
                      </a:lnTo>
                      <a:lnTo>
                        <a:pt x="151" y="299"/>
                      </a:lnTo>
                      <a:lnTo>
                        <a:pt x="151" y="250"/>
                      </a:lnTo>
                      <a:lnTo>
                        <a:pt x="151" y="189"/>
                      </a:lnTo>
                      <a:lnTo>
                        <a:pt x="151" y="119"/>
                      </a:lnTo>
                      <a:lnTo>
                        <a:pt x="146" y="86"/>
                      </a:lnTo>
                      <a:lnTo>
                        <a:pt x="134" y="59"/>
                      </a:lnTo>
                      <a:lnTo>
                        <a:pt x="116" y="39"/>
                      </a:lnTo>
                      <a:lnTo>
                        <a:pt x="93" y="23"/>
                      </a:lnTo>
                      <a:lnTo>
                        <a:pt x="69" y="12"/>
                      </a:lnTo>
                      <a:lnTo>
                        <a:pt x="43" y="5"/>
                      </a:lnTo>
                      <a:lnTo>
                        <a:pt x="20" y="1"/>
                      </a:lnTo>
                      <a:lnTo>
                        <a:pt x="0" y="0"/>
                      </a:lnTo>
                      <a:lnTo>
                        <a:pt x="292" y="0"/>
                      </a:lnTo>
                      <a:lnTo>
                        <a:pt x="312" y="1"/>
                      </a:lnTo>
                      <a:lnTo>
                        <a:pt x="335" y="5"/>
                      </a:lnTo>
                      <a:lnTo>
                        <a:pt x="359" y="12"/>
                      </a:lnTo>
                      <a:lnTo>
                        <a:pt x="384" y="23"/>
                      </a:lnTo>
                      <a:lnTo>
                        <a:pt x="406" y="39"/>
                      </a:lnTo>
                      <a:lnTo>
                        <a:pt x="425" y="59"/>
                      </a:lnTo>
                      <a:lnTo>
                        <a:pt x="437" y="86"/>
                      </a:lnTo>
                      <a:lnTo>
                        <a:pt x="441" y="119"/>
                      </a:lnTo>
                      <a:lnTo>
                        <a:pt x="441" y="189"/>
                      </a:lnTo>
                      <a:lnTo>
                        <a:pt x="441" y="250"/>
                      </a:lnTo>
                      <a:lnTo>
                        <a:pt x="441" y="299"/>
                      </a:lnTo>
                      <a:lnTo>
                        <a:pt x="441" y="325"/>
                      </a:lnTo>
                      <a:lnTo>
                        <a:pt x="440" y="334"/>
                      </a:lnTo>
                      <a:lnTo>
                        <a:pt x="437" y="343"/>
                      </a:lnTo>
                      <a:lnTo>
                        <a:pt x="429" y="355"/>
                      </a:lnTo>
                      <a:lnTo>
                        <a:pt x="420" y="366"/>
                      </a:lnTo>
                      <a:lnTo>
                        <a:pt x="408" y="376"/>
                      </a:lnTo>
                      <a:lnTo>
                        <a:pt x="394" y="384"/>
                      </a:lnTo>
                      <a:lnTo>
                        <a:pt x="376" y="390"/>
                      </a:lnTo>
                      <a:lnTo>
                        <a:pt x="356" y="393"/>
                      </a:lnTo>
                      <a:lnTo>
                        <a:pt x="66" y="3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051080" y="1603440"/>
                  <a:ext cx="349200" cy="311040"/>
                </a:xfrm>
                <a:custGeom>
                  <a:avLst/>
                  <a:gdLst/>
                  <a:ahLst/>
                  <a:rect l="l" t="t" r="r" b="b"/>
                  <a:pathLst>
                    <a:path w="441" h="393">
                      <a:moveTo>
                        <a:pt x="66" y="393"/>
                      </a:moveTo>
                      <a:lnTo>
                        <a:pt x="66" y="393"/>
                      </a:lnTo>
                      <a:lnTo>
                        <a:pt x="85" y="390"/>
                      </a:lnTo>
                      <a:lnTo>
                        <a:pt x="104" y="384"/>
                      </a:lnTo>
                      <a:lnTo>
                        <a:pt x="117" y="376"/>
                      </a:lnTo>
                      <a:lnTo>
                        <a:pt x="130" y="366"/>
                      </a:lnTo>
                      <a:lnTo>
                        <a:pt x="139" y="355"/>
                      </a:lnTo>
                      <a:lnTo>
                        <a:pt x="146" y="343"/>
                      </a:lnTo>
                      <a:lnTo>
                        <a:pt x="149" y="334"/>
                      </a:lnTo>
                      <a:lnTo>
                        <a:pt x="151" y="325"/>
                      </a:lnTo>
                      <a:lnTo>
                        <a:pt x="151" y="325"/>
                      </a:lnTo>
                      <a:lnTo>
                        <a:pt x="151" y="299"/>
                      </a:lnTo>
                      <a:lnTo>
                        <a:pt x="151" y="250"/>
                      </a:lnTo>
                      <a:lnTo>
                        <a:pt x="151" y="189"/>
                      </a:lnTo>
                      <a:lnTo>
                        <a:pt x="151" y="119"/>
                      </a:lnTo>
                      <a:lnTo>
                        <a:pt x="151" y="119"/>
                      </a:lnTo>
                      <a:lnTo>
                        <a:pt x="146" y="86"/>
                      </a:lnTo>
                      <a:lnTo>
                        <a:pt x="134" y="59"/>
                      </a:lnTo>
                      <a:lnTo>
                        <a:pt x="116" y="39"/>
                      </a:lnTo>
                      <a:lnTo>
                        <a:pt x="93" y="23"/>
                      </a:lnTo>
                      <a:lnTo>
                        <a:pt x="69" y="12"/>
                      </a:lnTo>
                      <a:lnTo>
                        <a:pt x="43" y="5"/>
                      </a:lnTo>
                      <a:lnTo>
                        <a:pt x="20" y="1"/>
                      </a:lnTo>
                      <a:lnTo>
                        <a:pt x="0" y="0"/>
                      </a:lnTo>
                      <a:lnTo>
                        <a:pt x="292" y="0"/>
                      </a:lnTo>
                      <a:lnTo>
                        <a:pt x="292" y="0"/>
                      </a:lnTo>
                      <a:lnTo>
                        <a:pt x="312" y="1"/>
                      </a:lnTo>
                      <a:lnTo>
                        <a:pt x="335" y="5"/>
                      </a:lnTo>
                      <a:lnTo>
                        <a:pt x="359" y="12"/>
                      </a:lnTo>
                      <a:lnTo>
                        <a:pt x="384" y="23"/>
                      </a:lnTo>
                      <a:lnTo>
                        <a:pt x="406" y="39"/>
                      </a:lnTo>
                      <a:lnTo>
                        <a:pt x="425" y="59"/>
                      </a:lnTo>
                      <a:lnTo>
                        <a:pt x="437" y="86"/>
                      </a:lnTo>
                      <a:lnTo>
                        <a:pt x="441" y="119"/>
                      </a:lnTo>
                      <a:lnTo>
                        <a:pt x="441" y="119"/>
                      </a:lnTo>
                      <a:lnTo>
                        <a:pt x="441" y="189"/>
                      </a:lnTo>
                      <a:lnTo>
                        <a:pt x="441" y="250"/>
                      </a:lnTo>
                      <a:lnTo>
                        <a:pt x="441" y="299"/>
                      </a:lnTo>
                      <a:lnTo>
                        <a:pt x="441" y="325"/>
                      </a:lnTo>
                      <a:lnTo>
                        <a:pt x="441" y="325"/>
                      </a:lnTo>
                      <a:lnTo>
                        <a:pt x="440" y="334"/>
                      </a:lnTo>
                      <a:lnTo>
                        <a:pt x="437" y="343"/>
                      </a:lnTo>
                      <a:lnTo>
                        <a:pt x="429" y="355"/>
                      </a:lnTo>
                      <a:lnTo>
                        <a:pt x="420" y="366"/>
                      </a:lnTo>
                      <a:lnTo>
                        <a:pt x="408" y="376"/>
                      </a:lnTo>
                      <a:lnTo>
                        <a:pt x="394" y="384"/>
                      </a:lnTo>
                      <a:lnTo>
                        <a:pt x="376" y="390"/>
                      </a:lnTo>
                      <a:lnTo>
                        <a:pt x="356" y="393"/>
                      </a:lnTo>
                      <a:lnTo>
                        <a:pt x="66" y="3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73560" y="1665360"/>
                  <a:ext cx="88920" cy="77760"/>
                </a:xfrm>
                <a:custGeom>
                  <a:avLst/>
                  <a:gdLst/>
                  <a:ahLst/>
                  <a:rect l="l" t="t" r="r" b="b"/>
                  <a:pathLst>
                    <a:path w="111" h="98">
                      <a:moveTo>
                        <a:pt x="111" y="21"/>
                      </a:moveTo>
                      <a:lnTo>
                        <a:pt x="109" y="15"/>
                      </a:lnTo>
                      <a:lnTo>
                        <a:pt x="105" y="8"/>
                      </a:lnTo>
                      <a:lnTo>
                        <a:pt x="96" y="2"/>
                      </a:lnTo>
                      <a:lnTo>
                        <a:pt x="83" y="0"/>
                      </a:lnTo>
                      <a:lnTo>
                        <a:pt x="27" y="0"/>
                      </a:lnTo>
                      <a:lnTo>
                        <a:pt x="15" y="2"/>
                      </a:lnTo>
                      <a:lnTo>
                        <a:pt x="7" y="8"/>
                      </a:lnTo>
                      <a:lnTo>
                        <a:pt x="1" y="15"/>
                      </a:lnTo>
                      <a:lnTo>
                        <a:pt x="0" y="21"/>
                      </a:lnTo>
                      <a:lnTo>
                        <a:pt x="0" y="76"/>
                      </a:lnTo>
                      <a:lnTo>
                        <a:pt x="1" y="82"/>
                      </a:lnTo>
                      <a:lnTo>
                        <a:pt x="7" y="89"/>
                      </a:lnTo>
                      <a:lnTo>
                        <a:pt x="15" y="95"/>
                      </a:lnTo>
                      <a:lnTo>
                        <a:pt x="27" y="98"/>
                      </a:lnTo>
                      <a:lnTo>
                        <a:pt x="83" y="98"/>
                      </a:lnTo>
                      <a:lnTo>
                        <a:pt x="96" y="95"/>
                      </a:lnTo>
                      <a:lnTo>
                        <a:pt x="105" y="89"/>
                      </a:lnTo>
                      <a:lnTo>
                        <a:pt x="109" y="82"/>
                      </a:lnTo>
                      <a:lnTo>
                        <a:pt x="111" y="76"/>
                      </a:lnTo>
                      <a:lnTo>
                        <a:pt x="111" y="21"/>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7" name=""/>
                <p:cNvSpPr/>
                <p:nvPr/>
              </p:nvSpPr>
              <p:spPr>
                <a:xfrm>
                  <a:off x="4273560" y="1665360"/>
                  <a:ext cx="88920" cy="77760"/>
                </a:xfrm>
                <a:custGeom>
                  <a:avLst/>
                  <a:gdLst/>
                  <a:ahLst/>
                  <a:rect l="l" t="t" r="r" b="b"/>
                  <a:pathLst>
                    <a:path w="111" h="98">
                      <a:moveTo>
                        <a:pt x="111" y="21"/>
                      </a:moveTo>
                      <a:lnTo>
                        <a:pt x="111" y="21"/>
                      </a:lnTo>
                      <a:lnTo>
                        <a:pt x="109" y="15"/>
                      </a:lnTo>
                      <a:lnTo>
                        <a:pt x="105" y="8"/>
                      </a:lnTo>
                      <a:lnTo>
                        <a:pt x="96" y="2"/>
                      </a:lnTo>
                      <a:lnTo>
                        <a:pt x="83" y="0"/>
                      </a:lnTo>
                      <a:lnTo>
                        <a:pt x="27" y="0"/>
                      </a:lnTo>
                      <a:lnTo>
                        <a:pt x="27" y="0"/>
                      </a:lnTo>
                      <a:lnTo>
                        <a:pt x="15" y="2"/>
                      </a:lnTo>
                      <a:lnTo>
                        <a:pt x="7" y="8"/>
                      </a:lnTo>
                      <a:lnTo>
                        <a:pt x="1" y="15"/>
                      </a:lnTo>
                      <a:lnTo>
                        <a:pt x="0" y="21"/>
                      </a:lnTo>
                      <a:lnTo>
                        <a:pt x="0" y="76"/>
                      </a:lnTo>
                      <a:lnTo>
                        <a:pt x="0" y="76"/>
                      </a:lnTo>
                      <a:lnTo>
                        <a:pt x="1" y="82"/>
                      </a:lnTo>
                      <a:lnTo>
                        <a:pt x="7" y="89"/>
                      </a:lnTo>
                      <a:lnTo>
                        <a:pt x="15" y="95"/>
                      </a:lnTo>
                      <a:lnTo>
                        <a:pt x="27" y="98"/>
                      </a:lnTo>
                      <a:lnTo>
                        <a:pt x="83" y="98"/>
                      </a:lnTo>
                      <a:lnTo>
                        <a:pt x="83" y="98"/>
                      </a:lnTo>
                      <a:lnTo>
                        <a:pt x="96" y="95"/>
                      </a:lnTo>
                      <a:lnTo>
                        <a:pt x="105" y="89"/>
                      </a:lnTo>
                      <a:lnTo>
                        <a:pt x="109" y="82"/>
                      </a:lnTo>
                      <a:lnTo>
                        <a:pt x="111" y="76"/>
                      </a:lnTo>
                      <a:lnTo>
                        <a:pt x="111" y="21"/>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8" name=""/>
                <p:cNvSpPr/>
                <p:nvPr/>
              </p:nvSpPr>
              <p:spPr>
                <a:xfrm>
                  <a:off x="3903480" y="1577880"/>
                  <a:ext cx="138240" cy="115920"/>
                </a:xfrm>
                <a:custGeom>
                  <a:avLst/>
                  <a:gdLst/>
                  <a:ahLst/>
                  <a:rect l="l" t="t" r="r" b="b"/>
                  <a:pathLst>
                    <a:path w="175" h="146">
                      <a:moveTo>
                        <a:pt x="28" y="136"/>
                      </a:moveTo>
                      <a:lnTo>
                        <a:pt x="42" y="142"/>
                      </a:lnTo>
                      <a:lnTo>
                        <a:pt x="57" y="146"/>
                      </a:lnTo>
                      <a:lnTo>
                        <a:pt x="74" y="146"/>
                      </a:lnTo>
                      <a:lnTo>
                        <a:pt x="91" y="145"/>
                      </a:lnTo>
                      <a:lnTo>
                        <a:pt x="108" y="140"/>
                      </a:lnTo>
                      <a:lnTo>
                        <a:pt x="124" y="133"/>
                      </a:lnTo>
                      <a:lnTo>
                        <a:pt x="138" y="123"/>
                      </a:lnTo>
                      <a:lnTo>
                        <a:pt x="152" y="111"/>
                      </a:lnTo>
                      <a:lnTo>
                        <a:pt x="170" y="84"/>
                      </a:lnTo>
                      <a:lnTo>
                        <a:pt x="175" y="55"/>
                      </a:lnTo>
                      <a:lnTo>
                        <a:pt x="167" y="30"/>
                      </a:lnTo>
                      <a:lnTo>
                        <a:pt x="146" y="9"/>
                      </a:lnTo>
                      <a:lnTo>
                        <a:pt x="130" y="3"/>
                      </a:lnTo>
                      <a:lnTo>
                        <a:pt x="115" y="0"/>
                      </a:lnTo>
                      <a:lnTo>
                        <a:pt x="98" y="0"/>
                      </a:lnTo>
                      <a:lnTo>
                        <a:pt x="82" y="1"/>
                      </a:lnTo>
                      <a:lnTo>
                        <a:pt x="65" y="6"/>
                      </a:lnTo>
                      <a:lnTo>
                        <a:pt x="50" y="13"/>
                      </a:lnTo>
                      <a:lnTo>
                        <a:pt x="35" y="23"/>
                      </a:lnTo>
                      <a:lnTo>
                        <a:pt x="21" y="35"/>
                      </a:lnTo>
                      <a:lnTo>
                        <a:pt x="4" y="61"/>
                      </a:lnTo>
                      <a:lnTo>
                        <a:pt x="0" y="90"/>
                      </a:lnTo>
                      <a:lnTo>
                        <a:pt x="7" y="116"/>
                      </a:lnTo>
                      <a:lnTo>
                        <a:pt x="28" y="1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03480" y="1577880"/>
                  <a:ext cx="138240" cy="115920"/>
                </a:xfrm>
                <a:custGeom>
                  <a:avLst/>
                  <a:gdLst/>
                  <a:ahLst/>
                  <a:rect l="l" t="t" r="r" b="b"/>
                  <a:pathLst>
                    <a:path w="175" h="146">
                      <a:moveTo>
                        <a:pt x="28" y="136"/>
                      </a:moveTo>
                      <a:lnTo>
                        <a:pt x="28" y="136"/>
                      </a:lnTo>
                      <a:lnTo>
                        <a:pt x="42" y="142"/>
                      </a:lnTo>
                      <a:lnTo>
                        <a:pt x="57" y="146"/>
                      </a:lnTo>
                      <a:lnTo>
                        <a:pt x="74" y="146"/>
                      </a:lnTo>
                      <a:lnTo>
                        <a:pt x="91" y="145"/>
                      </a:lnTo>
                      <a:lnTo>
                        <a:pt x="108" y="140"/>
                      </a:lnTo>
                      <a:lnTo>
                        <a:pt x="124" y="133"/>
                      </a:lnTo>
                      <a:lnTo>
                        <a:pt x="138" y="123"/>
                      </a:lnTo>
                      <a:lnTo>
                        <a:pt x="152" y="111"/>
                      </a:lnTo>
                      <a:lnTo>
                        <a:pt x="152" y="111"/>
                      </a:lnTo>
                      <a:lnTo>
                        <a:pt x="170" y="84"/>
                      </a:lnTo>
                      <a:lnTo>
                        <a:pt x="175" y="55"/>
                      </a:lnTo>
                      <a:lnTo>
                        <a:pt x="167" y="30"/>
                      </a:lnTo>
                      <a:lnTo>
                        <a:pt x="146" y="9"/>
                      </a:lnTo>
                      <a:lnTo>
                        <a:pt x="146" y="9"/>
                      </a:lnTo>
                      <a:lnTo>
                        <a:pt x="130" y="3"/>
                      </a:lnTo>
                      <a:lnTo>
                        <a:pt x="115" y="0"/>
                      </a:lnTo>
                      <a:lnTo>
                        <a:pt x="98" y="0"/>
                      </a:lnTo>
                      <a:lnTo>
                        <a:pt x="82" y="1"/>
                      </a:lnTo>
                      <a:lnTo>
                        <a:pt x="65" y="6"/>
                      </a:lnTo>
                      <a:lnTo>
                        <a:pt x="50" y="13"/>
                      </a:lnTo>
                      <a:lnTo>
                        <a:pt x="35" y="23"/>
                      </a:lnTo>
                      <a:lnTo>
                        <a:pt x="21" y="35"/>
                      </a:lnTo>
                      <a:lnTo>
                        <a:pt x="21" y="35"/>
                      </a:lnTo>
                      <a:lnTo>
                        <a:pt x="4" y="61"/>
                      </a:lnTo>
                      <a:lnTo>
                        <a:pt x="0" y="90"/>
                      </a:lnTo>
                      <a:lnTo>
                        <a:pt x="7" y="116"/>
                      </a:lnTo>
                      <a:lnTo>
                        <a:pt x="28" y="1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992400" y="1684440"/>
                  <a:ext cx="103320" cy="176040"/>
                </a:xfrm>
                <a:custGeom>
                  <a:avLst/>
                  <a:gdLst/>
                  <a:ahLst/>
                  <a:rect l="l" t="t" r="r" b="b"/>
                  <a:pathLst>
                    <a:path w="129" h="222">
                      <a:moveTo>
                        <a:pt x="82" y="0"/>
                      </a:moveTo>
                      <a:lnTo>
                        <a:pt x="129" y="8"/>
                      </a:lnTo>
                      <a:lnTo>
                        <a:pt x="50" y="222"/>
                      </a:lnTo>
                      <a:lnTo>
                        <a:pt x="0" y="222"/>
                      </a:lnTo>
                      <a:lnTo>
                        <a:pt x="8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992400" y="1684440"/>
                  <a:ext cx="103320" cy="176040"/>
                </a:xfrm>
                <a:custGeom>
                  <a:avLst/>
                  <a:gdLst/>
                  <a:ahLst/>
                  <a:rect l="l" t="t" r="r" b="b"/>
                  <a:pathLst>
                    <a:path w="129" h="222">
                      <a:moveTo>
                        <a:pt x="82" y="0"/>
                      </a:moveTo>
                      <a:lnTo>
                        <a:pt x="129" y="8"/>
                      </a:lnTo>
                      <a:lnTo>
                        <a:pt x="50" y="222"/>
                      </a:lnTo>
                      <a:lnTo>
                        <a:pt x="0" y="222"/>
                      </a:lnTo>
                      <a:lnTo>
                        <a:pt x="8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03320" y="1720800"/>
                  <a:ext cx="86040" cy="325440"/>
                </a:xfrm>
                <a:custGeom>
                  <a:avLst/>
                  <a:gdLst/>
                  <a:ahLst/>
                  <a:rect l="l" t="t" r="r" b="b"/>
                  <a:pathLst>
                    <a:path w="106" h="409">
                      <a:moveTo>
                        <a:pt x="15" y="291"/>
                      </a:moveTo>
                      <a:lnTo>
                        <a:pt x="12" y="266"/>
                      </a:lnTo>
                      <a:lnTo>
                        <a:pt x="9" y="240"/>
                      </a:lnTo>
                      <a:lnTo>
                        <a:pt x="4" y="218"/>
                      </a:lnTo>
                      <a:lnTo>
                        <a:pt x="1" y="198"/>
                      </a:lnTo>
                      <a:lnTo>
                        <a:pt x="1" y="189"/>
                      </a:lnTo>
                      <a:lnTo>
                        <a:pt x="1" y="176"/>
                      </a:lnTo>
                      <a:lnTo>
                        <a:pt x="0" y="160"/>
                      </a:lnTo>
                      <a:lnTo>
                        <a:pt x="0" y="141"/>
                      </a:lnTo>
                      <a:lnTo>
                        <a:pt x="3" y="94"/>
                      </a:lnTo>
                      <a:lnTo>
                        <a:pt x="9" y="48"/>
                      </a:lnTo>
                      <a:lnTo>
                        <a:pt x="21" y="13"/>
                      </a:lnTo>
                      <a:lnTo>
                        <a:pt x="39" y="0"/>
                      </a:lnTo>
                      <a:lnTo>
                        <a:pt x="54" y="6"/>
                      </a:lnTo>
                      <a:lnTo>
                        <a:pt x="65" y="24"/>
                      </a:lnTo>
                      <a:lnTo>
                        <a:pt x="76" y="50"/>
                      </a:lnTo>
                      <a:lnTo>
                        <a:pt x="83" y="82"/>
                      </a:lnTo>
                      <a:lnTo>
                        <a:pt x="89" y="116"/>
                      </a:lnTo>
                      <a:lnTo>
                        <a:pt x="94" y="150"/>
                      </a:lnTo>
                      <a:lnTo>
                        <a:pt x="97" y="179"/>
                      </a:lnTo>
                      <a:lnTo>
                        <a:pt x="100" y="201"/>
                      </a:lnTo>
                      <a:lnTo>
                        <a:pt x="103" y="224"/>
                      </a:lnTo>
                      <a:lnTo>
                        <a:pt x="105" y="255"/>
                      </a:lnTo>
                      <a:lnTo>
                        <a:pt x="106" y="288"/>
                      </a:lnTo>
                      <a:lnTo>
                        <a:pt x="105" y="323"/>
                      </a:lnTo>
                      <a:lnTo>
                        <a:pt x="101" y="356"/>
                      </a:lnTo>
                      <a:lnTo>
                        <a:pt x="94" y="384"/>
                      </a:lnTo>
                      <a:lnTo>
                        <a:pt x="85" y="402"/>
                      </a:lnTo>
                      <a:lnTo>
                        <a:pt x="70" y="409"/>
                      </a:lnTo>
                      <a:lnTo>
                        <a:pt x="59" y="407"/>
                      </a:lnTo>
                      <a:lnTo>
                        <a:pt x="50" y="400"/>
                      </a:lnTo>
                      <a:lnTo>
                        <a:pt x="42" y="388"/>
                      </a:lnTo>
                      <a:lnTo>
                        <a:pt x="35" y="373"/>
                      </a:lnTo>
                      <a:lnTo>
                        <a:pt x="28" y="355"/>
                      </a:lnTo>
                      <a:lnTo>
                        <a:pt x="24" y="334"/>
                      </a:lnTo>
                      <a:lnTo>
                        <a:pt x="19" y="314"/>
                      </a:lnTo>
                      <a:lnTo>
                        <a:pt x="15" y="291"/>
                      </a:lnTo>
                      <a:close/>
                    </a:path>
                  </a:pathLst>
                </a:custGeom>
                <a:solidFill>
                  <a:srgbClr val="99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03320" y="1720800"/>
                  <a:ext cx="86040" cy="325440"/>
                </a:xfrm>
                <a:custGeom>
                  <a:avLst/>
                  <a:gdLst/>
                  <a:ahLst/>
                  <a:rect l="l" t="t" r="r" b="b"/>
                  <a:pathLst>
                    <a:path w="106" h="409">
                      <a:moveTo>
                        <a:pt x="15" y="291"/>
                      </a:moveTo>
                      <a:lnTo>
                        <a:pt x="15" y="291"/>
                      </a:lnTo>
                      <a:lnTo>
                        <a:pt x="12" y="266"/>
                      </a:lnTo>
                      <a:lnTo>
                        <a:pt x="9" y="240"/>
                      </a:lnTo>
                      <a:lnTo>
                        <a:pt x="4" y="218"/>
                      </a:lnTo>
                      <a:lnTo>
                        <a:pt x="1" y="198"/>
                      </a:lnTo>
                      <a:lnTo>
                        <a:pt x="1" y="198"/>
                      </a:lnTo>
                      <a:lnTo>
                        <a:pt x="1" y="189"/>
                      </a:lnTo>
                      <a:lnTo>
                        <a:pt x="1" y="176"/>
                      </a:lnTo>
                      <a:lnTo>
                        <a:pt x="0" y="160"/>
                      </a:lnTo>
                      <a:lnTo>
                        <a:pt x="0" y="141"/>
                      </a:lnTo>
                      <a:lnTo>
                        <a:pt x="0" y="141"/>
                      </a:lnTo>
                      <a:lnTo>
                        <a:pt x="3" y="94"/>
                      </a:lnTo>
                      <a:lnTo>
                        <a:pt x="9" y="48"/>
                      </a:lnTo>
                      <a:lnTo>
                        <a:pt x="21" y="13"/>
                      </a:lnTo>
                      <a:lnTo>
                        <a:pt x="39" y="0"/>
                      </a:lnTo>
                      <a:lnTo>
                        <a:pt x="39" y="0"/>
                      </a:lnTo>
                      <a:lnTo>
                        <a:pt x="54" y="6"/>
                      </a:lnTo>
                      <a:lnTo>
                        <a:pt x="65" y="24"/>
                      </a:lnTo>
                      <a:lnTo>
                        <a:pt x="76" y="50"/>
                      </a:lnTo>
                      <a:lnTo>
                        <a:pt x="83" y="82"/>
                      </a:lnTo>
                      <a:lnTo>
                        <a:pt x="89" y="116"/>
                      </a:lnTo>
                      <a:lnTo>
                        <a:pt x="94" y="150"/>
                      </a:lnTo>
                      <a:lnTo>
                        <a:pt x="97" y="179"/>
                      </a:lnTo>
                      <a:lnTo>
                        <a:pt x="100" y="201"/>
                      </a:lnTo>
                      <a:lnTo>
                        <a:pt x="100" y="201"/>
                      </a:lnTo>
                      <a:lnTo>
                        <a:pt x="103" y="224"/>
                      </a:lnTo>
                      <a:lnTo>
                        <a:pt x="105" y="255"/>
                      </a:lnTo>
                      <a:lnTo>
                        <a:pt x="106" y="288"/>
                      </a:lnTo>
                      <a:lnTo>
                        <a:pt x="105" y="323"/>
                      </a:lnTo>
                      <a:lnTo>
                        <a:pt x="101" y="356"/>
                      </a:lnTo>
                      <a:lnTo>
                        <a:pt x="94" y="384"/>
                      </a:lnTo>
                      <a:lnTo>
                        <a:pt x="85" y="402"/>
                      </a:lnTo>
                      <a:lnTo>
                        <a:pt x="70" y="409"/>
                      </a:lnTo>
                      <a:lnTo>
                        <a:pt x="70" y="409"/>
                      </a:lnTo>
                      <a:lnTo>
                        <a:pt x="59" y="407"/>
                      </a:lnTo>
                      <a:lnTo>
                        <a:pt x="50" y="400"/>
                      </a:lnTo>
                      <a:lnTo>
                        <a:pt x="42" y="388"/>
                      </a:lnTo>
                      <a:lnTo>
                        <a:pt x="35" y="373"/>
                      </a:lnTo>
                      <a:lnTo>
                        <a:pt x="28" y="355"/>
                      </a:lnTo>
                      <a:lnTo>
                        <a:pt x="24" y="334"/>
                      </a:lnTo>
                      <a:lnTo>
                        <a:pt x="19" y="314"/>
                      </a:lnTo>
                      <a:lnTo>
                        <a:pt x="15"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290840" y="1914480"/>
                  <a:ext cx="58680" cy="60480"/>
                </a:xfrm>
                <a:custGeom>
                  <a:avLst/>
                  <a:gdLst/>
                  <a:ahLst/>
                  <a:rect l="l" t="t" r="r" b="b"/>
                  <a:pathLst>
                    <a:path w="75" h="76">
                      <a:moveTo>
                        <a:pt x="1" y="0"/>
                      </a:moveTo>
                      <a:lnTo>
                        <a:pt x="40" y="1"/>
                      </a:lnTo>
                      <a:lnTo>
                        <a:pt x="40" y="44"/>
                      </a:lnTo>
                      <a:lnTo>
                        <a:pt x="75" y="48"/>
                      </a:lnTo>
                      <a:lnTo>
                        <a:pt x="68" y="76"/>
                      </a:lnTo>
                      <a:lnTo>
                        <a:pt x="0" y="69"/>
                      </a:lnTo>
                      <a:lnTo>
                        <a:pt x="1" y="0"/>
                      </a:lnTo>
                      <a:close/>
                    </a:path>
                  </a:pathLst>
                </a:custGeom>
                <a:solidFill>
                  <a:srgbClr val="99e5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5" name=""/>
                <p:cNvSpPr/>
                <p:nvPr/>
              </p:nvSpPr>
              <p:spPr>
                <a:xfrm>
                  <a:off x="4290840" y="1914480"/>
                  <a:ext cx="58680" cy="60480"/>
                </a:xfrm>
                <a:custGeom>
                  <a:avLst/>
                  <a:gdLst/>
                  <a:ahLst/>
                  <a:rect l="l" t="t" r="r" b="b"/>
                  <a:pathLst>
                    <a:path w="75" h="76">
                      <a:moveTo>
                        <a:pt x="1" y="0"/>
                      </a:moveTo>
                      <a:lnTo>
                        <a:pt x="40" y="1"/>
                      </a:lnTo>
                      <a:lnTo>
                        <a:pt x="40" y="44"/>
                      </a:lnTo>
                      <a:lnTo>
                        <a:pt x="75" y="48"/>
                      </a:lnTo>
                      <a:lnTo>
                        <a:pt x="68" y="76"/>
                      </a:lnTo>
                      <a:lnTo>
                        <a:pt x="0" y="69"/>
                      </a:lnTo>
                      <a:lnTo>
                        <a:pt x="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6" name=""/>
                <p:cNvSpPr/>
                <p:nvPr/>
              </p:nvSpPr>
              <p:spPr>
                <a:xfrm>
                  <a:off x="3703320" y="1860480"/>
                  <a:ext cx="371520" cy="87480"/>
                </a:xfrm>
                <a:custGeom>
                  <a:avLst/>
                  <a:gdLst/>
                  <a:ahLst/>
                  <a:rect l="l" t="t" r="r" b="b"/>
                  <a:pathLst>
                    <a:path w="467" h="110">
                      <a:moveTo>
                        <a:pt x="467" y="110"/>
                      </a:moveTo>
                      <a:lnTo>
                        <a:pt x="467" y="0"/>
                      </a:lnTo>
                      <a:lnTo>
                        <a:pt x="0" y="0"/>
                      </a:lnTo>
                      <a:lnTo>
                        <a:pt x="12" y="110"/>
                      </a:lnTo>
                      <a:lnTo>
                        <a:pt x="50" y="110"/>
                      </a:lnTo>
                      <a:lnTo>
                        <a:pt x="50" y="53"/>
                      </a:lnTo>
                      <a:lnTo>
                        <a:pt x="313" y="53"/>
                      </a:lnTo>
                      <a:lnTo>
                        <a:pt x="313" y="110"/>
                      </a:lnTo>
                      <a:lnTo>
                        <a:pt x="467" y="110"/>
                      </a:lnTo>
                      <a:close/>
                    </a:path>
                  </a:pathLst>
                </a:custGeom>
                <a:solidFill>
                  <a:srgbClr val="99e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7" name=""/>
                <p:cNvSpPr/>
                <p:nvPr/>
              </p:nvSpPr>
              <p:spPr>
                <a:xfrm>
                  <a:off x="3703320" y="1860480"/>
                  <a:ext cx="371520" cy="87480"/>
                </a:xfrm>
                <a:custGeom>
                  <a:avLst/>
                  <a:gdLst/>
                  <a:ahLst/>
                  <a:rect l="l" t="t" r="r" b="b"/>
                  <a:pathLst>
                    <a:path w="467" h="110">
                      <a:moveTo>
                        <a:pt x="467" y="110"/>
                      </a:moveTo>
                      <a:lnTo>
                        <a:pt x="467" y="0"/>
                      </a:lnTo>
                      <a:lnTo>
                        <a:pt x="0" y="0"/>
                      </a:lnTo>
                      <a:lnTo>
                        <a:pt x="12" y="110"/>
                      </a:lnTo>
                      <a:lnTo>
                        <a:pt x="50" y="110"/>
                      </a:lnTo>
                      <a:lnTo>
                        <a:pt x="50" y="53"/>
                      </a:lnTo>
                      <a:lnTo>
                        <a:pt x="313" y="53"/>
                      </a:lnTo>
                      <a:lnTo>
                        <a:pt x="313" y="110"/>
                      </a:lnTo>
                      <a:lnTo>
                        <a:pt x="467" y="11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8" name=""/>
                <p:cNvSpPr/>
                <p:nvPr/>
              </p:nvSpPr>
              <p:spPr>
                <a:xfrm>
                  <a:off x="3743280" y="1903320"/>
                  <a:ext cx="171360" cy="92160"/>
                </a:xfrm>
                <a:prstGeom prst="rect">
                  <a:avLst/>
                </a:prstGeom>
                <a:solidFill>
                  <a:srgbClr val="99e5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743280" y="1903320"/>
                  <a:ext cx="17136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789360" y="1798560"/>
                  <a:ext cx="114120" cy="61920"/>
                </a:xfrm>
                <a:custGeom>
                  <a:avLst/>
                  <a:gdLst/>
                  <a:ahLst/>
                  <a:rect l="l" t="t" r="r" b="b"/>
                  <a:pathLst>
                    <a:path w="145" h="79">
                      <a:moveTo>
                        <a:pt x="137" y="4"/>
                      </a:moveTo>
                      <a:lnTo>
                        <a:pt x="132" y="4"/>
                      </a:lnTo>
                      <a:lnTo>
                        <a:pt x="119" y="4"/>
                      </a:lnTo>
                      <a:lnTo>
                        <a:pt x="99" y="3"/>
                      </a:lnTo>
                      <a:lnTo>
                        <a:pt x="78" y="2"/>
                      </a:lnTo>
                      <a:lnTo>
                        <a:pt x="53" y="2"/>
                      </a:lnTo>
                      <a:lnTo>
                        <a:pt x="30" y="0"/>
                      </a:lnTo>
                      <a:lnTo>
                        <a:pt x="12" y="0"/>
                      </a:lnTo>
                      <a:lnTo>
                        <a:pt x="0" y="0"/>
                      </a:lnTo>
                      <a:lnTo>
                        <a:pt x="0" y="23"/>
                      </a:lnTo>
                      <a:lnTo>
                        <a:pt x="0" y="49"/>
                      </a:lnTo>
                      <a:lnTo>
                        <a:pt x="0" y="70"/>
                      </a:lnTo>
                      <a:lnTo>
                        <a:pt x="0" y="79"/>
                      </a:lnTo>
                      <a:lnTo>
                        <a:pt x="145" y="79"/>
                      </a:lnTo>
                      <a:lnTo>
                        <a:pt x="137" y="4"/>
                      </a:lnTo>
                      <a:close/>
                    </a:path>
                  </a:pathLst>
                </a:custGeom>
                <a:solidFill>
                  <a:srgbClr val="99e5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1" name=""/>
                <p:cNvSpPr/>
                <p:nvPr/>
              </p:nvSpPr>
              <p:spPr>
                <a:xfrm>
                  <a:off x="3789360" y="1798560"/>
                  <a:ext cx="114120" cy="61920"/>
                </a:xfrm>
                <a:custGeom>
                  <a:avLst/>
                  <a:gdLst/>
                  <a:ahLst/>
                  <a:rect l="l" t="t" r="r" b="b"/>
                  <a:pathLst>
                    <a:path w="145" h="79">
                      <a:moveTo>
                        <a:pt x="137" y="4"/>
                      </a:moveTo>
                      <a:lnTo>
                        <a:pt x="137" y="4"/>
                      </a:lnTo>
                      <a:lnTo>
                        <a:pt x="132" y="4"/>
                      </a:lnTo>
                      <a:lnTo>
                        <a:pt x="119" y="4"/>
                      </a:lnTo>
                      <a:lnTo>
                        <a:pt x="99" y="3"/>
                      </a:lnTo>
                      <a:lnTo>
                        <a:pt x="78" y="2"/>
                      </a:lnTo>
                      <a:lnTo>
                        <a:pt x="53" y="2"/>
                      </a:lnTo>
                      <a:lnTo>
                        <a:pt x="30" y="0"/>
                      </a:lnTo>
                      <a:lnTo>
                        <a:pt x="12" y="0"/>
                      </a:lnTo>
                      <a:lnTo>
                        <a:pt x="0" y="0"/>
                      </a:lnTo>
                      <a:lnTo>
                        <a:pt x="0" y="0"/>
                      </a:lnTo>
                      <a:lnTo>
                        <a:pt x="0" y="23"/>
                      </a:lnTo>
                      <a:lnTo>
                        <a:pt x="0" y="49"/>
                      </a:lnTo>
                      <a:lnTo>
                        <a:pt x="0" y="70"/>
                      </a:lnTo>
                      <a:lnTo>
                        <a:pt x="0" y="79"/>
                      </a:lnTo>
                      <a:lnTo>
                        <a:pt x="145" y="79"/>
                      </a:lnTo>
                      <a:lnTo>
                        <a:pt x="137" y="4"/>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2" name=""/>
                <p:cNvSpPr/>
                <p:nvPr/>
              </p:nvSpPr>
              <p:spPr>
                <a:xfrm>
                  <a:off x="4024080" y="1706400"/>
                  <a:ext cx="285840" cy="460440"/>
                </a:xfrm>
                <a:custGeom>
                  <a:avLst/>
                  <a:gdLst/>
                  <a:ahLst/>
                  <a:rect l="l" t="t" r="r" b="b"/>
                  <a:pathLst>
                    <a:path w="360" h="581">
                      <a:moveTo>
                        <a:pt x="234" y="2"/>
                      </a:moveTo>
                      <a:lnTo>
                        <a:pt x="214" y="0"/>
                      </a:lnTo>
                      <a:lnTo>
                        <a:pt x="191" y="2"/>
                      </a:lnTo>
                      <a:lnTo>
                        <a:pt x="167" y="8"/>
                      </a:lnTo>
                      <a:lnTo>
                        <a:pt x="143" y="19"/>
                      </a:lnTo>
                      <a:lnTo>
                        <a:pt x="118" y="37"/>
                      </a:lnTo>
                      <a:lnTo>
                        <a:pt x="94" y="62"/>
                      </a:lnTo>
                      <a:lnTo>
                        <a:pt x="73" y="97"/>
                      </a:lnTo>
                      <a:lnTo>
                        <a:pt x="53" y="143"/>
                      </a:lnTo>
                      <a:lnTo>
                        <a:pt x="36" y="194"/>
                      </a:lnTo>
                      <a:lnTo>
                        <a:pt x="23" y="242"/>
                      </a:lnTo>
                      <a:lnTo>
                        <a:pt x="13" y="287"/>
                      </a:lnTo>
                      <a:lnTo>
                        <a:pt x="6" y="328"/>
                      </a:lnTo>
                      <a:lnTo>
                        <a:pt x="1" y="365"/>
                      </a:lnTo>
                      <a:lnTo>
                        <a:pt x="0" y="399"/>
                      </a:lnTo>
                      <a:lnTo>
                        <a:pt x="0" y="429"/>
                      </a:lnTo>
                      <a:lnTo>
                        <a:pt x="1" y="456"/>
                      </a:lnTo>
                      <a:lnTo>
                        <a:pt x="4" y="479"/>
                      </a:lnTo>
                      <a:lnTo>
                        <a:pt x="12" y="501"/>
                      </a:lnTo>
                      <a:lnTo>
                        <a:pt x="23" y="521"/>
                      </a:lnTo>
                      <a:lnTo>
                        <a:pt x="36" y="538"/>
                      </a:lnTo>
                      <a:lnTo>
                        <a:pt x="53" y="552"/>
                      </a:lnTo>
                      <a:lnTo>
                        <a:pt x="73" y="566"/>
                      </a:lnTo>
                      <a:lnTo>
                        <a:pt x="97" y="574"/>
                      </a:lnTo>
                      <a:lnTo>
                        <a:pt x="126" y="580"/>
                      </a:lnTo>
                      <a:lnTo>
                        <a:pt x="156" y="581"/>
                      </a:lnTo>
                      <a:lnTo>
                        <a:pt x="184" y="579"/>
                      </a:lnTo>
                      <a:lnTo>
                        <a:pt x="211" y="571"/>
                      </a:lnTo>
                      <a:lnTo>
                        <a:pt x="236" y="557"/>
                      </a:lnTo>
                      <a:lnTo>
                        <a:pt x="258" y="538"/>
                      </a:lnTo>
                      <a:lnTo>
                        <a:pt x="277" y="515"/>
                      </a:lnTo>
                      <a:lnTo>
                        <a:pt x="293" y="486"/>
                      </a:lnTo>
                      <a:lnTo>
                        <a:pt x="307" y="451"/>
                      </a:lnTo>
                      <a:lnTo>
                        <a:pt x="319" y="412"/>
                      </a:lnTo>
                      <a:lnTo>
                        <a:pt x="328" y="371"/>
                      </a:lnTo>
                      <a:lnTo>
                        <a:pt x="337" y="329"/>
                      </a:lnTo>
                      <a:lnTo>
                        <a:pt x="345" y="287"/>
                      </a:lnTo>
                      <a:lnTo>
                        <a:pt x="351" y="246"/>
                      </a:lnTo>
                      <a:lnTo>
                        <a:pt x="356" y="207"/>
                      </a:lnTo>
                      <a:lnTo>
                        <a:pt x="359" y="171"/>
                      </a:lnTo>
                      <a:lnTo>
                        <a:pt x="360" y="138"/>
                      </a:lnTo>
                      <a:lnTo>
                        <a:pt x="359" y="109"/>
                      </a:lnTo>
                      <a:lnTo>
                        <a:pt x="354" y="85"/>
                      </a:lnTo>
                      <a:lnTo>
                        <a:pt x="347" y="63"/>
                      </a:lnTo>
                      <a:lnTo>
                        <a:pt x="336" y="45"/>
                      </a:lnTo>
                      <a:lnTo>
                        <a:pt x="319" y="29"/>
                      </a:lnTo>
                      <a:lnTo>
                        <a:pt x="296" y="17"/>
                      </a:lnTo>
                      <a:lnTo>
                        <a:pt x="269" y="9"/>
                      </a:lnTo>
                      <a:lnTo>
                        <a:pt x="234" y="2"/>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24080" y="1706400"/>
                  <a:ext cx="285840" cy="460440"/>
                </a:xfrm>
                <a:custGeom>
                  <a:avLst/>
                  <a:gdLst/>
                  <a:ahLst/>
                  <a:rect l="l" t="t" r="r" b="b"/>
                  <a:pathLst>
                    <a:path w="360" h="581">
                      <a:moveTo>
                        <a:pt x="234" y="2"/>
                      </a:moveTo>
                      <a:lnTo>
                        <a:pt x="234" y="2"/>
                      </a:lnTo>
                      <a:lnTo>
                        <a:pt x="214" y="0"/>
                      </a:lnTo>
                      <a:lnTo>
                        <a:pt x="191" y="2"/>
                      </a:lnTo>
                      <a:lnTo>
                        <a:pt x="167" y="8"/>
                      </a:lnTo>
                      <a:lnTo>
                        <a:pt x="143" y="19"/>
                      </a:lnTo>
                      <a:lnTo>
                        <a:pt x="118" y="37"/>
                      </a:lnTo>
                      <a:lnTo>
                        <a:pt x="94" y="62"/>
                      </a:lnTo>
                      <a:lnTo>
                        <a:pt x="73" y="97"/>
                      </a:lnTo>
                      <a:lnTo>
                        <a:pt x="53" y="143"/>
                      </a:lnTo>
                      <a:lnTo>
                        <a:pt x="53" y="143"/>
                      </a:lnTo>
                      <a:lnTo>
                        <a:pt x="36" y="194"/>
                      </a:lnTo>
                      <a:lnTo>
                        <a:pt x="23" y="242"/>
                      </a:lnTo>
                      <a:lnTo>
                        <a:pt x="13" y="287"/>
                      </a:lnTo>
                      <a:lnTo>
                        <a:pt x="6" y="328"/>
                      </a:lnTo>
                      <a:lnTo>
                        <a:pt x="1" y="365"/>
                      </a:lnTo>
                      <a:lnTo>
                        <a:pt x="0" y="399"/>
                      </a:lnTo>
                      <a:lnTo>
                        <a:pt x="0" y="429"/>
                      </a:lnTo>
                      <a:lnTo>
                        <a:pt x="1" y="456"/>
                      </a:lnTo>
                      <a:lnTo>
                        <a:pt x="1" y="456"/>
                      </a:lnTo>
                      <a:lnTo>
                        <a:pt x="4" y="479"/>
                      </a:lnTo>
                      <a:lnTo>
                        <a:pt x="12" y="501"/>
                      </a:lnTo>
                      <a:lnTo>
                        <a:pt x="23" y="521"/>
                      </a:lnTo>
                      <a:lnTo>
                        <a:pt x="36" y="538"/>
                      </a:lnTo>
                      <a:lnTo>
                        <a:pt x="53" y="552"/>
                      </a:lnTo>
                      <a:lnTo>
                        <a:pt x="73" y="566"/>
                      </a:lnTo>
                      <a:lnTo>
                        <a:pt x="97" y="574"/>
                      </a:lnTo>
                      <a:lnTo>
                        <a:pt x="126" y="580"/>
                      </a:lnTo>
                      <a:lnTo>
                        <a:pt x="126" y="580"/>
                      </a:lnTo>
                      <a:lnTo>
                        <a:pt x="156" y="581"/>
                      </a:lnTo>
                      <a:lnTo>
                        <a:pt x="184" y="579"/>
                      </a:lnTo>
                      <a:lnTo>
                        <a:pt x="211" y="571"/>
                      </a:lnTo>
                      <a:lnTo>
                        <a:pt x="236" y="557"/>
                      </a:lnTo>
                      <a:lnTo>
                        <a:pt x="258" y="538"/>
                      </a:lnTo>
                      <a:lnTo>
                        <a:pt x="277" y="515"/>
                      </a:lnTo>
                      <a:lnTo>
                        <a:pt x="293" y="486"/>
                      </a:lnTo>
                      <a:lnTo>
                        <a:pt x="307" y="451"/>
                      </a:lnTo>
                      <a:lnTo>
                        <a:pt x="307" y="451"/>
                      </a:lnTo>
                      <a:lnTo>
                        <a:pt x="319" y="412"/>
                      </a:lnTo>
                      <a:lnTo>
                        <a:pt x="328" y="371"/>
                      </a:lnTo>
                      <a:lnTo>
                        <a:pt x="337" y="329"/>
                      </a:lnTo>
                      <a:lnTo>
                        <a:pt x="345" y="287"/>
                      </a:lnTo>
                      <a:lnTo>
                        <a:pt x="351" y="246"/>
                      </a:lnTo>
                      <a:lnTo>
                        <a:pt x="356" y="207"/>
                      </a:lnTo>
                      <a:lnTo>
                        <a:pt x="359" y="171"/>
                      </a:lnTo>
                      <a:lnTo>
                        <a:pt x="360" y="138"/>
                      </a:lnTo>
                      <a:lnTo>
                        <a:pt x="360" y="138"/>
                      </a:lnTo>
                      <a:lnTo>
                        <a:pt x="359" y="109"/>
                      </a:lnTo>
                      <a:lnTo>
                        <a:pt x="354" y="85"/>
                      </a:lnTo>
                      <a:lnTo>
                        <a:pt x="347" y="63"/>
                      </a:lnTo>
                      <a:lnTo>
                        <a:pt x="336" y="45"/>
                      </a:lnTo>
                      <a:lnTo>
                        <a:pt x="319" y="29"/>
                      </a:lnTo>
                      <a:lnTo>
                        <a:pt x="296" y="17"/>
                      </a:lnTo>
                      <a:lnTo>
                        <a:pt x="269" y="9"/>
                      </a:lnTo>
                      <a:lnTo>
                        <a:pt x="234"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32240" y="1881360"/>
                  <a:ext cx="104760" cy="168120"/>
                </a:xfrm>
                <a:custGeom>
                  <a:avLst/>
                  <a:gdLst/>
                  <a:ahLst/>
                  <a:rect l="l" t="t" r="r" b="b"/>
                  <a:pathLst>
                    <a:path w="132" h="213">
                      <a:moveTo>
                        <a:pt x="86" y="0"/>
                      </a:moveTo>
                      <a:lnTo>
                        <a:pt x="79" y="0"/>
                      </a:lnTo>
                      <a:lnTo>
                        <a:pt x="71" y="0"/>
                      </a:lnTo>
                      <a:lnTo>
                        <a:pt x="62" y="3"/>
                      </a:lnTo>
                      <a:lnTo>
                        <a:pt x="53" y="6"/>
                      </a:lnTo>
                      <a:lnTo>
                        <a:pt x="44" y="12"/>
                      </a:lnTo>
                      <a:lnTo>
                        <a:pt x="35" y="22"/>
                      </a:lnTo>
                      <a:lnTo>
                        <a:pt x="27" y="35"/>
                      </a:lnTo>
                      <a:lnTo>
                        <a:pt x="19" y="52"/>
                      </a:lnTo>
                      <a:lnTo>
                        <a:pt x="9" y="88"/>
                      </a:lnTo>
                      <a:lnTo>
                        <a:pt x="3" y="120"/>
                      </a:lnTo>
                      <a:lnTo>
                        <a:pt x="0" y="146"/>
                      </a:lnTo>
                      <a:lnTo>
                        <a:pt x="1" y="167"/>
                      </a:lnTo>
                      <a:lnTo>
                        <a:pt x="3" y="175"/>
                      </a:lnTo>
                      <a:lnTo>
                        <a:pt x="4" y="184"/>
                      </a:lnTo>
                      <a:lnTo>
                        <a:pt x="9" y="191"/>
                      </a:lnTo>
                      <a:lnTo>
                        <a:pt x="13" y="197"/>
                      </a:lnTo>
                      <a:lnTo>
                        <a:pt x="19" y="203"/>
                      </a:lnTo>
                      <a:lnTo>
                        <a:pt x="27" y="208"/>
                      </a:lnTo>
                      <a:lnTo>
                        <a:pt x="36" y="210"/>
                      </a:lnTo>
                      <a:lnTo>
                        <a:pt x="47" y="213"/>
                      </a:lnTo>
                      <a:lnTo>
                        <a:pt x="57" y="213"/>
                      </a:lnTo>
                      <a:lnTo>
                        <a:pt x="68" y="212"/>
                      </a:lnTo>
                      <a:lnTo>
                        <a:pt x="77" y="209"/>
                      </a:lnTo>
                      <a:lnTo>
                        <a:pt x="86" y="204"/>
                      </a:lnTo>
                      <a:lnTo>
                        <a:pt x="96" y="197"/>
                      </a:lnTo>
                      <a:lnTo>
                        <a:pt x="102" y="189"/>
                      </a:lnTo>
                      <a:lnTo>
                        <a:pt x="109" y="178"/>
                      </a:lnTo>
                      <a:lnTo>
                        <a:pt x="114" y="166"/>
                      </a:lnTo>
                      <a:lnTo>
                        <a:pt x="121" y="136"/>
                      </a:lnTo>
                      <a:lnTo>
                        <a:pt x="127" y="105"/>
                      </a:lnTo>
                      <a:lnTo>
                        <a:pt x="131" y="75"/>
                      </a:lnTo>
                      <a:lnTo>
                        <a:pt x="132" y="50"/>
                      </a:lnTo>
                      <a:lnTo>
                        <a:pt x="132" y="40"/>
                      </a:lnTo>
                      <a:lnTo>
                        <a:pt x="131" y="30"/>
                      </a:lnTo>
                      <a:lnTo>
                        <a:pt x="127" y="23"/>
                      </a:lnTo>
                      <a:lnTo>
                        <a:pt x="123" y="16"/>
                      </a:lnTo>
                      <a:lnTo>
                        <a:pt x="117" y="10"/>
                      </a:lnTo>
                      <a:lnTo>
                        <a:pt x="109" y="6"/>
                      </a:lnTo>
                      <a:lnTo>
                        <a:pt x="99" y="3"/>
                      </a:lnTo>
                      <a:lnTo>
                        <a:pt x="86" y="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332240" y="1881360"/>
                  <a:ext cx="104760" cy="168120"/>
                </a:xfrm>
                <a:custGeom>
                  <a:avLst/>
                  <a:gdLst/>
                  <a:ahLst/>
                  <a:rect l="l" t="t" r="r" b="b"/>
                  <a:pathLst>
                    <a:path w="132" h="213">
                      <a:moveTo>
                        <a:pt x="86" y="0"/>
                      </a:moveTo>
                      <a:lnTo>
                        <a:pt x="86" y="0"/>
                      </a:lnTo>
                      <a:lnTo>
                        <a:pt x="79" y="0"/>
                      </a:lnTo>
                      <a:lnTo>
                        <a:pt x="71" y="0"/>
                      </a:lnTo>
                      <a:lnTo>
                        <a:pt x="62" y="3"/>
                      </a:lnTo>
                      <a:lnTo>
                        <a:pt x="53" y="6"/>
                      </a:lnTo>
                      <a:lnTo>
                        <a:pt x="44" y="12"/>
                      </a:lnTo>
                      <a:lnTo>
                        <a:pt x="35" y="22"/>
                      </a:lnTo>
                      <a:lnTo>
                        <a:pt x="27" y="35"/>
                      </a:lnTo>
                      <a:lnTo>
                        <a:pt x="19" y="52"/>
                      </a:lnTo>
                      <a:lnTo>
                        <a:pt x="19" y="52"/>
                      </a:lnTo>
                      <a:lnTo>
                        <a:pt x="9" y="88"/>
                      </a:lnTo>
                      <a:lnTo>
                        <a:pt x="3" y="120"/>
                      </a:lnTo>
                      <a:lnTo>
                        <a:pt x="0" y="146"/>
                      </a:lnTo>
                      <a:lnTo>
                        <a:pt x="1" y="167"/>
                      </a:lnTo>
                      <a:lnTo>
                        <a:pt x="1" y="167"/>
                      </a:lnTo>
                      <a:lnTo>
                        <a:pt x="3" y="175"/>
                      </a:lnTo>
                      <a:lnTo>
                        <a:pt x="4" y="184"/>
                      </a:lnTo>
                      <a:lnTo>
                        <a:pt x="9" y="191"/>
                      </a:lnTo>
                      <a:lnTo>
                        <a:pt x="13" y="197"/>
                      </a:lnTo>
                      <a:lnTo>
                        <a:pt x="19" y="203"/>
                      </a:lnTo>
                      <a:lnTo>
                        <a:pt x="27" y="208"/>
                      </a:lnTo>
                      <a:lnTo>
                        <a:pt x="36" y="210"/>
                      </a:lnTo>
                      <a:lnTo>
                        <a:pt x="47" y="213"/>
                      </a:lnTo>
                      <a:lnTo>
                        <a:pt x="47" y="213"/>
                      </a:lnTo>
                      <a:lnTo>
                        <a:pt x="57" y="213"/>
                      </a:lnTo>
                      <a:lnTo>
                        <a:pt x="68" y="212"/>
                      </a:lnTo>
                      <a:lnTo>
                        <a:pt x="77" y="209"/>
                      </a:lnTo>
                      <a:lnTo>
                        <a:pt x="86" y="204"/>
                      </a:lnTo>
                      <a:lnTo>
                        <a:pt x="96" y="197"/>
                      </a:lnTo>
                      <a:lnTo>
                        <a:pt x="102" y="189"/>
                      </a:lnTo>
                      <a:lnTo>
                        <a:pt x="109" y="178"/>
                      </a:lnTo>
                      <a:lnTo>
                        <a:pt x="114" y="166"/>
                      </a:lnTo>
                      <a:lnTo>
                        <a:pt x="114" y="166"/>
                      </a:lnTo>
                      <a:lnTo>
                        <a:pt x="121" y="136"/>
                      </a:lnTo>
                      <a:lnTo>
                        <a:pt x="127" y="105"/>
                      </a:lnTo>
                      <a:lnTo>
                        <a:pt x="131" y="75"/>
                      </a:lnTo>
                      <a:lnTo>
                        <a:pt x="132" y="50"/>
                      </a:lnTo>
                      <a:lnTo>
                        <a:pt x="132" y="50"/>
                      </a:lnTo>
                      <a:lnTo>
                        <a:pt x="132" y="40"/>
                      </a:lnTo>
                      <a:lnTo>
                        <a:pt x="131" y="30"/>
                      </a:lnTo>
                      <a:lnTo>
                        <a:pt x="127" y="23"/>
                      </a:lnTo>
                      <a:lnTo>
                        <a:pt x="123" y="16"/>
                      </a:lnTo>
                      <a:lnTo>
                        <a:pt x="117" y="10"/>
                      </a:lnTo>
                      <a:lnTo>
                        <a:pt x="109" y="6"/>
                      </a:lnTo>
                      <a:lnTo>
                        <a:pt x="99" y="3"/>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14640" y="1903320"/>
                  <a:ext cx="74520" cy="92160"/>
                </a:xfrm>
                <a:custGeom>
                  <a:avLst/>
                  <a:gdLst/>
                  <a:ahLst/>
                  <a:rect l="l" t="t" r="r" b="b"/>
                  <a:pathLst>
                    <a:path w="93" h="117">
                      <a:moveTo>
                        <a:pt x="0" y="117"/>
                      </a:moveTo>
                      <a:lnTo>
                        <a:pt x="0" y="0"/>
                      </a:lnTo>
                      <a:lnTo>
                        <a:pt x="47" y="0"/>
                      </a:lnTo>
                      <a:lnTo>
                        <a:pt x="47" y="57"/>
                      </a:lnTo>
                      <a:lnTo>
                        <a:pt x="93" y="57"/>
                      </a:lnTo>
                      <a:lnTo>
                        <a:pt x="93" y="67"/>
                      </a:lnTo>
                      <a:lnTo>
                        <a:pt x="90" y="76"/>
                      </a:lnTo>
                      <a:lnTo>
                        <a:pt x="85" y="86"/>
                      </a:lnTo>
                      <a:lnTo>
                        <a:pt x="77" y="94"/>
                      </a:lnTo>
                      <a:lnTo>
                        <a:pt x="65" y="103"/>
                      </a:lnTo>
                      <a:lnTo>
                        <a:pt x="48" y="109"/>
                      </a:lnTo>
                      <a:lnTo>
                        <a:pt x="27" y="114"/>
                      </a:lnTo>
                      <a:lnTo>
                        <a:pt x="0" y="117"/>
                      </a:lnTo>
                      <a:close/>
                    </a:path>
                  </a:pathLst>
                </a:custGeom>
                <a:solidFill>
                  <a:srgbClr val="ff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3914640" y="1903320"/>
                  <a:ext cx="74520" cy="92160"/>
                </a:xfrm>
                <a:custGeom>
                  <a:avLst/>
                  <a:gdLst/>
                  <a:ahLst/>
                  <a:rect l="l" t="t" r="r" b="b"/>
                  <a:pathLst>
                    <a:path w="93" h="117">
                      <a:moveTo>
                        <a:pt x="0" y="117"/>
                      </a:moveTo>
                      <a:lnTo>
                        <a:pt x="0" y="0"/>
                      </a:lnTo>
                      <a:lnTo>
                        <a:pt x="47" y="0"/>
                      </a:lnTo>
                      <a:lnTo>
                        <a:pt x="47" y="57"/>
                      </a:lnTo>
                      <a:lnTo>
                        <a:pt x="93" y="57"/>
                      </a:lnTo>
                      <a:lnTo>
                        <a:pt x="93" y="57"/>
                      </a:lnTo>
                      <a:lnTo>
                        <a:pt x="93" y="67"/>
                      </a:lnTo>
                      <a:lnTo>
                        <a:pt x="90" y="76"/>
                      </a:lnTo>
                      <a:lnTo>
                        <a:pt x="85" y="86"/>
                      </a:lnTo>
                      <a:lnTo>
                        <a:pt x="77" y="94"/>
                      </a:lnTo>
                      <a:lnTo>
                        <a:pt x="65" y="103"/>
                      </a:lnTo>
                      <a:lnTo>
                        <a:pt x="48" y="109"/>
                      </a:lnTo>
                      <a:lnTo>
                        <a:pt x="27" y="114"/>
                      </a:lnTo>
                      <a:lnTo>
                        <a:pt x="0" y="11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174920" y="1781280"/>
                  <a:ext cx="104760" cy="322200"/>
                </a:xfrm>
                <a:custGeom>
                  <a:avLst/>
                  <a:gdLst/>
                  <a:ahLst/>
                  <a:rect l="l" t="t" r="r" b="b"/>
                  <a:pathLst>
                    <a:path w="132" h="405">
                      <a:moveTo>
                        <a:pt x="71" y="203"/>
                      </a:moveTo>
                      <a:lnTo>
                        <a:pt x="73" y="170"/>
                      </a:lnTo>
                      <a:lnTo>
                        <a:pt x="67" y="146"/>
                      </a:lnTo>
                      <a:lnTo>
                        <a:pt x="55" y="133"/>
                      </a:lnTo>
                      <a:lnTo>
                        <a:pt x="35" y="130"/>
                      </a:lnTo>
                      <a:lnTo>
                        <a:pt x="42" y="109"/>
                      </a:lnTo>
                      <a:lnTo>
                        <a:pt x="52" y="86"/>
                      </a:lnTo>
                      <a:lnTo>
                        <a:pt x="61" y="63"/>
                      </a:lnTo>
                      <a:lnTo>
                        <a:pt x="70" y="42"/>
                      </a:lnTo>
                      <a:lnTo>
                        <a:pt x="81" y="24"/>
                      </a:lnTo>
                      <a:lnTo>
                        <a:pt x="93" y="11"/>
                      </a:lnTo>
                      <a:lnTo>
                        <a:pt x="103" y="2"/>
                      </a:lnTo>
                      <a:lnTo>
                        <a:pt x="114" y="0"/>
                      </a:lnTo>
                      <a:lnTo>
                        <a:pt x="132" y="29"/>
                      </a:lnTo>
                      <a:lnTo>
                        <a:pt x="132" y="88"/>
                      </a:lnTo>
                      <a:lnTo>
                        <a:pt x="123" y="156"/>
                      </a:lnTo>
                      <a:lnTo>
                        <a:pt x="114" y="208"/>
                      </a:lnTo>
                      <a:lnTo>
                        <a:pt x="109" y="231"/>
                      </a:lnTo>
                      <a:lnTo>
                        <a:pt x="103" y="261"/>
                      </a:lnTo>
                      <a:lnTo>
                        <a:pt x="94" y="293"/>
                      </a:lnTo>
                      <a:lnTo>
                        <a:pt x="82" y="327"/>
                      </a:lnTo>
                      <a:lnTo>
                        <a:pt x="70" y="359"/>
                      </a:lnTo>
                      <a:lnTo>
                        <a:pt x="55" y="384"/>
                      </a:lnTo>
                      <a:lnTo>
                        <a:pt x="39" y="401"/>
                      </a:lnTo>
                      <a:lnTo>
                        <a:pt x="23" y="405"/>
                      </a:lnTo>
                      <a:lnTo>
                        <a:pt x="6" y="391"/>
                      </a:lnTo>
                      <a:lnTo>
                        <a:pt x="0" y="362"/>
                      </a:lnTo>
                      <a:lnTo>
                        <a:pt x="0" y="324"/>
                      </a:lnTo>
                      <a:lnTo>
                        <a:pt x="4" y="279"/>
                      </a:lnTo>
                      <a:lnTo>
                        <a:pt x="17" y="283"/>
                      </a:lnTo>
                      <a:lnTo>
                        <a:pt x="27" y="283"/>
                      </a:lnTo>
                      <a:lnTo>
                        <a:pt x="38" y="279"/>
                      </a:lnTo>
                      <a:lnTo>
                        <a:pt x="47" y="272"/>
                      </a:lnTo>
                      <a:lnTo>
                        <a:pt x="55" y="261"/>
                      </a:lnTo>
                      <a:lnTo>
                        <a:pt x="62" y="246"/>
                      </a:lnTo>
                      <a:lnTo>
                        <a:pt x="67" y="227"/>
                      </a:lnTo>
                      <a:lnTo>
                        <a:pt x="71" y="20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74920" y="1781280"/>
                  <a:ext cx="104760" cy="322200"/>
                </a:xfrm>
                <a:custGeom>
                  <a:avLst/>
                  <a:gdLst/>
                  <a:ahLst/>
                  <a:rect l="l" t="t" r="r" b="b"/>
                  <a:pathLst>
                    <a:path w="132" h="405">
                      <a:moveTo>
                        <a:pt x="71" y="203"/>
                      </a:moveTo>
                      <a:lnTo>
                        <a:pt x="71" y="203"/>
                      </a:lnTo>
                      <a:lnTo>
                        <a:pt x="73" y="170"/>
                      </a:lnTo>
                      <a:lnTo>
                        <a:pt x="67" y="146"/>
                      </a:lnTo>
                      <a:lnTo>
                        <a:pt x="55" y="133"/>
                      </a:lnTo>
                      <a:lnTo>
                        <a:pt x="35" y="130"/>
                      </a:lnTo>
                      <a:lnTo>
                        <a:pt x="35" y="130"/>
                      </a:lnTo>
                      <a:lnTo>
                        <a:pt x="42" y="109"/>
                      </a:lnTo>
                      <a:lnTo>
                        <a:pt x="52" y="86"/>
                      </a:lnTo>
                      <a:lnTo>
                        <a:pt x="61" y="63"/>
                      </a:lnTo>
                      <a:lnTo>
                        <a:pt x="70" y="42"/>
                      </a:lnTo>
                      <a:lnTo>
                        <a:pt x="81" y="24"/>
                      </a:lnTo>
                      <a:lnTo>
                        <a:pt x="93" y="11"/>
                      </a:lnTo>
                      <a:lnTo>
                        <a:pt x="103" y="2"/>
                      </a:lnTo>
                      <a:lnTo>
                        <a:pt x="114" y="0"/>
                      </a:lnTo>
                      <a:lnTo>
                        <a:pt x="114" y="0"/>
                      </a:lnTo>
                      <a:lnTo>
                        <a:pt x="132" y="29"/>
                      </a:lnTo>
                      <a:lnTo>
                        <a:pt x="132" y="88"/>
                      </a:lnTo>
                      <a:lnTo>
                        <a:pt x="123" y="156"/>
                      </a:lnTo>
                      <a:lnTo>
                        <a:pt x="114" y="208"/>
                      </a:lnTo>
                      <a:lnTo>
                        <a:pt x="114" y="208"/>
                      </a:lnTo>
                      <a:lnTo>
                        <a:pt x="109" y="231"/>
                      </a:lnTo>
                      <a:lnTo>
                        <a:pt x="103" y="261"/>
                      </a:lnTo>
                      <a:lnTo>
                        <a:pt x="94" y="293"/>
                      </a:lnTo>
                      <a:lnTo>
                        <a:pt x="82" y="327"/>
                      </a:lnTo>
                      <a:lnTo>
                        <a:pt x="70" y="359"/>
                      </a:lnTo>
                      <a:lnTo>
                        <a:pt x="55" y="384"/>
                      </a:lnTo>
                      <a:lnTo>
                        <a:pt x="39" y="401"/>
                      </a:lnTo>
                      <a:lnTo>
                        <a:pt x="23" y="405"/>
                      </a:lnTo>
                      <a:lnTo>
                        <a:pt x="23" y="405"/>
                      </a:lnTo>
                      <a:lnTo>
                        <a:pt x="6" y="391"/>
                      </a:lnTo>
                      <a:lnTo>
                        <a:pt x="0" y="362"/>
                      </a:lnTo>
                      <a:lnTo>
                        <a:pt x="0" y="324"/>
                      </a:lnTo>
                      <a:lnTo>
                        <a:pt x="4" y="279"/>
                      </a:lnTo>
                      <a:lnTo>
                        <a:pt x="4" y="279"/>
                      </a:lnTo>
                      <a:lnTo>
                        <a:pt x="17" y="283"/>
                      </a:lnTo>
                      <a:lnTo>
                        <a:pt x="27" y="283"/>
                      </a:lnTo>
                      <a:lnTo>
                        <a:pt x="38" y="279"/>
                      </a:lnTo>
                      <a:lnTo>
                        <a:pt x="47" y="272"/>
                      </a:lnTo>
                      <a:lnTo>
                        <a:pt x="55" y="261"/>
                      </a:lnTo>
                      <a:lnTo>
                        <a:pt x="62" y="246"/>
                      </a:lnTo>
                      <a:lnTo>
                        <a:pt x="67" y="227"/>
                      </a:lnTo>
                      <a:lnTo>
                        <a:pt x="71" y="2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751200" y="1693800"/>
                  <a:ext cx="215640" cy="108000"/>
                </a:xfrm>
                <a:custGeom>
                  <a:avLst/>
                  <a:gdLst/>
                  <a:ahLst/>
                  <a:rect l="l" t="t" r="r" b="b"/>
                  <a:pathLst>
                    <a:path w="272" h="135">
                      <a:moveTo>
                        <a:pt x="3" y="0"/>
                      </a:moveTo>
                      <a:lnTo>
                        <a:pt x="7" y="0"/>
                      </a:lnTo>
                      <a:lnTo>
                        <a:pt x="21" y="0"/>
                      </a:lnTo>
                      <a:lnTo>
                        <a:pt x="39" y="0"/>
                      </a:lnTo>
                      <a:lnTo>
                        <a:pt x="62" y="0"/>
                      </a:lnTo>
                      <a:lnTo>
                        <a:pt x="85" y="0"/>
                      </a:lnTo>
                      <a:lnTo>
                        <a:pt x="106" y="0"/>
                      </a:lnTo>
                      <a:lnTo>
                        <a:pt x="122" y="0"/>
                      </a:lnTo>
                      <a:lnTo>
                        <a:pt x="132" y="0"/>
                      </a:lnTo>
                      <a:lnTo>
                        <a:pt x="138" y="1"/>
                      </a:lnTo>
                      <a:lnTo>
                        <a:pt x="146" y="3"/>
                      </a:lnTo>
                      <a:lnTo>
                        <a:pt x="154" y="8"/>
                      </a:lnTo>
                      <a:lnTo>
                        <a:pt x="161" y="14"/>
                      </a:lnTo>
                      <a:lnTo>
                        <a:pt x="167" y="23"/>
                      </a:lnTo>
                      <a:lnTo>
                        <a:pt x="173" y="32"/>
                      </a:lnTo>
                      <a:lnTo>
                        <a:pt x="178" y="44"/>
                      </a:lnTo>
                      <a:lnTo>
                        <a:pt x="179" y="58"/>
                      </a:lnTo>
                      <a:lnTo>
                        <a:pt x="179" y="81"/>
                      </a:lnTo>
                      <a:lnTo>
                        <a:pt x="179" y="93"/>
                      </a:lnTo>
                      <a:lnTo>
                        <a:pt x="179" y="98"/>
                      </a:lnTo>
                      <a:lnTo>
                        <a:pt x="179" y="99"/>
                      </a:lnTo>
                      <a:lnTo>
                        <a:pt x="187" y="99"/>
                      </a:lnTo>
                      <a:lnTo>
                        <a:pt x="196" y="99"/>
                      </a:lnTo>
                      <a:lnTo>
                        <a:pt x="207" y="98"/>
                      </a:lnTo>
                      <a:lnTo>
                        <a:pt x="219" y="98"/>
                      </a:lnTo>
                      <a:lnTo>
                        <a:pt x="231" y="98"/>
                      </a:lnTo>
                      <a:lnTo>
                        <a:pt x="242" y="96"/>
                      </a:lnTo>
                      <a:lnTo>
                        <a:pt x="252" y="96"/>
                      </a:lnTo>
                      <a:lnTo>
                        <a:pt x="259" y="96"/>
                      </a:lnTo>
                      <a:lnTo>
                        <a:pt x="268" y="101"/>
                      </a:lnTo>
                      <a:lnTo>
                        <a:pt x="272" y="112"/>
                      </a:lnTo>
                      <a:lnTo>
                        <a:pt x="268" y="123"/>
                      </a:lnTo>
                      <a:lnTo>
                        <a:pt x="255" y="128"/>
                      </a:lnTo>
                      <a:lnTo>
                        <a:pt x="245" y="128"/>
                      </a:lnTo>
                      <a:lnTo>
                        <a:pt x="234" y="129"/>
                      </a:lnTo>
                      <a:lnTo>
                        <a:pt x="222" y="130"/>
                      </a:lnTo>
                      <a:lnTo>
                        <a:pt x="211" y="131"/>
                      </a:lnTo>
                      <a:lnTo>
                        <a:pt x="201" y="133"/>
                      </a:lnTo>
                      <a:lnTo>
                        <a:pt x="192" y="134"/>
                      </a:lnTo>
                      <a:lnTo>
                        <a:pt x="185" y="135"/>
                      </a:lnTo>
                      <a:lnTo>
                        <a:pt x="184" y="135"/>
                      </a:lnTo>
                      <a:lnTo>
                        <a:pt x="179" y="135"/>
                      </a:lnTo>
                      <a:lnTo>
                        <a:pt x="166" y="135"/>
                      </a:lnTo>
                      <a:lnTo>
                        <a:pt x="146" y="134"/>
                      </a:lnTo>
                      <a:lnTo>
                        <a:pt x="125" y="133"/>
                      </a:lnTo>
                      <a:lnTo>
                        <a:pt x="100" y="133"/>
                      </a:lnTo>
                      <a:lnTo>
                        <a:pt x="77" y="131"/>
                      </a:lnTo>
                      <a:lnTo>
                        <a:pt x="59" y="131"/>
                      </a:lnTo>
                      <a:lnTo>
                        <a:pt x="47" y="131"/>
                      </a:lnTo>
                      <a:lnTo>
                        <a:pt x="33" y="129"/>
                      </a:lnTo>
                      <a:lnTo>
                        <a:pt x="21" y="123"/>
                      </a:lnTo>
                      <a:lnTo>
                        <a:pt x="12" y="113"/>
                      </a:lnTo>
                      <a:lnTo>
                        <a:pt x="6" y="99"/>
                      </a:lnTo>
                      <a:lnTo>
                        <a:pt x="1" y="81"/>
                      </a:lnTo>
                      <a:lnTo>
                        <a:pt x="0" y="58"/>
                      </a:lnTo>
                      <a:lnTo>
                        <a:pt x="0" y="31"/>
                      </a:lnTo>
                      <a:lnTo>
                        <a:pt x="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751200" y="1693800"/>
                  <a:ext cx="215640" cy="108000"/>
                </a:xfrm>
                <a:custGeom>
                  <a:avLst/>
                  <a:gdLst/>
                  <a:ahLst/>
                  <a:rect l="l" t="t" r="r" b="b"/>
                  <a:pathLst>
                    <a:path w="272" h="135">
                      <a:moveTo>
                        <a:pt x="3" y="0"/>
                      </a:moveTo>
                      <a:lnTo>
                        <a:pt x="3" y="0"/>
                      </a:lnTo>
                      <a:lnTo>
                        <a:pt x="7" y="0"/>
                      </a:lnTo>
                      <a:lnTo>
                        <a:pt x="21" y="0"/>
                      </a:lnTo>
                      <a:lnTo>
                        <a:pt x="39" y="0"/>
                      </a:lnTo>
                      <a:lnTo>
                        <a:pt x="62" y="0"/>
                      </a:lnTo>
                      <a:lnTo>
                        <a:pt x="85" y="0"/>
                      </a:lnTo>
                      <a:lnTo>
                        <a:pt x="106" y="0"/>
                      </a:lnTo>
                      <a:lnTo>
                        <a:pt x="122" y="0"/>
                      </a:lnTo>
                      <a:lnTo>
                        <a:pt x="132" y="0"/>
                      </a:lnTo>
                      <a:lnTo>
                        <a:pt x="132" y="0"/>
                      </a:lnTo>
                      <a:lnTo>
                        <a:pt x="138" y="1"/>
                      </a:lnTo>
                      <a:lnTo>
                        <a:pt x="146" y="3"/>
                      </a:lnTo>
                      <a:lnTo>
                        <a:pt x="154" y="8"/>
                      </a:lnTo>
                      <a:lnTo>
                        <a:pt x="161" y="14"/>
                      </a:lnTo>
                      <a:lnTo>
                        <a:pt x="167" y="23"/>
                      </a:lnTo>
                      <a:lnTo>
                        <a:pt x="173" y="32"/>
                      </a:lnTo>
                      <a:lnTo>
                        <a:pt x="178" y="44"/>
                      </a:lnTo>
                      <a:lnTo>
                        <a:pt x="179" y="58"/>
                      </a:lnTo>
                      <a:lnTo>
                        <a:pt x="179" y="58"/>
                      </a:lnTo>
                      <a:lnTo>
                        <a:pt x="179" y="81"/>
                      </a:lnTo>
                      <a:lnTo>
                        <a:pt x="179" y="93"/>
                      </a:lnTo>
                      <a:lnTo>
                        <a:pt x="179" y="98"/>
                      </a:lnTo>
                      <a:lnTo>
                        <a:pt x="179" y="99"/>
                      </a:lnTo>
                      <a:lnTo>
                        <a:pt x="179" y="99"/>
                      </a:lnTo>
                      <a:lnTo>
                        <a:pt x="187" y="99"/>
                      </a:lnTo>
                      <a:lnTo>
                        <a:pt x="196" y="99"/>
                      </a:lnTo>
                      <a:lnTo>
                        <a:pt x="207" y="98"/>
                      </a:lnTo>
                      <a:lnTo>
                        <a:pt x="219" y="98"/>
                      </a:lnTo>
                      <a:lnTo>
                        <a:pt x="231" y="98"/>
                      </a:lnTo>
                      <a:lnTo>
                        <a:pt x="242" y="96"/>
                      </a:lnTo>
                      <a:lnTo>
                        <a:pt x="252" y="96"/>
                      </a:lnTo>
                      <a:lnTo>
                        <a:pt x="259" y="96"/>
                      </a:lnTo>
                      <a:lnTo>
                        <a:pt x="259" y="96"/>
                      </a:lnTo>
                      <a:lnTo>
                        <a:pt x="268" y="101"/>
                      </a:lnTo>
                      <a:lnTo>
                        <a:pt x="272" y="112"/>
                      </a:lnTo>
                      <a:lnTo>
                        <a:pt x="268" y="123"/>
                      </a:lnTo>
                      <a:lnTo>
                        <a:pt x="255" y="128"/>
                      </a:lnTo>
                      <a:lnTo>
                        <a:pt x="255" y="128"/>
                      </a:lnTo>
                      <a:lnTo>
                        <a:pt x="245" y="128"/>
                      </a:lnTo>
                      <a:lnTo>
                        <a:pt x="234" y="129"/>
                      </a:lnTo>
                      <a:lnTo>
                        <a:pt x="222" y="130"/>
                      </a:lnTo>
                      <a:lnTo>
                        <a:pt x="211" y="131"/>
                      </a:lnTo>
                      <a:lnTo>
                        <a:pt x="201" y="133"/>
                      </a:lnTo>
                      <a:lnTo>
                        <a:pt x="192" y="134"/>
                      </a:lnTo>
                      <a:lnTo>
                        <a:pt x="185" y="135"/>
                      </a:lnTo>
                      <a:lnTo>
                        <a:pt x="184" y="135"/>
                      </a:lnTo>
                      <a:lnTo>
                        <a:pt x="184" y="135"/>
                      </a:lnTo>
                      <a:lnTo>
                        <a:pt x="179" y="135"/>
                      </a:lnTo>
                      <a:lnTo>
                        <a:pt x="166" y="135"/>
                      </a:lnTo>
                      <a:lnTo>
                        <a:pt x="146" y="134"/>
                      </a:lnTo>
                      <a:lnTo>
                        <a:pt x="125" y="133"/>
                      </a:lnTo>
                      <a:lnTo>
                        <a:pt x="100" y="133"/>
                      </a:lnTo>
                      <a:lnTo>
                        <a:pt x="77" y="131"/>
                      </a:lnTo>
                      <a:lnTo>
                        <a:pt x="59" y="131"/>
                      </a:lnTo>
                      <a:lnTo>
                        <a:pt x="47" y="131"/>
                      </a:lnTo>
                      <a:lnTo>
                        <a:pt x="47" y="131"/>
                      </a:lnTo>
                      <a:lnTo>
                        <a:pt x="33" y="129"/>
                      </a:lnTo>
                      <a:lnTo>
                        <a:pt x="21" y="123"/>
                      </a:lnTo>
                      <a:lnTo>
                        <a:pt x="12" y="113"/>
                      </a:lnTo>
                      <a:lnTo>
                        <a:pt x="6" y="99"/>
                      </a:lnTo>
                      <a:lnTo>
                        <a:pt x="1" y="81"/>
                      </a:lnTo>
                      <a:lnTo>
                        <a:pt x="0" y="58"/>
                      </a:lnTo>
                      <a:lnTo>
                        <a:pt x="0" y="31"/>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89120" y="1908000"/>
                  <a:ext cx="38160" cy="117720"/>
                </a:xfrm>
                <a:custGeom>
                  <a:avLst/>
                  <a:gdLst/>
                  <a:ahLst/>
                  <a:rect l="l" t="t" r="r" b="b"/>
                  <a:pathLst>
                    <a:path w="49" h="149">
                      <a:moveTo>
                        <a:pt x="26" y="74"/>
                      </a:moveTo>
                      <a:lnTo>
                        <a:pt x="26" y="63"/>
                      </a:lnTo>
                      <a:lnTo>
                        <a:pt x="25" y="53"/>
                      </a:lnTo>
                      <a:lnTo>
                        <a:pt x="20" y="49"/>
                      </a:lnTo>
                      <a:lnTo>
                        <a:pt x="12" y="47"/>
                      </a:lnTo>
                      <a:lnTo>
                        <a:pt x="18" y="31"/>
                      </a:lnTo>
                      <a:lnTo>
                        <a:pt x="25" y="15"/>
                      </a:lnTo>
                      <a:lnTo>
                        <a:pt x="34" y="4"/>
                      </a:lnTo>
                      <a:lnTo>
                        <a:pt x="41" y="0"/>
                      </a:lnTo>
                      <a:lnTo>
                        <a:pt x="49" y="11"/>
                      </a:lnTo>
                      <a:lnTo>
                        <a:pt x="49" y="33"/>
                      </a:lnTo>
                      <a:lnTo>
                        <a:pt x="44" y="57"/>
                      </a:lnTo>
                      <a:lnTo>
                        <a:pt x="41" y="76"/>
                      </a:lnTo>
                      <a:lnTo>
                        <a:pt x="37" y="96"/>
                      </a:lnTo>
                      <a:lnTo>
                        <a:pt x="29" y="120"/>
                      </a:lnTo>
                      <a:lnTo>
                        <a:pt x="20" y="142"/>
                      </a:lnTo>
                      <a:lnTo>
                        <a:pt x="8" y="149"/>
                      </a:lnTo>
                      <a:lnTo>
                        <a:pt x="2" y="144"/>
                      </a:lnTo>
                      <a:lnTo>
                        <a:pt x="0" y="133"/>
                      </a:lnTo>
                      <a:lnTo>
                        <a:pt x="0" y="119"/>
                      </a:lnTo>
                      <a:lnTo>
                        <a:pt x="2" y="103"/>
                      </a:lnTo>
                      <a:lnTo>
                        <a:pt x="9" y="104"/>
                      </a:lnTo>
                      <a:lnTo>
                        <a:pt x="17" y="99"/>
                      </a:lnTo>
                      <a:lnTo>
                        <a:pt x="21" y="90"/>
                      </a:lnTo>
                      <a:lnTo>
                        <a:pt x="26" y="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389120" y="1908000"/>
                  <a:ext cx="38160" cy="117720"/>
                </a:xfrm>
                <a:custGeom>
                  <a:avLst/>
                  <a:gdLst/>
                  <a:ahLst/>
                  <a:rect l="l" t="t" r="r" b="b"/>
                  <a:pathLst>
                    <a:path w="49" h="149">
                      <a:moveTo>
                        <a:pt x="26" y="74"/>
                      </a:moveTo>
                      <a:lnTo>
                        <a:pt x="26" y="74"/>
                      </a:lnTo>
                      <a:lnTo>
                        <a:pt x="26" y="63"/>
                      </a:lnTo>
                      <a:lnTo>
                        <a:pt x="25" y="53"/>
                      </a:lnTo>
                      <a:lnTo>
                        <a:pt x="20" y="49"/>
                      </a:lnTo>
                      <a:lnTo>
                        <a:pt x="12" y="47"/>
                      </a:lnTo>
                      <a:lnTo>
                        <a:pt x="12" y="47"/>
                      </a:lnTo>
                      <a:lnTo>
                        <a:pt x="18" y="31"/>
                      </a:lnTo>
                      <a:lnTo>
                        <a:pt x="25" y="15"/>
                      </a:lnTo>
                      <a:lnTo>
                        <a:pt x="34" y="4"/>
                      </a:lnTo>
                      <a:lnTo>
                        <a:pt x="41" y="0"/>
                      </a:lnTo>
                      <a:lnTo>
                        <a:pt x="41" y="0"/>
                      </a:lnTo>
                      <a:lnTo>
                        <a:pt x="49" y="11"/>
                      </a:lnTo>
                      <a:lnTo>
                        <a:pt x="49" y="33"/>
                      </a:lnTo>
                      <a:lnTo>
                        <a:pt x="44" y="57"/>
                      </a:lnTo>
                      <a:lnTo>
                        <a:pt x="41" y="76"/>
                      </a:lnTo>
                      <a:lnTo>
                        <a:pt x="41" y="76"/>
                      </a:lnTo>
                      <a:lnTo>
                        <a:pt x="37" y="96"/>
                      </a:lnTo>
                      <a:lnTo>
                        <a:pt x="29" y="120"/>
                      </a:lnTo>
                      <a:lnTo>
                        <a:pt x="20" y="142"/>
                      </a:lnTo>
                      <a:lnTo>
                        <a:pt x="8" y="149"/>
                      </a:lnTo>
                      <a:lnTo>
                        <a:pt x="8" y="149"/>
                      </a:lnTo>
                      <a:lnTo>
                        <a:pt x="2" y="144"/>
                      </a:lnTo>
                      <a:lnTo>
                        <a:pt x="0" y="133"/>
                      </a:lnTo>
                      <a:lnTo>
                        <a:pt x="0" y="119"/>
                      </a:lnTo>
                      <a:lnTo>
                        <a:pt x="2" y="103"/>
                      </a:lnTo>
                      <a:lnTo>
                        <a:pt x="2" y="103"/>
                      </a:lnTo>
                      <a:lnTo>
                        <a:pt x="9" y="104"/>
                      </a:lnTo>
                      <a:lnTo>
                        <a:pt x="17" y="99"/>
                      </a:lnTo>
                      <a:lnTo>
                        <a:pt x="21" y="90"/>
                      </a:lnTo>
                      <a:lnTo>
                        <a:pt x="26"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78160" y="1886040"/>
                  <a:ext cx="54000" cy="120600"/>
                </a:xfrm>
                <a:custGeom>
                  <a:avLst/>
                  <a:gdLst/>
                  <a:ahLst/>
                  <a:rect l="l" t="t" r="r" b="b"/>
                  <a:pathLst>
                    <a:path w="69" h="153">
                      <a:moveTo>
                        <a:pt x="0" y="149"/>
                      </a:moveTo>
                      <a:lnTo>
                        <a:pt x="5" y="124"/>
                      </a:lnTo>
                      <a:lnTo>
                        <a:pt x="10" y="99"/>
                      </a:lnTo>
                      <a:lnTo>
                        <a:pt x="13" y="76"/>
                      </a:lnTo>
                      <a:lnTo>
                        <a:pt x="16" y="56"/>
                      </a:lnTo>
                      <a:lnTo>
                        <a:pt x="17" y="47"/>
                      </a:lnTo>
                      <a:lnTo>
                        <a:pt x="20" y="35"/>
                      </a:lnTo>
                      <a:lnTo>
                        <a:pt x="25" y="18"/>
                      </a:lnTo>
                      <a:lnTo>
                        <a:pt x="31" y="0"/>
                      </a:lnTo>
                      <a:lnTo>
                        <a:pt x="51" y="3"/>
                      </a:lnTo>
                      <a:lnTo>
                        <a:pt x="63" y="16"/>
                      </a:lnTo>
                      <a:lnTo>
                        <a:pt x="69" y="40"/>
                      </a:lnTo>
                      <a:lnTo>
                        <a:pt x="67" y="73"/>
                      </a:lnTo>
                      <a:lnTo>
                        <a:pt x="63" y="97"/>
                      </a:lnTo>
                      <a:lnTo>
                        <a:pt x="58" y="116"/>
                      </a:lnTo>
                      <a:lnTo>
                        <a:pt x="51" y="131"/>
                      </a:lnTo>
                      <a:lnTo>
                        <a:pt x="43" y="142"/>
                      </a:lnTo>
                      <a:lnTo>
                        <a:pt x="34" y="149"/>
                      </a:lnTo>
                      <a:lnTo>
                        <a:pt x="23" y="153"/>
                      </a:lnTo>
                      <a:lnTo>
                        <a:pt x="13" y="153"/>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78160" y="1886040"/>
                  <a:ext cx="54000" cy="120600"/>
                </a:xfrm>
                <a:custGeom>
                  <a:avLst/>
                  <a:gdLst/>
                  <a:ahLst/>
                  <a:rect l="l" t="t" r="r" b="b"/>
                  <a:pathLst>
                    <a:path w="69" h="153">
                      <a:moveTo>
                        <a:pt x="0" y="149"/>
                      </a:moveTo>
                      <a:lnTo>
                        <a:pt x="0" y="149"/>
                      </a:lnTo>
                      <a:lnTo>
                        <a:pt x="5" y="124"/>
                      </a:lnTo>
                      <a:lnTo>
                        <a:pt x="10" y="99"/>
                      </a:lnTo>
                      <a:lnTo>
                        <a:pt x="13" y="76"/>
                      </a:lnTo>
                      <a:lnTo>
                        <a:pt x="16" y="56"/>
                      </a:lnTo>
                      <a:lnTo>
                        <a:pt x="16" y="56"/>
                      </a:lnTo>
                      <a:lnTo>
                        <a:pt x="17" y="47"/>
                      </a:lnTo>
                      <a:lnTo>
                        <a:pt x="20" y="35"/>
                      </a:lnTo>
                      <a:lnTo>
                        <a:pt x="25" y="18"/>
                      </a:lnTo>
                      <a:lnTo>
                        <a:pt x="31" y="0"/>
                      </a:lnTo>
                      <a:lnTo>
                        <a:pt x="31" y="0"/>
                      </a:lnTo>
                      <a:lnTo>
                        <a:pt x="51" y="3"/>
                      </a:lnTo>
                      <a:lnTo>
                        <a:pt x="63" y="16"/>
                      </a:lnTo>
                      <a:lnTo>
                        <a:pt x="69" y="40"/>
                      </a:lnTo>
                      <a:lnTo>
                        <a:pt x="67" y="73"/>
                      </a:lnTo>
                      <a:lnTo>
                        <a:pt x="67" y="73"/>
                      </a:lnTo>
                      <a:lnTo>
                        <a:pt x="63" y="97"/>
                      </a:lnTo>
                      <a:lnTo>
                        <a:pt x="58" y="116"/>
                      </a:lnTo>
                      <a:lnTo>
                        <a:pt x="51" y="131"/>
                      </a:lnTo>
                      <a:lnTo>
                        <a:pt x="43" y="142"/>
                      </a:lnTo>
                      <a:lnTo>
                        <a:pt x="34" y="149"/>
                      </a:lnTo>
                      <a:lnTo>
                        <a:pt x="23" y="153"/>
                      </a:lnTo>
                      <a:lnTo>
                        <a:pt x="13" y="153"/>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389120" y="1946160"/>
                  <a:ext cx="20880" cy="44640"/>
                </a:xfrm>
                <a:custGeom>
                  <a:avLst/>
                  <a:gdLst/>
                  <a:ahLst/>
                  <a:rect l="l" t="t" r="r" b="b"/>
                  <a:pathLst>
                    <a:path w="24" h="57">
                      <a:moveTo>
                        <a:pt x="0" y="56"/>
                      </a:moveTo>
                      <a:lnTo>
                        <a:pt x="1" y="46"/>
                      </a:lnTo>
                      <a:lnTo>
                        <a:pt x="3" y="37"/>
                      </a:lnTo>
                      <a:lnTo>
                        <a:pt x="3" y="28"/>
                      </a:lnTo>
                      <a:lnTo>
                        <a:pt x="4" y="21"/>
                      </a:lnTo>
                      <a:lnTo>
                        <a:pt x="6" y="19"/>
                      </a:lnTo>
                      <a:lnTo>
                        <a:pt x="7" y="14"/>
                      </a:lnTo>
                      <a:lnTo>
                        <a:pt x="9" y="8"/>
                      </a:lnTo>
                      <a:lnTo>
                        <a:pt x="10" y="0"/>
                      </a:lnTo>
                      <a:lnTo>
                        <a:pt x="18" y="2"/>
                      </a:lnTo>
                      <a:lnTo>
                        <a:pt x="23" y="6"/>
                      </a:lnTo>
                      <a:lnTo>
                        <a:pt x="24" y="16"/>
                      </a:lnTo>
                      <a:lnTo>
                        <a:pt x="24" y="27"/>
                      </a:lnTo>
                      <a:lnTo>
                        <a:pt x="19" y="43"/>
                      </a:lnTo>
                      <a:lnTo>
                        <a:pt x="15" y="52"/>
                      </a:lnTo>
                      <a:lnTo>
                        <a:pt x="7" y="57"/>
                      </a:lnTo>
                      <a:lnTo>
                        <a:pt x="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7" name=""/>
                <p:cNvSpPr/>
                <p:nvPr/>
              </p:nvSpPr>
              <p:spPr>
                <a:xfrm>
                  <a:off x="4389120" y="1946160"/>
                  <a:ext cx="20880" cy="44640"/>
                </a:xfrm>
                <a:custGeom>
                  <a:avLst/>
                  <a:gdLst/>
                  <a:ahLst/>
                  <a:rect l="l" t="t" r="r" b="b"/>
                  <a:pathLst>
                    <a:path w="24" h="57">
                      <a:moveTo>
                        <a:pt x="0" y="56"/>
                      </a:moveTo>
                      <a:lnTo>
                        <a:pt x="0" y="56"/>
                      </a:lnTo>
                      <a:lnTo>
                        <a:pt x="1" y="46"/>
                      </a:lnTo>
                      <a:lnTo>
                        <a:pt x="3" y="37"/>
                      </a:lnTo>
                      <a:lnTo>
                        <a:pt x="3" y="28"/>
                      </a:lnTo>
                      <a:lnTo>
                        <a:pt x="4" y="21"/>
                      </a:lnTo>
                      <a:lnTo>
                        <a:pt x="4" y="21"/>
                      </a:lnTo>
                      <a:lnTo>
                        <a:pt x="6" y="19"/>
                      </a:lnTo>
                      <a:lnTo>
                        <a:pt x="7" y="14"/>
                      </a:lnTo>
                      <a:lnTo>
                        <a:pt x="9" y="8"/>
                      </a:lnTo>
                      <a:lnTo>
                        <a:pt x="10" y="0"/>
                      </a:lnTo>
                      <a:lnTo>
                        <a:pt x="10" y="0"/>
                      </a:lnTo>
                      <a:lnTo>
                        <a:pt x="18" y="2"/>
                      </a:lnTo>
                      <a:lnTo>
                        <a:pt x="23" y="6"/>
                      </a:lnTo>
                      <a:lnTo>
                        <a:pt x="24" y="16"/>
                      </a:lnTo>
                      <a:lnTo>
                        <a:pt x="24" y="27"/>
                      </a:lnTo>
                      <a:lnTo>
                        <a:pt x="24" y="27"/>
                      </a:lnTo>
                      <a:lnTo>
                        <a:pt x="19" y="43"/>
                      </a:lnTo>
                      <a:lnTo>
                        <a:pt x="15" y="52"/>
                      </a:lnTo>
                      <a:lnTo>
                        <a:pt x="7" y="57"/>
                      </a:lnTo>
                      <a:lnTo>
                        <a:pt x="0" y="5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
                <p:cNvSpPr/>
                <p:nvPr/>
              </p:nvSpPr>
              <p:spPr>
                <a:xfrm>
                  <a:off x="3924000" y="1595520"/>
                  <a:ext cx="96840" cy="82440"/>
                </a:xfrm>
                <a:custGeom>
                  <a:avLst/>
                  <a:gdLst/>
                  <a:ahLst/>
                  <a:rect l="l" t="t" r="r" b="b"/>
                  <a:pathLst>
                    <a:path w="120" h="103">
                      <a:moveTo>
                        <a:pt x="18" y="96"/>
                      </a:moveTo>
                      <a:lnTo>
                        <a:pt x="27" y="101"/>
                      </a:lnTo>
                      <a:lnTo>
                        <a:pt x="38" y="103"/>
                      </a:lnTo>
                      <a:lnTo>
                        <a:pt x="50" y="103"/>
                      </a:lnTo>
                      <a:lnTo>
                        <a:pt x="61" y="101"/>
                      </a:lnTo>
                      <a:lnTo>
                        <a:pt x="73" y="98"/>
                      </a:lnTo>
                      <a:lnTo>
                        <a:pt x="84" y="92"/>
                      </a:lnTo>
                      <a:lnTo>
                        <a:pt x="94" y="86"/>
                      </a:lnTo>
                      <a:lnTo>
                        <a:pt x="103" y="78"/>
                      </a:lnTo>
                      <a:lnTo>
                        <a:pt x="116" y="58"/>
                      </a:lnTo>
                      <a:lnTo>
                        <a:pt x="120" y="39"/>
                      </a:lnTo>
                      <a:lnTo>
                        <a:pt x="114" y="21"/>
                      </a:lnTo>
                      <a:lnTo>
                        <a:pt x="100" y="8"/>
                      </a:lnTo>
                      <a:lnTo>
                        <a:pt x="91" y="3"/>
                      </a:lnTo>
                      <a:lnTo>
                        <a:pt x="81" y="0"/>
                      </a:lnTo>
                      <a:lnTo>
                        <a:pt x="70" y="0"/>
                      </a:lnTo>
                      <a:lnTo>
                        <a:pt x="59" y="2"/>
                      </a:lnTo>
                      <a:lnTo>
                        <a:pt x="47" y="5"/>
                      </a:lnTo>
                      <a:lnTo>
                        <a:pt x="36" y="11"/>
                      </a:lnTo>
                      <a:lnTo>
                        <a:pt x="26" y="17"/>
                      </a:lnTo>
                      <a:lnTo>
                        <a:pt x="17" y="26"/>
                      </a:lnTo>
                      <a:lnTo>
                        <a:pt x="5" y="45"/>
                      </a:lnTo>
                      <a:lnTo>
                        <a:pt x="0" y="65"/>
                      </a:lnTo>
                      <a:lnTo>
                        <a:pt x="5" y="83"/>
                      </a:lnTo>
                      <a:lnTo>
                        <a:pt x="18" y="96"/>
                      </a:lnTo>
                      <a:close/>
                    </a:path>
                  </a:pathLst>
                </a:custGeom>
                <a:solidFill>
                  <a:srgbClr val="b2f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
                <p:cNvSpPr/>
                <p:nvPr/>
              </p:nvSpPr>
              <p:spPr>
                <a:xfrm>
                  <a:off x="3924000" y="1595520"/>
                  <a:ext cx="96840" cy="82440"/>
                </a:xfrm>
                <a:custGeom>
                  <a:avLst/>
                  <a:gdLst/>
                  <a:ahLst/>
                  <a:rect l="l" t="t" r="r" b="b"/>
                  <a:pathLst>
                    <a:path w="120" h="103">
                      <a:moveTo>
                        <a:pt x="18" y="96"/>
                      </a:moveTo>
                      <a:lnTo>
                        <a:pt x="18" y="96"/>
                      </a:lnTo>
                      <a:lnTo>
                        <a:pt x="27" y="101"/>
                      </a:lnTo>
                      <a:lnTo>
                        <a:pt x="38" y="103"/>
                      </a:lnTo>
                      <a:lnTo>
                        <a:pt x="50" y="103"/>
                      </a:lnTo>
                      <a:lnTo>
                        <a:pt x="61" y="101"/>
                      </a:lnTo>
                      <a:lnTo>
                        <a:pt x="73" y="98"/>
                      </a:lnTo>
                      <a:lnTo>
                        <a:pt x="84" y="92"/>
                      </a:lnTo>
                      <a:lnTo>
                        <a:pt x="94" y="86"/>
                      </a:lnTo>
                      <a:lnTo>
                        <a:pt x="103" y="78"/>
                      </a:lnTo>
                      <a:lnTo>
                        <a:pt x="103" y="78"/>
                      </a:lnTo>
                      <a:lnTo>
                        <a:pt x="116" y="58"/>
                      </a:lnTo>
                      <a:lnTo>
                        <a:pt x="120" y="39"/>
                      </a:lnTo>
                      <a:lnTo>
                        <a:pt x="114" y="21"/>
                      </a:lnTo>
                      <a:lnTo>
                        <a:pt x="100" y="8"/>
                      </a:lnTo>
                      <a:lnTo>
                        <a:pt x="100" y="8"/>
                      </a:lnTo>
                      <a:lnTo>
                        <a:pt x="91" y="3"/>
                      </a:lnTo>
                      <a:lnTo>
                        <a:pt x="81" y="0"/>
                      </a:lnTo>
                      <a:lnTo>
                        <a:pt x="70" y="0"/>
                      </a:lnTo>
                      <a:lnTo>
                        <a:pt x="59" y="2"/>
                      </a:lnTo>
                      <a:lnTo>
                        <a:pt x="47" y="5"/>
                      </a:lnTo>
                      <a:lnTo>
                        <a:pt x="36" y="11"/>
                      </a:lnTo>
                      <a:lnTo>
                        <a:pt x="26" y="17"/>
                      </a:lnTo>
                      <a:lnTo>
                        <a:pt x="17" y="26"/>
                      </a:lnTo>
                      <a:lnTo>
                        <a:pt x="17" y="26"/>
                      </a:lnTo>
                      <a:lnTo>
                        <a:pt x="5" y="45"/>
                      </a:lnTo>
                      <a:lnTo>
                        <a:pt x="0" y="65"/>
                      </a:lnTo>
                      <a:lnTo>
                        <a:pt x="5" y="83"/>
                      </a:lnTo>
                      <a:lnTo>
                        <a:pt x="18" y="9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
                <p:cNvSpPr/>
                <p:nvPr/>
              </p:nvSpPr>
              <p:spPr>
                <a:xfrm>
                  <a:off x="3744720" y="1919160"/>
                  <a:ext cx="123840" cy="158760"/>
                </a:xfrm>
                <a:custGeom>
                  <a:avLst/>
                  <a:gdLst/>
                  <a:ahLst/>
                  <a:rect l="l" t="t" r="r" b="b"/>
                  <a:pathLst>
                    <a:path w="157" h="199">
                      <a:moveTo>
                        <a:pt x="76" y="61"/>
                      </a:moveTo>
                      <a:lnTo>
                        <a:pt x="69" y="57"/>
                      </a:lnTo>
                      <a:lnTo>
                        <a:pt x="63" y="49"/>
                      </a:lnTo>
                      <a:lnTo>
                        <a:pt x="58" y="41"/>
                      </a:lnTo>
                      <a:lnTo>
                        <a:pt x="57" y="32"/>
                      </a:lnTo>
                      <a:lnTo>
                        <a:pt x="60" y="19"/>
                      </a:lnTo>
                      <a:lnTo>
                        <a:pt x="67" y="9"/>
                      </a:lnTo>
                      <a:lnTo>
                        <a:pt x="79" y="2"/>
                      </a:lnTo>
                      <a:lnTo>
                        <a:pt x="95" y="0"/>
                      </a:lnTo>
                      <a:lnTo>
                        <a:pt x="108" y="2"/>
                      </a:lnTo>
                      <a:lnTo>
                        <a:pt x="120" y="9"/>
                      </a:lnTo>
                      <a:lnTo>
                        <a:pt x="128" y="19"/>
                      </a:lnTo>
                      <a:lnTo>
                        <a:pt x="131" y="32"/>
                      </a:lnTo>
                      <a:lnTo>
                        <a:pt x="130" y="41"/>
                      </a:lnTo>
                      <a:lnTo>
                        <a:pt x="128" y="48"/>
                      </a:lnTo>
                      <a:lnTo>
                        <a:pt x="123" y="54"/>
                      </a:lnTo>
                      <a:lnTo>
                        <a:pt x="116" y="59"/>
                      </a:lnTo>
                      <a:lnTo>
                        <a:pt x="117" y="71"/>
                      </a:lnTo>
                      <a:lnTo>
                        <a:pt x="131" y="81"/>
                      </a:lnTo>
                      <a:lnTo>
                        <a:pt x="145" y="94"/>
                      </a:lnTo>
                      <a:lnTo>
                        <a:pt x="154" y="110"/>
                      </a:lnTo>
                      <a:lnTo>
                        <a:pt x="157" y="130"/>
                      </a:lnTo>
                      <a:lnTo>
                        <a:pt x="155" y="145"/>
                      </a:lnTo>
                      <a:lnTo>
                        <a:pt x="151" y="157"/>
                      </a:lnTo>
                      <a:lnTo>
                        <a:pt x="143" y="169"/>
                      </a:lnTo>
                      <a:lnTo>
                        <a:pt x="134" y="179"/>
                      </a:lnTo>
                      <a:lnTo>
                        <a:pt x="122" y="187"/>
                      </a:lnTo>
                      <a:lnTo>
                        <a:pt x="108" y="194"/>
                      </a:lnTo>
                      <a:lnTo>
                        <a:pt x="95" y="198"/>
                      </a:lnTo>
                      <a:lnTo>
                        <a:pt x="78" y="199"/>
                      </a:lnTo>
                      <a:lnTo>
                        <a:pt x="63" y="198"/>
                      </a:lnTo>
                      <a:lnTo>
                        <a:pt x="47" y="194"/>
                      </a:lnTo>
                      <a:lnTo>
                        <a:pt x="35" y="187"/>
                      </a:lnTo>
                      <a:lnTo>
                        <a:pt x="23" y="179"/>
                      </a:lnTo>
                      <a:lnTo>
                        <a:pt x="14" y="169"/>
                      </a:lnTo>
                      <a:lnTo>
                        <a:pt x="6" y="157"/>
                      </a:lnTo>
                      <a:lnTo>
                        <a:pt x="2" y="145"/>
                      </a:lnTo>
                      <a:lnTo>
                        <a:pt x="0" y="130"/>
                      </a:lnTo>
                      <a:lnTo>
                        <a:pt x="2" y="115"/>
                      </a:lnTo>
                      <a:lnTo>
                        <a:pt x="9" y="100"/>
                      </a:lnTo>
                      <a:lnTo>
                        <a:pt x="19" y="88"/>
                      </a:lnTo>
                      <a:lnTo>
                        <a:pt x="31" y="77"/>
                      </a:lnTo>
                      <a:lnTo>
                        <a:pt x="37" y="75"/>
                      </a:lnTo>
                      <a:lnTo>
                        <a:pt x="43" y="76"/>
                      </a:lnTo>
                      <a:lnTo>
                        <a:pt x="46" y="82"/>
                      </a:lnTo>
                      <a:lnTo>
                        <a:pt x="44" y="90"/>
                      </a:lnTo>
                      <a:lnTo>
                        <a:pt x="41" y="104"/>
                      </a:lnTo>
                      <a:lnTo>
                        <a:pt x="46" y="118"/>
                      </a:lnTo>
                      <a:lnTo>
                        <a:pt x="58" y="129"/>
                      </a:lnTo>
                      <a:lnTo>
                        <a:pt x="78" y="130"/>
                      </a:lnTo>
                      <a:lnTo>
                        <a:pt x="82" y="128"/>
                      </a:lnTo>
                      <a:lnTo>
                        <a:pt x="90" y="121"/>
                      </a:lnTo>
                      <a:lnTo>
                        <a:pt x="90" y="104"/>
                      </a:lnTo>
                      <a:lnTo>
                        <a:pt x="76" y="78"/>
                      </a:lnTo>
                      <a:lnTo>
                        <a:pt x="76" y="72"/>
                      </a:lnTo>
                      <a:lnTo>
                        <a:pt x="76" y="67"/>
                      </a:lnTo>
                      <a:lnTo>
                        <a:pt x="76" y="63"/>
                      </a:lnTo>
                      <a:lnTo>
                        <a:pt x="76" y="61"/>
                      </a:lnTo>
                      <a:close/>
                    </a:path>
                  </a:pathLst>
                </a:custGeom>
                <a:solidFill>
                  <a:srgbClr val="662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44720" y="1919160"/>
                  <a:ext cx="123840" cy="158760"/>
                </a:xfrm>
                <a:custGeom>
                  <a:avLst/>
                  <a:gdLst/>
                  <a:ahLst/>
                  <a:rect l="l" t="t" r="r" b="b"/>
                  <a:pathLst>
                    <a:path w="157" h="199">
                      <a:moveTo>
                        <a:pt x="76" y="61"/>
                      </a:moveTo>
                      <a:lnTo>
                        <a:pt x="76" y="61"/>
                      </a:lnTo>
                      <a:lnTo>
                        <a:pt x="69" y="57"/>
                      </a:lnTo>
                      <a:lnTo>
                        <a:pt x="63" y="49"/>
                      </a:lnTo>
                      <a:lnTo>
                        <a:pt x="58" y="41"/>
                      </a:lnTo>
                      <a:lnTo>
                        <a:pt x="57" y="32"/>
                      </a:lnTo>
                      <a:lnTo>
                        <a:pt x="57" y="32"/>
                      </a:lnTo>
                      <a:lnTo>
                        <a:pt x="60" y="19"/>
                      </a:lnTo>
                      <a:lnTo>
                        <a:pt x="67" y="9"/>
                      </a:lnTo>
                      <a:lnTo>
                        <a:pt x="79" y="2"/>
                      </a:lnTo>
                      <a:lnTo>
                        <a:pt x="95" y="0"/>
                      </a:lnTo>
                      <a:lnTo>
                        <a:pt x="95" y="0"/>
                      </a:lnTo>
                      <a:lnTo>
                        <a:pt x="108" y="2"/>
                      </a:lnTo>
                      <a:lnTo>
                        <a:pt x="120" y="9"/>
                      </a:lnTo>
                      <a:lnTo>
                        <a:pt x="128" y="19"/>
                      </a:lnTo>
                      <a:lnTo>
                        <a:pt x="131" y="32"/>
                      </a:lnTo>
                      <a:lnTo>
                        <a:pt x="131" y="32"/>
                      </a:lnTo>
                      <a:lnTo>
                        <a:pt x="130" y="41"/>
                      </a:lnTo>
                      <a:lnTo>
                        <a:pt x="128" y="48"/>
                      </a:lnTo>
                      <a:lnTo>
                        <a:pt x="123" y="54"/>
                      </a:lnTo>
                      <a:lnTo>
                        <a:pt x="116" y="59"/>
                      </a:lnTo>
                      <a:lnTo>
                        <a:pt x="117" y="71"/>
                      </a:lnTo>
                      <a:lnTo>
                        <a:pt x="117" y="71"/>
                      </a:lnTo>
                      <a:lnTo>
                        <a:pt x="131" y="81"/>
                      </a:lnTo>
                      <a:lnTo>
                        <a:pt x="145" y="94"/>
                      </a:lnTo>
                      <a:lnTo>
                        <a:pt x="154" y="110"/>
                      </a:lnTo>
                      <a:lnTo>
                        <a:pt x="157" y="130"/>
                      </a:lnTo>
                      <a:lnTo>
                        <a:pt x="157" y="130"/>
                      </a:lnTo>
                      <a:lnTo>
                        <a:pt x="155" y="145"/>
                      </a:lnTo>
                      <a:lnTo>
                        <a:pt x="151" y="157"/>
                      </a:lnTo>
                      <a:lnTo>
                        <a:pt x="143" y="169"/>
                      </a:lnTo>
                      <a:lnTo>
                        <a:pt x="134" y="179"/>
                      </a:lnTo>
                      <a:lnTo>
                        <a:pt x="122" y="187"/>
                      </a:lnTo>
                      <a:lnTo>
                        <a:pt x="108" y="194"/>
                      </a:lnTo>
                      <a:lnTo>
                        <a:pt x="95" y="198"/>
                      </a:lnTo>
                      <a:lnTo>
                        <a:pt x="78" y="199"/>
                      </a:lnTo>
                      <a:lnTo>
                        <a:pt x="78" y="199"/>
                      </a:lnTo>
                      <a:lnTo>
                        <a:pt x="63" y="198"/>
                      </a:lnTo>
                      <a:lnTo>
                        <a:pt x="47" y="194"/>
                      </a:lnTo>
                      <a:lnTo>
                        <a:pt x="35" y="187"/>
                      </a:lnTo>
                      <a:lnTo>
                        <a:pt x="23" y="179"/>
                      </a:lnTo>
                      <a:lnTo>
                        <a:pt x="14" y="169"/>
                      </a:lnTo>
                      <a:lnTo>
                        <a:pt x="6" y="157"/>
                      </a:lnTo>
                      <a:lnTo>
                        <a:pt x="2" y="145"/>
                      </a:lnTo>
                      <a:lnTo>
                        <a:pt x="0" y="130"/>
                      </a:lnTo>
                      <a:lnTo>
                        <a:pt x="0" y="130"/>
                      </a:lnTo>
                      <a:lnTo>
                        <a:pt x="2" y="115"/>
                      </a:lnTo>
                      <a:lnTo>
                        <a:pt x="9" y="100"/>
                      </a:lnTo>
                      <a:lnTo>
                        <a:pt x="19" y="88"/>
                      </a:lnTo>
                      <a:lnTo>
                        <a:pt x="31" y="77"/>
                      </a:lnTo>
                      <a:lnTo>
                        <a:pt x="31" y="77"/>
                      </a:lnTo>
                      <a:lnTo>
                        <a:pt x="37" y="75"/>
                      </a:lnTo>
                      <a:lnTo>
                        <a:pt x="43" y="76"/>
                      </a:lnTo>
                      <a:lnTo>
                        <a:pt x="46" y="82"/>
                      </a:lnTo>
                      <a:lnTo>
                        <a:pt x="44" y="90"/>
                      </a:lnTo>
                      <a:lnTo>
                        <a:pt x="44" y="90"/>
                      </a:lnTo>
                      <a:lnTo>
                        <a:pt x="41" y="104"/>
                      </a:lnTo>
                      <a:lnTo>
                        <a:pt x="46" y="118"/>
                      </a:lnTo>
                      <a:lnTo>
                        <a:pt x="58" y="129"/>
                      </a:lnTo>
                      <a:lnTo>
                        <a:pt x="78" y="130"/>
                      </a:lnTo>
                      <a:lnTo>
                        <a:pt x="78" y="130"/>
                      </a:lnTo>
                      <a:lnTo>
                        <a:pt x="82" y="128"/>
                      </a:lnTo>
                      <a:lnTo>
                        <a:pt x="90" y="121"/>
                      </a:lnTo>
                      <a:lnTo>
                        <a:pt x="90" y="104"/>
                      </a:lnTo>
                      <a:lnTo>
                        <a:pt x="76" y="78"/>
                      </a:lnTo>
                      <a:lnTo>
                        <a:pt x="76" y="78"/>
                      </a:lnTo>
                      <a:lnTo>
                        <a:pt x="76" y="72"/>
                      </a:lnTo>
                      <a:lnTo>
                        <a:pt x="76" y="67"/>
                      </a:lnTo>
                      <a:lnTo>
                        <a:pt x="76" y="63"/>
                      </a:lnTo>
                      <a:lnTo>
                        <a:pt x="76"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22400" y="1420920"/>
                  <a:ext cx="289080" cy="93600"/>
                </a:xfrm>
                <a:custGeom>
                  <a:avLst/>
                  <a:gdLst/>
                  <a:ahLst/>
                  <a:rect l="l" t="t" r="r" b="b"/>
                  <a:pathLst>
                    <a:path w="366" h="118">
                      <a:moveTo>
                        <a:pt x="338" y="0"/>
                      </a:moveTo>
                      <a:lnTo>
                        <a:pt x="346" y="0"/>
                      </a:lnTo>
                      <a:lnTo>
                        <a:pt x="353" y="1"/>
                      </a:lnTo>
                      <a:lnTo>
                        <a:pt x="359" y="4"/>
                      </a:lnTo>
                      <a:lnTo>
                        <a:pt x="364" y="10"/>
                      </a:lnTo>
                      <a:lnTo>
                        <a:pt x="366" y="17"/>
                      </a:lnTo>
                      <a:lnTo>
                        <a:pt x="362" y="23"/>
                      </a:lnTo>
                      <a:lnTo>
                        <a:pt x="358" y="27"/>
                      </a:lnTo>
                      <a:lnTo>
                        <a:pt x="352" y="30"/>
                      </a:lnTo>
                      <a:lnTo>
                        <a:pt x="26" y="117"/>
                      </a:lnTo>
                      <a:lnTo>
                        <a:pt x="19" y="118"/>
                      </a:lnTo>
                      <a:lnTo>
                        <a:pt x="11" y="116"/>
                      </a:lnTo>
                      <a:lnTo>
                        <a:pt x="5" y="112"/>
                      </a:lnTo>
                      <a:lnTo>
                        <a:pt x="0" y="107"/>
                      </a:lnTo>
                      <a:lnTo>
                        <a:pt x="0" y="100"/>
                      </a:lnTo>
                      <a:lnTo>
                        <a:pt x="2" y="94"/>
                      </a:lnTo>
                      <a:lnTo>
                        <a:pt x="6" y="89"/>
                      </a:lnTo>
                      <a:lnTo>
                        <a:pt x="14" y="87"/>
                      </a:lnTo>
                      <a:lnTo>
                        <a:pt x="338" y="0"/>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722400" y="1420920"/>
                  <a:ext cx="289080" cy="93600"/>
                </a:xfrm>
                <a:custGeom>
                  <a:avLst/>
                  <a:gdLst/>
                  <a:ahLst/>
                  <a:rect l="l" t="t" r="r" b="b"/>
                  <a:pathLst>
                    <a:path w="366" h="118">
                      <a:moveTo>
                        <a:pt x="338" y="0"/>
                      </a:moveTo>
                      <a:lnTo>
                        <a:pt x="338" y="0"/>
                      </a:lnTo>
                      <a:lnTo>
                        <a:pt x="346" y="0"/>
                      </a:lnTo>
                      <a:lnTo>
                        <a:pt x="353" y="1"/>
                      </a:lnTo>
                      <a:lnTo>
                        <a:pt x="359" y="4"/>
                      </a:lnTo>
                      <a:lnTo>
                        <a:pt x="364" y="10"/>
                      </a:lnTo>
                      <a:lnTo>
                        <a:pt x="364" y="10"/>
                      </a:lnTo>
                      <a:lnTo>
                        <a:pt x="366" y="17"/>
                      </a:lnTo>
                      <a:lnTo>
                        <a:pt x="362" y="23"/>
                      </a:lnTo>
                      <a:lnTo>
                        <a:pt x="358" y="27"/>
                      </a:lnTo>
                      <a:lnTo>
                        <a:pt x="352" y="30"/>
                      </a:lnTo>
                      <a:lnTo>
                        <a:pt x="26" y="117"/>
                      </a:lnTo>
                      <a:lnTo>
                        <a:pt x="26" y="117"/>
                      </a:lnTo>
                      <a:lnTo>
                        <a:pt x="19" y="118"/>
                      </a:lnTo>
                      <a:lnTo>
                        <a:pt x="11" y="116"/>
                      </a:lnTo>
                      <a:lnTo>
                        <a:pt x="5" y="112"/>
                      </a:lnTo>
                      <a:lnTo>
                        <a:pt x="0" y="107"/>
                      </a:lnTo>
                      <a:lnTo>
                        <a:pt x="0" y="107"/>
                      </a:lnTo>
                      <a:lnTo>
                        <a:pt x="0" y="100"/>
                      </a:lnTo>
                      <a:lnTo>
                        <a:pt x="2" y="94"/>
                      </a:lnTo>
                      <a:lnTo>
                        <a:pt x="6" y="89"/>
                      </a:lnTo>
                      <a:lnTo>
                        <a:pt x="14" y="87"/>
                      </a:lnTo>
                      <a:lnTo>
                        <a:pt x="33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74960" y="1374840"/>
                  <a:ext cx="150840" cy="100080"/>
                </a:xfrm>
                <a:custGeom>
                  <a:avLst/>
                  <a:gdLst/>
                  <a:ahLst/>
                  <a:rect l="l" t="t" r="r" b="b"/>
                  <a:pathLst>
                    <a:path w="190" h="126">
                      <a:moveTo>
                        <a:pt x="20" y="126"/>
                      </a:moveTo>
                      <a:lnTo>
                        <a:pt x="5" y="90"/>
                      </a:lnTo>
                      <a:lnTo>
                        <a:pt x="0" y="77"/>
                      </a:lnTo>
                      <a:lnTo>
                        <a:pt x="0" y="63"/>
                      </a:lnTo>
                      <a:lnTo>
                        <a:pt x="3" y="50"/>
                      </a:lnTo>
                      <a:lnTo>
                        <a:pt x="9" y="38"/>
                      </a:lnTo>
                      <a:lnTo>
                        <a:pt x="19" y="27"/>
                      </a:lnTo>
                      <a:lnTo>
                        <a:pt x="29" y="17"/>
                      </a:lnTo>
                      <a:lnTo>
                        <a:pt x="43" y="10"/>
                      </a:lnTo>
                      <a:lnTo>
                        <a:pt x="60" y="4"/>
                      </a:lnTo>
                      <a:lnTo>
                        <a:pt x="76" y="2"/>
                      </a:lnTo>
                      <a:lnTo>
                        <a:pt x="93" y="0"/>
                      </a:lnTo>
                      <a:lnTo>
                        <a:pt x="111" y="3"/>
                      </a:lnTo>
                      <a:lnTo>
                        <a:pt x="127" y="6"/>
                      </a:lnTo>
                      <a:lnTo>
                        <a:pt x="142" y="14"/>
                      </a:lnTo>
                      <a:lnTo>
                        <a:pt x="154" y="22"/>
                      </a:lnTo>
                      <a:lnTo>
                        <a:pt x="165" y="33"/>
                      </a:lnTo>
                      <a:lnTo>
                        <a:pt x="172" y="45"/>
                      </a:lnTo>
                      <a:lnTo>
                        <a:pt x="190" y="83"/>
                      </a:lnTo>
                      <a:lnTo>
                        <a:pt x="20" y="126"/>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774960" y="1374840"/>
                  <a:ext cx="150840" cy="100080"/>
                </a:xfrm>
                <a:custGeom>
                  <a:avLst/>
                  <a:gdLst/>
                  <a:ahLst/>
                  <a:rect l="l" t="t" r="r" b="b"/>
                  <a:pathLst>
                    <a:path w="190" h="126">
                      <a:moveTo>
                        <a:pt x="20" y="126"/>
                      </a:moveTo>
                      <a:lnTo>
                        <a:pt x="5" y="90"/>
                      </a:lnTo>
                      <a:lnTo>
                        <a:pt x="5" y="90"/>
                      </a:lnTo>
                      <a:lnTo>
                        <a:pt x="0" y="77"/>
                      </a:lnTo>
                      <a:lnTo>
                        <a:pt x="0" y="63"/>
                      </a:lnTo>
                      <a:lnTo>
                        <a:pt x="3" y="50"/>
                      </a:lnTo>
                      <a:lnTo>
                        <a:pt x="9" y="38"/>
                      </a:lnTo>
                      <a:lnTo>
                        <a:pt x="19" y="27"/>
                      </a:lnTo>
                      <a:lnTo>
                        <a:pt x="29" y="17"/>
                      </a:lnTo>
                      <a:lnTo>
                        <a:pt x="43" y="10"/>
                      </a:lnTo>
                      <a:lnTo>
                        <a:pt x="60" y="4"/>
                      </a:lnTo>
                      <a:lnTo>
                        <a:pt x="60" y="4"/>
                      </a:lnTo>
                      <a:lnTo>
                        <a:pt x="76" y="2"/>
                      </a:lnTo>
                      <a:lnTo>
                        <a:pt x="93" y="0"/>
                      </a:lnTo>
                      <a:lnTo>
                        <a:pt x="111" y="3"/>
                      </a:lnTo>
                      <a:lnTo>
                        <a:pt x="127" y="6"/>
                      </a:lnTo>
                      <a:lnTo>
                        <a:pt x="142" y="14"/>
                      </a:lnTo>
                      <a:lnTo>
                        <a:pt x="154" y="22"/>
                      </a:lnTo>
                      <a:lnTo>
                        <a:pt x="165" y="33"/>
                      </a:lnTo>
                      <a:lnTo>
                        <a:pt x="172" y="45"/>
                      </a:lnTo>
                      <a:lnTo>
                        <a:pt x="190" y="83"/>
                      </a:lnTo>
                      <a:lnTo>
                        <a:pt x="20"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020840" y="1697040"/>
                  <a:ext cx="71640" cy="55440"/>
                </a:xfrm>
                <a:custGeom>
                  <a:avLst/>
                  <a:gdLst/>
                  <a:ahLst/>
                  <a:rect l="l" t="t" r="r" b="b"/>
                  <a:pathLst>
                    <a:path w="91" h="68">
                      <a:moveTo>
                        <a:pt x="0" y="64"/>
                      </a:moveTo>
                      <a:lnTo>
                        <a:pt x="3" y="65"/>
                      </a:lnTo>
                      <a:lnTo>
                        <a:pt x="14" y="66"/>
                      </a:lnTo>
                      <a:lnTo>
                        <a:pt x="26" y="67"/>
                      </a:lnTo>
                      <a:lnTo>
                        <a:pt x="43" y="68"/>
                      </a:lnTo>
                      <a:lnTo>
                        <a:pt x="58" y="67"/>
                      </a:lnTo>
                      <a:lnTo>
                        <a:pt x="73" y="65"/>
                      </a:lnTo>
                      <a:lnTo>
                        <a:pt x="85" y="59"/>
                      </a:lnTo>
                      <a:lnTo>
                        <a:pt x="91" y="48"/>
                      </a:lnTo>
                      <a:lnTo>
                        <a:pt x="91" y="37"/>
                      </a:lnTo>
                      <a:lnTo>
                        <a:pt x="87" y="26"/>
                      </a:lnTo>
                      <a:lnTo>
                        <a:pt x="78" y="19"/>
                      </a:lnTo>
                      <a:lnTo>
                        <a:pt x="67" y="12"/>
                      </a:lnTo>
                      <a:lnTo>
                        <a:pt x="53" y="7"/>
                      </a:lnTo>
                      <a:lnTo>
                        <a:pt x="40" y="3"/>
                      </a:lnTo>
                      <a:lnTo>
                        <a:pt x="28" y="1"/>
                      </a:lnTo>
                      <a:lnTo>
                        <a:pt x="15" y="0"/>
                      </a:lnTo>
                      <a:lnTo>
                        <a:pt x="0" y="64"/>
                      </a:lnTo>
                      <a:close/>
                    </a:path>
                  </a:pathLst>
                </a:custGeom>
                <a:solidFill>
                  <a:srgbClr val="b219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7" name=""/>
                <p:cNvSpPr/>
                <p:nvPr/>
              </p:nvSpPr>
              <p:spPr>
                <a:xfrm>
                  <a:off x="4020840" y="1697040"/>
                  <a:ext cx="71640" cy="55440"/>
                </a:xfrm>
                <a:custGeom>
                  <a:avLst/>
                  <a:gdLst/>
                  <a:ahLst/>
                  <a:rect l="l" t="t" r="r" b="b"/>
                  <a:pathLst>
                    <a:path w="91" h="68">
                      <a:moveTo>
                        <a:pt x="0" y="64"/>
                      </a:moveTo>
                      <a:lnTo>
                        <a:pt x="0" y="64"/>
                      </a:lnTo>
                      <a:lnTo>
                        <a:pt x="3" y="65"/>
                      </a:lnTo>
                      <a:lnTo>
                        <a:pt x="14" y="66"/>
                      </a:lnTo>
                      <a:lnTo>
                        <a:pt x="26" y="67"/>
                      </a:lnTo>
                      <a:lnTo>
                        <a:pt x="43" y="68"/>
                      </a:lnTo>
                      <a:lnTo>
                        <a:pt x="58" y="67"/>
                      </a:lnTo>
                      <a:lnTo>
                        <a:pt x="73" y="65"/>
                      </a:lnTo>
                      <a:lnTo>
                        <a:pt x="85" y="59"/>
                      </a:lnTo>
                      <a:lnTo>
                        <a:pt x="91" y="48"/>
                      </a:lnTo>
                      <a:lnTo>
                        <a:pt x="91" y="48"/>
                      </a:lnTo>
                      <a:lnTo>
                        <a:pt x="91" y="37"/>
                      </a:lnTo>
                      <a:lnTo>
                        <a:pt x="87" y="26"/>
                      </a:lnTo>
                      <a:lnTo>
                        <a:pt x="78" y="19"/>
                      </a:lnTo>
                      <a:lnTo>
                        <a:pt x="67" y="12"/>
                      </a:lnTo>
                      <a:lnTo>
                        <a:pt x="53" y="7"/>
                      </a:lnTo>
                      <a:lnTo>
                        <a:pt x="40" y="3"/>
                      </a:lnTo>
                      <a:lnTo>
                        <a:pt x="28" y="1"/>
                      </a:lnTo>
                      <a:lnTo>
                        <a:pt x="15" y="0"/>
                      </a:lnTo>
                      <a:lnTo>
                        <a:pt x="0" y="6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 name=""/>
                <p:cNvSpPr/>
                <p:nvPr/>
              </p:nvSpPr>
              <p:spPr>
                <a:xfrm>
                  <a:off x="3800160" y="1463760"/>
                  <a:ext cx="136800" cy="108000"/>
                </a:xfrm>
                <a:custGeom>
                  <a:avLst/>
                  <a:gdLst/>
                  <a:ahLst/>
                  <a:rect l="l" t="t" r="r" b="b"/>
                  <a:pathLst>
                    <a:path w="172" h="135">
                      <a:moveTo>
                        <a:pt x="172" y="0"/>
                      </a:moveTo>
                      <a:lnTo>
                        <a:pt x="172" y="68"/>
                      </a:lnTo>
                      <a:lnTo>
                        <a:pt x="171" y="81"/>
                      </a:lnTo>
                      <a:lnTo>
                        <a:pt x="166" y="94"/>
                      </a:lnTo>
                      <a:lnTo>
                        <a:pt x="157" y="105"/>
                      </a:lnTo>
                      <a:lnTo>
                        <a:pt x="148" y="116"/>
                      </a:lnTo>
                      <a:lnTo>
                        <a:pt x="134" y="123"/>
                      </a:lnTo>
                      <a:lnTo>
                        <a:pt x="120" y="130"/>
                      </a:lnTo>
                      <a:lnTo>
                        <a:pt x="104" y="134"/>
                      </a:lnTo>
                      <a:lnTo>
                        <a:pt x="87" y="135"/>
                      </a:lnTo>
                      <a:lnTo>
                        <a:pt x="70" y="134"/>
                      </a:lnTo>
                      <a:lnTo>
                        <a:pt x="53" y="130"/>
                      </a:lnTo>
                      <a:lnTo>
                        <a:pt x="38" y="123"/>
                      </a:lnTo>
                      <a:lnTo>
                        <a:pt x="26" y="116"/>
                      </a:lnTo>
                      <a:lnTo>
                        <a:pt x="15" y="105"/>
                      </a:lnTo>
                      <a:lnTo>
                        <a:pt x="8" y="94"/>
                      </a:lnTo>
                      <a:lnTo>
                        <a:pt x="2" y="81"/>
                      </a:lnTo>
                      <a:lnTo>
                        <a:pt x="0" y="68"/>
                      </a:lnTo>
                      <a:lnTo>
                        <a:pt x="0" y="43"/>
                      </a:lnTo>
                      <a:lnTo>
                        <a:pt x="172" y="0"/>
                      </a:lnTo>
                      <a:close/>
                    </a:path>
                  </a:pathLst>
                </a:custGeom>
                <a:solidFill>
                  <a:srgbClr val="b21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00160" y="1463760"/>
                  <a:ext cx="136800" cy="108000"/>
                </a:xfrm>
                <a:custGeom>
                  <a:avLst/>
                  <a:gdLst/>
                  <a:ahLst/>
                  <a:rect l="l" t="t" r="r" b="b"/>
                  <a:pathLst>
                    <a:path w="172" h="135">
                      <a:moveTo>
                        <a:pt x="172" y="0"/>
                      </a:moveTo>
                      <a:lnTo>
                        <a:pt x="172" y="68"/>
                      </a:lnTo>
                      <a:lnTo>
                        <a:pt x="172" y="68"/>
                      </a:lnTo>
                      <a:lnTo>
                        <a:pt x="171" y="81"/>
                      </a:lnTo>
                      <a:lnTo>
                        <a:pt x="166" y="94"/>
                      </a:lnTo>
                      <a:lnTo>
                        <a:pt x="157" y="105"/>
                      </a:lnTo>
                      <a:lnTo>
                        <a:pt x="148" y="116"/>
                      </a:lnTo>
                      <a:lnTo>
                        <a:pt x="134" y="123"/>
                      </a:lnTo>
                      <a:lnTo>
                        <a:pt x="120" y="130"/>
                      </a:lnTo>
                      <a:lnTo>
                        <a:pt x="104" y="134"/>
                      </a:lnTo>
                      <a:lnTo>
                        <a:pt x="87" y="135"/>
                      </a:lnTo>
                      <a:lnTo>
                        <a:pt x="87" y="135"/>
                      </a:lnTo>
                      <a:lnTo>
                        <a:pt x="70" y="134"/>
                      </a:lnTo>
                      <a:lnTo>
                        <a:pt x="53" y="130"/>
                      </a:lnTo>
                      <a:lnTo>
                        <a:pt x="38" y="123"/>
                      </a:lnTo>
                      <a:lnTo>
                        <a:pt x="26" y="116"/>
                      </a:lnTo>
                      <a:lnTo>
                        <a:pt x="15" y="105"/>
                      </a:lnTo>
                      <a:lnTo>
                        <a:pt x="8" y="94"/>
                      </a:lnTo>
                      <a:lnTo>
                        <a:pt x="2" y="81"/>
                      </a:lnTo>
                      <a:lnTo>
                        <a:pt x="0" y="68"/>
                      </a:lnTo>
                      <a:lnTo>
                        <a:pt x="0" y="43"/>
                      </a:lnTo>
                      <a:lnTo>
                        <a:pt x="1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67040" y="1558800"/>
                  <a:ext cx="277920" cy="303480"/>
                </a:xfrm>
                <a:custGeom>
                  <a:avLst/>
                  <a:gdLst/>
                  <a:ahLst/>
                  <a:rect l="l" t="t" r="r" b="b"/>
                  <a:pathLst>
                    <a:path w="350" h="382">
                      <a:moveTo>
                        <a:pt x="217" y="76"/>
                      </a:moveTo>
                      <a:lnTo>
                        <a:pt x="214" y="61"/>
                      </a:lnTo>
                      <a:lnTo>
                        <a:pt x="208" y="47"/>
                      </a:lnTo>
                      <a:lnTo>
                        <a:pt x="196" y="37"/>
                      </a:lnTo>
                      <a:lnTo>
                        <a:pt x="178" y="32"/>
                      </a:lnTo>
                      <a:lnTo>
                        <a:pt x="175" y="26"/>
                      </a:lnTo>
                      <a:lnTo>
                        <a:pt x="172" y="20"/>
                      </a:lnTo>
                      <a:lnTo>
                        <a:pt x="165" y="14"/>
                      </a:lnTo>
                      <a:lnTo>
                        <a:pt x="156" y="9"/>
                      </a:lnTo>
                      <a:lnTo>
                        <a:pt x="143" y="5"/>
                      </a:lnTo>
                      <a:lnTo>
                        <a:pt x="126" y="2"/>
                      </a:lnTo>
                      <a:lnTo>
                        <a:pt x="102" y="0"/>
                      </a:lnTo>
                      <a:lnTo>
                        <a:pt x="73" y="2"/>
                      </a:lnTo>
                      <a:lnTo>
                        <a:pt x="73" y="10"/>
                      </a:lnTo>
                      <a:lnTo>
                        <a:pt x="74" y="18"/>
                      </a:lnTo>
                      <a:lnTo>
                        <a:pt x="74" y="26"/>
                      </a:lnTo>
                      <a:lnTo>
                        <a:pt x="74" y="28"/>
                      </a:lnTo>
                      <a:lnTo>
                        <a:pt x="62" y="33"/>
                      </a:lnTo>
                      <a:lnTo>
                        <a:pt x="50" y="38"/>
                      </a:lnTo>
                      <a:lnTo>
                        <a:pt x="39" y="45"/>
                      </a:lnTo>
                      <a:lnTo>
                        <a:pt x="29" y="52"/>
                      </a:lnTo>
                      <a:lnTo>
                        <a:pt x="18" y="63"/>
                      </a:lnTo>
                      <a:lnTo>
                        <a:pt x="10" y="75"/>
                      </a:lnTo>
                      <a:lnTo>
                        <a:pt x="6" y="91"/>
                      </a:lnTo>
                      <a:lnTo>
                        <a:pt x="4" y="109"/>
                      </a:lnTo>
                      <a:lnTo>
                        <a:pt x="3" y="131"/>
                      </a:lnTo>
                      <a:lnTo>
                        <a:pt x="1" y="156"/>
                      </a:lnTo>
                      <a:lnTo>
                        <a:pt x="0" y="182"/>
                      </a:lnTo>
                      <a:lnTo>
                        <a:pt x="1" y="207"/>
                      </a:lnTo>
                      <a:lnTo>
                        <a:pt x="4" y="230"/>
                      </a:lnTo>
                      <a:lnTo>
                        <a:pt x="12" y="249"/>
                      </a:lnTo>
                      <a:lnTo>
                        <a:pt x="26" y="263"/>
                      </a:lnTo>
                      <a:lnTo>
                        <a:pt x="45" y="269"/>
                      </a:lnTo>
                      <a:lnTo>
                        <a:pt x="68" y="270"/>
                      </a:lnTo>
                      <a:lnTo>
                        <a:pt x="86" y="271"/>
                      </a:lnTo>
                      <a:lnTo>
                        <a:pt x="103" y="271"/>
                      </a:lnTo>
                      <a:lnTo>
                        <a:pt x="115" y="272"/>
                      </a:lnTo>
                      <a:lnTo>
                        <a:pt x="124" y="272"/>
                      </a:lnTo>
                      <a:lnTo>
                        <a:pt x="130" y="272"/>
                      </a:lnTo>
                      <a:lnTo>
                        <a:pt x="134" y="272"/>
                      </a:lnTo>
                      <a:lnTo>
                        <a:pt x="135" y="272"/>
                      </a:lnTo>
                      <a:lnTo>
                        <a:pt x="130" y="294"/>
                      </a:lnTo>
                      <a:lnTo>
                        <a:pt x="129" y="329"/>
                      </a:lnTo>
                      <a:lnTo>
                        <a:pt x="126" y="364"/>
                      </a:lnTo>
                      <a:lnTo>
                        <a:pt x="126" y="378"/>
                      </a:lnTo>
                      <a:lnTo>
                        <a:pt x="149" y="380"/>
                      </a:lnTo>
                      <a:lnTo>
                        <a:pt x="173" y="381"/>
                      </a:lnTo>
                      <a:lnTo>
                        <a:pt x="197" y="381"/>
                      </a:lnTo>
                      <a:lnTo>
                        <a:pt x="220" y="382"/>
                      </a:lnTo>
                      <a:lnTo>
                        <a:pt x="243" y="382"/>
                      </a:lnTo>
                      <a:lnTo>
                        <a:pt x="261" y="382"/>
                      </a:lnTo>
                      <a:lnTo>
                        <a:pt x="278" y="382"/>
                      </a:lnTo>
                      <a:lnTo>
                        <a:pt x="290" y="382"/>
                      </a:lnTo>
                      <a:lnTo>
                        <a:pt x="301" y="381"/>
                      </a:lnTo>
                      <a:lnTo>
                        <a:pt x="310" y="380"/>
                      </a:lnTo>
                      <a:lnTo>
                        <a:pt x="321" y="377"/>
                      </a:lnTo>
                      <a:lnTo>
                        <a:pt x="330" y="375"/>
                      </a:lnTo>
                      <a:lnTo>
                        <a:pt x="337" y="372"/>
                      </a:lnTo>
                      <a:lnTo>
                        <a:pt x="343" y="370"/>
                      </a:lnTo>
                      <a:lnTo>
                        <a:pt x="348" y="369"/>
                      </a:lnTo>
                      <a:lnTo>
                        <a:pt x="350" y="368"/>
                      </a:lnTo>
                      <a:lnTo>
                        <a:pt x="347" y="358"/>
                      </a:lnTo>
                      <a:lnTo>
                        <a:pt x="340" y="349"/>
                      </a:lnTo>
                      <a:lnTo>
                        <a:pt x="333" y="341"/>
                      </a:lnTo>
                      <a:lnTo>
                        <a:pt x="325" y="334"/>
                      </a:lnTo>
                      <a:lnTo>
                        <a:pt x="316" y="327"/>
                      </a:lnTo>
                      <a:lnTo>
                        <a:pt x="305" y="321"/>
                      </a:lnTo>
                      <a:lnTo>
                        <a:pt x="293" y="317"/>
                      </a:lnTo>
                      <a:lnTo>
                        <a:pt x="281" y="314"/>
                      </a:lnTo>
                      <a:lnTo>
                        <a:pt x="283" y="292"/>
                      </a:lnTo>
                      <a:lnTo>
                        <a:pt x="283" y="269"/>
                      </a:lnTo>
                      <a:lnTo>
                        <a:pt x="284" y="248"/>
                      </a:lnTo>
                      <a:lnTo>
                        <a:pt x="284" y="234"/>
                      </a:lnTo>
                      <a:lnTo>
                        <a:pt x="284" y="229"/>
                      </a:lnTo>
                      <a:lnTo>
                        <a:pt x="281" y="223"/>
                      </a:lnTo>
                      <a:lnTo>
                        <a:pt x="278" y="218"/>
                      </a:lnTo>
                      <a:lnTo>
                        <a:pt x="270" y="213"/>
                      </a:lnTo>
                      <a:lnTo>
                        <a:pt x="261" y="208"/>
                      </a:lnTo>
                      <a:lnTo>
                        <a:pt x="248" y="205"/>
                      </a:lnTo>
                      <a:lnTo>
                        <a:pt x="231" y="201"/>
                      </a:lnTo>
                      <a:lnTo>
                        <a:pt x="210" y="200"/>
                      </a:lnTo>
                      <a:lnTo>
                        <a:pt x="213" y="174"/>
                      </a:lnTo>
                      <a:lnTo>
                        <a:pt x="214" y="140"/>
                      </a:lnTo>
                      <a:lnTo>
                        <a:pt x="217" y="105"/>
                      </a:lnTo>
                      <a:lnTo>
                        <a:pt x="217" y="76"/>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67040" y="1558800"/>
                  <a:ext cx="277920" cy="303480"/>
                </a:xfrm>
                <a:custGeom>
                  <a:avLst/>
                  <a:gdLst/>
                  <a:ahLst/>
                  <a:rect l="l" t="t" r="r" b="b"/>
                  <a:pathLst>
                    <a:path w="350" h="382">
                      <a:moveTo>
                        <a:pt x="217" y="76"/>
                      </a:moveTo>
                      <a:lnTo>
                        <a:pt x="217" y="76"/>
                      </a:lnTo>
                      <a:lnTo>
                        <a:pt x="214" y="61"/>
                      </a:lnTo>
                      <a:lnTo>
                        <a:pt x="208" y="47"/>
                      </a:lnTo>
                      <a:lnTo>
                        <a:pt x="196" y="37"/>
                      </a:lnTo>
                      <a:lnTo>
                        <a:pt x="178" y="32"/>
                      </a:lnTo>
                      <a:lnTo>
                        <a:pt x="178" y="32"/>
                      </a:lnTo>
                      <a:lnTo>
                        <a:pt x="175" y="26"/>
                      </a:lnTo>
                      <a:lnTo>
                        <a:pt x="172" y="20"/>
                      </a:lnTo>
                      <a:lnTo>
                        <a:pt x="165" y="14"/>
                      </a:lnTo>
                      <a:lnTo>
                        <a:pt x="156" y="9"/>
                      </a:lnTo>
                      <a:lnTo>
                        <a:pt x="143" y="5"/>
                      </a:lnTo>
                      <a:lnTo>
                        <a:pt x="126" y="2"/>
                      </a:lnTo>
                      <a:lnTo>
                        <a:pt x="102" y="0"/>
                      </a:lnTo>
                      <a:lnTo>
                        <a:pt x="73" y="2"/>
                      </a:lnTo>
                      <a:lnTo>
                        <a:pt x="73" y="2"/>
                      </a:lnTo>
                      <a:lnTo>
                        <a:pt x="73" y="10"/>
                      </a:lnTo>
                      <a:lnTo>
                        <a:pt x="74" y="18"/>
                      </a:lnTo>
                      <a:lnTo>
                        <a:pt x="74" y="26"/>
                      </a:lnTo>
                      <a:lnTo>
                        <a:pt x="74" y="28"/>
                      </a:lnTo>
                      <a:lnTo>
                        <a:pt x="74" y="28"/>
                      </a:lnTo>
                      <a:lnTo>
                        <a:pt x="62" y="33"/>
                      </a:lnTo>
                      <a:lnTo>
                        <a:pt x="50" y="38"/>
                      </a:lnTo>
                      <a:lnTo>
                        <a:pt x="39" y="45"/>
                      </a:lnTo>
                      <a:lnTo>
                        <a:pt x="29" y="52"/>
                      </a:lnTo>
                      <a:lnTo>
                        <a:pt x="18" y="63"/>
                      </a:lnTo>
                      <a:lnTo>
                        <a:pt x="10" y="75"/>
                      </a:lnTo>
                      <a:lnTo>
                        <a:pt x="6" y="91"/>
                      </a:lnTo>
                      <a:lnTo>
                        <a:pt x="4" y="109"/>
                      </a:lnTo>
                      <a:lnTo>
                        <a:pt x="4" y="109"/>
                      </a:lnTo>
                      <a:lnTo>
                        <a:pt x="3" y="131"/>
                      </a:lnTo>
                      <a:lnTo>
                        <a:pt x="1" y="156"/>
                      </a:lnTo>
                      <a:lnTo>
                        <a:pt x="0" y="182"/>
                      </a:lnTo>
                      <a:lnTo>
                        <a:pt x="1" y="207"/>
                      </a:lnTo>
                      <a:lnTo>
                        <a:pt x="4" y="230"/>
                      </a:lnTo>
                      <a:lnTo>
                        <a:pt x="12" y="249"/>
                      </a:lnTo>
                      <a:lnTo>
                        <a:pt x="26" y="263"/>
                      </a:lnTo>
                      <a:lnTo>
                        <a:pt x="45" y="269"/>
                      </a:lnTo>
                      <a:lnTo>
                        <a:pt x="45" y="269"/>
                      </a:lnTo>
                      <a:lnTo>
                        <a:pt x="68" y="270"/>
                      </a:lnTo>
                      <a:lnTo>
                        <a:pt x="86" y="271"/>
                      </a:lnTo>
                      <a:lnTo>
                        <a:pt x="103" y="271"/>
                      </a:lnTo>
                      <a:lnTo>
                        <a:pt x="115" y="272"/>
                      </a:lnTo>
                      <a:lnTo>
                        <a:pt x="124" y="272"/>
                      </a:lnTo>
                      <a:lnTo>
                        <a:pt x="130" y="272"/>
                      </a:lnTo>
                      <a:lnTo>
                        <a:pt x="134" y="272"/>
                      </a:lnTo>
                      <a:lnTo>
                        <a:pt x="135" y="272"/>
                      </a:lnTo>
                      <a:lnTo>
                        <a:pt x="135" y="272"/>
                      </a:lnTo>
                      <a:lnTo>
                        <a:pt x="130" y="294"/>
                      </a:lnTo>
                      <a:lnTo>
                        <a:pt x="129" y="329"/>
                      </a:lnTo>
                      <a:lnTo>
                        <a:pt x="126" y="364"/>
                      </a:lnTo>
                      <a:lnTo>
                        <a:pt x="126" y="378"/>
                      </a:lnTo>
                      <a:lnTo>
                        <a:pt x="126" y="378"/>
                      </a:lnTo>
                      <a:lnTo>
                        <a:pt x="149" y="380"/>
                      </a:lnTo>
                      <a:lnTo>
                        <a:pt x="173" y="381"/>
                      </a:lnTo>
                      <a:lnTo>
                        <a:pt x="197" y="381"/>
                      </a:lnTo>
                      <a:lnTo>
                        <a:pt x="220" y="382"/>
                      </a:lnTo>
                      <a:lnTo>
                        <a:pt x="243" y="382"/>
                      </a:lnTo>
                      <a:lnTo>
                        <a:pt x="261" y="382"/>
                      </a:lnTo>
                      <a:lnTo>
                        <a:pt x="278" y="382"/>
                      </a:lnTo>
                      <a:lnTo>
                        <a:pt x="290" y="382"/>
                      </a:lnTo>
                      <a:lnTo>
                        <a:pt x="290" y="382"/>
                      </a:lnTo>
                      <a:lnTo>
                        <a:pt x="301" y="381"/>
                      </a:lnTo>
                      <a:lnTo>
                        <a:pt x="310" y="380"/>
                      </a:lnTo>
                      <a:lnTo>
                        <a:pt x="321" y="377"/>
                      </a:lnTo>
                      <a:lnTo>
                        <a:pt x="330" y="375"/>
                      </a:lnTo>
                      <a:lnTo>
                        <a:pt x="337" y="372"/>
                      </a:lnTo>
                      <a:lnTo>
                        <a:pt x="343" y="370"/>
                      </a:lnTo>
                      <a:lnTo>
                        <a:pt x="348" y="369"/>
                      </a:lnTo>
                      <a:lnTo>
                        <a:pt x="350" y="368"/>
                      </a:lnTo>
                      <a:lnTo>
                        <a:pt x="350" y="368"/>
                      </a:lnTo>
                      <a:lnTo>
                        <a:pt x="347" y="358"/>
                      </a:lnTo>
                      <a:lnTo>
                        <a:pt x="340" y="349"/>
                      </a:lnTo>
                      <a:lnTo>
                        <a:pt x="333" y="341"/>
                      </a:lnTo>
                      <a:lnTo>
                        <a:pt x="325" y="334"/>
                      </a:lnTo>
                      <a:lnTo>
                        <a:pt x="316" y="327"/>
                      </a:lnTo>
                      <a:lnTo>
                        <a:pt x="305" y="321"/>
                      </a:lnTo>
                      <a:lnTo>
                        <a:pt x="293" y="317"/>
                      </a:lnTo>
                      <a:lnTo>
                        <a:pt x="281" y="314"/>
                      </a:lnTo>
                      <a:lnTo>
                        <a:pt x="281" y="314"/>
                      </a:lnTo>
                      <a:lnTo>
                        <a:pt x="283" y="292"/>
                      </a:lnTo>
                      <a:lnTo>
                        <a:pt x="283" y="269"/>
                      </a:lnTo>
                      <a:lnTo>
                        <a:pt x="284" y="248"/>
                      </a:lnTo>
                      <a:lnTo>
                        <a:pt x="284" y="234"/>
                      </a:lnTo>
                      <a:lnTo>
                        <a:pt x="284" y="234"/>
                      </a:lnTo>
                      <a:lnTo>
                        <a:pt x="284" y="229"/>
                      </a:lnTo>
                      <a:lnTo>
                        <a:pt x="281" y="223"/>
                      </a:lnTo>
                      <a:lnTo>
                        <a:pt x="278" y="218"/>
                      </a:lnTo>
                      <a:lnTo>
                        <a:pt x="270" y="213"/>
                      </a:lnTo>
                      <a:lnTo>
                        <a:pt x="261" y="208"/>
                      </a:lnTo>
                      <a:lnTo>
                        <a:pt x="248" y="205"/>
                      </a:lnTo>
                      <a:lnTo>
                        <a:pt x="231" y="201"/>
                      </a:lnTo>
                      <a:lnTo>
                        <a:pt x="210" y="200"/>
                      </a:lnTo>
                      <a:lnTo>
                        <a:pt x="210" y="200"/>
                      </a:lnTo>
                      <a:lnTo>
                        <a:pt x="213" y="174"/>
                      </a:lnTo>
                      <a:lnTo>
                        <a:pt x="214" y="140"/>
                      </a:lnTo>
                      <a:lnTo>
                        <a:pt x="217" y="105"/>
                      </a:lnTo>
                      <a:lnTo>
                        <a:pt x="217"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84400" y="1600200"/>
                  <a:ext cx="147600" cy="147600"/>
                </a:xfrm>
                <a:custGeom>
                  <a:avLst/>
                  <a:gdLst/>
                  <a:ahLst/>
                  <a:rect l="l" t="t" r="r" b="b"/>
                  <a:pathLst>
                    <a:path w="185" h="188">
                      <a:moveTo>
                        <a:pt x="185" y="124"/>
                      </a:moveTo>
                      <a:lnTo>
                        <a:pt x="175" y="122"/>
                      </a:lnTo>
                      <a:lnTo>
                        <a:pt x="161" y="120"/>
                      </a:lnTo>
                      <a:lnTo>
                        <a:pt x="147" y="117"/>
                      </a:lnTo>
                      <a:lnTo>
                        <a:pt x="135" y="115"/>
                      </a:lnTo>
                      <a:lnTo>
                        <a:pt x="123" y="111"/>
                      </a:lnTo>
                      <a:lnTo>
                        <a:pt x="112" y="109"/>
                      </a:lnTo>
                      <a:lnTo>
                        <a:pt x="106" y="108"/>
                      </a:lnTo>
                      <a:lnTo>
                        <a:pt x="103" y="107"/>
                      </a:lnTo>
                      <a:lnTo>
                        <a:pt x="102" y="85"/>
                      </a:lnTo>
                      <a:lnTo>
                        <a:pt x="99" y="63"/>
                      </a:lnTo>
                      <a:lnTo>
                        <a:pt x="96" y="44"/>
                      </a:lnTo>
                      <a:lnTo>
                        <a:pt x="93" y="29"/>
                      </a:lnTo>
                      <a:lnTo>
                        <a:pt x="86" y="18"/>
                      </a:lnTo>
                      <a:lnTo>
                        <a:pt x="76" y="9"/>
                      </a:lnTo>
                      <a:lnTo>
                        <a:pt x="59" y="3"/>
                      </a:lnTo>
                      <a:lnTo>
                        <a:pt x="42" y="0"/>
                      </a:lnTo>
                      <a:lnTo>
                        <a:pt x="26" y="3"/>
                      </a:lnTo>
                      <a:lnTo>
                        <a:pt x="10" y="10"/>
                      </a:lnTo>
                      <a:lnTo>
                        <a:pt x="1" y="23"/>
                      </a:lnTo>
                      <a:lnTo>
                        <a:pt x="0" y="44"/>
                      </a:lnTo>
                      <a:lnTo>
                        <a:pt x="4" y="80"/>
                      </a:lnTo>
                      <a:lnTo>
                        <a:pt x="7" y="98"/>
                      </a:lnTo>
                      <a:lnTo>
                        <a:pt x="10" y="108"/>
                      </a:lnTo>
                      <a:lnTo>
                        <a:pt x="12" y="116"/>
                      </a:lnTo>
                      <a:lnTo>
                        <a:pt x="12" y="122"/>
                      </a:lnTo>
                      <a:lnTo>
                        <a:pt x="13" y="130"/>
                      </a:lnTo>
                      <a:lnTo>
                        <a:pt x="16" y="138"/>
                      </a:lnTo>
                      <a:lnTo>
                        <a:pt x="21" y="145"/>
                      </a:lnTo>
                      <a:lnTo>
                        <a:pt x="29" y="154"/>
                      </a:lnTo>
                      <a:lnTo>
                        <a:pt x="39" y="161"/>
                      </a:lnTo>
                      <a:lnTo>
                        <a:pt x="53" y="167"/>
                      </a:lnTo>
                      <a:lnTo>
                        <a:pt x="73" y="172"/>
                      </a:lnTo>
                      <a:lnTo>
                        <a:pt x="94" y="175"/>
                      </a:lnTo>
                      <a:lnTo>
                        <a:pt x="112" y="178"/>
                      </a:lnTo>
                      <a:lnTo>
                        <a:pt x="129" y="182"/>
                      </a:lnTo>
                      <a:lnTo>
                        <a:pt x="143" y="183"/>
                      </a:lnTo>
                      <a:lnTo>
                        <a:pt x="155" y="185"/>
                      </a:lnTo>
                      <a:lnTo>
                        <a:pt x="163" y="186"/>
                      </a:lnTo>
                      <a:lnTo>
                        <a:pt x="169" y="188"/>
                      </a:lnTo>
                      <a:lnTo>
                        <a:pt x="170" y="188"/>
                      </a:lnTo>
                      <a:lnTo>
                        <a:pt x="185" y="124"/>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84400" y="1600200"/>
                  <a:ext cx="147600" cy="147600"/>
                </a:xfrm>
                <a:custGeom>
                  <a:avLst/>
                  <a:gdLst/>
                  <a:ahLst/>
                  <a:rect l="l" t="t" r="r" b="b"/>
                  <a:pathLst>
                    <a:path w="185" h="188">
                      <a:moveTo>
                        <a:pt x="185" y="124"/>
                      </a:moveTo>
                      <a:lnTo>
                        <a:pt x="185" y="124"/>
                      </a:lnTo>
                      <a:lnTo>
                        <a:pt x="175" y="122"/>
                      </a:lnTo>
                      <a:lnTo>
                        <a:pt x="161" y="120"/>
                      </a:lnTo>
                      <a:lnTo>
                        <a:pt x="147" y="117"/>
                      </a:lnTo>
                      <a:lnTo>
                        <a:pt x="135" y="115"/>
                      </a:lnTo>
                      <a:lnTo>
                        <a:pt x="123" y="111"/>
                      </a:lnTo>
                      <a:lnTo>
                        <a:pt x="112" y="109"/>
                      </a:lnTo>
                      <a:lnTo>
                        <a:pt x="106" y="108"/>
                      </a:lnTo>
                      <a:lnTo>
                        <a:pt x="103" y="107"/>
                      </a:lnTo>
                      <a:lnTo>
                        <a:pt x="103" y="107"/>
                      </a:lnTo>
                      <a:lnTo>
                        <a:pt x="102" y="85"/>
                      </a:lnTo>
                      <a:lnTo>
                        <a:pt x="99" y="63"/>
                      </a:lnTo>
                      <a:lnTo>
                        <a:pt x="96" y="44"/>
                      </a:lnTo>
                      <a:lnTo>
                        <a:pt x="93" y="29"/>
                      </a:lnTo>
                      <a:lnTo>
                        <a:pt x="93" y="29"/>
                      </a:lnTo>
                      <a:lnTo>
                        <a:pt x="86" y="18"/>
                      </a:lnTo>
                      <a:lnTo>
                        <a:pt x="76" y="9"/>
                      </a:lnTo>
                      <a:lnTo>
                        <a:pt x="59" y="3"/>
                      </a:lnTo>
                      <a:lnTo>
                        <a:pt x="42" y="0"/>
                      </a:lnTo>
                      <a:lnTo>
                        <a:pt x="26" y="3"/>
                      </a:lnTo>
                      <a:lnTo>
                        <a:pt x="10" y="10"/>
                      </a:lnTo>
                      <a:lnTo>
                        <a:pt x="1" y="23"/>
                      </a:lnTo>
                      <a:lnTo>
                        <a:pt x="0" y="44"/>
                      </a:lnTo>
                      <a:lnTo>
                        <a:pt x="0" y="44"/>
                      </a:lnTo>
                      <a:lnTo>
                        <a:pt x="4" y="80"/>
                      </a:lnTo>
                      <a:lnTo>
                        <a:pt x="7" y="98"/>
                      </a:lnTo>
                      <a:lnTo>
                        <a:pt x="10" y="108"/>
                      </a:lnTo>
                      <a:lnTo>
                        <a:pt x="12" y="116"/>
                      </a:lnTo>
                      <a:lnTo>
                        <a:pt x="12" y="116"/>
                      </a:lnTo>
                      <a:lnTo>
                        <a:pt x="12" y="122"/>
                      </a:lnTo>
                      <a:lnTo>
                        <a:pt x="13" y="130"/>
                      </a:lnTo>
                      <a:lnTo>
                        <a:pt x="16" y="138"/>
                      </a:lnTo>
                      <a:lnTo>
                        <a:pt x="21" y="145"/>
                      </a:lnTo>
                      <a:lnTo>
                        <a:pt x="29" y="154"/>
                      </a:lnTo>
                      <a:lnTo>
                        <a:pt x="39" y="161"/>
                      </a:lnTo>
                      <a:lnTo>
                        <a:pt x="53" y="167"/>
                      </a:lnTo>
                      <a:lnTo>
                        <a:pt x="73" y="172"/>
                      </a:lnTo>
                      <a:lnTo>
                        <a:pt x="73" y="172"/>
                      </a:lnTo>
                      <a:lnTo>
                        <a:pt x="94" y="175"/>
                      </a:lnTo>
                      <a:lnTo>
                        <a:pt x="112" y="178"/>
                      </a:lnTo>
                      <a:lnTo>
                        <a:pt x="129" y="182"/>
                      </a:lnTo>
                      <a:lnTo>
                        <a:pt x="143" y="183"/>
                      </a:lnTo>
                      <a:lnTo>
                        <a:pt x="155" y="185"/>
                      </a:lnTo>
                      <a:lnTo>
                        <a:pt x="163" y="186"/>
                      </a:lnTo>
                      <a:lnTo>
                        <a:pt x="169" y="188"/>
                      </a:lnTo>
                      <a:lnTo>
                        <a:pt x="170" y="188"/>
                      </a:lnTo>
                      <a:lnTo>
                        <a:pt x="185" y="1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5445000" y="1382760"/>
                <a:ext cx="1030320" cy="1030320"/>
                <a:chOff x="5445000" y="1382760"/>
                <a:chExt cx="1030320" cy="1030320"/>
              </a:xfrm>
            </p:grpSpPr>
            <p:grpSp>
              <p:nvGrpSpPr>
                <p:cNvPr id="195" name=""/>
                <p:cNvGrpSpPr/>
                <p:nvPr/>
              </p:nvGrpSpPr>
              <p:grpSpPr>
                <a:xfrm>
                  <a:off x="5445000" y="1382760"/>
                  <a:ext cx="1030320" cy="1030320"/>
                  <a:chOff x="5445000" y="1382760"/>
                  <a:chExt cx="1030320" cy="1030320"/>
                </a:xfrm>
              </p:grpSpPr>
              <p:sp>
                <p:nvSpPr>
                  <p:cNvPr id="196" name=""/>
                  <p:cNvSpPr/>
                  <p:nvPr/>
                </p:nvSpPr>
                <p:spPr>
                  <a:xfrm>
                    <a:off x="5456160" y="1393920"/>
                    <a:ext cx="1008000" cy="1008000"/>
                  </a:xfrm>
                  <a:custGeom>
                    <a:avLst/>
                    <a:gdLst/>
                    <a:ahLst/>
                    <a:rect l="l" t="t" r="r" b="b"/>
                    <a:pathLst>
                      <a:path w="3175" h="3175">
                        <a:moveTo>
                          <a:pt x="3094" y="1769"/>
                        </a:moveTo>
                        <a:lnTo>
                          <a:pt x="1759" y="3106"/>
                        </a:lnTo>
                        <a:lnTo>
                          <a:pt x="1719" y="3139"/>
                        </a:lnTo>
                        <a:lnTo>
                          <a:pt x="1675" y="3161"/>
                        </a:lnTo>
                        <a:lnTo>
                          <a:pt x="1629" y="3172"/>
                        </a:lnTo>
                        <a:lnTo>
                          <a:pt x="1581" y="3175"/>
                        </a:lnTo>
                        <a:lnTo>
                          <a:pt x="1535" y="3169"/>
                        </a:lnTo>
                        <a:lnTo>
                          <a:pt x="1490" y="3154"/>
                        </a:lnTo>
                        <a:lnTo>
                          <a:pt x="1448" y="3130"/>
                        </a:lnTo>
                        <a:lnTo>
                          <a:pt x="1411" y="3099"/>
                        </a:lnTo>
                        <a:lnTo>
                          <a:pt x="73" y="1761"/>
                        </a:lnTo>
                        <a:lnTo>
                          <a:pt x="41" y="1723"/>
                        </a:lnTo>
                        <a:lnTo>
                          <a:pt x="19" y="1680"/>
                        </a:lnTo>
                        <a:lnTo>
                          <a:pt x="5" y="1635"/>
                        </a:lnTo>
                        <a:lnTo>
                          <a:pt x="0" y="1587"/>
                        </a:lnTo>
                        <a:lnTo>
                          <a:pt x="5" y="1541"/>
                        </a:lnTo>
                        <a:lnTo>
                          <a:pt x="19" y="1493"/>
                        </a:lnTo>
                        <a:lnTo>
                          <a:pt x="43" y="1450"/>
                        </a:lnTo>
                        <a:lnTo>
                          <a:pt x="75" y="1410"/>
                        </a:lnTo>
                        <a:lnTo>
                          <a:pt x="1407" y="80"/>
                        </a:lnTo>
                        <a:lnTo>
                          <a:pt x="1447" y="46"/>
                        </a:lnTo>
                        <a:lnTo>
                          <a:pt x="1490" y="21"/>
                        </a:lnTo>
                        <a:lnTo>
                          <a:pt x="1538" y="6"/>
                        </a:lnTo>
                        <a:lnTo>
                          <a:pt x="1584" y="0"/>
                        </a:lnTo>
                        <a:lnTo>
                          <a:pt x="1631" y="2"/>
                        </a:lnTo>
                        <a:lnTo>
                          <a:pt x="1678" y="15"/>
                        </a:lnTo>
                        <a:lnTo>
                          <a:pt x="1720" y="36"/>
                        </a:lnTo>
                        <a:lnTo>
                          <a:pt x="1757" y="67"/>
                        </a:lnTo>
                        <a:lnTo>
                          <a:pt x="3109" y="1420"/>
                        </a:lnTo>
                        <a:lnTo>
                          <a:pt x="3140" y="1457"/>
                        </a:lnTo>
                        <a:lnTo>
                          <a:pt x="3162" y="1499"/>
                        </a:lnTo>
                        <a:lnTo>
                          <a:pt x="3173" y="1544"/>
                        </a:lnTo>
                        <a:lnTo>
                          <a:pt x="3175" y="1592"/>
                        </a:lnTo>
                        <a:lnTo>
                          <a:pt x="3170" y="1638"/>
                        </a:lnTo>
                        <a:lnTo>
                          <a:pt x="3153" y="1684"/>
                        </a:lnTo>
                        <a:lnTo>
                          <a:pt x="3128" y="1728"/>
                        </a:lnTo>
                        <a:lnTo>
                          <a:pt x="3094" y="176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6960" y="1947960"/>
                    <a:ext cx="439560" cy="441360"/>
                  </a:xfrm>
                  <a:custGeom>
                    <a:avLst/>
                    <a:gdLst/>
                    <a:ahLst/>
                    <a:rect l="l" t="t" r="r" b="b"/>
                    <a:pathLst>
                      <a:path w="1383" h="1387">
                        <a:moveTo>
                          <a:pt x="45" y="1387"/>
                        </a:moveTo>
                        <a:lnTo>
                          <a:pt x="47" y="1385"/>
                        </a:lnTo>
                        <a:lnTo>
                          <a:pt x="1383" y="48"/>
                        </a:lnTo>
                        <a:lnTo>
                          <a:pt x="1335" y="0"/>
                        </a:lnTo>
                        <a:lnTo>
                          <a:pt x="0" y="1338"/>
                        </a:lnTo>
                        <a:lnTo>
                          <a:pt x="2" y="1335"/>
                        </a:lnTo>
                        <a:lnTo>
                          <a:pt x="45" y="1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995800" y="2371680"/>
                    <a:ext cx="25560" cy="28800"/>
                  </a:xfrm>
                  <a:custGeom>
                    <a:avLst/>
                    <a:gdLst/>
                    <a:ahLst/>
                    <a:rect l="l" t="t" r="r" b="b"/>
                    <a:pathLst>
                      <a:path w="83" h="89">
                        <a:moveTo>
                          <a:pt x="37" y="89"/>
                        </a:moveTo>
                        <a:lnTo>
                          <a:pt x="43" y="85"/>
                        </a:lnTo>
                        <a:lnTo>
                          <a:pt x="83" y="52"/>
                        </a:lnTo>
                        <a:lnTo>
                          <a:pt x="40" y="0"/>
                        </a:lnTo>
                        <a:lnTo>
                          <a:pt x="0" y="32"/>
                        </a:lnTo>
                        <a:lnTo>
                          <a:pt x="7" y="29"/>
                        </a:lnTo>
                        <a:lnTo>
                          <a:pt x="37" y="89"/>
                        </a:lnTo>
                        <a:lnTo>
                          <a:pt x="40" y="87"/>
                        </a:lnTo>
                        <a:lnTo>
                          <a:pt x="43" y="85"/>
                        </a:lnTo>
                        <a:lnTo>
                          <a:pt x="37" y="8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 name=""/>
                  <p:cNvSpPr/>
                  <p:nvPr/>
                </p:nvSpPr>
                <p:spPr>
                  <a:xfrm>
                    <a:off x="5983200" y="2381400"/>
                    <a:ext cx="23760" cy="27000"/>
                  </a:xfrm>
                  <a:custGeom>
                    <a:avLst/>
                    <a:gdLst/>
                    <a:ahLst/>
                    <a:rect l="l" t="t" r="r" b="b"/>
                    <a:pathLst>
                      <a:path w="74" h="86">
                        <a:moveTo>
                          <a:pt x="22" y="86"/>
                        </a:moveTo>
                        <a:lnTo>
                          <a:pt x="30" y="82"/>
                        </a:lnTo>
                        <a:lnTo>
                          <a:pt x="74" y="60"/>
                        </a:lnTo>
                        <a:lnTo>
                          <a:pt x="44" y="0"/>
                        </a:lnTo>
                        <a:lnTo>
                          <a:pt x="0" y="22"/>
                        </a:lnTo>
                        <a:lnTo>
                          <a:pt x="8" y="18"/>
                        </a:lnTo>
                        <a:lnTo>
                          <a:pt x="22" y="86"/>
                        </a:lnTo>
                        <a:lnTo>
                          <a:pt x="26" y="85"/>
                        </a:lnTo>
                        <a:lnTo>
                          <a:pt x="30" y="82"/>
                        </a:lnTo>
                        <a:lnTo>
                          <a:pt x="22" y="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970600" y="2387520"/>
                    <a:ext cx="20520" cy="25560"/>
                  </a:xfrm>
                  <a:custGeom>
                    <a:avLst/>
                    <a:gdLst/>
                    <a:ahLst/>
                    <a:rect l="l" t="t" r="r" b="b"/>
                    <a:pathLst>
                      <a:path w="61" h="79">
                        <a:moveTo>
                          <a:pt x="9" y="79"/>
                        </a:moveTo>
                        <a:lnTo>
                          <a:pt x="15" y="79"/>
                        </a:lnTo>
                        <a:lnTo>
                          <a:pt x="61" y="68"/>
                        </a:lnTo>
                        <a:lnTo>
                          <a:pt x="47" y="0"/>
                        </a:lnTo>
                        <a:lnTo>
                          <a:pt x="0" y="12"/>
                        </a:lnTo>
                        <a:lnTo>
                          <a:pt x="7" y="12"/>
                        </a:lnTo>
                        <a:lnTo>
                          <a:pt x="9" y="79"/>
                        </a:lnTo>
                        <a:lnTo>
                          <a:pt x="12" y="79"/>
                        </a:lnTo>
                        <a:lnTo>
                          <a:pt x="15" y="79"/>
                        </a:lnTo>
                        <a:lnTo>
                          <a:pt x="9" y="7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1" name=""/>
                  <p:cNvSpPr/>
                  <p:nvPr/>
                </p:nvSpPr>
                <p:spPr>
                  <a:xfrm>
                    <a:off x="5957640" y="2390760"/>
                    <a:ext cx="15840" cy="22320"/>
                  </a:xfrm>
                  <a:custGeom>
                    <a:avLst/>
                    <a:gdLst/>
                    <a:ahLst/>
                    <a:rect l="l" t="t" r="r" b="b"/>
                    <a:pathLst>
                      <a:path w="52" h="71">
                        <a:moveTo>
                          <a:pt x="0" y="70"/>
                        </a:moveTo>
                        <a:lnTo>
                          <a:pt x="5" y="70"/>
                        </a:lnTo>
                        <a:lnTo>
                          <a:pt x="52" y="67"/>
                        </a:lnTo>
                        <a:lnTo>
                          <a:pt x="50" y="0"/>
                        </a:lnTo>
                        <a:lnTo>
                          <a:pt x="2" y="2"/>
                        </a:lnTo>
                        <a:lnTo>
                          <a:pt x="7" y="2"/>
                        </a:lnTo>
                        <a:lnTo>
                          <a:pt x="0" y="70"/>
                        </a:lnTo>
                        <a:lnTo>
                          <a:pt x="2" y="71"/>
                        </a:lnTo>
                        <a:lnTo>
                          <a:pt x="5" y="70"/>
                        </a:lnTo>
                        <a:lnTo>
                          <a:pt x="0" y="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2" name=""/>
                  <p:cNvSpPr/>
                  <p:nvPr/>
                </p:nvSpPr>
                <p:spPr>
                  <a:xfrm>
                    <a:off x="5940360" y="2389320"/>
                    <a:ext cx="19080" cy="23760"/>
                  </a:xfrm>
                  <a:custGeom>
                    <a:avLst/>
                    <a:gdLst/>
                    <a:ahLst/>
                    <a:rect l="l" t="t" r="r" b="b"/>
                    <a:pathLst>
                      <a:path w="60" h="74">
                        <a:moveTo>
                          <a:pt x="0" y="66"/>
                        </a:moveTo>
                        <a:lnTo>
                          <a:pt x="7" y="67"/>
                        </a:lnTo>
                        <a:lnTo>
                          <a:pt x="53" y="74"/>
                        </a:lnTo>
                        <a:lnTo>
                          <a:pt x="60" y="6"/>
                        </a:lnTo>
                        <a:lnTo>
                          <a:pt x="14" y="0"/>
                        </a:lnTo>
                        <a:lnTo>
                          <a:pt x="20" y="1"/>
                        </a:lnTo>
                        <a:lnTo>
                          <a:pt x="0" y="66"/>
                        </a:lnTo>
                        <a:lnTo>
                          <a:pt x="3" y="67"/>
                        </a:lnTo>
                        <a:lnTo>
                          <a:pt x="7" y="67"/>
                        </a:lnTo>
                        <a:lnTo>
                          <a:pt x="0"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3" name=""/>
                  <p:cNvSpPr/>
                  <p:nvPr/>
                </p:nvSpPr>
                <p:spPr>
                  <a:xfrm>
                    <a:off x="5924520" y="2386080"/>
                    <a:ext cx="21960" cy="25200"/>
                  </a:xfrm>
                  <a:custGeom>
                    <a:avLst/>
                    <a:gdLst/>
                    <a:ahLst/>
                    <a:rect l="l" t="t" r="r" b="b"/>
                    <a:pathLst>
                      <a:path w="71" h="80">
                        <a:moveTo>
                          <a:pt x="0" y="63"/>
                        </a:moveTo>
                        <a:lnTo>
                          <a:pt x="6" y="65"/>
                        </a:lnTo>
                        <a:lnTo>
                          <a:pt x="51" y="80"/>
                        </a:lnTo>
                        <a:lnTo>
                          <a:pt x="71" y="15"/>
                        </a:lnTo>
                        <a:lnTo>
                          <a:pt x="26" y="0"/>
                        </a:lnTo>
                        <a:lnTo>
                          <a:pt x="33" y="3"/>
                        </a:lnTo>
                        <a:lnTo>
                          <a:pt x="0" y="63"/>
                        </a:lnTo>
                        <a:lnTo>
                          <a:pt x="3" y="64"/>
                        </a:lnTo>
                        <a:lnTo>
                          <a:pt x="6" y="65"/>
                        </a:lnTo>
                        <a:lnTo>
                          <a:pt x="0" y="6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4" name=""/>
                  <p:cNvSpPr/>
                  <p:nvPr/>
                </p:nvSpPr>
                <p:spPr>
                  <a:xfrm>
                    <a:off x="5910120" y="2378160"/>
                    <a:ext cx="25560" cy="27000"/>
                  </a:xfrm>
                  <a:custGeom>
                    <a:avLst/>
                    <a:gdLst/>
                    <a:ahLst/>
                    <a:rect l="l" t="t" r="r" b="b"/>
                    <a:pathLst>
                      <a:path w="80" h="84">
                        <a:moveTo>
                          <a:pt x="0" y="56"/>
                        </a:moveTo>
                        <a:lnTo>
                          <a:pt x="5" y="60"/>
                        </a:lnTo>
                        <a:lnTo>
                          <a:pt x="47" y="84"/>
                        </a:lnTo>
                        <a:lnTo>
                          <a:pt x="80" y="24"/>
                        </a:lnTo>
                        <a:lnTo>
                          <a:pt x="37" y="0"/>
                        </a:lnTo>
                        <a:lnTo>
                          <a:pt x="42" y="4"/>
                        </a:lnTo>
                        <a:lnTo>
                          <a:pt x="0" y="56"/>
                        </a:lnTo>
                        <a:lnTo>
                          <a:pt x="2" y="59"/>
                        </a:lnTo>
                        <a:lnTo>
                          <a:pt x="5" y="60"/>
                        </a:lnTo>
                        <a:lnTo>
                          <a:pt x="0" y="5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97520" y="2370240"/>
                    <a:ext cx="25200" cy="27000"/>
                  </a:xfrm>
                  <a:custGeom>
                    <a:avLst/>
                    <a:gdLst/>
                    <a:ahLst/>
                    <a:rect l="l" t="t" r="r" b="b"/>
                    <a:pathLst>
                      <a:path w="82" h="83">
                        <a:moveTo>
                          <a:pt x="0" y="49"/>
                        </a:moveTo>
                        <a:lnTo>
                          <a:pt x="2" y="52"/>
                        </a:lnTo>
                        <a:lnTo>
                          <a:pt x="40" y="83"/>
                        </a:lnTo>
                        <a:lnTo>
                          <a:pt x="82" y="31"/>
                        </a:lnTo>
                        <a:lnTo>
                          <a:pt x="45" y="0"/>
                        </a:lnTo>
                        <a:lnTo>
                          <a:pt x="47" y="2"/>
                        </a:lnTo>
                        <a:lnTo>
                          <a:pt x="0" y="4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 name=""/>
                  <p:cNvSpPr/>
                  <p:nvPr/>
                </p:nvSpPr>
                <p:spPr>
                  <a:xfrm>
                    <a:off x="5470200" y="1946160"/>
                    <a:ext cx="441360" cy="439920"/>
                  </a:xfrm>
                  <a:custGeom>
                    <a:avLst/>
                    <a:gdLst/>
                    <a:ahLst/>
                    <a:rect l="l" t="t" r="r" b="b"/>
                    <a:pathLst>
                      <a:path w="1388" h="1384">
                        <a:moveTo>
                          <a:pt x="0" y="45"/>
                        </a:moveTo>
                        <a:lnTo>
                          <a:pt x="3" y="47"/>
                        </a:lnTo>
                        <a:lnTo>
                          <a:pt x="1341" y="1384"/>
                        </a:lnTo>
                        <a:lnTo>
                          <a:pt x="1388" y="1337"/>
                        </a:lnTo>
                        <a:lnTo>
                          <a:pt x="50" y="0"/>
                        </a:lnTo>
                        <a:lnTo>
                          <a:pt x="53" y="2"/>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459400" y="1935000"/>
                    <a:ext cx="28440" cy="25560"/>
                  </a:xfrm>
                  <a:custGeom>
                    <a:avLst/>
                    <a:gdLst/>
                    <a:ahLst/>
                    <a:rect l="l" t="t" r="r" b="b"/>
                    <a:pathLst>
                      <a:path w="88" h="81">
                        <a:moveTo>
                          <a:pt x="0" y="37"/>
                        </a:moveTo>
                        <a:lnTo>
                          <a:pt x="4" y="42"/>
                        </a:lnTo>
                        <a:lnTo>
                          <a:pt x="35" y="81"/>
                        </a:lnTo>
                        <a:lnTo>
                          <a:pt x="88" y="38"/>
                        </a:lnTo>
                        <a:lnTo>
                          <a:pt x="57" y="0"/>
                        </a:lnTo>
                        <a:lnTo>
                          <a:pt x="60" y="4"/>
                        </a:lnTo>
                        <a:lnTo>
                          <a:pt x="0" y="37"/>
                        </a:lnTo>
                        <a:lnTo>
                          <a:pt x="2" y="39"/>
                        </a:lnTo>
                        <a:lnTo>
                          <a:pt x="4" y="42"/>
                        </a:lnTo>
                        <a:lnTo>
                          <a:pt x="0"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8" name=""/>
                  <p:cNvSpPr/>
                  <p:nvPr/>
                </p:nvSpPr>
                <p:spPr>
                  <a:xfrm>
                    <a:off x="5452920" y="1922400"/>
                    <a:ext cx="25560" cy="23760"/>
                  </a:xfrm>
                  <a:custGeom>
                    <a:avLst/>
                    <a:gdLst/>
                    <a:ahLst/>
                    <a:rect l="l" t="t" r="r" b="b"/>
                    <a:pathLst>
                      <a:path w="84" h="75">
                        <a:moveTo>
                          <a:pt x="0" y="26"/>
                        </a:moveTo>
                        <a:lnTo>
                          <a:pt x="2" y="33"/>
                        </a:lnTo>
                        <a:lnTo>
                          <a:pt x="24" y="75"/>
                        </a:lnTo>
                        <a:lnTo>
                          <a:pt x="84" y="42"/>
                        </a:lnTo>
                        <a:lnTo>
                          <a:pt x="62" y="0"/>
                        </a:lnTo>
                        <a:lnTo>
                          <a:pt x="64" y="6"/>
                        </a:lnTo>
                        <a:lnTo>
                          <a:pt x="0" y="26"/>
                        </a:lnTo>
                        <a:lnTo>
                          <a:pt x="1" y="29"/>
                        </a:lnTo>
                        <a:lnTo>
                          <a:pt x="2" y="33"/>
                        </a:lnTo>
                        <a:lnTo>
                          <a:pt x="0"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448240" y="1909800"/>
                    <a:ext cx="23760" cy="20520"/>
                  </a:xfrm>
                  <a:custGeom>
                    <a:avLst/>
                    <a:gdLst/>
                    <a:ahLst/>
                    <a:rect l="l" t="t" r="r" b="b"/>
                    <a:pathLst>
                      <a:path w="79" h="65">
                        <a:moveTo>
                          <a:pt x="0" y="13"/>
                        </a:moveTo>
                        <a:lnTo>
                          <a:pt x="1" y="20"/>
                        </a:lnTo>
                        <a:lnTo>
                          <a:pt x="15" y="65"/>
                        </a:lnTo>
                        <a:lnTo>
                          <a:pt x="79" y="45"/>
                        </a:lnTo>
                        <a:lnTo>
                          <a:pt x="66" y="0"/>
                        </a:lnTo>
                        <a:lnTo>
                          <a:pt x="67" y="8"/>
                        </a:lnTo>
                        <a:lnTo>
                          <a:pt x="0" y="13"/>
                        </a:lnTo>
                        <a:lnTo>
                          <a:pt x="0" y="17"/>
                        </a:lnTo>
                        <a:lnTo>
                          <a:pt x="1" y="2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0" name=""/>
                  <p:cNvSpPr/>
                  <p:nvPr/>
                </p:nvSpPr>
                <p:spPr>
                  <a:xfrm>
                    <a:off x="5445000" y="1897200"/>
                    <a:ext cx="23760" cy="17280"/>
                  </a:xfrm>
                  <a:custGeom>
                    <a:avLst/>
                    <a:gdLst/>
                    <a:ahLst/>
                    <a:rect l="l" t="t" r="r" b="b"/>
                    <a:pathLst>
                      <a:path w="74" h="54">
                        <a:moveTo>
                          <a:pt x="2" y="0"/>
                        </a:moveTo>
                        <a:lnTo>
                          <a:pt x="2" y="5"/>
                        </a:lnTo>
                        <a:lnTo>
                          <a:pt x="7" y="54"/>
                        </a:lnTo>
                        <a:lnTo>
                          <a:pt x="74" y="49"/>
                        </a:lnTo>
                        <a:lnTo>
                          <a:pt x="69" y="0"/>
                        </a:lnTo>
                        <a:lnTo>
                          <a:pt x="69" y="5"/>
                        </a:lnTo>
                        <a:lnTo>
                          <a:pt x="2" y="0"/>
                        </a:lnTo>
                        <a:lnTo>
                          <a:pt x="0" y="3"/>
                        </a:lnTo>
                        <a:lnTo>
                          <a:pt x="2" y="5"/>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1" name=""/>
                  <p:cNvSpPr/>
                  <p:nvPr/>
                </p:nvSpPr>
                <p:spPr>
                  <a:xfrm>
                    <a:off x="5446440" y="1881360"/>
                    <a:ext cx="22320" cy="17280"/>
                  </a:xfrm>
                  <a:custGeom>
                    <a:avLst/>
                    <a:gdLst/>
                    <a:ahLst/>
                    <a:rect l="l" t="t" r="r" b="b"/>
                    <a:pathLst>
                      <a:path w="72" h="57">
                        <a:moveTo>
                          <a:pt x="6" y="0"/>
                        </a:moveTo>
                        <a:lnTo>
                          <a:pt x="5" y="6"/>
                        </a:lnTo>
                        <a:lnTo>
                          <a:pt x="0" y="52"/>
                        </a:lnTo>
                        <a:lnTo>
                          <a:pt x="67" y="57"/>
                        </a:lnTo>
                        <a:lnTo>
                          <a:pt x="72" y="11"/>
                        </a:lnTo>
                        <a:lnTo>
                          <a:pt x="71" y="17"/>
                        </a:lnTo>
                        <a:lnTo>
                          <a:pt x="6" y="0"/>
                        </a:lnTo>
                        <a:lnTo>
                          <a:pt x="5" y="2"/>
                        </a:lnTo>
                        <a:lnTo>
                          <a:pt x="5" y="6"/>
                        </a:lnTo>
                        <a:lnTo>
                          <a:pt x="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a:off x="5448240" y="1863720"/>
                    <a:ext cx="23760" cy="22320"/>
                  </a:xfrm>
                  <a:custGeom>
                    <a:avLst/>
                    <a:gdLst/>
                    <a:ahLst/>
                    <a:rect l="l" t="t" r="r" b="b"/>
                    <a:pathLst>
                      <a:path w="78" h="72">
                        <a:moveTo>
                          <a:pt x="16" y="0"/>
                        </a:moveTo>
                        <a:lnTo>
                          <a:pt x="14" y="7"/>
                        </a:lnTo>
                        <a:lnTo>
                          <a:pt x="0" y="55"/>
                        </a:lnTo>
                        <a:lnTo>
                          <a:pt x="65" y="72"/>
                        </a:lnTo>
                        <a:lnTo>
                          <a:pt x="78" y="25"/>
                        </a:lnTo>
                        <a:lnTo>
                          <a:pt x="76" y="32"/>
                        </a:lnTo>
                        <a:lnTo>
                          <a:pt x="16" y="0"/>
                        </a:lnTo>
                        <a:lnTo>
                          <a:pt x="14" y="4"/>
                        </a:lnTo>
                        <a:lnTo>
                          <a:pt x="14" y="7"/>
                        </a:lnTo>
                        <a:lnTo>
                          <a:pt x="1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3" name=""/>
                  <p:cNvSpPr/>
                  <p:nvPr/>
                </p:nvSpPr>
                <p:spPr>
                  <a:xfrm>
                    <a:off x="5452920" y="1847880"/>
                    <a:ext cx="27000" cy="25200"/>
                  </a:xfrm>
                  <a:custGeom>
                    <a:avLst/>
                    <a:gdLst/>
                    <a:ahLst/>
                    <a:rect l="l" t="t" r="r" b="b"/>
                    <a:pathLst>
                      <a:path w="84" h="81">
                        <a:moveTo>
                          <a:pt x="27" y="0"/>
                        </a:moveTo>
                        <a:lnTo>
                          <a:pt x="24" y="5"/>
                        </a:lnTo>
                        <a:lnTo>
                          <a:pt x="0" y="49"/>
                        </a:lnTo>
                        <a:lnTo>
                          <a:pt x="60" y="81"/>
                        </a:lnTo>
                        <a:lnTo>
                          <a:pt x="84" y="38"/>
                        </a:lnTo>
                        <a:lnTo>
                          <a:pt x="80" y="43"/>
                        </a:lnTo>
                        <a:lnTo>
                          <a:pt x="27" y="0"/>
                        </a:lnTo>
                        <a:lnTo>
                          <a:pt x="25" y="3"/>
                        </a:lnTo>
                        <a:lnTo>
                          <a:pt x="24" y="5"/>
                        </a:lnTo>
                        <a:lnTo>
                          <a:pt x="2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4" name=""/>
                  <p:cNvSpPr/>
                  <p:nvPr/>
                </p:nvSpPr>
                <p:spPr>
                  <a:xfrm>
                    <a:off x="5460840" y="1835280"/>
                    <a:ext cx="27000" cy="27000"/>
                  </a:xfrm>
                  <a:custGeom>
                    <a:avLst/>
                    <a:gdLst/>
                    <a:ahLst/>
                    <a:rect l="l" t="t" r="r" b="b"/>
                    <a:pathLst>
                      <a:path w="85" h="85">
                        <a:moveTo>
                          <a:pt x="35" y="0"/>
                        </a:moveTo>
                        <a:lnTo>
                          <a:pt x="33" y="2"/>
                        </a:lnTo>
                        <a:lnTo>
                          <a:pt x="0" y="42"/>
                        </a:lnTo>
                        <a:lnTo>
                          <a:pt x="53" y="85"/>
                        </a:lnTo>
                        <a:lnTo>
                          <a:pt x="85" y="45"/>
                        </a:lnTo>
                        <a:lnTo>
                          <a:pt x="83" y="47"/>
                        </a:lnTo>
                        <a:lnTo>
                          <a:pt x="3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 name=""/>
                  <p:cNvSpPr/>
                  <p:nvPr/>
                </p:nvSpPr>
                <p:spPr>
                  <a:xfrm>
                    <a:off x="5472000" y="1411200"/>
                    <a:ext cx="438120" cy="438120"/>
                  </a:xfrm>
                  <a:custGeom>
                    <a:avLst/>
                    <a:gdLst/>
                    <a:ahLst/>
                    <a:rect l="l" t="t" r="r" b="b"/>
                    <a:pathLst>
                      <a:path w="1380" h="1379">
                        <a:moveTo>
                          <a:pt x="1333" y="0"/>
                        </a:moveTo>
                        <a:lnTo>
                          <a:pt x="1332" y="2"/>
                        </a:lnTo>
                        <a:lnTo>
                          <a:pt x="0" y="1332"/>
                        </a:lnTo>
                        <a:lnTo>
                          <a:pt x="48" y="1379"/>
                        </a:lnTo>
                        <a:lnTo>
                          <a:pt x="1380" y="49"/>
                        </a:lnTo>
                        <a:lnTo>
                          <a:pt x="1378" y="52"/>
                        </a:lnTo>
                        <a:lnTo>
                          <a:pt x="13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895720" y="1400040"/>
                    <a:ext cx="27000" cy="28800"/>
                  </a:xfrm>
                  <a:custGeom>
                    <a:avLst/>
                    <a:gdLst/>
                    <a:ahLst/>
                    <a:rect l="l" t="t" r="r" b="b"/>
                    <a:pathLst>
                      <a:path w="85" h="90">
                        <a:moveTo>
                          <a:pt x="47" y="0"/>
                        </a:moveTo>
                        <a:lnTo>
                          <a:pt x="40" y="4"/>
                        </a:lnTo>
                        <a:lnTo>
                          <a:pt x="0" y="38"/>
                        </a:lnTo>
                        <a:lnTo>
                          <a:pt x="45" y="90"/>
                        </a:lnTo>
                        <a:lnTo>
                          <a:pt x="85" y="56"/>
                        </a:lnTo>
                        <a:lnTo>
                          <a:pt x="79" y="60"/>
                        </a:lnTo>
                        <a:lnTo>
                          <a:pt x="47" y="0"/>
                        </a:lnTo>
                        <a:lnTo>
                          <a:pt x="43" y="3"/>
                        </a:lnTo>
                        <a:lnTo>
                          <a:pt x="40" y="4"/>
                        </a:lnTo>
                        <a:lnTo>
                          <a:pt x="4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7" name=""/>
                  <p:cNvSpPr/>
                  <p:nvPr/>
                </p:nvSpPr>
                <p:spPr>
                  <a:xfrm>
                    <a:off x="5910120" y="1390680"/>
                    <a:ext cx="25560" cy="28440"/>
                  </a:xfrm>
                  <a:custGeom>
                    <a:avLst/>
                    <a:gdLst/>
                    <a:ahLst/>
                    <a:rect l="l" t="t" r="r" b="b"/>
                    <a:pathLst>
                      <a:path w="76" h="87">
                        <a:moveTo>
                          <a:pt x="49" y="0"/>
                        </a:moveTo>
                        <a:lnTo>
                          <a:pt x="43" y="2"/>
                        </a:lnTo>
                        <a:lnTo>
                          <a:pt x="0" y="27"/>
                        </a:lnTo>
                        <a:lnTo>
                          <a:pt x="32" y="87"/>
                        </a:lnTo>
                        <a:lnTo>
                          <a:pt x="76" y="62"/>
                        </a:lnTo>
                        <a:lnTo>
                          <a:pt x="69" y="65"/>
                        </a:lnTo>
                        <a:lnTo>
                          <a:pt x="49" y="0"/>
                        </a:lnTo>
                        <a:lnTo>
                          <a:pt x="46" y="1"/>
                        </a:lnTo>
                        <a:lnTo>
                          <a:pt x="43" y="2"/>
                        </a:lnTo>
                        <a:lnTo>
                          <a:pt x="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8" name=""/>
                  <p:cNvSpPr/>
                  <p:nvPr/>
                </p:nvSpPr>
                <p:spPr>
                  <a:xfrm>
                    <a:off x="5925960" y="1386000"/>
                    <a:ext cx="22320" cy="25200"/>
                  </a:xfrm>
                  <a:custGeom>
                    <a:avLst/>
                    <a:gdLst/>
                    <a:ahLst/>
                    <a:rect l="l" t="t" r="r" b="b"/>
                    <a:pathLst>
                      <a:path w="68" h="82">
                        <a:moveTo>
                          <a:pt x="54" y="0"/>
                        </a:moveTo>
                        <a:lnTo>
                          <a:pt x="48" y="2"/>
                        </a:lnTo>
                        <a:lnTo>
                          <a:pt x="0" y="17"/>
                        </a:lnTo>
                        <a:lnTo>
                          <a:pt x="20" y="82"/>
                        </a:lnTo>
                        <a:lnTo>
                          <a:pt x="68" y="67"/>
                        </a:lnTo>
                        <a:lnTo>
                          <a:pt x="62" y="68"/>
                        </a:lnTo>
                        <a:lnTo>
                          <a:pt x="5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5943600" y="1382760"/>
                    <a:ext cx="17280" cy="23760"/>
                  </a:xfrm>
                  <a:custGeom>
                    <a:avLst/>
                    <a:gdLst/>
                    <a:ahLst/>
                    <a:rect l="l" t="t" r="r" b="b"/>
                    <a:pathLst>
                      <a:path w="54" h="75">
                        <a:moveTo>
                          <a:pt x="51" y="1"/>
                        </a:moveTo>
                        <a:lnTo>
                          <a:pt x="46" y="1"/>
                        </a:lnTo>
                        <a:lnTo>
                          <a:pt x="0" y="7"/>
                        </a:lnTo>
                        <a:lnTo>
                          <a:pt x="8" y="75"/>
                        </a:lnTo>
                        <a:lnTo>
                          <a:pt x="54" y="69"/>
                        </a:lnTo>
                        <a:lnTo>
                          <a:pt x="49" y="69"/>
                        </a:lnTo>
                        <a:lnTo>
                          <a:pt x="51" y="1"/>
                        </a:lnTo>
                        <a:lnTo>
                          <a:pt x="49" y="0"/>
                        </a:lnTo>
                        <a:lnTo>
                          <a:pt x="46" y="1"/>
                        </a:lnTo>
                        <a:lnTo>
                          <a:pt x="51"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 name=""/>
                  <p:cNvSpPr/>
                  <p:nvPr/>
                </p:nvSpPr>
                <p:spPr>
                  <a:xfrm>
                    <a:off x="5959440" y="1384200"/>
                    <a:ext cx="17280" cy="22320"/>
                  </a:xfrm>
                  <a:custGeom>
                    <a:avLst/>
                    <a:gdLst/>
                    <a:ahLst/>
                    <a:rect l="l" t="t" r="r" b="b"/>
                    <a:pathLst>
                      <a:path w="57" h="70">
                        <a:moveTo>
                          <a:pt x="57" y="3"/>
                        </a:moveTo>
                        <a:lnTo>
                          <a:pt x="50" y="3"/>
                        </a:lnTo>
                        <a:lnTo>
                          <a:pt x="2" y="0"/>
                        </a:lnTo>
                        <a:lnTo>
                          <a:pt x="0" y="68"/>
                        </a:lnTo>
                        <a:lnTo>
                          <a:pt x="47" y="70"/>
                        </a:lnTo>
                        <a:lnTo>
                          <a:pt x="40" y="70"/>
                        </a:lnTo>
                        <a:lnTo>
                          <a:pt x="57" y="3"/>
                        </a:lnTo>
                        <a:lnTo>
                          <a:pt x="53" y="3"/>
                        </a:lnTo>
                        <a:lnTo>
                          <a:pt x="50" y="3"/>
                        </a:lnTo>
                        <a:lnTo>
                          <a:pt x="57"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1" name=""/>
                  <p:cNvSpPr/>
                  <p:nvPr/>
                </p:nvSpPr>
                <p:spPr>
                  <a:xfrm>
                    <a:off x="5972040" y="1384200"/>
                    <a:ext cx="22320" cy="25560"/>
                  </a:xfrm>
                  <a:custGeom>
                    <a:avLst/>
                    <a:gdLst/>
                    <a:ahLst/>
                    <a:rect l="l" t="t" r="r" b="b"/>
                    <a:pathLst>
                      <a:path w="69" h="80">
                        <a:moveTo>
                          <a:pt x="69" y="16"/>
                        </a:moveTo>
                        <a:lnTo>
                          <a:pt x="63" y="12"/>
                        </a:lnTo>
                        <a:lnTo>
                          <a:pt x="17" y="0"/>
                        </a:lnTo>
                        <a:lnTo>
                          <a:pt x="0" y="67"/>
                        </a:lnTo>
                        <a:lnTo>
                          <a:pt x="46" y="80"/>
                        </a:lnTo>
                        <a:lnTo>
                          <a:pt x="40" y="76"/>
                        </a:lnTo>
                        <a:lnTo>
                          <a:pt x="69" y="15"/>
                        </a:lnTo>
                        <a:lnTo>
                          <a:pt x="66" y="13"/>
                        </a:lnTo>
                        <a:lnTo>
                          <a:pt x="63" y="12"/>
                        </a:lnTo>
                        <a:lnTo>
                          <a:pt x="69"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2" name=""/>
                  <p:cNvSpPr/>
                  <p:nvPr/>
                </p:nvSpPr>
                <p:spPr>
                  <a:xfrm>
                    <a:off x="5984640" y="1389240"/>
                    <a:ext cx="23760" cy="26640"/>
                  </a:xfrm>
                  <a:custGeom>
                    <a:avLst/>
                    <a:gdLst/>
                    <a:ahLst/>
                    <a:rect l="l" t="t" r="r" b="b"/>
                    <a:pathLst>
                      <a:path w="78" h="81">
                        <a:moveTo>
                          <a:pt x="78" y="25"/>
                        </a:moveTo>
                        <a:lnTo>
                          <a:pt x="72" y="21"/>
                        </a:lnTo>
                        <a:lnTo>
                          <a:pt x="29" y="0"/>
                        </a:lnTo>
                        <a:lnTo>
                          <a:pt x="0" y="60"/>
                        </a:lnTo>
                        <a:lnTo>
                          <a:pt x="42" y="81"/>
                        </a:lnTo>
                        <a:lnTo>
                          <a:pt x="36" y="77"/>
                        </a:lnTo>
                        <a:lnTo>
                          <a:pt x="78" y="25"/>
                        </a:lnTo>
                        <a:lnTo>
                          <a:pt x="76" y="22"/>
                        </a:lnTo>
                        <a:lnTo>
                          <a:pt x="72" y="20"/>
                        </a:lnTo>
                        <a:lnTo>
                          <a:pt x="78"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3" name=""/>
                  <p:cNvSpPr/>
                  <p:nvPr/>
                </p:nvSpPr>
                <p:spPr>
                  <a:xfrm>
                    <a:off x="5995800" y="1397160"/>
                    <a:ext cx="25560" cy="27000"/>
                  </a:xfrm>
                  <a:custGeom>
                    <a:avLst/>
                    <a:gdLst/>
                    <a:ahLst/>
                    <a:rect l="l" t="t" r="r" b="b"/>
                    <a:pathLst>
                      <a:path w="82" h="83">
                        <a:moveTo>
                          <a:pt x="82" y="34"/>
                        </a:moveTo>
                        <a:lnTo>
                          <a:pt x="80" y="31"/>
                        </a:lnTo>
                        <a:lnTo>
                          <a:pt x="42" y="0"/>
                        </a:lnTo>
                        <a:lnTo>
                          <a:pt x="0" y="52"/>
                        </a:lnTo>
                        <a:lnTo>
                          <a:pt x="37" y="83"/>
                        </a:lnTo>
                        <a:lnTo>
                          <a:pt x="35" y="81"/>
                        </a:lnTo>
                        <a:lnTo>
                          <a:pt x="82"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4" name=""/>
                  <p:cNvSpPr/>
                  <p:nvPr/>
                </p:nvSpPr>
                <p:spPr>
                  <a:xfrm>
                    <a:off x="6006960" y="1407960"/>
                    <a:ext cx="444600" cy="444600"/>
                  </a:xfrm>
                  <a:custGeom>
                    <a:avLst/>
                    <a:gdLst/>
                    <a:ahLst/>
                    <a:rect l="l" t="t" r="r" b="b"/>
                    <a:pathLst>
                      <a:path w="1401" h="1399">
                        <a:moveTo>
                          <a:pt x="1401" y="1354"/>
                        </a:moveTo>
                        <a:lnTo>
                          <a:pt x="1399" y="1352"/>
                        </a:lnTo>
                        <a:lnTo>
                          <a:pt x="47" y="0"/>
                        </a:lnTo>
                        <a:lnTo>
                          <a:pt x="0" y="47"/>
                        </a:lnTo>
                        <a:lnTo>
                          <a:pt x="1351" y="1399"/>
                        </a:lnTo>
                        <a:lnTo>
                          <a:pt x="1349" y="1397"/>
                        </a:lnTo>
                        <a:lnTo>
                          <a:pt x="1401" y="1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35720" y="1838160"/>
                    <a:ext cx="27000" cy="25560"/>
                  </a:xfrm>
                  <a:custGeom>
                    <a:avLst/>
                    <a:gdLst/>
                    <a:ahLst/>
                    <a:rect l="l" t="t" r="r" b="b"/>
                    <a:pathLst>
                      <a:path w="88" h="80">
                        <a:moveTo>
                          <a:pt x="87" y="44"/>
                        </a:moveTo>
                        <a:lnTo>
                          <a:pt x="83" y="38"/>
                        </a:lnTo>
                        <a:lnTo>
                          <a:pt x="52" y="0"/>
                        </a:lnTo>
                        <a:lnTo>
                          <a:pt x="0" y="43"/>
                        </a:lnTo>
                        <a:lnTo>
                          <a:pt x="31" y="80"/>
                        </a:lnTo>
                        <a:lnTo>
                          <a:pt x="27" y="74"/>
                        </a:lnTo>
                        <a:lnTo>
                          <a:pt x="88" y="44"/>
                        </a:lnTo>
                        <a:lnTo>
                          <a:pt x="86" y="40"/>
                        </a:lnTo>
                        <a:lnTo>
                          <a:pt x="83" y="38"/>
                        </a:lnTo>
                        <a:lnTo>
                          <a:pt x="87" y="4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
                  <p:cNvSpPr/>
                  <p:nvPr/>
                </p:nvSpPr>
                <p:spPr>
                  <a:xfrm>
                    <a:off x="6443640" y="1852560"/>
                    <a:ext cx="27000" cy="22320"/>
                  </a:xfrm>
                  <a:custGeom>
                    <a:avLst/>
                    <a:gdLst/>
                    <a:ahLst/>
                    <a:rect l="l" t="t" r="r" b="b"/>
                    <a:pathLst>
                      <a:path w="85" h="72">
                        <a:moveTo>
                          <a:pt x="85" y="50"/>
                        </a:moveTo>
                        <a:lnTo>
                          <a:pt x="81" y="42"/>
                        </a:lnTo>
                        <a:lnTo>
                          <a:pt x="60" y="0"/>
                        </a:lnTo>
                        <a:lnTo>
                          <a:pt x="0" y="30"/>
                        </a:lnTo>
                        <a:lnTo>
                          <a:pt x="22" y="72"/>
                        </a:lnTo>
                        <a:lnTo>
                          <a:pt x="18" y="65"/>
                        </a:lnTo>
                        <a:lnTo>
                          <a:pt x="85" y="50"/>
                        </a:lnTo>
                        <a:lnTo>
                          <a:pt x="84" y="46"/>
                        </a:lnTo>
                        <a:lnTo>
                          <a:pt x="83" y="42"/>
                        </a:lnTo>
                        <a:lnTo>
                          <a:pt x="85" y="5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7" name=""/>
                  <p:cNvSpPr/>
                  <p:nvPr/>
                </p:nvSpPr>
                <p:spPr>
                  <a:xfrm>
                    <a:off x="6449760" y="1868400"/>
                    <a:ext cx="23760" cy="19080"/>
                  </a:xfrm>
                  <a:custGeom>
                    <a:avLst/>
                    <a:gdLst/>
                    <a:ahLst/>
                    <a:rect l="l" t="t" r="r" b="b"/>
                    <a:pathLst>
                      <a:path w="78" h="60">
                        <a:moveTo>
                          <a:pt x="78" y="51"/>
                        </a:moveTo>
                        <a:lnTo>
                          <a:pt x="78" y="45"/>
                        </a:lnTo>
                        <a:lnTo>
                          <a:pt x="67" y="0"/>
                        </a:lnTo>
                        <a:lnTo>
                          <a:pt x="0" y="15"/>
                        </a:lnTo>
                        <a:lnTo>
                          <a:pt x="11" y="60"/>
                        </a:lnTo>
                        <a:lnTo>
                          <a:pt x="11" y="54"/>
                        </a:lnTo>
                        <a:lnTo>
                          <a:pt x="78" y="51"/>
                        </a:lnTo>
                        <a:lnTo>
                          <a:pt x="78" y="47"/>
                        </a:lnTo>
                        <a:lnTo>
                          <a:pt x="78" y="45"/>
                        </a:lnTo>
                        <a:lnTo>
                          <a:pt x="78" y="5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8" name=""/>
                  <p:cNvSpPr/>
                  <p:nvPr/>
                </p:nvSpPr>
                <p:spPr>
                  <a:xfrm>
                    <a:off x="6453000" y="1884240"/>
                    <a:ext cx="22320" cy="15840"/>
                  </a:xfrm>
                  <a:custGeom>
                    <a:avLst/>
                    <a:gdLst/>
                    <a:ahLst/>
                    <a:rect l="l" t="t" r="r" b="b"/>
                    <a:pathLst>
                      <a:path w="70" h="51">
                        <a:moveTo>
                          <a:pt x="70" y="51"/>
                        </a:moveTo>
                        <a:lnTo>
                          <a:pt x="70" y="47"/>
                        </a:lnTo>
                        <a:lnTo>
                          <a:pt x="67" y="0"/>
                        </a:lnTo>
                        <a:lnTo>
                          <a:pt x="0" y="3"/>
                        </a:lnTo>
                        <a:lnTo>
                          <a:pt x="3" y="50"/>
                        </a:lnTo>
                        <a:lnTo>
                          <a:pt x="3" y="46"/>
                        </a:lnTo>
                        <a:lnTo>
                          <a:pt x="70"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9" name=""/>
                  <p:cNvSpPr/>
                  <p:nvPr/>
                </p:nvSpPr>
                <p:spPr>
                  <a:xfrm>
                    <a:off x="6453000" y="1898640"/>
                    <a:ext cx="22320" cy="19080"/>
                  </a:xfrm>
                  <a:custGeom>
                    <a:avLst/>
                    <a:gdLst/>
                    <a:ahLst/>
                    <a:rect l="l" t="t" r="r" b="b"/>
                    <a:pathLst>
                      <a:path w="72" h="60">
                        <a:moveTo>
                          <a:pt x="66" y="60"/>
                        </a:moveTo>
                        <a:lnTo>
                          <a:pt x="67" y="51"/>
                        </a:lnTo>
                        <a:lnTo>
                          <a:pt x="72" y="5"/>
                        </a:lnTo>
                        <a:lnTo>
                          <a:pt x="5" y="0"/>
                        </a:lnTo>
                        <a:lnTo>
                          <a:pt x="0" y="46"/>
                        </a:lnTo>
                        <a:lnTo>
                          <a:pt x="1" y="38"/>
                        </a:lnTo>
                        <a:lnTo>
                          <a:pt x="66" y="60"/>
                        </a:lnTo>
                        <a:lnTo>
                          <a:pt x="67" y="56"/>
                        </a:lnTo>
                        <a:lnTo>
                          <a:pt x="67" y="51"/>
                        </a:lnTo>
                        <a:lnTo>
                          <a:pt x="66"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0" name=""/>
                  <p:cNvSpPr/>
                  <p:nvPr/>
                </p:nvSpPr>
                <p:spPr>
                  <a:xfrm>
                    <a:off x="6446520" y="1911240"/>
                    <a:ext cx="27000" cy="22320"/>
                  </a:xfrm>
                  <a:custGeom>
                    <a:avLst/>
                    <a:gdLst/>
                    <a:ahLst/>
                    <a:rect l="l" t="t" r="r" b="b"/>
                    <a:pathLst>
                      <a:path w="83" h="73">
                        <a:moveTo>
                          <a:pt x="63" y="73"/>
                        </a:moveTo>
                        <a:lnTo>
                          <a:pt x="65" y="68"/>
                        </a:lnTo>
                        <a:lnTo>
                          <a:pt x="83" y="22"/>
                        </a:lnTo>
                        <a:lnTo>
                          <a:pt x="18" y="0"/>
                        </a:lnTo>
                        <a:lnTo>
                          <a:pt x="0" y="46"/>
                        </a:lnTo>
                        <a:lnTo>
                          <a:pt x="3" y="41"/>
                        </a:lnTo>
                        <a:lnTo>
                          <a:pt x="63" y="7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1" name=""/>
                  <p:cNvSpPr/>
                  <p:nvPr/>
                </p:nvSpPr>
                <p:spPr>
                  <a:xfrm>
                    <a:off x="6440400" y="1924200"/>
                    <a:ext cx="27000" cy="25200"/>
                  </a:xfrm>
                  <a:custGeom>
                    <a:avLst/>
                    <a:gdLst/>
                    <a:ahLst/>
                    <a:rect l="l" t="t" r="r" b="b"/>
                    <a:pathLst>
                      <a:path w="85" h="81">
                        <a:moveTo>
                          <a:pt x="56" y="81"/>
                        </a:moveTo>
                        <a:lnTo>
                          <a:pt x="60" y="76"/>
                        </a:lnTo>
                        <a:lnTo>
                          <a:pt x="85" y="32"/>
                        </a:lnTo>
                        <a:lnTo>
                          <a:pt x="25" y="0"/>
                        </a:lnTo>
                        <a:lnTo>
                          <a:pt x="0" y="43"/>
                        </a:lnTo>
                        <a:lnTo>
                          <a:pt x="4" y="38"/>
                        </a:lnTo>
                        <a:lnTo>
                          <a:pt x="56" y="8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2" name=""/>
                  <p:cNvSpPr/>
                  <p:nvPr/>
                </p:nvSpPr>
                <p:spPr>
                  <a:xfrm>
                    <a:off x="6430680" y="1936800"/>
                    <a:ext cx="27000" cy="27000"/>
                  </a:xfrm>
                  <a:custGeom>
                    <a:avLst/>
                    <a:gdLst/>
                    <a:ahLst/>
                    <a:rect l="l" t="t" r="r" b="b"/>
                    <a:pathLst>
                      <a:path w="86" h="87">
                        <a:moveTo>
                          <a:pt x="50" y="87"/>
                        </a:moveTo>
                        <a:lnTo>
                          <a:pt x="52" y="84"/>
                        </a:lnTo>
                        <a:lnTo>
                          <a:pt x="86" y="43"/>
                        </a:lnTo>
                        <a:lnTo>
                          <a:pt x="34" y="0"/>
                        </a:lnTo>
                        <a:lnTo>
                          <a:pt x="0" y="42"/>
                        </a:lnTo>
                        <a:lnTo>
                          <a:pt x="2" y="39"/>
                        </a:lnTo>
                        <a:lnTo>
                          <a:pt x="50" y="8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3" name=""/>
                  <p:cNvSpPr/>
                  <p:nvPr/>
                </p:nvSpPr>
                <p:spPr>
                  <a:xfrm>
                    <a:off x="5618160" y="1670040"/>
                    <a:ext cx="704880" cy="503280"/>
                  </a:xfrm>
                  <a:custGeom>
                    <a:avLst/>
                    <a:gdLst/>
                    <a:ahLst/>
                    <a:rect l="l" t="t" r="r" b="b"/>
                    <a:pathLst>
                      <a:path w="2224" h="1584">
                        <a:moveTo>
                          <a:pt x="0" y="1307"/>
                        </a:moveTo>
                        <a:lnTo>
                          <a:pt x="1995" y="1307"/>
                        </a:lnTo>
                        <a:lnTo>
                          <a:pt x="1995" y="0"/>
                        </a:lnTo>
                        <a:lnTo>
                          <a:pt x="2224" y="229"/>
                        </a:lnTo>
                        <a:lnTo>
                          <a:pt x="2224" y="1418"/>
                        </a:lnTo>
                        <a:lnTo>
                          <a:pt x="2212" y="1481"/>
                        </a:lnTo>
                        <a:lnTo>
                          <a:pt x="2197" y="1508"/>
                        </a:lnTo>
                        <a:lnTo>
                          <a:pt x="2177" y="1533"/>
                        </a:lnTo>
                        <a:lnTo>
                          <a:pt x="2126" y="1568"/>
                        </a:lnTo>
                        <a:lnTo>
                          <a:pt x="2062" y="1581"/>
                        </a:lnTo>
                        <a:lnTo>
                          <a:pt x="294" y="1584"/>
                        </a:lnTo>
                        <a:lnTo>
                          <a:pt x="0" y="130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18160" y="2079720"/>
                    <a:ext cx="637920" cy="11160"/>
                  </a:xfrm>
                  <a:custGeom>
                    <a:avLst/>
                    <a:gdLst/>
                    <a:ahLst/>
                    <a:rect l="l" t="t" r="r" b="b"/>
                    <a:pathLst>
                      <a:path w="2012" h="35">
                        <a:moveTo>
                          <a:pt x="1977" y="17"/>
                        </a:moveTo>
                        <a:lnTo>
                          <a:pt x="1995" y="0"/>
                        </a:lnTo>
                        <a:lnTo>
                          <a:pt x="0" y="0"/>
                        </a:lnTo>
                        <a:lnTo>
                          <a:pt x="0" y="35"/>
                        </a:lnTo>
                        <a:lnTo>
                          <a:pt x="1995" y="35"/>
                        </a:lnTo>
                        <a:lnTo>
                          <a:pt x="2012" y="17"/>
                        </a:lnTo>
                        <a:lnTo>
                          <a:pt x="1995" y="35"/>
                        </a:lnTo>
                        <a:lnTo>
                          <a:pt x="2012" y="35"/>
                        </a:lnTo>
                        <a:lnTo>
                          <a:pt x="2012" y="17"/>
                        </a:lnTo>
                        <a:lnTo>
                          <a:pt x="1977"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5" name=""/>
                  <p:cNvSpPr/>
                  <p:nvPr/>
                </p:nvSpPr>
                <p:spPr>
                  <a:xfrm>
                    <a:off x="6244920" y="1657440"/>
                    <a:ext cx="11160" cy="426960"/>
                  </a:xfrm>
                  <a:custGeom>
                    <a:avLst/>
                    <a:gdLst/>
                    <a:ahLst/>
                    <a:rect l="l" t="t" r="r" b="b"/>
                    <a:pathLst>
                      <a:path w="35" h="1348">
                        <a:moveTo>
                          <a:pt x="29" y="30"/>
                        </a:moveTo>
                        <a:lnTo>
                          <a:pt x="0" y="41"/>
                        </a:lnTo>
                        <a:lnTo>
                          <a:pt x="0" y="1348"/>
                        </a:lnTo>
                        <a:lnTo>
                          <a:pt x="35" y="1348"/>
                        </a:lnTo>
                        <a:lnTo>
                          <a:pt x="35" y="41"/>
                        </a:lnTo>
                        <a:lnTo>
                          <a:pt x="7" y="52"/>
                        </a:lnTo>
                        <a:lnTo>
                          <a:pt x="29" y="30"/>
                        </a:lnTo>
                        <a:lnTo>
                          <a:pt x="0" y="0"/>
                        </a:lnTo>
                        <a:lnTo>
                          <a:pt x="0" y="41"/>
                        </a:lnTo>
                        <a:lnTo>
                          <a:pt x="2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6720" y="1666800"/>
                    <a:ext cx="82440" cy="79560"/>
                  </a:xfrm>
                  <a:custGeom>
                    <a:avLst/>
                    <a:gdLst/>
                    <a:ahLst/>
                    <a:rect l="l" t="t" r="r" b="b"/>
                    <a:pathLst>
                      <a:path w="258" h="252">
                        <a:moveTo>
                          <a:pt x="258" y="240"/>
                        </a:moveTo>
                        <a:lnTo>
                          <a:pt x="251" y="229"/>
                        </a:lnTo>
                        <a:lnTo>
                          <a:pt x="22" y="0"/>
                        </a:lnTo>
                        <a:lnTo>
                          <a:pt x="0" y="22"/>
                        </a:lnTo>
                        <a:lnTo>
                          <a:pt x="229" y="252"/>
                        </a:lnTo>
                        <a:lnTo>
                          <a:pt x="223" y="240"/>
                        </a:lnTo>
                        <a:lnTo>
                          <a:pt x="258" y="240"/>
                        </a:lnTo>
                        <a:lnTo>
                          <a:pt x="258" y="234"/>
                        </a:lnTo>
                        <a:lnTo>
                          <a:pt x="251" y="229"/>
                        </a:lnTo>
                        <a:lnTo>
                          <a:pt x="258" y="24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 name=""/>
                  <p:cNvSpPr/>
                  <p:nvPr/>
                </p:nvSpPr>
                <p:spPr>
                  <a:xfrm>
                    <a:off x="6318000" y="1743120"/>
                    <a:ext cx="11160" cy="377640"/>
                  </a:xfrm>
                  <a:custGeom>
                    <a:avLst/>
                    <a:gdLst/>
                    <a:ahLst/>
                    <a:rect l="l" t="t" r="r" b="b"/>
                    <a:pathLst>
                      <a:path w="35" h="1192">
                        <a:moveTo>
                          <a:pt x="33" y="1192"/>
                        </a:moveTo>
                        <a:lnTo>
                          <a:pt x="35" y="1189"/>
                        </a:lnTo>
                        <a:lnTo>
                          <a:pt x="35" y="0"/>
                        </a:lnTo>
                        <a:lnTo>
                          <a:pt x="0" y="0"/>
                        </a:lnTo>
                        <a:lnTo>
                          <a:pt x="0" y="1189"/>
                        </a:lnTo>
                        <a:lnTo>
                          <a:pt x="1" y="1187"/>
                        </a:lnTo>
                        <a:lnTo>
                          <a:pt x="33" y="1192"/>
                        </a:lnTo>
                        <a:lnTo>
                          <a:pt x="33" y="1191"/>
                        </a:lnTo>
                        <a:lnTo>
                          <a:pt x="35" y="1189"/>
                        </a:lnTo>
                        <a:lnTo>
                          <a:pt x="33" y="1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314760" y="2119320"/>
                    <a:ext cx="14400" cy="22320"/>
                  </a:xfrm>
                  <a:custGeom>
                    <a:avLst/>
                    <a:gdLst/>
                    <a:ahLst/>
                    <a:rect l="l" t="t" r="r" b="b"/>
                    <a:pathLst>
                      <a:path w="44" h="72">
                        <a:moveTo>
                          <a:pt x="31" y="72"/>
                        </a:moveTo>
                        <a:lnTo>
                          <a:pt x="32" y="67"/>
                        </a:lnTo>
                        <a:lnTo>
                          <a:pt x="44" y="5"/>
                        </a:lnTo>
                        <a:lnTo>
                          <a:pt x="12" y="0"/>
                        </a:lnTo>
                        <a:lnTo>
                          <a:pt x="0" y="62"/>
                        </a:lnTo>
                        <a:lnTo>
                          <a:pt x="1" y="57"/>
                        </a:lnTo>
                        <a:lnTo>
                          <a:pt x="31" y="72"/>
                        </a:lnTo>
                        <a:lnTo>
                          <a:pt x="32" y="70"/>
                        </a:lnTo>
                        <a:lnTo>
                          <a:pt x="32" y="67"/>
                        </a:lnTo>
                        <a:lnTo>
                          <a:pt x="31" y="7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9" name=""/>
                  <p:cNvSpPr/>
                  <p:nvPr/>
                </p:nvSpPr>
                <p:spPr>
                  <a:xfrm>
                    <a:off x="6310080" y="2136600"/>
                    <a:ext cx="14400" cy="14400"/>
                  </a:xfrm>
                  <a:custGeom>
                    <a:avLst/>
                    <a:gdLst/>
                    <a:ahLst/>
                    <a:rect l="l" t="t" r="r" b="b"/>
                    <a:pathLst>
                      <a:path w="45" h="45">
                        <a:moveTo>
                          <a:pt x="27" y="45"/>
                        </a:moveTo>
                        <a:lnTo>
                          <a:pt x="30" y="43"/>
                        </a:lnTo>
                        <a:lnTo>
                          <a:pt x="45" y="15"/>
                        </a:lnTo>
                        <a:lnTo>
                          <a:pt x="15" y="0"/>
                        </a:lnTo>
                        <a:lnTo>
                          <a:pt x="0" y="28"/>
                        </a:lnTo>
                        <a:lnTo>
                          <a:pt x="2" y="25"/>
                        </a:lnTo>
                        <a:lnTo>
                          <a:pt x="27" y="4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0" name=""/>
                  <p:cNvSpPr/>
                  <p:nvPr/>
                </p:nvSpPr>
                <p:spPr>
                  <a:xfrm>
                    <a:off x="6303960" y="2144880"/>
                    <a:ext cx="14040" cy="15840"/>
                  </a:xfrm>
                  <a:custGeom>
                    <a:avLst/>
                    <a:gdLst/>
                    <a:ahLst/>
                    <a:rect l="l" t="t" r="r" b="b"/>
                    <a:pathLst>
                      <a:path w="45" h="49">
                        <a:moveTo>
                          <a:pt x="22" y="49"/>
                        </a:moveTo>
                        <a:lnTo>
                          <a:pt x="25" y="45"/>
                        </a:lnTo>
                        <a:lnTo>
                          <a:pt x="45" y="20"/>
                        </a:lnTo>
                        <a:lnTo>
                          <a:pt x="20" y="0"/>
                        </a:lnTo>
                        <a:lnTo>
                          <a:pt x="0" y="25"/>
                        </a:lnTo>
                        <a:lnTo>
                          <a:pt x="4" y="21"/>
                        </a:lnTo>
                        <a:lnTo>
                          <a:pt x="22" y="49"/>
                        </a:lnTo>
                        <a:lnTo>
                          <a:pt x="24" y="48"/>
                        </a:lnTo>
                        <a:lnTo>
                          <a:pt x="25" y="45"/>
                        </a:lnTo>
                        <a:lnTo>
                          <a:pt x="22"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1" name=""/>
                  <p:cNvSpPr/>
                  <p:nvPr/>
                </p:nvSpPr>
                <p:spPr>
                  <a:xfrm>
                    <a:off x="6289560" y="2152800"/>
                    <a:ext cx="22320" cy="20520"/>
                  </a:xfrm>
                  <a:custGeom>
                    <a:avLst/>
                    <a:gdLst/>
                    <a:ahLst/>
                    <a:rect l="l" t="t" r="r" b="b"/>
                    <a:pathLst>
                      <a:path w="69" h="65">
                        <a:moveTo>
                          <a:pt x="11" y="65"/>
                        </a:moveTo>
                        <a:lnTo>
                          <a:pt x="17" y="63"/>
                        </a:lnTo>
                        <a:lnTo>
                          <a:pt x="69" y="28"/>
                        </a:lnTo>
                        <a:lnTo>
                          <a:pt x="51" y="0"/>
                        </a:lnTo>
                        <a:lnTo>
                          <a:pt x="0" y="35"/>
                        </a:lnTo>
                        <a:lnTo>
                          <a:pt x="6" y="33"/>
                        </a:lnTo>
                        <a:lnTo>
                          <a:pt x="11" y="65"/>
                        </a:lnTo>
                        <a:lnTo>
                          <a:pt x="15" y="65"/>
                        </a:lnTo>
                        <a:lnTo>
                          <a:pt x="17" y="63"/>
                        </a:lnTo>
                        <a:lnTo>
                          <a:pt x="11" y="6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2" name=""/>
                  <p:cNvSpPr/>
                  <p:nvPr/>
                </p:nvSpPr>
                <p:spPr>
                  <a:xfrm>
                    <a:off x="6271920" y="2162160"/>
                    <a:ext cx="20880" cy="14400"/>
                  </a:xfrm>
                  <a:custGeom>
                    <a:avLst/>
                    <a:gdLst/>
                    <a:ahLst/>
                    <a:rect l="l" t="t" r="r" b="b"/>
                    <a:pathLst>
                      <a:path w="68" h="46">
                        <a:moveTo>
                          <a:pt x="2" y="46"/>
                        </a:moveTo>
                        <a:lnTo>
                          <a:pt x="5" y="45"/>
                        </a:lnTo>
                        <a:lnTo>
                          <a:pt x="68" y="32"/>
                        </a:lnTo>
                        <a:lnTo>
                          <a:pt x="63" y="0"/>
                        </a:lnTo>
                        <a:lnTo>
                          <a:pt x="0" y="12"/>
                        </a:lnTo>
                        <a:lnTo>
                          <a:pt x="2" y="11"/>
                        </a:lnTo>
                        <a:lnTo>
                          <a:pt x="2" y="46"/>
                        </a:lnTo>
                        <a:lnTo>
                          <a:pt x="3" y="46"/>
                        </a:lnTo>
                        <a:lnTo>
                          <a:pt x="5" y="45"/>
                        </a:lnTo>
                        <a:lnTo>
                          <a:pt x="2" y="4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3" name=""/>
                  <p:cNvSpPr/>
                  <p:nvPr/>
                </p:nvSpPr>
                <p:spPr>
                  <a:xfrm>
                    <a:off x="5707080" y="2165400"/>
                    <a:ext cx="564840" cy="12600"/>
                  </a:xfrm>
                  <a:custGeom>
                    <a:avLst/>
                    <a:gdLst/>
                    <a:ahLst/>
                    <a:rect l="l" t="t" r="r" b="b"/>
                    <a:pathLst>
                      <a:path w="1779" h="39">
                        <a:moveTo>
                          <a:pt x="0" y="34"/>
                        </a:moveTo>
                        <a:lnTo>
                          <a:pt x="11" y="39"/>
                        </a:lnTo>
                        <a:lnTo>
                          <a:pt x="1779" y="35"/>
                        </a:lnTo>
                        <a:lnTo>
                          <a:pt x="1779" y="0"/>
                        </a:lnTo>
                        <a:lnTo>
                          <a:pt x="11" y="4"/>
                        </a:lnTo>
                        <a:lnTo>
                          <a:pt x="22" y="9"/>
                        </a:lnTo>
                        <a:lnTo>
                          <a:pt x="0" y="34"/>
                        </a:lnTo>
                        <a:lnTo>
                          <a:pt x="5" y="39"/>
                        </a:lnTo>
                        <a:lnTo>
                          <a:pt x="11" y="39"/>
                        </a:lnTo>
                        <a:lnTo>
                          <a:pt x="0"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4" name=""/>
                  <p:cNvSpPr/>
                  <p:nvPr/>
                </p:nvSpPr>
                <p:spPr>
                  <a:xfrm>
                    <a:off x="5603760" y="2079720"/>
                    <a:ext cx="111240" cy="96840"/>
                  </a:xfrm>
                  <a:custGeom>
                    <a:avLst/>
                    <a:gdLst/>
                    <a:ahLst/>
                    <a:rect l="l" t="t" r="r" b="b"/>
                    <a:pathLst>
                      <a:path w="349" h="307">
                        <a:moveTo>
                          <a:pt x="44" y="0"/>
                        </a:moveTo>
                        <a:lnTo>
                          <a:pt x="32" y="30"/>
                        </a:lnTo>
                        <a:lnTo>
                          <a:pt x="327" y="307"/>
                        </a:lnTo>
                        <a:lnTo>
                          <a:pt x="349" y="282"/>
                        </a:lnTo>
                        <a:lnTo>
                          <a:pt x="55" y="5"/>
                        </a:lnTo>
                        <a:lnTo>
                          <a:pt x="44" y="35"/>
                        </a:lnTo>
                        <a:lnTo>
                          <a:pt x="44" y="0"/>
                        </a:lnTo>
                        <a:lnTo>
                          <a:pt x="0" y="0"/>
                        </a:lnTo>
                        <a:lnTo>
                          <a:pt x="32" y="3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783040" y="1463760"/>
                    <a:ext cx="636840" cy="376200"/>
                  </a:xfrm>
                  <a:custGeom>
                    <a:avLst/>
                    <a:gdLst/>
                    <a:ahLst/>
                    <a:rect l="l" t="t" r="r" b="b"/>
                    <a:pathLst>
                      <a:path w="2005" h="1186">
                        <a:moveTo>
                          <a:pt x="274" y="0"/>
                        </a:moveTo>
                        <a:lnTo>
                          <a:pt x="274" y="957"/>
                        </a:lnTo>
                        <a:lnTo>
                          <a:pt x="1781" y="957"/>
                        </a:lnTo>
                        <a:lnTo>
                          <a:pt x="2005" y="1186"/>
                        </a:lnTo>
                        <a:lnTo>
                          <a:pt x="165" y="1186"/>
                        </a:lnTo>
                        <a:lnTo>
                          <a:pt x="132" y="1183"/>
                        </a:lnTo>
                        <a:lnTo>
                          <a:pt x="102" y="1174"/>
                        </a:lnTo>
                        <a:lnTo>
                          <a:pt x="50" y="1139"/>
                        </a:lnTo>
                        <a:lnTo>
                          <a:pt x="31" y="1114"/>
                        </a:lnTo>
                        <a:lnTo>
                          <a:pt x="15" y="1087"/>
                        </a:lnTo>
                        <a:lnTo>
                          <a:pt x="6" y="1057"/>
                        </a:lnTo>
                        <a:lnTo>
                          <a:pt x="3" y="1024"/>
                        </a:lnTo>
                        <a:lnTo>
                          <a:pt x="0" y="259"/>
                        </a:lnTo>
                        <a:lnTo>
                          <a:pt x="27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64040" y="1463760"/>
                    <a:ext cx="11160" cy="309600"/>
                  </a:xfrm>
                  <a:custGeom>
                    <a:avLst/>
                    <a:gdLst/>
                    <a:ahLst/>
                    <a:rect l="l" t="t" r="r" b="b"/>
                    <a:pathLst>
                      <a:path w="35" h="974">
                        <a:moveTo>
                          <a:pt x="17" y="939"/>
                        </a:moveTo>
                        <a:lnTo>
                          <a:pt x="35" y="957"/>
                        </a:lnTo>
                        <a:lnTo>
                          <a:pt x="35" y="0"/>
                        </a:lnTo>
                        <a:lnTo>
                          <a:pt x="0" y="0"/>
                        </a:lnTo>
                        <a:lnTo>
                          <a:pt x="0" y="957"/>
                        </a:lnTo>
                        <a:lnTo>
                          <a:pt x="17" y="974"/>
                        </a:lnTo>
                        <a:lnTo>
                          <a:pt x="0" y="957"/>
                        </a:lnTo>
                        <a:lnTo>
                          <a:pt x="0" y="974"/>
                        </a:lnTo>
                        <a:lnTo>
                          <a:pt x="17" y="974"/>
                        </a:lnTo>
                        <a:lnTo>
                          <a:pt x="17"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870520" y="1762200"/>
                    <a:ext cx="482400" cy="11160"/>
                  </a:xfrm>
                  <a:custGeom>
                    <a:avLst/>
                    <a:gdLst/>
                    <a:ahLst/>
                    <a:rect l="l" t="t" r="r" b="b"/>
                    <a:pathLst>
                      <a:path w="1519" h="35">
                        <a:moveTo>
                          <a:pt x="1519" y="7"/>
                        </a:moveTo>
                        <a:lnTo>
                          <a:pt x="1507" y="0"/>
                        </a:lnTo>
                        <a:lnTo>
                          <a:pt x="0" y="0"/>
                        </a:lnTo>
                        <a:lnTo>
                          <a:pt x="0" y="35"/>
                        </a:lnTo>
                        <a:lnTo>
                          <a:pt x="1507" y="35"/>
                        </a:lnTo>
                        <a:lnTo>
                          <a:pt x="1494" y="29"/>
                        </a:lnTo>
                        <a:lnTo>
                          <a:pt x="1519" y="7"/>
                        </a:lnTo>
                        <a:lnTo>
                          <a:pt x="1513" y="2"/>
                        </a:lnTo>
                        <a:lnTo>
                          <a:pt x="1507" y="0"/>
                        </a:lnTo>
                        <a:lnTo>
                          <a:pt x="151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6345000" y="1763640"/>
                    <a:ext cx="87480" cy="82800"/>
                  </a:xfrm>
                  <a:custGeom>
                    <a:avLst/>
                    <a:gdLst/>
                    <a:ahLst/>
                    <a:rect l="l" t="t" r="r" b="b"/>
                    <a:pathLst>
                      <a:path w="278" h="258">
                        <a:moveTo>
                          <a:pt x="237" y="258"/>
                        </a:moveTo>
                        <a:lnTo>
                          <a:pt x="250" y="229"/>
                        </a:lnTo>
                        <a:lnTo>
                          <a:pt x="25" y="0"/>
                        </a:lnTo>
                        <a:lnTo>
                          <a:pt x="0" y="22"/>
                        </a:lnTo>
                        <a:lnTo>
                          <a:pt x="225" y="252"/>
                        </a:lnTo>
                        <a:lnTo>
                          <a:pt x="237" y="223"/>
                        </a:lnTo>
                        <a:lnTo>
                          <a:pt x="237" y="258"/>
                        </a:lnTo>
                        <a:lnTo>
                          <a:pt x="278" y="257"/>
                        </a:lnTo>
                        <a:lnTo>
                          <a:pt x="250" y="229"/>
                        </a:lnTo>
                        <a:lnTo>
                          <a:pt x="237" y="2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9" name=""/>
                  <p:cNvSpPr/>
                  <p:nvPr/>
                </p:nvSpPr>
                <p:spPr>
                  <a:xfrm>
                    <a:off x="5835600" y="1835280"/>
                    <a:ext cx="584280" cy="11160"/>
                  </a:xfrm>
                  <a:custGeom>
                    <a:avLst/>
                    <a:gdLst/>
                    <a:ahLst/>
                    <a:rect l="l" t="t" r="r" b="b"/>
                    <a:pathLst>
                      <a:path w="1842" h="35">
                        <a:moveTo>
                          <a:pt x="0" y="34"/>
                        </a:moveTo>
                        <a:lnTo>
                          <a:pt x="2" y="35"/>
                        </a:lnTo>
                        <a:lnTo>
                          <a:pt x="1842" y="35"/>
                        </a:lnTo>
                        <a:lnTo>
                          <a:pt x="1842" y="0"/>
                        </a:lnTo>
                        <a:lnTo>
                          <a:pt x="2" y="0"/>
                        </a:lnTo>
                        <a:lnTo>
                          <a:pt x="3" y="1"/>
                        </a:lnTo>
                        <a:lnTo>
                          <a:pt x="0" y="3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a:off x="5824440" y="1833480"/>
                    <a:ext cx="11160" cy="11160"/>
                  </a:xfrm>
                  <a:custGeom>
                    <a:avLst/>
                    <a:gdLst/>
                    <a:ahLst/>
                    <a:rect l="l" t="t" r="r" b="b"/>
                    <a:pathLst>
                      <a:path w="38" h="37">
                        <a:moveTo>
                          <a:pt x="0" y="33"/>
                        </a:moveTo>
                        <a:lnTo>
                          <a:pt x="3" y="33"/>
                        </a:lnTo>
                        <a:lnTo>
                          <a:pt x="35" y="37"/>
                        </a:lnTo>
                        <a:lnTo>
                          <a:pt x="38" y="4"/>
                        </a:lnTo>
                        <a:lnTo>
                          <a:pt x="5" y="0"/>
                        </a:lnTo>
                        <a:lnTo>
                          <a:pt x="8" y="0"/>
                        </a:lnTo>
                        <a:lnTo>
                          <a:pt x="0"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5813280" y="1830240"/>
                    <a:ext cx="12600" cy="14400"/>
                  </a:xfrm>
                  <a:custGeom>
                    <a:avLst/>
                    <a:gdLst/>
                    <a:ahLst/>
                    <a:rect l="l" t="t" r="r" b="b"/>
                    <a:pathLst>
                      <a:path w="42" h="41">
                        <a:moveTo>
                          <a:pt x="0" y="30"/>
                        </a:moveTo>
                        <a:lnTo>
                          <a:pt x="5" y="32"/>
                        </a:lnTo>
                        <a:lnTo>
                          <a:pt x="34" y="41"/>
                        </a:lnTo>
                        <a:lnTo>
                          <a:pt x="42" y="8"/>
                        </a:lnTo>
                        <a:lnTo>
                          <a:pt x="12" y="0"/>
                        </a:lnTo>
                        <a:lnTo>
                          <a:pt x="17" y="2"/>
                        </a:lnTo>
                        <a:lnTo>
                          <a:pt x="0" y="30"/>
                        </a:lnTo>
                        <a:lnTo>
                          <a:pt x="2" y="31"/>
                        </a:lnTo>
                        <a:lnTo>
                          <a:pt x="5" y="32"/>
                        </a:lnTo>
                        <a:lnTo>
                          <a:pt x="0" y="3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2" name=""/>
                  <p:cNvSpPr/>
                  <p:nvPr/>
                </p:nvSpPr>
                <p:spPr>
                  <a:xfrm>
                    <a:off x="5794200" y="1820880"/>
                    <a:ext cx="23760" cy="19080"/>
                  </a:xfrm>
                  <a:custGeom>
                    <a:avLst/>
                    <a:gdLst/>
                    <a:ahLst/>
                    <a:rect l="l" t="t" r="r" b="b"/>
                    <a:pathLst>
                      <a:path w="75" h="63">
                        <a:moveTo>
                          <a:pt x="0" y="24"/>
                        </a:moveTo>
                        <a:lnTo>
                          <a:pt x="5" y="28"/>
                        </a:lnTo>
                        <a:lnTo>
                          <a:pt x="58" y="63"/>
                        </a:lnTo>
                        <a:lnTo>
                          <a:pt x="75" y="35"/>
                        </a:lnTo>
                        <a:lnTo>
                          <a:pt x="23" y="0"/>
                        </a:lnTo>
                        <a:lnTo>
                          <a:pt x="28" y="4"/>
                        </a:lnTo>
                        <a:lnTo>
                          <a:pt x="0" y="24"/>
                        </a:lnTo>
                        <a:lnTo>
                          <a:pt x="3" y="26"/>
                        </a:lnTo>
                        <a:lnTo>
                          <a:pt x="5" y="28"/>
                        </a:lnTo>
                        <a:lnTo>
                          <a:pt x="0"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3" name=""/>
                  <p:cNvSpPr/>
                  <p:nvPr/>
                </p:nvSpPr>
                <p:spPr>
                  <a:xfrm>
                    <a:off x="5787720" y="1814400"/>
                    <a:ext cx="16200" cy="14400"/>
                  </a:xfrm>
                  <a:custGeom>
                    <a:avLst/>
                    <a:gdLst/>
                    <a:ahLst/>
                    <a:rect l="l" t="t" r="r" b="b"/>
                    <a:pathLst>
                      <a:path w="48" h="45">
                        <a:moveTo>
                          <a:pt x="0" y="19"/>
                        </a:moveTo>
                        <a:lnTo>
                          <a:pt x="2" y="20"/>
                        </a:lnTo>
                        <a:lnTo>
                          <a:pt x="20" y="45"/>
                        </a:lnTo>
                        <a:lnTo>
                          <a:pt x="48" y="25"/>
                        </a:lnTo>
                        <a:lnTo>
                          <a:pt x="29" y="0"/>
                        </a:lnTo>
                        <a:lnTo>
                          <a:pt x="30" y="1"/>
                        </a:lnTo>
                        <a:lnTo>
                          <a:pt x="0"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4" name=""/>
                  <p:cNvSpPr/>
                  <p:nvPr/>
                </p:nvSpPr>
                <p:spPr>
                  <a:xfrm>
                    <a:off x="5783040" y="1805040"/>
                    <a:ext cx="14400" cy="14400"/>
                  </a:xfrm>
                  <a:custGeom>
                    <a:avLst/>
                    <a:gdLst/>
                    <a:ahLst/>
                    <a:rect l="l" t="t" r="r" b="b"/>
                    <a:pathLst>
                      <a:path w="47" h="45">
                        <a:moveTo>
                          <a:pt x="0" y="12"/>
                        </a:moveTo>
                        <a:lnTo>
                          <a:pt x="1" y="17"/>
                        </a:lnTo>
                        <a:lnTo>
                          <a:pt x="17" y="45"/>
                        </a:lnTo>
                        <a:lnTo>
                          <a:pt x="47" y="27"/>
                        </a:lnTo>
                        <a:lnTo>
                          <a:pt x="31" y="0"/>
                        </a:lnTo>
                        <a:lnTo>
                          <a:pt x="32" y="5"/>
                        </a:lnTo>
                        <a:lnTo>
                          <a:pt x="0" y="12"/>
                        </a:lnTo>
                        <a:lnTo>
                          <a:pt x="1" y="15"/>
                        </a:lnTo>
                        <a:lnTo>
                          <a:pt x="1" y="17"/>
                        </a:lnTo>
                        <a:lnTo>
                          <a:pt x="0"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5" name=""/>
                  <p:cNvSpPr/>
                  <p:nvPr/>
                </p:nvSpPr>
                <p:spPr>
                  <a:xfrm>
                    <a:off x="5779800" y="1797120"/>
                    <a:ext cx="12960" cy="12600"/>
                  </a:xfrm>
                  <a:custGeom>
                    <a:avLst/>
                    <a:gdLst/>
                    <a:ahLst/>
                    <a:rect l="l" t="t" r="r" b="b"/>
                    <a:pathLst>
                      <a:path w="41" h="37">
                        <a:moveTo>
                          <a:pt x="0" y="5"/>
                        </a:moveTo>
                        <a:lnTo>
                          <a:pt x="0" y="7"/>
                        </a:lnTo>
                        <a:lnTo>
                          <a:pt x="9" y="37"/>
                        </a:lnTo>
                        <a:lnTo>
                          <a:pt x="41" y="30"/>
                        </a:lnTo>
                        <a:lnTo>
                          <a:pt x="32" y="0"/>
                        </a:lnTo>
                        <a:lnTo>
                          <a:pt x="32" y="2"/>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5778360" y="1787400"/>
                    <a:ext cx="11160" cy="11160"/>
                  </a:xfrm>
                  <a:custGeom>
                    <a:avLst/>
                    <a:gdLst/>
                    <a:ahLst/>
                    <a:rect l="l" t="t" r="r" b="b"/>
                    <a:pathLst>
                      <a:path w="37" h="35">
                        <a:moveTo>
                          <a:pt x="0" y="1"/>
                        </a:moveTo>
                        <a:lnTo>
                          <a:pt x="1" y="2"/>
                        </a:lnTo>
                        <a:lnTo>
                          <a:pt x="5" y="35"/>
                        </a:lnTo>
                        <a:lnTo>
                          <a:pt x="37" y="32"/>
                        </a:lnTo>
                        <a:lnTo>
                          <a:pt x="34" y="0"/>
                        </a:lnTo>
                        <a:lnTo>
                          <a:pt x="35" y="1"/>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5778360" y="1541520"/>
                    <a:ext cx="11160" cy="247680"/>
                  </a:xfrm>
                  <a:custGeom>
                    <a:avLst/>
                    <a:gdLst/>
                    <a:ahLst/>
                    <a:rect l="l" t="t" r="r" b="b"/>
                    <a:pathLst>
                      <a:path w="37" h="777">
                        <a:moveTo>
                          <a:pt x="6" y="0"/>
                        </a:moveTo>
                        <a:lnTo>
                          <a:pt x="0" y="12"/>
                        </a:lnTo>
                        <a:lnTo>
                          <a:pt x="2" y="777"/>
                        </a:lnTo>
                        <a:lnTo>
                          <a:pt x="37" y="777"/>
                        </a:lnTo>
                        <a:lnTo>
                          <a:pt x="35" y="12"/>
                        </a:lnTo>
                        <a:lnTo>
                          <a:pt x="28" y="25"/>
                        </a:lnTo>
                        <a:lnTo>
                          <a:pt x="6" y="0"/>
                        </a:lnTo>
                        <a:lnTo>
                          <a:pt x="0" y="5"/>
                        </a:lnTo>
                        <a:lnTo>
                          <a:pt x="0" y="1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779800" y="1450800"/>
                    <a:ext cx="95400" cy="98640"/>
                  </a:xfrm>
                  <a:custGeom>
                    <a:avLst/>
                    <a:gdLst/>
                    <a:ahLst/>
                    <a:rect l="l" t="t" r="r" b="b"/>
                    <a:pathLst>
                      <a:path w="303" h="312">
                        <a:moveTo>
                          <a:pt x="303" y="40"/>
                        </a:moveTo>
                        <a:lnTo>
                          <a:pt x="274" y="27"/>
                        </a:lnTo>
                        <a:lnTo>
                          <a:pt x="0" y="287"/>
                        </a:lnTo>
                        <a:lnTo>
                          <a:pt x="22" y="312"/>
                        </a:lnTo>
                        <a:lnTo>
                          <a:pt x="297" y="52"/>
                        </a:lnTo>
                        <a:lnTo>
                          <a:pt x="268" y="40"/>
                        </a:lnTo>
                        <a:lnTo>
                          <a:pt x="303" y="40"/>
                        </a:lnTo>
                        <a:lnTo>
                          <a:pt x="303" y="0"/>
                        </a:lnTo>
                        <a:lnTo>
                          <a:pt x="274" y="27"/>
                        </a:lnTo>
                        <a:lnTo>
                          <a:pt x="30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62280" y="1662120"/>
                    <a:ext cx="408240" cy="482760"/>
                  </a:xfrm>
                  <a:custGeom>
                    <a:avLst/>
                    <a:gdLst/>
                    <a:ahLst/>
                    <a:rect l="l" t="t" r="r" b="b"/>
                    <a:pathLst>
                      <a:path w="1282" h="1520">
                        <a:moveTo>
                          <a:pt x="721" y="1412"/>
                        </a:moveTo>
                        <a:lnTo>
                          <a:pt x="602" y="1442"/>
                        </a:lnTo>
                        <a:lnTo>
                          <a:pt x="70" y="900"/>
                        </a:lnTo>
                        <a:lnTo>
                          <a:pt x="39" y="848"/>
                        </a:lnTo>
                        <a:lnTo>
                          <a:pt x="15" y="798"/>
                        </a:lnTo>
                        <a:lnTo>
                          <a:pt x="0" y="744"/>
                        </a:lnTo>
                        <a:lnTo>
                          <a:pt x="2" y="718"/>
                        </a:lnTo>
                        <a:lnTo>
                          <a:pt x="5" y="693"/>
                        </a:lnTo>
                        <a:lnTo>
                          <a:pt x="24" y="650"/>
                        </a:lnTo>
                        <a:lnTo>
                          <a:pt x="53" y="606"/>
                        </a:lnTo>
                        <a:lnTo>
                          <a:pt x="589" y="62"/>
                        </a:lnTo>
                        <a:lnTo>
                          <a:pt x="661" y="82"/>
                        </a:lnTo>
                        <a:lnTo>
                          <a:pt x="730" y="108"/>
                        </a:lnTo>
                        <a:lnTo>
                          <a:pt x="789" y="0"/>
                        </a:lnTo>
                        <a:lnTo>
                          <a:pt x="926" y="72"/>
                        </a:lnTo>
                        <a:lnTo>
                          <a:pt x="863" y="173"/>
                        </a:lnTo>
                        <a:lnTo>
                          <a:pt x="908" y="199"/>
                        </a:lnTo>
                        <a:lnTo>
                          <a:pt x="951" y="230"/>
                        </a:lnTo>
                        <a:lnTo>
                          <a:pt x="1043" y="134"/>
                        </a:lnTo>
                        <a:lnTo>
                          <a:pt x="1155" y="243"/>
                        </a:lnTo>
                        <a:lnTo>
                          <a:pt x="1044" y="352"/>
                        </a:lnTo>
                        <a:lnTo>
                          <a:pt x="1082" y="428"/>
                        </a:lnTo>
                        <a:lnTo>
                          <a:pt x="1205" y="375"/>
                        </a:lnTo>
                        <a:lnTo>
                          <a:pt x="1266" y="519"/>
                        </a:lnTo>
                        <a:lnTo>
                          <a:pt x="1146" y="572"/>
                        </a:lnTo>
                        <a:lnTo>
                          <a:pt x="1153" y="618"/>
                        </a:lnTo>
                        <a:lnTo>
                          <a:pt x="1158" y="667"/>
                        </a:lnTo>
                        <a:lnTo>
                          <a:pt x="1282" y="667"/>
                        </a:lnTo>
                        <a:lnTo>
                          <a:pt x="1282" y="823"/>
                        </a:lnTo>
                        <a:lnTo>
                          <a:pt x="1168" y="818"/>
                        </a:lnTo>
                        <a:lnTo>
                          <a:pt x="1156" y="875"/>
                        </a:lnTo>
                        <a:lnTo>
                          <a:pt x="1141" y="930"/>
                        </a:lnTo>
                        <a:lnTo>
                          <a:pt x="1257" y="979"/>
                        </a:lnTo>
                        <a:lnTo>
                          <a:pt x="1196" y="1122"/>
                        </a:lnTo>
                        <a:lnTo>
                          <a:pt x="1089" y="1081"/>
                        </a:lnTo>
                        <a:lnTo>
                          <a:pt x="1062" y="1118"/>
                        </a:lnTo>
                        <a:lnTo>
                          <a:pt x="1030" y="1152"/>
                        </a:lnTo>
                        <a:lnTo>
                          <a:pt x="1129" y="1255"/>
                        </a:lnTo>
                        <a:lnTo>
                          <a:pt x="1017" y="1363"/>
                        </a:lnTo>
                        <a:lnTo>
                          <a:pt x="936" y="1277"/>
                        </a:lnTo>
                        <a:lnTo>
                          <a:pt x="853" y="1335"/>
                        </a:lnTo>
                        <a:lnTo>
                          <a:pt x="912" y="1447"/>
                        </a:lnTo>
                        <a:lnTo>
                          <a:pt x="775" y="1520"/>
                        </a:lnTo>
                        <a:lnTo>
                          <a:pt x="721" y="1412"/>
                        </a:lnTo>
                        <a:close/>
                      </a:path>
                    </a:pathLst>
                  </a:custGeom>
                  <a:solidFill>
                    <a:srgbClr val="99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649840" y="2104920"/>
                    <a:ext cx="42840" cy="20880"/>
                  </a:xfrm>
                  <a:custGeom>
                    <a:avLst/>
                    <a:gdLst/>
                    <a:ahLst/>
                    <a:rect l="l" t="t" r="r" b="b"/>
                    <a:pathLst>
                      <a:path w="135" h="65">
                        <a:moveTo>
                          <a:pt x="0" y="57"/>
                        </a:moveTo>
                        <a:lnTo>
                          <a:pt x="15" y="62"/>
                        </a:lnTo>
                        <a:lnTo>
                          <a:pt x="135" y="32"/>
                        </a:lnTo>
                        <a:lnTo>
                          <a:pt x="127" y="0"/>
                        </a:lnTo>
                        <a:lnTo>
                          <a:pt x="8" y="30"/>
                        </a:lnTo>
                        <a:lnTo>
                          <a:pt x="23" y="35"/>
                        </a:lnTo>
                        <a:lnTo>
                          <a:pt x="0" y="57"/>
                        </a:lnTo>
                        <a:lnTo>
                          <a:pt x="7" y="65"/>
                        </a:lnTo>
                        <a:lnTo>
                          <a:pt x="15" y="62"/>
                        </a:lnTo>
                        <a:lnTo>
                          <a:pt x="0" y="5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1" name=""/>
                  <p:cNvSpPr/>
                  <p:nvPr/>
                </p:nvSpPr>
                <p:spPr>
                  <a:xfrm>
                    <a:off x="5479920" y="1943280"/>
                    <a:ext cx="177840" cy="179280"/>
                  </a:xfrm>
                  <a:custGeom>
                    <a:avLst/>
                    <a:gdLst/>
                    <a:ahLst/>
                    <a:rect l="l" t="t" r="r" b="b"/>
                    <a:pathLst>
                      <a:path w="558" h="564">
                        <a:moveTo>
                          <a:pt x="0" y="20"/>
                        </a:moveTo>
                        <a:lnTo>
                          <a:pt x="4" y="23"/>
                        </a:lnTo>
                        <a:lnTo>
                          <a:pt x="535" y="564"/>
                        </a:lnTo>
                        <a:lnTo>
                          <a:pt x="558" y="542"/>
                        </a:lnTo>
                        <a:lnTo>
                          <a:pt x="26" y="0"/>
                        </a:lnTo>
                        <a:lnTo>
                          <a:pt x="30" y="3"/>
                        </a:lnTo>
                        <a:lnTo>
                          <a:pt x="2" y="20"/>
                        </a:lnTo>
                        <a:lnTo>
                          <a:pt x="2" y="21"/>
                        </a:lnTo>
                        <a:lnTo>
                          <a:pt x="4" y="23"/>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470200" y="1927080"/>
                    <a:ext cx="19080" cy="22320"/>
                  </a:xfrm>
                  <a:custGeom>
                    <a:avLst/>
                    <a:gdLst/>
                    <a:ahLst/>
                    <a:rect l="l" t="t" r="r" b="b"/>
                    <a:pathLst>
                      <a:path w="61" h="70">
                        <a:moveTo>
                          <a:pt x="0" y="15"/>
                        </a:moveTo>
                        <a:lnTo>
                          <a:pt x="0" y="18"/>
                        </a:lnTo>
                        <a:lnTo>
                          <a:pt x="31" y="70"/>
                        </a:lnTo>
                        <a:lnTo>
                          <a:pt x="61" y="53"/>
                        </a:lnTo>
                        <a:lnTo>
                          <a:pt x="30" y="0"/>
                        </a:lnTo>
                        <a:lnTo>
                          <a:pt x="30" y="3"/>
                        </a:lnTo>
                        <a:lnTo>
                          <a:pt x="0" y="1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3" name=""/>
                  <p:cNvSpPr/>
                  <p:nvPr/>
                </p:nvSpPr>
                <p:spPr>
                  <a:xfrm>
                    <a:off x="5462280" y="1913040"/>
                    <a:ext cx="17640" cy="19080"/>
                  </a:xfrm>
                  <a:custGeom>
                    <a:avLst/>
                    <a:gdLst/>
                    <a:ahLst/>
                    <a:rect l="l" t="t" r="r" b="b"/>
                    <a:pathLst>
                      <a:path w="55" h="62">
                        <a:moveTo>
                          <a:pt x="0" y="10"/>
                        </a:moveTo>
                        <a:lnTo>
                          <a:pt x="1" y="12"/>
                        </a:lnTo>
                        <a:lnTo>
                          <a:pt x="25" y="62"/>
                        </a:lnTo>
                        <a:lnTo>
                          <a:pt x="55" y="50"/>
                        </a:lnTo>
                        <a:lnTo>
                          <a:pt x="31" y="0"/>
                        </a:lnTo>
                        <a:lnTo>
                          <a:pt x="33" y="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4" name=""/>
                  <p:cNvSpPr/>
                  <p:nvPr/>
                </p:nvSpPr>
                <p:spPr>
                  <a:xfrm>
                    <a:off x="5457600" y="1897200"/>
                    <a:ext cx="15840" cy="19080"/>
                  </a:xfrm>
                  <a:custGeom>
                    <a:avLst/>
                    <a:gdLst/>
                    <a:ahLst/>
                    <a:rect l="l" t="t" r="r" b="b"/>
                    <a:pathLst>
                      <a:path w="49" h="61">
                        <a:moveTo>
                          <a:pt x="1" y="3"/>
                        </a:moveTo>
                        <a:lnTo>
                          <a:pt x="1" y="7"/>
                        </a:lnTo>
                        <a:lnTo>
                          <a:pt x="16" y="61"/>
                        </a:lnTo>
                        <a:lnTo>
                          <a:pt x="49" y="53"/>
                        </a:lnTo>
                        <a:lnTo>
                          <a:pt x="34" y="0"/>
                        </a:lnTo>
                        <a:lnTo>
                          <a:pt x="34" y="3"/>
                        </a:lnTo>
                        <a:lnTo>
                          <a:pt x="0" y="3"/>
                        </a:lnTo>
                        <a:lnTo>
                          <a:pt x="0" y="5"/>
                        </a:lnTo>
                        <a:lnTo>
                          <a:pt x="1" y="7"/>
                        </a:lnTo>
                        <a:lnTo>
                          <a:pt x="1"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5" name=""/>
                  <p:cNvSpPr/>
                  <p:nvPr/>
                </p:nvSpPr>
                <p:spPr>
                  <a:xfrm>
                    <a:off x="5457600" y="1889280"/>
                    <a:ext cx="11160" cy="7920"/>
                  </a:xfrm>
                  <a:custGeom>
                    <a:avLst/>
                    <a:gdLst/>
                    <a:ahLst/>
                    <a:rect l="l" t="t" r="r" b="b"/>
                    <a:pathLst>
                      <a:path w="34" h="28">
                        <a:moveTo>
                          <a:pt x="1" y="0"/>
                        </a:moveTo>
                        <a:lnTo>
                          <a:pt x="1" y="2"/>
                        </a:lnTo>
                        <a:lnTo>
                          <a:pt x="0" y="28"/>
                        </a:lnTo>
                        <a:lnTo>
                          <a:pt x="33" y="28"/>
                        </a:lnTo>
                        <a:lnTo>
                          <a:pt x="34" y="2"/>
                        </a:lnTo>
                        <a:lnTo>
                          <a:pt x="34" y="5"/>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6" name=""/>
                  <p:cNvSpPr/>
                  <p:nvPr/>
                </p:nvSpPr>
                <p:spPr>
                  <a:xfrm>
                    <a:off x="5457600" y="1879560"/>
                    <a:ext cx="12600" cy="11160"/>
                  </a:xfrm>
                  <a:custGeom>
                    <a:avLst/>
                    <a:gdLst/>
                    <a:ahLst/>
                    <a:rect l="l" t="t" r="r" b="b"/>
                    <a:pathLst>
                      <a:path w="37" h="34">
                        <a:moveTo>
                          <a:pt x="5" y="0"/>
                        </a:moveTo>
                        <a:lnTo>
                          <a:pt x="4" y="4"/>
                        </a:lnTo>
                        <a:lnTo>
                          <a:pt x="0" y="29"/>
                        </a:lnTo>
                        <a:lnTo>
                          <a:pt x="33" y="34"/>
                        </a:lnTo>
                        <a:lnTo>
                          <a:pt x="37" y="9"/>
                        </a:lnTo>
                        <a:lnTo>
                          <a:pt x="35" y="13"/>
                        </a:lnTo>
                        <a:lnTo>
                          <a:pt x="5" y="0"/>
                        </a:lnTo>
                        <a:lnTo>
                          <a:pt x="4" y="3"/>
                        </a:lnTo>
                        <a:lnTo>
                          <a:pt x="4" y="4"/>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7" name=""/>
                  <p:cNvSpPr/>
                  <p:nvPr/>
                </p:nvSpPr>
                <p:spPr>
                  <a:xfrm>
                    <a:off x="5459400" y="1865160"/>
                    <a:ext cx="15840" cy="19080"/>
                  </a:xfrm>
                  <a:custGeom>
                    <a:avLst/>
                    <a:gdLst/>
                    <a:ahLst/>
                    <a:rect l="l" t="t" r="r" b="b"/>
                    <a:pathLst>
                      <a:path w="49" h="59">
                        <a:moveTo>
                          <a:pt x="20" y="0"/>
                        </a:moveTo>
                        <a:lnTo>
                          <a:pt x="19" y="2"/>
                        </a:lnTo>
                        <a:lnTo>
                          <a:pt x="0" y="46"/>
                        </a:lnTo>
                        <a:lnTo>
                          <a:pt x="30" y="59"/>
                        </a:lnTo>
                        <a:lnTo>
                          <a:pt x="49" y="15"/>
                        </a:lnTo>
                        <a:lnTo>
                          <a:pt x="48" y="17"/>
                        </a:lnTo>
                        <a:lnTo>
                          <a:pt x="20" y="0"/>
                        </a:lnTo>
                        <a:lnTo>
                          <a:pt x="19" y="1"/>
                        </a:lnTo>
                        <a:lnTo>
                          <a:pt x="19" y="2"/>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 name=""/>
                  <p:cNvSpPr/>
                  <p:nvPr/>
                </p:nvSpPr>
                <p:spPr>
                  <a:xfrm>
                    <a:off x="5465520" y="1851120"/>
                    <a:ext cx="19080" cy="19080"/>
                  </a:xfrm>
                  <a:custGeom>
                    <a:avLst/>
                    <a:gdLst/>
                    <a:ahLst/>
                    <a:rect l="l" t="t" r="r" b="b"/>
                    <a:pathLst>
                      <a:path w="57" h="63">
                        <a:moveTo>
                          <a:pt x="32" y="0"/>
                        </a:moveTo>
                        <a:lnTo>
                          <a:pt x="29" y="2"/>
                        </a:lnTo>
                        <a:lnTo>
                          <a:pt x="0" y="46"/>
                        </a:lnTo>
                        <a:lnTo>
                          <a:pt x="28" y="63"/>
                        </a:lnTo>
                        <a:lnTo>
                          <a:pt x="57" y="20"/>
                        </a:lnTo>
                        <a:lnTo>
                          <a:pt x="54" y="22"/>
                        </a:lnTo>
                        <a:lnTo>
                          <a:pt x="32" y="0"/>
                        </a:lnTo>
                        <a:lnTo>
                          <a:pt x="30" y="1"/>
                        </a:lnTo>
                        <a:lnTo>
                          <a:pt x="29" y="2"/>
                        </a:lnTo>
                        <a:lnTo>
                          <a:pt x="3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9" name=""/>
                  <p:cNvSpPr/>
                  <p:nvPr/>
                </p:nvSpPr>
                <p:spPr>
                  <a:xfrm>
                    <a:off x="5476680" y="1674720"/>
                    <a:ext cx="176400" cy="182520"/>
                  </a:xfrm>
                  <a:custGeom>
                    <a:avLst/>
                    <a:gdLst/>
                    <a:ahLst/>
                    <a:rect l="l" t="t" r="r" b="b"/>
                    <a:pathLst>
                      <a:path w="558" h="574">
                        <a:moveTo>
                          <a:pt x="551" y="3"/>
                        </a:moveTo>
                        <a:lnTo>
                          <a:pt x="536" y="8"/>
                        </a:lnTo>
                        <a:lnTo>
                          <a:pt x="0" y="552"/>
                        </a:lnTo>
                        <a:lnTo>
                          <a:pt x="22" y="574"/>
                        </a:lnTo>
                        <a:lnTo>
                          <a:pt x="558" y="30"/>
                        </a:lnTo>
                        <a:lnTo>
                          <a:pt x="543" y="35"/>
                        </a:lnTo>
                        <a:lnTo>
                          <a:pt x="551" y="3"/>
                        </a:lnTo>
                        <a:lnTo>
                          <a:pt x="542" y="0"/>
                        </a:lnTo>
                        <a:lnTo>
                          <a:pt x="536" y="8"/>
                        </a:lnTo>
                        <a:lnTo>
                          <a:pt x="55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648040" y="1676520"/>
                    <a:ext cx="27000" cy="15840"/>
                  </a:xfrm>
                  <a:custGeom>
                    <a:avLst/>
                    <a:gdLst/>
                    <a:ahLst/>
                    <a:rect l="l" t="t" r="r" b="b"/>
                    <a:pathLst>
                      <a:path w="81" h="52">
                        <a:moveTo>
                          <a:pt x="81" y="20"/>
                        </a:moveTo>
                        <a:lnTo>
                          <a:pt x="80" y="20"/>
                        </a:lnTo>
                        <a:lnTo>
                          <a:pt x="8" y="0"/>
                        </a:lnTo>
                        <a:lnTo>
                          <a:pt x="0" y="32"/>
                        </a:lnTo>
                        <a:lnTo>
                          <a:pt x="73" y="52"/>
                        </a:lnTo>
                        <a:lnTo>
                          <a:pt x="71" y="52"/>
                        </a:lnTo>
                        <a:lnTo>
                          <a:pt x="8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1" name=""/>
                  <p:cNvSpPr/>
                  <p:nvPr/>
                </p:nvSpPr>
                <p:spPr>
                  <a:xfrm>
                    <a:off x="5672160" y="1682640"/>
                    <a:ext cx="26640" cy="19080"/>
                  </a:xfrm>
                  <a:custGeom>
                    <a:avLst/>
                    <a:gdLst/>
                    <a:ahLst/>
                    <a:rect l="l" t="t" r="r" b="b"/>
                    <a:pathLst>
                      <a:path w="89" h="63">
                        <a:moveTo>
                          <a:pt x="59" y="35"/>
                        </a:moveTo>
                        <a:lnTo>
                          <a:pt x="79" y="26"/>
                        </a:lnTo>
                        <a:lnTo>
                          <a:pt x="10" y="0"/>
                        </a:lnTo>
                        <a:lnTo>
                          <a:pt x="0" y="32"/>
                        </a:lnTo>
                        <a:lnTo>
                          <a:pt x="69" y="58"/>
                        </a:lnTo>
                        <a:lnTo>
                          <a:pt x="89" y="50"/>
                        </a:lnTo>
                        <a:lnTo>
                          <a:pt x="69" y="58"/>
                        </a:lnTo>
                        <a:lnTo>
                          <a:pt x="81" y="63"/>
                        </a:lnTo>
                        <a:lnTo>
                          <a:pt x="89" y="50"/>
                        </a:lnTo>
                        <a:lnTo>
                          <a:pt x="59"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2" name=""/>
                  <p:cNvSpPr/>
                  <p:nvPr/>
                </p:nvSpPr>
                <p:spPr>
                  <a:xfrm>
                    <a:off x="5689440" y="1654200"/>
                    <a:ext cx="28440" cy="44280"/>
                  </a:xfrm>
                  <a:custGeom>
                    <a:avLst/>
                    <a:gdLst/>
                    <a:ahLst/>
                    <a:rect l="l" t="t" r="r" b="b"/>
                    <a:pathLst>
                      <a:path w="89" h="139">
                        <a:moveTo>
                          <a:pt x="81" y="8"/>
                        </a:moveTo>
                        <a:lnTo>
                          <a:pt x="59" y="15"/>
                        </a:lnTo>
                        <a:lnTo>
                          <a:pt x="0" y="124"/>
                        </a:lnTo>
                        <a:lnTo>
                          <a:pt x="30" y="139"/>
                        </a:lnTo>
                        <a:lnTo>
                          <a:pt x="89" y="30"/>
                        </a:lnTo>
                        <a:lnTo>
                          <a:pt x="66" y="38"/>
                        </a:lnTo>
                        <a:lnTo>
                          <a:pt x="81" y="8"/>
                        </a:lnTo>
                        <a:lnTo>
                          <a:pt x="67" y="0"/>
                        </a:lnTo>
                        <a:lnTo>
                          <a:pt x="59" y="15"/>
                        </a:lnTo>
                        <a:lnTo>
                          <a:pt x="81"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 name=""/>
                  <p:cNvSpPr/>
                  <p:nvPr/>
                </p:nvSpPr>
                <p:spPr>
                  <a:xfrm>
                    <a:off x="5711760" y="1657440"/>
                    <a:ext cx="52200" cy="31680"/>
                  </a:xfrm>
                  <a:custGeom>
                    <a:avLst/>
                    <a:gdLst/>
                    <a:ahLst/>
                    <a:rect l="l" t="t" r="r" b="b"/>
                    <a:pathLst>
                      <a:path w="168" h="102">
                        <a:moveTo>
                          <a:pt x="158" y="96"/>
                        </a:moveTo>
                        <a:lnTo>
                          <a:pt x="152" y="72"/>
                        </a:lnTo>
                        <a:lnTo>
                          <a:pt x="15" y="0"/>
                        </a:lnTo>
                        <a:lnTo>
                          <a:pt x="0" y="30"/>
                        </a:lnTo>
                        <a:lnTo>
                          <a:pt x="137" y="102"/>
                        </a:lnTo>
                        <a:lnTo>
                          <a:pt x="131" y="78"/>
                        </a:lnTo>
                        <a:lnTo>
                          <a:pt x="158" y="96"/>
                        </a:lnTo>
                        <a:lnTo>
                          <a:pt x="168" y="81"/>
                        </a:lnTo>
                        <a:lnTo>
                          <a:pt x="152" y="72"/>
                        </a:lnTo>
                        <a:lnTo>
                          <a:pt x="15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5729040" y="1681200"/>
                    <a:ext cx="31680" cy="39600"/>
                  </a:xfrm>
                  <a:custGeom>
                    <a:avLst/>
                    <a:gdLst/>
                    <a:ahLst/>
                    <a:rect l="l" t="t" r="r" b="b"/>
                    <a:pathLst>
                      <a:path w="99" h="125">
                        <a:moveTo>
                          <a:pt x="32" y="95"/>
                        </a:moveTo>
                        <a:lnTo>
                          <a:pt x="37" y="119"/>
                        </a:lnTo>
                        <a:lnTo>
                          <a:pt x="99" y="18"/>
                        </a:lnTo>
                        <a:lnTo>
                          <a:pt x="72" y="0"/>
                        </a:lnTo>
                        <a:lnTo>
                          <a:pt x="10" y="101"/>
                        </a:lnTo>
                        <a:lnTo>
                          <a:pt x="15" y="125"/>
                        </a:lnTo>
                        <a:lnTo>
                          <a:pt x="10" y="101"/>
                        </a:lnTo>
                        <a:lnTo>
                          <a:pt x="0" y="115"/>
                        </a:lnTo>
                        <a:lnTo>
                          <a:pt x="15" y="125"/>
                        </a:lnTo>
                        <a:lnTo>
                          <a:pt x="32"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5" name=""/>
                  <p:cNvSpPr/>
                  <p:nvPr/>
                </p:nvSpPr>
                <p:spPr>
                  <a:xfrm>
                    <a:off x="5734080" y="1711440"/>
                    <a:ext cx="20520" cy="17280"/>
                  </a:xfrm>
                  <a:custGeom>
                    <a:avLst/>
                    <a:gdLst/>
                    <a:ahLst/>
                    <a:rect l="l" t="t" r="r" b="b"/>
                    <a:pathLst>
                      <a:path w="63" h="56">
                        <a:moveTo>
                          <a:pt x="63" y="28"/>
                        </a:moveTo>
                        <a:lnTo>
                          <a:pt x="62" y="26"/>
                        </a:lnTo>
                        <a:lnTo>
                          <a:pt x="17" y="0"/>
                        </a:lnTo>
                        <a:lnTo>
                          <a:pt x="0" y="30"/>
                        </a:lnTo>
                        <a:lnTo>
                          <a:pt x="45" y="56"/>
                        </a:lnTo>
                        <a:lnTo>
                          <a:pt x="43" y="55"/>
                        </a:lnTo>
                        <a:lnTo>
                          <a:pt x="63" y="2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6" name=""/>
                  <p:cNvSpPr/>
                  <p:nvPr/>
                </p:nvSpPr>
                <p:spPr>
                  <a:xfrm>
                    <a:off x="5748120" y="1720800"/>
                    <a:ext cx="20880" cy="20520"/>
                  </a:xfrm>
                  <a:custGeom>
                    <a:avLst/>
                    <a:gdLst/>
                    <a:ahLst/>
                    <a:rect l="l" t="t" r="r" b="b"/>
                    <a:pathLst>
                      <a:path w="65" h="67">
                        <a:moveTo>
                          <a:pt x="40" y="33"/>
                        </a:moveTo>
                        <a:lnTo>
                          <a:pt x="63" y="31"/>
                        </a:lnTo>
                        <a:lnTo>
                          <a:pt x="20" y="0"/>
                        </a:lnTo>
                        <a:lnTo>
                          <a:pt x="0" y="27"/>
                        </a:lnTo>
                        <a:lnTo>
                          <a:pt x="43" y="58"/>
                        </a:lnTo>
                        <a:lnTo>
                          <a:pt x="65" y="56"/>
                        </a:lnTo>
                        <a:lnTo>
                          <a:pt x="43" y="58"/>
                        </a:lnTo>
                        <a:lnTo>
                          <a:pt x="54" y="67"/>
                        </a:lnTo>
                        <a:lnTo>
                          <a:pt x="65" y="56"/>
                        </a:lnTo>
                        <a:lnTo>
                          <a:pt x="40" y="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7" name=""/>
                  <p:cNvSpPr/>
                  <p:nvPr/>
                </p:nvSpPr>
                <p:spPr>
                  <a:xfrm>
                    <a:off x="5760720" y="1697040"/>
                    <a:ext cx="36720" cy="41400"/>
                  </a:xfrm>
                  <a:custGeom>
                    <a:avLst/>
                    <a:gdLst/>
                    <a:ahLst/>
                    <a:rect l="l" t="t" r="r" b="b"/>
                    <a:pathLst>
                      <a:path w="117" h="131">
                        <a:moveTo>
                          <a:pt x="116" y="11"/>
                        </a:moveTo>
                        <a:lnTo>
                          <a:pt x="92" y="12"/>
                        </a:lnTo>
                        <a:lnTo>
                          <a:pt x="0" y="108"/>
                        </a:lnTo>
                        <a:lnTo>
                          <a:pt x="25" y="131"/>
                        </a:lnTo>
                        <a:lnTo>
                          <a:pt x="117" y="35"/>
                        </a:lnTo>
                        <a:lnTo>
                          <a:pt x="94" y="36"/>
                        </a:lnTo>
                        <a:lnTo>
                          <a:pt x="116" y="11"/>
                        </a:lnTo>
                        <a:lnTo>
                          <a:pt x="105" y="0"/>
                        </a:lnTo>
                        <a:lnTo>
                          <a:pt x="92" y="12"/>
                        </a:lnTo>
                        <a:lnTo>
                          <a:pt x="116" y="1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8" name=""/>
                  <p:cNvSpPr/>
                  <p:nvPr/>
                </p:nvSpPr>
                <p:spPr>
                  <a:xfrm>
                    <a:off x="5790960" y="1700280"/>
                    <a:ext cx="46080" cy="42840"/>
                  </a:xfrm>
                  <a:custGeom>
                    <a:avLst/>
                    <a:gdLst/>
                    <a:ahLst/>
                    <a:rect l="l" t="t" r="r" b="b"/>
                    <a:pathLst>
                      <a:path w="148" h="133">
                        <a:moveTo>
                          <a:pt x="134" y="133"/>
                        </a:moveTo>
                        <a:lnTo>
                          <a:pt x="134" y="108"/>
                        </a:lnTo>
                        <a:lnTo>
                          <a:pt x="22" y="0"/>
                        </a:lnTo>
                        <a:lnTo>
                          <a:pt x="0" y="25"/>
                        </a:lnTo>
                        <a:lnTo>
                          <a:pt x="112" y="133"/>
                        </a:lnTo>
                        <a:lnTo>
                          <a:pt x="112" y="108"/>
                        </a:lnTo>
                        <a:lnTo>
                          <a:pt x="134" y="133"/>
                        </a:lnTo>
                        <a:lnTo>
                          <a:pt x="148" y="121"/>
                        </a:lnTo>
                        <a:lnTo>
                          <a:pt x="134" y="108"/>
                        </a:lnTo>
                        <a:lnTo>
                          <a:pt x="134" y="1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9" name=""/>
                  <p:cNvSpPr/>
                  <p:nvPr/>
                </p:nvSpPr>
                <p:spPr>
                  <a:xfrm>
                    <a:off x="5787720" y="1735200"/>
                    <a:ext cx="46080" cy="41040"/>
                  </a:xfrm>
                  <a:custGeom>
                    <a:avLst/>
                    <a:gdLst/>
                    <a:ahLst/>
                    <a:rect l="l" t="t" r="r" b="b"/>
                    <a:pathLst>
                      <a:path w="142" h="134">
                        <a:moveTo>
                          <a:pt x="35" y="114"/>
                        </a:moveTo>
                        <a:lnTo>
                          <a:pt x="31" y="134"/>
                        </a:lnTo>
                        <a:lnTo>
                          <a:pt x="142" y="25"/>
                        </a:lnTo>
                        <a:lnTo>
                          <a:pt x="120" y="0"/>
                        </a:lnTo>
                        <a:lnTo>
                          <a:pt x="9" y="109"/>
                        </a:lnTo>
                        <a:lnTo>
                          <a:pt x="5" y="129"/>
                        </a:lnTo>
                        <a:lnTo>
                          <a:pt x="9" y="109"/>
                        </a:lnTo>
                        <a:lnTo>
                          <a:pt x="0" y="119"/>
                        </a:lnTo>
                        <a:lnTo>
                          <a:pt x="5" y="129"/>
                        </a:lnTo>
                        <a:lnTo>
                          <a:pt x="35" y="11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80" name=""/>
                  <p:cNvSpPr/>
                  <p:nvPr/>
                </p:nvSpPr>
                <p:spPr>
                  <a:xfrm>
                    <a:off x="5789520" y="1770120"/>
                    <a:ext cx="22320" cy="33120"/>
                  </a:xfrm>
                  <a:custGeom>
                    <a:avLst/>
                    <a:gdLst/>
                    <a:ahLst/>
                    <a:rect l="l" t="t" r="r" b="b"/>
                    <a:pathLst>
                      <a:path w="68" h="105">
                        <a:moveTo>
                          <a:pt x="46" y="69"/>
                        </a:moveTo>
                        <a:lnTo>
                          <a:pt x="68" y="76"/>
                        </a:lnTo>
                        <a:lnTo>
                          <a:pt x="30" y="0"/>
                        </a:lnTo>
                        <a:lnTo>
                          <a:pt x="0" y="15"/>
                        </a:lnTo>
                        <a:lnTo>
                          <a:pt x="38" y="91"/>
                        </a:lnTo>
                        <a:lnTo>
                          <a:pt x="59" y="99"/>
                        </a:lnTo>
                        <a:lnTo>
                          <a:pt x="38" y="91"/>
                        </a:lnTo>
                        <a:lnTo>
                          <a:pt x="45" y="105"/>
                        </a:lnTo>
                        <a:lnTo>
                          <a:pt x="59" y="99"/>
                        </a:lnTo>
                        <a:lnTo>
                          <a:pt x="46" y="6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1" name=""/>
                  <p:cNvSpPr/>
                  <p:nvPr/>
                </p:nvSpPr>
                <p:spPr>
                  <a:xfrm>
                    <a:off x="5803920" y="1773360"/>
                    <a:ext cx="45720" cy="28440"/>
                  </a:xfrm>
                  <a:custGeom>
                    <a:avLst/>
                    <a:gdLst/>
                    <a:ahLst/>
                    <a:rect l="l" t="t" r="r" b="b"/>
                    <a:pathLst>
                      <a:path w="145" h="90">
                        <a:moveTo>
                          <a:pt x="145" y="16"/>
                        </a:moveTo>
                        <a:lnTo>
                          <a:pt x="124" y="7"/>
                        </a:lnTo>
                        <a:lnTo>
                          <a:pt x="0" y="60"/>
                        </a:lnTo>
                        <a:lnTo>
                          <a:pt x="13" y="90"/>
                        </a:lnTo>
                        <a:lnTo>
                          <a:pt x="136" y="37"/>
                        </a:lnTo>
                        <a:lnTo>
                          <a:pt x="115" y="28"/>
                        </a:lnTo>
                        <a:lnTo>
                          <a:pt x="145" y="16"/>
                        </a:lnTo>
                        <a:lnTo>
                          <a:pt x="139" y="0"/>
                        </a:lnTo>
                        <a:lnTo>
                          <a:pt x="124" y="7"/>
                        </a:lnTo>
                        <a:lnTo>
                          <a:pt x="145"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
                  <p:cNvSpPr/>
                  <p:nvPr/>
                </p:nvSpPr>
                <p:spPr>
                  <a:xfrm>
                    <a:off x="5840280" y="1778040"/>
                    <a:ext cx="31680" cy="52200"/>
                  </a:xfrm>
                  <a:custGeom>
                    <a:avLst/>
                    <a:gdLst/>
                    <a:ahLst/>
                    <a:rect l="l" t="t" r="r" b="b"/>
                    <a:pathLst>
                      <a:path w="99" h="165">
                        <a:moveTo>
                          <a:pt x="82" y="165"/>
                        </a:moveTo>
                        <a:lnTo>
                          <a:pt x="91" y="143"/>
                        </a:lnTo>
                        <a:lnTo>
                          <a:pt x="30" y="0"/>
                        </a:lnTo>
                        <a:lnTo>
                          <a:pt x="0" y="12"/>
                        </a:lnTo>
                        <a:lnTo>
                          <a:pt x="61" y="156"/>
                        </a:lnTo>
                        <a:lnTo>
                          <a:pt x="70" y="135"/>
                        </a:lnTo>
                        <a:lnTo>
                          <a:pt x="82" y="165"/>
                        </a:lnTo>
                        <a:lnTo>
                          <a:pt x="99" y="158"/>
                        </a:lnTo>
                        <a:lnTo>
                          <a:pt x="91" y="143"/>
                        </a:lnTo>
                        <a:lnTo>
                          <a:pt x="82" y="1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3" name=""/>
                  <p:cNvSpPr/>
                  <p:nvPr/>
                </p:nvSpPr>
                <p:spPr>
                  <a:xfrm>
                    <a:off x="5821200" y="1820880"/>
                    <a:ext cx="46080" cy="27000"/>
                  </a:xfrm>
                  <a:custGeom>
                    <a:avLst/>
                    <a:gdLst/>
                    <a:ahLst/>
                    <a:rect l="l" t="t" r="r" b="b"/>
                    <a:pathLst>
                      <a:path w="144" h="83">
                        <a:moveTo>
                          <a:pt x="35" y="67"/>
                        </a:moveTo>
                        <a:lnTo>
                          <a:pt x="25" y="83"/>
                        </a:lnTo>
                        <a:lnTo>
                          <a:pt x="144" y="30"/>
                        </a:lnTo>
                        <a:lnTo>
                          <a:pt x="132" y="0"/>
                        </a:lnTo>
                        <a:lnTo>
                          <a:pt x="12" y="53"/>
                        </a:lnTo>
                        <a:lnTo>
                          <a:pt x="2" y="70"/>
                        </a:lnTo>
                        <a:lnTo>
                          <a:pt x="12" y="53"/>
                        </a:lnTo>
                        <a:lnTo>
                          <a:pt x="0" y="58"/>
                        </a:lnTo>
                        <a:lnTo>
                          <a:pt x="2" y="70"/>
                        </a:lnTo>
                        <a:lnTo>
                          <a:pt x="35" y="6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5821200" y="1843200"/>
                    <a:ext cx="12600" cy="15840"/>
                  </a:xfrm>
                  <a:custGeom>
                    <a:avLst/>
                    <a:gdLst/>
                    <a:ahLst/>
                    <a:rect l="l" t="t" r="r" b="b"/>
                    <a:pathLst>
                      <a:path w="39" h="49">
                        <a:moveTo>
                          <a:pt x="39" y="46"/>
                        </a:moveTo>
                        <a:lnTo>
                          <a:pt x="39" y="46"/>
                        </a:lnTo>
                        <a:lnTo>
                          <a:pt x="33" y="0"/>
                        </a:lnTo>
                        <a:lnTo>
                          <a:pt x="0" y="3"/>
                        </a:lnTo>
                        <a:lnTo>
                          <a:pt x="6" y="49"/>
                        </a:lnTo>
                        <a:lnTo>
                          <a:pt x="6" y="49"/>
                        </a:lnTo>
                        <a:lnTo>
                          <a:pt x="39" y="4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5" name=""/>
                  <p:cNvSpPr/>
                  <p:nvPr/>
                </p:nvSpPr>
                <p:spPr>
                  <a:xfrm>
                    <a:off x="5824440" y="1857240"/>
                    <a:ext cx="11160" cy="22320"/>
                  </a:xfrm>
                  <a:custGeom>
                    <a:avLst/>
                    <a:gdLst/>
                    <a:ahLst/>
                    <a:rect l="l" t="t" r="r" b="b"/>
                    <a:pathLst>
                      <a:path w="38" h="68">
                        <a:moveTo>
                          <a:pt x="22" y="33"/>
                        </a:moveTo>
                        <a:lnTo>
                          <a:pt x="38" y="49"/>
                        </a:lnTo>
                        <a:lnTo>
                          <a:pt x="33" y="0"/>
                        </a:lnTo>
                        <a:lnTo>
                          <a:pt x="0" y="3"/>
                        </a:lnTo>
                        <a:lnTo>
                          <a:pt x="5" y="51"/>
                        </a:lnTo>
                        <a:lnTo>
                          <a:pt x="22" y="68"/>
                        </a:lnTo>
                        <a:lnTo>
                          <a:pt x="5" y="51"/>
                        </a:lnTo>
                        <a:lnTo>
                          <a:pt x="7" y="66"/>
                        </a:lnTo>
                        <a:lnTo>
                          <a:pt x="22" y="68"/>
                        </a:lnTo>
                        <a:lnTo>
                          <a:pt x="22" y="3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6" name=""/>
                  <p:cNvSpPr/>
                  <p:nvPr/>
                </p:nvSpPr>
                <p:spPr>
                  <a:xfrm>
                    <a:off x="5830920" y="1868400"/>
                    <a:ext cx="44280" cy="11160"/>
                  </a:xfrm>
                  <a:custGeom>
                    <a:avLst/>
                    <a:gdLst/>
                    <a:ahLst/>
                    <a:rect l="l" t="t" r="r" b="b"/>
                    <a:pathLst>
                      <a:path w="142" h="35">
                        <a:moveTo>
                          <a:pt x="142" y="17"/>
                        </a:moveTo>
                        <a:lnTo>
                          <a:pt x="124" y="0"/>
                        </a:lnTo>
                        <a:lnTo>
                          <a:pt x="0" y="0"/>
                        </a:lnTo>
                        <a:lnTo>
                          <a:pt x="0" y="35"/>
                        </a:lnTo>
                        <a:lnTo>
                          <a:pt x="124" y="35"/>
                        </a:lnTo>
                        <a:lnTo>
                          <a:pt x="107" y="17"/>
                        </a:lnTo>
                        <a:lnTo>
                          <a:pt x="142" y="17"/>
                        </a:lnTo>
                        <a:lnTo>
                          <a:pt x="142" y="0"/>
                        </a:lnTo>
                        <a:lnTo>
                          <a:pt x="124" y="0"/>
                        </a:lnTo>
                        <a:lnTo>
                          <a:pt x="14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5864040" y="1873080"/>
                    <a:ext cx="11160" cy="55800"/>
                  </a:xfrm>
                  <a:custGeom>
                    <a:avLst/>
                    <a:gdLst/>
                    <a:ahLst/>
                    <a:rect l="l" t="t" r="r" b="b"/>
                    <a:pathLst>
                      <a:path w="35" h="174">
                        <a:moveTo>
                          <a:pt x="17" y="172"/>
                        </a:moveTo>
                        <a:lnTo>
                          <a:pt x="35" y="156"/>
                        </a:lnTo>
                        <a:lnTo>
                          <a:pt x="35" y="0"/>
                        </a:lnTo>
                        <a:lnTo>
                          <a:pt x="0" y="0"/>
                        </a:lnTo>
                        <a:lnTo>
                          <a:pt x="0" y="156"/>
                        </a:lnTo>
                        <a:lnTo>
                          <a:pt x="17" y="140"/>
                        </a:lnTo>
                        <a:lnTo>
                          <a:pt x="17" y="172"/>
                        </a:lnTo>
                        <a:lnTo>
                          <a:pt x="35" y="174"/>
                        </a:lnTo>
                        <a:lnTo>
                          <a:pt x="35" y="156"/>
                        </a:lnTo>
                        <a:lnTo>
                          <a:pt x="17" y="17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5829120" y="1916280"/>
                    <a:ext cx="41400" cy="10800"/>
                  </a:xfrm>
                  <a:custGeom>
                    <a:avLst/>
                    <a:gdLst/>
                    <a:ahLst/>
                    <a:rect l="l" t="t" r="r" b="b"/>
                    <a:pathLst>
                      <a:path w="131" h="38">
                        <a:moveTo>
                          <a:pt x="33" y="20"/>
                        </a:moveTo>
                        <a:lnTo>
                          <a:pt x="17" y="33"/>
                        </a:lnTo>
                        <a:lnTo>
                          <a:pt x="131" y="38"/>
                        </a:lnTo>
                        <a:lnTo>
                          <a:pt x="131" y="6"/>
                        </a:lnTo>
                        <a:lnTo>
                          <a:pt x="17" y="1"/>
                        </a:lnTo>
                        <a:lnTo>
                          <a:pt x="0" y="15"/>
                        </a:lnTo>
                        <a:lnTo>
                          <a:pt x="17" y="1"/>
                        </a:lnTo>
                        <a:lnTo>
                          <a:pt x="3" y="0"/>
                        </a:lnTo>
                        <a:lnTo>
                          <a:pt x="0" y="15"/>
                        </a:lnTo>
                        <a:lnTo>
                          <a:pt x="3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5824440" y="1920960"/>
                    <a:ext cx="14400" cy="19080"/>
                  </a:xfrm>
                  <a:custGeom>
                    <a:avLst/>
                    <a:gdLst/>
                    <a:ahLst/>
                    <a:rect l="l" t="t" r="r" b="b"/>
                    <a:pathLst>
                      <a:path w="44" h="63">
                        <a:moveTo>
                          <a:pt x="33" y="63"/>
                        </a:moveTo>
                        <a:lnTo>
                          <a:pt x="33" y="62"/>
                        </a:lnTo>
                        <a:lnTo>
                          <a:pt x="44" y="5"/>
                        </a:lnTo>
                        <a:lnTo>
                          <a:pt x="11" y="0"/>
                        </a:lnTo>
                        <a:lnTo>
                          <a:pt x="0" y="57"/>
                        </a:lnTo>
                        <a:lnTo>
                          <a:pt x="0" y="56"/>
                        </a:lnTo>
                        <a:lnTo>
                          <a:pt x="33" y="6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0" name=""/>
                  <p:cNvSpPr/>
                  <p:nvPr/>
                </p:nvSpPr>
                <p:spPr>
                  <a:xfrm>
                    <a:off x="5819760" y="1938240"/>
                    <a:ext cx="15840" cy="23760"/>
                  </a:xfrm>
                  <a:custGeom>
                    <a:avLst/>
                    <a:gdLst/>
                    <a:ahLst/>
                    <a:rect l="l" t="t" r="r" b="b"/>
                    <a:pathLst>
                      <a:path w="51" h="73">
                        <a:moveTo>
                          <a:pt x="26" y="43"/>
                        </a:moveTo>
                        <a:lnTo>
                          <a:pt x="36" y="62"/>
                        </a:lnTo>
                        <a:lnTo>
                          <a:pt x="51" y="7"/>
                        </a:lnTo>
                        <a:lnTo>
                          <a:pt x="18" y="0"/>
                        </a:lnTo>
                        <a:lnTo>
                          <a:pt x="3" y="55"/>
                        </a:lnTo>
                        <a:lnTo>
                          <a:pt x="13" y="73"/>
                        </a:lnTo>
                        <a:lnTo>
                          <a:pt x="3" y="55"/>
                        </a:lnTo>
                        <a:lnTo>
                          <a:pt x="0" y="68"/>
                        </a:lnTo>
                        <a:lnTo>
                          <a:pt x="13" y="73"/>
                        </a:lnTo>
                        <a:lnTo>
                          <a:pt x="26"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1" name=""/>
                  <p:cNvSpPr/>
                  <p:nvPr/>
                </p:nvSpPr>
                <p:spPr>
                  <a:xfrm>
                    <a:off x="5822640" y="1952640"/>
                    <a:ext cx="46080" cy="23760"/>
                  </a:xfrm>
                  <a:custGeom>
                    <a:avLst/>
                    <a:gdLst/>
                    <a:ahLst/>
                    <a:rect l="l" t="t" r="r" b="b"/>
                    <a:pathLst>
                      <a:path w="145" h="79">
                        <a:moveTo>
                          <a:pt x="137" y="70"/>
                        </a:moveTo>
                        <a:lnTo>
                          <a:pt x="129" y="49"/>
                        </a:lnTo>
                        <a:lnTo>
                          <a:pt x="13" y="0"/>
                        </a:lnTo>
                        <a:lnTo>
                          <a:pt x="0" y="30"/>
                        </a:lnTo>
                        <a:lnTo>
                          <a:pt x="116" y="79"/>
                        </a:lnTo>
                        <a:lnTo>
                          <a:pt x="107" y="58"/>
                        </a:lnTo>
                        <a:lnTo>
                          <a:pt x="137" y="70"/>
                        </a:lnTo>
                        <a:lnTo>
                          <a:pt x="145" y="55"/>
                        </a:lnTo>
                        <a:lnTo>
                          <a:pt x="129" y="49"/>
                        </a:lnTo>
                        <a:lnTo>
                          <a:pt x="137" y="7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 name=""/>
                  <p:cNvSpPr/>
                  <p:nvPr/>
                </p:nvSpPr>
                <p:spPr>
                  <a:xfrm>
                    <a:off x="5838840" y="1969920"/>
                    <a:ext cx="28440" cy="54000"/>
                  </a:xfrm>
                  <a:custGeom>
                    <a:avLst/>
                    <a:gdLst/>
                    <a:ahLst/>
                    <a:rect l="l" t="t" r="r" b="b"/>
                    <a:pathLst>
                      <a:path w="91" h="171">
                        <a:moveTo>
                          <a:pt x="10" y="166"/>
                        </a:moveTo>
                        <a:lnTo>
                          <a:pt x="30" y="156"/>
                        </a:lnTo>
                        <a:lnTo>
                          <a:pt x="91" y="12"/>
                        </a:lnTo>
                        <a:lnTo>
                          <a:pt x="61" y="0"/>
                        </a:lnTo>
                        <a:lnTo>
                          <a:pt x="0" y="143"/>
                        </a:lnTo>
                        <a:lnTo>
                          <a:pt x="20" y="133"/>
                        </a:lnTo>
                        <a:lnTo>
                          <a:pt x="10" y="166"/>
                        </a:lnTo>
                        <a:lnTo>
                          <a:pt x="24" y="171"/>
                        </a:lnTo>
                        <a:lnTo>
                          <a:pt x="30" y="156"/>
                        </a:lnTo>
                        <a:lnTo>
                          <a:pt x="10" y="16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
                  <p:cNvSpPr/>
                  <p:nvPr/>
                </p:nvSpPr>
                <p:spPr>
                  <a:xfrm>
                    <a:off x="5803920" y="1998720"/>
                    <a:ext cx="41040" cy="23760"/>
                  </a:xfrm>
                  <a:custGeom>
                    <a:avLst/>
                    <a:gdLst/>
                    <a:ahLst/>
                    <a:rect l="l" t="t" r="r" b="b"/>
                    <a:pathLst>
                      <a:path w="126" h="78">
                        <a:moveTo>
                          <a:pt x="28" y="30"/>
                        </a:moveTo>
                        <a:lnTo>
                          <a:pt x="9" y="37"/>
                        </a:lnTo>
                        <a:lnTo>
                          <a:pt x="116" y="78"/>
                        </a:lnTo>
                        <a:lnTo>
                          <a:pt x="126" y="45"/>
                        </a:lnTo>
                        <a:lnTo>
                          <a:pt x="19" y="4"/>
                        </a:lnTo>
                        <a:lnTo>
                          <a:pt x="0" y="10"/>
                        </a:lnTo>
                        <a:lnTo>
                          <a:pt x="19" y="4"/>
                        </a:lnTo>
                        <a:lnTo>
                          <a:pt x="9" y="0"/>
                        </a:lnTo>
                        <a:lnTo>
                          <a:pt x="0" y="10"/>
                        </a:lnTo>
                        <a:lnTo>
                          <a:pt x="28"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 name=""/>
                  <p:cNvSpPr/>
                  <p:nvPr/>
                </p:nvSpPr>
                <p:spPr>
                  <a:xfrm>
                    <a:off x="5795640" y="2001960"/>
                    <a:ext cx="17640" cy="17280"/>
                  </a:xfrm>
                  <a:custGeom>
                    <a:avLst/>
                    <a:gdLst/>
                    <a:ahLst/>
                    <a:rect l="l" t="t" r="r" b="b"/>
                    <a:pathLst>
                      <a:path w="55" h="58">
                        <a:moveTo>
                          <a:pt x="26" y="58"/>
                        </a:moveTo>
                        <a:lnTo>
                          <a:pt x="27" y="56"/>
                        </a:lnTo>
                        <a:lnTo>
                          <a:pt x="55" y="20"/>
                        </a:lnTo>
                        <a:lnTo>
                          <a:pt x="27" y="0"/>
                        </a:lnTo>
                        <a:lnTo>
                          <a:pt x="0" y="37"/>
                        </a:lnTo>
                        <a:lnTo>
                          <a:pt x="1" y="35"/>
                        </a:lnTo>
                        <a:lnTo>
                          <a:pt x="26" y="5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5" name=""/>
                  <p:cNvSpPr/>
                  <p:nvPr/>
                </p:nvSpPr>
                <p:spPr>
                  <a:xfrm>
                    <a:off x="5783040" y="2013120"/>
                    <a:ext cx="20880" cy="17280"/>
                  </a:xfrm>
                  <a:custGeom>
                    <a:avLst/>
                    <a:gdLst/>
                    <a:ahLst/>
                    <a:rect l="l" t="t" r="r" b="b"/>
                    <a:pathLst>
                      <a:path w="67" h="58">
                        <a:moveTo>
                          <a:pt x="36" y="35"/>
                        </a:moveTo>
                        <a:lnTo>
                          <a:pt x="36" y="58"/>
                        </a:lnTo>
                        <a:lnTo>
                          <a:pt x="67" y="23"/>
                        </a:lnTo>
                        <a:lnTo>
                          <a:pt x="42" y="0"/>
                        </a:lnTo>
                        <a:lnTo>
                          <a:pt x="11" y="35"/>
                        </a:lnTo>
                        <a:lnTo>
                          <a:pt x="11" y="58"/>
                        </a:lnTo>
                        <a:lnTo>
                          <a:pt x="11" y="35"/>
                        </a:lnTo>
                        <a:lnTo>
                          <a:pt x="0" y="46"/>
                        </a:lnTo>
                        <a:lnTo>
                          <a:pt x="11" y="58"/>
                        </a:lnTo>
                        <a:lnTo>
                          <a:pt x="36"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6" name=""/>
                  <p:cNvSpPr/>
                  <p:nvPr/>
                </p:nvSpPr>
                <p:spPr>
                  <a:xfrm>
                    <a:off x="5786280" y="2023920"/>
                    <a:ext cx="42840" cy="39960"/>
                  </a:xfrm>
                  <a:custGeom>
                    <a:avLst/>
                    <a:gdLst/>
                    <a:ahLst/>
                    <a:rect l="l" t="t" r="r" b="b"/>
                    <a:pathLst>
                      <a:path w="135" h="126">
                        <a:moveTo>
                          <a:pt x="122" y="126"/>
                        </a:moveTo>
                        <a:lnTo>
                          <a:pt x="123" y="103"/>
                        </a:lnTo>
                        <a:lnTo>
                          <a:pt x="25" y="0"/>
                        </a:lnTo>
                        <a:lnTo>
                          <a:pt x="0" y="23"/>
                        </a:lnTo>
                        <a:lnTo>
                          <a:pt x="99" y="125"/>
                        </a:lnTo>
                        <a:lnTo>
                          <a:pt x="100" y="101"/>
                        </a:lnTo>
                        <a:lnTo>
                          <a:pt x="122" y="126"/>
                        </a:lnTo>
                        <a:lnTo>
                          <a:pt x="135" y="114"/>
                        </a:lnTo>
                        <a:lnTo>
                          <a:pt x="123" y="103"/>
                        </a:lnTo>
                        <a:lnTo>
                          <a:pt x="122" y="12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7" name=""/>
                  <p:cNvSpPr/>
                  <p:nvPr/>
                </p:nvSpPr>
                <p:spPr>
                  <a:xfrm>
                    <a:off x="5781600" y="2055960"/>
                    <a:ext cx="42840" cy="45720"/>
                  </a:xfrm>
                  <a:custGeom>
                    <a:avLst/>
                    <a:gdLst/>
                    <a:ahLst/>
                    <a:rect l="l" t="t" r="r" b="b"/>
                    <a:pathLst>
                      <a:path w="136" h="145">
                        <a:moveTo>
                          <a:pt x="0" y="132"/>
                        </a:moveTo>
                        <a:lnTo>
                          <a:pt x="24" y="134"/>
                        </a:lnTo>
                        <a:lnTo>
                          <a:pt x="136" y="25"/>
                        </a:lnTo>
                        <a:lnTo>
                          <a:pt x="114" y="0"/>
                        </a:lnTo>
                        <a:lnTo>
                          <a:pt x="2" y="109"/>
                        </a:lnTo>
                        <a:lnTo>
                          <a:pt x="25" y="110"/>
                        </a:lnTo>
                        <a:lnTo>
                          <a:pt x="0" y="132"/>
                        </a:lnTo>
                        <a:lnTo>
                          <a:pt x="13" y="145"/>
                        </a:lnTo>
                        <a:lnTo>
                          <a:pt x="24" y="134"/>
                        </a:lnTo>
                        <a:lnTo>
                          <a:pt x="0" y="1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98" name=""/>
                  <p:cNvSpPr/>
                  <p:nvPr/>
                </p:nvSpPr>
                <p:spPr>
                  <a:xfrm>
                    <a:off x="5756040" y="2060640"/>
                    <a:ext cx="33480" cy="36360"/>
                  </a:xfrm>
                  <a:custGeom>
                    <a:avLst/>
                    <a:gdLst/>
                    <a:ahLst/>
                    <a:rect l="l" t="t" r="r" b="b"/>
                    <a:pathLst>
                      <a:path w="106" h="119">
                        <a:moveTo>
                          <a:pt x="21" y="36"/>
                        </a:moveTo>
                        <a:lnTo>
                          <a:pt x="0" y="33"/>
                        </a:lnTo>
                        <a:lnTo>
                          <a:pt x="81" y="119"/>
                        </a:lnTo>
                        <a:lnTo>
                          <a:pt x="106" y="97"/>
                        </a:lnTo>
                        <a:lnTo>
                          <a:pt x="25" y="11"/>
                        </a:lnTo>
                        <a:lnTo>
                          <a:pt x="4" y="8"/>
                        </a:lnTo>
                        <a:lnTo>
                          <a:pt x="25" y="11"/>
                        </a:lnTo>
                        <a:lnTo>
                          <a:pt x="14" y="0"/>
                        </a:lnTo>
                        <a:lnTo>
                          <a:pt x="4" y="8"/>
                        </a:lnTo>
                        <a:lnTo>
                          <a:pt x="21"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
                  <p:cNvSpPr/>
                  <p:nvPr/>
                </p:nvSpPr>
                <p:spPr>
                  <a:xfrm>
                    <a:off x="5727600" y="2062080"/>
                    <a:ext cx="34920" cy="27000"/>
                  </a:xfrm>
                  <a:custGeom>
                    <a:avLst/>
                    <a:gdLst/>
                    <a:ahLst/>
                    <a:rect l="l" t="t" r="r" b="b"/>
                    <a:pathLst>
                      <a:path w="113" h="85">
                        <a:moveTo>
                          <a:pt x="37" y="64"/>
                        </a:moveTo>
                        <a:lnTo>
                          <a:pt x="31" y="85"/>
                        </a:lnTo>
                        <a:lnTo>
                          <a:pt x="113" y="28"/>
                        </a:lnTo>
                        <a:lnTo>
                          <a:pt x="96" y="0"/>
                        </a:lnTo>
                        <a:lnTo>
                          <a:pt x="14" y="58"/>
                        </a:lnTo>
                        <a:lnTo>
                          <a:pt x="7" y="79"/>
                        </a:lnTo>
                        <a:lnTo>
                          <a:pt x="14" y="58"/>
                        </a:lnTo>
                        <a:lnTo>
                          <a:pt x="0" y="67"/>
                        </a:lnTo>
                        <a:lnTo>
                          <a:pt x="7" y="79"/>
                        </a:lnTo>
                        <a:lnTo>
                          <a:pt x="37" y="6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0" name=""/>
                  <p:cNvSpPr/>
                  <p:nvPr/>
                </p:nvSpPr>
                <p:spPr>
                  <a:xfrm>
                    <a:off x="5729040" y="2082960"/>
                    <a:ext cx="30240" cy="42840"/>
                  </a:xfrm>
                  <a:custGeom>
                    <a:avLst/>
                    <a:gdLst/>
                    <a:ahLst/>
                    <a:rect l="l" t="t" r="r" b="b"/>
                    <a:pathLst>
                      <a:path w="96" h="135">
                        <a:moveTo>
                          <a:pt x="82" y="135"/>
                        </a:moveTo>
                        <a:lnTo>
                          <a:pt x="89" y="112"/>
                        </a:lnTo>
                        <a:lnTo>
                          <a:pt x="30" y="0"/>
                        </a:lnTo>
                        <a:lnTo>
                          <a:pt x="0" y="15"/>
                        </a:lnTo>
                        <a:lnTo>
                          <a:pt x="59" y="127"/>
                        </a:lnTo>
                        <a:lnTo>
                          <a:pt x="67" y="105"/>
                        </a:lnTo>
                        <a:lnTo>
                          <a:pt x="82" y="135"/>
                        </a:lnTo>
                        <a:lnTo>
                          <a:pt x="96" y="126"/>
                        </a:lnTo>
                        <a:lnTo>
                          <a:pt x="89" y="112"/>
                        </a:lnTo>
                        <a:lnTo>
                          <a:pt x="82" y="13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1" name=""/>
                  <p:cNvSpPr/>
                  <p:nvPr/>
                </p:nvSpPr>
                <p:spPr>
                  <a:xfrm>
                    <a:off x="5703840" y="2116080"/>
                    <a:ext cx="50760" cy="34920"/>
                  </a:xfrm>
                  <a:custGeom>
                    <a:avLst/>
                    <a:gdLst/>
                    <a:ahLst/>
                    <a:rect l="l" t="t" r="r" b="b"/>
                    <a:pathLst>
                      <a:path w="160" h="112">
                        <a:moveTo>
                          <a:pt x="0" y="96"/>
                        </a:moveTo>
                        <a:lnTo>
                          <a:pt x="22" y="103"/>
                        </a:lnTo>
                        <a:lnTo>
                          <a:pt x="160" y="30"/>
                        </a:lnTo>
                        <a:lnTo>
                          <a:pt x="145" y="0"/>
                        </a:lnTo>
                        <a:lnTo>
                          <a:pt x="7" y="73"/>
                        </a:lnTo>
                        <a:lnTo>
                          <a:pt x="30" y="81"/>
                        </a:lnTo>
                        <a:lnTo>
                          <a:pt x="0" y="96"/>
                        </a:lnTo>
                        <a:lnTo>
                          <a:pt x="7" y="112"/>
                        </a:lnTo>
                        <a:lnTo>
                          <a:pt x="22" y="103"/>
                        </a:lnTo>
                        <a:lnTo>
                          <a:pt x="0" y="9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
                  <p:cNvSpPr/>
                  <p:nvPr/>
                </p:nvSpPr>
                <p:spPr>
                  <a:xfrm>
                    <a:off x="5688000" y="2103480"/>
                    <a:ext cx="25200" cy="42840"/>
                  </a:xfrm>
                  <a:custGeom>
                    <a:avLst/>
                    <a:gdLst/>
                    <a:ahLst/>
                    <a:rect l="l" t="t" r="r" b="b"/>
                    <a:pathLst>
                      <a:path w="84" h="136">
                        <a:moveTo>
                          <a:pt x="19" y="36"/>
                        </a:moveTo>
                        <a:lnTo>
                          <a:pt x="0" y="27"/>
                        </a:lnTo>
                        <a:lnTo>
                          <a:pt x="54" y="136"/>
                        </a:lnTo>
                        <a:lnTo>
                          <a:pt x="84" y="121"/>
                        </a:lnTo>
                        <a:lnTo>
                          <a:pt x="30" y="12"/>
                        </a:lnTo>
                        <a:lnTo>
                          <a:pt x="11" y="4"/>
                        </a:lnTo>
                        <a:lnTo>
                          <a:pt x="30" y="12"/>
                        </a:lnTo>
                        <a:lnTo>
                          <a:pt x="24" y="0"/>
                        </a:lnTo>
                        <a:lnTo>
                          <a:pt x="11" y="4"/>
                        </a:lnTo>
                        <a:lnTo>
                          <a:pt x="19"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 name=""/>
                  <p:cNvSpPr/>
                  <p:nvPr/>
                </p:nvSpPr>
                <p:spPr>
                  <a:xfrm>
                    <a:off x="6018120" y="1824120"/>
                    <a:ext cx="90360" cy="95040"/>
                  </a:xfrm>
                  <a:custGeom>
                    <a:avLst/>
                    <a:gdLst/>
                    <a:ahLst/>
                    <a:rect l="l" t="t" r="r" b="b"/>
                    <a:pathLst>
                      <a:path w="285" h="303">
                        <a:moveTo>
                          <a:pt x="0" y="51"/>
                        </a:moveTo>
                        <a:lnTo>
                          <a:pt x="35" y="0"/>
                        </a:lnTo>
                        <a:lnTo>
                          <a:pt x="260" y="0"/>
                        </a:lnTo>
                        <a:lnTo>
                          <a:pt x="285" y="51"/>
                        </a:lnTo>
                        <a:lnTo>
                          <a:pt x="285" y="303"/>
                        </a:lnTo>
                        <a:lnTo>
                          <a:pt x="0" y="295"/>
                        </a:lnTo>
                        <a:lnTo>
                          <a:pt x="0" y="5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13440" y="1817640"/>
                    <a:ext cx="20520" cy="25560"/>
                  </a:xfrm>
                  <a:custGeom>
                    <a:avLst/>
                    <a:gdLst/>
                    <a:ahLst/>
                    <a:rect l="l" t="t" r="r" b="b"/>
                    <a:pathLst>
                      <a:path w="62" h="77">
                        <a:moveTo>
                          <a:pt x="49" y="0"/>
                        </a:moveTo>
                        <a:lnTo>
                          <a:pt x="35" y="8"/>
                        </a:lnTo>
                        <a:lnTo>
                          <a:pt x="0" y="60"/>
                        </a:lnTo>
                        <a:lnTo>
                          <a:pt x="28" y="77"/>
                        </a:lnTo>
                        <a:lnTo>
                          <a:pt x="62" y="26"/>
                        </a:lnTo>
                        <a:lnTo>
                          <a:pt x="49" y="35"/>
                        </a:lnTo>
                        <a:lnTo>
                          <a:pt x="49" y="0"/>
                        </a:lnTo>
                        <a:lnTo>
                          <a:pt x="40" y="1"/>
                        </a:lnTo>
                        <a:lnTo>
                          <a:pt x="35" y="8"/>
                        </a:lnTo>
                        <a:lnTo>
                          <a:pt x="4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5" name=""/>
                  <p:cNvSpPr/>
                  <p:nvPr/>
                </p:nvSpPr>
                <p:spPr>
                  <a:xfrm>
                    <a:off x="6029280" y="1817640"/>
                    <a:ext cx="75960" cy="11160"/>
                  </a:xfrm>
                  <a:custGeom>
                    <a:avLst/>
                    <a:gdLst/>
                    <a:ahLst/>
                    <a:rect l="l" t="t" r="r" b="b"/>
                    <a:pathLst>
                      <a:path w="240" h="35">
                        <a:moveTo>
                          <a:pt x="240" y="10"/>
                        </a:moveTo>
                        <a:lnTo>
                          <a:pt x="225" y="0"/>
                        </a:lnTo>
                        <a:lnTo>
                          <a:pt x="0" y="0"/>
                        </a:lnTo>
                        <a:lnTo>
                          <a:pt x="0" y="35"/>
                        </a:lnTo>
                        <a:lnTo>
                          <a:pt x="225" y="35"/>
                        </a:lnTo>
                        <a:lnTo>
                          <a:pt x="210" y="25"/>
                        </a:lnTo>
                        <a:lnTo>
                          <a:pt x="240" y="10"/>
                        </a:lnTo>
                        <a:lnTo>
                          <a:pt x="235" y="0"/>
                        </a:lnTo>
                        <a:lnTo>
                          <a:pt x="225" y="0"/>
                        </a:lnTo>
                        <a:lnTo>
                          <a:pt x="24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6" name=""/>
                  <p:cNvSpPr/>
                  <p:nvPr/>
                </p:nvSpPr>
                <p:spPr>
                  <a:xfrm>
                    <a:off x="6095880" y="1820880"/>
                    <a:ext cx="19080" cy="22320"/>
                  </a:xfrm>
                  <a:custGeom>
                    <a:avLst/>
                    <a:gdLst/>
                    <a:ahLst/>
                    <a:rect l="l" t="t" r="r" b="b"/>
                    <a:pathLst>
                      <a:path w="58" h="66">
                        <a:moveTo>
                          <a:pt x="58" y="58"/>
                        </a:moveTo>
                        <a:lnTo>
                          <a:pt x="55" y="51"/>
                        </a:lnTo>
                        <a:lnTo>
                          <a:pt x="30" y="0"/>
                        </a:lnTo>
                        <a:lnTo>
                          <a:pt x="0" y="15"/>
                        </a:lnTo>
                        <a:lnTo>
                          <a:pt x="25" y="66"/>
                        </a:lnTo>
                        <a:lnTo>
                          <a:pt x="23" y="58"/>
                        </a:lnTo>
                        <a:lnTo>
                          <a:pt x="58" y="58"/>
                        </a:lnTo>
                        <a:lnTo>
                          <a:pt x="58" y="55"/>
                        </a:lnTo>
                        <a:lnTo>
                          <a:pt x="55" y="51"/>
                        </a:lnTo>
                        <a:lnTo>
                          <a:pt x="58" y="5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7" name=""/>
                  <p:cNvSpPr/>
                  <p:nvPr/>
                </p:nvSpPr>
                <p:spPr>
                  <a:xfrm>
                    <a:off x="6103800" y="1839960"/>
                    <a:ext cx="11160" cy="85680"/>
                  </a:xfrm>
                  <a:custGeom>
                    <a:avLst/>
                    <a:gdLst/>
                    <a:ahLst/>
                    <a:rect l="l" t="t" r="r" b="b"/>
                    <a:pathLst>
                      <a:path w="35" h="270">
                        <a:moveTo>
                          <a:pt x="17" y="269"/>
                        </a:moveTo>
                        <a:lnTo>
                          <a:pt x="35" y="252"/>
                        </a:lnTo>
                        <a:lnTo>
                          <a:pt x="35" y="0"/>
                        </a:lnTo>
                        <a:lnTo>
                          <a:pt x="0" y="0"/>
                        </a:lnTo>
                        <a:lnTo>
                          <a:pt x="0" y="252"/>
                        </a:lnTo>
                        <a:lnTo>
                          <a:pt x="17" y="236"/>
                        </a:lnTo>
                        <a:lnTo>
                          <a:pt x="17" y="269"/>
                        </a:lnTo>
                        <a:lnTo>
                          <a:pt x="35" y="270"/>
                        </a:lnTo>
                        <a:lnTo>
                          <a:pt x="35" y="252"/>
                        </a:lnTo>
                        <a:lnTo>
                          <a:pt x="17" y="26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8" name=""/>
                  <p:cNvSpPr/>
                  <p:nvPr/>
                </p:nvSpPr>
                <p:spPr>
                  <a:xfrm>
                    <a:off x="6013440" y="1911240"/>
                    <a:ext cx="95040" cy="14400"/>
                  </a:xfrm>
                  <a:custGeom>
                    <a:avLst/>
                    <a:gdLst/>
                    <a:ahLst/>
                    <a:rect l="l" t="t" r="r" b="b"/>
                    <a:pathLst>
                      <a:path w="303" h="42">
                        <a:moveTo>
                          <a:pt x="0" y="17"/>
                        </a:moveTo>
                        <a:lnTo>
                          <a:pt x="18" y="33"/>
                        </a:lnTo>
                        <a:lnTo>
                          <a:pt x="303" y="42"/>
                        </a:lnTo>
                        <a:lnTo>
                          <a:pt x="303" y="9"/>
                        </a:lnTo>
                        <a:lnTo>
                          <a:pt x="18" y="0"/>
                        </a:lnTo>
                        <a:lnTo>
                          <a:pt x="35" y="17"/>
                        </a:lnTo>
                        <a:lnTo>
                          <a:pt x="0" y="17"/>
                        </a:lnTo>
                        <a:lnTo>
                          <a:pt x="0" y="33"/>
                        </a:lnTo>
                        <a:lnTo>
                          <a:pt x="18" y="33"/>
                        </a:lnTo>
                        <a:lnTo>
                          <a:pt x="0"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9" name=""/>
                  <p:cNvSpPr/>
                  <p:nvPr/>
                </p:nvSpPr>
                <p:spPr>
                  <a:xfrm>
                    <a:off x="6013440" y="1836720"/>
                    <a:ext cx="10800" cy="81000"/>
                  </a:xfrm>
                  <a:custGeom>
                    <a:avLst/>
                    <a:gdLst/>
                    <a:ahLst/>
                    <a:rect l="l" t="t" r="r" b="b"/>
                    <a:pathLst>
                      <a:path w="35" h="252">
                        <a:moveTo>
                          <a:pt x="4" y="0"/>
                        </a:moveTo>
                        <a:lnTo>
                          <a:pt x="0" y="8"/>
                        </a:lnTo>
                        <a:lnTo>
                          <a:pt x="0" y="252"/>
                        </a:lnTo>
                        <a:lnTo>
                          <a:pt x="35" y="252"/>
                        </a:lnTo>
                        <a:lnTo>
                          <a:pt x="35" y="8"/>
                        </a:lnTo>
                        <a:lnTo>
                          <a:pt x="32" y="17"/>
                        </a:lnTo>
                        <a:lnTo>
                          <a:pt x="4" y="0"/>
                        </a:lnTo>
                        <a:lnTo>
                          <a:pt x="2" y="3"/>
                        </a:lnTo>
                        <a:lnTo>
                          <a:pt x="0" y="8"/>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0" name=""/>
                  <p:cNvSpPr/>
                  <p:nvPr/>
                </p:nvSpPr>
                <p:spPr>
                  <a:xfrm>
                    <a:off x="5887800" y="1843200"/>
                    <a:ext cx="292320" cy="552240"/>
                  </a:xfrm>
                  <a:custGeom>
                    <a:avLst/>
                    <a:gdLst/>
                    <a:ahLst/>
                    <a:rect l="l" t="t" r="r" b="b"/>
                    <a:pathLst>
                      <a:path w="921" h="1739">
                        <a:moveTo>
                          <a:pt x="653" y="1412"/>
                        </a:moveTo>
                        <a:lnTo>
                          <a:pt x="539" y="1023"/>
                        </a:lnTo>
                        <a:lnTo>
                          <a:pt x="319" y="1729"/>
                        </a:lnTo>
                        <a:lnTo>
                          <a:pt x="263" y="1739"/>
                        </a:lnTo>
                        <a:lnTo>
                          <a:pt x="207" y="1739"/>
                        </a:lnTo>
                        <a:lnTo>
                          <a:pt x="142" y="1729"/>
                        </a:lnTo>
                        <a:lnTo>
                          <a:pt x="83" y="1698"/>
                        </a:lnTo>
                        <a:lnTo>
                          <a:pt x="38" y="1656"/>
                        </a:lnTo>
                        <a:lnTo>
                          <a:pt x="9" y="1619"/>
                        </a:lnTo>
                        <a:lnTo>
                          <a:pt x="0" y="1603"/>
                        </a:lnTo>
                        <a:lnTo>
                          <a:pt x="271" y="785"/>
                        </a:lnTo>
                        <a:lnTo>
                          <a:pt x="271" y="0"/>
                        </a:lnTo>
                        <a:lnTo>
                          <a:pt x="410" y="0"/>
                        </a:lnTo>
                        <a:lnTo>
                          <a:pt x="410" y="243"/>
                        </a:lnTo>
                        <a:lnTo>
                          <a:pt x="704" y="243"/>
                        </a:lnTo>
                        <a:lnTo>
                          <a:pt x="704" y="0"/>
                        </a:lnTo>
                        <a:lnTo>
                          <a:pt x="844" y="0"/>
                        </a:lnTo>
                        <a:lnTo>
                          <a:pt x="844" y="810"/>
                        </a:lnTo>
                        <a:lnTo>
                          <a:pt x="921" y="1144"/>
                        </a:lnTo>
                        <a:lnTo>
                          <a:pt x="653" y="1412"/>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54480" y="2149560"/>
                    <a:ext cx="46080" cy="142920"/>
                  </a:xfrm>
                  <a:custGeom>
                    <a:avLst/>
                    <a:gdLst/>
                    <a:ahLst/>
                    <a:rect l="l" t="t" r="r" b="b"/>
                    <a:pathLst>
                      <a:path w="146" h="452">
                        <a:moveTo>
                          <a:pt x="33" y="64"/>
                        </a:moveTo>
                        <a:lnTo>
                          <a:pt x="0" y="63"/>
                        </a:lnTo>
                        <a:lnTo>
                          <a:pt x="114" y="452"/>
                        </a:lnTo>
                        <a:lnTo>
                          <a:pt x="146" y="445"/>
                        </a:lnTo>
                        <a:lnTo>
                          <a:pt x="33" y="55"/>
                        </a:lnTo>
                        <a:lnTo>
                          <a:pt x="0" y="54"/>
                        </a:lnTo>
                        <a:lnTo>
                          <a:pt x="33" y="55"/>
                        </a:lnTo>
                        <a:lnTo>
                          <a:pt x="16" y="0"/>
                        </a:lnTo>
                        <a:lnTo>
                          <a:pt x="0" y="54"/>
                        </a:lnTo>
                        <a:lnTo>
                          <a:pt x="3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984640" y="2165400"/>
                    <a:ext cx="79560" cy="231840"/>
                  </a:xfrm>
                  <a:custGeom>
                    <a:avLst/>
                    <a:gdLst/>
                    <a:ahLst/>
                    <a:rect l="l" t="t" r="r" b="b"/>
                    <a:pathLst>
                      <a:path w="253" h="727">
                        <a:moveTo>
                          <a:pt x="18" y="727"/>
                        </a:moveTo>
                        <a:lnTo>
                          <a:pt x="32" y="716"/>
                        </a:lnTo>
                        <a:lnTo>
                          <a:pt x="253" y="10"/>
                        </a:lnTo>
                        <a:lnTo>
                          <a:pt x="220" y="0"/>
                        </a:lnTo>
                        <a:lnTo>
                          <a:pt x="0" y="706"/>
                        </a:lnTo>
                        <a:lnTo>
                          <a:pt x="13" y="695"/>
                        </a:lnTo>
                        <a:lnTo>
                          <a:pt x="18" y="727"/>
                        </a:lnTo>
                        <a:lnTo>
                          <a:pt x="28" y="726"/>
                        </a:lnTo>
                        <a:lnTo>
                          <a:pt x="32" y="716"/>
                        </a:lnTo>
                        <a:lnTo>
                          <a:pt x="18"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970600" y="2386080"/>
                    <a:ext cx="18720" cy="14400"/>
                  </a:xfrm>
                  <a:custGeom>
                    <a:avLst/>
                    <a:gdLst/>
                    <a:ahLst/>
                    <a:rect l="l" t="t" r="r" b="b"/>
                    <a:pathLst>
                      <a:path w="61" h="44">
                        <a:moveTo>
                          <a:pt x="3" y="44"/>
                        </a:moveTo>
                        <a:lnTo>
                          <a:pt x="5" y="42"/>
                        </a:lnTo>
                        <a:lnTo>
                          <a:pt x="61" y="32"/>
                        </a:lnTo>
                        <a:lnTo>
                          <a:pt x="56" y="0"/>
                        </a:lnTo>
                        <a:lnTo>
                          <a:pt x="0" y="10"/>
                        </a:lnTo>
                        <a:lnTo>
                          <a:pt x="3" y="9"/>
                        </a:lnTo>
                        <a:lnTo>
                          <a:pt x="3" y="4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4" name=""/>
                  <p:cNvSpPr/>
                  <p:nvPr/>
                </p:nvSpPr>
                <p:spPr>
                  <a:xfrm>
                    <a:off x="5952960" y="2389320"/>
                    <a:ext cx="19080" cy="11160"/>
                  </a:xfrm>
                  <a:custGeom>
                    <a:avLst/>
                    <a:gdLst/>
                    <a:ahLst/>
                    <a:rect l="l" t="t" r="r" b="b"/>
                    <a:pathLst>
                      <a:path w="59" h="35">
                        <a:moveTo>
                          <a:pt x="0" y="33"/>
                        </a:moveTo>
                        <a:lnTo>
                          <a:pt x="3" y="35"/>
                        </a:lnTo>
                        <a:lnTo>
                          <a:pt x="59" y="35"/>
                        </a:lnTo>
                        <a:lnTo>
                          <a:pt x="59" y="0"/>
                        </a:lnTo>
                        <a:lnTo>
                          <a:pt x="3" y="0"/>
                        </a:lnTo>
                        <a:lnTo>
                          <a:pt x="5" y="1"/>
                        </a:lnTo>
                        <a:lnTo>
                          <a:pt x="0"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5" name=""/>
                  <p:cNvSpPr/>
                  <p:nvPr/>
                </p:nvSpPr>
                <p:spPr>
                  <a:xfrm>
                    <a:off x="5930640" y="2386080"/>
                    <a:ext cx="23760" cy="14400"/>
                  </a:xfrm>
                  <a:custGeom>
                    <a:avLst/>
                    <a:gdLst/>
                    <a:ahLst/>
                    <a:rect l="l" t="t" r="r" b="b"/>
                    <a:pathLst>
                      <a:path w="75" h="42">
                        <a:moveTo>
                          <a:pt x="0" y="31"/>
                        </a:moveTo>
                        <a:lnTo>
                          <a:pt x="5" y="32"/>
                        </a:lnTo>
                        <a:lnTo>
                          <a:pt x="70" y="42"/>
                        </a:lnTo>
                        <a:lnTo>
                          <a:pt x="75" y="10"/>
                        </a:lnTo>
                        <a:lnTo>
                          <a:pt x="10" y="0"/>
                        </a:lnTo>
                        <a:lnTo>
                          <a:pt x="15" y="1"/>
                        </a:lnTo>
                        <a:lnTo>
                          <a:pt x="0" y="31"/>
                        </a:lnTo>
                        <a:lnTo>
                          <a:pt x="3" y="32"/>
                        </a:lnTo>
                        <a:lnTo>
                          <a:pt x="5" y="32"/>
                        </a:lnTo>
                        <a:lnTo>
                          <a:pt x="0"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6" name=""/>
                  <p:cNvSpPr/>
                  <p:nvPr/>
                </p:nvSpPr>
                <p:spPr>
                  <a:xfrm>
                    <a:off x="5911560" y="2376360"/>
                    <a:ext cx="24120" cy="20880"/>
                  </a:xfrm>
                  <a:custGeom>
                    <a:avLst/>
                    <a:gdLst/>
                    <a:ahLst/>
                    <a:rect l="l" t="t" r="r" b="b"/>
                    <a:pathLst>
                      <a:path w="77" h="61">
                        <a:moveTo>
                          <a:pt x="0" y="27"/>
                        </a:moveTo>
                        <a:lnTo>
                          <a:pt x="4" y="30"/>
                        </a:lnTo>
                        <a:lnTo>
                          <a:pt x="62" y="61"/>
                        </a:lnTo>
                        <a:lnTo>
                          <a:pt x="77" y="31"/>
                        </a:lnTo>
                        <a:lnTo>
                          <a:pt x="19" y="0"/>
                        </a:lnTo>
                        <a:lnTo>
                          <a:pt x="22" y="3"/>
                        </a:lnTo>
                        <a:lnTo>
                          <a:pt x="0" y="27"/>
                        </a:lnTo>
                        <a:lnTo>
                          <a:pt x="1" y="29"/>
                        </a:lnTo>
                        <a:lnTo>
                          <a:pt x="4" y="30"/>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7" name=""/>
                  <p:cNvSpPr/>
                  <p:nvPr/>
                </p:nvSpPr>
                <p:spPr>
                  <a:xfrm>
                    <a:off x="5895720" y="2363760"/>
                    <a:ext cx="22320" cy="22320"/>
                  </a:xfrm>
                  <a:custGeom>
                    <a:avLst/>
                    <a:gdLst/>
                    <a:ahLst/>
                    <a:rect l="l" t="t" r="r" b="b"/>
                    <a:pathLst>
                      <a:path w="68" h="67">
                        <a:moveTo>
                          <a:pt x="0" y="23"/>
                        </a:moveTo>
                        <a:lnTo>
                          <a:pt x="1" y="25"/>
                        </a:lnTo>
                        <a:lnTo>
                          <a:pt x="46" y="67"/>
                        </a:lnTo>
                        <a:lnTo>
                          <a:pt x="68" y="43"/>
                        </a:lnTo>
                        <a:lnTo>
                          <a:pt x="23" y="0"/>
                        </a:lnTo>
                        <a:lnTo>
                          <a:pt x="25" y="3"/>
                        </a:lnTo>
                        <a:lnTo>
                          <a:pt x="0" y="2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8" name=""/>
                  <p:cNvSpPr/>
                  <p:nvPr/>
                </p:nvSpPr>
                <p:spPr>
                  <a:xfrm>
                    <a:off x="5886360" y="2354400"/>
                    <a:ext cx="17280" cy="17280"/>
                  </a:xfrm>
                  <a:custGeom>
                    <a:avLst/>
                    <a:gdLst/>
                    <a:ahLst/>
                    <a:rect l="l" t="t" r="r" b="b"/>
                    <a:pathLst>
                      <a:path w="55" h="57">
                        <a:moveTo>
                          <a:pt x="0" y="19"/>
                        </a:moveTo>
                        <a:lnTo>
                          <a:pt x="1" y="20"/>
                        </a:lnTo>
                        <a:lnTo>
                          <a:pt x="30" y="57"/>
                        </a:lnTo>
                        <a:lnTo>
                          <a:pt x="55" y="37"/>
                        </a:lnTo>
                        <a:lnTo>
                          <a:pt x="26" y="0"/>
                        </a:lnTo>
                        <a:lnTo>
                          <a:pt x="27" y="2"/>
                        </a:lnTo>
                        <a:lnTo>
                          <a:pt x="0" y="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9" name=""/>
                  <p:cNvSpPr/>
                  <p:nvPr/>
                </p:nvSpPr>
                <p:spPr>
                  <a:xfrm>
                    <a:off x="5881680" y="2349360"/>
                    <a:ext cx="14040" cy="9720"/>
                  </a:xfrm>
                  <a:custGeom>
                    <a:avLst/>
                    <a:gdLst/>
                    <a:ahLst/>
                    <a:rect l="l" t="t" r="r" b="b"/>
                    <a:pathLst>
                      <a:path w="42" h="34">
                        <a:moveTo>
                          <a:pt x="2" y="4"/>
                        </a:moveTo>
                        <a:lnTo>
                          <a:pt x="5" y="18"/>
                        </a:lnTo>
                        <a:lnTo>
                          <a:pt x="15" y="34"/>
                        </a:lnTo>
                        <a:lnTo>
                          <a:pt x="42" y="17"/>
                        </a:lnTo>
                        <a:lnTo>
                          <a:pt x="32" y="0"/>
                        </a:lnTo>
                        <a:lnTo>
                          <a:pt x="35" y="14"/>
                        </a:lnTo>
                        <a:lnTo>
                          <a:pt x="2" y="4"/>
                        </a:lnTo>
                        <a:lnTo>
                          <a:pt x="0" y="10"/>
                        </a:lnTo>
                        <a:lnTo>
                          <a:pt x="5" y="18"/>
                        </a:lnTo>
                        <a:lnTo>
                          <a:pt x="2"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0" name=""/>
                  <p:cNvSpPr/>
                  <p:nvPr/>
                </p:nvSpPr>
                <p:spPr>
                  <a:xfrm>
                    <a:off x="5883120" y="2090880"/>
                    <a:ext cx="96840" cy="261720"/>
                  </a:xfrm>
                  <a:custGeom>
                    <a:avLst/>
                    <a:gdLst/>
                    <a:ahLst/>
                    <a:rect l="l" t="t" r="r" b="b"/>
                    <a:pathLst>
                      <a:path w="306" h="828">
                        <a:moveTo>
                          <a:pt x="271" y="5"/>
                        </a:moveTo>
                        <a:lnTo>
                          <a:pt x="272" y="0"/>
                        </a:lnTo>
                        <a:lnTo>
                          <a:pt x="0" y="818"/>
                        </a:lnTo>
                        <a:lnTo>
                          <a:pt x="33" y="828"/>
                        </a:lnTo>
                        <a:lnTo>
                          <a:pt x="305" y="10"/>
                        </a:lnTo>
                        <a:lnTo>
                          <a:pt x="306" y="5"/>
                        </a:lnTo>
                        <a:lnTo>
                          <a:pt x="305" y="10"/>
                        </a:lnTo>
                        <a:lnTo>
                          <a:pt x="306" y="7"/>
                        </a:lnTo>
                        <a:lnTo>
                          <a:pt x="306" y="5"/>
                        </a:lnTo>
                        <a:lnTo>
                          <a:pt x="27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968800" y="1836720"/>
                    <a:ext cx="11160" cy="255600"/>
                  </a:xfrm>
                  <a:custGeom>
                    <a:avLst/>
                    <a:gdLst/>
                    <a:ahLst/>
                    <a:rect l="l" t="t" r="r" b="b"/>
                    <a:pathLst>
                      <a:path w="35" h="802">
                        <a:moveTo>
                          <a:pt x="17" y="0"/>
                        </a:moveTo>
                        <a:lnTo>
                          <a:pt x="0" y="17"/>
                        </a:lnTo>
                        <a:lnTo>
                          <a:pt x="0" y="802"/>
                        </a:lnTo>
                        <a:lnTo>
                          <a:pt x="35" y="802"/>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973480" y="1836720"/>
                    <a:ext cx="50760" cy="11160"/>
                  </a:xfrm>
                  <a:custGeom>
                    <a:avLst/>
                    <a:gdLst/>
                    <a:ahLst/>
                    <a:rect l="l" t="t" r="r" b="b"/>
                    <a:pathLst>
                      <a:path w="156" h="35">
                        <a:moveTo>
                          <a:pt x="156" y="17"/>
                        </a:moveTo>
                        <a:lnTo>
                          <a:pt x="139" y="0"/>
                        </a:lnTo>
                        <a:lnTo>
                          <a:pt x="0" y="0"/>
                        </a:lnTo>
                        <a:lnTo>
                          <a:pt x="0" y="35"/>
                        </a:lnTo>
                        <a:lnTo>
                          <a:pt x="139" y="35"/>
                        </a:lnTo>
                        <a:lnTo>
                          <a:pt x="121" y="17"/>
                        </a:lnTo>
                        <a:lnTo>
                          <a:pt x="156" y="17"/>
                        </a:lnTo>
                        <a:lnTo>
                          <a:pt x="156" y="0"/>
                        </a:lnTo>
                        <a:lnTo>
                          <a:pt x="139" y="0"/>
                        </a:lnTo>
                        <a:lnTo>
                          <a:pt x="156"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
                  <p:cNvSpPr/>
                  <p:nvPr/>
                </p:nvSpPr>
                <p:spPr>
                  <a:xfrm>
                    <a:off x="6013440" y="1843200"/>
                    <a:ext cx="10800" cy="82440"/>
                  </a:xfrm>
                  <a:custGeom>
                    <a:avLst/>
                    <a:gdLst/>
                    <a:ahLst/>
                    <a:rect l="l" t="t" r="r" b="b"/>
                    <a:pathLst>
                      <a:path w="35" h="261">
                        <a:moveTo>
                          <a:pt x="18" y="226"/>
                        </a:moveTo>
                        <a:lnTo>
                          <a:pt x="35" y="243"/>
                        </a:lnTo>
                        <a:lnTo>
                          <a:pt x="35" y="0"/>
                        </a:lnTo>
                        <a:lnTo>
                          <a:pt x="0" y="0"/>
                        </a:lnTo>
                        <a:lnTo>
                          <a:pt x="0" y="243"/>
                        </a:lnTo>
                        <a:lnTo>
                          <a:pt x="18" y="261"/>
                        </a:lnTo>
                        <a:lnTo>
                          <a:pt x="0" y="243"/>
                        </a:lnTo>
                        <a:lnTo>
                          <a:pt x="0" y="261"/>
                        </a:lnTo>
                        <a:lnTo>
                          <a:pt x="18" y="261"/>
                        </a:lnTo>
                        <a:lnTo>
                          <a:pt x="18" y="22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4" name=""/>
                  <p:cNvSpPr/>
                  <p:nvPr/>
                </p:nvSpPr>
                <p:spPr>
                  <a:xfrm>
                    <a:off x="6018120" y="1914480"/>
                    <a:ext cx="100080" cy="11160"/>
                  </a:xfrm>
                  <a:custGeom>
                    <a:avLst/>
                    <a:gdLst/>
                    <a:ahLst/>
                    <a:rect l="l" t="t" r="r" b="b"/>
                    <a:pathLst>
                      <a:path w="312" h="35">
                        <a:moveTo>
                          <a:pt x="277" y="17"/>
                        </a:moveTo>
                        <a:lnTo>
                          <a:pt x="294" y="0"/>
                        </a:lnTo>
                        <a:lnTo>
                          <a:pt x="0" y="0"/>
                        </a:lnTo>
                        <a:lnTo>
                          <a:pt x="0" y="35"/>
                        </a:lnTo>
                        <a:lnTo>
                          <a:pt x="294" y="35"/>
                        </a:lnTo>
                        <a:lnTo>
                          <a:pt x="312" y="17"/>
                        </a:lnTo>
                        <a:lnTo>
                          <a:pt x="294" y="35"/>
                        </a:lnTo>
                        <a:lnTo>
                          <a:pt x="312" y="35"/>
                        </a:lnTo>
                        <a:lnTo>
                          <a:pt x="312" y="17"/>
                        </a:lnTo>
                        <a:lnTo>
                          <a:pt x="277"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5" name=""/>
                  <p:cNvSpPr/>
                  <p:nvPr/>
                </p:nvSpPr>
                <p:spPr>
                  <a:xfrm>
                    <a:off x="6107040" y="1836720"/>
                    <a:ext cx="11160" cy="82440"/>
                  </a:xfrm>
                  <a:custGeom>
                    <a:avLst/>
                    <a:gdLst/>
                    <a:ahLst/>
                    <a:rect l="l" t="t" r="r" b="b"/>
                    <a:pathLst>
                      <a:path w="35" h="260">
                        <a:moveTo>
                          <a:pt x="17" y="0"/>
                        </a:moveTo>
                        <a:lnTo>
                          <a:pt x="0" y="17"/>
                        </a:lnTo>
                        <a:lnTo>
                          <a:pt x="0" y="260"/>
                        </a:lnTo>
                        <a:lnTo>
                          <a:pt x="35" y="260"/>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6" name=""/>
                  <p:cNvSpPr/>
                  <p:nvPr/>
                </p:nvSpPr>
                <p:spPr>
                  <a:xfrm>
                    <a:off x="6111720" y="1836720"/>
                    <a:ext cx="49320" cy="11160"/>
                  </a:xfrm>
                  <a:custGeom>
                    <a:avLst/>
                    <a:gdLst/>
                    <a:ahLst/>
                    <a:rect l="l" t="t" r="r" b="b"/>
                    <a:pathLst>
                      <a:path w="157" h="35">
                        <a:moveTo>
                          <a:pt x="157" y="17"/>
                        </a:moveTo>
                        <a:lnTo>
                          <a:pt x="140" y="0"/>
                        </a:lnTo>
                        <a:lnTo>
                          <a:pt x="0" y="0"/>
                        </a:lnTo>
                        <a:lnTo>
                          <a:pt x="0" y="35"/>
                        </a:lnTo>
                        <a:lnTo>
                          <a:pt x="140" y="35"/>
                        </a:lnTo>
                        <a:lnTo>
                          <a:pt x="122" y="17"/>
                        </a:lnTo>
                        <a:lnTo>
                          <a:pt x="157" y="17"/>
                        </a:lnTo>
                        <a:lnTo>
                          <a:pt x="157" y="0"/>
                        </a:lnTo>
                        <a:lnTo>
                          <a:pt x="140" y="0"/>
                        </a:lnTo>
                        <a:lnTo>
                          <a:pt x="157"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7" name=""/>
                  <p:cNvSpPr/>
                  <p:nvPr/>
                </p:nvSpPr>
                <p:spPr>
                  <a:xfrm>
                    <a:off x="6149880" y="1843200"/>
                    <a:ext cx="11160" cy="257040"/>
                  </a:xfrm>
                  <a:custGeom>
                    <a:avLst/>
                    <a:gdLst/>
                    <a:ahLst/>
                    <a:rect l="l" t="t" r="r" b="b"/>
                    <a:pathLst>
                      <a:path w="35" h="813">
                        <a:moveTo>
                          <a:pt x="34" y="806"/>
                        </a:moveTo>
                        <a:lnTo>
                          <a:pt x="35" y="810"/>
                        </a:lnTo>
                        <a:lnTo>
                          <a:pt x="35" y="0"/>
                        </a:lnTo>
                        <a:lnTo>
                          <a:pt x="0" y="0"/>
                        </a:lnTo>
                        <a:lnTo>
                          <a:pt x="0" y="810"/>
                        </a:lnTo>
                        <a:lnTo>
                          <a:pt x="2" y="813"/>
                        </a:lnTo>
                        <a:lnTo>
                          <a:pt x="0" y="810"/>
                        </a:lnTo>
                        <a:lnTo>
                          <a:pt x="2" y="811"/>
                        </a:lnTo>
                        <a:lnTo>
                          <a:pt x="2" y="813"/>
                        </a:lnTo>
                        <a:lnTo>
                          <a:pt x="34"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151320" y="2098800"/>
                    <a:ext cx="34920" cy="110880"/>
                  </a:xfrm>
                  <a:custGeom>
                    <a:avLst/>
                    <a:gdLst/>
                    <a:ahLst/>
                    <a:rect l="l" t="t" r="r" b="b"/>
                    <a:pathLst>
                      <a:path w="112" h="349">
                        <a:moveTo>
                          <a:pt x="104" y="349"/>
                        </a:moveTo>
                        <a:lnTo>
                          <a:pt x="109" y="334"/>
                        </a:lnTo>
                        <a:lnTo>
                          <a:pt x="32" y="0"/>
                        </a:lnTo>
                        <a:lnTo>
                          <a:pt x="0" y="7"/>
                        </a:lnTo>
                        <a:lnTo>
                          <a:pt x="77" y="342"/>
                        </a:lnTo>
                        <a:lnTo>
                          <a:pt x="82" y="327"/>
                        </a:lnTo>
                        <a:lnTo>
                          <a:pt x="104" y="349"/>
                        </a:lnTo>
                        <a:lnTo>
                          <a:pt x="112" y="343"/>
                        </a:lnTo>
                        <a:lnTo>
                          <a:pt x="109" y="334"/>
                        </a:lnTo>
                        <a:lnTo>
                          <a:pt x="104"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091200" y="2201760"/>
                    <a:ext cx="93600" cy="100080"/>
                  </a:xfrm>
                  <a:custGeom>
                    <a:avLst/>
                    <a:gdLst/>
                    <a:ahLst/>
                    <a:rect l="l" t="t" r="r" b="b"/>
                    <a:pathLst>
                      <a:path w="295" h="312">
                        <a:moveTo>
                          <a:pt x="0" y="283"/>
                        </a:moveTo>
                        <a:lnTo>
                          <a:pt x="27" y="291"/>
                        </a:lnTo>
                        <a:lnTo>
                          <a:pt x="295" y="22"/>
                        </a:lnTo>
                        <a:lnTo>
                          <a:pt x="273" y="0"/>
                        </a:lnTo>
                        <a:lnTo>
                          <a:pt x="5" y="268"/>
                        </a:lnTo>
                        <a:lnTo>
                          <a:pt x="32" y="276"/>
                        </a:lnTo>
                        <a:lnTo>
                          <a:pt x="0" y="283"/>
                        </a:lnTo>
                        <a:lnTo>
                          <a:pt x="8" y="312"/>
                        </a:lnTo>
                        <a:lnTo>
                          <a:pt x="27" y="291"/>
                        </a:lnTo>
                        <a:lnTo>
                          <a:pt x="0"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154560" y="1847880"/>
                    <a:ext cx="47520" cy="217440"/>
                  </a:xfrm>
                  <a:custGeom>
                    <a:avLst/>
                    <a:gdLst/>
                    <a:ahLst/>
                    <a:rect l="l" t="t" r="r" b="b"/>
                    <a:pathLst>
                      <a:path w="152" h="684">
                        <a:moveTo>
                          <a:pt x="0" y="0"/>
                        </a:moveTo>
                        <a:lnTo>
                          <a:pt x="31" y="1"/>
                        </a:lnTo>
                        <a:lnTo>
                          <a:pt x="60" y="11"/>
                        </a:lnTo>
                        <a:lnTo>
                          <a:pt x="85" y="24"/>
                        </a:lnTo>
                        <a:lnTo>
                          <a:pt x="107" y="43"/>
                        </a:lnTo>
                        <a:lnTo>
                          <a:pt x="139" y="92"/>
                        </a:lnTo>
                        <a:lnTo>
                          <a:pt x="149" y="121"/>
                        </a:lnTo>
                        <a:lnTo>
                          <a:pt x="152" y="152"/>
                        </a:lnTo>
                        <a:lnTo>
                          <a:pt x="152" y="571"/>
                        </a:lnTo>
                        <a:lnTo>
                          <a:pt x="139" y="620"/>
                        </a:lnTo>
                        <a:lnTo>
                          <a:pt x="106" y="655"/>
                        </a:lnTo>
                        <a:lnTo>
                          <a:pt x="60" y="677"/>
                        </a:lnTo>
                        <a:lnTo>
                          <a:pt x="5" y="684"/>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54560" y="1843200"/>
                    <a:ext cx="11160" cy="11160"/>
                  </a:xfrm>
                  <a:custGeom>
                    <a:avLst/>
                    <a:gdLst/>
                    <a:ahLst/>
                    <a:rect l="l" t="t" r="r" b="b"/>
                    <a:pathLst>
                      <a:path w="36" h="34">
                        <a:moveTo>
                          <a:pt x="36" y="2"/>
                        </a:moveTo>
                        <a:lnTo>
                          <a:pt x="31" y="2"/>
                        </a:lnTo>
                        <a:lnTo>
                          <a:pt x="0" y="0"/>
                        </a:lnTo>
                        <a:lnTo>
                          <a:pt x="0" y="33"/>
                        </a:lnTo>
                        <a:lnTo>
                          <a:pt x="31" y="34"/>
                        </a:lnTo>
                        <a:lnTo>
                          <a:pt x="26" y="34"/>
                        </a:lnTo>
                        <a:lnTo>
                          <a:pt x="36" y="2"/>
                        </a:lnTo>
                        <a:lnTo>
                          <a:pt x="33" y="2"/>
                        </a:lnTo>
                        <a:lnTo>
                          <a:pt x="31" y="0"/>
                        </a:lnTo>
                        <a:lnTo>
                          <a:pt x="36"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2" name=""/>
                  <p:cNvSpPr/>
                  <p:nvPr/>
                </p:nvSpPr>
                <p:spPr>
                  <a:xfrm>
                    <a:off x="6162480" y="1843200"/>
                    <a:ext cx="12600" cy="14040"/>
                  </a:xfrm>
                  <a:custGeom>
                    <a:avLst/>
                    <a:gdLst/>
                    <a:ahLst/>
                    <a:rect l="l" t="t" r="r" b="b"/>
                    <a:pathLst>
                      <a:path w="41" h="42">
                        <a:moveTo>
                          <a:pt x="41" y="11"/>
                        </a:moveTo>
                        <a:lnTo>
                          <a:pt x="39" y="10"/>
                        </a:lnTo>
                        <a:lnTo>
                          <a:pt x="10" y="0"/>
                        </a:lnTo>
                        <a:lnTo>
                          <a:pt x="0" y="32"/>
                        </a:lnTo>
                        <a:lnTo>
                          <a:pt x="29" y="42"/>
                        </a:lnTo>
                        <a:lnTo>
                          <a:pt x="26" y="41"/>
                        </a:lnTo>
                        <a:lnTo>
                          <a:pt x="41" y="1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3" name=""/>
                  <p:cNvSpPr/>
                  <p:nvPr/>
                </p:nvSpPr>
                <p:spPr>
                  <a:xfrm>
                    <a:off x="6170400" y="1847880"/>
                    <a:ext cx="14400" cy="12600"/>
                  </a:xfrm>
                  <a:custGeom>
                    <a:avLst/>
                    <a:gdLst/>
                    <a:ahLst/>
                    <a:rect l="l" t="t" r="r" b="b"/>
                    <a:pathLst>
                      <a:path w="43" h="43">
                        <a:moveTo>
                          <a:pt x="43" y="16"/>
                        </a:moveTo>
                        <a:lnTo>
                          <a:pt x="40" y="14"/>
                        </a:lnTo>
                        <a:lnTo>
                          <a:pt x="15" y="0"/>
                        </a:lnTo>
                        <a:lnTo>
                          <a:pt x="0" y="30"/>
                        </a:lnTo>
                        <a:lnTo>
                          <a:pt x="25" y="43"/>
                        </a:lnTo>
                        <a:lnTo>
                          <a:pt x="23" y="41"/>
                        </a:lnTo>
                        <a:lnTo>
                          <a:pt x="43" y="16"/>
                        </a:lnTo>
                        <a:lnTo>
                          <a:pt x="41" y="15"/>
                        </a:lnTo>
                        <a:lnTo>
                          <a:pt x="40" y="14"/>
                        </a:lnTo>
                        <a:lnTo>
                          <a:pt x="43"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4" name=""/>
                  <p:cNvSpPr/>
                  <p:nvPr/>
                </p:nvSpPr>
                <p:spPr>
                  <a:xfrm>
                    <a:off x="6178320" y="1852560"/>
                    <a:ext cx="14400" cy="14400"/>
                  </a:xfrm>
                  <a:custGeom>
                    <a:avLst/>
                    <a:gdLst/>
                    <a:ahLst/>
                    <a:rect l="l" t="t" r="r" b="b"/>
                    <a:pathLst>
                      <a:path w="46" h="44">
                        <a:moveTo>
                          <a:pt x="46" y="22"/>
                        </a:moveTo>
                        <a:lnTo>
                          <a:pt x="42" y="19"/>
                        </a:lnTo>
                        <a:lnTo>
                          <a:pt x="20" y="0"/>
                        </a:lnTo>
                        <a:lnTo>
                          <a:pt x="0" y="25"/>
                        </a:lnTo>
                        <a:lnTo>
                          <a:pt x="22" y="44"/>
                        </a:lnTo>
                        <a:lnTo>
                          <a:pt x="18" y="40"/>
                        </a:lnTo>
                        <a:lnTo>
                          <a:pt x="46" y="22"/>
                        </a:lnTo>
                        <a:lnTo>
                          <a:pt x="44" y="20"/>
                        </a:lnTo>
                        <a:lnTo>
                          <a:pt x="42" y="19"/>
                        </a:lnTo>
                        <a:lnTo>
                          <a:pt x="46"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5" name=""/>
                  <p:cNvSpPr/>
                  <p:nvPr/>
                </p:nvSpPr>
                <p:spPr>
                  <a:xfrm>
                    <a:off x="6184800" y="1859040"/>
                    <a:ext cx="19080" cy="22320"/>
                  </a:xfrm>
                  <a:custGeom>
                    <a:avLst/>
                    <a:gdLst/>
                    <a:ahLst/>
                    <a:rect l="l" t="t" r="r" b="b"/>
                    <a:pathLst>
                      <a:path w="63" h="67">
                        <a:moveTo>
                          <a:pt x="63" y="53"/>
                        </a:moveTo>
                        <a:lnTo>
                          <a:pt x="60" y="49"/>
                        </a:lnTo>
                        <a:lnTo>
                          <a:pt x="28" y="0"/>
                        </a:lnTo>
                        <a:lnTo>
                          <a:pt x="0" y="18"/>
                        </a:lnTo>
                        <a:lnTo>
                          <a:pt x="33" y="67"/>
                        </a:lnTo>
                        <a:lnTo>
                          <a:pt x="30" y="63"/>
                        </a:lnTo>
                        <a:lnTo>
                          <a:pt x="63" y="53"/>
                        </a:lnTo>
                        <a:lnTo>
                          <a:pt x="61" y="50"/>
                        </a:lnTo>
                        <a:lnTo>
                          <a:pt x="60" y="49"/>
                        </a:lnTo>
                        <a:lnTo>
                          <a:pt x="63" y="5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36" name=""/>
                  <p:cNvSpPr/>
                  <p:nvPr/>
                </p:nvSpPr>
                <p:spPr>
                  <a:xfrm>
                    <a:off x="6194160" y="1876320"/>
                    <a:ext cx="12960" cy="12960"/>
                  </a:xfrm>
                  <a:custGeom>
                    <a:avLst/>
                    <a:gdLst/>
                    <a:ahLst/>
                    <a:rect l="l" t="t" r="r" b="b"/>
                    <a:pathLst>
                      <a:path w="43" h="39">
                        <a:moveTo>
                          <a:pt x="43" y="32"/>
                        </a:moveTo>
                        <a:lnTo>
                          <a:pt x="43" y="29"/>
                        </a:lnTo>
                        <a:lnTo>
                          <a:pt x="33" y="0"/>
                        </a:lnTo>
                        <a:lnTo>
                          <a:pt x="0" y="10"/>
                        </a:lnTo>
                        <a:lnTo>
                          <a:pt x="10" y="39"/>
                        </a:lnTo>
                        <a:lnTo>
                          <a:pt x="10" y="35"/>
                        </a:lnTo>
                        <a:lnTo>
                          <a:pt x="43" y="32"/>
                        </a:lnTo>
                        <a:lnTo>
                          <a:pt x="43" y="31"/>
                        </a:lnTo>
                        <a:lnTo>
                          <a:pt x="43" y="29"/>
                        </a:lnTo>
                        <a:lnTo>
                          <a:pt x="43" y="3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 name=""/>
                  <p:cNvSpPr/>
                  <p:nvPr/>
                </p:nvSpPr>
                <p:spPr>
                  <a:xfrm>
                    <a:off x="6197400" y="1886040"/>
                    <a:ext cx="11160" cy="11160"/>
                  </a:xfrm>
                  <a:custGeom>
                    <a:avLst/>
                    <a:gdLst/>
                    <a:ahLst/>
                    <a:rect l="l" t="t" r="r" b="b"/>
                    <a:pathLst>
                      <a:path w="36" h="34">
                        <a:moveTo>
                          <a:pt x="36" y="33"/>
                        </a:moveTo>
                        <a:lnTo>
                          <a:pt x="35" y="31"/>
                        </a:lnTo>
                        <a:lnTo>
                          <a:pt x="33" y="0"/>
                        </a:lnTo>
                        <a:lnTo>
                          <a:pt x="0" y="3"/>
                        </a:lnTo>
                        <a:lnTo>
                          <a:pt x="3" y="34"/>
                        </a:lnTo>
                        <a:lnTo>
                          <a:pt x="1" y="33"/>
                        </a:lnTo>
                        <a:lnTo>
                          <a:pt x="36"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8" name=""/>
                  <p:cNvSpPr/>
                  <p:nvPr/>
                </p:nvSpPr>
                <p:spPr>
                  <a:xfrm>
                    <a:off x="6197400" y="1897200"/>
                    <a:ext cx="11160" cy="133200"/>
                  </a:xfrm>
                  <a:custGeom>
                    <a:avLst/>
                    <a:gdLst/>
                    <a:ahLst/>
                    <a:rect l="l" t="t" r="r" b="b"/>
                    <a:pathLst>
                      <a:path w="35" h="423">
                        <a:moveTo>
                          <a:pt x="34" y="423"/>
                        </a:moveTo>
                        <a:lnTo>
                          <a:pt x="35" y="419"/>
                        </a:lnTo>
                        <a:lnTo>
                          <a:pt x="35" y="0"/>
                        </a:lnTo>
                        <a:lnTo>
                          <a:pt x="0" y="0"/>
                        </a:lnTo>
                        <a:lnTo>
                          <a:pt x="0" y="419"/>
                        </a:lnTo>
                        <a:lnTo>
                          <a:pt x="2" y="415"/>
                        </a:lnTo>
                        <a:lnTo>
                          <a:pt x="34" y="423"/>
                        </a:lnTo>
                        <a:lnTo>
                          <a:pt x="35" y="420"/>
                        </a:lnTo>
                        <a:lnTo>
                          <a:pt x="35" y="419"/>
                        </a:lnTo>
                        <a:lnTo>
                          <a:pt x="34"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194160" y="2028960"/>
                    <a:ext cx="14400" cy="20520"/>
                  </a:xfrm>
                  <a:custGeom>
                    <a:avLst/>
                    <a:gdLst/>
                    <a:ahLst/>
                    <a:rect l="l" t="t" r="r" b="b"/>
                    <a:pathLst>
                      <a:path w="45" h="64">
                        <a:moveTo>
                          <a:pt x="29" y="64"/>
                        </a:moveTo>
                        <a:lnTo>
                          <a:pt x="33" y="56"/>
                        </a:lnTo>
                        <a:lnTo>
                          <a:pt x="45" y="8"/>
                        </a:lnTo>
                        <a:lnTo>
                          <a:pt x="13" y="0"/>
                        </a:lnTo>
                        <a:lnTo>
                          <a:pt x="0" y="49"/>
                        </a:lnTo>
                        <a:lnTo>
                          <a:pt x="4" y="41"/>
                        </a:lnTo>
                        <a:lnTo>
                          <a:pt x="29" y="64"/>
                        </a:lnTo>
                        <a:lnTo>
                          <a:pt x="31" y="61"/>
                        </a:lnTo>
                        <a:lnTo>
                          <a:pt x="33" y="56"/>
                        </a:lnTo>
                        <a:lnTo>
                          <a:pt x="29" y="6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0" name=""/>
                  <p:cNvSpPr/>
                  <p:nvPr/>
                </p:nvSpPr>
                <p:spPr>
                  <a:xfrm>
                    <a:off x="6184800" y="2041560"/>
                    <a:ext cx="17280" cy="19080"/>
                  </a:xfrm>
                  <a:custGeom>
                    <a:avLst/>
                    <a:gdLst/>
                    <a:ahLst/>
                    <a:rect l="l" t="t" r="r" b="b"/>
                    <a:pathLst>
                      <a:path w="59" h="61">
                        <a:moveTo>
                          <a:pt x="20" y="61"/>
                        </a:moveTo>
                        <a:lnTo>
                          <a:pt x="25" y="58"/>
                        </a:lnTo>
                        <a:lnTo>
                          <a:pt x="59" y="23"/>
                        </a:lnTo>
                        <a:lnTo>
                          <a:pt x="34" y="0"/>
                        </a:lnTo>
                        <a:lnTo>
                          <a:pt x="0" y="35"/>
                        </a:lnTo>
                        <a:lnTo>
                          <a:pt x="5" y="32"/>
                        </a:lnTo>
                        <a:lnTo>
                          <a:pt x="20" y="61"/>
                        </a:lnTo>
                        <a:lnTo>
                          <a:pt x="23" y="60"/>
                        </a:lnTo>
                        <a:lnTo>
                          <a:pt x="25" y="58"/>
                        </a:lnTo>
                        <a:lnTo>
                          <a:pt x="20"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1" name=""/>
                  <p:cNvSpPr/>
                  <p:nvPr/>
                </p:nvSpPr>
                <p:spPr>
                  <a:xfrm>
                    <a:off x="6170400" y="2050920"/>
                    <a:ext cx="20880" cy="17640"/>
                  </a:xfrm>
                  <a:custGeom>
                    <a:avLst/>
                    <a:gdLst/>
                    <a:ahLst/>
                    <a:rect l="l" t="t" r="r" b="b"/>
                    <a:pathLst>
                      <a:path w="61" h="53">
                        <a:moveTo>
                          <a:pt x="9" y="53"/>
                        </a:moveTo>
                        <a:lnTo>
                          <a:pt x="15" y="52"/>
                        </a:lnTo>
                        <a:lnTo>
                          <a:pt x="61" y="29"/>
                        </a:lnTo>
                        <a:lnTo>
                          <a:pt x="46" y="0"/>
                        </a:lnTo>
                        <a:lnTo>
                          <a:pt x="0" y="22"/>
                        </a:lnTo>
                        <a:lnTo>
                          <a:pt x="6" y="21"/>
                        </a:lnTo>
                        <a:lnTo>
                          <a:pt x="9" y="53"/>
                        </a:lnTo>
                        <a:lnTo>
                          <a:pt x="13" y="53"/>
                        </a:lnTo>
                        <a:lnTo>
                          <a:pt x="15" y="52"/>
                        </a:lnTo>
                        <a:lnTo>
                          <a:pt x="9"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2" name=""/>
                  <p:cNvSpPr/>
                  <p:nvPr/>
                </p:nvSpPr>
                <p:spPr>
                  <a:xfrm>
                    <a:off x="6149880" y="2058840"/>
                    <a:ext cx="23760" cy="12960"/>
                  </a:xfrm>
                  <a:custGeom>
                    <a:avLst/>
                    <a:gdLst/>
                    <a:ahLst/>
                    <a:rect l="l" t="t" r="r" b="b"/>
                    <a:pathLst>
                      <a:path w="74" h="42">
                        <a:moveTo>
                          <a:pt x="0" y="23"/>
                        </a:moveTo>
                        <a:lnTo>
                          <a:pt x="19" y="40"/>
                        </a:lnTo>
                        <a:lnTo>
                          <a:pt x="74" y="32"/>
                        </a:lnTo>
                        <a:lnTo>
                          <a:pt x="71" y="0"/>
                        </a:lnTo>
                        <a:lnTo>
                          <a:pt x="17" y="7"/>
                        </a:lnTo>
                        <a:lnTo>
                          <a:pt x="35" y="23"/>
                        </a:lnTo>
                        <a:lnTo>
                          <a:pt x="0" y="23"/>
                        </a:lnTo>
                        <a:lnTo>
                          <a:pt x="2" y="42"/>
                        </a:lnTo>
                        <a:lnTo>
                          <a:pt x="19" y="40"/>
                        </a:lnTo>
                        <a:lnTo>
                          <a:pt x="0"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 name=""/>
                  <p:cNvSpPr/>
                  <p:nvPr/>
                </p:nvSpPr>
                <p:spPr>
                  <a:xfrm>
                    <a:off x="6148080" y="1843200"/>
                    <a:ext cx="12960" cy="222120"/>
                  </a:xfrm>
                  <a:custGeom>
                    <a:avLst/>
                    <a:gdLst/>
                    <a:ahLst/>
                    <a:rect l="l" t="t" r="r" b="b"/>
                    <a:pathLst>
                      <a:path w="40" h="702">
                        <a:moveTo>
                          <a:pt x="18" y="1"/>
                        </a:moveTo>
                        <a:lnTo>
                          <a:pt x="0" y="18"/>
                        </a:lnTo>
                        <a:lnTo>
                          <a:pt x="5" y="702"/>
                        </a:lnTo>
                        <a:lnTo>
                          <a:pt x="40" y="702"/>
                        </a:lnTo>
                        <a:lnTo>
                          <a:pt x="35" y="18"/>
                        </a:lnTo>
                        <a:lnTo>
                          <a:pt x="18" y="34"/>
                        </a:lnTo>
                        <a:lnTo>
                          <a:pt x="18" y="0"/>
                        </a:lnTo>
                        <a:lnTo>
                          <a:pt x="0" y="0"/>
                        </a:lnTo>
                        <a:lnTo>
                          <a:pt x="0" y="18"/>
                        </a:lnTo>
                        <a:lnTo>
                          <a:pt x="1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073560" y="1971720"/>
                    <a:ext cx="131760" cy="93600"/>
                  </a:xfrm>
                  <a:custGeom>
                    <a:avLst/>
                    <a:gdLst/>
                    <a:ahLst/>
                    <a:rect l="l" t="t" r="r" b="b"/>
                    <a:pathLst>
                      <a:path w="417" h="294">
                        <a:moveTo>
                          <a:pt x="321" y="86"/>
                        </a:moveTo>
                        <a:lnTo>
                          <a:pt x="53" y="0"/>
                        </a:lnTo>
                        <a:lnTo>
                          <a:pt x="0" y="181"/>
                        </a:lnTo>
                        <a:lnTo>
                          <a:pt x="294" y="294"/>
                        </a:lnTo>
                        <a:lnTo>
                          <a:pt x="341" y="284"/>
                        </a:lnTo>
                        <a:lnTo>
                          <a:pt x="379" y="261"/>
                        </a:lnTo>
                        <a:lnTo>
                          <a:pt x="407" y="225"/>
                        </a:lnTo>
                        <a:lnTo>
                          <a:pt x="417" y="181"/>
                        </a:lnTo>
                        <a:lnTo>
                          <a:pt x="410" y="140"/>
                        </a:lnTo>
                        <a:lnTo>
                          <a:pt x="392" y="111"/>
                        </a:lnTo>
                        <a:lnTo>
                          <a:pt x="379" y="100"/>
                        </a:lnTo>
                        <a:lnTo>
                          <a:pt x="362" y="92"/>
                        </a:lnTo>
                        <a:lnTo>
                          <a:pt x="321" y="8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084720" y="1965240"/>
                    <a:ext cx="92160" cy="39600"/>
                  </a:xfrm>
                  <a:custGeom>
                    <a:avLst/>
                    <a:gdLst/>
                    <a:ahLst/>
                    <a:rect l="l" t="t" r="r" b="b"/>
                    <a:pathLst>
                      <a:path w="290" h="123">
                        <a:moveTo>
                          <a:pt x="33" y="25"/>
                        </a:moveTo>
                        <a:lnTo>
                          <a:pt x="12" y="37"/>
                        </a:lnTo>
                        <a:lnTo>
                          <a:pt x="280" y="123"/>
                        </a:lnTo>
                        <a:lnTo>
                          <a:pt x="290" y="91"/>
                        </a:lnTo>
                        <a:lnTo>
                          <a:pt x="21" y="5"/>
                        </a:lnTo>
                        <a:lnTo>
                          <a:pt x="0" y="17"/>
                        </a:lnTo>
                        <a:lnTo>
                          <a:pt x="21" y="5"/>
                        </a:lnTo>
                        <a:lnTo>
                          <a:pt x="5" y="0"/>
                        </a:lnTo>
                        <a:lnTo>
                          <a:pt x="0" y="17"/>
                        </a:lnTo>
                        <a:lnTo>
                          <a:pt x="33"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6" name=""/>
                  <p:cNvSpPr/>
                  <p:nvPr/>
                </p:nvSpPr>
                <p:spPr>
                  <a:xfrm>
                    <a:off x="6067440" y="1971720"/>
                    <a:ext cx="28440" cy="63360"/>
                  </a:xfrm>
                  <a:custGeom>
                    <a:avLst/>
                    <a:gdLst/>
                    <a:ahLst/>
                    <a:rect l="l" t="t" r="r" b="b"/>
                    <a:pathLst>
                      <a:path w="89" h="201">
                        <a:moveTo>
                          <a:pt x="26" y="169"/>
                        </a:moveTo>
                        <a:lnTo>
                          <a:pt x="36" y="189"/>
                        </a:lnTo>
                        <a:lnTo>
                          <a:pt x="89" y="8"/>
                        </a:lnTo>
                        <a:lnTo>
                          <a:pt x="56" y="0"/>
                        </a:lnTo>
                        <a:lnTo>
                          <a:pt x="4" y="181"/>
                        </a:lnTo>
                        <a:lnTo>
                          <a:pt x="14" y="201"/>
                        </a:lnTo>
                        <a:lnTo>
                          <a:pt x="4" y="181"/>
                        </a:lnTo>
                        <a:lnTo>
                          <a:pt x="0" y="195"/>
                        </a:lnTo>
                        <a:lnTo>
                          <a:pt x="14" y="201"/>
                        </a:lnTo>
                        <a:lnTo>
                          <a:pt x="26" y="16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7" name=""/>
                  <p:cNvSpPr/>
                  <p:nvPr/>
                </p:nvSpPr>
                <p:spPr>
                  <a:xfrm>
                    <a:off x="6072120" y="2023920"/>
                    <a:ext cx="96840" cy="47880"/>
                  </a:xfrm>
                  <a:custGeom>
                    <a:avLst/>
                    <a:gdLst/>
                    <a:ahLst/>
                    <a:rect l="l" t="t" r="r" b="b"/>
                    <a:pathLst>
                      <a:path w="307" h="147">
                        <a:moveTo>
                          <a:pt x="298" y="113"/>
                        </a:moveTo>
                        <a:lnTo>
                          <a:pt x="307" y="113"/>
                        </a:lnTo>
                        <a:lnTo>
                          <a:pt x="12" y="0"/>
                        </a:lnTo>
                        <a:lnTo>
                          <a:pt x="0" y="32"/>
                        </a:lnTo>
                        <a:lnTo>
                          <a:pt x="294" y="146"/>
                        </a:lnTo>
                        <a:lnTo>
                          <a:pt x="303" y="146"/>
                        </a:lnTo>
                        <a:lnTo>
                          <a:pt x="294" y="146"/>
                        </a:lnTo>
                        <a:lnTo>
                          <a:pt x="299" y="147"/>
                        </a:lnTo>
                        <a:lnTo>
                          <a:pt x="303" y="146"/>
                        </a:lnTo>
                        <a:lnTo>
                          <a:pt x="298" y="11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a:off x="6165720" y="2057400"/>
                    <a:ext cx="19080" cy="14400"/>
                  </a:xfrm>
                  <a:custGeom>
                    <a:avLst/>
                    <a:gdLst/>
                    <a:ahLst/>
                    <a:rect l="l" t="t" r="r" b="b"/>
                    <a:pathLst>
                      <a:path w="57" h="43">
                        <a:moveTo>
                          <a:pt x="40" y="3"/>
                        </a:moveTo>
                        <a:lnTo>
                          <a:pt x="46" y="0"/>
                        </a:lnTo>
                        <a:lnTo>
                          <a:pt x="0" y="10"/>
                        </a:lnTo>
                        <a:lnTo>
                          <a:pt x="5" y="43"/>
                        </a:lnTo>
                        <a:lnTo>
                          <a:pt x="51" y="33"/>
                        </a:lnTo>
                        <a:lnTo>
                          <a:pt x="57" y="30"/>
                        </a:lnTo>
                        <a:lnTo>
                          <a:pt x="51" y="33"/>
                        </a:lnTo>
                        <a:lnTo>
                          <a:pt x="55" y="33"/>
                        </a:lnTo>
                        <a:lnTo>
                          <a:pt x="57" y="30"/>
                        </a:lnTo>
                        <a:lnTo>
                          <a:pt x="4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6178320" y="2050920"/>
                    <a:ext cx="19080" cy="15840"/>
                  </a:xfrm>
                  <a:custGeom>
                    <a:avLst/>
                    <a:gdLst/>
                    <a:ahLst/>
                    <a:rect l="l" t="t" r="r" b="b"/>
                    <a:pathLst>
                      <a:path w="61" h="51">
                        <a:moveTo>
                          <a:pt x="34" y="4"/>
                        </a:moveTo>
                        <a:lnTo>
                          <a:pt x="39" y="0"/>
                        </a:lnTo>
                        <a:lnTo>
                          <a:pt x="0" y="24"/>
                        </a:lnTo>
                        <a:lnTo>
                          <a:pt x="17" y="51"/>
                        </a:lnTo>
                        <a:lnTo>
                          <a:pt x="56" y="27"/>
                        </a:lnTo>
                        <a:lnTo>
                          <a:pt x="61" y="24"/>
                        </a:lnTo>
                        <a:lnTo>
                          <a:pt x="56" y="27"/>
                        </a:lnTo>
                        <a:lnTo>
                          <a:pt x="58" y="26"/>
                        </a:lnTo>
                        <a:lnTo>
                          <a:pt x="61" y="24"/>
                        </a:lnTo>
                        <a:lnTo>
                          <a:pt x="34"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0" name=""/>
                  <p:cNvSpPr/>
                  <p:nvPr/>
                </p:nvSpPr>
                <p:spPr>
                  <a:xfrm>
                    <a:off x="6189480" y="2039760"/>
                    <a:ext cx="17640" cy="19080"/>
                  </a:xfrm>
                  <a:custGeom>
                    <a:avLst/>
                    <a:gdLst/>
                    <a:ahLst/>
                    <a:rect l="l" t="t" r="r" b="b"/>
                    <a:pathLst>
                      <a:path w="57" h="56">
                        <a:moveTo>
                          <a:pt x="24" y="6"/>
                        </a:moveTo>
                        <a:lnTo>
                          <a:pt x="27" y="0"/>
                        </a:lnTo>
                        <a:lnTo>
                          <a:pt x="0" y="36"/>
                        </a:lnTo>
                        <a:lnTo>
                          <a:pt x="27" y="56"/>
                        </a:lnTo>
                        <a:lnTo>
                          <a:pt x="54" y="20"/>
                        </a:lnTo>
                        <a:lnTo>
                          <a:pt x="57" y="13"/>
                        </a:lnTo>
                        <a:lnTo>
                          <a:pt x="54" y="20"/>
                        </a:lnTo>
                        <a:lnTo>
                          <a:pt x="56" y="17"/>
                        </a:lnTo>
                        <a:lnTo>
                          <a:pt x="57" y="13"/>
                        </a:lnTo>
                        <a:lnTo>
                          <a:pt x="24"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1" name=""/>
                  <p:cNvSpPr/>
                  <p:nvPr/>
                </p:nvSpPr>
                <p:spPr>
                  <a:xfrm>
                    <a:off x="6197400" y="2028960"/>
                    <a:ext cx="14400" cy="15840"/>
                  </a:xfrm>
                  <a:custGeom>
                    <a:avLst/>
                    <a:gdLst/>
                    <a:ahLst/>
                    <a:rect l="l" t="t" r="r" b="b"/>
                    <a:pathLst>
                      <a:path w="44" h="51">
                        <a:moveTo>
                          <a:pt x="10" y="6"/>
                        </a:moveTo>
                        <a:lnTo>
                          <a:pt x="10" y="0"/>
                        </a:lnTo>
                        <a:lnTo>
                          <a:pt x="0" y="44"/>
                        </a:lnTo>
                        <a:lnTo>
                          <a:pt x="33" y="51"/>
                        </a:lnTo>
                        <a:lnTo>
                          <a:pt x="43" y="8"/>
                        </a:lnTo>
                        <a:lnTo>
                          <a:pt x="43" y="1"/>
                        </a:lnTo>
                        <a:lnTo>
                          <a:pt x="43" y="8"/>
                        </a:lnTo>
                        <a:lnTo>
                          <a:pt x="44" y="4"/>
                        </a:lnTo>
                        <a:lnTo>
                          <a:pt x="43" y="1"/>
                        </a:lnTo>
                        <a:lnTo>
                          <a:pt x="1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2" name=""/>
                  <p:cNvSpPr/>
                  <p:nvPr/>
                </p:nvSpPr>
                <p:spPr>
                  <a:xfrm>
                    <a:off x="6199200" y="2014560"/>
                    <a:ext cx="10800" cy="15840"/>
                  </a:xfrm>
                  <a:custGeom>
                    <a:avLst/>
                    <a:gdLst/>
                    <a:ahLst/>
                    <a:rect l="l" t="t" r="r" b="b"/>
                    <a:pathLst>
                      <a:path w="39" h="52">
                        <a:moveTo>
                          <a:pt x="3" y="17"/>
                        </a:moveTo>
                        <a:lnTo>
                          <a:pt x="0" y="11"/>
                        </a:lnTo>
                        <a:lnTo>
                          <a:pt x="6" y="52"/>
                        </a:lnTo>
                        <a:lnTo>
                          <a:pt x="39" y="47"/>
                        </a:lnTo>
                        <a:lnTo>
                          <a:pt x="33" y="6"/>
                        </a:lnTo>
                        <a:lnTo>
                          <a:pt x="30" y="0"/>
                        </a:lnTo>
                        <a:lnTo>
                          <a:pt x="33" y="6"/>
                        </a:lnTo>
                        <a:lnTo>
                          <a:pt x="33" y="3"/>
                        </a:lnTo>
                        <a:lnTo>
                          <a:pt x="30" y="0"/>
                        </a:lnTo>
                        <a:lnTo>
                          <a:pt x="3"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3" name=""/>
                  <p:cNvSpPr/>
                  <p:nvPr/>
                </p:nvSpPr>
                <p:spPr>
                  <a:xfrm>
                    <a:off x="6192720" y="2003400"/>
                    <a:ext cx="15840" cy="15840"/>
                  </a:xfrm>
                  <a:custGeom>
                    <a:avLst/>
                    <a:gdLst/>
                    <a:ahLst/>
                    <a:rect l="l" t="t" r="r" b="b"/>
                    <a:pathLst>
                      <a:path w="46" h="49">
                        <a:moveTo>
                          <a:pt x="2" y="25"/>
                        </a:moveTo>
                        <a:lnTo>
                          <a:pt x="0" y="21"/>
                        </a:lnTo>
                        <a:lnTo>
                          <a:pt x="19" y="49"/>
                        </a:lnTo>
                        <a:lnTo>
                          <a:pt x="46" y="32"/>
                        </a:lnTo>
                        <a:lnTo>
                          <a:pt x="27" y="3"/>
                        </a:lnTo>
                        <a:lnTo>
                          <a:pt x="25" y="0"/>
                        </a:lnTo>
                        <a:lnTo>
                          <a:pt x="27" y="3"/>
                        </a:lnTo>
                        <a:lnTo>
                          <a:pt x="26" y="1"/>
                        </a:lnTo>
                        <a:lnTo>
                          <a:pt x="25" y="0"/>
                        </a:lnTo>
                        <a:lnTo>
                          <a:pt x="2"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4" name=""/>
                  <p:cNvSpPr/>
                  <p:nvPr/>
                </p:nvSpPr>
                <p:spPr>
                  <a:xfrm>
                    <a:off x="6189480" y="1998720"/>
                    <a:ext cx="11160" cy="12600"/>
                  </a:xfrm>
                  <a:custGeom>
                    <a:avLst/>
                    <a:gdLst/>
                    <a:ahLst/>
                    <a:rect l="l" t="t" r="r" b="b"/>
                    <a:pathLst>
                      <a:path w="35" h="39">
                        <a:moveTo>
                          <a:pt x="5" y="30"/>
                        </a:moveTo>
                        <a:lnTo>
                          <a:pt x="0" y="27"/>
                        </a:lnTo>
                        <a:lnTo>
                          <a:pt x="12" y="39"/>
                        </a:lnTo>
                        <a:lnTo>
                          <a:pt x="35" y="14"/>
                        </a:lnTo>
                        <a:lnTo>
                          <a:pt x="22" y="2"/>
                        </a:lnTo>
                        <a:lnTo>
                          <a:pt x="17" y="0"/>
                        </a:lnTo>
                        <a:lnTo>
                          <a:pt x="22" y="2"/>
                        </a:lnTo>
                        <a:lnTo>
                          <a:pt x="20" y="1"/>
                        </a:lnTo>
                        <a:lnTo>
                          <a:pt x="17" y="0"/>
                        </a:lnTo>
                        <a:lnTo>
                          <a:pt x="5" y="3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5" name=""/>
                  <p:cNvSpPr/>
                  <p:nvPr/>
                </p:nvSpPr>
                <p:spPr>
                  <a:xfrm>
                    <a:off x="6186240" y="1996920"/>
                    <a:ext cx="9720" cy="11160"/>
                  </a:xfrm>
                  <a:custGeom>
                    <a:avLst/>
                    <a:gdLst/>
                    <a:ahLst/>
                    <a:rect l="l" t="t" r="r" b="b"/>
                    <a:pathLst>
                      <a:path w="29" h="39">
                        <a:moveTo>
                          <a:pt x="3" y="33"/>
                        </a:moveTo>
                        <a:lnTo>
                          <a:pt x="0" y="31"/>
                        </a:lnTo>
                        <a:lnTo>
                          <a:pt x="17" y="39"/>
                        </a:lnTo>
                        <a:lnTo>
                          <a:pt x="29" y="9"/>
                        </a:lnTo>
                        <a:lnTo>
                          <a:pt x="12" y="1"/>
                        </a:lnTo>
                        <a:lnTo>
                          <a:pt x="8" y="0"/>
                        </a:lnTo>
                        <a:lnTo>
                          <a:pt x="12" y="1"/>
                        </a:lnTo>
                        <a:lnTo>
                          <a:pt x="10" y="0"/>
                        </a:lnTo>
                        <a:lnTo>
                          <a:pt x="8" y="0"/>
                        </a:lnTo>
                        <a:lnTo>
                          <a:pt x="3"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6" name=""/>
                  <p:cNvSpPr/>
                  <p:nvPr/>
                </p:nvSpPr>
                <p:spPr>
                  <a:xfrm>
                    <a:off x="6173640" y="1994040"/>
                    <a:ext cx="15840" cy="12600"/>
                  </a:xfrm>
                  <a:custGeom>
                    <a:avLst/>
                    <a:gdLst/>
                    <a:ahLst/>
                    <a:rect l="l" t="t" r="r" b="b"/>
                    <a:pathLst>
                      <a:path w="48" h="39">
                        <a:moveTo>
                          <a:pt x="0" y="32"/>
                        </a:moveTo>
                        <a:lnTo>
                          <a:pt x="2" y="32"/>
                        </a:lnTo>
                        <a:lnTo>
                          <a:pt x="43" y="39"/>
                        </a:lnTo>
                        <a:lnTo>
                          <a:pt x="48" y="6"/>
                        </a:lnTo>
                        <a:lnTo>
                          <a:pt x="7" y="0"/>
                        </a:lnTo>
                        <a:lnTo>
                          <a:pt x="10" y="0"/>
                        </a:lnTo>
                        <a:lnTo>
                          <a:pt x="0"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7" name=""/>
                  <p:cNvSpPr/>
                  <p:nvPr/>
                </p:nvSpPr>
                <p:spPr>
                  <a:xfrm>
                    <a:off x="6084720" y="2016000"/>
                    <a:ext cx="87480" cy="57240"/>
                  </a:xfrm>
                  <a:custGeom>
                    <a:avLst/>
                    <a:gdLst/>
                    <a:ahLst/>
                    <a:rect l="l" t="t" r="r" b="b"/>
                    <a:pathLst>
                      <a:path w="278" h="182">
                        <a:moveTo>
                          <a:pt x="0" y="0"/>
                        </a:moveTo>
                        <a:lnTo>
                          <a:pt x="122" y="10"/>
                        </a:lnTo>
                        <a:lnTo>
                          <a:pt x="187" y="4"/>
                        </a:lnTo>
                        <a:lnTo>
                          <a:pt x="234" y="10"/>
                        </a:lnTo>
                        <a:lnTo>
                          <a:pt x="252" y="18"/>
                        </a:lnTo>
                        <a:lnTo>
                          <a:pt x="264" y="28"/>
                        </a:lnTo>
                        <a:lnTo>
                          <a:pt x="278" y="61"/>
                        </a:lnTo>
                        <a:lnTo>
                          <a:pt x="274" y="101"/>
                        </a:lnTo>
                        <a:lnTo>
                          <a:pt x="250" y="136"/>
                        </a:lnTo>
                        <a:lnTo>
                          <a:pt x="207" y="164"/>
                        </a:lnTo>
                        <a:lnTo>
                          <a:pt x="143" y="181"/>
                        </a:lnTo>
                        <a:lnTo>
                          <a:pt x="36" y="182"/>
                        </a:lnTo>
                        <a:lnTo>
                          <a:pt x="0" y="0"/>
                        </a:lnTo>
                        <a:close/>
                      </a:path>
                    </a:pathLst>
                  </a:custGeom>
                  <a:solidFill>
                    <a:srgbClr val="ffcc9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6083280" y="2011320"/>
                    <a:ext cx="39600" cy="12600"/>
                  </a:xfrm>
                  <a:custGeom>
                    <a:avLst/>
                    <a:gdLst/>
                    <a:ahLst/>
                    <a:rect l="l" t="t" r="r" b="b"/>
                    <a:pathLst>
                      <a:path w="124" h="42">
                        <a:moveTo>
                          <a:pt x="122" y="10"/>
                        </a:moveTo>
                        <a:lnTo>
                          <a:pt x="124" y="10"/>
                        </a:lnTo>
                        <a:lnTo>
                          <a:pt x="2" y="0"/>
                        </a:lnTo>
                        <a:lnTo>
                          <a:pt x="0" y="32"/>
                        </a:lnTo>
                        <a:lnTo>
                          <a:pt x="122" y="42"/>
                        </a:lnTo>
                        <a:lnTo>
                          <a:pt x="124" y="42"/>
                        </a:lnTo>
                        <a:lnTo>
                          <a:pt x="122"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9" name=""/>
                  <p:cNvSpPr/>
                  <p:nvPr/>
                </p:nvSpPr>
                <p:spPr>
                  <a:xfrm>
                    <a:off x="6122880" y="2011320"/>
                    <a:ext cx="20520" cy="12600"/>
                  </a:xfrm>
                  <a:custGeom>
                    <a:avLst/>
                    <a:gdLst/>
                    <a:ahLst/>
                    <a:rect l="l" t="t" r="r" b="b"/>
                    <a:pathLst>
                      <a:path w="67" h="39">
                        <a:moveTo>
                          <a:pt x="67" y="1"/>
                        </a:moveTo>
                        <a:lnTo>
                          <a:pt x="65" y="1"/>
                        </a:lnTo>
                        <a:lnTo>
                          <a:pt x="0" y="7"/>
                        </a:lnTo>
                        <a:lnTo>
                          <a:pt x="2" y="39"/>
                        </a:lnTo>
                        <a:lnTo>
                          <a:pt x="67" y="33"/>
                        </a:lnTo>
                        <a:lnTo>
                          <a:pt x="65" y="33"/>
                        </a:lnTo>
                        <a:lnTo>
                          <a:pt x="67" y="1"/>
                        </a:lnTo>
                        <a:lnTo>
                          <a:pt x="66" y="0"/>
                        </a:lnTo>
                        <a:lnTo>
                          <a:pt x="65" y="1"/>
                        </a:lnTo>
                        <a:lnTo>
                          <a:pt x="67"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0" name=""/>
                  <p:cNvSpPr/>
                  <p:nvPr/>
                </p:nvSpPr>
                <p:spPr>
                  <a:xfrm>
                    <a:off x="6143400" y="2011320"/>
                    <a:ext cx="17640" cy="12600"/>
                  </a:xfrm>
                  <a:custGeom>
                    <a:avLst/>
                    <a:gdLst/>
                    <a:ahLst/>
                    <a:rect l="l" t="t" r="r" b="b"/>
                    <a:pathLst>
                      <a:path w="54" h="38">
                        <a:moveTo>
                          <a:pt x="54" y="7"/>
                        </a:moveTo>
                        <a:lnTo>
                          <a:pt x="49" y="6"/>
                        </a:lnTo>
                        <a:lnTo>
                          <a:pt x="2" y="0"/>
                        </a:lnTo>
                        <a:lnTo>
                          <a:pt x="0" y="32"/>
                        </a:lnTo>
                        <a:lnTo>
                          <a:pt x="47" y="38"/>
                        </a:lnTo>
                        <a:lnTo>
                          <a:pt x="42" y="37"/>
                        </a:lnTo>
                        <a:lnTo>
                          <a:pt x="54" y="7"/>
                        </a:lnTo>
                        <a:lnTo>
                          <a:pt x="52" y="6"/>
                        </a:lnTo>
                        <a:lnTo>
                          <a:pt x="49" y="6"/>
                        </a:lnTo>
                        <a:lnTo>
                          <a:pt x="54"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1" name=""/>
                  <p:cNvSpPr/>
                  <p:nvPr/>
                </p:nvSpPr>
                <p:spPr>
                  <a:xfrm>
                    <a:off x="6156000" y="2014560"/>
                    <a:ext cx="11160" cy="11160"/>
                  </a:xfrm>
                  <a:custGeom>
                    <a:avLst/>
                    <a:gdLst/>
                    <a:ahLst/>
                    <a:rect l="l" t="t" r="r" b="b"/>
                    <a:pathLst>
                      <a:path w="34" h="38">
                        <a:moveTo>
                          <a:pt x="34" y="10"/>
                        </a:moveTo>
                        <a:lnTo>
                          <a:pt x="30" y="8"/>
                        </a:lnTo>
                        <a:lnTo>
                          <a:pt x="12" y="0"/>
                        </a:lnTo>
                        <a:lnTo>
                          <a:pt x="0" y="30"/>
                        </a:lnTo>
                        <a:lnTo>
                          <a:pt x="17" y="38"/>
                        </a:lnTo>
                        <a:lnTo>
                          <a:pt x="14" y="35"/>
                        </a:lnTo>
                        <a:lnTo>
                          <a:pt x="34" y="10"/>
                        </a:lnTo>
                        <a:lnTo>
                          <a:pt x="32" y="8"/>
                        </a:lnTo>
                        <a:lnTo>
                          <a:pt x="30" y="8"/>
                        </a:lnTo>
                        <a:lnTo>
                          <a:pt x="3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6161040" y="2017800"/>
                    <a:ext cx="11160" cy="11160"/>
                  </a:xfrm>
                  <a:custGeom>
                    <a:avLst/>
                    <a:gdLst/>
                    <a:ahLst/>
                    <a:rect l="l" t="t" r="r" b="b"/>
                    <a:pathLst>
                      <a:path w="37" h="35">
                        <a:moveTo>
                          <a:pt x="37" y="16"/>
                        </a:moveTo>
                        <a:lnTo>
                          <a:pt x="32" y="10"/>
                        </a:lnTo>
                        <a:lnTo>
                          <a:pt x="20" y="0"/>
                        </a:lnTo>
                        <a:lnTo>
                          <a:pt x="0" y="25"/>
                        </a:lnTo>
                        <a:lnTo>
                          <a:pt x="12" y="35"/>
                        </a:lnTo>
                        <a:lnTo>
                          <a:pt x="7" y="29"/>
                        </a:lnTo>
                        <a:lnTo>
                          <a:pt x="37" y="16"/>
                        </a:lnTo>
                        <a:lnTo>
                          <a:pt x="36" y="13"/>
                        </a:lnTo>
                        <a:lnTo>
                          <a:pt x="32" y="10"/>
                        </a:lnTo>
                        <a:lnTo>
                          <a:pt x="37"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6162480" y="2022480"/>
                    <a:ext cx="15840" cy="14400"/>
                  </a:xfrm>
                  <a:custGeom>
                    <a:avLst/>
                    <a:gdLst/>
                    <a:ahLst/>
                    <a:rect l="l" t="t" r="r" b="b"/>
                    <a:pathLst>
                      <a:path w="46" h="47">
                        <a:moveTo>
                          <a:pt x="45" y="42"/>
                        </a:moveTo>
                        <a:lnTo>
                          <a:pt x="44" y="34"/>
                        </a:lnTo>
                        <a:lnTo>
                          <a:pt x="30" y="0"/>
                        </a:lnTo>
                        <a:lnTo>
                          <a:pt x="0" y="13"/>
                        </a:lnTo>
                        <a:lnTo>
                          <a:pt x="14" y="47"/>
                        </a:lnTo>
                        <a:lnTo>
                          <a:pt x="13" y="39"/>
                        </a:lnTo>
                        <a:lnTo>
                          <a:pt x="45" y="42"/>
                        </a:lnTo>
                        <a:lnTo>
                          <a:pt x="46" y="38"/>
                        </a:lnTo>
                        <a:lnTo>
                          <a:pt x="44" y="34"/>
                        </a:lnTo>
                        <a:lnTo>
                          <a:pt x="45" y="4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4" name=""/>
                  <p:cNvSpPr/>
                  <p:nvPr/>
                </p:nvSpPr>
                <p:spPr>
                  <a:xfrm>
                    <a:off x="6165720" y="2035080"/>
                    <a:ext cx="11160" cy="15840"/>
                  </a:xfrm>
                  <a:custGeom>
                    <a:avLst/>
                    <a:gdLst/>
                    <a:ahLst/>
                    <a:rect l="l" t="t" r="r" b="b"/>
                    <a:pathLst>
                      <a:path w="36" h="50">
                        <a:moveTo>
                          <a:pt x="30" y="50"/>
                        </a:moveTo>
                        <a:lnTo>
                          <a:pt x="32" y="43"/>
                        </a:lnTo>
                        <a:lnTo>
                          <a:pt x="36" y="3"/>
                        </a:lnTo>
                        <a:lnTo>
                          <a:pt x="4" y="0"/>
                        </a:lnTo>
                        <a:lnTo>
                          <a:pt x="0" y="40"/>
                        </a:lnTo>
                        <a:lnTo>
                          <a:pt x="2" y="33"/>
                        </a:lnTo>
                        <a:lnTo>
                          <a:pt x="30" y="50"/>
                        </a:lnTo>
                        <a:lnTo>
                          <a:pt x="32" y="46"/>
                        </a:lnTo>
                        <a:lnTo>
                          <a:pt x="32" y="43"/>
                        </a:lnTo>
                        <a:lnTo>
                          <a:pt x="30"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5" name=""/>
                  <p:cNvSpPr/>
                  <p:nvPr/>
                </p:nvSpPr>
                <p:spPr>
                  <a:xfrm>
                    <a:off x="6159240" y="2044800"/>
                    <a:ext cx="15840" cy="19080"/>
                  </a:xfrm>
                  <a:custGeom>
                    <a:avLst/>
                    <a:gdLst/>
                    <a:ahLst/>
                    <a:rect l="l" t="t" r="r" b="b"/>
                    <a:pathLst>
                      <a:path w="51" h="57">
                        <a:moveTo>
                          <a:pt x="22" y="57"/>
                        </a:moveTo>
                        <a:lnTo>
                          <a:pt x="27" y="52"/>
                        </a:lnTo>
                        <a:lnTo>
                          <a:pt x="51" y="17"/>
                        </a:lnTo>
                        <a:lnTo>
                          <a:pt x="23" y="0"/>
                        </a:lnTo>
                        <a:lnTo>
                          <a:pt x="0" y="35"/>
                        </a:lnTo>
                        <a:lnTo>
                          <a:pt x="5" y="30"/>
                        </a:lnTo>
                        <a:lnTo>
                          <a:pt x="22" y="57"/>
                        </a:lnTo>
                        <a:lnTo>
                          <a:pt x="25" y="56"/>
                        </a:lnTo>
                        <a:lnTo>
                          <a:pt x="27" y="52"/>
                        </a:lnTo>
                        <a:lnTo>
                          <a:pt x="22" y="5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6" name=""/>
                  <p:cNvSpPr/>
                  <p:nvPr/>
                </p:nvSpPr>
                <p:spPr>
                  <a:xfrm>
                    <a:off x="6146640" y="2054160"/>
                    <a:ext cx="19080" cy="19080"/>
                  </a:xfrm>
                  <a:custGeom>
                    <a:avLst/>
                    <a:gdLst/>
                    <a:ahLst/>
                    <a:rect l="l" t="t" r="r" b="b"/>
                    <a:pathLst>
                      <a:path w="61" h="57">
                        <a:moveTo>
                          <a:pt x="13" y="57"/>
                        </a:moveTo>
                        <a:lnTo>
                          <a:pt x="18" y="54"/>
                        </a:lnTo>
                        <a:lnTo>
                          <a:pt x="61" y="27"/>
                        </a:lnTo>
                        <a:lnTo>
                          <a:pt x="44" y="0"/>
                        </a:lnTo>
                        <a:lnTo>
                          <a:pt x="0" y="27"/>
                        </a:lnTo>
                        <a:lnTo>
                          <a:pt x="5" y="24"/>
                        </a:lnTo>
                        <a:lnTo>
                          <a:pt x="13" y="57"/>
                        </a:lnTo>
                        <a:lnTo>
                          <a:pt x="15" y="56"/>
                        </a:lnTo>
                        <a:lnTo>
                          <a:pt x="18" y="54"/>
                        </a:lnTo>
                        <a:lnTo>
                          <a:pt x="13" y="5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7" name=""/>
                  <p:cNvSpPr/>
                  <p:nvPr/>
                </p:nvSpPr>
                <p:spPr>
                  <a:xfrm>
                    <a:off x="6127560" y="2062080"/>
                    <a:ext cx="23760" cy="17640"/>
                  </a:xfrm>
                  <a:custGeom>
                    <a:avLst/>
                    <a:gdLst/>
                    <a:ahLst/>
                    <a:rect l="l" t="t" r="r" b="b"/>
                    <a:pathLst>
                      <a:path w="72" h="52">
                        <a:moveTo>
                          <a:pt x="4" y="52"/>
                        </a:moveTo>
                        <a:lnTo>
                          <a:pt x="8" y="50"/>
                        </a:lnTo>
                        <a:lnTo>
                          <a:pt x="72" y="33"/>
                        </a:lnTo>
                        <a:lnTo>
                          <a:pt x="64" y="0"/>
                        </a:lnTo>
                        <a:lnTo>
                          <a:pt x="0" y="18"/>
                        </a:lnTo>
                        <a:lnTo>
                          <a:pt x="4" y="17"/>
                        </a:lnTo>
                        <a:lnTo>
                          <a:pt x="4" y="52"/>
                        </a:lnTo>
                        <a:lnTo>
                          <a:pt x="5" y="50"/>
                        </a:lnTo>
                        <a:lnTo>
                          <a:pt x="8" y="50"/>
                        </a:lnTo>
                        <a:lnTo>
                          <a:pt x="4" y="5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8" name=""/>
                  <p:cNvSpPr/>
                  <p:nvPr/>
                </p:nvSpPr>
                <p:spPr>
                  <a:xfrm>
                    <a:off x="6091200" y="2068560"/>
                    <a:ext cx="38160" cy="11160"/>
                  </a:xfrm>
                  <a:custGeom>
                    <a:avLst/>
                    <a:gdLst/>
                    <a:ahLst/>
                    <a:rect l="l" t="t" r="r" b="b"/>
                    <a:pathLst>
                      <a:path w="123" h="36">
                        <a:moveTo>
                          <a:pt x="0" y="21"/>
                        </a:moveTo>
                        <a:lnTo>
                          <a:pt x="16" y="36"/>
                        </a:lnTo>
                        <a:lnTo>
                          <a:pt x="123" y="35"/>
                        </a:lnTo>
                        <a:lnTo>
                          <a:pt x="123" y="0"/>
                        </a:lnTo>
                        <a:lnTo>
                          <a:pt x="16" y="1"/>
                        </a:lnTo>
                        <a:lnTo>
                          <a:pt x="32" y="16"/>
                        </a:lnTo>
                        <a:lnTo>
                          <a:pt x="0" y="21"/>
                        </a:lnTo>
                        <a:lnTo>
                          <a:pt x="2" y="36"/>
                        </a:lnTo>
                        <a:lnTo>
                          <a:pt x="16" y="36"/>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9" name=""/>
                  <p:cNvSpPr/>
                  <p:nvPr/>
                </p:nvSpPr>
                <p:spPr>
                  <a:xfrm>
                    <a:off x="6076800" y="2009880"/>
                    <a:ext cx="23760" cy="65160"/>
                  </a:xfrm>
                  <a:custGeom>
                    <a:avLst/>
                    <a:gdLst/>
                    <a:ahLst/>
                    <a:rect l="l" t="t" r="r" b="b"/>
                    <a:pathLst>
                      <a:path w="73" h="203">
                        <a:moveTo>
                          <a:pt x="22" y="2"/>
                        </a:moveTo>
                        <a:lnTo>
                          <a:pt x="5" y="21"/>
                        </a:lnTo>
                        <a:lnTo>
                          <a:pt x="41" y="203"/>
                        </a:lnTo>
                        <a:lnTo>
                          <a:pt x="73" y="198"/>
                        </a:lnTo>
                        <a:lnTo>
                          <a:pt x="37" y="16"/>
                        </a:lnTo>
                        <a:lnTo>
                          <a:pt x="20" y="34"/>
                        </a:lnTo>
                        <a:lnTo>
                          <a:pt x="22" y="2"/>
                        </a:lnTo>
                        <a:lnTo>
                          <a:pt x="0" y="0"/>
                        </a:lnTo>
                        <a:lnTo>
                          <a:pt x="5" y="21"/>
                        </a:lnTo>
                        <a:lnTo>
                          <a:pt x="2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0" name=""/>
                  <p:cNvSpPr/>
                  <p:nvPr/>
                </p:nvSpPr>
                <p:spPr>
                  <a:xfrm>
                    <a:off x="5924520" y="1846440"/>
                    <a:ext cx="171360" cy="226800"/>
                  </a:xfrm>
                  <a:custGeom>
                    <a:avLst/>
                    <a:gdLst/>
                    <a:ahLst/>
                    <a:rect l="l" t="t" r="r" b="b"/>
                    <a:pathLst>
                      <a:path w="538" h="718">
                        <a:moveTo>
                          <a:pt x="153" y="0"/>
                        </a:moveTo>
                        <a:lnTo>
                          <a:pt x="123" y="2"/>
                        </a:lnTo>
                        <a:lnTo>
                          <a:pt x="94" y="11"/>
                        </a:lnTo>
                        <a:lnTo>
                          <a:pt x="68" y="26"/>
                        </a:lnTo>
                        <a:lnTo>
                          <a:pt x="45" y="45"/>
                        </a:lnTo>
                        <a:lnTo>
                          <a:pt x="27" y="67"/>
                        </a:lnTo>
                        <a:lnTo>
                          <a:pt x="13" y="92"/>
                        </a:lnTo>
                        <a:lnTo>
                          <a:pt x="4" y="121"/>
                        </a:lnTo>
                        <a:lnTo>
                          <a:pt x="0" y="152"/>
                        </a:lnTo>
                        <a:lnTo>
                          <a:pt x="0" y="571"/>
                        </a:lnTo>
                        <a:lnTo>
                          <a:pt x="10" y="626"/>
                        </a:lnTo>
                        <a:lnTo>
                          <a:pt x="22" y="651"/>
                        </a:lnTo>
                        <a:lnTo>
                          <a:pt x="37" y="673"/>
                        </a:lnTo>
                        <a:lnTo>
                          <a:pt x="78" y="706"/>
                        </a:lnTo>
                        <a:lnTo>
                          <a:pt x="103" y="715"/>
                        </a:lnTo>
                        <a:lnTo>
                          <a:pt x="130" y="718"/>
                        </a:lnTo>
                        <a:lnTo>
                          <a:pt x="538" y="718"/>
                        </a:lnTo>
                        <a:lnTo>
                          <a:pt x="538" y="546"/>
                        </a:lnTo>
                        <a:lnTo>
                          <a:pt x="209" y="528"/>
                        </a:lnTo>
                        <a:lnTo>
                          <a:pt x="156" y="468"/>
                        </a:lnTo>
                        <a:lnTo>
                          <a:pt x="15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962680" y="1839960"/>
                    <a:ext cx="10800" cy="11160"/>
                  </a:xfrm>
                  <a:custGeom>
                    <a:avLst/>
                    <a:gdLst/>
                    <a:ahLst/>
                    <a:rect l="l" t="t" r="r" b="b"/>
                    <a:pathLst>
                      <a:path w="36" h="35">
                        <a:moveTo>
                          <a:pt x="10" y="35"/>
                        </a:moveTo>
                        <a:lnTo>
                          <a:pt x="6" y="35"/>
                        </a:lnTo>
                        <a:lnTo>
                          <a:pt x="36" y="32"/>
                        </a:lnTo>
                        <a:lnTo>
                          <a:pt x="33" y="0"/>
                        </a:lnTo>
                        <a:lnTo>
                          <a:pt x="3" y="2"/>
                        </a:lnTo>
                        <a:lnTo>
                          <a:pt x="0" y="2"/>
                        </a:lnTo>
                        <a:lnTo>
                          <a:pt x="3" y="2"/>
                        </a:lnTo>
                        <a:lnTo>
                          <a:pt x="2" y="2"/>
                        </a:lnTo>
                        <a:lnTo>
                          <a:pt x="0" y="2"/>
                        </a:lnTo>
                        <a:lnTo>
                          <a:pt x="10" y="3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2" name=""/>
                  <p:cNvSpPr/>
                  <p:nvPr/>
                </p:nvSpPr>
                <p:spPr>
                  <a:xfrm>
                    <a:off x="5952960" y="1841400"/>
                    <a:ext cx="12600" cy="12960"/>
                  </a:xfrm>
                  <a:custGeom>
                    <a:avLst/>
                    <a:gdLst/>
                    <a:ahLst/>
                    <a:rect l="l" t="t" r="r" b="b"/>
                    <a:pathLst>
                      <a:path w="41" h="41">
                        <a:moveTo>
                          <a:pt x="14" y="40"/>
                        </a:moveTo>
                        <a:lnTo>
                          <a:pt x="12" y="41"/>
                        </a:lnTo>
                        <a:lnTo>
                          <a:pt x="41" y="33"/>
                        </a:lnTo>
                        <a:lnTo>
                          <a:pt x="31" y="0"/>
                        </a:lnTo>
                        <a:lnTo>
                          <a:pt x="2" y="9"/>
                        </a:lnTo>
                        <a:lnTo>
                          <a:pt x="0" y="10"/>
                        </a:lnTo>
                        <a:lnTo>
                          <a:pt x="2" y="9"/>
                        </a:lnTo>
                        <a:lnTo>
                          <a:pt x="1" y="10"/>
                        </a:lnTo>
                        <a:lnTo>
                          <a:pt x="0" y="10"/>
                        </a:lnTo>
                        <a:lnTo>
                          <a:pt x="14" y="4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3" name=""/>
                  <p:cNvSpPr/>
                  <p:nvPr/>
                </p:nvSpPr>
                <p:spPr>
                  <a:xfrm>
                    <a:off x="5943600" y="1844640"/>
                    <a:ext cx="12600" cy="14400"/>
                  </a:xfrm>
                  <a:custGeom>
                    <a:avLst/>
                    <a:gdLst/>
                    <a:ahLst/>
                    <a:rect l="l" t="t" r="r" b="b"/>
                    <a:pathLst>
                      <a:path w="43" h="45">
                        <a:moveTo>
                          <a:pt x="20" y="42"/>
                        </a:moveTo>
                        <a:lnTo>
                          <a:pt x="17" y="45"/>
                        </a:lnTo>
                        <a:lnTo>
                          <a:pt x="43" y="30"/>
                        </a:lnTo>
                        <a:lnTo>
                          <a:pt x="29" y="0"/>
                        </a:lnTo>
                        <a:lnTo>
                          <a:pt x="2" y="15"/>
                        </a:lnTo>
                        <a:lnTo>
                          <a:pt x="0" y="18"/>
                        </a:lnTo>
                        <a:lnTo>
                          <a:pt x="20" y="4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4" name=""/>
                  <p:cNvSpPr/>
                  <p:nvPr/>
                </p:nvSpPr>
                <p:spPr>
                  <a:xfrm>
                    <a:off x="5935680" y="1849320"/>
                    <a:ext cx="14040" cy="14400"/>
                  </a:xfrm>
                  <a:custGeom>
                    <a:avLst/>
                    <a:gdLst/>
                    <a:ahLst/>
                    <a:rect l="l" t="t" r="r" b="b"/>
                    <a:pathLst>
                      <a:path w="45" h="43">
                        <a:moveTo>
                          <a:pt x="25" y="41"/>
                        </a:moveTo>
                        <a:lnTo>
                          <a:pt x="22" y="43"/>
                        </a:lnTo>
                        <a:lnTo>
                          <a:pt x="45" y="24"/>
                        </a:lnTo>
                        <a:lnTo>
                          <a:pt x="25" y="0"/>
                        </a:lnTo>
                        <a:lnTo>
                          <a:pt x="2" y="18"/>
                        </a:lnTo>
                        <a:lnTo>
                          <a:pt x="0" y="21"/>
                        </a:lnTo>
                        <a:lnTo>
                          <a:pt x="2" y="18"/>
                        </a:lnTo>
                        <a:lnTo>
                          <a:pt x="1" y="19"/>
                        </a:lnTo>
                        <a:lnTo>
                          <a:pt x="0" y="21"/>
                        </a:lnTo>
                        <a:lnTo>
                          <a:pt x="25" y="4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
                  <p:cNvSpPr/>
                  <p:nvPr/>
                </p:nvSpPr>
                <p:spPr>
                  <a:xfrm>
                    <a:off x="5929200" y="1857240"/>
                    <a:ext cx="14400" cy="12960"/>
                  </a:xfrm>
                  <a:custGeom>
                    <a:avLst/>
                    <a:gdLst/>
                    <a:ahLst/>
                    <a:rect l="l" t="t" r="r" b="b"/>
                    <a:pathLst>
                      <a:path w="46" h="42">
                        <a:moveTo>
                          <a:pt x="30" y="40"/>
                        </a:moveTo>
                        <a:lnTo>
                          <a:pt x="27" y="42"/>
                        </a:lnTo>
                        <a:lnTo>
                          <a:pt x="46" y="20"/>
                        </a:lnTo>
                        <a:lnTo>
                          <a:pt x="21" y="0"/>
                        </a:lnTo>
                        <a:lnTo>
                          <a:pt x="2" y="22"/>
                        </a:lnTo>
                        <a:lnTo>
                          <a:pt x="0" y="25"/>
                        </a:lnTo>
                        <a:lnTo>
                          <a:pt x="2" y="22"/>
                        </a:lnTo>
                        <a:lnTo>
                          <a:pt x="1" y="23"/>
                        </a:lnTo>
                        <a:lnTo>
                          <a:pt x="0" y="25"/>
                        </a:lnTo>
                        <a:lnTo>
                          <a:pt x="30" y="4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5924520" y="1865160"/>
                    <a:ext cx="14040" cy="12960"/>
                  </a:xfrm>
                  <a:custGeom>
                    <a:avLst/>
                    <a:gdLst/>
                    <a:ahLst/>
                    <a:rect l="l" t="t" r="r" b="b"/>
                    <a:pathLst>
                      <a:path w="45" h="40">
                        <a:moveTo>
                          <a:pt x="32" y="37"/>
                        </a:moveTo>
                        <a:lnTo>
                          <a:pt x="31" y="40"/>
                        </a:lnTo>
                        <a:lnTo>
                          <a:pt x="45" y="15"/>
                        </a:lnTo>
                        <a:lnTo>
                          <a:pt x="15" y="0"/>
                        </a:lnTo>
                        <a:lnTo>
                          <a:pt x="1" y="25"/>
                        </a:lnTo>
                        <a:lnTo>
                          <a:pt x="0" y="27"/>
                        </a:lnTo>
                        <a:lnTo>
                          <a:pt x="1" y="25"/>
                        </a:lnTo>
                        <a:lnTo>
                          <a:pt x="1" y="26"/>
                        </a:lnTo>
                        <a:lnTo>
                          <a:pt x="0" y="27"/>
                        </a:lnTo>
                        <a:lnTo>
                          <a:pt x="32" y="3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7" name=""/>
                  <p:cNvSpPr/>
                  <p:nvPr/>
                </p:nvSpPr>
                <p:spPr>
                  <a:xfrm>
                    <a:off x="5921280" y="1873080"/>
                    <a:ext cx="12600" cy="12960"/>
                  </a:xfrm>
                  <a:custGeom>
                    <a:avLst/>
                    <a:gdLst/>
                    <a:ahLst/>
                    <a:rect l="l" t="t" r="r" b="b"/>
                    <a:pathLst>
                      <a:path w="41" h="39">
                        <a:moveTo>
                          <a:pt x="32" y="35"/>
                        </a:moveTo>
                        <a:lnTo>
                          <a:pt x="32" y="39"/>
                        </a:lnTo>
                        <a:lnTo>
                          <a:pt x="41" y="10"/>
                        </a:lnTo>
                        <a:lnTo>
                          <a:pt x="9" y="0"/>
                        </a:lnTo>
                        <a:lnTo>
                          <a:pt x="0" y="29"/>
                        </a:lnTo>
                        <a:lnTo>
                          <a:pt x="0" y="33"/>
                        </a:lnTo>
                        <a:lnTo>
                          <a:pt x="0" y="29"/>
                        </a:lnTo>
                        <a:lnTo>
                          <a:pt x="0" y="31"/>
                        </a:lnTo>
                        <a:lnTo>
                          <a:pt x="0" y="33"/>
                        </a:lnTo>
                        <a:lnTo>
                          <a:pt x="32" y="3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8" name=""/>
                  <p:cNvSpPr/>
                  <p:nvPr/>
                </p:nvSpPr>
                <p:spPr>
                  <a:xfrm>
                    <a:off x="5919480" y="1884240"/>
                    <a:ext cx="11160" cy="9720"/>
                  </a:xfrm>
                  <a:custGeom>
                    <a:avLst/>
                    <a:gdLst/>
                    <a:ahLst/>
                    <a:rect l="l" t="t" r="r" b="b"/>
                    <a:pathLst>
                      <a:path w="37" h="33">
                        <a:moveTo>
                          <a:pt x="35" y="32"/>
                        </a:moveTo>
                        <a:lnTo>
                          <a:pt x="34" y="33"/>
                        </a:lnTo>
                        <a:lnTo>
                          <a:pt x="37" y="2"/>
                        </a:lnTo>
                        <a:lnTo>
                          <a:pt x="5" y="0"/>
                        </a:lnTo>
                        <a:lnTo>
                          <a:pt x="1" y="31"/>
                        </a:lnTo>
                        <a:lnTo>
                          <a:pt x="0" y="32"/>
                        </a:lnTo>
                        <a:lnTo>
                          <a:pt x="35" y="3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9" name=""/>
                  <p:cNvSpPr/>
                  <p:nvPr/>
                </p:nvSpPr>
                <p:spPr>
                  <a:xfrm>
                    <a:off x="5919480" y="1893960"/>
                    <a:ext cx="11160" cy="133200"/>
                  </a:xfrm>
                  <a:custGeom>
                    <a:avLst/>
                    <a:gdLst/>
                    <a:ahLst/>
                    <a:rect l="l" t="t" r="r" b="b"/>
                    <a:pathLst>
                      <a:path w="35" h="422">
                        <a:moveTo>
                          <a:pt x="34" y="417"/>
                        </a:moveTo>
                        <a:lnTo>
                          <a:pt x="35" y="419"/>
                        </a:lnTo>
                        <a:lnTo>
                          <a:pt x="35" y="0"/>
                        </a:lnTo>
                        <a:lnTo>
                          <a:pt x="0" y="0"/>
                        </a:lnTo>
                        <a:lnTo>
                          <a:pt x="0" y="419"/>
                        </a:lnTo>
                        <a:lnTo>
                          <a:pt x="1" y="422"/>
                        </a:lnTo>
                        <a:lnTo>
                          <a:pt x="0" y="419"/>
                        </a:lnTo>
                        <a:lnTo>
                          <a:pt x="1" y="420"/>
                        </a:lnTo>
                        <a:lnTo>
                          <a:pt x="1" y="422"/>
                        </a:lnTo>
                        <a:lnTo>
                          <a:pt x="34"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919480" y="2025720"/>
                    <a:ext cx="14400" cy="20520"/>
                  </a:xfrm>
                  <a:custGeom>
                    <a:avLst/>
                    <a:gdLst/>
                    <a:ahLst/>
                    <a:rect l="l" t="t" r="r" b="b"/>
                    <a:pathLst>
                      <a:path w="43" h="63">
                        <a:moveTo>
                          <a:pt x="41" y="51"/>
                        </a:moveTo>
                        <a:lnTo>
                          <a:pt x="43" y="55"/>
                        </a:lnTo>
                        <a:lnTo>
                          <a:pt x="33" y="0"/>
                        </a:lnTo>
                        <a:lnTo>
                          <a:pt x="0" y="5"/>
                        </a:lnTo>
                        <a:lnTo>
                          <a:pt x="10" y="60"/>
                        </a:lnTo>
                        <a:lnTo>
                          <a:pt x="11" y="63"/>
                        </a:lnTo>
                        <a:lnTo>
                          <a:pt x="10" y="60"/>
                        </a:lnTo>
                        <a:lnTo>
                          <a:pt x="10" y="62"/>
                        </a:lnTo>
                        <a:lnTo>
                          <a:pt x="11" y="63"/>
                        </a:lnTo>
                        <a:lnTo>
                          <a:pt x="41"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1" name=""/>
                  <p:cNvSpPr/>
                  <p:nvPr/>
                </p:nvSpPr>
                <p:spPr>
                  <a:xfrm>
                    <a:off x="5922720" y="2043000"/>
                    <a:ext cx="14400" cy="12960"/>
                  </a:xfrm>
                  <a:custGeom>
                    <a:avLst/>
                    <a:gdLst/>
                    <a:ahLst/>
                    <a:rect l="l" t="t" r="r" b="b"/>
                    <a:pathLst>
                      <a:path w="42" h="40">
                        <a:moveTo>
                          <a:pt x="40" y="22"/>
                        </a:moveTo>
                        <a:lnTo>
                          <a:pt x="42" y="25"/>
                        </a:lnTo>
                        <a:lnTo>
                          <a:pt x="30" y="0"/>
                        </a:lnTo>
                        <a:lnTo>
                          <a:pt x="0" y="12"/>
                        </a:lnTo>
                        <a:lnTo>
                          <a:pt x="12" y="37"/>
                        </a:lnTo>
                        <a:lnTo>
                          <a:pt x="13" y="40"/>
                        </a:lnTo>
                        <a:lnTo>
                          <a:pt x="40"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82" name=""/>
                  <p:cNvSpPr/>
                  <p:nvPr/>
                </p:nvSpPr>
                <p:spPr>
                  <a:xfrm>
                    <a:off x="5927400" y="2049480"/>
                    <a:ext cx="12960" cy="14400"/>
                  </a:xfrm>
                  <a:custGeom>
                    <a:avLst/>
                    <a:gdLst/>
                    <a:ahLst/>
                    <a:rect l="l" t="t" r="r" b="b"/>
                    <a:pathLst>
                      <a:path w="42" h="44">
                        <a:moveTo>
                          <a:pt x="39" y="19"/>
                        </a:moveTo>
                        <a:lnTo>
                          <a:pt x="42" y="23"/>
                        </a:lnTo>
                        <a:lnTo>
                          <a:pt x="27" y="0"/>
                        </a:lnTo>
                        <a:lnTo>
                          <a:pt x="0" y="18"/>
                        </a:lnTo>
                        <a:lnTo>
                          <a:pt x="15" y="40"/>
                        </a:lnTo>
                        <a:lnTo>
                          <a:pt x="19" y="44"/>
                        </a:lnTo>
                        <a:lnTo>
                          <a:pt x="15" y="40"/>
                        </a:lnTo>
                        <a:lnTo>
                          <a:pt x="16" y="43"/>
                        </a:lnTo>
                        <a:lnTo>
                          <a:pt x="19" y="44"/>
                        </a:lnTo>
                        <a:lnTo>
                          <a:pt x="39"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
                  <p:cNvSpPr/>
                  <p:nvPr/>
                </p:nvSpPr>
                <p:spPr>
                  <a:xfrm>
                    <a:off x="5933880" y="2055960"/>
                    <a:ext cx="19080" cy="19080"/>
                  </a:xfrm>
                  <a:custGeom>
                    <a:avLst/>
                    <a:gdLst/>
                    <a:ahLst/>
                    <a:rect l="l" t="t" r="r" b="b"/>
                    <a:pathLst>
                      <a:path w="61" h="61">
                        <a:moveTo>
                          <a:pt x="56" y="29"/>
                        </a:moveTo>
                        <a:lnTo>
                          <a:pt x="61" y="32"/>
                        </a:lnTo>
                        <a:lnTo>
                          <a:pt x="20" y="0"/>
                        </a:lnTo>
                        <a:lnTo>
                          <a:pt x="0" y="25"/>
                        </a:lnTo>
                        <a:lnTo>
                          <a:pt x="41" y="57"/>
                        </a:lnTo>
                        <a:lnTo>
                          <a:pt x="46" y="61"/>
                        </a:lnTo>
                        <a:lnTo>
                          <a:pt x="41" y="57"/>
                        </a:lnTo>
                        <a:lnTo>
                          <a:pt x="43" y="60"/>
                        </a:lnTo>
                        <a:lnTo>
                          <a:pt x="46" y="61"/>
                        </a:lnTo>
                        <a:lnTo>
                          <a:pt x="56"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4" name=""/>
                  <p:cNvSpPr/>
                  <p:nvPr/>
                </p:nvSpPr>
                <p:spPr>
                  <a:xfrm>
                    <a:off x="5948280" y="2065320"/>
                    <a:ext cx="11160" cy="12600"/>
                  </a:xfrm>
                  <a:custGeom>
                    <a:avLst/>
                    <a:gdLst/>
                    <a:ahLst/>
                    <a:rect l="l" t="t" r="r" b="b"/>
                    <a:pathLst>
                      <a:path w="35" h="41">
                        <a:moveTo>
                          <a:pt x="31" y="8"/>
                        </a:moveTo>
                        <a:lnTo>
                          <a:pt x="35" y="8"/>
                        </a:lnTo>
                        <a:lnTo>
                          <a:pt x="10" y="0"/>
                        </a:lnTo>
                        <a:lnTo>
                          <a:pt x="0" y="32"/>
                        </a:lnTo>
                        <a:lnTo>
                          <a:pt x="25" y="41"/>
                        </a:lnTo>
                        <a:lnTo>
                          <a:pt x="28" y="41"/>
                        </a:lnTo>
                        <a:lnTo>
                          <a:pt x="25" y="41"/>
                        </a:lnTo>
                        <a:lnTo>
                          <a:pt x="26" y="41"/>
                        </a:lnTo>
                        <a:lnTo>
                          <a:pt x="28" y="41"/>
                        </a:lnTo>
                        <a:lnTo>
                          <a:pt x="3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5" name=""/>
                  <p:cNvSpPr/>
                  <p:nvPr/>
                </p:nvSpPr>
                <p:spPr>
                  <a:xfrm>
                    <a:off x="5956200" y="2066760"/>
                    <a:ext cx="9360" cy="12960"/>
                  </a:xfrm>
                  <a:custGeom>
                    <a:avLst/>
                    <a:gdLst/>
                    <a:ahLst/>
                    <a:rect l="l" t="t" r="r" b="b"/>
                    <a:pathLst>
                      <a:path w="30" h="38">
                        <a:moveTo>
                          <a:pt x="29" y="3"/>
                        </a:moveTo>
                        <a:lnTo>
                          <a:pt x="30" y="4"/>
                        </a:lnTo>
                        <a:lnTo>
                          <a:pt x="3" y="0"/>
                        </a:lnTo>
                        <a:lnTo>
                          <a:pt x="0" y="33"/>
                        </a:lnTo>
                        <a:lnTo>
                          <a:pt x="28" y="37"/>
                        </a:lnTo>
                        <a:lnTo>
                          <a:pt x="29" y="38"/>
                        </a:lnTo>
                        <a:lnTo>
                          <a:pt x="29"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86" name=""/>
                  <p:cNvSpPr/>
                  <p:nvPr/>
                </p:nvSpPr>
                <p:spPr>
                  <a:xfrm>
                    <a:off x="5965560" y="2068560"/>
                    <a:ext cx="135000" cy="11160"/>
                  </a:xfrm>
                  <a:custGeom>
                    <a:avLst/>
                    <a:gdLst/>
                    <a:ahLst/>
                    <a:rect l="l" t="t" r="r" b="b"/>
                    <a:pathLst>
                      <a:path w="425" h="35">
                        <a:moveTo>
                          <a:pt x="391" y="17"/>
                        </a:moveTo>
                        <a:lnTo>
                          <a:pt x="408" y="0"/>
                        </a:lnTo>
                        <a:lnTo>
                          <a:pt x="0" y="0"/>
                        </a:lnTo>
                        <a:lnTo>
                          <a:pt x="0" y="35"/>
                        </a:lnTo>
                        <a:lnTo>
                          <a:pt x="408" y="35"/>
                        </a:lnTo>
                        <a:lnTo>
                          <a:pt x="425" y="17"/>
                        </a:lnTo>
                        <a:lnTo>
                          <a:pt x="408" y="35"/>
                        </a:lnTo>
                        <a:lnTo>
                          <a:pt x="425" y="35"/>
                        </a:lnTo>
                        <a:lnTo>
                          <a:pt x="425" y="17"/>
                        </a:lnTo>
                        <a:lnTo>
                          <a:pt x="391"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
                  <p:cNvSpPr/>
                  <p:nvPr/>
                </p:nvSpPr>
                <p:spPr>
                  <a:xfrm>
                    <a:off x="6089400" y="2014560"/>
                    <a:ext cx="11160" cy="58680"/>
                  </a:xfrm>
                  <a:custGeom>
                    <a:avLst/>
                    <a:gdLst/>
                    <a:ahLst/>
                    <a:rect l="l" t="t" r="r" b="b"/>
                    <a:pathLst>
                      <a:path w="34" h="188">
                        <a:moveTo>
                          <a:pt x="17" y="32"/>
                        </a:moveTo>
                        <a:lnTo>
                          <a:pt x="0" y="16"/>
                        </a:lnTo>
                        <a:lnTo>
                          <a:pt x="0" y="188"/>
                        </a:lnTo>
                        <a:lnTo>
                          <a:pt x="34" y="188"/>
                        </a:lnTo>
                        <a:lnTo>
                          <a:pt x="34" y="16"/>
                        </a:lnTo>
                        <a:lnTo>
                          <a:pt x="17" y="0"/>
                        </a:lnTo>
                        <a:lnTo>
                          <a:pt x="34" y="16"/>
                        </a:lnTo>
                        <a:lnTo>
                          <a:pt x="34" y="0"/>
                        </a:lnTo>
                        <a:lnTo>
                          <a:pt x="17" y="0"/>
                        </a:lnTo>
                        <a:lnTo>
                          <a:pt x="17"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8" name=""/>
                  <p:cNvSpPr/>
                  <p:nvPr/>
                </p:nvSpPr>
                <p:spPr>
                  <a:xfrm>
                    <a:off x="5986440" y="2008080"/>
                    <a:ext cx="109440" cy="15840"/>
                  </a:xfrm>
                  <a:custGeom>
                    <a:avLst/>
                    <a:gdLst/>
                    <a:ahLst/>
                    <a:rect l="l" t="t" r="r" b="b"/>
                    <a:pathLst>
                      <a:path w="342" h="51">
                        <a:moveTo>
                          <a:pt x="0" y="28"/>
                        </a:moveTo>
                        <a:lnTo>
                          <a:pt x="13" y="33"/>
                        </a:lnTo>
                        <a:lnTo>
                          <a:pt x="342" y="51"/>
                        </a:lnTo>
                        <a:lnTo>
                          <a:pt x="342" y="19"/>
                        </a:lnTo>
                        <a:lnTo>
                          <a:pt x="13" y="0"/>
                        </a:lnTo>
                        <a:lnTo>
                          <a:pt x="25" y="5"/>
                        </a:lnTo>
                        <a:lnTo>
                          <a:pt x="0" y="28"/>
                        </a:lnTo>
                        <a:lnTo>
                          <a:pt x="5" y="33"/>
                        </a:lnTo>
                        <a:lnTo>
                          <a:pt x="13" y="33"/>
                        </a:lnTo>
                        <a:lnTo>
                          <a:pt x="0"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9" name=""/>
                  <p:cNvSpPr/>
                  <p:nvPr/>
                </p:nvSpPr>
                <p:spPr>
                  <a:xfrm>
                    <a:off x="5968800" y="1990800"/>
                    <a:ext cx="25560" cy="25200"/>
                  </a:xfrm>
                  <a:custGeom>
                    <a:avLst/>
                    <a:gdLst/>
                    <a:ahLst/>
                    <a:rect l="l" t="t" r="r" b="b"/>
                    <a:pathLst>
                      <a:path w="82" h="83">
                        <a:moveTo>
                          <a:pt x="0" y="12"/>
                        </a:moveTo>
                        <a:lnTo>
                          <a:pt x="5" y="23"/>
                        </a:lnTo>
                        <a:lnTo>
                          <a:pt x="57" y="83"/>
                        </a:lnTo>
                        <a:lnTo>
                          <a:pt x="82" y="60"/>
                        </a:lnTo>
                        <a:lnTo>
                          <a:pt x="30" y="0"/>
                        </a:lnTo>
                        <a:lnTo>
                          <a:pt x="35" y="12"/>
                        </a:lnTo>
                        <a:lnTo>
                          <a:pt x="0" y="12"/>
                        </a:lnTo>
                        <a:lnTo>
                          <a:pt x="1" y="18"/>
                        </a:lnTo>
                        <a:lnTo>
                          <a:pt x="5" y="23"/>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5967360" y="1839960"/>
                    <a:ext cx="12600" cy="154080"/>
                  </a:xfrm>
                  <a:custGeom>
                    <a:avLst/>
                    <a:gdLst/>
                    <a:ahLst/>
                    <a:rect l="l" t="t" r="r" b="b"/>
                    <a:pathLst>
                      <a:path w="39" h="487">
                        <a:moveTo>
                          <a:pt x="19" y="35"/>
                        </a:moveTo>
                        <a:lnTo>
                          <a:pt x="0" y="19"/>
                        </a:lnTo>
                        <a:lnTo>
                          <a:pt x="4" y="487"/>
                        </a:lnTo>
                        <a:lnTo>
                          <a:pt x="39" y="487"/>
                        </a:lnTo>
                        <a:lnTo>
                          <a:pt x="35" y="19"/>
                        </a:lnTo>
                        <a:lnTo>
                          <a:pt x="16" y="3"/>
                        </a:lnTo>
                        <a:lnTo>
                          <a:pt x="35" y="19"/>
                        </a:lnTo>
                        <a:lnTo>
                          <a:pt x="34" y="0"/>
                        </a:lnTo>
                        <a:lnTo>
                          <a:pt x="16" y="3"/>
                        </a:lnTo>
                        <a:lnTo>
                          <a:pt x="1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029280" y="1892160"/>
                    <a:ext cx="54000" cy="98640"/>
                  </a:xfrm>
                  <a:custGeom>
                    <a:avLst/>
                    <a:gdLst/>
                    <a:ahLst/>
                    <a:rect l="l" t="t" r="r" b="b"/>
                    <a:pathLst>
                      <a:path w="168" h="313">
                        <a:moveTo>
                          <a:pt x="117" y="0"/>
                        </a:moveTo>
                        <a:lnTo>
                          <a:pt x="168" y="21"/>
                        </a:lnTo>
                        <a:lnTo>
                          <a:pt x="35" y="313"/>
                        </a:lnTo>
                        <a:lnTo>
                          <a:pt x="0" y="275"/>
                        </a:lnTo>
                        <a:lnTo>
                          <a:pt x="117"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65640" y="1887480"/>
                    <a:ext cx="25560" cy="15840"/>
                  </a:xfrm>
                  <a:custGeom>
                    <a:avLst/>
                    <a:gdLst/>
                    <a:ahLst/>
                    <a:rect l="l" t="t" r="r" b="b"/>
                    <a:pathLst>
                      <a:path w="80" h="51">
                        <a:moveTo>
                          <a:pt x="72" y="42"/>
                        </a:moveTo>
                        <a:lnTo>
                          <a:pt x="64" y="21"/>
                        </a:lnTo>
                        <a:lnTo>
                          <a:pt x="12" y="0"/>
                        </a:lnTo>
                        <a:lnTo>
                          <a:pt x="0" y="29"/>
                        </a:lnTo>
                        <a:lnTo>
                          <a:pt x="51" y="51"/>
                        </a:lnTo>
                        <a:lnTo>
                          <a:pt x="42" y="29"/>
                        </a:lnTo>
                        <a:lnTo>
                          <a:pt x="72" y="42"/>
                        </a:lnTo>
                        <a:lnTo>
                          <a:pt x="80" y="27"/>
                        </a:lnTo>
                        <a:lnTo>
                          <a:pt x="64" y="21"/>
                        </a:lnTo>
                        <a:lnTo>
                          <a:pt x="72" y="4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3" name=""/>
                  <p:cNvSpPr/>
                  <p:nvPr/>
                </p:nvSpPr>
                <p:spPr>
                  <a:xfrm>
                    <a:off x="6035400" y="1895400"/>
                    <a:ext cx="52560" cy="104760"/>
                  </a:xfrm>
                  <a:custGeom>
                    <a:avLst/>
                    <a:gdLst/>
                    <a:ahLst/>
                    <a:rect l="l" t="t" r="r" b="b"/>
                    <a:pathLst>
                      <a:path w="163" h="329">
                        <a:moveTo>
                          <a:pt x="2" y="310"/>
                        </a:moveTo>
                        <a:lnTo>
                          <a:pt x="30" y="305"/>
                        </a:lnTo>
                        <a:lnTo>
                          <a:pt x="163" y="13"/>
                        </a:lnTo>
                        <a:lnTo>
                          <a:pt x="133" y="0"/>
                        </a:lnTo>
                        <a:lnTo>
                          <a:pt x="0" y="292"/>
                        </a:lnTo>
                        <a:lnTo>
                          <a:pt x="27" y="287"/>
                        </a:lnTo>
                        <a:lnTo>
                          <a:pt x="2" y="310"/>
                        </a:lnTo>
                        <a:lnTo>
                          <a:pt x="19" y="329"/>
                        </a:lnTo>
                        <a:lnTo>
                          <a:pt x="30" y="305"/>
                        </a:lnTo>
                        <a:lnTo>
                          <a:pt x="2"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022800" y="1974960"/>
                    <a:ext cx="22320" cy="19080"/>
                  </a:xfrm>
                  <a:custGeom>
                    <a:avLst/>
                    <a:gdLst/>
                    <a:ahLst/>
                    <a:rect l="l" t="t" r="r" b="b"/>
                    <a:pathLst>
                      <a:path w="67" h="60">
                        <a:moveTo>
                          <a:pt x="5" y="5"/>
                        </a:moveTo>
                        <a:lnTo>
                          <a:pt x="7" y="22"/>
                        </a:lnTo>
                        <a:lnTo>
                          <a:pt x="42" y="60"/>
                        </a:lnTo>
                        <a:lnTo>
                          <a:pt x="67" y="37"/>
                        </a:lnTo>
                        <a:lnTo>
                          <a:pt x="32" y="0"/>
                        </a:lnTo>
                        <a:lnTo>
                          <a:pt x="35" y="17"/>
                        </a:lnTo>
                        <a:lnTo>
                          <a:pt x="5" y="5"/>
                        </a:lnTo>
                        <a:lnTo>
                          <a:pt x="0" y="14"/>
                        </a:lnTo>
                        <a:lnTo>
                          <a:pt x="7" y="22"/>
                        </a:lnTo>
                        <a:lnTo>
                          <a:pt x="5"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5" name=""/>
                  <p:cNvSpPr/>
                  <p:nvPr/>
                </p:nvSpPr>
                <p:spPr>
                  <a:xfrm>
                    <a:off x="6024240" y="1884240"/>
                    <a:ext cx="47880" cy="96840"/>
                  </a:xfrm>
                  <a:custGeom>
                    <a:avLst/>
                    <a:gdLst/>
                    <a:ahLst/>
                    <a:rect l="l" t="t" r="r" b="b"/>
                    <a:pathLst>
                      <a:path w="147" h="304">
                        <a:moveTo>
                          <a:pt x="138" y="8"/>
                        </a:moveTo>
                        <a:lnTo>
                          <a:pt x="117" y="16"/>
                        </a:lnTo>
                        <a:lnTo>
                          <a:pt x="0" y="292"/>
                        </a:lnTo>
                        <a:lnTo>
                          <a:pt x="30" y="304"/>
                        </a:lnTo>
                        <a:lnTo>
                          <a:pt x="147" y="29"/>
                        </a:lnTo>
                        <a:lnTo>
                          <a:pt x="126" y="37"/>
                        </a:lnTo>
                        <a:lnTo>
                          <a:pt x="138" y="8"/>
                        </a:lnTo>
                        <a:lnTo>
                          <a:pt x="123" y="0"/>
                        </a:lnTo>
                        <a:lnTo>
                          <a:pt x="117" y="16"/>
                        </a:lnTo>
                        <a:lnTo>
                          <a:pt x="13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
                <p:cNvGrpSpPr/>
                <p:nvPr/>
              </p:nvGrpSpPr>
              <p:grpSpPr>
                <a:xfrm>
                  <a:off x="5445000" y="1486080"/>
                  <a:ext cx="687240" cy="587160"/>
                  <a:chOff x="5445000" y="1486080"/>
                  <a:chExt cx="687240" cy="587160"/>
                </a:xfrm>
              </p:grpSpPr>
              <p:sp>
                <p:nvSpPr>
                  <p:cNvPr id="397" name=""/>
                  <p:cNvSpPr/>
                  <p:nvPr/>
                </p:nvSpPr>
                <p:spPr>
                  <a:xfrm>
                    <a:off x="6026040" y="1959120"/>
                    <a:ext cx="61920" cy="42840"/>
                  </a:xfrm>
                  <a:custGeom>
                    <a:avLst/>
                    <a:gdLst/>
                    <a:ahLst/>
                    <a:rect l="l" t="t" r="r" b="b"/>
                    <a:pathLst>
                      <a:path w="191" h="135">
                        <a:moveTo>
                          <a:pt x="191" y="23"/>
                        </a:moveTo>
                        <a:lnTo>
                          <a:pt x="150" y="8"/>
                        </a:lnTo>
                        <a:lnTo>
                          <a:pt x="111" y="0"/>
                        </a:lnTo>
                        <a:lnTo>
                          <a:pt x="91" y="0"/>
                        </a:lnTo>
                        <a:lnTo>
                          <a:pt x="70" y="5"/>
                        </a:lnTo>
                        <a:lnTo>
                          <a:pt x="37" y="21"/>
                        </a:lnTo>
                        <a:lnTo>
                          <a:pt x="15" y="41"/>
                        </a:lnTo>
                        <a:lnTo>
                          <a:pt x="0" y="65"/>
                        </a:lnTo>
                        <a:lnTo>
                          <a:pt x="156" y="135"/>
                        </a:lnTo>
                        <a:lnTo>
                          <a:pt x="191" y="23"/>
                        </a:lnTo>
                        <a:close/>
                      </a:path>
                    </a:pathLst>
                  </a:custGeom>
                  <a:solidFill>
                    <a:srgbClr val="ffcc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6072120" y="1957320"/>
                    <a:ext cx="17280" cy="14400"/>
                  </a:xfrm>
                  <a:custGeom>
                    <a:avLst/>
                    <a:gdLst/>
                    <a:ahLst/>
                    <a:rect l="l" t="t" r="r" b="b"/>
                    <a:pathLst>
                      <a:path w="51" h="48">
                        <a:moveTo>
                          <a:pt x="2" y="33"/>
                        </a:moveTo>
                        <a:lnTo>
                          <a:pt x="0" y="33"/>
                        </a:lnTo>
                        <a:lnTo>
                          <a:pt x="41" y="48"/>
                        </a:lnTo>
                        <a:lnTo>
                          <a:pt x="51" y="15"/>
                        </a:lnTo>
                        <a:lnTo>
                          <a:pt x="10" y="0"/>
                        </a:lnTo>
                        <a:lnTo>
                          <a:pt x="7" y="0"/>
                        </a:lnTo>
                        <a:lnTo>
                          <a:pt x="2" y="3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9" name=""/>
                  <p:cNvSpPr/>
                  <p:nvPr/>
                </p:nvSpPr>
                <p:spPr>
                  <a:xfrm>
                    <a:off x="6060960" y="1954080"/>
                    <a:ext cx="14400" cy="12960"/>
                  </a:xfrm>
                  <a:custGeom>
                    <a:avLst/>
                    <a:gdLst/>
                    <a:ahLst/>
                    <a:rect l="l" t="t" r="r" b="b"/>
                    <a:pathLst>
                      <a:path w="44" h="41">
                        <a:moveTo>
                          <a:pt x="3" y="35"/>
                        </a:moveTo>
                        <a:lnTo>
                          <a:pt x="0" y="33"/>
                        </a:lnTo>
                        <a:lnTo>
                          <a:pt x="39" y="41"/>
                        </a:lnTo>
                        <a:lnTo>
                          <a:pt x="44" y="8"/>
                        </a:lnTo>
                        <a:lnTo>
                          <a:pt x="5" y="1"/>
                        </a:lnTo>
                        <a:lnTo>
                          <a:pt x="3" y="0"/>
                        </a:lnTo>
                        <a:lnTo>
                          <a:pt x="5" y="1"/>
                        </a:lnTo>
                        <a:lnTo>
                          <a:pt x="4" y="0"/>
                        </a:lnTo>
                        <a:lnTo>
                          <a:pt x="3" y="0"/>
                        </a:lnTo>
                        <a:lnTo>
                          <a:pt x="3" y="3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0" name=""/>
                  <p:cNvSpPr/>
                  <p:nvPr/>
                </p:nvSpPr>
                <p:spPr>
                  <a:xfrm>
                    <a:off x="6054480" y="1954080"/>
                    <a:ext cx="7920" cy="11160"/>
                  </a:xfrm>
                  <a:custGeom>
                    <a:avLst/>
                    <a:gdLst/>
                    <a:ahLst/>
                    <a:rect l="l" t="t" r="r" b="b"/>
                    <a:pathLst>
                      <a:path w="24" h="35">
                        <a:moveTo>
                          <a:pt x="8" y="33"/>
                        </a:moveTo>
                        <a:lnTo>
                          <a:pt x="4" y="35"/>
                        </a:lnTo>
                        <a:lnTo>
                          <a:pt x="24" y="35"/>
                        </a:lnTo>
                        <a:lnTo>
                          <a:pt x="24" y="0"/>
                        </a:lnTo>
                        <a:lnTo>
                          <a:pt x="4" y="0"/>
                        </a:lnTo>
                        <a:lnTo>
                          <a:pt x="0" y="1"/>
                        </a:lnTo>
                        <a:lnTo>
                          <a:pt x="4" y="0"/>
                        </a:lnTo>
                        <a:lnTo>
                          <a:pt x="3" y="0"/>
                        </a:lnTo>
                        <a:lnTo>
                          <a:pt x="0" y="1"/>
                        </a:lnTo>
                        <a:lnTo>
                          <a:pt x="8"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1" name=""/>
                  <p:cNvSpPr/>
                  <p:nvPr/>
                </p:nvSpPr>
                <p:spPr>
                  <a:xfrm>
                    <a:off x="6046560" y="1954080"/>
                    <a:ext cx="9720" cy="12960"/>
                  </a:xfrm>
                  <a:custGeom>
                    <a:avLst/>
                    <a:gdLst/>
                    <a:ahLst/>
                    <a:rect l="l" t="t" r="r" b="b"/>
                    <a:pathLst>
                      <a:path w="33" h="37">
                        <a:moveTo>
                          <a:pt x="15" y="36"/>
                        </a:moveTo>
                        <a:lnTo>
                          <a:pt x="12" y="37"/>
                        </a:lnTo>
                        <a:lnTo>
                          <a:pt x="33" y="32"/>
                        </a:lnTo>
                        <a:lnTo>
                          <a:pt x="25" y="0"/>
                        </a:lnTo>
                        <a:lnTo>
                          <a:pt x="4" y="5"/>
                        </a:lnTo>
                        <a:lnTo>
                          <a:pt x="0" y="6"/>
                        </a:lnTo>
                        <a:lnTo>
                          <a:pt x="4" y="5"/>
                        </a:lnTo>
                        <a:lnTo>
                          <a:pt x="3" y="5"/>
                        </a:lnTo>
                        <a:lnTo>
                          <a:pt x="0" y="6"/>
                        </a:lnTo>
                        <a:lnTo>
                          <a:pt x="15" y="3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6035400" y="1955880"/>
                    <a:ext cx="15840" cy="15840"/>
                  </a:xfrm>
                  <a:custGeom>
                    <a:avLst/>
                    <a:gdLst/>
                    <a:ahLst/>
                    <a:rect l="l" t="t" r="r" b="b"/>
                    <a:pathLst>
                      <a:path w="51" h="46">
                        <a:moveTo>
                          <a:pt x="23" y="44"/>
                        </a:moveTo>
                        <a:lnTo>
                          <a:pt x="19" y="46"/>
                        </a:lnTo>
                        <a:lnTo>
                          <a:pt x="51" y="30"/>
                        </a:lnTo>
                        <a:lnTo>
                          <a:pt x="36" y="0"/>
                        </a:lnTo>
                        <a:lnTo>
                          <a:pt x="4" y="16"/>
                        </a:lnTo>
                        <a:lnTo>
                          <a:pt x="0" y="19"/>
                        </a:lnTo>
                        <a:lnTo>
                          <a:pt x="4" y="16"/>
                        </a:lnTo>
                        <a:lnTo>
                          <a:pt x="3" y="18"/>
                        </a:lnTo>
                        <a:lnTo>
                          <a:pt x="0" y="19"/>
                        </a:lnTo>
                        <a:lnTo>
                          <a:pt x="23"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03" name=""/>
                  <p:cNvSpPr/>
                  <p:nvPr/>
                </p:nvSpPr>
                <p:spPr>
                  <a:xfrm>
                    <a:off x="6027480" y="1962000"/>
                    <a:ext cx="14400" cy="14400"/>
                  </a:xfrm>
                  <a:custGeom>
                    <a:avLst/>
                    <a:gdLst/>
                    <a:ahLst/>
                    <a:rect l="l" t="t" r="r" b="b"/>
                    <a:pathLst>
                      <a:path w="48" h="45">
                        <a:moveTo>
                          <a:pt x="28" y="41"/>
                        </a:moveTo>
                        <a:lnTo>
                          <a:pt x="25" y="45"/>
                        </a:lnTo>
                        <a:lnTo>
                          <a:pt x="48" y="25"/>
                        </a:lnTo>
                        <a:lnTo>
                          <a:pt x="25" y="0"/>
                        </a:lnTo>
                        <a:lnTo>
                          <a:pt x="3" y="20"/>
                        </a:lnTo>
                        <a:lnTo>
                          <a:pt x="0" y="24"/>
                        </a:lnTo>
                        <a:lnTo>
                          <a:pt x="3" y="20"/>
                        </a:lnTo>
                        <a:lnTo>
                          <a:pt x="1" y="21"/>
                        </a:lnTo>
                        <a:lnTo>
                          <a:pt x="0" y="24"/>
                        </a:lnTo>
                        <a:lnTo>
                          <a:pt x="28" y="4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4" name=""/>
                  <p:cNvSpPr/>
                  <p:nvPr/>
                </p:nvSpPr>
                <p:spPr>
                  <a:xfrm>
                    <a:off x="6018120" y="1969920"/>
                    <a:ext cx="17280" cy="14400"/>
                  </a:xfrm>
                  <a:custGeom>
                    <a:avLst/>
                    <a:gdLst/>
                    <a:ahLst/>
                    <a:rect l="l" t="t" r="r" b="b"/>
                    <a:pathLst>
                      <a:path w="54" h="47">
                        <a:moveTo>
                          <a:pt x="31" y="17"/>
                        </a:moveTo>
                        <a:lnTo>
                          <a:pt x="39" y="41"/>
                        </a:lnTo>
                        <a:lnTo>
                          <a:pt x="54" y="17"/>
                        </a:lnTo>
                        <a:lnTo>
                          <a:pt x="26" y="0"/>
                        </a:lnTo>
                        <a:lnTo>
                          <a:pt x="11" y="23"/>
                        </a:lnTo>
                        <a:lnTo>
                          <a:pt x="19" y="47"/>
                        </a:lnTo>
                        <a:lnTo>
                          <a:pt x="11" y="23"/>
                        </a:lnTo>
                        <a:lnTo>
                          <a:pt x="0" y="39"/>
                        </a:lnTo>
                        <a:lnTo>
                          <a:pt x="19" y="47"/>
                        </a:lnTo>
                        <a:lnTo>
                          <a:pt x="31"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5" name=""/>
                  <p:cNvSpPr/>
                  <p:nvPr/>
                </p:nvSpPr>
                <p:spPr>
                  <a:xfrm>
                    <a:off x="6024240" y="1974960"/>
                    <a:ext cx="57240" cy="34920"/>
                  </a:xfrm>
                  <a:custGeom>
                    <a:avLst/>
                    <a:gdLst/>
                    <a:ahLst/>
                    <a:rect l="l" t="t" r="r" b="b"/>
                    <a:pathLst>
                      <a:path w="178" h="109">
                        <a:moveTo>
                          <a:pt x="146" y="80"/>
                        </a:moveTo>
                        <a:lnTo>
                          <a:pt x="168" y="70"/>
                        </a:lnTo>
                        <a:lnTo>
                          <a:pt x="12" y="0"/>
                        </a:lnTo>
                        <a:lnTo>
                          <a:pt x="0" y="30"/>
                        </a:lnTo>
                        <a:lnTo>
                          <a:pt x="156" y="100"/>
                        </a:lnTo>
                        <a:lnTo>
                          <a:pt x="178" y="90"/>
                        </a:lnTo>
                        <a:lnTo>
                          <a:pt x="156" y="100"/>
                        </a:lnTo>
                        <a:lnTo>
                          <a:pt x="172" y="109"/>
                        </a:lnTo>
                        <a:lnTo>
                          <a:pt x="178" y="90"/>
                        </a:lnTo>
                        <a:lnTo>
                          <a:pt x="146" y="8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6" name=""/>
                  <p:cNvSpPr/>
                  <p:nvPr/>
                </p:nvSpPr>
                <p:spPr>
                  <a:xfrm>
                    <a:off x="6070320" y="1962000"/>
                    <a:ext cx="24120" cy="41400"/>
                  </a:xfrm>
                  <a:custGeom>
                    <a:avLst/>
                    <a:gdLst/>
                    <a:ahLst/>
                    <a:rect l="l" t="t" r="r" b="b"/>
                    <a:pathLst>
                      <a:path w="72" h="134">
                        <a:moveTo>
                          <a:pt x="46" y="33"/>
                        </a:moveTo>
                        <a:lnTo>
                          <a:pt x="35" y="12"/>
                        </a:lnTo>
                        <a:lnTo>
                          <a:pt x="0" y="124"/>
                        </a:lnTo>
                        <a:lnTo>
                          <a:pt x="32" y="134"/>
                        </a:lnTo>
                        <a:lnTo>
                          <a:pt x="67" y="22"/>
                        </a:lnTo>
                        <a:lnTo>
                          <a:pt x="56" y="0"/>
                        </a:lnTo>
                        <a:lnTo>
                          <a:pt x="67" y="22"/>
                        </a:lnTo>
                        <a:lnTo>
                          <a:pt x="72" y="7"/>
                        </a:lnTo>
                        <a:lnTo>
                          <a:pt x="56" y="0"/>
                        </a:lnTo>
                        <a:lnTo>
                          <a:pt x="46"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7" name=""/>
                  <p:cNvSpPr/>
                  <p:nvPr/>
                </p:nvSpPr>
                <p:spPr>
                  <a:xfrm>
                    <a:off x="5935680" y="1979640"/>
                    <a:ext cx="182520" cy="39600"/>
                  </a:xfrm>
                  <a:custGeom>
                    <a:avLst/>
                    <a:gdLst/>
                    <a:ahLst/>
                    <a:rect l="l" t="t" r="r" b="b"/>
                    <a:pathLst>
                      <a:path w="572" h="122">
                        <a:moveTo>
                          <a:pt x="572" y="122"/>
                        </a:moveTo>
                        <a:lnTo>
                          <a:pt x="416" y="0"/>
                        </a:lnTo>
                        <a:lnTo>
                          <a:pt x="0" y="0"/>
                        </a:lnTo>
                        <a:lnTo>
                          <a:pt x="156" y="122"/>
                        </a:lnTo>
                        <a:lnTo>
                          <a:pt x="572" y="12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8" name=""/>
                  <p:cNvSpPr/>
                  <p:nvPr/>
                </p:nvSpPr>
                <p:spPr>
                  <a:xfrm>
                    <a:off x="6064200" y="1974960"/>
                    <a:ext cx="56880" cy="47520"/>
                  </a:xfrm>
                  <a:custGeom>
                    <a:avLst/>
                    <a:gdLst/>
                    <a:ahLst/>
                    <a:rect l="l" t="t" r="r" b="b"/>
                    <a:pathLst>
                      <a:path w="176" h="152">
                        <a:moveTo>
                          <a:pt x="10" y="34"/>
                        </a:moveTo>
                        <a:lnTo>
                          <a:pt x="0" y="29"/>
                        </a:lnTo>
                        <a:lnTo>
                          <a:pt x="156" y="152"/>
                        </a:lnTo>
                        <a:lnTo>
                          <a:pt x="176" y="127"/>
                        </a:lnTo>
                        <a:lnTo>
                          <a:pt x="20" y="4"/>
                        </a:lnTo>
                        <a:lnTo>
                          <a:pt x="10" y="0"/>
                        </a:lnTo>
                        <a:lnTo>
                          <a:pt x="20" y="4"/>
                        </a:lnTo>
                        <a:lnTo>
                          <a:pt x="15" y="0"/>
                        </a:lnTo>
                        <a:lnTo>
                          <a:pt x="10" y="0"/>
                        </a:lnTo>
                        <a:lnTo>
                          <a:pt x="10"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9" name=""/>
                  <p:cNvSpPr/>
                  <p:nvPr/>
                </p:nvSpPr>
                <p:spPr>
                  <a:xfrm>
                    <a:off x="5921280" y="1974960"/>
                    <a:ext cx="146160" cy="11160"/>
                  </a:xfrm>
                  <a:custGeom>
                    <a:avLst/>
                    <a:gdLst/>
                    <a:ahLst/>
                    <a:rect l="l" t="t" r="r" b="b"/>
                    <a:pathLst>
                      <a:path w="464" h="34">
                        <a:moveTo>
                          <a:pt x="58" y="4"/>
                        </a:moveTo>
                        <a:lnTo>
                          <a:pt x="48" y="34"/>
                        </a:lnTo>
                        <a:lnTo>
                          <a:pt x="464" y="34"/>
                        </a:lnTo>
                        <a:lnTo>
                          <a:pt x="464" y="0"/>
                        </a:lnTo>
                        <a:lnTo>
                          <a:pt x="48" y="0"/>
                        </a:lnTo>
                        <a:lnTo>
                          <a:pt x="38" y="29"/>
                        </a:lnTo>
                        <a:lnTo>
                          <a:pt x="48" y="0"/>
                        </a:lnTo>
                        <a:lnTo>
                          <a:pt x="0" y="1"/>
                        </a:lnTo>
                        <a:lnTo>
                          <a:pt x="38" y="29"/>
                        </a:lnTo>
                        <a:lnTo>
                          <a:pt x="58"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0" name=""/>
                  <p:cNvSpPr/>
                  <p:nvPr/>
                </p:nvSpPr>
                <p:spPr>
                  <a:xfrm>
                    <a:off x="5932440" y="1976400"/>
                    <a:ext cx="55440" cy="47520"/>
                  </a:xfrm>
                  <a:custGeom>
                    <a:avLst/>
                    <a:gdLst/>
                    <a:ahLst/>
                    <a:rect l="l" t="t" r="r" b="b"/>
                    <a:pathLst>
                      <a:path w="176" h="153">
                        <a:moveTo>
                          <a:pt x="166" y="118"/>
                        </a:moveTo>
                        <a:lnTo>
                          <a:pt x="176" y="123"/>
                        </a:lnTo>
                        <a:lnTo>
                          <a:pt x="20" y="0"/>
                        </a:lnTo>
                        <a:lnTo>
                          <a:pt x="0" y="25"/>
                        </a:lnTo>
                        <a:lnTo>
                          <a:pt x="156" y="148"/>
                        </a:lnTo>
                        <a:lnTo>
                          <a:pt x="166" y="153"/>
                        </a:lnTo>
                        <a:lnTo>
                          <a:pt x="156" y="148"/>
                        </a:lnTo>
                        <a:lnTo>
                          <a:pt x="161" y="153"/>
                        </a:lnTo>
                        <a:lnTo>
                          <a:pt x="166" y="153"/>
                        </a:lnTo>
                        <a:lnTo>
                          <a:pt x="166" y="1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1" name=""/>
                  <p:cNvSpPr/>
                  <p:nvPr/>
                </p:nvSpPr>
                <p:spPr>
                  <a:xfrm>
                    <a:off x="5984640" y="2013120"/>
                    <a:ext cx="147600" cy="10800"/>
                  </a:xfrm>
                  <a:custGeom>
                    <a:avLst/>
                    <a:gdLst/>
                    <a:ahLst/>
                    <a:rect l="l" t="t" r="r" b="b"/>
                    <a:pathLst>
                      <a:path w="464" h="35">
                        <a:moveTo>
                          <a:pt x="406" y="30"/>
                        </a:moveTo>
                        <a:lnTo>
                          <a:pt x="416" y="0"/>
                        </a:lnTo>
                        <a:lnTo>
                          <a:pt x="0" y="0"/>
                        </a:lnTo>
                        <a:lnTo>
                          <a:pt x="0" y="35"/>
                        </a:lnTo>
                        <a:lnTo>
                          <a:pt x="416" y="35"/>
                        </a:lnTo>
                        <a:lnTo>
                          <a:pt x="426" y="5"/>
                        </a:lnTo>
                        <a:lnTo>
                          <a:pt x="416" y="35"/>
                        </a:lnTo>
                        <a:lnTo>
                          <a:pt x="464" y="33"/>
                        </a:lnTo>
                        <a:lnTo>
                          <a:pt x="426" y="5"/>
                        </a:lnTo>
                        <a:lnTo>
                          <a:pt x="406" y="3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2" name=""/>
                  <p:cNvSpPr/>
                  <p:nvPr/>
                </p:nvSpPr>
                <p:spPr>
                  <a:xfrm>
                    <a:off x="5630760" y="1911240"/>
                    <a:ext cx="141120" cy="135000"/>
                  </a:xfrm>
                  <a:custGeom>
                    <a:avLst/>
                    <a:gdLst/>
                    <a:ahLst/>
                    <a:rect l="l" t="t" r="r" b="b"/>
                    <a:pathLst>
                      <a:path w="444" h="425">
                        <a:moveTo>
                          <a:pt x="0" y="425"/>
                        </a:moveTo>
                        <a:lnTo>
                          <a:pt x="82" y="407"/>
                        </a:lnTo>
                        <a:lnTo>
                          <a:pt x="160" y="377"/>
                        </a:lnTo>
                        <a:lnTo>
                          <a:pt x="231" y="334"/>
                        </a:lnTo>
                        <a:lnTo>
                          <a:pt x="293" y="283"/>
                        </a:lnTo>
                        <a:lnTo>
                          <a:pt x="348" y="223"/>
                        </a:lnTo>
                        <a:lnTo>
                          <a:pt x="392" y="156"/>
                        </a:lnTo>
                        <a:lnTo>
                          <a:pt x="424" y="80"/>
                        </a:lnTo>
                        <a:lnTo>
                          <a:pt x="444" y="0"/>
                        </a:lnTo>
                        <a:lnTo>
                          <a:pt x="0" y="1"/>
                        </a:lnTo>
                        <a:lnTo>
                          <a:pt x="0" y="4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628960" y="2035080"/>
                    <a:ext cx="30240" cy="15840"/>
                  </a:xfrm>
                  <a:custGeom>
                    <a:avLst/>
                    <a:gdLst/>
                    <a:ahLst/>
                    <a:rect l="l" t="t" r="r" b="b"/>
                    <a:pathLst>
                      <a:path w="93" h="52">
                        <a:moveTo>
                          <a:pt x="80" y="0"/>
                        </a:moveTo>
                        <a:lnTo>
                          <a:pt x="83" y="0"/>
                        </a:lnTo>
                        <a:lnTo>
                          <a:pt x="0" y="19"/>
                        </a:lnTo>
                        <a:lnTo>
                          <a:pt x="8" y="52"/>
                        </a:lnTo>
                        <a:lnTo>
                          <a:pt x="90" y="33"/>
                        </a:lnTo>
                        <a:lnTo>
                          <a:pt x="93" y="33"/>
                        </a:lnTo>
                        <a:lnTo>
                          <a:pt x="8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4" name=""/>
                  <p:cNvSpPr/>
                  <p:nvPr/>
                </p:nvSpPr>
                <p:spPr>
                  <a:xfrm>
                    <a:off x="5654520" y="2025720"/>
                    <a:ext cx="30240" cy="20520"/>
                  </a:xfrm>
                  <a:custGeom>
                    <a:avLst/>
                    <a:gdLst/>
                    <a:ahLst/>
                    <a:rect l="l" t="t" r="r" b="b"/>
                    <a:pathLst>
                      <a:path w="93" h="63">
                        <a:moveTo>
                          <a:pt x="75" y="3"/>
                        </a:moveTo>
                        <a:lnTo>
                          <a:pt x="78" y="0"/>
                        </a:lnTo>
                        <a:lnTo>
                          <a:pt x="0" y="30"/>
                        </a:lnTo>
                        <a:lnTo>
                          <a:pt x="13" y="63"/>
                        </a:lnTo>
                        <a:lnTo>
                          <a:pt x="90" y="33"/>
                        </a:lnTo>
                        <a:lnTo>
                          <a:pt x="93" y="30"/>
                        </a:lnTo>
                        <a:lnTo>
                          <a:pt x="75"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5" name=""/>
                  <p:cNvSpPr/>
                  <p:nvPr/>
                </p:nvSpPr>
                <p:spPr>
                  <a:xfrm>
                    <a:off x="5678280" y="2013120"/>
                    <a:ext cx="28800" cy="21960"/>
                  </a:xfrm>
                  <a:custGeom>
                    <a:avLst/>
                    <a:gdLst/>
                    <a:ahLst/>
                    <a:rect l="l" t="t" r="r" b="b"/>
                    <a:pathLst>
                      <a:path w="90" h="69">
                        <a:moveTo>
                          <a:pt x="70" y="1"/>
                        </a:moveTo>
                        <a:lnTo>
                          <a:pt x="71" y="0"/>
                        </a:lnTo>
                        <a:lnTo>
                          <a:pt x="0" y="42"/>
                        </a:lnTo>
                        <a:lnTo>
                          <a:pt x="18" y="69"/>
                        </a:lnTo>
                        <a:lnTo>
                          <a:pt x="89" y="27"/>
                        </a:lnTo>
                        <a:lnTo>
                          <a:pt x="90" y="26"/>
                        </a:lnTo>
                        <a:lnTo>
                          <a:pt x="70" y="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6" name=""/>
                  <p:cNvSpPr/>
                  <p:nvPr/>
                </p:nvSpPr>
                <p:spPr>
                  <a:xfrm>
                    <a:off x="5700600" y="1996920"/>
                    <a:ext cx="27000" cy="24120"/>
                  </a:xfrm>
                  <a:custGeom>
                    <a:avLst/>
                    <a:gdLst/>
                    <a:ahLst/>
                    <a:rect l="l" t="t" r="r" b="b"/>
                    <a:pathLst>
                      <a:path w="85" h="76">
                        <a:moveTo>
                          <a:pt x="60" y="1"/>
                        </a:moveTo>
                        <a:lnTo>
                          <a:pt x="62" y="0"/>
                        </a:lnTo>
                        <a:lnTo>
                          <a:pt x="0" y="51"/>
                        </a:lnTo>
                        <a:lnTo>
                          <a:pt x="20" y="76"/>
                        </a:lnTo>
                        <a:lnTo>
                          <a:pt x="82" y="25"/>
                        </a:lnTo>
                        <a:lnTo>
                          <a:pt x="85" y="23"/>
                        </a:lnTo>
                        <a:lnTo>
                          <a:pt x="60" y="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7" name=""/>
                  <p:cNvSpPr/>
                  <p:nvPr/>
                </p:nvSpPr>
                <p:spPr>
                  <a:xfrm>
                    <a:off x="5719680" y="1978200"/>
                    <a:ext cx="27000" cy="26640"/>
                  </a:xfrm>
                  <a:custGeom>
                    <a:avLst/>
                    <a:gdLst/>
                    <a:ahLst/>
                    <a:rect l="l" t="t" r="r" b="b"/>
                    <a:pathLst>
                      <a:path w="81" h="82">
                        <a:moveTo>
                          <a:pt x="53" y="2"/>
                        </a:moveTo>
                        <a:lnTo>
                          <a:pt x="55" y="0"/>
                        </a:lnTo>
                        <a:lnTo>
                          <a:pt x="0" y="60"/>
                        </a:lnTo>
                        <a:lnTo>
                          <a:pt x="25" y="82"/>
                        </a:lnTo>
                        <a:lnTo>
                          <a:pt x="80" y="22"/>
                        </a:lnTo>
                        <a:lnTo>
                          <a:pt x="81" y="20"/>
                        </a:lnTo>
                        <a:lnTo>
                          <a:pt x="53"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18" name=""/>
                  <p:cNvSpPr/>
                  <p:nvPr/>
                </p:nvSpPr>
                <p:spPr>
                  <a:xfrm>
                    <a:off x="5736960" y="1957320"/>
                    <a:ext cx="23760" cy="27000"/>
                  </a:xfrm>
                  <a:custGeom>
                    <a:avLst/>
                    <a:gdLst/>
                    <a:ahLst/>
                    <a:rect l="l" t="t" r="r" b="b"/>
                    <a:pathLst>
                      <a:path w="73" h="85">
                        <a:moveTo>
                          <a:pt x="43" y="3"/>
                        </a:moveTo>
                        <a:lnTo>
                          <a:pt x="44" y="0"/>
                        </a:lnTo>
                        <a:lnTo>
                          <a:pt x="0" y="67"/>
                        </a:lnTo>
                        <a:lnTo>
                          <a:pt x="28" y="85"/>
                        </a:lnTo>
                        <a:lnTo>
                          <a:pt x="71" y="18"/>
                        </a:lnTo>
                        <a:lnTo>
                          <a:pt x="73" y="15"/>
                        </a:lnTo>
                        <a:lnTo>
                          <a:pt x="4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
                  <p:cNvSpPr/>
                  <p:nvPr/>
                </p:nvSpPr>
                <p:spPr>
                  <a:xfrm>
                    <a:off x="5751360" y="1935000"/>
                    <a:ext cx="19080" cy="27000"/>
                  </a:xfrm>
                  <a:custGeom>
                    <a:avLst/>
                    <a:gdLst/>
                    <a:ahLst/>
                    <a:rect l="l" t="t" r="r" b="b"/>
                    <a:pathLst>
                      <a:path w="63" h="88">
                        <a:moveTo>
                          <a:pt x="31" y="2"/>
                        </a:moveTo>
                        <a:lnTo>
                          <a:pt x="32" y="0"/>
                        </a:lnTo>
                        <a:lnTo>
                          <a:pt x="0" y="76"/>
                        </a:lnTo>
                        <a:lnTo>
                          <a:pt x="30" y="88"/>
                        </a:lnTo>
                        <a:lnTo>
                          <a:pt x="62" y="12"/>
                        </a:lnTo>
                        <a:lnTo>
                          <a:pt x="63" y="9"/>
                        </a:lnTo>
                        <a:lnTo>
                          <a:pt x="31"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20" name=""/>
                  <p:cNvSpPr/>
                  <p:nvPr/>
                </p:nvSpPr>
                <p:spPr>
                  <a:xfrm>
                    <a:off x="5760720" y="1905120"/>
                    <a:ext cx="17640" cy="33120"/>
                  </a:xfrm>
                  <a:custGeom>
                    <a:avLst/>
                    <a:gdLst/>
                    <a:ahLst/>
                    <a:rect l="l" t="t" r="r" b="b"/>
                    <a:pathLst>
                      <a:path w="57" h="101">
                        <a:moveTo>
                          <a:pt x="36" y="35"/>
                        </a:moveTo>
                        <a:lnTo>
                          <a:pt x="20" y="14"/>
                        </a:lnTo>
                        <a:lnTo>
                          <a:pt x="0" y="94"/>
                        </a:lnTo>
                        <a:lnTo>
                          <a:pt x="32" y="101"/>
                        </a:lnTo>
                        <a:lnTo>
                          <a:pt x="52" y="22"/>
                        </a:lnTo>
                        <a:lnTo>
                          <a:pt x="36" y="0"/>
                        </a:lnTo>
                        <a:lnTo>
                          <a:pt x="52" y="22"/>
                        </a:lnTo>
                        <a:lnTo>
                          <a:pt x="57" y="2"/>
                        </a:lnTo>
                        <a:lnTo>
                          <a:pt x="36" y="0"/>
                        </a:lnTo>
                        <a:lnTo>
                          <a:pt x="36"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1" name=""/>
                  <p:cNvSpPr/>
                  <p:nvPr/>
                </p:nvSpPr>
                <p:spPr>
                  <a:xfrm>
                    <a:off x="5626080" y="1905120"/>
                    <a:ext cx="145800" cy="12600"/>
                  </a:xfrm>
                  <a:custGeom>
                    <a:avLst/>
                    <a:gdLst/>
                    <a:ahLst/>
                    <a:rect l="l" t="t" r="r" b="b"/>
                    <a:pathLst>
                      <a:path w="461" h="37">
                        <a:moveTo>
                          <a:pt x="35" y="19"/>
                        </a:moveTo>
                        <a:lnTo>
                          <a:pt x="17" y="37"/>
                        </a:lnTo>
                        <a:lnTo>
                          <a:pt x="461" y="35"/>
                        </a:lnTo>
                        <a:lnTo>
                          <a:pt x="461" y="0"/>
                        </a:lnTo>
                        <a:lnTo>
                          <a:pt x="17" y="2"/>
                        </a:lnTo>
                        <a:lnTo>
                          <a:pt x="0" y="19"/>
                        </a:lnTo>
                        <a:lnTo>
                          <a:pt x="17" y="2"/>
                        </a:lnTo>
                        <a:lnTo>
                          <a:pt x="0" y="2"/>
                        </a:lnTo>
                        <a:lnTo>
                          <a:pt x="0" y="19"/>
                        </a:lnTo>
                        <a:lnTo>
                          <a:pt x="35" y="1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2" name=""/>
                  <p:cNvSpPr/>
                  <p:nvPr/>
                </p:nvSpPr>
                <p:spPr>
                  <a:xfrm>
                    <a:off x="5626080" y="1911240"/>
                    <a:ext cx="11160" cy="141480"/>
                  </a:xfrm>
                  <a:custGeom>
                    <a:avLst/>
                    <a:gdLst/>
                    <a:ahLst/>
                    <a:rect l="l" t="t" r="r" b="b"/>
                    <a:pathLst>
                      <a:path w="35" h="446">
                        <a:moveTo>
                          <a:pt x="13" y="408"/>
                        </a:moveTo>
                        <a:lnTo>
                          <a:pt x="35" y="424"/>
                        </a:lnTo>
                        <a:lnTo>
                          <a:pt x="35" y="0"/>
                        </a:lnTo>
                        <a:lnTo>
                          <a:pt x="0" y="0"/>
                        </a:lnTo>
                        <a:lnTo>
                          <a:pt x="0" y="424"/>
                        </a:lnTo>
                        <a:lnTo>
                          <a:pt x="21" y="441"/>
                        </a:lnTo>
                        <a:lnTo>
                          <a:pt x="0" y="424"/>
                        </a:lnTo>
                        <a:lnTo>
                          <a:pt x="0" y="446"/>
                        </a:lnTo>
                        <a:lnTo>
                          <a:pt x="21" y="441"/>
                        </a:lnTo>
                        <a:lnTo>
                          <a:pt x="13"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457600" y="1914480"/>
                    <a:ext cx="141480" cy="146160"/>
                  </a:xfrm>
                  <a:custGeom>
                    <a:avLst/>
                    <a:gdLst/>
                    <a:ahLst/>
                    <a:rect l="l" t="t" r="r" b="b"/>
                    <a:pathLst>
                      <a:path w="444" h="460">
                        <a:moveTo>
                          <a:pt x="0" y="0"/>
                        </a:moveTo>
                        <a:lnTo>
                          <a:pt x="444" y="1"/>
                        </a:lnTo>
                        <a:lnTo>
                          <a:pt x="444" y="460"/>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457600" y="1908000"/>
                    <a:ext cx="146160" cy="11160"/>
                  </a:xfrm>
                  <a:custGeom>
                    <a:avLst/>
                    <a:gdLst/>
                    <a:ahLst/>
                    <a:rect l="l" t="t" r="r" b="b"/>
                    <a:pathLst>
                      <a:path w="461" h="36">
                        <a:moveTo>
                          <a:pt x="461" y="19"/>
                        </a:moveTo>
                        <a:lnTo>
                          <a:pt x="444" y="1"/>
                        </a:lnTo>
                        <a:lnTo>
                          <a:pt x="0" y="0"/>
                        </a:lnTo>
                        <a:lnTo>
                          <a:pt x="0" y="35"/>
                        </a:lnTo>
                        <a:lnTo>
                          <a:pt x="444" y="36"/>
                        </a:lnTo>
                        <a:lnTo>
                          <a:pt x="426" y="19"/>
                        </a:lnTo>
                        <a:lnTo>
                          <a:pt x="461" y="19"/>
                        </a:lnTo>
                        <a:lnTo>
                          <a:pt x="461" y="1"/>
                        </a:lnTo>
                        <a:lnTo>
                          <a:pt x="444" y="1"/>
                        </a:lnTo>
                        <a:lnTo>
                          <a:pt x="461"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5" name=""/>
                  <p:cNvSpPr/>
                  <p:nvPr/>
                </p:nvSpPr>
                <p:spPr>
                  <a:xfrm>
                    <a:off x="5592600" y="1914480"/>
                    <a:ext cx="11160" cy="158760"/>
                  </a:xfrm>
                  <a:custGeom>
                    <a:avLst/>
                    <a:gdLst/>
                    <a:ahLst/>
                    <a:rect l="l" t="t" r="r" b="b"/>
                    <a:pathLst>
                      <a:path w="35" h="501">
                        <a:moveTo>
                          <a:pt x="5" y="470"/>
                        </a:moveTo>
                        <a:lnTo>
                          <a:pt x="35" y="459"/>
                        </a:lnTo>
                        <a:lnTo>
                          <a:pt x="35" y="0"/>
                        </a:lnTo>
                        <a:lnTo>
                          <a:pt x="0" y="0"/>
                        </a:lnTo>
                        <a:lnTo>
                          <a:pt x="0" y="459"/>
                        </a:lnTo>
                        <a:lnTo>
                          <a:pt x="30" y="448"/>
                        </a:lnTo>
                        <a:lnTo>
                          <a:pt x="5" y="470"/>
                        </a:lnTo>
                        <a:lnTo>
                          <a:pt x="35" y="501"/>
                        </a:lnTo>
                        <a:lnTo>
                          <a:pt x="35" y="459"/>
                        </a:lnTo>
                        <a:lnTo>
                          <a:pt x="5" y="4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445000" y="1908000"/>
                    <a:ext cx="157320" cy="155880"/>
                  </a:xfrm>
                  <a:custGeom>
                    <a:avLst/>
                    <a:gdLst/>
                    <a:ahLst/>
                    <a:rect l="l" t="t" r="r" b="b"/>
                    <a:pathLst>
                      <a:path w="496" h="489">
                        <a:moveTo>
                          <a:pt x="40" y="0"/>
                        </a:moveTo>
                        <a:lnTo>
                          <a:pt x="27" y="29"/>
                        </a:lnTo>
                        <a:lnTo>
                          <a:pt x="471" y="489"/>
                        </a:lnTo>
                        <a:lnTo>
                          <a:pt x="496" y="467"/>
                        </a:lnTo>
                        <a:lnTo>
                          <a:pt x="52" y="6"/>
                        </a:lnTo>
                        <a:lnTo>
                          <a:pt x="40" y="35"/>
                        </a:lnTo>
                        <a:lnTo>
                          <a:pt x="40" y="0"/>
                        </a:lnTo>
                        <a:lnTo>
                          <a:pt x="0" y="0"/>
                        </a:lnTo>
                        <a:lnTo>
                          <a:pt x="27" y="29"/>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634000" y="1731960"/>
                    <a:ext cx="135000" cy="141120"/>
                  </a:xfrm>
                  <a:custGeom>
                    <a:avLst/>
                    <a:gdLst/>
                    <a:ahLst/>
                    <a:rect l="l" t="t" r="r" b="b"/>
                    <a:pathLst>
                      <a:path w="425" h="444">
                        <a:moveTo>
                          <a:pt x="425" y="444"/>
                        </a:moveTo>
                        <a:lnTo>
                          <a:pt x="407" y="362"/>
                        </a:lnTo>
                        <a:lnTo>
                          <a:pt x="378" y="284"/>
                        </a:lnTo>
                        <a:lnTo>
                          <a:pt x="335" y="212"/>
                        </a:lnTo>
                        <a:lnTo>
                          <a:pt x="284" y="151"/>
                        </a:lnTo>
                        <a:lnTo>
                          <a:pt x="224" y="96"/>
                        </a:lnTo>
                        <a:lnTo>
                          <a:pt x="157" y="52"/>
                        </a:lnTo>
                        <a:lnTo>
                          <a:pt x="119" y="34"/>
                        </a:lnTo>
                        <a:lnTo>
                          <a:pt x="81" y="20"/>
                        </a:lnTo>
                        <a:lnTo>
                          <a:pt x="0" y="0"/>
                        </a:lnTo>
                        <a:lnTo>
                          <a:pt x="1" y="444"/>
                        </a:lnTo>
                        <a:lnTo>
                          <a:pt x="425" y="44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757840" y="1844640"/>
                    <a:ext cx="15840" cy="30240"/>
                  </a:xfrm>
                  <a:custGeom>
                    <a:avLst/>
                    <a:gdLst/>
                    <a:ahLst/>
                    <a:rect l="l" t="t" r="r" b="b"/>
                    <a:pathLst>
                      <a:path w="50" h="91">
                        <a:moveTo>
                          <a:pt x="0" y="12"/>
                        </a:moveTo>
                        <a:lnTo>
                          <a:pt x="0" y="8"/>
                        </a:lnTo>
                        <a:lnTo>
                          <a:pt x="18" y="91"/>
                        </a:lnTo>
                        <a:lnTo>
                          <a:pt x="50" y="86"/>
                        </a:lnTo>
                        <a:lnTo>
                          <a:pt x="33" y="3"/>
                        </a:lnTo>
                        <a:lnTo>
                          <a:pt x="33" y="0"/>
                        </a:lnTo>
                        <a:lnTo>
                          <a:pt x="0"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 name=""/>
                  <p:cNvSpPr/>
                  <p:nvPr/>
                </p:nvSpPr>
                <p:spPr>
                  <a:xfrm>
                    <a:off x="5748120" y="1819440"/>
                    <a:ext cx="20880" cy="29880"/>
                  </a:xfrm>
                  <a:custGeom>
                    <a:avLst/>
                    <a:gdLst/>
                    <a:ahLst/>
                    <a:rect l="l" t="t" r="r" b="b"/>
                    <a:pathLst>
                      <a:path w="63" h="92">
                        <a:moveTo>
                          <a:pt x="2" y="17"/>
                        </a:moveTo>
                        <a:lnTo>
                          <a:pt x="0" y="15"/>
                        </a:lnTo>
                        <a:lnTo>
                          <a:pt x="30" y="92"/>
                        </a:lnTo>
                        <a:lnTo>
                          <a:pt x="63" y="80"/>
                        </a:lnTo>
                        <a:lnTo>
                          <a:pt x="33" y="2"/>
                        </a:lnTo>
                        <a:lnTo>
                          <a:pt x="31" y="0"/>
                        </a:lnTo>
                        <a:lnTo>
                          <a:pt x="2"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0" name=""/>
                  <p:cNvSpPr/>
                  <p:nvPr/>
                </p:nvSpPr>
                <p:spPr>
                  <a:xfrm>
                    <a:off x="5735520" y="1797120"/>
                    <a:ext cx="22320" cy="28440"/>
                  </a:xfrm>
                  <a:custGeom>
                    <a:avLst/>
                    <a:gdLst/>
                    <a:ahLst/>
                    <a:rect l="l" t="t" r="r" b="b"/>
                    <a:pathLst>
                      <a:path w="72" h="91">
                        <a:moveTo>
                          <a:pt x="3" y="20"/>
                        </a:moveTo>
                        <a:lnTo>
                          <a:pt x="0" y="19"/>
                        </a:lnTo>
                        <a:lnTo>
                          <a:pt x="43" y="91"/>
                        </a:lnTo>
                        <a:lnTo>
                          <a:pt x="72" y="74"/>
                        </a:lnTo>
                        <a:lnTo>
                          <a:pt x="30" y="1"/>
                        </a:lnTo>
                        <a:lnTo>
                          <a:pt x="28" y="0"/>
                        </a:lnTo>
                        <a:lnTo>
                          <a:pt x="3" y="2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1" name=""/>
                  <p:cNvSpPr/>
                  <p:nvPr/>
                </p:nvSpPr>
                <p:spPr>
                  <a:xfrm>
                    <a:off x="5719680" y="1776240"/>
                    <a:ext cx="23760" cy="27000"/>
                  </a:xfrm>
                  <a:custGeom>
                    <a:avLst/>
                    <a:gdLst/>
                    <a:ahLst/>
                    <a:rect l="l" t="t" r="r" b="b"/>
                    <a:pathLst>
                      <a:path w="76" h="84">
                        <a:moveTo>
                          <a:pt x="1" y="25"/>
                        </a:moveTo>
                        <a:lnTo>
                          <a:pt x="0" y="23"/>
                        </a:lnTo>
                        <a:lnTo>
                          <a:pt x="51" y="84"/>
                        </a:lnTo>
                        <a:lnTo>
                          <a:pt x="76" y="64"/>
                        </a:lnTo>
                        <a:lnTo>
                          <a:pt x="24" y="3"/>
                        </a:lnTo>
                        <a:lnTo>
                          <a:pt x="23"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32" name=""/>
                  <p:cNvSpPr/>
                  <p:nvPr/>
                </p:nvSpPr>
                <p:spPr>
                  <a:xfrm>
                    <a:off x="5700600" y="1758960"/>
                    <a:ext cx="27000" cy="25560"/>
                  </a:xfrm>
                  <a:custGeom>
                    <a:avLst/>
                    <a:gdLst/>
                    <a:ahLst/>
                    <a:rect l="l" t="t" r="r" b="b"/>
                    <a:pathLst>
                      <a:path w="82" h="81">
                        <a:moveTo>
                          <a:pt x="2" y="28"/>
                        </a:moveTo>
                        <a:lnTo>
                          <a:pt x="0" y="27"/>
                        </a:lnTo>
                        <a:lnTo>
                          <a:pt x="60" y="81"/>
                        </a:lnTo>
                        <a:lnTo>
                          <a:pt x="82" y="56"/>
                        </a:lnTo>
                        <a:lnTo>
                          <a:pt x="22" y="2"/>
                        </a:lnTo>
                        <a:lnTo>
                          <a:pt x="20" y="0"/>
                        </a:lnTo>
                        <a:lnTo>
                          <a:pt x="2"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3" name=""/>
                  <p:cNvSpPr/>
                  <p:nvPr/>
                </p:nvSpPr>
                <p:spPr>
                  <a:xfrm>
                    <a:off x="5680080" y="1744560"/>
                    <a:ext cx="27000" cy="22320"/>
                  </a:xfrm>
                  <a:custGeom>
                    <a:avLst/>
                    <a:gdLst/>
                    <a:ahLst/>
                    <a:rect l="l" t="t" r="r" b="b"/>
                    <a:pathLst>
                      <a:path w="85" h="73">
                        <a:moveTo>
                          <a:pt x="1" y="30"/>
                        </a:moveTo>
                        <a:lnTo>
                          <a:pt x="0" y="29"/>
                        </a:lnTo>
                        <a:lnTo>
                          <a:pt x="67" y="73"/>
                        </a:lnTo>
                        <a:lnTo>
                          <a:pt x="85" y="45"/>
                        </a:lnTo>
                        <a:lnTo>
                          <a:pt x="18" y="2"/>
                        </a:lnTo>
                        <a:lnTo>
                          <a:pt x="16" y="0"/>
                        </a:lnTo>
                        <a:lnTo>
                          <a:pt x="1" y="3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4" name=""/>
                  <p:cNvSpPr/>
                  <p:nvPr/>
                </p:nvSpPr>
                <p:spPr>
                  <a:xfrm>
                    <a:off x="5668920" y="1738440"/>
                    <a:ext cx="17280" cy="15840"/>
                  </a:xfrm>
                  <a:custGeom>
                    <a:avLst/>
                    <a:gdLst/>
                    <a:ahLst/>
                    <a:rect l="l" t="t" r="r" b="b"/>
                    <a:pathLst>
                      <a:path w="52" h="50">
                        <a:moveTo>
                          <a:pt x="2" y="33"/>
                        </a:moveTo>
                        <a:lnTo>
                          <a:pt x="0" y="32"/>
                        </a:lnTo>
                        <a:lnTo>
                          <a:pt x="37" y="50"/>
                        </a:lnTo>
                        <a:lnTo>
                          <a:pt x="52" y="20"/>
                        </a:lnTo>
                        <a:lnTo>
                          <a:pt x="15" y="2"/>
                        </a:lnTo>
                        <a:lnTo>
                          <a:pt x="12" y="0"/>
                        </a:lnTo>
                        <a:lnTo>
                          <a:pt x="2"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5" name=""/>
                  <p:cNvSpPr/>
                  <p:nvPr/>
                </p:nvSpPr>
                <p:spPr>
                  <a:xfrm>
                    <a:off x="5657760" y="1733400"/>
                    <a:ext cx="15840" cy="14400"/>
                  </a:xfrm>
                  <a:custGeom>
                    <a:avLst/>
                    <a:gdLst/>
                    <a:ahLst/>
                    <a:rect l="l" t="t" r="r" b="b"/>
                    <a:pathLst>
                      <a:path w="48" h="46">
                        <a:moveTo>
                          <a:pt x="1" y="32"/>
                        </a:moveTo>
                        <a:lnTo>
                          <a:pt x="0" y="32"/>
                        </a:lnTo>
                        <a:lnTo>
                          <a:pt x="38" y="46"/>
                        </a:lnTo>
                        <a:lnTo>
                          <a:pt x="48" y="13"/>
                        </a:lnTo>
                        <a:lnTo>
                          <a:pt x="10" y="0"/>
                        </a:lnTo>
                        <a:lnTo>
                          <a:pt x="8" y="0"/>
                        </a:lnTo>
                        <a:lnTo>
                          <a:pt x="1" y="3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5627520" y="1725480"/>
                    <a:ext cx="33480" cy="17640"/>
                  </a:xfrm>
                  <a:custGeom>
                    <a:avLst/>
                    <a:gdLst/>
                    <a:ahLst/>
                    <a:rect l="l" t="t" r="r" b="b"/>
                    <a:pathLst>
                      <a:path w="102" h="57">
                        <a:moveTo>
                          <a:pt x="35" y="21"/>
                        </a:moveTo>
                        <a:lnTo>
                          <a:pt x="14" y="37"/>
                        </a:lnTo>
                        <a:lnTo>
                          <a:pt x="95" y="57"/>
                        </a:lnTo>
                        <a:lnTo>
                          <a:pt x="102" y="25"/>
                        </a:lnTo>
                        <a:lnTo>
                          <a:pt x="21" y="5"/>
                        </a:lnTo>
                        <a:lnTo>
                          <a:pt x="0" y="21"/>
                        </a:lnTo>
                        <a:lnTo>
                          <a:pt x="21" y="5"/>
                        </a:lnTo>
                        <a:lnTo>
                          <a:pt x="0" y="0"/>
                        </a:lnTo>
                        <a:lnTo>
                          <a:pt x="0" y="21"/>
                        </a:lnTo>
                        <a:lnTo>
                          <a:pt x="3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7" name=""/>
                  <p:cNvSpPr/>
                  <p:nvPr/>
                </p:nvSpPr>
                <p:spPr>
                  <a:xfrm>
                    <a:off x="5627520" y="1731960"/>
                    <a:ext cx="11160" cy="147600"/>
                  </a:xfrm>
                  <a:custGeom>
                    <a:avLst/>
                    <a:gdLst/>
                    <a:ahLst/>
                    <a:rect l="l" t="t" r="r" b="b"/>
                    <a:pathLst>
                      <a:path w="36" h="462">
                        <a:moveTo>
                          <a:pt x="19" y="427"/>
                        </a:moveTo>
                        <a:lnTo>
                          <a:pt x="36" y="444"/>
                        </a:lnTo>
                        <a:lnTo>
                          <a:pt x="35" y="0"/>
                        </a:lnTo>
                        <a:lnTo>
                          <a:pt x="0" y="0"/>
                        </a:lnTo>
                        <a:lnTo>
                          <a:pt x="1" y="444"/>
                        </a:lnTo>
                        <a:lnTo>
                          <a:pt x="19" y="462"/>
                        </a:lnTo>
                        <a:lnTo>
                          <a:pt x="1" y="444"/>
                        </a:lnTo>
                        <a:lnTo>
                          <a:pt x="1" y="462"/>
                        </a:lnTo>
                        <a:lnTo>
                          <a:pt x="19" y="462"/>
                        </a:lnTo>
                        <a:lnTo>
                          <a:pt x="19"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34000" y="1868400"/>
                    <a:ext cx="141120" cy="11160"/>
                  </a:xfrm>
                  <a:custGeom>
                    <a:avLst/>
                    <a:gdLst/>
                    <a:ahLst/>
                    <a:rect l="l" t="t" r="r" b="b"/>
                    <a:pathLst>
                      <a:path w="445" h="35">
                        <a:moveTo>
                          <a:pt x="408" y="20"/>
                        </a:moveTo>
                        <a:lnTo>
                          <a:pt x="424" y="0"/>
                        </a:lnTo>
                        <a:lnTo>
                          <a:pt x="0" y="0"/>
                        </a:lnTo>
                        <a:lnTo>
                          <a:pt x="0" y="35"/>
                        </a:lnTo>
                        <a:lnTo>
                          <a:pt x="424" y="35"/>
                        </a:lnTo>
                        <a:lnTo>
                          <a:pt x="440" y="15"/>
                        </a:lnTo>
                        <a:lnTo>
                          <a:pt x="424" y="35"/>
                        </a:lnTo>
                        <a:lnTo>
                          <a:pt x="445" y="33"/>
                        </a:lnTo>
                        <a:lnTo>
                          <a:pt x="440" y="15"/>
                        </a:lnTo>
                        <a:lnTo>
                          <a:pt x="408"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9" name=""/>
                  <p:cNvSpPr/>
                  <p:nvPr/>
                </p:nvSpPr>
                <p:spPr>
                  <a:xfrm>
                    <a:off x="5460840" y="1735200"/>
                    <a:ext cx="135000" cy="141120"/>
                  </a:xfrm>
                  <a:custGeom>
                    <a:avLst/>
                    <a:gdLst/>
                    <a:ahLst/>
                    <a:rect l="l" t="t" r="r" b="b"/>
                    <a:pathLst>
                      <a:path w="425" h="445">
                        <a:moveTo>
                          <a:pt x="34" y="385"/>
                        </a:moveTo>
                        <a:lnTo>
                          <a:pt x="419" y="2"/>
                        </a:lnTo>
                        <a:lnTo>
                          <a:pt x="425" y="0"/>
                        </a:lnTo>
                        <a:lnTo>
                          <a:pt x="424" y="445"/>
                        </a:lnTo>
                        <a:lnTo>
                          <a:pt x="0" y="445"/>
                        </a:lnTo>
                        <a:lnTo>
                          <a:pt x="34" y="3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467320" y="1730520"/>
                    <a:ext cx="129960" cy="129960"/>
                  </a:xfrm>
                  <a:custGeom>
                    <a:avLst/>
                    <a:gdLst/>
                    <a:ahLst/>
                    <a:rect l="l" t="t" r="r" b="b"/>
                    <a:pathLst>
                      <a:path w="408" h="410">
                        <a:moveTo>
                          <a:pt x="394" y="0"/>
                        </a:moveTo>
                        <a:lnTo>
                          <a:pt x="386" y="5"/>
                        </a:lnTo>
                        <a:lnTo>
                          <a:pt x="0" y="388"/>
                        </a:lnTo>
                        <a:lnTo>
                          <a:pt x="23" y="410"/>
                        </a:lnTo>
                        <a:lnTo>
                          <a:pt x="408" y="27"/>
                        </a:lnTo>
                        <a:lnTo>
                          <a:pt x="399" y="32"/>
                        </a:lnTo>
                        <a:lnTo>
                          <a:pt x="394" y="0"/>
                        </a:lnTo>
                        <a:lnTo>
                          <a:pt x="389" y="1"/>
                        </a:lnTo>
                        <a:lnTo>
                          <a:pt x="386" y="5"/>
                        </a:lnTo>
                        <a:lnTo>
                          <a:pt x="3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591160" y="1728720"/>
                    <a:ext cx="11160" cy="11160"/>
                  </a:xfrm>
                  <a:custGeom>
                    <a:avLst/>
                    <a:gdLst/>
                    <a:ahLst/>
                    <a:rect l="l" t="t" r="r" b="b"/>
                    <a:pathLst>
                      <a:path w="35" h="37">
                        <a:moveTo>
                          <a:pt x="35" y="19"/>
                        </a:moveTo>
                        <a:lnTo>
                          <a:pt x="15" y="3"/>
                        </a:lnTo>
                        <a:lnTo>
                          <a:pt x="8" y="5"/>
                        </a:lnTo>
                        <a:lnTo>
                          <a:pt x="13" y="37"/>
                        </a:lnTo>
                        <a:lnTo>
                          <a:pt x="20" y="36"/>
                        </a:lnTo>
                        <a:lnTo>
                          <a:pt x="0" y="19"/>
                        </a:lnTo>
                        <a:lnTo>
                          <a:pt x="35" y="19"/>
                        </a:lnTo>
                        <a:lnTo>
                          <a:pt x="35" y="0"/>
                        </a:lnTo>
                        <a:lnTo>
                          <a:pt x="15" y="3"/>
                        </a:lnTo>
                        <a:lnTo>
                          <a:pt x="3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
                  <p:cNvSpPr/>
                  <p:nvPr/>
                </p:nvSpPr>
                <p:spPr>
                  <a:xfrm>
                    <a:off x="5589360" y="1735200"/>
                    <a:ext cx="12960" cy="146160"/>
                  </a:xfrm>
                  <a:custGeom>
                    <a:avLst/>
                    <a:gdLst/>
                    <a:ahLst/>
                    <a:rect l="l" t="t" r="r" b="b"/>
                    <a:pathLst>
                      <a:path w="37" h="462">
                        <a:moveTo>
                          <a:pt x="18" y="462"/>
                        </a:moveTo>
                        <a:lnTo>
                          <a:pt x="35" y="445"/>
                        </a:lnTo>
                        <a:lnTo>
                          <a:pt x="37" y="0"/>
                        </a:lnTo>
                        <a:lnTo>
                          <a:pt x="2" y="0"/>
                        </a:lnTo>
                        <a:lnTo>
                          <a:pt x="0" y="445"/>
                        </a:lnTo>
                        <a:lnTo>
                          <a:pt x="18" y="427"/>
                        </a:lnTo>
                        <a:lnTo>
                          <a:pt x="18" y="462"/>
                        </a:lnTo>
                        <a:lnTo>
                          <a:pt x="35" y="462"/>
                        </a:lnTo>
                        <a:lnTo>
                          <a:pt x="35" y="445"/>
                        </a:lnTo>
                        <a:lnTo>
                          <a:pt x="18" y="4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451480" y="1870200"/>
                    <a:ext cx="144360" cy="11160"/>
                  </a:xfrm>
                  <a:custGeom>
                    <a:avLst/>
                    <a:gdLst/>
                    <a:ahLst/>
                    <a:rect l="l" t="t" r="r" b="b"/>
                    <a:pathLst>
                      <a:path w="453" h="35">
                        <a:moveTo>
                          <a:pt x="14" y="10"/>
                        </a:moveTo>
                        <a:lnTo>
                          <a:pt x="29" y="35"/>
                        </a:lnTo>
                        <a:lnTo>
                          <a:pt x="453" y="35"/>
                        </a:lnTo>
                        <a:lnTo>
                          <a:pt x="453" y="0"/>
                        </a:lnTo>
                        <a:lnTo>
                          <a:pt x="29" y="0"/>
                        </a:lnTo>
                        <a:lnTo>
                          <a:pt x="44" y="25"/>
                        </a:lnTo>
                        <a:lnTo>
                          <a:pt x="14" y="10"/>
                        </a:lnTo>
                        <a:lnTo>
                          <a:pt x="0" y="35"/>
                        </a:lnTo>
                        <a:lnTo>
                          <a:pt x="29" y="35"/>
                        </a:lnTo>
                        <a:lnTo>
                          <a:pt x="1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4" name=""/>
                  <p:cNvSpPr/>
                  <p:nvPr/>
                </p:nvSpPr>
                <p:spPr>
                  <a:xfrm>
                    <a:off x="5456160" y="1852560"/>
                    <a:ext cx="20520" cy="25560"/>
                  </a:xfrm>
                  <a:custGeom>
                    <a:avLst/>
                    <a:gdLst/>
                    <a:ahLst/>
                    <a:rect l="l" t="t" r="r" b="b"/>
                    <a:pathLst>
                      <a:path w="64" h="78">
                        <a:moveTo>
                          <a:pt x="37" y="0"/>
                        </a:moveTo>
                        <a:lnTo>
                          <a:pt x="34" y="3"/>
                        </a:lnTo>
                        <a:lnTo>
                          <a:pt x="0" y="63"/>
                        </a:lnTo>
                        <a:lnTo>
                          <a:pt x="30" y="78"/>
                        </a:lnTo>
                        <a:lnTo>
                          <a:pt x="64" y="18"/>
                        </a:lnTo>
                        <a:lnTo>
                          <a:pt x="60" y="22"/>
                        </a:lnTo>
                        <a:lnTo>
                          <a:pt x="37" y="0"/>
                        </a:lnTo>
                        <a:lnTo>
                          <a:pt x="35" y="1"/>
                        </a:lnTo>
                        <a:lnTo>
                          <a:pt x="34" y="3"/>
                        </a:lnTo>
                        <a:lnTo>
                          <a:pt x="3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5" name=""/>
                  <p:cNvSpPr/>
                  <p:nvPr/>
                </p:nvSpPr>
                <p:spPr>
                  <a:xfrm>
                    <a:off x="5548320" y="1828800"/>
                    <a:ext cx="136440" cy="133200"/>
                  </a:xfrm>
                  <a:custGeom>
                    <a:avLst/>
                    <a:gdLst/>
                    <a:ahLst/>
                    <a:rect l="l" t="t" r="r" b="b"/>
                    <a:pathLst>
                      <a:path w="429" h="421">
                        <a:moveTo>
                          <a:pt x="0" y="211"/>
                        </a:moveTo>
                        <a:lnTo>
                          <a:pt x="5" y="166"/>
                        </a:lnTo>
                        <a:lnTo>
                          <a:pt x="16" y="129"/>
                        </a:lnTo>
                        <a:lnTo>
                          <a:pt x="36" y="94"/>
                        </a:lnTo>
                        <a:lnTo>
                          <a:pt x="62" y="63"/>
                        </a:lnTo>
                        <a:lnTo>
                          <a:pt x="95" y="37"/>
                        </a:lnTo>
                        <a:lnTo>
                          <a:pt x="131" y="17"/>
                        </a:lnTo>
                        <a:lnTo>
                          <a:pt x="172" y="4"/>
                        </a:lnTo>
                        <a:lnTo>
                          <a:pt x="214" y="0"/>
                        </a:lnTo>
                        <a:lnTo>
                          <a:pt x="258" y="4"/>
                        </a:lnTo>
                        <a:lnTo>
                          <a:pt x="298" y="17"/>
                        </a:lnTo>
                        <a:lnTo>
                          <a:pt x="335" y="37"/>
                        </a:lnTo>
                        <a:lnTo>
                          <a:pt x="366" y="63"/>
                        </a:lnTo>
                        <a:lnTo>
                          <a:pt x="393" y="94"/>
                        </a:lnTo>
                        <a:lnTo>
                          <a:pt x="413" y="129"/>
                        </a:lnTo>
                        <a:lnTo>
                          <a:pt x="425" y="166"/>
                        </a:lnTo>
                        <a:lnTo>
                          <a:pt x="429" y="211"/>
                        </a:lnTo>
                        <a:lnTo>
                          <a:pt x="425" y="254"/>
                        </a:lnTo>
                        <a:lnTo>
                          <a:pt x="413" y="292"/>
                        </a:lnTo>
                        <a:lnTo>
                          <a:pt x="393" y="327"/>
                        </a:lnTo>
                        <a:lnTo>
                          <a:pt x="366" y="360"/>
                        </a:lnTo>
                        <a:lnTo>
                          <a:pt x="335" y="385"/>
                        </a:lnTo>
                        <a:lnTo>
                          <a:pt x="298" y="405"/>
                        </a:lnTo>
                        <a:lnTo>
                          <a:pt x="258" y="416"/>
                        </a:lnTo>
                        <a:lnTo>
                          <a:pt x="214" y="421"/>
                        </a:lnTo>
                        <a:lnTo>
                          <a:pt x="172" y="416"/>
                        </a:lnTo>
                        <a:lnTo>
                          <a:pt x="131" y="405"/>
                        </a:lnTo>
                        <a:lnTo>
                          <a:pt x="95" y="385"/>
                        </a:lnTo>
                        <a:lnTo>
                          <a:pt x="62" y="360"/>
                        </a:lnTo>
                        <a:lnTo>
                          <a:pt x="36" y="327"/>
                        </a:lnTo>
                        <a:lnTo>
                          <a:pt x="16" y="292"/>
                        </a:lnTo>
                        <a:lnTo>
                          <a:pt x="5" y="254"/>
                        </a:lnTo>
                        <a:lnTo>
                          <a:pt x="0" y="211"/>
                        </a:lnTo>
                        <a:close/>
                      </a:path>
                    </a:pathLst>
                  </a:custGeom>
                  <a:solidFill>
                    <a:srgbClr val="99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543280" y="1881360"/>
                    <a:ext cx="12960" cy="14040"/>
                  </a:xfrm>
                  <a:custGeom>
                    <a:avLst/>
                    <a:gdLst/>
                    <a:ahLst/>
                    <a:rect l="l" t="t" r="r" b="b"/>
                    <a:pathLst>
                      <a:path w="37" h="49">
                        <a:moveTo>
                          <a:pt x="5" y="0"/>
                        </a:moveTo>
                        <a:lnTo>
                          <a:pt x="5" y="2"/>
                        </a:lnTo>
                        <a:lnTo>
                          <a:pt x="0" y="47"/>
                        </a:lnTo>
                        <a:lnTo>
                          <a:pt x="32" y="49"/>
                        </a:lnTo>
                        <a:lnTo>
                          <a:pt x="37" y="5"/>
                        </a:lnTo>
                        <a:lnTo>
                          <a:pt x="37" y="7"/>
                        </a:lnTo>
                        <a:lnTo>
                          <a:pt x="5" y="0"/>
                        </a:lnTo>
                        <a:lnTo>
                          <a:pt x="5" y="1"/>
                        </a:lnTo>
                        <a:lnTo>
                          <a:pt x="5" y="2"/>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7" name=""/>
                  <p:cNvSpPr/>
                  <p:nvPr/>
                </p:nvSpPr>
                <p:spPr>
                  <a:xfrm>
                    <a:off x="5545080" y="1866960"/>
                    <a:ext cx="14040" cy="15840"/>
                  </a:xfrm>
                  <a:custGeom>
                    <a:avLst/>
                    <a:gdLst/>
                    <a:ahLst/>
                    <a:rect l="l" t="t" r="r" b="b"/>
                    <a:pathLst>
                      <a:path w="43" h="49">
                        <a:moveTo>
                          <a:pt x="12" y="0"/>
                        </a:moveTo>
                        <a:lnTo>
                          <a:pt x="11" y="4"/>
                        </a:lnTo>
                        <a:lnTo>
                          <a:pt x="0" y="42"/>
                        </a:lnTo>
                        <a:lnTo>
                          <a:pt x="32" y="49"/>
                        </a:lnTo>
                        <a:lnTo>
                          <a:pt x="43" y="12"/>
                        </a:lnTo>
                        <a:lnTo>
                          <a:pt x="42" y="15"/>
                        </a:lnTo>
                        <a:lnTo>
                          <a:pt x="12" y="0"/>
                        </a:lnTo>
                        <a:lnTo>
                          <a:pt x="12" y="2"/>
                        </a:lnTo>
                        <a:lnTo>
                          <a:pt x="11" y="4"/>
                        </a:lnTo>
                        <a:lnTo>
                          <a:pt x="1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8" name=""/>
                  <p:cNvSpPr/>
                  <p:nvPr/>
                </p:nvSpPr>
                <p:spPr>
                  <a:xfrm>
                    <a:off x="5549760" y="1855800"/>
                    <a:ext cx="15840" cy="15840"/>
                  </a:xfrm>
                  <a:custGeom>
                    <a:avLst/>
                    <a:gdLst/>
                    <a:ahLst/>
                    <a:rect l="l" t="t" r="r" b="b"/>
                    <a:pathLst>
                      <a:path w="50" h="52">
                        <a:moveTo>
                          <a:pt x="22" y="0"/>
                        </a:moveTo>
                        <a:lnTo>
                          <a:pt x="20" y="2"/>
                        </a:lnTo>
                        <a:lnTo>
                          <a:pt x="0" y="37"/>
                        </a:lnTo>
                        <a:lnTo>
                          <a:pt x="30" y="52"/>
                        </a:lnTo>
                        <a:lnTo>
                          <a:pt x="50" y="17"/>
                        </a:lnTo>
                        <a:lnTo>
                          <a:pt x="47" y="20"/>
                        </a:lnTo>
                        <a:lnTo>
                          <a:pt x="22" y="0"/>
                        </a:lnTo>
                        <a:lnTo>
                          <a:pt x="21" y="1"/>
                        </a:lnTo>
                        <a:lnTo>
                          <a:pt x="20" y="2"/>
                        </a:lnTo>
                        <a:lnTo>
                          <a:pt x="2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9" name=""/>
                  <p:cNvSpPr/>
                  <p:nvPr/>
                </p:nvSpPr>
                <p:spPr>
                  <a:xfrm>
                    <a:off x="5556240" y="1844640"/>
                    <a:ext cx="15840" cy="17640"/>
                  </a:xfrm>
                  <a:custGeom>
                    <a:avLst/>
                    <a:gdLst/>
                    <a:ahLst/>
                    <a:rect l="l" t="t" r="r" b="b"/>
                    <a:pathLst>
                      <a:path w="52" h="54">
                        <a:moveTo>
                          <a:pt x="29" y="0"/>
                        </a:moveTo>
                        <a:lnTo>
                          <a:pt x="27" y="3"/>
                        </a:lnTo>
                        <a:lnTo>
                          <a:pt x="0" y="34"/>
                        </a:lnTo>
                        <a:lnTo>
                          <a:pt x="25" y="54"/>
                        </a:lnTo>
                        <a:lnTo>
                          <a:pt x="52" y="23"/>
                        </a:lnTo>
                        <a:lnTo>
                          <a:pt x="49" y="25"/>
                        </a:lnTo>
                        <a:lnTo>
                          <a:pt x="29" y="0"/>
                        </a:lnTo>
                        <a:lnTo>
                          <a:pt x="28" y="0"/>
                        </a:lnTo>
                        <a:lnTo>
                          <a:pt x="27" y="3"/>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0" name=""/>
                  <p:cNvSpPr/>
                  <p:nvPr/>
                </p:nvSpPr>
                <p:spPr>
                  <a:xfrm>
                    <a:off x="5565600" y="1835280"/>
                    <a:ext cx="15840" cy="17280"/>
                  </a:xfrm>
                  <a:custGeom>
                    <a:avLst/>
                    <a:gdLst/>
                    <a:ahLst/>
                    <a:rect l="l" t="t" r="r" b="b"/>
                    <a:pathLst>
                      <a:path w="53" h="53">
                        <a:moveTo>
                          <a:pt x="35" y="0"/>
                        </a:moveTo>
                        <a:lnTo>
                          <a:pt x="33" y="2"/>
                        </a:lnTo>
                        <a:lnTo>
                          <a:pt x="0" y="28"/>
                        </a:lnTo>
                        <a:lnTo>
                          <a:pt x="20" y="53"/>
                        </a:lnTo>
                        <a:lnTo>
                          <a:pt x="53" y="27"/>
                        </a:lnTo>
                        <a:lnTo>
                          <a:pt x="50" y="30"/>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1" name=""/>
                  <p:cNvSpPr/>
                  <p:nvPr/>
                </p:nvSpPr>
                <p:spPr>
                  <a:xfrm>
                    <a:off x="5576760" y="1828800"/>
                    <a:ext cx="15840" cy="15840"/>
                  </a:xfrm>
                  <a:custGeom>
                    <a:avLst/>
                    <a:gdLst/>
                    <a:ahLst/>
                    <a:rect l="l" t="t" r="r" b="b"/>
                    <a:pathLst>
                      <a:path w="51" h="52">
                        <a:moveTo>
                          <a:pt x="39" y="0"/>
                        </a:moveTo>
                        <a:lnTo>
                          <a:pt x="36" y="2"/>
                        </a:lnTo>
                        <a:lnTo>
                          <a:pt x="0" y="22"/>
                        </a:lnTo>
                        <a:lnTo>
                          <a:pt x="15" y="52"/>
                        </a:lnTo>
                        <a:lnTo>
                          <a:pt x="51" y="32"/>
                        </a:lnTo>
                        <a:lnTo>
                          <a:pt x="49" y="33"/>
                        </a:lnTo>
                        <a:lnTo>
                          <a:pt x="39" y="0"/>
                        </a:lnTo>
                        <a:lnTo>
                          <a:pt x="37" y="2"/>
                        </a:lnTo>
                        <a:lnTo>
                          <a:pt x="36" y="2"/>
                        </a:lnTo>
                        <a:lnTo>
                          <a:pt x="3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2" name=""/>
                  <p:cNvSpPr/>
                  <p:nvPr/>
                </p:nvSpPr>
                <p:spPr>
                  <a:xfrm>
                    <a:off x="5589360" y="1825560"/>
                    <a:ext cx="15840" cy="14400"/>
                  </a:xfrm>
                  <a:custGeom>
                    <a:avLst/>
                    <a:gdLst/>
                    <a:ahLst/>
                    <a:rect l="l" t="t" r="r" b="b"/>
                    <a:pathLst>
                      <a:path w="51" h="45">
                        <a:moveTo>
                          <a:pt x="45" y="0"/>
                        </a:moveTo>
                        <a:lnTo>
                          <a:pt x="41" y="0"/>
                        </a:lnTo>
                        <a:lnTo>
                          <a:pt x="0" y="12"/>
                        </a:lnTo>
                        <a:lnTo>
                          <a:pt x="10" y="45"/>
                        </a:lnTo>
                        <a:lnTo>
                          <a:pt x="51" y="32"/>
                        </a:lnTo>
                        <a:lnTo>
                          <a:pt x="47" y="32"/>
                        </a:lnTo>
                        <a:lnTo>
                          <a:pt x="45" y="0"/>
                        </a:lnTo>
                        <a:lnTo>
                          <a:pt x="43" y="0"/>
                        </a:lnTo>
                        <a:lnTo>
                          <a:pt x="41" y="0"/>
                        </a:lnTo>
                        <a:lnTo>
                          <a:pt x="4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3" name=""/>
                  <p:cNvSpPr/>
                  <p:nvPr/>
                </p:nvSpPr>
                <p:spPr>
                  <a:xfrm>
                    <a:off x="5603760" y="1824120"/>
                    <a:ext cx="14400" cy="11160"/>
                  </a:xfrm>
                  <a:custGeom>
                    <a:avLst/>
                    <a:gdLst/>
                    <a:ahLst/>
                    <a:rect l="l" t="t" r="r" b="b"/>
                    <a:pathLst>
                      <a:path w="45" h="36">
                        <a:moveTo>
                          <a:pt x="45" y="0"/>
                        </a:moveTo>
                        <a:lnTo>
                          <a:pt x="42" y="0"/>
                        </a:lnTo>
                        <a:lnTo>
                          <a:pt x="0" y="4"/>
                        </a:lnTo>
                        <a:lnTo>
                          <a:pt x="2" y="36"/>
                        </a:lnTo>
                        <a:lnTo>
                          <a:pt x="45" y="33"/>
                        </a:lnTo>
                        <a:lnTo>
                          <a:pt x="42" y="33"/>
                        </a:lnTo>
                        <a:lnTo>
                          <a:pt x="4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4" name=""/>
                  <p:cNvSpPr/>
                  <p:nvPr/>
                </p:nvSpPr>
                <p:spPr>
                  <a:xfrm>
                    <a:off x="5616360" y="1824120"/>
                    <a:ext cx="15840" cy="11160"/>
                  </a:xfrm>
                  <a:custGeom>
                    <a:avLst/>
                    <a:gdLst/>
                    <a:ahLst/>
                    <a:rect l="l" t="t" r="r" b="b"/>
                    <a:pathLst>
                      <a:path w="50" h="36">
                        <a:moveTo>
                          <a:pt x="50" y="4"/>
                        </a:moveTo>
                        <a:lnTo>
                          <a:pt x="46" y="4"/>
                        </a:lnTo>
                        <a:lnTo>
                          <a:pt x="3" y="0"/>
                        </a:lnTo>
                        <a:lnTo>
                          <a:pt x="0" y="33"/>
                        </a:lnTo>
                        <a:lnTo>
                          <a:pt x="44" y="36"/>
                        </a:lnTo>
                        <a:lnTo>
                          <a:pt x="40" y="36"/>
                        </a:lnTo>
                        <a:lnTo>
                          <a:pt x="50" y="4"/>
                        </a:lnTo>
                        <a:lnTo>
                          <a:pt x="47" y="4"/>
                        </a:lnTo>
                        <a:lnTo>
                          <a:pt x="46" y="4"/>
                        </a:lnTo>
                        <a:lnTo>
                          <a:pt x="5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5628960" y="1825560"/>
                    <a:ext cx="16200" cy="14400"/>
                  </a:xfrm>
                  <a:custGeom>
                    <a:avLst/>
                    <a:gdLst/>
                    <a:ahLst/>
                    <a:rect l="l" t="t" r="r" b="b"/>
                    <a:pathLst>
                      <a:path w="52" h="45">
                        <a:moveTo>
                          <a:pt x="52" y="14"/>
                        </a:moveTo>
                        <a:lnTo>
                          <a:pt x="50" y="12"/>
                        </a:lnTo>
                        <a:lnTo>
                          <a:pt x="10" y="0"/>
                        </a:lnTo>
                        <a:lnTo>
                          <a:pt x="0" y="32"/>
                        </a:lnTo>
                        <a:lnTo>
                          <a:pt x="40" y="45"/>
                        </a:lnTo>
                        <a:lnTo>
                          <a:pt x="37" y="44"/>
                        </a:lnTo>
                        <a:lnTo>
                          <a:pt x="52" y="14"/>
                        </a:lnTo>
                        <a:lnTo>
                          <a:pt x="51" y="14"/>
                        </a:lnTo>
                        <a:lnTo>
                          <a:pt x="50" y="12"/>
                        </a:lnTo>
                        <a:lnTo>
                          <a:pt x="52"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6" name=""/>
                  <p:cNvSpPr/>
                  <p:nvPr/>
                </p:nvSpPr>
                <p:spPr>
                  <a:xfrm>
                    <a:off x="5640120" y="1828800"/>
                    <a:ext cx="17640" cy="15840"/>
                  </a:xfrm>
                  <a:custGeom>
                    <a:avLst/>
                    <a:gdLst/>
                    <a:ahLst/>
                    <a:rect l="l" t="t" r="r" b="b"/>
                    <a:pathLst>
                      <a:path w="55" h="50">
                        <a:moveTo>
                          <a:pt x="55" y="22"/>
                        </a:moveTo>
                        <a:lnTo>
                          <a:pt x="53" y="20"/>
                        </a:lnTo>
                        <a:lnTo>
                          <a:pt x="15" y="0"/>
                        </a:lnTo>
                        <a:lnTo>
                          <a:pt x="0" y="30"/>
                        </a:lnTo>
                        <a:lnTo>
                          <a:pt x="38" y="50"/>
                        </a:lnTo>
                        <a:lnTo>
                          <a:pt x="35" y="47"/>
                        </a:lnTo>
                        <a:lnTo>
                          <a:pt x="55" y="22"/>
                        </a:lnTo>
                        <a:lnTo>
                          <a:pt x="54" y="21"/>
                        </a:lnTo>
                        <a:lnTo>
                          <a:pt x="53" y="20"/>
                        </a:lnTo>
                        <a:lnTo>
                          <a:pt x="55"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7" name=""/>
                  <p:cNvSpPr/>
                  <p:nvPr/>
                </p:nvSpPr>
                <p:spPr>
                  <a:xfrm>
                    <a:off x="5651280" y="1836720"/>
                    <a:ext cx="17640" cy="15840"/>
                  </a:xfrm>
                  <a:custGeom>
                    <a:avLst/>
                    <a:gdLst/>
                    <a:ahLst/>
                    <a:rect l="l" t="t" r="r" b="b"/>
                    <a:pathLst>
                      <a:path w="54" h="51">
                        <a:moveTo>
                          <a:pt x="54" y="29"/>
                        </a:moveTo>
                        <a:lnTo>
                          <a:pt x="51" y="26"/>
                        </a:lnTo>
                        <a:lnTo>
                          <a:pt x="20" y="0"/>
                        </a:lnTo>
                        <a:lnTo>
                          <a:pt x="0" y="25"/>
                        </a:lnTo>
                        <a:lnTo>
                          <a:pt x="31" y="51"/>
                        </a:lnTo>
                        <a:lnTo>
                          <a:pt x="29" y="49"/>
                        </a:lnTo>
                        <a:lnTo>
                          <a:pt x="54" y="29"/>
                        </a:lnTo>
                        <a:lnTo>
                          <a:pt x="53" y="28"/>
                        </a:lnTo>
                        <a:lnTo>
                          <a:pt x="51" y="26"/>
                        </a:lnTo>
                        <a:lnTo>
                          <a:pt x="5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8" name=""/>
                  <p:cNvSpPr/>
                  <p:nvPr/>
                </p:nvSpPr>
                <p:spPr>
                  <a:xfrm>
                    <a:off x="5661000" y="1846440"/>
                    <a:ext cx="17280" cy="15840"/>
                  </a:xfrm>
                  <a:custGeom>
                    <a:avLst/>
                    <a:gdLst/>
                    <a:ahLst/>
                    <a:rect l="l" t="t" r="r" b="b"/>
                    <a:pathLst>
                      <a:path w="54" h="51">
                        <a:moveTo>
                          <a:pt x="54" y="33"/>
                        </a:moveTo>
                        <a:lnTo>
                          <a:pt x="51" y="31"/>
                        </a:lnTo>
                        <a:lnTo>
                          <a:pt x="25" y="0"/>
                        </a:lnTo>
                        <a:lnTo>
                          <a:pt x="0" y="20"/>
                        </a:lnTo>
                        <a:lnTo>
                          <a:pt x="26" y="51"/>
                        </a:lnTo>
                        <a:lnTo>
                          <a:pt x="24" y="48"/>
                        </a:lnTo>
                        <a:lnTo>
                          <a:pt x="54" y="33"/>
                        </a:lnTo>
                        <a:lnTo>
                          <a:pt x="52" y="32"/>
                        </a:lnTo>
                        <a:lnTo>
                          <a:pt x="51" y="31"/>
                        </a:lnTo>
                        <a:lnTo>
                          <a:pt x="54"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9" name=""/>
                  <p:cNvSpPr/>
                  <p:nvPr/>
                </p:nvSpPr>
                <p:spPr>
                  <a:xfrm>
                    <a:off x="5668920" y="1855800"/>
                    <a:ext cx="15840" cy="15840"/>
                  </a:xfrm>
                  <a:custGeom>
                    <a:avLst/>
                    <a:gdLst/>
                    <a:ahLst/>
                    <a:rect l="l" t="t" r="r" b="b"/>
                    <a:pathLst>
                      <a:path w="51" h="50">
                        <a:moveTo>
                          <a:pt x="51" y="38"/>
                        </a:moveTo>
                        <a:lnTo>
                          <a:pt x="50" y="35"/>
                        </a:lnTo>
                        <a:lnTo>
                          <a:pt x="30" y="0"/>
                        </a:lnTo>
                        <a:lnTo>
                          <a:pt x="0" y="15"/>
                        </a:lnTo>
                        <a:lnTo>
                          <a:pt x="20" y="50"/>
                        </a:lnTo>
                        <a:lnTo>
                          <a:pt x="18" y="48"/>
                        </a:lnTo>
                        <a:lnTo>
                          <a:pt x="51" y="38"/>
                        </a:lnTo>
                        <a:lnTo>
                          <a:pt x="50" y="37"/>
                        </a:lnTo>
                        <a:lnTo>
                          <a:pt x="50" y="35"/>
                        </a:lnTo>
                        <a:lnTo>
                          <a:pt x="5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0" name=""/>
                  <p:cNvSpPr/>
                  <p:nvPr/>
                </p:nvSpPr>
                <p:spPr>
                  <a:xfrm>
                    <a:off x="5675040" y="1868400"/>
                    <a:ext cx="14400" cy="14400"/>
                  </a:xfrm>
                  <a:custGeom>
                    <a:avLst/>
                    <a:gdLst/>
                    <a:ahLst/>
                    <a:rect l="l" t="t" r="r" b="b"/>
                    <a:pathLst>
                      <a:path w="45" h="47">
                        <a:moveTo>
                          <a:pt x="45" y="41"/>
                        </a:moveTo>
                        <a:lnTo>
                          <a:pt x="45" y="37"/>
                        </a:lnTo>
                        <a:lnTo>
                          <a:pt x="33" y="0"/>
                        </a:lnTo>
                        <a:lnTo>
                          <a:pt x="0" y="10"/>
                        </a:lnTo>
                        <a:lnTo>
                          <a:pt x="13" y="47"/>
                        </a:lnTo>
                        <a:lnTo>
                          <a:pt x="13" y="44"/>
                        </a:lnTo>
                        <a:lnTo>
                          <a:pt x="45" y="41"/>
                        </a:lnTo>
                        <a:lnTo>
                          <a:pt x="45" y="40"/>
                        </a:lnTo>
                        <a:lnTo>
                          <a:pt x="45" y="37"/>
                        </a:lnTo>
                        <a:lnTo>
                          <a:pt x="45" y="4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1" name=""/>
                  <p:cNvSpPr/>
                  <p:nvPr/>
                </p:nvSpPr>
                <p:spPr>
                  <a:xfrm>
                    <a:off x="5678280" y="1881360"/>
                    <a:ext cx="11160" cy="14040"/>
                  </a:xfrm>
                  <a:custGeom>
                    <a:avLst/>
                    <a:gdLst/>
                    <a:ahLst/>
                    <a:rect l="l" t="t" r="r" b="b"/>
                    <a:pathLst>
                      <a:path w="36" h="47">
                        <a:moveTo>
                          <a:pt x="36" y="47"/>
                        </a:moveTo>
                        <a:lnTo>
                          <a:pt x="36" y="45"/>
                        </a:lnTo>
                        <a:lnTo>
                          <a:pt x="32" y="0"/>
                        </a:lnTo>
                        <a:lnTo>
                          <a:pt x="0" y="3"/>
                        </a:lnTo>
                        <a:lnTo>
                          <a:pt x="4" y="47"/>
                        </a:lnTo>
                        <a:lnTo>
                          <a:pt x="4" y="45"/>
                        </a:lnTo>
                        <a:lnTo>
                          <a:pt x="36" y="4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2" name=""/>
                  <p:cNvSpPr/>
                  <p:nvPr/>
                </p:nvSpPr>
                <p:spPr>
                  <a:xfrm>
                    <a:off x="5678280" y="1895400"/>
                    <a:ext cx="11160" cy="15840"/>
                  </a:xfrm>
                  <a:custGeom>
                    <a:avLst/>
                    <a:gdLst/>
                    <a:ahLst/>
                    <a:rect l="l" t="t" r="r" b="b"/>
                    <a:pathLst>
                      <a:path w="36" h="49">
                        <a:moveTo>
                          <a:pt x="32" y="49"/>
                        </a:moveTo>
                        <a:lnTo>
                          <a:pt x="32" y="45"/>
                        </a:lnTo>
                        <a:lnTo>
                          <a:pt x="36" y="2"/>
                        </a:lnTo>
                        <a:lnTo>
                          <a:pt x="4" y="0"/>
                        </a:lnTo>
                        <a:lnTo>
                          <a:pt x="0" y="42"/>
                        </a:lnTo>
                        <a:lnTo>
                          <a:pt x="0" y="39"/>
                        </a:lnTo>
                        <a:lnTo>
                          <a:pt x="32" y="49"/>
                        </a:lnTo>
                        <a:lnTo>
                          <a:pt x="32" y="46"/>
                        </a:lnTo>
                        <a:lnTo>
                          <a:pt x="32" y="45"/>
                        </a:lnTo>
                        <a:lnTo>
                          <a:pt x="32"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3" name=""/>
                  <p:cNvSpPr/>
                  <p:nvPr/>
                </p:nvSpPr>
                <p:spPr>
                  <a:xfrm>
                    <a:off x="5675040" y="1908000"/>
                    <a:ext cx="14400" cy="16200"/>
                  </a:xfrm>
                  <a:custGeom>
                    <a:avLst/>
                    <a:gdLst/>
                    <a:ahLst/>
                    <a:rect l="l" t="t" r="r" b="b"/>
                    <a:pathLst>
                      <a:path w="45" h="51">
                        <a:moveTo>
                          <a:pt x="32" y="51"/>
                        </a:moveTo>
                        <a:lnTo>
                          <a:pt x="33" y="48"/>
                        </a:lnTo>
                        <a:lnTo>
                          <a:pt x="45" y="10"/>
                        </a:lnTo>
                        <a:lnTo>
                          <a:pt x="13" y="0"/>
                        </a:lnTo>
                        <a:lnTo>
                          <a:pt x="0" y="38"/>
                        </a:lnTo>
                        <a:lnTo>
                          <a:pt x="2" y="36"/>
                        </a:lnTo>
                        <a:lnTo>
                          <a:pt x="32" y="51"/>
                        </a:lnTo>
                        <a:lnTo>
                          <a:pt x="32" y="50"/>
                        </a:lnTo>
                        <a:lnTo>
                          <a:pt x="33" y="48"/>
                        </a:lnTo>
                        <a:lnTo>
                          <a:pt x="32" y="5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4" name=""/>
                  <p:cNvSpPr/>
                  <p:nvPr/>
                </p:nvSpPr>
                <p:spPr>
                  <a:xfrm>
                    <a:off x="5668920" y="1919160"/>
                    <a:ext cx="15840" cy="15840"/>
                  </a:xfrm>
                  <a:custGeom>
                    <a:avLst/>
                    <a:gdLst/>
                    <a:ahLst/>
                    <a:rect l="l" t="t" r="r" b="b"/>
                    <a:pathLst>
                      <a:path w="50" h="52">
                        <a:moveTo>
                          <a:pt x="27" y="52"/>
                        </a:moveTo>
                        <a:lnTo>
                          <a:pt x="30" y="50"/>
                        </a:lnTo>
                        <a:lnTo>
                          <a:pt x="50" y="15"/>
                        </a:lnTo>
                        <a:lnTo>
                          <a:pt x="20" y="0"/>
                        </a:lnTo>
                        <a:lnTo>
                          <a:pt x="0" y="35"/>
                        </a:lnTo>
                        <a:lnTo>
                          <a:pt x="2" y="32"/>
                        </a:lnTo>
                        <a:lnTo>
                          <a:pt x="27"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5" name=""/>
                  <p:cNvSpPr/>
                  <p:nvPr/>
                </p:nvSpPr>
                <p:spPr>
                  <a:xfrm>
                    <a:off x="5661000" y="1928880"/>
                    <a:ext cx="15840" cy="17280"/>
                  </a:xfrm>
                  <a:custGeom>
                    <a:avLst/>
                    <a:gdLst/>
                    <a:ahLst/>
                    <a:rect l="l" t="t" r="r" b="b"/>
                    <a:pathLst>
                      <a:path w="51" h="55">
                        <a:moveTo>
                          <a:pt x="22" y="55"/>
                        </a:moveTo>
                        <a:lnTo>
                          <a:pt x="25" y="53"/>
                        </a:lnTo>
                        <a:lnTo>
                          <a:pt x="51" y="20"/>
                        </a:lnTo>
                        <a:lnTo>
                          <a:pt x="26" y="0"/>
                        </a:lnTo>
                        <a:lnTo>
                          <a:pt x="0" y="33"/>
                        </a:lnTo>
                        <a:lnTo>
                          <a:pt x="2" y="30"/>
                        </a:lnTo>
                        <a:lnTo>
                          <a:pt x="22" y="55"/>
                        </a:lnTo>
                        <a:lnTo>
                          <a:pt x="24" y="54"/>
                        </a:lnTo>
                        <a:lnTo>
                          <a:pt x="25" y="53"/>
                        </a:lnTo>
                        <a:lnTo>
                          <a:pt x="22" y="5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6" name=""/>
                  <p:cNvSpPr/>
                  <p:nvPr/>
                </p:nvSpPr>
                <p:spPr>
                  <a:xfrm>
                    <a:off x="5651280" y="1938240"/>
                    <a:ext cx="17640" cy="17640"/>
                  </a:xfrm>
                  <a:custGeom>
                    <a:avLst/>
                    <a:gdLst/>
                    <a:ahLst/>
                    <a:rect l="l" t="t" r="r" b="b"/>
                    <a:pathLst>
                      <a:path w="51" h="53">
                        <a:moveTo>
                          <a:pt x="18" y="53"/>
                        </a:moveTo>
                        <a:lnTo>
                          <a:pt x="20" y="50"/>
                        </a:lnTo>
                        <a:lnTo>
                          <a:pt x="51" y="25"/>
                        </a:lnTo>
                        <a:lnTo>
                          <a:pt x="31" y="0"/>
                        </a:lnTo>
                        <a:lnTo>
                          <a:pt x="0" y="25"/>
                        </a:lnTo>
                        <a:lnTo>
                          <a:pt x="3" y="23"/>
                        </a:lnTo>
                        <a:lnTo>
                          <a:pt x="18" y="53"/>
                        </a:lnTo>
                        <a:lnTo>
                          <a:pt x="19" y="51"/>
                        </a:lnTo>
                        <a:lnTo>
                          <a:pt x="20" y="50"/>
                        </a:lnTo>
                        <a:lnTo>
                          <a:pt x="18"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
                  <p:cNvSpPr/>
                  <p:nvPr/>
                </p:nvSpPr>
                <p:spPr>
                  <a:xfrm>
                    <a:off x="5640120" y="1946160"/>
                    <a:ext cx="17640" cy="15840"/>
                  </a:xfrm>
                  <a:custGeom>
                    <a:avLst/>
                    <a:gdLst/>
                    <a:ahLst/>
                    <a:rect l="l" t="t" r="r" b="b"/>
                    <a:pathLst>
                      <a:path w="53" h="51">
                        <a:moveTo>
                          <a:pt x="12" y="51"/>
                        </a:moveTo>
                        <a:lnTo>
                          <a:pt x="15" y="50"/>
                        </a:lnTo>
                        <a:lnTo>
                          <a:pt x="53" y="30"/>
                        </a:lnTo>
                        <a:lnTo>
                          <a:pt x="38" y="0"/>
                        </a:lnTo>
                        <a:lnTo>
                          <a:pt x="0" y="20"/>
                        </a:lnTo>
                        <a:lnTo>
                          <a:pt x="4" y="18"/>
                        </a:lnTo>
                        <a:lnTo>
                          <a:pt x="12" y="51"/>
                        </a:lnTo>
                        <a:lnTo>
                          <a:pt x="14" y="51"/>
                        </a:lnTo>
                        <a:lnTo>
                          <a:pt x="15" y="50"/>
                        </a:lnTo>
                        <a:lnTo>
                          <a:pt x="12"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8" name=""/>
                  <p:cNvSpPr/>
                  <p:nvPr/>
                </p:nvSpPr>
                <p:spPr>
                  <a:xfrm>
                    <a:off x="5628960" y="1952640"/>
                    <a:ext cx="16200" cy="12600"/>
                  </a:xfrm>
                  <a:custGeom>
                    <a:avLst/>
                    <a:gdLst/>
                    <a:ahLst/>
                    <a:rect l="l" t="t" r="r" b="b"/>
                    <a:pathLst>
                      <a:path w="48" h="44">
                        <a:moveTo>
                          <a:pt x="5" y="44"/>
                        </a:moveTo>
                        <a:lnTo>
                          <a:pt x="8" y="44"/>
                        </a:lnTo>
                        <a:lnTo>
                          <a:pt x="48" y="33"/>
                        </a:lnTo>
                        <a:lnTo>
                          <a:pt x="40" y="0"/>
                        </a:lnTo>
                        <a:lnTo>
                          <a:pt x="0" y="12"/>
                        </a:lnTo>
                        <a:lnTo>
                          <a:pt x="3" y="12"/>
                        </a:lnTo>
                        <a:lnTo>
                          <a:pt x="5" y="4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9" name=""/>
                  <p:cNvSpPr/>
                  <p:nvPr/>
                </p:nvSpPr>
                <p:spPr>
                  <a:xfrm>
                    <a:off x="5616360" y="1955880"/>
                    <a:ext cx="14400" cy="12600"/>
                  </a:xfrm>
                  <a:custGeom>
                    <a:avLst/>
                    <a:gdLst/>
                    <a:ahLst/>
                    <a:rect l="l" t="t" r="r" b="b"/>
                    <a:pathLst>
                      <a:path w="46" h="38">
                        <a:moveTo>
                          <a:pt x="0" y="37"/>
                        </a:moveTo>
                        <a:lnTo>
                          <a:pt x="3" y="37"/>
                        </a:lnTo>
                        <a:lnTo>
                          <a:pt x="46" y="32"/>
                        </a:lnTo>
                        <a:lnTo>
                          <a:pt x="44" y="0"/>
                        </a:lnTo>
                        <a:lnTo>
                          <a:pt x="0" y="5"/>
                        </a:lnTo>
                        <a:lnTo>
                          <a:pt x="3" y="5"/>
                        </a:lnTo>
                        <a:lnTo>
                          <a:pt x="0" y="37"/>
                        </a:lnTo>
                        <a:lnTo>
                          <a:pt x="1" y="38"/>
                        </a:lnTo>
                        <a:lnTo>
                          <a:pt x="3" y="37"/>
                        </a:lnTo>
                        <a:lnTo>
                          <a:pt x="0" y="3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5602320" y="1955880"/>
                    <a:ext cx="15840" cy="11160"/>
                  </a:xfrm>
                  <a:custGeom>
                    <a:avLst/>
                    <a:gdLst/>
                    <a:ahLst/>
                    <a:rect l="l" t="t" r="r" b="b"/>
                    <a:pathLst>
                      <a:path w="48" h="37">
                        <a:moveTo>
                          <a:pt x="0" y="32"/>
                        </a:moveTo>
                        <a:lnTo>
                          <a:pt x="3" y="32"/>
                        </a:lnTo>
                        <a:lnTo>
                          <a:pt x="45" y="37"/>
                        </a:lnTo>
                        <a:lnTo>
                          <a:pt x="48" y="5"/>
                        </a:lnTo>
                        <a:lnTo>
                          <a:pt x="5" y="0"/>
                        </a:lnTo>
                        <a:lnTo>
                          <a:pt x="8" y="0"/>
                        </a:lnTo>
                        <a:lnTo>
                          <a:pt x="0" y="3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
                  <p:cNvSpPr/>
                  <p:nvPr/>
                </p:nvSpPr>
                <p:spPr>
                  <a:xfrm>
                    <a:off x="5587920" y="1952640"/>
                    <a:ext cx="17280" cy="12600"/>
                  </a:xfrm>
                  <a:custGeom>
                    <a:avLst/>
                    <a:gdLst/>
                    <a:ahLst/>
                    <a:rect l="l" t="t" r="r" b="b"/>
                    <a:pathLst>
                      <a:path w="53" h="44">
                        <a:moveTo>
                          <a:pt x="0" y="32"/>
                        </a:moveTo>
                        <a:lnTo>
                          <a:pt x="4" y="33"/>
                        </a:lnTo>
                        <a:lnTo>
                          <a:pt x="45" y="44"/>
                        </a:lnTo>
                        <a:lnTo>
                          <a:pt x="53" y="12"/>
                        </a:lnTo>
                        <a:lnTo>
                          <a:pt x="11" y="0"/>
                        </a:lnTo>
                        <a:lnTo>
                          <a:pt x="15" y="2"/>
                        </a:lnTo>
                        <a:lnTo>
                          <a:pt x="0" y="32"/>
                        </a:lnTo>
                        <a:lnTo>
                          <a:pt x="1" y="33"/>
                        </a:lnTo>
                        <a:lnTo>
                          <a:pt x="4" y="33"/>
                        </a:lnTo>
                        <a:lnTo>
                          <a:pt x="0"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2" name=""/>
                  <p:cNvSpPr/>
                  <p:nvPr/>
                </p:nvSpPr>
                <p:spPr>
                  <a:xfrm>
                    <a:off x="5575320" y="1946160"/>
                    <a:ext cx="17280" cy="15840"/>
                  </a:xfrm>
                  <a:custGeom>
                    <a:avLst/>
                    <a:gdLst/>
                    <a:ahLst/>
                    <a:rect l="l" t="t" r="r" b="b"/>
                    <a:pathLst>
                      <a:path w="53" h="50">
                        <a:moveTo>
                          <a:pt x="0" y="28"/>
                        </a:moveTo>
                        <a:lnTo>
                          <a:pt x="2" y="30"/>
                        </a:lnTo>
                        <a:lnTo>
                          <a:pt x="38" y="50"/>
                        </a:lnTo>
                        <a:lnTo>
                          <a:pt x="53" y="20"/>
                        </a:lnTo>
                        <a:lnTo>
                          <a:pt x="17" y="0"/>
                        </a:lnTo>
                        <a:lnTo>
                          <a:pt x="20" y="1"/>
                        </a:lnTo>
                        <a:lnTo>
                          <a:pt x="0"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3" name=""/>
                  <p:cNvSpPr/>
                  <p:nvPr/>
                </p:nvSpPr>
                <p:spPr>
                  <a:xfrm>
                    <a:off x="5564160" y="1938240"/>
                    <a:ext cx="17280" cy="17640"/>
                  </a:xfrm>
                  <a:custGeom>
                    <a:avLst/>
                    <a:gdLst/>
                    <a:ahLst/>
                    <a:rect l="l" t="t" r="r" b="b"/>
                    <a:pathLst>
                      <a:path w="55" h="52">
                        <a:moveTo>
                          <a:pt x="0" y="24"/>
                        </a:moveTo>
                        <a:lnTo>
                          <a:pt x="2" y="27"/>
                        </a:lnTo>
                        <a:lnTo>
                          <a:pt x="35" y="52"/>
                        </a:lnTo>
                        <a:lnTo>
                          <a:pt x="55" y="25"/>
                        </a:lnTo>
                        <a:lnTo>
                          <a:pt x="22" y="0"/>
                        </a:lnTo>
                        <a:lnTo>
                          <a:pt x="25" y="4"/>
                        </a:lnTo>
                        <a:lnTo>
                          <a:pt x="0" y="24"/>
                        </a:lnTo>
                        <a:lnTo>
                          <a:pt x="1" y="26"/>
                        </a:lnTo>
                        <a:lnTo>
                          <a:pt x="2" y="27"/>
                        </a:lnTo>
                        <a:lnTo>
                          <a:pt x="0"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4" name=""/>
                  <p:cNvSpPr/>
                  <p:nvPr/>
                </p:nvSpPr>
                <p:spPr>
                  <a:xfrm>
                    <a:off x="5556240" y="1928880"/>
                    <a:ext cx="15840" cy="17280"/>
                  </a:xfrm>
                  <a:custGeom>
                    <a:avLst/>
                    <a:gdLst/>
                    <a:ahLst/>
                    <a:rect l="l" t="t" r="r" b="b"/>
                    <a:pathLst>
                      <a:path w="54" h="53">
                        <a:moveTo>
                          <a:pt x="0" y="18"/>
                        </a:moveTo>
                        <a:lnTo>
                          <a:pt x="2" y="20"/>
                        </a:lnTo>
                        <a:lnTo>
                          <a:pt x="29" y="53"/>
                        </a:lnTo>
                        <a:lnTo>
                          <a:pt x="54" y="33"/>
                        </a:lnTo>
                        <a:lnTo>
                          <a:pt x="27" y="0"/>
                        </a:lnTo>
                        <a:lnTo>
                          <a:pt x="30" y="3"/>
                        </a:lnTo>
                        <a:lnTo>
                          <a:pt x="0" y="1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5" name=""/>
                  <p:cNvSpPr/>
                  <p:nvPr/>
                </p:nvSpPr>
                <p:spPr>
                  <a:xfrm>
                    <a:off x="5548320" y="1919160"/>
                    <a:ext cx="17280" cy="15840"/>
                  </a:xfrm>
                  <a:custGeom>
                    <a:avLst/>
                    <a:gdLst/>
                    <a:ahLst/>
                    <a:rect l="l" t="t" r="r" b="b"/>
                    <a:pathLst>
                      <a:path w="51" h="50">
                        <a:moveTo>
                          <a:pt x="0" y="11"/>
                        </a:moveTo>
                        <a:lnTo>
                          <a:pt x="1" y="15"/>
                        </a:lnTo>
                        <a:lnTo>
                          <a:pt x="21" y="50"/>
                        </a:lnTo>
                        <a:lnTo>
                          <a:pt x="51" y="35"/>
                        </a:lnTo>
                        <a:lnTo>
                          <a:pt x="31" y="0"/>
                        </a:lnTo>
                        <a:lnTo>
                          <a:pt x="32" y="4"/>
                        </a:lnTo>
                        <a:lnTo>
                          <a:pt x="0" y="11"/>
                        </a:lnTo>
                        <a:lnTo>
                          <a:pt x="1" y="14"/>
                        </a:lnTo>
                        <a:lnTo>
                          <a:pt x="1" y="15"/>
                        </a:lnTo>
                        <a:lnTo>
                          <a:pt x="0"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6" name=""/>
                  <p:cNvSpPr/>
                  <p:nvPr/>
                </p:nvSpPr>
                <p:spPr>
                  <a:xfrm>
                    <a:off x="5545080" y="1908000"/>
                    <a:ext cx="14040" cy="14400"/>
                  </a:xfrm>
                  <a:custGeom>
                    <a:avLst/>
                    <a:gdLst/>
                    <a:ahLst/>
                    <a:rect l="l" t="t" r="r" b="b"/>
                    <a:pathLst>
                      <a:path w="43" h="46">
                        <a:moveTo>
                          <a:pt x="0" y="5"/>
                        </a:moveTo>
                        <a:lnTo>
                          <a:pt x="0" y="7"/>
                        </a:lnTo>
                        <a:lnTo>
                          <a:pt x="11" y="46"/>
                        </a:lnTo>
                        <a:lnTo>
                          <a:pt x="43" y="39"/>
                        </a:lnTo>
                        <a:lnTo>
                          <a:pt x="32" y="0"/>
                        </a:lnTo>
                        <a:lnTo>
                          <a:pt x="32" y="2"/>
                        </a:lnTo>
                        <a:lnTo>
                          <a:pt x="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7" name=""/>
                  <p:cNvSpPr/>
                  <p:nvPr/>
                </p:nvSpPr>
                <p:spPr>
                  <a:xfrm>
                    <a:off x="5543280" y="1895400"/>
                    <a:ext cx="12960" cy="14400"/>
                  </a:xfrm>
                  <a:custGeom>
                    <a:avLst/>
                    <a:gdLst/>
                    <a:ahLst/>
                    <a:rect l="l" t="t" r="r" b="b"/>
                    <a:pathLst>
                      <a:path w="39" h="45">
                        <a:moveTo>
                          <a:pt x="2" y="0"/>
                        </a:moveTo>
                        <a:lnTo>
                          <a:pt x="2" y="2"/>
                        </a:lnTo>
                        <a:lnTo>
                          <a:pt x="7" y="45"/>
                        </a:lnTo>
                        <a:lnTo>
                          <a:pt x="39" y="42"/>
                        </a:lnTo>
                        <a:lnTo>
                          <a:pt x="34" y="0"/>
                        </a:lnTo>
                        <a:lnTo>
                          <a:pt x="34" y="2"/>
                        </a:lnTo>
                        <a:lnTo>
                          <a:pt x="2" y="0"/>
                        </a:lnTo>
                        <a:lnTo>
                          <a:pt x="0" y="1"/>
                        </a:lnTo>
                        <a:lnTo>
                          <a:pt x="2" y="2"/>
                        </a:lnTo>
                        <a:lnTo>
                          <a:pt x="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5792760" y="1490760"/>
                    <a:ext cx="288720" cy="322200"/>
                  </a:xfrm>
                  <a:custGeom>
                    <a:avLst/>
                    <a:gdLst/>
                    <a:ahLst/>
                    <a:rect l="l" t="t" r="r" b="b"/>
                    <a:pathLst>
                      <a:path w="908" h="1014">
                        <a:moveTo>
                          <a:pt x="558" y="901"/>
                        </a:moveTo>
                        <a:lnTo>
                          <a:pt x="553" y="1014"/>
                        </a:lnTo>
                        <a:lnTo>
                          <a:pt x="449" y="1014"/>
                        </a:lnTo>
                        <a:lnTo>
                          <a:pt x="449" y="901"/>
                        </a:lnTo>
                        <a:lnTo>
                          <a:pt x="355" y="876"/>
                        </a:lnTo>
                        <a:lnTo>
                          <a:pt x="311" y="855"/>
                        </a:lnTo>
                        <a:lnTo>
                          <a:pt x="271" y="830"/>
                        </a:lnTo>
                        <a:lnTo>
                          <a:pt x="195" y="911"/>
                        </a:lnTo>
                        <a:lnTo>
                          <a:pt x="121" y="837"/>
                        </a:lnTo>
                        <a:lnTo>
                          <a:pt x="202" y="756"/>
                        </a:lnTo>
                        <a:lnTo>
                          <a:pt x="175" y="719"/>
                        </a:lnTo>
                        <a:lnTo>
                          <a:pt x="151" y="679"/>
                        </a:lnTo>
                        <a:lnTo>
                          <a:pt x="133" y="635"/>
                        </a:lnTo>
                        <a:lnTo>
                          <a:pt x="121" y="589"/>
                        </a:lnTo>
                        <a:lnTo>
                          <a:pt x="0" y="589"/>
                        </a:lnTo>
                        <a:lnTo>
                          <a:pt x="0" y="485"/>
                        </a:lnTo>
                        <a:lnTo>
                          <a:pt x="118" y="485"/>
                        </a:lnTo>
                        <a:lnTo>
                          <a:pt x="124" y="434"/>
                        </a:lnTo>
                        <a:lnTo>
                          <a:pt x="136" y="384"/>
                        </a:lnTo>
                        <a:lnTo>
                          <a:pt x="154" y="337"/>
                        </a:lnTo>
                        <a:lnTo>
                          <a:pt x="178" y="294"/>
                        </a:lnTo>
                        <a:lnTo>
                          <a:pt x="87" y="203"/>
                        </a:lnTo>
                        <a:lnTo>
                          <a:pt x="160" y="130"/>
                        </a:lnTo>
                        <a:lnTo>
                          <a:pt x="242" y="213"/>
                        </a:lnTo>
                        <a:lnTo>
                          <a:pt x="286" y="180"/>
                        </a:lnTo>
                        <a:lnTo>
                          <a:pt x="333" y="152"/>
                        </a:lnTo>
                        <a:lnTo>
                          <a:pt x="386" y="131"/>
                        </a:lnTo>
                        <a:lnTo>
                          <a:pt x="441" y="119"/>
                        </a:lnTo>
                        <a:lnTo>
                          <a:pt x="441" y="0"/>
                        </a:lnTo>
                        <a:lnTo>
                          <a:pt x="544" y="0"/>
                        </a:lnTo>
                        <a:lnTo>
                          <a:pt x="544" y="117"/>
                        </a:lnTo>
                        <a:lnTo>
                          <a:pt x="598" y="125"/>
                        </a:lnTo>
                        <a:lnTo>
                          <a:pt x="648" y="138"/>
                        </a:lnTo>
                        <a:lnTo>
                          <a:pt x="696" y="158"/>
                        </a:lnTo>
                        <a:lnTo>
                          <a:pt x="740" y="186"/>
                        </a:lnTo>
                        <a:lnTo>
                          <a:pt x="820" y="104"/>
                        </a:lnTo>
                        <a:lnTo>
                          <a:pt x="892" y="177"/>
                        </a:lnTo>
                        <a:lnTo>
                          <a:pt x="816" y="255"/>
                        </a:lnTo>
                        <a:lnTo>
                          <a:pt x="856" y="309"/>
                        </a:lnTo>
                        <a:lnTo>
                          <a:pt x="885" y="372"/>
                        </a:lnTo>
                        <a:lnTo>
                          <a:pt x="902" y="439"/>
                        </a:lnTo>
                        <a:lnTo>
                          <a:pt x="908" y="512"/>
                        </a:lnTo>
                        <a:lnTo>
                          <a:pt x="902" y="586"/>
                        </a:lnTo>
                        <a:lnTo>
                          <a:pt x="882" y="656"/>
                        </a:lnTo>
                        <a:lnTo>
                          <a:pt x="851" y="719"/>
                        </a:lnTo>
                        <a:lnTo>
                          <a:pt x="809" y="775"/>
                        </a:lnTo>
                        <a:lnTo>
                          <a:pt x="756" y="822"/>
                        </a:lnTo>
                        <a:lnTo>
                          <a:pt x="696" y="860"/>
                        </a:lnTo>
                        <a:lnTo>
                          <a:pt x="630" y="886"/>
                        </a:lnTo>
                        <a:lnTo>
                          <a:pt x="558" y="901"/>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964120" y="1776240"/>
                    <a:ext cx="11160" cy="41400"/>
                  </a:xfrm>
                  <a:custGeom>
                    <a:avLst/>
                    <a:gdLst/>
                    <a:ahLst/>
                    <a:rect l="l" t="t" r="r" b="b"/>
                    <a:pathLst>
                      <a:path w="37" h="131">
                        <a:moveTo>
                          <a:pt x="16" y="131"/>
                        </a:moveTo>
                        <a:lnTo>
                          <a:pt x="32" y="113"/>
                        </a:lnTo>
                        <a:lnTo>
                          <a:pt x="37" y="0"/>
                        </a:lnTo>
                        <a:lnTo>
                          <a:pt x="5" y="0"/>
                        </a:lnTo>
                        <a:lnTo>
                          <a:pt x="0" y="113"/>
                        </a:lnTo>
                        <a:lnTo>
                          <a:pt x="16" y="96"/>
                        </a:lnTo>
                        <a:lnTo>
                          <a:pt x="16" y="131"/>
                        </a:lnTo>
                        <a:lnTo>
                          <a:pt x="32" y="131"/>
                        </a:lnTo>
                        <a:lnTo>
                          <a:pt x="32" y="113"/>
                        </a:lnTo>
                        <a:lnTo>
                          <a:pt x="16" y="1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0" name=""/>
                  <p:cNvSpPr/>
                  <p:nvPr/>
                </p:nvSpPr>
                <p:spPr>
                  <a:xfrm>
                    <a:off x="5930640" y="1806480"/>
                    <a:ext cx="38160" cy="11160"/>
                  </a:xfrm>
                  <a:custGeom>
                    <a:avLst/>
                    <a:gdLst/>
                    <a:ahLst/>
                    <a:rect l="l" t="t" r="r" b="b"/>
                    <a:pathLst>
                      <a:path w="121" h="35">
                        <a:moveTo>
                          <a:pt x="0" y="17"/>
                        </a:moveTo>
                        <a:lnTo>
                          <a:pt x="17" y="35"/>
                        </a:lnTo>
                        <a:lnTo>
                          <a:pt x="121" y="35"/>
                        </a:lnTo>
                        <a:lnTo>
                          <a:pt x="121" y="0"/>
                        </a:lnTo>
                        <a:lnTo>
                          <a:pt x="17" y="0"/>
                        </a:lnTo>
                        <a:lnTo>
                          <a:pt x="35" y="17"/>
                        </a:lnTo>
                        <a:lnTo>
                          <a:pt x="0" y="17"/>
                        </a:lnTo>
                        <a:lnTo>
                          <a:pt x="0" y="35"/>
                        </a:lnTo>
                        <a:lnTo>
                          <a:pt x="17" y="35"/>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1" name=""/>
                  <p:cNvSpPr/>
                  <p:nvPr/>
                </p:nvSpPr>
                <p:spPr>
                  <a:xfrm>
                    <a:off x="5930640" y="1771560"/>
                    <a:ext cx="11160" cy="41400"/>
                  </a:xfrm>
                  <a:custGeom>
                    <a:avLst/>
                    <a:gdLst/>
                    <a:ahLst/>
                    <a:rect l="l" t="t" r="r" b="b"/>
                    <a:pathLst>
                      <a:path w="35" h="129">
                        <a:moveTo>
                          <a:pt x="14" y="32"/>
                        </a:moveTo>
                        <a:lnTo>
                          <a:pt x="0" y="16"/>
                        </a:lnTo>
                        <a:lnTo>
                          <a:pt x="0" y="129"/>
                        </a:lnTo>
                        <a:lnTo>
                          <a:pt x="35" y="129"/>
                        </a:lnTo>
                        <a:lnTo>
                          <a:pt x="35" y="16"/>
                        </a:lnTo>
                        <a:lnTo>
                          <a:pt x="21" y="0"/>
                        </a:lnTo>
                        <a:lnTo>
                          <a:pt x="35" y="16"/>
                        </a:lnTo>
                        <a:lnTo>
                          <a:pt x="35" y="3"/>
                        </a:lnTo>
                        <a:lnTo>
                          <a:pt x="21" y="0"/>
                        </a:lnTo>
                        <a:lnTo>
                          <a:pt x="14" y="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2" name=""/>
                  <p:cNvSpPr/>
                  <p:nvPr/>
                </p:nvSpPr>
                <p:spPr>
                  <a:xfrm>
                    <a:off x="5903640" y="1763640"/>
                    <a:ext cx="33480" cy="17640"/>
                  </a:xfrm>
                  <a:custGeom>
                    <a:avLst/>
                    <a:gdLst/>
                    <a:ahLst/>
                    <a:rect l="l" t="t" r="r" b="b"/>
                    <a:pathLst>
                      <a:path w="106" h="57">
                        <a:moveTo>
                          <a:pt x="0" y="31"/>
                        </a:moveTo>
                        <a:lnTo>
                          <a:pt x="4" y="32"/>
                        </a:lnTo>
                        <a:lnTo>
                          <a:pt x="99" y="57"/>
                        </a:lnTo>
                        <a:lnTo>
                          <a:pt x="106" y="25"/>
                        </a:lnTo>
                        <a:lnTo>
                          <a:pt x="11" y="0"/>
                        </a:lnTo>
                        <a:lnTo>
                          <a:pt x="15" y="1"/>
                        </a:lnTo>
                        <a:lnTo>
                          <a:pt x="0" y="31"/>
                        </a:lnTo>
                        <a:lnTo>
                          <a:pt x="3" y="32"/>
                        </a:lnTo>
                        <a:lnTo>
                          <a:pt x="4" y="32"/>
                        </a:lnTo>
                        <a:lnTo>
                          <a:pt x="0"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3" name=""/>
                  <p:cNvSpPr/>
                  <p:nvPr/>
                </p:nvSpPr>
                <p:spPr>
                  <a:xfrm>
                    <a:off x="5889600" y="1757520"/>
                    <a:ext cx="19080" cy="15840"/>
                  </a:xfrm>
                  <a:custGeom>
                    <a:avLst/>
                    <a:gdLst/>
                    <a:ahLst/>
                    <a:rect l="l" t="t" r="r" b="b"/>
                    <a:pathLst>
                      <a:path w="60" h="51">
                        <a:moveTo>
                          <a:pt x="0" y="28"/>
                        </a:moveTo>
                        <a:lnTo>
                          <a:pt x="1" y="30"/>
                        </a:lnTo>
                        <a:lnTo>
                          <a:pt x="45" y="51"/>
                        </a:lnTo>
                        <a:lnTo>
                          <a:pt x="60" y="21"/>
                        </a:lnTo>
                        <a:lnTo>
                          <a:pt x="16" y="0"/>
                        </a:lnTo>
                        <a:lnTo>
                          <a:pt x="18" y="1"/>
                        </a:lnTo>
                        <a:lnTo>
                          <a:pt x="0"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4" name=""/>
                  <p:cNvSpPr/>
                  <p:nvPr/>
                </p:nvSpPr>
                <p:spPr>
                  <a:xfrm>
                    <a:off x="5875200" y="1747800"/>
                    <a:ext cx="19080" cy="19080"/>
                  </a:xfrm>
                  <a:custGeom>
                    <a:avLst/>
                    <a:gdLst/>
                    <a:ahLst/>
                    <a:rect l="l" t="t" r="r" b="b"/>
                    <a:pathLst>
                      <a:path w="61" h="60">
                        <a:moveTo>
                          <a:pt x="25" y="33"/>
                        </a:moveTo>
                        <a:lnTo>
                          <a:pt x="3" y="35"/>
                        </a:lnTo>
                        <a:lnTo>
                          <a:pt x="43" y="60"/>
                        </a:lnTo>
                        <a:lnTo>
                          <a:pt x="61" y="33"/>
                        </a:lnTo>
                        <a:lnTo>
                          <a:pt x="21" y="8"/>
                        </a:lnTo>
                        <a:lnTo>
                          <a:pt x="0" y="10"/>
                        </a:lnTo>
                        <a:lnTo>
                          <a:pt x="21" y="8"/>
                        </a:lnTo>
                        <a:lnTo>
                          <a:pt x="10" y="0"/>
                        </a:lnTo>
                        <a:lnTo>
                          <a:pt x="0" y="10"/>
                        </a:lnTo>
                        <a:lnTo>
                          <a:pt x="25"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5" name=""/>
                  <p:cNvSpPr/>
                  <p:nvPr/>
                </p:nvSpPr>
                <p:spPr>
                  <a:xfrm>
                    <a:off x="5851440" y="1751040"/>
                    <a:ext cx="31680" cy="36360"/>
                  </a:xfrm>
                  <a:custGeom>
                    <a:avLst/>
                    <a:gdLst/>
                    <a:ahLst/>
                    <a:rect l="l" t="t" r="r" b="b"/>
                    <a:pathLst>
                      <a:path w="101" h="118">
                        <a:moveTo>
                          <a:pt x="1" y="104"/>
                        </a:moveTo>
                        <a:lnTo>
                          <a:pt x="24" y="104"/>
                        </a:lnTo>
                        <a:lnTo>
                          <a:pt x="101" y="23"/>
                        </a:lnTo>
                        <a:lnTo>
                          <a:pt x="76" y="0"/>
                        </a:lnTo>
                        <a:lnTo>
                          <a:pt x="0" y="81"/>
                        </a:lnTo>
                        <a:lnTo>
                          <a:pt x="23" y="81"/>
                        </a:lnTo>
                        <a:lnTo>
                          <a:pt x="1" y="104"/>
                        </a:lnTo>
                        <a:lnTo>
                          <a:pt x="12" y="118"/>
                        </a:lnTo>
                        <a:lnTo>
                          <a:pt x="24" y="104"/>
                        </a:lnTo>
                        <a:lnTo>
                          <a:pt x="1" y="10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6" name=""/>
                  <p:cNvSpPr/>
                  <p:nvPr/>
                </p:nvSpPr>
                <p:spPr>
                  <a:xfrm>
                    <a:off x="5824440" y="1752480"/>
                    <a:ext cx="34920" cy="30240"/>
                  </a:xfrm>
                  <a:custGeom>
                    <a:avLst/>
                    <a:gdLst/>
                    <a:ahLst/>
                    <a:rect l="l" t="t" r="r" b="b"/>
                    <a:pathLst>
                      <a:path w="108" h="96">
                        <a:moveTo>
                          <a:pt x="12" y="0"/>
                        </a:moveTo>
                        <a:lnTo>
                          <a:pt x="12" y="22"/>
                        </a:lnTo>
                        <a:lnTo>
                          <a:pt x="86" y="96"/>
                        </a:lnTo>
                        <a:lnTo>
                          <a:pt x="108" y="73"/>
                        </a:lnTo>
                        <a:lnTo>
                          <a:pt x="35" y="0"/>
                        </a:lnTo>
                        <a:lnTo>
                          <a:pt x="35" y="22"/>
                        </a:lnTo>
                        <a:lnTo>
                          <a:pt x="12" y="0"/>
                        </a:lnTo>
                        <a:lnTo>
                          <a:pt x="0" y="11"/>
                        </a:lnTo>
                        <a:lnTo>
                          <a:pt x="12" y="22"/>
                        </a:lnTo>
                        <a:lnTo>
                          <a:pt x="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7" name=""/>
                  <p:cNvSpPr/>
                  <p:nvPr/>
                </p:nvSpPr>
                <p:spPr>
                  <a:xfrm>
                    <a:off x="5827680" y="1727280"/>
                    <a:ext cx="36360" cy="33120"/>
                  </a:xfrm>
                  <a:custGeom>
                    <a:avLst/>
                    <a:gdLst/>
                    <a:ahLst/>
                    <a:rect l="l" t="t" r="r" b="b"/>
                    <a:pathLst>
                      <a:path w="115" h="103">
                        <a:moveTo>
                          <a:pt x="79" y="21"/>
                        </a:moveTo>
                        <a:lnTo>
                          <a:pt x="81" y="0"/>
                        </a:lnTo>
                        <a:lnTo>
                          <a:pt x="0" y="81"/>
                        </a:lnTo>
                        <a:lnTo>
                          <a:pt x="23" y="103"/>
                        </a:lnTo>
                        <a:lnTo>
                          <a:pt x="104" y="22"/>
                        </a:lnTo>
                        <a:lnTo>
                          <a:pt x="106" y="1"/>
                        </a:lnTo>
                        <a:lnTo>
                          <a:pt x="104" y="22"/>
                        </a:lnTo>
                        <a:lnTo>
                          <a:pt x="115" y="12"/>
                        </a:lnTo>
                        <a:lnTo>
                          <a:pt x="106" y="1"/>
                        </a:lnTo>
                        <a:lnTo>
                          <a:pt x="79"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8" name=""/>
                  <p:cNvSpPr/>
                  <p:nvPr/>
                </p:nvSpPr>
                <p:spPr>
                  <a:xfrm>
                    <a:off x="5843520" y="1716120"/>
                    <a:ext cx="19080" cy="17280"/>
                  </a:xfrm>
                  <a:custGeom>
                    <a:avLst/>
                    <a:gdLst/>
                    <a:ahLst/>
                    <a:rect l="l" t="t" r="r" b="b"/>
                    <a:pathLst>
                      <a:path w="56" h="57">
                        <a:moveTo>
                          <a:pt x="0" y="18"/>
                        </a:moveTo>
                        <a:lnTo>
                          <a:pt x="1" y="20"/>
                        </a:lnTo>
                        <a:lnTo>
                          <a:pt x="29" y="57"/>
                        </a:lnTo>
                        <a:lnTo>
                          <a:pt x="56" y="37"/>
                        </a:lnTo>
                        <a:lnTo>
                          <a:pt x="29" y="0"/>
                        </a:lnTo>
                        <a:lnTo>
                          <a:pt x="30" y="1"/>
                        </a:lnTo>
                        <a:lnTo>
                          <a:pt x="0" y="1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9" name=""/>
                  <p:cNvSpPr/>
                  <p:nvPr/>
                </p:nvSpPr>
                <p:spPr>
                  <a:xfrm>
                    <a:off x="5837040" y="1703520"/>
                    <a:ext cx="15840" cy="17280"/>
                  </a:xfrm>
                  <a:custGeom>
                    <a:avLst/>
                    <a:gdLst/>
                    <a:ahLst/>
                    <a:rect l="l" t="t" r="r" b="b"/>
                    <a:pathLst>
                      <a:path w="54" h="57">
                        <a:moveTo>
                          <a:pt x="0" y="15"/>
                        </a:moveTo>
                        <a:lnTo>
                          <a:pt x="0" y="17"/>
                        </a:lnTo>
                        <a:lnTo>
                          <a:pt x="24" y="57"/>
                        </a:lnTo>
                        <a:lnTo>
                          <a:pt x="54" y="40"/>
                        </a:lnTo>
                        <a:lnTo>
                          <a:pt x="30" y="0"/>
                        </a:lnTo>
                        <a:lnTo>
                          <a:pt x="30" y="2"/>
                        </a:lnTo>
                        <a:lnTo>
                          <a:pt x="0" y="1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0" name=""/>
                  <p:cNvSpPr/>
                  <p:nvPr/>
                </p:nvSpPr>
                <p:spPr>
                  <a:xfrm>
                    <a:off x="5830920" y="1690560"/>
                    <a:ext cx="15840" cy="17640"/>
                  </a:xfrm>
                  <a:custGeom>
                    <a:avLst/>
                    <a:gdLst/>
                    <a:ahLst/>
                    <a:rect l="l" t="t" r="r" b="b"/>
                    <a:pathLst>
                      <a:path w="50" h="56">
                        <a:moveTo>
                          <a:pt x="0" y="10"/>
                        </a:moveTo>
                        <a:lnTo>
                          <a:pt x="2" y="12"/>
                        </a:lnTo>
                        <a:lnTo>
                          <a:pt x="20" y="56"/>
                        </a:lnTo>
                        <a:lnTo>
                          <a:pt x="50" y="43"/>
                        </a:lnTo>
                        <a:lnTo>
                          <a:pt x="32" y="0"/>
                        </a:lnTo>
                        <a:lnTo>
                          <a:pt x="33" y="2"/>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1" name=""/>
                  <p:cNvSpPr/>
                  <p:nvPr/>
                </p:nvSpPr>
                <p:spPr>
                  <a:xfrm>
                    <a:off x="5825880" y="1671480"/>
                    <a:ext cx="14400" cy="22320"/>
                  </a:xfrm>
                  <a:custGeom>
                    <a:avLst/>
                    <a:gdLst/>
                    <a:ahLst/>
                    <a:rect l="l" t="t" r="r" b="b"/>
                    <a:pathLst>
                      <a:path w="44" h="68">
                        <a:moveTo>
                          <a:pt x="16" y="35"/>
                        </a:moveTo>
                        <a:lnTo>
                          <a:pt x="0" y="22"/>
                        </a:lnTo>
                        <a:lnTo>
                          <a:pt x="11" y="68"/>
                        </a:lnTo>
                        <a:lnTo>
                          <a:pt x="44" y="60"/>
                        </a:lnTo>
                        <a:lnTo>
                          <a:pt x="33" y="14"/>
                        </a:lnTo>
                        <a:lnTo>
                          <a:pt x="16" y="0"/>
                        </a:lnTo>
                        <a:lnTo>
                          <a:pt x="33" y="14"/>
                        </a:lnTo>
                        <a:lnTo>
                          <a:pt x="29" y="0"/>
                        </a:lnTo>
                        <a:lnTo>
                          <a:pt x="16" y="0"/>
                        </a:lnTo>
                        <a:lnTo>
                          <a:pt x="16"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2" name=""/>
                  <p:cNvSpPr/>
                  <p:nvPr/>
                </p:nvSpPr>
                <p:spPr>
                  <a:xfrm>
                    <a:off x="5787720" y="1671480"/>
                    <a:ext cx="44640" cy="11160"/>
                  </a:xfrm>
                  <a:custGeom>
                    <a:avLst/>
                    <a:gdLst/>
                    <a:ahLst/>
                    <a:rect l="l" t="t" r="r" b="b"/>
                    <a:pathLst>
                      <a:path w="138" h="35">
                        <a:moveTo>
                          <a:pt x="0" y="18"/>
                        </a:moveTo>
                        <a:lnTo>
                          <a:pt x="17" y="35"/>
                        </a:lnTo>
                        <a:lnTo>
                          <a:pt x="138" y="35"/>
                        </a:lnTo>
                        <a:lnTo>
                          <a:pt x="138"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3" name=""/>
                  <p:cNvSpPr/>
                  <p:nvPr/>
                </p:nvSpPr>
                <p:spPr>
                  <a:xfrm>
                    <a:off x="5787720" y="1639800"/>
                    <a:ext cx="11160" cy="38160"/>
                  </a:xfrm>
                  <a:custGeom>
                    <a:avLst/>
                    <a:gdLst/>
                    <a:ahLst/>
                    <a:rect l="l" t="t" r="r" b="b"/>
                    <a:pathLst>
                      <a:path w="35" h="121">
                        <a:moveTo>
                          <a:pt x="17" y="0"/>
                        </a:moveTo>
                        <a:lnTo>
                          <a:pt x="0" y="17"/>
                        </a:lnTo>
                        <a:lnTo>
                          <a:pt x="0" y="121"/>
                        </a:lnTo>
                        <a:lnTo>
                          <a:pt x="35" y="121"/>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4" name=""/>
                  <p:cNvSpPr/>
                  <p:nvPr/>
                </p:nvSpPr>
                <p:spPr>
                  <a:xfrm>
                    <a:off x="5792760" y="1639800"/>
                    <a:ext cx="42840" cy="11160"/>
                  </a:xfrm>
                  <a:custGeom>
                    <a:avLst/>
                    <a:gdLst/>
                    <a:ahLst/>
                    <a:rect l="l" t="t" r="r" b="b"/>
                    <a:pathLst>
                      <a:path w="134" h="35">
                        <a:moveTo>
                          <a:pt x="101" y="16"/>
                        </a:moveTo>
                        <a:lnTo>
                          <a:pt x="118" y="0"/>
                        </a:lnTo>
                        <a:lnTo>
                          <a:pt x="0" y="0"/>
                        </a:lnTo>
                        <a:lnTo>
                          <a:pt x="0" y="35"/>
                        </a:lnTo>
                        <a:lnTo>
                          <a:pt x="118" y="35"/>
                        </a:lnTo>
                        <a:lnTo>
                          <a:pt x="134" y="19"/>
                        </a:lnTo>
                        <a:lnTo>
                          <a:pt x="118" y="35"/>
                        </a:lnTo>
                        <a:lnTo>
                          <a:pt x="133" y="34"/>
                        </a:lnTo>
                        <a:lnTo>
                          <a:pt x="134" y="19"/>
                        </a:lnTo>
                        <a:lnTo>
                          <a:pt x="101"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5825880" y="1627200"/>
                    <a:ext cx="11160" cy="17280"/>
                  </a:xfrm>
                  <a:custGeom>
                    <a:avLst/>
                    <a:gdLst/>
                    <a:ahLst/>
                    <a:rect l="l" t="t" r="r" b="b"/>
                    <a:pathLst>
                      <a:path w="39" h="57">
                        <a:moveTo>
                          <a:pt x="7" y="0"/>
                        </a:moveTo>
                        <a:lnTo>
                          <a:pt x="7" y="3"/>
                        </a:lnTo>
                        <a:lnTo>
                          <a:pt x="0" y="54"/>
                        </a:lnTo>
                        <a:lnTo>
                          <a:pt x="33" y="57"/>
                        </a:lnTo>
                        <a:lnTo>
                          <a:pt x="39" y="5"/>
                        </a:lnTo>
                        <a:lnTo>
                          <a:pt x="39" y="8"/>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6" name=""/>
                  <p:cNvSpPr/>
                  <p:nvPr/>
                </p:nvSpPr>
                <p:spPr>
                  <a:xfrm>
                    <a:off x="5827680" y="1611360"/>
                    <a:ext cx="14040" cy="19080"/>
                  </a:xfrm>
                  <a:custGeom>
                    <a:avLst/>
                    <a:gdLst/>
                    <a:ahLst/>
                    <a:rect l="l" t="t" r="r" b="b"/>
                    <a:pathLst>
                      <a:path w="45" h="59">
                        <a:moveTo>
                          <a:pt x="12" y="0"/>
                        </a:moveTo>
                        <a:lnTo>
                          <a:pt x="12" y="2"/>
                        </a:lnTo>
                        <a:lnTo>
                          <a:pt x="0" y="51"/>
                        </a:lnTo>
                        <a:lnTo>
                          <a:pt x="32" y="59"/>
                        </a:lnTo>
                        <a:lnTo>
                          <a:pt x="45" y="9"/>
                        </a:lnTo>
                        <a:lnTo>
                          <a:pt x="45" y="10"/>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7" name=""/>
                  <p:cNvSpPr/>
                  <p:nvPr/>
                </p:nvSpPr>
                <p:spPr>
                  <a:xfrm>
                    <a:off x="5830920" y="1595520"/>
                    <a:ext cx="15840" cy="19080"/>
                  </a:xfrm>
                  <a:custGeom>
                    <a:avLst/>
                    <a:gdLst/>
                    <a:ahLst/>
                    <a:rect l="l" t="t" r="r" b="b"/>
                    <a:pathLst>
                      <a:path w="50" h="60">
                        <a:moveTo>
                          <a:pt x="19" y="0"/>
                        </a:moveTo>
                        <a:lnTo>
                          <a:pt x="18" y="3"/>
                        </a:lnTo>
                        <a:lnTo>
                          <a:pt x="0" y="50"/>
                        </a:lnTo>
                        <a:lnTo>
                          <a:pt x="33" y="60"/>
                        </a:lnTo>
                        <a:lnTo>
                          <a:pt x="50" y="13"/>
                        </a:lnTo>
                        <a:lnTo>
                          <a:pt x="49" y="15"/>
                        </a:lnTo>
                        <a:lnTo>
                          <a:pt x="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8" name=""/>
                  <p:cNvSpPr/>
                  <p:nvPr/>
                </p:nvSpPr>
                <p:spPr>
                  <a:xfrm>
                    <a:off x="5837040" y="1581120"/>
                    <a:ext cx="19080" cy="19080"/>
                  </a:xfrm>
                  <a:custGeom>
                    <a:avLst/>
                    <a:gdLst/>
                    <a:ahLst/>
                    <a:rect l="l" t="t" r="r" b="b"/>
                    <a:pathLst>
                      <a:path w="60" h="61">
                        <a:moveTo>
                          <a:pt x="27" y="23"/>
                        </a:moveTo>
                        <a:lnTo>
                          <a:pt x="24" y="4"/>
                        </a:lnTo>
                        <a:lnTo>
                          <a:pt x="0" y="46"/>
                        </a:lnTo>
                        <a:lnTo>
                          <a:pt x="30" y="61"/>
                        </a:lnTo>
                        <a:lnTo>
                          <a:pt x="54" y="19"/>
                        </a:lnTo>
                        <a:lnTo>
                          <a:pt x="50" y="0"/>
                        </a:lnTo>
                        <a:lnTo>
                          <a:pt x="54" y="19"/>
                        </a:lnTo>
                        <a:lnTo>
                          <a:pt x="60" y="9"/>
                        </a:lnTo>
                        <a:lnTo>
                          <a:pt x="50" y="0"/>
                        </a:lnTo>
                        <a:lnTo>
                          <a:pt x="27"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9" name=""/>
                  <p:cNvSpPr/>
                  <p:nvPr/>
                </p:nvSpPr>
                <p:spPr>
                  <a:xfrm>
                    <a:off x="5813280" y="1550880"/>
                    <a:ext cx="39600" cy="36720"/>
                  </a:xfrm>
                  <a:custGeom>
                    <a:avLst/>
                    <a:gdLst/>
                    <a:ahLst/>
                    <a:rect l="l" t="t" r="r" b="b"/>
                    <a:pathLst>
                      <a:path w="126" h="114">
                        <a:moveTo>
                          <a:pt x="12" y="0"/>
                        </a:moveTo>
                        <a:lnTo>
                          <a:pt x="12" y="23"/>
                        </a:lnTo>
                        <a:lnTo>
                          <a:pt x="103" y="114"/>
                        </a:lnTo>
                        <a:lnTo>
                          <a:pt x="126" y="91"/>
                        </a:lnTo>
                        <a:lnTo>
                          <a:pt x="35" y="0"/>
                        </a:lnTo>
                        <a:lnTo>
                          <a:pt x="35" y="23"/>
                        </a:lnTo>
                        <a:lnTo>
                          <a:pt x="12" y="0"/>
                        </a:lnTo>
                        <a:lnTo>
                          <a:pt x="0" y="11"/>
                        </a:lnTo>
                        <a:lnTo>
                          <a:pt x="12" y="23"/>
                        </a:lnTo>
                        <a:lnTo>
                          <a:pt x="1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0" name=""/>
                  <p:cNvSpPr/>
                  <p:nvPr/>
                </p:nvSpPr>
                <p:spPr>
                  <a:xfrm>
                    <a:off x="5816520" y="1523880"/>
                    <a:ext cx="31680" cy="34920"/>
                  </a:xfrm>
                  <a:custGeom>
                    <a:avLst/>
                    <a:gdLst/>
                    <a:ahLst/>
                    <a:rect l="l" t="t" r="r" b="b"/>
                    <a:pathLst>
                      <a:path w="96" h="109">
                        <a:moveTo>
                          <a:pt x="96" y="13"/>
                        </a:moveTo>
                        <a:lnTo>
                          <a:pt x="74" y="13"/>
                        </a:lnTo>
                        <a:lnTo>
                          <a:pt x="0" y="86"/>
                        </a:lnTo>
                        <a:lnTo>
                          <a:pt x="23" y="109"/>
                        </a:lnTo>
                        <a:lnTo>
                          <a:pt x="96" y="35"/>
                        </a:lnTo>
                        <a:lnTo>
                          <a:pt x="74" y="35"/>
                        </a:lnTo>
                        <a:lnTo>
                          <a:pt x="96" y="13"/>
                        </a:lnTo>
                        <a:lnTo>
                          <a:pt x="85" y="0"/>
                        </a:lnTo>
                        <a:lnTo>
                          <a:pt x="74" y="13"/>
                        </a:lnTo>
                        <a:lnTo>
                          <a:pt x="96"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1" name=""/>
                  <p:cNvSpPr/>
                  <p:nvPr/>
                </p:nvSpPr>
                <p:spPr>
                  <a:xfrm>
                    <a:off x="5840280" y="1528920"/>
                    <a:ext cx="33480" cy="36360"/>
                  </a:xfrm>
                  <a:custGeom>
                    <a:avLst/>
                    <a:gdLst/>
                    <a:ahLst/>
                    <a:rect l="l" t="t" r="r" b="b"/>
                    <a:pathLst>
                      <a:path w="105" h="117">
                        <a:moveTo>
                          <a:pt x="83" y="81"/>
                        </a:moveTo>
                        <a:lnTo>
                          <a:pt x="105" y="83"/>
                        </a:lnTo>
                        <a:lnTo>
                          <a:pt x="22" y="0"/>
                        </a:lnTo>
                        <a:lnTo>
                          <a:pt x="0" y="22"/>
                        </a:lnTo>
                        <a:lnTo>
                          <a:pt x="82" y="106"/>
                        </a:lnTo>
                        <a:lnTo>
                          <a:pt x="103" y="108"/>
                        </a:lnTo>
                        <a:lnTo>
                          <a:pt x="82" y="106"/>
                        </a:lnTo>
                        <a:lnTo>
                          <a:pt x="92" y="117"/>
                        </a:lnTo>
                        <a:lnTo>
                          <a:pt x="103" y="108"/>
                        </a:lnTo>
                        <a:lnTo>
                          <a:pt x="83"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5867280" y="1542960"/>
                    <a:ext cx="20520" cy="19080"/>
                  </a:xfrm>
                  <a:custGeom>
                    <a:avLst/>
                    <a:gdLst/>
                    <a:ahLst/>
                    <a:rect l="l" t="t" r="r" b="b"/>
                    <a:pathLst>
                      <a:path w="64" h="62">
                        <a:moveTo>
                          <a:pt x="45" y="0"/>
                        </a:moveTo>
                        <a:lnTo>
                          <a:pt x="44" y="1"/>
                        </a:lnTo>
                        <a:lnTo>
                          <a:pt x="0" y="35"/>
                        </a:lnTo>
                        <a:lnTo>
                          <a:pt x="20" y="62"/>
                        </a:lnTo>
                        <a:lnTo>
                          <a:pt x="64" y="28"/>
                        </a:lnTo>
                        <a:lnTo>
                          <a:pt x="63" y="30"/>
                        </a:lnTo>
                        <a:lnTo>
                          <a:pt x="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3" name=""/>
                  <p:cNvSpPr/>
                  <p:nvPr/>
                </p:nvSpPr>
                <p:spPr>
                  <a:xfrm>
                    <a:off x="5881680" y="1533600"/>
                    <a:ext cx="20520" cy="19080"/>
                  </a:xfrm>
                  <a:custGeom>
                    <a:avLst/>
                    <a:gdLst/>
                    <a:ahLst/>
                    <a:rect l="l" t="t" r="r" b="b"/>
                    <a:pathLst>
                      <a:path w="65" h="58">
                        <a:moveTo>
                          <a:pt x="50" y="0"/>
                        </a:moveTo>
                        <a:lnTo>
                          <a:pt x="48" y="0"/>
                        </a:lnTo>
                        <a:lnTo>
                          <a:pt x="0" y="28"/>
                        </a:lnTo>
                        <a:lnTo>
                          <a:pt x="18" y="58"/>
                        </a:lnTo>
                        <a:lnTo>
                          <a:pt x="65" y="30"/>
                        </a:lnTo>
                        <a:lnTo>
                          <a:pt x="63" y="30"/>
                        </a:lnTo>
                        <a:lnTo>
                          <a:pt x="5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a:off x="5897520" y="1527120"/>
                    <a:ext cx="20520" cy="15840"/>
                  </a:xfrm>
                  <a:custGeom>
                    <a:avLst/>
                    <a:gdLst/>
                    <a:ahLst/>
                    <a:rect l="l" t="t" r="r" b="b"/>
                    <a:pathLst>
                      <a:path w="65" h="52">
                        <a:moveTo>
                          <a:pt x="55" y="0"/>
                        </a:moveTo>
                        <a:lnTo>
                          <a:pt x="53" y="1"/>
                        </a:lnTo>
                        <a:lnTo>
                          <a:pt x="0" y="22"/>
                        </a:lnTo>
                        <a:lnTo>
                          <a:pt x="13" y="52"/>
                        </a:lnTo>
                        <a:lnTo>
                          <a:pt x="65" y="31"/>
                        </a:lnTo>
                        <a:lnTo>
                          <a:pt x="63" y="32"/>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5" name=""/>
                  <p:cNvSpPr/>
                  <p:nvPr/>
                </p:nvSpPr>
                <p:spPr>
                  <a:xfrm>
                    <a:off x="5914800" y="1522440"/>
                    <a:ext cx="23760" cy="14400"/>
                  </a:xfrm>
                  <a:custGeom>
                    <a:avLst/>
                    <a:gdLst/>
                    <a:ahLst/>
                    <a:rect l="l" t="t" r="r" b="b"/>
                    <a:pathLst>
                      <a:path w="76" h="45">
                        <a:moveTo>
                          <a:pt x="41" y="17"/>
                        </a:moveTo>
                        <a:lnTo>
                          <a:pt x="55" y="0"/>
                        </a:lnTo>
                        <a:lnTo>
                          <a:pt x="0" y="13"/>
                        </a:lnTo>
                        <a:lnTo>
                          <a:pt x="8" y="45"/>
                        </a:lnTo>
                        <a:lnTo>
                          <a:pt x="62" y="33"/>
                        </a:lnTo>
                        <a:lnTo>
                          <a:pt x="76" y="17"/>
                        </a:lnTo>
                        <a:lnTo>
                          <a:pt x="62" y="33"/>
                        </a:lnTo>
                        <a:lnTo>
                          <a:pt x="76" y="30"/>
                        </a:lnTo>
                        <a:lnTo>
                          <a:pt x="76" y="17"/>
                        </a:lnTo>
                        <a:lnTo>
                          <a:pt x="41"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6" name=""/>
                  <p:cNvSpPr/>
                  <p:nvPr/>
                </p:nvSpPr>
                <p:spPr>
                  <a:xfrm>
                    <a:off x="5927400" y="1486080"/>
                    <a:ext cx="11160" cy="42840"/>
                  </a:xfrm>
                  <a:custGeom>
                    <a:avLst/>
                    <a:gdLst/>
                    <a:ahLst/>
                    <a:rect l="l" t="t" r="r" b="b"/>
                    <a:pathLst>
                      <a:path w="35" h="136">
                        <a:moveTo>
                          <a:pt x="18" y="0"/>
                        </a:moveTo>
                        <a:lnTo>
                          <a:pt x="0" y="17"/>
                        </a:lnTo>
                        <a:lnTo>
                          <a:pt x="0" y="136"/>
                        </a:lnTo>
                        <a:lnTo>
                          <a:pt x="35" y="136"/>
                        </a:lnTo>
                        <a:lnTo>
                          <a:pt x="35" y="17"/>
                        </a:lnTo>
                        <a:lnTo>
                          <a:pt x="18" y="34"/>
                        </a:lnTo>
                        <a:lnTo>
                          <a:pt x="18" y="0"/>
                        </a:lnTo>
                        <a:lnTo>
                          <a:pt x="0" y="0"/>
                        </a:lnTo>
                        <a:lnTo>
                          <a:pt x="0" y="17"/>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5933880" y="1486080"/>
                    <a:ext cx="38160" cy="9360"/>
                  </a:xfrm>
                  <a:custGeom>
                    <a:avLst/>
                    <a:gdLst/>
                    <a:ahLst/>
                    <a:rect l="l" t="t" r="r" b="b"/>
                    <a:pathLst>
                      <a:path w="121" h="34">
                        <a:moveTo>
                          <a:pt x="121" y="17"/>
                        </a:moveTo>
                        <a:lnTo>
                          <a:pt x="103" y="0"/>
                        </a:lnTo>
                        <a:lnTo>
                          <a:pt x="0" y="0"/>
                        </a:lnTo>
                        <a:lnTo>
                          <a:pt x="0" y="34"/>
                        </a:lnTo>
                        <a:lnTo>
                          <a:pt x="103" y="34"/>
                        </a:lnTo>
                        <a:lnTo>
                          <a:pt x="86" y="17"/>
                        </a:lnTo>
                        <a:lnTo>
                          <a:pt x="121" y="17"/>
                        </a:lnTo>
                        <a:lnTo>
                          <a:pt x="121" y="0"/>
                        </a:lnTo>
                        <a:lnTo>
                          <a:pt x="103" y="0"/>
                        </a:lnTo>
                        <a:lnTo>
                          <a:pt x="12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8" name=""/>
                  <p:cNvSpPr/>
                  <p:nvPr/>
                </p:nvSpPr>
                <p:spPr>
                  <a:xfrm>
                    <a:off x="5960880" y="1490760"/>
                    <a:ext cx="11160" cy="42840"/>
                  </a:xfrm>
                  <a:custGeom>
                    <a:avLst/>
                    <a:gdLst/>
                    <a:ahLst/>
                    <a:rect l="l" t="t" r="r" b="b"/>
                    <a:pathLst>
                      <a:path w="35" h="133">
                        <a:moveTo>
                          <a:pt x="18" y="101"/>
                        </a:moveTo>
                        <a:lnTo>
                          <a:pt x="35" y="117"/>
                        </a:lnTo>
                        <a:lnTo>
                          <a:pt x="35" y="0"/>
                        </a:lnTo>
                        <a:lnTo>
                          <a:pt x="0" y="0"/>
                        </a:lnTo>
                        <a:lnTo>
                          <a:pt x="0" y="117"/>
                        </a:lnTo>
                        <a:lnTo>
                          <a:pt x="16" y="133"/>
                        </a:lnTo>
                        <a:lnTo>
                          <a:pt x="0" y="117"/>
                        </a:lnTo>
                        <a:lnTo>
                          <a:pt x="0" y="132"/>
                        </a:lnTo>
                        <a:lnTo>
                          <a:pt x="16" y="133"/>
                        </a:lnTo>
                        <a:lnTo>
                          <a:pt x="18" y="10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9" name=""/>
                  <p:cNvSpPr/>
                  <p:nvPr/>
                </p:nvSpPr>
                <p:spPr>
                  <a:xfrm>
                    <a:off x="5965560" y="1522440"/>
                    <a:ext cx="19080" cy="12600"/>
                  </a:xfrm>
                  <a:custGeom>
                    <a:avLst/>
                    <a:gdLst/>
                    <a:ahLst/>
                    <a:rect l="l" t="t" r="r" b="b"/>
                    <a:pathLst>
                      <a:path w="59" h="40">
                        <a:moveTo>
                          <a:pt x="59" y="8"/>
                        </a:moveTo>
                        <a:lnTo>
                          <a:pt x="56" y="8"/>
                        </a:lnTo>
                        <a:lnTo>
                          <a:pt x="2" y="0"/>
                        </a:lnTo>
                        <a:lnTo>
                          <a:pt x="0" y="32"/>
                        </a:lnTo>
                        <a:lnTo>
                          <a:pt x="54" y="40"/>
                        </a:lnTo>
                        <a:lnTo>
                          <a:pt x="51" y="40"/>
                        </a:lnTo>
                        <a:lnTo>
                          <a:pt x="59"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0" name=""/>
                  <p:cNvSpPr/>
                  <p:nvPr/>
                </p:nvSpPr>
                <p:spPr>
                  <a:xfrm>
                    <a:off x="5981400" y="1525680"/>
                    <a:ext cx="19080" cy="14040"/>
                  </a:xfrm>
                  <a:custGeom>
                    <a:avLst/>
                    <a:gdLst/>
                    <a:ahLst/>
                    <a:rect l="l" t="t" r="r" b="b"/>
                    <a:pathLst>
                      <a:path w="60" h="46">
                        <a:moveTo>
                          <a:pt x="60" y="15"/>
                        </a:moveTo>
                        <a:lnTo>
                          <a:pt x="57" y="13"/>
                        </a:lnTo>
                        <a:lnTo>
                          <a:pt x="8" y="0"/>
                        </a:lnTo>
                        <a:lnTo>
                          <a:pt x="0" y="32"/>
                        </a:lnTo>
                        <a:lnTo>
                          <a:pt x="50" y="46"/>
                        </a:lnTo>
                        <a:lnTo>
                          <a:pt x="47" y="44"/>
                        </a:lnTo>
                        <a:lnTo>
                          <a:pt x="60"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1" name=""/>
                  <p:cNvSpPr/>
                  <p:nvPr/>
                </p:nvSpPr>
                <p:spPr>
                  <a:xfrm>
                    <a:off x="5997600" y="1530360"/>
                    <a:ext cx="18720" cy="15840"/>
                  </a:xfrm>
                  <a:custGeom>
                    <a:avLst/>
                    <a:gdLst/>
                    <a:ahLst/>
                    <a:rect l="l" t="t" r="r" b="b"/>
                    <a:pathLst>
                      <a:path w="64" h="49">
                        <a:moveTo>
                          <a:pt x="64" y="21"/>
                        </a:moveTo>
                        <a:lnTo>
                          <a:pt x="62" y="19"/>
                        </a:lnTo>
                        <a:lnTo>
                          <a:pt x="13" y="0"/>
                        </a:lnTo>
                        <a:lnTo>
                          <a:pt x="0" y="29"/>
                        </a:lnTo>
                        <a:lnTo>
                          <a:pt x="49" y="49"/>
                        </a:lnTo>
                        <a:lnTo>
                          <a:pt x="47" y="48"/>
                        </a:lnTo>
                        <a:lnTo>
                          <a:pt x="64"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2" name=""/>
                  <p:cNvSpPr/>
                  <p:nvPr/>
                </p:nvSpPr>
                <p:spPr>
                  <a:xfrm>
                    <a:off x="6011640" y="1536840"/>
                    <a:ext cx="20880" cy="19080"/>
                  </a:xfrm>
                  <a:custGeom>
                    <a:avLst/>
                    <a:gdLst/>
                    <a:ahLst/>
                    <a:rect l="l" t="t" r="r" b="b"/>
                    <a:pathLst>
                      <a:path w="64" h="62">
                        <a:moveTo>
                          <a:pt x="39" y="30"/>
                        </a:moveTo>
                        <a:lnTo>
                          <a:pt x="61" y="27"/>
                        </a:lnTo>
                        <a:lnTo>
                          <a:pt x="17" y="0"/>
                        </a:lnTo>
                        <a:lnTo>
                          <a:pt x="0" y="27"/>
                        </a:lnTo>
                        <a:lnTo>
                          <a:pt x="43" y="55"/>
                        </a:lnTo>
                        <a:lnTo>
                          <a:pt x="64" y="52"/>
                        </a:lnTo>
                        <a:lnTo>
                          <a:pt x="43" y="55"/>
                        </a:lnTo>
                        <a:lnTo>
                          <a:pt x="54" y="62"/>
                        </a:lnTo>
                        <a:lnTo>
                          <a:pt x="64" y="52"/>
                        </a:lnTo>
                        <a:lnTo>
                          <a:pt x="39" y="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3" name=""/>
                  <p:cNvSpPr/>
                  <p:nvPr/>
                </p:nvSpPr>
                <p:spPr>
                  <a:xfrm>
                    <a:off x="6024240" y="1515960"/>
                    <a:ext cx="33480" cy="36720"/>
                  </a:xfrm>
                  <a:custGeom>
                    <a:avLst/>
                    <a:gdLst/>
                    <a:ahLst/>
                    <a:rect l="l" t="t" r="r" b="b"/>
                    <a:pathLst>
                      <a:path w="105" h="117">
                        <a:moveTo>
                          <a:pt x="104" y="12"/>
                        </a:moveTo>
                        <a:lnTo>
                          <a:pt x="80" y="12"/>
                        </a:lnTo>
                        <a:lnTo>
                          <a:pt x="0" y="95"/>
                        </a:lnTo>
                        <a:lnTo>
                          <a:pt x="25" y="117"/>
                        </a:lnTo>
                        <a:lnTo>
                          <a:pt x="105" y="35"/>
                        </a:lnTo>
                        <a:lnTo>
                          <a:pt x="82" y="35"/>
                        </a:lnTo>
                        <a:lnTo>
                          <a:pt x="104" y="12"/>
                        </a:lnTo>
                        <a:lnTo>
                          <a:pt x="93" y="0"/>
                        </a:lnTo>
                        <a:lnTo>
                          <a:pt x="80" y="12"/>
                        </a:lnTo>
                        <a:lnTo>
                          <a:pt x="104" y="1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4" name=""/>
                  <p:cNvSpPr/>
                  <p:nvPr/>
                </p:nvSpPr>
                <p:spPr>
                  <a:xfrm>
                    <a:off x="6049800" y="1519200"/>
                    <a:ext cx="34920" cy="31680"/>
                  </a:xfrm>
                  <a:custGeom>
                    <a:avLst/>
                    <a:gdLst/>
                    <a:ahLst/>
                    <a:rect l="l" t="t" r="r" b="b"/>
                    <a:pathLst>
                      <a:path w="107" h="96">
                        <a:moveTo>
                          <a:pt x="94" y="96"/>
                        </a:moveTo>
                        <a:lnTo>
                          <a:pt x="94" y="74"/>
                        </a:lnTo>
                        <a:lnTo>
                          <a:pt x="22" y="0"/>
                        </a:lnTo>
                        <a:lnTo>
                          <a:pt x="0" y="23"/>
                        </a:lnTo>
                        <a:lnTo>
                          <a:pt x="72" y="96"/>
                        </a:lnTo>
                        <a:lnTo>
                          <a:pt x="72" y="74"/>
                        </a:lnTo>
                        <a:lnTo>
                          <a:pt x="94" y="96"/>
                        </a:lnTo>
                        <a:lnTo>
                          <a:pt x="107" y="85"/>
                        </a:lnTo>
                        <a:lnTo>
                          <a:pt x="94" y="74"/>
                        </a:lnTo>
                        <a:lnTo>
                          <a:pt x="94"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15" name=""/>
                  <p:cNvSpPr/>
                  <p:nvPr/>
                </p:nvSpPr>
                <p:spPr>
                  <a:xfrm>
                    <a:off x="6045120" y="1542960"/>
                    <a:ext cx="34920" cy="31680"/>
                  </a:xfrm>
                  <a:custGeom>
                    <a:avLst/>
                    <a:gdLst/>
                    <a:ahLst/>
                    <a:rect l="l" t="t" r="r" b="b"/>
                    <a:pathLst>
                      <a:path w="109" h="100">
                        <a:moveTo>
                          <a:pt x="36" y="79"/>
                        </a:moveTo>
                        <a:lnTo>
                          <a:pt x="33" y="100"/>
                        </a:lnTo>
                        <a:lnTo>
                          <a:pt x="109" y="22"/>
                        </a:lnTo>
                        <a:lnTo>
                          <a:pt x="87" y="0"/>
                        </a:lnTo>
                        <a:lnTo>
                          <a:pt x="11" y="77"/>
                        </a:lnTo>
                        <a:lnTo>
                          <a:pt x="8" y="98"/>
                        </a:lnTo>
                        <a:lnTo>
                          <a:pt x="11" y="77"/>
                        </a:lnTo>
                        <a:lnTo>
                          <a:pt x="0" y="87"/>
                        </a:lnTo>
                        <a:lnTo>
                          <a:pt x="8" y="98"/>
                        </a:lnTo>
                        <a:lnTo>
                          <a:pt x="36" y="7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16" name=""/>
                  <p:cNvSpPr/>
                  <p:nvPr/>
                </p:nvSpPr>
                <p:spPr>
                  <a:xfrm>
                    <a:off x="6048360" y="1568520"/>
                    <a:ext cx="21960" cy="23760"/>
                  </a:xfrm>
                  <a:custGeom>
                    <a:avLst/>
                    <a:gdLst/>
                    <a:ahLst/>
                    <a:rect l="l" t="t" r="r" b="b"/>
                    <a:pathLst>
                      <a:path w="69" h="74">
                        <a:moveTo>
                          <a:pt x="69" y="58"/>
                        </a:moveTo>
                        <a:lnTo>
                          <a:pt x="68" y="54"/>
                        </a:lnTo>
                        <a:lnTo>
                          <a:pt x="28" y="0"/>
                        </a:lnTo>
                        <a:lnTo>
                          <a:pt x="0" y="19"/>
                        </a:lnTo>
                        <a:lnTo>
                          <a:pt x="40" y="74"/>
                        </a:lnTo>
                        <a:lnTo>
                          <a:pt x="39" y="71"/>
                        </a:lnTo>
                        <a:lnTo>
                          <a:pt x="69" y="58"/>
                        </a:lnTo>
                        <a:lnTo>
                          <a:pt x="69" y="56"/>
                        </a:lnTo>
                        <a:lnTo>
                          <a:pt x="68" y="54"/>
                        </a:lnTo>
                        <a:lnTo>
                          <a:pt x="69" y="5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7" name=""/>
                  <p:cNvSpPr/>
                  <p:nvPr/>
                </p:nvSpPr>
                <p:spPr>
                  <a:xfrm>
                    <a:off x="6060960" y="1587600"/>
                    <a:ext cx="19080" cy="23760"/>
                  </a:xfrm>
                  <a:custGeom>
                    <a:avLst/>
                    <a:gdLst/>
                    <a:ahLst/>
                    <a:rect l="l" t="t" r="r" b="b"/>
                    <a:pathLst>
                      <a:path w="60" h="75">
                        <a:moveTo>
                          <a:pt x="60" y="65"/>
                        </a:moveTo>
                        <a:lnTo>
                          <a:pt x="59" y="63"/>
                        </a:lnTo>
                        <a:lnTo>
                          <a:pt x="30" y="0"/>
                        </a:lnTo>
                        <a:lnTo>
                          <a:pt x="0" y="13"/>
                        </a:lnTo>
                        <a:lnTo>
                          <a:pt x="29" y="75"/>
                        </a:lnTo>
                        <a:lnTo>
                          <a:pt x="27" y="73"/>
                        </a:lnTo>
                        <a:lnTo>
                          <a:pt x="60" y="6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8" name=""/>
                  <p:cNvSpPr/>
                  <p:nvPr/>
                </p:nvSpPr>
                <p:spPr>
                  <a:xfrm>
                    <a:off x="6068880" y="1608120"/>
                    <a:ext cx="15840" cy="23760"/>
                  </a:xfrm>
                  <a:custGeom>
                    <a:avLst/>
                    <a:gdLst/>
                    <a:ahLst/>
                    <a:rect l="l" t="t" r="r" b="b"/>
                    <a:pathLst>
                      <a:path w="50" h="75">
                        <a:moveTo>
                          <a:pt x="50" y="70"/>
                        </a:moveTo>
                        <a:lnTo>
                          <a:pt x="50" y="67"/>
                        </a:lnTo>
                        <a:lnTo>
                          <a:pt x="33" y="0"/>
                        </a:lnTo>
                        <a:lnTo>
                          <a:pt x="0" y="8"/>
                        </a:lnTo>
                        <a:lnTo>
                          <a:pt x="18" y="75"/>
                        </a:lnTo>
                        <a:lnTo>
                          <a:pt x="18" y="72"/>
                        </a:lnTo>
                        <a:lnTo>
                          <a:pt x="50" y="7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9" name=""/>
                  <p:cNvSpPr/>
                  <p:nvPr/>
                </p:nvSpPr>
                <p:spPr>
                  <a:xfrm>
                    <a:off x="6075360" y="1630440"/>
                    <a:ext cx="10800" cy="23760"/>
                  </a:xfrm>
                  <a:custGeom>
                    <a:avLst/>
                    <a:gdLst/>
                    <a:ahLst/>
                    <a:rect l="l" t="t" r="r" b="b"/>
                    <a:pathLst>
                      <a:path w="39" h="75">
                        <a:moveTo>
                          <a:pt x="39" y="75"/>
                        </a:moveTo>
                        <a:lnTo>
                          <a:pt x="39" y="72"/>
                        </a:lnTo>
                        <a:lnTo>
                          <a:pt x="32" y="0"/>
                        </a:lnTo>
                        <a:lnTo>
                          <a:pt x="0" y="2"/>
                        </a:lnTo>
                        <a:lnTo>
                          <a:pt x="6" y="75"/>
                        </a:lnTo>
                        <a:lnTo>
                          <a:pt x="6" y="72"/>
                        </a:lnTo>
                        <a:lnTo>
                          <a:pt x="39" y="7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0" name=""/>
                  <p:cNvSpPr/>
                  <p:nvPr/>
                </p:nvSpPr>
                <p:spPr>
                  <a:xfrm>
                    <a:off x="6075360" y="1652760"/>
                    <a:ext cx="10800" cy="25200"/>
                  </a:xfrm>
                  <a:custGeom>
                    <a:avLst/>
                    <a:gdLst/>
                    <a:ahLst/>
                    <a:rect l="l" t="t" r="r" b="b"/>
                    <a:pathLst>
                      <a:path w="39" h="80">
                        <a:moveTo>
                          <a:pt x="32" y="80"/>
                        </a:moveTo>
                        <a:lnTo>
                          <a:pt x="32" y="78"/>
                        </a:lnTo>
                        <a:lnTo>
                          <a:pt x="39" y="3"/>
                        </a:lnTo>
                        <a:lnTo>
                          <a:pt x="6" y="0"/>
                        </a:lnTo>
                        <a:lnTo>
                          <a:pt x="0" y="75"/>
                        </a:lnTo>
                        <a:lnTo>
                          <a:pt x="0" y="73"/>
                        </a:lnTo>
                        <a:lnTo>
                          <a:pt x="32" y="80"/>
                        </a:lnTo>
                        <a:lnTo>
                          <a:pt x="32" y="79"/>
                        </a:lnTo>
                        <a:lnTo>
                          <a:pt x="32" y="78"/>
                        </a:lnTo>
                        <a:lnTo>
                          <a:pt x="32" y="8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1" name=""/>
                  <p:cNvSpPr/>
                  <p:nvPr/>
                </p:nvSpPr>
                <p:spPr>
                  <a:xfrm>
                    <a:off x="6068880" y="1676520"/>
                    <a:ext cx="15840" cy="25200"/>
                  </a:xfrm>
                  <a:custGeom>
                    <a:avLst/>
                    <a:gdLst/>
                    <a:ahLst/>
                    <a:rect l="l" t="t" r="r" b="b"/>
                    <a:pathLst>
                      <a:path w="52" h="81">
                        <a:moveTo>
                          <a:pt x="31" y="81"/>
                        </a:moveTo>
                        <a:lnTo>
                          <a:pt x="32" y="77"/>
                        </a:lnTo>
                        <a:lnTo>
                          <a:pt x="52" y="7"/>
                        </a:lnTo>
                        <a:lnTo>
                          <a:pt x="20" y="0"/>
                        </a:lnTo>
                        <a:lnTo>
                          <a:pt x="0" y="69"/>
                        </a:lnTo>
                        <a:lnTo>
                          <a:pt x="1" y="66"/>
                        </a:lnTo>
                        <a:lnTo>
                          <a:pt x="31" y="81"/>
                        </a:lnTo>
                        <a:lnTo>
                          <a:pt x="32" y="79"/>
                        </a:lnTo>
                        <a:lnTo>
                          <a:pt x="32" y="77"/>
                        </a:lnTo>
                        <a:lnTo>
                          <a:pt x="31" y="8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2" name=""/>
                  <p:cNvSpPr/>
                  <p:nvPr/>
                </p:nvSpPr>
                <p:spPr>
                  <a:xfrm>
                    <a:off x="6059520" y="1697040"/>
                    <a:ext cx="18720" cy="25560"/>
                  </a:xfrm>
                  <a:custGeom>
                    <a:avLst/>
                    <a:gdLst/>
                    <a:ahLst/>
                    <a:rect l="l" t="t" r="r" b="b"/>
                    <a:pathLst>
                      <a:path w="61" h="80">
                        <a:moveTo>
                          <a:pt x="29" y="80"/>
                        </a:moveTo>
                        <a:lnTo>
                          <a:pt x="30" y="77"/>
                        </a:lnTo>
                        <a:lnTo>
                          <a:pt x="61" y="15"/>
                        </a:lnTo>
                        <a:lnTo>
                          <a:pt x="31" y="0"/>
                        </a:lnTo>
                        <a:lnTo>
                          <a:pt x="0" y="62"/>
                        </a:lnTo>
                        <a:lnTo>
                          <a:pt x="1" y="60"/>
                        </a:lnTo>
                        <a:lnTo>
                          <a:pt x="29" y="80"/>
                        </a:lnTo>
                        <a:lnTo>
                          <a:pt x="29" y="78"/>
                        </a:lnTo>
                        <a:lnTo>
                          <a:pt x="30" y="77"/>
                        </a:lnTo>
                        <a:lnTo>
                          <a:pt x="29"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3" name=""/>
                  <p:cNvSpPr/>
                  <p:nvPr/>
                </p:nvSpPr>
                <p:spPr>
                  <a:xfrm>
                    <a:off x="6045120" y="1716120"/>
                    <a:ext cx="22320" cy="23760"/>
                  </a:xfrm>
                  <a:custGeom>
                    <a:avLst/>
                    <a:gdLst/>
                    <a:ahLst/>
                    <a:rect l="l" t="t" r="r" b="b"/>
                    <a:pathLst>
                      <a:path w="70" h="78">
                        <a:moveTo>
                          <a:pt x="25" y="78"/>
                        </a:moveTo>
                        <a:lnTo>
                          <a:pt x="27" y="76"/>
                        </a:lnTo>
                        <a:lnTo>
                          <a:pt x="70" y="20"/>
                        </a:lnTo>
                        <a:lnTo>
                          <a:pt x="42" y="0"/>
                        </a:lnTo>
                        <a:lnTo>
                          <a:pt x="0" y="56"/>
                        </a:lnTo>
                        <a:lnTo>
                          <a:pt x="2" y="53"/>
                        </a:lnTo>
                        <a:lnTo>
                          <a:pt x="25" y="78"/>
                        </a:lnTo>
                        <a:lnTo>
                          <a:pt x="26" y="77"/>
                        </a:lnTo>
                        <a:lnTo>
                          <a:pt x="27" y="76"/>
                        </a:lnTo>
                        <a:lnTo>
                          <a:pt x="25" y="7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4" name=""/>
                  <p:cNvSpPr/>
                  <p:nvPr/>
                </p:nvSpPr>
                <p:spPr>
                  <a:xfrm>
                    <a:off x="6029280" y="1731960"/>
                    <a:ext cx="23760" cy="23760"/>
                  </a:xfrm>
                  <a:custGeom>
                    <a:avLst/>
                    <a:gdLst/>
                    <a:ahLst/>
                    <a:rect l="l" t="t" r="r" b="b"/>
                    <a:pathLst>
                      <a:path w="75" h="74">
                        <a:moveTo>
                          <a:pt x="20" y="74"/>
                        </a:moveTo>
                        <a:lnTo>
                          <a:pt x="22" y="73"/>
                        </a:lnTo>
                        <a:lnTo>
                          <a:pt x="75" y="25"/>
                        </a:lnTo>
                        <a:lnTo>
                          <a:pt x="52" y="0"/>
                        </a:lnTo>
                        <a:lnTo>
                          <a:pt x="0" y="48"/>
                        </a:lnTo>
                        <a:lnTo>
                          <a:pt x="2" y="46"/>
                        </a:lnTo>
                        <a:lnTo>
                          <a:pt x="20" y="74"/>
                        </a:lnTo>
                        <a:lnTo>
                          <a:pt x="21" y="74"/>
                        </a:lnTo>
                        <a:lnTo>
                          <a:pt x="22" y="73"/>
                        </a:lnTo>
                        <a:lnTo>
                          <a:pt x="20" y="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011640" y="1747800"/>
                    <a:ext cx="23760" cy="20520"/>
                  </a:xfrm>
                  <a:custGeom>
                    <a:avLst/>
                    <a:gdLst/>
                    <a:ahLst/>
                    <a:rect l="l" t="t" r="r" b="b"/>
                    <a:pathLst>
                      <a:path w="77" h="68">
                        <a:moveTo>
                          <a:pt x="15" y="68"/>
                        </a:moveTo>
                        <a:lnTo>
                          <a:pt x="17" y="65"/>
                        </a:lnTo>
                        <a:lnTo>
                          <a:pt x="77" y="28"/>
                        </a:lnTo>
                        <a:lnTo>
                          <a:pt x="59" y="0"/>
                        </a:lnTo>
                        <a:lnTo>
                          <a:pt x="0" y="38"/>
                        </a:lnTo>
                        <a:lnTo>
                          <a:pt x="2" y="35"/>
                        </a:lnTo>
                        <a:lnTo>
                          <a:pt x="15" y="68"/>
                        </a:lnTo>
                        <a:lnTo>
                          <a:pt x="16" y="67"/>
                        </a:lnTo>
                        <a:lnTo>
                          <a:pt x="17" y="65"/>
                        </a:lnTo>
                        <a:lnTo>
                          <a:pt x="1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6" name=""/>
                  <p:cNvSpPr/>
                  <p:nvPr/>
                </p:nvSpPr>
                <p:spPr>
                  <a:xfrm>
                    <a:off x="5991120" y="1758960"/>
                    <a:ext cx="25200" cy="17280"/>
                  </a:xfrm>
                  <a:custGeom>
                    <a:avLst/>
                    <a:gdLst/>
                    <a:ahLst/>
                    <a:rect l="l" t="t" r="r" b="b"/>
                    <a:pathLst>
                      <a:path w="79" h="59">
                        <a:moveTo>
                          <a:pt x="9" y="59"/>
                        </a:moveTo>
                        <a:lnTo>
                          <a:pt x="12" y="59"/>
                        </a:lnTo>
                        <a:lnTo>
                          <a:pt x="79" y="33"/>
                        </a:lnTo>
                        <a:lnTo>
                          <a:pt x="66" y="0"/>
                        </a:lnTo>
                        <a:lnTo>
                          <a:pt x="0" y="27"/>
                        </a:lnTo>
                        <a:lnTo>
                          <a:pt x="4" y="27"/>
                        </a:lnTo>
                        <a:lnTo>
                          <a:pt x="9" y="5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7" name=""/>
                  <p:cNvSpPr/>
                  <p:nvPr/>
                </p:nvSpPr>
                <p:spPr>
                  <a:xfrm>
                    <a:off x="5965560" y="1766880"/>
                    <a:ext cx="28800" cy="14400"/>
                  </a:xfrm>
                  <a:custGeom>
                    <a:avLst/>
                    <a:gdLst/>
                    <a:ahLst/>
                    <a:rect l="l" t="t" r="r" b="b"/>
                    <a:pathLst>
                      <a:path w="91" h="47">
                        <a:moveTo>
                          <a:pt x="32" y="31"/>
                        </a:moveTo>
                        <a:lnTo>
                          <a:pt x="18" y="47"/>
                        </a:lnTo>
                        <a:lnTo>
                          <a:pt x="91" y="32"/>
                        </a:lnTo>
                        <a:lnTo>
                          <a:pt x="86" y="0"/>
                        </a:lnTo>
                        <a:lnTo>
                          <a:pt x="13" y="15"/>
                        </a:lnTo>
                        <a:lnTo>
                          <a:pt x="0" y="31"/>
                        </a:lnTo>
                        <a:lnTo>
                          <a:pt x="13" y="15"/>
                        </a:lnTo>
                        <a:lnTo>
                          <a:pt x="0" y="17"/>
                        </a:lnTo>
                        <a:lnTo>
                          <a:pt x="0" y="31"/>
                        </a:lnTo>
                        <a:lnTo>
                          <a:pt x="32"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5967360" y="1547640"/>
                    <a:ext cx="83880" cy="88920"/>
                  </a:xfrm>
                  <a:custGeom>
                    <a:avLst/>
                    <a:gdLst/>
                    <a:ahLst/>
                    <a:rect l="l" t="t" r="r" b="b"/>
                    <a:pathLst>
                      <a:path w="265" h="277">
                        <a:moveTo>
                          <a:pt x="265" y="277"/>
                        </a:moveTo>
                        <a:lnTo>
                          <a:pt x="253" y="226"/>
                        </a:lnTo>
                        <a:lnTo>
                          <a:pt x="235" y="178"/>
                        </a:lnTo>
                        <a:lnTo>
                          <a:pt x="210" y="133"/>
                        </a:lnTo>
                        <a:lnTo>
                          <a:pt x="177" y="95"/>
                        </a:lnTo>
                        <a:lnTo>
                          <a:pt x="140" y="61"/>
                        </a:lnTo>
                        <a:lnTo>
                          <a:pt x="97" y="34"/>
                        </a:lnTo>
                        <a:lnTo>
                          <a:pt x="51" y="12"/>
                        </a:lnTo>
                        <a:lnTo>
                          <a:pt x="0" y="0"/>
                        </a:lnTo>
                        <a:lnTo>
                          <a:pt x="1" y="277"/>
                        </a:lnTo>
                        <a:lnTo>
                          <a:pt x="265" y="277"/>
                        </a:lnTo>
                        <a:close/>
                      </a:path>
                    </a:pathLst>
                  </a:custGeom>
                  <a:solidFill>
                    <a:srgbClr val="ffff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6043320" y="1617840"/>
                    <a:ext cx="12960" cy="18720"/>
                  </a:xfrm>
                  <a:custGeom>
                    <a:avLst/>
                    <a:gdLst/>
                    <a:ahLst/>
                    <a:rect l="l" t="t" r="r" b="b"/>
                    <a:pathLst>
                      <a:path w="44" h="60">
                        <a:moveTo>
                          <a:pt x="0" y="13"/>
                        </a:moveTo>
                        <a:lnTo>
                          <a:pt x="0" y="9"/>
                        </a:lnTo>
                        <a:lnTo>
                          <a:pt x="11" y="60"/>
                        </a:lnTo>
                        <a:lnTo>
                          <a:pt x="44" y="55"/>
                        </a:lnTo>
                        <a:lnTo>
                          <a:pt x="33" y="4"/>
                        </a:lnTo>
                        <a:lnTo>
                          <a:pt x="33" y="0"/>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0" name=""/>
                  <p:cNvSpPr/>
                  <p:nvPr/>
                </p:nvSpPr>
                <p:spPr>
                  <a:xfrm>
                    <a:off x="6037200" y="1601640"/>
                    <a:ext cx="15840" cy="20880"/>
                  </a:xfrm>
                  <a:custGeom>
                    <a:avLst/>
                    <a:gdLst/>
                    <a:ahLst/>
                    <a:rect l="l" t="t" r="r" b="b"/>
                    <a:pathLst>
                      <a:path w="52" h="61">
                        <a:moveTo>
                          <a:pt x="2" y="15"/>
                        </a:moveTo>
                        <a:lnTo>
                          <a:pt x="0" y="14"/>
                        </a:lnTo>
                        <a:lnTo>
                          <a:pt x="19" y="61"/>
                        </a:lnTo>
                        <a:lnTo>
                          <a:pt x="52" y="48"/>
                        </a:lnTo>
                        <a:lnTo>
                          <a:pt x="33" y="1"/>
                        </a:lnTo>
                        <a:lnTo>
                          <a:pt x="32" y="0"/>
                        </a:lnTo>
                        <a:lnTo>
                          <a:pt x="2"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1" name=""/>
                  <p:cNvSpPr/>
                  <p:nvPr/>
                </p:nvSpPr>
                <p:spPr>
                  <a:xfrm>
                    <a:off x="6029280" y="1587600"/>
                    <a:ext cx="17280" cy="19080"/>
                  </a:xfrm>
                  <a:custGeom>
                    <a:avLst/>
                    <a:gdLst/>
                    <a:ahLst/>
                    <a:rect l="l" t="t" r="r" b="b"/>
                    <a:pathLst>
                      <a:path w="55" h="63">
                        <a:moveTo>
                          <a:pt x="2" y="20"/>
                        </a:moveTo>
                        <a:lnTo>
                          <a:pt x="0" y="18"/>
                        </a:lnTo>
                        <a:lnTo>
                          <a:pt x="25" y="63"/>
                        </a:lnTo>
                        <a:lnTo>
                          <a:pt x="55" y="48"/>
                        </a:lnTo>
                        <a:lnTo>
                          <a:pt x="30" y="3"/>
                        </a:lnTo>
                        <a:lnTo>
                          <a:pt x="27" y="0"/>
                        </a:lnTo>
                        <a:lnTo>
                          <a:pt x="30" y="3"/>
                        </a:lnTo>
                        <a:lnTo>
                          <a:pt x="28" y="2"/>
                        </a:lnTo>
                        <a:lnTo>
                          <a:pt x="27" y="0"/>
                        </a:lnTo>
                        <a:lnTo>
                          <a:pt x="2" y="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2" name=""/>
                  <p:cNvSpPr/>
                  <p:nvPr/>
                </p:nvSpPr>
                <p:spPr>
                  <a:xfrm>
                    <a:off x="6019560" y="1574640"/>
                    <a:ext cx="19080" cy="19080"/>
                  </a:xfrm>
                  <a:custGeom>
                    <a:avLst/>
                    <a:gdLst/>
                    <a:ahLst/>
                    <a:rect l="l" t="t" r="r" b="b"/>
                    <a:pathLst>
                      <a:path w="57" h="61">
                        <a:moveTo>
                          <a:pt x="1" y="25"/>
                        </a:moveTo>
                        <a:lnTo>
                          <a:pt x="0" y="23"/>
                        </a:lnTo>
                        <a:lnTo>
                          <a:pt x="32" y="61"/>
                        </a:lnTo>
                        <a:lnTo>
                          <a:pt x="57" y="41"/>
                        </a:lnTo>
                        <a:lnTo>
                          <a:pt x="25" y="3"/>
                        </a:lnTo>
                        <a:lnTo>
                          <a:pt x="23" y="0"/>
                        </a:lnTo>
                        <a:lnTo>
                          <a:pt x="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3" name=""/>
                  <p:cNvSpPr/>
                  <p:nvPr/>
                </p:nvSpPr>
                <p:spPr>
                  <a:xfrm>
                    <a:off x="6008400" y="1563840"/>
                    <a:ext cx="19080" cy="18720"/>
                  </a:xfrm>
                  <a:custGeom>
                    <a:avLst/>
                    <a:gdLst/>
                    <a:ahLst/>
                    <a:rect l="l" t="t" r="r" b="b"/>
                    <a:pathLst>
                      <a:path w="59" h="60">
                        <a:moveTo>
                          <a:pt x="2" y="28"/>
                        </a:moveTo>
                        <a:lnTo>
                          <a:pt x="0" y="27"/>
                        </a:lnTo>
                        <a:lnTo>
                          <a:pt x="37" y="60"/>
                        </a:lnTo>
                        <a:lnTo>
                          <a:pt x="59" y="35"/>
                        </a:lnTo>
                        <a:lnTo>
                          <a:pt x="22" y="2"/>
                        </a:lnTo>
                        <a:lnTo>
                          <a:pt x="20" y="0"/>
                        </a:lnTo>
                        <a:lnTo>
                          <a:pt x="2"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4" name=""/>
                  <p:cNvSpPr/>
                  <p:nvPr/>
                </p:nvSpPr>
                <p:spPr>
                  <a:xfrm>
                    <a:off x="5995800" y="1554120"/>
                    <a:ext cx="19080" cy="17640"/>
                  </a:xfrm>
                  <a:custGeom>
                    <a:avLst/>
                    <a:gdLst/>
                    <a:ahLst/>
                    <a:rect l="l" t="t" r="r" b="b"/>
                    <a:pathLst>
                      <a:path w="60" h="56">
                        <a:moveTo>
                          <a:pt x="2" y="30"/>
                        </a:moveTo>
                        <a:lnTo>
                          <a:pt x="0" y="28"/>
                        </a:lnTo>
                        <a:lnTo>
                          <a:pt x="42" y="56"/>
                        </a:lnTo>
                        <a:lnTo>
                          <a:pt x="60" y="28"/>
                        </a:lnTo>
                        <a:lnTo>
                          <a:pt x="17" y="1"/>
                        </a:lnTo>
                        <a:lnTo>
                          <a:pt x="15" y="0"/>
                        </a:lnTo>
                        <a:lnTo>
                          <a:pt x="2"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5" name=""/>
                  <p:cNvSpPr/>
                  <p:nvPr/>
                </p:nvSpPr>
                <p:spPr>
                  <a:xfrm>
                    <a:off x="5981400" y="1546200"/>
                    <a:ext cx="19080" cy="17640"/>
                  </a:xfrm>
                  <a:custGeom>
                    <a:avLst/>
                    <a:gdLst/>
                    <a:ahLst/>
                    <a:rect l="l" t="t" r="r" b="b"/>
                    <a:pathLst>
                      <a:path w="59" h="53">
                        <a:moveTo>
                          <a:pt x="3" y="33"/>
                        </a:moveTo>
                        <a:lnTo>
                          <a:pt x="0" y="31"/>
                        </a:lnTo>
                        <a:lnTo>
                          <a:pt x="46" y="53"/>
                        </a:lnTo>
                        <a:lnTo>
                          <a:pt x="59" y="23"/>
                        </a:lnTo>
                        <a:lnTo>
                          <a:pt x="13" y="1"/>
                        </a:lnTo>
                        <a:lnTo>
                          <a:pt x="10" y="0"/>
                        </a:lnTo>
                        <a:lnTo>
                          <a:pt x="13" y="1"/>
                        </a:lnTo>
                        <a:lnTo>
                          <a:pt x="11" y="0"/>
                        </a:lnTo>
                        <a:lnTo>
                          <a:pt x="10" y="0"/>
                        </a:lnTo>
                        <a:lnTo>
                          <a:pt x="3" y="3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6" name=""/>
                  <p:cNvSpPr/>
                  <p:nvPr/>
                </p:nvSpPr>
                <p:spPr>
                  <a:xfrm>
                    <a:off x="5962680" y="1541520"/>
                    <a:ext cx="21960" cy="15840"/>
                  </a:xfrm>
                  <a:custGeom>
                    <a:avLst/>
                    <a:gdLst/>
                    <a:ahLst/>
                    <a:rect l="l" t="t" r="r" b="b"/>
                    <a:pathLst>
                      <a:path w="72" h="50">
                        <a:moveTo>
                          <a:pt x="35" y="21"/>
                        </a:moveTo>
                        <a:lnTo>
                          <a:pt x="13" y="37"/>
                        </a:lnTo>
                        <a:lnTo>
                          <a:pt x="65" y="50"/>
                        </a:lnTo>
                        <a:lnTo>
                          <a:pt x="72" y="17"/>
                        </a:lnTo>
                        <a:lnTo>
                          <a:pt x="21" y="5"/>
                        </a:lnTo>
                        <a:lnTo>
                          <a:pt x="0" y="21"/>
                        </a:lnTo>
                        <a:lnTo>
                          <a:pt x="21" y="5"/>
                        </a:lnTo>
                        <a:lnTo>
                          <a:pt x="0" y="0"/>
                        </a:lnTo>
                        <a:lnTo>
                          <a:pt x="0" y="21"/>
                        </a:lnTo>
                        <a:lnTo>
                          <a:pt x="35"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7" name=""/>
                  <p:cNvSpPr/>
                  <p:nvPr/>
                </p:nvSpPr>
                <p:spPr>
                  <a:xfrm>
                    <a:off x="5962680" y="1547640"/>
                    <a:ext cx="10800" cy="93960"/>
                  </a:xfrm>
                  <a:custGeom>
                    <a:avLst/>
                    <a:gdLst/>
                    <a:ahLst/>
                    <a:rect l="l" t="t" r="r" b="b"/>
                    <a:pathLst>
                      <a:path w="36" h="294">
                        <a:moveTo>
                          <a:pt x="18" y="259"/>
                        </a:moveTo>
                        <a:lnTo>
                          <a:pt x="36" y="277"/>
                        </a:lnTo>
                        <a:lnTo>
                          <a:pt x="35" y="0"/>
                        </a:lnTo>
                        <a:lnTo>
                          <a:pt x="0" y="0"/>
                        </a:lnTo>
                        <a:lnTo>
                          <a:pt x="1" y="277"/>
                        </a:lnTo>
                        <a:lnTo>
                          <a:pt x="18" y="294"/>
                        </a:lnTo>
                        <a:lnTo>
                          <a:pt x="1" y="277"/>
                        </a:lnTo>
                        <a:lnTo>
                          <a:pt x="2" y="293"/>
                        </a:lnTo>
                        <a:lnTo>
                          <a:pt x="18" y="294"/>
                        </a:lnTo>
                        <a:lnTo>
                          <a:pt x="18"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967360" y="1630440"/>
                    <a:ext cx="90360" cy="11160"/>
                  </a:xfrm>
                  <a:custGeom>
                    <a:avLst/>
                    <a:gdLst/>
                    <a:ahLst/>
                    <a:rect l="l" t="t" r="r" b="b"/>
                    <a:pathLst>
                      <a:path w="285" h="35">
                        <a:moveTo>
                          <a:pt x="247" y="20"/>
                        </a:moveTo>
                        <a:lnTo>
                          <a:pt x="264" y="0"/>
                        </a:lnTo>
                        <a:lnTo>
                          <a:pt x="0" y="0"/>
                        </a:lnTo>
                        <a:lnTo>
                          <a:pt x="0" y="35"/>
                        </a:lnTo>
                        <a:lnTo>
                          <a:pt x="264" y="35"/>
                        </a:lnTo>
                        <a:lnTo>
                          <a:pt x="280" y="15"/>
                        </a:lnTo>
                        <a:lnTo>
                          <a:pt x="264" y="35"/>
                        </a:lnTo>
                        <a:lnTo>
                          <a:pt x="285" y="34"/>
                        </a:lnTo>
                        <a:lnTo>
                          <a:pt x="280" y="15"/>
                        </a:lnTo>
                        <a:lnTo>
                          <a:pt x="247"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9" name=""/>
                  <p:cNvSpPr/>
                  <p:nvPr/>
                </p:nvSpPr>
                <p:spPr>
                  <a:xfrm>
                    <a:off x="5854680" y="1554120"/>
                    <a:ext cx="83880" cy="87480"/>
                  </a:xfrm>
                  <a:custGeom>
                    <a:avLst/>
                    <a:gdLst/>
                    <a:ahLst/>
                    <a:rect l="l" t="t" r="r" b="b"/>
                    <a:pathLst>
                      <a:path w="263" h="277">
                        <a:moveTo>
                          <a:pt x="0" y="277"/>
                        </a:moveTo>
                        <a:lnTo>
                          <a:pt x="11" y="226"/>
                        </a:lnTo>
                        <a:lnTo>
                          <a:pt x="30" y="179"/>
                        </a:lnTo>
                        <a:lnTo>
                          <a:pt x="56" y="134"/>
                        </a:lnTo>
                        <a:lnTo>
                          <a:pt x="87" y="95"/>
                        </a:lnTo>
                        <a:lnTo>
                          <a:pt x="125" y="61"/>
                        </a:lnTo>
                        <a:lnTo>
                          <a:pt x="167" y="34"/>
                        </a:lnTo>
                        <a:lnTo>
                          <a:pt x="213" y="13"/>
                        </a:lnTo>
                        <a:lnTo>
                          <a:pt x="263" y="0"/>
                        </a:lnTo>
                        <a:lnTo>
                          <a:pt x="262" y="277"/>
                        </a:lnTo>
                        <a:lnTo>
                          <a:pt x="0" y="277"/>
                        </a:lnTo>
                        <a:close/>
                      </a:path>
                    </a:pathLst>
                  </a:custGeom>
                  <a:solidFill>
                    <a:srgbClr val="ffffc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0" name=""/>
                  <p:cNvSpPr/>
                  <p:nvPr/>
                </p:nvSpPr>
                <p:spPr>
                  <a:xfrm>
                    <a:off x="5849640" y="1623960"/>
                    <a:ext cx="14400" cy="19080"/>
                  </a:xfrm>
                  <a:custGeom>
                    <a:avLst/>
                    <a:gdLst/>
                    <a:ahLst/>
                    <a:rect l="l" t="t" r="r" b="b"/>
                    <a:pathLst>
                      <a:path w="43" h="60">
                        <a:moveTo>
                          <a:pt x="11" y="0"/>
                        </a:moveTo>
                        <a:lnTo>
                          <a:pt x="11" y="4"/>
                        </a:lnTo>
                        <a:lnTo>
                          <a:pt x="0" y="55"/>
                        </a:lnTo>
                        <a:lnTo>
                          <a:pt x="32" y="60"/>
                        </a:lnTo>
                        <a:lnTo>
                          <a:pt x="43" y="9"/>
                        </a:lnTo>
                        <a:lnTo>
                          <a:pt x="43" y="12"/>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1" name=""/>
                  <p:cNvSpPr/>
                  <p:nvPr/>
                </p:nvSpPr>
                <p:spPr>
                  <a:xfrm>
                    <a:off x="5852880" y="1608120"/>
                    <a:ext cx="17640" cy="19080"/>
                  </a:xfrm>
                  <a:custGeom>
                    <a:avLst/>
                    <a:gdLst/>
                    <a:ahLst/>
                    <a:rect l="l" t="t" r="r" b="b"/>
                    <a:pathLst>
                      <a:path w="51" h="62">
                        <a:moveTo>
                          <a:pt x="20" y="0"/>
                        </a:moveTo>
                        <a:lnTo>
                          <a:pt x="19" y="3"/>
                        </a:lnTo>
                        <a:lnTo>
                          <a:pt x="0" y="50"/>
                        </a:lnTo>
                        <a:lnTo>
                          <a:pt x="32" y="62"/>
                        </a:lnTo>
                        <a:lnTo>
                          <a:pt x="51" y="15"/>
                        </a:lnTo>
                        <a:lnTo>
                          <a:pt x="50" y="18"/>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2" name=""/>
                  <p:cNvSpPr/>
                  <p:nvPr/>
                </p:nvSpPr>
                <p:spPr>
                  <a:xfrm>
                    <a:off x="5859360" y="1592280"/>
                    <a:ext cx="19080" cy="20520"/>
                  </a:xfrm>
                  <a:custGeom>
                    <a:avLst/>
                    <a:gdLst/>
                    <a:ahLst/>
                    <a:rect l="l" t="t" r="r" b="b"/>
                    <a:pathLst>
                      <a:path w="56" h="64">
                        <a:moveTo>
                          <a:pt x="29" y="0"/>
                        </a:moveTo>
                        <a:lnTo>
                          <a:pt x="26" y="1"/>
                        </a:lnTo>
                        <a:lnTo>
                          <a:pt x="0" y="46"/>
                        </a:lnTo>
                        <a:lnTo>
                          <a:pt x="30" y="64"/>
                        </a:lnTo>
                        <a:lnTo>
                          <a:pt x="56" y="19"/>
                        </a:lnTo>
                        <a:lnTo>
                          <a:pt x="54" y="20"/>
                        </a:lnTo>
                        <a:lnTo>
                          <a:pt x="2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3" name=""/>
                  <p:cNvSpPr/>
                  <p:nvPr/>
                </p:nvSpPr>
                <p:spPr>
                  <a:xfrm>
                    <a:off x="5868720" y="1579680"/>
                    <a:ext cx="17640" cy="19080"/>
                  </a:xfrm>
                  <a:custGeom>
                    <a:avLst/>
                    <a:gdLst/>
                    <a:ahLst/>
                    <a:rect l="l" t="t" r="r" b="b"/>
                    <a:pathLst>
                      <a:path w="56" h="61">
                        <a:moveTo>
                          <a:pt x="32" y="0"/>
                        </a:moveTo>
                        <a:lnTo>
                          <a:pt x="31" y="2"/>
                        </a:lnTo>
                        <a:lnTo>
                          <a:pt x="0" y="41"/>
                        </a:lnTo>
                        <a:lnTo>
                          <a:pt x="25" y="61"/>
                        </a:lnTo>
                        <a:lnTo>
                          <a:pt x="56" y="22"/>
                        </a:lnTo>
                        <a:lnTo>
                          <a:pt x="55" y="25"/>
                        </a:lnTo>
                        <a:lnTo>
                          <a:pt x="3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4" name=""/>
                  <p:cNvSpPr/>
                  <p:nvPr/>
                </p:nvSpPr>
                <p:spPr>
                  <a:xfrm>
                    <a:off x="5879880" y="1568520"/>
                    <a:ext cx="19080" cy="19080"/>
                  </a:xfrm>
                  <a:custGeom>
                    <a:avLst/>
                    <a:gdLst/>
                    <a:ahLst/>
                    <a:rect l="l" t="t" r="r" b="b"/>
                    <a:pathLst>
                      <a:path w="60" h="60">
                        <a:moveTo>
                          <a:pt x="40" y="0"/>
                        </a:moveTo>
                        <a:lnTo>
                          <a:pt x="37" y="1"/>
                        </a:lnTo>
                        <a:lnTo>
                          <a:pt x="0" y="35"/>
                        </a:lnTo>
                        <a:lnTo>
                          <a:pt x="23" y="60"/>
                        </a:lnTo>
                        <a:lnTo>
                          <a:pt x="60" y="26"/>
                        </a:lnTo>
                        <a:lnTo>
                          <a:pt x="57" y="27"/>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5" name=""/>
                  <p:cNvSpPr/>
                  <p:nvPr/>
                </p:nvSpPr>
                <p:spPr>
                  <a:xfrm>
                    <a:off x="5892480" y="1558800"/>
                    <a:ext cx="19080" cy="19080"/>
                  </a:xfrm>
                  <a:custGeom>
                    <a:avLst/>
                    <a:gdLst/>
                    <a:ahLst/>
                    <a:rect l="l" t="t" r="r" b="b"/>
                    <a:pathLst>
                      <a:path w="60" h="56">
                        <a:moveTo>
                          <a:pt x="45" y="0"/>
                        </a:moveTo>
                        <a:lnTo>
                          <a:pt x="42" y="1"/>
                        </a:lnTo>
                        <a:lnTo>
                          <a:pt x="0" y="29"/>
                        </a:lnTo>
                        <a:lnTo>
                          <a:pt x="17" y="56"/>
                        </a:lnTo>
                        <a:lnTo>
                          <a:pt x="60" y="29"/>
                        </a:lnTo>
                        <a:lnTo>
                          <a:pt x="57" y="30"/>
                        </a:lnTo>
                        <a:lnTo>
                          <a:pt x="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6" name=""/>
                  <p:cNvSpPr/>
                  <p:nvPr/>
                </p:nvSpPr>
                <p:spPr>
                  <a:xfrm>
                    <a:off x="5906880" y="1552680"/>
                    <a:ext cx="17640" cy="15840"/>
                  </a:xfrm>
                  <a:custGeom>
                    <a:avLst/>
                    <a:gdLst/>
                    <a:ahLst/>
                    <a:rect l="l" t="t" r="r" b="b"/>
                    <a:pathLst>
                      <a:path w="58" h="52">
                        <a:moveTo>
                          <a:pt x="49" y="0"/>
                        </a:moveTo>
                        <a:lnTo>
                          <a:pt x="46" y="1"/>
                        </a:lnTo>
                        <a:lnTo>
                          <a:pt x="0" y="22"/>
                        </a:lnTo>
                        <a:lnTo>
                          <a:pt x="12" y="52"/>
                        </a:lnTo>
                        <a:lnTo>
                          <a:pt x="58" y="31"/>
                        </a:lnTo>
                        <a:lnTo>
                          <a:pt x="56" y="32"/>
                        </a:lnTo>
                        <a:lnTo>
                          <a:pt x="49" y="0"/>
                        </a:lnTo>
                        <a:lnTo>
                          <a:pt x="47" y="0"/>
                        </a:lnTo>
                        <a:lnTo>
                          <a:pt x="46" y="1"/>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7" name=""/>
                  <p:cNvSpPr/>
                  <p:nvPr/>
                </p:nvSpPr>
                <p:spPr>
                  <a:xfrm>
                    <a:off x="5921280" y="1546200"/>
                    <a:ext cx="23760" cy="15840"/>
                  </a:xfrm>
                  <a:custGeom>
                    <a:avLst/>
                    <a:gdLst/>
                    <a:ahLst/>
                    <a:rect l="l" t="t" r="r" b="b"/>
                    <a:pathLst>
                      <a:path w="71" h="50">
                        <a:moveTo>
                          <a:pt x="71" y="21"/>
                        </a:moveTo>
                        <a:lnTo>
                          <a:pt x="49" y="5"/>
                        </a:lnTo>
                        <a:lnTo>
                          <a:pt x="0" y="18"/>
                        </a:lnTo>
                        <a:lnTo>
                          <a:pt x="7" y="50"/>
                        </a:lnTo>
                        <a:lnTo>
                          <a:pt x="57" y="38"/>
                        </a:lnTo>
                        <a:lnTo>
                          <a:pt x="36" y="21"/>
                        </a:lnTo>
                        <a:lnTo>
                          <a:pt x="71" y="21"/>
                        </a:lnTo>
                        <a:lnTo>
                          <a:pt x="71" y="0"/>
                        </a:lnTo>
                        <a:lnTo>
                          <a:pt x="49" y="5"/>
                        </a:lnTo>
                        <a:lnTo>
                          <a:pt x="71"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8" name=""/>
                  <p:cNvSpPr/>
                  <p:nvPr/>
                </p:nvSpPr>
                <p:spPr>
                  <a:xfrm>
                    <a:off x="5932440" y="1554120"/>
                    <a:ext cx="12600" cy="93600"/>
                  </a:xfrm>
                  <a:custGeom>
                    <a:avLst/>
                    <a:gdLst/>
                    <a:ahLst/>
                    <a:rect l="l" t="t" r="r" b="b"/>
                    <a:pathLst>
                      <a:path w="37" h="295">
                        <a:moveTo>
                          <a:pt x="18" y="295"/>
                        </a:moveTo>
                        <a:lnTo>
                          <a:pt x="35" y="277"/>
                        </a:lnTo>
                        <a:lnTo>
                          <a:pt x="37" y="0"/>
                        </a:lnTo>
                        <a:lnTo>
                          <a:pt x="2" y="0"/>
                        </a:lnTo>
                        <a:lnTo>
                          <a:pt x="0" y="277"/>
                        </a:lnTo>
                        <a:lnTo>
                          <a:pt x="18" y="260"/>
                        </a:lnTo>
                        <a:lnTo>
                          <a:pt x="18" y="295"/>
                        </a:lnTo>
                        <a:lnTo>
                          <a:pt x="34" y="294"/>
                        </a:lnTo>
                        <a:lnTo>
                          <a:pt x="35" y="277"/>
                        </a:lnTo>
                        <a:lnTo>
                          <a:pt x="18"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48200" y="1636560"/>
                    <a:ext cx="90360" cy="11160"/>
                  </a:xfrm>
                  <a:custGeom>
                    <a:avLst/>
                    <a:gdLst/>
                    <a:ahLst/>
                    <a:rect l="l" t="t" r="r" b="b"/>
                    <a:pathLst>
                      <a:path w="283" h="35">
                        <a:moveTo>
                          <a:pt x="5" y="15"/>
                        </a:moveTo>
                        <a:lnTo>
                          <a:pt x="21" y="35"/>
                        </a:lnTo>
                        <a:lnTo>
                          <a:pt x="283" y="35"/>
                        </a:lnTo>
                        <a:lnTo>
                          <a:pt x="283" y="0"/>
                        </a:lnTo>
                        <a:lnTo>
                          <a:pt x="21" y="0"/>
                        </a:lnTo>
                        <a:lnTo>
                          <a:pt x="37" y="20"/>
                        </a:lnTo>
                        <a:lnTo>
                          <a:pt x="5" y="15"/>
                        </a:lnTo>
                        <a:lnTo>
                          <a:pt x="0" y="34"/>
                        </a:lnTo>
                        <a:lnTo>
                          <a:pt x="21" y="35"/>
                        </a:lnTo>
                        <a:lnTo>
                          <a:pt x="5"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0" name=""/>
                  <p:cNvSpPr/>
                  <p:nvPr/>
                </p:nvSpPr>
                <p:spPr>
                  <a:xfrm>
                    <a:off x="5859360" y="1671480"/>
                    <a:ext cx="87120" cy="84240"/>
                  </a:xfrm>
                  <a:custGeom>
                    <a:avLst/>
                    <a:gdLst/>
                    <a:ahLst/>
                    <a:rect l="l" t="t" r="r" b="b"/>
                    <a:pathLst>
                      <a:path w="275" h="265">
                        <a:moveTo>
                          <a:pt x="275" y="265"/>
                        </a:moveTo>
                        <a:lnTo>
                          <a:pt x="226" y="253"/>
                        </a:lnTo>
                        <a:lnTo>
                          <a:pt x="178" y="234"/>
                        </a:lnTo>
                        <a:lnTo>
                          <a:pt x="134" y="208"/>
                        </a:lnTo>
                        <a:lnTo>
                          <a:pt x="94" y="177"/>
                        </a:lnTo>
                        <a:lnTo>
                          <a:pt x="60" y="139"/>
                        </a:lnTo>
                        <a:lnTo>
                          <a:pt x="33" y="97"/>
                        </a:lnTo>
                        <a:lnTo>
                          <a:pt x="13" y="50"/>
                        </a:lnTo>
                        <a:lnTo>
                          <a:pt x="0" y="0"/>
                        </a:lnTo>
                        <a:lnTo>
                          <a:pt x="275" y="1"/>
                        </a:lnTo>
                        <a:lnTo>
                          <a:pt x="275" y="265"/>
                        </a:lnTo>
                        <a:close/>
                      </a:path>
                    </a:pathLst>
                  </a:custGeom>
                  <a:solidFill>
                    <a:srgbClr val="ffffc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1" name=""/>
                  <p:cNvSpPr/>
                  <p:nvPr/>
                </p:nvSpPr>
                <p:spPr>
                  <a:xfrm>
                    <a:off x="5929200" y="1746360"/>
                    <a:ext cx="19080" cy="14040"/>
                  </a:xfrm>
                  <a:custGeom>
                    <a:avLst/>
                    <a:gdLst/>
                    <a:ahLst/>
                    <a:rect l="l" t="t" r="r" b="b"/>
                    <a:pathLst>
                      <a:path w="58" h="45">
                        <a:moveTo>
                          <a:pt x="0" y="32"/>
                        </a:moveTo>
                        <a:lnTo>
                          <a:pt x="1" y="32"/>
                        </a:lnTo>
                        <a:lnTo>
                          <a:pt x="50" y="45"/>
                        </a:lnTo>
                        <a:lnTo>
                          <a:pt x="58" y="12"/>
                        </a:lnTo>
                        <a:lnTo>
                          <a:pt x="9" y="0"/>
                        </a:lnTo>
                        <a:lnTo>
                          <a:pt x="10" y="0"/>
                        </a:lnTo>
                        <a:lnTo>
                          <a:pt x="0" y="3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2" name=""/>
                  <p:cNvSpPr/>
                  <p:nvPr/>
                </p:nvSpPr>
                <p:spPr>
                  <a:xfrm>
                    <a:off x="5913360" y="1739880"/>
                    <a:ext cx="19080" cy="15840"/>
                  </a:xfrm>
                  <a:custGeom>
                    <a:avLst/>
                    <a:gdLst/>
                    <a:ahLst/>
                    <a:rect l="l" t="t" r="r" b="b"/>
                    <a:pathLst>
                      <a:path w="62" h="51">
                        <a:moveTo>
                          <a:pt x="0" y="30"/>
                        </a:moveTo>
                        <a:lnTo>
                          <a:pt x="4" y="32"/>
                        </a:lnTo>
                        <a:lnTo>
                          <a:pt x="52" y="51"/>
                        </a:lnTo>
                        <a:lnTo>
                          <a:pt x="62" y="19"/>
                        </a:lnTo>
                        <a:lnTo>
                          <a:pt x="14" y="0"/>
                        </a:lnTo>
                        <a:lnTo>
                          <a:pt x="17" y="2"/>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3" name=""/>
                  <p:cNvSpPr/>
                  <p:nvPr/>
                </p:nvSpPr>
                <p:spPr>
                  <a:xfrm>
                    <a:off x="5898960" y="1731960"/>
                    <a:ext cx="19080" cy="17640"/>
                  </a:xfrm>
                  <a:custGeom>
                    <a:avLst/>
                    <a:gdLst/>
                    <a:ahLst/>
                    <a:rect l="l" t="t" r="r" b="b"/>
                    <a:pathLst>
                      <a:path w="62" h="54">
                        <a:moveTo>
                          <a:pt x="0" y="26"/>
                        </a:moveTo>
                        <a:lnTo>
                          <a:pt x="1" y="28"/>
                        </a:lnTo>
                        <a:lnTo>
                          <a:pt x="45" y="54"/>
                        </a:lnTo>
                        <a:lnTo>
                          <a:pt x="62" y="26"/>
                        </a:lnTo>
                        <a:lnTo>
                          <a:pt x="19" y="0"/>
                        </a:lnTo>
                        <a:lnTo>
                          <a:pt x="20" y="2"/>
                        </a:lnTo>
                        <a:lnTo>
                          <a:pt x="0" y="2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4" name=""/>
                  <p:cNvSpPr/>
                  <p:nvPr/>
                </p:nvSpPr>
                <p:spPr>
                  <a:xfrm>
                    <a:off x="5884560" y="1722600"/>
                    <a:ext cx="20880" cy="18720"/>
                  </a:xfrm>
                  <a:custGeom>
                    <a:avLst/>
                    <a:gdLst/>
                    <a:ahLst/>
                    <a:rect l="l" t="t" r="r" b="b"/>
                    <a:pathLst>
                      <a:path w="62" h="56">
                        <a:moveTo>
                          <a:pt x="0" y="24"/>
                        </a:moveTo>
                        <a:lnTo>
                          <a:pt x="2" y="25"/>
                        </a:lnTo>
                        <a:lnTo>
                          <a:pt x="42" y="56"/>
                        </a:lnTo>
                        <a:lnTo>
                          <a:pt x="62" y="32"/>
                        </a:lnTo>
                        <a:lnTo>
                          <a:pt x="22" y="0"/>
                        </a:lnTo>
                        <a:lnTo>
                          <a:pt x="24" y="2"/>
                        </a:lnTo>
                        <a:lnTo>
                          <a:pt x="0"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55" name=""/>
                  <p:cNvSpPr/>
                  <p:nvPr/>
                </p:nvSpPr>
                <p:spPr>
                  <a:xfrm>
                    <a:off x="5873760" y="1711440"/>
                    <a:ext cx="18720" cy="19080"/>
                  </a:xfrm>
                  <a:custGeom>
                    <a:avLst/>
                    <a:gdLst/>
                    <a:ahLst/>
                    <a:rect l="l" t="t" r="r" b="b"/>
                    <a:pathLst>
                      <a:path w="59" h="60">
                        <a:moveTo>
                          <a:pt x="0" y="20"/>
                        </a:moveTo>
                        <a:lnTo>
                          <a:pt x="1" y="23"/>
                        </a:lnTo>
                        <a:lnTo>
                          <a:pt x="35" y="60"/>
                        </a:lnTo>
                        <a:lnTo>
                          <a:pt x="59" y="38"/>
                        </a:lnTo>
                        <a:lnTo>
                          <a:pt x="26" y="0"/>
                        </a:lnTo>
                        <a:lnTo>
                          <a:pt x="27" y="3"/>
                        </a:lnTo>
                        <a:lnTo>
                          <a:pt x="0" y="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5864040" y="1698480"/>
                    <a:ext cx="19080" cy="19080"/>
                  </a:xfrm>
                  <a:custGeom>
                    <a:avLst/>
                    <a:gdLst/>
                    <a:ahLst/>
                    <a:rect l="l" t="t" r="r" b="b"/>
                    <a:pathLst>
                      <a:path w="56" h="60">
                        <a:moveTo>
                          <a:pt x="0" y="15"/>
                        </a:moveTo>
                        <a:lnTo>
                          <a:pt x="1" y="18"/>
                        </a:lnTo>
                        <a:lnTo>
                          <a:pt x="29" y="60"/>
                        </a:lnTo>
                        <a:lnTo>
                          <a:pt x="56" y="43"/>
                        </a:lnTo>
                        <a:lnTo>
                          <a:pt x="29" y="0"/>
                        </a:lnTo>
                        <a:lnTo>
                          <a:pt x="30" y="3"/>
                        </a:lnTo>
                        <a:lnTo>
                          <a:pt x="0" y="15"/>
                        </a:lnTo>
                        <a:lnTo>
                          <a:pt x="0" y="16"/>
                        </a:lnTo>
                        <a:lnTo>
                          <a:pt x="1" y="18"/>
                        </a:lnTo>
                        <a:lnTo>
                          <a:pt x="0"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7" name=""/>
                  <p:cNvSpPr/>
                  <p:nvPr/>
                </p:nvSpPr>
                <p:spPr>
                  <a:xfrm>
                    <a:off x="5857560" y="1684440"/>
                    <a:ext cx="16200" cy="19080"/>
                  </a:xfrm>
                  <a:custGeom>
                    <a:avLst/>
                    <a:gdLst/>
                    <a:ahLst/>
                    <a:rect l="l" t="t" r="r" b="b"/>
                    <a:pathLst>
                      <a:path w="51" h="60">
                        <a:moveTo>
                          <a:pt x="0" y="10"/>
                        </a:moveTo>
                        <a:lnTo>
                          <a:pt x="1" y="13"/>
                        </a:lnTo>
                        <a:lnTo>
                          <a:pt x="21" y="60"/>
                        </a:lnTo>
                        <a:lnTo>
                          <a:pt x="51" y="48"/>
                        </a:lnTo>
                        <a:lnTo>
                          <a:pt x="31" y="0"/>
                        </a:lnTo>
                        <a:lnTo>
                          <a:pt x="32" y="3"/>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8" name=""/>
                  <p:cNvSpPr/>
                  <p:nvPr/>
                </p:nvSpPr>
                <p:spPr>
                  <a:xfrm>
                    <a:off x="5852880" y="1665360"/>
                    <a:ext cx="15840" cy="22320"/>
                  </a:xfrm>
                  <a:custGeom>
                    <a:avLst/>
                    <a:gdLst/>
                    <a:ahLst/>
                    <a:rect l="l" t="t" r="r" b="b"/>
                    <a:pathLst>
                      <a:path w="50" h="71">
                        <a:moveTo>
                          <a:pt x="21" y="0"/>
                        </a:moveTo>
                        <a:lnTo>
                          <a:pt x="5" y="21"/>
                        </a:lnTo>
                        <a:lnTo>
                          <a:pt x="18" y="71"/>
                        </a:lnTo>
                        <a:lnTo>
                          <a:pt x="50" y="64"/>
                        </a:lnTo>
                        <a:lnTo>
                          <a:pt x="38" y="14"/>
                        </a:lnTo>
                        <a:lnTo>
                          <a:pt x="21" y="35"/>
                        </a:lnTo>
                        <a:lnTo>
                          <a:pt x="21" y="0"/>
                        </a:lnTo>
                        <a:lnTo>
                          <a:pt x="0" y="0"/>
                        </a:lnTo>
                        <a:lnTo>
                          <a:pt x="5" y="21"/>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9" name=""/>
                  <p:cNvSpPr/>
                  <p:nvPr/>
                </p:nvSpPr>
                <p:spPr>
                  <a:xfrm>
                    <a:off x="5859360" y="1665360"/>
                    <a:ext cx="92160" cy="11160"/>
                  </a:xfrm>
                  <a:custGeom>
                    <a:avLst/>
                    <a:gdLst/>
                    <a:ahLst/>
                    <a:rect l="l" t="t" r="r" b="b"/>
                    <a:pathLst>
                      <a:path w="292" h="36">
                        <a:moveTo>
                          <a:pt x="292" y="19"/>
                        </a:moveTo>
                        <a:lnTo>
                          <a:pt x="275" y="1"/>
                        </a:lnTo>
                        <a:lnTo>
                          <a:pt x="0" y="0"/>
                        </a:lnTo>
                        <a:lnTo>
                          <a:pt x="0" y="35"/>
                        </a:lnTo>
                        <a:lnTo>
                          <a:pt x="275" y="36"/>
                        </a:lnTo>
                        <a:lnTo>
                          <a:pt x="257" y="19"/>
                        </a:lnTo>
                        <a:lnTo>
                          <a:pt x="292" y="19"/>
                        </a:lnTo>
                        <a:lnTo>
                          <a:pt x="292" y="3"/>
                        </a:lnTo>
                        <a:lnTo>
                          <a:pt x="275" y="1"/>
                        </a:lnTo>
                        <a:lnTo>
                          <a:pt x="29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0" name=""/>
                  <p:cNvSpPr/>
                  <p:nvPr/>
                </p:nvSpPr>
                <p:spPr>
                  <a:xfrm>
                    <a:off x="5940360" y="1671480"/>
                    <a:ext cx="11160" cy="90720"/>
                  </a:xfrm>
                  <a:custGeom>
                    <a:avLst/>
                    <a:gdLst/>
                    <a:ahLst/>
                    <a:rect l="l" t="t" r="r" b="b"/>
                    <a:pathLst>
                      <a:path w="35" h="286">
                        <a:moveTo>
                          <a:pt x="14" y="281"/>
                        </a:moveTo>
                        <a:lnTo>
                          <a:pt x="35" y="264"/>
                        </a:lnTo>
                        <a:lnTo>
                          <a:pt x="35" y="0"/>
                        </a:lnTo>
                        <a:lnTo>
                          <a:pt x="0" y="0"/>
                        </a:lnTo>
                        <a:lnTo>
                          <a:pt x="0" y="264"/>
                        </a:lnTo>
                        <a:lnTo>
                          <a:pt x="22" y="248"/>
                        </a:lnTo>
                        <a:lnTo>
                          <a:pt x="14" y="281"/>
                        </a:lnTo>
                        <a:lnTo>
                          <a:pt x="35" y="286"/>
                        </a:lnTo>
                        <a:lnTo>
                          <a:pt x="35" y="264"/>
                        </a:lnTo>
                        <a:lnTo>
                          <a:pt x="14" y="28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1" name=""/>
                  <p:cNvSpPr/>
                  <p:nvPr/>
                </p:nvSpPr>
                <p:spPr>
                  <a:xfrm>
                    <a:off x="5908680" y="1604880"/>
                    <a:ext cx="93600" cy="93600"/>
                  </a:xfrm>
                  <a:custGeom>
                    <a:avLst/>
                    <a:gdLst/>
                    <a:ahLst/>
                    <a:rect l="l" t="t" r="r" b="b"/>
                    <a:pathLst>
                      <a:path w="295" h="296">
                        <a:moveTo>
                          <a:pt x="0" y="149"/>
                        </a:moveTo>
                        <a:lnTo>
                          <a:pt x="3" y="119"/>
                        </a:lnTo>
                        <a:lnTo>
                          <a:pt x="12" y="90"/>
                        </a:lnTo>
                        <a:lnTo>
                          <a:pt x="25" y="65"/>
                        </a:lnTo>
                        <a:lnTo>
                          <a:pt x="43" y="44"/>
                        </a:lnTo>
                        <a:lnTo>
                          <a:pt x="65" y="25"/>
                        </a:lnTo>
                        <a:lnTo>
                          <a:pt x="90" y="12"/>
                        </a:lnTo>
                        <a:lnTo>
                          <a:pt x="118" y="3"/>
                        </a:lnTo>
                        <a:lnTo>
                          <a:pt x="148" y="0"/>
                        </a:lnTo>
                        <a:lnTo>
                          <a:pt x="177" y="3"/>
                        </a:lnTo>
                        <a:lnTo>
                          <a:pt x="205" y="12"/>
                        </a:lnTo>
                        <a:lnTo>
                          <a:pt x="230" y="25"/>
                        </a:lnTo>
                        <a:lnTo>
                          <a:pt x="251" y="44"/>
                        </a:lnTo>
                        <a:lnTo>
                          <a:pt x="283" y="90"/>
                        </a:lnTo>
                        <a:lnTo>
                          <a:pt x="292" y="119"/>
                        </a:lnTo>
                        <a:lnTo>
                          <a:pt x="295" y="149"/>
                        </a:lnTo>
                        <a:lnTo>
                          <a:pt x="283" y="206"/>
                        </a:lnTo>
                        <a:lnTo>
                          <a:pt x="251" y="252"/>
                        </a:lnTo>
                        <a:lnTo>
                          <a:pt x="205" y="285"/>
                        </a:lnTo>
                        <a:lnTo>
                          <a:pt x="148" y="296"/>
                        </a:lnTo>
                        <a:lnTo>
                          <a:pt x="118" y="293"/>
                        </a:lnTo>
                        <a:lnTo>
                          <a:pt x="90" y="285"/>
                        </a:lnTo>
                        <a:lnTo>
                          <a:pt x="43" y="252"/>
                        </a:lnTo>
                        <a:lnTo>
                          <a:pt x="25" y="231"/>
                        </a:lnTo>
                        <a:lnTo>
                          <a:pt x="12" y="206"/>
                        </a:lnTo>
                        <a:lnTo>
                          <a:pt x="3" y="177"/>
                        </a:lnTo>
                        <a:lnTo>
                          <a:pt x="0" y="149"/>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903640" y="1641600"/>
                    <a:ext cx="11160" cy="11160"/>
                  </a:xfrm>
                  <a:custGeom>
                    <a:avLst/>
                    <a:gdLst/>
                    <a:ahLst/>
                    <a:rect l="l" t="t" r="r" b="b"/>
                    <a:pathLst>
                      <a:path w="35" h="36">
                        <a:moveTo>
                          <a:pt x="3" y="0"/>
                        </a:moveTo>
                        <a:lnTo>
                          <a:pt x="3" y="4"/>
                        </a:lnTo>
                        <a:lnTo>
                          <a:pt x="0" y="34"/>
                        </a:lnTo>
                        <a:lnTo>
                          <a:pt x="33" y="36"/>
                        </a:lnTo>
                        <a:lnTo>
                          <a:pt x="35" y="6"/>
                        </a:lnTo>
                        <a:lnTo>
                          <a:pt x="35" y="10"/>
                        </a:lnTo>
                        <a:lnTo>
                          <a:pt x="3" y="0"/>
                        </a:lnTo>
                        <a:lnTo>
                          <a:pt x="3" y="2"/>
                        </a:lnTo>
                        <a:lnTo>
                          <a:pt x="3" y="4"/>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
                  <p:cNvSpPr/>
                  <p:nvPr/>
                </p:nvSpPr>
                <p:spPr>
                  <a:xfrm>
                    <a:off x="5903640" y="1630440"/>
                    <a:ext cx="14400" cy="14040"/>
                  </a:xfrm>
                  <a:custGeom>
                    <a:avLst/>
                    <a:gdLst/>
                    <a:ahLst/>
                    <a:rect l="l" t="t" r="r" b="b"/>
                    <a:pathLst>
                      <a:path w="41" h="41">
                        <a:moveTo>
                          <a:pt x="10" y="0"/>
                        </a:moveTo>
                        <a:lnTo>
                          <a:pt x="8" y="2"/>
                        </a:lnTo>
                        <a:lnTo>
                          <a:pt x="0" y="31"/>
                        </a:lnTo>
                        <a:lnTo>
                          <a:pt x="32" y="41"/>
                        </a:lnTo>
                        <a:lnTo>
                          <a:pt x="41" y="12"/>
                        </a:lnTo>
                        <a:lnTo>
                          <a:pt x="40" y="15"/>
                        </a:lnTo>
                        <a:lnTo>
                          <a:pt x="10" y="0"/>
                        </a:lnTo>
                        <a:lnTo>
                          <a:pt x="10" y="1"/>
                        </a:lnTo>
                        <a:lnTo>
                          <a:pt x="8" y="2"/>
                        </a:lnTo>
                        <a:lnTo>
                          <a:pt x="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64" name=""/>
                  <p:cNvSpPr/>
                  <p:nvPr/>
                </p:nvSpPr>
                <p:spPr>
                  <a:xfrm>
                    <a:off x="5906880" y="1622520"/>
                    <a:ext cx="14400" cy="12600"/>
                  </a:xfrm>
                  <a:custGeom>
                    <a:avLst/>
                    <a:gdLst/>
                    <a:ahLst/>
                    <a:rect l="l" t="t" r="r" b="b"/>
                    <a:pathLst>
                      <a:path w="43" h="43">
                        <a:moveTo>
                          <a:pt x="16" y="0"/>
                        </a:moveTo>
                        <a:lnTo>
                          <a:pt x="13" y="3"/>
                        </a:lnTo>
                        <a:lnTo>
                          <a:pt x="0" y="28"/>
                        </a:lnTo>
                        <a:lnTo>
                          <a:pt x="30" y="43"/>
                        </a:lnTo>
                        <a:lnTo>
                          <a:pt x="43" y="18"/>
                        </a:lnTo>
                        <a:lnTo>
                          <a:pt x="41" y="20"/>
                        </a:lnTo>
                        <a:lnTo>
                          <a:pt x="16" y="0"/>
                        </a:lnTo>
                        <a:lnTo>
                          <a:pt x="15" y="1"/>
                        </a:lnTo>
                        <a:lnTo>
                          <a:pt x="13" y="3"/>
                        </a:lnTo>
                        <a:lnTo>
                          <a:pt x="1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913360" y="1614600"/>
                    <a:ext cx="12600" cy="14040"/>
                  </a:xfrm>
                  <a:custGeom>
                    <a:avLst/>
                    <a:gdLst/>
                    <a:ahLst/>
                    <a:rect l="l" t="t" r="r" b="b"/>
                    <a:pathLst>
                      <a:path w="42" h="44">
                        <a:moveTo>
                          <a:pt x="20" y="0"/>
                        </a:moveTo>
                        <a:lnTo>
                          <a:pt x="17" y="3"/>
                        </a:lnTo>
                        <a:lnTo>
                          <a:pt x="0" y="24"/>
                        </a:lnTo>
                        <a:lnTo>
                          <a:pt x="25" y="44"/>
                        </a:lnTo>
                        <a:lnTo>
                          <a:pt x="42" y="23"/>
                        </a:lnTo>
                        <a:lnTo>
                          <a:pt x="40" y="25"/>
                        </a:lnTo>
                        <a:lnTo>
                          <a:pt x="20" y="0"/>
                        </a:lnTo>
                        <a:lnTo>
                          <a:pt x="19" y="2"/>
                        </a:lnTo>
                        <a:lnTo>
                          <a:pt x="17" y="3"/>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66" name=""/>
                  <p:cNvSpPr/>
                  <p:nvPr/>
                </p:nvSpPr>
                <p:spPr>
                  <a:xfrm>
                    <a:off x="5919480" y="1608120"/>
                    <a:ext cx="12960" cy="14400"/>
                  </a:xfrm>
                  <a:custGeom>
                    <a:avLst/>
                    <a:gdLst/>
                    <a:ahLst/>
                    <a:rect l="l" t="t" r="r" b="b"/>
                    <a:pathLst>
                      <a:path w="42" h="46">
                        <a:moveTo>
                          <a:pt x="25" y="0"/>
                        </a:moveTo>
                        <a:lnTo>
                          <a:pt x="22" y="3"/>
                        </a:lnTo>
                        <a:lnTo>
                          <a:pt x="0" y="21"/>
                        </a:lnTo>
                        <a:lnTo>
                          <a:pt x="20" y="46"/>
                        </a:lnTo>
                        <a:lnTo>
                          <a:pt x="42" y="28"/>
                        </a:lnTo>
                        <a:lnTo>
                          <a:pt x="40" y="30"/>
                        </a:lnTo>
                        <a:lnTo>
                          <a:pt x="25" y="0"/>
                        </a:lnTo>
                        <a:lnTo>
                          <a:pt x="23" y="2"/>
                        </a:lnTo>
                        <a:lnTo>
                          <a:pt x="22" y="3"/>
                        </a:lnTo>
                        <a:lnTo>
                          <a:pt x="2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a:off x="5927400" y="1603440"/>
                    <a:ext cx="12960" cy="14400"/>
                  </a:xfrm>
                  <a:custGeom>
                    <a:avLst/>
                    <a:gdLst/>
                    <a:ahLst/>
                    <a:rect l="l" t="t" r="r" b="b"/>
                    <a:pathLst>
                      <a:path w="40" h="45">
                        <a:moveTo>
                          <a:pt x="27" y="0"/>
                        </a:moveTo>
                        <a:lnTo>
                          <a:pt x="25" y="2"/>
                        </a:lnTo>
                        <a:lnTo>
                          <a:pt x="0" y="15"/>
                        </a:lnTo>
                        <a:lnTo>
                          <a:pt x="15" y="45"/>
                        </a:lnTo>
                        <a:lnTo>
                          <a:pt x="40" y="32"/>
                        </a:lnTo>
                        <a:lnTo>
                          <a:pt x="37" y="33"/>
                        </a:lnTo>
                        <a:lnTo>
                          <a:pt x="27" y="0"/>
                        </a:lnTo>
                        <a:lnTo>
                          <a:pt x="26" y="2"/>
                        </a:lnTo>
                        <a:lnTo>
                          <a:pt x="25" y="2"/>
                        </a:lnTo>
                        <a:lnTo>
                          <a:pt x="2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8" name=""/>
                  <p:cNvSpPr/>
                  <p:nvPr/>
                </p:nvSpPr>
                <p:spPr>
                  <a:xfrm>
                    <a:off x="5935680" y="1600200"/>
                    <a:ext cx="12600" cy="12600"/>
                  </a:xfrm>
                  <a:custGeom>
                    <a:avLst/>
                    <a:gdLst/>
                    <a:ahLst/>
                    <a:rect l="l" t="t" r="r" b="b"/>
                    <a:pathLst>
                      <a:path w="38" h="41">
                        <a:moveTo>
                          <a:pt x="31" y="0"/>
                        </a:moveTo>
                        <a:lnTo>
                          <a:pt x="28" y="0"/>
                        </a:lnTo>
                        <a:lnTo>
                          <a:pt x="0" y="8"/>
                        </a:lnTo>
                        <a:lnTo>
                          <a:pt x="10" y="41"/>
                        </a:lnTo>
                        <a:lnTo>
                          <a:pt x="38" y="32"/>
                        </a:lnTo>
                        <a:lnTo>
                          <a:pt x="34" y="32"/>
                        </a:lnTo>
                        <a:lnTo>
                          <a:pt x="31" y="0"/>
                        </a:lnTo>
                        <a:lnTo>
                          <a:pt x="30" y="0"/>
                        </a:lnTo>
                        <a:lnTo>
                          <a:pt x="28" y="0"/>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9" name=""/>
                  <p:cNvSpPr/>
                  <p:nvPr/>
                </p:nvSpPr>
                <p:spPr>
                  <a:xfrm>
                    <a:off x="5945040" y="1600200"/>
                    <a:ext cx="11160" cy="11160"/>
                  </a:xfrm>
                  <a:custGeom>
                    <a:avLst/>
                    <a:gdLst/>
                    <a:ahLst/>
                    <a:rect l="l" t="t" r="r" b="b"/>
                    <a:pathLst>
                      <a:path w="33" h="35">
                        <a:moveTo>
                          <a:pt x="33" y="0"/>
                        </a:moveTo>
                        <a:lnTo>
                          <a:pt x="30" y="0"/>
                        </a:lnTo>
                        <a:lnTo>
                          <a:pt x="0" y="3"/>
                        </a:lnTo>
                        <a:lnTo>
                          <a:pt x="3" y="35"/>
                        </a:lnTo>
                        <a:lnTo>
                          <a:pt x="33" y="33"/>
                        </a:lnTo>
                        <a:lnTo>
                          <a:pt x="30" y="33"/>
                        </a:lnTo>
                        <a:lnTo>
                          <a:pt x="3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0" name=""/>
                  <p:cNvSpPr/>
                  <p:nvPr/>
                </p:nvSpPr>
                <p:spPr>
                  <a:xfrm>
                    <a:off x="5954400" y="1600200"/>
                    <a:ext cx="11160" cy="11160"/>
                  </a:xfrm>
                  <a:custGeom>
                    <a:avLst/>
                    <a:gdLst/>
                    <a:ahLst/>
                    <a:rect l="l" t="t" r="r" b="b"/>
                    <a:pathLst>
                      <a:path w="36" h="35">
                        <a:moveTo>
                          <a:pt x="36" y="3"/>
                        </a:moveTo>
                        <a:lnTo>
                          <a:pt x="33" y="3"/>
                        </a:lnTo>
                        <a:lnTo>
                          <a:pt x="3" y="0"/>
                        </a:lnTo>
                        <a:lnTo>
                          <a:pt x="0" y="33"/>
                        </a:lnTo>
                        <a:lnTo>
                          <a:pt x="30" y="35"/>
                        </a:lnTo>
                        <a:lnTo>
                          <a:pt x="26" y="35"/>
                        </a:lnTo>
                        <a:lnTo>
                          <a:pt x="36" y="3"/>
                        </a:lnTo>
                        <a:lnTo>
                          <a:pt x="34" y="3"/>
                        </a:lnTo>
                        <a:lnTo>
                          <a:pt x="33" y="3"/>
                        </a:lnTo>
                        <a:lnTo>
                          <a:pt x="3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1" name=""/>
                  <p:cNvSpPr/>
                  <p:nvPr/>
                </p:nvSpPr>
                <p:spPr>
                  <a:xfrm>
                    <a:off x="5962680" y="1600200"/>
                    <a:ext cx="12600" cy="12600"/>
                  </a:xfrm>
                  <a:custGeom>
                    <a:avLst/>
                    <a:gdLst/>
                    <a:ahLst/>
                    <a:rect l="l" t="t" r="r" b="b"/>
                    <a:pathLst>
                      <a:path w="40" h="41">
                        <a:moveTo>
                          <a:pt x="40" y="10"/>
                        </a:moveTo>
                        <a:lnTo>
                          <a:pt x="38" y="8"/>
                        </a:lnTo>
                        <a:lnTo>
                          <a:pt x="10" y="0"/>
                        </a:lnTo>
                        <a:lnTo>
                          <a:pt x="0" y="32"/>
                        </a:lnTo>
                        <a:lnTo>
                          <a:pt x="28" y="41"/>
                        </a:lnTo>
                        <a:lnTo>
                          <a:pt x="25" y="40"/>
                        </a:lnTo>
                        <a:lnTo>
                          <a:pt x="40" y="10"/>
                        </a:lnTo>
                        <a:lnTo>
                          <a:pt x="39" y="10"/>
                        </a:lnTo>
                        <a:lnTo>
                          <a:pt x="38" y="8"/>
                        </a:lnTo>
                        <a:lnTo>
                          <a:pt x="40"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2" name=""/>
                  <p:cNvSpPr/>
                  <p:nvPr/>
                </p:nvSpPr>
                <p:spPr>
                  <a:xfrm>
                    <a:off x="5970600" y="1603440"/>
                    <a:ext cx="14040" cy="14400"/>
                  </a:xfrm>
                  <a:custGeom>
                    <a:avLst/>
                    <a:gdLst/>
                    <a:ahLst/>
                    <a:rect l="l" t="t" r="r" b="b"/>
                    <a:pathLst>
                      <a:path w="44" h="43">
                        <a:moveTo>
                          <a:pt x="44" y="16"/>
                        </a:moveTo>
                        <a:lnTo>
                          <a:pt x="40" y="13"/>
                        </a:lnTo>
                        <a:lnTo>
                          <a:pt x="15" y="0"/>
                        </a:lnTo>
                        <a:lnTo>
                          <a:pt x="0" y="30"/>
                        </a:lnTo>
                        <a:lnTo>
                          <a:pt x="25" y="43"/>
                        </a:lnTo>
                        <a:lnTo>
                          <a:pt x="22" y="41"/>
                        </a:lnTo>
                        <a:lnTo>
                          <a:pt x="44" y="16"/>
                        </a:lnTo>
                        <a:lnTo>
                          <a:pt x="43" y="15"/>
                        </a:lnTo>
                        <a:lnTo>
                          <a:pt x="40" y="13"/>
                        </a:lnTo>
                        <a:lnTo>
                          <a:pt x="44"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3" name=""/>
                  <p:cNvSpPr/>
                  <p:nvPr/>
                </p:nvSpPr>
                <p:spPr>
                  <a:xfrm>
                    <a:off x="5978520" y="1608120"/>
                    <a:ext cx="14040" cy="14400"/>
                  </a:xfrm>
                  <a:custGeom>
                    <a:avLst/>
                    <a:gdLst/>
                    <a:ahLst/>
                    <a:rect l="l" t="t" r="r" b="b"/>
                    <a:pathLst>
                      <a:path w="46" h="43">
                        <a:moveTo>
                          <a:pt x="46" y="21"/>
                        </a:moveTo>
                        <a:lnTo>
                          <a:pt x="43" y="18"/>
                        </a:lnTo>
                        <a:lnTo>
                          <a:pt x="22" y="0"/>
                        </a:lnTo>
                        <a:lnTo>
                          <a:pt x="0" y="25"/>
                        </a:lnTo>
                        <a:lnTo>
                          <a:pt x="21" y="43"/>
                        </a:lnTo>
                        <a:lnTo>
                          <a:pt x="18" y="41"/>
                        </a:lnTo>
                        <a:lnTo>
                          <a:pt x="46" y="21"/>
                        </a:lnTo>
                        <a:lnTo>
                          <a:pt x="44" y="20"/>
                        </a:lnTo>
                        <a:lnTo>
                          <a:pt x="43" y="18"/>
                        </a:lnTo>
                        <a:lnTo>
                          <a:pt x="46"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4" name=""/>
                  <p:cNvSpPr/>
                  <p:nvPr/>
                </p:nvSpPr>
                <p:spPr>
                  <a:xfrm>
                    <a:off x="5983200" y="1616040"/>
                    <a:ext cx="20520" cy="20520"/>
                  </a:xfrm>
                  <a:custGeom>
                    <a:avLst/>
                    <a:gdLst/>
                    <a:ahLst/>
                    <a:rect l="l" t="t" r="r" b="b"/>
                    <a:pathLst>
                      <a:path w="63" h="66">
                        <a:moveTo>
                          <a:pt x="63" y="51"/>
                        </a:moveTo>
                        <a:lnTo>
                          <a:pt x="60" y="46"/>
                        </a:lnTo>
                        <a:lnTo>
                          <a:pt x="28" y="0"/>
                        </a:lnTo>
                        <a:lnTo>
                          <a:pt x="0" y="20"/>
                        </a:lnTo>
                        <a:lnTo>
                          <a:pt x="33" y="66"/>
                        </a:lnTo>
                        <a:lnTo>
                          <a:pt x="30" y="61"/>
                        </a:lnTo>
                        <a:lnTo>
                          <a:pt x="63" y="51"/>
                        </a:lnTo>
                        <a:lnTo>
                          <a:pt x="61" y="49"/>
                        </a:lnTo>
                        <a:lnTo>
                          <a:pt x="60" y="46"/>
                        </a:lnTo>
                        <a:lnTo>
                          <a:pt x="63"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5" name=""/>
                  <p:cNvSpPr/>
                  <p:nvPr/>
                </p:nvSpPr>
                <p:spPr>
                  <a:xfrm>
                    <a:off x="5992560" y="1631880"/>
                    <a:ext cx="14400" cy="12600"/>
                  </a:xfrm>
                  <a:custGeom>
                    <a:avLst/>
                    <a:gdLst/>
                    <a:ahLst/>
                    <a:rect l="l" t="t" r="r" b="b"/>
                    <a:pathLst>
                      <a:path w="41" h="39">
                        <a:moveTo>
                          <a:pt x="41" y="33"/>
                        </a:moveTo>
                        <a:lnTo>
                          <a:pt x="41" y="29"/>
                        </a:lnTo>
                        <a:lnTo>
                          <a:pt x="33" y="0"/>
                        </a:lnTo>
                        <a:lnTo>
                          <a:pt x="0" y="10"/>
                        </a:lnTo>
                        <a:lnTo>
                          <a:pt x="9" y="39"/>
                        </a:lnTo>
                        <a:lnTo>
                          <a:pt x="9" y="35"/>
                        </a:lnTo>
                        <a:lnTo>
                          <a:pt x="41" y="33"/>
                        </a:lnTo>
                        <a:lnTo>
                          <a:pt x="41" y="31"/>
                        </a:lnTo>
                        <a:lnTo>
                          <a:pt x="41" y="29"/>
                        </a:lnTo>
                        <a:lnTo>
                          <a:pt x="41" y="3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6" name=""/>
                  <p:cNvSpPr/>
                  <p:nvPr/>
                </p:nvSpPr>
                <p:spPr>
                  <a:xfrm>
                    <a:off x="5995800" y="1641600"/>
                    <a:ext cx="11160" cy="11160"/>
                  </a:xfrm>
                  <a:custGeom>
                    <a:avLst/>
                    <a:gdLst/>
                    <a:ahLst/>
                    <a:rect l="l" t="t" r="r" b="b"/>
                    <a:pathLst>
                      <a:path w="36" h="33">
                        <a:moveTo>
                          <a:pt x="35" y="33"/>
                        </a:moveTo>
                        <a:lnTo>
                          <a:pt x="35" y="30"/>
                        </a:lnTo>
                        <a:lnTo>
                          <a:pt x="32" y="0"/>
                        </a:lnTo>
                        <a:lnTo>
                          <a:pt x="0" y="2"/>
                        </a:lnTo>
                        <a:lnTo>
                          <a:pt x="2" y="32"/>
                        </a:lnTo>
                        <a:lnTo>
                          <a:pt x="2" y="28"/>
                        </a:lnTo>
                        <a:lnTo>
                          <a:pt x="35" y="33"/>
                        </a:lnTo>
                        <a:lnTo>
                          <a:pt x="36" y="31"/>
                        </a:lnTo>
                        <a:lnTo>
                          <a:pt x="35" y="30"/>
                        </a:lnTo>
                        <a:lnTo>
                          <a:pt x="35"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5992560" y="1650960"/>
                    <a:ext cx="14400" cy="22320"/>
                  </a:xfrm>
                  <a:custGeom>
                    <a:avLst/>
                    <a:gdLst/>
                    <a:ahLst/>
                    <a:rect l="l" t="t" r="r" b="b"/>
                    <a:pathLst>
                      <a:path w="44" h="70">
                        <a:moveTo>
                          <a:pt x="30" y="70"/>
                        </a:moveTo>
                        <a:lnTo>
                          <a:pt x="33" y="63"/>
                        </a:lnTo>
                        <a:lnTo>
                          <a:pt x="44" y="5"/>
                        </a:lnTo>
                        <a:lnTo>
                          <a:pt x="11" y="0"/>
                        </a:lnTo>
                        <a:lnTo>
                          <a:pt x="0" y="58"/>
                        </a:lnTo>
                        <a:lnTo>
                          <a:pt x="3" y="50"/>
                        </a:lnTo>
                        <a:lnTo>
                          <a:pt x="30" y="70"/>
                        </a:lnTo>
                        <a:lnTo>
                          <a:pt x="33" y="66"/>
                        </a:lnTo>
                        <a:lnTo>
                          <a:pt x="33" y="63"/>
                        </a:lnTo>
                        <a:lnTo>
                          <a:pt x="30" y="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8" name=""/>
                  <p:cNvSpPr/>
                  <p:nvPr/>
                </p:nvSpPr>
                <p:spPr>
                  <a:xfrm>
                    <a:off x="5983200" y="1666800"/>
                    <a:ext cx="19080" cy="22320"/>
                  </a:xfrm>
                  <a:custGeom>
                    <a:avLst/>
                    <a:gdLst/>
                    <a:ahLst/>
                    <a:rect l="l" t="t" r="r" b="b"/>
                    <a:pathLst>
                      <a:path w="60" h="70">
                        <a:moveTo>
                          <a:pt x="24" y="70"/>
                        </a:moveTo>
                        <a:lnTo>
                          <a:pt x="28" y="66"/>
                        </a:lnTo>
                        <a:lnTo>
                          <a:pt x="60" y="20"/>
                        </a:lnTo>
                        <a:lnTo>
                          <a:pt x="33" y="0"/>
                        </a:lnTo>
                        <a:lnTo>
                          <a:pt x="0" y="46"/>
                        </a:lnTo>
                        <a:lnTo>
                          <a:pt x="4" y="43"/>
                        </a:lnTo>
                        <a:lnTo>
                          <a:pt x="24" y="70"/>
                        </a:lnTo>
                        <a:lnTo>
                          <a:pt x="26" y="69"/>
                        </a:lnTo>
                        <a:lnTo>
                          <a:pt x="28" y="66"/>
                        </a:lnTo>
                        <a:lnTo>
                          <a:pt x="24" y="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9" name=""/>
                  <p:cNvSpPr/>
                  <p:nvPr/>
                </p:nvSpPr>
                <p:spPr>
                  <a:xfrm>
                    <a:off x="5970600" y="1681200"/>
                    <a:ext cx="20520" cy="19080"/>
                  </a:xfrm>
                  <a:custGeom>
                    <a:avLst/>
                    <a:gdLst/>
                    <a:ahLst/>
                    <a:rect l="l" t="t" r="r" b="b"/>
                    <a:pathLst>
                      <a:path w="66" h="62">
                        <a:moveTo>
                          <a:pt x="12" y="62"/>
                        </a:moveTo>
                        <a:lnTo>
                          <a:pt x="20" y="59"/>
                        </a:lnTo>
                        <a:lnTo>
                          <a:pt x="66" y="27"/>
                        </a:lnTo>
                        <a:lnTo>
                          <a:pt x="46" y="0"/>
                        </a:lnTo>
                        <a:lnTo>
                          <a:pt x="0" y="32"/>
                        </a:lnTo>
                        <a:lnTo>
                          <a:pt x="7" y="30"/>
                        </a:lnTo>
                        <a:lnTo>
                          <a:pt x="12" y="62"/>
                        </a:lnTo>
                        <a:lnTo>
                          <a:pt x="16" y="62"/>
                        </a:lnTo>
                        <a:lnTo>
                          <a:pt x="20" y="59"/>
                        </a:lnTo>
                        <a:lnTo>
                          <a:pt x="12" y="6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0" name=""/>
                  <p:cNvSpPr/>
                  <p:nvPr/>
                </p:nvSpPr>
                <p:spPr>
                  <a:xfrm>
                    <a:off x="5954400" y="1690560"/>
                    <a:ext cx="19080" cy="12960"/>
                  </a:xfrm>
                  <a:custGeom>
                    <a:avLst/>
                    <a:gdLst/>
                    <a:ahLst/>
                    <a:rect l="l" t="t" r="r" b="b"/>
                    <a:pathLst>
                      <a:path w="62" h="44">
                        <a:moveTo>
                          <a:pt x="1" y="43"/>
                        </a:moveTo>
                        <a:lnTo>
                          <a:pt x="5" y="43"/>
                        </a:lnTo>
                        <a:lnTo>
                          <a:pt x="62" y="32"/>
                        </a:lnTo>
                        <a:lnTo>
                          <a:pt x="57" y="0"/>
                        </a:lnTo>
                        <a:lnTo>
                          <a:pt x="0" y="11"/>
                        </a:lnTo>
                        <a:lnTo>
                          <a:pt x="4" y="11"/>
                        </a:lnTo>
                        <a:lnTo>
                          <a:pt x="1" y="43"/>
                        </a:lnTo>
                        <a:lnTo>
                          <a:pt x="3" y="44"/>
                        </a:lnTo>
                        <a:lnTo>
                          <a:pt x="5" y="43"/>
                        </a:lnTo>
                        <a:lnTo>
                          <a:pt x="1"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1" name=""/>
                  <p:cNvSpPr/>
                  <p:nvPr/>
                </p:nvSpPr>
                <p:spPr>
                  <a:xfrm>
                    <a:off x="5945040" y="1692360"/>
                    <a:ext cx="11160" cy="11160"/>
                  </a:xfrm>
                  <a:custGeom>
                    <a:avLst/>
                    <a:gdLst/>
                    <a:ahLst/>
                    <a:rect l="l" t="t" r="r" b="b"/>
                    <a:pathLst>
                      <a:path w="36" h="35">
                        <a:moveTo>
                          <a:pt x="0" y="33"/>
                        </a:moveTo>
                        <a:lnTo>
                          <a:pt x="3" y="33"/>
                        </a:lnTo>
                        <a:lnTo>
                          <a:pt x="33" y="35"/>
                        </a:lnTo>
                        <a:lnTo>
                          <a:pt x="36" y="3"/>
                        </a:lnTo>
                        <a:lnTo>
                          <a:pt x="6" y="0"/>
                        </a:lnTo>
                        <a:lnTo>
                          <a:pt x="10" y="0"/>
                        </a:lnTo>
                        <a:lnTo>
                          <a:pt x="0" y="33"/>
                        </a:lnTo>
                        <a:lnTo>
                          <a:pt x="2" y="33"/>
                        </a:lnTo>
                        <a:lnTo>
                          <a:pt x="3" y="33"/>
                        </a:lnTo>
                        <a:lnTo>
                          <a:pt x="0"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2" name=""/>
                  <p:cNvSpPr/>
                  <p:nvPr/>
                </p:nvSpPr>
                <p:spPr>
                  <a:xfrm>
                    <a:off x="5933880" y="1690560"/>
                    <a:ext cx="14400" cy="12960"/>
                  </a:xfrm>
                  <a:custGeom>
                    <a:avLst/>
                    <a:gdLst/>
                    <a:ahLst/>
                    <a:rect l="l" t="t" r="r" b="b"/>
                    <a:pathLst>
                      <a:path w="42" h="41">
                        <a:moveTo>
                          <a:pt x="0" y="29"/>
                        </a:moveTo>
                        <a:lnTo>
                          <a:pt x="4" y="32"/>
                        </a:lnTo>
                        <a:lnTo>
                          <a:pt x="32" y="41"/>
                        </a:lnTo>
                        <a:lnTo>
                          <a:pt x="42" y="8"/>
                        </a:lnTo>
                        <a:lnTo>
                          <a:pt x="14" y="0"/>
                        </a:lnTo>
                        <a:lnTo>
                          <a:pt x="18" y="2"/>
                        </a:lnTo>
                        <a:lnTo>
                          <a:pt x="0" y="29"/>
                        </a:lnTo>
                        <a:lnTo>
                          <a:pt x="2" y="31"/>
                        </a:lnTo>
                        <a:lnTo>
                          <a:pt x="4" y="32"/>
                        </a:lnTo>
                        <a:lnTo>
                          <a:pt x="0" y="2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3" name=""/>
                  <p:cNvSpPr/>
                  <p:nvPr/>
                </p:nvSpPr>
                <p:spPr>
                  <a:xfrm>
                    <a:off x="5918040" y="1681200"/>
                    <a:ext cx="22320" cy="17280"/>
                  </a:xfrm>
                  <a:custGeom>
                    <a:avLst/>
                    <a:gdLst/>
                    <a:ahLst/>
                    <a:rect l="l" t="t" r="r" b="b"/>
                    <a:pathLst>
                      <a:path w="69" h="59">
                        <a:moveTo>
                          <a:pt x="0" y="23"/>
                        </a:moveTo>
                        <a:lnTo>
                          <a:pt x="4" y="27"/>
                        </a:lnTo>
                        <a:lnTo>
                          <a:pt x="51" y="59"/>
                        </a:lnTo>
                        <a:lnTo>
                          <a:pt x="69" y="32"/>
                        </a:lnTo>
                        <a:lnTo>
                          <a:pt x="21" y="0"/>
                        </a:lnTo>
                        <a:lnTo>
                          <a:pt x="25" y="3"/>
                        </a:lnTo>
                        <a:lnTo>
                          <a:pt x="0" y="23"/>
                        </a:lnTo>
                        <a:lnTo>
                          <a:pt x="2" y="26"/>
                        </a:lnTo>
                        <a:lnTo>
                          <a:pt x="4" y="27"/>
                        </a:lnTo>
                        <a:lnTo>
                          <a:pt x="0"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4" name=""/>
                  <p:cNvSpPr/>
                  <p:nvPr/>
                </p:nvSpPr>
                <p:spPr>
                  <a:xfrm>
                    <a:off x="5911560" y="1674720"/>
                    <a:ext cx="14400" cy="12960"/>
                  </a:xfrm>
                  <a:custGeom>
                    <a:avLst/>
                    <a:gdLst/>
                    <a:ahLst/>
                    <a:rect l="l" t="t" r="r" b="b"/>
                    <a:pathLst>
                      <a:path w="45" h="41">
                        <a:moveTo>
                          <a:pt x="0" y="18"/>
                        </a:moveTo>
                        <a:lnTo>
                          <a:pt x="3" y="20"/>
                        </a:lnTo>
                        <a:lnTo>
                          <a:pt x="20" y="41"/>
                        </a:lnTo>
                        <a:lnTo>
                          <a:pt x="45" y="21"/>
                        </a:lnTo>
                        <a:lnTo>
                          <a:pt x="28" y="0"/>
                        </a:lnTo>
                        <a:lnTo>
                          <a:pt x="30" y="3"/>
                        </a:lnTo>
                        <a:lnTo>
                          <a:pt x="0" y="18"/>
                        </a:lnTo>
                        <a:lnTo>
                          <a:pt x="2" y="19"/>
                        </a:lnTo>
                        <a:lnTo>
                          <a:pt x="3" y="20"/>
                        </a:lnTo>
                        <a:lnTo>
                          <a:pt x="0" y="1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5906880" y="1668600"/>
                    <a:ext cx="14400" cy="12600"/>
                  </a:xfrm>
                  <a:custGeom>
                    <a:avLst/>
                    <a:gdLst/>
                    <a:ahLst/>
                    <a:rect l="l" t="t" r="r" b="b"/>
                    <a:pathLst>
                      <a:path w="45" h="40">
                        <a:moveTo>
                          <a:pt x="0" y="12"/>
                        </a:moveTo>
                        <a:lnTo>
                          <a:pt x="2" y="15"/>
                        </a:lnTo>
                        <a:lnTo>
                          <a:pt x="15" y="40"/>
                        </a:lnTo>
                        <a:lnTo>
                          <a:pt x="45" y="25"/>
                        </a:lnTo>
                        <a:lnTo>
                          <a:pt x="32" y="0"/>
                        </a:lnTo>
                        <a:lnTo>
                          <a:pt x="33" y="2"/>
                        </a:lnTo>
                        <a:lnTo>
                          <a:pt x="0" y="12"/>
                        </a:lnTo>
                        <a:lnTo>
                          <a:pt x="2" y="13"/>
                        </a:lnTo>
                        <a:lnTo>
                          <a:pt x="2" y="15"/>
                        </a:lnTo>
                        <a:lnTo>
                          <a:pt x="0"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5903640" y="1658880"/>
                    <a:ext cx="14400" cy="12600"/>
                  </a:xfrm>
                  <a:custGeom>
                    <a:avLst/>
                    <a:gdLst/>
                    <a:ahLst/>
                    <a:rect l="l" t="t" r="r" b="b"/>
                    <a:pathLst>
                      <a:path w="41" h="39">
                        <a:moveTo>
                          <a:pt x="0" y="7"/>
                        </a:moveTo>
                        <a:lnTo>
                          <a:pt x="0" y="10"/>
                        </a:lnTo>
                        <a:lnTo>
                          <a:pt x="8" y="39"/>
                        </a:lnTo>
                        <a:lnTo>
                          <a:pt x="41" y="29"/>
                        </a:lnTo>
                        <a:lnTo>
                          <a:pt x="32" y="0"/>
                        </a:lnTo>
                        <a:lnTo>
                          <a:pt x="32" y="4"/>
                        </a:lnTo>
                        <a:lnTo>
                          <a:pt x="0" y="7"/>
                        </a:lnTo>
                        <a:lnTo>
                          <a:pt x="0" y="8"/>
                        </a:lnTo>
                        <a:lnTo>
                          <a:pt x="0" y="10"/>
                        </a:lnTo>
                        <a:lnTo>
                          <a:pt x="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5903640" y="1650960"/>
                    <a:ext cx="11160" cy="11160"/>
                  </a:xfrm>
                  <a:custGeom>
                    <a:avLst/>
                    <a:gdLst/>
                    <a:ahLst/>
                    <a:rect l="l" t="t" r="r" b="b"/>
                    <a:pathLst>
                      <a:path w="35" h="31">
                        <a:moveTo>
                          <a:pt x="0" y="0"/>
                        </a:moveTo>
                        <a:lnTo>
                          <a:pt x="0" y="2"/>
                        </a:lnTo>
                        <a:lnTo>
                          <a:pt x="3" y="31"/>
                        </a:lnTo>
                        <a:lnTo>
                          <a:pt x="35" y="28"/>
                        </a:lnTo>
                        <a:lnTo>
                          <a:pt x="33" y="0"/>
                        </a:lnTo>
                        <a:lnTo>
                          <a:pt x="33" y="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8" name=""/>
                  <p:cNvSpPr/>
                  <p:nvPr/>
                </p:nvSpPr>
                <p:spPr>
                  <a:xfrm>
                    <a:off x="6013440" y="1668600"/>
                    <a:ext cx="109440" cy="168120"/>
                  </a:xfrm>
                  <a:custGeom>
                    <a:avLst/>
                    <a:gdLst/>
                    <a:ahLst/>
                    <a:rect l="l" t="t" r="r" b="b"/>
                    <a:pathLst>
                      <a:path w="344" h="533">
                        <a:moveTo>
                          <a:pt x="0" y="364"/>
                        </a:moveTo>
                        <a:lnTo>
                          <a:pt x="4" y="398"/>
                        </a:lnTo>
                        <a:lnTo>
                          <a:pt x="14" y="429"/>
                        </a:lnTo>
                        <a:lnTo>
                          <a:pt x="30" y="458"/>
                        </a:lnTo>
                        <a:lnTo>
                          <a:pt x="50" y="483"/>
                        </a:lnTo>
                        <a:lnTo>
                          <a:pt x="105" y="519"/>
                        </a:lnTo>
                        <a:lnTo>
                          <a:pt x="137" y="529"/>
                        </a:lnTo>
                        <a:lnTo>
                          <a:pt x="172" y="533"/>
                        </a:lnTo>
                        <a:lnTo>
                          <a:pt x="240" y="519"/>
                        </a:lnTo>
                        <a:lnTo>
                          <a:pt x="294" y="483"/>
                        </a:lnTo>
                        <a:lnTo>
                          <a:pt x="316" y="458"/>
                        </a:lnTo>
                        <a:lnTo>
                          <a:pt x="331" y="429"/>
                        </a:lnTo>
                        <a:lnTo>
                          <a:pt x="344" y="364"/>
                        </a:lnTo>
                        <a:lnTo>
                          <a:pt x="344" y="167"/>
                        </a:lnTo>
                        <a:lnTo>
                          <a:pt x="341" y="133"/>
                        </a:lnTo>
                        <a:lnTo>
                          <a:pt x="331" y="101"/>
                        </a:lnTo>
                        <a:lnTo>
                          <a:pt x="316" y="74"/>
                        </a:lnTo>
                        <a:lnTo>
                          <a:pt x="294" y="49"/>
                        </a:lnTo>
                        <a:lnTo>
                          <a:pt x="269" y="29"/>
                        </a:lnTo>
                        <a:lnTo>
                          <a:pt x="240" y="12"/>
                        </a:lnTo>
                        <a:lnTo>
                          <a:pt x="207" y="4"/>
                        </a:lnTo>
                        <a:lnTo>
                          <a:pt x="172" y="0"/>
                        </a:lnTo>
                        <a:lnTo>
                          <a:pt x="137" y="4"/>
                        </a:lnTo>
                        <a:lnTo>
                          <a:pt x="105" y="12"/>
                        </a:lnTo>
                        <a:lnTo>
                          <a:pt x="76" y="29"/>
                        </a:lnTo>
                        <a:lnTo>
                          <a:pt x="50" y="49"/>
                        </a:lnTo>
                        <a:lnTo>
                          <a:pt x="30" y="74"/>
                        </a:lnTo>
                        <a:lnTo>
                          <a:pt x="14" y="101"/>
                        </a:lnTo>
                        <a:lnTo>
                          <a:pt x="4" y="133"/>
                        </a:lnTo>
                        <a:lnTo>
                          <a:pt x="0" y="167"/>
                        </a:lnTo>
                        <a:lnTo>
                          <a:pt x="0" y="36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008400" y="1782720"/>
                    <a:ext cx="11160" cy="12600"/>
                  </a:xfrm>
                  <a:custGeom>
                    <a:avLst/>
                    <a:gdLst/>
                    <a:ahLst/>
                    <a:rect l="l" t="t" r="r" b="b"/>
                    <a:pathLst>
                      <a:path w="36" h="40">
                        <a:moveTo>
                          <a:pt x="36" y="30"/>
                        </a:moveTo>
                        <a:lnTo>
                          <a:pt x="36" y="34"/>
                        </a:lnTo>
                        <a:lnTo>
                          <a:pt x="32" y="0"/>
                        </a:lnTo>
                        <a:lnTo>
                          <a:pt x="0" y="2"/>
                        </a:lnTo>
                        <a:lnTo>
                          <a:pt x="4" y="36"/>
                        </a:lnTo>
                        <a:lnTo>
                          <a:pt x="4" y="40"/>
                        </a:lnTo>
                        <a:lnTo>
                          <a:pt x="4" y="36"/>
                        </a:lnTo>
                        <a:lnTo>
                          <a:pt x="4" y="37"/>
                        </a:lnTo>
                        <a:lnTo>
                          <a:pt x="4" y="40"/>
                        </a:lnTo>
                        <a:lnTo>
                          <a:pt x="36" y="3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6010200" y="1792440"/>
                    <a:ext cx="12600" cy="14040"/>
                  </a:xfrm>
                  <a:custGeom>
                    <a:avLst/>
                    <a:gdLst/>
                    <a:ahLst/>
                    <a:rect l="l" t="t" r="r" b="b"/>
                    <a:pathLst>
                      <a:path w="42" h="44">
                        <a:moveTo>
                          <a:pt x="41" y="29"/>
                        </a:moveTo>
                        <a:lnTo>
                          <a:pt x="42" y="31"/>
                        </a:lnTo>
                        <a:lnTo>
                          <a:pt x="32" y="0"/>
                        </a:lnTo>
                        <a:lnTo>
                          <a:pt x="0" y="10"/>
                        </a:lnTo>
                        <a:lnTo>
                          <a:pt x="10" y="41"/>
                        </a:lnTo>
                        <a:lnTo>
                          <a:pt x="11" y="44"/>
                        </a:lnTo>
                        <a:lnTo>
                          <a:pt x="10" y="41"/>
                        </a:lnTo>
                        <a:lnTo>
                          <a:pt x="11" y="42"/>
                        </a:lnTo>
                        <a:lnTo>
                          <a:pt x="11" y="44"/>
                        </a:lnTo>
                        <a:lnTo>
                          <a:pt x="41" y="2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1" name=""/>
                  <p:cNvSpPr/>
                  <p:nvPr/>
                </p:nvSpPr>
                <p:spPr>
                  <a:xfrm>
                    <a:off x="6013440" y="1801800"/>
                    <a:ext cx="14040" cy="14400"/>
                  </a:xfrm>
                  <a:custGeom>
                    <a:avLst/>
                    <a:gdLst/>
                    <a:ahLst/>
                    <a:rect l="l" t="t" r="r" b="b"/>
                    <a:pathLst>
                      <a:path w="46" h="46">
                        <a:moveTo>
                          <a:pt x="43" y="26"/>
                        </a:moveTo>
                        <a:lnTo>
                          <a:pt x="46" y="28"/>
                        </a:lnTo>
                        <a:lnTo>
                          <a:pt x="30" y="0"/>
                        </a:lnTo>
                        <a:lnTo>
                          <a:pt x="0" y="15"/>
                        </a:lnTo>
                        <a:lnTo>
                          <a:pt x="16" y="43"/>
                        </a:lnTo>
                        <a:lnTo>
                          <a:pt x="19" y="46"/>
                        </a:lnTo>
                        <a:lnTo>
                          <a:pt x="43"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2" name=""/>
                  <p:cNvSpPr/>
                  <p:nvPr/>
                </p:nvSpPr>
                <p:spPr>
                  <a:xfrm>
                    <a:off x="6019560" y="1809720"/>
                    <a:ext cx="14400" cy="15840"/>
                  </a:xfrm>
                  <a:custGeom>
                    <a:avLst/>
                    <a:gdLst/>
                    <a:ahLst/>
                    <a:rect l="l" t="t" r="r" b="b"/>
                    <a:pathLst>
                      <a:path w="44" h="48">
                        <a:moveTo>
                          <a:pt x="41" y="21"/>
                        </a:moveTo>
                        <a:lnTo>
                          <a:pt x="44" y="25"/>
                        </a:lnTo>
                        <a:lnTo>
                          <a:pt x="24" y="0"/>
                        </a:lnTo>
                        <a:lnTo>
                          <a:pt x="0" y="20"/>
                        </a:lnTo>
                        <a:lnTo>
                          <a:pt x="19" y="45"/>
                        </a:lnTo>
                        <a:lnTo>
                          <a:pt x="23" y="48"/>
                        </a:lnTo>
                        <a:lnTo>
                          <a:pt x="19" y="45"/>
                        </a:lnTo>
                        <a:lnTo>
                          <a:pt x="21" y="47"/>
                        </a:lnTo>
                        <a:lnTo>
                          <a:pt x="23" y="48"/>
                        </a:lnTo>
                        <a:lnTo>
                          <a:pt x="41"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3" name=""/>
                  <p:cNvSpPr/>
                  <p:nvPr/>
                </p:nvSpPr>
                <p:spPr>
                  <a:xfrm>
                    <a:off x="6027480" y="1817640"/>
                    <a:ext cx="22320" cy="20520"/>
                  </a:xfrm>
                  <a:custGeom>
                    <a:avLst/>
                    <a:gdLst/>
                    <a:ahLst/>
                    <a:rect l="l" t="t" r="r" b="b"/>
                    <a:pathLst>
                      <a:path w="73" h="66">
                        <a:moveTo>
                          <a:pt x="69" y="34"/>
                        </a:moveTo>
                        <a:lnTo>
                          <a:pt x="73" y="36"/>
                        </a:lnTo>
                        <a:lnTo>
                          <a:pt x="18" y="0"/>
                        </a:lnTo>
                        <a:lnTo>
                          <a:pt x="0" y="27"/>
                        </a:lnTo>
                        <a:lnTo>
                          <a:pt x="55" y="64"/>
                        </a:lnTo>
                        <a:lnTo>
                          <a:pt x="59" y="66"/>
                        </a:lnTo>
                        <a:lnTo>
                          <a:pt x="55" y="64"/>
                        </a:lnTo>
                        <a:lnTo>
                          <a:pt x="56" y="65"/>
                        </a:lnTo>
                        <a:lnTo>
                          <a:pt x="59" y="66"/>
                        </a:lnTo>
                        <a:lnTo>
                          <a:pt x="69" y="3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4" name=""/>
                  <p:cNvSpPr/>
                  <p:nvPr/>
                </p:nvSpPr>
                <p:spPr>
                  <a:xfrm>
                    <a:off x="6045120" y="1827360"/>
                    <a:ext cx="14400" cy="14040"/>
                  </a:xfrm>
                  <a:custGeom>
                    <a:avLst/>
                    <a:gdLst/>
                    <a:ahLst/>
                    <a:rect l="l" t="t" r="r" b="b"/>
                    <a:pathLst>
                      <a:path w="42" h="42">
                        <a:moveTo>
                          <a:pt x="38" y="10"/>
                        </a:moveTo>
                        <a:lnTo>
                          <a:pt x="42" y="10"/>
                        </a:lnTo>
                        <a:lnTo>
                          <a:pt x="10" y="0"/>
                        </a:lnTo>
                        <a:lnTo>
                          <a:pt x="0" y="32"/>
                        </a:lnTo>
                        <a:lnTo>
                          <a:pt x="32" y="42"/>
                        </a:lnTo>
                        <a:lnTo>
                          <a:pt x="36" y="42"/>
                        </a:lnTo>
                        <a:lnTo>
                          <a:pt x="32" y="42"/>
                        </a:lnTo>
                        <a:lnTo>
                          <a:pt x="35" y="42"/>
                        </a:lnTo>
                        <a:lnTo>
                          <a:pt x="36" y="42"/>
                        </a:lnTo>
                        <a:lnTo>
                          <a:pt x="38"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5" name=""/>
                  <p:cNvSpPr/>
                  <p:nvPr/>
                </p:nvSpPr>
                <p:spPr>
                  <a:xfrm>
                    <a:off x="6057720" y="1830240"/>
                    <a:ext cx="11160" cy="12960"/>
                  </a:xfrm>
                  <a:custGeom>
                    <a:avLst/>
                    <a:gdLst/>
                    <a:ahLst/>
                    <a:rect l="l" t="t" r="r" b="b"/>
                    <a:pathLst>
                      <a:path w="39" h="37">
                        <a:moveTo>
                          <a:pt x="34" y="3"/>
                        </a:moveTo>
                        <a:lnTo>
                          <a:pt x="37" y="3"/>
                        </a:lnTo>
                        <a:lnTo>
                          <a:pt x="2" y="0"/>
                        </a:lnTo>
                        <a:lnTo>
                          <a:pt x="0" y="32"/>
                        </a:lnTo>
                        <a:lnTo>
                          <a:pt x="35" y="36"/>
                        </a:lnTo>
                        <a:lnTo>
                          <a:pt x="39" y="36"/>
                        </a:lnTo>
                        <a:lnTo>
                          <a:pt x="35" y="36"/>
                        </a:lnTo>
                        <a:lnTo>
                          <a:pt x="36" y="37"/>
                        </a:lnTo>
                        <a:lnTo>
                          <a:pt x="39" y="36"/>
                        </a:lnTo>
                        <a:lnTo>
                          <a:pt x="34"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6" name=""/>
                  <p:cNvSpPr/>
                  <p:nvPr/>
                </p:nvSpPr>
                <p:spPr>
                  <a:xfrm>
                    <a:off x="6067440" y="1827360"/>
                    <a:ext cx="25200" cy="15840"/>
                  </a:xfrm>
                  <a:custGeom>
                    <a:avLst/>
                    <a:gdLst/>
                    <a:ahLst/>
                    <a:rect l="l" t="t" r="r" b="b"/>
                    <a:pathLst>
                      <a:path w="78" h="46">
                        <a:moveTo>
                          <a:pt x="61" y="2"/>
                        </a:moveTo>
                        <a:lnTo>
                          <a:pt x="67" y="0"/>
                        </a:lnTo>
                        <a:lnTo>
                          <a:pt x="0" y="13"/>
                        </a:lnTo>
                        <a:lnTo>
                          <a:pt x="5" y="46"/>
                        </a:lnTo>
                        <a:lnTo>
                          <a:pt x="72" y="32"/>
                        </a:lnTo>
                        <a:lnTo>
                          <a:pt x="78" y="30"/>
                        </a:lnTo>
                        <a:lnTo>
                          <a:pt x="72" y="32"/>
                        </a:lnTo>
                        <a:lnTo>
                          <a:pt x="76" y="32"/>
                        </a:lnTo>
                        <a:lnTo>
                          <a:pt x="78" y="30"/>
                        </a:lnTo>
                        <a:lnTo>
                          <a:pt x="61"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597" name=""/>
                <p:cNvSpPr/>
                <p:nvPr/>
              </p:nvSpPr>
              <p:spPr>
                <a:xfrm>
                  <a:off x="6087960" y="1817640"/>
                  <a:ext cx="23760" cy="19080"/>
                </a:xfrm>
                <a:custGeom>
                  <a:avLst/>
                  <a:gdLst/>
                  <a:ahLst/>
                  <a:rect l="l" t="t" r="r" b="b"/>
                  <a:pathLst>
                    <a:path w="76" h="64">
                      <a:moveTo>
                        <a:pt x="51" y="2"/>
                      </a:moveTo>
                      <a:lnTo>
                        <a:pt x="55" y="0"/>
                      </a:lnTo>
                      <a:lnTo>
                        <a:pt x="0" y="36"/>
                      </a:lnTo>
                      <a:lnTo>
                        <a:pt x="17" y="64"/>
                      </a:lnTo>
                      <a:lnTo>
                        <a:pt x="72" y="27"/>
                      </a:lnTo>
                      <a:lnTo>
                        <a:pt x="76" y="25"/>
                      </a:lnTo>
                      <a:lnTo>
                        <a:pt x="72" y="27"/>
                      </a:lnTo>
                      <a:lnTo>
                        <a:pt x="75" y="26"/>
                      </a:lnTo>
                      <a:lnTo>
                        <a:pt x="76" y="25"/>
                      </a:lnTo>
                      <a:lnTo>
                        <a:pt x="51"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8" name=""/>
                <p:cNvSpPr/>
                <p:nvPr/>
              </p:nvSpPr>
              <p:spPr>
                <a:xfrm>
                  <a:off x="6103800" y="1809720"/>
                  <a:ext cx="15840" cy="15840"/>
                </a:xfrm>
                <a:custGeom>
                  <a:avLst/>
                  <a:gdLst/>
                  <a:ahLst/>
                  <a:rect l="l" t="t" r="r" b="b"/>
                  <a:pathLst>
                    <a:path w="49" h="47">
                      <a:moveTo>
                        <a:pt x="19" y="3"/>
                      </a:moveTo>
                      <a:lnTo>
                        <a:pt x="21" y="0"/>
                      </a:lnTo>
                      <a:lnTo>
                        <a:pt x="0" y="24"/>
                      </a:lnTo>
                      <a:lnTo>
                        <a:pt x="25" y="47"/>
                      </a:lnTo>
                      <a:lnTo>
                        <a:pt x="46" y="22"/>
                      </a:lnTo>
                      <a:lnTo>
                        <a:pt x="49" y="18"/>
                      </a:lnTo>
                      <a:lnTo>
                        <a:pt x="46" y="22"/>
                      </a:lnTo>
                      <a:lnTo>
                        <a:pt x="47" y="19"/>
                      </a:lnTo>
                      <a:lnTo>
                        <a:pt x="49" y="18"/>
                      </a:lnTo>
                      <a:lnTo>
                        <a:pt x="19"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9" name=""/>
                <p:cNvSpPr/>
                <p:nvPr/>
              </p:nvSpPr>
              <p:spPr>
                <a:xfrm>
                  <a:off x="6110280" y="1801800"/>
                  <a:ext cx="14040" cy="14400"/>
                </a:xfrm>
                <a:custGeom>
                  <a:avLst/>
                  <a:gdLst/>
                  <a:ahLst/>
                  <a:rect l="l" t="t" r="r" b="b"/>
                  <a:pathLst>
                    <a:path w="46" h="43">
                      <a:moveTo>
                        <a:pt x="13" y="5"/>
                      </a:moveTo>
                      <a:lnTo>
                        <a:pt x="15" y="0"/>
                      </a:lnTo>
                      <a:lnTo>
                        <a:pt x="0" y="28"/>
                      </a:lnTo>
                      <a:lnTo>
                        <a:pt x="30" y="43"/>
                      </a:lnTo>
                      <a:lnTo>
                        <a:pt x="45" y="15"/>
                      </a:lnTo>
                      <a:lnTo>
                        <a:pt x="46" y="10"/>
                      </a:lnTo>
                      <a:lnTo>
                        <a:pt x="45" y="15"/>
                      </a:lnTo>
                      <a:lnTo>
                        <a:pt x="46" y="12"/>
                      </a:lnTo>
                      <a:lnTo>
                        <a:pt x="46" y="10"/>
                      </a:lnTo>
                      <a:lnTo>
                        <a:pt x="13"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0" name=""/>
                <p:cNvSpPr/>
                <p:nvPr/>
              </p:nvSpPr>
              <p:spPr>
                <a:xfrm>
                  <a:off x="6113160" y="1782720"/>
                  <a:ext cx="16200" cy="22320"/>
                </a:xfrm>
                <a:custGeom>
                  <a:avLst/>
                  <a:gdLst/>
                  <a:ahLst/>
                  <a:rect l="l" t="t" r="r" b="b"/>
                  <a:pathLst>
                    <a:path w="48" h="70">
                      <a:moveTo>
                        <a:pt x="13" y="2"/>
                      </a:moveTo>
                      <a:lnTo>
                        <a:pt x="14" y="0"/>
                      </a:lnTo>
                      <a:lnTo>
                        <a:pt x="0" y="65"/>
                      </a:lnTo>
                      <a:lnTo>
                        <a:pt x="33" y="70"/>
                      </a:lnTo>
                      <a:lnTo>
                        <a:pt x="46" y="5"/>
                      </a:lnTo>
                      <a:lnTo>
                        <a:pt x="48" y="2"/>
                      </a:lnTo>
                      <a:lnTo>
                        <a:pt x="46" y="5"/>
                      </a:lnTo>
                      <a:lnTo>
                        <a:pt x="46" y="3"/>
                      </a:lnTo>
                      <a:lnTo>
                        <a:pt x="48" y="2"/>
                      </a:lnTo>
                      <a:lnTo>
                        <a:pt x="13"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1" name=""/>
                <p:cNvSpPr/>
                <p:nvPr/>
              </p:nvSpPr>
              <p:spPr>
                <a:xfrm>
                  <a:off x="6118200" y="1720800"/>
                  <a:ext cx="11160" cy="63720"/>
                </a:xfrm>
                <a:custGeom>
                  <a:avLst/>
                  <a:gdLst/>
                  <a:ahLst/>
                  <a:rect l="l" t="t" r="r" b="b"/>
                  <a:pathLst>
                    <a:path w="35" h="198">
                      <a:moveTo>
                        <a:pt x="1" y="2"/>
                      </a:moveTo>
                      <a:lnTo>
                        <a:pt x="0" y="1"/>
                      </a:lnTo>
                      <a:lnTo>
                        <a:pt x="0" y="198"/>
                      </a:lnTo>
                      <a:lnTo>
                        <a:pt x="35" y="198"/>
                      </a:lnTo>
                      <a:lnTo>
                        <a:pt x="35" y="1"/>
                      </a:lnTo>
                      <a:lnTo>
                        <a:pt x="33" y="0"/>
                      </a:lnTo>
                      <a:lnTo>
                        <a:pt x="1"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2" name=""/>
                <p:cNvSpPr/>
                <p:nvPr/>
              </p:nvSpPr>
              <p:spPr>
                <a:xfrm>
                  <a:off x="6116400" y="1708200"/>
                  <a:ext cx="11160" cy="12600"/>
                </a:xfrm>
                <a:custGeom>
                  <a:avLst/>
                  <a:gdLst/>
                  <a:ahLst/>
                  <a:rect l="l" t="t" r="r" b="b"/>
                  <a:pathLst>
                    <a:path w="36" h="40">
                      <a:moveTo>
                        <a:pt x="0" y="10"/>
                      </a:moveTo>
                      <a:lnTo>
                        <a:pt x="0" y="7"/>
                      </a:lnTo>
                      <a:lnTo>
                        <a:pt x="4" y="40"/>
                      </a:lnTo>
                      <a:lnTo>
                        <a:pt x="36" y="38"/>
                      </a:lnTo>
                      <a:lnTo>
                        <a:pt x="33" y="4"/>
                      </a:lnTo>
                      <a:lnTo>
                        <a:pt x="33" y="0"/>
                      </a:lnTo>
                      <a:lnTo>
                        <a:pt x="33" y="4"/>
                      </a:lnTo>
                      <a:lnTo>
                        <a:pt x="33" y="3"/>
                      </a:lnTo>
                      <a:lnTo>
                        <a:pt x="33" y="0"/>
                      </a:lnTo>
                      <a:lnTo>
                        <a:pt x="0"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3" name=""/>
                <p:cNvSpPr/>
                <p:nvPr/>
              </p:nvSpPr>
              <p:spPr>
                <a:xfrm>
                  <a:off x="6113160" y="1697040"/>
                  <a:ext cx="14400" cy="14400"/>
                </a:xfrm>
                <a:custGeom>
                  <a:avLst/>
                  <a:gdLst/>
                  <a:ahLst/>
                  <a:rect l="l" t="t" r="r" b="b"/>
                  <a:pathLst>
                    <a:path w="43" h="45">
                      <a:moveTo>
                        <a:pt x="2" y="15"/>
                      </a:moveTo>
                      <a:lnTo>
                        <a:pt x="0" y="13"/>
                      </a:lnTo>
                      <a:lnTo>
                        <a:pt x="10" y="45"/>
                      </a:lnTo>
                      <a:lnTo>
                        <a:pt x="43" y="35"/>
                      </a:lnTo>
                      <a:lnTo>
                        <a:pt x="33" y="3"/>
                      </a:lnTo>
                      <a:lnTo>
                        <a:pt x="32" y="0"/>
                      </a:lnTo>
                      <a:lnTo>
                        <a:pt x="33" y="3"/>
                      </a:lnTo>
                      <a:lnTo>
                        <a:pt x="32" y="2"/>
                      </a:lnTo>
                      <a:lnTo>
                        <a:pt x="32" y="0"/>
                      </a:lnTo>
                      <a:lnTo>
                        <a:pt x="2"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4" name=""/>
                <p:cNvSpPr/>
                <p:nvPr/>
              </p:nvSpPr>
              <p:spPr>
                <a:xfrm>
                  <a:off x="6110280" y="1687680"/>
                  <a:ext cx="14040" cy="14040"/>
                </a:xfrm>
                <a:custGeom>
                  <a:avLst/>
                  <a:gdLst/>
                  <a:ahLst/>
                  <a:rect l="l" t="t" r="r" b="b"/>
                  <a:pathLst>
                    <a:path w="45" h="46">
                      <a:moveTo>
                        <a:pt x="2" y="23"/>
                      </a:moveTo>
                      <a:lnTo>
                        <a:pt x="0" y="19"/>
                      </a:lnTo>
                      <a:lnTo>
                        <a:pt x="15" y="46"/>
                      </a:lnTo>
                      <a:lnTo>
                        <a:pt x="45" y="31"/>
                      </a:lnTo>
                      <a:lnTo>
                        <a:pt x="30" y="4"/>
                      </a:lnTo>
                      <a:lnTo>
                        <a:pt x="27" y="0"/>
                      </a:lnTo>
                      <a:lnTo>
                        <a:pt x="30" y="4"/>
                      </a:lnTo>
                      <a:lnTo>
                        <a:pt x="28" y="3"/>
                      </a:lnTo>
                      <a:lnTo>
                        <a:pt x="27" y="0"/>
                      </a:lnTo>
                      <a:lnTo>
                        <a:pt x="2"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5" name=""/>
                <p:cNvSpPr/>
                <p:nvPr/>
              </p:nvSpPr>
              <p:spPr>
                <a:xfrm>
                  <a:off x="6103800" y="1679400"/>
                  <a:ext cx="14400" cy="16200"/>
                </a:xfrm>
                <a:custGeom>
                  <a:avLst/>
                  <a:gdLst/>
                  <a:ahLst/>
                  <a:rect l="l" t="t" r="r" b="b"/>
                  <a:pathLst>
                    <a:path w="46" h="49">
                      <a:moveTo>
                        <a:pt x="2" y="25"/>
                      </a:moveTo>
                      <a:lnTo>
                        <a:pt x="0" y="24"/>
                      </a:lnTo>
                      <a:lnTo>
                        <a:pt x="21" y="49"/>
                      </a:lnTo>
                      <a:lnTo>
                        <a:pt x="46" y="26"/>
                      </a:lnTo>
                      <a:lnTo>
                        <a:pt x="25" y="1"/>
                      </a:lnTo>
                      <a:lnTo>
                        <a:pt x="22" y="0"/>
                      </a:lnTo>
                      <a:lnTo>
                        <a:pt x="25" y="1"/>
                      </a:lnTo>
                      <a:lnTo>
                        <a:pt x="24" y="0"/>
                      </a:lnTo>
                      <a:lnTo>
                        <a:pt x="22" y="0"/>
                      </a:lnTo>
                      <a:lnTo>
                        <a:pt x="2" y="2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6" name=""/>
                <p:cNvSpPr/>
                <p:nvPr/>
              </p:nvSpPr>
              <p:spPr>
                <a:xfrm>
                  <a:off x="6095880" y="1673280"/>
                  <a:ext cx="14400" cy="14400"/>
                </a:xfrm>
                <a:custGeom>
                  <a:avLst/>
                  <a:gdLst/>
                  <a:ahLst/>
                  <a:rect l="l" t="t" r="r" b="b"/>
                  <a:pathLst>
                    <a:path w="45" h="47">
                      <a:moveTo>
                        <a:pt x="3" y="30"/>
                      </a:moveTo>
                      <a:lnTo>
                        <a:pt x="0" y="27"/>
                      </a:lnTo>
                      <a:lnTo>
                        <a:pt x="25" y="47"/>
                      </a:lnTo>
                      <a:lnTo>
                        <a:pt x="45" y="22"/>
                      </a:lnTo>
                      <a:lnTo>
                        <a:pt x="20" y="2"/>
                      </a:lnTo>
                      <a:lnTo>
                        <a:pt x="18" y="0"/>
                      </a:lnTo>
                      <a:lnTo>
                        <a:pt x="20" y="2"/>
                      </a:lnTo>
                      <a:lnTo>
                        <a:pt x="19" y="1"/>
                      </a:lnTo>
                      <a:lnTo>
                        <a:pt x="18" y="0"/>
                      </a:lnTo>
                      <a:lnTo>
                        <a:pt x="3" y="3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6087960" y="1666800"/>
                  <a:ext cx="14400" cy="15840"/>
                </a:xfrm>
                <a:custGeom>
                  <a:avLst/>
                  <a:gdLst/>
                  <a:ahLst/>
                  <a:rect l="l" t="t" r="r" b="b"/>
                  <a:pathLst>
                    <a:path w="45" h="48">
                      <a:moveTo>
                        <a:pt x="4" y="33"/>
                      </a:moveTo>
                      <a:lnTo>
                        <a:pt x="0" y="31"/>
                      </a:lnTo>
                      <a:lnTo>
                        <a:pt x="30" y="48"/>
                      </a:lnTo>
                      <a:lnTo>
                        <a:pt x="45" y="18"/>
                      </a:lnTo>
                      <a:lnTo>
                        <a:pt x="15" y="1"/>
                      </a:lnTo>
                      <a:lnTo>
                        <a:pt x="11" y="0"/>
                      </a:lnTo>
                      <a:lnTo>
                        <a:pt x="15" y="1"/>
                      </a:lnTo>
                      <a:lnTo>
                        <a:pt x="14" y="0"/>
                      </a:lnTo>
                      <a:lnTo>
                        <a:pt x="11" y="0"/>
                      </a:lnTo>
                      <a:lnTo>
                        <a:pt x="4"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8" name=""/>
                <p:cNvSpPr/>
                <p:nvPr/>
              </p:nvSpPr>
              <p:spPr>
                <a:xfrm>
                  <a:off x="6078240" y="1663560"/>
                  <a:ext cx="12960" cy="14400"/>
                </a:xfrm>
                <a:custGeom>
                  <a:avLst/>
                  <a:gdLst/>
                  <a:ahLst/>
                  <a:rect l="l" t="t" r="r" b="b"/>
                  <a:pathLst>
                    <a:path w="40" h="42">
                      <a:moveTo>
                        <a:pt x="3" y="33"/>
                      </a:moveTo>
                      <a:lnTo>
                        <a:pt x="0" y="33"/>
                      </a:lnTo>
                      <a:lnTo>
                        <a:pt x="33" y="42"/>
                      </a:lnTo>
                      <a:lnTo>
                        <a:pt x="40" y="9"/>
                      </a:lnTo>
                      <a:lnTo>
                        <a:pt x="8" y="0"/>
                      </a:lnTo>
                      <a:lnTo>
                        <a:pt x="5" y="0"/>
                      </a:lnTo>
                      <a:lnTo>
                        <a:pt x="3" y="3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9" name=""/>
                <p:cNvSpPr/>
                <p:nvPr/>
              </p:nvSpPr>
              <p:spPr>
                <a:xfrm>
                  <a:off x="6068880" y="1662120"/>
                  <a:ext cx="11160" cy="12600"/>
                </a:xfrm>
                <a:custGeom>
                  <a:avLst/>
                  <a:gdLst/>
                  <a:ahLst/>
                  <a:rect l="l" t="t" r="r" b="b"/>
                  <a:pathLst>
                    <a:path w="37" h="38">
                      <a:moveTo>
                        <a:pt x="2" y="34"/>
                      </a:moveTo>
                      <a:lnTo>
                        <a:pt x="0" y="34"/>
                      </a:lnTo>
                      <a:lnTo>
                        <a:pt x="35" y="38"/>
                      </a:lnTo>
                      <a:lnTo>
                        <a:pt x="37" y="5"/>
                      </a:lnTo>
                      <a:lnTo>
                        <a:pt x="2" y="2"/>
                      </a:lnTo>
                      <a:lnTo>
                        <a:pt x="0" y="2"/>
                      </a:lnTo>
                      <a:lnTo>
                        <a:pt x="2" y="2"/>
                      </a:lnTo>
                      <a:lnTo>
                        <a:pt x="1" y="0"/>
                      </a:lnTo>
                      <a:lnTo>
                        <a:pt x="0" y="2"/>
                      </a:lnTo>
                      <a:lnTo>
                        <a:pt x="2"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a:off x="6056280" y="1663560"/>
                  <a:ext cx="12600" cy="11160"/>
                </a:xfrm>
                <a:custGeom>
                  <a:avLst/>
                  <a:gdLst/>
                  <a:ahLst/>
                  <a:rect l="l" t="t" r="r" b="b"/>
                  <a:pathLst>
                    <a:path w="39" h="36">
                      <a:moveTo>
                        <a:pt x="7" y="36"/>
                      </a:moveTo>
                      <a:lnTo>
                        <a:pt x="4" y="36"/>
                      </a:lnTo>
                      <a:lnTo>
                        <a:pt x="39" y="32"/>
                      </a:lnTo>
                      <a:lnTo>
                        <a:pt x="37" y="0"/>
                      </a:lnTo>
                      <a:lnTo>
                        <a:pt x="2" y="3"/>
                      </a:lnTo>
                      <a:lnTo>
                        <a:pt x="0" y="3"/>
                      </a:lnTo>
                      <a:lnTo>
                        <a:pt x="7" y="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1" name=""/>
                <p:cNvSpPr/>
                <p:nvPr/>
              </p:nvSpPr>
              <p:spPr>
                <a:xfrm>
                  <a:off x="6045120" y="1663560"/>
                  <a:ext cx="14400" cy="14400"/>
                </a:xfrm>
                <a:custGeom>
                  <a:avLst/>
                  <a:gdLst/>
                  <a:ahLst/>
                  <a:rect l="l" t="t" r="r" b="b"/>
                  <a:pathLst>
                    <a:path w="44" h="42">
                      <a:moveTo>
                        <a:pt x="15" y="40"/>
                      </a:moveTo>
                      <a:lnTo>
                        <a:pt x="12" y="42"/>
                      </a:lnTo>
                      <a:lnTo>
                        <a:pt x="44" y="33"/>
                      </a:lnTo>
                      <a:lnTo>
                        <a:pt x="37" y="0"/>
                      </a:lnTo>
                      <a:lnTo>
                        <a:pt x="4" y="9"/>
                      </a:lnTo>
                      <a:lnTo>
                        <a:pt x="0" y="10"/>
                      </a:lnTo>
                      <a:lnTo>
                        <a:pt x="4" y="9"/>
                      </a:lnTo>
                      <a:lnTo>
                        <a:pt x="2" y="9"/>
                      </a:lnTo>
                      <a:lnTo>
                        <a:pt x="0" y="10"/>
                      </a:lnTo>
                      <a:lnTo>
                        <a:pt x="15" y="4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2" name=""/>
                <p:cNvSpPr/>
                <p:nvPr/>
              </p:nvSpPr>
              <p:spPr>
                <a:xfrm>
                  <a:off x="6035400" y="1666800"/>
                  <a:ext cx="14400" cy="15840"/>
                </a:xfrm>
                <a:custGeom>
                  <a:avLst/>
                  <a:gdLst/>
                  <a:ahLst/>
                  <a:rect l="l" t="t" r="r" b="b"/>
                  <a:pathLst>
                    <a:path w="46" h="47">
                      <a:moveTo>
                        <a:pt x="20" y="45"/>
                      </a:moveTo>
                      <a:lnTo>
                        <a:pt x="18" y="47"/>
                      </a:lnTo>
                      <a:lnTo>
                        <a:pt x="46" y="30"/>
                      </a:lnTo>
                      <a:lnTo>
                        <a:pt x="31" y="0"/>
                      </a:lnTo>
                      <a:lnTo>
                        <a:pt x="3" y="17"/>
                      </a:lnTo>
                      <a:lnTo>
                        <a:pt x="0" y="18"/>
                      </a:lnTo>
                      <a:lnTo>
                        <a:pt x="20" y="4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3" name=""/>
                <p:cNvSpPr/>
                <p:nvPr/>
              </p:nvSpPr>
              <p:spPr>
                <a:xfrm>
                  <a:off x="6026040" y="1673280"/>
                  <a:ext cx="15840" cy="14400"/>
                </a:xfrm>
                <a:custGeom>
                  <a:avLst/>
                  <a:gdLst/>
                  <a:ahLst/>
                  <a:rect l="l" t="t" r="r" b="b"/>
                  <a:pathLst>
                    <a:path w="49" h="47">
                      <a:moveTo>
                        <a:pt x="25" y="44"/>
                      </a:moveTo>
                      <a:lnTo>
                        <a:pt x="23" y="47"/>
                      </a:lnTo>
                      <a:lnTo>
                        <a:pt x="49" y="27"/>
                      </a:lnTo>
                      <a:lnTo>
                        <a:pt x="29" y="0"/>
                      </a:lnTo>
                      <a:lnTo>
                        <a:pt x="3" y="20"/>
                      </a:lnTo>
                      <a:lnTo>
                        <a:pt x="0" y="24"/>
                      </a:lnTo>
                      <a:lnTo>
                        <a:pt x="3" y="20"/>
                      </a:lnTo>
                      <a:lnTo>
                        <a:pt x="2" y="21"/>
                      </a:lnTo>
                      <a:lnTo>
                        <a:pt x="0" y="24"/>
                      </a:lnTo>
                      <a:lnTo>
                        <a:pt x="25" y="4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
                <p:cNvSpPr/>
                <p:nvPr/>
              </p:nvSpPr>
              <p:spPr>
                <a:xfrm>
                  <a:off x="6018120" y="1681200"/>
                  <a:ext cx="15840" cy="12600"/>
                </a:xfrm>
                <a:custGeom>
                  <a:avLst/>
                  <a:gdLst/>
                  <a:ahLst/>
                  <a:rect l="l" t="t" r="r" b="b"/>
                  <a:pathLst>
                    <a:path w="47" h="44">
                      <a:moveTo>
                        <a:pt x="30" y="43"/>
                      </a:moveTo>
                      <a:lnTo>
                        <a:pt x="27" y="44"/>
                      </a:lnTo>
                      <a:lnTo>
                        <a:pt x="47" y="20"/>
                      </a:lnTo>
                      <a:lnTo>
                        <a:pt x="22" y="0"/>
                      </a:lnTo>
                      <a:lnTo>
                        <a:pt x="3" y="25"/>
                      </a:lnTo>
                      <a:lnTo>
                        <a:pt x="0" y="26"/>
                      </a:lnTo>
                      <a:lnTo>
                        <a:pt x="3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5" name=""/>
                <p:cNvSpPr/>
                <p:nvPr/>
              </p:nvSpPr>
              <p:spPr>
                <a:xfrm>
                  <a:off x="6013440" y="1689120"/>
                  <a:ext cx="14040" cy="14400"/>
                </a:xfrm>
                <a:custGeom>
                  <a:avLst/>
                  <a:gdLst/>
                  <a:ahLst/>
                  <a:rect l="l" t="t" r="r" b="b"/>
                  <a:pathLst>
                    <a:path w="47" h="45">
                      <a:moveTo>
                        <a:pt x="32" y="41"/>
                      </a:moveTo>
                      <a:lnTo>
                        <a:pt x="31" y="45"/>
                      </a:lnTo>
                      <a:lnTo>
                        <a:pt x="47" y="17"/>
                      </a:lnTo>
                      <a:lnTo>
                        <a:pt x="17" y="0"/>
                      </a:lnTo>
                      <a:lnTo>
                        <a:pt x="1" y="27"/>
                      </a:lnTo>
                      <a:lnTo>
                        <a:pt x="0" y="31"/>
                      </a:lnTo>
                      <a:lnTo>
                        <a:pt x="1" y="27"/>
                      </a:lnTo>
                      <a:lnTo>
                        <a:pt x="1" y="30"/>
                      </a:lnTo>
                      <a:lnTo>
                        <a:pt x="0" y="31"/>
                      </a:lnTo>
                      <a:lnTo>
                        <a:pt x="32" y="4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6" name=""/>
                <p:cNvSpPr/>
                <p:nvPr/>
              </p:nvSpPr>
              <p:spPr>
                <a:xfrm>
                  <a:off x="6010200" y="1698480"/>
                  <a:ext cx="12600" cy="12960"/>
                </a:xfrm>
                <a:custGeom>
                  <a:avLst/>
                  <a:gdLst/>
                  <a:ahLst/>
                  <a:rect l="l" t="t" r="r" b="b"/>
                  <a:pathLst>
                    <a:path w="42" h="42">
                      <a:moveTo>
                        <a:pt x="32" y="39"/>
                      </a:moveTo>
                      <a:lnTo>
                        <a:pt x="32" y="42"/>
                      </a:lnTo>
                      <a:lnTo>
                        <a:pt x="42" y="10"/>
                      </a:lnTo>
                      <a:lnTo>
                        <a:pt x="10" y="0"/>
                      </a:lnTo>
                      <a:lnTo>
                        <a:pt x="0" y="32"/>
                      </a:lnTo>
                      <a:lnTo>
                        <a:pt x="0" y="36"/>
                      </a:lnTo>
                      <a:lnTo>
                        <a:pt x="0" y="32"/>
                      </a:lnTo>
                      <a:lnTo>
                        <a:pt x="0" y="35"/>
                      </a:lnTo>
                      <a:lnTo>
                        <a:pt x="0" y="36"/>
                      </a:lnTo>
                      <a:lnTo>
                        <a:pt x="32" y="3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7" name=""/>
                <p:cNvSpPr/>
                <p:nvPr/>
              </p:nvSpPr>
              <p:spPr>
                <a:xfrm>
                  <a:off x="6008400" y="1709640"/>
                  <a:ext cx="11160" cy="11160"/>
                </a:xfrm>
                <a:custGeom>
                  <a:avLst/>
                  <a:gdLst/>
                  <a:ahLst/>
                  <a:rect l="l" t="t" r="r" b="b"/>
                  <a:pathLst>
                    <a:path w="37" h="36">
                      <a:moveTo>
                        <a:pt x="35" y="35"/>
                      </a:moveTo>
                      <a:lnTo>
                        <a:pt x="33" y="36"/>
                      </a:lnTo>
                      <a:lnTo>
                        <a:pt x="37" y="3"/>
                      </a:lnTo>
                      <a:lnTo>
                        <a:pt x="5" y="0"/>
                      </a:lnTo>
                      <a:lnTo>
                        <a:pt x="1" y="34"/>
                      </a:lnTo>
                      <a:lnTo>
                        <a:pt x="0" y="35"/>
                      </a:lnTo>
                      <a:lnTo>
                        <a:pt x="35" y="3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8" name=""/>
                <p:cNvSpPr/>
                <p:nvPr/>
              </p:nvSpPr>
              <p:spPr>
                <a:xfrm>
                  <a:off x="6008400" y="1720800"/>
                  <a:ext cx="11160" cy="63720"/>
                </a:xfrm>
                <a:custGeom>
                  <a:avLst/>
                  <a:gdLst/>
                  <a:ahLst/>
                  <a:rect l="l" t="t" r="r" b="b"/>
                  <a:pathLst>
                    <a:path w="35" h="198">
                      <a:moveTo>
                        <a:pt x="33" y="196"/>
                      </a:moveTo>
                      <a:lnTo>
                        <a:pt x="35" y="197"/>
                      </a:lnTo>
                      <a:lnTo>
                        <a:pt x="35" y="0"/>
                      </a:lnTo>
                      <a:lnTo>
                        <a:pt x="0" y="0"/>
                      </a:lnTo>
                      <a:lnTo>
                        <a:pt x="0" y="197"/>
                      </a:lnTo>
                      <a:lnTo>
                        <a:pt x="1" y="198"/>
                      </a:lnTo>
                      <a:lnTo>
                        <a:pt x="33" y="19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19" name=""/>
                <p:cNvSpPr/>
                <p:nvPr/>
              </p:nvSpPr>
              <p:spPr>
                <a:xfrm>
                  <a:off x="5951520" y="1625760"/>
                  <a:ext cx="239760" cy="172800"/>
                </a:xfrm>
                <a:custGeom>
                  <a:avLst/>
                  <a:gdLst/>
                  <a:ahLst/>
                  <a:rect l="l" t="t" r="r" b="b"/>
                  <a:pathLst>
                    <a:path w="754" h="547">
                      <a:moveTo>
                        <a:pt x="209" y="534"/>
                      </a:moveTo>
                      <a:lnTo>
                        <a:pt x="174" y="538"/>
                      </a:lnTo>
                      <a:lnTo>
                        <a:pt x="131" y="536"/>
                      </a:lnTo>
                      <a:lnTo>
                        <a:pt x="96" y="528"/>
                      </a:lnTo>
                      <a:lnTo>
                        <a:pt x="66" y="516"/>
                      </a:lnTo>
                      <a:lnTo>
                        <a:pt x="43" y="494"/>
                      </a:lnTo>
                      <a:lnTo>
                        <a:pt x="24" y="468"/>
                      </a:lnTo>
                      <a:lnTo>
                        <a:pt x="10" y="433"/>
                      </a:lnTo>
                      <a:lnTo>
                        <a:pt x="3" y="391"/>
                      </a:lnTo>
                      <a:lnTo>
                        <a:pt x="0" y="339"/>
                      </a:lnTo>
                      <a:lnTo>
                        <a:pt x="12" y="304"/>
                      </a:lnTo>
                      <a:lnTo>
                        <a:pt x="36" y="255"/>
                      </a:lnTo>
                      <a:lnTo>
                        <a:pt x="79" y="174"/>
                      </a:lnTo>
                      <a:lnTo>
                        <a:pt x="127" y="120"/>
                      </a:lnTo>
                      <a:lnTo>
                        <a:pt x="185" y="72"/>
                      </a:lnTo>
                      <a:lnTo>
                        <a:pt x="220" y="48"/>
                      </a:lnTo>
                      <a:lnTo>
                        <a:pt x="260" y="27"/>
                      </a:lnTo>
                      <a:lnTo>
                        <a:pt x="296" y="13"/>
                      </a:lnTo>
                      <a:lnTo>
                        <a:pt x="332" y="4"/>
                      </a:lnTo>
                      <a:lnTo>
                        <a:pt x="366" y="0"/>
                      </a:lnTo>
                      <a:lnTo>
                        <a:pt x="399" y="2"/>
                      </a:lnTo>
                      <a:lnTo>
                        <a:pt x="464" y="13"/>
                      </a:lnTo>
                      <a:lnTo>
                        <a:pt x="520" y="35"/>
                      </a:lnTo>
                      <a:lnTo>
                        <a:pt x="574" y="72"/>
                      </a:lnTo>
                      <a:lnTo>
                        <a:pt x="624" y="118"/>
                      </a:lnTo>
                      <a:lnTo>
                        <a:pt x="676" y="174"/>
                      </a:lnTo>
                      <a:lnTo>
                        <a:pt x="717" y="260"/>
                      </a:lnTo>
                      <a:lnTo>
                        <a:pt x="742" y="311"/>
                      </a:lnTo>
                      <a:lnTo>
                        <a:pt x="754" y="347"/>
                      </a:lnTo>
                      <a:lnTo>
                        <a:pt x="744" y="442"/>
                      </a:lnTo>
                      <a:lnTo>
                        <a:pt x="730" y="477"/>
                      </a:lnTo>
                      <a:lnTo>
                        <a:pt x="712" y="504"/>
                      </a:lnTo>
                      <a:lnTo>
                        <a:pt x="689" y="524"/>
                      </a:lnTo>
                      <a:lnTo>
                        <a:pt x="657" y="537"/>
                      </a:lnTo>
                      <a:lnTo>
                        <a:pt x="580" y="547"/>
                      </a:lnTo>
                      <a:lnTo>
                        <a:pt x="535" y="542"/>
                      </a:lnTo>
                      <a:lnTo>
                        <a:pt x="535" y="269"/>
                      </a:lnTo>
                      <a:lnTo>
                        <a:pt x="201" y="269"/>
                      </a:lnTo>
                      <a:lnTo>
                        <a:pt x="209" y="321"/>
                      </a:lnTo>
                      <a:lnTo>
                        <a:pt x="209"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006960" y="1790640"/>
                  <a:ext cx="11160" cy="11160"/>
                </a:xfrm>
                <a:custGeom>
                  <a:avLst/>
                  <a:gdLst/>
                  <a:ahLst/>
                  <a:rect l="l" t="t" r="r" b="b"/>
                  <a:pathLst>
                    <a:path w="38" h="36">
                      <a:moveTo>
                        <a:pt x="2" y="36"/>
                      </a:moveTo>
                      <a:lnTo>
                        <a:pt x="3" y="36"/>
                      </a:lnTo>
                      <a:lnTo>
                        <a:pt x="38" y="33"/>
                      </a:lnTo>
                      <a:lnTo>
                        <a:pt x="35" y="0"/>
                      </a:lnTo>
                      <a:lnTo>
                        <a:pt x="0" y="4"/>
                      </a:lnTo>
                      <a:lnTo>
                        <a:pt x="2" y="4"/>
                      </a:lnTo>
                      <a:lnTo>
                        <a:pt x="2" y="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1" name=""/>
                <p:cNvSpPr/>
                <p:nvPr/>
              </p:nvSpPr>
              <p:spPr>
                <a:xfrm>
                  <a:off x="5992560" y="1790640"/>
                  <a:ext cx="14400" cy="11160"/>
                </a:xfrm>
                <a:custGeom>
                  <a:avLst/>
                  <a:gdLst/>
                  <a:ahLst/>
                  <a:rect l="l" t="t" r="r" b="b"/>
                  <a:pathLst>
                    <a:path w="45" h="35">
                      <a:moveTo>
                        <a:pt x="0" y="33"/>
                      </a:moveTo>
                      <a:lnTo>
                        <a:pt x="2" y="33"/>
                      </a:lnTo>
                      <a:lnTo>
                        <a:pt x="45" y="35"/>
                      </a:lnTo>
                      <a:lnTo>
                        <a:pt x="45" y="3"/>
                      </a:lnTo>
                      <a:lnTo>
                        <a:pt x="2" y="0"/>
                      </a:lnTo>
                      <a:lnTo>
                        <a:pt x="5" y="0"/>
                      </a:lnTo>
                      <a:lnTo>
                        <a:pt x="0"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2" name=""/>
                <p:cNvSpPr/>
                <p:nvPr/>
              </p:nvSpPr>
              <p:spPr>
                <a:xfrm>
                  <a:off x="5979960" y="1787400"/>
                  <a:ext cx="14400" cy="12960"/>
                </a:xfrm>
                <a:custGeom>
                  <a:avLst/>
                  <a:gdLst/>
                  <a:ahLst/>
                  <a:rect l="l" t="t" r="r" b="b"/>
                  <a:pathLst>
                    <a:path w="44" h="40">
                      <a:moveTo>
                        <a:pt x="0" y="31"/>
                      </a:moveTo>
                      <a:lnTo>
                        <a:pt x="4" y="32"/>
                      </a:lnTo>
                      <a:lnTo>
                        <a:pt x="39" y="40"/>
                      </a:lnTo>
                      <a:lnTo>
                        <a:pt x="44" y="7"/>
                      </a:lnTo>
                      <a:lnTo>
                        <a:pt x="9" y="0"/>
                      </a:lnTo>
                      <a:lnTo>
                        <a:pt x="13" y="1"/>
                      </a:lnTo>
                      <a:lnTo>
                        <a:pt x="0" y="31"/>
                      </a:lnTo>
                      <a:lnTo>
                        <a:pt x="1" y="32"/>
                      </a:lnTo>
                      <a:lnTo>
                        <a:pt x="4" y="32"/>
                      </a:lnTo>
                      <a:lnTo>
                        <a:pt x="0" y="3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3" name=""/>
                <p:cNvSpPr/>
                <p:nvPr/>
              </p:nvSpPr>
              <p:spPr>
                <a:xfrm>
                  <a:off x="5968800" y="1784520"/>
                  <a:ext cx="15840" cy="14040"/>
                </a:xfrm>
                <a:custGeom>
                  <a:avLst/>
                  <a:gdLst/>
                  <a:ahLst/>
                  <a:rect l="l" t="t" r="r" b="b"/>
                  <a:pathLst>
                    <a:path w="48" h="42">
                      <a:moveTo>
                        <a:pt x="0" y="27"/>
                      </a:moveTo>
                      <a:lnTo>
                        <a:pt x="5" y="30"/>
                      </a:lnTo>
                      <a:lnTo>
                        <a:pt x="35" y="42"/>
                      </a:lnTo>
                      <a:lnTo>
                        <a:pt x="48" y="12"/>
                      </a:lnTo>
                      <a:lnTo>
                        <a:pt x="18" y="0"/>
                      </a:lnTo>
                      <a:lnTo>
                        <a:pt x="23" y="2"/>
                      </a:lnTo>
                      <a:lnTo>
                        <a:pt x="0" y="27"/>
                      </a:lnTo>
                      <a:lnTo>
                        <a:pt x="3" y="28"/>
                      </a:lnTo>
                      <a:lnTo>
                        <a:pt x="5" y="30"/>
                      </a:lnTo>
                      <a:lnTo>
                        <a:pt x="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4" name=""/>
                <p:cNvSpPr/>
                <p:nvPr/>
              </p:nvSpPr>
              <p:spPr>
                <a:xfrm>
                  <a:off x="5960880" y="1778040"/>
                  <a:ext cx="15840" cy="15840"/>
                </a:xfrm>
                <a:custGeom>
                  <a:avLst/>
                  <a:gdLst/>
                  <a:ahLst/>
                  <a:rect l="l" t="t" r="r" b="b"/>
                  <a:pathLst>
                    <a:path w="49" h="46">
                      <a:moveTo>
                        <a:pt x="0" y="22"/>
                      </a:moveTo>
                      <a:lnTo>
                        <a:pt x="2" y="25"/>
                      </a:lnTo>
                      <a:lnTo>
                        <a:pt x="26" y="46"/>
                      </a:lnTo>
                      <a:lnTo>
                        <a:pt x="49" y="21"/>
                      </a:lnTo>
                      <a:lnTo>
                        <a:pt x="25" y="0"/>
                      </a:lnTo>
                      <a:lnTo>
                        <a:pt x="27" y="2"/>
                      </a:lnTo>
                      <a:lnTo>
                        <a:pt x="0" y="22"/>
                      </a:lnTo>
                      <a:lnTo>
                        <a:pt x="1" y="24"/>
                      </a:lnTo>
                      <a:lnTo>
                        <a:pt x="2" y="25"/>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5" name=""/>
                <p:cNvSpPr/>
                <p:nvPr/>
              </p:nvSpPr>
              <p:spPr>
                <a:xfrm>
                  <a:off x="5954400" y="1771560"/>
                  <a:ext cx="14400" cy="14400"/>
                </a:xfrm>
                <a:custGeom>
                  <a:avLst/>
                  <a:gdLst/>
                  <a:ahLst/>
                  <a:rect l="l" t="t" r="r" b="b"/>
                  <a:pathLst>
                    <a:path w="48" h="46">
                      <a:moveTo>
                        <a:pt x="0" y="16"/>
                      </a:moveTo>
                      <a:lnTo>
                        <a:pt x="2" y="20"/>
                      </a:lnTo>
                      <a:lnTo>
                        <a:pt x="21" y="46"/>
                      </a:lnTo>
                      <a:lnTo>
                        <a:pt x="48" y="26"/>
                      </a:lnTo>
                      <a:lnTo>
                        <a:pt x="30" y="0"/>
                      </a:lnTo>
                      <a:lnTo>
                        <a:pt x="32" y="4"/>
                      </a:lnTo>
                      <a:lnTo>
                        <a:pt x="0" y="16"/>
                      </a:lnTo>
                      <a:lnTo>
                        <a:pt x="1" y="18"/>
                      </a:lnTo>
                      <a:lnTo>
                        <a:pt x="2" y="20"/>
                      </a:lnTo>
                      <a:lnTo>
                        <a:pt x="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6" name=""/>
                <p:cNvSpPr/>
                <p:nvPr/>
              </p:nvSpPr>
              <p:spPr>
                <a:xfrm>
                  <a:off x="5949720" y="1760400"/>
                  <a:ext cx="14400" cy="15840"/>
                </a:xfrm>
                <a:custGeom>
                  <a:avLst/>
                  <a:gdLst/>
                  <a:ahLst/>
                  <a:rect l="l" t="t" r="r" b="b"/>
                  <a:pathLst>
                    <a:path w="46" h="47">
                      <a:moveTo>
                        <a:pt x="0" y="9"/>
                      </a:moveTo>
                      <a:lnTo>
                        <a:pt x="0" y="13"/>
                      </a:lnTo>
                      <a:lnTo>
                        <a:pt x="14" y="47"/>
                      </a:lnTo>
                      <a:lnTo>
                        <a:pt x="46" y="35"/>
                      </a:lnTo>
                      <a:lnTo>
                        <a:pt x="32" y="0"/>
                      </a:lnTo>
                      <a:lnTo>
                        <a:pt x="32" y="4"/>
                      </a:lnTo>
                      <a:lnTo>
                        <a:pt x="0" y="9"/>
                      </a:lnTo>
                      <a:lnTo>
                        <a:pt x="0" y="10"/>
                      </a:lnTo>
                      <a:lnTo>
                        <a:pt x="0" y="13"/>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7" name=""/>
                <p:cNvSpPr/>
                <p:nvPr/>
              </p:nvSpPr>
              <p:spPr>
                <a:xfrm>
                  <a:off x="5948280" y="1749600"/>
                  <a:ext cx="11160" cy="14040"/>
                </a:xfrm>
                <a:custGeom>
                  <a:avLst/>
                  <a:gdLst/>
                  <a:ahLst/>
                  <a:rect l="l" t="t" r="r" b="b"/>
                  <a:pathLst>
                    <a:path w="39" h="48">
                      <a:moveTo>
                        <a:pt x="0" y="3"/>
                      </a:moveTo>
                      <a:lnTo>
                        <a:pt x="0" y="5"/>
                      </a:lnTo>
                      <a:lnTo>
                        <a:pt x="7" y="48"/>
                      </a:lnTo>
                      <a:lnTo>
                        <a:pt x="39" y="43"/>
                      </a:lnTo>
                      <a:lnTo>
                        <a:pt x="32" y="0"/>
                      </a:lnTo>
                      <a:lnTo>
                        <a:pt x="32" y="3"/>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8" name=""/>
                <p:cNvSpPr/>
                <p:nvPr/>
              </p:nvSpPr>
              <p:spPr>
                <a:xfrm>
                  <a:off x="5946480" y="1731960"/>
                  <a:ext cx="11160" cy="17640"/>
                </a:xfrm>
                <a:custGeom>
                  <a:avLst/>
                  <a:gdLst/>
                  <a:ahLst/>
                  <a:rect l="l" t="t" r="r" b="b"/>
                  <a:pathLst>
                    <a:path w="36" h="57">
                      <a:moveTo>
                        <a:pt x="1" y="0"/>
                      </a:moveTo>
                      <a:lnTo>
                        <a:pt x="1" y="5"/>
                      </a:lnTo>
                      <a:lnTo>
                        <a:pt x="4" y="57"/>
                      </a:lnTo>
                      <a:lnTo>
                        <a:pt x="36" y="57"/>
                      </a:lnTo>
                      <a:lnTo>
                        <a:pt x="33" y="5"/>
                      </a:lnTo>
                      <a:lnTo>
                        <a:pt x="33" y="9"/>
                      </a:lnTo>
                      <a:lnTo>
                        <a:pt x="1" y="0"/>
                      </a:lnTo>
                      <a:lnTo>
                        <a:pt x="0" y="3"/>
                      </a:lnTo>
                      <a:lnTo>
                        <a:pt x="1" y="5"/>
                      </a:lnTo>
                      <a:lnTo>
                        <a:pt x="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9" name=""/>
                <p:cNvSpPr/>
                <p:nvPr/>
              </p:nvSpPr>
              <p:spPr>
                <a:xfrm>
                  <a:off x="5946480" y="1719360"/>
                  <a:ext cx="14400" cy="15840"/>
                </a:xfrm>
                <a:custGeom>
                  <a:avLst/>
                  <a:gdLst/>
                  <a:ahLst/>
                  <a:rect l="l" t="t" r="r" b="b"/>
                  <a:pathLst>
                    <a:path w="44" h="47">
                      <a:moveTo>
                        <a:pt x="13" y="0"/>
                      </a:moveTo>
                      <a:lnTo>
                        <a:pt x="11" y="3"/>
                      </a:lnTo>
                      <a:lnTo>
                        <a:pt x="0" y="38"/>
                      </a:lnTo>
                      <a:lnTo>
                        <a:pt x="32" y="47"/>
                      </a:lnTo>
                      <a:lnTo>
                        <a:pt x="44" y="13"/>
                      </a:lnTo>
                      <a:lnTo>
                        <a:pt x="42" y="15"/>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a:off x="5951520" y="1703520"/>
                  <a:ext cx="15840" cy="20520"/>
                </a:xfrm>
                <a:custGeom>
                  <a:avLst/>
                  <a:gdLst/>
                  <a:ahLst/>
                  <a:rect l="l" t="t" r="r" b="b"/>
                  <a:pathLst>
                    <a:path w="54" h="64">
                      <a:moveTo>
                        <a:pt x="24" y="0"/>
                      </a:moveTo>
                      <a:lnTo>
                        <a:pt x="24" y="0"/>
                      </a:lnTo>
                      <a:lnTo>
                        <a:pt x="0" y="49"/>
                      </a:lnTo>
                      <a:lnTo>
                        <a:pt x="29" y="64"/>
                      </a:lnTo>
                      <a:lnTo>
                        <a:pt x="54" y="15"/>
                      </a:lnTo>
                      <a:lnTo>
                        <a:pt x="54" y="15"/>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1" name=""/>
                <p:cNvSpPr/>
                <p:nvPr/>
              </p:nvSpPr>
              <p:spPr>
                <a:xfrm>
                  <a:off x="5957640" y="1677960"/>
                  <a:ext cx="23760" cy="30240"/>
                </a:xfrm>
                <a:custGeom>
                  <a:avLst/>
                  <a:gdLst/>
                  <a:ahLst/>
                  <a:rect l="l" t="t" r="r" b="b"/>
                  <a:pathLst>
                    <a:path w="73" h="99">
                      <a:moveTo>
                        <a:pt x="45" y="0"/>
                      </a:moveTo>
                      <a:lnTo>
                        <a:pt x="43" y="3"/>
                      </a:lnTo>
                      <a:lnTo>
                        <a:pt x="0" y="84"/>
                      </a:lnTo>
                      <a:lnTo>
                        <a:pt x="30" y="99"/>
                      </a:lnTo>
                      <a:lnTo>
                        <a:pt x="73" y="18"/>
                      </a:lnTo>
                      <a:lnTo>
                        <a:pt x="70" y="22"/>
                      </a:lnTo>
                      <a:lnTo>
                        <a:pt x="45" y="0"/>
                      </a:lnTo>
                      <a:lnTo>
                        <a:pt x="44" y="1"/>
                      </a:lnTo>
                      <a:lnTo>
                        <a:pt x="43" y="3"/>
                      </a:lnTo>
                      <a:lnTo>
                        <a:pt x="4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2" name=""/>
                <p:cNvSpPr/>
                <p:nvPr/>
              </p:nvSpPr>
              <p:spPr>
                <a:xfrm>
                  <a:off x="5972040" y="1660680"/>
                  <a:ext cx="23760" cy="23760"/>
                </a:xfrm>
                <a:custGeom>
                  <a:avLst/>
                  <a:gdLst/>
                  <a:ahLst/>
                  <a:rect l="l" t="t" r="r" b="b"/>
                  <a:pathLst>
                    <a:path w="74" h="77">
                      <a:moveTo>
                        <a:pt x="50" y="0"/>
                      </a:moveTo>
                      <a:lnTo>
                        <a:pt x="49" y="1"/>
                      </a:lnTo>
                      <a:lnTo>
                        <a:pt x="0" y="55"/>
                      </a:lnTo>
                      <a:lnTo>
                        <a:pt x="25" y="77"/>
                      </a:lnTo>
                      <a:lnTo>
                        <a:pt x="74" y="23"/>
                      </a:lnTo>
                      <a:lnTo>
                        <a:pt x="73" y="25"/>
                      </a:lnTo>
                      <a:lnTo>
                        <a:pt x="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3" name=""/>
                <p:cNvSpPr/>
                <p:nvPr/>
              </p:nvSpPr>
              <p:spPr>
                <a:xfrm>
                  <a:off x="5987880" y="1644480"/>
                  <a:ext cx="25560" cy="24120"/>
                </a:xfrm>
                <a:custGeom>
                  <a:avLst/>
                  <a:gdLst/>
                  <a:ahLst/>
                  <a:rect l="l" t="t" r="r" b="b"/>
                  <a:pathLst>
                    <a:path w="80" h="75">
                      <a:moveTo>
                        <a:pt x="60" y="0"/>
                      </a:moveTo>
                      <a:lnTo>
                        <a:pt x="58" y="1"/>
                      </a:lnTo>
                      <a:lnTo>
                        <a:pt x="0" y="50"/>
                      </a:lnTo>
                      <a:lnTo>
                        <a:pt x="23" y="75"/>
                      </a:lnTo>
                      <a:lnTo>
                        <a:pt x="80" y="26"/>
                      </a:lnTo>
                      <a:lnTo>
                        <a:pt x="78" y="27"/>
                      </a:lnTo>
                      <a:lnTo>
                        <a:pt x="6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34" name=""/>
                <p:cNvSpPr/>
                <p:nvPr/>
              </p:nvSpPr>
              <p:spPr>
                <a:xfrm>
                  <a:off x="6006960" y="1636560"/>
                  <a:ext cx="17280" cy="16200"/>
                </a:xfrm>
                <a:custGeom>
                  <a:avLst/>
                  <a:gdLst/>
                  <a:ahLst/>
                  <a:rect l="l" t="t" r="r" b="b"/>
                  <a:pathLst>
                    <a:path w="52" h="52">
                      <a:moveTo>
                        <a:pt x="36" y="0"/>
                      </a:moveTo>
                      <a:lnTo>
                        <a:pt x="35" y="1"/>
                      </a:lnTo>
                      <a:lnTo>
                        <a:pt x="0" y="25"/>
                      </a:lnTo>
                      <a:lnTo>
                        <a:pt x="18" y="52"/>
                      </a:lnTo>
                      <a:lnTo>
                        <a:pt x="52" y="29"/>
                      </a:lnTo>
                      <a:lnTo>
                        <a:pt x="51" y="30"/>
                      </a:lnTo>
                      <a:lnTo>
                        <a:pt x="3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35" name=""/>
                <p:cNvSpPr/>
                <p:nvPr/>
              </p:nvSpPr>
              <p:spPr>
                <a:xfrm>
                  <a:off x="6019560" y="1628640"/>
                  <a:ext cx="17640" cy="17640"/>
                </a:xfrm>
                <a:custGeom>
                  <a:avLst/>
                  <a:gdLst/>
                  <a:ahLst/>
                  <a:rect l="l" t="t" r="r" b="b"/>
                  <a:pathLst>
                    <a:path w="55" h="53">
                      <a:moveTo>
                        <a:pt x="43" y="0"/>
                      </a:moveTo>
                      <a:lnTo>
                        <a:pt x="40" y="2"/>
                      </a:lnTo>
                      <a:lnTo>
                        <a:pt x="0" y="23"/>
                      </a:lnTo>
                      <a:lnTo>
                        <a:pt x="15" y="53"/>
                      </a:lnTo>
                      <a:lnTo>
                        <a:pt x="55" y="32"/>
                      </a:lnTo>
                      <a:lnTo>
                        <a:pt x="53" y="33"/>
                      </a:lnTo>
                      <a:lnTo>
                        <a:pt x="43"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6" name=""/>
                <p:cNvSpPr/>
                <p:nvPr/>
              </p:nvSpPr>
              <p:spPr>
                <a:xfrm>
                  <a:off x="6032520" y="1623960"/>
                  <a:ext cx="14040" cy="15840"/>
                </a:xfrm>
                <a:custGeom>
                  <a:avLst/>
                  <a:gdLst/>
                  <a:ahLst/>
                  <a:rect l="l" t="t" r="r" b="b"/>
                  <a:pathLst>
                    <a:path w="46" h="46">
                      <a:moveTo>
                        <a:pt x="37" y="0"/>
                      </a:moveTo>
                      <a:lnTo>
                        <a:pt x="36" y="0"/>
                      </a:lnTo>
                      <a:lnTo>
                        <a:pt x="0" y="13"/>
                      </a:lnTo>
                      <a:lnTo>
                        <a:pt x="10" y="46"/>
                      </a:lnTo>
                      <a:lnTo>
                        <a:pt x="46" y="32"/>
                      </a:lnTo>
                      <a:lnTo>
                        <a:pt x="45" y="32"/>
                      </a:lnTo>
                      <a:lnTo>
                        <a:pt x="3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6045120" y="1622520"/>
                  <a:ext cx="12600" cy="12600"/>
                </a:xfrm>
                <a:custGeom>
                  <a:avLst/>
                  <a:gdLst/>
                  <a:ahLst/>
                  <a:rect l="l" t="t" r="r" b="b"/>
                  <a:pathLst>
                    <a:path w="44" h="41">
                      <a:moveTo>
                        <a:pt x="39" y="0"/>
                      </a:moveTo>
                      <a:lnTo>
                        <a:pt x="36" y="0"/>
                      </a:lnTo>
                      <a:lnTo>
                        <a:pt x="0" y="9"/>
                      </a:lnTo>
                      <a:lnTo>
                        <a:pt x="8" y="41"/>
                      </a:lnTo>
                      <a:lnTo>
                        <a:pt x="44" y="32"/>
                      </a:lnTo>
                      <a:lnTo>
                        <a:pt x="41" y="32"/>
                      </a:lnTo>
                      <a:lnTo>
                        <a:pt x="3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
                <p:cNvSpPr/>
                <p:nvPr/>
              </p:nvSpPr>
              <p:spPr>
                <a:xfrm>
                  <a:off x="6056280" y="1620720"/>
                  <a:ext cx="12600" cy="11160"/>
                </a:xfrm>
                <a:custGeom>
                  <a:avLst/>
                  <a:gdLst/>
                  <a:ahLst/>
                  <a:rect l="l" t="t" r="r" b="b"/>
                  <a:pathLst>
                    <a:path w="36" h="36">
                      <a:moveTo>
                        <a:pt x="35" y="0"/>
                      </a:moveTo>
                      <a:lnTo>
                        <a:pt x="33" y="0"/>
                      </a:lnTo>
                      <a:lnTo>
                        <a:pt x="0" y="4"/>
                      </a:lnTo>
                      <a:lnTo>
                        <a:pt x="2" y="36"/>
                      </a:lnTo>
                      <a:lnTo>
                        <a:pt x="36" y="33"/>
                      </a:lnTo>
                      <a:lnTo>
                        <a:pt x="35" y="33"/>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a:off x="6067440" y="1620720"/>
                  <a:ext cx="12600" cy="11160"/>
                </a:xfrm>
                <a:custGeom>
                  <a:avLst/>
                  <a:gdLst/>
                  <a:ahLst/>
                  <a:rect l="l" t="t" r="r" b="b"/>
                  <a:pathLst>
                    <a:path w="36" h="34">
                      <a:moveTo>
                        <a:pt x="36" y="1"/>
                      </a:moveTo>
                      <a:lnTo>
                        <a:pt x="33" y="1"/>
                      </a:lnTo>
                      <a:lnTo>
                        <a:pt x="0" y="0"/>
                      </a:lnTo>
                      <a:lnTo>
                        <a:pt x="0" y="33"/>
                      </a:lnTo>
                      <a:lnTo>
                        <a:pt x="33" y="34"/>
                      </a:lnTo>
                      <a:lnTo>
                        <a:pt x="31" y="34"/>
                      </a:lnTo>
                      <a:lnTo>
                        <a:pt x="36"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0" name=""/>
                <p:cNvSpPr/>
                <p:nvPr/>
              </p:nvSpPr>
              <p:spPr>
                <a:xfrm>
                  <a:off x="6078240" y="1620720"/>
                  <a:ext cx="22320" cy="14400"/>
                </a:xfrm>
                <a:custGeom>
                  <a:avLst/>
                  <a:gdLst/>
                  <a:ahLst/>
                  <a:rect l="l" t="t" r="r" b="b"/>
                  <a:pathLst>
                    <a:path w="73" h="44">
                      <a:moveTo>
                        <a:pt x="73" y="13"/>
                      </a:moveTo>
                      <a:lnTo>
                        <a:pt x="70" y="12"/>
                      </a:lnTo>
                      <a:lnTo>
                        <a:pt x="5" y="0"/>
                      </a:lnTo>
                      <a:lnTo>
                        <a:pt x="0" y="33"/>
                      </a:lnTo>
                      <a:lnTo>
                        <a:pt x="65" y="44"/>
                      </a:lnTo>
                      <a:lnTo>
                        <a:pt x="61" y="43"/>
                      </a:lnTo>
                      <a:lnTo>
                        <a:pt x="73" y="13"/>
                      </a:lnTo>
                      <a:lnTo>
                        <a:pt x="71" y="12"/>
                      </a:lnTo>
                      <a:lnTo>
                        <a:pt x="70" y="12"/>
                      </a:lnTo>
                      <a:lnTo>
                        <a:pt x="73"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1" name=""/>
                <p:cNvSpPr/>
                <p:nvPr/>
              </p:nvSpPr>
              <p:spPr>
                <a:xfrm>
                  <a:off x="6097320" y="1625760"/>
                  <a:ext cx="22320" cy="15840"/>
                </a:xfrm>
                <a:custGeom>
                  <a:avLst/>
                  <a:gdLst/>
                  <a:ahLst/>
                  <a:rect l="l" t="t" r="r" b="b"/>
                  <a:pathLst>
                    <a:path w="71" h="52">
                      <a:moveTo>
                        <a:pt x="71" y="24"/>
                      </a:moveTo>
                      <a:lnTo>
                        <a:pt x="69" y="22"/>
                      </a:lnTo>
                      <a:lnTo>
                        <a:pt x="12" y="0"/>
                      </a:lnTo>
                      <a:lnTo>
                        <a:pt x="0" y="30"/>
                      </a:lnTo>
                      <a:lnTo>
                        <a:pt x="56" y="52"/>
                      </a:lnTo>
                      <a:lnTo>
                        <a:pt x="54" y="51"/>
                      </a:lnTo>
                      <a:lnTo>
                        <a:pt x="71" y="24"/>
                      </a:lnTo>
                      <a:lnTo>
                        <a:pt x="70" y="22"/>
                      </a:lnTo>
                      <a:lnTo>
                        <a:pt x="69" y="22"/>
                      </a:lnTo>
                      <a:lnTo>
                        <a:pt x="71"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2" name=""/>
                <p:cNvSpPr/>
                <p:nvPr/>
              </p:nvSpPr>
              <p:spPr>
                <a:xfrm>
                  <a:off x="6114960" y="1631880"/>
                  <a:ext cx="22320" cy="20880"/>
                </a:xfrm>
                <a:custGeom>
                  <a:avLst/>
                  <a:gdLst/>
                  <a:ahLst/>
                  <a:rect l="l" t="t" r="r" b="b"/>
                  <a:pathLst>
                    <a:path w="73" h="63">
                      <a:moveTo>
                        <a:pt x="73" y="37"/>
                      </a:moveTo>
                      <a:lnTo>
                        <a:pt x="71" y="36"/>
                      </a:lnTo>
                      <a:lnTo>
                        <a:pt x="17" y="0"/>
                      </a:lnTo>
                      <a:lnTo>
                        <a:pt x="0" y="27"/>
                      </a:lnTo>
                      <a:lnTo>
                        <a:pt x="53" y="63"/>
                      </a:lnTo>
                      <a:lnTo>
                        <a:pt x="51" y="62"/>
                      </a:lnTo>
                      <a:lnTo>
                        <a:pt x="7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43" name=""/>
                <p:cNvSpPr/>
                <p:nvPr/>
              </p:nvSpPr>
              <p:spPr>
                <a:xfrm>
                  <a:off x="6130800" y="1644480"/>
                  <a:ext cx="22320" cy="22320"/>
                </a:xfrm>
                <a:custGeom>
                  <a:avLst/>
                  <a:gdLst/>
                  <a:ahLst/>
                  <a:rect l="l" t="t" r="r" b="b"/>
                  <a:pathLst>
                    <a:path w="73" h="71">
                      <a:moveTo>
                        <a:pt x="73" y="47"/>
                      </a:moveTo>
                      <a:lnTo>
                        <a:pt x="72" y="46"/>
                      </a:lnTo>
                      <a:lnTo>
                        <a:pt x="22" y="0"/>
                      </a:lnTo>
                      <a:lnTo>
                        <a:pt x="0" y="25"/>
                      </a:lnTo>
                      <a:lnTo>
                        <a:pt x="50" y="71"/>
                      </a:lnTo>
                      <a:lnTo>
                        <a:pt x="48" y="70"/>
                      </a:lnTo>
                      <a:lnTo>
                        <a:pt x="73" y="4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4" name=""/>
                <p:cNvSpPr/>
                <p:nvPr/>
              </p:nvSpPr>
              <p:spPr>
                <a:xfrm>
                  <a:off x="6145200" y="1658880"/>
                  <a:ext cx="25200" cy="25560"/>
                </a:xfrm>
                <a:custGeom>
                  <a:avLst/>
                  <a:gdLst/>
                  <a:ahLst/>
                  <a:rect l="l" t="t" r="r" b="b"/>
                  <a:pathLst>
                    <a:path w="80" h="79">
                      <a:moveTo>
                        <a:pt x="80" y="60"/>
                      </a:moveTo>
                      <a:lnTo>
                        <a:pt x="78" y="57"/>
                      </a:lnTo>
                      <a:lnTo>
                        <a:pt x="25" y="0"/>
                      </a:lnTo>
                      <a:lnTo>
                        <a:pt x="0" y="23"/>
                      </a:lnTo>
                      <a:lnTo>
                        <a:pt x="53" y="79"/>
                      </a:lnTo>
                      <a:lnTo>
                        <a:pt x="50" y="75"/>
                      </a:lnTo>
                      <a:lnTo>
                        <a:pt x="80" y="60"/>
                      </a:lnTo>
                      <a:lnTo>
                        <a:pt x="79" y="59"/>
                      </a:lnTo>
                      <a:lnTo>
                        <a:pt x="78" y="57"/>
                      </a:lnTo>
                      <a:lnTo>
                        <a:pt x="80" y="6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5" name=""/>
                <p:cNvSpPr/>
                <p:nvPr/>
              </p:nvSpPr>
              <p:spPr>
                <a:xfrm>
                  <a:off x="6161040" y="1677960"/>
                  <a:ext cx="23760" cy="31680"/>
                </a:xfrm>
                <a:custGeom>
                  <a:avLst/>
                  <a:gdLst/>
                  <a:ahLst/>
                  <a:rect l="l" t="t" r="r" b="b"/>
                  <a:pathLst>
                    <a:path w="71" h="101">
                      <a:moveTo>
                        <a:pt x="71" y="86"/>
                      </a:moveTo>
                      <a:lnTo>
                        <a:pt x="71" y="86"/>
                      </a:lnTo>
                      <a:lnTo>
                        <a:pt x="30" y="0"/>
                      </a:lnTo>
                      <a:lnTo>
                        <a:pt x="0" y="15"/>
                      </a:lnTo>
                      <a:lnTo>
                        <a:pt x="41" y="101"/>
                      </a:lnTo>
                      <a:lnTo>
                        <a:pt x="41" y="101"/>
                      </a:lnTo>
                      <a:lnTo>
                        <a:pt x="71" y="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46" name=""/>
                <p:cNvSpPr/>
                <p:nvPr/>
              </p:nvSpPr>
              <p:spPr>
                <a:xfrm>
                  <a:off x="6175080" y="1704960"/>
                  <a:ext cx="17640" cy="22320"/>
                </a:xfrm>
                <a:custGeom>
                  <a:avLst/>
                  <a:gdLst/>
                  <a:ahLst/>
                  <a:rect l="l" t="t" r="r" b="b"/>
                  <a:pathLst>
                    <a:path w="56" h="67">
                      <a:moveTo>
                        <a:pt x="56" y="54"/>
                      </a:moveTo>
                      <a:lnTo>
                        <a:pt x="55" y="52"/>
                      </a:lnTo>
                      <a:lnTo>
                        <a:pt x="30" y="0"/>
                      </a:lnTo>
                      <a:lnTo>
                        <a:pt x="0" y="15"/>
                      </a:lnTo>
                      <a:lnTo>
                        <a:pt x="25" y="67"/>
                      </a:lnTo>
                      <a:lnTo>
                        <a:pt x="24" y="64"/>
                      </a:lnTo>
                      <a:lnTo>
                        <a:pt x="56" y="5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6181560" y="1722600"/>
                  <a:ext cx="14400" cy="14040"/>
                </a:xfrm>
                <a:custGeom>
                  <a:avLst/>
                  <a:gdLst/>
                  <a:ahLst/>
                  <a:rect l="l" t="t" r="r" b="b"/>
                  <a:pathLst>
                    <a:path w="45" h="46">
                      <a:moveTo>
                        <a:pt x="44" y="42"/>
                      </a:moveTo>
                      <a:lnTo>
                        <a:pt x="44" y="36"/>
                      </a:lnTo>
                      <a:lnTo>
                        <a:pt x="32" y="0"/>
                      </a:lnTo>
                      <a:lnTo>
                        <a:pt x="0" y="10"/>
                      </a:lnTo>
                      <a:lnTo>
                        <a:pt x="11" y="46"/>
                      </a:lnTo>
                      <a:lnTo>
                        <a:pt x="11" y="40"/>
                      </a:lnTo>
                      <a:lnTo>
                        <a:pt x="44" y="42"/>
                      </a:lnTo>
                      <a:lnTo>
                        <a:pt x="45" y="40"/>
                      </a:lnTo>
                      <a:lnTo>
                        <a:pt x="44" y="36"/>
                      </a:lnTo>
                      <a:lnTo>
                        <a:pt x="44" y="4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8" name=""/>
                <p:cNvSpPr/>
                <p:nvPr/>
              </p:nvSpPr>
              <p:spPr>
                <a:xfrm>
                  <a:off x="6183000" y="1735200"/>
                  <a:ext cx="12960" cy="33120"/>
                </a:xfrm>
                <a:custGeom>
                  <a:avLst/>
                  <a:gdLst/>
                  <a:ahLst/>
                  <a:rect l="l" t="t" r="r" b="b"/>
                  <a:pathLst>
                    <a:path w="43" h="102">
                      <a:moveTo>
                        <a:pt x="33" y="102"/>
                      </a:moveTo>
                      <a:lnTo>
                        <a:pt x="33" y="97"/>
                      </a:lnTo>
                      <a:lnTo>
                        <a:pt x="43" y="2"/>
                      </a:lnTo>
                      <a:lnTo>
                        <a:pt x="10" y="0"/>
                      </a:lnTo>
                      <a:lnTo>
                        <a:pt x="0" y="95"/>
                      </a:lnTo>
                      <a:lnTo>
                        <a:pt x="0" y="90"/>
                      </a:lnTo>
                      <a:lnTo>
                        <a:pt x="33" y="102"/>
                      </a:lnTo>
                      <a:lnTo>
                        <a:pt x="33" y="100"/>
                      </a:lnTo>
                      <a:lnTo>
                        <a:pt x="33" y="97"/>
                      </a:lnTo>
                      <a:lnTo>
                        <a:pt x="33" y="10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9" name=""/>
                <p:cNvSpPr/>
                <p:nvPr/>
              </p:nvSpPr>
              <p:spPr>
                <a:xfrm>
                  <a:off x="6178320" y="1763640"/>
                  <a:ext cx="14400" cy="15840"/>
                </a:xfrm>
                <a:custGeom>
                  <a:avLst/>
                  <a:gdLst/>
                  <a:ahLst/>
                  <a:rect l="l" t="t" r="r" b="b"/>
                  <a:pathLst>
                    <a:path w="46" h="50">
                      <a:moveTo>
                        <a:pt x="30" y="50"/>
                      </a:moveTo>
                      <a:lnTo>
                        <a:pt x="32" y="47"/>
                      </a:lnTo>
                      <a:lnTo>
                        <a:pt x="46" y="12"/>
                      </a:lnTo>
                      <a:lnTo>
                        <a:pt x="13" y="0"/>
                      </a:lnTo>
                      <a:lnTo>
                        <a:pt x="0" y="35"/>
                      </a:lnTo>
                      <a:lnTo>
                        <a:pt x="2" y="32"/>
                      </a:lnTo>
                      <a:lnTo>
                        <a:pt x="30" y="50"/>
                      </a:lnTo>
                      <a:lnTo>
                        <a:pt x="31" y="48"/>
                      </a:lnTo>
                      <a:lnTo>
                        <a:pt x="32" y="47"/>
                      </a:lnTo>
                      <a:lnTo>
                        <a:pt x="30"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0" name=""/>
                <p:cNvSpPr/>
                <p:nvPr/>
              </p:nvSpPr>
              <p:spPr>
                <a:xfrm>
                  <a:off x="6173640" y="1774800"/>
                  <a:ext cx="14400" cy="14400"/>
                </a:xfrm>
                <a:custGeom>
                  <a:avLst/>
                  <a:gdLst/>
                  <a:ahLst/>
                  <a:rect l="l" t="t" r="r" b="b"/>
                  <a:pathLst>
                    <a:path w="45" h="49">
                      <a:moveTo>
                        <a:pt x="23" y="49"/>
                      </a:moveTo>
                      <a:lnTo>
                        <a:pt x="27" y="45"/>
                      </a:lnTo>
                      <a:lnTo>
                        <a:pt x="45" y="18"/>
                      </a:lnTo>
                      <a:lnTo>
                        <a:pt x="17" y="0"/>
                      </a:lnTo>
                      <a:lnTo>
                        <a:pt x="0" y="28"/>
                      </a:lnTo>
                      <a:lnTo>
                        <a:pt x="3" y="24"/>
                      </a:lnTo>
                      <a:lnTo>
                        <a:pt x="25" y="49"/>
                      </a:lnTo>
                      <a:lnTo>
                        <a:pt x="26" y="48"/>
                      </a:lnTo>
                      <a:lnTo>
                        <a:pt x="27" y="45"/>
                      </a:lnTo>
                      <a:lnTo>
                        <a:pt x="23"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a:off x="6167160" y="1781280"/>
                  <a:ext cx="14400" cy="15840"/>
                </a:xfrm>
                <a:custGeom>
                  <a:avLst/>
                  <a:gdLst/>
                  <a:ahLst/>
                  <a:rect l="l" t="t" r="r" b="b"/>
                  <a:pathLst>
                    <a:path w="43" h="47">
                      <a:moveTo>
                        <a:pt x="16" y="47"/>
                      </a:moveTo>
                      <a:lnTo>
                        <a:pt x="20" y="45"/>
                      </a:lnTo>
                      <a:lnTo>
                        <a:pt x="43" y="25"/>
                      </a:lnTo>
                      <a:lnTo>
                        <a:pt x="23" y="0"/>
                      </a:lnTo>
                      <a:lnTo>
                        <a:pt x="0" y="20"/>
                      </a:lnTo>
                      <a:lnTo>
                        <a:pt x="3" y="17"/>
                      </a:lnTo>
                      <a:lnTo>
                        <a:pt x="16" y="47"/>
                      </a:lnTo>
                      <a:lnTo>
                        <a:pt x="18" y="47"/>
                      </a:lnTo>
                      <a:lnTo>
                        <a:pt x="21" y="45"/>
                      </a:lnTo>
                      <a:lnTo>
                        <a:pt x="16" y="4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2" name=""/>
                <p:cNvSpPr/>
                <p:nvPr/>
              </p:nvSpPr>
              <p:spPr>
                <a:xfrm>
                  <a:off x="6157800" y="1787400"/>
                  <a:ext cx="14400" cy="14400"/>
                </a:xfrm>
                <a:custGeom>
                  <a:avLst/>
                  <a:gdLst/>
                  <a:ahLst/>
                  <a:rect l="l" t="t" r="r" b="b"/>
                  <a:pathLst>
                    <a:path w="44" h="44">
                      <a:moveTo>
                        <a:pt x="8" y="44"/>
                      </a:moveTo>
                      <a:lnTo>
                        <a:pt x="13" y="43"/>
                      </a:lnTo>
                      <a:lnTo>
                        <a:pt x="44" y="30"/>
                      </a:lnTo>
                      <a:lnTo>
                        <a:pt x="31" y="0"/>
                      </a:lnTo>
                      <a:lnTo>
                        <a:pt x="0" y="13"/>
                      </a:lnTo>
                      <a:lnTo>
                        <a:pt x="5" y="12"/>
                      </a:lnTo>
                      <a:lnTo>
                        <a:pt x="8" y="44"/>
                      </a:lnTo>
                      <a:lnTo>
                        <a:pt x="10" y="44"/>
                      </a:lnTo>
                      <a:lnTo>
                        <a:pt x="13" y="43"/>
                      </a:lnTo>
                      <a:lnTo>
                        <a:pt x="8" y="4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a:off x="6135480" y="1790640"/>
                  <a:ext cx="25560" cy="14400"/>
                </a:xfrm>
                <a:custGeom>
                  <a:avLst/>
                  <a:gdLst/>
                  <a:ahLst/>
                  <a:rect l="l" t="t" r="r" b="b"/>
                  <a:pathLst>
                    <a:path w="80" h="43">
                      <a:moveTo>
                        <a:pt x="0" y="42"/>
                      </a:moveTo>
                      <a:lnTo>
                        <a:pt x="2" y="42"/>
                      </a:lnTo>
                      <a:lnTo>
                        <a:pt x="80" y="32"/>
                      </a:lnTo>
                      <a:lnTo>
                        <a:pt x="77" y="0"/>
                      </a:lnTo>
                      <a:lnTo>
                        <a:pt x="0" y="10"/>
                      </a:lnTo>
                      <a:lnTo>
                        <a:pt x="2" y="10"/>
                      </a:lnTo>
                      <a:lnTo>
                        <a:pt x="0" y="42"/>
                      </a:lnTo>
                      <a:lnTo>
                        <a:pt x="1" y="43"/>
                      </a:lnTo>
                      <a:lnTo>
                        <a:pt x="2" y="42"/>
                      </a:lnTo>
                      <a:lnTo>
                        <a:pt x="0" y="4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a:off x="6116400" y="1792440"/>
                  <a:ext cx="19080" cy="12600"/>
                </a:xfrm>
                <a:custGeom>
                  <a:avLst/>
                  <a:gdLst/>
                  <a:ahLst/>
                  <a:rect l="l" t="t" r="r" b="b"/>
                  <a:pathLst>
                    <a:path w="63" h="37">
                      <a:moveTo>
                        <a:pt x="0" y="16"/>
                      </a:moveTo>
                      <a:lnTo>
                        <a:pt x="16" y="32"/>
                      </a:lnTo>
                      <a:lnTo>
                        <a:pt x="61" y="37"/>
                      </a:lnTo>
                      <a:lnTo>
                        <a:pt x="63" y="5"/>
                      </a:lnTo>
                      <a:lnTo>
                        <a:pt x="19" y="0"/>
                      </a:lnTo>
                      <a:lnTo>
                        <a:pt x="35" y="16"/>
                      </a:lnTo>
                      <a:lnTo>
                        <a:pt x="0" y="16"/>
                      </a:lnTo>
                      <a:lnTo>
                        <a:pt x="0" y="31"/>
                      </a:lnTo>
                      <a:lnTo>
                        <a:pt x="16" y="32"/>
                      </a:lnTo>
                      <a:lnTo>
                        <a:pt x="0"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5" name=""/>
                <p:cNvSpPr/>
                <p:nvPr/>
              </p:nvSpPr>
              <p:spPr>
                <a:xfrm>
                  <a:off x="6116400" y="1704960"/>
                  <a:ext cx="11160" cy="92160"/>
                </a:xfrm>
                <a:custGeom>
                  <a:avLst/>
                  <a:gdLst/>
                  <a:ahLst/>
                  <a:rect l="l" t="t" r="r" b="b"/>
                  <a:pathLst>
                    <a:path w="35" h="291">
                      <a:moveTo>
                        <a:pt x="17" y="35"/>
                      </a:moveTo>
                      <a:lnTo>
                        <a:pt x="0" y="18"/>
                      </a:lnTo>
                      <a:lnTo>
                        <a:pt x="0" y="291"/>
                      </a:lnTo>
                      <a:lnTo>
                        <a:pt x="35" y="291"/>
                      </a:lnTo>
                      <a:lnTo>
                        <a:pt x="35" y="18"/>
                      </a:lnTo>
                      <a:lnTo>
                        <a:pt x="17" y="0"/>
                      </a:lnTo>
                      <a:lnTo>
                        <a:pt x="35" y="18"/>
                      </a:lnTo>
                      <a:lnTo>
                        <a:pt x="35" y="0"/>
                      </a:lnTo>
                      <a:lnTo>
                        <a:pt x="17" y="0"/>
                      </a:lnTo>
                      <a:lnTo>
                        <a:pt x="17" y="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6008400" y="1704960"/>
                  <a:ext cx="112680" cy="11160"/>
                </a:xfrm>
                <a:custGeom>
                  <a:avLst/>
                  <a:gdLst/>
                  <a:ahLst/>
                  <a:rect l="l" t="t" r="r" b="b"/>
                  <a:pathLst>
                    <a:path w="354" h="35">
                      <a:moveTo>
                        <a:pt x="36" y="16"/>
                      </a:moveTo>
                      <a:lnTo>
                        <a:pt x="20" y="35"/>
                      </a:lnTo>
                      <a:lnTo>
                        <a:pt x="354" y="35"/>
                      </a:lnTo>
                      <a:lnTo>
                        <a:pt x="354" y="0"/>
                      </a:lnTo>
                      <a:lnTo>
                        <a:pt x="20" y="0"/>
                      </a:lnTo>
                      <a:lnTo>
                        <a:pt x="4" y="19"/>
                      </a:lnTo>
                      <a:lnTo>
                        <a:pt x="20" y="0"/>
                      </a:lnTo>
                      <a:lnTo>
                        <a:pt x="0" y="1"/>
                      </a:lnTo>
                      <a:lnTo>
                        <a:pt x="4" y="19"/>
                      </a:lnTo>
                      <a:lnTo>
                        <a:pt x="36"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7" name=""/>
                <p:cNvSpPr/>
                <p:nvPr/>
              </p:nvSpPr>
              <p:spPr>
                <a:xfrm>
                  <a:off x="6010200" y="1709640"/>
                  <a:ext cx="12600" cy="17640"/>
                </a:xfrm>
                <a:custGeom>
                  <a:avLst/>
                  <a:gdLst/>
                  <a:ahLst/>
                  <a:rect l="l" t="t" r="r" b="b"/>
                  <a:pathLst>
                    <a:path w="41" h="55">
                      <a:moveTo>
                        <a:pt x="41" y="54"/>
                      </a:moveTo>
                      <a:lnTo>
                        <a:pt x="40" y="53"/>
                      </a:lnTo>
                      <a:lnTo>
                        <a:pt x="32" y="0"/>
                      </a:lnTo>
                      <a:lnTo>
                        <a:pt x="0" y="3"/>
                      </a:lnTo>
                      <a:lnTo>
                        <a:pt x="7" y="55"/>
                      </a:lnTo>
                      <a:lnTo>
                        <a:pt x="6" y="54"/>
                      </a:lnTo>
                      <a:lnTo>
                        <a:pt x="41" y="5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8" name=""/>
                <p:cNvSpPr/>
                <p:nvPr/>
              </p:nvSpPr>
              <p:spPr>
                <a:xfrm>
                  <a:off x="6011640" y="1727280"/>
                  <a:ext cx="11160" cy="73080"/>
                </a:xfrm>
                <a:custGeom>
                  <a:avLst/>
                  <a:gdLst/>
                  <a:ahLst/>
                  <a:rect l="l" t="t" r="r" b="b"/>
                  <a:pathLst>
                    <a:path w="35" h="230">
                      <a:moveTo>
                        <a:pt x="19" y="230"/>
                      </a:moveTo>
                      <a:lnTo>
                        <a:pt x="35" y="213"/>
                      </a:lnTo>
                      <a:lnTo>
                        <a:pt x="35" y="0"/>
                      </a:lnTo>
                      <a:lnTo>
                        <a:pt x="0" y="0"/>
                      </a:lnTo>
                      <a:lnTo>
                        <a:pt x="0" y="213"/>
                      </a:lnTo>
                      <a:lnTo>
                        <a:pt x="16" y="197"/>
                      </a:lnTo>
                      <a:lnTo>
                        <a:pt x="19" y="230"/>
                      </a:lnTo>
                      <a:lnTo>
                        <a:pt x="35" y="228"/>
                      </a:lnTo>
                      <a:lnTo>
                        <a:pt x="35" y="213"/>
                      </a:lnTo>
                      <a:lnTo>
                        <a:pt x="19" y="2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59" name=""/>
              <p:cNvGrpSpPr/>
              <p:nvPr/>
            </p:nvGrpSpPr>
            <p:grpSpPr>
              <a:xfrm>
                <a:off x="6399000" y="2165400"/>
                <a:ext cx="984240" cy="1054080"/>
                <a:chOff x="6399000" y="2165400"/>
                <a:chExt cx="984240" cy="1054080"/>
              </a:xfrm>
            </p:grpSpPr>
            <p:grpSp>
              <p:nvGrpSpPr>
                <p:cNvPr id="660" name=""/>
                <p:cNvGrpSpPr/>
                <p:nvPr/>
              </p:nvGrpSpPr>
              <p:grpSpPr>
                <a:xfrm>
                  <a:off x="6399000" y="2506680"/>
                  <a:ext cx="768240" cy="657360"/>
                  <a:chOff x="6399000" y="2506680"/>
                  <a:chExt cx="768240" cy="657360"/>
                </a:xfrm>
              </p:grpSpPr>
              <p:sp>
                <p:nvSpPr>
                  <p:cNvPr id="661" name=""/>
                  <p:cNvSpPr/>
                  <p:nvPr/>
                </p:nvSpPr>
                <p:spPr>
                  <a:xfrm>
                    <a:off x="6399000" y="2506680"/>
                    <a:ext cx="395280" cy="646200"/>
                  </a:xfrm>
                  <a:custGeom>
                    <a:avLst/>
                    <a:gdLst/>
                    <a:ahLst/>
                    <a:rect l="l" t="t" r="r" b="b"/>
                    <a:pathLst>
                      <a:path w="745" h="1220">
                        <a:moveTo>
                          <a:pt x="15" y="185"/>
                        </a:moveTo>
                        <a:lnTo>
                          <a:pt x="33" y="1020"/>
                        </a:lnTo>
                        <a:lnTo>
                          <a:pt x="22" y="1025"/>
                        </a:lnTo>
                        <a:lnTo>
                          <a:pt x="12" y="1035"/>
                        </a:lnTo>
                        <a:lnTo>
                          <a:pt x="8" y="1050"/>
                        </a:lnTo>
                        <a:lnTo>
                          <a:pt x="9" y="1065"/>
                        </a:lnTo>
                        <a:lnTo>
                          <a:pt x="16" y="1078"/>
                        </a:lnTo>
                        <a:lnTo>
                          <a:pt x="25" y="1091"/>
                        </a:lnTo>
                        <a:lnTo>
                          <a:pt x="36" y="1105"/>
                        </a:lnTo>
                        <a:lnTo>
                          <a:pt x="51" y="1118"/>
                        </a:lnTo>
                        <a:lnTo>
                          <a:pt x="65" y="1133"/>
                        </a:lnTo>
                        <a:lnTo>
                          <a:pt x="85" y="1145"/>
                        </a:lnTo>
                        <a:lnTo>
                          <a:pt x="106" y="1158"/>
                        </a:lnTo>
                        <a:lnTo>
                          <a:pt x="129" y="1170"/>
                        </a:lnTo>
                        <a:lnTo>
                          <a:pt x="155" y="1182"/>
                        </a:lnTo>
                        <a:lnTo>
                          <a:pt x="183" y="1192"/>
                        </a:lnTo>
                        <a:lnTo>
                          <a:pt x="214" y="1201"/>
                        </a:lnTo>
                        <a:lnTo>
                          <a:pt x="247" y="1208"/>
                        </a:lnTo>
                        <a:lnTo>
                          <a:pt x="283" y="1214"/>
                        </a:lnTo>
                        <a:lnTo>
                          <a:pt x="321" y="1219"/>
                        </a:lnTo>
                        <a:lnTo>
                          <a:pt x="363" y="1220"/>
                        </a:lnTo>
                        <a:lnTo>
                          <a:pt x="406" y="1220"/>
                        </a:lnTo>
                        <a:lnTo>
                          <a:pt x="436" y="1219"/>
                        </a:lnTo>
                        <a:lnTo>
                          <a:pt x="465" y="1216"/>
                        </a:lnTo>
                        <a:lnTo>
                          <a:pt x="494" y="1213"/>
                        </a:lnTo>
                        <a:lnTo>
                          <a:pt x="522" y="1207"/>
                        </a:lnTo>
                        <a:lnTo>
                          <a:pt x="547" y="1201"/>
                        </a:lnTo>
                        <a:lnTo>
                          <a:pt x="572" y="1194"/>
                        </a:lnTo>
                        <a:lnTo>
                          <a:pt x="595" y="1186"/>
                        </a:lnTo>
                        <a:lnTo>
                          <a:pt x="617" y="1177"/>
                        </a:lnTo>
                        <a:lnTo>
                          <a:pt x="636" y="1168"/>
                        </a:lnTo>
                        <a:lnTo>
                          <a:pt x="654" y="1158"/>
                        </a:lnTo>
                        <a:lnTo>
                          <a:pt x="672" y="1148"/>
                        </a:lnTo>
                        <a:lnTo>
                          <a:pt x="687" y="1137"/>
                        </a:lnTo>
                        <a:lnTo>
                          <a:pt x="699" y="1127"/>
                        </a:lnTo>
                        <a:lnTo>
                          <a:pt x="711" y="1118"/>
                        </a:lnTo>
                        <a:lnTo>
                          <a:pt x="720" y="1108"/>
                        </a:lnTo>
                        <a:lnTo>
                          <a:pt x="725" y="1097"/>
                        </a:lnTo>
                        <a:lnTo>
                          <a:pt x="740" y="1066"/>
                        </a:lnTo>
                        <a:lnTo>
                          <a:pt x="745" y="1040"/>
                        </a:lnTo>
                        <a:lnTo>
                          <a:pt x="737" y="1017"/>
                        </a:lnTo>
                        <a:lnTo>
                          <a:pt x="718" y="1001"/>
                        </a:lnTo>
                        <a:lnTo>
                          <a:pt x="711" y="196"/>
                        </a:lnTo>
                        <a:lnTo>
                          <a:pt x="722" y="181"/>
                        </a:lnTo>
                        <a:lnTo>
                          <a:pt x="730" y="166"/>
                        </a:lnTo>
                        <a:lnTo>
                          <a:pt x="731" y="150"/>
                        </a:lnTo>
                        <a:lnTo>
                          <a:pt x="730" y="134"/>
                        </a:lnTo>
                        <a:lnTo>
                          <a:pt x="722" y="117"/>
                        </a:lnTo>
                        <a:lnTo>
                          <a:pt x="712" y="101"/>
                        </a:lnTo>
                        <a:lnTo>
                          <a:pt x="696" y="86"/>
                        </a:lnTo>
                        <a:lnTo>
                          <a:pt x="675" y="71"/>
                        </a:lnTo>
                        <a:lnTo>
                          <a:pt x="651" y="58"/>
                        </a:lnTo>
                        <a:lnTo>
                          <a:pt x="621" y="45"/>
                        </a:lnTo>
                        <a:lnTo>
                          <a:pt x="587" y="33"/>
                        </a:lnTo>
                        <a:lnTo>
                          <a:pt x="550" y="23"/>
                        </a:lnTo>
                        <a:lnTo>
                          <a:pt x="507" y="14"/>
                        </a:lnTo>
                        <a:lnTo>
                          <a:pt x="461" y="8"/>
                        </a:lnTo>
                        <a:lnTo>
                          <a:pt x="409" y="3"/>
                        </a:lnTo>
                        <a:lnTo>
                          <a:pt x="354" y="0"/>
                        </a:lnTo>
                        <a:lnTo>
                          <a:pt x="326" y="0"/>
                        </a:lnTo>
                        <a:lnTo>
                          <a:pt x="294" y="2"/>
                        </a:lnTo>
                        <a:lnTo>
                          <a:pt x="263" y="5"/>
                        </a:lnTo>
                        <a:lnTo>
                          <a:pt x="229" y="9"/>
                        </a:lnTo>
                        <a:lnTo>
                          <a:pt x="196" y="17"/>
                        </a:lnTo>
                        <a:lnTo>
                          <a:pt x="162" y="24"/>
                        </a:lnTo>
                        <a:lnTo>
                          <a:pt x="131" y="33"/>
                        </a:lnTo>
                        <a:lnTo>
                          <a:pt x="100" y="43"/>
                        </a:lnTo>
                        <a:lnTo>
                          <a:pt x="73" y="55"/>
                        </a:lnTo>
                        <a:lnTo>
                          <a:pt x="49" y="70"/>
                        </a:lnTo>
                        <a:lnTo>
                          <a:pt x="28" y="85"/>
                        </a:lnTo>
                        <a:lnTo>
                          <a:pt x="13" y="101"/>
                        </a:lnTo>
                        <a:lnTo>
                          <a:pt x="3" y="120"/>
                        </a:lnTo>
                        <a:lnTo>
                          <a:pt x="0" y="141"/>
                        </a:lnTo>
                        <a:lnTo>
                          <a:pt x="3" y="162"/>
                        </a:lnTo>
                        <a:lnTo>
                          <a:pt x="15"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480000" y="2759040"/>
                    <a:ext cx="11160" cy="238320"/>
                  </a:xfrm>
                  <a:custGeom>
                    <a:avLst/>
                    <a:gdLst/>
                    <a:ahLst/>
                    <a:rect l="l" t="t" r="r" b="b"/>
                    <a:pathLst>
                      <a:path w="20" h="450">
                        <a:moveTo>
                          <a:pt x="20" y="450"/>
                        </a:moveTo>
                        <a:lnTo>
                          <a:pt x="17" y="3"/>
                        </a:lnTo>
                        <a:lnTo>
                          <a:pt x="0" y="0"/>
                        </a:lnTo>
                        <a:lnTo>
                          <a:pt x="0" y="444"/>
                        </a:lnTo>
                        <a:lnTo>
                          <a:pt x="20" y="450"/>
                        </a:lnTo>
                        <a:close/>
                      </a:path>
                    </a:pathLst>
                  </a:custGeom>
                  <a:solidFill>
                    <a:srgbClr val="d6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480000" y="2693880"/>
                    <a:ext cx="9720" cy="34920"/>
                  </a:xfrm>
                  <a:custGeom>
                    <a:avLst/>
                    <a:gdLst/>
                    <a:ahLst/>
                    <a:rect l="l" t="t" r="r" b="b"/>
                    <a:pathLst>
                      <a:path w="17" h="66">
                        <a:moveTo>
                          <a:pt x="17" y="66"/>
                        </a:moveTo>
                        <a:lnTo>
                          <a:pt x="17" y="4"/>
                        </a:lnTo>
                        <a:lnTo>
                          <a:pt x="0" y="0"/>
                        </a:lnTo>
                        <a:lnTo>
                          <a:pt x="0" y="62"/>
                        </a:lnTo>
                        <a:lnTo>
                          <a:pt x="17" y="66"/>
                        </a:lnTo>
                        <a:close/>
                      </a:path>
                    </a:pathLst>
                  </a:custGeom>
                  <a:solidFill>
                    <a:srgbClr val="d6eae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4" name=""/>
                  <p:cNvSpPr/>
                  <p:nvPr/>
                </p:nvSpPr>
                <p:spPr>
                  <a:xfrm>
                    <a:off x="6480000" y="2635200"/>
                    <a:ext cx="9720" cy="30240"/>
                  </a:xfrm>
                  <a:custGeom>
                    <a:avLst/>
                    <a:gdLst/>
                    <a:ahLst/>
                    <a:rect l="l" t="t" r="r" b="b"/>
                    <a:pathLst>
                      <a:path w="17" h="55">
                        <a:moveTo>
                          <a:pt x="17" y="55"/>
                        </a:moveTo>
                        <a:lnTo>
                          <a:pt x="17" y="3"/>
                        </a:lnTo>
                        <a:lnTo>
                          <a:pt x="0" y="0"/>
                        </a:lnTo>
                        <a:lnTo>
                          <a:pt x="0" y="52"/>
                        </a:lnTo>
                        <a:lnTo>
                          <a:pt x="5" y="53"/>
                        </a:lnTo>
                        <a:lnTo>
                          <a:pt x="9" y="53"/>
                        </a:lnTo>
                        <a:lnTo>
                          <a:pt x="15" y="55"/>
                        </a:lnTo>
                        <a:lnTo>
                          <a:pt x="17" y="55"/>
                        </a:lnTo>
                        <a:close/>
                      </a:path>
                    </a:pathLst>
                  </a:custGeom>
                  <a:solidFill>
                    <a:srgbClr val="d6eae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5" name=""/>
                  <p:cNvSpPr/>
                  <p:nvPr/>
                </p:nvSpPr>
                <p:spPr>
                  <a:xfrm>
                    <a:off x="6480000" y="3076560"/>
                    <a:ext cx="11160" cy="27000"/>
                  </a:xfrm>
                  <a:custGeom>
                    <a:avLst/>
                    <a:gdLst/>
                    <a:ahLst/>
                    <a:rect l="l" t="t" r="r" b="b"/>
                    <a:pathLst>
                      <a:path w="20" h="52">
                        <a:moveTo>
                          <a:pt x="20" y="6"/>
                        </a:moveTo>
                        <a:lnTo>
                          <a:pt x="20" y="52"/>
                        </a:lnTo>
                        <a:lnTo>
                          <a:pt x="0" y="45"/>
                        </a:lnTo>
                        <a:lnTo>
                          <a:pt x="0" y="0"/>
                        </a:lnTo>
                        <a:lnTo>
                          <a:pt x="20" y="6"/>
                        </a:lnTo>
                        <a:close/>
                      </a:path>
                    </a:pathLst>
                  </a:custGeom>
                  <a:solidFill>
                    <a:srgbClr val="d6eae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6" name=""/>
                  <p:cNvSpPr/>
                  <p:nvPr/>
                </p:nvSpPr>
                <p:spPr>
                  <a:xfrm>
                    <a:off x="6480000" y="3021120"/>
                    <a:ext cx="11160" cy="31680"/>
                  </a:xfrm>
                  <a:custGeom>
                    <a:avLst/>
                    <a:gdLst/>
                    <a:ahLst/>
                    <a:rect l="l" t="t" r="r" b="b"/>
                    <a:pathLst>
                      <a:path w="20" h="59">
                        <a:moveTo>
                          <a:pt x="20" y="59"/>
                        </a:moveTo>
                        <a:lnTo>
                          <a:pt x="20" y="7"/>
                        </a:lnTo>
                        <a:lnTo>
                          <a:pt x="0" y="0"/>
                        </a:lnTo>
                        <a:lnTo>
                          <a:pt x="0" y="51"/>
                        </a:lnTo>
                        <a:lnTo>
                          <a:pt x="20" y="59"/>
                        </a:lnTo>
                        <a:close/>
                      </a:path>
                    </a:pathLst>
                  </a:custGeom>
                  <a:solidFill>
                    <a:srgbClr val="d6ea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67" name=""/>
                  <p:cNvSpPr/>
                  <p:nvPr/>
                </p:nvSpPr>
                <p:spPr>
                  <a:xfrm>
                    <a:off x="6551640" y="2644920"/>
                    <a:ext cx="69840" cy="29880"/>
                  </a:xfrm>
                  <a:custGeom>
                    <a:avLst/>
                    <a:gdLst/>
                    <a:ahLst/>
                    <a:rect l="l" t="t" r="r" b="b"/>
                    <a:pathLst>
                      <a:path w="130" h="55">
                        <a:moveTo>
                          <a:pt x="127" y="53"/>
                        </a:moveTo>
                        <a:lnTo>
                          <a:pt x="109" y="53"/>
                        </a:lnTo>
                        <a:lnTo>
                          <a:pt x="91" y="55"/>
                        </a:lnTo>
                        <a:lnTo>
                          <a:pt x="75" y="55"/>
                        </a:lnTo>
                        <a:lnTo>
                          <a:pt x="58" y="55"/>
                        </a:lnTo>
                        <a:lnTo>
                          <a:pt x="44" y="53"/>
                        </a:lnTo>
                        <a:lnTo>
                          <a:pt x="27" y="53"/>
                        </a:lnTo>
                        <a:lnTo>
                          <a:pt x="14" y="53"/>
                        </a:lnTo>
                        <a:lnTo>
                          <a:pt x="0" y="52"/>
                        </a:lnTo>
                        <a:lnTo>
                          <a:pt x="2" y="0"/>
                        </a:lnTo>
                        <a:lnTo>
                          <a:pt x="18" y="0"/>
                        </a:lnTo>
                        <a:lnTo>
                          <a:pt x="35" y="1"/>
                        </a:lnTo>
                        <a:lnTo>
                          <a:pt x="50" y="1"/>
                        </a:lnTo>
                        <a:lnTo>
                          <a:pt x="66" y="1"/>
                        </a:lnTo>
                        <a:lnTo>
                          <a:pt x="82" y="1"/>
                        </a:lnTo>
                        <a:lnTo>
                          <a:pt x="97" y="1"/>
                        </a:lnTo>
                        <a:lnTo>
                          <a:pt x="113" y="1"/>
                        </a:lnTo>
                        <a:lnTo>
                          <a:pt x="130" y="1"/>
                        </a:lnTo>
                        <a:lnTo>
                          <a:pt x="127" y="53"/>
                        </a:lnTo>
                        <a:close/>
                      </a:path>
                    </a:pathLst>
                  </a:custGeom>
                  <a:solidFill>
                    <a:srgbClr val="d6eae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8" name=""/>
                  <p:cNvSpPr/>
                  <p:nvPr/>
                </p:nvSpPr>
                <p:spPr>
                  <a:xfrm>
                    <a:off x="6551640" y="2705040"/>
                    <a:ext cx="68040" cy="31680"/>
                  </a:xfrm>
                  <a:custGeom>
                    <a:avLst/>
                    <a:gdLst/>
                    <a:ahLst/>
                    <a:rect l="l" t="t" r="r" b="b"/>
                    <a:pathLst>
                      <a:path w="128" h="60">
                        <a:moveTo>
                          <a:pt x="1" y="0"/>
                        </a:moveTo>
                        <a:lnTo>
                          <a:pt x="0" y="60"/>
                        </a:lnTo>
                        <a:lnTo>
                          <a:pt x="16" y="60"/>
                        </a:lnTo>
                        <a:lnTo>
                          <a:pt x="33" y="60"/>
                        </a:lnTo>
                        <a:lnTo>
                          <a:pt x="49" y="60"/>
                        </a:lnTo>
                        <a:lnTo>
                          <a:pt x="67" y="60"/>
                        </a:lnTo>
                        <a:lnTo>
                          <a:pt x="83" y="60"/>
                        </a:lnTo>
                        <a:lnTo>
                          <a:pt x="100" y="60"/>
                        </a:lnTo>
                        <a:lnTo>
                          <a:pt x="114" y="60"/>
                        </a:lnTo>
                        <a:lnTo>
                          <a:pt x="126" y="60"/>
                        </a:lnTo>
                        <a:lnTo>
                          <a:pt x="128" y="2"/>
                        </a:lnTo>
                        <a:lnTo>
                          <a:pt x="113" y="2"/>
                        </a:lnTo>
                        <a:lnTo>
                          <a:pt x="98" y="2"/>
                        </a:lnTo>
                        <a:lnTo>
                          <a:pt x="80" y="2"/>
                        </a:lnTo>
                        <a:lnTo>
                          <a:pt x="62" y="2"/>
                        </a:lnTo>
                        <a:lnTo>
                          <a:pt x="45" y="2"/>
                        </a:lnTo>
                        <a:lnTo>
                          <a:pt x="28" y="2"/>
                        </a:lnTo>
                        <a:lnTo>
                          <a:pt x="13" y="0"/>
                        </a:lnTo>
                        <a:lnTo>
                          <a:pt x="1" y="0"/>
                        </a:lnTo>
                        <a:close/>
                      </a:path>
                    </a:pathLst>
                  </a:custGeom>
                  <a:solidFill>
                    <a:srgbClr val="d6ea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69" name=""/>
                  <p:cNvSpPr/>
                  <p:nvPr/>
                </p:nvSpPr>
                <p:spPr>
                  <a:xfrm>
                    <a:off x="6548400" y="2768760"/>
                    <a:ext cx="69840" cy="249120"/>
                  </a:xfrm>
                  <a:custGeom>
                    <a:avLst/>
                    <a:gdLst/>
                    <a:ahLst/>
                    <a:rect l="l" t="t" r="r" b="b"/>
                    <a:pathLst>
                      <a:path w="132" h="471">
                        <a:moveTo>
                          <a:pt x="7" y="0"/>
                        </a:moveTo>
                        <a:lnTo>
                          <a:pt x="0" y="462"/>
                        </a:lnTo>
                        <a:lnTo>
                          <a:pt x="14" y="464"/>
                        </a:lnTo>
                        <a:lnTo>
                          <a:pt x="29" y="467"/>
                        </a:lnTo>
                        <a:lnTo>
                          <a:pt x="44" y="468"/>
                        </a:lnTo>
                        <a:lnTo>
                          <a:pt x="60" y="470"/>
                        </a:lnTo>
                        <a:lnTo>
                          <a:pt x="75" y="471"/>
                        </a:lnTo>
                        <a:lnTo>
                          <a:pt x="92" y="471"/>
                        </a:lnTo>
                        <a:lnTo>
                          <a:pt x="108" y="471"/>
                        </a:lnTo>
                        <a:lnTo>
                          <a:pt x="124" y="470"/>
                        </a:lnTo>
                        <a:lnTo>
                          <a:pt x="132" y="0"/>
                        </a:lnTo>
                        <a:lnTo>
                          <a:pt x="121" y="0"/>
                        </a:lnTo>
                        <a:lnTo>
                          <a:pt x="108" y="2"/>
                        </a:lnTo>
                        <a:lnTo>
                          <a:pt x="92" y="2"/>
                        </a:lnTo>
                        <a:lnTo>
                          <a:pt x="74" y="2"/>
                        </a:lnTo>
                        <a:lnTo>
                          <a:pt x="55" y="2"/>
                        </a:lnTo>
                        <a:lnTo>
                          <a:pt x="37" y="2"/>
                        </a:lnTo>
                        <a:lnTo>
                          <a:pt x="20" y="0"/>
                        </a:lnTo>
                        <a:lnTo>
                          <a:pt x="7" y="0"/>
                        </a:lnTo>
                        <a:close/>
                      </a:path>
                    </a:pathLst>
                  </a:custGeom>
                  <a:solidFill>
                    <a:srgbClr val="d6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546600" y="3041640"/>
                    <a:ext cx="66600" cy="31680"/>
                  </a:xfrm>
                  <a:custGeom>
                    <a:avLst/>
                    <a:gdLst/>
                    <a:ahLst/>
                    <a:rect l="l" t="t" r="r" b="b"/>
                    <a:pathLst>
                      <a:path w="125" h="62">
                        <a:moveTo>
                          <a:pt x="2" y="0"/>
                        </a:moveTo>
                        <a:lnTo>
                          <a:pt x="0" y="51"/>
                        </a:lnTo>
                        <a:lnTo>
                          <a:pt x="10" y="53"/>
                        </a:lnTo>
                        <a:lnTo>
                          <a:pt x="24" y="56"/>
                        </a:lnTo>
                        <a:lnTo>
                          <a:pt x="37" y="57"/>
                        </a:lnTo>
                        <a:lnTo>
                          <a:pt x="54" y="60"/>
                        </a:lnTo>
                        <a:lnTo>
                          <a:pt x="71" y="62"/>
                        </a:lnTo>
                        <a:lnTo>
                          <a:pt x="89" y="62"/>
                        </a:lnTo>
                        <a:lnTo>
                          <a:pt x="106" y="62"/>
                        </a:lnTo>
                        <a:lnTo>
                          <a:pt x="123" y="59"/>
                        </a:lnTo>
                        <a:lnTo>
                          <a:pt x="125" y="7"/>
                        </a:lnTo>
                        <a:lnTo>
                          <a:pt x="112" y="7"/>
                        </a:lnTo>
                        <a:lnTo>
                          <a:pt x="98" y="7"/>
                        </a:lnTo>
                        <a:lnTo>
                          <a:pt x="83" y="7"/>
                        </a:lnTo>
                        <a:lnTo>
                          <a:pt x="67" y="7"/>
                        </a:lnTo>
                        <a:lnTo>
                          <a:pt x="51" y="6"/>
                        </a:lnTo>
                        <a:lnTo>
                          <a:pt x="34" y="4"/>
                        </a:lnTo>
                        <a:lnTo>
                          <a:pt x="18" y="3"/>
                        </a:lnTo>
                        <a:lnTo>
                          <a:pt x="2" y="0"/>
                        </a:lnTo>
                        <a:close/>
                      </a:path>
                    </a:pathLst>
                  </a:custGeom>
                  <a:solidFill>
                    <a:srgbClr val="d6ea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1" name=""/>
                  <p:cNvSpPr/>
                  <p:nvPr/>
                </p:nvSpPr>
                <p:spPr>
                  <a:xfrm>
                    <a:off x="6546600" y="3095640"/>
                    <a:ext cx="65160" cy="31680"/>
                  </a:xfrm>
                  <a:custGeom>
                    <a:avLst/>
                    <a:gdLst/>
                    <a:ahLst/>
                    <a:rect l="l" t="t" r="r" b="b"/>
                    <a:pathLst>
                      <a:path w="124" h="61">
                        <a:moveTo>
                          <a:pt x="0" y="48"/>
                        </a:moveTo>
                        <a:lnTo>
                          <a:pt x="1" y="0"/>
                        </a:lnTo>
                        <a:lnTo>
                          <a:pt x="17" y="3"/>
                        </a:lnTo>
                        <a:lnTo>
                          <a:pt x="32" y="5"/>
                        </a:lnTo>
                        <a:lnTo>
                          <a:pt x="49" y="8"/>
                        </a:lnTo>
                        <a:lnTo>
                          <a:pt x="65" y="9"/>
                        </a:lnTo>
                        <a:lnTo>
                          <a:pt x="80" y="11"/>
                        </a:lnTo>
                        <a:lnTo>
                          <a:pt x="95" y="11"/>
                        </a:lnTo>
                        <a:lnTo>
                          <a:pt x="110" y="11"/>
                        </a:lnTo>
                        <a:lnTo>
                          <a:pt x="124" y="9"/>
                        </a:lnTo>
                        <a:lnTo>
                          <a:pt x="123" y="61"/>
                        </a:lnTo>
                        <a:lnTo>
                          <a:pt x="108" y="61"/>
                        </a:lnTo>
                        <a:lnTo>
                          <a:pt x="92" y="59"/>
                        </a:lnTo>
                        <a:lnTo>
                          <a:pt x="75" y="59"/>
                        </a:lnTo>
                        <a:lnTo>
                          <a:pt x="61" y="58"/>
                        </a:lnTo>
                        <a:lnTo>
                          <a:pt x="44" y="56"/>
                        </a:lnTo>
                        <a:lnTo>
                          <a:pt x="29" y="54"/>
                        </a:lnTo>
                        <a:lnTo>
                          <a:pt x="14" y="51"/>
                        </a:lnTo>
                        <a:lnTo>
                          <a:pt x="0" y="48"/>
                        </a:lnTo>
                        <a:close/>
                      </a:path>
                    </a:pathLst>
                  </a:custGeom>
                  <a:solidFill>
                    <a:srgbClr val="d6ea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2" name=""/>
                  <p:cNvSpPr/>
                  <p:nvPr/>
                </p:nvSpPr>
                <p:spPr>
                  <a:xfrm>
                    <a:off x="6705360" y="2627280"/>
                    <a:ext cx="33480" cy="36720"/>
                  </a:xfrm>
                  <a:custGeom>
                    <a:avLst/>
                    <a:gdLst/>
                    <a:ahLst/>
                    <a:rect l="l" t="t" r="r" b="b"/>
                    <a:pathLst>
                      <a:path w="64" h="69">
                        <a:moveTo>
                          <a:pt x="64" y="53"/>
                        </a:moveTo>
                        <a:lnTo>
                          <a:pt x="57" y="55"/>
                        </a:lnTo>
                        <a:lnTo>
                          <a:pt x="49" y="58"/>
                        </a:lnTo>
                        <a:lnTo>
                          <a:pt x="42" y="59"/>
                        </a:lnTo>
                        <a:lnTo>
                          <a:pt x="34" y="62"/>
                        </a:lnTo>
                        <a:lnTo>
                          <a:pt x="26" y="64"/>
                        </a:lnTo>
                        <a:lnTo>
                          <a:pt x="18" y="66"/>
                        </a:lnTo>
                        <a:lnTo>
                          <a:pt x="9" y="68"/>
                        </a:lnTo>
                        <a:lnTo>
                          <a:pt x="0" y="69"/>
                        </a:lnTo>
                        <a:lnTo>
                          <a:pt x="0" y="16"/>
                        </a:lnTo>
                        <a:lnTo>
                          <a:pt x="9" y="15"/>
                        </a:lnTo>
                        <a:lnTo>
                          <a:pt x="17" y="13"/>
                        </a:lnTo>
                        <a:lnTo>
                          <a:pt x="24" y="12"/>
                        </a:lnTo>
                        <a:lnTo>
                          <a:pt x="33" y="9"/>
                        </a:lnTo>
                        <a:lnTo>
                          <a:pt x="40" y="7"/>
                        </a:lnTo>
                        <a:lnTo>
                          <a:pt x="48" y="4"/>
                        </a:lnTo>
                        <a:lnTo>
                          <a:pt x="55" y="3"/>
                        </a:lnTo>
                        <a:lnTo>
                          <a:pt x="63" y="0"/>
                        </a:lnTo>
                        <a:lnTo>
                          <a:pt x="64" y="53"/>
                        </a:lnTo>
                        <a:close/>
                      </a:path>
                    </a:pathLst>
                  </a:custGeom>
                  <a:solidFill>
                    <a:srgbClr val="d6eae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3" name=""/>
                  <p:cNvSpPr/>
                  <p:nvPr/>
                </p:nvSpPr>
                <p:spPr>
                  <a:xfrm>
                    <a:off x="6705360" y="2687760"/>
                    <a:ext cx="33480" cy="37800"/>
                  </a:xfrm>
                  <a:custGeom>
                    <a:avLst/>
                    <a:gdLst/>
                    <a:ahLst/>
                    <a:rect l="l" t="t" r="r" b="b"/>
                    <a:pathLst>
                      <a:path w="64" h="71">
                        <a:moveTo>
                          <a:pt x="0" y="71"/>
                        </a:moveTo>
                        <a:lnTo>
                          <a:pt x="0" y="15"/>
                        </a:lnTo>
                        <a:lnTo>
                          <a:pt x="64" y="0"/>
                        </a:lnTo>
                        <a:lnTo>
                          <a:pt x="64" y="55"/>
                        </a:lnTo>
                        <a:lnTo>
                          <a:pt x="0" y="71"/>
                        </a:lnTo>
                        <a:close/>
                      </a:path>
                    </a:pathLst>
                  </a:custGeom>
                  <a:solidFill>
                    <a:srgbClr val="d6eae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
                  <p:cNvSpPr/>
                  <p:nvPr/>
                </p:nvSpPr>
                <p:spPr>
                  <a:xfrm>
                    <a:off x="6700680" y="2751120"/>
                    <a:ext cx="38160" cy="243000"/>
                  </a:xfrm>
                  <a:custGeom>
                    <a:avLst/>
                    <a:gdLst/>
                    <a:ahLst/>
                    <a:rect l="l" t="t" r="r" b="b"/>
                    <a:pathLst>
                      <a:path w="73" h="459">
                        <a:moveTo>
                          <a:pt x="0" y="459"/>
                        </a:moveTo>
                        <a:lnTo>
                          <a:pt x="7" y="15"/>
                        </a:lnTo>
                        <a:lnTo>
                          <a:pt x="73" y="0"/>
                        </a:lnTo>
                        <a:lnTo>
                          <a:pt x="73" y="425"/>
                        </a:lnTo>
                        <a:lnTo>
                          <a:pt x="0" y="459"/>
                        </a:lnTo>
                        <a:close/>
                      </a:path>
                    </a:pathLst>
                  </a:custGeom>
                  <a:solidFill>
                    <a:srgbClr val="d6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99240" y="3003480"/>
                    <a:ext cx="39600" cy="47520"/>
                  </a:xfrm>
                  <a:custGeom>
                    <a:avLst/>
                    <a:gdLst/>
                    <a:ahLst/>
                    <a:rect l="l" t="t" r="r" b="b"/>
                    <a:pathLst>
                      <a:path w="75" h="90">
                        <a:moveTo>
                          <a:pt x="0" y="90"/>
                        </a:moveTo>
                        <a:lnTo>
                          <a:pt x="0" y="36"/>
                        </a:lnTo>
                        <a:lnTo>
                          <a:pt x="75" y="0"/>
                        </a:lnTo>
                        <a:lnTo>
                          <a:pt x="73" y="55"/>
                        </a:lnTo>
                        <a:lnTo>
                          <a:pt x="0" y="90"/>
                        </a:lnTo>
                        <a:close/>
                      </a:path>
                    </a:pathLst>
                  </a:custGeom>
                  <a:solidFill>
                    <a:srgbClr val="d6eae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6" name=""/>
                  <p:cNvSpPr/>
                  <p:nvPr/>
                </p:nvSpPr>
                <p:spPr>
                  <a:xfrm>
                    <a:off x="6697440" y="3062160"/>
                    <a:ext cx="41400" cy="47880"/>
                  </a:xfrm>
                  <a:custGeom>
                    <a:avLst/>
                    <a:gdLst/>
                    <a:ahLst/>
                    <a:rect l="l" t="t" r="r" b="b"/>
                    <a:pathLst>
                      <a:path w="78" h="91">
                        <a:moveTo>
                          <a:pt x="0" y="91"/>
                        </a:moveTo>
                        <a:lnTo>
                          <a:pt x="2" y="34"/>
                        </a:lnTo>
                        <a:lnTo>
                          <a:pt x="78" y="0"/>
                        </a:lnTo>
                        <a:lnTo>
                          <a:pt x="78" y="57"/>
                        </a:lnTo>
                        <a:lnTo>
                          <a:pt x="0" y="91"/>
                        </a:lnTo>
                        <a:close/>
                      </a:path>
                    </a:pathLst>
                  </a:custGeom>
                  <a:solidFill>
                    <a:srgbClr val="d6eae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77" name=""/>
                  <p:cNvSpPr/>
                  <p:nvPr/>
                </p:nvSpPr>
                <p:spPr>
                  <a:xfrm>
                    <a:off x="6437160" y="2538360"/>
                    <a:ext cx="306360" cy="71640"/>
                  </a:xfrm>
                  <a:custGeom>
                    <a:avLst/>
                    <a:gdLst/>
                    <a:ahLst/>
                    <a:rect l="l" t="t" r="r" b="b"/>
                    <a:pathLst>
                      <a:path w="579" h="134">
                        <a:moveTo>
                          <a:pt x="525" y="114"/>
                        </a:moveTo>
                        <a:lnTo>
                          <a:pt x="536" y="111"/>
                        </a:lnTo>
                        <a:lnTo>
                          <a:pt x="546" y="106"/>
                        </a:lnTo>
                        <a:lnTo>
                          <a:pt x="555" y="100"/>
                        </a:lnTo>
                        <a:lnTo>
                          <a:pt x="564" y="96"/>
                        </a:lnTo>
                        <a:lnTo>
                          <a:pt x="570" y="90"/>
                        </a:lnTo>
                        <a:lnTo>
                          <a:pt x="574" y="85"/>
                        </a:lnTo>
                        <a:lnTo>
                          <a:pt x="579" y="79"/>
                        </a:lnTo>
                        <a:lnTo>
                          <a:pt x="579" y="74"/>
                        </a:lnTo>
                        <a:lnTo>
                          <a:pt x="576" y="63"/>
                        </a:lnTo>
                        <a:lnTo>
                          <a:pt x="567" y="54"/>
                        </a:lnTo>
                        <a:lnTo>
                          <a:pt x="553" y="47"/>
                        </a:lnTo>
                        <a:lnTo>
                          <a:pt x="537" y="38"/>
                        </a:lnTo>
                        <a:lnTo>
                          <a:pt x="518" y="32"/>
                        </a:lnTo>
                        <a:lnTo>
                          <a:pt x="497" y="26"/>
                        </a:lnTo>
                        <a:lnTo>
                          <a:pt x="473" y="20"/>
                        </a:lnTo>
                        <a:lnTo>
                          <a:pt x="448" y="16"/>
                        </a:lnTo>
                        <a:lnTo>
                          <a:pt x="423" y="11"/>
                        </a:lnTo>
                        <a:lnTo>
                          <a:pt x="396" y="8"/>
                        </a:lnTo>
                        <a:lnTo>
                          <a:pt x="371" y="5"/>
                        </a:lnTo>
                        <a:lnTo>
                          <a:pt x="345" y="2"/>
                        </a:lnTo>
                        <a:lnTo>
                          <a:pt x="323" y="1"/>
                        </a:lnTo>
                        <a:lnTo>
                          <a:pt x="302" y="0"/>
                        </a:lnTo>
                        <a:lnTo>
                          <a:pt x="283" y="0"/>
                        </a:lnTo>
                        <a:lnTo>
                          <a:pt x="268" y="0"/>
                        </a:lnTo>
                        <a:lnTo>
                          <a:pt x="255" y="0"/>
                        </a:lnTo>
                        <a:lnTo>
                          <a:pt x="238" y="0"/>
                        </a:lnTo>
                        <a:lnTo>
                          <a:pt x="219" y="1"/>
                        </a:lnTo>
                        <a:lnTo>
                          <a:pt x="198" y="2"/>
                        </a:lnTo>
                        <a:lnTo>
                          <a:pt x="176" y="4"/>
                        </a:lnTo>
                        <a:lnTo>
                          <a:pt x="154" y="7"/>
                        </a:lnTo>
                        <a:lnTo>
                          <a:pt x="131" y="10"/>
                        </a:lnTo>
                        <a:lnTo>
                          <a:pt x="107" y="13"/>
                        </a:lnTo>
                        <a:lnTo>
                          <a:pt x="87" y="17"/>
                        </a:lnTo>
                        <a:lnTo>
                          <a:pt x="66" y="23"/>
                        </a:lnTo>
                        <a:lnTo>
                          <a:pt x="48" y="29"/>
                        </a:lnTo>
                        <a:lnTo>
                          <a:pt x="32" y="35"/>
                        </a:lnTo>
                        <a:lnTo>
                          <a:pt x="18" y="44"/>
                        </a:lnTo>
                        <a:lnTo>
                          <a:pt x="8" y="51"/>
                        </a:lnTo>
                        <a:lnTo>
                          <a:pt x="2" y="62"/>
                        </a:lnTo>
                        <a:lnTo>
                          <a:pt x="0" y="72"/>
                        </a:lnTo>
                        <a:lnTo>
                          <a:pt x="5" y="82"/>
                        </a:lnTo>
                        <a:lnTo>
                          <a:pt x="14" y="91"/>
                        </a:lnTo>
                        <a:lnTo>
                          <a:pt x="27" y="100"/>
                        </a:lnTo>
                        <a:lnTo>
                          <a:pt x="47" y="108"/>
                        </a:lnTo>
                        <a:lnTo>
                          <a:pt x="69" y="114"/>
                        </a:lnTo>
                        <a:lnTo>
                          <a:pt x="96" y="119"/>
                        </a:lnTo>
                        <a:lnTo>
                          <a:pt x="125" y="124"/>
                        </a:lnTo>
                        <a:lnTo>
                          <a:pt x="157" y="128"/>
                        </a:lnTo>
                        <a:lnTo>
                          <a:pt x="191" y="131"/>
                        </a:lnTo>
                        <a:lnTo>
                          <a:pt x="225" y="133"/>
                        </a:lnTo>
                        <a:lnTo>
                          <a:pt x="261" y="134"/>
                        </a:lnTo>
                        <a:lnTo>
                          <a:pt x="298" y="134"/>
                        </a:lnTo>
                        <a:lnTo>
                          <a:pt x="333" y="134"/>
                        </a:lnTo>
                        <a:lnTo>
                          <a:pt x="368" y="133"/>
                        </a:lnTo>
                        <a:lnTo>
                          <a:pt x="402" y="130"/>
                        </a:lnTo>
                        <a:lnTo>
                          <a:pt x="434" y="127"/>
                        </a:lnTo>
                        <a:lnTo>
                          <a:pt x="429" y="37"/>
                        </a:lnTo>
                        <a:lnTo>
                          <a:pt x="467" y="53"/>
                        </a:lnTo>
                        <a:lnTo>
                          <a:pt x="475" y="121"/>
                        </a:lnTo>
                        <a:lnTo>
                          <a:pt x="479" y="119"/>
                        </a:lnTo>
                        <a:lnTo>
                          <a:pt x="484" y="119"/>
                        </a:lnTo>
                        <a:lnTo>
                          <a:pt x="486" y="119"/>
                        </a:lnTo>
                        <a:lnTo>
                          <a:pt x="491" y="118"/>
                        </a:lnTo>
                        <a:lnTo>
                          <a:pt x="489" y="60"/>
                        </a:lnTo>
                        <a:lnTo>
                          <a:pt x="518" y="69"/>
                        </a:lnTo>
                        <a:lnTo>
                          <a:pt x="525" y="114"/>
                        </a:lnTo>
                        <a:close/>
                      </a:path>
                    </a:pathLst>
                  </a:custGeom>
                  <a:solidFill>
                    <a:srgbClr val="5badb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8" name=""/>
                  <p:cNvSpPr/>
                  <p:nvPr/>
                </p:nvSpPr>
                <p:spPr>
                  <a:xfrm>
                    <a:off x="6738840" y="3054240"/>
                    <a:ext cx="12600" cy="38160"/>
                  </a:xfrm>
                  <a:custGeom>
                    <a:avLst/>
                    <a:gdLst/>
                    <a:ahLst/>
                    <a:rect l="l" t="t" r="r" b="b"/>
                    <a:pathLst>
                      <a:path w="24" h="71">
                        <a:moveTo>
                          <a:pt x="0" y="71"/>
                        </a:moveTo>
                        <a:lnTo>
                          <a:pt x="0" y="14"/>
                        </a:lnTo>
                        <a:lnTo>
                          <a:pt x="24" y="0"/>
                        </a:lnTo>
                        <a:lnTo>
                          <a:pt x="24" y="59"/>
                        </a:lnTo>
                        <a:lnTo>
                          <a:pt x="0" y="71"/>
                        </a:lnTo>
                        <a:close/>
                      </a:path>
                    </a:pathLst>
                  </a:custGeom>
                  <a:solidFill>
                    <a:srgbClr val="5badb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9" name=""/>
                  <p:cNvSpPr/>
                  <p:nvPr/>
                </p:nvSpPr>
                <p:spPr>
                  <a:xfrm>
                    <a:off x="6737040" y="2998800"/>
                    <a:ext cx="14400" cy="34920"/>
                  </a:xfrm>
                  <a:custGeom>
                    <a:avLst/>
                    <a:gdLst/>
                    <a:ahLst/>
                    <a:rect l="l" t="t" r="r" b="b"/>
                    <a:pathLst>
                      <a:path w="26" h="65">
                        <a:moveTo>
                          <a:pt x="2" y="10"/>
                        </a:moveTo>
                        <a:lnTo>
                          <a:pt x="0" y="65"/>
                        </a:lnTo>
                        <a:lnTo>
                          <a:pt x="26" y="53"/>
                        </a:lnTo>
                        <a:lnTo>
                          <a:pt x="26" y="0"/>
                        </a:lnTo>
                        <a:lnTo>
                          <a:pt x="2" y="10"/>
                        </a:lnTo>
                        <a:close/>
                      </a:path>
                    </a:pathLst>
                  </a:custGeom>
                  <a:solidFill>
                    <a:srgbClr val="5badb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0" name=""/>
                  <p:cNvSpPr/>
                  <p:nvPr/>
                </p:nvSpPr>
                <p:spPr>
                  <a:xfrm>
                    <a:off x="6738840" y="2746440"/>
                    <a:ext cx="14400" cy="230040"/>
                  </a:xfrm>
                  <a:custGeom>
                    <a:avLst/>
                    <a:gdLst/>
                    <a:ahLst/>
                    <a:rect l="l" t="t" r="r" b="b"/>
                    <a:pathLst>
                      <a:path w="28" h="434">
                        <a:moveTo>
                          <a:pt x="0" y="9"/>
                        </a:moveTo>
                        <a:lnTo>
                          <a:pt x="0" y="434"/>
                        </a:lnTo>
                        <a:lnTo>
                          <a:pt x="25" y="423"/>
                        </a:lnTo>
                        <a:lnTo>
                          <a:pt x="28" y="0"/>
                        </a:lnTo>
                        <a:lnTo>
                          <a:pt x="0" y="9"/>
                        </a:lnTo>
                        <a:close/>
                      </a:path>
                    </a:pathLst>
                  </a:custGeom>
                  <a:solidFill>
                    <a:srgbClr val="5bad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38840" y="2682720"/>
                    <a:ext cx="14400" cy="34920"/>
                  </a:xfrm>
                  <a:custGeom>
                    <a:avLst/>
                    <a:gdLst/>
                    <a:ahLst/>
                    <a:rect l="l" t="t" r="r" b="b"/>
                    <a:pathLst>
                      <a:path w="28" h="64">
                        <a:moveTo>
                          <a:pt x="0" y="9"/>
                        </a:moveTo>
                        <a:lnTo>
                          <a:pt x="0" y="64"/>
                        </a:lnTo>
                        <a:lnTo>
                          <a:pt x="28" y="54"/>
                        </a:lnTo>
                        <a:lnTo>
                          <a:pt x="28" y="0"/>
                        </a:lnTo>
                        <a:lnTo>
                          <a:pt x="0" y="9"/>
                        </a:lnTo>
                        <a:close/>
                      </a:path>
                    </a:pathLst>
                  </a:custGeom>
                  <a:solidFill>
                    <a:srgbClr val="5badb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a:off x="6530760" y="2643120"/>
                    <a:ext cx="22320" cy="30240"/>
                  </a:xfrm>
                  <a:custGeom>
                    <a:avLst/>
                    <a:gdLst/>
                    <a:ahLst/>
                    <a:rect l="l" t="t" r="r" b="b"/>
                    <a:pathLst>
                      <a:path w="42" h="55">
                        <a:moveTo>
                          <a:pt x="40" y="55"/>
                        </a:moveTo>
                        <a:lnTo>
                          <a:pt x="29" y="55"/>
                        </a:lnTo>
                        <a:lnTo>
                          <a:pt x="18" y="53"/>
                        </a:lnTo>
                        <a:lnTo>
                          <a:pt x="9" y="53"/>
                        </a:lnTo>
                        <a:lnTo>
                          <a:pt x="0" y="52"/>
                        </a:lnTo>
                        <a:lnTo>
                          <a:pt x="2" y="0"/>
                        </a:lnTo>
                        <a:lnTo>
                          <a:pt x="12" y="0"/>
                        </a:lnTo>
                        <a:lnTo>
                          <a:pt x="23" y="1"/>
                        </a:lnTo>
                        <a:lnTo>
                          <a:pt x="32" y="1"/>
                        </a:lnTo>
                        <a:lnTo>
                          <a:pt x="42" y="3"/>
                        </a:lnTo>
                        <a:lnTo>
                          <a:pt x="40" y="55"/>
                        </a:lnTo>
                        <a:close/>
                      </a:path>
                    </a:pathLst>
                  </a:custGeom>
                  <a:solidFill>
                    <a:srgbClr val="5bad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3" name=""/>
                  <p:cNvSpPr/>
                  <p:nvPr/>
                </p:nvSpPr>
                <p:spPr>
                  <a:xfrm>
                    <a:off x="6530760" y="2701800"/>
                    <a:ext cx="20880" cy="34920"/>
                  </a:xfrm>
                  <a:custGeom>
                    <a:avLst/>
                    <a:gdLst/>
                    <a:ahLst/>
                    <a:rect l="l" t="t" r="r" b="b"/>
                    <a:pathLst>
                      <a:path w="41" h="64">
                        <a:moveTo>
                          <a:pt x="0" y="59"/>
                        </a:moveTo>
                        <a:lnTo>
                          <a:pt x="0" y="0"/>
                        </a:lnTo>
                        <a:lnTo>
                          <a:pt x="41" y="4"/>
                        </a:lnTo>
                        <a:lnTo>
                          <a:pt x="40" y="64"/>
                        </a:lnTo>
                        <a:lnTo>
                          <a:pt x="0" y="59"/>
                        </a:lnTo>
                        <a:close/>
                      </a:path>
                    </a:pathLst>
                  </a:custGeom>
                  <a:solidFill>
                    <a:srgbClr val="5badb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4" name=""/>
                  <p:cNvSpPr/>
                  <p:nvPr/>
                </p:nvSpPr>
                <p:spPr>
                  <a:xfrm>
                    <a:off x="6526080" y="2765520"/>
                    <a:ext cx="25560" cy="247680"/>
                  </a:xfrm>
                  <a:custGeom>
                    <a:avLst/>
                    <a:gdLst/>
                    <a:ahLst/>
                    <a:rect l="l" t="t" r="r" b="b"/>
                    <a:pathLst>
                      <a:path w="48" h="466">
                        <a:moveTo>
                          <a:pt x="0" y="459"/>
                        </a:moveTo>
                        <a:lnTo>
                          <a:pt x="6" y="0"/>
                        </a:lnTo>
                        <a:lnTo>
                          <a:pt x="48" y="4"/>
                        </a:lnTo>
                        <a:lnTo>
                          <a:pt x="41" y="466"/>
                        </a:lnTo>
                        <a:lnTo>
                          <a:pt x="0" y="459"/>
                        </a:lnTo>
                        <a:close/>
                      </a:path>
                    </a:pathLst>
                  </a:custGeom>
                  <a:solidFill>
                    <a:srgbClr val="5bad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526080" y="3035160"/>
                    <a:ext cx="22320" cy="33480"/>
                  </a:xfrm>
                  <a:custGeom>
                    <a:avLst/>
                    <a:gdLst/>
                    <a:ahLst/>
                    <a:rect l="l" t="t" r="r" b="b"/>
                    <a:pathLst>
                      <a:path w="42" h="62">
                        <a:moveTo>
                          <a:pt x="0" y="52"/>
                        </a:moveTo>
                        <a:lnTo>
                          <a:pt x="1" y="0"/>
                        </a:lnTo>
                        <a:lnTo>
                          <a:pt x="42" y="11"/>
                        </a:lnTo>
                        <a:lnTo>
                          <a:pt x="40" y="62"/>
                        </a:lnTo>
                        <a:lnTo>
                          <a:pt x="0" y="52"/>
                        </a:lnTo>
                        <a:close/>
                      </a:path>
                    </a:pathLst>
                  </a:custGeom>
                  <a:solidFill>
                    <a:srgbClr val="5badb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6" name=""/>
                  <p:cNvSpPr/>
                  <p:nvPr/>
                </p:nvSpPr>
                <p:spPr>
                  <a:xfrm>
                    <a:off x="6524640" y="3090960"/>
                    <a:ext cx="21960" cy="30240"/>
                  </a:xfrm>
                  <a:custGeom>
                    <a:avLst/>
                    <a:gdLst/>
                    <a:ahLst/>
                    <a:rect l="l" t="t" r="r" b="b"/>
                    <a:pathLst>
                      <a:path w="42" h="58">
                        <a:moveTo>
                          <a:pt x="0" y="47"/>
                        </a:moveTo>
                        <a:lnTo>
                          <a:pt x="2" y="0"/>
                        </a:lnTo>
                        <a:lnTo>
                          <a:pt x="42" y="10"/>
                        </a:lnTo>
                        <a:lnTo>
                          <a:pt x="41" y="58"/>
                        </a:lnTo>
                        <a:lnTo>
                          <a:pt x="0" y="47"/>
                        </a:lnTo>
                        <a:close/>
                      </a:path>
                    </a:pathLst>
                  </a:custGeom>
                  <a:solidFill>
                    <a:srgbClr val="5bad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7" name=""/>
                  <p:cNvSpPr/>
                  <p:nvPr/>
                </p:nvSpPr>
                <p:spPr>
                  <a:xfrm>
                    <a:off x="6433920" y="2743200"/>
                    <a:ext cx="30240" cy="244440"/>
                  </a:xfrm>
                  <a:custGeom>
                    <a:avLst/>
                    <a:gdLst/>
                    <a:ahLst/>
                    <a:rect l="l" t="t" r="r" b="b"/>
                    <a:pathLst>
                      <a:path w="58" h="461">
                        <a:moveTo>
                          <a:pt x="58" y="461"/>
                        </a:moveTo>
                        <a:lnTo>
                          <a:pt x="58" y="21"/>
                        </a:lnTo>
                        <a:lnTo>
                          <a:pt x="53" y="20"/>
                        </a:lnTo>
                        <a:lnTo>
                          <a:pt x="45" y="17"/>
                        </a:lnTo>
                        <a:lnTo>
                          <a:pt x="38" y="15"/>
                        </a:lnTo>
                        <a:lnTo>
                          <a:pt x="30" y="12"/>
                        </a:lnTo>
                        <a:lnTo>
                          <a:pt x="23" y="9"/>
                        </a:lnTo>
                        <a:lnTo>
                          <a:pt x="15" y="6"/>
                        </a:lnTo>
                        <a:lnTo>
                          <a:pt x="8" y="3"/>
                        </a:lnTo>
                        <a:lnTo>
                          <a:pt x="0" y="0"/>
                        </a:lnTo>
                        <a:lnTo>
                          <a:pt x="8" y="439"/>
                        </a:lnTo>
                        <a:lnTo>
                          <a:pt x="15" y="442"/>
                        </a:lnTo>
                        <a:lnTo>
                          <a:pt x="21" y="445"/>
                        </a:lnTo>
                        <a:lnTo>
                          <a:pt x="29" y="448"/>
                        </a:lnTo>
                        <a:lnTo>
                          <a:pt x="35" y="451"/>
                        </a:lnTo>
                        <a:lnTo>
                          <a:pt x="41" y="453"/>
                        </a:lnTo>
                        <a:lnTo>
                          <a:pt x="47" y="456"/>
                        </a:lnTo>
                        <a:lnTo>
                          <a:pt x="53" y="458"/>
                        </a:lnTo>
                        <a:lnTo>
                          <a:pt x="58" y="461"/>
                        </a:lnTo>
                        <a:close/>
                      </a:path>
                    </a:pathLst>
                  </a:custGeom>
                  <a:solidFill>
                    <a:srgbClr val="5bad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433920" y="2679840"/>
                    <a:ext cx="30240" cy="44280"/>
                  </a:xfrm>
                  <a:custGeom>
                    <a:avLst/>
                    <a:gdLst/>
                    <a:ahLst/>
                    <a:rect l="l" t="t" r="r" b="b"/>
                    <a:pathLst>
                      <a:path w="59" h="84">
                        <a:moveTo>
                          <a:pt x="59" y="84"/>
                        </a:moveTo>
                        <a:lnTo>
                          <a:pt x="59" y="22"/>
                        </a:lnTo>
                        <a:lnTo>
                          <a:pt x="52" y="19"/>
                        </a:lnTo>
                        <a:lnTo>
                          <a:pt x="45" y="17"/>
                        </a:lnTo>
                        <a:lnTo>
                          <a:pt x="37" y="14"/>
                        </a:lnTo>
                        <a:lnTo>
                          <a:pt x="30" y="11"/>
                        </a:lnTo>
                        <a:lnTo>
                          <a:pt x="22" y="8"/>
                        </a:lnTo>
                        <a:lnTo>
                          <a:pt x="13" y="5"/>
                        </a:lnTo>
                        <a:lnTo>
                          <a:pt x="7" y="3"/>
                        </a:lnTo>
                        <a:lnTo>
                          <a:pt x="0" y="0"/>
                        </a:lnTo>
                        <a:lnTo>
                          <a:pt x="0" y="63"/>
                        </a:lnTo>
                        <a:lnTo>
                          <a:pt x="7" y="66"/>
                        </a:lnTo>
                        <a:lnTo>
                          <a:pt x="15" y="69"/>
                        </a:lnTo>
                        <a:lnTo>
                          <a:pt x="22" y="72"/>
                        </a:lnTo>
                        <a:lnTo>
                          <a:pt x="31" y="75"/>
                        </a:lnTo>
                        <a:lnTo>
                          <a:pt x="39" y="78"/>
                        </a:lnTo>
                        <a:lnTo>
                          <a:pt x="46" y="80"/>
                        </a:lnTo>
                        <a:lnTo>
                          <a:pt x="54" y="82"/>
                        </a:lnTo>
                        <a:lnTo>
                          <a:pt x="59" y="84"/>
                        </a:lnTo>
                        <a:close/>
                      </a:path>
                    </a:pathLst>
                  </a:custGeom>
                  <a:solidFill>
                    <a:srgbClr val="5badb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9" name=""/>
                  <p:cNvSpPr/>
                  <p:nvPr/>
                </p:nvSpPr>
                <p:spPr>
                  <a:xfrm>
                    <a:off x="6432480" y="2620800"/>
                    <a:ext cx="31680" cy="38160"/>
                  </a:xfrm>
                  <a:custGeom>
                    <a:avLst/>
                    <a:gdLst/>
                    <a:ahLst/>
                    <a:rect l="l" t="t" r="r" b="b"/>
                    <a:pathLst>
                      <a:path w="62" h="74">
                        <a:moveTo>
                          <a:pt x="62" y="74"/>
                        </a:moveTo>
                        <a:lnTo>
                          <a:pt x="62" y="22"/>
                        </a:lnTo>
                        <a:lnTo>
                          <a:pt x="57" y="20"/>
                        </a:lnTo>
                        <a:lnTo>
                          <a:pt x="49" y="17"/>
                        </a:lnTo>
                        <a:lnTo>
                          <a:pt x="40" y="14"/>
                        </a:lnTo>
                        <a:lnTo>
                          <a:pt x="31" y="11"/>
                        </a:lnTo>
                        <a:lnTo>
                          <a:pt x="22" y="8"/>
                        </a:lnTo>
                        <a:lnTo>
                          <a:pt x="15" y="5"/>
                        </a:lnTo>
                        <a:lnTo>
                          <a:pt x="7" y="2"/>
                        </a:lnTo>
                        <a:lnTo>
                          <a:pt x="0" y="0"/>
                        </a:lnTo>
                        <a:lnTo>
                          <a:pt x="2" y="53"/>
                        </a:lnTo>
                        <a:lnTo>
                          <a:pt x="10" y="56"/>
                        </a:lnTo>
                        <a:lnTo>
                          <a:pt x="18" y="59"/>
                        </a:lnTo>
                        <a:lnTo>
                          <a:pt x="27" y="62"/>
                        </a:lnTo>
                        <a:lnTo>
                          <a:pt x="34" y="65"/>
                        </a:lnTo>
                        <a:lnTo>
                          <a:pt x="42" y="68"/>
                        </a:lnTo>
                        <a:lnTo>
                          <a:pt x="49" y="69"/>
                        </a:lnTo>
                        <a:lnTo>
                          <a:pt x="57" y="72"/>
                        </a:lnTo>
                        <a:lnTo>
                          <a:pt x="62" y="74"/>
                        </a:lnTo>
                        <a:close/>
                      </a:path>
                    </a:pathLst>
                  </a:custGeom>
                  <a:solidFill>
                    <a:srgbClr val="5badb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0" name=""/>
                  <p:cNvSpPr/>
                  <p:nvPr/>
                </p:nvSpPr>
                <p:spPr>
                  <a:xfrm>
                    <a:off x="6440400" y="3059280"/>
                    <a:ext cx="23760" cy="34920"/>
                  </a:xfrm>
                  <a:custGeom>
                    <a:avLst/>
                    <a:gdLst/>
                    <a:ahLst/>
                    <a:rect l="l" t="t" r="r" b="b"/>
                    <a:pathLst>
                      <a:path w="47" h="65">
                        <a:moveTo>
                          <a:pt x="47" y="20"/>
                        </a:moveTo>
                        <a:lnTo>
                          <a:pt x="47" y="65"/>
                        </a:lnTo>
                        <a:lnTo>
                          <a:pt x="43" y="63"/>
                        </a:lnTo>
                        <a:lnTo>
                          <a:pt x="39" y="60"/>
                        </a:lnTo>
                        <a:lnTo>
                          <a:pt x="33" y="59"/>
                        </a:lnTo>
                        <a:lnTo>
                          <a:pt x="27" y="56"/>
                        </a:lnTo>
                        <a:lnTo>
                          <a:pt x="21" y="53"/>
                        </a:lnTo>
                        <a:lnTo>
                          <a:pt x="15" y="50"/>
                        </a:lnTo>
                        <a:lnTo>
                          <a:pt x="7" y="47"/>
                        </a:lnTo>
                        <a:lnTo>
                          <a:pt x="1" y="43"/>
                        </a:lnTo>
                        <a:lnTo>
                          <a:pt x="0" y="0"/>
                        </a:lnTo>
                        <a:lnTo>
                          <a:pt x="7" y="3"/>
                        </a:lnTo>
                        <a:lnTo>
                          <a:pt x="15" y="6"/>
                        </a:lnTo>
                        <a:lnTo>
                          <a:pt x="21" y="9"/>
                        </a:lnTo>
                        <a:lnTo>
                          <a:pt x="27" y="11"/>
                        </a:lnTo>
                        <a:lnTo>
                          <a:pt x="33" y="14"/>
                        </a:lnTo>
                        <a:lnTo>
                          <a:pt x="39" y="16"/>
                        </a:lnTo>
                        <a:lnTo>
                          <a:pt x="43" y="19"/>
                        </a:lnTo>
                        <a:lnTo>
                          <a:pt x="47" y="20"/>
                        </a:lnTo>
                        <a:close/>
                      </a:path>
                    </a:pathLst>
                  </a:custGeom>
                  <a:solidFill>
                    <a:srgbClr val="5badb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1" name=""/>
                  <p:cNvSpPr/>
                  <p:nvPr/>
                </p:nvSpPr>
                <p:spPr>
                  <a:xfrm>
                    <a:off x="6438600" y="3003480"/>
                    <a:ext cx="25560" cy="39600"/>
                  </a:xfrm>
                  <a:custGeom>
                    <a:avLst/>
                    <a:gdLst/>
                    <a:ahLst/>
                    <a:rect l="l" t="t" r="r" b="b"/>
                    <a:pathLst>
                      <a:path w="49" h="73">
                        <a:moveTo>
                          <a:pt x="49" y="73"/>
                        </a:moveTo>
                        <a:lnTo>
                          <a:pt x="49" y="21"/>
                        </a:lnTo>
                        <a:lnTo>
                          <a:pt x="44" y="19"/>
                        </a:lnTo>
                        <a:lnTo>
                          <a:pt x="39" y="16"/>
                        </a:lnTo>
                        <a:lnTo>
                          <a:pt x="33" y="13"/>
                        </a:lnTo>
                        <a:lnTo>
                          <a:pt x="26" y="10"/>
                        </a:lnTo>
                        <a:lnTo>
                          <a:pt x="20" y="7"/>
                        </a:lnTo>
                        <a:lnTo>
                          <a:pt x="14" y="4"/>
                        </a:lnTo>
                        <a:lnTo>
                          <a:pt x="6" y="3"/>
                        </a:lnTo>
                        <a:lnTo>
                          <a:pt x="0" y="0"/>
                        </a:lnTo>
                        <a:lnTo>
                          <a:pt x="2" y="50"/>
                        </a:lnTo>
                        <a:lnTo>
                          <a:pt x="9" y="53"/>
                        </a:lnTo>
                        <a:lnTo>
                          <a:pt x="15" y="56"/>
                        </a:lnTo>
                        <a:lnTo>
                          <a:pt x="21" y="59"/>
                        </a:lnTo>
                        <a:lnTo>
                          <a:pt x="29" y="62"/>
                        </a:lnTo>
                        <a:lnTo>
                          <a:pt x="33" y="65"/>
                        </a:lnTo>
                        <a:lnTo>
                          <a:pt x="39" y="68"/>
                        </a:lnTo>
                        <a:lnTo>
                          <a:pt x="45" y="70"/>
                        </a:lnTo>
                        <a:lnTo>
                          <a:pt x="49" y="73"/>
                        </a:lnTo>
                        <a:close/>
                      </a:path>
                    </a:pathLst>
                  </a:custGeom>
                  <a:solidFill>
                    <a:srgbClr val="5badb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2" name=""/>
                  <p:cNvSpPr/>
                  <p:nvPr/>
                </p:nvSpPr>
                <p:spPr>
                  <a:xfrm>
                    <a:off x="6619680" y="2635200"/>
                    <a:ext cx="85680" cy="38160"/>
                  </a:xfrm>
                  <a:custGeom>
                    <a:avLst/>
                    <a:gdLst/>
                    <a:ahLst/>
                    <a:rect l="l" t="t" r="r" b="b"/>
                    <a:pathLst>
                      <a:path w="163" h="71">
                        <a:moveTo>
                          <a:pt x="163" y="53"/>
                        </a:moveTo>
                        <a:lnTo>
                          <a:pt x="144" y="56"/>
                        </a:lnTo>
                        <a:lnTo>
                          <a:pt x="125" y="59"/>
                        </a:lnTo>
                        <a:lnTo>
                          <a:pt x="104" y="62"/>
                        </a:lnTo>
                        <a:lnTo>
                          <a:pt x="85" y="64"/>
                        </a:lnTo>
                        <a:lnTo>
                          <a:pt x="62" y="67"/>
                        </a:lnTo>
                        <a:lnTo>
                          <a:pt x="41" y="68"/>
                        </a:lnTo>
                        <a:lnTo>
                          <a:pt x="21" y="70"/>
                        </a:lnTo>
                        <a:lnTo>
                          <a:pt x="0" y="71"/>
                        </a:lnTo>
                        <a:lnTo>
                          <a:pt x="3" y="19"/>
                        </a:lnTo>
                        <a:lnTo>
                          <a:pt x="24" y="18"/>
                        </a:lnTo>
                        <a:lnTo>
                          <a:pt x="44" y="16"/>
                        </a:lnTo>
                        <a:lnTo>
                          <a:pt x="64" y="15"/>
                        </a:lnTo>
                        <a:lnTo>
                          <a:pt x="85" y="12"/>
                        </a:lnTo>
                        <a:lnTo>
                          <a:pt x="105" y="10"/>
                        </a:lnTo>
                        <a:lnTo>
                          <a:pt x="125" y="8"/>
                        </a:lnTo>
                        <a:lnTo>
                          <a:pt x="144" y="3"/>
                        </a:lnTo>
                        <a:lnTo>
                          <a:pt x="163" y="0"/>
                        </a:lnTo>
                        <a:lnTo>
                          <a:pt x="163" y="53"/>
                        </a:lnTo>
                        <a:close/>
                      </a:path>
                    </a:pathLst>
                  </a:custGeom>
                  <a:solidFill>
                    <a:srgbClr val="5badb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3" name=""/>
                  <p:cNvSpPr/>
                  <p:nvPr/>
                </p:nvSpPr>
                <p:spPr>
                  <a:xfrm>
                    <a:off x="6618240" y="2695680"/>
                    <a:ext cx="87120" cy="41040"/>
                  </a:xfrm>
                  <a:custGeom>
                    <a:avLst/>
                    <a:gdLst/>
                    <a:ahLst/>
                    <a:rect l="l" t="t" r="r" b="b"/>
                    <a:pathLst>
                      <a:path w="164" h="76">
                        <a:moveTo>
                          <a:pt x="0" y="76"/>
                        </a:moveTo>
                        <a:lnTo>
                          <a:pt x="2" y="18"/>
                        </a:lnTo>
                        <a:lnTo>
                          <a:pt x="20" y="16"/>
                        </a:lnTo>
                        <a:lnTo>
                          <a:pt x="40" y="15"/>
                        </a:lnTo>
                        <a:lnTo>
                          <a:pt x="64" y="12"/>
                        </a:lnTo>
                        <a:lnTo>
                          <a:pt x="88" y="10"/>
                        </a:lnTo>
                        <a:lnTo>
                          <a:pt x="112" y="8"/>
                        </a:lnTo>
                        <a:lnTo>
                          <a:pt x="133" y="5"/>
                        </a:lnTo>
                        <a:lnTo>
                          <a:pt x="150" y="3"/>
                        </a:lnTo>
                        <a:lnTo>
                          <a:pt x="164" y="0"/>
                        </a:lnTo>
                        <a:lnTo>
                          <a:pt x="164" y="56"/>
                        </a:lnTo>
                        <a:lnTo>
                          <a:pt x="147" y="59"/>
                        </a:lnTo>
                        <a:lnTo>
                          <a:pt x="125" y="62"/>
                        </a:lnTo>
                        <a:lnTo>
                          <a:pt x="103" y="65"/>
                        </a:lnTo>
                        <a:lnTo>
                          <a:pt x="78" y="68"/>
                        </a:lnTo>
                        <a:lnTo>
                          <a:pt x="54" y="71"/>
                        </a:lnTo>
                        <a:lnTo>
                          <a:pt x="32" y="73"/>
                        </a:lnTo>
                        <a:lnTo>
                          <a:pt x="14" y="74"/>
                        </a:lnTo>
                        <a:lnTo>
                          <a:pt x="0" y="76"/>
                        </a:lnTo>
                        <a:close/>
                      </a:path>
                    </a:pathLst>
                  </a:custGeom>
                  <a:solidFill>
                    <a:srgbClr val="5badb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4" name=""/>
                  <p:cNvSpPr/>
                  <p:nvPr/>
                </p:nvSpPr>
                <p:spPr>
                  <a:xfrm>
                    <a:off x="6613200" y="2759040"/>
                    <a:ext cx="90720" cy="257040"/>
                  </a:xfrm>
                  <a:custGeom>
                    <a:avLst/>
                    <a:gdLst/>
                    <a:ahLst/>
                    <a:rect l="l" t="t" r="r" b="b"/>
                    <a:pathLst>
                      <a:path w="171" h="487">
                        <a:moveTo>
                          <a:pt x="0" y="487"/>
                        </a:moveTo>
                        <a:lnTo>
                          <a:pt x="8" y="17"/>
                        </a:lnTo>
                        <a:lnTo>
                          <a:pt x="30" y="16"/>
                        </a:lnTo>
                        <a:lnTo>
                          <a:pt x="54" y="14"/>
                        </a:lnTo>
                        <a:lnTo>
                          <a:pt x="79" y="11"/>
                        </a:lnTo>
                        <a:lnTo>
                          <a:pt x="104" y="8"/>
                        </a:lnTo>
                        <a:lnTo>
                          <a:pt x="127" y="7"/>
                        </a:lnTo>
                        <a:lnTo>
                          <a:pt x="146" y="4"/>
                        </a:lnTo>
                        <a:lnTo>
                          <a:pt x="162" y="1"/>
                        </a:lnTo>
                        <a:lnTo>
                          <a:pt x="171" y="0"/>
                        </a:lnTo>
                        <a:lnTo>
                          <a:pt x="164" y="444"/>
                        </a:lnTo>
                        <a:lnTo>
                          <a:pt x="151" y="450"/>
                        </a:lnTo>
                        <a:lnTo>
                          <a:pt x="133" y="456"/>
                        </a:lnTo>
                        <a:lnTo>
                          <a:pt x="112" y="463"/>
                        </a:lnTo>
                        <a:lnTo>
                          <a:pt x="91" y="469"/>
                        </a:lnTo>
                        <a:lnTo>
                          <a:pt x="67" y="476"/>
                        </a:lnTo>
                        <a:lnTo>
                          <a:pt x="43" y="481"/>
                        </a:lnTo>
                        <a:lnTo>
                          <a:pt x="21" y="485"/>
                        </a:lnTo>
                        <a:lnTo>
                          <a:pt x="0" y="487"/>
                        </a:lnTo>
                        <a:close/>
                      </a:path>
                    </a:pathLst>
                  </a:custGeom>
                  <a:solidFill>
                    <a:srgbClr val="5bad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611760" y="3022560"/>
                    <a:ext cx="87480" cy="49320"/>
                  </a:xfrm>
                  <a:custGeom>
                    <a:avLst/>
                    <a:gdLst/>
                    <a:ahLst/>
                    <a:rect l="l" t="t" r="r" b="b"/>
                    <a:pathLst>
                      <a:path w="165" h="93">
                        <a:moveTo>
                          <a:pt x="0" y="93"/>
                        </a:moveTo>
                        <a:lnTo>
                          <a:pt x="2" y="41"/>
                        </a:lnTo>
                        <a:lnTo>
                          <a:pt x="21" y="38"/>
                        </a:lnTo>
                        <a:lnTo>
                          <a:pt x="44" y="35"/>
                        </a:lnTo>
                        <a:lnTo>
                          <a:pt x="66" y="31"/>
                        </a:lnTo>
                        <a:lnTo>
                          <a:pt x="90" y="26"/>
                        </a:lnTo>
                        <a:lnTo>
                          <a:pt x="112" y="20"/>
                        </a:lnTo>
                        <a:lnTo>
                          <a:pt x="133" y="14"/>
                        </a:lnTo>
                        <a:lnTo>
                          <a:pt x="151" y="7"/>
                        </a:lnTo>
                        <a:lnTo>
                          <a:pt x="165" y="0"/>
                        </a:lnTo>
                        <a:lnTo>
                          <a:pt x="165" y="54"/>
                        </a:lnTo>
                        <a:lnTo>
                          <a:pt x="149" y="60"/>
                        </a:lnTo>
                        <a:lnTo>
                          <a:pt x="130" y="66"/>
                        </a:lnTo>
                        <a:lnTo>
                          <a:pt x="109" y="74"/>
                        </a:lnTo>
                        <a:lnTo>
                          <a:pt x="85" y="79"/>
                        </a:lnTo>
                        <a:lnTo>
                          <a:pt x="61" y="85"/>
                        </a:lnTo>
                        <a:lnTo>
                          <a:pt x="39" y="90"/>
                        </a:lnTo>
                        <a:lnTo>
                          <a:pt x="18" y="93"/>
                        </a:lnTo>
                        <a:lnTo>
                          <a:pt x="0" y="93"/>
                        </a:lnTo>
                        <a:close/>
                      </a:path>
                    </a:pathLst>
                  </a:custGeom>
                  <a:solidFill>
                    <a:srgbClr val="5badb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
                  <p:cNvSpPr/>
                  <p:nvPr/>
                </p:nvSpPr>
                <p:spPr>
                  <a:xfrm>
                    <a:off x="6611760" y="3079800"/>
                    <a:ext cx="87480" cy="47520"/>
                  </a:xfrm>
                  <a:custGeom>
                    <a:avLst/>
                    <a:gdLst/>
                    <a:ahLst/>
                    <a:rect l="l" t="t" r="r" b="b"/>
                    <a:pathLst>
                      <a:path w="165" h="90">
                        <a:moveTo>
                          <a:pt x="0" y="90"/>
                        </a:moveTo>
                        <a:lnTo>
                          <a:pt x="1" y="38"/>
                        </a:lnTo>
                        <a:lnTo>
                          <a:pt x="22" y="35"/>
                        </a:lnTo>
                        <a:lnTo>
                          <a:pt x="43" y="32"/>
                        </a:lnTo>
                        <a:lnTo>
                          <a:pt x="65" y="29"/>
                        </a:lnTo>
                        <a:lnTo>
                          <a:pt x="88" y="25"/>
                        </a:lnTo>
                        <a:lnTo>
                          <a:pt x="110" y="19"/>
                        </a:lnTo>
                        <a:lnTo>
                          <a:pt x="129" y="13"/>
                        </a:lnTo>
                        <a:lnTo>
                          <a:pt x="149" y="7"/>
                        </a:lnTo>
                        <a:lnTo>
                          <a:pt x="165" y="0"/>
                        </a:lnTo>
                        <a:lnTo>
                          <a:pt x="163" y="57"/>
                        </a:lnTo>
                        <a:lnTo>
                          <a:pt x="147" y="63"/>
                        </a:lnTo>
                        <a:lnTo>
                          <a:pt x="126" y="69"/>
                        </a:lnTo>
                        <a:lnTo>
                          <a:pt x="104" y="75"/>
                        </a:lnTo>
                        <a:lnTo>
                          <a:pt x="80" y="80"/>
                        </a:lnTo>
                        <a:lnTo>
                          <a:pt x="58" y="85"/>
                        </a:lnTo>
                        <a:lnTo>
                          <a:pt x="36" y="88"/>
                        </a:lnTo>
                        <a:lnTo>
                          <a:pt x="16" y="90"/>
                        </a:lnTo>
                        <a:lnTo>
                          <a:pt x="0" y="90"/>
                        </a:lnTo>
                        <a:close/>
                      </a:path>
                    </a:pathLst>
                  </a:custGeom>
                  <a:solidFill>
                    <a:srgbClr val="5bad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7" name=""/>
                  <p:cNvSpPr/>
                  <p:nvPr/>
                </p:nvSpPr>
                <p:spPr>
                  <a:xfrm>
                    <a:off x="6738840" y="2622600"/>
                    <a:ext cx="15840" cy="33120"/>
                  </a:xfrm>
                  <a:custGeom>
                    <a:avLst/>
                    <a:gdLst/>
                    <a:ahLst/>
                    <a:rect l="l" t="t" r="r" b="b"/>
                    <a:pathLst>
                      <a:path w="29" h="62">
                        <a:moveTo>
                          <a:pt x="0" y="9"/>
                        </a:moveTo>
                        <a:lnTo>
                          <a:pt x="1" y="62"/>
                        </a:lnTo>
                        <a:lnTo>
                          <a:pt x="9" y="59"/>
                        </a:lnTo>
                        <a:lnTo>
                          <a:pt x="16" y="56"/>
                        </a:lnTo>
                        <a:lnTo>
                          <a:pt x="22" y="53"/>
                        </a:lnTo>
                        <a:lnTo>
                          <a:pt x="29" y="50"/>
                        </a:lnTo>
                        <a:lnTo>
                          <a:pt x="29" y="0"/>
                        </a:lnTo>
                        <a:lnTo>
                          <a:pt x="22" y="1"/>
                        </a:lnTo>
                        <a:lnTo>
                          <a:pt x="15" y="4"/>
                        </a:lnTo>
                        <a:lnTo>
                          <a:pt x="7" y="6"/>
                        </a:lnTo>
                        <a:lnTo>
                          <a:pt x="0" y="9"/>
                        </a:lnTo>
                        <a:close/>
                      </a:path>
                    </a:pathLst>
                  </a:custGeom>
                  <a:solidFill>
                    <a:srgbClr val="5bad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8" name=""/>
                  <p:cNvSpPr/>
                  <p:nvPr/>
                </p:nvSpPr>
                <p:spPr>
                  <a:xfrm>
                    <a:off x="6694200" y="2681280"/>
                    <a:ext cx="473040" cy="482760"/>
                  </a:xfrm>
                  <a:custGeom>
                    <a:avLst/>
                    <a:gdLst/>
                    <a:ahLst/>
                    <a:rect l="l" t="t" r="r" b="b"/>
                    <a:pathLst>
                      <a:path w="894" h="912">
                        <a:moveTo>
                          <a:pt x="848" y="521"/>
                        </a:moveTo>
                        <a:lnTo>
                          <a:pt x="860" y="517"/>
                        </a:lnTo>
                        <a:lnTo>
                          <a:pt x="869" y="512"/>
                        </a:lnTo>
                        <a:lnTo>
                          <a:pt x="877" y="506"/>
                        </a:lnTo>
                        <a:lnTo>
                          <a:pt x="883" y="500"/>
                        </a:lnTo>
                        <a:lnTo>
                          <a:pt x="888" y="495"/>
                        </a:lnTo>
                        <a:lnTo>
                          <a:pt x="891" y="489"/>
                        </a:lnTo>
                        <a:lnTo>
                          <a:pt x="892" y="483"/>
                        </a:lnTo>
                        <a:lnTo>
                          <a:pt x="894" y="477"/>
                        </a:lnTo>
                        <a:lnTo>
                          <a:pt x="892" y="465"/>
                        </a:lnTo>
                        <a:lnTo>
                          <a:pt x="886" y="452"/>
                        </a:lnTo>
                        <a:lnTo>
                          <a:pt x="879" y="441"/>
                        </a:lnTo>
                        <a:lnTo>
                          <a:pt x="870" y="431"/>
                        </a:lnTo>
                        <a:lnTo>
                          <a:pt x="870" y="420"/>
                        </a:lnTo>
                        <a:lnTo>
                          <a:pt x="872" y="406"/>
                        </a:lnTo>
                        <a:lnTo>
                          <a:pt x="875" y="389"/>
                        </a:lnTo>
                        <a:lnTo>
                          <a:pt x="879" y="375"/>
                        </a:lnTo>
                        <a:lnTo>
                          <a:pt x="866" y="355"/>
                        </a:lnTo>
                        <a:lnTo>
                          <a:pt x="852" y="332"/>
                        </a:lnTo>
                        <a:lnTo>
                          <a:pt x="843" y="308"/>
                        </a:lnTo>
                        <a:lnTo>
                          <a:pt x="837" y="290"/>
                        </a:lnTo>
                        <a:lnTo>
                          <a:pt x="831" y="286"/>
                        </a:lnTo>
                        <a:lnTo>
                          <a:pt x="824" y="278"/>
                        </a:lnTo>
                        <a:lnTo>
                          <a:pt x="815" y="271"/>
                        </a:lnTo>
                        <a:lnTo>
                          <a:pt x="806" y="261"/>
                        </a:lnTo>
                        <a:lnTo>
                          <a:pt x="799" y="252"/>
                        </a:lnTo>
                        <a:lnTo>
                          <a:pt x="791" y="241"/>
                        </a:lnTo>
                        <a:lnTo>
                          <a:pt x="787" y="231"/>
                        </a:lnTo>
                        <a:lnTo>
                          <a:pt x="784" y="222"/>
                        </a:lnTo>
                        <a:lnTo>
                          <a:pt x="772" y="213"/>
                        </a:lnTo>
                        <a:lnTo>
                          <a:pt x="760" y="203"/>
                        </a:lnTo>
                        <a:lnTo>
                          <a:pt x="748" y="192"/>
                        </a:lnTo>
                        <a:lnTo>
                          <a:pt x="738" y="179"/>
                        </a:lnTo>
                        <a:lnTo>
                          <a:pt x="727" y="167"/>
                        </a:lnTo>
                        <a:lnTo>
                          <a:pt x="720" y="157"/>
                        </a:lnTo>
                        <a:lnTo>
                          <a:pt x="712" y="147"/>
                        </a:lnTo>
                        <a:lnTo>
                          <a:pt x="707" y="138"/>
                        </a:lnTo>
                        <a:lnTo>
                          <a:pt x="693" y="133"/>
                        </a:lnTo>
                        <a:lnTo>
                          <a:pt x="677" y="124"/>
                        </a:lnTo>
                        <a:lnTo>
                          <a:pt x="657" y="115"/>
                        </a:lnTo>
                        <a:lnTo>
                          <a:pt x="638" y="104"/>
                        </a:lnTo>
                        <a:lnTo>
                          <a:pt x="617" y="90"/>
                        </a:lnTo>
                        <a:lnTo>
                          <a:pt x="597" y="77"/>
                        </a:lnTo>
                        <a:lnTo>
                          <a:pt x="579" y="65"/>
                        </a:lnTo>
                        <a:lnTo>
                          <a:pt x="564" y="52"/>
                        </a:lnTo>
                        <a:lnTo>
                          <a:pt x="543" y="50"/>
                        </a:lnTo>
                        <a:lnTo>
                          <a:pt x="521" y="46"/>
                        </a:lnTo>
                        <a:lnTo>
                          <a:pt x="495" y="40"/>
                        </a:lnTo>
                        <a:lnTo>
                          <a:pt x="470" y="33"/>
                        </a:lnTo>
                        <a:lnTo>
                          <a:pt x="445" y="24"/>
                        </a:lnTo>
                        <a:lnTo>
                          <a:pt x="421" y="15"/>
                        </a:lnTo>
                        <a:lnTo>
                          <a:pt x="399" y="6"/>
                        </a:lnTo>
                        <a:lnTo>
                          <a:pt x="380" y="0"/>
                        </a:lnTo>
                        <a:lnTo>
                          <a:pt x="371" y="9"/>
                        </a:lnTo>
                        <a:lnTo>
                          <a:pt x="357" y="18"/>
                        </a:lnTo>
                        <a:lnTo>
                          <a:pt x="342" y="27"/>
                        </a:lnTo>
                        <a:lnTo>
                          <a:pt x="325" y="36"/>
                        </a:lnTo>
                        <a:lnTo>
                          <a:pt x="305" y="43"/>
                        </a:lnTo>
                        <a:lnTo>
                          <a:pt x="286" y="49"/>
                        </a:lnTo>
                        <a:lnTo>
                          <a:pt x="267" y="55"/>
                        </a:lnTo>
                        <a:lnTo>
                          <a:pt x="247" y="58"/>
                        </a:lnTo>
                        <a:lnTo>
                          <a:pt x="252" y="84"/>
                        </a:lnTo>
                        <a:lnTo>
                          <a:pt x="252" y="117"/>
                        </a:lnTo>
                        <a:lnTo>
                          <a:pt x="247" y="150"/>
                        </a:lnTo>
                        <a:lnTo>
                          <a:pt x="241" y="181"/>
                        </a:lnTo>
                        <a:lnTo>
                          <a:pt x="252" y="190"/>
                        </a:lnTo>
                        <a:lnTo>
                          <a:pt x="264" y="204"/>
                        </a:lnTo>
                        <a:lnTo>
                          <a:pt x="277" y="221"/>
                        </a:lnTo>
                        <a:lnTo>
                          <a:pt x="287" y="240"/>
                        </a:lnTo>
                        <a:lnTo>
                          <a:pt x="299" y="259"/>
                        </a:lnTo>
                        <a:lnTo>
                          <a:pt x="308" y="278"/>
                        </a:lnTo>
                        <a:lnTo>
                          <a:pt x="316" y="295"/>
                        </a:lnTo>
                        <a:lnTo>
                          <a:pt x="320" y="308"/>
                        </a:lnTo>
                        <a:lnTo>
                          <a:pt x="286" y="308"/>
                        </a:lnTo>
                        <a:lnTo>
                          <a:pt x="255" y="309"/>
                        </a:lnTo>
                        <a:lnTo>
                          <a:pt x="225" y="311"/>
                        </a:lnTo>
                        <a:lnTo>
                          <a:pt x="197" y="314"/>
                        </a:lnTo>
                        <a:lnTo>
                          <a:pt x="171" y="318"/>
                        </a:lnTo>
                        <a:lnTo>
                          <a:pt x="149" y="323"/>
                        </a:lnTo>
                        <a:lnTo>
                          <a:pt x="128" y="327"/>
                        </a:lnTo>
                        <a:lnTo>
                          <a:pt x="109" y="332"/>
                        </a:lnTo>
                        <a:lnTo>
                          <a:pt x="91" y="338"/>
                        </a:lnTo>
                        <a:lnTo>
                          <a:pt x="76" y="343"/>
                        </a:lnTo>
                        <a:lnTo>
                          <a:pt x="63" y="351"/>
                        </a:lnTo>
                        <a:lnTo>
                          <a:pt x="51" y="357"/>
                        </a:lnTo>
                        <a:lnTo>
                          <a:pt x="41" y="364"/>
                        </a:lnTo>
                        <a:lnTo>
                          <a:pt x="33" y="370"/>
                        </a:lnTo>
                        <a:lnTo>
                          <a:pt x="27" y="378"/>
                        </a:lnTo>
                        <a:lnTo>
                          <a:pt x="23" y="383"/>
                        </a:lnTo>
                        <a:lnTo>
                          <a:pt x="17" y="397"/>
                        </a:lnTo>
                        <a:lnTo>
                          <a:pt x="12" y="412"/>
                        </a:lnTo>
                        <a:lnTo>
                          <a:pt x="11" y="428"/>
                        </a:lnTo>
                        <a:lnTo>
                          <a:pt x="14" y="444"/>
                        </a:lnTo>
                        <a:lnTo>
                          <a:pt x="18" y="459"/>
                        </a:lnTo>
                        <a:lnTo>
                          <a:pt x="26" y="474"/>
                        </a:lnTo>
                        <a:lnTo>
                          <a:pt x="38" y="487"/>
                        </a:lnTo>
                        <a:lnTo>
                          <a:pt x="51" y="497"/>
                        </a:lnTo>
                        <a:lnTo>
                          <a:pt x="47" y="540"/>
                        </a:lnTo>
                        <a:lnTo>
                          <a:pt x="42" y="603"/>
                        </a:lnTo>
                        <a:lnTo>
                          <a:pt x="39" y="666"/>
                        </a:lnTo>
                        <a:lnTo>
                          <a:pt x="39" y="712"/>
                        </a:lnTo>
                        <a:lnTo>
                          <a:pt x="32" y="712"/>
                        </a:lnTo>
                        <a:lnTo>
                          <a:pt x="21" y="715"/>
                        </a:lnTo>
                        <a:lnTo>
                          <a:pt x="12" y="720"/>
                        </a:lnTo>
                        <a:lnTo>
                          <a:pt x="5" y="727"/>
                        </a:lnTo>
                        <a:lnTo>
                          <a:pt x="0" y="737"/>
                        </a:lnTo>
                        <a:lnTo>
                          <a:pt x="2" y="752"/>
                        </a:lnTo>
                        <a:lnTo>
                          <a:pt x="9" y="770"/>
                        </a:lnTo>
                        <a:lnTo>
                          <a:pt x="27" y="794"/>
                        </a:lnTo>
                        <a:lnTo>
                          <a:pt x="39" y="807"/>
                        </a:lnTo>
                        <a:lnTo>
                          <a:pt x="54" y="819"/>
                        </a:lnTo>
                        <a:lnTo>
                          <a:pt x="70" y="829"/>
                        </a:lnTo>
                        <a:lnTo>
                          <a:pt x="88" y="839"/>
                        </a:lnTo>
                        <a:lnTo>
                          <a:pt x="108" y="850"/>
                        </a:lnTo>
                        <a:lnTo>
                          <a:pt x="128" y="857"/>
                        </a:lnTo>
                        <a:lnTo>
                          <a:pt x="149" y="866"/>
                        </a:lnTo>
                        <a:lnTo>
                          <a:pt x="171" y="874"/>
                        </a:lnTo>
                        <a:lnTo>
                          <a:pt x="194" y="879"/>
                        </a:lnTo>
                        <a:lnTo>
                          <a:pt x="216" y="885"/>
                        </a:lnTo>
                        <a:lnTo>
                          <a:pt x="240" y="891"/>
                        </a:lnTo>
                        <a:lnTo>
                          <a:pt x="262" y="896"/>
                        </a:lnTo>
                        <a:lnTo>
                          <a:pt x="284" y="900"/>
                        </a:lnTo>
                        <a:lnTo>
                          <a:pt x="305" y="903"/>
                        </a:lnTo>
                        <a:lnTo>
                          <a:pt x="326" y="906"/>
                        </a:lnTo>
                        <a:lnTo>
                          <a:pt x="345" y="909"/>
                        </a:lnTo>
                        <a:lnTo>
                          <a:pt x="375" y="912"/>
                        </a:lnTo>
                        <a:lnTo>
                          <a:pt x="411" y="912"/>
                        </a:lnTo>
                        <a:lnTo>
                          <a:pt x="455" y="912"/>
                        </a:lnTo>
                        <a:lnTo>
                          <a:pt x="503" y="909"/>
                        </a:lnTo>
                        <a:lnTo>
                          <a:pt x="553" y="905"/>
                        </a:lnTo>
                        <a:lnTo>
                          <a:pt x="607" y="899"/>
                        </a:lnTo>
                        <a:lnTo>
                          <a:pt x="659" y="891"/>
                        </a:lnTo>
                        <a:lnTo>
                          <a:pt x="710" y="882"/>
                        </a:lnTo>
                        <a:lnTo>
                          <a:pt x="756" y="871"/>
                        </a:lnTo>
                        <a:lnTo>
                          <a:pt x="797" y="859"/>
                        </a:lnTo>
                        <a:lnTo>
                          <a:pt x="833" y="844"/>
                        </a:lnTo>
                        <a:lnTo>
                          <a:pt x="858" y="826"/>
                        </a:lnTo>
                        <a:lnTo>
                          <a:pt x="875" y="807"/>
                        </a:lnTo>
                        <a:lnTo>
                          <a:pt x="879" y="786"/>
                        </a:lnTo>
                        <a:lnTo>
                          <a:pt x="870" y="764"/>
                        </a:lnTo>
                        <a:lnTo>
                          <a:pt x="846" y="739"/>
                        </a:lnTo>
                        <a:lnTo>
                          <a:pt x="848" y="688"/>
                        </a:lnTo>
                        <a:lnTo>
                          <a:pt x="849" y="623"/>
                        </a:lnTo>
                        <a:lnTo>
                          <a:pt x="849" y="561"/>
                        </a:lnTo>
                        <a:lnTo>
                          <a:pt x="84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852960" y="2986200"/>
                    <a:ext cx="42840" cy="147600"/>
                  </a:xfrm>
                  <a:custGeom>
                    <a:avLst/>
                    <a:gdLst/>
                    <a:ahLst/>
                    <a:rect l="l" t="t" r="r" b="b"/>
                    <a:pathLst>
                      <a:path w="79" h="277">
                        <a:moveTo>
                          <a:pt x="0" y="0"/>
                        </a:moveTo>
                        <a:lnTo>
                          <a:pt x="7" y="0"/>
                        </a:lnTo>
                        <a:lnTo>
                          <a:pt x="16" y="2"/>
                        </a:lnTo>
                        <a:lnTo>
                          <a:pt x="28" y="2"/>
                        </a:lnTo>
                        <a:lnTo>
                          <a:pt x="40" y="3"/>
                        </a:lnTo>
                        <a:lnTo>
                          <a:pt x="52" y="3"/>
                        </a:lnTo>
                        <a:lnTo>
                          <a:pt x="62" y="3"/>
                        </a:lnTo>
                        <a:lnTo>
                          <a:pt x="73" y="3"/>
                        </a:lnTo>
                        <a:lnTo>
                          <a:pt x="79" y="2"/>
                        </a:lnTo>
                        <a:lnTo>
                          <a:pt x="79" y="276"/>
                        </a:lnTo>
                        <a:lnTo>
                          <a:pt x="71" y="277"/>
                        </a:lnTo>
                        <a:lnTo>
                          <a:pt x="64" y="277"/>
                        </a:lnTo>
                        <a:lnTo>
                          <a:pt x="56" y="277"/>
                        </a:lnTo>
                        <a:lnTo>
                          <a:pt x="50" y="277"/>
                        </a:lnTo>
                        <a:lnTo>
                          <a:pt x="43" y="277"/>
                        </a:lnTo>
                        <a:lnTo>
                          <a:pt x="35" y="277"/>
                        </a:lnTo>
                        <a:lnTo>
                          <a:pt x="29" y="276"/>
                        </a:lnTo>
                        <a:lnTo>
                          <a:pt x="22" y="276"/>
                        </a:lnTo>
                        <a:lnTo>
                          <a:pt x="0" y="0"/>
                        </a:lnTo>
                        <a:close/>
                      </a:path>
                    </a:pathLst>
                  </a:custGeom>
                  <a:solidFill>
                    <a:srgbClr val="845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761160" y="2970360"/>
                    <a:ext cx="77760" cy="158760"/>
                  </a:xfrm>
                  <a:custGeom>
                    <a:avLst/>
                    <a:gdLst/>
                    <a:ahLst/>
                    <a:rect l="l" t="t" r="r" b="b"/>
                    <a:pathLst>
                      <a:path w="147" h="300">
                        <a:moveTo>
                          <a:pt x="6" y="0"/>
                        </a:moveTo>
                        <a:lnTo>
                          <a:pt x="22" y="4"/>
                        </a:lnTo>
                        <a:lnTo>
                          <a:pt x="38" y="7"/>
                        </a:lnTo>
                        <a:lnTo>
                          <a:pt x="55" y="12"/>
                        </a:lnTo>
                        <a:lnTo>
                          <a:pt x="70" y="15"/>
                        </a:lnTo>
                        <a:lnTo>
                          <a:pt x="86" y="18"/>
                        </a:lnTo>
                        <a:lnTo>
                          <a:pt x="101" y="21"/>
                        </a:lnTo>
                        <a:lnTo>
                          <a:pt x="117" y="24"/>
                        </a:lnTo>
                        <a:lnTo>
                          <a:pt x="132" y="26"/>
                        </a:lnTo>
                        <a:lnTo>
                          <a:pt x="147" y="300"/>
                        </a:lnTo>
                        <a:lnTo>
                          <a:pt x="126" y="296"/>
                        </a:lnTo>
                        <a:lnTo>
                          <a:pt x="105" y="292"/>
                        </a:lnTo>
                        <a:lnTo>
                          <a:pt x="85" y="287"/>
                        </a:lnTo>
                        <a:lnTo>
                          <a:pt x="65" y="281"/>
                        </a:lnTo>
                        <a:lnTo>
                          <a:pt x="47" y="275"/>
                        </a:lnTo>
                        <a:lnTo>
                          <a:pt x="31" y="269"/>
                        </a:lnTo>
                        <a:lnTo>
                          <a:pt x="15" y="263"/>
                        </a:lnTo>
                        <a:lnTo>
                          <a:pt x="0" y="256"/>
                        </a:lnTo>
                        <a:lnTo>
                          <a:pt x="6" y="0"/>
                        </a:lnTo>
                        <a:close/>
                      </a:path>
                    </a:pathLst>
                  </a:custGeom>
                  <a:solidFill>
                    <a:srgbClr val="845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6940440" y="2773440"/>
                    <a:ext cx="125280" cy="114120"/>
                  </a:xfrm>
                  <a:custGeom>
                    <a:avLst/>
                    <a:gdLst/>
                    <a:ahLst/>
                    <a:rect l="l" t="t" r="r" b="b"/>
                    <a:pathLst>
                      <a:path w="238" h="218">
                        <a:moveTo>
                          <a:pt x="43" y="218"/>
                        </a:moveTo>
                        <a:lnTo>
                          <a:pt x="34" y="216"/>
                        </a:lnTo>
                        <a:lnTo>
                          <a:pt x="27" y="213"/>
                        </a:lnTo>
                        <a:lnTo>
                          <a:pt x="20" y="213"/>
                        </a:lnTo>
                        <a:lnTo>
                          <a:pt x="14" y="215"/>
                        </a:lnTo>
                        <a:lnTo>
                          <a:pt x="11" y="210"/>
                        </a:lnTo>
                        <a:lnTo>
                          <a:pt x="8" y="206"/>
                        </a:lnTo>
                        <a:lnTo>
                          <a:pt x="3" y="202"/>
                        </a:lnTo>
                        <a:lnTo>
                          <a:pt x="0" y="197"/>
                        </a:lnTo>
                        <a:lnTo>
                          <a:pt x="195" y="0"/>
                        </a:lnTo>
                        <a:lnTo>
                          <a:pt x="205" y="8"/>
                        </a:lnTo>
                        <a:lnTo>
                          <a:pt x="216" y="17"/>
                        </a:lnTo>
                        <a:lnTo>
                          <a:pt x="228" y="25"/>
                        </a:lnTo>
                        <a:lnTo>
                          <a:pt x="238" y="34"/>
                        </a:lnTo>
                        <a:lnTo>
                          <a:pt x="43" y="218"/>
                        </a:lnTo>
                        <a:close/>
                      </a:path>
                    </a:pathLst>
                  </a:custGeom>
                  <a:solidFill>
                    <a:srgbClr val="845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6978600" y="2801880"/>
                    <a:ext cx="117360" cy="109440"/>
                  </a:xfrm>
                  <a:custGeom>
                    <a:avLst/>
                    <a:gdLst/>
                    <a:ahLst/>
                    <a:rect l="l" t="t" r="r" b="b"/>
                    <a:pathLst>
                      <a:path w="224" h="206">
                        <a:moveTo>
                          <a:pt x="44" y="206"/>
                        </a:moveTo>
                        <a:lnTo>
                          <a:pt x="40" y="202"/>
                        </a:lnTo>
                        <a:lnTo>
                          <a:pt x="35" y="199"/>
                        </a:lnTo>
                        <a:lnTo>
                          <a:pt x="31" y="194"/>
                        </a:lnTo>
                        <a:lnTo>
                          <a:pt x="25" y="190"/>
                        </a:lnTo>
                        <a:lnTo>
                          <a:pt x="19" y="186"/>
                        </a:lnTo>
                        <a:lnTo>
                          <a:pt x="13" y="181"/>
                        </a:lnTo>
                        <a:lnTo>
                          <a:pt x="6" y="178"/>
                        </a:lnTo>
                        <a:lnTo>
                          <a:pt x="0" y="174"/>
                        </a:lnTo>
                        <a:lnTo>
                          <a:pt x="188" y="0"/>
                        </a:lnTo>
                        <a:lnTo>
                          <a:pt x="197" y="9"/>
                        </a:lnTo>
                        <a:lnTo>
                          <a:pt x="206" y="18"/>
                        </a:lnTo>
                        <a:lnTo>
                          <a:pt x="215" y="27"/>
                        </a:lnTo>
                        <a:lnTo>
                          <a:pt x="224" y="36"/>
                        </a:lnTo>
                        <a:lnTo>
                          <a:pt x="44" y="206"/>
                        </a:lnTo>
                        <a:close/>
                      </a:path>
                    </a:pathLst>
                  </a:custGeom>
                  <a:solidFill>
                    <a:srgbClr val="845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738840" y="2963880"/>
                    <a:ext cx="25200" cy="141120"/>
                  </a:xfrm>
                  <a:custGeom>
                    <a:avLst/>
                    <a:gdLst/>
                    <a:ahLst/>
                    <a:rect l="l" t="t" r="r" b="b"/>
                    <a:pathLst>
                      <a:path w="49" h="268">
                        <a:moveTo>
                          <a:pt x="43" y="268"/>
                        </a:moveTo>
                        <a:lnTo>
                          <a:pt x="29" y="261"/>
                        </a:lnTo>
                        <a:lnTo>
                          <a:pt x="19" y="253"/>
                        </a:lnTo>
                        <a:lnTo>
                          <a:pt x="9" y="246"/>
                        </a:lnTo>
                        <a:lnTo>
                          <a:pt x="0" y="237"/>
                        </a:lnTo>
                        <a:lnTo>
                          <a:pt x="7" y="0"/>
                        </a:lnTo>
                        <a:lnTo>
                          <a:pt x="18" y="3"/>
                        </a:lnTo>
                        <a:lnTo>
                          <a:pt x="28" y="6"/>
                        </a:lnTo>
                        <a:lnTo>
                          <a:pt x="38" y="9"/>
                        </a:lnTo>
                        <a:lnTo>
                          <a:pt x="49" y="12"/>
                        </a:lnTo>
                        <a:lnTo>
                          <a:pt x="43" y="268"/>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24440" y="2865600"/>
                    <a:ext cx="317520" cy="96840"/>
                  </a:xfrm>
                  <a:custGeom>
                    <a:avLst/>
                    <a:gdLst/>
                    <a:ahLst/>
                    <a:rect l="l" t="t" r="r" b="b"/>
                    <a:pathLst>
                      <a:path w="599" h="183">
                        <a:moveTo>
                          <a:pt x="29" y="120"/>
                        </a:moveTo>
                        <a:lnTo>
                          <a:pt x="15" y="110"/>
                        </a:lnTo>
                        <a:lnTo>
                          <a:pt x="6" y="92"/>
                        </a:lnTo>
                        <a:lnTo>
                          <a:pt x="2" y="74"/>
                        </a:lnTo>
                        <a:lnTo>
                          <a:pt x="0" y="60"/>
                        </a:lnTo>
                        <a:lnTo>
                          <a:pt x="2" y="55"/>
                        </a:lnTo>
                        <a:lnTo>
                          <a:pt x="5" y="51"/>
                        </a:lnTo>
                        <a:lnTo>
                          <a:pt x="11" y="45"/>
                        </a:lnTo>
                        <a:lnTo>
                          <a:pt x="18" y="39"/>
                        </a:lnTo>
                        <a:lnTo>
                          <a:pt x="29" y="33"/>
                        </a:lnTo>
                        <a:lnTo>
                          <a:pt x="41" y="27"/>
                        </a:lnTo>
                        <a:lnTo>
                          <a:pt x="55" y="21"/>
                        </a:lnTo>
                        <a:lnTo>
                          <a:pt x="73" y="17"/>
                        </a:lnTo>
                        <a:lnTo>
                          <a:pt x="93" y="12"/>
                        </a:lnTo>
                        <a:lnTo>
                          <a:pt x="113" y="8"/>
                        </a:lnTo>
                        <a:lnTo>
                          <a:pt x="139" y="5"/>
                        </a:lnTo>
                        <a:lnTo>
                          <a:pt x="165" y="2"/>
                        </a:lnTo>
                        <a:lnTo>
                          <a:pt x="195" y="0"/>
                        </a:lnTo>
                        <a:lnTo>
                          <a:pt x="228" y="2"/>
                        </a:lnTo>
                        <a:lnTo>
                          <a:pt x="264" y="3"/>
                        </a:lnTo>
                        <a:lnTo>
                          <a:pt x="302" y="6"/>
                        </a:lnTo>
                        <a:lnTo>
                          <a:pt x="311" y="11"/>
                        </a:lnTo>
                        <a:lnTo>
                          <a:pt x="320" y="18"/>
                        </a:lnTo>
                        <a:lnTo>
                          <a:pt x="332" y="26"/>
                        </a:lnTo>
                        <a:lnTo>
                          <a:pt x="342" y="34"/>
                        </a:lnTo>
                        <a:lnTo>
                          <a:pt x="354" y="46"/>
                        </a:lnTo>
                        <a:lnTo>
                          <a:pt x="365" y="58"/>
                        </a:lnTo>
                        <a:lnTo>
                          <a:pt x="374" y="71"/>
                        </a:lnTo>
                        <a:lnTo>
                          <a:pt x="381" y="86"/>
                        </a:lnTo>
                        <a:lnTo>
                          <a:pt x="397" y="86"/>
                        </a:lnTo>
                        <a:lnTo>
                          <a:pt x="415" y="89"/>
                        </a:lnTo>
                        <a:lnTo>
                          <a:pt x="434" y="94"/>
                        </a:lnTo>
                        <a:lnTo>
                          <a:pt x="455" y="100"/>
                        </a:lnTo>
                        <a:lnTo>
                          <a:pt x="473" y="107"/>
                        </a:lnTo>
                        <a:lnTo>
                          <a:pt x="491" y="117"/>
                        </a:lnTo>
                        <a:lnTo>
                          <a:pt x="506" y="129"/>
                        </a:lnTo>
                        <a:lnTo>
                          <a:pt x="516" y="144"/>
                        </a:lnTo>
                        <a:lnTo>
                          <a:pt x="525" y="144"/>
                        </a:lnTo>
                        <a:lnTo>
                          <a:pt x="536" y="143"/>
                        </a:lnTo>
                        <a:lnTo>
                          <a:pt x="544" y="143"/>
                        </a:lnTo>
                        <a:lnTo>
                          <a:pt x="555" y="144"/>
                        </a:lnTo>
                        <a:lnTo>
                          <a:pt x="565" y="146"/>
                        </a:lnTo>
                        <a:lnTo>
                          <a:pt x="577" y="150"/>
                        </a:lnTo>
                        <a:lnTo>
                          <a:pt x="588" y="154"/>
                        </a:lnTo>
                        <a:lnTo>
                          <a:pt x="599" y="162"/>
                        </a:lnTo>
                        <a:lnTo>
                          <a:pt x="571" y="169"/>
                        </a:lnTo>
                        <a:lnTo>
                          <a:pt x="540" y="174"/>
                        </a:lnTo>
                        <a:lnTo>
                          <a:pt x="507" y="178"/>
                        </a:lnTo>
                        <a:lnTo>
                          <a:pt x="473" y="181"/>
                        </a:lnTo>
                        <a:lnTo>
                          <a:pt x="437" y="181"/>
                        </a:lnTo>
                        <a:lnTo>
                          <a:pt x="400" y="183"/>
                        </a:lnTo>
                        <a:lnTo>
                          <a:pt x="365" y="181"/>
                        </a:lnTo>
                        <a:lnTo>
                          <a:pt x="329" y="180"/>
                        </a:lnTo>
                        <a:lnTo>
                          <a:pt x="295" y="178"/>
                        </a:lnTo>
                        <a:lnTo>
                          <a:pt x="262" y="175"/>
                        </a:lnTo>
                        <a:lnTo>
                          <a:pt x="232" y="172"/>
                        </a:lnTo>
                        <a:lnTo>
                          <a:pt x="206" y="169"/>
                        </a:lnTo>
                        <a:lnTo>
                          <a:pt x="182" y="165"/>
                        </a:lnTo>
                        <a:lnTo>
                          <a:pt x="162" y="162"/>
                        </a:lnTo>
                        <a:lnTo>
                          <a:pt x="148" y="159"/>
                        </a:lnTo>
                        <a:lnTo>
                          <a:pt x="139" y="156"/>
                        </a:lnTo>
                        <a:lnTo>
                          <a:pt x="142" y="129"/>
                        </a:lnTo>
                        <a:lnTo>
                          <a:pt x="143" y="94"/>
                        </a:lnTo>
                        <a:lnTo>
                          <a:pt x="143" y="63"/>
                        </a:lnTo>
                        <a:lnTo>
                          <a:pt x="140" y="51"/>
                        </a:lnTo>
                        <a:lnTo>
                          <a:pt x="131" y="51"/>
                        </a:lnTo>
                        <a:lnTo>
                          <a:pt x="116" y="51"/>
                        </a:lnTo>
                        <a:lnTo>
                          <a:pt x="106" y="54"/>
                        </a:lnTo>
                        <a:lnTo>
                          <a:pt x="102" y="57"/>
                        </a:lnTo>
                        <a:lnTo>
                          <a:pt x="102" y="71"/>
                        </a:lnTo>
                        <a:lnTo>
                          <a:pt x="103" y="98"/>
                        </a:lnTo>
                        <a:lnTo>
                          <a:pt x="103" y="125"/>
                        </a:lnTo>
                        <a:lnTo>
                          <a:pt x="105" y="141"/>
                        </a:lnTo>
                        <a:lnTo>
                          <a:pt x="99" y="140"/>
                        </a:lnTo>
                        <a:lnTo>
                          <a:pt x="93" y="138"/>
                        </a:lnTo>
                        <a:lnTo>
                          <a:pt x="85" y="135"/>
                        </a:lnTo>
                        <a:lnTo>
                          <a:pt x="79" y="132"/>
                        </a:lnTo>
                        <a:lnTo>
                          <a:pt x="79" y="111"/>
                        </a:lnTo>
                        <a:lnTo>
                          <a:pt x="78" y="85"/>
                        </a:lnTo>
                        <a:lnTo>
                          <a:pt x="75" y="61"/>
                        </a:lnTo>
                        <a:lnTo>
                          <a:pt x="72" y="52"/>
                        </a:lnTo>
                        <a:lnTo>
                          <a:pt x="64" y="54"/>
                        </a:lnTo>
                        <a:lnTo>
                          <a:pt x="51" y="57"/>
                        </a:lnTo>
                        <a:lnTo>
                          <a:pt x="39" y="60"/>
                        </a:lnTo>
                        <a:lnTo>
                          <a:pt x="33" y="64"/>
                        </a:lnTo>
                        <a:lnTo>
                          <a:pt x="33" y="74"/>
                        </a:lnTo>
                        <a:lnTo>
                          <a:pt x="35" y="92"/>
                        </a:lnTo>
                        <a:lnTo>
                          <a:pt x="33" y="110"/>
                        </a:lnTo>
                        <a:lnTo>
                          <a:pt x="29" y="120"/>
                        </a:lnTo>
                        <a:close/>
                      </a:path>
                    </a:pathLst>
                  </a:custGeom>
                  <a:solidFill>
                    <a:srgbClr val="845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831000" y="2982960"/>
                    <a:ext cx="34920" cy="149040"/>
                  </a:xfrm>
                  <a:custGeom>
                    <a:avLst/>
                    <a:gdLst/>
                    <a:ahLst/>
                    <a:rect l="l" t="t" r="r" b="b"/>
                    <a:pathLst>
                      <a:path w="64" h="282">
                        <a:moveTo>
                          <a:pt x="0" y="0"/>
                        </a:moveTo>
                        <a:lnTo>
                          <a:pt x="11" y="2"/>
                        </a:lnTo>
                        <a:lnTo>
                          <a:pt x="21" y="3"/>
                        </a:lnTo>
                        <a:lnTo>
                          <a:pt x="31" y="5"/>
                        </a:lnTo>
                        <a:lnTo>
                          <a:pt x="42" y="6"/>
                        </a:lnTo>
                        <a:lnTo>
                          <a:pt x="64" y="282"/>
                        </a:lnTo>
                        <a:lnTo>
                          <a:pt x="58" y="280"/>
                        </a:lnTo>
                        <a:lnTo>
                          <a:pt x="52" y="280"/>
                        </a:lnTo>
                        <a:lnTo>
                          <a:pt x="46" y="279"/>
                        </a:lnTo>
                        <a:lnTo>
                          <a:pt x="40" y="277"/>
                        </a:lnTo>
                        <a:lnTo>
                          <a:pt x="33" y="277"/>
                        </a:lnTo>
                        <a:lnTo>
                          <a:pt x="27" y="276"/>
                        </a:lnTo>
                        <a:lnTo>
                          <a:pt x="21" y="276"/>
                        </a:lnTo>
                        <a:lnTo>
                          <a:pt x="15" y="274"/>
                        </a:lnTo>
                        <a:lnTo>
                          <a:pt x="0" y="0"/>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895800" y="2967120"/>
                    <a:ext cx="223920" cy="168120"/>
                  </a:xfrm>
                  <a:custGeom>
                    <a:avLst/>
                    <a:gdLst/>
                    <a:ahLst/>
                    <a:rect l="l" t="t" r="r" b="b"/>
                    <a:pathLst>
                      <a:path w="423" h="320">
                        <a:moveTo>
                          <a:pt x="1" y="318"/>
                        </a:moveTo>
                        <a:lnTo>
                          <a:pt x="0" y="40"/>
                        </a:lnTo>
                        <a:lnTo>
                          <a:pt x="29" y="41"/>
                        </a:lnTo>
                        <a:lnTo>
                          <a:pt x="57" y="44"/>
                        </a:lnTo>
                        <a:lnTo>
                          <a:pt x="86" y="44"/>
                        </a:lnTo>
                        <a:lnTo>
                          <a:pt x="112" y="44"/>
                        </a:lnTo>
                        <a:lnTo>
                          <a:pt x="139" y="44"/>
                        </a:lnTo>
                        <a:lnTo>
                          <a:pt x="165" y="44"/>
                        </a:lnTo>
                        <a:lnTo>
                          <a:pt x="190" y="41"/>
                        </a:lnTo>
                        <a:lnTo>
                          <a:pt x="217" y="40"/>
                        </a:lnTo>
                        <a:lnTo>
                          <a:pt x="240" y="37"/>
                        </a:lnTo>
                        <a:lnTo>
                          <a:pt x="266" y="34"/>
                        </a:lnTo>
                        <a:lnTo>
                          <a:pt x="291" y="30"/>
                        </a:lnTo>
                        <a:lnTo>
                          <a:pt x="316" y="25"/>
                        </a:lnTo>
                        <a:lnTo>
                          <a:pt x="341" y="19"/>
                        </a:lnTo>
                        <a:lnTo>
                          <a:pt x="367" y="13"/>
                        </a:lnTo>
                        <a:lnTo>
                          <a:pt x="392" y="7"/>
                        </a:lnTo>
                        <a:lnTo>
                          <a:pt x="419" y="0"/>
                        </a:lnTo>
                        <a:lnTo>
                          <a:pt x="423" y="259"/>
                        </a:lnTo>
                        <a:lnTo>
                          <a:pt x="401" y="268"/>
                        </a:lnTo>
                        <a:lnTo>
                          <a:pt x="377" y="277"/>
                        </a:lnTo>
                        <a:lnTo>
                          <a:pt x="353" y="284"/>
                        </a:lnTo>
                        <a:lnTo>
                          <a:pt x="328" y="290"/>
                        </a:lnTo>
                        <a:lnTo>
                          <a:pt x="301" y="298"/>
                        </a:lnTo>
                        <a:lnTo>
                          <a:pt x="276" y="302"/>
                        </a:lnTo>
                        <a:lnTo>
                          <a:pt x="249" y="306"/>
                        </a:lnTo>
                        <a:lnTo>
                          <a:pt x="221" y="311"/>
                        </a:lnTo>
                        <a:lnTo>
                          <a:pt x="194" y="314"/>
                        </a:lnTo>
                        <a:lnTo>
                          <a:pt x="166" y="317"/>
                        </a:lnTo>
                        <a:lnTo>
                          <a:pt x="138" y="318"/>
                        </a:lnTo>
                        <a:lnTo>
                          <a:pt x="111" y="320"/>
                        </a:lnTo>
                        <a:lnTo>
                          <a:pt x="83" y="320"/>
                        </a:lnTo>
                        <a:lnTo>
                          <a:pt x="56" y="320"/>
                        </a:lnTo>
                        <a:lnTo>
                          <a:pt x="28" y="320"/>
                        </a:lnTo>
                        <a:lnTo>
                          <a:pt x="1" y="318"/>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845040" y="2706840"/>
                    <a:ext cx="198720" cy="169560"/>
                  </a:xfrm>
                  <a:custGeom>
                    <a:avLst/>
                    <a:gdLst/>
                    <a:ahLst/>
                    <a:rect l="l" t="t" r="r" b="b"/>
                    <a:pathLst>
                      <a:path w="373" h="323">
                        <a:moveTo>
                          <a:pt x="373" y="126"/>
                        </a:moveTo>
                        <a:lnTo>
                          <a:pt x="178" y="323"/>
                        </a:lnTo>
                        <a:lnTo>
                          <a:pt x="166" y="311"/>
                        </a:lnTo>
                        <a:lnTo>
                          <a:pt x="154" y="299"/>
                        </a:lnTo>
                        <a:lnTo>
                          <a:pt x="141" y="289"/>
                        </a:lnTo>
                        <a:lnTo>
                          <a:pt x="129" y="279"/>
                        </a:lnTo>
                        <a:lnTo>
                          <a:pt x="116" y="270"/>
                        </a:lnTo>
                        <a:lnTo>
                          <a:pt x="102" y="262"/>
                        </a:lnTo>
                        <a:lnTo>
                          <a:pt x="91" y="258"/>
                        </a:lnTo>
                        <a:lnTo>
                          <a:pt x="79" y="255"/>
                        </a:lnTo>
                        <a:lnTo>
                          <a:pt x="76" y="240"/>
                        </a:lnTo>
                        <a:lnTo>
                          <a:pt x="71" y="222"/>
                        </a:lnTo>
                        <a:lnTo>
                          <a:pt x="64" y="202"/>
                        </a:lnTo>
                        <a:lnTo>
                          <a:pt x="55" y="181"/>
                        </a:lnTo>
                        <a:lnTo>
                          <a:pt x="44" y="159"/>
                        </a:lnTo>
                        <a:lnTo>
                          <a:pt x="31" y="140"/>
                        </a:lnTo>
                        <a:lnTo>
                          <a:pt x="16" y="122"/>
                        </a:lnTo>
                        <a:lnTo>
                          <a:pt x="0" y="107"/>
                        </a:lnTo>
                        <a:lnTo>
                          <a:pt x="6" y="91"/>
                        </a:lnTo>
                        <a:lnTo>
                          <a:pt x="9" y="73"/>
                        </a:lnTo>
                        <a:lnTo>
                          <a:pt x="9" y="57"/>
                        </a:lnTo>
                        <a:lnTo>
                          <a:pt x="6" y="45"/>
                        </a:lnTo>
                        <a:lnTo>
                          <a:pt x="18" y="42"/>
                        </a:lnTo>
                        <a:lnTo>
                          <a:pt x="30" y="37"/>
                        </a:lnTo>
                        <a:lnTo>
                          <a:pt x="44" y="31"/>
                        </a:lnTo>
                        <a:lnTo>
                          <a:pt x="58" y="26"/>
                        </a:lnTo>
                        <a:lnTo>
                          <a:pt x="73" y="20"/>
                        </a:lnTo>
                        <a:lnTo>
                          <a:pt x="85" y="14"/>
                        </a:lnTo>
                        <a:lnTo>
                          <a:pt x="94" y="6"/>
                        </a:lnTo>
                        <a:lnTo>
                          <a:pt x="101" y="0"/>
                        </a:lnTo>
                        <a:lnTo>
                          <a:pt x="114" y="6"/>
                        </a:lnTo>
                        <a:lnTo>
                          <a:pt x="132" y="12"/>
                        </a:lnTo>
                        <a:lnTo>
                          <a:pt x="151" y="20"/>
                        </a:lnTo>
                        <a:lnTo>
                          <a:pt x="172" y="27"/>
                        </a:lnTo>
                        <a:lnTo>
                          <a:pt x="193" y="33"/>
                        </a:lnTo>
                        <a:lnTo>
                          <a:pt x="212" y="39"/>
                        </a:lnTo>
                        <a:lnTo>
                          <a:pt x="230" y="40"/>
                        </a:lnTo>
                        <a:lnTo>
                          <a:pt x="245" y="40"/>
                        </a:lnTo>
                        <a:lnTo>
                          <a:pt x="253" y="46"/>
                        </a:lnTo>
                        <a:lnTo>
                          <a:pt x="263" y="52"/>
                        </a:lnTo>
                        <a:lnTo>
                          <a:pt x="276" y="61"/>
                        </a:lnTo>
                        <a:lnTo>
                          <a:pt x="293" y="70"/>
                        </a:lnTo>
                        <a:lnTo>
                          <a:pt x="311" y="82"/>
                        </a:lnTo>
                        <a:lnTo>
                          <a:pt x="330" y="95"/>
                        </a:lnTo>
                        <a:lnTo>
                          <a:pt x="351" y="110"/>
                        </a:lnTo>
                        <a:lnTo>
                          <a:pt x="373" y="126"/>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962760" y="2790720"/>
                    <a:ext cx="114120" cy="103320"/>
                  </a:xfrm>
                  <a:custGeom>
                    <a:avLst/>
                    <a:gdLst/>
                    <a:ahLst/>
                    <a:rect l="l" t="t" r="r" b="b"/>
                    <a:pathLst>
                      <a:path w="217" h="196">
                        <a:moveTo>
                          <a:pt x="217" y="22"/>
                        </a:moveTo>
                        <a:lnTo>
                          <a:pt x="29" y="196"/>
                        </a:lnTo>
                        <a:lnTo>
                          <a:pt x="21" y="193"/>
                        </a:lnTo>
                        <a:lnTo>
                          <a:pt x="14" y="190"/>
                        </a:lnTo>
                        <a:lnTo>
                          <a:pt x="8" y="187"/>
                        </a:lnTo>
                        <a:lnTo>
                          <a:pt x="0" y="184"/>
                        </a:lnTo>
                        <a:lnTo>
                          <a:pt x="195" y="0"/>
                        </a:lnTo>
                        <a:lnTo>
                          <a:pt x="201" y="6"/>
                        </a:lnTo>
                        <a:lnTo>
                          <a:pt x="207" y="11"/>
                        </a:lnTo>
                        <a:lnTo>
                          <a:pt x="211" y="17"/>
                        </a:lnTo>
                        <a:lnTo>
                          <a:pt x="217" y="22"/>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000560" y="2820960"/>
                    <a:ext cx="133560" cy="112680"/>
                  </a:xfrm>
                  <a:custGeom>
                    <a:avLst/>
                    <a:gdLst/>
                    <a:ahLst/>
                    <a:rect l="l" t="t" r="r" b="b"/>
                    <a:pathLst>
                      <a:path w="250" h="213">
                        <a:moveTo>
                          <a:pt x="0" y="170"/>
                        </a:moveTo>
                        <a:lnTo>
                          <a:pt x="180" y="0"/>
                        </a:lnTo>
                        <a:lnTo>
                          <a:pt x="190" y="12"/>
                        </a:lnTo>
                        <a:lnTo>
                          <a:pt x="199" y="25"/>
                        </a:lnTo>
                        <a:lnTo>
                          <a:pt x="210" y="39"/>
                        </a:lnTo>
                        <a:lnTo>
                          <a:pt x="219" y="52"/>
                        </a:lnTo>
                        <a:lnTo>
                          <a:pt x="228" y="65"/>
                        </a:lnTo>
                        <a:lnTo>
                          <a:pt x="235" y="78"/>
                        </a:lnTo>
                        <a:lnTo>
                          <a:pt x="242" y="93"/>
                        </a:lnTo>
                        <a:lnTo>
                          <a:pt x="250" y="108"/>
                        </a:lnTo>
                        <a:lnTo>
                          <a:pt x="248" y="135"/>
                        </a:lnTo>
                        <a:lnTo>
                          <a:pt x="242" y="166"/>
                        </a:lnTo>
                        <a:lnTo>
                          <a:pt x="235" y="192"/>
                        </a:lnTo>
                        <a:lnTo>
                          <a:pt x="225" y="206"/>
                        </a:lnTo>
                        <a:lnTo>
                          <a:pt x="217" y="207"/>
                        </a:lnTo>
                        <a:lnTo>
                          <a:pt x="207" y="209"/>
                        </a:lnTo>
                        <a:lnTo>
                          <a:pt x="195" y="212"/>
                        </a:lnTo>
                        <a:lnTo>
                          <a:pt x="180" y="213"/>
                        </a:lnTo>
                        <a:lnTo>
                          <a:pt x="167" y="213"/>
                        </a:lnTo>
                        <a:lnTo>
                          <a:pt x="153" y="213"/>
                        </a:lnTo>
                        <a:lnTo>
                          <a:pt x="141" y="212"/>
                        </a:lnTo>
                        <a:lnTo>
                          <a:pt x="131" y="209"/>
                        </a:lnTo>
                        <a:lnTo>
                          <a:pt x="119" y="201"/>
                        </a:lnTo>
                        <a:lnTo>
                          <a:pt x="103" y="194"/>
                        </a:lnTo>
                        <a:lnTo>
                          <a:pt x="85" y="187"/>
                        </a:lnTo>
                        <a:lnTo>
                          <a:pt x="66" y="179"/>
                        </a:lnTo>
                        <a:lnTo>
                          <a:pt x="46" y="175"/>
                        </a:lnTo>
                        <a:lnTo>
                          <a:pt x="28" y="170"/>
                        </a:lnTo>
                        <a:lnTo>
                          <a:pt x="12" y="169"/>
                        </a:lnTo>
                        <a:lnTo>
                          <a:pt x="0" y="170"/>
                        </a:lnTo>
                        <a:close/>
                      </a:path>
                    </a:pathLst>
                  </a:custGeom>
                  <a:solidFill>
                    <a:srgbClr val="ccba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037280" y="3003480"/>
                    <a:ext cx="23760" cy="100080"/>
                  </a:xfrm>
                  <a:custGeom>
                    <a:avLst/>
                    <a:gdLst/>
                    <a:ahLst/>
                    <a:rect l="l" t="t" r="r" b="b"/>
                    <a:pathLst>
                      <a:path w="44" h="187">
                        <a:moveTo>
                          <a:pt x="0" y="187"/>
                        </a:moveTo>
                        <a:lnTo>
                          <a:pt x="6" y="4"/>
                        </a:lnTo>
                        <a:lnTo>
                          <a:pt x="44" y="0"/>
                        </a:lnTo>
                        <a:lnTo>
                          <a:pt x="38" y="179"/>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076880" y="2997360"/>
                    <a:ext cx="20520" cy="95040"/>
                  </a:xfrm>
                  <a:custGeom>
                    <a:avLst/>
                    <a:gdLst/>
                    <a:ahLst/>
                    <a:rect l="l" t="t" r="r" b="b"/>
                    <a:pathLst>
                      <a:path w="38" h="180">
                        <a:moveTo>
                          <a:pt x="6" y="180"/>
                        </a:moveTo>
                        <a:lnTo>
                          <a:pt x="0" y="7"/>
                        </a:lnTo>
                        <a:lnTo>
                          <a:pt x="38" y="0"/>
                        </a:lnTo>
                        <a:lnTo>
                          <a:pt x="36" y="171"/>
                        </a:lnTo>
                        <a:lnTo>
                          <a:pt x="6"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81760" y="2739960"/>
                    <a:ext cx="220680" cy="158760"/>
                  </a:xfrm>
                  <a:custGeom>
                    <a:avLst/>
                    <a:gdLst/>
                    <a:ahLst/>
                    <a:rect l="l" t="t" r="r" b="b"/>
                    <a:pathLst>
                      <a:path w="416" h="300">
                        <a:moveTo>
                          <a:pt x="85" y="161"/>
                        </a:moveTo>
                        <a:lnTo>
                          <a:pt x="72" y="151"/>
                        </a:lnTo>
                        <a:lnTo>
                          <a:pt x="57" y="136"/>
                        </a:lnTo>
                        <a:lnTo>
                          <a:pt x="39" y="117"/>
                        </a:lnTo>
                        <a:lnTo>
                          <a:pt x="24" y="94"/>
                        </a:lnTo>
                        <a:lnTo>
                          <a:pt x="11" y="72"/>
                        </a:lnTo>
                        <a:lnTo>
                          <a:pt x="2" y="50"/>
                        </a:lnTo>
                        <a:lnTo>
                          <a:pt x="0" y="31"/>
                        </a:lnTo>
                        <a:lnTo>
                          <a:pt x="8" y="13"/>
                        </a:lnTo>
                        <a:lnTo>
                          <a:pt x="21" y="4"/>
                        </a:lnTo>
                        <a:lnTo>
                          <a:pt x="39" y="0"/>
                        </a:lnTo>
                        <a:lnTo>
                          <a:pt x="61" y="0"/>
                        </a:lnTo>
                        <a:lnTo>
                          <a:pt x="86" y="4"/>
                        </a:lnTo>
                        <a:lnTo>
                          <a:pt x="115" y="13"/>
                        </a:lnTo>
                        <a:lnTo>
                          <a:pt x="146" y="25"/>
                        </a:lnTo>
                        <a:lnTo>
                          <a:pt x="179" y="40"/>
                        </a:lnTo>
                        <a:lnTo>
                          <a:pt x="211" y="57"/>
                        </a:lnTo>
                        <a:lnTo>
                          <a:pt x="244" y="80"/>
                        </a:lnTo>
                        <a:lnTo>
                          <a:pt x="277" y="102"/>
                        </a:lnTo>
                        <a:lnTo>
                          <a:pt x="308" y="127"/>
                        </a:lnTo>
                        <a:lnTo>
                          <a:pt x="336" y="155"/>
                        </a:lnTo>
                        <a:lnTo>
                          <a:pt x="363" y="183"/>
                        </a:lnTo>
                        <a:lnTo>
                          <a:pt x="385" y="213"/>
                        </a:lnTo>
                        <a:lnTo>
                          <a:pt x="403" y="244"/>
                        </a:lnTo>
                        <a:lnTo>
                          <a:pt x="416" y="275"/>
                        </a:lnTo>
                        <a:lnTo>
                          <a:pt x="397" y="300"/>
                        </a:lnTo>
                        <a:lnTo>
                          <a:pt x="385" y="269"/>
                        </a:lnTo>
                        <a:lnTo>
                          <a:pt x="369" y="239"/>
                        </a:lnTo>
                        <a:lnTo>
                          <a:pt x="350" y="210"/>
                        </a:lnTo>
                        <a:lnTo>
                          <a:pt x="326" y="183"/>
                        </a:lnTo>
                        <a:lnTo>
                          <a:pt x="301" y="157"/>
                        </a:lnTo>
                        <a:lnTo>
                          <a:pt x="272" y="133"/>
                        </a:lnTo>
                        <a:lnTo>
                          <a:pt x="244" y="111"/>
                        </a:lnTo>
                        <a:lnTo>
                          <a:pt x="214" y="90"/>
                        </a:lnTo>
                        <a:lnTo>
                          <a:pt x="185" y="72"/>
                        </a:lnTo>
                        <a:lnTo>
                          <a:pt x="156" y="57"/>
                        </a:lnTo>
                        <a:lnTo>
                          <a:pt x="128" y="45"/>
                        </a:lnTo>
                        <a:lnTo>
                          <a:pt x="103" y="38"/>
                        </a:lnTo>
                        <a:lnTo>
                          <a:pt x="81" y="32"/>
                        </a:lnTo>
                        <a:lnTo>
                          <a:pt x="63" y="31"/>
                        </a:lnTo>
                        <a:lnTo>
                          <a:pt x="48" y="32"/>
                        </a:lnTo>
                        <a:lnTo>
                          <a:pt x="37" y="38"/>
                        </a:lnTo>
                        <a:lnTo>
                          <a:pt x="33" y="48"/>
                        </a:lnTo>
                        <a:lnTo>
                          <a:pt x="36" y="62"/>
                        </a:lnTo>
                        <a:lnTo>
                          <a:pt x="43" y="77"/>
                        </a:lnTo>
                        <a:lnTo>
                          <a:pt x="54" y="91"/>
                        </a:lnTo>
                        <a:lnTo>
                          <a:pt x="67" y="106"/>
                        </a:lnTo>
                        <a:lnTo>
                          <a:pt x="79" y="119"/>
                        </a:lnTo>
                        <a:lnTo>
                          <a:pt x="89" y="130"/>
                        </a:lnTo>
                        <a:lnTo>
                          <a:pt x="97" y="136"/>
                        </a:lnTo>
                        <a:lnTo>
                          <a:pt x="8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
                <p:cNvGrpSpPr/>
                <p:nvPr/>
              </p:nvGrpSpPr>
              <p:grpSpPr>
                <a:xfrm>
                  <a:off x="6841800" y="2165400"/>
                  <a:ext cx="541440" cy="1054080"/>
                  <a:chOff x="6841800" y="2165400"/>
                  <a:chExt cx="541440" cy="1054080"/>
                </a:xfrm>
              </p:grpSpPr>
              <p:sp>
                <p:nvSpPr>
                  <p:cNvPr id="714" name=""/>
                  <p:cNvSpPr/>
                  <p:nvPr/>
                </p:nvSpPr>
                <p:spPr>
                  <a:xfrm>
                    <a:off x="6841800" y="2165400"/>
                    <a:ext cx="314640" cy="1003320"/>
                  </a:xfrm>
                  <a:custGeom>
                    <a:avLst/>
                    <a:gdLst/>
                    <a:ahLst/>
                    <a:rect l="l" t="t" r="r" b="b"/>
                    <a:pathLst>
                      <a:path w="595" h="1894">
                        <a:moveTo>
                          <a:pt x="215" y="79"/>
                        </a:moveTo>
                        <a:lnTo>
                          <a:pt x="201" y="61"/>
                        </a:lnTo>
                        <a:lnTo>
                          <a:pt x="200" y="44"/>
                        </a:lnTo>
                        <a:lnTo>
                          <a:pt x="208" y="32"/>
                        </a:lnTo>
                        <a:lnTo>
                          <a:pt x="225" y="21"/>
                        </a:lnTo>
                        <a:lnTo>
                          <a:pt x="246" y="12"/>
                        </a:lnTo>
                        <a:lnTo>
                          <a:pt x="268" y="5"/>
                        </a:lnTo>
                        <a:lnTo>
                          <a:pt x="289" y="1"/>
                        </a:lnTo>
                        <a:lnTo>
                          <a:pt x="307" y="0"/>
                        </a:lnTo>
                        <a:lnTo>
                          <a:pt x="325" y="0"/>
                        </a:lnTo>
                        <a:lnTo>
                          <a:pt x="349" y="1"/>
                        </a:lnTo>
                        <a:lnTo>
                          <a:pt x="372" y="5"/>
                        </a:lnTo>
                        <a:lnTo>
                          <a:pt x="394" y="12"/>
                        </a:lnTo>
                        <a:lnTo>
                          <a:pt x="413" y="23"/>
                        </a:lnTo>
                        <a:lnTo>
                          <a:pt x="424" y="36"/>
                        </a:lnTo>
                        <a:lnTo>
                          <a:pt x="424" y="52"/>
                        </a:lnTo>
                        <a:lnTo>
                          <a:pt x="411" y="72"/>
                        </a:lnTo>
                        <a:lnTo>
                          <a:pt x="424" y="89"/>
                        </a:lnTo>
                        <a:lnTo>
                          <a:pt x="431" y="108"/>
                        </a:lnTo>
                        <a:lnTo>
                          <a:pt x="429" y="130"/>
                        </a:lnTo>
                        <a:lnTo>
                          <a:pt x="415" y="148"/>
                        </a:lnTo>
                        <a:lnTo>
                          <a:pt x="415" y="182"/>
                        </a:lnTo>
                        <a:lnTo>
                          <a:pt x="415" y="230"/>
                        </a:lnTo>
                        <a:lnTo>
                          <a:pt x="417" y="292"/>
                        </a:lnTo>
                        <a:lnTo>
                          <a:pt x="419" y="361"/>
                        </a:lnTo>
                        <a:lnTo>
                          <a:pt x="424" y="433"/>
                        </a:lnTo>
                        <a:lnTo>
                          <a:pt x="433" y="507"/>
                        </a:lnTo>
                        <a:lnTo>
                          <a:pt x="447" y="578"/>
                        </a:lnTo>
                        <a:lnTo>
                          <a:pt x="468" y="642"/>
                        </a:lnTo>
                        <a:lnTo>
                          <a:pt x="492" y="699"/>
                        </a:lnTo>
                        <a:lnTo>
                          <a:pt x="515" y="754"/>
                        </a:lnTo>
                        <a:lnTo>
                          <a:pt x="536" y="809"/>
                        </a:lnTo>
                        <a:lnTo>
                          <a:pt x="556" y="861"/>
                        </a:lnTo>
                        <a:lnTo>
                          <a:pt x="572" y="914"/>
                        </a:lnTo>
                        <a:lnTo>
                          <a:pt x="585" y="966"/>
                        </a:lnTo>
                        <a:lnTo>
                          <a:pt x="592" y="1019"/>
                        </a:lnTo>
                        <a:lnTo>
                          <a:pt x="595" y="1070"/>
                        </a:lnTo>
                        <a:lnTo>
                          <a:pt x="595" y="1080"/>
                        </a:lnTo>
                        <a:lnTo>
                          <a:pt x="595" y="1091"/>
                        </a:lnTo>
                        <a:lnTo>
                          <a:pt x="595" y="1102"/>
                        </a:lnTo>
                        <a:lnTo>
                          <a:pt x="593" y="1113"/>
                        </a:lnTo>
                        <a:lnTo>
                          <a:pt x="593" y="1153"/>
                        </a:lnTo>
                        <a:lnTo>
                          <a:pt x="593" y="1199"/>
                        </a:lnTo>
                        <a:lnTo>
                          <a:pt x="593" y="1248"/>
                        </a:lnTo>
                        <a:lnTo>
                          <a:pt x="592" y="1299"/>
                        </a:lnTo>
                        <a:lnTo>
                          <a:pt x="592" y="1310"/>
                        </a:lnTo>
                        <a:lnTo>
                          <a:pt x="592" y="1322"/>
                        </a:lnTo>
                        <a:lnTo>
                          <a:pt x="592" y="1331"/>
                        </a:lnTo>
                        <a:lnTo>
                          <a:pt x="592" y="1342"/>
                        </a:lnTo>
                        <a:lnTo>
                          <a:pt x="591" y="1429"/>
                        </a:lnTo>
                        <a:lnTo>
                          <a:pt x="591" y="1511"/>
                        </a:lnTo>
                        <a:lnTo>
                          <a:pt x="589" y="1583"/>
                        </a:lnTo>
                        <a:lnTo>
                          <a:pt x="588" y="1640"/>
                        </a:lnTo>
                        <a:lnTo>
                          <a:pt x="586" y="1652"/>
                        </a:lnTo>
                        <a:lnTo>
                          <a:pt x="586" y="1663"/>
                        </a:lnTo>
                        <a:lnTo>
                          <a:pt x="586" y="1672"/>
                        </a:lnTo>
                        <a:lnTo>
                          <a:pt x="585" y="1679"/>
                        </a:lnTo>
                        <a:lnTo>
                          <a:pt x="582" y="1700"/>
                        </a:lnTo>
                        <a:lnTo>
                          <a:pt x="578" y="1720"/>
                        </a:lnTo>
                        <a:lnTo>
                          <a:pt x="572" y="1741"/>
                        </a:lnTo>
                        <a:lnTo>
                          <a:pt x="565" y="1761"/>
                        </a:lnTo>
                        <a:lnTo>
                          <a:pt x="557" y="1779"/>
                        </a:lnTo>
                        <a:lnTo>
                          <a:pt x="546" y="1797"/>
                        </a:lnTo>
                        <a:lnTo>
                          <a:pt x="532" y="1814"/>
                        </a:lnTo>
                        <a:lnTo>
                          <a:pt x="517" y="1830"/>
                        </a:lnTo>
                        <a:lnTo>
                          <a:pt x="500" y="1844"/>
                        </a:lnTo>
                        <a:lnTo>
                          <a:pt x="479" y="1857"/>
                        </a:lnTo>
                        <a:lnTo>
                          <a:pt x="457" y="1868"/>
                        </a:lnTo>
                        <a:lnTo>
                          <a:pt x="432" y="1878"/>
                        </a:lnTo>
                        <a:lnTo>
                          <a:pt x="404" y="1884"/>
                        </a:lnTo>
                        <a:lnTo>
                          <a:pt x="374" y="1890"/>
                        </a:lnTo>
                        <a:lnTo>
                          <a:pt x="340" y="1893"/>
                        </a:lnTo>
                        <a:lnTo>
                          <a:pt x="303" y="1894"/>
                        </a:lnTo>
                        <a:lnTo>
                          <a:pt x="265" y="1893"/>
                        </a:lnTo>
                        <a:lnTo>
                          <a:pt x="230" y="1889"/>
                        </a:lnTo>
                        <a:lnTo>
                          <a:pt x="198" y="1883"/>
                        </a:lnTo>
                        <a:lnTo>
                          <a:pt x="168" y="1876"/>
                        </a:lnTo>
                        <a:lnTo>
                          <a:pt x="141" y="1866"/>
                        </a:lnTo>
                        <a:lnTo>
                          <a:pt x="116" y="1855"/>
                        </a:lnTo>
                        <a:lnTo>
                          <a:pt x="94" y="1843"/>
                        </a:lnTo>
                        <a:lnTo>
                          <a:pt x="75" y="1829"/>
                        </a:lnTo>
                        <a:lnTo>
                          <a:pt x="57" y="1814"/>
                        </a:lnTo>
                        <a:lnTo>
                          <a:pt x="43" y="1797"/>
                        </a:lnTo>
                        <a:lnTo>
                          <a:pt x="29" y="1777"/>
                        </a:lnTo>
                        <a:lnTo>
                          <a:pt x="19" y="1758"/>
                        </a:lnTo>
                        <a:lnTo>
                          <a:pt x="11" y="1737"/>
                        </a:lnTo>
                        <a:lnTo>
                          <a:pt x="5" y="1716"/>
                        </a:lnTo>
                        <a:lnTo>
                          <a:pt x="1" y="1693"/>
                        </a:lnTo>
                        <a:lnTo>
                          <a:pt x="0" y="1669"/>
                        </a:lnTo>
                        <a:lnTo>
                          <a:pt x="0" y="1548"/>
                        </a:lnTo>
                        <a:lnTo>
                          <a:pt x="1" y="1374"/>
                        </a:lnTo>
                        <a:lnTo>
                          <a:pt x="5" y="1205"/>
                        </a:lnTo>
                        <a:lnTo>
                          <a:pt x="6" y="1096"/>
                        </a:lnTo>
                        <a:lnTo>
                          <a:pt x="11" y="1023"/>
                        </a:lnTo>
                        <a:lnTo>
                          <a:pt x="18" y="962"/>
                        </a:lnTo>
                        <a:lnTo>
                          <a:pt x="30" y="909"/>
                        </a:lnTo>
                        <a:lnTo>
                          <a:pt x="45" y="861"/>
                        </a:lnTo>
                        <a:lnTo>
                          <a:pt x="64" y="817"/>
                        </a:lnTo>
                        <a:lnTo>
                          <a:pt x="87" y="770"/>
                        </a:lnTo>
                        <a:lnTo>
                          <a:pt x="114" y="718"/>
                        </a:lnTo>
                        <a:lnTo>
                          <a:pt x="143" y="659"/>
                        </a:lnTo>
                        <a:lnTo>
                          <a:pt x="161" y="608"/>
                        </a:lnTo>
                        <a:lnTo>
                          <a:pt x="175" y="545"/>
                        </a:lnTo>
                        <a:lnTo>
                          <a:pt x="186" y="472"/>
                        </a:lnTo>
                        <a:lnTo>
                          <a:pt x="196" y="396"/>
                        </a:lnTo>
                        <a:lnTo>
                          <a:pt x="201" y="321"/>
                        </a:lnTo>
                        <a:lnTo>
                          <a:pt x="207" y="251"/>
                        </a:lnTo>
                        <a:lnTo>
                          <a:pt x="211" y="196"/>
                        </a:lnTo>
                        <a:lnTo>
                          <a:pt x="215" y="155"/>
                        </a:lnTo>
                        <a:lnTo>
                          <a:pt x="203" y="137"/>
                        </a:lnTo>
                        <a:lnTo>
                          <a:pt x="198" y="116"/>
                        </a:lnTo>
                        <a:lnTo>
                          <a:pt x="203" y="97"/>
                        </a:lnTo>
                        <a:lnTo>
                          <a:pt x="215"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873840" y="2254320"/>
                    <a:ext cx="253800" cy="884160"/>
                  </a:xfrm>
                  <a:custGeom>
                    <a:avLst/>
                    <a:gdLst/>
                    <a:ahLst/>
                    <a:rect l="l" t="t" r="r" b="b"/>
                    <a:pathLst>
                      <a:path w="480" h="1669">
                        <a:moveTo>
                          <a:pt x="206" y="4"/>
                        </a:moveTo>
                        <a:lnTo>
                          <a:pt x="216" y="4"/>
                        </a:lnTo>
                        <a:lnTo>
                          <a:pt x="227" y="5"/>
                        </a:lnTo>
                        <a:lnTo>
                          <a:pt x="240" y="5"/>
                        </a:lnTo>
                        <a:lnTo>
                          <a:pt x="252" y="4"/>
                        </a:lnTo>
                        <a:lnTo>
                          <a:pt x="263" y="4"/>
                        </a:lnTo>
                        <a:lnTo>
                          <a:pt x="276" y="3"/>
                        </a:lnTo>
                        <a:lnTo>
                          <a:pt x="287" y="1"/>
                        </a:lnTo>
                        <a:lnTo>
                          <a:pt x="297" y="0"/>
                        </a:lnTo>
                        <a:lnTo>
                          <a:pt x="297" y="36"/>
                        </a:lnTo>
                        <a:lnTo>
                          <a:pt x="297" y="96"/>
                        </a:lnTo>
                        <a:lnTo>
                          <a:pt x="298" y="171"/>
                        </a:lnTo>
                        <a:lnTo>
                          <a:pt x="302" y="257"/>
                        </a:lnTo>
                        <a:lnTo>
                          <a:pt x="312" y="349"/>
                        </a:lnTo>
                        <a:lnTo>
                          <a:pt x="327" y="442"/>
                        </a:lnTo>
                        <a:lnTo>
                          <a:pt x="351" y="529"/>
                        </a:lnTo>
                        <a:lnTo>
                          <a:pt x="383" y="607"/>
                        </a:lnTo>
                        <a:lnTo>
                          <a:pt x="401" y="642"/>
                        </a:lnTo>
                        <a:lnTo>
                          <a:pt x="419" y="678"/>
                        </a:lnTo>
                        <a:lnTo>
                          <a:pt x="434" y="714"/>
                        </a:lnTo>
                        <a:lnTo>
                          <a:pt x="448" y="752"/>
                        </a:lnTo>
                        <a:lnTo>
                          <a:pt x="461" y="789"/>
                        </a:lnTo>
                        <a:lnTo>
                          <a:pt x="469" y="830"/>
                        </a:lnTo>
                        <a:lnTo>
                          <a:pt x="475" y="873"/>
                        </a:lnTo>
                        <a:lnTo>
                          <a:pt x="477" y="917"/>
                        </a:lnTo>
                        <a:lnTo>
                          <a:pt x="477" y="928"/>
                        </a:lnTo>
                        <a:lnTo>
                          <a:pt x="479" y="944"/>
                        </a:lnTo>
                        <a:lnTo>
                          <a:pt x="479" y="960"/>
                        </a:lnTo>
                        <a:lnTo>
                          <a:pt x="479" y="978"/>
                        </a:lnTo>
                        <a:lnTo>
                          <a:pt x="479" y="1001"/>
                        </a:lnTo>
                        <a:lnTo>
                          <a:pt x="479" y="1024"/>
                        </a:lnTo>
                        <a:lnTo>
                          <a:pt x="479" y="1049"/>
                        </a:lnTo>
                        <a:lnTo>
                          <a:pt x="480" y="1077"/>
                        </a:lnTo>
                        <a:lnTo>
                          <a:pt x="480" y="1092"/>
                        </a:lnTo>
                        <a:lnTo>
                          <a:pt x="480" y="1108"/>
                        </a:lnTo>
                        <a:lnTo>
                          <a:pt x="480" y="1124"/>
                        </a:lnTo>
                        <a:lnTo>
                          <a:pt x="480" y="1140"/>
                        </a:lnTo>
                        <a:lnTo>
                          <a:pt x="480" y="1208"/>
                        </a:lnTo>
                        <a:lnTo>
                          <a:pt x="477" y="1277"/>
                        </a:lnTo>
                        <a:lnTo>
                          <a:pt x="475" y="1347"/>
                        </a:lnTo>
                        <a:lnTo>
                          <a:pt x="470" y="1413"/>
                        </a:lnTo>
                        <a:lnTo>
                          <a:pt x="466" y="1457"/>
                        </a:lnTo>
                        <a:lnTo>
                          <a:pt x="462" y="1495"/>
                        </a:lnTo>
                        <a:lnTo>
                          <a:pt x="456" y="1532"/>
                        </a:lnTo>
                        <a:lnTo>
                          <a:pt x="449" y="1564"/>
                        </a:lnTo>
                        <a:lnTo>
                          <a:pt x="443" y="1591"/>
                        </a:lnTo>
                        <a:lnTo>
                          <a:pt x="433" y="1612"/>
                        </a:lnTo>
                        <a:lnTo>
                          <a:pt x="422" y="1629"/>
                        </a:lnTo>
                        <a:lnTo>
                          <a:pt x="411" y="1637"/>
                        </a:lnTo>
                        <a:lnTo>
                          <a:pt x="394" y="1644"/>
                        </a:lnTo>
                        <a:lnTo>
                          <a:pt x="376" y="1650"/>
                        </a:lnTo>
                        <a:lnTo>
                          <a:pt x="356" y="1655"/>
                        </a:lnTo>
                        <a:lnTo>
                          <a:pt x="337" y="1661"/>
                        </a:lnTo>
                        <a:lnTo>
                          <a:pt x="315" y="1664"/>
                        </a:lnTo>
                        <a:lnTo>
                          <a:pt x="294" y="1666"/>
                        </a:lnTo>
                        <a:lnTo>
                          <a:pt x="270" y="1669"/>
                        </a:lnTo>
                        <a:lnTo>
                          <a:pt x="248" y="1669"/>
                        </a:lnTo>
                        <a:lnTo>
                          <a:pt x="224" y="1669"/>
                        </a:lnTo>
                        <a:lnTo>
                          <a:pt x="201" y="1668"/>
                        </a:lnTo>
                        <a:lnTo>
                          <a:pt x="178" y="1664"/>
                        </a:lnTo>
                        <a:lnTo>
                          <a:pt x="155" y="1660"/>
                        </a:lnTo>
                        <a:lnTo>
                          <a:pt x="132" y="1654"/>
                        </a:lnTo>
                        <a:lnTo>
                          <a:pt x="110" y="1646"/>
                        </a:lnTo>
                        <a:lnTo>
                          <a:pt x="88" y="1636"/>
                        </a:lnTo>
                        <a:lnTo>
                          <a:pt x="67" y="1625"/>
                        </a:lnTo>
                        <a:lnTo>
                          <a:pt x="87" y="1609"/>
                        </a:lnTo>
                        <a:lnTo>
                          <a:pt x="105" y="1597"/>
                        </a:lnTo>
                        <a:lnTo>
                          <a:pt x="124" y="1587"/>
                        </a:lnTo>
                        <a:lnTo>
                          <a:pt x="142" y="1579"/>
                        </a:lnTo>
                        <a:lnTo>
                          <a:pt x="162" y="1572"/>
                        </a:lnTo>
                        <a:lnTo>
                          <a:pt x="180" y="1568"/>
                        </a:lnTo>
                        <a:lnTo>
                          <a:pt x="198" y="1564"/>
                        </a:lnTo>
                        <a:lnTo>
                          <a:pt x="216" y="1562"/>
                        </a:lnTo>
                        <a:lnTo>
                          <a:pt x="234" y="1562"/>
                        </a:lnTo>
                        <a:lnTo>
                          <a:pt x="251" y="1564"/>
                        </a:lnTo>
                        <a:lnTo>
                          <a:pt x="267" y="1565"/>
                        </a:lnTo>
                        <a:lnTo>
                          <a:pt x="284" y="1568"/>
                        </a:lnTo>
                        <a:lnTo>
                          <a:pt x="301" y="1572"/>
                        </a:lnTo>
                        <a:lnTo>
                          <a:pt x="316" y="1577"/>
                        </a:lnTo>
                        <a:lnTo>
                          <a:pt x="331" y="1583"/>
                        </a:lnTo>
                        <a:lnTo>
                          <a:pt x="347" y="1589"/>
                        </a:lnTo>
                        <a:lnTo>
                          <a:pt x="352" y="1591"/>
                        </a:lnTo>
                        <a:lnTo>
                          <a:pt x="359" y="1594"/>
                        </a:lnTo>
                        <a:lnTo>
                          <a:pt x="367" y="1598"/>
                        </a:lnTo>
                        <a:lnTo>
                          <a:pt x="376" y="1601"/>
                        </a:lnTo>
                        <a:lnTo>
                          <a:pt x="384" y="1603"/>
                        </a:lnTo>
                        <a:lnTo>
                          <a:pt x="392" y="1603"/>
                        </a:lnTo>
                        <a:lnTo>
                          <a:pt x="399" y="1601"/>
                        </a:lnTo>
                        <a:lnTo>
                          <a:pt x="404" y="1596"/>
                        </a:lnTo>
                        <a:lnTo>
                          <a:pt x="405" y="1591"/>
                        </a:lnTo>
                        <a:lnTo>
                          <a:pt x="402" y="1584"/>
                        </a:lnTo>
                        <a:lnTo>
                          <a:pt x="398" y="1577"/>
                        </a:lnTo>
                        <a:lnTo>
                          <a:pt x="392" y="1569"/>
                        </a:lnTo>
                        <a:lnTo>
                          <a:pt x="384" y="1561"/>
                        </a:lnTo>
                        <a:lnTo>
                          <a:pt x="374" y="1554"/>
                        </a:lnTo>
                        <a:lnTo>
                          <a:pt x="362" y="1547"/>
                        </a:lnTo>
                        <a:lnTo>
                          <a:pt x="348" y="1541"/>
                        </a:lnTo>
                        <a:lnTo>
                          <a:pt x="340" y="1539"/>
                        </a:lnTo>
                        <a:lnTo>
                          <a:pt x="329" y="1536"/>
                        </a:lnTo>
                        <a:lnTo>
                          <a:pt x="317" y="1532"/>
                        </a:lnTo>
                        <a:lnTo>
                          <a:pt x="302" y="1527"/>
                        </a:lnTo>
                        <a:lnTo>
                          <a:pt x="287" y="1525"/>
                        </a:lnTo>
                        <a:lnTo>
                          <a:pt x="269" y="1522"/>
                        </a:lnTo>
                        <a:lnTo>
                          <a:pt x="249" y="1519"/>
                        </a:lnTo>
                        <a:lnTo>
                          <a:pt x="228" y="1518"/>
                        </a:lnTo>
                        <a:lnTo>
                          <a:pt x="206" y="1518"/>
                        </a:lnTo>
                        <a:lnTo>
                          <a:pt x="181" y="1519"/>
                        </a:lnTo>
                        <a:lnTo>
                          <a:pt x="156" y="1522"/>
                        </a:lnTo>
                        <a:lnTo>
                          <a:pt x="128" y="1526"/>
                        </a:lnTo>
                        <a:lnTo>
                          <a:pt x="99" y="1533"/>
                        </a:lnTo>
                        <a:lnTo>
                          <a:pt x="68" y="1541"/>
                        </a:lnTo>
                        <a:lnTo>
                          <a:pt x="36" y="1552"/>
                        </a:lnTo>
                        <a:lnTo>
                          <a:pt x="3" y="1566"/>
                        </a:lnTo>
                        <a:lnTo>
                          <a:pt x="0" y="1459"/>
                        </a:lnTo>
                        <a:lnTo>
                          <a:pt x="3" y="1248"/>
                        </a:lnTo>
                        <a:lnTo>
                          <a:pt x="9" y="1034"/>
                        </a:lnTo>
                        <a:lnTo>
                          <a:pt x="13" y="916"/>
                        </a:lnTo>
                        <a:lnTo>
                          <a:pt x="13" y="895"/>
                        </a:lnTo>
                        <a:lnTo>
                          <a:pt x="14" y="869"/>
                        </a:lnTo>
                        <a:lnTo>
                          <a:pt x="17" y="835"/>
                        </a:lnTo>
                        <a:lnTo>
                          <a:pt x="24" y="798"/>
                        </a:lnTo>
                        <a:lnTo>
                          <a:pt x="34" y="756"/>
                        </a:lnTo>
                        <a:lnTo>
                          <a:pt x="49" y="709"/>
                        </a:lnTo>
                        <a:lnTo>
                          <a:pt x="71" y="657"/>
                        </a:lnTo>
                        <a:lnTo>
                          <a:pt x="100" y="602"/>
                        </a:lnTo>
                        <a:lnTo>
                          <a:pt x="131" y="539"/>
                        </a:lnTo>
                        <a:lnTo>
                          <a:pt x="155" y="470"/>
                        </a:lnTo>
                        <a:lnTo>
                          <a:pt x="174" y="395"/>
                        </a:lnTo>
                        <a:lnTo>
                          <a:pt x="188" y="317"/>
                        </a:lnTo>
                        <a:lnTo>
                          <a:pt x="198" y="238"/>
                        </a:lnTo>
                        <a:lnTo>
                          <a:pt x="205" y="157"/>
                        </a:lnTo>
                        <a:lnTo>
                          <a:pt x="206" y="79"/>
                        </a:lnTo>
                        <a:lnTo>
                          <a:pt x="206" y="4"/>
                        </a:lnTo>
                        <a:close/>
                      </a:path>
                    </a:pathLst>
                  </a:custGeom>
                  <a:solidFill>
                    <a:srgbClr val="33d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976800" y="2217600"/>
                    <a:ext cx="58680" cy="20880"/>
                  </a:xfrm>
                  <a:custGeom>
                    <a:avLst/>
                    <a:gdLst/>
                    <a:ahLst/>
                    <a:rect l="l" t="t" r="r" b="b"/>
                    <a:pathLst>
                      <a:path w="110" h="39">
                        <a:moveTo>
                          <a:pt x="3" y="0"/>
                        </a:moveTo>
                        <a:lnTo>
                          <a:pt x="13" y="1"/>
                        </a:lnTo>
                        <a:lnTo>
                          <a:pt x="24" y="3"/>
                        </a:lnTo>
                        <a:lnTo>
                          <a:pt x="39" y="4"/>
                        </a:lnTo>
                        <a:lnTo>
                          <a:pt x="55" y="4"/>
                        </a:lnTo>
                        <a:lnTo>
                          <a:pt x="70" y="4"/>
                        </a:lnTo>
                        <a:lnTo>
                          <a:pt x="85" y="4"/>
                        </a:lnTo>
                        <a:lnTo>
                          <a:pt x="98" y="3"/>
                        </a:lnTo>
                        <a:lnTo>
                          <a:pt x="107" y="0"/>
                        </a:lnTo>
                        <a:lnTo>
                          <a:pt x="110" y="7"/>
                        </a:lnTo>
                        <a:lnTo>
                          <a:pt x="110" y="17"/>
                        </a:lnTo>
                        <a:lnTo>
                          <a:pt x="110" y="25"/>
                        </a:lnTo>
                        <a:lnTo>
                          <a:pt x="109" y="33"/>
                        </a:lnTo>
                        <a:lnTo>
                          <a:pt x="99" y="35"/>
                        </a:lnTo>
                        <a:lnTo>
                          <a:pt x="88" y="37"/>
                        </a:lnTo>
                        <a:lnTo>
                          <a:pt x="75" y="39"/>
                        </a:lnTo>
                        <a:lnTo>
                          <a:pt x="62" y="39"/>
                        </a:lnTo>
                        <a:lnTo>
                          <a:pt x="46" y="39"/>
                        </a:lnTo>
                        <a:lnTo>
                          <a:pt x="32" y="39"/>
                        </a:lnTo>
                        <a:lnTo>
                          <a:pt x="17" y="37"/>
                        </a:lnTo>
                        <a:lnTo>
                          <a:pt x="5" y="35"/>
                        </a:lnTo>
                        <a:lnTo>
                          <a:pt x="2" y="28"/>
                        </a:lnTo>
                        <a:lnTo>
                          <a:pt x="0" y="19"/>
                        </a:lnTo>
                        <a:lnTo>
                          <a:pt x="0" y="10"/>
                        </a:lnTo>
                        <a:lnTo>
                          <a:pt x="3" y="0"/>
                        </a:lnTo>
                        <a:close/>
                      </a:path>
                    </a:pathLst>
                  </a:custGeom>
                  <a:solidFill>
                    <a:srgbClr val="33d819"/>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7" name=""/>
                  <p:cNvSpPr/>
                  <p:nvPr/>
                </p:nvSpPr>
                <p:spPr>
                  <a:xfrm>
                    <a:off x="6980040" y="2182680"/>
                    <a:ext cx="54000" cy="15840"/>
                  </a:xfrm>
                  <a:custGeom>
                    <a:avLst/>
                    <a:gdLst/>
                    <a:ahLst/>
                    <a:rect l="l" t="t" r="r" b="b"/>
                    <a:pathLst>
                      <a:path w="100" h="29">
                        <a:moveTo>
                          <a:pt x="0" y="18"/>
                        </a:moveTo>
                        <a:lnTo>
                          <a:pt x="6" y="11"/>
                        </a:lnTo>
                        <a:lnTo>
                          <a:pt x="18" y="4"/>
                        </a:lnTo>
                        <a:lnTo>
                          <a:pt x="35" y="1"/>
                        </a:lnTo>
                        <a:lnTo>
                          <a:pt x="53" y="0"/>
                        </a:lnTo>
                        <a:lnTo>
                          <a:pt x="70" y="0"/>
                        </a:lnTo>
                        <a:lnTo>
                          <a:pt x="85" y="4"/>
                        </a:lnTo>
                        <a:lnTo>
                          <a:pt x="96" y="11"/>
                        </a:lnTo>
                        <a:lnTo>
                          <a:pt x="100" y="21"/>
                        </a:lnTo>
                        <a:lnTo>
                          <a:pt x="92" y="25"/>
                        </a:lnTo>
                        <a:lnTo>
                          <a:pt x="81" y="28"/>
                        </a:lnTo>
                        <a:lnTo>
                          <a:pt x="67" y="29"/>
                        </a:lnTo>
                        <a:lnTo>
                          <a:pt x="52" y="29"/>
                        </a:lnTo>
                        <a:lnTo>
                          <a:pt x="37" y="29"/>
                        </a:lnTo>
                        <a:lnTo>
                          <a:pt x="23" y="26"/>
                        </a:lnTo>
                        <a:lnTo>
                          <a:pt x="10" y="24"/>
                        </a:lnTo>
                        <a:lnTo>
                          <a:pt x="0" y="18"/>
                        </a:lnTo>
                        <a:close/>
                      </a:path>
                    </a:pathLst>
                  </a:custGeom>
                  <a:solidFill>
                    <a:srgbClr val="33d81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8" name=""/>
                  <p:cNvSpPr/>
                  <p:nvPr/>
                </p:nvSpPr>
                <p:spPr>
                  <a:xfrm>
                    <a:off x="6906960" y="2708280"/>
                    <a:ext cx="20880" cy="328680"/>
                  </a:xfrm>
                  <a:custGeom>
                    <a:avLst/>
                    <a:gdLst/>
                    <a:ahLst/>
                    <a:rect l="l" t="t" r="r" b="b"/>
                    <a:pathLst>
                      <a:path w="39" h="621">
                        <a:moveTo>
                          <a:pt x="20" y="0"/>
                        </a:moveTo>
                        <a:lnTo>
                          <a:pt x="39" y="3"/>
                        </a:lnTo>
                        <a:lnTo>
                          <a:pt x="23" y="619"/>
                        </a:lnTo>
                        <a:lnTo>
                          <a:pt x="0" y="621"/>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040520" y="2556000"/>
                    <a:ext cx="58680" cy="177840"/>
                  </a:xfrm>
                  <a:custGeom>
                    <a:avLst/>
                    <a:gdLst/>
                    <a:ahLst/>
                    <a:rect l="l" t="t" r="r" b="b"/>
                    <a:pathLst>
                      <a:path w="109" h="337">
                        <a:moveTo>
                          <a:pt x="3" y="0"/>
                        </a:moveTo>
                        <a:lnTo>
                          <a:pt x="18" y="28"/>
                        </a:lnTo>
                        <a:lnTo>
                          <a:pt x="41" y="70"/>
                        </a:lnTo>
                        <a:lnTo>
                          <a:pt x="63" y="121"/>
                        </a:lnTo>
                        <a:lnTo>
                          <a:pt x="85" y="177"/>
                        </a:lnTo>
                        <a:lnTo>
                          <a:pt x="102" y="231"/>
                        </a:lnTo>
                        <a:lnTo>
                          <a:pt x="109" y="280"/>
                        </a:lnTo>
                        <a:lnTo>
                          <a:pt x="105" y="316"/>
                        </a:lnTo>
                        <a:lnTo>
                          <a:pt x="85" y="337"/>
                        </a:lnTo>
                        <a:lnTo>
                          <a:pt x="56" y="335"/>
                        </a:lnTo>
                        <a:lnTo>
                          <a:pt x="34" y="312"/>
                        </a:lnTo>
                        <a:lnTo>
                          <a:pt x="18" y="269"/>
                        </a:lnTo>
                        <a:lnTo>
                          <a:pt x="9" y="214"/>
                        </a:lnTo>
                        <a:lnTo>
                          <a:pt x="2" y="155"/>
                        </a:lnTo>
                        <a:lnTo>
                          <a:pt x="0" y="95"/>
                        </a:lnTo>
                        <a:lnTo>
                          <a:pt x="0" y="4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056360" y="2619360"/>
                    <a:ext cx="28440" cy="98280"/>
                  </a:xfrm>
                  <a:custGeom>
                    <a:avLst/>
                    <a:gdLst/>
                    <a:ahLst/>
                    <a:rect l="l" t="t" r="r" b="b"/>
                    <a:pathLst>
                      <a:path w="56" h="185">
                        <a:moveTo>
                          <a:pt x="0" y="0"/>
                        </a:moveTo>
                        <a:lnTo>
                          <a:pt x="3" y="7"/>
                        </a:lnTo>
                        <a:lnTo>
                          <a:pt x="11" y="28"/>
                        </a:lnTo>
                        <a:lnTo>
                          <a:pt x="22" y="56"/>
                        </a:lnTo>
                        <a:lnTo>
                          <a:pt x="35" y="89"/>
                        </a:lnTo>
                        <a:lnTo>
                          <a:pt x="46" y="123"/>
                        </a:lnTo>
                        <a:lnTo>
                          <a:pt x="53" y="153"/>
                        </a:lnTo>
                        <a:lnTo>
                          <a:pt x="56" y="175"/>
                        </a:lnTo>
                        <a:lnTo>
                          <a:pt x="50" y="185"/>
                        </a:lnTo>
                        <a:lnTo>
                          <a:pt x="38" y="181"/>
                        </a:lnTo>
                        <a:lnTo>
                          <a:pt x="27" y="162"/>
                        </a:lnTo>
                        <a:lnTo>
                          <a:pt x="18" y="131"/>
                        </a:lnTo>
                        <a:lnTo>
                          <a:pt x="11" y="96"/>
                        </a:lnTo>
                        <a:lnTo>
                          <a:pt x="6" y="61"/>
                        </a:lnTo>
                        <a:lnTo>
                          <a:pt x="3" y="31"/>
                        </a:lnTo>
                        <a:lnTo>
                          <a:pt x="0" y="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267320" y="2901960"/>
                    <a:ext cx="55800" cy="239760"/>
                  </a:xfrm>
                  <a:custGeom>
                    <a:avLst/>
                    <a:gdLst/>
                    <a:ahLst/>
                    <a:rect l="l" t="t" r="r" b="b"/>
                    <a:pathLst>
                      <a:path w="105" h="453">
                        <a:moveTo>
                          <a:pt x="100" y="84"/>
                        </a:moveTo>
                        <a:lnTo>
                          <a:pt x="100" y="97"/>
                        </a:lnTo>
                        <a:lnTo>
                          <a:pt x="102" y="112"/>
                        </a:lnTo>
                        <a:lnTo>
                          <a:pt x="103" y="126"/>
                        </a:lnTo>
                        <a:lnTo>
                          <a:pt x="103" y="136"/>
                        </a:lnTo>
                        <a:lnTo>
                          <a:pt x="99" y="139"/>
                        </a:lnTo>
                        <a:lnTo>
                          <a:pt x="96" y="146"/>
                        </a:lnTo>
                        <a:lnTo>
                          <a:pt x="96" y="154"/>
                        </a:lnTo>
                        <a:lnTo>
                          <a:pt x="95" y="164"/>
                        </a:lnTo>
                        <a:lnTo>
                          <a:pt x="93" y="204"/>
                        </a:lnTo>
                        <a:lnTo>
                          <a:pt x="92" y="283"/>
                        </a:lnTo>
                        <a:lnTo>
                          <a:pt x="91" y="364"/>
                        </a:lnTo>
                        <a:lnTo>
                          <a:pt x="91" y="410"/>
                        </a:lnTo>
                        <a:lnTo>
                          <a:pt x="92" y="424"/>
                        </a:lnTo>
                        <a:lnTo>
                          <a:pt x="93" y="432"/>
                        </a:lnTo>
                        <a:lnTo>
                          <a:pt x="98" y="436"/>
                        </a:lnTo>
                        <a:lnTo>
                          <a:pt x="105" y="438"/>
                        </a:lnTo>
                        <a:lnTo>
                          <a:pt x="103" y="443"/>
                        </a:lnTo>
                        <a:lnTo>
                          <a:pt x="100" y="447"/>
                        </a:lnTo>
                        <a:lnTo>
                          <a:pt x="98" y="450"/>
                        </a:lnTo>
                        <a:lnTo>
                          <a:pt x="95" y="453"/>
                        </a:lnTo>
                        <a:lnTo>
                          <a:pt x="86" y="447"/>
                        </a:lnTo>
                        <a:lnTo>
                          <a:pt x="77" y="443"/>
                        </a:lnTo>
                        <a:lnTo>
                          <a:pt x="68" y="439"/>
                        </a:lnTo>
                        <a:lnTo>
                          <a:pt x="59" y="435"/>
                        </a:lnTo>
                        <a:lnTo>
                          <a:pt x="66" y="367"/>
                        </a:lnTo>
                        <a:lnTo>
                          <a:pt x="70" y="267"/>
                        </a:lnTo>
                        <a:lnTo>
                          <a:pt x="73" y="166"/>
                        </a:lnTo>
                        <a:lnTo>
                          <a:pt x="68" y="93"/>
                        </a:lnTo>
                        <a:lnTo>
                          <a:pt x="67" y="84"/>
                        </a:lnTo>
                        <a:lnTo>
                          <a:pt x="63" y="76"/>
                        </a:lnTo>
                        <a:lnTo>
                          <a:pt x="60" y="69"/>
                        </a:lnTo>
                        <a:lnTo>
                          <a:pt x="56" y="64"/>
                        </a:lnTo>
                        <a:lnTo>
                          <a:pt x="52" y="58"/>
                        </a:lnTo>
                        <a:lnTo>
                          <a:pt x="46" y="50"/>
                        </a:lnTo>
                        <a:lnTo>
                          <a:pt x="39" y="41"/>
                        </a:lnTo>
                        <a:lnTo>
                          <a:pt x="31" y="33"/>
                        </a:lnTo>
                        <a:lnTo>
                          <a:pt x="21" y="25"/>
                        </a:lnTo>
                        <a:lnTo>
                          <a:pt x="13" y="18"/>
                        </a:lnTo>
                        <a:lnTo>
                          <a:pt x="6" y="12"/>
                        </a:lnTo>
                        <a:lnTo>
                          <a:pt x="0" y="8"/>
                        </a:lnTo>
                        <a:lnTo>
                          <a:pt x="4" y="4"/>
                        </a:lnTo>
                        <a:lnTo>
                          <a:pt x="10" y="1"/>
                        </a:lnTo>
                        <a:lnTo>
                          <a:pt x="17" y="0"/>
                        </a:lnTo>
                        <a:lnTo>
                          <a:pt x="23" y="1"/>
                        </a:lnTo>
                        <a:lnTo>
                          <a:pt x="27" y="4"/>
                        </a:lnTo>
                        <a:lnTo>
                          <a:pt x="34" y="8"/>
                        </a:lnTo>
                        <a:lnTo>
                          <a:pt x="43" y="14"/>
                        </a:lnTo>
                        <a:lnTo>
                          <a:pt x="53" y="19"/>
                        </a:lnTo>
                        <a:lnTo>
                          <a:pt x="63" y="26"/>
                        </a:lnTo>
                        <a:lnTo>
                          <a:pt x="73" y="36"/>
                        </a:lnTo>
                        <a:lnTo>
                          <a:pt x="82" y="44"/>
                        </a:lnTo>
                        <a:lnTo>
                          <a:pt x="89" y="55"/>
                        </a:lnTo>
                        <a:lnTo>
                          <a:pt x="92" y="61"/>
                        </a:lnTo>
                        <a:lnTo>
                          <a:pt x="96" y="69"/>
                        </a:lnTo>
                        <a:lnTo>
                          <a:pt x="99" y="79"/>
                        </a:lnTo>
                        <a:lnTo>
                          <a:pt x="100" y="84"/>
                        </a:lnTo>
                        <a:close/>
                      </a:path>
                    </a:pathLst>
                  </a:custGeom>
                  <a:solidFill>
                    <a:srgbClr val="a5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072200" y="2881440"/>
                    <a:ext cx="106200" cy="233280"/>
                  </a:xfrm>
                  <a:custGeom>
                    <a:avLst/>
                    <a:gdLst/>
                    <a:ahLst/>
                    <a:rect l="l" t="t" r="r" b="b"/>
                    <a:pathLst>
                      <a:path w="200" h="441">
                        <a:moveTo>
                          <a:pt x="103" y="118"/>
                        </a:moveTo>
                        <a:lnTo>
                          <a:pt x="99" y="120"/>
                        </a:lnTo>
                        <a:lnTo>
                          <a:pt x="96" y="124"/>
                        </a:lnTo>
                        <a:lnTo>
                          <a:pt x="93" y="129"/>
                        </a:lnTo>
                        <a:lnTo>
                          <a:pt x="92" y="136"/>
                        </a:lnTo>
                        <a:lnTo>
                          <a:pt x="92" y="174"/>
                        </a:lnTo>
                        <a:lnTo>
                          <a:pt x="92" y="250"/>
                        </a:lnTo>
                        <a:lnTo>
                          <a:pt x="92" y="327"/>
                        </a:lnTo>
                        <a:lnTo>
                          <a:pt x="92" y="368"/>
                        </a:lnTo>
                        <a:lnTo>
                          <a:pt x="92" y="384"/>
                        </a:lnTo>
                        <a:lnTo>
                          <a:pt x="90" y="403"/>
                        </a:lnTo>
                        <a:lnTo>
                          <a:pt x="89" y="423"/>
                        </a:lnTo>
                        <a:lnTo>
                          <a:pt x="89" y="435"/>
                        </a:lnTo>
                        <a:lnTo>
                          <a:pt x="83" y="437"/>
                        </a:lnTo>
                        <a:lnTo>
                          <a:pt x="78" y="438"/>
                        </a:lnTo>
                        <a:lnTo>
                          <a:pt x="72" y="439"/>
                        </a:lnTo>
                        <a:lnTo>
                          <a:pt x="67" y="441"/>
                        </a:lnTo>
                        <a:lnTo>
                          <a:pt x="67" y="371"/>
                        </a:lnTo>
                        <a:lnTo>
                          <a:pt x="65" y="260"/>
                        </a:lnTo>
                        <a:lnTo>
                          <a:pt x="65" y="150"/>
                        </a:lnTo>
                        <a:lnTo>
                          <a:pt x="75" y="84"/>
                        </a:lnTo>
                        <a:lnTo>
                          <a:pt x="67" y="81"/>
                        </a:lnTo>
                        <a:lnTo>
                          <a:pt x="57" y="78"/>
                        </a:lnTo>
                        <a:lnTo>
                          <a:pt x="47" y="74"/>
                        </a:lnTo>
                        <a:lnTo>
                          <a:pt x="37" y="68"/>
                        </a:lnTo>
                        <a:lnTo>
                          <a:pt x="26" y="63"/>
                        </a:lnTo>
                        <a:lnTo>
                          <a:pt x="16" y="57"/>
                        </a:lnTo>
                        <a:lnTo>
                          <a:pt x="7" y="49"/>
                        </a:lnTo>
                        <a:lnTo>
                          <a:pt x="0" y="42"/>
                        </a:lnTo>
                        <a:lnTo>
                          <a:pt x="5" y="31"/>
                        </a:lnTo>
                        <a:lnTo>
                          <a:pt x="11" y="21"/>
                        </a:lnTo>
                        <a:lnTo>
                          <a:pt x="19" y="10"/>
                        </a:lnTo>
                        <a:lnTo>
                          <a:pt x="29" y="0"/>
                        </a:lnTo>
                        <a:lnTo>
                          <a:pt x="42" y="14"/>
                        </a:lnTo>
                        <a:lnTo>
                          <a:pt x="57" y="28"/>
                        </a:lnTo>
                        <a:lnTo>
                          <a:pt x="75" y="40"/>
                        </a:lnTo>
                        <a:lnTo>
                          <a:pt x="94" y="52"/>
                        </a:lnTo>
                        <a:lnTo>
                          <a:pt x="114" y="63"/>
                        </a:lnTo>
                        <a:lnTo>
                          <a:pt x="133" y="71"/>
                        </a:lnTo>
                        <a:lnTo>
                          <a:pt x="151" y="77"/>
                        </a:lnTo>
                        <a:lnTo>
                          <a:pt x="168" y="79"/>
                        </a:lnTo>
                        <a:lnTo>
                          <a:pt x="182" y="82"/>
                        </a:lnTo>
                        <a:lnTo>
                          <a:pt x="193" y="85"/>
                        </a:lnTo>
                        <a:lnTo>
                          <a:pt x="199" y="89"/>
                        </a:lnTo>
                        <a:lnTo>
                          <a:pt x="200" y="93"/>
                        </a:lnTo>
                        <a:lnTo>
                          <a:pt x="194" y="99"/>
                        </a:lnTo>
                        <a:lnTo>
                          <a:pt x="186" y="103"/>
                        </a:lnTo>
                        <a:lnTo>
                          <a:pt x="174" y="104"/>
                        </a:lnTo>
                        <a:lnTo>
                          <a:pt x="160" y="104"/>
                        </a:lnTo>
                        <a:lnTo>
                          <a:pt x="146" y="103"/>
                        </a:lnTo>
                        <a:lnTo>
                          <a:pt x="130" y="102"/>
                        </a:lnTo>
                        <a:lnTo>
                          <a:pt x="118" y="99"/>
                        </a:lnTo>
                        <a:lnTo>
                          <a:pt x="107" y="96"/>
                        </a:lnTo>
                        <a:lnTo>
                          <a:pt x="107" y="102"/>
                        </a:lnTo>
                        <a:lnTo>
                          <a:pt x="105" y="107"/>
                        </a:lnTo>
                        <a:lnTo>
                          <a:pt x="104" y="113"/>
                        </a:lnTo>
                        <a:lnTo>
                          <a:pt x="103" y="118"/>
                        </a:lnTo>
                        <a:close/>
                      </a:path>
                    </a:pathLst>
                  </a:custGeom>
                  <a:solidFill>
                    <a:srgbClr val="a5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130880" y="3121200"/>
                    <a:ext cx="177840" cy="69840"/>
                  </a:xfrm>
                  <a:custGeom>
                    <a:avLst/>
                    <a:gdLst/>
                    <a:ahLst/>
                    <a:rect l="l" t="t" r="r" b="b"/>
                    <a:pathLst>
                      <a:path w="336" h="131">
                        <a:moveTo>
                          <a:pt x="336" y="102"/>
                        </a:moveTo>
                        <a:lnTo>
                          <a:pt x="308" y="86"/>
                        </a:lnTo>
                        <a:lnTo>
                          <a:pt x="282" y="70"/>
                        </a:lnTo>
                        <a:lnTo>
                          <a:pt x="258" y="53"/>
                        </a:lnTo>
                        <a:lnTo>
                          <a:pt x="237" y="36"/>
                        </a:lnTo>
                        <a:lnTo>
                          <a:pt x="217" y="23"/>
                        </a:lnTo>
                        <a:lnTo>
                          <a:pt x="198" y="10"/>
                        </a:lnTo>
                        <a:lnTo>
                          <a:pt x="182" y="3"/>
                        </a:lnTo>
                        <a:lnTo>
                          <a:pt x="167" y="0"/>
                        </a:lnTo>
                        <a:lnTo>
                          <a:pt x="148" y="4"/>
                        </a:lnTo>
                        <a:lnTo>
                          <a:pt x="125" y="14"/>
                        </a:lnTo>
                        <a:lnTo>
                          <a:pt x="97" y="29"/>
                        </a:lnTo>
                        <a:lnTo>
                          <a:pt x="69" y="46"/>
                        </a:lnTo>
                        <a:lnTo>
                          <a:pt x="43" y="63"/>
                        </a:lnTo>
                        <a:lnTo>
                          <a:pt x="20" y="78"/>
                        </a:lnTo>
                        <a:lnTo>
                          <a:pt x="5" y="88"/>
                        </a:lnTo>
                        <a:lnTo>
                          <a:pt x="0" y="92"/>
                        </a:lnTo>
                        <a:lnTo>
                          <a:pt x="18" y="99"/>
                        </a:lnTo>
                        <a:lnTo>
                          <a:pt x="37" y="106"/>
                        </a:lnTo>
                        <a:lnTo>
                          <a:pt x="58" y="111"/>
                        </a:lnTo>
                        <a:lnTo>
                          <a:pt x="80" y="117"/>
                        </a:lnTo>
                        <a:lnTo>
                          <a:pt x="103" y="121"/>
                        </a:lnTo>
                        <a:lnTo>
                          <a:pt x="125" y="125"/>
                        </a:lnTo>
                        <a:lnTo>
                          <a:pt x="148" y="128"/>
                        </a:lnTo>
                        <a:lnTo>
                          <a:pt x="171" y="130"/>
                        </a:lnTo>
                        <a:lnTo>
                          <a:pt x="194" y="131"/>
                        </a:lnTo>
                        <a:lnTo>
                          <a:pt x="217" y="131"/>
                        </a:lnTo>
                        <a:lnTo>
                          <a:pt x="239" y="130"/>
                        </a:lnTo>
                        <a:lnTo>
                          <a:pt x="261" y="127"/>
                        </a:lnTo>
                        <a:lnTo>
                          <a:pt x="281" y="123"/>
                        </a:lnTo>
                        <a:lnTo>
                          <a:pt x="301" y="117"/>
                        </a:lnTo>
                        <a:lnTo>
                          <a:pt x="319" y="110"/>
                        </a:lnTo>
                        <a:lnTo>
                          <a:pt x="336" y="102"/>
                        </a:lnTo>
                        <a:close/>
                      </a:path>
                    </a:pathLst>
                  </a:custGeom>
                  <a:solidFill>
                    <a:srgbClr val="a5d8d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24" name=""/>
                  <p:cNvSpPr/>
                  <p:nvPr/>
                </p:nvSpPr>
                <p:spPr>
                  <a:xfrm>
                    <a:off x="7119720" y="2789280"/>
                    <a:ext cx="104760" cy="30240"/>
                  </a:xfrm>
                  <a:custGeom>
                    <a:avLst/>
                    <a:gdLst/>
                    <a:ahLst/>
                    <a:rect l="l" t="t" r="r" b="b"/>
                    <a:pathLst>
                      <a:path w="200" h="57">
                        <a:moveTo>
                          <a:pt x="194" y="31"/>
                        </a:moveTo>
                        <a:lnTo>
                          <a:pt x="168" y="31"/>
                        </a:lnTo>
                        <a:lnTo>
                          <a:pt x="142" y="32"/>
                        </a:lnTo>
                        <a:lnTo>
                          <a:pt x="117" y="35"/>
                        </a:lnTo>
                        <a:lnTo>
                          <a:pt x="94" y="39"/>
                        </a:lnTo>
                        <a:lnTo>
                          <a:pt x="73" y="43"/>
                        </a:lnTo>
                        <a:lnTo>
                          <a:pt x="57" y="49"/>
                        </a:lnTo>
                        <a:lnTo>
                          <a:pt x="44" y="53"/>
                        </a:lnTo>
                        <a:lnTo>
                          <a:pt x="36" y="57"/>
                        </a:lnTo>
                        <a:lnTo>
                          <a:pt x="26" y="55"/>
                        </a:lnTo>
                        <a:lnTo>
                          <a:pt x="15" y="49"/>
                        </a:lnTo>
                        <a:lnTo>
                          <a:pt x="5" y="43"/>
                        </a:lnTo>
                        <a:lnTo>
                          <a:pt x="0" y="39"/>
                        </a:lnTo>
                        <a:lnTo>
                          <a:pt x="16" y="28"/>
                        </a:lnTo>
                        <a:lnTo>
                          <a:pt x="37" y="18"/>
                        </a:lnTo>
                        <a:lnTo>
                          <a:pt x="61" y="12"/>
                        </a:lnTo>
                        <a:lnTo>
                          <a:pt x="86" y="6"/>
                        </a:lnTo>
                        <a:lnTo>
                          <a:pt x="114" y="3"/>
                        </a:lnTo>
                        <a:lnTo>
                          <a:pt x="142" y="2"/>
                        </a:lnTo>
                        <a:lnTo>
                          <a:pt x="171" y="0"/>
                        </a:lnTo>
                        <a:lnTo>
                          <a:pt x="200" y="2"/>
                        </a:lnTo>
                        <a:lnTo>
                          <a:pt x="194" y="31"/>
                        </a:lnTo>
                        <a:close/>
                      </a:path>
                    </a:pathLst>
                  </a:custGeom>
                  <a:solidFill>
                    <a:srgbClr val="a5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5" name=""/>
                  <p:cNvSpPr/>
                  <p:nvPr/>
                </p:nvSpPr>
                <p:spPr>
                  <a:xfrm>
                    <a:off x="7029360" y="2771640"/>
                    <a:ext cx="353880" cy="447840"/>
                  </a:xfrm>
                  <a:custGeom>
                    <a:avLst/>
                    <a:gdLst/>
                    <a:ahLst/>
                    <a:rect l="l" t="t" r="r" b="b"/>
                    <a:pathLst>
                      <a:path w="669" h="846">
                        <a:moveTo>
                          <a:pt x="522" y="159"/>
                        </a:moveTo>
                        <a:lnTo>
                          <a:pt x="491" y="169"/>
                        </a:lnTo>
                        <a:lnTo>
                          <a:pt x="462" y="176"/>
                        </a:lnTo>
                        <a:lnTo>
                          <a:pt x="434" y="182"/>
                        </a:lnTo>
                        <a:lnTo>
                          <a:pt x="406" y="186"/>
                        </a:lnTo>
                        <a:lnTo>
                          <a:pt x="380" y="187"/>
                        </a:lnTo>
                        <a:lnTo>
                          <a:pt x="353" y="187"/>
                        </a:lnTo>
                        <a:lnTo>
                          <a:pt x="330" y="187"/>
                        </a:lnTo>
                        <a:lnTo>
                          <a:pt x="306" y="184"/>
                        </a:lnTo>
                        <a:lnTo>
                          <a:pt x="284" y="180"/>
                        </a:lnTo>
                        <a:lnTo>
                          <a:pt x="263" y="176"/>
                        </a:lnTo>
                        <a:lnTo>
                          <a:pt x="243" y="172"/>
                        </a:lnTo>
                        <a:lnTo>
                          <a:pt x="225" y="166"/>
                        </a:lnTo>
                        <a:lnTo>
                          <a:pt x="209" y="159"/>
                        </a:lnTo>
                        <a:lnTo>
                          <a:pt x="193" y="154"/>
                        </a:lnTo>
                        <a:lnTo>
                          <a:pt x="180" y="147"/>
                        </a:lnTo>
                        <a:lnTo>
                          <a:pt x="168" y="141"/>
                        </a:lnTo>
                        <a:lnTo>
                          <a:pt x="163" y="133"/>
                        </a:lnTo>
                        <a:lnTo>
                          <a:pt x="159" y="122"/>
                        </a:lnTo>
                        <a:lnTo>
                          <a:pt x="156" y="111"/>
                        </a:lnTo>
                        <a:lnTo>
                          <a:pt x="157" y="98"/>
                        </a:lnTo>
                        <a:lnTo>
                          <a:pt x="173" y="107"/>
                        </a:lnTo>
                        <a:lnTo>
                          <a:pt x="191" y="115"/>
                        </a:lnTo>
                        <a:lnTo>
                          <a:pt x="210" y="123"/>
                        </a:lnTo>
                        <a:lnTo>
                          <a:pt x="231" y="132"/>
                        </a:lnTo>
                        <a:lnTo>
                          <a:pt x="252" y="139"/>
                        </a:lnTo>
                        <a:lnTo>
                          <a:pt x="275" y="144"/>
                        </a:lnTo>
                        <a:lnTo>
                          <a:pt x="299" y="150"/>
                        </a:lnTo>
                        <a:lnTo>
                          <a:pt x="324" y="154"/>
                        </a:lnTo>
                        <a:lnTo>
                          <a:pt x="349" y="155"/>
                        </a:lnTo>
                        <a:lnTo>
                          <a:pt x="374" y="157"/>
                        </a:lnTo>
                        <a:lnTo>
                          <a:pt x="401" y="155"/>
                        </a:lnTo>
                        <a:lnTo>
                          <a:pt x="427" y="153"/>
                        </a:lnTo>
                        <a:lnTo>
                          <a:pt x="452" y="147"/>
                        </a:lnTo>
                        <a:lnTo>
                          <a:pt x="477" y="139"/>
                        </a:lnTo>
                        <a:lnTo>
                          <a:pt x="502" y="129"/>
                        </a:lnTo>
                        <a:lnTo>
                          <a:pt x="527" y="115"/>
                        </a:lnTo>
                        <a:lnTo>
                          <a:pt x="530" y="80"/>
                        </a:lnTo>
                        <a:lnTo>
                          <a:pt x="523" y="86"/>
                        </a:lnTo>
                        <a:lnTo>
                          <a:pt x="512" y="90"/>
                        </a:lnTo>
                        <a:lnTo>
                          <a:pt x="499" y="94"/>
                        </a:lnTo>
                        <a:lnTo>
                          <a:pt x="490" y="97"/>
                        </a:lnTo>
                        <a:lnTo>
                          <a:pt x="458" y="105"/>
                        </a:lnTo>
                        <a:lnTo>
                          <a:pt x="437" y="111"/>
                        </a:lnTo>
                        <a:lnTo>
                          <a:pt x="415" y="115"/>
                        </a:lnTo>
                        <a:lnTo>
                          <a:pt x="389" y="118"/>
                        </a:lnTo>
                        <a:lnTo>
                          <a:pt x="364" y="118"/>
                        </a:lnTo>
                        <a:lnTo>
                          <a:pt x="338" y="118"/>
                        </a:lnTo>
                        <a:lnTo>
                          <a:pt x="314" y="115"/>
                        </a:lnTo>
                        <a:lnTo>
                          <a:pt x="291" y="111"/>
                        </a:lnTo>
                        <a:lnTo>
                          <a:pt x="269" y="105"/>
                        </a:lnTo>
                        <a:lnTo>
                          <a:pt x="281" y="100"/>
                        </a:lnTo>
                        <a:lnTo>
                          <a:pt x="300" y="96"/>
                        </a:lnTo>
                        <a:lnTo>
                          <a:pt x="326" y="93"/>
                        </a:lnTo>
                        <a:lnTo>
                          <a:pt x="353" y="91"/>
                        </a:lnTo>
                        <a:lnTo>
                          <a:pt x="383" y="93"/>
                        </a:lnTo>
                        <a:lnTo>
                          <a:pt x="412" y="94"/>
                        </a:lnTo>
                        <a:lnTo>
                          <a:pt x="437" y="98"/>
                        </a:lnTo>
                        <a:lnTo>
                          <a:pt x="458" y="105"/>
                        </a:lnTo>
                        <a:lnTo>
                          <a:pt x="490" y="97"/>
                        </a:lnTo>
                        <a:lnTo>
                          <a:pt x="476" y="89"/>
                        </a:lnTo>
                        <a:lnTo>
                          <a:pt x="462" y="83"/>
                        </a:lnTo>
                        <a:lnTo>
                          <a:pt x="446" y="77"/>
                        </a:lnTo>
                        <a:lnTo>
                          <a:pt x="431" y="73"/>
                        </a:lnTo>
                        <a:lnTo>
                          <a:pt x="415" y="69"/>
                        </a:lnTo>
                        <a:lnTo>
                          <a:pt x="398" y="68"/>
                        </a:lnTo>
                        <a:lnTo>
                          <a:pt x="381" y="66"/>
                        </a:lnTo>
                        <a:lnTo>
                          <a:pt x="364" y="65"/>
                        </a:lnTo>
                        <a:lnTo>
                          <a:pt x="370" y="36"/>
                        </a:lnTo>
                        <a:lnTo>
                          <a:pt x="396" y="39"/>
                        </a:lnTo>
                        <a:lnTo>
                          <a:pt x="421" y="41"/>
                        </a:lnTo>
                        <a:lnTo>
                          <a:pt x="445" y="46"/>
                        </a:lnTo>
                        <a:lnTo>
                          <a:pt x="467" y="51"/>
                        </a:lnTo>
                        <a:lnTo>
                          <a:pt x="488" y="58"/>
                        </a:lnTo>
                        <a:lnTo>
                          <a:pt x="505" y="65"/>
                        </a:lnTo>
                        <a:lnTo>
                          <a:pt x="519" y="72"/>
                        </a:lnTo>
                        <a:lnTo>
                          <a:pt x="530" y="80"/>
                        </a:lnTo>
                        <a:lnTo>
                          <a:pt x="527" y="115"/>
                        </a:lnTo>
                        <a:lnTo>
                          <a:pt x="530" y="125"/>
                        </a:lnTo>
                        <a:lnTo>
                          <a:pt x="530" y="137"/>
                        </a:lnTo>
                        <a:lnTo>
                          <a:pt x="527" y="150"/>
                        </a:lnTo>
                        <a:lnTo>
                          <a:pt x="522" y="159"/>
                        </a:lnTo>
                        <a:lnTo>
                          <a:pt x="559" y="178"/>
                        </a:lnTo>
                        <a:lnTo>
                          <a:pt x="579" y="154"/>
                        </a:lnTo>
                        <a:lnTo>
                          <a:pt x="586" y="129"/>
                        </a:lnTo>
                        <a:lnTo>
                          <a:pt x="584" y="104"/>
                        </a:lnTo>
                        <a:lnTo>
                          <a:pt x="574" y="80"/>
                        </a:lnTo>
                        <a:lnTo>
                          <a:pt x="565" y="66"/>
                        </a:lnTo>
                        <a:lnTo>
                          <a:pt x="551" y="55"/>
                        </a:lnTo>
                        <a:lnTo>
                          <a:pt x="533" y="43"/>
                        </a:lnTo>
                        <a:lnTo>
                          <a:pt x="510" y="33"/>
                        </a:lnTo>
                        <a:lnTo>
                          <a:pt x="484" y="23"/>
                        </a:lnTo>
                        <a:lnTo>
                          <a:pt x="452" y="15"/>
                        </a:lnTo>
                        <a:lnTo>
                          <a:pt x="416" y="8"/>
                        </a:lnTo>
                        <a:lnTo>
                          <a:pt x="376" y="2"/>
                        </a:lnTo>
                        <a:lnTo>
                          <a:pt x="355" y="1"/>
                        </a:lnTo>
                        <a:lnTo>
                          <a:pt x="335" y="0"/>
                        </a:lnTo>
                        <a:lnTo>
                          <a:pt x="316" y="0"/>
                        </a:lnTo>
                        <a:lnTo>
                          <a:pt x="296" y="0"/>
                        </a:lnTo>
                        <a:lnTo>
                          <a:pt x="278" y="1"/>
                        </a:lnTo>
                        <a:lnTo>
                          <a:pt x="260" y="4"/>
                        </a:lnTo>
                        <a:lnTo>
                          <a:pt x="243" y="7"/>
                        </a:lnTo>
                        <a:lnTo>
                          <a:pt x="227" y="9"/>
                        </a:lnTo>
                        <a:lnTo>
                          <a:pt x="211" y="14"/>
                        </a:lnTo>
                        <a:lnTo>
                          <a:pt x="198" y="18"/>
                        </a:lnTo>
                        <a:lnTo>
                          <a:pt x="184" y="22"/>
                        </a:lnTo>
                        <a:lnTo>
                          <a:pt x="173" y="26"/>
                        </a:lnTo>
                        <a:lnTo>
                          <a:pt x="161" y="32"/>
                        </a:lnTo>
                        <a:lnTo>
                          <a:pt x="152" y="37"/>
                        </a:lnTo>
                        <a:lnTo>
                          <a:pt x="145" y="43"/>
                        </a:lnTo>
                        <a:lnTo>
                          <a:pt x="138" y="48"/>
                        </a:lnTo>
                        <a:lnTo>
                          <a:pt x="123" y="71"/>
                        </a:lnTo>
                        <a:lnTo>
                          <a:pt x="113" y="98"/>
                        </a:lnTo>
                        <a:lnTo>
                          <a:pt x="111" y="128"/>
                        </a:lnTo>
                        <a:lnTo>
                          <a:pt x="121" y="151"/>
                        </a:lnTo>
                        <a:lnTo>
                          <a:pt x="148" y="183"/>
                        </a:lnTo>
                        <a:lnTo>
                          <a:pt x="167" y="193"/>
                        </a:lnTo>
                        <a:lnTo>
                          <a:pt x="189" y="201"/>
                        </a:lnTo>
                        <a:lnTo>
                          <a:pt x="213" y="208"/>
                        </a:lnTo>
                        <a:lnTo>
                          <a:pt x="239" y="215"/>
                        </a:lnTo>
                        <a:lnTo>
                          <a:pt x="266" y="219"/>
                        </a:lnTo>
                        <a:lnTo>
                          <a:pt x="294" y="223"/>
                        </a:lnTo>
                        <a:lnTo>
                          <a:pt x="323" y="228"/>
                        </a:lnTo>
                        <a:lnTo>
                          <a:pt x="351" y="229"/>
                        </a:lnTo>
                        <a:lnTo>
                          <a:pt x="380" y="229"/>
                        </a:lnTo>
                        <a:lnTo>
                          <a:pt x="406" y="229"/>
                        </a:lnTo>
                        <a:lnTo>
                          <a:pt x="433" y="228"/>
                        </a:lnTo>
                        <a:lnTo>
                          <a:pt x="458" y="226"/>
                        </a:lnTo>
                        <a:lnTo>
                          <a:pt x="481" y="222"/>
                        </a:lnTo>
                        <a:lnTo>
                          <a:pt x="501" y="218"/>
                        </a:lnTo>
                        <a:lnTo>
                          <a:pt x="519" y="214"/>
                        </a:lnTo>
                        <a:lnTo>
                          <a:pt x="533" y="207"/>
                        </a:lnTo>
                        <a:lnTo>
                          <a:pt x="545" y="215"/>
                        </a:lnTo>
                        <a:lnTo>
                          <a:pt x="559" y="225"/>
                        </a:lnTo>
                        <a:lnTo>
                          <a:pt x="573" y="239"/>
                        </a:lnTo>
                        <a:lnTo>
                          <a:pt x="586" y="254"/>
                        </a:lnTo>
                        <a:lnTo>
                          <a:pt x="598" y="273"/>
                        </a:lnTo>
                        <a:lnTo>
                          <a:pt x="608" y="294"/>
                        </a:lnTo>
                        <a:lnTo>
                          <a:pt x="613" y="318"/>
                        </a:lnTo>
                        <a:lnTo>
                          <a:pt x="616" y="344"/>
                        </a:lnTo>
                        <a:lnTo>
                          <a:pt x="616" y="432"/>
                        </a:lnTo>
                        <a:lnTo>
                          <a:pt x="615" y="553"/>
                        </a:lnTo>
                        <a:lnTo>
                          <a:pt x="608" y="667"/>
                        </a:lnTo>
                        <a:lnTo>
                          <a:pt x="593" y="729"/>
                        </a:lnTo>
                        <a:lnTo>
                          <a:pt x="587" y="725"/>
                        </a:lnTo>
                        <a:lnTo>
                          <a:pt x="581" y="721"/>
                        </a:lnTo>
                        <a:lnTo>
                          <a:pt x="574" y="717"/>
                        </a:lnTo>
                        <a:lnTo>
                          <a:pt x="569" y="714"/>
                        </a:lnTo>
                        <a:lnTo>
                          <a:pt x="562" y="710"/>
                        </a:lnTo>
                        <a:lnTo>
                          <a:pt x="556" y="706"/>
                        </a:lnTo>
                        <a:lnTo>
                          <a:pt x="549" y="703"/>
                        </a:lnTo>
                        <a:lnTo>
                          <a:pt x="544" y="699"/>
                        </a:lnTo>
                        <a:lnTo>
                          <a:pt x="535" y="693"/>
                        </a:lnTo>
                        <a:lnTo>
                          <a:pt x="526" y="689"/>
                        </a:lnTo>
                        <a:lnTo>
                          <a:pt x="517" y="685"/>
                        </a:lnTo>
                        <a:lnTo>
                          <a:pt x="508" y="681"/>
                        </a:lnTo>
                        <a:lnTo>
                          <a:pt x="495" y="675"/>
                        </a:lnTo>
                        <a:lnTo>
                          <a:pt x="484" y="670"/>
                        </a:lnTo>
                        <a:lnTo>
                          <a:pt x="472" y="665"/>
                        </a:lnTo>
                        <a:lnTo>
                          <a:pt x="459" y="661"/>
                        </a:lnTo>
                        <a:lnTo>
                          <a:pt x="448" y="658"/>
                        </a:lnTo>
                        <a:lnTo>
                          <a:pt x="437" y="656"/>
                        </a:lnTo>
                        <a:lnTo>
                          <a:pt x="426" y="653"/>
                        </a:lnTo>
                        <a:lnTo>
                          <a:pt x="415" y="652"/>
                        </a:lnTo>
                        <a:lnTo>
                          <a:pt x="403" y="650"/>
                        </a:lnTo>
                        <a:lnTo>
                          <a:pt x="392" y="649"/>
                        </a:lnTo>
                        <a:lnTo>
                          <a:pt x="384" y="649"/>
                        </a:lnTo>
                        <a:lnTo>
                          <a:pt x="376" y="650"/>
                        </a:lnTo>
                        <a:lnTo>
                          <a:pt x="369" y="652"/>
                        </a:lnTo>
                        <a:lnTo>
                          <a:pt x="363" y="654"/>
                        </a:lnTo>
                        <a:lnTo>
                          <a:pt x="360" y="657"/>
                        </a:lnTo>
                        <a:lnTo>
                          <a:pt x="358" y="661"/>
                        </a:lnTo>
                        <a:lnTo>
                          <a:pt x="358" y="665"/>
                        </a:lnTo>
                        <a:lnTo>
                          <a:pt x="360" y="668"/>
                        </a:lnTo>
                        <a:lnTo>
                          <a:pt x="366" y="671"/>
                        </a:lnTo>
                        <a:lnTo>
                          <a:pt x="371" y="674"/>
                        </a:lnTo>
                        <a:lnTo>
                          <a:pt x="380" y="675"/>
                        </a:lnTo>
                        <a:lnTo>
                          <a:pt x="388" y="677"/>
                        </a:lnTo>
                        <a:lnTo>
                          <a:pt x="398" y="678"/>
                        </a:lnTo>
                        <a:lnTo>
                          <a:pt x="406" y="678"/>
                        </a:lnTo>
                        <a:lnTo>
                          <a:pt x="417" y="681"/>
                        </a:lnTo>
                        <a:lnTo>
                          <a:pt x="434" y="685"/>
                        </a:lnTo>
                        <a:lnTo>
                          <a:pt x="453" y="690"/>
                        </a:lnTo>
                        <a:lnTo>
                          <a:pt x="474" y="700"/>
                        </a:lnTo>
                        <a:lnTo>
                          <a:pt x="497" y="710"/>
                        </a:lnTo>
                        <a:lnTo>
                          <a:pt x="519" y="722"/>
                        </a:lnTo>
                        <a:lnTo>
                          <a:pt x="538" y="736"/>
                        </a:lnTo>
                        <a:lnTo>
                          <a:pt x="555" y="752"/>
                        </a:lnTo>
                        <a:lnTo>
                          <a:pt x="519" y="768"/>
                        </a:lnTo>
                        <a:lnTo>
                          <a:pt x="483" y="781"/>
                        </a:lnTo>
                        <a:lnTo>
                          <a:pt x="448" y="791"/>
                        </a:lnTo>
                        <a:lnTo>
                          <a:pt x="413" y="797"/>
                        </a:lnTo>
                        <a:lnTo>
                          <a:pt x="378" y="800"/>
                        </a:lnTo>
                        <a:lnTo>
                          <a:pt x="345" y="802"/>
                        </a:lnTo>
                        <a:lnTo>
                          <a:pt x="313" y="800"/>
                        </a:lnTo>
                        <a:lnTo>
                          <a:pt x="282" y="797"/>
                        </a:lnTo>
                        <a:lnTo>
                          <a:pt x="252" y="793"/>
                        </a:lnTo>
                        <a:lnTo>
                          <a:pt x="224" y="788"/>
                        </a:lnTo>
                        <a:lnTo>
                          <a:pt x="198" y="779"/>
                        </a:lnTo>
                        <a:lnTo>
                          <a:pt x="173" y="771"/>
                        </a:lnTo>
                        <a:lnTo>
                          <a:pt x="150" y="763"/>
                        </a:lnTo>
                        <a:lnTo>
                          <a:pt x="129" y="753"/>
                        </a:lnTo>
                        <a:lnTo>
                          <a:pt x="111" y="745"/>
                        </a:lnTo>
                        <a:lnTo>
                          <a:pt x="96" y="735"/>
                        </a:lnTo>
                        <a:lnTo>
                          <a:pt x="81" y="725"/>
                        </a:lnTo>
                        <a:lnTo>
                          <a:pt x="71" y="715"/>
                        </a:lnTo>
                        <a:lnTo>
                          <a:pt x="64" y="707"/>
                        </a:lnTo>
                        <a:lnTo>
                          <a:pt x="61" y="702"/>
                        </a:lnTo>
                        <a:lnTo>
                          <a:pt x="60" y="689"/>
                        </a:lnTo>
                        <a:lnTo>
                          <a:pt x="60" y="668"/>
                        </a:lnTo>
                        <a:lnTo>
                          <a:pt x="60" y="643"/>
                        </a:lnTo>
                        <a:lnTo>
                          <a:pt x="60" y="613"/>
                        </a:lnTo>
                        <a:lnTo>
                          <a:pt x="60" y="600"/>
                        </a:lnTo>
                        <a:lnTo>
                          <a:pt x="60" y="588"/>
                        </a:lnTo>
                        <a:lnTo>
                          <a:pt x="60" y="575"/>
                        </a:lnTo>
                        <a:lnTo>
                          <a:pt x="60" y="561"/>
                        </a:lnTo>
                        <a:lnTo>
                          <a:pt x="63" y="475"/>
                        </a:lnTo>
                        <a:lnTo>
                          <a:pt x="65" y="393"/>
                        </a:lnTo>
                        <a:lnTo>
                          <a:pt x="67" y="328"/>
                        </a:lnTo>
                        <a:lnTo>
                          <a:pt x="70" y="294"/>
                        </a:lnTo>
                        <a:lnTo>
                          <a:pt x="71" y="285"/>
                        </a:lnTo>
                        <a:lnTo>
                          <a:pt x="74" y="273"/>
                        </a:lnTo>
                        <a:lnTo>
                          <a:pt x="77" y="262"/>
                        </a:lnTo>
                        <a:lnTo>
                          <a:pt x="81" y="250"/>
                        </a:lnTo>
                        <a:lnTo>
                          <a:pt x="86" y="239"/>
                        </a:lnTo>
                        <a:lnTo>
                          <a:pt x="92" y="229"/>
                        </a:lnTo>
                        <a:lnTo>
                          <a:pt x="100" y="218"/>
                        </a:lnTo>
                        <a:lnTo>
                          <a:pt x="110" y="208"/>
                        </a:lnTo>
                        <a:lnTo>
                          <a:pt x="118" y="201"/>
                        </a:lnTo>
                        <a:lnTo>
                          <a:pt x="127" y="194"/>
                        </a:lnTo>
                        <a:lnTo>
                          <a:pt x="136" y="189"/>
                        </a:lnTo>
                        <a:lnTo>
                          <a:pt x="148" y="183"/>
                        </a:lnTo>
                        <a:lnTo>
                          <a:pt x="121" y="151"/>
                        </a:lnTo>
                        <a:lnTo>
                          <a:pt x="86" y="171"/>
                        </a:lnTo>
                        <a:lnTo>
                          <a:pt x="60" y="190"/>
                        </a:lnTo>
                        <a:lnTo>
                          <a:pt x="40" y="210"/>
                        </a:lnTo>
                        <a:lnTo>
                          <a:pt x="27" y="229"/>
                        </a:lnTo>
                        <a:lnTo>
                          <a:pt x="17" y="248"/>
                        </a:lnTo>
                        <a:lnTo>
                          <a:pt x="11" y="267"/>
                        </a:lnTo>
                        <a:lnTo>
                          <a:pt x="7" y="285"/>
                        </a:lnTo>
                        <a:lnTo>
                          <a:pt x="6" y="300"/>
                        </a:lnTo>
                        <a:lnTo>
                          <a:pt x="4" y="358"/>
                        </a:lnTo>
                        <a:lnTo>
                          <a:pt x="3" y="456"/>
                        </a:lnTo>
                        <a:lnTo>
                          <a:pt x="2" y="563"/>
                        </a:lnTo>
                        <a:lnTo>
                          <a:pt x="0" y="649"/>
                        </a:lnTo>
                        <a:lnTo>
                          <a:pt x="2" y="679"/>
                        </a:lnTo>
                        <a:lnTo>
                          <a:pt x="7" y="704"/>
                        </a:lnTo>
                        <a:lnTo>
                          <a:pt x="17" y="725"/>
                        </a:lnTo>
                        <a:lnTo>
                          <a:pt x="29" y="742"/>
                        </a:lnTo>
                        <a:lnTo>
                          <a:pt x="43" y="757"/>
                        </a:lnTo>
                        <a:lnTo>
                          <a:pt x="60" y="770"/>
                        </a:lnTo>
                        <a:lnTo>
                          <a:pt x="78" y="779"/>
                        </a:lnTo>
                        <a:lnTo>
                          <a:pt x="96" y="791"/>
                        </a:lnTo>
                        <a:lnTo>
                          <a:pt x="111" y="797"/>
                        </a:lnTo>
                        <a:lnTo>
                          <a:pt x="128" y="806"/>
                        </a:lnTo>
                        <a:lnTo>
                          <a:pt x="148" y="813"/>
                        </a:lnTo>
                        <a:lnTo>
                          <a:pt x="170" y="821"/>
                        </a:lnTo>
                        <a:lnTo>
                          <a:pt x="193" y="827"/>
                        </a:lnTo>
                        <a:lnTo>
                          <a:pt x="218" y="834"/>
                        </a:lnTo>
                        <a:lnTo>
                          <a:pt x="245" y="838"/>
                        </a:lnTo>
                        <a:lnTo>
                          <a:pt x="274" y="842"/>
                        </a:lnTo>
                        <a:lnTo>
                          <a:pt x="303" y="845"/>
                        </a:lnTo>
                        <a:lnTo>
                          <a:pt x="335" y="846"/>
                        </a:lnTo>
                        <a:lnTo>
                          <a:pt x="367" y="846"/>
                        </a:lnTo>
                        <a:lnTo>
                          <a:pt x="401" y="843"/>
                        </a:lnTo>
                        <a:lnTo>
                          <a:pt x="434" y="839"/>
                        </a:lnTo>
                        <a:lnTo>
                          <a:pt x="469" y="832"/>
                        </a:lnTo>
                        <a:lnTo>
                          <a:pt x="504" y="823"/>
                        </a:lnTo>
                        <a:lnTo>
                          <a:pt x="538" y="811"/>
                        </a:lnTo>
                        <a:lnTo>
                          <a:pt x="576" y="795"/>
                        </a:lnTo>
                        <a:lnTo>
                          <a:pt x="605" y="775"/>
                        </a:lnTo>
                        <a:lnTo>
                          <a:pt x="627" y="754"/>
                        </a:lnTo>
                        <a:lnTo>
                          <a:pt x="643" y="734"/>
                        </a:lnTo>
                        <a:lnTo>
                          <a:pt x="654" y="711"/>
                        </a:lnTo>
                        <a:lnTo>
                          <a:pt x="661" y="692"/>
                        </a:lnTo>
                        <a:lnTo>
                          <a:pt x="665" y="672"/>
                        </a:lnTo>
                        <a:lnTo>
                          <a:pt x="666" y="656"/>
                        </a:lnTo>
                        <a:lnTo>
                          <a:pt x="668" y="593"/>
                        </a:lnTo>
                        <a:lnTo>
                          <a:pt x="669" y="488"/>
                        </a:lnTo>
                        <a:lnTo>
                          <a:pt x="668" y="379"/>
                        </a:lnTo>
                        <a:lnTo>
                          <a:pt x="663" y="303"/>
                        </a:lnTo>
                        <a:lnTo>
                          <a:pt x="658" y="280"/>
                        </a:lnTo>
                        <a:lnTo>
                          <a:pt x="650" y="260"/>
                        </a:lnTo>
                        <a:lnTo>
                          <a:pt x="637" y="240"/>
                        </a:lnTo>
                        <a:lnTo>
                          <a:pt x="623" y="223"/>
                        </a:lnTo>
                        <a:lnTo>
                          <a:pt x="608" y="208"/>
                        </a:lnTo>
                        <a:lnTo>
                          <a:pt x="591" y="196"/>
                        </a:lnTo>
                        <a:lnTo>
                          <a:pt x="574" y="184"/>
                        </a:lnTo>
                        <a:lnTo>
                          <a:pt x="559" y="178"/>
                        </a:lnTo>
                        <a:lnTo>
                          <a:pt x="522"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121520" y="2943360"/>
                    <a:ext cx="9360" cy="139680"/>
                  </a:xfrm>
                  <a:custGeom>
                    <a:avLst/>
                    <a:gdLst/>
                    <a:ahLst/>
                    <a:rect l="l" t="t" r="r" b="b"/>
                    <a:pathLst>
                      <a:path w="18" h="263">
                        <a:moveTo>
                          <a:pt x="0" y="250"/>
                        </a:moveTo>
                        <a:lnTo>
                          <a:pt x="0" y="209"/>
                        </a:lnTo>
                        <a:lnTo>
                          <a:pt x="0" y="132"/>
                        </a:lnTo>
                        <a:lnTo>
                          <a:pt x="0" y="56"/>
                        </a:lnTo>
                        <a:lnTo>
                          <a:pt x="0" y="18"/>
                        </a:lnTo>
                        <a:lnTo>
                          <a:pt x="1" y="11"/>
                        </a:lnTo>
                        <a:lnTo>
                          <a:pt x="4" y="6"/>
                        </a:lnTo>
                        <a:lnTo>
                          <a:pt x="7" y="2"/>
                        </a:lnTo>
                        <a:lnTo>
                          <a:pt x="11" y="0"/>
                        </a:lnTo>
                        <a:lnTo>
                          <a:pt x="15" y="3"/>
                        </a:lnTo>
                        <a:lnTo>
                          <a:pt x="16" y="10"/>
                        </a:lnTo>
                        <a:lnTo>
                          <a:pt x="16" y="18"/>
                        </a:lnTo>
                        <a:lnTo>
                          <a:pt x="15" y="27"/>
                        </a:lnTo>
                        <a:lnTo>
                          <a:pt x="15" y="63"/>
                        </a:lnTo>
                        <a:lnTo>
                          <a:pt x="16" y="134"/>
                        </a:lnTo>
                        <a:lnTo>
                          <a:pt x="18" y="205"/>
                        </a:lnTo>
                        <a:lnTo>
                          <a:pt x="18" y="241"/>
                        </a:lnTo>
                        <a:lnTo>
                          <a:pt x="18" y="248"/>
                        </a:lnTo>
                        <a:lnTo>
                          <a:pt x="16" y="255"/>
                        </a:lnTo>
                        <a:lnTo>
                          <a:pt x="13" y="260"/>
                        </a:lnTo>
                        <a:lnTo>
                          <a:pt x="9" y="263"/>
                        </a:lnTo>
                        <a:lnTo>
                          <a:pt x="5" y="263"/>
                        </a:lnTo>
                        <a:lnTo>
                          <a:pt x="2" y="260"/>
                        </a:lnTo>
                        <a:lnTo>
                          <a:pt x="0" y="256"/>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246800" y="2935440"/>
                    <a:ext cx="55440" cy="15840"/>
                  </a:xfrm>
                  <a:custGeom>
                    <a:avLst/>
                    <a:gdLst/>
                    <a:ahLst/>
                    <a:rect l="l" t="t" r="r" b="b"/>
                    <a:pathLst>
                      <a:path w="107" h="29">
                        <a:moveTo>
                          <a:pt x="95" y="0"/>
                        </a:moveTo>
                        <a:lnTo>
                          <a:pt x="99" y="5"/>
                        </a:lnTo>
                        <a:lnTo>
                          <a:pt x="102" y="12"/>
                        </a:lnTo>
                        <a:lnTo>
                          <a:pt x="106" y="20"/>
                        </a:lnTo>
                        <a:lnTo>
                          <a:pt x="107" y="29"/>
                        </a:lnTo>
                        <a:lnTo>
                          <a:pt x="95" y="29"/>
                        </a:lnTo>
                        <a:lnTo>
                          <a:pt x="82" y="29"/>
                        </a:lnTo>
                        <a:lnTo>
                          <a:pt x="70" y="29"/>
                        </a:lnTo>
                        <a:lnTo>
                          <a:pt x="57" y="29"/>
                        </a:lnTo>
                        <a:lnTo>
                          <a:pt x="45" y="29"/>
                        </a:lnTo>
                        <a:lnTo>
                          <a:pt x="35" y="27"/>
                        </a:lnTo>
                        <a:lnTo>
                          <a:pt x="27" y="27"/>
                        </a:lnTo>
                        <a:lnTo>
                          <a:pt x="21" y="26"/>
                        </a:lnTo>
                        <a:lnTo>
                          <a:pt x="11" y="23"/>
                        </a:lnTo>
                        <a:lnTo>
                          <a:pt x="5" y="20"/>
                        </a:lnTo>
                        <a:lnTo>
                          <a:pt x="2" y="18"/>
                        </a:lnTo>
                        <a:lnTo>
                          <a:pt x="0" y="15"/>
                        </a:lnTo>
                        <a:lnTo>
                          <a:pt x="2" y="12"/>
                        </a:lnTo>
                        <a:lnTo>
                          <a:pt x="5" y="8"/>
                        </a:lnTo>
                        <a:lnTo>
                          <a:pt x="9" y="7"/>
                        </a:lnTo>
                        <a:lnTo>
                          <a:pt x="14" y="5"/>
                        </a:lnTo>
                        <a:lnTo>
                          <a:pt x="23" y="5"/>
                        </a:lnTo>
                        <a:lnTo>
                          <a:pt x="31" y="5"/>
                        </a:lnTo>
                        <a:lnTo>
                          <a:pt x="42" y="5"/>
                        </a:lnTo>
                        <a:lnTo>
                          <a:pt x="53" y="4"/>
                        </a:lnTo>
                        <a:lnTo>
                          <a:pt x="63" y="4"/>
                        </a:lnTo>
                        <a:lnTo>
                          <a:pt x="74" y="2"/>
                        </a:lnTo>
                        <a:lnTo>
                          <a:pt x="85" y="1"/>
                        </a:lnTo>
                        <a:lnTo>
                          <a:pt x="9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8" name=""/>
                  <p:cNvSpPr/>
                  <p:nvPr/>
                </p:nvSpPr>
                <p:spPr>
                  <a:xfrm>
                    <a:off x="7313400" y="2928960"/>
                    <a:ext cx="14400" cy="17280"/>
                  </a:xfrm>
                  <a:custGeom>
                    <a:avLst/>
                    <a:gdLst/>
                    <a:ahLst/>
                    <a:rect l="l" t="t" r="r" b="b"/>
                    <a:pathLst>
                      <a:path w="27" h="33">
                        <a:moveTo>
                          <a:pt x="11" y="33"/>
                        </a:moveTo>
                        <a:lnTo>
                          <a:pt x="10" y="28"/>
                        </a:lnTo>
                        <a:lnTo>
                          <a:pt x="7" y="18"/>
                        </a:lnTo>
                        <a:lnTo>
                          <a:pt x="3" y="10"/>
                        </a:lnTo>
                        <a:lnTo>
                          <a:pt x="0" y="4"/>
                        </a:lnTo>
                        <a:lnTo>
                          <a:pt x="11" y="0"/>
                        </a:lnTo>
                        <a:lnTo>
                          <a:pt x="18" y="0"/>
                        </a:lnTo>
                        <a:lnTo>
                          <a:pt x="23" y="3"/>
                        </a:lnTo>
                        <a:lnTo>
                          <a:pt x="27" y="8"/>
                        </a:lnTo>
                        <a:lnTo>
                          <a:pt x="27" y="15"/>
                        </a:lnTo>
                        <a:lnTo>
                          <a:pt x="25" y="22"/>
                        </a:lnTo>
                        <a:lnTo>
                          <a:pt x="20" y="28"/>
                        </a:lnTo>
                        <a:lnTo>
                          <a:pt x="11"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a:off x="7315200" y="2971800"/>
                    <a:ext cx="15840" cy="162000"/>
                  </a:xfrm>
                  <a:custGeom>
                    <a:avLst/>
                    <a:gdLst/>
                    <a:ahLst/>
                    <a:rect l="l" t="t" r="r" b="b"/>
                    <a:pathLst>
                      <a:path w="30" h="304">
                        <a:moveTo>
                          <a:pt x="30" y="12"/>
                        </a:moveTo>
                        <a:lnTo>
                          <a:pt x="30" y="60"/>
                        </a:lnTo>
                        <a:lnTo>
                          <a:pt x="29" y="151"/>
                        </a:lnTo>
                        <a:lnTo>
                          <a:pt x="27" y="241"/>
                        </a:lnTo>
                        <a:lnTo>
                          <a:pt x="26" y="287"/>
                        </a:lnTo>
                        <a:lnTo>
                          <a:pt x="25" y="295"/>
                        </a:lnTo>
                        <a:lnTo>
                          <a:pt x="22" y="299"/>
                        </a:lnTo>
                        <a:lnTo>
                          <a:pt x="19" y="302"/>
                        </a:lnTo>
                        <a:lnTo>
                          <a:pt x="14" y="304"/>
                        </a:lnTo>
                        <a:lnTo>
                          <a:pt x="7" y="302"/>
                        </a:lnTo>
                        <a:lnTo>
                          <a:pt x="2" y="298"/>
                        </a:lnTo>
                        <a:lnTo>
                          <a:pt x="1" y="290"/>
                        </a:lnTo>
                        <a:lnTo>
                          <a:pt x="0" y="276"/>
                        </a:lnTo>
                        <a:lnTo>
                          <a:pt x="0" y="230"/>
                        </a:lnTo>
                        <a:lnTo>
                          <a:pt x="1" y="149"/>
                        </a:lnTo>
                        <a:lnTo>
                          <a:pt x="2" y="70"/>
                        </a:lnTo>
                        <a:lnTo>
                          <a:pt x="4" y="30"/>
                        </a:lnTo>
                        <a:lnTo>
                          <a:pt x="5" y="20"/>
                        </a:lnTo>
                        <a:lnTo>
                          <a:pt x="5" y="12"/>
                        </a:lnTo>
                        <a:lnTo>
                          <a:pt x="8" y="5"/>
                        </a:lnTo>
                        <a:lnTo>
                          <a:pt x="12" y="2"/>
                        </a:lnTo>
                        <a:lnTo>
                          <a:pt x="18" y="0"/>
                        </a:lnTo>
                        <a:lnTo>
                          <a:pt x="23" y="2"/>
                        </a:lnTo>
                        <a:lnTo>
                          <a:pt x="27" y="6"/>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84800" y="3110040"/>
                    <a:ext cx="68400" cy="39600"/>
                  </a:xfrm>
                  <a:custGeom>
                    <a:avLst/>
                    <a:gdLst/>
                    <a:ahLst/>
                    <a:rect l="l" t="t" r="r" b="b"/>
                    <a:pathLst>
                      <a:path w="130" h="76">
                        <a:moveTo>
                          <a:pt x="6" y="36"/>
                        </a:moveTo>
                        <a:lnTo>
                          <a:pt x="13" y="32"/>
                        </a:lnTo>
                        <a:lnTo>
                          <a:pt x="21" y="25"/>
                        </a:lnTo>
                        <a:lnTo>
                          <a:pt x="28" y="18"/>
                        </a:lnTo>
                        <a:lnTo>
                          <a:pt x="35" y="14"/>
                        </a:lnTo>
                        <a:lnTo>
                          <a:pt x="38" y="13"/>
                        </a:lnTo>
                        <a:lnTo>
                          <a:pt x="39" y="11"/>
                        </a:lnTo>
                        <a:lnTo>
                          <a:pt x="42" y="11"/>
                        </a:lnTo>
                        <a:lnTo>
                          <a:pt x="44" y="10"/>
                        </a:lnTo>
                        <a:lnTo>
                          <a:pt x="49" y="8"/>
                        </a:lnTo>
                        <a:lnTo>
                          <a:pt x="55" y="7"/>
                        </a:lnTo>
                        <a:lnTo>
                          <a:pt x="60" y="6"/>
                        </a:lnTo>
                        <a:lnTo>
                          <a:pt x="66" y="4"/>
                        </a:lnTo>
                        <a:lnTo>
                          <a:pt x="76" y="1"/>
                        </a:lnTo>
                        <a:lnTo>
                          <a:pt x="85" y="0"/>
                        </a:lnTo>
                        <a:lnTo>
                          <a:pt x="94" y="0"/>
                        </a:lnTo>
                        <a:lnTo>
                          <a:pt x="102" y="0"/>
                        </a:lnTo>
                        <a:lnTo>
                          <a:pt x="102" y="0"/>
                        </a:lnTo>
                        <a:lnTo>
                          <a:pt x="103" y="0"/>
                        </a:lnTo>
                        <a:lnTo>
                          <a:pt x="103" y="0"/>
                        </a:lnTo>
                        <a:lnTo>
                          <a:pt x="105" y="0"/>
                        </a:lnTo>
                        <a:lnTo>
                          <a:pt x="112" y="3"/>
                        </a:lnTo>
                        <a:lnTo>
                          <a:pt x="120" y="8"/>
                        </a:lnTo>
                        <a:lnTo>
                          <a:pt x="127" y="15"/>
                        </a:lnTo>
                        <a:lnTo>
                          <a:pt x="130" y="19"/>
                        </a:lnTo>
                        <a:lnTo>
                          <a:pt x="127" y="24"/>
                        </a:lnTo>
                        <a:lnTo>
                          <a:pt x="120" y="26"/>
                        </a:lnTo>
                        <a:lnTo>
                          <a:pt x="112" y="31"/>
                        </a:lnTo>
                        <a:lnTo>
                          <a:pt x="102" y="33"/>
                        </a:lnTo>
                        <a:lnTo>
                          <a:pt x="96" y="36"/>
                        </a:lnTo>
                        <a:lnTo>
                          <a:pt x="87" y="39"/>
                        </a:lnTo>
                        <a:lnTo>
                          <a:pt x="74" y="45"/>
                        </a:lnTo>
                        <a:lnTo>
                          <a:pt x="62" y="50"/>
                        </a:lnTo>
                        <a:lnTo>
                          <a:pt x="48" y="57"/>
                        </a:lnTo>
                        <a:lnTo>
                          <a:pt x="34" y="64"/>
                        </a:lnTo>
                        <a:lnTo>
                          <a:pt x="21" y="70"/>
                        </a:lnTo>
                        <a:lnTo>
                          <a:pt x="12" y="76"/>
                        </a:lnTo>
                        <a:lnTo>
                          <a:pt x="6" y="68"/>
                        </a:lnTo>
                        <a:lnTo>
                          <a:pt x="2" y="60"/>
                        </a:lnTo>
                        <a:lnTo>
                          <a:pt x="0" y="50"/>
                        </a:lnTo>
                        <a:lnTo>
                          <a:pt x="6"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grpSp>
            <p:nvGrpSpPr>
              <p:cNvPr id="731" name=""/>
              <p:cNvGrpSpPr/>
              <p:nvPr/>
            </p:nvGrpSpPr>
            <p:grpSpPr>
              <a:xfrm>
                <a:off x="5865840" y="3684600"/>
                <a:ext cx="766440" cy="1236600"/>
                <a:chOff x="5865840" y="3684600"/>
                <a:chExt cx="766440" cy="1236600"/>
              </a:xfrm>
            </p:grpSpPr>
            <p:grpSp>
              <p:nvGrpSpPr>
                <p:cNvPr id="732" name=""/>
                <p:cNvGrpSpPr/>
                <p:nvPr/>
              </p:nvGrpSpPr>
              <p:grpSpPr>
                <a:xfrm>
                  <a:off x="5906880" y="3684600"/>
                  <a:ext cx="685800" cy="969840"/>
                  <a:chOff x="5906880" y="3684600"/>
                  <a:chExt cx="685800" cy="969840"/>
                </a:xfrm>
              </p:grpSpPr>
              <p:grpSp>
                <p:nvGrpSpPr>
                  <p:cNvPr id="733" name=""/>
                  <p:cNvGrpSpPr/>
                  <p:nvPr/>
                </p:nvGrpSpPr>
                <p:grpSpPr>
                  <a:xfrm>
                    <a:off x="5906880" y="3684600"/>
                    <a:ext cx="685800" cy="969840"/>
                    <a:chOff x="5906880" y="3684600"/>
                    <a:chExt cx="685800" cy="969840"/>
                  </a:xfrm>
                </p:grpSpPr>
                <p:grpSp>
                  <p:nvGrpSpPr>
                    <p:cNvPr id="734" name=""/>
                    <p:cNvGrpSpPr/>
                    <p:nvPr/>
                  </p:nvGrpSpPr>
                  <p:grpSpPr>
                    <a:xfrm>
                      <a:off x="5906880" y="3684600"/>
                      <a:ext cx="685800" cy="865080"/>
                      <a:chOff x="5906880" y="3684600"/>
                      <a:chExt cx="685800" cy="865080"/>
                    </a:xfrm>
                  </p:grpSpPr>
                  <p:sp>
                    <p:nvSpPr>
                      <p:cNvPr id="735" name=""/>
                      <p:cNvSpPr/>
                      <p:nvPr/>
                    </p:nvSpPr>
                    <p:spPr>
                      <a:xfrm>
                        <a:off x="5906880" y="3684600"/>
                        <a:ext cx="685800" cy="34920"/>
                      </a:xfrm>
                      <a:prstGeom prst="rect">
                        <a:avLst/>
                      </a:prstGeom>
                      <a:solidFill>
                        <a:srgbClr val="9f9fbf"/>
                      </a:solidFill>
                      <a:ln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6" name=""/>
                      <p:cNvSpPr/>
                      <p:nvPr/>
                    </p:nvSpPr>
                    <p:spPr>
                      <a:xfrm>
                        <a:off x="5906880" y="3720960"/>
                        <a:ext cx="685800" cy="828720"/>
                      </a:xfrm>
                      <a:prstGeom prst="rect">
                        <a:avLst/>
                      </a:prstGeom>
                      <a:solidFill>
                        <a:srgbClr val="9f9f9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7" name=""/>
                    <p:cNvSpPr/>
                    <p:nvPr/>
                  </p:nvSpPr>
                  <p:spPr>
                    <a:xfrm>
                      <a:off x="6387840" y="3935520"/>
                      <a:ext cx="63720" cy="10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
                    <p:cNvGrpSpPr/>
                    <p:nvPr/>
                  </p:nvGrpSpPr>
                  <p:grpSpPr>
                    <a:xfrm>
                      <a:off x="5932440" y="3987720"/>
                      <a:ext cx="633240" cy="666720"/>
                      <a:chOff x="5932440" y="3987720"/>
                      <a:chExt cx="633240" cy="666720"/>
                    </a:xfrm>
                  </p:grpSpPr>
                  <p:grpSp>
                    <p:nvGrpSpPr>
                      <p:cNvPr id="739" name=""/>
                      <p:cNvGrpSpPr/>
                      <p:nvPr/>
                    </p:nvGrpSpPr>
                    <p:grpSpPr>
                      <a:xfrm>
                        <a:off x="6178320" y="3987720"/>
                        <a:ext cx="139680" cy="44640"/>
                        <a:chOff x="6178320" y="3987720"/>
                        <a:chExt cx="139680" cy="44640"/>
                      </a:xfrm>
                    </p:grpSpPr>
                    <p:sp>
                      <p:nvSpPr>
                        <p:cNvPr id="740" name=""/>
                        <p:cNvSpPr/>
                        <p:nvPr/>
                      </p:nvSpPr>
                      <p:spPr>
                        <a:xfrm>
                          <a:off x="6178320" y="3987720"/>
                          <a:ext cx="46080" cy="44640"/>
                        </a:xfrm>
                        <a:prstGeom prst="ellipse">
                          <a:avLst/>
                        </a:prstGeom>
                        <a:solidFill>
                          <a:srgbClr val="ffff00"/>
                        </a:solidFill>
                        <a:ln w="32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1" name=""/>
                        <p:cNvSpPr/>
                        <p:nvPr/>
                      </p:nvSpPr>
                      <p:spPr>
                        <a:xfrm>
                          <a:off x="6226200" y="3987720"/>
                          <a:ext cx="45720" cy="44640"/>
                        </a:xfrm>
                        <a:prstGeom prst="ellipse">
                          <a:avLst/>
                        </a:prstGeom>
                        <a:solidFill>
                          <a:srgbClr val="ffff00"/>
                        </a:solidFill>
                        <a:ln w="32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2" name=""/>
                        <p:cNvSpPr/>
                        <p:nvPr/>
                      </p:nvSpPr>
                      <p:spPr>
                        <a:xfrm>
                          <a:off x="6273720" y="3987720"/>
                          <a:ext cx="44280" cy="44640"/>
                        </a:xfrm>
                        <a:prstGeom prst="ellipse">
                          <a:avLst/>
                        </a:prstGeom>
                        <a:solidFill>
                          <a:srgbClr val="ffff00"/>
                        </a:solidFill>
                        <a:ln w="32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743" name=""/>
                      <p:cNvSpPr/>
                      <p:nvPr/>
                    </p:nvSpPr>
                    <p:spPr>
                      <a:xfrm>
                        <a:off x="6003720" y="4017960"/>
                        <a:ext cx="490680" cy="100080"/>
                      </a:xfrm>
                      <a:prstGeom prst="roundRect">
                        <a:avLst>
                          <a:gd name="adj" fmla="val 11505"/>
                        </a:avLst>
                      </a:prstGeom>
                      <a:solidFill>
                        <a:srgbClr val="008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4" name=""/>
                      <p:cNvGrpSpPr/>
                      <p:nvPr/>
                    </p:nvGrpSpPr>
                    <p:grpSpPr>
                      <a:xfrm>
                        <a:off x="5952960" y="4040280"/>
                        <a:ext cx="593640" cy="614160"/>
                        <a:chOff x="5952960" y="4040280"/>
                        <a:chExt cx="593640" cy="614160"/>
                      </a:xfrm>
                    </p:grpSpPr>
                    <p:sp>
                      <p:nvSpPr>
                        <p:cNvPr id="745" name=""/>
                        <p:cNvSpPr/>
                        <p:nvPr/>
                      </p:nvSpPr>
                      <p:spPr>
                        <a:xfrm>
                          <a:off x="5952960" y="4040280"/>
                          <a:ext cx="593640" cy="612720"/>
                        </a:xfrm>
                        <a:custGeom>
                          <a:avLst/>
                          <a:gdLst/>
                          <a:ahLst/>
                          <a:rect l="l" t="t" r="r" b="b"/>
                          <a:pathLst>
                            <a:path w="1497" h="1544">
                              <a:moveTo>
                                <a:pt x="118" y="0"/>
                              </a:moveTo>
                              <a:lnTo>
                                <a:pt x="1380" y="0"/>
                              </a:lnTo>
                              <a:lnTo>
                                <a:pt x="1392" y="3"/>
                              </a:lnTo>
                              <a:lnTo>
                                <a:pt x="1404" y="7"/>
                              </a:lnTo>
                              <a:lnTo>
                                <a:pt x="1412" y="11"/>
                              </a:lnTo>
                              <a:lnTo>
                                <a:pt x="1422" y="17"/>
                              </a:lnTo>
                              <a:lnTo>
                                <a:pt x="1431" y="26"/>
                              </a:lnTo>
                              <a:lnTo>
                                <a:pt x="1439" y="33"/>
                              </a:lnTo>
                              <a:lnTo>
                                <a:pt x="1444" y="40"/>
                              </a:lnTo>
                              <a:lnTo>
                                <a:pt x="1448" y="47"/>
                              </a:lnTo>
                              <a:lnTo>
                                <a:pt x="1453" y="56"/>
                              </a:lnTo>
                              <a:lnTo>
                                <a:pt x="1456" y="69"/>
                              </a:lnTo>
                              <a:lnTo>
                                <a:pt x="1458" y="80"/>
                              </a:lnTo>
                              <a:lnTo>
                                <a:pt x="1458" y="793"/>
                              </a:lnTo>
                              <a:lnTo>
                                <a:pt x="1497" y="912"/>
                              </a:lnTo>
                              <a:lnTo>
                                <a:pt x="1497" y="1544"/>
                              </a:lnTo>
                              <a:lnTo>
                                <a:pt x="0" y="1544"/>
                              </a:lnTo>
                              <a:lnTo>
                                <a:pt x="0" y="912"/>
                              </a:lnTo>
                              <a:lnTo>
                                <a:pt x="39" y="793"/>
                              </a:lnTo>
                              <a:lnTo>
                                <a:pt x="39" y="80"/>
                              </a:lnTo>
                              <a:lnTo>
                                <a:pt x="42" y="61"/>
                              </a:lnTo>
                              <a:lnTo>
                                <a:pt x="51" y="45"/>
                              </a:lnTo>
                              <a:lnTo>
                                <a:pt x="61" y="31"/>
                              </a:lnTo>
                              <a:lnTo>
                                <a:pt x="74" y="18"/>
                              </a:lnTo>
                              <a:lnTo>
                                <a:pt x="87" y="10"/>
                              </a:lnTo>
                              <a:lnTo>
                                <a:pt x="102" y="3"/>
                              </a:lnTo>
                              <a:lnTo>
                                <a:pt x="118"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952960" y="4403880"/>
                          <a:ext cx="593640" cy="250560"/>
                        </a:xfrm>
                        <a:prstGeom prst="rect">
                          <a:avLst/>
                        </a:prstGeom>
                        <a:solidFill>
                          <a:srgbClr val="008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
                      <p:cNvSpPr/>
                      <p:nvPr/>
                    </p:nvSpPr>
                    <p:spPr>
                      <a:xfrm>
                        <a:off x="5932440" y="4498920"/>
                        <a:ext cx="19080" cy="155520"/>
                      </a:xfrm>
                      <a:custGeom>
                        <a:avLst/>
                        <a:gdLst/>
                        <a:ahLst/>
                        <a:rect l="l" t="t" r="r" b="b"/>
                        <a:pathLst>
                          <a:path w="48" h="392">
                            <a:moveTo>
                              <a:pt x="48" y="0"/>
                            </a:moveTo>
                            <a:lnTo>
                              <a:pt x="0" y="77"/>
                            </a:lnTo>
                            <a:lnTo>
                              <a:pt x="0" y="392"/>
                            </a:lnTo>
                            <a:lnTo>
                              <a:pt x="48" y="392"/>
                            </a:lnTo>
                            <a:lnTo>
                              <a:pt x="48"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546600" y="4498920"/>
                        <a:ext cx="19080" cy="155520"/>
                      </a:xfrm>
                      <a:custGeom>
                        <a:avLst/>
                        <a:gdLst/>
                        <a:ahLst/>
                        <a:rect l="l" t="t" r="r" b="b"/>
                        <a:pathLst>
                          <a:path w="48" h="392">
                            <a:moveTo>
                              <a:pt x="0" y="0"/>
                            </a:moveTo>
                            <a:lnTo>
                              <a:pt x="48" y="77"/>
                            </a:lnTo>
                            <a:lnTo>
                              <a:pt x="48" y="392"/>
                            </a:lnTo>
                            <a:lnTo>
                              <a:pt x="0" y="392"/>
                            </a:lnTo>
                            <a:lnTo>
                              <a:pt x="0" y="0"/>
                            </a:lnTo>
                            <a:close/>
                          </a:path>
                        </a:pathLst>
                      </a:custGeom>
                      <a:solidFill>
                        <a:srgbClr val="008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6335640" y="3968640"/>
                      <a:ext cx="44280" cy="22320"/>
                      <a:chOff x="6335640" y="3968640"/>
                      <a:chExt cx="44280" cy="22320"/>
                    </a:xfrm>
                  </p:grpSpPr>
                  <p:sp>
                    <p:nvSpPr>
                      <p:cNvPr id="750" name=""/>
                      <p:cNvSpPr/>
                      <p:nvPr/>
                    </p:nvSpPr>
                    <p:spPr>
                      <a:xfrm>
                        <a:off x="6335640" y="3968640"/>
                        <a:ext cx="22320" cy="22320"/>
                      </a:xfrm>
                      <a:prstGeom prst="ellipse">
                        <a:avLst/>
                      </a:prstGeom>
                      <a:solidFill>
                        <a:srgbClr val="ffffff"/>
                      </a:solid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1" name=""/>
                      <p:cNvSpPr/>
                      <p:nvPr/>
                    </p:nvSpPr>
                    <p:spPr>
                      <a:xfrm>
                        <a:off x="6357960" y="3968640"/>
                        <a:ext cx="21960" cy="22320"/>
                      </a:xfrm>
                      <a:prstGeom prst="ellipse">
                        <a:avLst/>
                      </a:prstGeom>
                      <a:solidFill>
                        <a:srgbClr val="ffffff"/>
                      </a:solid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grpSp>
                <p:nvGrpSpPr>
                  <p:cNvPr id="752" name=""/>
                  <p:cNvGrpSpPr/>
                  <p:nvPr/>
                </p:nvGrpSpPr>
                <p:grpSpPr>
                  <a:xfrm>
                    <a:off x="6054480" y="4503600"/>
                    <a:ext cx="389160" cy="125640"/>
                    <a:chOff x="6054480" y="4503600"/>
                    <a:chExt cx="389160" cy="125640"/>
                  </a:xfrm>
                </p:grpSpPr>
                <p:sp>
                  <p:nvSpPr>
                    <p:cNvPr id="753" name=""/>
                    <p:cNvSpPr/>
                    <p:nvPr/>
                  </p:nvSpPr>
                  <p:spPr>
                    <a:xfrm>
                      <a:off x="6054480" y="4503600"/>
                      <a:ext cx="389160" cy="1256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4" name=""/>
                    <p:cNvGrpSpPr/>
                    <p:nvPr/>
                  </p:nvGrpSpPr>
                  <p:grpSpPr>
                    <a:xfrm>
                      <a:off x="6056280" y="4519440"/>
                      <a:ext cx="387360" cy="93960"/>
                      <a:chOff x="6056280" y="4519440"/>
                      <a:chExt cx="387360" cy="93960"/>
                    </a:xfrm>
                  </p:grpSpPr>
                  <p:sp>
                    <p:nvSpPr>
                      <p:cNvPr id="755" name=""/>
                      <p:cNvSpPr/>
                      <p:nvPr/>
                    </p:nvSpPr>
                    <p:spPr>
                      <a:xfrm>
                        <a:off x="6056280" y="4519440"/>
                        <a:ext cx="385560" cy="9720"/>
                      </a:xfrm>
                      <a:prstGeom prst="rect">
                        <a:avLst/>
                      </a:prstGeom>
                      <a:solidFill>
                        <a:srgbClr val="000000"/>
                      </a:solidFill>
                      <a:ln w="32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a:off x="6056280" y="4548240"/>
                        <a:ext cx="387360" cy="7920"/>
                      </a:xfrm>
                      <a:prstGeom prst="rect">
                        <a:avLst/>
                      </a:prstGeom>
                      <a:solidFill>
                        <a:srgbClr val="000000"/>
                      </a:solid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7" name=""/>
                      <p:cNvSpPr/>
                      <p:nvPr/>
                    </p:nvSpPr>
                    <p:spPr>
                      <a:xfrm>
                        <a:off x="6056280" y="4576680"/>
                        <a:ext cx="387360" cy="7920"/>
                      </a:xfrm>
                      <a:prstGeom prst="rect">
                        <a:avLst/>
                      </a:prstGeom>
                      <a:solidFill>
                        <a:srgbClr val="000000"/>
                      </a:solid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8" name=""/>
                      <p:cNvSpPr/>
                      <p:nvPr/>
                    </p:nvSpPr>
                    <p:spPr>
                      <a:xfrm>
                        <a:off x="6056280" y="4603680"/>
                        <a:ext cx="387360" cy="9720"/>
                      </a:xfrm>
                      <a:prstGeom prst="rect">
                        <a:avLst/>
                      </a:prstGeom>
                      <a:solidFill>
                        <a:srgbClr val="000000"/>
                      </a:solidFill>
                      <a:ln w="32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grpSp>
              <p:nvGrpSpPr>
                <p:cNvPr id="759" name=""/>
                <p:cNvGrpSpPr/>
                <p:nvPr/>
              </p:nvGrpSpPr>
              <p:grpSpPr>
                <a:xfrm>
                  <a:off x="5865840" y="4118040"/>
                  <a:ext cx="766440" cy="299880"/>
                  <a:chOff x="5865840" y="4118040"/>
                  <a:chExt cx="766440" cy="299880"/>
                </a:xfrm>
              </p:grpSpPr>
              <p:grpSp>
                <p:nvGrpSpPr>
                  <p:cNvPr id="760" name=""/>
                  <p:cNvGrpSpPr/>
                  <p:nvPr/>
                </p:nvGrpSpPr>
                <p:grpSpPr>
                  <a:xfrm>
                    <a:off x="5865840" y="4121280"/>
                    <a:ext cx="101520" cy="296640"/>
                    <a:chOff x="5865840" y="4121280"/>
                    <a:chExt cx="101520" cy="296640"/>
                  </a:xfrm>
                </p:grpSpPr>
                <p:sp>
                  <p:nvSpPr>
                    <p:cNvPr id="761" name=""/>
                    <p:cNvSpPr/>
                    <p:nvPr/>
                  </p:nvSpPr>
                  <p:spPr>
                    <a:xfrm>
                      <a:off x="5865840" y="4121280"/>
                      <a:ext cx="77760" cy="218880"/>
                    </a:xfrm>
                    <a:custGeom>
                      <a:avLst/>
                      <a:gdLst>
                        <a:gd name="textAreaLeft" fmla="*/ 2520 w 77760"/>
                        <a:gd name="textAreaRight" fmla="*/ 75240 w 77760"/>
                        <a:gd name="textAreaTop" fmla="*/ 2520 h 218880"/>
                        <a:gd name="textAreaBottom" fmla="*/ 216360 h 218880"/>
                      </a:gdLst>
                      <a:ahLst/>
                      <a:rect l="textAreaLeft" t="textAreaTop" r="textAreaRight" b="textAreaBottom"/>
                      <a:pathLst>
                        <a:path w="21600" h="60619">
                          <a:moveTo>
                            <a:pt x="2497" y="0"/>
                          </a:moveTo>
                          <a:arcTo wR="2497" hR="2497" stAng="16200000" swAng="-5400000"/>
                          <a:lnTo>
                            <a:pt x="0" y="58122"/>
                          </a:lnTo>
                          <a:arcTo wR="2497" hR="2497" stAng="10800000" swAng="-5400000"/>
                          <a:lnTo>
                            <a:pt x="19103" y="60619"/>
                          </a:lnTo>
                          <a:arcTo wR="2497" hR="2497" stAng="5400000" swAng="-5400000"/>
                          <a:lnTo>
                            <a:pt x="21600" y="2497"/>
                          </a:lnTo>
                          <a:arcTo wR="2497" hR="2497" stAng="0" swAng="-5400000"/>
                          <a:close/>
                        </a:path>
                      </a:pathLst>
                    </a:cu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865840" y="4341960"/>
                      <a:ext cx="77760" cy="75960"/>
                    </a:xfrm>
                    <a:prstGeom prst="ellipse">
                      <a:avLst/>
                    </a:prstGeom>
                    <a:solidFill>
                      <a:srgbClr val="c0c0c0"/>
                    </a:solidFill>
                    <a:ln w="324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763" name=""/>
                    <p:cNvGrpSpPr/>
                    <p:nvPr/>
                  </p:nvGrpSpPr>
                  <p:grpSpPr>
                    <a:xfrm>
                      <a:off x="5921280" y="4154400"/>
                      <a:ext cx="46080" cy="157320"/>
                      <a:chOff x="5921280" y="4154400"/>
                      <a:chExt cx="46080" cy="157320"/>
                    </a:xfrm>
                  </p:grpSpPr>
                  <p:sp>
                    <p:nvSpPr>
                      <p:cNvPr id="764" name=""/>
                      <p:cNvSpPr/>
                      <p:nvPr/>
                    </p:nvSpPr>
                    <p:spPr>
                      <a:xfrm>
                        <a:off x="5921280" y="4154400"/>
                        <a:ext cx="46080" cy="15840"/>
                      </a:xfrm>
                      <a:prstGeom prst="rect">
                        <a:avLst/>
                      </a:prstGeom>
                      <a:solidFill>
                        <a:srgbClr val="9f9f9f"/>
                      </a:solid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5" name=""/>
                      <p:cNvSpPr/>
                      <p:nvPr/>
                    </p:nvSpPr>
                    <p:spPr>
                      <a:xfrm>
                        <a:off x="5921280" y="4297320"/>
                        <a:ext cx="46080" cy="14400"/>
                      </a:xfrm>
                      <a:prstGeom prst="rect">
                        <a:avLst/>
                      </a:prstGeom>
                      <a:solidFill>
                        <a:srgbClr val="9f9f9f"/>
                      </a:solid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766" name=""/>
                  <p:cNvGrpSpPr/>
                  <p:nvPr/>
                </p:nvGrpSpPr>
                <p:grpSpPr>
                  <a:xfrm>
                    <a:off x="6530760" y="4118040"/>
                    <a:ext cx="101520" cy="296640"/>
                    <a:chOff x="6530760" y="4118040"/>
                    <a:chExt cx="101520" cy="296640"/>
                  </a:xfrm>
                </p:grpSpPr>
                <p:sp>
                  <p:nvSpPr>
                    <p:cNvPr id="767" name=""/>
                    <p:cNvSpPr/>
                    <p:nvPr/>
                  </p:nvSpPr>
                  <p:spPr>
                    <a:xfrm>
                      <a:off x="6554520" y="4118040"/>
                      <a:ext cx="77760" cy="218880"/>
                    </a:xfrm>
                    <a:custGeom>
                      <a:avLst/>
                      <a:gdLst>
                        <a:gd name="textAreaLeft" fmla="*/ 0 w 77760"/>
                        <a:gd name="textAreaRight" fmla="*/ 78120 w 77760"/>
                        <a:gd name="textAreaTop" fmla="*/ 0 h 218880"/>
                        <a:gd name="textAreaBottom" fmla="*/ 219240 h 218880"/>
                      </a:gdLst>
                      <a:ahLst/>
                      <a:rect l="textAreaLeft" t="textAreaTop" r="textAreaRight" b="textAreaBottom"/>
                      <a:pathLst>
                        <a:path w="21600" h="60619">
                          <a:moveTo>
                            <a:pt x="0" y="0"/>
                          </a:moveTo>
                          <a:arcTo wR="0" hR="0" stAng="16200000" swAng="-5400000"/>
                          <a:lnTo>
                            <a:pt x="0" y="60619"/>
                          </a:lnTo>
                          <a:arcTo wR="0" hR="0" stAng="10800000" swAng="-5400000"/>
                          <a:lnTo>
                            <a:pt x="21600" y="60619"/>
                          </a:lnTo>
                          <a:arcTo wR="0" hR="0" stAng="16200000" swAng="-5400000"/>
                          <a:lnTo>
                            <a:pt x="21600" y="0"/>
                          </a:lnTo>
                          <a:arcTo wR="0" hR="0" stAng="10800000" swAng="-5400000"/>
                          <a:close/>
                        </a:path>
                      </a:pathLst>
                    </a:cu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554520" y="4336920"/>
                      <a:ext cx="77760" cy="77760"/>
                    </a:xfrm>
                    <a:prstGeom prst="ellipse">
                      <a:avLst/>
                    </a:prstGeom>
                    <a:solidFill>
                      <a:srgbClr val="c0c0c0"/>
                    </a:solidFill>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769" name=""/>
                    <p:cNvGrpSpPr/>
                    <p:nvPr/>
                  </p:nvGrpSpPr>
                  <p:grpSpPr>
                    <a:xfrm>
                      <a:off x="6530760" y="4151160"/>
                      <a:ext cx="46080" cy="157320"/>
                      <a:chOff x="6530760" y="4151160"/>
                      <a:chExt cx="46080" cy="157320"/>
                    </a:xfrm>
                  </p:grpSpPr>
                  <p:sp>
                    <p:nvSpPr>
                      <p:cNvPr id="770" name=""/>
                      <p:cNvSpPr/>
                      <p:nvPr/>
                    </p:nvSpPr>
                    <p:spPr>
                      <a:xfrm>
                        <a:off x="6530760" y="4151160"/>
                        <a:ext cx="46080" cy="16200"/>
                      </a:xfrm>
                      <a:prstGeom prst="rect">
                        <a:avLst/>
                      </a:prstGeom>
                      <a:solidFill>
                        <a:srgbClr val="9f9f9f"/>
                      </a:solid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71" name=""/>
                      <p:cNvSpPr/>
                      <p:nvPr/>
                    </p:nvSpPr>
                    <p:spPr>
                      <a:xfrm>
                        <a:off x="6530760" y="4292640"/>
                        <a:ext cx="46080" cy="15840"/>
                      </a:xfrm>
                      <a:prstGeom prst="rect">
                        <a:avLst/>
                      </a:prstGeom>
                      <a:solidFill>
                        <a:srgbClr val="9f9f9f"/>
                      </a:solid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grpSp>
            <p:grpSp>
              <p:nvGrpSpPr>
                <p:cNvPr id="772" name=""/>
                <p:cNvGrpSpPr/>
                <p:nvPr/>
              </p:nvGrpSpPr>
              <p:grpSpPr>
                <a:xfrm>
                  <a:off x="5970600" y="4506840"/>
                  <a:ext cx="58680" cy="120600"/>
                  <a:chOff x="5970600" y="4506840"/>
                  <a:chExt cx="58680" cy="120600"/>
                </a:xfrm>
              </p:grpSpPr>
              <p:sp>
                <p:nvSpPr>
                  <p:cNvPr id="773" name=""/>
                  <p:cNvSpPr/>
                  <p:nvPr/>
                </p:nvSpPr>
                <p:spPr>
                  <a:xfrm>
                    <a:off x="5970600" y="4506840"/>
                    <a:ext cx="58680" cy="1206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970600" y="4568760"/>
                    <a:ext cx="58680" cy="58680"/>
                  </a:xfrm>
                  <a:prstGeom prst="rect">
                    <a:avLst/>
                  </a:prstGeom>
                  <a:solidFill>
                    <a:srgbClr val="808080"/>
                  </a:solidFill>
                  <a:ln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5" name=""/>
                  <p:cNvSpPr/>
                  <p:nvPr/>
                </p:nvSpPr>
                <p:spPr>
                  <a:xfrm>
                    <a:off x="5970600" y="4506840"/>
                    <a:ext cx="56880" cy="57240"/>
                  </a:xfrm>
                  <a:prstGeom prst="ellipse">
                    <a:avLst/>
                  </a:prstGeom>
                  <a:solidFill>
                    <a:srgbClr val="ffffff"/>
                  </a:solidFill>
                  <a:ln w="32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6" name=""/>
                  <p:cNvSpPr/>
                  <p:nvPr/>
                </p:nvSpPr>
                <p:spPr>
                  <a:xfrm>
                    <a:off x="5978520" y="4576680"/>
                    <a:ext cx="44280" cy="44640"/>
                  </a:xfrm>
                  <a:prstGeom prst="rect">
                    <a:avLst/>
                  </a:prstGeom>
                  <a:solidFill>
                    <a:srgbClr val="ffff00"/>
                  </a:solidFill>
                  <a:ln w="324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777" name=""/>
                <p:cNvGrpSpPr/>
                <p:nvPr/>
              </p:nvGrpSpPr>
              <p:grpSpPr>
                <a:xfrm>
                  <a:off x="6468840" y="4506840"/>
                  <a:ext cx="58680" cy="120600"/>
                  <a:chOff x="6468840" y="4506840"/>
                  <a:chExt cx="58680" cy="120600"/>
                </a:xfrm>
              </p:grpSpPr>
              <p:sp>
                <p:nvSpPr>
                  <p:cNvPr id="778" name=""/>
                  <p:cNvSpPr/>
                  <p:nvPr/>
                </p:nvSpPr>
                <p:spPr>
                  <a:xfrm>
                    <a:off x="6468840" y="4506840"/>
                    <a:ext cx="58680" cy="1206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468840" y="4568760"/>
                    <a:ext cx="58680" cy="58680"/>
                  </a:xfrm>
                  <a:prstGeom prst="rect">
                    <a:avLst/>
                  </a:prstGeom>
                  <a:solidFill>
                    <a:srgbClr val="808080"/>
                  </a:solidFill>
                  <a:ln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0" name=""/>
                  <p:cNvSpPr/>
                  <p:nvPr/>
                </p:nvSpPr>
                <p:spPr>
                  <a:xfrm>
                    <a:off x="6468840" y="4506840"/>
                    <a:ext cx="57240" cy="57240"/>
                  </a:xfrm>
                  <a:prstGeom prst="ellipse">
                    <a:avLst/>
                  </a:prstGeom>
                  <a:solidFill>
                    <a:srgbClr val="ffffff"/>
                  </a:solidFill>
                  <a:ln w="32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1" name=""/>
                  <p:cNvSpPr/>
                  <p:nvPr/>
                </p:nvSpPr>
                <p:spPr>
                  <a:xfrm>
                    <a:off x="6475320" y="4576680"/>
                    <a:ext cx="44280" cy="44640"/>
                  </a:xfrm>
                  <a:prstGeom prst="rect">
                    <a:avLst/>
                  </a:prstGeom>
                  <a:solidFill>
                    <a:srgbClr val="ffff00"/>
                  </a:solidFill>
                  <a:ln w="324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782" name=""/>
                <p:cNvGrpSpPr/>
                <p:nvPr/>
              </p:nvGrpSpPr>
              <p:grpSpPr>
                <a:xfrm>
                  <a:off x="5981400" y="4754520"/>
                  <a:ext cx="535320" cy="166680"/>
                  <a:chOff x="5981400" y="4754520"/>
                  <a:chExt cx="535320" cy="166680"/>
                </a:xfrm>
              </p:grpSpPr>
              <p:grpSp>
                <p:nvGrpSpPr>
                  <p:cNvPr id="783" name=""/>
                  <p:cNvGrpSpPr/>
                  <p:nvPr/>
                </p:nvGrpSpPr>
                <p:grpSpPr>
                  <a:xfrm>
                    <a:off x="5981400" y="4754520"/>
                    <a:ext cx="535320" cy="81000"/>
                    <a:chOff x="5981400" y="4754520"/>
                    <a:chExt cx="535320" cy="81000"/>
                  </a:xfrm>
                </p:grpSpPr>
                <p:sp>
                  <p:nvSpPr>
                    <p:cNvPr id="784" name=""/>
                    <p:cNvSpPr/>
                    <p:nvPr/>
                  </p:nvSpPr>
                  <p:spPr>
                    <a:xfrm>
                      <a:off x="6175080" y="4754520"/>
                      <a:ext cx="147960" cy="81000"/>
                    </a:xfrm>
                    <a:prstGeom prst="ellipse">
                      <a:avLst/>
                    </a:prstGeom>
                    <a:solidFill>
                      <a:srgbClr val="3f3f3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5" name=""/>
                    <p:cNvSpPr/>
                    <p:nvPr/>
                  </p:nvSpPr>
                  <p:spPr>
                    <a:xfrm>
                      <a:off x="5981400" y="4761000"/>
                      <a:ext cx="535320" cy="44280"/>
                    </a:xfrm>
                    <a:prstGeom prst="rect">
                      <a:avLst/>
                    </a:prstGeom>
                    <a:solidFill>
                      <a:srgbClr val="3f3f3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86" name=""/>
                  <p:cNvGrpSpPr/>
                  <p:nvPr/>
                </p:nvGrpSpPr>
                <p:grpSpPr>
                  <a:xfrm>
                    <a:off x="5983200" y="4795920"/>
                    <a:ext cx="531720" cy="125280"/>
                    <a:chOff x="5983200" y="4795920"/>
                    <a:chExt cx="531720" cy="125280"/>
                  </a:xfrm>
                </p:grpSpPr>
                <p:grpSp>
                  <p:nvGrpSpPr>
                    <p:cNvPr id="787" name=""/>
                    <p:cNvGrpSpPr/>
                    <p:nvPr/>
                  </p:nvGrpSpPr>
                  <p:grpSpPr>
                    <a:xfrm>
                      <a:off x="5983200" y="4795920"/>
                      <a:ext cx="93600" cy="125280"/>
                      <a:chOff x="5983200" y="4795920"/>
                      <a:chExt cx="93600" cy="125280"/>
                    </a:xfrm>
                  </p:grpSpPr>
                  <p:sp>
                    <p:nvSpPr>
                      <p:cNvPr id="788" name=""/>
                      <p:cNvSpPr/>
                      <p:nvPr/>
                    </p:nvSpPr>
                    <p:spPr>
                      <a:xfrm>
                        <a:off x="5983200" y="4851360"/>
                        <a:ext cx="93600" cy="69840"/>
                      </a:xfrm>
                      <a:prstGeom prst="ellipse">
                        <a:avLst/>
                      </a:prstGeom>
                      <a:solidFill>
                        <a:srgbClr val="3f3f3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89" name=""/>
                      <p:cNvSpPr/>
                      <p:nvPr/>
                    </p:nvSpPr>
                    <p:spPr>
                      <a:xfrm>
                        <a:off x="5983200" y="4795920"/>
                        <a:ext cx="93600" cy="92160"/>
                      </a:xfrm>
                      <a:prstGeom prst="rect">
                        <a:avLst/>
                      </a:pr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90" name=""/>
                    <p:cNvGrpSpPr/>
                    <p:nvPr/>
                  </p:nvGrpSpPr>
                  <p:grpSpPr>
                    <a:xfrm>
                      <a:off x="6421320" y="4795920"/>
                      <a:ext cx="93600" cy="125280"/>
                      <a:chOff x="6421320" y="4795920"/>
                      <a:chExt cx="93600" cy="125280"/>
                    </a:xfrm>
                  </p:grpSpPr>
                  <p:sp>
                    <p:nvSpPr>
                      <p:cNvPr id="791" name=""/>
                      <p:cNvSpPr/>
                      <p:nvPr/>
                    </p:nvSpPr>
                    <p:spPr>
                      <a:xfrm>
                        <a:off x="6421320" y="4851360"/>
                        <a:ext cx="93600" cy="69840"/>
                      </a:xfrm>
                      <a:prstGeom prst="ellipse">
                        <a:avLst/>
                      </a:prstGeom>
                      <a:solidFill>
                        <a:srgbClr val="3f3f3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92" name=""/>
                      <p:cNvSpPr/>
                      <p:nvPr/>
                    </p:nvSpPr>
                    <p:spPr>
                      <a:xfrm>
                        <a:off x="6421320" y="4795920"/>
                        <a:ext cx="93600" cy="92160"/>
                      </a:xfrm>
                      <a:prstGeom prst="rect">
                        <a:avLst/>
                      </a:pr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grpSp>
            <p:grpSp>
              <p:nvGrpSpPr>
                <p:cNvPr id="793" name=""/>
                <p:cNvGrpSpPr/>
                <p:nvPr/>
              </p:nvGrpSpPr>
              <p:grpSpPr>
                <a:xfrm>
                  <a:off x="5930640" y="4656240"/>
                  <a:ext cx="636840" cy="108000"/>
                  <a:chOff x="5930640" y="4656240"/>
                  <a:chExt cx="636840" cy="108000"/>
                </a:xfrm>
              </p:grpSpPr>
              <p:sp>
                <p:nvSpPr>
                  <p:cNvPr id="794" name=""/>
                  <p:cNvSpPr/>
                  <p:nvPr/>
                </p:nvSpPr>
                <p:spPr>
                  <a:xfrm>
                    <a:off x="5930640" y="4656240"/>
                    <a:ext cx="636840" cy="108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5" name=""/>
                  <p:cNvGrpSpPr/>
                  <p:nvPr/>
                </p:nvGrpSpPr>
                <p:grpSpPr>
                  <a:xfrm>
                    <a:off x="5968800" y="4672080"/>
                    <a:ext cx="563760" cy="65160"/>
                    <a:chOff x="5968800" y="4672080"/>
                    <a:chExt cx="563760" cy="65160"/>
                  </a:xfrm>
                </p:grpSpPr>
                <p:sp>
                  <p:nvSpPr>
                    <p:cNvPr id="796" name=""/>
                    <p:cNvSpPr/>
                    <p:nvPr/>
                  </p:nvSpPr>
                  <p:spPr>
                    <a:xfrm>
                      <a:off x="6108480" y="4707000"/>
                      <a:ext cx="1094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7" name=""/>
                    <p:cNvSpPr/>
                    <p:nvPr/>
                  </p:nvSpPr>
                  <p:spPr>
                    <a:xfrm>
                      <a:off x="6283080" y="4707000"/>
                      <a:ext cx="1080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a:off x="5968800" y="4691160"/>
                      <a:ext cx="7956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9" name=""/>
                    <p:cNvSpPr/>
                    <p:nvPr/>
                  </p:nvSpPr>
                  <p:spPr>
                    <a:xfrm>
                      <a:off x="6454800" y="4691160"/>
                      <a:ext cx="7776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0" name=""/>
                    <p:cNvSpPr/>
                    <p:nvPr/>
                  </p:nvSpPr>
                  <p:spPr>
                    <a:xfrm>
                      <a:off x="6108480" y="4672080"/>
                      <a:ext cx="2811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801" name=""/>
                <p:cNvGrpSpPr/>
                <p:nvPr/>
              </p:nvGrpSpPr>
              <p:grpSpPr>
                <a:xfrm>
                  <a:off x="6000480" y="4065480"/>
                  <a:ext cx="500040" cy="322200"/>
                  <a:chOff x="6000480" y="4065480"/>
                  <a:chExt cx="500040" cy="322200"/>
                </a:xfrm>
              </p:grpSpPr>
              <p:sp>
                <p:nvSpPr>
                  <p:cNvPr id="802" name=""/>
                  <p:cNvSpPr/>
                  <p:nvPr/>
                </p:nvSpPr>
                <p:spPr>
                  <a:xfrm>
                    <a:off x="6271920" y="4065480"/>
                    <a:ext cx="228600" cy="284400"/>
                  </a:xfrm>
                  <a:custGeom>
                    <a:avLst/>
                    <a:gdLst/>
                    <a:ahLst/>
                    <a:rect l="l" t="t" r="r" b="b"/>
                    <a:pathLst>
                      <a:path w="575" h="716">
                        <a:moveTo>
                          <a:pt x="0" y="0"/>
                        </a:moveTo>
                        <a:lnTo>
                          <a:pt x="494" y="0"/>
                        </a:lnTo>
                        <a:lnTo>
                          <a:pt x="505" y="2"/>
                        </a:lnTo>
                        <a:lnTo>
                          <a:pt x="514" y="3"/>
                        </a:lnTo>
                        <a:lnTo>
                          <a:pt x="524" y="6"/>
                        </a:lnTo>
                        <a:lnTo>
                          <a:pt x="531" y="10"/>
                        </a:lnTo>
                        <a:lnTo>
                          <a:pt x="540" y="16"/>
                        </a:lnTo>
                        <a:lnTo>
                          <a:pt x="548" y="22"/>
                        </a:lnTo>
                        <a:lnTo>
                          <a:pt x="554" y="30"/>
                        </a:lnTo>
                        <a:lnTo>
                          <a:pt x="562" y="38"/>
                        </a:lnTo>
                        <a:lnTo>
                          <a:pt x="567" y="48"/>
                        </a:lnTo>
                        <a:lnTo>
                          <a:pt x="570" y="55"/>
                        </a:lnTo>
                        <a:lnTo>
                          <a:pt x="573" y="63"/>
                        </a:lnTo>
                        <a:lnTo>
                          <a:pt x="575" y="75"/>
                        </a:lnTo>
                        <a:lnTo>
                          <a:pt x="575" y="643"/>
                        </a:lnTo>
                        <a:lnTo>
                          <a:pt x="574" y="650"/>
                        </a:lnTo>
                        <a:lnTo>
                          <a:pt x="572" y="657"/>
                        </a:lnTo>
                        <a:lnTo>
                          <a:pt x="570" y="663"/>
                        </a:lnTo>
                        <a:lnTo>
                          <a:pt x="567" y="672"/>
                        </a:lnTo>
                        <a:lnTo>
                          <a:pt x="563" y="680"/>
                        </a:lnTo>
                        <a:lnTo>
                          <a:pt x="558" y="686"/>
                        </a:lnTo>
                        <a:lnTo>
                          <a:pt x="553" y="690"/>
                        </a:lnTo>
                        <a:lnTo>
                          <a:pt x="550" y="695"/>
                        </a:lnTo>
                        <a:lnTo>
                          <a:pt x="544" y="699"/>
                        </a:lnTo>
                        <a:lnTo>
                          <a:pt x="537" y="703"/>
                        </a:lnTo>
                        <a:lnTo>
                          <a:pt x="530" y="708"/>
                        </a:lnTo>
                        <a:lnTo>
                          <a:pt x="523" y="710"/>
                        </a:lnTo>
                        <a:lnTo>
                          <a:pt x="514" y="712"/>
                        </a:lnTo>
                        <a:lnTo>
                          <a:pt x="505" y="715"/>
                        </a:lnTo>
                        <a:lnTo>
                          <a:pt x="493" y="716"/>
                        </a:lnTo>
                        <a:lnTo>
                          <a:pt x="133" y="716"/>
                        </a:lnTo>
                        <a:lnTo>
                          <a:pt x="119" y="714"/>
                        </a:lnTo>
                        <a:lnTo>
                          <a:pt x="108" y="712"/>
                        </a:lnTo>
                        <a:lnTo>
                          <a:pt x="98" y="710"/>
                        </a:lnTo>
                        <a:lnTo>
                          <a:pt x="85" y="707"/>
                        </a:lnTo>
                        <a:lnTo>
                          <a:pt x="74" y="702"/>
                        </a:lnTo>
                        <a:lnTo>
                          <a:pt x="64" y="696"/>
                        </a:lnTo>
                        <a:lnTo>
                          <a:pt x="55" y="691"/>
                        </a:lnTo>
                        <a:lnTo>
                          <a:pt x="47" y="685"/>
                        </a:lnTo>
                        <a:lnTo>
                          <a:pt x="39" y="677"/>
                        </a:lnTo>
                        <a:lnTo>
                          <a:pt x="30" y="669"/>
                        </a:lnTo>
                        <a:lnTo>
                          <a:pt x="23" y="660"/>
                        </a:lnTo>
                        <a:lnTo>
                          <a:pt x="17" y="654"/>
                        </a:lnTo>
                        <a:lnTo>
                          <a:pt x="14" y="645"/>
                        </a:lnTo>
                        <a:lnTo>
                          <a:pt x="8" y="636"/>
                        </a:lnTo>
                        <a:lnTo>
                          <a:pt x="5" y="628"/>
                        </a:lnTo>
                        <a:lnTo>
                          <a:pt x="3" y="620"/>
                        </a:lnTo>
                        <a:lnTo>
                          <a:pt x="0" y="611"/>
                        </a:lnTo>
                        <a:lnTo>
                          <a:pt x="0" y="604"/>
                        </a:lnTo>
                        <a:lnTo>
                          <a:pt x="0" y="0"/>
                        </a:lnTo>
                        <a:close/>
                      </a:path>
                    </a:pathLst>
                  </a:custGeom>
                  <a:solidFill>
                    <a:srgbClr val="9fb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000480" y="4065480"/>
                    <a:ext cx="227160" cy="284400"/>
                  </a:xfrm>
                  <a:custGeom>
                    <a:avLst/>
                    <a:gdLst/>
                    <a:ahLst/>
                    <a:rect l="l" t="t" r="r" b="b"/>
                    <a:pathLst>
                      <a:path w="576" h="716">
                        <a:moveTo>
                          <a:pt x="576" y="0"/>
                        </a:moveTo>
                        <a:lnTo>
                          <a:pt x="80" y="0"/>
                        </a:lnTo>
                        <a:lnTo>
                          <a:pt x="70" y="2"/>
                        </a:lnTo>
                        <a:lnTo>
                          <a:pt x="61" y="3"/>
                        </a:lnTo>
                        <a:lnTo>
                          <a:pt x="51" y="6"/>
                        </a:lnTo>
                        <a:lnTo>
                          <a:pt x="44" y="10"/>
                        </a:lnTo>
                        <a:lnTo>
                          <a:pt x="35" y="16"/>
                        </a:lnTo>
                        <a:lnTo>
                          <a:pt x="28" y="22"/>
                        </a:lnTo>
                        <a:lnTo>
                          <a:pt x="21" y="30"/>
                        </a:lnTo>
                        <a:lnTo>
                          <a:pt x="13" y="38"/>
                        </a:lnTo>
                        <a:lnTo>
                          <a:pt x="8" y="48"/>
                        </a:lnTo>
                        <a:lnTo>
                          <a:pt x="5" y="55"/>
                        </a:lnTo>
                        <a:lnTo>
                          <a:pt x="3" y="63"/>
                        </a:lnTo>
                        <a:lnTo>
                          <a:pt x="0" y="75"/>
                        </a:lnTo>
                        <a:lnTo>
                          <a:pt x="0" y="643"/>
                        </a:lnTo>
                        <a:lnTo>
                          <a:pt x="2" y="650"/>
                        </a:lnTo>
                        <a:lnTo>
                          <a:pt x="4" y="657"/>
                        </a:lnTo>
                        <a:lnTo>
                          <a:pt x="5" y="663"/>
                        </a:lnTo>
                        <a:lnTo>
                          <a:pt x="8" y="672"/>
                        </a:lnTo>
                        <a:lnTo>
                          <a:pt x="12" y="680"/>
                        </a:lnTo>
                        <a:lnTo>
                          <a:pt x="17" y="686"/>
                        </a:lnTo>
                        <a:lnTo>
                          <a:pt x="22" y="690"/>
                        </a:lnTo>
                        <a:lnTo>
                          <a:pt x="25" y="695"/>
                        </a:lnTo>
                        <a:lnTo>
                          <a:pt x="31" y="699"/>
                        </a:lnTo>
                        <a:lnTo>
                          <a:pt x="37" y="703"/>
                        </a:lnTo>
                        <a:lnTo>
                          <a:pt x="45" y="708"/>
                        </a:lnTo>
                        <a:lnTo>
                          <a:pt x="53" y="710"/>
                        </a:lnTo>
                        <a:lnTo>
                          <a:pt x="61" y="712"/>
                        </a:lnTo>
                        <a:lnTo>
                          <a:pt x="70" y="715"/>
                        </a:lnTo>
                        <a:lnTo>
                          <a:pt x="82" y="716"/>
                        </a:lnTo>
                        <a:lnTo>
                          <a:pt x="444" y="716"/>
                        </a:lnTo>
                        <a:lnTo>
                          <a:pt x="456" y="714"/>
                        </a:lnTo>
                        <a:lnTo>
                          <a:pt x="467" y="712"/>
                        </a:lnTo>
                        <a:lnTo>
                          <a:pt x="478" y="710"/>
                        </a:lnTo>
                        <a:lnTo>
                          <a:pt x="490" y="707"/>
                        </a:lnTo>
                        <a:lnTo>
                          <a:pt x="501" y="702"/>
                        </a:lnTo>
                        <a:lnTo>
                          <a:pt x="511" y="696"/>
                        </a:lnTo>
                        <a:lnTo>
                          <a:pt x="520" y="691"/>
                        </a:lnTo>
                        <a:lnTo>
                          <a:pt x="529" y="685"/>
                        </a:lnTo>
                        <a:lnTo>
                          <a:pt x="536" y="677"/>
                        </a:lnTo>
                        <a:lnTo>
                          <a:pt x="544" y="669"/>
                        </a:lnTo>
                        <a:lnTo>
                          <a:pt x="553" y="660"/>
                        </a:lnTo>
                        <a:lnTo>
                          <a:pt x="558" y="654"/>
                        </a:lnTo>
                        <a:lnTo>
                          <a:pt x="561" y="645"/>
                        </a:lnTo>
                        <a:lnTo>
                          <a:pt x="567" y="636"/>
                        </a:lnTo>
                        <a:lnTo>
                          <a:pt x="570" y="628"/>
                        </a:lnTo>
                        <a:lnTo>
                          <a:pt x="572" y="620"/>
                        </a:lnTo>
                        <a:lnTo>
                          <a:pt x="574" y="611"/>
                        </a:lnTo>
                        <a:lnTo>
                          <a:pt x="576" y="604"/>
                        </a:lnTo>
                        <a:lnTo>
                          <a:pt x="576" y="0"/>
                        </a:lnTo>
                        <a:close/>
                      </a:path>
                    </a:pathLst>
                  </a:custGeom>
                  <a:solidFill>
                    <a:srgbClr val="9fb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
                  <p:cNvGrpSpPr/>
                  <p:nvPr/>
                </p:nvGrpSpPr>
                <p:grpSpPr>
                  <a:xfrm>
                    <a:off x="6040440" y="4137120"/>
                    <a:ext cx="156960" cy="250560"/>
                    <a:chOff x="6040440" y="4137120"/>
                    <a:chExt cx="156960" cy="250560"/>
                  </a:xfrm>
                </p:grpSpPr>
                <p:sp>
                  <p:nvSpPr>
                    <p:cNvPr id="805" name=""/>
                    <p:cNvSpPr/>
                    <p:nvPr/>
                  </p:nvSpPr>
                  <p:spPr>
                    <a:xfrm>
                      <a:off x="6040440" y="413712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048360" y="4251240"/>
                      <a:ext cx="149040" cy="136440"/>
                    </a:xfrm>
                    <a:custGeom>
                      <a:avLst/>
                      <a:gdLst/>
                      <a:ahLst/>
                      <a:rect l="l" t="t" r="r" b="b"/>
                      <a:pathLst>
                        <a:path w="377" h="344">
                          <a:moveTo>
                            <a:pt x="0" y="15"/>
                          </a:moveTo>
                          <a:lnTo>
                            <a:pt x="97" y="97"/>
                          </a:lnTo>
                          <a:lnTo>
                            <a:pt x="97" y="117"/>
                          </a:lnTo>
                          <a:lnTo>
                            <a:pt x="377" y="344"/>
                          </a:lnTo>
                          <a:lnTo>
                            <a:pt x="377" y="310"/>
                          </a:lnTo>
                          <a:lnTo>
                            <a:pt x="0"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6364080" y="4086360"/>
                    <a:ext cx="103320" cy="122040"/>
                    <a:chOff x="6364080" y="4086360"/>
                    <a:chExt cx="103320" cy="122040"/>
                  </a:xfrm>
                </p:grpSpPr>
                <p:grpSp>
                  <p:nvGrpSpPr>
                    <p:cNvPr id="808" name=""/>
                    <p:cNvGrpSpPr/>
                    <p:nvPr/>
                  </p:nvGrpSpPr>
                  <p:grpSpPr>
                    <a:xfrm>
                      <a:off x="6364080" y="4108320"/>
                      <a:ext cx="88920" cy="100080"/>
                      <a:chOff x="6364080" y="4108320"/>
                      <a:chExt cx="88920" cy="100080"/>
                    </a:xfrm>
                  </p:grpSpPr>
                  <p:sp>
                    <p:nvSpPr>
                      <p:cNvPr id="809" name=""/>
                      <p:cNvSpPr/>
                      <p:nvPr/>
                    </p:nvSpPr>
                    <p:spPr>
                      <a:xfrm>
                        <a:off x="6364080" y="4116240"/>
                        <a:ext cx="82440" cy="9216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0" name=""/>
                      <p:cNvSpPr/>
                      <p:nvPr/>
                    </p:nvSpPr>
                    <p:spPr>
                      <a:xfrm>
                        <a:off x="6370560" y="4108320"/>
                        <a:ext cx="82440" cy="9216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811" name=""/>
                    <p:cNvGrpSpPr/>
                    <p:nvPr/>
                  </p:nvGrpSpPr>
                  <p:grpSpPr>
                    <a:xfrm>
                      <a:off x="6381720" y="4086360"/>
                      <a:ext cx="85680" cy="99720"/>
                      <a:chOff x="6381720" y="4086360"/>
                      <a:chExt cx="85680" cy="99720"/>
                    </a:xfrm>
                  </p:grpSpPr>
                  <p:sp>
                    <p:nvSpPr>
                      <p:cNvPr id="812" name=""/>
                      <p:cNvSpPr/>
                      <p:nvPr/>
                    </p:nvSpPr>
                    <p:spPr>
                      <a:xfrm>
                        <a:off x="6381720" y="4094280"/>
                        <a:ext cx="82440" cy="9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6386400" y="4086360"/>
                        <a:ext cx="81000" cy="9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814" name=""/>
                  <p:cNvSpPr/>
                  <p:nvPr/>
                </p:nvSpPr>
                <p:spPr>
                  <a:xfrm>
                    <a:off x="6222960" y="4343400"/>
                    <a:ext cx="5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815" name=""/>
                  <p:cNvGrpSpPr/>
                  <p:nvPr/>
                </p:nvGrpSpPr>
                <p:grpSpPr>
                  <a:xfrm>
                    <a:off x="6311880" y="4135320"/>
                    <a:ext cx="155520" cy="250920"/>
                    <a:chOff x="6311880" y="4135320"/>
                    <a:chExt cx="155520" cy="250920"/>
                  </a:xfrm>
                </p:grpSpPr>
                <p:sp>
                  <p:nvSpPr>
                    <p:cNvPr id="816" name=""/>
                    <p:cNvSpPr/>
                    <p:nvPr/>
                  </p:nvSpPr>
                  <p:spPr>
                    <a:xfrm>
                      <a:off x="6311880" y="4135320"/>
                      <a:ext cx="46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316560" y="4251240"/>
                      <a:ext cx="150840" cy="135000"/>
                    </a:xfrm>
                    <a:custGeom>
                      <a:avLst/>
                      <a:gdLst/>
                      <a:ahLst/>
                      <a:rect l="l" t="t" r="r" b="b"/>
                      <a:pathLst>
                        <a:path w="379" h="342">
                          <a:moveTo>
                            <a:pt x="0" y="15"/>
                          </a:moveTo>
                          <a:lnTo>
                            <a:pt x="99" y="95"/>
                          </a:lnTo>
                          <a:lnTo>
                            <a:pt x="99" y="117"/>
                          </a:lnTo>
                          <a:lnTo>
                            <a:pt x="379" y="342"/>
                          </a:lnTo>
                          <a:lnTo>
                            <a:pt x="379" y="309"/>
                          </a:lnTo>
                          <a:lnTo>
                            <a:pt x="0"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8" name=""/>
                  <p:cNvGrpSpPr/>
                  <p:nvPr/>
                </p:nvGrpSpPr>
                <p:grpSpPr>
                  <a:xfrm>
                    <a:off x="6097320" y="4086360"/>
                    <a:ext cx="101880" cy="122040"/>
                    <a:chOff x="6097320" y="4086360"/>
                    <a:chExt cx="101880" cy="122040"/>
                  </a:xfrm>
                </p:grpSpPr>
                <p:grpSp>
                  <p:nvGrpSpPr>
                    <p:cNvPr id="819" name=""/>
                    <p:cNvGrpSpPr/>
                    <p:nvPr/>
                  </p:nvGrpSpPr>
                  <p:grpSpPr>
                    <a:xfrm>
                      <a:off x="6097320" y="4108320"/>
                      <a:ext cx="88920" cy="100080"/>
                      <a:chOff x="6097320" y="4108320"/>
                      <a:chExt cx="88920" cy="100080"/>
                    </a:xfrm>
                  </p:grpSpPr>
                  <p:sp>
                    <p:nvSpPr>
                      <p:cNvPr id="820" name=""/>
                      <p:cNvSpPr/>
                      <p:nvPr/>
                    </p:nvSpPr>
                    <p:spPr>
                      <a:xfrm>
                        <a:off x="6097320" y="4116240"/>
                        <a:ext cx="82800" cy="9216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1" name=""/>
                      <p:cNvSpPr/>
                      <p:nvPr/>
                    </p:nvSpPr>
                    <p:spPr>
                      <a:xfrm>
                        <a:off x="6102360" y="4108320"/>
                        <a:ext cx="83880" cy="939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6113160" y="4086360"/>
                      <a:ext cx="86040" cy="99720"/>
                      <a:chOff x="6113160" y="4086360"/>
                      <a:chExt cx="86040" cy="99720"/>
                    </a:xfrm>
                  </p:grpSpPr>
                  <p:sp>
                    <p:nvSpPr>
                      <p:cNvPr id="823" name=""/>
                      <p:cNvSpPr/>
                      <p:nvPr/>
                    </p:nvSpPr>
                    <p:spPr>
                      <a:xfrm>
                        <a:off x="6113160" y="4094280"/>
                        <a:ext cx="82800" cy="9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6119640" y="4086360"/>
                        <a:ext cx="79560" cy="9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grpSp>
          <p:grpSp>
            <p:nvGrpSpPr>
              <p:cNvPr id="825" name=""/>
              <p:cNvGrpSpPr/>
              <p:nvPr/>
            </p:nvGrpSpPr>
            <p:grpSpPr>
              <a:xfrm>
                <a:off x="4600440" y="4211640"/>
                <a:ext cx="861840" cy="1138320"/>
                <a:chOff x="4600440" y="4211640"/>
                <a:chExt cx="861840" cy="1138320"/>
              </a:xfrm>
            </p:grpSpPr>
            <p:grpSp>
              <p:nvGrpSpPr>
                <p:cNvPr id="826" name=""/>
                <p:cNvGrpSpPr/>
                <p:nvPr/>
              </p:nvGrpSpPr>
              <p:grpSpPr>
                <a:xfrm>
                  <a:off x="4600440" y="4211640"/>
                  <a:ext cx="861840" cy="1136520"/>
                  <a:chOff x="4600440" y="4211640"/>
                  <a:chExt cx="861840" cy="1136520"/>
                </a:xfrm>
              </p:grpSpPr>
              <p:sp>
                <p:nvSpPr>
                  <p:cNvPr id="827" name=""/>
                  <p:cNvSpPr/>
                  <p:nvPr/>
                </p:nvSpPr>
                <p:spPr>
                  <a:xfrm>
                    <a:off x="4719600" y="4457880"/>
                    <a:ext cx="701640" cy="763560"/>
                  </a:xfrm>
                  <a:custGeom>
                    <a:avLst/>
                    <a:gdLst/>
                    <a:ahLst/>
                    <a:rect l="l" t="t" r="r" b="b"/>
                    <a:pathLst>
                      <a:path w="1770" h="1920">
                        <a:moveTo>
                          <a:pt x="0" y="0"/>
                        </a:moveTo>
                        <a:lnTo>
                          <a:pt x="55" y="55"/>
                        </a:lnTo>
                        <a:lnTo>
                          <a:pt x="110" y="0"/>
                        </a:lnTo>
                        <a:lnTo>
                          <a:pt x="166" y="55"/>
                        </a:lnTo>
                        <a:lnTo>
                          <a:pt x="221" y="0"/>
                        </a:lnTo>
                        <a:lnTo>
                          <a:pt x="276" y="55"/>
                        </a:lnTo>
                        <a:lnTo>
                          <a:pt x="332" y="0"/>
                        </a:lnTo>
                        <a:lnTo>
                          <a:pt x="387" y="55"/>
                        </a:lnTo>
                        <a:lnTo>
                          <a:pt x="442" y="0"/>
                        </a:lnTo>
                        <a:lnTo>
                          <a:pt x="499" y="55"/>
                        </a:lnTo>
                        <a:lnTo>
                          <a:pt x="553" y="0"/>
                        </a:lnTo>
                        <a:lnTo>
                          <a:pt x="608" y="55"/>
                        </a:lnTo>
                        <a:lnTo>
                          <a:pt x="665" y="0"/>
                        </a:lnTo>
                        <a:lnTo>
                          <a:pt x="720" y="55"/>
                        </a:lnTo>
                        <a:lnTo>
                          <a:pt x="774" y="0"/>
                        </a:lnTo>
                        <a:lnTo>
                          <a:pt x="831" y="55"/>
                        </a:lnTo>
                        <a:lnTo>
                          <a:pt x="884" y="0"/>
                        </a:lnTo>
                        <a:lnTo>
                          <a:pt x="939" y="55"/>
                        </a:lnTo>
                        <a:lnTo>
                          <a:pt x="995" y="0"/>
                        </a:lnTo>
                        <a:lnTo>
                          <a:pt x="1050" y="55"/>
                        </a:lnTo>
                        <a:lnTo>
                          <a:pt x="1105" y="0"/>
                        </a:lnTo>
                        <a:lnTo>
                          <a:pt x="1162" y="55"/>
                        </a:lnTo>
                        <a:lnTo>
                          <a:pt x="1216" y="0"/>
                        </a:lnTo>
                        <a:lnTo>
                          <a:pt x="1271" y="55"/>
                        </a:lnTo>
                        <a:lnTo>
                          <a:pt x="1328" y="0"/>
                        </a:lnTo>
                        <a:lnTo>
                          <a:pt x="1383" y="55"/>
                        </a:lnTo>
                        <a:lnTo>
                          <a:pt x="1437" y="0"/>
                        </a:lnTo>
                        <a:lnTo>
                          <a:pt x="1494" y="55"/>
                        </a:lnTo>
                        <a:lnTo>
                          <a:pt x="1549" y="0"/>
                        </a:lnTo>
                        <a:lnTo>
                          <a:pt x="1604" y="55"/>
                        </a:lnTo>
                        <a:lnTo>
                          <a:pt x="1660" y="0"/>
                        </a:lnTo>
                        <a:lnTo>
                          <a:pt x="1715" y="55"/>
                        </a:lnTo>
                        <a:lnTo>
                          <a:pt x="1770" y="0"/>
                        </a:lnTo>
                        <a:lnTo>
                          <a:pt x="1770" y="1920"/>
                        </a:lnTo>
                        <a:lnTo>
                          <a:pt x="0" y="1920"/>
                        </a:lnTo>
                        <a:lnTo>
                          <a:pt x="0" y="0"/>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71780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8"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9" name=""/>
                  <p:cNvSpPr/>
                  <p:nvPr/>
                </p:nvSpPr>
                <p:spPr>
                  <a:xfrm>
                    <a:off x="4740120" y="4456080"/>
                    <a:ext cx="23760" cy="25560"/>
                  </a:xfrm>
                  <a:custGeom>
                    <a:avLst/>
                    <a:gdLst/>
                    <a:ahLst/>
                    <a:rect l="l" t="t" r="r" b="b"/>
                    <a:pathLst>
                      <a:path w="62" h="66">
                        <a:moveTo>
                          <a:pt x="62" y="4"/>
                        </a:moveTo>
                        <a:lnTo>
                          <a:pt x="54" y="4"/>
                        </a:lnTo>
                        <a:lnTo>
                          <a:pt x="0" y="59"/>
                        </a:lnTo>
                        <a:lnTo>
                          <a:pt x="7" y="66"/>
                        </a:lnTo>
                        <a:lnTo>
                          <a:pt x="62" y="12"/>
                        </a:lnTo>
                        <a:lnTo>
                          <a:pt x="54" y="12"/>
                        </a:lnTo>
                        <a:lnTo>
                          <a:pt x="62" y="4"/>
                        </a:lnTo>
                        <a:lnTo>
                          <a:pt x="58" y="0"/>
                        </a:lnTo>
                        <a:lnTo>
                          <a:pt x="54" y="4"/>
                        </a:lnTo>
                        <a:lnTo>
                          <a:pt x="62"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0" name=""/>
                  <p:cNvSpPr/>
                  <p:nvPr/>
                </p:nvSpPr>
                <p:spPr>
                  <a:xfrm>
                    <a:off x="4762440" y="4457880"/>
                    <a:ext cx="25200" cy="25200"/>
                  </a:xfrm>
                  <a:custGeom>
                    <a:avLst/>
                    <a:gdLst/>
                    <a:ahLst/>
                    <a:rect l="l" t="t" r="r" b="b"/>
                    <a:pathLst>
                      <a:path w="64" h="66">
                        <a:moveTo>
                          <a:pt x="57" y="55"/>
                        </a:moveTo>
                        <a:lnTo>
                          <a:pt x="64" y="55"/>
                        </a:lnTo>
                        <a:lnTo>
                          <a:pt x="8" y="0"/>
                        </a:lnTo>
                        <a:lnTo>
                          <a:pt x="0" y="8"/>
                        </a:lnTo>
                        <a:lnTo>
                          <a:pt x="57" y="62"/>
                        </a:lnTo>
                        <a:lnTo>
                          <a:pt x="64" y="62"/>
                        </a:lnTo>
                        <a:lnTo>
                          <a:pt x="57" y="62"/>
                        </a:lnTo>
                        <a:lnTo>
                          <a:pt x="60" y="66"/>
                        </a:lnTo>
                        <a:lnTo>
                          <a:pt x="64" y="62"/>
                        </a:lnTo>
                        <a:lnTo>
                          <a:pt x="57"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1" name=""/>
                  <p:cNvSpPr/>
                  <p:nvPr/>
                </p:nvSpPr>
                <p:spPr>
                  <a:xfrm>
                    <a:off x="4784400" y="4454640"/>
                    <a:ext cx="24120" cy="27000"/>
                  </a:xfrm>
                  <a:custGeom>
                    <a:avLst/>
                    <a:gdLst/>
                    <a:ahLst/>
                    <a:rect l="l" t="t" r="r" b="b"/>
                    <a:pathLst>
                      <a:path w="62" h="67">
                        <a:moveTo>
                          <a:pt x="62" y="5"/>
                        </a:moveTo>
                        <a:lnTo>
                          <a:pt x="55" y="5"/>
                        </a:lnTo>
                        <a:lnTo>
                          <a:pt x="0" y="60"/>
                        </a:lnTo>
                        <a:lnTo>
                          <a:pt x="7" y="67"/>
                        </a:lnTo>
                        <a:lnTo>
                          <a:pt x="62" y="13"/>
                        </a:lnTo>
                        <a:lnTo>
                          <a:pt x="55" y="13"/>
                        </a:lnTo>
                        <a:lnTo>
                          <a:pt x="62" y="5"/>
                        </a:lnTo>
                        <a:lnTo>
                          <a:pt x="58"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2" name=""/>
                  <p:cNvSpPr/>
                  <p:nvPr/>
                </p:nvSpPr>
                <p:spPr>
                  <a:xfrm>
                    <a:off x="4805280" y="4457880"/>
                    <a:ext cx="25200" cy="25200"/>
                  </a:xfrm>
                  <a:custGeom>
                    <a:avLst/>
                    <a:gdLst/>
                    <a:ahLst/>
                    <a:rect l="l" t="t" r="r" b="b"/>
                    <a:pathLst>
                      <a:path w="62" h="66">
                        <a:moveTo>
                          <a:pt x="55" y="55"/>
                        </a:moveTo>
                        <a:lnTo>
                          <a:pt x="62" y="55"/>
                        </a:lnTo>
                        <a:lnTo>
                          <a:pt x="7" y="0"/>
                        </a:lnTo>
                        <a:lnTo>
                          <a:pt x="0" y="8"/>
                        </a:lnTo>
                        <a:lnTo>
                          <a:pt x="55" y="62"/>
                        </a:lnTo>
                        <a:lnTo>
                          <a:pt x="62" y="62"/>
                        </a:lnTo>
                        <a:lnTo>
                          <a:pt x="55" y="62"/>
                        </a:lnTo>
                        <a:lnTo>
                          <a:pt x="58" y="66"/>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3" name=""/>
                  <p:cNvSpPr/>
                  <p:nvPr/>
                </p:nvSpPr>
                <p:spPr>
                  <a:xfrm>
                    <a:off x="4827600" y="4456080"/>
                    <a:ext cx="25200" cy="25560"/>
                  </a:xfrm>
                  <a:custGeom>
                    <a:avLst/>
                    <a:gdLst/>
                    <a:ahLst/>
                    <a:rect l="l" t="t" r="r" b="b"/>
                    <a:pathLst>
                      <a:path w="63" h="66">
                        <a:moveTo>
                          <a:pt x="63" y="4"/>
                        </a:moveTo>
                        <a:lnTo>
                          <a:pt x="56" y="4"/>
                        </a:lnTo>
                        <a:lnTo>
                          <a:pt x="0" y="59"/>
                        </a:lnTo>
                        <a:lnTo>
                          <a:pt x="7" y="66"/>
                        </a:lnTo>
                        <a:lnTo>
                          <a:pt x="63" y="12"/>
                        </a:lnTo>
                        <a:lnTo>
                          <a:pt x="56" y="12"/>
                        </a:lnTo>
                        <a:lnTo>
                          <a:pt x="63" y="4"/>
                        </a:lnTo>
                        <a:lnTo>
                          <a:pt x="59" y="0"/>
                        </a:lnTo>
                        <a:lnTo>
                          <a:pt x="56" y="4"/>
                        </a:lnTo>
                        <a:lnTo>
                          <a:pt x="63"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4" name=""/>
                  <p:cNvSpPr/>
                  <p:nvPr/>
                </p:nvSpPr>
                <p:spPr>
                  <a:xfrm>
                    <a:off x="484956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8"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5" name=""/>
                  <p:cNvSpPr/>
                  <p:nvPr/>
                </p:nvSpPr>
                <p:spPr>
                  <a:xfrm>
                    <a:off x="4871880" y="4456080"/>
                    <a:ext cx="25560" cy="25560"/>
                  </a:xfrm>
                  <a:custGeom>
                    <a:avLst/>
                    <a:gdLst/>
                    <a:ahLst/>
                    <a:rect l="l" t="t" r="r" b="b"/>
                    <a:pathLst>
                      <a:path w="62" h="66">
                        <a:moveTo>
                          <a:pt x="62" y="4"/>
                        </a:moveTo>
                        <a:lnTo>
                          <a:pt x="55" y="4"/>
                        </a:lnTo>
                        <a:lnTo>
                          <a:pt x="0" y="59"/>
                        </a:lnTo>
                        <a:lnTo>
                          <a:pt x="7" y="66"/>
                        </a:lnTo>
                        <a:lnTo>
                          <a:pt x="62" y="12"/>
                        </a:lnTo>
                        <a:lnTo>
                          <a:pt x="55" y="12"/>
                        </a:lnTo>
                        <a:lnTo>
                          <a:pt x="62" y="4"/>
                        </a:lnTo>
                        <a:lnTo>
                          <a:pt x="58" y="0"/>
                        </a:lnTo>
                        <a:lnTo>
                          <a:pt x="55" y="4"/>
                        </a:lnTo>
                        <a:lnTo>
                          <a:pt x="62"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6" name=""/>
                  <p:cNvSpPr/>
                  <p:nvPr/>
                </p:nvSpPr>
                <p:spPr>
                  <a:xfrm>
                    <a:off x="4894200" y="4457880"/>
                    <a:ext cx="25200" cy="25200"/>
                  </a:xfrm>
                  <a:custGeom>
                    <a:avLst/>
                    <a:gdLst/>
                    <a:ahLst/>
                    <a:rect l="l" t="t" r="r" b="b"/>
                    <a:pathLst>
                      <a:path w="63" h="66">
                        <a:moveTo>
                          <a:pt x="56" y="55"/>
                        </a:moveTo>
                        <a:lnTo>
                          <a:pt x="63" y="55"/>
                        </a:lnTo>
                        <a:lnTo>
                          <a:pt x="7" y="0"/>
                        </a:lnTo>
                        <a:lnTo>
                          <a:pt x="0" y="8"/>
                        </a:lnTo>
                        <a:lnTo>
                          <a:pt x="56" y="62"/>
                        </a:lnTo>
                        <a:lnTo>
                          <a:pt x="63" y="62"/>
                        </a:lnTo>
                        <a:lnTo>
                          <a:pt x="56" y="62"/>
                        </a:lnTo>
                        <a:lnTo>
                          <a:pt x="60" y="66"/>
                        </a:lnTo>
                        <a:lnTo>
                          <a:pt x="63" y="62"/>
                        </a:lnTo>
                        <a:lnTo>
                          <a:pt x="56"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7" name=""/>
                  <p:cNvSpPr/>
                  <p:nvPr/>
                </p:nvSpPr>
                <p:spPr>
                  <a:xfrm>
                    <a:off x="4916520" y="4454640"/>
                    <a:ext cx="23760" cy="27000"/>
                  </a:xfrm>
                  <a:custGeom>
                    <a:avLst/>
                    <a:gdLst/>
                    <a:ahLst/>
                    <a:rect l="l" t="t" r="r" b="b"/>
                    <a:pathLst>
                      <a:path w="62" h="67">
                        <a:moveTo>
                          <a:pt x="62" y="5"/>
                        </a:moveTo>
                        <a:lnTo>
                          <a:pt x="55" y="5"/>
                        </a:lnTo>
                        <a:lnTo>
                          <a:pt x="0" y="60"/>
                        </a:lnTo>
                        <a:lnTo>
                          <a:pt x="7" y="67"/>
                        </a:lnTo>
                        <a:lnTo>
                          <a:pt x="62" y="13"/>
                        </a:lnTo>
                        <a:lnTo>
                          <a:pt x="55" y="13"/>
                        </a:lnTo>
                        <a:lnTo>
                          <a:pt x="62" y="5"/>
                        </a:lnTo>
                        <a:lnTo>
                          <a:pt x="58"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8" name=""/>
                  <p:cNvSpPr/>
                  <p:nvPr/>
                </p:nvSpPr>
                <p:spPr>
                  <a:xfrm>
                    <a:off x="4937040" y="4457880"/>
                    <a:ext cx="25200" cy="25200"/>
                  </a:xfrm>
                  <a:custGeom>
                    <a:avLst/>
                    <a:gdLst/>
                    <a:ahLst/>
                    <a:rect l="l" t="t" r="r" b="b"/>
                    <a:pathLst>
                      <a:path w="62" h="66">
                        <a:moveTo>
                          <a:pt x="55" y="55"/>
                        </a:moveTo>
                        <a:lnTo>
                          <a:pt x="62" y="55"/>
                        </a:lnTo>
                        <a:lnTo>
                          <a:pt x="7" y="0"/>
                        </a:lnTo>
                        <a:lnTo>
                          <a:pt x="0" y="8"/>
                        </a:lnTo>
                        <a:lnTo>
                          <a:pt x="55" y="62"/>
                        </a:lnTo>
                        <a:lnTo>
                          <a:pt x="62" y="62"/>
                        </a:lnTo>
                        <a:lnTo>
                          <a:pt x="55" y="62"/>
                        </a:lnTo>
                        <a:lnTo>
                          <a:pt x="58" y="66"/>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9" name=""/>
                  <p:cNvSpPr/>
                  <p:nvPr/>
                </p:nvSpPr>
                <p:spPr>
                  <a:xfrm>
                    <a:off x="4959360" y="4456080"/>
                    <a:ext cx="25200" cy="25560"/>
                  </a:xfrm>
                  <a:custGeom>
                    <a:avLst/>
                    <a:gdLst/>
                    <a:ahLst/>
                    <a:rect l="l" t="t" r="r" b="b"/>
                    <a:pathLst>
                      <a:path w="63" h="66">
                        <a:moveTo>
                          <a:pt x="63" y="4"/>
                        </a:moveTo>
                        <a:lnTo>
                          <a:pt x="56" y="4"/>
                        </a:lnTo>
                        <a:lnTo>
                          <a:pt x="0" y="59"/>
                        </a:lnTo>
                        <a:lnTo>
                          <a:pt x="7" y="66"/>
                        </a:lnTo>
                        <a:lnTo>
                          <a:pt x="63" y="12"/>
                        </a:lnTo>
                        <a:lnTo>
                          <a:pt x="56" y="12"/>
                        </a:lnTo>
                        <a:lnTo>
                          <a:pt x="63" y="4"/>
                        </a:lnTo>
                        <a:lnTo>
                          <a:pt x="60" y="0"/>
                        </a:lnTo>
                        <a:lnTo>
                          <a:pt x="56" y="4"/>
                        </a:lnTo>
                        <a:lnTo>
                          <a:pt x="63"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0" name=""/>
                  <p:cNvSpPr/>
                  <p:nvPr/>
                </p:nvSpPr>
                <p:spPr>
                  <a:xfrm>
                    <a:off x="498132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1" name=""/>
                  <p:cNvSpPr/>
                  <p:nvPr/>
                </p:nvSpPr>
                <p:spPr>
                  <a:xfrm>
                    <a:off x="5003640" y="4456080"/>
                    <a:ext cx="25560" cy="25560"/>
                  </a:xfrm>
                  <a:custGeom>
                    <a:avLst/>
                    <a:gdLst/>
                    <a:ahLst/>
                    <a:rect l="l" t="t" r="r" b="b"/>
                    <a:pathLst>
                      <a:path w="62" h="66">
                        <a:moveTo>
                          <a:pt x="62" y="4"/>
                        </a:moveTo>
                        <a:lnTo>
                          <a:pt x="55" y="4"/>
                        </a:lnTo>
                        <a:lnTo>
                          <a:pt x="0" y="59"/>
                        </a:lnTo>
                        <a:lnTo>
                          <a:pt x="7" y="66"/>
                        </a:lnTo>
                        <a:lnTo>
                          <a:pt x="62" y="12"/>
                        </a:lnTo>
                        <a:lnTo>
                          <a:pt x="55" y="12"/>
                        </a:lnTo>
                        <a:lnTo>
                          <a:pt x="62" y="4"/>
                        </a:lnTo>
                        <a:lnTo>
                          <a:pt x="58" y="0"/>
                        </a:lnTo>
                        <a:lnTo>
                          <a:pt x="55" y="4"/>
                        </a:lnTo>
                        <a:lnTo>
                          <a:pt x="62"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2" name=""/>
                  <p:cNvSpPr/>
                  <p:nvPr/>
                </p:nvSpPr>
                <p:spPr>
                  <a:xfrm>
                    <a:off x="5025960" y="4457880"/>
                    <a:ext cx="25200" cy="25200"/>
                  </a:xfrm>
                  <a:custGeom>
                    <a:avLst/>
                    <a:gdLst/>
                    <a:ahLst/>
                    <a:rect l="l" t="t" r="r" b="b"/>
                    <a:pathLst>
                      <a:path w="63" h="67">
                        <a:moveTo>
                          <a:pt x="56" y="55"/>
                        </a:moveTo>
                        <a:lnTo>
                          <a:pt x="63" y="55"/>
                        </a:lnTo>
                        <a:lnTo>
                          <a:pt x="7" y="0"/>
                        </a:lnTo>
                        <a:lnTo>
                          <a:pt x="0" y="8"/>
                        </a:lnTo>
                        <a:lnTo>
                          <a:pt x="56" y="62"/>
                        </a:lnTo>
                        <a:lnTo>
                          <a:pt x="63" y="62"/>
                        </a:lnTo>
                        <a:lnTo>
                          <a:pt x="56" y="62"/>
                        </a:lnTo>
                        <a:lnTo>
                          <a:pt x="60" y="67"/>
                        </a:lnTo>
                        <a:lnTo>
                          <a:pt x="63" y="62"/>
                        </a:lnTo>
                        <a:lnTo>
                          <a:pt x="56"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3" name=""/>
                  <p:cNvSpPr/>
                  <p:nvPr/>
                </p:nvSpPr>
                <p:spPr>
                  <a:xfrm>
                    <a:off x="5048280" y="4454640"/>
                    <a:ext cx="23760" cy="27000"/>
                  </a:xfrm>
                  <a:custGeom>
                    <a:avLst/>
                    <a:gdLst/>
                    <a:ahLst/>
                    <a:rect l="l" t="t" r="r" b="b"/>
                    <a:pathLst>
                      <a:path w="61" h="67">
                        <a:moveTo>
                          <a:pt x="61" y="5"/>
                        </a:moveTo>
                        <a:lnTo>
                          <a:pt x="54" y="5"/>
                        </a:lnTo>
                        <a:lnTo>
                          <a:pt x="0" y="60"/>
                        </a:lnTo>
                        <a:lnTo>
                          <a:pt x="7" y="67"/>
                        </a:lnTo>
                        <a:lnTo>
                          <a:pt x="61" y="13"/>
                        </a:lnTo>
                        <a:lnTo>
                          <a:pt x="54" y="13"/>
                        </a:lnTo>
                        <a:lnTo>
                          <a:pt x="61" y="5"/>
                        </a:lnTo>
                        <a:lnTo>
                          <a:pt x="57" y="0"/>
                        </a:lnTo>
                        <a:lnTo>
                          <a:pt x="54" y="5"/>
                        </a:lnTo>
                        <a:lnTo>
                          <a:pt x="61"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4" name=""/>
                  <p:cNvSpPr/>
                  <p:nvPr/>
                </p:nvSpPr>
                <p:spPr>
                  <a:xfrm>
                    <a:off x="5068800" y="4457880"/>
                    <a:ext cx="25200" cy="25200"/>
                  </a:xfrm>
                  <a:custGeom>
                    <a:avLst/>
                    <a:gdLst/>
                    <a:ahLst/>
                    <a:rect l="l" t="t" r="r" b="b"/>
                    <a:pathLst>
                      <a:path w="62" h="66">
                        <a:moveTo>
                          <a:pt x="55" y="55"/>
                        </a:moveTo>
                        <a:lnTo>
                          <a:pt x="62" y="55"/>
                        </a:lnTo>
                        <a:lnTo>
                          <a:pt x="7" y="0"/>
                        </a:lnTo>
                        <a:lnTo>
                          <a:pt x="0" y="8"/>
                        </a:lnTo>
                        <a:lnTo>
                          <a:pt x="55" y="62"/>
                        </a:lnTo>
                        <a:lnTo>
                          <a:pt x="62" y="62"/>
                        </a:lnTo>
                        <a:lnTo>
                          <a:pt x="55" y="62"/>
                        </a:lnTo>
                        <a:lnTo>
                          <a:pt x="58" y="66"/>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5" name=""/>
                  <p:cNvSpPr/>
                  <p:nvPr/>
                </p:nvSpPr>
                <p:spPr>
                  <a:xfrm>
                    <a:off x="5091120" y="4456080"/>
                    <a:ext cx="25200" cy="25560"/>
                  </a:xfrm>
                  <a:custGeom>
                    <a:avLst/>
                    <a:gdLst/>
                    <a:ahLst/>
                    <a:rect l="l" t="t" r="r" b="b"/>
                    <a:pathLst>
                      <a:path w="63" h="66">
                        <a:moveTo>
                          <a:pt x="63" y="4"/>
                        </a:moveTo>
                        <a:lnTo>
                          <a:pt x="56" y="4"/>
                        </a:lnTo>
                        <a:lnTo>
                          <a:pt x="0" y="59"/>
                        </a:lnTo>
                        <a:lnTo>
                          <a:pt x="7" y="66"/>
                        </a:lnTo>
                        <a:lnTo>
                          <a:pt x="63" y="12"/>
                        </a:lnTo>
                        <a:lnTo>
                          <a:pt x="56" y="12"/>
                        </a:lnTo>
                        <a:lnTo>
                          <a:pt x="63" y="4"/>
                        </a:lnTo>
                        <a:lnTo>
                          <a:pt x="59" y="0"/>
                        </a:lnTo>
                        <a:lnTo>
                          <a:pt x="56" y="4"/>
                        </a:lnTo>
                        <a:lnTo>
                          <a:pt x="63"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6" name=""/>
                  <p:cNvSpPr/>
                  <p:nvPr/>
                </p:nvSpPr>
                <p:spPr>
                  <a:xfrm>
                    <a:off x="511308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8"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7" name=""/>
                  <p:cNvSpPr/>
                  <p:nvPr/>
                </p:nvSpPr>
                <p:spPr>
                  <a:xfrm>
                    <a:off x="5135400" y="4456080"/>
                    <a:ext cx="23760" cy="25560"/>
                  </a:xfrm>
                  <a:custGeom>
                    <a:avLst/>
                    <a:gdLst/>
                    <a:ahLst/>
                    <a:rect l="l" t="t" r="r" b="b"/>
                    <a:pathLst>
                      <a:path w="62" h="66">
                        <a:moveTo>
                          <a:pt x="62" y="4"/>
                        </a:moveTo>
                        <a:lnTo>
                          <a:pt x="55" y="4"/>
                        </a:lnTo>
                        <a:lnTo>
                          <a:pt x="0" y="59"/>
                        </a:lnTo>
                        <a:lnTo>
                          <a:pt x="7" y="66"/>
                        </a:lnTo>
                        <a:lnTo>
                          <a:pt x="62" y="12"/>
                        </a:lnTo>
                        <a:lnTo>
                          <a:pt x="55" y="12"/>
                        </a:lnTo>
                        <a:lnTo>
                          <a:pt x="62" y="4"/>
                        </a:lnTo>
                        <a:lnTo>
                          <a:pt x="58" y="0"/>
                        </a:lnTo>
                        <a:lnTo>
                          <a:pt x="55" y="4"/>
                        </a:lnTo>
                        <a:lnTo>
                          <a:pt x="62"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8" name=""/>
                  <p:cNvSpPr/>
                  <p:nvPr/>
                </p:nvSpPr>
                <p:spPr>
                  <a:xfrm>
                    <a:off x="5155920" y="4457880"/>
                    <a:ext cx="25560" cy="25200"/>
                  </a:xfrm>
                  <a:custGeom>
                    <a:avLst/>
                    <a:gdLst/>
                    <a:ahLst/>
                    <a:rect l="l" t="t" r="r" b="b"/>
                    <a:pathLst>
                      <a:path w="63" h="66">
                        <a:moveTo>
                          <a:pt x="56" y="55"/>
                        </a:moveTo>
                        <a:lnTo>
                          <a:pt x="63" y="55"/>
                        </a:lnTo>
                        <a:lnTo>
                          <a:pt x="7" y="0"/>
                        </a:lnTo>
                        <a:lnTo>
                          <a:pt x="0" y="8"/>
                        </a:lnTo>
                        <a:lnTo>
                          <a:pt x="56" y="62"/>
                        </a:lnTo>
                        <a:lnTo>
                          <a:pt x="63" y="62"/>
                        </a:lnTo>
                        <a:lnTo>
                          <a:pt x="56" y="62"/>
                        </a:lnTo>
                        <a:lnTo>
                          <a:pt x="60" y="66"/>
                        </a:lnTo>
                        <a:lnTo>
                          <a:pt x="63" y="62"/>
                        </a:lnTo>
                        <a:lnTo>
                          <a:pt x="56"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9" name=""/>
                  <p:cNvSpPr/>
                  <p:nvPr/>
                </p:nvSpPr>
                <p:spPr>
                  <a:xfrm>
                    <a:off x="5178240" y="4454640"/>
                    <a:ext cx="25560" cy="27000"/>
                  </a:xfrm>
                  <a:custGeom>
                    <a:avLst/>
                    <a:gdLst/>
                    <a:ahLst/>
                    <a:rect l="l" t="t" r="r" b="b"/>
                    <a:pathLst>
                      <a:path w="62" h="67">
                        <a:moveTo>
                          <a:pt x="62" y="5"/>
                        </a:moveTo>
                        <a:lnTo>
                          <a:pt x="55" y="5"/>
                        </a:lnTo>
                        <a:lnTo>
                          <a:pt x="0" y="60"/>
                        </a:lnTo>
                        <a:lnTo>
                          <a:pt x="7" y="67"/>
                        </a:lnTo>
                        <a:lnTo>
                          <a:pt x="62" y="13"/>
                        </a:lnTo>
                        <a:lnTo>
                          <a:pt x="55" y="13"/>
                        </a:lnTo>
                        <a:lnTo>
                          <a:pt x="62" y="5"/>
                        </a:lnTo>
                        <a:lnTo>
                          <a:pt x="58"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0" name=""/>
                  <p:cNvSpPr/>
                  <p:nvPr/>
                </p:nvSpPr>
                <p:spPr>
                  <a:xfrm>
                    <a:off x="5200560" y="4457880"/>
                    <a:ext cx="25200" cy="25200"/>
                  </a:xfrm>
                  <a:custGeom>
                    <a:avLst/>
                    <a:gdLst/>
                    <a:ahLst/>
                    <a:rect l="l" t="t" r="r" b="b"/>
                    <a:pathLst>
                      <a:path w="62" h="66">
                        <a:moveTo>
                          <a:pt x="55" y="55"/>
                        </a:moveTo>
                        <a:lnTo>
                          <a:pt x="62" y="55"/>
                        </a:lnTo>
                        <a:lnTo>
                          <a:pt x="7" y="0"/>
                        </a:lnTo>
                        <a:lnTo>
                          <a:pt x="0" y="8"/>
                        </a:lnTo>
                        <a:lnTo>
                          <a:pt x="55" y="62"/>
                        </a:lnTo>
                        <a:lnTo>
                          <a:pt x="62" y="62"/>
                        </a:lnTo>
                        <a:lnTo>
                          <a:pt x="55" y="62"/>
                        </a:lnTo>
                        <a:lnTo>
                          <a:pt x="58" y="66"/>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1" name=""/>
                  <p:cNvSpPr/>
                  <p:nvPr/>
                </p:nvSpPr>
                <p:spPr>
                  <a:xfrm>
                    <a:off x="5222880" y="4456080"/>
                    <a:ext cx="25200" cy="25560"/>
                  </a:xfrm>
                  <a:custGeom>
                    <a:avLst/>
                    <a:gdLst/>
                    <a:ahLst/>
                    <a:rect l="l" t="t" r="r" b="b"/>
                    <a:pathLst>
                      <a:path w="63" h="66">
                        <a:moveTo>
                          <a:pt x="63" y="4"/>
                        </a:moveTo>
                        <a:lnTo>
                          <a:pt x="56" y="4"/>
                        </a:lnTo>
                        <a:lnTo>
                          <a:pt x="0" y="59"/>
                        </a:lnTo>
                        <a:lnTo>
                          <a:pt x="7" y="66"/>
                        </a:lnTo>
                        <a:lnTo>
                          <a:pt x="63" y="12"/>
                        </a:lnTo>
                        <a:lnTo>
                          <a:pt x="56" y="12"/>
                        </a:lnTo>
                        <a:lnTo>
                          <a:pt x="63" y="4"/>
                        </a:lnTo>
                        <a:lnTo>
                          <a:pt x="60" y="0"/>
                        </a:lnTo>
                        <a:lnTo>
                          <a:pt x="56" y="4"/>
                        </a:lnTo>
                        <a:lnTo>
                          <a:pt x="63"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2" name=""/>
                  <p:cNvSpPr/>
                  <p:nvPr/>
                </p:nvSpPr>
                <p:spPr>
                  <a:xfrm>
                    <a:off x="524484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3" name=""/>
                  <p:cNvSpPr/>
                  <p:nvPr/>
                </p:nvSpPr>
                <p:spPr>
                  <a:xfrm>
                    <a:off x="5267160" y="4456080"/>
                    <a:ext cx="23760" cy="25560"/>
                  </a:xfrm>
                  <a:custGeom>
                    <a:avLst/>
                    <a:gdLst/>
                    <a:ahLst/>
                    <a:rect l="l" t="t" r="r" b="b"/>
                    <a:pathLst>
                      <a:path w="62" h="66">
                        <a:moveTo>
                          <a:pt x="62" y="4"/>
                        </a:moveTo>
                        <a:lnTo>
                          <a:pt x="55" y="4"/>
                        </a:lnTo>
                        <a:lnTo>
                          <a:pt x="0" y="59"/>
                        </a:lnTo>
                        <a:lnTo>
                          <a:pt x="7" y="66"/>
                        </a:lnTo>
                        <a:lnTo>
                          <a:pt x="62" y="12"/>
                        </a:lnTo>
                        <a:lnTo>
                          <a:pt x="55" y="12"/>
                        </a:lnTo>
                        <a:lnTo>
                          <a:pt x="62" y="4"/>
                        </a:lnTo>
                        <a:lnTo>
                          <a:pt x="58" y="0"/>
                        </a:lnTo>
                        <a:lnTo>
                          <a:pt x="55" y="4"/>
                        </a:lnTo>
                        <a:lnTo>
                          <a:pt x="62"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5287680" y="4457880"/>
                    <a:ext cx="25560" cy="25200"/>
                  </a:xfrm>
                  <a:custGeom>
                    <a:avLst/>
                    <a:gdLst/>
                    <a:ahLst/>
                    <a:rect l="l" t="t" r="r" b="b"/>
                    <a:pathLst>
                      <a:path w="63" h="66">
                        <a:moveTo>
                          <a:pt x="56" y="55"/>
                        </a:moveTo>
                        <a:lnTo>
                          <a:pt x="63" y="55"/>
                        </a:lnTo>
                        <a:lnTo>
                          <a:pt x="7" y="0"/>
                        </a:lnTo>
                        <a:lnTo>
                          <a:pt x="0" y="8"/>
                        </a:lnTo>
                        <a:lnTo>
                          <a:pt x="56" y="62"/>
                        </a:lnTo>
                        <a:lnTo>
                          <a:pt x="63" y="62"/>
                        </a:lnTo>
                        <a:lnTo>
                          <a:pt x="56" y="62"/>
                        </a:lnTo>
                        <a:lnTo>
                          <a:pt x="60" y="66"/>
                        </a:lnTo>
                        <a:lnTo>
                          <a:pt x="63" y="62"/>
                        </a:lnTo>
                        <a:lnTo>
                          <a:pt x="56"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5" name=""/>
                  <p:cNvSpPr/>
                  <p:nvPr/>
                </p:nvSpPr>
                <p:spPr>
                  <a:xfrm>
                    <a:off x="5310000" y="4454640"/>
                    <a:ext cx="25560" cy="27000"/>
                  </a:xfrm>
                  <a:custGeom>
                    <a:avLst/>
                    <a:gdLst/>
                    <a:ahLst/>
                    <a:rect l="l" t="t" r="r" b="b"/>
                    <a:pathLst>
                      <a:path w="62" h="67">
                        <a:moveTo>
                          <a:pt x="62" y="5"/>
                        </a:moveTo>
                        <a:lnTo>
                          <a:pt x="55" y="5"/>
                        </a:lnTo>
                        <a:lnTo>
                          <a:pt x="0" y="60"/>
                        </a:lnTo>
                        <a:lnTo>
                          <a:pt x="7" y="67"/>
                        </a:lnTo>
                        <a:lnTo>
                          <a:pt x="62" y="13"/>
                        </a:lnTo>
                        <a:lnTo>
                          <a:pt x="55" y="13"/>
                        </a:lnTo>
                        <a:lnTo>
                          <a:pt x="62" y="5"/>
                        </a:lnTo>
                        <a:lnTo>
                          <a:pt x="59"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6" name=""/>
                  <p:cNvSpPr/>
                  <p:nvPr/>
                </p:nvSpPr>
                <p:spPr>
                  <a:xfrm>
                    <a:off x="5332320" y="4457880"/>
                    <a:ext cx="25200" cy="25200"/>
                  </a:xfrm>
                  <a:custGeom>
                    <a:avLst/>
                    <a:gdLst/>
                    <a:ahLst/>
                    <a:rect l="l" t="t" r="r" b="b"/>
                    <a:pathLst>
                      <a:path w="62" h="66">
                        <a:moveTo>
                          <a:pt x="55" y="55"/>
                        </a:moveTo>
                        <a:lnTo>
                          <a:pt x="62" y="55"/>
                        </a:lnTo>
                        <a:lnTo>
                          <a:pt x="7" y="0"/>
                        </a:lnTo>
                        <a:lnTo>
                          <a:pt x="0" y="8"/>
                        </a:lnTo>
                        <a:lnTo>
                          <a:pt x="55" y="62"/>
                        </a:lnTo>
                        <a:lnTo>
                          <a:pt x="62" y="62"/>
                        </a:lnTo>
                        <a:lnTo>
                          <a:pt x="55" y="62"/>
                        </a:lnTo>
                        <a:lnTo>
                          <a:pt x="59" y="66"/>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7" name=""/>
                  <p:cNvSpPr/>
                  <p:nvPr/>
                </p:nvSpPr>
                <p:spPr>
                  <a:xfrm>
                    <a:off x="5354640" y="4456080"/>
                    <a:ext cx="25200" cy="25560"/>
                  </a:xfrm>
                  <a:custGeom>
                    <a:avLst/>
                    <a:gdLst/>
                    <a:ahLst/>
                    <a:rect l="l" t="t" r="r" b="b"/>
                    <a:pathLst>
                      <a:path w="63" h="66">
                        <a:moveTo>
                          <a:pt x="63" y="4"/>
                        </a:moveTo>
                        <a:lnTo>
                          <a:pt x="56" y="4"/>
                        </a:lnTo>
                        <a:lnTo>
                          <a:pt x="0" y="59"/>
                        </a:lnTo>
                        <a:lnTo>
                          <a:pt x="7" y="66"/>
                        </a:lnTo>
                        <a:lnTo>
                          <a:pt x="63" y="12"/>
                        </a:lnTo>
                        <a:lnTo>
                          <a:pt x="56" y="12"/>
                        </a:lnTo>
                        <a:lnTo>
                          <a:pt x="63" y="4"/>
                        </a:lnTo>
                        <a:lnTo>
                          <a:pt x="60" y="0"/>
                        </a:lnTo>
                        <a:lnTo>
                          <a:pt x="56" y="4"/>
                        </a:lnTo>
                        <a:lnTo>
                          <a:pt x="63"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8" name=""/>
                  <p:cNvSpPr/>
                  <p:nvPr/>
                </p:nvSpPr>
                <p:spPr>
                  <a:xfrm>
                    <a:off x="5376600" y="4457880"/>
                    <a:ext cx="25560" cy="25200"/>
                  </a:xfrm>
                  <a:custGeom>
                    <a:avLst/>
                    <a:gdLst/>
                    <a:ahLst/>
                    <a:rect l="l" t="t" r="r" b="b"/>
                    <a:pathLst>
                      <a:path w="62" h="67">
                        <a:moveTo>
                          <a:pt x="55" y="55"/>
                        </a:moveTo>
                        <a:lnTo>
                          <a:pt x="62" y="55"/>
                        </a:lnTo>
                        <a:lnTo>
                          <a:pt x="7" y="0"/>
                        </a:lnTo>
                        <a:lnTo>
                          <a:pt x="0" y="8"/>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9" name=""/>
                  <p:cNvSpPr/>
                  <p:nvPr/>
                </p:nvSpPr>
                <p:spPr>
                  <a:xfrm>
                    <a:off x="5398920" y="4452840"/>
                    <a:ext cx="25560" cy="28800"/>
                  </a:xfrm>
                  <a:custGeom>
                    <a:avLst/>
                    <a:gdLst/>
                    <a:ahLst/>
                    <a:rect l="l" t="t" r="r" b="b"/>
                    <a:pathLst>
                      <a:path w="65" h="72">
                        <a:moveTo>
                          <a:pt x="65" y="14"/>
                        </a:moveTo>
                        <a:lnTo>
                          <a:pt x="55" y="10"/>
                        </a:lnTo>
                        <a:lnTo>
                          <a:pt x="0" y="65"/>
                        </a:lnTo>
                        <a:lnTo>
                          <a:pt x="7" y="72"/>
                        </a:lnTo>
                        <a:lnTo>
                          <a:pt x="62" y="18"/>
                        </a:lnTo>
                        <a:lnTo>
                          <a:pt x="52" y="14"/>
                        </a:lnTo>
                        <a:lnTo>
                          <a:pt x="65" y="14"/>
                        </a:lnTo>
                        <a:lnTo>
                          <a:pt x="65" y="0"/>
                        </a:lnTo>
                        <a:lnTo>
                          <a:pt x="55" y="10"/>
                        </a:lnTo>
                        <a:lnTo>
                          <a:pt x="65"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60" name=""/>
                  <p:cNvSpPr/>
                  <p:nvPr/>
                </p:nvSpPr>
                <p:spPr>
                  <a:xfrm>
                    <a:off x="5419440" y="4457880"/>
                    <a:ext cx="5040" cy="765000"/>
                  </a:xfrm>
                  <a:custGeom>
                    <a:avLst/>
                    <a:gdLst/>
                    <a:ahLst/>
                    <a:rect l="l" t="t" r="r" b="b"/>
                    <a:pathLst>
                      <a:path w="13" h="1927">
                        <a:moveTo>
                          <a:pt x="7" y="1927"/>
                        </a:moveTo>
                        <a:lnTo>
                          <a:pt x="13" y="1920"/>
                        </a:lnTo>
                        <a:lnTo>
                          <a:pt x="13" y="0"/>
                        </a:lnTo>
                        <a:lnTo>
                          <a:pt x="0" y="0"/>
                        </a:lnTo>
                        <a:lnTo>
                          <a:pt x="0" y="1920"/>
                        </a:lnTo>
                        <a:lnTo>
                          <a:pt x="7" y="1914"/>
                        </a:lnTo>
                        <a:lnTo>
                          <a:pt x="7" y="1927"/>
                        </a:lnTo>
                        <a:lnTo>
                          <a:pt x="13" y="1927"/>
                        </a:lnTo>
                        <a:lnTo>
                          <a:pt x="13" y="1920"/>
                        </a:lnTo>
                        <a:lnTo>
                          <a:pt x="7" y="1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4717800" y="5218200"/>
                    <a:ext cx="703440" cy="4680"/>
                  </a:xfrm>
                  <a:custGeom>
                    <a:avLst/>
                    <a:gdLst/>
                    <a:ahLst/>
                    <a:rect l="l" t="t" r="r" b="b"/>
                    <a:pathLst>
                      <a:path w="1776" h="13">
                        <a:moveTo>
                          <a:pt x="0" y="6"/>
                        </a:moveTo>
                        <a:lnTo>
                          <a:pt x="6" y="13"/>
                        </a:lnTo>
                        <a:lnTo>
                          <a:pt x="1776" y="13"/>
                        </a:lnTo>
                        <a:lnTo>
                          <a:pt x="1776" y="0"/>
                        </a:lnTo>
                        <a:lnTo>
                          <a:pt x="6" y="0"/>
                        </a:lnTo>
                        <a:lnTo>
                          <a:pt x="13" y="6"/>
                        </a:lnTo>
                        <a:lnTo>
                          <a:pt x="0" y="6"/>
                        </a:lnTo>
                        <a:lnTo>
                          <a:pt x="0" y="13"/>
                        </a:lnTo>
                        <a:lnTo>
                          <a:pt x="6" y="13"/>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2" name=""/>
                  <p:cNvSpPr/>
                  <p:nvPr/>
                </p:nvSpPr>
                <p:spPr>
                  <a:xfrm>
                    <a:off x="4717800" y="4452840"/>
                    <a:ext cx="5040" cy="768600"/>
                  </a:xfrm>
                  <a:custGeom>
                    <a:avLst/>
                    <a:gdLst/>
                    <a:ahLst/>
                    <a:rect l="l" t="t" r="r" b="b"/>
                    <a:pathLst>
                      <a:path w="13" h="1934">
                        <a:moveTo>
                          <a:pt x="10" y="10"/>
                        </a:moveTo>
                        <a:lnTo>
                          <a:pt x="0" y="14"/>
                        </a:lnTo>
                        <a:lnTo>
                          <a:pt x="0" y="1934"/>
                        </a:lnTo>
                        <a:lnTo>
                          <a:pt x="13" y="1934"/>
                        </a:lnTo>
                        <a:lnTo>
                          <a:pt x="13" y="14"/>
                        </a:lnTo>
                        <a:lnTo>
                          <a:pt x="3" y="18"/>
                        </a:lnTo>
                        <a:lnTo>
                          <a:pt x="10" y="10"/>
                        </a:lnTo>
                        <a:lnTo>
                          <a:pt x="0" y="0"/>
                        </a:lnTo>
                        <a:lnTo>
                          <a:pt x="0" y="14"/>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305320" y="4457880"/>
                    <a:ext cx="115920" cy="885600"/>
                  </a:xfrm>
                  <a:custGeom>
                    <a:avLst/>
                    <a:gdLst/>
                    <a:ahLst/>
                    <a:rect l="l" t="t" r="r" b="b"/>
                    <a:pathLst>
                      <a:path w="295" h="2228">
                        <a:moveTo>
                          <a:pt x="0" y="2228"/>
                        </a:moveTo>
                        <a:lnTo>
                          <a:pt x="295" y="1920"/>
                        </a:lnTo>
                        <a:lnTo>
                          <a:pt x="295" y="0"/>
                        </a:lnTo>
                        <a:lnTo>
                          <a:pt x="0" y="306"/>
                        </a:lnTo>
                        <a:lnTo>
                          <a:pt x="0" y="2228"/>
                        </a:lnTo>
                        <a:close/>
                      </a:path>
                    </a:pathLst>
                  </a:custGeom>
                  <a:solidFill>
                    <a:srgbClr val="b27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303520" y="5219640"/>
                    <a:ext cx="120960" cy="123840"/>
                  </a:xfrm>
                  <a:custGeom>
                    <a:avLst/>
                    <a:gdLst/>
                    <a:ahLst/>
                    <a:rect l="l" t="t" r="r" b="b"/>
                    <a:pathLst>
                      <a:path w="305" h="315">
                        <a:moveTo>
                          <a:pt x="292" y="3"/>
                        </a:moveTo>
                        <a:lnTo>
                          <a:pt x="295" y="0"/>
                        </a:lnTo>
                        <a:lnTo>
                          <a:pt x="0" y="307"/>
                        </a:lnTo>
                        <a:lnTo>
                          <a:pt x="8" y="315"/>
                        </a:lnTo>
                        <a:lnTo>
                          <a:pt x="302" y="7"/>
                        </a:lnTo>
                        <a:lnTo>
                          <a:pt x="305" y="3"/>
                        </a:lnTo>
                        <a:lnTo>
                          <a:pt x="302" y="7"/>
                        </a:lnTo>
                        <a:lnTo>
                          <a:pt x="305" y="5"/>
                        </a:lnTo>
                        <a:lnTo>
                          <a:pt x="305" y="3"/>
                        </a:lnTo>
                        <a:lnTo>
                          <a:pt x="29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419440" y="4452840"/>
                    <a:ext cx="5040" cy="768600"/>
                  </a:xfrm>
                  <a:custGeom>
                    <a:avLst/>
                    <a:gdLst/>
                    <a:ahLst/>
                    <a:rect l="l" t="t" r="r" b="b"/>
                    <a:pathLst>
                      <a:path w="13" h="1935">
                        <a:moveTo>
                          <a:pt x="10" y="19"/>
                        </a:moveTo>
                        <a:lnTo>
                          <a:pt x="0" y="15"/>
                        </a:lnTo>
                        <a:lnTo>
                          <a:pt x="0" y="1935"/>
                        </a:lnTo>
                        <a:lnTo>
                          <a:pt x="13" y="1935"/>
                        </a:lnTo>
                        <a:lnTo>
                          <a:pt x="13" y="15"/>
                        </a:lnTo>
                        <a:lnTo>
                          <a:pt x="3" y="11"/>
                        </a:lnTo>
                        <a:lnTo>
                          <a:pt x="13" y="15"/>
                        </a:lnTo>
                        <a:lnTo>
                          <a:pt x="13" y="0"/>
                        </a:lnTo>
                        <a:lnTo>
                          <a:pt x="3" y="11"/>
                        </a:lnTo>
                        <a:lnTo>
                          <a:pt x="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5302080" y="4457880"/>
                    <a:ext cx="120600" cy="123480"/>
                  </a:xfrm>
                  <a:custGeom>
                    <a:avLst/>
                    <a:gdLst/>
                    <a:ahLst/>
                    <a:rect l="l" t="t" r="r" b="b"/>
                    <a:pathLst>
                      <a:path w="304" h="314">
                        <a:moveTo>
                          <a:pt x="12" y="310"/>
                        </a:moveTo>
                        <a:lnTo>
                          <a:pt x="10" y="314"/>
                        </a:lnTo>
                        <a:lnTo>
                          <a:pt x="304" y="8"/>
                        </a:lnTo>
                        <a:lnTo>
                          <a:pt x="297" y="0"/>
                        </a:lnTo>
                        <a:lnTo>
                          <a:pt x="2" y="307"/>
                        </a:lnTo>
                        <a:lnTo>
                          <a:pt x="0" y="310"/>
                        </a:lnTo>
                        <a:lnTo>
                          <a:pt x="2" y="307"/>
                        </a:lnTo>
                        <a:lnTo>
                          <a:pt x="1" y="309"/>
                        </a:lnTo>
                        <a:lnTo>
                          <a:pt x="0" y="310"/>
                        </a:lnTo>
                        <a:lnTo>
                          <a:pt x="12"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302080" y="4579920"/>
                    <a:ext cx="4680" cy="768240"/>
                  </a:xfrm>
                  <a:custGeom>
                    <a:avLst/>
                    <a:gdLst/>
                    <a:ahLst/>
                    <a:rect l="l" t="t" r="r" b="b"/>
                    <a:pathLst>
                      <a:path w="12" h="1937">
                        <a:moveTo>
                          <a:pt x="2" y="1918"/>
                        </a:moveTo>
                        <a:lnTo>
                          <a:pt x="12" y="1922"/>
                        </a:lnTo>
                        <a:lnTo>
                          <a:pt x="12" y="0"/>
                        </a:lnTo>
                        <a:lnTo>
                          <a:pt x="0" y="0"/>
                        </a:lnTo>
                        <a:lnTo>
                          <a:pt x="0" y="1922"/>
                        </a:lnTo>
                        <a:lnTo>
                          <a:pt x="10" y="1926"/>
                        </a:lnTo>
                        <a:lnTo>
                          <a:pt x="0" y="1922"/>
                        </a:lnTo>
                        <a:lnTo>
                          <a:pt x="0" y="1937"/>
                        </a:lnTo>
                        <a:lnTo>
                          <a:pt x="10" y="1926"/>
                        </a:lnTo>
                        <a:lnTo>
                          <a:pt x="2" y="1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601880" y="4457880"/>
                    <a:ext cx="117720" cy="885600"/>
                  </a:xfrm>
                  <a:custGeom>
                    <a:avLst/>
                    <a:gdLst/>
                    <a:ahLst/>
                    <a:rect l="l" t="t" r="r" b="b"/>
                    <a:pathLst>
                      <a:path w="296" h="2228">
                        <a:moveTo>
                          <a:pt x="0" y="2228"/>
                        </a:moveTo>
                        <a:lnTo>
                          <a:pt x="296" y="1920"/>
                        </a:lnTo>
                        <a:lnTo>
                          <a:pt x="296" y="0"/>
                        </a:lnTo>
                        <a:lnTo>
                          <a:pt x="0" y="306"/>
                        </a:lnTo>
                        <a:lnTo>
                          <a:pt x="0" y="2228"/>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4600440" y="5219640"/>
                    <a:ext cx="122400" cy="123840"/>
                  </a:xfrm>
                  <a:custGeom>
                    <a:avLst/>
                    <a:gdLst/>
                    <a:ahLst/>
                    <a:rect l="l" t="t" r="r" b="b"/>
                    <a:pathLst>
                      <a:path w="306" h="315">
                        <a:moveTo>
                          <a:pt x="293" y="3"/>
                        </a:moveTo>
                        <a:lnTo>
                          <a:pt x="296" y="0"/>
                        </a:lnTo>
                        <a:lnTo>
                          <a:pt x="0" y="307"/>
                        </a:lnTo>
                        <a:lnTo>
                          <a:pt x="7" y="315"/>
                        </a:lnTo>
                        <a:lnTo>
                          <a:pt x="303" y="7"/>
                        </a:lnTo>
                        <a:lnTo>
                          <a:pt x="306" y="3"/>
                        </a:lnTo>
                        <a:lnTo>
                          <a:pt x="303" y="7"/>
                        </a:lnTo>
                        <a:lnTo>
                          <a:pt x="304" y="5"/>
                        </a:lnTo>
                        <a:lnTo>
                          <a:pt x="306" y="3"/>
                        </a:lnTo>
                        <a:lnTo>
                          <a:pt x="2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4717800" y="4452840"/>
                    <a:ext cx="5040" cy="768600"/>
                  </a:xfrm>
                  <a:custGeom>
                    <a:avLst/>
                    <a:gdLst/>
                    <a:ahLst/>
                    <a:rect l="l" t="t" r="r" b="b"/>
                    <a:pathLst>
                      <a:path w="13" h="1935">
                        <a:moveTo>
                          <a:pt x="10" y="19"/>
                        </a:moveTo>
                        <a:lnTo>
                          <a:pt x="0" y="15"/>
                        </a:lnTo>
                        <a:lnTo>
                          <a:pt x="0" y="1935"/>
                        </a:lnTo>
                        <a:lnTo>
                          <a:pt x="13" y="1935"/>
                        </a:lnTo>
                        <a:lnTo>
                          <a:pt x="13" y="15"/>
                        </a:lnTo>
                        <a:lnTo>
                          <a:pt x="3" y="11"/>
                        </a:lnTo>
                        <a:lnTo>
                          <a:pt x="13" y="15"/>
                        </a:lnTo>
                        <a:lnTo>
                          <a:pt x="13" y="0"/>
                        </a:lnTo>
                        <a:lnTo>
                          <a:pt x="3" y="11"/>
                        </a:lnTo>
                        <a:lnTo>
                          <a:pt x="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600440" y="4457880"/>
                    <a:ext cx="120600" cy="123480"/>
                  </a:xfrm>
                  <a:custGeom>
                    <a:avLst/>
                    <a:gdLst/>
                    <a:ahLst/>
                    <a:rect l="l" t="t" r="r" b="b"/>
                    <a:pathLst>
                      <a:path w="306" h="314">
                        <a:moveTo>
                          <a:pt x="13" y="310"/>
                        </a:moveTo>
                        <a:lnTo>
                          <a:pt x="10" y="314"/>
                        </a:lnTo>
                        <a:lnTo>
                          <a:pt x="306" y="8"/>
                        </a:lnTo>
                        <a:lnTo>
                          <a:pt x="299" y="0"/>
                        </a:lnTo>
                        <a:lnTo>
                          <a:pt x="3" y="307"/>
                        </a:lnTo>
                        <a:lnTo>
                          <a:pt x="0" y="310"/>
                        </a:lnTo>
                        <a:lnTo>
                          <a:pt x="3" y="307"/>
                        </a:lnTo>
                        <a:lnTo>
                          <a:pt x="1" y="309"/>
                        </a:lnTo>
                        <a:lnTo>
                          <a:pt x="0" y="310"/>
                        </a:lnTo>
                        <a:lnTo>
                          <a:pt x="13"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00440" y="4579920"/>
                    <a:ext cx="4680" cy="768240"/>
                  </a:xfrm>
                  <a:custGeom>
                    <a:avLst/>
                    <a:gdLst/>
                    <a:ahLst/>
                    <a:rect l="l" t="t" r="r" b="b"/>
                    <a:pathLst>
                      <a:path w="13" h="1937">
                        <a:moveTo>
                          <a:pt x="3" y="1918"/>
                        </a:moveTo>
                        <a:lnTo>
                          <a:pt x="13" y="1922"/>
                        </a:lnTo>
                        <a:lnTo>
                          <a:pt x="13" y="0"/>
                        </a:lnTo>
                        <a:lnTo>
                          <a:pt x="0" y="0"/>
                        </a:lnTo>
                        <a:lnTo>
                          <a:pt x="0" y="1922"/>
                        </a:lnTo>
                        <a:lnTo>
                          <a:pt x="10" y="1926"/>
                        </a:lnTo>
                        <a:lnTo>
                          <a:pt x="0" y="1922"/>
                        </a:lnTo>
                        <a:lnTo>
                          <a:pt x="0" y="1937"/>
                        </a:lnTo>
                        <a:lnTo>
                          <a:pt x="10" y="1926"/>
                        </a:lnTo>
                        <a:lnTo>
                          <a:pt x="3" y="1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917960" y="4284720"/>
                    <a:ext cx="306360" cy="208080"/>
                  </a:xfrm>
                  <a:custGeom>
                    <a:avLst/>
                    <a:gdLst/>
                    <a:ahLst/>
                    <a:rect l="l" t="t" r="r" b="b"/>
                    <a:pathLst>
                      <a:path w="772" h="526">
                        <a:moveTo>
                          <a:pt x="0" y="526"/>
                        </a:moveTo>
                        <a:lnTo>
                          <a:pt x="1" y="484"/>
                        </a:lnTo>
                        <a:lnTo>
                          <a:pt x="3" y="440"/>
                        </a:lnTo>
                        <a:lnTo>
                          <a:pt x="7" y="395"/>
                        </a:lnTo>
                        <a:lnTo>
                          <a:pt x="13" y="350"/>
                        </a:lnTo>
                        <a:lnTo>
                          <a:pt x="23" y="305"/>
                        </a:lnTo>
                        <a:lnTo>
                          <a:pt x="36" y="262"/>
                        </a:lnTo>
                        <a:lnTo>
                          <a:pt x="51" y="219"/>
                        </a:lnTo>
                        <a:lnTo>
                          <a:pt x="69" y="179"/>
                        </a:lnTo>
                        <a:lnTo>
                          <a:pt x="93" y="142"/>
                        </a:lnTo>
                        <a:lnTo>
                          <a:pt x="119" y="108"/>
                        </a:lnTo>
                        <a:lnTo>
                          <a:pt x="151" y="77"/>
                        </a:lnTo>
                        <a:lnTo>
                          <a:pt x="187" y="51"/>
                        </a:lnTo>
                        <a:lnTo>
                          <a:pt x="228" y="30"/>
                        </a:lnTo>
                        <a:lnTo>
                          <a:pt x="275" y="14"/>
                        </a:lnTo>
                        <a:lnTo>
                          <a:pt x="327" y="4"/>
                        </a:lnTo>
                        <a:lnTo>
                          <a:pt x="385" y="0"/>
                        </a:lnTo>
                        <a:lnTo>
                          <a:pt x="444" y="4"/>
                        </a:lnTo>
                        <a:lnTo>
                          <a:pt x="496" y="14"/>
                        </a:lnTo>
                        <a:lnTo>
                          <a:pt x="544" y="30"/>
                        </a:lnTo>
                        <a:lnTo>
                          <a:pt x="585" y="51"/>
                        </a:lnTo>
                        <a:lnTo>
                          <a:pt x="621" y="77"/>
                        </a:lnTo>
                        <a:lnTo>
                          <a:pt x="653" y="108"/>
                        </a:lnTo>
                        <a:lnTo>
                          <a:pt x="680" y="142"/>
                        </a:lnTo>
                        <a:lnTo>
                          <a:pt x="702" y="179"/>
                        </a:lnTo>
                        <a:lnTo>
                          <a:pt x="721" y="219"/>
                        </a:lnTo>
                        <a:lnTo>
                          <a:pt x="737" y="262"/>
                        </a:lnTo>
                        <a:lnTo>
                          <a:pt x="749" y="305"/>
                        </a:lnTo>
                        <a:lnTo>
                          <a:pt x="759" y="350"/>
                        </a:lnTo>
                        <a:lnTo>
                          <a:pt x="765" y="395"/>
                        </a:lnTo>
                        <a:lnTo>
                          <a:pt x="770" y="440"/>
                        </a:lnTo>
                        <a:lnTo>
                          <a:pt x="771" y="484"/>
                        </a:lnTo>
                        <a:lnTo>
                          <a:pt x="772" y="526"/>
                        </a:lnTo>
                        <a:lnTo>
                          <a:pt x="717" y="526"/>
                        </a:lnTo>
                        <a:lnTo>
                          <a:pt x="717" y="521"/>
                        </a:lnTo>
                        <a:lnTo>
                          <a:pt x="716" y="506"/>
                        </a:lnTo>
                        <a:lnTo>
                          <a:pt x="715" y="482"/>
                        </a:lnTo>
                        <a:lnTo>
                          <a:pt x="712" y="452"/>
                        </a:lnTo>
                        <a:lnTo>
                          <a:pt x="707" y="417"/>
                        </a:lnTo>
                        <a:lnTo>
                          <a:pt x="700" y="378"/>
                        </a:lnTo>
                        <a:lnTo>
                          <a:pt x="690" y="335"/>
                        </a:lnTo>
                        <a:lnTo>
                          <a:pt x="676" y="290"/>
                        </a:lnTo>
                        <a:lnTo>
                          <a:pt x="659" y="247"/>
                        </a:lnTo>
                        <a:lnTo>
                          <a:pt x="636" y="204"/>
                        </a:lnTo>
                        <a:lnTo>
                          <a:pt x="610" y="165"/>
                        </a:lnTo>
                        <a:lnTo>
                          <a:pt x="578" y="130"/>
                        </a:lnTo>
                        <a:lnTo>
                          <a:pt x="539" y="100"/>
                        </a:lnTo>
                        <a:lnTo>
                          <a:pt x="495" y="76"/>
                        </a:lnTo>
                        <a:lnTo>
                          <a:pt x="444" y="61"/>
                        </a:lnTo>
                        <a:lnTo>
                          <a:pt x="385" y="56"/>
                        </a:lnTo>
                        <a:lnTo>
                          <a:pt x="327" y="61"/>
                        </a:lnTo>
                        <a:lnTo>
                          <a:pt x="277" y="76"/>
                        </a:lnTo>
                        <a:lnTo>
                          <a:pt x="232" y="100"/>
                        </a:lnTo>
                        <a:lnTo>
                          <a:pt x="194" y="130"/>
                        </a:lnTo>
                        <a:lnTo>
                          <a:pt x="162" y="165"/>
                        </a:lnTo>
                        <a:lnTo>
                          <a:pt x="136" y="204"/>
                        </a:lnTo>
                        <a:lnTo>
                          <a:pt x="113" y="247"/>
                        </a:lnTo>
                        <a:lnTo>
                          <a:pt x="96" y="290"/>
                        </a:lnTo>
                        <a:lnTo>
                          <a:pt x="82" y="335"/>
                        </a:lnTo>
                        <a:lnTo>
                          <a:pt x="72" y="378"/>
                        </a:lnTo>
                        <a:lnTo>
                          <a:pt x="64" y="417"/>
                        </a:lnTo>
                        <a:lnTo>
                          <a:pt x="59" y="452"/>
                        </a:lnTo>
                        <a:lnTo>
                          <a:pt x="57" y="482"/>
                        </a:lnTo>
                        <a:lnTo>
                          <a:pt x="56" y="506"/>
                        </a:lnTo>
                        <a:lnTo>
                          <a:pt x="54" y="521"/>
                        </a:lnTo>
                        <a:lnTo>
                          <a:pt x="54" y="526"/>
                        </a:lnTo>
                        <a:lnTo>
                          <a:pt x="0" y="526"/>
                        </a:lnTo>
                        <a:close/>
                      </a:path>
                    </a:pathLst>
                  </a:custGeom>
                  <a:solidFill>
                    <a:srgbClr val="f4e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914720" y="4281480"/>
                    <a:ext cx="155520" cy="211320"/>
                  </a:xfrm>
                  <a:custGeom>
                    <a:avLst/>
                    <a:gdLst/>
                    <a:ahLst/>
                    <a:rect l="l" t="t" r="r" b="b"/>
                    <a:pathLst>
                      <a:path w="392" h="532">
                        <a:moveTo>
                          <a:pt x="392" y="0"/>
                        </a:moveTo>
                        <a:lnTo>
                          <a:pt x="392" y="0"/>
                        </a:lnTo>
                        <a:lnTo>
                          <a:pt x="334" y="5"/>
                        </a:lnTo>
                        <a:lnTo>
                          <a:pt x="281" y="15"/>
                        </a:lnTo>
                        <a:lnTo>
                          <a:pt x="234" y="31"/>
                        </a:lnTo>
                        <a:lnTo>
                          <a:pt x="191" y="52"/>
                        </a:lnTo>
                        <a:lnTo>
                          <a:pt x="154" y="80"/>
                        </a:lnTo>
                        <a:lnTo>
                          <a:pt x="123" y="111"/>
                        </a:lnTo>
                        <a:lnTo>
                          <a:pt x="95" y="146"/>
                        </a:lnTo>
                        <a:lnTo>
                          <a:pt x="71" y="183"/>
                        </a:lnTo>
                        <a:lnTo>
                          <a:pt x="53" y="224"/>
                        </a:lnTo>
                        <a:lnTo>
                          <a:pt x="38" y="266"/>
                        </a:lnTo>
                        <a:lnTo>
                          <a:pt x="25" y="310"/>
                        </a:lnTo>
                        <a:lnTo>
                          <a:pt x="15" y="356"/>
                        </a:lnTo>
                        <a:lnTo>
                          <a:pt x="9" y="401"/>
                        </a:lnTo>
                        <a:lnTo>
                          <a:pt x="5" y="446"/>
                        </a:lnTo>
                        <a:lnTo>
                          <a:pt x="3" y="490"/>
                        </a:lnTo>
                        <a:lnTo>
                          <a:pt x="0" y="532"/>
                        </a:lnTo>
                        <a:lnTo>
                          <a:pt x="13" y="532"/>
                        </a:lnTo>
                        <a:lnTo>
                          <a:pt x="13" y="490"/>
                        </a:lnTo>
                        <a:lnTo>
                          <a:pt x="15" y="446"/>
                        </a:lnTo>
                        <a:lnTo>
                          <a:pt x="19" y="401"/>
                        </a:lnTo>
                        <a:lnTo>
                          <a:pt x="25" y="356"/>
                        </a:lnTo>
                        <a:lnTo>
                          <a:pt x="35" y="313"/>
                        </a:lnTo>
                        <a:lnTo>
                          <a:pt x="48" y="269"/>
                        </a:lnTo>
                        <a:lnTo>
                          <a:pt x="63" y="227"/>
                        </a:lnTo>
                        <a:lnTo>
                          <a:pt x="81" y="188"/>
                        </a:lnTo>
                        <a:lnTo>
                          <a:pt x="105" y="151"/>
                        </a:lnTo>
                        <a:lnTo>
                          <a:pt x="130" y="118"/>
                        </a:lnTo>
                        <a:lnTo>
                          <a:pt x="161" y="87"/>
                        </a:lnTo>
                        <a:lnTo>
                          <a:pt x="196" y="62"/>
                        </a:lnTo>
                        <a:lnTo>
                          <a:pt x="236" y="41"/>
                        </a:lnTo>
                        <a:lnTo>
                          <a:pt x="284" y="25"/>
                        </a:lnTo>
                        <a:lnTo>
                          <a:pt x="334" y="15"/>
                        </a:lnTo>
                        <a:lnTo>
                          <a:pt x="392" y="12"/>
                        </a:lnTo>
                        <a:lnTo>
                          <a:pt x="392" y="12"/>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070240" y="4281480"/>
                    <a:ext cx="155520" cy="214200"/>
                  </a:xfrm>
                  <a:custGeom>
                    <a:avLst/>
                    <a:gdLst/>
                    <a:ahLst/>
                    <a:rect l="l" t="t" r="r" b="b"/>
                    <a:pathLst>
                      <a:path w="394" h="538">
                        <a:moveTo>
                          <a:pt x="387" y="538"/>
                        </a:moveTo>
                        <a:lnTo>
                          <a:pt x="394" y="532"/>
                        </a:lnTo>
                        <a:lnTo>
                          <a:pt x="392" y="490"/>
                        </a:lnTo>
                        <a:lnTo>
                          <a:pt x="390" y="446"/>
                        </a:lnTo>
                        <a:lnTo>
                          <a:pt x="385" y="401"/>
                        </a:lnTo>
                        <a:lnTo>
                          <a:pt x="379" y="356"/>
                        </a:lnTo>
                        <a:lnTo>
                          <a:pt x="369" y="310"/>
                        </a:lnTo>
                        <a:lnTo>
                          <a:pt x="357" y="266"/>
                        </a:lnTo>
                        <a:lnTo>
                          <a:pt x="341" y="224"/>
                        </a:lnTo>
                        <a:lnTo>
                          <a:pt x="322" y="183"/>
                        </a:lnTo>
                        <a:lnTo>
                          <a:pt x="300" y="146"/>
                        </a:lnTo>
                        <a:lnTo>
                          <a:pt x="271" y="111"/>
                        </a:lnTo>
                        <a:lnTo>
                          <a:pt x="240" y="80"/>
                        </a:lnTo>
                        <a:lnTo>
                          <a:pt x="203" y="52"/>
                        </a:lnTo>
                        <a:lnTo>
                          <a:pt x="160" y="31"/>
                        </a:lnTo>
                        <a:lnTo>
                          <a:pt x="113" y="15"/>
                        </a:lnTo>
                        <a:lnTo>
                          <a:pt x="59" y="5"/>
                        </a:lnTo>
                        <a:lnTo>
                          <a:pt x="0" y="0"/>
                        </a:lnTo>
                        <a:lnTo>
                          <a:pt x="0" y="12"/>
                        </a:lnTo>
                        <a:lnTo>
                          <a:pt x="59" y="15"/>
                        </a:lnTo>
                        <a:lnTo>
                          <a:pt x="110" y="25"/>
                        </a:lnTo>
                        <a:lnTo>
                          <a:pt x="158" y="41"/>
                        </a:lnTo>
                        <a:lnTo>
                          <a:pt x="198" y="62"/>
                        </a:lnTo>
                        <a:lnTo>
                          <a:pt x="233" y="87"/>
                        </a:lnTo>
                        <a:lnTo>
                          <a:pt x="264" y="118"/>
                        </a:lnTo>
                        <a:lnTo>
                          <a:pt x="290" y="151"/>
                        </a:lnTo>
                        <a:lnTo>
                          <a:pt x="312" y="188"/>
                        </a:lnTo>
                        <a:lnTo>
                          <a:pt x="331" y="227"/>
                        </a:lnTo>
                        <a:lnTo>
                          <a:pt x="347" y="269"/>
                        </a:lnTo>
                        <a:lnTo>
                          <a:pt x="359" y="313"/>
                        </a:lnTo>
                        <a:lnTo>
                          <a:pt x="369" y="356"/>
                        </a:lnTo>
                        <a:lnTo>
                          <a:pt x="375" y="401"/>
                        </a:lnTo>
                        <a:lnTo>
                          <a:pt x="380" y="446"/>
                        </a:lnTo>
                        <a:lnTo>
                          <a:pt x="380" y="490"/>
                        </a:lnTo>
                        <a:lnTo>
                          <a:pt x="381" y="532"/>
                        </a:lnTo>
                        <a:lnTo>
                          <a:pt x="387" y="526"/>
                        </a:lnTo>
                        <a:lnTo>
                          <a:pt x="387" y="538"/>
                        </a:lnTo>
                        <a:lnTo>
                          <a:pt x="394" y="538"/>
                        </a:lnTo>
                        <a:lnTo>
                          <a:pt x="394" y="532"/>
                        </a:lnTo>
                        <a:lnTo>
                          <a:pt x="387" y="5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200560" y="4489560"/>
                    <a:ext cx="23760" cy="6120"/>
                  </a:xfrm>
                  <a:custGeom>
                    <a:avLst/>
                    <a:gdLst/>
                    <a:ahLst/>
                    <a:rect l="l" t="t" r="r" b="b"/>
                    <a:pathLst>
                      <a:path w="61" h="12">
                        <a:moveTo>
                          <a:pt x="0" y="6"/>
                        </a:moveTo>
                        <a:lnTo>
                          <a:pt x="6" y="12"/>
                        </a:lnTo>
                        <a:lnTo>
                          <a:pt x="61" y="12"/>
                        </a:lnTo>
                        <a:lnTo>
                          <a:pt x="61" y="0"/>
                        </a:lnTo>
                        <a:lnTo>
                          <a:pt x="6" y="0"/>
                        </a:lnTo>
                        <a:lnTo>
                          <a:pt x="13"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77" name=""/>
                  <p:cNvSpPr/>
                  <p:nvPr/>
                </p:nvSpPr>
                <p:spPr>
                  <a:xfrm>
                    <a:off x="5070240" y="4303800"/>
                    <a:ext cx="135000" cy="189000"/>
                  </a:xfrm>
                  <a:custGeom>
                    <a:avLst/>
                    <a:gdLst/>
                    <a:ahLst/>
                    <a:rect l="l" t="t" r="r" b="b"/>
                    <a:pathLst>
                      <a:path w="339" h="476">
                        <a:moveTo>
                          <a:pt x="0" y="12"/>
                        </a:moveTo>
                        <a:lnTo>
                          <a:pt x="0" y="12"/>
                        </a:lnTo>
                        <a:lnTo>
                          <a:pt x="59" y="16"/>
                        </a:lnTo>
                        <a:lnTo>
                          <a:pt x="109" y="31"/>
                        </a:lnTo>
                        <a:lnTo>
                          <a:pt x="151" y="55"/>
                        </a:lnTo>
                        <a:lnTo>
                          <a:pt x="189" y="83"/>
                        </a:lnTo>
                        <a:lnTo>
                          <a:pt x="221" y="118"/>
                        </a:lnTo>
                        <a:lnTo>
                          <a:pt x="246" y="157"/>
                        </a:lnTo>
                        <a:lnTo>
                          <a:pt x="269" y="199"/>
                        </a:lnTo>
                        <a:lnTo>
                          <a:pt x="286" y="242"/>
                        </a:lnTo>
                        <a:lnTo>
                          <a:pt x="300" y="286"/>
                        </a:lnTo>
                        <a:lnTo>
                          <a:pt x="310" y="329"/>
                        </a:lnTo>
                        <a:lnTo>
                          <a:pt x="317" y="367"/>
                        </a:lnTo>
                        <a:lnTo>
                          <a:pt x="322" y="402"/>
                        </a:lnTo>
                        <a:lnTo>
                          <a:pt x="325" y="432"/>
                        </a:lnTo>
                        <a:lnTo>
                          <a:pt x="326" y="456"/>
                        </a:lnTo>
                        <a:lnTo>
                          <a:pt x="327" y="471"/>
                        </a:lnTo>
                        <a:lnTo>
                          <a:pt x="326" y="476"/>
                        </a:lnTo>
                        <a:lnTo>
                          <a:pt x="339" y="476"/>
                        </a:lnTo>
                        <a:lnTo>
                          <a:pt x="337" y="471"/>
                        </a:lnTo>
                        <a:lnTo>
                          <a:pt x="336" y="456"/>
                        </a:lnTo>
                        <a:lnTo>
                          <a:pt x="335" y="432"/>
                        </a:lnTo>
                        <a:lnTo>
                          <a:pt x="332" y="402"/>
                        </a:lnTo>
                        <a:lnTo>
                          <a:pt x="327" y="367"/>
                        </a:lnTo>
                        <a:lnTo>
                          <a:pt x="320" y="326"/>
                        </a:lnTo>
                        <a:lnTo>
                          <a:pt x="310" y="284"/>
                        </a:lnTo>
                        <a:lnTo>
                          <a:pt x="296" y="239"/>
                        </a:lnTo>
                        <a:lnTo>
                          <a:pt x="279" y="194"/>
                        </a:lnTo>
                        <a:lnTo>
                          <a:pt x="256" y="152"/>
                        </a:lnTo>
                        <a:lnTo>
                          <a:pt x="229" y="111"/>
                        </a:lnTo>
                        <a:lnTo>
                          <a:pt x="196" y="76"/>
                        </a:lnTo>
                        <a:lnTo>
                          <a:pt x="156" y="45"/>
                        </a:lnTo>
                        <a:lnTo>
                          <a:pt x="111" y="21"/>
                        </a:lnTo>
                        <a:lnTo>
                          <a:pt x="59" y="6"/>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4937040" y="4303800"/>
                    <a:ext cx="133200" cy="191880"/>
                  </a:xfrm>
                  <a:custGeom>
                    <a:avLst/>
                    <a:gdLst/>
                    <a:ahLst/>
                    <a:rect l="l" t="t" r="r" b="b"/>
                    <a:pathLst>
                      <a:path w="337" h="482">
                        <a:moveTo>
                          <a:pt x="6" y="482"/>
                        </a:moveTo>
                        <a:lnTo>
                          <a:pt x="13" y="476"/>
                        </a:lnTo>
                        <a:lnTo>
                          <a:pt x="11" y="471"/>
                        </a:lnTo>
                        <a:lnTo>
                          <a:pt x="13" y="456"/>
                        </a:lnTo>
                        <a:lnTo>
                          <a:pt x="14" y="432"/>
                        </a:lnTo>
                        <a:lnTo>
                          <a:pt x="16" y="402"/>
                        </a:lnTo>
                        <a:lnTo>
                          <a:pt x="21" y="367"/>
                        </a:lnTo>
                        <a:lnTo>
                          <a:pt x="29" y="329"/>
                        </a:lnTo>
                        <a:lnTo>
                          <a:pt x="39" y="286"/>
                        </a:lnTo>
                        <a:lnTo>
                          <a:pt x="53" y="242"/>
                        </a:lnTo>
                        <a:lnTo>
                          <a:pt x="70" y="199"/>
                        </a:lnTo>
                        <a:lnTo>
                          <a:pt x="93" y="157"/>
                        </a:lnTo>
                        <a:lnTo>
                          <a:pt x="118" y="118"/>
                        </a:lnTo>
                        <a:lnTo>
                          <a:pt x="150" y="83"/>
                        </a:lnTo>
                        <a:lnTo>
                          <a:pt x="186" y="55"/>
                        </a:lnTo>
                        <a:lnTo>
                          <a:pt x="230" y="31"/>
                        </a:lnTo>
                        <a:lnTo>
                          <a:pt x="279" y="16"/>
                        </a:lnTo>
                        <a:lnTo>
                          <a:pt x="337" y="12"/>
                        </a:lnTo>
                        <a:lnTo>
                          <a:pt x="337" y="0"/>
                        </a:lnTo>
                        <a:lnTo>
                          <a:pt x="279" y="6"/>
                        </a:lnTo>
                        <a:lnTo>
                          <a:pt x="227" y="21"/>
                        </a:lnTo>
                        <a:lnTo>
                          <a:pt x="181" y="45"/>
                        </a:lnTo>
                        <a:lnTo>
                          <a:pt x="143" y="76"/>
                        </a:lnTo>
                        <a:lnTo>
                          <a:pt x="110" y="111"/>
                        </a:lnTo>
                        <a:lnTo>
                          <a:pt x="83" y="152"/>
                        </a:lnTo>
                        <a:lnTo>
                          <a:pt x="60" y="194"/>
                        </a:lnTo>
                        <a:lnTo>
                          <a:pt x="43" y="239"/>
                        </a:lnTo>
                        <a:lnTo>
                          <a:pt x="29" y="284"/>
                        </a:lnTo>
                        <a:lnTo>
                          <a:pt x="19" y="326"/>
                        </a:lnTo>
                        <a:lnTo>
                          <a:pt x="11" y="367"/>
                        </a:lnTo>
                        <a:lnTo>
                          <a:pt x="6" y="402"/>
                        </a:lnTo>
                        <a:lnTo>
                          <a:pt x="4" y="432"/>
                        </a:lnTo>
                        <a:lnTo>
                          <a:pt x="3" y="456"/>
                        </a:lnTo>
                        <a:lnTo>
                          <a:pt x="1" y="471"/>
                        </a:lnTo>
                        <a:lnTo>
                          <a:pt x="0" y="476"/>
                        </a:lnTo>
                        <a:lnTo>
                          <a:pt x="6" y="470"/>
                        </a:lnTo>
                        <a:lnTo>
                          <a:pt x="6" y="482"/>
                        </a:lnTo>
                        <a:lnTo>
                          <a:pt x="13" y="482"/>
                        </a:lnTo>
                        <a:lnTo>
                          <a:pt x="13" y="476"/>
                        </a:lnTo>
                        <a:lnTo>
                          <a:pt x="6"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4914720" y="4489560"/>
                    <a:ext cx="23760" cy="6120"/>
                  </a:xfrm>
                  <a:custGeom>
                    <a:avLst/>
                    <a:gdLst/>
                    <a:ahLst/>
                    <a:rect l="l" t="t" r="r" b="b"/>
                    <a:pathLst>
                      <a:path w="61" h="12">
                        <a:moveTo>
                          <a:pt x="0" y="6"/>
                        </a:moveTo>
                        <a:lnTo>
                          <a:pt x="7" y="12"/>
                        </a:lnTo>
                        <a:lnTo>
                          <a:pt x="61" y="12"/>
                        </a:lnTo>
                        <a:lnTo>
                          <a:pt x="61" y="0"/>
                        </a:lnTo>
                        <a:lnTo>
                          <a:pt x="7" y="0"/>
                        </a:lnTo>
                        <a:lnTo>
                          <a:pt x="13" y="6"/>
                        </a:lnTo>
                        <a:lnTo>
                          <a:pt x="0" y="6"/>
                        </a:lnTo>
                        <a:lnTo>
                          <a:pt x="0" y="12"/>
                        </a:lnTo>
                        <a:lnTo>
                          <a:pt x="7"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0" name=""/>
                  <p:cNvSpPr/>
                  <p:nvPr/>
                </p:nvSpPr>
                <p:spPr>
                  <a:xfrm>
                    <a:off x="4717800" y="4289400"/>
                    <a:ext cx="328680" cy="333360"/>
                  </a:xfrm>
                  <a:custGeom>
                    <a:avLst/>
                    <a:gdLst/>
                    <a:ahLst/>
                    <a:rect l="l" t="t" r="r" b="b"/>
                    <a:pathLst>
                      <a:path w="828" h="839">
                        <a:moveTo>
                          <a:pt x="72" y="176"/>
                        </a:moveTo>
                        <a:lnTo>
                          <a:pt x="396" y="0"/>
                        </a:lnTo>
                        <a:lnTo>
                          <a:pt x="828" y="527"/>
                        </a:lnTo>
                        <a:lnTo>
                          <a:pt x="774" y="832"/>
                        </a:lnTo>
                        <a:lnTo>
                          <a:pt x="447" y="839"/>
                        </a:lnTo>
                        <a:lnTo>
                          <a:pt x="0" y="395"/>
                        </a:lnTo>
                        <a:lnTo>
                          <a:pt x="72"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4746600" y="4286160"/>
                    <a:ext cx="129960" cy="74880"/>
                  </a:xfrm>
                  <a:custGeom>
                    <a:avLst/>
                    <a:gdLst/>
                    <a:ahLst/>
                    <a:rect l="l" t="t" r="r" b="b"/>
                    <a:pathLst>
                      <a:path w="329" h="189">
                        <a:moveTo>
                          <a:pt x="329" y="4"/>
                        </a:moveTo>
                        <a:lnTo>
                          <a:pt x="323" y="3"/>
                        </a:lnTo>
                        <a:lnTo>
                          <a:pt x="0" y="179"/>
                        </a:lnTo>
                        <a:lnTo>
                          <a:pt x="5" y="189"/>
                        </a:lnTo>
                        <a:lnTo>
                          <a:pt x="328" y="13"/>
                        </a:lnTo>
                        <a:lnTo>
                          <a:pt x="322" y="12"/>
                        </a:lnTo>
                        <a:lnTo>
                          <a:pt x="329" y="4"/>
                        </a:lnTo>
                        <a:lnTo>
                          <a:pt x="327" y="0"/>
                        </a:lnTo>
                        <a:lnTo>
                          <a:pt x="323" y="3"/>
                        </a:lnTo>
                        <a:lnTo>
                          <a:pt x="329"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82" name=""/>
                  <p:cNvSpPr/>
                  <p:nvPr/>
                </p:nvSpPr>
                <p:spPr>
                  <a:xfrm>
                    <a:off x="4873320" y="4287960"/>
                    <a:ext cx="176400" cy="212760"/>
                  </a:xfrm>
                  <a:custGeom>
                    <a:avLst/>
                    <a:gdLst/>
                    <a:ahLst/>
                    <a:rect l="l" t="t" r="r" b="b"/>
                    <a:pathLst>
                      <a:path w="442" h="535">
                        <a:moveTo>
                          <a:pt x="441" y="531"/>
                        </a:moveTo>
                        <a:lnTo>
                          <a:pt x="439" y="527"/>
                        </a:lnTo>
                        <a:lnTo>
                          <a:pt x="7" y="0"/>
                        </a:lnTo>
                        <a:lnTo>
                          <a:pt x="0" y="8"/>
                        </a:lnTo>
                        <a:lnTo>
                          <a:pt x="432" y="535"/>
                        </a:lnTo>
                        <a:lnTo>
                          <a:pt x="431" y="531"/>
                        </a:lnTo>
                        <a:lnTo>
                          <a:pt x="441" y="531"/>
                        </a:lnTo>
                        <a:lnTo>
                          <a:pt x="442" y="530"/>
                        </a:lnTo>
                        <a:lnTo>
                          <a:pt x="439" y="527"/>
                        </a:lnTo>
                        <a:lnTo>
                          <a:pt x="441"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024160" y="4498920"/>
                    <a:ext cx="25560" cy="123840"/>
                  </a:xfrm>
                  <a:custGeom>
                    <a:avLst/>
                    <a:gdLst/>
                    <a:ahLst/>
                    <a:rect l="l" t="t" r="r" b="b"/>
                    <a:pathLst>
                      <a:path w="64" h="310">
                        <a:moveTo>
                          <a:pt x="5" y="310"/>
                        </a:moveTo>
                        <a:lnTo>
                          <a:pt x="10" y="305"/>
                        </a:lnTo>
                        <a:lnTo>
                          <a:pt x="64" y="0"/>
                        </a:lnTo>
                        <a:lnTo>
                          <a:pt x="54" y="0"/>
                        </a:lnTo>
                        <a:lnTo>
                          <a:pt x="0" y="305"/>
                        </a:lnTo>
                        <a:lnTo>
                          <a:pt x="5" y="300"/>
                        </a:lnTo>
                        <a:lnTo>
                          <a:pt x="5" y="310"/>
                        </a:lnTo>
                        <a:lnTo>
                          <a:pt x="10" y="310"/>
                        </a:lnTo>
                        <a:lnTo>
                          <a:pt x="10" y="305"/>
                        </a:lnTo>
                        <a:lnTo>
                          <a:pt x="5"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894200" y="4618080"/>
                    <a:ext cx="131760" cy="6480"/>
                  </a:xfrm>
                  <a:custGeom>
                    <a:avLst/>
                    <a:gdLst/>
                    <a:ahLst/>
                    <a:rect l="l" t="t" r="r" b="b"/>
                    <a:pathLst>
                      <a:path w="331" h="18">
                        <a:moveTo>
                          <a:pt x="0" y="15"/>
                        </a:moveTo>
                        <a:lnTo>
                          <a:pt x="4" y="17"/>
                        </a:lnTo>
                        <a:lnTo>
                          <a:pt x="331" y="10"/>
                        </a:lnTo>
                        <a:lnTo>
                          <a:pt x="331" y="0"/>
                        </a:lnTo>
                        <a:lnTo>
                          <a:pt x="4" y="7"/>
                        </a:lnTo>
                        <a:lnTo>
                          <a:pt x="8" y="8"/>
                        </a:lnTo>
                        <a:lnTo>
                          <a:pt x="0" y="15"/>
                        </a:lnTo>
                        <a:lnTo>
                          <a:pt x="1" y="18"/>
                        </a:lnTo>
                        <a:lnTo>
                          <a:pt x="4" y="17"/>
                        </a:lnTo>
                        <a:lnTo>
                          <a:pt x="0" y="1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5" name=""/>
                  <p:cNvSpPr/>
                  <p:nvPr/>
                </p:nvSpPr>
                <p:spPr>
                  <a:xfrm>
                    <a:off x="4716360" y="4444920"/>
                    <a:ext cx="181080" cy="179640"/>
                  </a:xfrm>
                  <a:custGeom>
                    <a:avLst/>
                    <a:gdLst/>
                    <a:ahLst/>
                    <a:rect l="l" t="t" r="r" b="b"/>
                    <a:pathLst>
                      <a:path w="457" h="451">
                        <a:moveTo>
                          <a:pt x="1" y="3"/>
                        </a:moveTo>
                        <a:lnTo>
                          <a:pt x="2" y="8"/>
                        </a:lnTo>
                        <a:lnTo>
                          <a:pt x="449" y="451"/>
                        </a:lnTo>
                        <a:lnTo>
                          <a:pt x="457" y="444"/>
                        </a:lnTo>
                        <a:lnTo>
                          <a:pt x="10" y="0"/>
                        </a:lnTo>
                        <a:lnTo>
                          <a:pt x="11" y="5"/>
                        </a:lnTo>
                        <a:lnTo>
                          <a:pt x="1" y="3"/>
                        </a:lnTo>
                        <a:lnTo>
                          <a:pt x="0" y="5"/>
                        </a:lnTo>
                        <a:lnTo>
                          <a:pt x="2" y="8"/>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716360" y="4357800"/>
                    <a:ext cx="33120" cy="88920"/>
                  </a:xfrm>
                  <a:custGeom>
                    <a:avLst/>
                    <a:gdLst/>
                    <a:ahLst/>
                    <a:rect l="l" t="t" r="r" b="b"/>
                    <a:pathLst>
                      <a:path w="82" h="225">
                        <a:moveTo>
                          <a:pt x="75" y="0"/>
                        </a:moveTo>
                        <a:lnTo>
                          <a:pt x="72" y="3"/>
                        </a:lnTo>
                        <a:lnTo>
                          <a:pt x="0" y="223"/>
                        </a:lnTo>
                        <a:lnTo>
                          <a:pt x="10" y="225"/>
                        </a:lnTo>
                        <a:lnTo>
                          <a:pt x="82" y="6"/>
                        </a:lnTo>
                        <a:lnTo>
                          <a:pt x="80" y="10"/>
                        </a:lnTo>
                        <a:lnTo>
                          <a:pt x="75" y="0"/>
                        </a:lnTo>
                        <a:lnTo>
                          <a:pt x="72" y="1"/>
                        </a:lnTo>
                        <a:lnTo>
                          <a:pt x="72" y="3"/>
                        </a:lnTo>
                        <a:lnTo>
                          <a:pt x="7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
                  <p:cNvSpPr/>
                  <p:nvPr/>
                </p:nvSpPr>
                <p:spPr>
                  <a:xfrm>
                    <a:off x="4878360" y="4336920"/>
                    <a:ext cx="131760" cy="157320"/>
                  </a:xfrm>
                  <a:custGeom>
                    <a:avLst/>
                    <a:gdLst/>
                    <a:ahLst/>
                    <a:rect l="l" t="t" r="r" b="b"/>
                    <a:pathLst>
                      <a:path w="330" h="396">
                        <a:moveTo>
                          <a:pt x="326" y="393"/>
                        </a:moveTo>
                        <a:lnTo>
                          <a:pt x="330" y="389"/>
                        </a:lnTo>
                        <a:lnTo>
                          <a:pt x="8" y="0"/>
                        </a:lnTo>
                        <a:lnTo>
                          <a:pt x="0" y="8"/>
                        </a:lnTo>
                        <a:lnTo>
                          <a:pt x="322" y="396"/>
                        </a:lnTo>
                        <a:lnTo>
                          <a:pt x="326"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4862520" y="4365720"/>
                    <a:ext cx="133200" cy="155520"/>
                  </a:xfrm>
                  <a:custGeom>
                    <a:avLst/>
                    <a:gdLst/>
                    <a:ahLst/>
                    <a:rect l="l" t="t" r="r" b="b"/>
                    <a:pathLst>
                      <a:path w="336" h="392">
                        <a:moveTo>
                          <a:pt x="332" y="388"/>
                        </a:moveTo>
                        <a:lnTo>
                          <a:pt x="336" y="385"/>
                        </a:lnTo>
                        <a:lnTo>
                          <a:pt x="7" y="0"/>
                        </a:lnTo>
                        <a:lnTo>
                          <a:pt x="0" y="7"/>
                        </a:lnTo>
                        <a:lnTo>
                          <a:pt x="328" y="392"/>
                        </a:lnTo>
                        <a:lnTo>
                          <a:pt x="332"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843440" y="4406760"/>
                    <a:ext cx="129960" cy="157320"/>
                  </a:xfrm>
                  <a:custGeom>
                    <a:avLst/>
                    <a:gdLst/>
                    <a:ahLst/>
                    <a:rect l="l" t="t" r="r" b="b"/>
                    <a:pathLst>
                      <a:path w="330" h="395">
                        <a:moveTo>
                          <a:pt x="326" y="391"/>
                        </a:moveTo>
                        <a:lnTo>
                          <a:pt x="330" y="387"/>
                        </a:lnTo>
                        <a:lnTo>
                          <a:pt x="8" y="0"/>
                        </a:lnTo>
                        <a:lnTo>
                          <a:pt x="0" y="7"/>
                        </a:lnTo>
                        <a:lnTo>
                          <a:pt x="322" y="395"/>
                        </a:lnTo>
                        <a:lnTo>
                          <a:pt x="326"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822560" y="4417920"/>
                    <a:ext cx="139680" cy="168480"/>
                  </a:xfrm>
                  <a:custGeom>
                    <a:avLst/>
                    <a:gdLst/>
                    <a:ahLst/>
                    <a:rect l="l" t="t" r="r" b="b"/>
                    <a:pathLst>
                      <a:path w="353" h="428">
                        <a:moveTo>
                          <a:pt x="349" y="424"/>
                        </a:moveTo>
                        <a:lnTo>
                          <a:pt x="353" y="420"/>
                        </a:lnTo>
                        <a:lnTo>
                          <a:pt x="7" y="0"/>
                        </a:lnTo>
                        <a:lnTo>
                          <a:pt x="0" y="8"/>
                        </a:lnTo>
                        <a:lnTo>
                          <a:pt x="346" y="428"/>
                        </a:lnTo>
                        <a:lnTo>
                          <a:pt x="349"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803480" y="4427640"/>
                    <a:ext cx="123840" cy="153720"/>
                  </a:xfrm>
                  <a:custGeom>
                    <a:avLst/>
                    <a:gdLst/>
                    <a:ahLst/>
                    <a:rect l="l" t="t" r="r" b="b"/>
                    <a:pathLst>
                      <a:path w="312" h="385">
                        <a:moveTo>
                          <a:pt x="308" y="381"/>
                        </a:moveTo>
                        <a:lnTo>
                          <a:pt x="312" y="377"/>
                        </a:lnTo>
                        <a:lnTo>
                          <a:pt x="7" y="0"/>
                        </a:lnTo>
                        <a:lnTo>
                          <a:pt x="0" y="7"/>
                        </a:lnTo>
                        <a:lnTo>
                          <a:pt x="304" y="385"/>
                        </a:lnTo>
                        <a:lnTo>
                          <a:pt x="308"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784400" y="4441680"/>
                    <a:ext cx="119160" cy="142920"/>
                  </a:xfrm>
                  <a:custGeom>
                    <a:avLst/>
                    <a:gdLst/>
                    <a:ahLst/>
                    <a:rect l="l" t="t" r="r" b="b"/>
                    <a:pathLst>
                      <a:path w="297" h="360">
                        <a:moveTo>
                          <a:pt x="294" y="357"/>
                        </a:moveTo>
                        <a:lnTo>
                          <a:pt x="297" y="353"/>
                        </a:lnTo>
                        <a:lnTo>
                          <a:pt x="8" y="0"/>
                        </a:lnTo>
                        <a:lnTo>
                          <a:pt x="0" y="8"/>
                        </a:lnTo>
                        <a:lnTo>
                          <a:pt x="290" y="360"/>
                        </a:lnTo>
                        <a:lnTo>
                          <a:pt x="294"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727520" y="4384800"/>
                    <a:ext cx="101520" cy="56880"/>
                  </a:xfrm>
                  <a:custGeom>
                    <a:avLst/>
                    <a:gdLst/>
                    <a:ahLst/>
                    <a:rect l="l" t="t" r="r" b="b"/>
                    <a:pathLst>
                      <a:path w="253" h="145">
                        <a:moveTo>
                          <a:pt x="243" y="3"/>
                        </a:moveTo>
                        <a:lnTo>
                          <a:pt x="246" y="0"/>
                        </a:lnTo>
                        <a:lnTo>
                          <a:pt x="0" y="135"/>
                        </a:lnTo>
                        <a:lnTo>
                          <a:pt x="5" y="145"/>
                        </a:lnTo>
                        <a:lnTo>
                          <a:pt x="251" y="10"/>
                        </a:lnTo>
                        <a:lnTo>
                          <a:pt x="253" y="8"/>
                        </a:lnTo>
                        <a:lnTo>
                          <a:pt x="251" y="10"/>
                        </a:lnTo>
                        <a:lnTo>
                          <a:pt x="252" y="9"/>
                        </a:lnTo>
                        <a:lnTo>
                          <a:pt x="253" y="8"/>
                        </a:lnTo>
                        <a:lnTo>
                          <a:pt x="24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4" name=""/>
                  <p:cNvSpPr/>
                  <p:nvPr/>
                </p:nvSpPr>
                <p:spPr>
                  <a:xfrm>
                    <a:off x="4824360" y="4299120"/>
                    <a:ext cx="48960" cy="88560"/>
                  </a:xfrm>
                  <a:custGeom>
                    <a:avLst/>
                    <a:gdLst/>
                    <a:ahLst/>
                    <a:rect l="l" t="t" r="r" b="b"/>
                    <a:pathLst>
                      <a:path w="121" h="226">
                        <a:moveTo>
                          <a:pt x="116" y="3"/>
                        </a:moveTo>
                        <a:lnTo>
                          <a:pt x="111" y="0"/>
                        </a:lnTo>
                        <a:lnTo>
                          <a:pt x="0" y="221"/>
                        </a:lnTo>
                        <a:lnTo>
                          <a:pt x="10" y="226"/>
                        </a:lnTo>
                        <a:lnTo>
                          <a:pt x="121" y="5"/>
                        </a:lnTo>
                        <a:lnTo>
                          <a:pt x="116"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5" name=""/>
                  <p:cNvSpPr/>
                  <p:nvPr/>
                </p:nvSpPr>
                <p:spPr>
                  <a:xfrm>
                    <a:off x="4636800" y="4319640"/>
                    <a:ext cx="69840" cy="50760"/>
                  </a:xfrm>
                  <a:custGeom>
                    <a:avLst/>
                    <a:gdLst/>
                    <a:ahLst/>
                    <a:rect l="l" t="t" r="r" b="b"/>
                    <a:pathLst>
                      <a:path w="174" h="127">
                        <a:moveTo>
                          <a:pt x="35" y="127"/>
                        </a:moveTo>
                        <a:lnTo>
                          <a:pt x="0" y="46"/>
                        </a:lnTo>
                        <a:lnTo>
                          <a:pt x="13" y="33"/>
                        </a:lnTo>
                        <a:lnTo>
                          <a:pt x="28" y="23"/>
                        </a:lnTo>
                        <a:lnTo>
                          <a:pt x="44" y="15"/>
                        </a:lnTo>
                        <a:lnTo>
                          <a:pt x="62" y="7"/>
                        </a:lnTo>
                        <a:lnTo>
                          <a:pt x="80" y="3"/>
                        </a:lnTo>
                        <a:lnTo>
                          <a:pt x="100" y="1"/>
                        </a:lnTo>
                        <a:lnTo>
                          <a:pt x="119" y="0"/>
                        </a:lnTo>
                        <a:lnTo>
                          <a:pt x="139" y="2"/>
                        </a:lnTo>
                        <a:lnTo>
                          <a:pt x="147" y="27"/>
                        </a:lnTo>
                        <a:lnTo>
                          <a:pt x="160" y="57"/>
                        </a:lnTo>
                        <a:lnTo>
                          <a:pt x="170" y="83"/>
                        </a:lnTo>
                        <a:lnTo>
                          <a:pt x="174" y="93"/>
                        </a:lnTo>
                        <a:lnTo>
                          <a:pt x="35" y="127"/>
                        </a:lnTo>
                        <a:close/>
                      </a:path>
                    </a:pathLst>
                  </a:custGeom>
                  <a:solidFill>
                    <a:srgbClr val="f2cca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6" name=""/>
                  <p:cNvSpPr/>
                  <p:nvPr/>
                </p:nvSpPr>
                <p:spPr>
                  <a:xfrm>
                    <a:off x="4635360" y="4336920"/>
                    <a:ext cx="17280" cy="33480"/>
                  </a:xfrm>
                  <a:custGeom>
                    <a:avLst/>
                    <a:gdLst/>
                    <a:ahLst/>
                    <a:rect l="l" t="t" r="r" b="b"/>
                    <a:pathLst>
                      <a:path w="46" h="86">
                        <a:moveTo>
                          <a:pt x="2" y="0"/>
                        </a:moveTo>
                        <a:lnTo>
                          <a:pt x="1" y="5"/>
                        </a:lnTo>
                        <a:lnTo>
                          <a:pt x="36" y="86"/>
                        </a:lnTo>
                        <a:lnTo>
                          <a:pt x="46" y="84"/>
                        </a:lnTo>
                        <a:lnTo>
                          <a:pt x="11" y="3"/>
                        </a:lnTo>
                        <a:lnTo>
                          <a:pt x="10" y="8"/>
                        </a:lnTo>
                        <a:lnTo>
                          <a:pt x="2" y="0"/>
                        </a:lnTo>
                        <a:lnTo>
                          <a:pt x="0" y="4"/>
                        </a:lnTo>
                        <a:lnTo>
                          <a:pt x="1" y="5"/>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7" name=""/>
                  <p:cNvSpPr/>
                  <p:nvPr/>
                </p:nvSpPr>
                <p:spPr>
                  <a:xfrm>
                    <a:off x="4635360" y="4316400"/>
                    <a:ext cx="58680" cy="22320"/>
                  </a:xfrm>
                  <a:custGeom>
                    <a:avLst/>
                    <a:gdLst/>
                    <a:ahLst/>
                    <a:rect l="l" t="t" r="r" b="b"/>
                    <a:pathLst>
                      <a:path w="148" h="56">
                        <a:moveTo>
                          <a:pt x="148" y="7"/>
                        </a:moveTo>
                        <a:lnTo>
                          <a:pt x="143" y="3"/>
                        </a:lnTo>
                        <a:lnTo>
                          <a:pt x="123" y="0"/>
                        </a:lnTo>
                        <a:lnTo>
                          <a:pt x="104" y="2"/>
                        </a:lnTo>
                        <a:lnTo>
                          <a:pt x="84" y="4"/>
                        </a:lnTo>
                        <a:lnTo>
                          <a:pt x="65" y="8"/>
                        </a:lnTo>
                        <a:lnTo>
                          <a:pt x="45" y="16"/>
                        </a:lnTo>
                        <a:lnTo>
                          <a:pt x="29" y="24"/>
                        </a:lnTo>
                        <a:lnTo>
                          <a:pt x="13" y="36"/>
                        </a:lnTo>
                        <a:lnTo>
                          <a:pt x="0" y="48"/>
                        </a:lnTo>
                        <a:lnTo>
                          <a:pt x="8" y="56"/>
                        </a:lnTo>
                        <a:lnTo>
                          <a:pt x="20" y="43"/>
                        </a:lnTo>
                        <a:lnTo>
                          <a:pt x="34" y="34"/>
                        </a:lnTo>
                        <a:lnTo>
                          <a:pt x="50" y="26"/>
                        </a:lnTo>
                        <a:lnTo>
                          <a:pt x="68" y="18"/>
                        </a:lnTo>
                        <a:lnTo>
                          <a:pt x="84" y="14"/>
                        </a:lnTo>
                        <a:lnTo>
                          <a:pt x="104" y="12"/>
                        </a:lnTo>
                        <a:lnTo>
                          <a:pt x="123" y="12"/>
                        </a:lnTo>
                        <a:lnTo>
                          <a:pt x="143" y="13"/>
                        </a:lnTo>
                        <a:lnTo>
                          <a:pt x="138" y="9"/>
                        </a:lnTo>
                        <a:lnTo>
                          <a:pt x="148" y="7"/>
                        </a:lnTo>
                        <a:lnTo>
                          <a:pt x="146" y="3"/>
                        </a:lnTo>
                        <a:lnTo>
                          <a:pt x="143" y="3"/>
                        </a:lnTo>
                        <a:lnTo>
                          <a:pt x="148"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8" name=""/>
                  <p:cNvSpPr/>
                  <p:nvPr/>
                </p:nvSpPr>
                <p:spPr>
                  <a:xfrm>
                    <a:off x="4690800" y="4319640"/>
                    <a:ext cx="19080" cy="39600"/>
                  </a:xfrm>
                  <a:custGeom>
                    <a:avLst/>
                    <a:gdLst/>
                    <a:ahLst/>
                    <a:rect l="l" t="t" r="r" b="b"/>
                    <a:pathLst>
                      <a:path w="47" h="97">
                        <a:moveTo>
                          <a:pt x="41" y="97"/>
                        </a:moveTo>
                        <a:lnTo>
                          <a:pt x="45" y="91"/>
                        </a:lnTo>
                        <a:lnTo>
                          <a:pt x="41" y="81"/>
                        </a:lnTo>
                        <a:lnTo>
                          <a:pt x="31" y="55"/>
                        </a:lnTo>
                        <a:lnTo>
                          <a:pt x="18" y="25"/>
                        </a:lnTo>
                        <a:lnTo>
                          <a:pt x="10" y="0"/>
                        </a:lnTo>
                        <a:lnTo>
                          <a:pt x="0" y="2"/>
                        </a:lnTo>
                        <a:lnTo>
                          <a:pt x="8" y="27"/>
                        </a:lnTo>
                        <a:lnTo>
                          <a:pt x="21" y="57"/>
                        </a:lnTo>
                        <a:lnTo>
                          <a:pt x="31" y="83"/>
                        </a:lnTo>
                        <a:lnTo>
                          <a:pt x="35" y="93"/>
                        </a:lnTo>
                        <a:lnTo>
                          <a:pt x="38" y="87"/>
                        </a:lnTo>
                        <a:lnTo>
                          <a:pt x="41" y="97"/>
                        </a:lnTo>
                        <a:lnTo>
                          <a:pt x="47" y="96"/>
                        </a:lnTo>
                        <a:lnTo>
                          <a:pt x="45" y="91"/>
                        </a:lnTo>
                        <a:lnTo>
                          <a:pt x="41" y="9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9" name=""/>
                  <p:cNvSpPr/>
                  <p:nvPr/>
                </p:nvSpPr>
                <p:spPr>
                  <a:xfrm>
                    <a:off x="4649760" y="4354560"/>
                    <a:ext cx="56880" cy="17280"/>
                  </a:xfrm>
                  <a:custGeom>
                    <a:avLst/>
                    <a:gdLst/>
                    <a:ahLst/>
                    <a:rect l="l" t="t" r="r" b="b"/>
                    <a:pathLst>
                      <a:path w="145" h="45">
                        <a:moveTo>
                          <a:pt x="0" y="40"/>
                        </a:moveTo>
                        <a:lnTo>
                          <a:pt x="6" y="44"/>
                        </a:lnTo>
                        <a:lnTo>
                          <a:pt x="145" y="10"/>
                        </a:lnTo>
                        <a:lnTo>
                          <a:pt x="142" y="0"/>
                        </a:lnTo>
                        <a:lnTo>
                          <a:pt x="4" y="34"/>
                        </a:lnTo>
                        <a:lnTo>
                          <a:pt x="10" y="38"/>
                        </a:lnTo>
                        <a:lnTo>
                          <a:pt x="0" y="40"/>
                        </a:lnTo>
                        <a:lnTo>
                          <a:pt x="3" y="45"/>
                        </a:lnTo>
                        <a:lnTo>
                          <a:pt x="6" y="44"/>
                        </a:lnTo>
                        <a:lnTo>
                          <a:pt x="0" y="4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0" name=""/>
                  <p:cNvSpPr/>
                  <p:nvPr/>
                </p:nvSpPr>
                <p:spPr>
                  <a:xfrm>
                    <a:off x="4613040" y="4336920"/>
                    <a:ext cx="216000" cy="282600"/>
                  </a:xfrm>
                  <a:custGeom>
                    <a:avLst/>
                    <a:gdLst/>
                    <a:ahLst/>
                    <a:rect l="l" t="t" r="r" b="b"/>
                    <a:pathLst>
                      <a:path w="543" h="714">
                        <a:moveTo>
                          <a:pt x="0" y="79"/>
                        </a:moveTo>
                        <a:lnTo>
                          <a:pt x="316" y="0"/>
                        </a:lnTo>
                        <a:lnTo>
                          <a:pt x="316" y="14"/>
                        </a:lnTo>
                        <a:lnTo>
                          <a:pt x="316" y="26"/>
                        </a:lnTo>
                        <a:lnTo>
                          <a:pt x="315" y="36"/>
                        </a:lnTo>
                        <a:lnTo>
                          <a:pt x="314" y="46"/>
                        </a:lnTo>
                        <a:lnTo>
                          <a:pt x="309" y="54"/>
                        </a:lnTo>
                        <a:lnTo>
                          <a:pt x="302" y="60"/>
                        </a:lnTo>
                        <a:lnTo>
                          <a:pt x="291" y="66"/>
                        </a:lnTo>
                        <a:lnTo>
                          <a:pt x="276" y="71"/>
                        </a:lnTo>
                        <a:lnTo>
                          <a:pt x="272" y="94"/>
                        </a:lnTo>
                        <a:lnTo>
                          <a:pt x="271" y="116"/>
                        </a:lnTo>
                        <a:lnTo>
                          <a:pt x="275" y="137"/>
                        </a:lnTo>
                        <a:lnTo>
                          <a:pt x="281" y="158"/>
                        </a:lnTo>
                        <a:lnTo>
                          <a:pt x="290" y="178"/>
                        </a:lnTo>
                        <a:lnTo>
                          <a:pt x="304" y="196"/>
                        </a:lnTo>
                        <a:lnTo>
                          <a:pt x="320" y="212"/>
                        </a:lnTo>
                        <a:lnTo>
                          <a:pt x="340" y="227"/>
                        </a:lnTo>
                        <a:lnTo>
                          <a:pt x="358" y="239"/>
                        </a:lnTo>
                        <a:lnTo>
                          <a:pt x="381" y="259"/>
                        </a:lnTo>
                        <a:lnTo>
                          <a:pt x="406" y="285"/>
                        </a:lnTo>
                        <a:lnTo>
                          <a:pt x="432" y="319"/>
                        </a:lnTo>
                        <a:lnTo>
                          <a:pt x="457" y="360"/>
                        </a:lnTo>
                        <a:lnTo>
                          <a:pt x="481" y="410"/>
                        </a:lnTo>
                        <a:lnTo>
                          <a:pt x="500" y="467"/>
                        </a:lnTo>
                        <a:lnTo>
                          <a:pt x="515" y="533"/>
                        </a:lnTo>
                        <a:lnTo>
                          <a:pt x="522" y="577"/>
                        </a:lnTo>
                        <a:lnTo>
                          <a:pt x="532" y="628"/>
                        </a:lnTo>
                        <a:lnTo>
                          <a:pt x="540" y="672"/>
                        </a:lnTo>
                        <a:lnTo>
                          <a:pt x="543" y="689"/>
                        </a:lnTo>
                        <a:lnTo>
                          <a:pt x="93" y="714"/>
                        </a:lnTo>
                        <a:lnTo>
                          <a:pt x="80" y="683"/>
                        </a:lnTo>
                        <a:lnTo>
                          <a:pt x="69" y="647"/>
                        </a:lnTo>
                        <a:lnTo>
                          <a:pt x="59" y="607"/>
                        </a:lnTo>
                        <a:lnTo>
                          <a:pt x="51" y="566"/>
                        </a:lnTo>
                        <a:lnTo>
                          <a:pt x="45" y="525"/>
                        </a:lnTo>
                        <a:lnTo>
                          <a:pt x="43" y="484"/>
                        </a:lnTo>
                        <a:lnTo>
                          <a:pt x="43" y="447"/>
                        </a:lnTo>
                        <a:lnTo>
                          <a:pt x="45" y="415"/>
                        </a:lnTo>
                        <a:lnTo>
                          <a:pt x="48" y="394"/>
                        </a:lnTo>
                        <a:lnTo>
                          <a:pt x="51" y="366"/>
                        </a:lnTo>
                        <a:lnTo>
                          <a:pt x="59" y="335"/>
                        </a:lnTo>
                        <a:lnTo>
                          <a:pt x="75" y="305"/>
                        </a:lnTo>
                        <a:lnTo>
                          <a:pt x="90" y="282"/>
                        </a:lnTo>
                        <a:lnTo>
                          <a:pt x="103" y="258"/>
                        </a:lnTo>
                        <a:lnTo>
                          <a:pt x="110" y="234"/>
                        </a:lnTo>
                        <a:lnTo>
                          <a:pt x="115" y="211"/>
                        </a:lnTo>
                        <a:lnTo>
                          <a:pt x="116" y="188"/>
                        </a:lnTo>
                        <a:lnTo>
                          <a:pt x="112" y="167"/>
                        </a:lnTo>
                        <a:lnTo>
                          <a:pt x="105" y="148"/>
                        </a:lnTo>
                        <a:lnTo>
                          <a:pt x="93" y="130"/>
                        </a:lnTo>
                        <a:lnTo>
                          <a:pt x="89" y="128"/>
                        </a:lnTo>
                        <a:lnTo>
                          <a:pt x="84" y="127"/>
                        </a:lnTo>
                        <a:lnTo>
                          <a:pt x="76" y="127"/>
                        </a:lnTo>
                        <a:lnTo>
                          <a:pt x="69" y="128"/>
                        </a:lnTo>
                        <a:lnTo>
                          <a:pt x="59" y="128"/>
                        </a:lnTo>
                        <a:lnTo>
                          <a:pt x="50" y="126"/>
                        </a:lnTo>
                        <a:lnTo>
                          <a:pt x="39" y="123"/>
                        </a:lnTo>
                        <a:lnTo>
                          <a:pt x="29" y="117"/>
                        </a:lnTo>
                        <a:lnTo>
                          <a:pt x="18" y="106"/>
                        </a:lnTo>
                        <a:lnTo>
                          <a:pt x="9" y="94"/>
                        </a:lnTo>
                        <a:lnTo>
                          <a:pt x="3" y="82"/>
                        </a:lnTo>
                        <a:lnTo>
                          <a:pt x="0" y="79"/>
                        </a:lnTo>
                        <a:close/>
                      </a:path>
                    </a:pathLst>
                  </a:custGeom>
                  <a:solidFill>
                    <a:srgbClr val="008c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4613040" y="4334040"/>
                    <a:ext cx="128520" cy="34920"/>
                  </a:xfrm>
                  <a:custGeom>
                    <a:avLst/>
                    <a:gdLst/>
                    <a:ahLst/>
                    <a:rect l="l" t="t" r="r" b="b"/>
                    <a:pathLst>
                      <a:path w="323" h="91">
                        <a:moveTo>
                          <a:pt x="322" y="7"/>
                        </a:moveTo>
                        <a:lnTo>
                          <a:pt x="316" y="2"/>
                        </a:lnTo>
                        <a:lnTo>
                          <a:pt x="0" y="81"/>
                        </a:lnTo>
                        <a:lnTo>
                          <a:pt x="2" y="91"/>
                        </a:lnTo>
                        <a:lnTo>
                          <a:pt x="318" y="12"/>
                        </a:lnTo>
                        <a:lnTo>
                          <a:pt x="312" y="7"/>
                        </a:lnTo>
                        <a:lnTo>
                          <a:pt x="322" y="7"/>
                        </a:lnTo>
                        <a:lnTo>
                          <a:pt x="323" y="0"/>
                        </a:lnTo>
                        <a:lnTo>
                          <a:pt x="316" y="2"/>
                        </a:lnTo>
                        <a:lnTo>
                          <a:pt x="322"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4721040" y="4336920"/>
                    <a:ext cx="20520" cy="30240"/>
                  </a:xfrm>
                  <a:custGeom>
                    <a:avLst/>
                    <a:gdLst/>
                    <a:ahLst/>
                    <a:rect l="l" t="t" r="r" b="b"/>
                    <a:pathLst>
                      <a:path w="51" h="76">
                        <a:moveTo>
                          <a:pt x="10" y="72"/>
                        </a:moveTo>
                        <a:lnTo>
                          <a:pt x="6" y="76"/>
                        </a:lnTo>
                        <a:lnTo>
                          <a:pt x="21" y="71"/>
                        </a:lnTo>
                        <a:lnTo>
                          <a:pt x="34" y="65"/>
                        </a:lnTo>
                        <a:lnTo>
                          <a:pt x="41" y="57"/>
                        </a:lnTo>
                        <a:lnTo>
                          <a:pt x="48" y="47"/>
                        </a:lnTo>
                        <a:lnTo>
                          <a:pt x="49" y="36"/>
                        </a:lnTo>
                        <a:lnTo>
                          <a:pt x="51" y="26"/>
                        </a:lnTo>
                        <a:lnTo>
                          <a:pt x="51" y="14"/>
                        </a:lnTo>
                        <a:lnTo>
                          <a:pt x="50" y="0"/>
                        </a:lnTo>
                        <a:lnTo>
                          <a:pt x="40" y="0"/>
                        </a:lnTo>
                        <a:lnTo>
                          <a:pt x="39" y="14"/>
                        </a:lnTo>
                        <a:lnTo>
                          <a:pt x="39" y="26"/>
                        </a:lnTo>
                        <a:lnTo>
                          <a:pt x="39" y="36"/>
                        </a:lnTo>
                        <a:lnTo>
                          <a:pt x="38" y="45"/>
                        </a:lnTo>
                        <a:lnTo>
                          <a:pt x="34" y="50"/>
                        </a:lnTo>
                        <a:lnTo>
                          <a:pt x="29" y="55"/>
                        </a:lnTo>
                        <a:lnTo>
                          <a:pt x="19" y="61"/>
                        </a:lnTo>
                        <a:lnTo>
                          <a:pt x="4" y="66"/>
                        </a:lnTo>
                        <a:lnTo>
                          <a:pt x="0" y="70"/>
                        </a:lnTo>
                        <a:lnTo>
                          <a:pt x="4" y="66"/>
                        </a:lnTo>
                        <a:lnTo>
                          <a:pt x="0" y="66"/>
                        </a:lnTo>
                        <a:lnTo>
                          <a:pt x="0" y="70"/>
                        </a:lnTo>
                        <a:lnTo>
                          <a:pt x="10" y="7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3" name=""/>
                  <p:cNvSpPr/>
                  <p:nvPr/>
                </p:nvSpPr>
                <p:spPr>
                  <a:xfrm>
                    <a:off x="4719600" y="4363920"/>
                    <a:ext cx="29880" cy="63720"/>
                  </a:xfrm>
                  <a:custGeom>
                    <a:avLst/>
                    <a:gdLst/>
                    <a:ahLst/>
                    <a:rect l="l" t="t" r="r" b="b"/>
                    <a:pathLst>
                      <a:path w="76" h="162">
                        <a:moveTo>
                          <a:pt x="76" y="152"/>
                        </a:moveTo>
                        <a:lnTo>
                          <a:pt x="76" y="152"/>
                        </a:lnTo>
                        <a:lnTo>
                          <a:pt x="58" y="138"/>
                        </a:lnTo>
                        <a:lnTo>
                          <a:pt x="41" y="122"/>
                        </a:lnTo>
                        <a:lnTo>
                          <a:pt x="29" y="106"/>
                        </a:lnTo>
                        <a:lnTo>
                          <a:pt x="20" y="87"/>
                        </a:lnTo>
                        <a:lnTo>
                          <a:pt x="14" y="66"/>
                        </a:lnTo>
                        <a:lnTo>
                          <a:pt x="10" y="46"/>
                        </a:lnTo>
                        <a:lnTo>
                          <a:pt x="11" y="24"/>
                        </a:lnTo>
                        <a:lnTo>
                          <a:pt x="15" y="2"/>
                        </a:lnTo>
                        <a:lnTo>
                          <a:pt x="5" y="0"/>
                        </a:lnTo>
                        <a:lnTo>
                          <a:pt x="1" y="24"/>
                        </a:lnTo>
                        <a:lnTo>
                          <a:pt x="0" y="46"/>
                        </a:lnTo>
                        <a:lnTo>
                          <a:pt x="4" y="68"/>
                        </a:lnTo>
                        <a:lnTo>
                          <a:pt x="10" y="90"/>
                        </a:lnTo>
                        <a:lnTo>
                          <a:pt x="19" y="111"/>
                        </a:lnTo>
                        <a:lnTo>
                          <a:pt x="34" y="129"/>
                        </a:lnTo>
                        <a:lnTo>
                          <a:pt x="50" y="146"/>
                        </a:lnTo>
                        <a:lnTo>
                          <a:pt x="71" y="162"/>
                        </a:lnTo>
                        <a:lnTo>
                          <a:pt x="71" y="162"/>
                        </a:lnTo>
                        <a:lnTo>
                          <a:pt x="76" y="15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4" name=""/>
                  <p:cNvSpPr/>
                  <p:nvPr/>
                </p:nvSpPr>
                <p:spPr>
                  <a:xfrm>
                    <a:off x="4748040" y="4424400"/>
                    <a:ext cx="71640" cy="123840"/>
                  </a:xfrm>
                  <a:custGeom>
                    <a:avLst/>
                    <a:gdLst/>
                    <a:ahLst/>
                    <a:rect l="l" t="t" r="r" b="b"/>
                    <a:pathLst>
                      <a:path w="183" h="311">
                        <a:moveTo>
                          <a:pt x="183" y="311"/>
                        </a:moveTo>
                        <a:lnTo>
                          <a:pt x="183" y="311"/>
                        </a:lnTo>
                        <a:lnTo>
                          <a:pt x="168" y="244"/>
                        </a:lnTo>
                        <a:lnTo>
                          <a:pt x="149" y="187"/>
                        </a:lnTo>
                        <a:lnTo>
                          <a:pt x="125" y="136"/>
                        </a:lnTo>
                        <a:lnTo>
                          <a:pt x="100" y="95"/>
                        </a:lnTo>
                        <a:lnTo>
                          <a:pt x="73" y="60"/>
                        </a:lnTo>
                        <a:lnTo>
                          <a:pt x="48" y="34"/>
                        </a:lnTo>
                        <a:lnTo>
                          <a:pt x="25" y="14"/>
                        </a:lnTo>
                        <a:lnTo>
                          <a:pt x="5" y="0"/>
                        </a:lnTo>
                        <a:lnTo>
                          <a:pt x="0" y="10"/>
                        </a:lnTo>
                        <a:lnTo>
                          <a:pt x="18" y="21"/>
                        </a:lnTo>
                        <a:lnTo>
                          <a:pt x="40" y="41"/>
                        </a:lnTo>
                        <a:lnTo>
                          <a:pt x="65" y="67"/>
                        </a:lnTo>
                        <a:lnTo>
                          <a:pt x="90" y="100"/>
                        </a:lnTo>
                        <a:lnTo>
                          <a:pt x="115" y="141"/>
                        </a:lnTo>
                        <a:lnTo>
                          <a:pt x="139" y="189"/>
                        </a:lnTo>
                        <a:lnTo>
                          <a:pt x="158" y="247"/>
                        </a:lnTo>
                        <a:lnTo>
                          <a:pt x="173" y="311"/>
                        </a:lnTo>
                        <a:lnTo>
                          <a:pt x="173" y="311"/>
                        </a:lnTo>
                        <a:lnTo>
                          <a:pt x="183"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4816440" y="4548240"/>
                    <a:ext cx="15840" cy="63360"/>
                  </a:xfrm>
                  <a:custGeom>
                    <a:avLst/>
                    <a:gdLst/>
                    <a:ahLst/>
                    <a:rect l="l" t="t" r="r" b="b"/>
                    <a:pathLst>
                      <a:path w="40" h="161">
                        <a:moveTo>
                          <a:pt x="33" y="161"/>
                        </a:moveTo>
                        <a:lnTo>
                          <a:pt x="38" y="156"/>
                        </a:lnTo>
                        <a:lnTo>
                          <a:pt x="35" y="139"/>
                        </a:lnTo>
                        <a:lnTo>
                          <a:pt x="27" y="95"/>
                        </a:lnTo>
                        <a:lnTo>
                          <a:pt x="17" y="44"/>
                        </a:lnTo>
                        <a:lnTo>
                          <a:pt x="10" y="0"/>
                        </a:lnTo>
                        <a:lnTo>
                          <a:pt x="0" y="0"/>
                        </a:lnTo>
                        <a:lnTo>
                          <a:pt x="7" y="44"/>
                        </a:lnTo>
                        <a:lnTo>
                          <a:pt x="17" y="95"/>
                        </a:lnTo>
                        <a:lnTo>
                          <a:pt x="25" y="139"/>
                        </a:lnTo>
                        <a:lnTo>
                          <a:pt x="28" y="156"/>
                        </a:lnTo>
                        <a:lnTo>
                          <a:pt x="33" y="151"/>
                        </a:lnTo>
                        <a:lnTo>
                          <a:pt x="33" y="161"/>
                        </a:lnTo>
                        <a:lnTo>
                          <a:pt x="40" y="161"/>
                        </a:lnTo>
                        <a:lnTo>
                          <a:pt x="38" y="156"/>
                        </a:lnTo>
                        <a:lnTo>
                          <a:pt x="33" y="16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6" name=""/>
                  <p:cNvSpPr/>
                  <p:nvPr/>
                </p:nvSpPr>
                <p:spPr>
                  <a:xfrm>
                    <a:off x="4647960" y="4608360"/>
                    <a:ext cx="181080" cy="14400"/>
                  </a:xfrm>
                  <a:custGeom>
                    <a:avLst/>
                    <a:gdLst/>
                    <a:ahLst/>
                    <a:rect l="l" t="t" r="r" b="b"/>
                    <a:pathLst>
                      <a:path w="455" h="36">
                        <a:moveTo>
                          <a:pt x="0" y="33"/>
                        </a:moveTo>
                        <a:lnTo>
                          <a:pt x="5" y="35"/>
                        </a:lnTo>
                        <a:lnTo>
                          <a:pt x="455" y="10"/>
                        </a:lnTo>
                        <a:lnTo>
                          <a:pt x="455" y="0"/>
                        </a:lnTo>
                        <a:lnTo>
                          <a:pt x="5" y="25"/>
                        </a:lnTo>
                        <a:lnTo>
                          <a:pt x="10" y="28"/>
                        </a:lnTo>
                        <a:lnTo>
                          <a:pt x="0" y="33"/>
                        </a:lnTo>
                        <a:lnTo>
                          <a:pt x="1" y="36"/>
                        </a:lnTo>
                        <a:lnTo>
                          <a:pt x="5" y="35"/>
                        </a:lnTo>
                        <a:lnTo>
                          <a:pt x="0" y="3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7" name=""/>
                  <p:cNvSpPr/>
                  <p:nvPr/>
                </p:nvSpPr>
                <p:spPr>
                  <a:xfrm>
                    <a:off x="4628880" y="4500720"/>
                    <a:ext cx="23760" cy="120600"/>
                  </a:xfrm>
                  <a:custGeom>
                    <a:avLst/>
                    <a:gdLst/>
                    <a:ahLst/>
                    <a:rect l="l" t="t" r="r" b="b"/>
                    <a:pathLst>
                      <a:path w="60" h="302">
                        <a:moveTo>
                          <a:pt x="2" y="0"/>
                        </a:moveTo>
                        <a:lnTo>
                          <a:pt x="2" y="0"/>
                        </a:lnTo>
                        <a:lnTo>
                          <a:pt x="0" y="32"/>
                        </a:lnTo>
                        <a:lnTo>
                          <a:pt x="0" y="69"/>
                        </a:lnTo>
                        <a:lnTo>
                          <a:pt x="2" y="110"/>
                        </a:lnTo>
                        <a:lnTo>
                          <a:pt x="8" y="151"/>
                        </a:lnTo>
                        <a:lnTo>
                          <a:pt x="16" y="193"/>
                        </a:lnTo>
                        <a:lnTo>
                          <a:pt x="26" y="233"/>
                        </a:lnTo>
                        <a:lnTo>
                          <a:pt x="37" y="269"/>
                        </a:lnTo>
                        <a:lnTo>
                          <a:pt x="50" y="302"/>
                        </a:lnTo>
                        <a:lnTo>
                          <a:pt x="60" y="297"/>
                        </a:lnTo>
                        <a:lnTo>
                          <a:pt x="47" y="267"/>
                        </a:lnTo>
                        <a:lnTo>
                          <a:pt x="36" y="231"/>
                        </a:lnTo>
                        <a:lnTo>
                          <a:pt x="26" y="191"/>
                        </a:lnTo>
                        <a:lnTo>
                          <a:pt x="18" y="151"/>
                        </a:lnTo>
                        <a:lnTo>
                          <a:pt x="12" y="110"/>
                        </a:lnTo>
                        <a:lnTo>
                          <a:pt x="10" y="69"/>
                        </a:lnTo>
                        <a:lnTo>
                          <a:pt x="10" y="32"/>
                        </a:lnTo>
                        <a:lnTo>
                          <a:pt x="12" y="0"/>
                        </a:lnTo>
                        <a:lnTo>
                          <a:pt x="1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4628880" y="4456080"/>
                    <a:ext cx="15840" cy="44640"/>
                  </a:xfrm>
                  <a:custGeom>
                    <a:avLst/>
                    <a:gdLst/>
                    <a:ahLst/>
                    <a:rect l="l" t="t" r="r" b="b"/>
                    <a:pathLst>
                      <a:path w="40" h="112">
                        <a:moveTo>
                          <a:pt x="30" y="0"/>
                        </a:moveTo>
                        <a:lnTo>
                          <a:pt x="30" y="0"/>
                        </a:lnTo>
                        <a:lnTo>
                          <a:pt x="14" y="31"/>
                        </a:lnTo>
                        <a:lnTo>
                          <a:pt x="6" y="63"/>
                        </a:lnTo>
                        <a:lnTo>
                          <a:pt x="3" y="91"/>
                        </a:lnTo>
                        <a:lnTo>
                          <a:pt x="0" y="112"/>
                        </a:lnTo>
                        <a:lnTo>
                          <a:pt x="10" y="112"/>
                        </a:lnTo>
                        <a:lnTo>
                          <a:pt x="13" y="91"/>
                        </a:lnTo>
                        <a:lnTo>
                          <a:pt x="16" y="63"/>
                        </a:lnTo>
                        <a:lnTo>
                          <a:pt x="24" y="34"/>
                        </a:lnTo>
                        <a:lnTo>
                          <a:pt x="40" y="5"/>
                        </a:lnTo>
                        <a:lnTo>
                          <a:pt x="40" y="5"/>
                        </a:lnTo>
                        <a:lnTo>
                          <a:pt x="3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9" name=""/>
                  <p:cNvSpPr/>
                  <p:nvPr/>
                </p:nvSpPr>
                <p:spPr>
                  <a:xfrm>
                    <a:off x="4641840" y="4386240"/>
                    <a:ext cx="20520" cy="71640"/>
                  </a:xfrm>
                  <a:custGeom>
                    <a:avLst/>
                    <a:gdLst/>
                    <a:ahLst/>
                    <a:rect l="l" t="t" r="r" b="b"/>
                    <a:pathLst>
                      <a:path w="51" h="182">
                        <a:moveTo>
                          <a:pt x="19" y="7"/>
                        </a:moveTo>
                        <a:lnTo>
                          <a:pt x="19" y="7"/>
                        </a:lnTo>
                        <a:lnTo>
                          <a:pt x="30" y="25"/>
                        </a:lnTo>
                        <a:lnTo>
                          <a:pt x="38" y="42"/>
                        </a:lnTo>
                        <a:lnTo>
                          <a:pt x="41" y="62"/>
                        </a:lnTo>
                        <a:lnTo>
                          <a:pt x="40" y="85"/>
                        </a:lnTo>
                        <a:lnTo>
                          <a:pt x="35" y="107"/>
                        </a:lnTo>
                        <a:lnTo>
                          <a:pt x="28" y="131"/>
                        </a:lnTo>
                        <a:lnTo>
                          <a:pt x="15" y="153"/>
                        </a:lnTo>
                        <a:lnTo>
                          <a:pt x="0" y="177"/>
                        </a:lnTo>
                        <a:lnTo>
                          <a:pt x="10" y="182"/>
                        </a:lnTo>
                        <a:lnTo>
                          <a:pt x="25" y="158"/>
                        </a:lnTo>
                        <a:lnTo>
                          <a:pt x="38" y="133"/>
                        </a:lnTo>
                        <a:lnTo>
                          <a:pt x="45" y="110"/>
                        </a:lnTo>
                        <a:lnTo>
                          <a:pt x="50" y="85"/>
                        </a:lnTo>
                        <a:lnTo>
                          <a:pt x="51" y="62"/>
                        </a:lnTo>
                        <a:lnTo>
                          <a:pt x="47" y="40"/>
                        </a:lnTo>
                        <a:lnTo>
                          <a:pt x="40" y="20"/>
                        </a:lnTo>
                        <a:lnTo>
                          <a:pt x="26" y="0"/>
                        </a:lnTo>
                        <a:lnTo>
                          <a:pt x="26" y="0"/>
                        </a:lnTo>
                        <a:lnTo>
                          <a:pt x="19"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10" name=""/>
                  <p:cNvSpPr/>
                  <p:nvPr/>
                </p:nvSpPr>
                <p:spPr>
                  <a:xfrm>
                    <a:off x="4624200" y="4381560"/>
                    <a:ext cx="27000" cy="7920"/>
                  </a:xfrm>
                  <a:custGeom>
                    <a:avLst/>
                    <a:gdLst/>
                    <a:ahLst/>
                    <a:rect l="l" t="t" r="r" b="b"/>
                    <a:pathLst>
                      <a:path w="71" h="21">
                        <a:moveTo>
                          <a:pt x="0" y="9"/>
                        </a:moveTo>
                        <a:lnTo>
                          <a:pt x="1" y="10"/>
                        </a:lnTo>
                        <a:lnTo>
                          <a:pt x="13" y="16"/>
                        </a:lnTo>
                        <a:lnTo>
                          <a:pt x="24" y="19"/>
                        </a:lnTo>
                        <a:lnTo>
                          <a:pt x="34" y="21"/>
                        </a:lnTo>
                        <a:lnTo>
                          <a:pt x="44" y="21"/>
                        </a:lnTo>
                        <a:lnTo>
                          <a:pt x="51" y="20"/>
                        </a:lnTo>
                        <a:lnTo>
                          <a:pt x="59" y="20"/>
                        </a:lnTo>
                        <a:lnTo>
                          <a:pt x="63" y="21"/>
                        </a:lnTo>
                        <a:lnTo>
                          <a:pt x="64" y="21"/>
                        </a:lnTo>
                        <a:lnTo>
                          <a:pt x="71" y="14"/>
                        </a:lnTo>
                        <a:lnTo>
                          <a:pt x="65" y="11"/>
                        </a:lnTo>
                        <a:lnTo>
                          <a:pt x="59" y="10"/>
                        </a:lnTo>
                        <a:lnTo>
                          <a:pt x="51" y="10"/>
                        </a:lnTo>
                        <a:lnTo>
                          <a:pt x="44" y="11"/>
                        </a:lnTo>
                        <a:lnTo>
                          <a:pt x="34" y="11"/>
                        </a:lnTo>
                        <a:lnTo>
                          <a:pt x="26" y="9"/>
                        </a:lnTo>
                        <a:lnTo>
                          <a:pt x="15" y="6"/>
                        </a:lnTo>
                        <a:lnTo>
                          <a:pt x="6" y="0"/>
                        </a:lnTo>
                        <a:lnTo>
                          <a:pt x="8" y="2"/>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1" name=""/>
                  <p:cNvSpPr/>
                  <p:nvPr/>
                </p:nvSpPr>
                <p:spPr>
                  <a:xfrm>
                    <a:off x="4609800" y="4365720"/>
                    <a:ext cx="16200" cy="19080"/>
                  </a:xfrm>
                  <a:custGeom>
                    <a:avLst/>
                    <a:gdLst/>
                    <a:ahLst/>
                    <a:rect l="l" t="t" r="r" b="b"/>
                    <a:pathLst>
                      <a:path w="42" h="47">
                        <a:moveTo>
                          <a:pt x="8" y="0"/>
                        </a:moveTo>
                        <a:lnTo>
                          <a:pt x="4" y="7"/>
                        </a:lnTo>
                        <a:lnTo>
                          <a:pt x="7" y="11"/>
                        </a:lnTo>
                        <a:lnTo>
                          <a:pt x="13" y="22"/>
                        </a:lnTo>
                        <a:lnTo>
                          <a:pt x="23" y="36"/>
                        </a:lnTo>
                        <a:lnTo>
                          <a:pt x="34" y="47"/>
                        </a:lnTo>
                        <a:lnTo>
                          <a:pt x="42" y="40"/>
                        </a:lnTo>
                        <a:lnTo>
                          <a:pt x="30" y="28"/>
                        </a:lnTo>
                        <a:lnTo>
                          <a:pt x="23" y="17"/>
                        </a:lnTo>
                        <a:lnTo>
                          <a:pt x="17" y="6"/>
                        </a:lnTo>
                        <a:lnTo>
                          <a:pt x="14" y="2"/>
                        </a:lnTo>
                        <a:lnTo>
                          <a:pt x="10" y="10"/>
                        </a:lnTo>
                        <a:lnTo>
                          <a:pt x="8" y="0"/>
                        </a:lnTo>
                        <a:lnTo>
                          <a:pt x="0" y="1"/>
                        </a:lnTo>
                        <a:lnTo>
                          <a:pt x="4" y="7"/>
                        </a:lnTo>
                        <a:lnTo>
                          <a:pt x="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2" name=""/>
                  <p:cNvSpPr/>
                  <p:nvPr/>
                </p:nvSpPr>
                <p:spPr>
                  <a:xfrm>
                    <a:off x="5046480" y="4260960"/>
                    <a:ext cx="412920" cy="357120"/>
                  </a:xfrm>
                  <a:custGeom>
                    <a:avLst/>
                    <a:gdLst/>
                    <a:ahLst/>
                    <a:rect l="l" t="t" r="r" b="b"/>
                    <a:pathLst>
                      <a:path w="1040" h="901">
                        <a:moveTo>
                          <a:pt x="0" y="901"/>
                        </a:moveTo>
                        <a:lnTo>
                          <a:pt x="17" y="880"/>
                        </a:lnTo>
                        <a:lnTo>
                          <a:pt x="38" y="850"/>
                        </a:lnTo>
                        <a:lnTo>
                          <a:pt x="62" y="815"/>
                        </a:lnTo>
                        <a:lnTo>
                          <a:pt x="88" y="775"/>
                        </a:lnTo>
                        <a:lnTo>
                          <a:pt x="115" y="735"/>
                        </a:lnTo>
                        <a:lnTo>
                          <a:pt x="143" y="694"/>
                        </a:lnTo>
                        <a:lnTo>
                          <a:pt x="170" y="654"/>
                        </a:lnTo>
                        <a:lnTo>
                          <a:pt x="195" y="620"/>
                        </a:lnTo>
                        <a:lnTo>
                          <a:pt x="205" y="605"/>
                        </a:lnTo>
                        <a:lnTo>
                          <a:pt x="219" y="588"/>
                        </a:lnTo>
                        <a:lnTo>
                          <a:pt x="233" y="568"/>
                        </a:lnTo>
                        <a:lnTo>
                          <a:pt x="248" y="547"/>
                        </a:lnTo>
                        <a:lnTo>
                          <a:pt x="265" y="525"/>
                        </a:lnTo>
                        <a:lnTo>
                          <a:pt x="284" y="500"/>
                        </a:lnTo>
                        <a:lnTo>
                          <a:pt x="303" y="475"/>
                        </a:lnTo>
                        <a:lnTo>
                          <a:pt x="323" y="449"/>
                        </a:lnTo>
                        <a:lnTo>
                          <a:pt x="344" y="424"/>
                        </a:lnTo>
                        <a:lnTo>
                          <a:pt x="364" y="398"/>
                        </a:lnTo>
                        <a:lnTo>
                          <a:pt x="385" y="372"/>
                        </a:lnTo>
                        <a:lnTo>
                          <a:pt x="406" y="347"/>
                        </a:lnTo>
                        <a:lnTo>
                          <a:pt x="427" y="323"/>
                        </a:lnTo>
                        <a:lnTo>
                          <a:pt x="449" y="301"/>
                        </a:lnTo>
                        <a:lnTo>
                          <a:pt x="469" y="279"/>
                        </a:lnTo>
                        <a:lnTo>
                          <a:pt x="489" y="261"/>
                        </a:lnTo>
                        <a:lnTo>
                          <a:pt x="505" y="246"/>
                        </a:lnTo>
                        <a:lnTo>
                          <a:pt x="521" y="231"/>
                        </a:lnTo>
                        <a:lnTo>
                          <a:pt x="537" y="216"/>
                        </a:lnTo>
                        <a:lnTo>
                          <a:pt x="555" y="200"/>
                        </a:lnTo>
                        <a:lnTo>
                          <a:pt x="573" y="185"/>
                        </a:lnTo>
                        <a:lnTo>
                          <a:pt x="591" y="170"/>
                        </a:lnTo>
                        <a:lnTo>
                          <a:pt x="610" y="153"/>
                        </a:lnTo>
                        <a:lnTo>
                          <a:pt x="627" y="139"/>
                        </a:lnTo>
                        <a:lnTo>
                          <a:pt x="646" y="125"/>
                        </a:lnTo>
                        <a:lnTo>
                          <a:pt x="663" y="111"/>
                        </a:lnTo>
                        <a:lnTo>
                          <a:pt x="681" y="97"/>
                        </a:lnTo>
                        <a:lnTo>
                          <a:pt x="697" y="85"/>
                        </a:lnTo>
                        <a:lnTo>
                          <a:pt x="713" y="74"/>
                        </a:lnTo>
                        <a:lnTo>
                          <a:pt x="728" y="65"/>
                        </a:lnTo>
                        <a:lnTo>
                          <a:pt x="742" y="56"/>
                        </a:lnTo>
                        <a:lnTo>
                          <a:pt x="756" y="49"/>
                        </a:lnTo>
                        <a:lnTo>
                          <a:pt x="768" y="43"/>
                        </a:lnTo>
                        <a:lnTo>
                          <a:pt x="781" y="36"/>
                        </a:lnTo>
                        <a:lnTo>
                          <a:pt x="794" y="31"/>
                        </a:lnTo>
                        <a:lnTo>
                          <a:pt x="809" y="25"/>
                        </a:lnTo>
                        <a:lnTo>
                          <a:pt x="826" y="20"/>
                        </a:lnTo>
                        <a:lnTo>
                          <a:pt x="842" y="15"/>
                        </a:lnTo>
                        <a:lnTo>
                          <a:pt x="858" y="10"/>
                        </a:lnTo>
                        <a:lnTo>
                          <a:pt x="876" y="6"/>
                        </a:lnTo>
                        <a:lnTo>
                          <a:pt x="892" y="3"/>
                        </a:lnTo>
                        <a:lnTo>
                          <a:pt x="908" y="1"/>
                        </a:lnTo>
                        <a:lnTo>
                          <a:pt x="924" y="0"/>
                        </a:lnTo>
                        <a:lnTo>
                          <a:pt x="939" y="0"/>
                        </a:lnTo>
                        <a:lnTo>
                          <a:pt x="953" y="1"/>
                        </a:lnTo>
                        <a:lnTo>
                          <a:pt x="967" y="4"/>
                        </a:lnTo>
                        <a:lnTo>
                          <a:pt x="979" y="8"/>
                        </a:lnTo>
                        <a:lnTo>
                          <a:pt x="991" y="14"/>
                        </a:lnTo>
                        <a:lnTo>
                          <a:pt x="1010" y="31"/>
                        </a:lnTo>
                        <a:lnTo>
                          <a:pt x="1025" y="56"/>
                        </a:lnTo>
                        <a:lnTo>
                          <a:pt x="1037" y="87"/>
                        </a:lnTo>
                        <a:lnTo>
                          <a:pt x="1040" y="127"/>
                        </a:lnTo>
                        <a:lnTo>
                          <a:pt x="1037" y="172"/>
                        </a:lnTo>
                        <a:lnTo>
                          <a:pt x="1023" y="225"/>
                        </a:lnTo>
                        <a:lnTo>
                          <a:pt x="998" y="283"/>
                        </a:lnTo>
                        <a:lnTo>
                          <a:pt x="959" y="347"/>
                        </a:lnTo>
                        <a:lnTo>
                          <a:pt x="936" y="382"/>
                        </a:lnTo>
                        <a:lnTo>
                          <a:pt x="911" y="418"/>
                        </a:lnTo>
                        <a:lnTo>
                          <a:pt x="886" y="456"/>
                        </a:lnTo>
                        <a:lnTo>
                          <a:pt x="859" y="497"/>
                        </a:lnTo>
                        <a:lnTo>
                          <a:pt x="832" y="539"/>
                        </a:lnTo>
                        <a:lnTo>
                          <a:pt x="804" y="580"/>
                        </a:lnTo>
                        <a:lnTo>
                          <a:pt x="777" y="621"/>
                        </a:lnTo>
                        <a:lnTo>
                          <a:pt x="751" y="662"/>
                        </a:lnTo>
                        <a:lnTo>
                          <a:pt x="723" y="702"/>
                        </a:lnTo>
                        <a:lnTo>
                          <a:pt x="697" y="739"/>
                        </a:lnTo>
                        <a:lnTo>
                          <a:pt x="671" y="775"/>
                        </a:lnTo>
                        <a:lnTo>
                          <a:pt x="646" y="808"/>
                        </a:lnTo>
                        <a:lnTo>
                          <a:pt x="622" y="838"/>
                        </a:lnTo>
                        <a:lnTo>
                          <a:pt x="600" y="864"/>
                        </a:lnTo>
                        <a:lnTo>
                          <a:pt x="578" y="885"/>
                        </a:lnTo>
                        <a:lnTo>
                          <a:pt x="560" y="901"/>
                        </a:lnTo>
                        <a:lnTo>
                          <a:pt x="535" y="901"/>
                        </a:lnTo>
                        <a:lnTo>
                          <a:pt x="504" y="900"/>
                        </a:lnTo>
                        <a:lnTo>
                          <a:pt x="467" y="900"/>
                        </a:lnTo>
                        <a:lnTo>
                          <a:pt x="426" y="900"/>
                        </a:lnTo>
                        <a:lnTo>
                          <a:pt x="381" y="900"/>
                        </a:lnTo>
                        <a:lnTo>
                          <a:pt x="335" y="900"/>
                        </a:lnTo>
                        <a:lnTo>
                          <a:pt x="286" y="900"/>
                        </a:lnTo>
                        <a:lnTo>
                          <a:pt x="239" y="900"/>
                        </a:lnTo>
                        <a:lnTo>
                          <a:pt x="193" y="900"/>
                        </a:lnTo>
                        <a:lnTo>
                          <a:pt x="149" y="900"/>
                        </a:lnTo>
                        <a:lnTo>
                          <a:pt x="108" y="900"/>
                        </a:lnTo>
                        <a:lnTo>
                          <a:pt x="73" y="901"/>
                        </a:lnTo>
                        <a:lnTo>
                          <a:pt x="43" y="901"/>
                        </a:lnTo>
                        <a:lnTo>
                          <a:pt x="20" y="901"/>
                        </a:lnTo>
                        <a:lnTo>
                          <a:pt x="5" y="901"/>
                        </a:lnTo>
                        <a:lnTo>
                          <a:pt x="0" y="901"/>
                        </a:lnTo>
                        <a:close/>
                      </a:path>
                    </a:pathLst>
                  </a:custGeom>
                  <a:solidFill>
                    <a:srgbClr val="a5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045040" y="4505400"/>
                    <a:ext cx="81000" cy="114120"/>
                  </a:xfrm>
                  <a:custGeom>
                    <a:avLst/>
                    <a:gdLst/>
                    <a:ahLst/>
                    <a:rect l="l" t="t" r="r" b="b"/>
                    <a:pathLst>
                      <a:path w="203" h="288">
                        <a:moveTo>
                          <a:pt x="193" y="0"/>
                        </a:moveTo>
                        <a:lnTo>
                          <a:pt x="193" y="0"/>
                        </a:lnTo>
                        <a:lnTo>
                          <a:pt x="168" y="35"/>
                        </a:lnTo>
                        <a:lnTo>
                          <a:pt x="141" y="75"/>
                        </a:lnTo>
                        <a:lnTo>
                          <a:pt x="113" y="116"/>
                        </a:lnTo>
                        <a:lnTo>
                          <a:pt x="86" y="156"/>
                        </a:lnTo>
                        <a:lnTo>
                          <a:pt x="60" y="196"/>
                        </a:lnTo>
                        <a:lnTo>
                          <a:pt x="36" y="231"/>
                        </a:lnTo>
                        <a:lnTo>
                          <a:pt x="15" y="261"/>
                        </a:lnTo>
                        <a:lnTo>
                          <a:pt x="0" y="280"/>
                        </a:lnTo>
                        <a:lnTo>
                          <a:pt x="7" y="288"/>
                        </a:lnTo>
                        <a:lnTo>
                          <a:pt x="25" y="265"/>
                        </a:lnTo>
                        <a:lnTo>
                          <a:pt x="46" y="236"/>
                        </a:lnTo>
                        <a:lnTo>
                          <a:pt x="70" y="201"/>
                        </a:lnTo>
                        <a:lnTo>
                          <a:pt x="96" y="161"/>
                        </a:lnTo>
                        <a:lnTo>
                          <a:pt x="123" y="121"/>
                        </a:lnTo>
                        <a:lnTo>
                          <a:pt x="151" y="80"/>
                        </a:lnTo>
                        <a:lnTo>
                          <a:pt x="178" y="40"/>
                        </a:lnTo>
                        <a:lnTo>
                          <a:pt x="203" y="5"/>
                        </a:lnTo>
                        <a:lnTo>
                          <a:pt x="203" y="5"/>
                        </a:lnTo>
                        <a:lnTo>
                          <a:pt x="1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122800" y="4362480"/>
                    <a:ext cx="118800" cy="144360"/>
                  </a:xfrm>
                  <a:custGeom>
                    <a:avLst/>
                    <a:gdLst/>
                    <a:ahLst/>
                    <a:rect l="l" t="t" r="r" b="b"/>
                    <a:pathLst>
                      <a:path w="302" h="365">
                        <a:moveTo>
                          <a:pt x="295" y="0"/>
                        </a:moveTo>
                        <a:lnTo>
                          <a:pt x="295" y="0"/>
                        </a:lnTo>
                        <a:lnTo>
                          <a:pt x="275" y="19"/>
                        </a:lnTo>
                        <a:lnTo>
                          <a:pt x="255" y="40"/>
                        </a:lnTo>
                        <a:lnTo>
                          <a:pt x="234" y="62"/>
                        </a:lnTo>
                        <a:lnTo>
                          <a:pt x="212" y="86"/>
                        </a:lnTo>
                        <a:lnTo>
                          <a:pt x="191" y="111"/>
                        </a:lnTo>
                        <a:lnTo>
                          <a:pt x="170" y="137"/>
                        </a:lnTo>
                        <a:lnTo>
                          <a:pt x="150" y="163"/>
                        </a:lnTo>
                        <a:lnTo>
                          <a:pt x="129" y="188"/>
                        </a:lnTo>
                        <a:lnTo>
                          <a:pt x="109" y="214"/>
                        </a:lnTo>
                        <a:lnTo>
                          <a:pt x="90" y="240"/>
                        </a:lnTo>
                        <a:lnTo>
                          <a:pt x="71" y="264"/>
                        </a:lnTo>
                        <a:lnTo>
                          <a:pt x="53" y="288"/>
                        </a:lnTo>
                        <a:lnTo>
                          <a:pt x="38" y="309"/>
                        </a:lnTo>
                        <a:lnTo>
                          <a:pt x="25" y="328"/>
                        </a:lnTo>
                        <a:lnTo>
                          <a:pt x="11" y="344"/>
                        </a:lnTo>
                        <a:lnTo>
                          <a:pt x="0" y="360"/>
                        </a:lnTo>
                        <a:lnTo>
                          <a:pt x="10" y="365"/>
                        </a:lnTo>
                        <a:lnTo>
                          <a:pt x="19" y="351"/>
                        </a:lnTo>
                        <a:lnTo>
                          <a:pt x="33" y="335"/>
                        </a:lnTo>
                        <a:lnTo>
                          <a:pt x="48" y="314"/>
                        </a:lnTo>
                        <a:lnTo>
                          <a:pt x="63" y="293"/>
                        </a:lnTo>
                        <a:lnTo>
                          <a:pt x="79" y="272"/>
                        </a:lnTo>
                        <a:lnTo>
                          <a:pt x="98" y="245"/>
                        </a:lnTo>
                        <a:lnTo>
                          <a:pt x="116" y="222"/>
                        </a:lnTo>
                        <a:lnTo>
                          <a:pt x="136" y="196"/>
                        </a:lnTo>
                        <a:lnTo>
                          <a:pt x="157" y="171"/>
                        </a:lnTo>
                        <a:lnTo>
                          <a:pt x="177" y="144"/>
                        </a:lnTo>
                        <a:lnTo>
                          <a:pt x="199" y="118"/>
                        </a:lnTo>
                        <a:lnTo>
                          <a:pt x="220" y="93"/>
                        </a:lnTo>
                        <a:lnTo>
                          <a:pt x="241" y="70"/>
                        </a:lnTo>
                        <a:lnTo>
                          <a:pt x="262" y="47"/>
                        </a:lnTo>
                        <a:lnTo>
                          <a:pt x="282" y="26"/>
                        </a:lnTo>
                        <a:lnTo>
                          <a:pt x="302" y="7"/>
                        </a:lnTo>
                        <a:lnTo>
                          <a:pt x="302" y="7"/>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238720" y="4276800"/>
                    <a:ext cx="109440" cy="88920"/>
                  </a:xfrm>
                  <a:custGeom>
                    <a:avLst/>
                    <a:gdLst/>
                    <a:ahLst/>
                    <a:rect l="l" t="t" r="r" b="b"/>
                    <a:pathLst>
                      <a:path w="273" h="220">
                        <a:moveTo>
                          <a:pt x="268" y="0"/>
                        </a:moveTo>
                        <a:lnTo>
                          <a:pt x="268" y="0"/>
                        </a:lnTo>
                        <a:lnTo>
                          <a:pt x="255" y="7"/>
                        </a:lnTo>
                        <a:lnTo>
                          <a:pt x="241" y="16"/>
                        </a:lnTo>
                        <a:lnTo>
                          <a:pt x="226" y="25"/>
                        </a:lnTo>
                        <a:lnTo>
                          <a:pt x="210" y="36"/>
                        </a:lnTo>
                        <a:lnTo>
                          <a:pt x="192" y="50"/>
                        </a:lnTo>
                        <a:lnTo>
                          <a:pt x="175" y="63"/>
                        </a:lnTo>
                        <a:lnTo>
                          <a:pt x="157" y="77"/>
                        </a:lnTo>
                        <a:lnTo>
                          <a:pt x="138" y="91"/>
                        </a:lnTo>
                        <a:lnTo>
                          <a:pt x="121" y="106"/>
                        </a:lnTo>
                        <a:lnTo>
                          <a:pt x="102" y="122"/>
                        </a:lnTo>
                        <a:lnTo>
                          <a:pt x="85" y="137"/>
                        </a:lnTo>
                        <a:lnTo>
                          <a:pt x="66" y="152"/>
                        </a:lnTo>
                        <a:lnTo>
                          <a:pt x="49" y="168"/>
                        </a:lnTo>
                        <a:lnTo>
                          <a:pt x="32" y="183"/>
                        </a:lnTo>
                        <a:lnTo>
                          <a:pt x="16" y="198"/>
                        </a:lnTo>
                        <a:lnTo>
                          <a:pt x="0" y="213"/>
                        </a:lnTo>
                        <a:lnTo>
                          <a:pt x="7" y="220"/>
                        </a:lnTo>
                        <a:lnTo>
                          <a:pt x="24" y="205"/>
                        </a:lnTo>
                        <a:lnTo>
                          <a:pt x="40" y="190"/>
                        </a:lnTo>
                        <a:lnTo>
                          <a:pt x="56" y="176"/>
                        </a:lnTo>
                        <a:lnTo>
                          <a:pt x="74" y="159"/>
                        </a:lnTo>
                        <a:lnTo>
                          <a:pt x="92" y="144"/>
                        </a:lnTo>
                        <a:lnTo>
                          <a:pt x="110" y="129"/>
                        </a:lnTo>
                        <a:lnTo>
                          <a:pt x="128" y="113"/>
                        </a:lnTo>
                        <a:lnTo>
                          <a:pt x="146" y="98"/>
                        </a:lnTo>
                        <a:lnTo>
                          <a:pt x="165" y="85"/>
                        </a:lnTo>
                        <a:lnTo>
                          <a:pt x="182" y="71"/>
                        </a:lnTo>
                        <a:lnTo>
                          <a:pt x="200" y="57"/>
                        </a:lnTo>
                        <a:lnTo>
                          <a:pt x="215" y="46"/>
                        </a:lnTo>
                        <a:lnTo>
                          <a:pt x="231" y="35"/>
                        </a:lnTo>
                        <a:lnTo>
                          <a:pt x="246" y="26"/>
                        </a:lnTo>
                        <a:lnTo>
                          <a:pt x="260" y="17"/>
                        </a:lnTo>
                        <a:lnTo>
                          <a:pt x="273" y="10"/>
                        </a:lnTo>
                        <a:lnTo>
                          <a:pt x="273" y="10"/>
                        </a:lnTo>
                        <a:lnTo>
                          <a:pt x="26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16" name=""/>
                  <p:cNvSpPr/>
                  <p:nvPr/>
                </p:nvSpPr>
                <p:spPr>
                  <a:xfrm>
                    <a:off x="5344920" y="4257720"/>
                    <a:ext cx="95400" cy="23760"/>
                  </a:xfrm>
                  <a:custGeom>
                    <a:avLst/>
                    <a:gdLst/>
                    <a:ahLst/>
                    <a:rect l="l" t="t" r="r" b="b"/>
                    <a:pathLst>
                      <a:path w="240" h="60">
                        <a:moveTo>
                          <a:pt x="240" y="15"/>
                        </a:moveTo>
                        <a:lnTo>
                          <a:pt x="240" y="15"/>
                        </a:lnTo>
                        <a:lnTo>
                          <a:pt x="228" y="9"/>
                        </a:lnTo>
                        <a:lnTo>
                          <a:pt x="215" y="5"/>
                        </a:lnTo>
                        <a:lnTo>
                          <a:pt x="200" y="2"/>
                        </a:lnTo>
                        <a:lnTo>
                          <a:pt x="186" y="0"/>
                        </a:lnTo>
                        <a:lnTo>
                          <a:pt x="171" y="0"/>
                        </a:lnTo>
                        <a:lnTo>
                          <a:pt x="155" y="2"/>
                        </a:lnTo>
                        <a:lnTo>
                          <a:pt x="139" y="4"/>
                        </a:lnTo>
                        <a:lnTo>
                          <a:pt x="121" y="7"/>
                        </a:lnTo>
                        <a:lnTo>
                          <a:pt x="104" y="11"/>
                        </a:lnTo>
                        <a:lnTo>
                          <a:pt x="88" y="16"/>
                        </a:lnTo>
                        <a:lnTo>
                          <a:pt x="71" y="21"/>
                        </a:lnTo>
                        <a:lnTo>
                          <a:pt x="55" y="26"/>
                        </a:lnTo>
                        <a:lnTo>
                          <a:pt x="40" y="32"/>
                        </a:lnTo>
                        <a:lnTo>
                          <a:pt x="27" y="37"/>
                        </a:lnTo>
                        <a:lnTo>
                          <a:pt x="13" y="44"/>
                        </a:lnTo>
                        <a:lnTo>
                          <a:pt x="0" y="50"/>
                        </a:lnTo>
                        <a:lnTo>
                          <a:pt x="5" y="60"/>
                        </a:lnTo>
                        <a:lnTo>
                          <a:pt x="18" y="54"/>
                        </a:lnTo>
                        <a:lnTo>
                          <a:pt x="29" y="47"/>
                        </a:lnTo>
                        <a:lnTo>
                          <a:pt x="43" y="42"/>
                        </a:lnTo>
                        <a:lnTo>
                          <a:pt x="58" y="36"/>
                        </a:lnTo>
                        <a:lnTo>
                          <a:pt x="74" y="31"/>
                        </a:lnTo>
                        <a:lnTo>
                          <a:pt x="90" y="26"/>
                        </a:lnTo>
                        <a:lnTo>
                          <a:pt x="106" y="21"/>
                        </a:lnTo>
                        <a:lnTo>
                          <a:pt x="124" y="17"/>
                        </a:lnTo>
                        <a:lnTo>
                          <a:pt x="139" y="14"/>
                        </a:lnTo>
                        <a:lnTo>
                          <a:pt x="155" y="12"/>
                        </a:lnTo>
                        <a:lnTo>
                          <a:pt x="171" y="12"/>
                        </a:lnTo>
                        <a:lnTo>
                          <a:pt x="186" y="12"/>
                        </a:lnTo>
                        <a:lnTo>
                          <a:pt x="200" y="12"/>
                        </a:lnTo>
                        <a:lnTo>
                          <a:pt x="213" y="15"/>
                        </a:lnTo>
                        <a:lnTo>
                          <a:pt x="225" y="19"/>
                        </a:lnTo>
                        <a:lnTo>
                          <a:pt x="235" y="25"/>
                        </a:lnTo>
                        <a:lnTo>
                          <a:pt x="235" y="25"/>
                        </a:lnTo>
                        <a:lnTo>
                          <a:pt x="24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7" name=""/>
                  <p:cNvSpPr/>
                  <p:nvPr/>
                </p:nvSpPr>
                <p:spPr>
                  <a:xfrm>
                    <a:off x="5425920" y="4264200"/>
                    <a:ext cx="36360" cy="134640"/>
                  </a:xfrm>
                  <a:custGeom>
                    <a:avLst/>
                    <a:gdLst/>
                    <a:ahLst/>
                    <a:rect l="l" t="t" r="r" b="b"/>
                    <a:pathLst>
                      <a:path w="93" h="340">
                        <a:moveTo>
                          <a:pt x="10" y="340"/>
                        </a:moveTo>
                        <a:lnTo>
                          <a:pt x="10" y="340"/>
                        </a:lnTo>
                        <a:lnTo>
                          <a:pt x="49" y="277"/>
                        </a:lnTo>
                        <a:lnTo>
                          <a:pt x="74" y="217"/>
                        </a:lnTo>
                        <a:lnTo>
                          <a:pt x="88" y="163"/>
                        </a:lnTo>
                        <a:lnTo>
                          <a:pt x="93" y="118"/>
                        </a:lnTo>
                        <a:lnTo>
                          <a:pt x="88" y="77"/>
                        </a:lnTo>
                        <a:lnTo>
                          <a:pt x="76" y="45"/>
                        </a:lnTo>
                        <a:lnTo>
                          <a:pt x="60" y="19"/>
                        </a:lnTo>
                        <a:lnTo>
                          <a:pt x="39" y="0"/>
                        </a:lnTo>
                        <a:lnTo>
                          <a:pt x="34" y="10"/>
                        </a:lnTo>
                        <a:lnTo>
                          <a:pt x="53" y="26"/>
                        </a:lnTo>
                        <a:lnTo>
                          <a:pt x="66" y="50"/>
                        </a:lnTo>
                        <a:lnTo>
                          <a:pt x="78" y="80"/>
                        </a:lnTo>
                        <a:lnTo>
                          <a:pt x="80" y="118"/>
                        </a:lnTo>
                        <a:lnTo>
                          <a:pt x="78" y="163"/>
                        </a:lnTo>
                        <a:lnTo>
                          <a:pt x="64" y="214"/>
                        </a:lnTo>
                        <a:lnTo>
                          <a:pt x="39" y="272"/>
                        </a:lnTo>
                        <a:lnTo>
                          <a:pt x="0" y="335"/>
                        </a:lnTo>
                        <a:lnTo>
                          <a:pt x="0" y="335"/>
                        </a:lnTo>
                        <a:lnTo>
                          <a:pt x="10"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267160" y="4397400"/>
                    <a:ext cx="162000" cy="222120"/>
                  </a:xfrm>
                  <a:custGeom>
                    <a:avLst/>
                    <a:gdLst/>
                    <a:ahLst/>
                    <a:rect l="l" t="t" r="r" b="b"/>
                    <a:pathLst>
                      <a:path w="408" h="563">
                        <a:moveTo>
                          <a:pt x="4" y="562"/>
                        </a:moveTo>
                        <a:lnTo>
                          <a:pt x="7" y="561"/>
                        </a:lnTo>
                        <a:lnTo>
                          <a:pt x="26" y="545"/>
                        </a:lnTo>
                        <a:lnTo>
                          <a:pt x="47" y="524"/>
                        </a:lnTo>
                        <a:lnTo>
                          <a:pt x="70" y="497"/>
                        </a:lnTo>
                        <a:lnTo>
                          <a:pt x="94" y="467"/>
                        </a:lnTo>
                        <a:lnTo>
                          <a:pt x="120" y="434"/>
                        </a:lnTo>
                        <a:lnTo>
                          <a:pt x="146" y="398"/>
                        </a:lnTo>
                        <a:lnTo>
                          <a:pt x="172" y="360"/>
                        </a:lnTo>
                        <a:lnTo>
                          <a:pt x="200" y="320"/>
                        </a:lnTo>
                        <a:lnTo>
                          <a:pt x="226" y="279"/>
                        </a:lnTo>
                        <a:lnTo>
                          <a:pt x="253" y="238"/>
                        </a:lnTo>
                        <a:lnTo>
                          <a:pt x="281" y="197"/>
                        </a:lnTo>
                        <a:lnTo>
                          <a:pt x="308" y="156"/>
                        </a:lnTo>
                        <a:lnTo>
                          <a:pt x="335" y="115"/>
                        </a:lnTo>
                        <a:lnTo>
                          <a:pt x="360" y="76"/>
                        </a:lnTo>
                        <a:lnTo>
                          <a:pt x="385" y="40"/>
                        </a:lnTo>
                        <a:lnTo>
                          <a:pt x="408" y="5"/>
                        </a:lnTo>
                        <a:lnTo>
                          <a:pt x="398" y="0"/>
                        </a:lnTo>
                        <a:lnTo>
                          <a:pt x="375" y="35"/>
                        </a:lnTo>
                        <a:lnTo>
                          <a:pt x="350" y="71"/>
                        </a:lnTo>
                        <a:lnTo>
                          <a:pt x="325" y="110"/>
                        </a:lnTo>
                        <a:lnTo>
                          <a:pt x="298" y="151"/>
                        </a:lnTo>
                        <a:lnTo>
                          <a:pt x="271" y="192"/>
                        </a:lnTo>
                        <a:lnTo>
                          <a:pt x="243" y="233"/>
                        </a:lnTo>
                        <a:lnTo>
                          <a:pt x="216" y="274"/>
                        </a:lnTo>
                        <a:lnTo>
                          <a:pt x="190" y="315"/>
                        </a:lnTo>
                        <a:lnTo>
                          <a:pt x="162" y="355"/>
                        </a:lnTo>
                        <a:lnTo>
                          <a:pt x="136" y="393"/>
                        </a:lnTo>
                        <a:lnTo>
                          <a:pt x="110" y="429"/>
                        </a:lnTo>
                        <a:lnTo>
                          <a:pt x="86" y="460"/>
                        </a:lnTo>
                        <a:lnTo>
                          <a:pt x="62" y="490"/>
                        </a:lnTo>
                        <a:lnTo>
                          <a:pt x="40" y="516"/>
                        </a:lnTo>
                        <a:lnTo>
                          <a:pt x="19" y="537"/>
                        </a:lnTo>
                        <a:lnTo>
                          <a:pt x="0" y="553"/>
                        </a:lnTo>
                        <a:lnTo>
                          <a:pt x="4" y="552"/>
                        </a:lnTo>
                        <a:lnTo>
                          <a:pt x="4" y="562"/>
                        </a:lnTo>
                        <a:lnTo>
                          <a:pt x="5" y="563"/>
                        </a:lnTo>
                        <a:lnTo>
                          <a:pt x="7" y="561"/>
                        </a:lnTo>
                        <a:lnTo>
                          <a:pt x="4"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041800" y="4614840"/>
                    <a:ext cx="226800" cy="4680"/>
                  </a:xfrm>
                  <a:custGeom>
                    <a:avLst/>
                    <a:gdLst/>
                    <a:ahLst/>
                    <a:rect l="l" t="t" r="r" b="b"/>
                    <a:pathLst>
                      <a:path w="572" h="13">
                        <a:moveTo>
                          <a:pt x="9" y="3"/>
                        </a:moveTo>
                        <a:lnTo>
                          <a:pt x="12" y="13"/>
                        </a:lnTo>
                        <a:lnTo>
                          <a:pt x="17" y="13"/>
                        </a:lnTo>
                        <a:lnTo>
                          <a:pt x="32" y="13"/>
                        </a:lnTo>
                        <a:lnTo>
                          <a:pt x="55" y="13"/>
                        </a:lnTo>
                        <a:lnTo>
                          <a:pt x="85" y="13"/>
                        </a:lnTo>
                        <a:lnTo>
                          <a:pt x="120" y="12"/>
                        </a:lnTo>
                        <a:lnTo>
                          <a:pt x="161" y="12"/>
                        </a:lnTo>
                        <a:lnTo>
                          <a:pt x="205" y="12"/>
                        </a:lnTo>
                        <a:lnTo>
                          <a:pt x="251" y="12"/>
                        </a:lnTo>
                        <a:lnTo>
                          <a:pt x="298" y="12"/>
                        </a:lnTo>
                        <a:lnTo>
                          <a:pt x="347" y="12"/>
                        </a:lnTo>
                        <a:lnTo>
                          <a:pt x="393" y="12"/>
                        </a:lnTo>
                        <a:lnTo>
                          <a:pt x="438" y="12"/>
                        </a:lnTo>
                        <a:lnTo>
                          <a:pt x="479" y="12"/>
                        </a:lnTo>
                        <a:lnTo>
                          <a:pt x="516" y="12"/>
                        </a:lnTo>
                        <a:lnTo>
                          <a:pt x="547" y="13"/>
                        </a:lnTo>
                        <a:lnTo>
                          <a:pt x="572" y="12"/>
                        </a:lnTo>
                        <a:lnTo>
                          <a:pt x="572" y="2"/>
                        </a:lnTo>
                        <a:lnTo>
                          <a:pt x="547" y="1"/>
                        </a:lnTo>
                        <a:lnTo>
                          <a:pt x="516" y="0"/>
                        </a:lnTo>
                        <a:lnTo>
                          <a:pt x="479" y="0"/>
                        </a:lnTo>
                        <a:lnTo>
                          <a:pt x="438" y="0"/>
                        </a:lnTo>
                        <a:lnTo>
                          <a:pt x="393" y="0"/>
                        </a:lnTo>
                        <a:lnTo>
                          <a:pt x="347" y="0"/>
                        </a:lnTo>
                        <a:lnTo>
                          <a:pt x="298" y="0"/>
                        </a:lnTo>
                        <a:lnTo>
                          <a:pt x="251" y="0"/>
                        </a:lnTo>
                        <a:lnTo>
                          <a:pt x="205" y="0"/>
                        </a:lnTo>
                        <a:lnTo>
                          <a:pt x="161" y="0"/>
                        </a:lnTo>
                        <a:lnTo>
                          <a:pt x="120" y="0"/>
                        </a:lnTo>
                        <a:lnTo>
                          <a:pt x="85" y="1"/>
                        </a:lnTo>
                        <a:lnTo>
                          <a:pt x="55" y="1"/>
                        </a:lnTo>
                        <a:lnTo>
                          <a:pt x="32" y="1"/>
                        </a:lnTo>
                        <a:lnTo>
                          <a:pt x="17" y="1"/>
                        </a:lnTo>
                        <a:lnTo>
                          <a:pt x="12" y="1"/>
                        </a:lnTo>
                        <a:lnTo>
                          <a:pt x="16" y="11"/>
                        </a:lnTo>
                        <a:lnTo>
                          <a:pt x="9" y="3"/>
                        </a:lnTo>
                        <a:lnTo>
                          <a:pt x="0" y="13"/>
                        </a:lnTo>
                        <a:lnTo>
                          <a:pt x="12" y="13"/>
                        </a:lnTo>
                        <a:lnTo>
                          <a:pt x="9"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0" name=""/>
                  <p:cNvSpPr/>
                  <p:nvPr/>
                </p:nvSpPr>
                <p:spPr>
                  <a:xfrm>
                    <a:off x="5175000" y="4479840"/>
                    <a:ext cx="115920" cy="74520"/>
                  </a:xfrm>
                  <a:custGeom>
                    <a:avLst/>
                    <a:gdLst/>
                    <a:ahLst/>
                    <a:rect l="l" t="t" r="r" b="b"/>
                    <a:pathLst>
                      <a:path w="290" h="184">
                        <a:moveTo>
                          <a:pt x="13" y="0"/>
                        </a:moveTo>
                        <a:lnTo>
                          <a:pt x="21" y="16"/>
                        </a:lnTo>
                        <a:lnTo>
                          <a:pt x="32" y="32"/>
                        </a:lnTo>
                        <a:lnTo>
                          <a:pt x="44" y="49"/>
                        </a:lnTo>
                        <a:lnTo>
                          <a:pt x="57" y="64"/>
                        </a:lnTo>
                        <a:lnTo>
                          <a:pt x="72" y="77"/>
                        </a:lnTo>
                        <a:lnTo>
                          <a:pt x="89" y="91"/>
                        </a:lnTo>
                        <a:lnTo>
                          <a:pt x="105" y="103"/>
                        </a:lnTo>
                        <a:lnTo>
                          <a:pt x="124" y="116"/>
                        </a:lnTo>
                        <a:lnTo>
                          <a:pt x="142" y="126"/>
                        </a:lnTo>
                        <a:lnTo>
                          <a:pt x="162" y="136"/>
                        </a:lnTo>
                        <a:lnTo>
                          <a:pt x="182" y="145"/>
                        </a:lnTo>
                        <a:lnTo>
                          <a:pt x="204" y="151"/>
                        </a:lnTo>
                        <a:lnTo>
                          <a:pt x="225" y="157"/>
                        </a:lnTo>
                        <a:lnTo>
                          <a:pt x="246" y="162"/>
                        </a:lnTo>
                        <a:lnTo>
                          <a:pt x="267" y="164"/>
                        </a:lnTo>
                        <a:lnTo>
                          <a:pt x="290" y="166"/>
                        </a:lnTo>
                        <a:lnTo>
                          <a:pt x="278" y="171"/>
                        </a:lnTo>
                        <a:lnTo>
                          <a:pt x="266" y="176"/>
                        </a:lnTo>
                        <a:lnTo>
                          <a:pt x="253" y="179"/>
                        </a:lnTo>
                        <a:lnTo>
                          <a:pt x="240" y="182"/>
                        </a:lnTo>
                        <a:lnTo>
                          <a:pt x="225" y="183"/>
                        </a:lnTo>
                        <a:lnTo>
                          <a:pt x="210" y="184"/>
                        </a:lnTo>
                        <a:lnTo>
                          <a:pt x="195" y="184"/>
                        </a:lnTo>
                        <a:lnTo>
                          <a:pt x="180" y="184"/>
                        </a:lnTo>
                        <a:lnTo>
                          <a:pt x="165" y="183"/>
                        </a:lnTo>
                        <a:lnTo>
                          <a:pt x="150" y="182"/>
                        </a:lnTo>
                        <a:lnTo>
                          <a:pt x="136" y="181"/>
                        </a:lnTo>
                        <a:lnTo>
                          <a:pt x="122" y="178"/>
                        </a:lnTo>
                        <a:lnTo>
                          <a:pt x="110" y="176"/>
                        </a:lnTo>
                        <a:lnTo>
                          <a:pt x="99" y="172"/>
                        </a:lnTo>
                        <a:lnTo>
                          <a:pt x="90" y="169"/>
                        </a:lnTo>
                        <a:lnTo>
                          <a:pt x="81" y="166"/>
                        </a:lnTo>
                        <a:lnTo>
                          <a:pt x="57" y="151"/>
                        </a:lnTo>
                        <a:lnTo>
                          <a:pt x="36" y="133"/>
                        </a:lnTo>
                        <a:lnTo>
                          <a:pt x="20" y="112"/>
                        </a:lnTo>
                        <a:lnTo>
                          <a:pt x="9" y="90"/>
                        </a:lnTo>
                        <a:lnTo>
                          <a:pt x="3" y="67"/>
                        </a:lnTo>
                        <a:lnTo>
                          <a:pt x="0" y="44"/>
                        </a:lnTo>
                        <a:lnTo>
                          <a:pt x="4" y="21"/>
                        </a:lnTo>
                        <a:lnTo>
                          <a:pt x="13" y="0"/>
                        </a:lnTo>
                        <a:close/>
                      </a:path>
                    </a:pathLst>
                  </a:custGeom>
                  <a:solidFill>
                    <a:srgbClr val="cc995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5178240" y="4479840"/>
                    <a:ext cx="120600" cy="68400"/>
                  </a:xfrm>
                  <a:custGeom>
                    <a:avLst/>
                    <a:gdLst/>
                    <a:ahLst/>
                    <a:rect l="l" t="t" r="r" b="b"/>
                    <a:pathLst>
                      <a:path w="303" h="173">
                        <a:moveTo>
                          <a:pt x="284" y="173"/>
                        </a:moveTo>
                        <a:lnTo>
                          <a:pt x="282" y="163"/>
                        </a:lnTo>
                        <a:lnTo>
                          <a:pt x="259" y="162"/>
                        </a:lnTo>
                        <a:lnTo>
                          <a:pt x="238" y="159"/>
                        </a:lnTo>
                        <a:lnTo>
                          <a:pt x="218" y="154"/>
                        </a:lnTo>
                        <a:lnTo>
                          <a:pt x="197" y="148"/>
                        </a:lnTo>
                        <a:lnTo>
                          <a:pt x="176" y="142"/>
                        </a:lnTo>
                        <a:lnTo>
                          <a:pt x="157" y="133"/>
                        </a:lnTo>
                        <a:lnTo>
                          <a:pt x="137" y="123"/>
                        </a:lnTo>
                        <a:lnTo>
                          <a:pt x="118" y="113"/>
                        </a:lnTo>
                        <a:lnTo>
                          <a:pt x="99" y="100"/>
                        </a:lnTo>
                        <a:lnTo>
                          <a:pt x="84" y="89"/>
                        </a:lnTo>
                        <a:lnTo>
                          <a:pt x="68" y="76"/>
                        </a:lnTo>
                        <a:lnTo>
                          <a:pt x="53" y="62"/>
                        </a:lnTo>
                        <a:lnTo>
                          <a:pt x="39" y="47"/>
                        </a:lnTo>
                        <a:lnTo>
                          <a:pt x="29" y="32"/>
                        </a:lnTo>
                        <a:lnTo>
                          <a:pt x="18" y="16"/>
                        </a:lnTo>
                        <a:lnTo>
                          <a:pt x="9" y="0"/>
                        </a:lnTo>
                        <a:lnTo>
                          <a:pt x="0" y="4"/>
                        </a:lnTo>
                        <a:lnTo>
                          <a:pt x="8" y="21"/>
                        </a:lnTo>
                        <a:lnTo>
                          <a:pt x="19" y="37"/>
                        </a:lnTo>
                        <a:lnTo>
                          <a:pt x="32" y="54"/>
                        </a:lnTo>
                        <a:lnTo>
                          <a:pt x="46" y="69"/>
                        </a:lnTo>
                        <a:lnTo>
                          <a:pt x="61" y="83"/>
                        </a:lnTo>
                        <a:lnTo>
                          <a:pt x="77" y="97"/>
                        </a:lnTo>
                        <a:lnTo>
                          <a:pt x="94" y="110"/>
                        </a:lnTo>
                        <a:lnTo>
                          <a:pt x="113" y="123"/>
                        </a:lnTo>
                        <a:lnTo>
                          <a:pt x="132" y="133"/>
                        </a:lnTo>
                        <a:lnTo>
                          <a:pt x="152" y="143"/>
                        </a:lnTo>
                        <a:lnTo>
                          <a:pt x="173" y="152"/>
                        </a:lnTo>
                        <a:lnTo>
                          <a:pt x="194" y="158"/>
                        </a:lnTo>
                        <a:lnTo>
                          <a:pt x="216" y="164"/>
                        </a:lnTo>
                        <a:lnTo>
                          <a:pt x="238" y="169"/>
                        </a:lnTo>
                        <a:lnTo>
                          <a:pt x="259" y="171"/>
                        </a:lnTo>
                        <a:lnTo>
                          <a:pt x="282" y="173"/>
                        </a:lnTo>
                        <a:lnTo>
                          <a:pt x="279" y="163"/>
                        </a:lnTo>
                        <a:lnTo>
                          <a:pt x="284" y="173"/>
                        </a:lnTo>
                        <a:lnTo>
                          <a:pt x="303" y="163"/>
                        </a:lnTo>
                        <a:lnTo>
                          <a:pt x="282" y="162"/>
                        </a:lnTo>
                        <a:lnTo>
                          <a:pt x="284" y="17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2" name=""/>
                  <p:cNvSpPr/>
                  <p:nvPr/>
                </p:nvSpPr>
                <p:spPr>
                  <a:xfrm>
                    <a:off x="5206680" y="4545000"/>
                    <a:ext cx="84240" cy="11160"/>
                  </a:xfrm>
                  <a:custGeom>
                    <a:avLst/>
                    <a:gdLst/>
                    <a:ahLst/>
                    <a:rect l="l" t="t" r="r" b="b"/>
                    <a:pathLst>
                      <a:path w="213" h="30">
                        <a:moveTo>
                          <a:pt x="0" y="10"/>
                        </a:moveTo>
                        <a:lnTo>
                          <a:pt x="0" y="10"/>
                        </a:lnTo>
                        <a:lnTo>
                          <a:pt x="10" y="13"/>
                        </a:lnTo>
                        <a:lnTo>
                          <a:pt x="18" y="16"/>
                        </a:lnTo>
                        <a:lnTo>
                          <a:pt x="30" y="20"/>
                        </a:lnTo>
                        <a:lnTo>
                          <a:pt x="43" y="22"/>
                        </a:lnTo>
                        <a:lnTo>
                          <a:pt x="57" y="25"/>
                        </a:lnTo>
                        <a:lnTo>
                          <a:pt x="71" y="26"/>
                        </a:lnTo>
                        <a:lnTo>
                          <a:pt x="86" y="27"/>
                        </a:lnTo>
                        <a:lnTo>
                          <a:pt x="101" y="30"/>
                        </a:lnTo>
                        <a:lnTo>
                          <a:pt x="116" y="30"/>
                        </a:lnTo>
                        <a:lnTo>
                          <a:pt x="131" y="30"/>
                        </a:lnTo>
                        <a:lnTo>
                          <a:pt x="146" y="27"/>
                        </a:lnTo>
                        <a:lnTo>
                          <a:pt x="161" y="26"/>
                        </a:lnTo>
                        <a:lnTo>
                          <a:pt x="176" y="23"/>
                        </a:lnTo>
                        <a:lnTo>
                          <a:pt x="188" y="20"/>
                        </a:lnTo>
                        <a:lnTo>
                          <a:pt x="201" y="15"/>
                        </a:lnTo>
                        <a:lnTo>
                          <a:pt x="213" y="10"/>
                        </a:lnTo>
                        <a:lnTo>
                          <a:pt x="208" y="0"/>
                        </a:lnTo>
                        <a:lnTo>
                          <a:pt x="198" y="5"/>
                        </a:lnTo>
                        <a:lnTo>
                          <a:pt x="186" y="10"/>
                        </a:lnTo>
                        <a:lnTo>
                          <a:pt x="173" y="13"/>
                        </a:lnTo>
                        <a:lnTo>
                          <a:pt x="161" y="16"/>
                        </a:lnTo>
                        <a:lnTo>
                          <a:pt x="146" y="17"/>
                        </a:lnTo>
                        <a:lnTo>
                          <a:pt x="131" y="17"/>
                        </a:lnTo>
                        <a:lnTo>
                          <a:pt x="116" y="17"/>
                        </a:lnTo>
                        <a:lnTo>
                          <a:pt x="101" y="17"/>
                        </a:lnTo>
                        <a:lnTo>
                          <a:pt x="86" y="17"/>
                        </a:lnTo>
                        <a:lnTo>
                          <a:pt x="71" y="16"/>
                        </a:lnTo>
                        <a:lnTo>
                          <a:pt x="57" y="15"/>
                        </a:lnTo>
                        <a:lnTo>
                          <a:pt x="43" y="12"/>
                        </a:lnTo>
                        <a:lnTo>
                          <a:pt x="32" y="10"/>
                        </a:lnTo>
                        <a:lnTo>
                          <a:pt x="21" y="6"/>
                        </a:lnTo>
                        <a:lnTo>
                          <a:pt x="12" y="3"/>
                        </a:lnTo>
                        <a:lnTo>
                          <a:pt x="5" y="0"/>
                        </a:lnTo>
                        <a:lnTo>
                          <a:pt x="5" y="0"/>
                        </a:lnTo>
                        <a:lnTo>
                          <a:pt x="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3" name=""/>
                  <p:cNvSpPr/>
                  <p:nvPr/>
                </p:nvSpPr>
                <p:spPr>
                  <a:xfrm>
                    <a:off x="5173560" y="4475160"/>
                    <a:ext cx="34920" cy="73080"/>
                  </a:xfrm>
                  <a:custGeom>
                    <a:avLst/>
                    <a:gdLst/>
                    <a:ahLst/>
                    <a:rect l="l" t="t" r="r" b="b"/>
                    <a:pathLst>
                      <a:path w="90" h="183">
                        <a:moveTo>
                          <a:pt x="23" y="10"/>
                        </a:moveTo>
                        <a:lnTo>
                          <a:pt x="14" y="10"/>
                        </a:lnTo>
                        <a:lnTo>
                          <a:pt x="5" y="32"/>
                        </a:lnTo>
                        <a:lnTo>
                          <a:pt x="0" y="56"/>
                        </a:lnTo>
                        <a:lnTo>
                          <a:pt x="4" y="79"/>
                        </a:lnTo>
                        <a:lnTo>
                          <a:pt x="10" y="103"/>
                        </a:lnTo>
                        <a:lnTo>
                          <a:pt x="21" y="127"/>
                        </a:lnTo>
                        <a:lnTo>
                          <a:pt x="38" y="149"/>
                        </a:lnTo>
                        <a:lnTo>
                          <a:pt x="61" y="168"/>
                        </a:lnTo>
                        <a:lnTo>
                          <a:pt x="85" y="183"/>
                        </a:lnTo>
                        <a:lnTo>
                          <a:pt x="90" y="173"/>
                        </a:lnTo>
                        <a:lnTo>
                          <a:pt x="66" y="158"/>
                        </a:lnTo>
                        <a:lnTo>
                          <a:pt x="46" y="142"/>
                        </a:lnTo>
                        <a:lnTo>
                          <a:pt x="31" y="122"/>
                        </a:lnTo>
                        <a:lnTo>
                          <a:pt x="20" y="100"/>
                        </a:lnTo>
                        <a:lnTo>
                          <a:pt x="14" y="79"/>
                        </a:lnTo>
                        <a:lnTo>
                          <a:pt x="12" y="56"/>
                        </a:lnTo>
                        <a:lnTo>
                          <a:pt x="15" y="34"/>
                        </a:lnTo>
                        <a:lnTo>
                          <a:pt x="23" y="14"/>
                        </a:lnTo>
                        <a:lnTo>
                          <a:pt x="14" y="14"/>
                        </a:lnTo>
                        <a:lnTo>
                          <a:pt x="23" y="10"/>
                        </a:lnTo>
                        <a:lnTo>
                          <a:pt x="19" y="0"/>
                        </a:lnTo>
                        <a:lnTo>
                          <a:pt x="14" y="10"/>
                        </a:lnTo>
                        <a:lnTo>
                          <a:pt x="2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4" name=""/>
                  <p:cNvSpPr/>
                  <p:nvPr/>
                </p:nvSpPr>
                <p:spPr>
                  <a:xfrm>
                    <a:off x="5317920" y="4319640"/>
                    <a:ext cx="90720" cy="76320"/>
                  </a:xfrm>
                  <a:custGeom>
                    <a:avLst/>
                    <a:gdLst/>
                    <a:ahLst/>
                    <a:rect l="l" t="t" r="r" b="b"/>
                    <a:pathLst>
                      <a:path w="227" h="189">
                        <a:moveTo>
                          <a:pt x="23" y="0"/>
                        </a:moveTo>
                        <a:lnTo>
                          <a:pt x="17" y="10"/>
                        </a:lnTo>
                        <a:lnTo>
                          <a:pt x="16" y="20"/>
                        </a:lnTo>
                        <a:lnTo>
                          <a:pt x="20" y="32"/>
                        </a:lnTo>
                        <a:lnTo>
                          <a:pt x="26" y="46"/>
                        </a:lnTo>
                        <a:lnTo>
                          <a:pt x="37" y="59"/>
                        </a:lnTo>
                        <a:lnTo>
                          <a:pt x="51" y="74"/>
                        </a:lnTo>
                        <a:lnTo>
                          <a:pt x="66" y="87"/>
                        </a:lnTo>
                        <a:lnTo>
                          <a:pt x="85" y="100"/>
                        </a:lnTo>
                        <a:lnTo>
                          <a:pt x="103" y="113"/>
                        </a:lnTo>
                        <a:lnTo>
                          <a:pt x="122" y="125"/>
                        </a:lnTo>
                        <a:lnTo>
                          <a:pt x="142" y="136"/>
                        </a:lnTo>
                        <a:lnTo>
                          <a:pt x="162" y="145"/>
                        </a:lnTo>
                        <a:lnTo>
                          <a:pt x="181" y="152"/>
                        </a:lnTo>
                        <a:lnTo>
                          <a:pt x="198" y="157"/>
                        </a:lnTo>
                        <a:lnTo>
                          <a:pt x="214" y="159"/>
                        </a:lnTo>
                        <a:lnTo>
                          <a:pt x="227" y="159"/>
                        </a:lnTo>
                        <a:lnTo>
                          <a:pt x="208" y="171"/>
                        </a:lnTo>
                        <a:lnTo>
                          <a:pt x="189" y="179"/>
                        </a:lnTo>
                        <a:lnTo>
                          <a:pt x="171" y="186"/>
                        </a:lnTo>
                        <a:lnTo>
                          <a:pt x="153" y="189"/>
                        </a:lnTo>
                        <a:lnTo>
                          <a:pt x="134" y="189"/>
                        </a:lnTo>
                        <a:lnTo>
                          <a:pt x="116" y="187"/>
                        </a:lnTo>
                        <a:lnTo>
                          <a:pt x="97" y="182"/>
                        </a:lnTo>
                        <a:lnTo>
                          <a:pt x="78" y="172"/>
                        </a:lnTo>
                        <a:lnTo>
                          <a:pt x="61" y="161"/>
                        </a:lnTo>
                        <a:lnTo>
                          <a:pt x="45" y="152"/>
                        </a:lnTo>
                        <a:lnTo>
                          <a:pt x="32" y="142"/>
                        </a:lnTo>
                        <a:lnTo>
                          <a:pt x="21" y="132"/>
                        </a:lnTo>
                        <a:lnTo>
                          <a:pt x="12" y="121"/>
                        </a:lnTo>
                        <a:lnTo>
                          <a:pt x="6" y="106"/>
                        </a:lnTo>
                        <a:lnTo>
                          <a:pt x="2" y="88"/>
                        </a:lnTo>
                        <a:lnTo>
                          <a:pt x="0" y="66"/>
                        </a:lnTo>
                        <a:lnTo>
                          <a:pt x="3" y="36"/>
                        </a:lnTo>
                        <a:lnTo>
                          <a:pt x="12" y="15"/>
                        </a:lnTo>
                        <a:lnTo>
                          <a:pt x="21" y="2"/>
                        </a:lnTo>
                        <a:lnTo>
                          <a:pt x="23" y="0"/>
                        </a:lnTo>
                        <a:close/>
                      </a:path>
                    </a:pathLst>
                  </a:custGeom>
                  <a:solidFill>
                    <a:srgbClr val="cc995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5" name=""/>
                  <p:cNvSpPr/>
                  <p:nvPr/>
                </p:nvSpPr>
                <p:spPr>
                  <a:xfrm>
                    <a:off x="5322600" y="4317840"/>
                    <a:ext cx="96840" cy="66960"/>
                  </a:xfrm>
                  <a:custGeom>
                    <a:avLst/>
                    <a:gdLst/>
                    <a:ahLst/>
                    <a:rect l="l" t="t" r="r" b="b"/>
                    <a:pathLst>
                      <a:path w="242" h="168">
                        <a:moveTo>
                          <a:pt x="218" y="168"/>
                        </a:moveTo>
                        <a:lnTo>
                          <a:pt x="216" y="159"/>
                        </a:lnTo>
                        <a:lnTo>
                          <a:pt x="203" y="159"/>
                        </a:lnTo>
                        <a:lnTo>
                          <a:pt x="188" y="156"/>
                        </a:lnTo>
                        <a:lnTo>
                          <a:pt x="171" y="151"/>
                        </a:lnTo>
                        <a:lnTo>
                          <a:pt x="152" y="144"/>
                        </a:lnTo>
                        <a:lnTo>
                          <a:pt x="133" y="135"/>
                        </a:lnTo>
                        <a:lnTo>
                          <a:pt x="113" y="124"/>
                        </a:lnTo>
                        <a:lnTo>
                          <a:pt x="95" y="112"/>
                        </a:lnTo>
                        <a:lnTo>
                          <a:pt x="76" y="99"/>
                        </a:lnTo>
                        <a:lnTo>
                          <a:pt x="59" y="87"/>
                        </a:lnTo>
                        <a:lnTo>
                          <a:pt x="44" y="74"/>
                        </a:lnTo>
                        <a:lnTo>
                          <a:pt x="30" y="59"/>
                        </a:lnTo>
                        <a:lnTo>
                          <a:pt x="20" y="48"/>
                        </a:lnTo>
                        <a:lnTo>
                          <a:pt x="14" y="35"/>
                        </a:lnTo>
                        <a:lnTo>
                          <a:pt x="10" y="24"/>
                        </a:lnTo>
                        <a:lnTo>
                          <a:pt x="11" y="15"/>
                        </a:lnTo>
                        <a:lnTo>
                          <a:pt x="16" y="8"/>
                        </a:lnTo>
                        <a:lnTo>
                          <a:pt x="9" y="0"/>
                        </a:lnTo>
                        <a:lnTo>
                          <a:pt x="1" y="13"/>
                        </a:lnTo>
                        <a:lnTo>
                          <a:pt x="0" y="24"/>
                        </a:lnTo>
                        <a:lnTo>
                          <a:pt x="4" y="38"/>
                        </a:lnTo>
                        <a:lnTo>
                          <a:pt x="10" y="53"/>
                        </a:lnTo>
                        <a:lnTo>
                          <a:pt x="22" y="66"/>
                        </a:lnTo>
                        <a:lnTo>
                          <a:pt x="36" y="81"/>
                        </a:lnTo>
                        <a:lnTo>
                          <a:pt x="51" y="95"/>
                        </a:lnTo>
                        <a:lnTo>
                          <a:pt x="71" y="109"/>
                        </a:lnTo>
                        <a:lnTo>
                          <a:pt x="90" y="122"/>
                        </a:lnTo>
                        <a:lnTo>
                          <a:pt x="108" y="134"/>
                        </a:lnTo>
                        <a:lnTo>
                          <a:pt x="128" y="145"/>
                        </a:lnTo>
                        <a:lnTo>
                          <a:pt x="150" y="154"/>
                        </a:lnTo>
                        <a:lnTo>
                          <a:pt x="168" y="161"/>
                        </a:lnTo>
                        <a:lnTo>
                          <a:pt x="186" y="166"/>
                        </a:lnTo>
                        <a:lnTo>
                          <a:pt x="203" y="168"/>
                        </a:lnTo>
                        <a:lnTo>
                          <a:pt x="216" y="168"/>
                        </a:lnTo>
                        <a:lnTo>
                          <a:pt x="213" y="159"/>
                        </a:lnTo>
                        <a:lnTo>
                          <a:pt x="218" y="168"/>
                        </a:lnTo>
                        <a:lnTo>
                          <a:pt x="242" y="155"/>
                        </a:lnTo>
                        <a:lnTo>
                          <a:pt x="216" y="159"/>
                        </a:lnTo>
                        <a:lnTo>
                          <a:pt x="218" y="16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6" name=""/>
                  <p:cNvSpPr/>
                  <p:nvPr/>
                </p:nvSpPr>
                <p:spPr>
                  <a:xfrm>
                    <a:off x="5348160" y="4381560"/>
                    <a:ext cx="61920" cy="15840"/>
                  </a:xfrm>
                  <a:custGeom>
                    <a:avLst/>
                    <a:gdLst/>
                    <a:ahLst/>
                    <a:rect l="l" t="t" r="r" b="b"/>
                    <a:pathLst>
                      <a:path w="153" h="39">
                        <a:moveTo>
                          <a:pt x="0" y="22"/>
                        </a:moveTo>
                        <a:lnTo>
                          <a:pt x="0" y="22"/>
                        </a:lnTo>
                        <a:lnTo>
                          <a:pt x="20" y="32"/>
                        </a:lnTo>
                        <a:lnTo>
                          <a:pt x="40" y="37"/>
                        </a:lnTo>
                        <a:lnTo>
                          <a:pt x="58" y="39"/>
                        </a:lnTo>
                        <a:lnTo>
                          <a:pt x="77" y="39"/>
                        </a:lnTo>
                        <a:lnTo>
                          <a:pt x="96" y="36"/>
                        </a:lnTo>
                        <a:lnTo>
                          <a:pt x="115" y="29"/>
                        </a:lnTo>
                        <a:lnTo>
                          <a:pt x="135" y="21"/>
                        </a:lnTo>
                        <a:lnTo>
                          <a:pt x="153" y="9"/>
                        </a:lnTo>
                        <a:lnTo>
                          <a:pt x="148" y="0"/>
                        </a:lnTo>
                        <a:lnTo>
                          <a:pt x="130" y="11"/>
                        </a:lnTo>
                        <a:lnTo>
                          <a:pt x="112" y="19"/>
                        </a:lnTo>
                        <a:lnTo>
                          <a:pt x="93" y="26"/>
                        </a:lnTo>
                        <a:lnTo>
                          <a:pt x="77" y="29"/>
                        </a:lnTo>
                        <a:lnTo>
                          <a:pt x="58" y="29"/>
                        </a:lnTo>
                        <a:lnTo>
                          <a:pt x="40" y="27"/>
                        </a:lnTo>
                        <a:lnTo>
                          <a:pt x="22" y="22"/>
                        </a:lnTo>
                        <a:lnTo>
                          <a:pt x="5" y="12"/>
                        </a:lnTo>
                        <a:lnTo>
                          <a:pt x="5" y="12"/>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7" name=""/>
                  <p:cNvSpPr/>
                  <p:nvPr/>
                </p:nvSpPr>
                <p:spPr>
                  <a:xfrm>
                    <a:off x="5316480" y="4346640"/>
                    <a:ext cx="33120" cy="42840"/>
                  </a:xfrm>
                  <a:custGeom>
                    <a:avLst/>
                    <a:gdLst/>
                    <a:ahLst/>
                    <a:rect l="l" t="t" r="r" b="b"/>
                    <a:pathLst>
                      <a:path w="86" h="111">
                        <a:moveTo>
                          <a:pt x="0" y="0"/>
                        </a:moveTo>
                        <a:lnTo>
                          <a:pt x="0" y="0"/>
                        </a:lnTo>
                        <a:lnTo>
                          <a:pt x="2" y="22"/>
                        </a:lnTo>
                        <a:lnTo>
                          <a:pt x="6" y="41"/>
                        </a:lnTo>
                        <a:lnTo>
                          <a:pt x="12" y="57"/>
                        </a:lnTo>
                        <a:lnTo>
                          <a:pt x="22" y="70"/>
                        </a:lnTo>
                        <a:lnTo>
                          <a:pt x="33" y="80"/>
                        </a:lnTo>
                        <a:lnTo>
                          <a:pt x="47" y="91"/>
                        </a:lnTo>
                        <a:lnTo>
                          <a:pt x="63" y="100"/>
                        </a:lnTo>
                        <a:lnTo>
                          <a:pt x="81" y="111"/>
                        </a:lnTo>
                        <a:lnTo>
                          <a:pt x="86" y="101"/>
                        </a:lnTo>
                        <a:lnTo>
                          <a:pt x="68" y="90"/>
                        </a:lnTo>
                        <a:lnTo>
                          <a:pt x="52" y="81"/>
                        </a:lnTo>
                        <a:lnTo>
                          <a:pt x="41" y="72"/>
                        </a:lnTo>
                        <a:lnTo>
                          <a:pt x="30" y="62"/>
                        </a:lnTo>
                        <a:lnTo>
                          <a:pt x="22" y="52"/>
                        </a:lnTo>
                        <a:lnTo>
                          <a:pt x="16" y="39"/>
                        </a:lnTo>
                        <a:lnTo>
                          <a:pt x="12" y="22"/>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8" name=""/>
                  <p:cNvSpPr/>
                  <p:nvPr/>
                </p:nvSpPr>
                <p:spPr>
                  <a:xfrm>
                    <a:off x="5316480" y="4317840"/>
                    <a:ext cx="12600" cy="28800"/>
                  </a:xfrm>
                  <a:custGeom>
                    <a:avLst/>
                    <a:gdLst/>
                    <a:ahLst/>
                    <a:rect l="l" t="t" r="r" b="b"/>
                    <a:pathLst>
                      <a:path w="32" h="70">
                        <a:moveTo>
                          <a:pt x="32" y="8"/>
                        </a:moveTo>
                        <a:lnTo>
                          <a:pt x="32" y="6"/>
                        </a:lnTo>
                        <a:lnTo>
                          <a:pt x="22" y="4"/>
                        </a:lnTo>
                        <a:lnTo>
                          <a:pt x="12" y="16"/>
                        </a:lnTo>
                        <a:lnTo>
                          <a:pt x="3" y="39"/>
                        </a:lnTo>
                        <a:lnTo>
                          <a:pt x="0" y="70"/>
                        </a:lnTo>
                        <a:lnTo>
                          <a:pt x="10" y="70"/>
                        </a:lnTo>
                        <a:lnTo>
                          <a:pt x="13" y="41"/>
                        </a:lnTo>
                        <a:lnTo>
                          <a:pt x="22" y="21"/>
                        </a:lnTo>
                        <a:lnTo>
                          <a:pt x="30" y="9"/>
                        </a:lnTo>
                        <a:lnTo>
                          <a:pt x="25" y="1"/>
                        </a:lnTo>
                        <a:lnTo>
                          <a:pt x="25" y="0"/>
                        </a:lnTo>
                        <a:lnTo>
                          <a:pt x="32" y="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9" name=""/>
                  <p:cNvSpPr/>
                  <p:nvPr/>
                </p:nvSpPr>
                <p:spPr>
                  <a:xfrm>
                    <a:off x="5240160" y="4395960"/>
                    <a:ext cx="95400" cy="72720"/>
                  </a:xfrm>
                  <a:custGeom>
                    <a:avLst/>
                    <a:gdLst/>
                    <a:ahLst/>
                    <a:rect l="l" t="t" r="r" b="b"/>
                    <a:pathLst>
                      <a:path w="238" h="185">
                        <a:moveTo>
                          <a:pt x="12" y="0"/>
                        </a:moveTo>
                        <a:lnTo>
                          <a:pt x="21" y="17"/>
                        </a:lnTo>
                        <a:lnTo>
                          <a:pt x="30" y="33"/>
                        </a:lnTo>
                        <a:lnTo>
                          <a:pt x="40" y="49"/>
                        </a:lnTo>
                        <a:lnTo>
                          <a:pt x="50" y="64"/>
                        </a:lnTo>
                        <a:lnTo>
                          <a:pt x="61" y="78"/>
                        </a:lnTo>
                        <a:lnTo>
                          <a:pt x="72" y="91"/>
                        </a:lnTo>
                        <a:lnTo>
                          <a:pt x="85" y="104"/>
                        </a:lnTo>
                        <a:lnTo>
                          <a:pt x="98" y="116"/>
                        </a:lnTo>
                        <a:lnTo>
                          <a:pt x="112" y="126"/>
                        </a:lnTo>
                        <a:lnTo>
                          <a:pt x="127" y="136"/>
                        </a:lnTo>
                        <a:lnTo>
                          <a:pt x="143" y="145"/>
                        </a:lnTo>
                        <a:lnTo>
                          <a:pt x="160" y="151"/>
                        </a:lnTo>
                        <a:lnTo>
                          <a:pt x="178" y="157"/>
                        </a:lnTo>
                        <a:lnTo>
                          <a:pt x="197" y="162"/>
                        </a:lnTo>
                        <a:lnTo>
                          <a:pt x="217" y="165"/>
                        </a:lnTo>
                        <a:lnTo>
                          <a:pt x="238" y="166"/>
                        </a:lnTo>
                        <a:lnTo>
                          <a:pt x="217" y="176"/>
                        </a:lnTo>
                        <a:lnTo>
                          <a:pt x="196" y="182"/>
                        </a:lnTo>
                        <a:lnTo>
                          <a:pt x="175" y="185"/>
                        </a:lnTo>
                        <a:lnTo>
                          <a:pt x="153" y="185"/>
                        </a:lnTo>
                        <a:lnTo>
                          <a:pt x="132" y="182"/>
                        </a:lnTo>
                        <a:lnTo>
                          <a:pt x="113" y="179"/>
                        </a:lnTo>
                        <a:lnTo>
                          <a:pt x="96" y="172"/>
                        </a:lnTo>
                        <a:lnTo>
                          <a:pt x="81" y="166"/>
                        </a:lnTo>
                        <a:lnTo>
                          <a:pt x="56" y="151"/>
                        </a:lnTo>
                        <a:lnTo>
                          <a:pt x="36" y="134"/>
                        </a:lnTo>
                        <a:lnTo>
                          <a:pt x="20" y="113"/>
                        </a:lnTo>
                        <a:lnTo>
                          <a:pt x="9" y="90"/>
                        </a:lnTo>
                        <a:lnTo>
                          <a:pt x="1" y="68"/>
                        </a:lnTo>
                        <a:lnTo>
                          <a:pt x="0" y="44"/>
                        </a:lnTo>
                        <a:lnTo>
                          <a:pt x="4" y="22"/>
                        </a:lnTo>
                        <a:lnTo>
                          <a:pt x="12" y="0"/>
                        </a:lnTo>
                        <a:close/>
                      </a:path>
                    </a:pathLst>
                  </a:custGeom>
                  <a:solidFill>
                    <a:srgbClr val="cc9959"/>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30" name=""/>
                  <p:cNvSpPr/>
                  <p:nvPr/>
                </p:nvSpPr>
                <p:spPr>
                  <a:xfrm>
                    <a:off x="5243400" y="4394160"/>
                    <a:ext cx="100080" cy="68400"/>
                  </a:xfrm>
                  <a:custGeom>
                    <a:avLst/>
                    <a:gdLst/>
                    <a:ahLst/>
                    <a:rect l="l" t="t" r="r" b="b"/>
                    <a:pathLst>
                      <a:path w="253" h="173">
                        <a:moveTo>
                          <a:pt x="234" y="173"/>
                        </a:moveTo>
                        <a:lnTo>
                          <a:pt x="231" y="163"/>
                        </a:lnTo>
                        <a:lnTo>
                          <a:pt x="210" y="162"/>
                        </a:lnTo>
                        <a:lnTo>
                          <a:pt x="190" y="159"/>
                        </a:lnTo>
                        <a:lnTo>
                          <a:pt x="173" y="154"/>
                        </a:lnTo>
                        <a:lnTo>
                          <a:pt x="154" y="148"/>
                        </a:lnTo>
                        <a:lnTo>
                          <a:pt x="139" y="142"/>
                        </a:lnTo>
                        <a:lnTo>
                          <a:pt x="123" y="133"/>
                        </a:lnTo>
                        <a:lnTo>
                          <a:pt x="108" y="123"/>
                        </a:lnTo>
                        <a:lnTo>
                          <a:pt x="95" y="115"/>
                        </a:lnTo>
                        <a:lnTo>
                          <a:pt x="81" y="102"/>
                        </a:lnTo>
                        <a:lnTo>
                          <a:pt x="69" y="90"/>
                        </a:lnTo>
                        <a:lnTo>
                          <a:pt x="58" y="76"/>
                        </a:lnTo>
                        <a:lnTo>
                          <a:pt x="48" y="63"/>
                        </a:lnTo>
                        <a:lnTo>
                          <a:pt x="38" y="49"/>
                        </a:lnTo>
                        <a:lnTo>
                          <a:pt x="28" y="32"/>
                        </a:lnTo>
                        <a:lnTo>
                          <a:pt x="19" y="16"/>
                        </a:lnTo>
                        <a:lnTo>
                          <a:pt x="10" y="0"/>
                        </a:lnTo>
                        <a:lnTo>
                          <a:pt x="0" y="5"/>
                        </a:lnTo>
                        <a:lnTo>
                          <a:pt x="9" y="21"/>
                        </a:lnTo>
                        <a:lnTo>
                          <a:pt x="18" y="37"/>
                        </a:lnTo>
                        <a:lnTo>
                          <a:pt x="28" y="53"/>
                        </a:lnTo>
                        <a:lnTo>
                          <a:pt x="38" y="68"/>
                        </a:lnTo>
                        <a:lnTo>
                          <a:pt x="50" y="83"/>
                        </a:lnTo>
                        <a:lnTo>
                          <a:pt x="62" y="97"/>
                        </a:lnTo>
                        <a:lnTo>
                          <a:pt x="74" y="110"/>
                        </a:lnTo>
                        <a:lnTo>
                          <a:pt x="88" y="122"/>
                        </a:lnTo>
                        <a:lnTo>
                          <a:pt x="103" y="133"/>
                        </a:lnTo>
                        <a:lnTo>
                          <a:pt x="118" y="143"/>
                        </a:lnTo>
                        <a:lnTo>
                          <a:pt x="134" y="152"/>
                        </a:lnTo>
                        <a:lnTo>
                          <a:pt x="151" y="158"/>
                        </a:lnTo>
                        <a:lnTo>
                          <a:pt x="170" y="164"/>
                        </a:lnTo>
                        <a:lnTo>
                          <a:pt x="190" y="169"/>
                        </a:lnTo>
                        <a:lnTo>
                          <a:pt x="210" y="172"/>
                        </a:lnTo>
                        <a:lnTo>
                          <a:pt x="231" y="173"/>
                        </a:lnTo>
                        <a:lnTo>
                          <a:pt x="229" y="163"/>
                        </a:lnTo>
                        <a:lnTo>
                          <a:pt x="234" y="173"/>
                        </a:lnTo>
                        <a:lnTo>
                          <a:pt x="253" y="163"/>
                        </a:lnTo>
                        <a:lnTo>
                          <a:pt x="231" y="162"/>
                        </a:lnTo>
                        <a:lnTo>
                          <a:pt x="234" y="17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1" name=""/>
                  <p:cNvSpPr/>
                  <p:nvPr/>
                </p:nvSpPr>
                <p:spPr>
                  <a:xfrm>
                    <a:off x="5271840" y="4459320"/>
                    <a:ext cx="65160" cy="11160"/>
                  </a:xfrm>
                  <a:custGeom>
                    <a:avLst/>
                    <a:gdLst/>
                    <a:ahLst/>
                    <a:rect l="l" t="t" r="r" b="b"/>
                    <a:pathLst>
                      <a:path w="163" h="29">
                        <a:moveTo>
                          <a:pt x="0" y="10"/>
                        </a:moveTo>
                        <a:lnTo>
                          <a:pt x="0" y="10"/>
                        </a:lnTo>
                        <a:lnTo>
                          <a:pt x="17" y="16"/>
                        </a:lnTo>
                        <a:lnTo>
                          <a:pt x="34" y="23"/>
                        </a:lnTo>
                        <a:lnTo>
                          <a:pt x="54" y="26"/>
                        </a:lnTo>
                        <a:lnTo>
                          <a:pt x="75" y="29"/>
                        </a:lnTo>
                        <a:lnTo>
                          <a:pt x="97" y="29"/>
                        </a:lnTo>
                        <a:lnTo>
                          <a:pt x="118" y="26"/>
                        </a:lnTo>
                        <a:lnTo>
                          <a:pt x="140" y="20"/>
                        </a:lnTo>
                        <a:lnTo>
                          <a:pt x="163" y="10"/>
                        </a:lnTo>
                        <a:lnTo>
                          <a:pt x="158" y="0"/>
                        </a:lnTo>
                        <a:lnTo>
                          <a:pt x="138" y="10"/>
                        </a:lnTo>
                        <a:lnTo>
                          <a:pt x="118" y="16"/>
                        </a:lnTo>
                        <a:lnTo>
                          <a:pt x="97" y="19"/>
                        </a:lnTo>
                        <a:lnTo>
                          <a:pt x="75" y="19"/>
                        </a:lnTo>
                        <a:lnTo>
                          <a:pt x="54" y="16"/>
                        </a:lnTo>
                        <a:lnTo>
                          <a:pt x="37" y="13"/>
                        </a:lnTo>
                        <a:lnTo>
                          <a:pt x="19" y="6"/>
                        </a:lnTo>
                        <a:lnTo>
                          <a:pt x="5" y="0"/>
                        </a:lnTo>
                        <a:lnTo>
                          <a:pt x="5" y="0"/>
                        </a:lnTo>
                        <a:lnTo>
                          <a:pt x="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2" name=""/>
                  <p:cNvSpPr/>
                  <p:nvPr/>
                </p:nvSpPr>
                <p:spPr>
                  <a:xfrm>
                    <a:off x="5238720" y="4389480"/>
                    <a:ext cx="34920" cy="73080"/>
                  </a:xfrm>
                  <a:custGeom>
                    <a:avLst/>
                    <a:gdLst/>
                    <a:ahLst/>
                    <a:rect l="l" t="t" r="r" b="b"/>
                    <a:pathLst>
                      <a:path w="88" h="183">
                        <a:moveTo>
                          <a:pt x="22" y="10"/>
                        </a:moveTo>
                        <a:lnTo>
                          <a:pt x="12" y="10"/>
                        </a:lnTo>
                        <a:lnTo>
                          <a:pt x="4" y="32"/>
                        </a:lnTo>
                        <a:lnTo>
                          <a:pt x="0" y="56"/>
                        </a:lnTo>
                        <a:lnTo>
                          <a:pt x="1" y="80"/>
                        </a:lnTo>
                        <a:lnTo>
                          <a:pt x="9" y="103"/>
                        </a:lnTo>
                        <a:lnTo>
                          <a:pt x="20" y="127"/>
                        </a:lnTo>
                        <a:lnTo>
                          <a:pt x="37" y="149"/>
                        </a:lnTo>
                        <a:lnTo>
                          <a:pt x="59" y="168"/>
                        </a:lnTo>
                        <a:lnTo>
                          <a:pt x="83" y="183"/>
                        </a:lnTo>
                        <a:lnTo>
                          <a:pt x="88" y="173"/>
                        </a:lnTo>
                        <a:lnTo>
                          <a:pt x="64" y="158"/>
                        </a:lnTo>
                        <a:lnTo>
                          <a:pt x="45" y="142"/>
                        </a:lnTo>
                        <a:lnTo>
                          <a:pt x="30" y="122"/>
                        </a:lnTo>
                        <a:lnTo>
                          <a:pt x="19" y="101"/>
                        </a:lnTo>
                        <a:lnTo>
                          <a:pt x="11" y="80"/>
                        </a:lnTo>
                        <a:lnTo>
                          <a:pt x="10" y="56"/>
                        </a:lnTo>
                        <a:lnTo>
                          <a:pt x="14" y="35"/>
                        </a:lnTo>
                        <a:lnTo>
                          <a:pt x="22" y="15"/>
                        </a:lnTo>
                        <a:lnTo>
                          <a:pt x="12" y="15"/>
                        </a:lnTo>
                        <a:lnTo>
                          <a:pt x="22" y="10"/>
                        </a:lnTo>
                        <a:lnTo>
                          <a:pt x="17" y="0"/>
                        </a:lnTo>
                        <a:lnTo>
                          <a:pt x="12" y="10"/>
                        </a:lnTo>
                        <a:lnTo>
                          <a:pt x="2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3" name=""/>
                  <p:cNvSpPr/>
                  <p:nvPr/>
                </p:nvSpPr>
                <p:spPr>
                  <a:xfrm>
                    <a:off x="4856040" y="4211640"/>
                    <a:ext cx="352440" cy="476280"/>
                  </a:xfrm>
                  <a:custGeom>
                    <a:avLst/>
                    <a:gdLst/>
                    <a:ahLst/>
                    <a:rect l="l" t="t" r="r" b="b"/>
                    <a:pathLst>
                      <a:path w="886" h="1200">
                        <a:moveTo>
                          <a:pt x="469" y="233"/>
                        </a:moveTo>
                        <a:lnTo>
                          <a:pt x="466" y="259"/>
                        </a:lnTo>
                        <a:lnTo>
                          <a:pt x="463" y="280"/>
                        </a:lnTo>
                        <a:lnTo>
                          <a:pt x="461" y="297"/>
                        </a:lnTo>
                        <a:lnTo>
                          <a:pt x="461" y="307"/>
                        </a:lnTo>
                        <a:lnTo>
                          <a:pt x="482" y="275"/>
                        </a:lnTo>
                        <a:lnTo>
                          <a:pt x="504" y="251"/>
                        </a:lnTo>
                        <a:lnTo>
                          <a:pt x="527" y="229"/>
                        </a:lnTo>
                        <a:lnTo>
                          <a:pt x="551" y="213"/>
                        </a:lnTo>
                        <a:lnTo>
                          <a:pt x="573" y="201"/>
                        </a:lnTo>
                        <a:lnTo>
                          <a:pt x="594" y="193"/>
                        </a:lnTo>
                        <a:lnTo>
                          <a:pt x="613" y="189"/>
                        </a:lnTo>
                        <a:lnTo>
                          <a:pt x="629" y="189"/>
                        </a:lnTo>
                        <a:lnTo>
                          <a:pt x="615" y="198"/>
                        </a:lnTo>
                        <a:lnTo>
                          <a:pt x="602" y="213"/>
                        </a:lnTo>
                        <a:lnTo>
                          <a:pt x="587" y="233"/>
                        </a:lnTo>
                        <a:lnTo>
                          <a:pt x="573" y="256"/>
                        </a:lnTo>
                        <a:lnTo>
                          <a:pt x="561" y="279"/>
                        </a:lnTo>
                        <a:lnTo>
                          <a:pt x="549" y="302"/>
                        </a:lnTo>
                        <a:lnTo>
                          <a:pt x="543" y="322"/>
                        </a:lnTo>
                        <a:lnTo>
                          <a:pt x="539" y="337"/>
                        </a:lnTo>
                        <a:lnTo>
                          <a:pt x="558" y="327"/>
                        </a:lnTo>
                        <a:lnTo>
                          <a:pt x="578" y="319"/>
                        </a:lnTo>
                        <a:lnTo>
                          <a:pt x="602" y="312"/>
                        </a:lnTo>
                        <a:lnTo>
                          <a:pt x="625" y="307"/>
                        </a:lnTo>
                        <a:lnTo>
                          <a:pt x="648" y="304"/>
                        </a:lnTo>
                        <a:lnTo>
                          <a:pt x="670" y="304"/>
                        </a:lnTo>
                        <a:lnTo>
                          <a:pt x="690" y="305"/>
                        </a:lnTo>
                        <a:lnTo>
                          <a:pt x="708" y="310"/>
                        </a:lnTo>
                        <a:lnTo>
                          <a:pt x="685" y="318"/>
                        </a:lnTo>
                        <a:lnTo>
                          <a:pt x="660" y="333"/>
                        </a:lnTo>
                        <a:lnTo>
                          <a:pt x="635" y="353"/>
                        </a:lnTo>
                        <a:lnTo>
                          <a:pt x="610" y="378"/>
                        </a:lnTo>
                        <a:lnTo>
                          <a:pt x="589" y="403"/>
                        </a:lnTo>
                        <a:lnTo>
                          <a:pt x="571" y="428"/>
                        </a:lnTo>
                        <a:lnTo>
                          <a:pt x="558" y="447"/>
                        </a:lnTo>
                        <a:lnTo>
                          <a:pt x="552" y="462"/>
                        </a:lnTo>
                        <a:lnTo>
                          <a:pt x="577" y="469"/>
                        </a:lnTo>
                        <a:lnTo>
                          <a:pt x="602" y="479"/>
                        </a:lnTo>
                        <a:lnTo>
                          <a:pt x="625" y="492"/>
                        </a:lnTo>
                        <a:lnTo>
                          <a:pt x="648" y="509"/>
                        </a:lnTo>
                        <a:lnTo>
                          <a:pt x="669" y="527"/>
                        </a:lnTo>
                        <a:lnTo>
                          <a:pt x="690" y="547"/>
                        </a:lnTo>
                        <a:lnTo>
                          <a:pt x="709" y="570"/>
                        </a:lnTo>
                        <a:lnTo>
                          <a:pt x="728" y="592"/>
                        </a:lnTo>
                        <a:lnTo>
                          <a:pt x="744" y="616"/>
                        </a:lnTo>
                        <a:lnTo>
                          <a:pt x="760" y="638"/>
                        </a:lnTo>
                        <a:lnTo>
                          <a:pt x="774" y="661"/>
                        </a:lnTo>
                        <a:lnTo>
                          <a:pt x="787" y="683"/>
                        </a:lnTo>
                        <a:lnTo>
                          <a:pt x="798" y="703"/>
                        </a:lnTo>
                        <a:lnTo>
                          <a:pt x="808" y="720"/>
                        </a:lnTo>
                        <a:lnTo>
                          <a:pt x="817" y="735"/>
                        </a:lnTo>
                        <a:lnTo>
                          <a:pt x="823" y="748"/>
                        </a:lnTo>
                        <a:lnTo>
                          <a:pt x="830" y="763"/>
                        </a:lnTo>
                        <a:lnTo>
                          <a:pt x="839" y="781"/>
                        </a:lnTo>
                        <a:lnTo>
                          <a:pt x="849" y="805"/>
                        </a:lnTo>
                        <a:lnTo>
                          <a:pt x="859" y="831"/>
                        </a:lnTo>
                        <a:lnTo>
                          <a:pt x="868" y="860"/>
                        </a:lnTo>
                        <a:lnTo>
                          <a:pt x="876" y="891"/>
                        </a:lnTo>
                        <a:lnTo>
                          <a:pt x="883" y="923"/>
                        </a:lnTo>
                        <a:lnTo>
                          <a:pt x="886" y="956"/>
                        </a:lnTo>
                        <a:lnTo>
                          <a:pt x="886" y="990"/>
                        </a:lnTo>
                        <a:lnTo>
                          <a:pt x="884" y="1023"/>
                        </a:lnTo>
                        <a:lnTo>
                          <a:pt x="876" y="1056"/>
                        </a:lnTo>
                        <a:lnTo>
                          <a:pt x="863" y="1085"/>
                        </a:lnTo>
                        <a:lnTo>
                          <a:pt x="844" y="1114"/>
                        </a:lnTo>
                        <a:lnTo>
                          <a:pt x="818" y="1139"/>
                        </a:lnTo>
                        <a:lnTo>
                          <a:pt x="785" y="1162"/>
                        </a:lnTo>
                        <a:lnTo>
                          <a:pt x="744" y="1180"/>
                        </a:lnTo>
                        <a:lnTo>
                          <a:pt x="699" y="1193"/>
                        </a:lnTo>
                        <a:lnTo>
                          <a:pt x="655" y="1200"/>
                        </a:lnTo>
                        <a:lnTo>
                          <a:pt x="615" y="1200"/>
                        </a:lnTo>
                        <a:lnTo>
                          <a:pt x="578" y="1195"/>
                        </a:lnTo>
                        <a:lnTo>
                          <a:pt x="543" y="1184"/>
                        </a:lnTo>
                        <a:lnTo>
                          <a:pt x="511" y="1169"/>
                        </a:lnTo>
                        <a:lnTo>
                          <a:pt x="481" y="1150"/>
                        </a:lnTo>
                        <a:lnTo>
                          <a:pt x="452" y="1129"/>
                        </a:lnTo>
                        <a:lnTo>
                          <a:pt x="427" y="1104"/>
                        </a:lnTo>
                        <a:lnTo>
                          <a:pt x="403" y="1077"/>
                        </a:lnTo>
                        <a:lnTo>
                          <a:pt x="382" y="1048"/>
                        </a:lnTo>
                        <a:lnTo>
                          <a:pt x="362" y="1018"/>
                        </a:lnTo>
                        <a:lnTo>
                          <a:pt x="345" y="988"/>
                        </a:lnTo>
                        <a:lnTo>
                          <a:pt x="330" y="958"/>
                        </a:lnTo>
                        <a:lnTo>
                          <a:pt x="316" y="928"/>
                        </a:lnTo>
                        <a:lnTo>
                          <a:pt x="305" y="900"/>
                        </a:lnTo>
                        <a:lnTo>
                          <a:pt x="287" y="846"/>
                        </a:lnTo>
                        <a:lnTo>
                          <a:pt x="275" y="796"/>
                        </a:lnTo>
                        <a:lnTo>
                          <a:pt x="268" y="752"/>
                        </a:lnTo>
                        <a:lnTo>
                          <a:pt x="267" y="712"/>
                        </a:lnTo>
                        <a:lnTo>
                          <a:pt x="270" y="676"/>
                        </a:lnTo>
                        <a:lnTo>
                          <a:pt x="273" y="646"/>
                        </a:lnTo>
                        <a:lnTo>
                          <a:pt x="281" y="619"/>
                        </a:lnTo>
                        <a:lnTo>
                          <a:pt x="288" y="598"/>
                        </a:lnTo>
                        <a:lnTo>
                          <a:pt x="275" y="578"/>
                        </a:lnTo>
                        <a:lnTo>
                          <a:pt x="258" y="563"/>
                        </a:lnTo>
                        <a:lnTo>
                          <a:pt x="241" y="552"/>
                        </a:lnTo>
                        <a:lnTo>
                          <a:pt x="222" y="546"/>
                        </a:lnTo>
                        <a:lnTo>
                          <a:pt x="202" y="542"/>
                        </a:lnTo>
                        <a:lnTo>
                          <a:pt x="182" y="541"/>
                        </a:lnTo>
                        <a:lnTo>
                          <a:pt x="163" y="541"/>
                        </a:lnTo>
                        <a:lnTo>
                          <a:pt x="146" y="541"/>
                        </a:lnTo>
                        <a:lnTo>
                          <a:pt x="151" y="530"/>
                        </a:lnTo>
                        <a:lnTo>
                          <a:pt x="160" y="518"/>
                        </a:lnTo>
                        <a:lnTo>
                          <a:pt x="168" y="509"/>
                        </a:lnTo>
                        <a:lnTo>
                          <a:pt x="181" y="499"/>
                        </a:lnTo>
                        <a:lnTo>
                          <a:pt x="192" y="491"/>
                        </a:lnTo>
                        <a:lnTo>
                          <a:pt x="206" y="485"/>
                        </a:lnTo>
                        <a:lnTo>
                          <a:pt x="220" y="481"/>
                        </a:lnTo>
                        <a:lnTo>
                          <a:pt x="233" y="480"/>
                        </a:lnTo>
                        <a:lnTo>
                          <a:pt x="220" y="465"/>
                        </a:lnTo>
                        <a:lnTo>
                          <a:pt x="203" y="450"/>
                        </a:lnTo>
                        <a:lnTo>
                          <a:pt x="183" y="436"/>
                        </a:lnTo>
                        <a:lnTo>
                          <a:pt x="162" y="423"/>
                        </a:lnTo>
                        <a:lnTo>
                          <a:pt x="140" y="411"/>
                        </a:lnTo>
                        <a:lnTo>
                          <a:pt x="119" y="401"/>
                        </a:lnTo>
                        <a:lnTo>
                          <a:pt x="99" y="394"/>
                        </a:lnTo>
                        <a:lnTo>
                          <a:pt x="82" y="389"/>
                        </a:lnTo>
                        <a:lnTo>
                          <a:pt x="90" y="386"/>
                        </a:lnTo>
                        <a:lnTo>
                          <a:pt x="97" y="384"/>
                        </a:lnTo>
                        <a:lnTo>
                          <a:pt x="106" y="383"/>
                        </a:lnTo>
                        <a:lnTo>
                          <a:pt x="116" y="381"/>
                        </a:lnTo>
                        <a:lnTo>
                          <a:pt x="127" y="381"/>
                        </a:lnTo>
                        <a:lnTo>
                          <a:pt x="140" y="383"/>
                        </a:lnTo>
                        <a:lnTo>
                          <a:pt x="155" y="384"/>
                        </a:lnTo>
                        <a:lnTo>
                          <a:pt x="172" y="386"/>
                        </a:lnTo>
                        <a:lnTo>
                          <a:pt x="162" y="374"/>
                        </a:lnTo>
                        <a:lnTo>
                          <a:pt x="150" y="363"/>
                        </a:lnTo>
                        <a:lnTo>
                          <a:pt x="135" y="353"/>
                        </a:lnTo>
                        <a:lnTo>
                          <a:pt x="120" y="342"/>
                        </a:lnTo>
                        <a:lnTo>
                          <a:pt x="104" y="333"/>
                        </a:lnTo>
                        <a:lnTo>
                          <a:pt x="87" y="323"/>
                        </a:lnTo>
                        <a:lnTo>
                          <a:pt x="71" y="314"/>
                        </a:lnTo>
                        <a:lnTo>
                          <a:pt x="56" y="305"/>
                        </a:lnTo>
                        <a:lnTo>
                          <a:pt x="66" y="305"/>
                        </a:lnTo>
                        <a:lnTo>
                          <a:pt x="77" y="308"/>
                        </a:lnTo>
                        <a:lnTo>
                          <a:pt x="90" y="309"/>
                        </a:lnTo>
                        <a:lnTo>
                          <a:pt x="104" y="313"/>
                        </a:lnTo>
                        <a:lnTo>
                          <a:pt x="119" y="317"/>
                        </a:lnTo>
                        <a:lnTo>
                          <a:pt x="135" y="320"/>
                        </a:lnTo>
                        <a:lnTo>
                          <a:pt x="150" y="325"/>
                        </a:lnTo>
                        <a:lnTo>
                          <a:pt x="166" y="330"/>
                        </a:lnTo>
                        <a:lnTo>
                          <a:pt x="151" y="309"/>
                        </a:lnTo>
                        <a:lnTo>
                          <a:pt x="132" y="289"/>
                        </a:lnTo>
                        <a:lnTo>
                          <a:pt x="111" y="270"/>
                        </a:lnTo>
                        <a:lnTo>
                          <a:pt x="87" y="253"/>
                        </a:lnTo>
                        <a:lnTo>
                          <a:pt x="62" y="237"/>
                        </a:lnTo>
                        <a:lnTo>
                          <a:pt x="39" y="223"/>
                        </a:lnTo>
                        <a:lnTo>
                          <a:pt x="17" y="212"/>
                        </a:lnTo>
                        <a:lnTo>
                          <a:pt x="0" y="202"/>
                        </a:lnTo>
                        <a:lnTo>
                          <a:pt x="11" y="199"/>
                        </a:lnTo>
                        <a:lnTo>
                          <a:pt x="24" y="198"/>
                        </a:lnTo>
                        <a:lnTo>
                          <a:pt x="36" y="198"/>
                        </a:lnTo>
                        <a:lnTo>
                          <a:pt x="50" y="198"/>
                        </a:lnTo>
                        <a:lnTo>
                          <a:pt x="64" y="199"/>
                        </a:lnTo>
                        <a:lnTo>
                          <a:pt x="79" y="201"/>
                        </a:lnTo>
                        <a:lnTo>
                          <a:pt x="92" y="203"/>
                        </a:lnTo>
                        <a:lnTo>
                          <a:pt x="107" y="206"/>
                        </a:lnTo>
                        <a:lnTo>
                          <a:pt x="122" y="209"/>
                        </a:lnTo>
                        <a:lnTo>
                          <a:pt x="137" y="213"/>
                        </a:lnTo>
                        <a:lnTo>
                          <a:pt x="152" y="218"/>
                        </a:lnTo>
                        <a:lnTo>
                          <a:pt x="167" y="222"/>
                        </a:lnTo>
                        <a:lnTo>
                          <a:pt x="181" y="228"/>
                        </a:lnTo>
                        <a:lnTo>
                          <a:pt x="195" y="233"/>
                        </a:lnTo>
                        <a:lnTo>
                          <a:pt x="208" y="238"/>
                        </a:lnTo>
                        <a:lnTo>
                          <a:pt x="221" y="244"/>
                        </a:lnTo>
                        <a:lnTo>
                          <a:pt x="217" y="233"/>
                        </a:lnTo>
                        <a:lnTo>
                          <a:pt x="211" y="221"/>
                        </a:lnTo>
                        <a:lnTo>
                          <a:pt x="203" y="206"/>
                        </a:lnTo>
                        <a:lnTo>
                          <a:pt x="195" y="189"/>
                        </a:lnTo>
                        <a:lnTo>
                          <a:pt x="185" y="173"/>
                        </a:lnTo>
                        <a:lnTo>
                          <a:pt x="175" y="158"/>
                        </a:lnTo>
                        <a:lnTo>
                          <a:pt x="165" y="143"/>
                        </a:lnTo>
                        <a:lnTo>
                          <a:pt x="156" y="130"/>
                        </a:lnTo>
                        <a:lnTo>
                          <a:pt x="176" y="137"/>
                        </a:lnTo>
                        <a:lnTo>
                          <a:pt x="197" y="150"/>
                        </a:lnTo>
                        <a:lnTo>
                          <a:pt x="216" y="166"/>
                        </a:lnTo>
                        <a:lnTo>
                          <a:pt x="235" y="185"/>
                        </a:lnTo>
                        <a:lnTo>
                          <a:pt x="252" y="204"/>
                        </a:lnTo>
                        <a:lnTo>
                          <a:pt x="267" y="226"/>
                        </a:lnTo>
                        <a:lnTo>
                          <a:pt x="281" y="247"/>
                        </a:lnTo>
                        <a:lnTo>
                          <a:pt x="292" y="267"/>
                        </a:lnTo>
                        <a:lnTo>
                          <a:pt x="296" y="206"/>
                        </a:lnTo>
                        <a:lnTo>
                          <a:pt x="305" y="153"/>
                        </a:lnTo>
                        <a:lnTo>
                          <a:pt x="320" y="110"/>
                        </a:lnTo>
                        <a:lnTo>
                          <a:pt x="338" y="75"/>
                        </a:lnTo>
                        <a:lnTo>
                          <a:pt x="360" y="46"/>
                        </a:lnTo>
                        <a:lnTo>
                          <a:pt x="382" y="25"/>
                        </a:lnTo>
                        <a:lnTo>
                          <a:pt x="403" y="9"/>
                        </a:lnTo>
                        <a:lnTo>
                          <a:pt x="423" y="0"/>
                        </a:lnTo>
                        <a:lnTo>
                          <a:pt x="407" y="21"/>
                        </a:lnTo>
                        <a:lnTo>
                          <a:pt x="396" y="46"/>
                        </a:lnTo>
                        <a:lnTo>
                          <a:pt x="388" y="75"/>
                        </a:lnTo>
                        <a:lnTo>
                          <a:pt x="384" y="106"/>
                        </a:lnTo>
                        <a:lnTo>
                          <a:pt x="383" y="137"/>
                        </a:lnTo>
                        <a:lnTo>
                          <a:pt x="383" y="166"/>
                        </a:lnTo>
                        <a:lnTo>
                          <a:pt x="386" y="191"/>
                        </a:lnTo>
                        <a:lnTo>
                          <a:pt x="388" y="212"/>
                        </a:lnTo>
                        <a:lnTo>
                          <a:pt x="401" y="178"/>
                        </a:lnTo>
                        <a:lnTo>
                          <a:pt x="417" y="146"/>
                        </a:lnTo>
                        <a:lnTo>
                          <a:pt x="437" y="116"/>
                        </a:lnTo>
                        <a:lnTo>
                          <a:pt x="459" y="90"/>
                        </a:lnTo>
                        <a:lnTo>
                          <a:pt x="482" y="67"/>
                        </a:lnTo>
                        <a:lnTo>
                          <a:pt x="506" y="49"/>
                        </a:lnTo>
                        <a:lnTo>
                          <a:pt x="527" y="37"/>
                        </a:lnTo>
                        <a:lnTo>
                          <a:pt x="547" y="31"/>
                        </a:lnTo>
                        <a:lnTo>
                          <a:pt x="536" y="44"/>
                        </a:lnTo>
                        <a:lnTo>
                          <a:pt x="524" y="57"/>
                        </a:lnTo>
                        <a:lnTo>
                          <a:pt x="516" y="74"/>
                        </a:lnTo>
                        <a:lnTo>
                          <a:pt x="507" y="91"/>
                        </a:lnTo>
                        <a:lnTo>
                          <a:pt x="499" y="110"/>
                        </a:lnTo>
                        <a:lnTo>
                          <a:pt x="493" y="130"/>
                        </a:lnTo>
                        <a:lnTo>
                          <a:pt x="487" y="150"/>
                        </a:lnTo>
                        <a:lnTo>
                          <a:pt x="482" y="170"/>
                        </a:lnTo>
                        <a:lnTo>
                          <a:pt x="492" y="165"/>
                        </a:lnTo>
                        <a:lnTo>
                          <a:pt x="501" y="163"/>
                        </a:lnTo>
                        <a:lnTo>
                          <a:pt x="507" y="163"/>
                        </a:lnTo>
                        <a:lnTo>
                          <a:pt x="509" y="163"/>
                        </a:lnTo>
                        <a:lnTo>
                          <a:pt x="504" y="170"/>
                        </a:lnTo>
                        <a:lnTo>
                          <a:pt x="498" y="180"/>
                        </a:lnTo>
                        <a:lnTo>
                          <a:pt x="491" y="191"/>
                        </a:lnTo>
                        <a:lnTo>
                          <a:pt x="484" y="203"/>
                        </a:lnTo>
                        <a:lnTo>
                          <a:pt x="478" y="214"/>
                        </a:lnTo>
                        <a:lnTo>
                          <a:pt x="474" y="224"/>
                        </a:lnTo>
                        <a:lnTo>
                          <a:pt x="471" y="231"/>
                        </a:lnTo>
                        <a:lnTo>
                          <a:pt x="469"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3640" y="4398840"/>
                    <a:ext cx="201600" cy="270000"/>
                  </a:xfrm>
                  <a:custGeom>
                    <a:avLst/>
                    <a:gdLst/>
                    <a:ahLst/>
                    <a:rect l="l" t="t" r="r" b="b"/>
                    <a:pathLst>
                      <a:path w="509" h="679">
                        <a:moveTo>
                          <a:pt x="417" y="679"/>
                        </a:moveTo>
                        <a:lnTo>
                          <a:pt x="447" y="658"/>
                        </a:lnTo>
                        <a:lnTo>
                          <a:pt x="469" y="634"/>
                        </a:lnTo>
                        <a:lnTo>
                          <a:pt x="485" y="611"/>
                        </a:lnTo>
                        <a:lnTo>
                          <a:pt x="496" y="587"/>
                        </a:lnTo>
                        <a:lnTo>
                          <a:pt x="503" y="566"/>
                        </a:lnTo>
                        <a:lnTo>
                          <a:pt x="506" y="547"/>
                        </a:lnTo>
                        <a:lnTo>
                          <a:pt x="509" y="532"/>
                        </a:lnTo>
                        <a:lnTo>
                          <a:pt x="509" y="522"/>
                        </a:lnTo>
                        <a:lnTo>
                          <a:pt x="509" y="502"/>
                        </a:lnTo>
                        <a:lnTo>
                          <a:pt x="506" y="477"/>
                        </a:lnTo>
                        <a:lnTo>
                          <a:pt x="503" y="449"/>
                        </a:lnTo>
                        <a:lnTo>
                          <a:pt x="495" y="415"/>
                        </a:lnTo>
                        <a:lnTo>
                          <a:pt x="484" y="376"/>
                        </a:lnTo>
                        <a:lnTo>
                          <a:pt x="468" y="334"/>
                        </a:lnTo>
                        <a:lnTo>
                          <a:pt x="447" y="287"/>
                        </a:lnTo>
                        <a:lnTo>
                          <a:pt x="419" y="233"/>
                        </a:lnTo>
                        <a:lnTo>
                          <a:pt x="404" y="207"/>
                        </a:lnTo>
                        <a:lnTo>
                          <a:pt x="389" y="182"/>
                        </a:lnTo>
                        <a:lnTo>
                          <a:pt x="374" y="158"/>
                        </a:lnTo>
                        <a:lnTo>
                          <a:pt x="358" y="136"/>
                        </a:lnTo>
                        <a:lnTo>
                          <a:pt x="343" y="116"/>
                        </a:lnTo>
                        <a:lnTo>
                          <a:pt x="328" y="97"/>
                        </a:lnTo>
                        <a:lnTo>
                          <a:pt x="313" y="80"/>
                        </a:lnTo>
                        <a:lnTo>
                          <a:pt x="298" y="64"/>
                        </a:lnTo>
                        <a:lnTo>
                          <a:pt x="283" y="50"/>
                        </a:lnTo>
                        <a:lnTo>
                          <a:pt x="267" y="38"/>
                        </a:lnTo>
                        <a:lnTo>
                          <a:pt x="252" y="28"/>
                        </a:lnTo>
                        <a:lnTo>
                          <a:pt x="237" y="19"/>
                        </a:lnTo>
                        <a:lnTo>
                          <a:pt x="221" y="11"/>
                        </a:lnTo>
                        <a:lnTo>
                          <a:pt x="206" y="5"/>
                        </a:lnTo>
                        <a:lnTo>
                          <a:pt x="191" y="1"/>
                        </a:lnTo>
                        <a:lnTo>
                          <a:pt x="174" y="0"/>
                        </a:lnTo>
                        <a:lnTo>
                          <a:pt x="148" y="0"/>
                        </a:lnTo>
                        <a:lnTo>
                          <a:pt x="123" y="1"/>
                        </a:lnTo>
                        <a:lnTo>
                          <a:pt x="101" y="4"/>
                        </a:lnTo>
                        <a:lnTo>
                          <a:pt x="82" y="9"/>
                        </a:lnTo>
                        <a:lnTo>
                          <a:pt x="63" y="13"/>
                        </a:lnTo>
                        <a:lnTo>
                          <a:pt x="48" y="18"/>
                        </a:lnTo>
                        <a:lnTo>
                          <a:pt x="36" y="23"/>
                        </a:lnTo>
                        <a:lnTo>
                          <a:pt x="26" y="26"/>
                        </a:lnTo>
                        <a:lnTo>
                          <a:pt x="23" y="28"/>
                        </a:lnTo>
                        <a:lnTo>
                          <a:pt x="21" y="29"/>
                        </a:lnTo>
                        <a:lnTo>
                          <a:pt x="18" y="31"/>
                        </a:lnTo>
                        <a:lnTo>
                          <a:pt x="16" y="33"/>
                        </a:lnTo>
                        <a:lnTo>
                          <a:pt x="8" y="45"/>
                        </a:lnTo>
                        <a:lnTo>
                          <a:pt x="2" y="64"/>
                        </a:lnTo>
                        <a:lnTo>
                          <a:pt x="0" y="85"/>
                        </a:lnTo>
                        <a:lnTo>
                          <a:pt x="1" y="107"/>
                        </a:lnTo>
                        <a:lnTo>
                          <a:pt x="11" y="104"/>
                        </a:lnTo>
                        <a:lnTo>
                          <a:pt x="21" y="102"/>
                        </a:lnTo>
                        <a:lnTo>
                          <a:pt x="31" y="104"/>
                        </a:lnTo>
                        <a:lnTo>
                          <a:pt x="39" y="109"/>
                        </a:lnTo>
                        <a:lnTo>
                          <a:pt x="48" y="119"/>
                        </a:lnTo>
                        <a:lnTo>
                          <a:pt x="57" y="135"/>
                        </a:lnTo>
                        <a:lnTo>
                          <a:pt x="63" y="157"/>
                        </a:lnTo>
                        <a:lnTo>
                          <a:pt x="68" y="186"/>
                        </a:lnTo>
                        <a:lnTo>
                          <a:pt x="76" y="185"/>
                        </a:lnTo>
                        <a:lnTo>
                          <a:pt x="86" y="186"/>
                        </a:lnTo>
                        <a:lnTo>
                          <a:pt x="96" y="188"/>
                        </a:lnTo>
                        <a:lnTo>
                          <a:pt x="107" y="193"/>
                        </a:lnTo>
                        <a:lnTo>
                          <a:pt x="116" y="202"/>
                        </a:lnTo>
                        <a:lnTo>
                          <a:pt x="126" y="214"/>
                        </a:lnTo>
                        <a:lnTo>
                          <a:pt x="132" y="232"/>
                        </a:lnTo>
                        <a:lnTo>
                          <a:pt x="137" y="253"/>
                        </a:lnTo>
                        <a:lnTo>
                          <a:pt x="146" y="252"/>
                        </a:lnTo>
                        <a:lnTo>
                          <a:pt x="156" y="254"/>
                        </a:lnTo>
                        <a:lnTo>
                          <a:pt x="168" y="259"/>
                        </a:lnTo>
                        <a:lnTo>
                          <a:pt x="181" y="266"/>
                        </a:lnTo>
                        <a:lnTo>
                          <a:pt x="194" y="276"/>
                        </a:lnTo>
                        <a:lnTo>
                          <a:pt x="206" y="288"/>
                        </a:lnTo>
                        <a:lnTo>
                          <a:pt x="214" y="303"/>
                        </a:lnTo>
                        <a:lnTo>
                          <a:pt x="221" y="319"/>
                        </a:lnTo>
                        <a:lnTo>
                          <a:pt x="212" y="323"/>
                        </a:lnTo>
                        <a:lnTo>
                          <a:pt x="204" y="330"/>
                        </a:lnTo>
                        <a:lnTo>
                          <a:pt x="197" y="343"/>
                        </a:lnTo>
                        <a:lnTo>
                          <a:pt x="191" y="359"/>
                        </a:lnTo>
                        <a:lnTo>
                          <a:pt x="188" y="376"/>
                        </a:lnTo>
                        <a:lnTo>
                          <a:pt x="188" y="398"/>
                        </a:lnTo>
                        <a:lnTo>
                          <a:pt x="193" y="420"/>
                        </a:lnTo>
                        <a:lnTo>
                          <a:pt x="202" y="444"/>
                        </a:lnTo>
                        <a:lnTo>
                          <a:pt x="189" y="456"/>
                        </a:lnTo>
                        <a:lnTo>
                          <a:pt x="184" y="484"/>
                        </a:lnTo>
                        <a:lnTo>
                          <a:pt x="187" y="516"/>
                        </a:lnTo>
                        <a:lnTo>
                          <a:pt x="203" y="550"/>
                        </a:lnTo>
                        <a:lnTo>
                          <a:pt x="213" y="548"/>
                        </a:lnTo>
                        <a:lnTo>
                          <a:pt x="226" y="547"/>
                        </a:lnTo>
                        <a:lnTo>
                          <a:pt x="237" y="550"/>
                        </a:lnTo>
                        <a:lnTo>
                          <a:pt x="250" y="555"/>
                        </a:lnTo>
                        <a:lnTo>
                          <a:pt x="263" y="563"/>
                        </a:lnTo>
                        <a:lnTo>
                          <a:pt x="274" y="576"/>
                        </a:lnTo>
                        <a:lnTo>
                          <a:pt x="287" y="595"/>
                        </a:lnTo>
                        <a:lnTo>
                          <a:pt x="297" y="619"/>
                        </a:lnTo>
                        <a:lnTo>
                          <a:pt x="303" y="617"/>
                        </a:lnTo>
                        <a:lnTo>
                          <a:pt x="310" y="616"/>
                        </a:lnTo>
                        <a:lnTo>
                          <a:pt x="320" y="616"/>
                        </a:lnTo>
                        <a:lnTo>
                          <a:pt x="332" y="617"/>
                        </a:lnTo>
                        <a:lnTo>
                          <a:pt x="343" y="621"/>
                        </a:lnTo>
                        <a:lnTo>
                          <a:pt x="353" y="628"/>
                        </a:lnTo>
                        <a:lnTo>
                          <a:pt x="362" y="638"/>
                        </a:lnTo>
                        <a:lnTo>
                          <a:pt x="368" y="652"/>
                        </a:lnTo>
                        <a:lnTo>
                          <a:pt x="373" y="648"/>
                        </a:lnTo>
                        <a:lnTo>
                          <a:pt x="380" y="647"/>
                        </a:lnTo>
                        <a:lnTo>
                          <a:pt x="389" y="647"/>
                        </a:lnTo>
                        <a:lnTo>
                          <a:pt x="398" y="648"/>
                        </a:lnTo>
                        <a:lnTo>
                          <a:pt x="407" y="652"/>
                        </a:lnTo>
                        <a:lnTo>
                          <a:pt x="413" y="658"/>
                        </a:lnTo>
                        <a:lnTo>
                          <a:pt x="417" y="667"/>
                        </a:lnTo>
                        <a:lnTo>
                          <a:pt x="417" y="679"/>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4924440" y="4280040"/>
                    <a:ext cx="199800" cy="126720"/>
                  </a:xfrm>
                  <a:custGeom>
                    <a:avLst/>
                    <a:gdLst/>
                    <a:ahLst/>
                    <a:rect l="l" t="t" r="r" b="b"/>
                    <a:pathLst>
                      <a:path w="502" h="321">
                        <a:moveTo>
                          <a:pt x="369" y="290"/>
                        </a:moveTo>
                        <a:lnTo>
                          <a:pt x="374" y="280"/>
                        </a:lnTo>
                        <a:lnTo>
                          <a:pt x="384" y="264"/>
                        </a:lnTo>
                        <a:lnTo>
                          <a:pt x="397" y="244"/>
                        </a:lnTo>
                        <a:lnTo>
                          <a:pt x="415" y="222"/>
                        </a:lnTo>
                        <a:lnTo>
                          <a:pt x="435" y="199"/>
                        </a:lnTo>
                        <a:lnTo>
                          <a:pt x="456" y="177"/>
                        </a:lnTo>
                        <a:lnTo>
                          <a:pt x="478" y="158"/>
                        </a:lnTo>
                        <a:lnTo>
                          <a:pt x="502" y="144"/>
                        </a:lnTo>
                        <a:lnTo>
                          <a:pt x="496" y="144"/>
                        </a:lnTo>
                        <a:lnTo>
                          <a:pt x="487" y="146"/>
                        </a:lnTo>
                        <a:lnTo>
                          <a:pt x="477" y="148"/>
                        </a:lnTo>
                        <a:lnTo>
                          <a:pt x="466" y="151"/>
                        </a:lnTo>
                        <a:lnTo>
                          <a:pt x="453" y="154"/>
                        </a:lnTo>
                        <a:lnTo>
                          <a:pt x="440" y="159"/>
                        </a:lnTo>
                        <a:lnTo>
                          <a:pt x="426" y="166"/>
                        </a:lnTo>
                        <a:lnTo>
                          <a:pt x="410" y="173"/>
                        </a:lnTo>
                        <a:lnTo>
                          <a:pt x="394" y="180"/>
                        </a:lnTo>
                        <a:lnTo>
                          <a:pt x="377" y="190"/>
                        </a:lnTo>
                        <a:lnTo>
                          <a:pt x="361" y="202"/>
                        </a:lnTo>
                        <a:lnTo>
                          <a:pt x="345" y="214"/>
                        </a:lnTo>
                        <a:lnTo>
                          <a:pt x="329" y="229"/>
                        </a:lnTo>
                        <a:lnTo>
                          <a:pt x="312" y="244"/>
                        </a:lnTo>
                        <a:lnTo>
                          <a:pt x="297" y="261"/>
                        </a:lnTo>
                        <a:lnTo>
                          <a:pt x="282" y="281"/>
                        </a:lnTo>
                        <a:lnTo>
                          <a:pt x="276" y="275"/>
                        </a:lnTo>
                        <a:lnTo>
                          <a:pt x="269" y="269"/>
                        </a:lnTo>
                        <a:lnTo>
                          <a:pt x="262" y="261"/>
                        </a:lnTo>
                        <a:lnTo>
                          <a:pt x="256" y="255"/>
                        </a:lnTo>
                        <a:lnTo>
                          <a:pt x="250" y="249"/>
                        </a:lnTo>
                        <a:lnTo>
                          <a:pt x="246" y="244"/>
                        </a:lnTo>
                        <a:lnTo>
                          <a:pt x="244" y="242"/>
                        </a:lnTo>
                        <a:lnTo>
                          <a:pt x="242" y="240"/>
                        </a:lnTo>
                        <a:lnTo>
                          <a:pt x="245" y="222"/>
                        </a:lnTo>
                        <a:lnTo>
                          <a:pt x="250" y="195"/>
                        </a:lnTo>
                        <a:lnTo>
                          <a:pt x="256" y="166"/>
                        </a:lnTo>
                        <a:lnTo>
                          <a:pt x="264" y="132"/>
                        </a:lnTo>
                        <a:lnTo>
                          <a:pt x="275" y="97"/>
                        </a:lnTo>
                        <a:lnTo>
                          <a:pt x="289" y="62"/>
                        </a:lnTo>
                        <a:lnTo>
                          <a:pt x="306" y="30"/>
                        </a:lnTo>
                        <a:lnTo>
                          <a:pt x="326" y="0"/>
                        </a:lnTo>
                        <a:lnTo>
                          <a:pt x="315" y="4"/>
                        </a:lnTo>
                        <a:lnTo>
                          <a:pt x="300" y="15"/>
                        </a:lnTo>
                        <a:lnTo>
                          <a:pt x="281" y="31"/>
                        </a:lnTo>
                        <a:lnTo>
                          <a:pt x="260" y="55"/>
                        </a:lnTo>
                        <a:lnTo>
                          <a:pt x="237" y="85"/>
                        </a:lnTo>
                        <a:lnTo>
                          <a:pt x="216" y="121"/>
                        </a:lnTo>
                        <a:lnTo>
                          <a:pt x="196" y="164"/>
                        </a:lnTo>
                        <a:lnTo>
                          <a:pt x="179" y="215"/>
                        </a:lnTo>
                        <a:lnTo>
                          <a:pt x="166" y="208"/>
                        </a:lnTo>
                        <a:lnTo>
                          <a:pt x="149" y="198"/>
                        </a:lnTo>
                        <a:lnTo>
                          <a:pt x="128" y="187"/>
                        </a:lnTo>
                        <a:lnTo>
                          <a:pt x="103" y="176"/>
                        </a:lnTo>
                        <a:lnTo>
                          <a:pt x="75" y="164"/>
                        </a:lnTo>
                        <a:lnTo>
                          <a:pt x="49" y="156"/>
                        </a:lnTo>
                        <a:lnTo>
                          <a:pt x="24" y="148"/>
                        </a:lnTo>
                        <a:lnTo>
                          <a:pt x="0" y="146"/>
                        </a:lnTo>
                        <a:lnTo>
                          <a:pt x="11" y="149"/>
                        </a:lnTo>
                        <a:lnTo>
                          <a:pt x="23" y="154"/>
                        </a:lnTo>
                        <a:lnTo>
                          <a:pt x="36" y="161"/>
                        </a:lnTo>
                        <a:lnTo>
                          <a:pt x="50" y="168"/>
                        </a:lnTo>
                        <a:lnTo>
                          <a:pt x="65" y="177"/>
                        </a:lnTo>
                        <a:lnTo>
                          <a:pt x="81" y="187"/>
                        </a:lnTo>
                        <a:lnTo>
                          <a:pt x="96" y="198"/>
                        </a:lnTo>
                        <a:lnTo>
                          <a:pt x="113" y="210"/>
                        </a:lnTo>
                        <a:lnTo>
                          <a:pt x="128" y="223"/>
                        </a:lnTo>
                        <a:lnTo>
                          <a:pt x="143" y="235"/>
                        </a:lnTo>
                        <a:lnTo>
                          <a:pt x="158" y="249"/>
                        </a:lnTo>
                        <a:lnTo>
                          <a:pt x="171" y="264"/>
                        </a:lnTo>
                        <a:lnTo>
                          <a:pt x="185" y="278"/>
                        </a:lnTo>
                        <a:lnTo>
                          <a:pt x="196" y="293"/>
                        </a:lnTo>
                        <a:lnTo>
                          <a:pt x="206" y="306"/>
                        </a:lnTo>
                        <a:lnTo>
                          <a:pt x="215" y="321"/>
                        </a:lnTo>
                        <a:lnTo>
                          <a:pt x="231" y="315"/>
                        </a:lnTo>
                        <a:lnTo>
                          <a:pt x="250" y="309"/>
                        </a:lnTo>
                        <a:lnTo>
                          <a:pt x="270" y="304"/>
                        </a:lnTo>
                        <a:lnTo>
                          <a:pt x="291" y="300"/>
                        </a:lnTo>
                        <a:lnTo>
                          <a:pt x="312" y="296"/>
                        </a:lnTo>
                        <a:lnTo>
                          <a:pt x="332" y="294"/>
                        </a:lnTo>
                        <a:lnTo>
                          <a:pt x="351" y="291"/>
                        </a:lnTo>
                        <a:lnTo>
                          <a:pt x="369" y="290"/>
                        </a:lnTo>
                        <a:close/>
                      </a:path>
                    </a:pathLst>
                  </a:custGeom>
                  <a:solidFill>
                    <a:srgbClr val="72b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4919400" y="4417920"/>
                    <a:ext cx="58680" cy="27000"/>
                  </a:xfrm>
                  <a:custGeom>
                    <a:avLst/>
                    <a:gdLst/>
                    <a:ahLst/>
                    <a:rect l="l" t="t" r="r" b="b"/>
                    <a:pathLst>
                      <a:path w="149" h="72">
                        <a:moveTo>
                          <a:pt x="149" y="49"/>
                        </a:moveTo>
                        <a:lnTo>
                          <a:pt x="134" y="30"/>
                        </a:lnTo>
                        <a:lnTo>
                          <a:pt x="117" y="17"/>
                        </a:lnTo>
                        <a:lnTo>
                          <a:pt x="96" y="8"/>
                        </a:lnTo>
                        <a:lnTo>
                          <a:pt x="74" y="3"/>
                        </a:lnTo>
                        <a:lnTo>
                          <a:pt x="53" y="0"/>
                        </a:lnTo>
                        <a:lnTo>
                          <a:pt x="33" y="0"/>
                        </a:lnTo>
                        <a:lnTo>
                          <a:pt x="18" y="3"/>
                        </a:lnTo>
                        <a:lnTo>
                          <a:pt x="7" y="5"/>
                        </a:lnTo>
                        <a:lnTo>
                          <a:pt x="3" y="10"/>
                        </a:lnTo>
                        <a:lnTo>
                          <a:pt x="2" y="13"/>
                        </a:lnTo>
                        <a:lnTo>
                          <a:pt x="0" y="15"/>
                        </a:lnTo>
                        <a:lnTo>
                          <a:pt x="0" y="17"/>
                        </a:lnTo>
                        <a:lnTo>
                          <a:pt x="11" y="15"/>
                        </a:lnTo>
                        <a:lnTo>
                          <a:pt x="26" y="15"/>
                        </a:lnTo>
                        <a:lnTo>
                          <a:pt x="43" y="17"/>
                        </a:lnTo>
                        <a:lnTo>
                          <a:pt x="62" y="19"/>
                        </a:lnTo>
                        <a:lnTo>
                          <a:pt x="82" y="25"/>
                        </a:lnTo>
                        <a:lnTo>
                          <a:pt x="102" y="35"/>
                        </a:lnTo>
                        <a:lnTo>
                          <a:pt x="119" y="50"/>
                        </a:lnTo>
                        <a:lnTo>
                          <a:pt x="134" y="72"/>
                        </a:lnTo>
                        <a:lnTo>
                          <a:pt x="138" y="65"/>
                        </a:lnTo>
                        <a:lnTo>
                          <a:pt x="143" y="58"/>
                        </a:lnTo>
                        <a:lnTo>
                          <a:pt x="148" y="52"/>
                        </a:lnTo>
                        <a:lnTo>
                          <a:pt x="149" y="49"/>
                        </a:lnTo>
                        <a:close/>
                      </a:path>
                    </a:pathLst>
                  </a:custGeom>
                  <a:solidFill>
                    <a:srgbClr val="72b75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7" name=""/>
                  <p:cNvSpPr/>
                  <p:nvPr/>
                </p:nvSpPr>
                <p:spPr>
                  <a:xfrm>
                    <a:off x="5040000" y="4292640"/>
                    <a:ext cx="55800" cy="66600"/>
                  </a:xfrm>
                  <a:custGeom>
                    <a:avLst/>
                    <a:gdLst/>
                    <a:ahLst/>
                    <a:rect l="l" t="t" r="r" b="b"/>
                    <a:pathLst>
                      <a:path w="141" h="171">
                        <a:moveTo>
                          <a:pt x="0" y="171"/>
                        </a:moveTo>
                        <a:lnTo>
                          <a:pt x="8" y="155"/>
                        </a:lnTo>
                        <a:lnTo>
                          <a:pt x="18" y="134"/>
                        </a:lnTo>
                        <a:lnTo>
                          <a:pt x="31" y="110"/>
                        </a:lnTo>
                        <a:lnTo>
                          <a:pt x="46" y="85"/>
                        </a:lnTo>
                        <a:lnTo>
                          <a:pt x="65" y="60"/>
                        </a:lnTo>
                        <a:lnTo>
                          <a:pt x="86" y="36"/>
                        </a:lnTo>
                        <a:lnTo>
                          <a:pt x="113" y="16"/>
                        </a:lnTo>
                        <a:lnTo>
                          <a:pt x="141" y="0"/>
                        </a:lnTo>
                        <a:lnTo>
                          <a:pt x="131" y="1"/>
                        </a:lnTo>
                        <a:lnTo>
                          <a:pt x="120" y="5"/>
                        </a:lnTo>
                        <a:lnTo>
                          <a:pt x="105" y="11"/>
                        </a:lnTo>
                        <a:lnTo>
                          <a:pt x="89" y="21"/>
                        </a:lnTo>
                        <a:lnTo>
                          <a:pt x="70" y="36"/>
                        </a:lnTo>
                        <a:lnTo>
                          <a:pt x="49" y="55"/>
                        </a:lnTo>
                        <a:lnTo>
                          <a:pt x="26" y="80"/>
                        </a:lnTo>
                        <a:lnTo>
                          <a:pt x="3" y="110"/>
                        </a:lnTo>
                        <a:lnTo>
                          <a:pt x="1" y="125"/>
                        </a:lnTo>
                        <a:lnTo>
                          <a:pt x="1" y="146"/>
                        </a:lnTo>
                        <a:lnTo>
                          <a:pt x="0" y="163"/>
                        </a:lnTo>
                        <a:lnTo>
                          <a:pt x="0" y="171"/>
                        </a:lnTo>
                        <a:close/>
                      </a:path>
                    </a:pathLst>
                  </a:custGeom>
                  <a:solidFill>
                    <a:srgbClr val="72b75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8" name=""/>
                  <p:cNvSpPr/>
                  <p:nvPr/>
                </p:nvSpPr>
                <p:spPr>
                  <a:xfrm>
                    <a:off x="5010120" y="4230720"/>
                    <a:ext cx="54000" cy="90360"/>
                  </a:xfrm>
                  <a:custGeom>
                    <a:avLst/>
                    <a:gdLst/>
                    <a:ahLst/>
                    <a:rect l="l" t="t" r="r" b="b"/>
                    <a:pathLst>
                      <a:path w="136" h="231">
                        <a:moveTo>
                          <a:pt x="136" y="0"/>
                        </a:moveTo>
                        <a:lnTo>
                          <a:pt x="131" y="8"/>
                        </a:lnTo>
                        <a:lnTo>
                          <a:pt x="125" y="19"/>
                        </a:lnTo>
                        <a:lnTo>
                          <a:pt x="116" y="33"/>
                        </a:lnTo>
                        <a:lnTo>
                          <a:pt x="109" y="49"/>
                        </a:lnTo>
                        <a:lnTo>
                          <a:pt x="101" y="68"/>
                        </a:lnTo>
                        <a:lnTo>
                          <a:pt x="95" y="88"/>
                        </a:lnTo>
                        <a:lnTo>
                          <a:pt x="90" y="108"/>
                        </a:lnTo>
                        <a:lnTo>
                          <a:pt x="88" y="128"/>
                        </a:lnTo>
                        <a:lnTo>
                          <a:pt x="76" y="135"/>
                        </a:lnTo>
                        <a:lnTo>
                          <a:pt x="65" y="145"/>
                        </a:lnTo>
                        <a:lnTo>
                          <a:pt x="53" y="157"/>
                        </a:lnTo>
                        <a:lnTo>
                          <a:pt x="40" y="170"/>
                        </a:lnTo>
                        <a:lnTo>
                          <a:pt x="29" y="185"/>
                        </a:lnTo>
                        <a:lnTo>
                          <a:pt x="18" y="200"/>
                        </a:lnTo>
                        <a:lnTo>
                          <a:pt x="8" y="216"/>
                        </a:lnTo>
                        <a:lnTo>
                          <a:pt x="0" y="231"/>
                        </a:lnTo>
                        <a:lnTo>
                          <a:pt x="1" y="215"/>
                        </a:lnTo>
                        <a:lnTo>
                          <a:pt x="4" y="197"/>
                        </a:lnTo>
                        <a:lnTo>
                          <a:pt x="8" y="179"/>
                        </a:lnTo>
                        <a:lnTo>
                          <a:pt x="14" y="159"/>
                        </a:lnTo>
                        <a:lnTo>
                          <a:pt x="20" y="139"/>
                        </a:lnTo>
                        <a:lnTo>
                          <a:pt x="29" y="119"/>
                        </a:lnTo>
                        <a:lnTo>
                          <a:pt x="39" y="99"/>
                        </a:lnTo>
                        <a:lnTo>
                          <a:pt x="53" y="80"/>
                        </a:lnTo>
                        <a:lnTo>
                          <a:pt x="66" y="64"/>
                        </a:lnTo>
                        <a:lnTo>
                          <a:pt x="79" y="49"/>
                        </a:lnTo>
                        <a:lnTo>
                          <a:pt x="90" y="35"/>
                        </a:lnTo>
                        <a:lnTo>
                          <a:pt x="101" y="25"/>
                        </a:lnTo>
                        <a:lnTo>
                          <a:pt x="111" y="15"/>
                        </a:lnTo>
                        <a:lnTo>
                          <a:pt x="121" y="9"/>
                        </a:lnTo>
                        <a:lnTo>
                          <a:pt x="129" y="4"/>
                        </a:lnTo>
                        <a:lnTo>
                          <a:pt x="136" y="0"/>
                        </a:lnTo>
                        <a:close/>
                      </a:path>
                    </a:pathLst>
                  </a:custGeom>
                  <a:solidFill>
                    <a:srgbClr val="72b75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9" name=""/>
                  <p:cNvSpPr/>
                  <p:nvPr/>
                </p:nvSpPr>
                <p:spPr>
                  <a:xfrm>
                    <a:off x="4976640" y="4221000"/>
                    <a:ext cx="38160" cy="138240"/>
                  </a:xfrm>
                  <a:custGeom>
                    <a:avLst/>
                    <a:gdLst/>
                    <a:ahLst/>
                    <a:rect l="l" t="t" r="r" b="b"/>
                    <a:pathLst>
                      <a:path w="97" h="347">
                        <a:moveTo>
                          <a:pt x="76" y="270"/>
                        </a:moveTo>
                        <a:lnTo>
                          <a:pt x="68" y="256"/>
                        </a:lnTo>
                        <a:lnTo>
                          <a:pt x="58" y="235"/>
                        </a:lnTo>
                        <a:lnTo>
                          <a:pt x="49" y="209"/>
                        </a:lnTo>
                        <a:lnTo>
                          <a:pt x="44" y="176"/>
                        </a:lnTo>
                        <a:lnTo>
                          <a:pt x="45" y="139"/>
                        </a:lnTo>
                        <a:lnTo>
                          <a:pt x="53" y="97"/>
                        </a:lnTo>
                        <a:lnTo>
                          <a:pt x="69" y="51"/>
                        </a:lnTo>
                        <a:lnTo>
                          <a:pt x="97" y="0"/>
                        </a:lnTo>
                        <a:lnTo>
                          <a:pt x="84" y="11"/>
                        </a:lnTo>
                        <a:lnTo>
                          <a:pt x="71" y="24"/>
                        </a:lnTo>
                        <a:lnTo>
                          <a:pt x="58" y="41"/>
                        </a:lnTo>
                        <a:lnTo>
                          <a:pt x="45" y="61"/>
                        </a:lnTo>
                        <a:lnTo>
                          <a:pt x="34" y="82"/>
                        </a:lnTo>
                        <a:lnTo>
                          <a:pt x="23" y="105"/>
                        </a:lnTo>
                        <a:lnTo>
                          <a:pt x="14" y="132"/>
                        </a:lnTo>
                        <a:lnTo>
                          <a:pt x="8" y="160"/>
                        </a:lnTo>
                        <a:lnTo>
                          <a:pt x="0" y="218"/>
                        </a:lnTo>
                        <a:lnTo>
                          <a:pt x="0" y="270"/>
                        </a:lnTo>
                        <a:lnTo>
                          <a:pt x="4" y="309"/>
                        </a:lnTo>
                        <a:lnTo>
                          <a:pt x="9" y="331"/>
                        </a:lnTo>
                        <a:lnTo>
                          <a:pt x="20" y="336"/>
                        </a:lnTo>
                        <a:lnTo>
                          <a:pt x="31" y="341"/>
                        </a:lnTo>
                        <a:lnTo>
                          <a:pt x="40" y="346"/>
                        </a:lnTo>
                        <a:lnTo>
                          <a:pt x="44" y="347"/>
                        </a:lnTo>
                        <a:lnTo>
                          <a:pt x="50" y="327"/>
                        </a:lnTo>
                        <a:lnTo>
                          <a:pt x="60" y="302"/>
                        </a:lnTo>
                        <a:lnTo>
                          <a:pt x="70" y="281"/>
                        </a:lnTo>
                        <a:lnTo>
                          <a:pt x="76" y="270"/>
                        </a:lnTo>
                        <a:close/>
                      </a:path>
                    </a:pathLst>
                  </a:custGeom>
                  <a:solidFill>
                    <a:srgbClr val="72b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900320" y="4367160"/>
                    <a:ext cx="81000" cy="39600"/>
                  </a:xfrm>
                  <a:custGeom>
                    <a:avLst/>
                    <a:gdLst/>
                    <a:ahLst/>
                    <a:rect l="l" t="t" r="r" b="b"/>
                    <a:pathLst>
                      <a:path w="204" h="104">
                        <a:moveTo>
                          <a:pt x="0" y="1"/>
                        </a:moveTo>
                        <a:lnTo>
                          <a:pt x="12" y="4"/>
                        </a:lnTo>
                        <a:lnTo>
                          <a:pt x="25" y="9"/>
                        </a:lnTo>
                        <a:lnTo>
                          <a:pt x="42" y="18"/>
                        </a:lnTo>
                        <a:lnTo>
                          <a:pt x="59" y="28"/>
                        </a:lnTo>
                        <a:lnTo>
                          <a:pt x="78" y="40"/>
                        </a:lnTo>
                        <a:lnTo>
                          <a:pt x="96" y="55"/>
                        </a:lnTo>
                        <a:lnTo>
                          <a:pt x="114" y="71"/>
                        </a:lnTo>
                        <a:lnTo>
                          <a:pt x="131" y="90"/>
                        </a:lnTo>
                        <a:lnTo>
                          <a:pt x="141" y="90"/>
                        </a:lnTo>
                        <a:lnTo>
                          <a:pt x="151" y="90"/>
                        </a:lnTo>
                        <a:lnTo>
                          <a:pt x="163" y="90"/>
                        </a:lnTo>
                        <a:lnTo>
                          <a:pt x="173" y="91"/>
                        </a:lnTo>
                        <a:lnTo>
                          <a:pt x="181" y="94"/>
                        </a:lnTo>
                        <a:lnTo>
                          <a:pt x="190" y="96"/>
                        </a:lnTo>
                        <a:lnTo>
                          <a:pt x="198" y="100"/>
                        </a:lnTo>
                        <a:lnTo>
                          <a:pt x="204" y="104"/>
                        </a:lnTo>
                        <a:lnTo>
                          <a:pt x="198" y="95"/>
                        </a:lnTo>
                        <a:lnTo>
                          <a:pt x="190" y="86"/>
                        </a:lnTo>
                        <a:lnTo>
                          <a:pt x="181" y="77"/>
                        </a:lnTo>
                        <a:lnTo>
                          <a:pt x="171" y="69"/>
                        </a:lnTo>
                        <a:lnTo>
                          <a:pt x="160" y="59"/>
                        </a:lnTo>
                        <a:lnTo>
                          <a:pt x="148" y="50"/>
                        </a:lnTo>
                        <a:lnTo>
                          <a:pt x="134" y="41"/>
                        </a:lnTo>
                        <a:lnTo>
                          <a:pt x="120" y="33"/>
                        </a:lnTo>
                        <a:lnTo>
                          <a:pt x="105" y="25"/>
                        </a:lnTo>
                        <a:lnTo>
                          <a:pt x="90" y="18"/>
                        </a:lnTo>
                        <a:lnTo>
                          <a:pt x="75" y="11"/>
                        </a:lnTo>
                        <a:lnTo>
                          <a:pt x="60" y="6"/>
                        </a:lnTo>
                        <a:lnTo>
                          <a:pt x="44" y="3"/>
                        </a:lnTo>
                        <a:lnTo>
                          <a:pt x="29" y="1"/>
                        </a:lnTo>
                        <a:lnTo>
                          <a:pt x="14" y="0"/>
                        </a:lnTo>
                        <a:lnTo>
                          <a:pt x="0" y="1"/>
                        </a:lnTo>
                        <a:close/>
                      </a:path>
                    </a:pathLst>
                  </a:custGeom>
                  <a:solidFill>
                    <a:srgbClr val="72b75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1" name=""/>
                  <p:cNvSpPr/>
                  <p:nvPr/>
                </p:nvSpPr>
                <p:spPr>
                  <a:xfrm>
                    <a:off x="4865400" y="4294080"/>
                    <a:ext cx="109800" cy="55800"/>
                  </a:xfrm>
                  <a:custGeom>
                    <a:avLst/>
                    <a:gdLst/>
                    <a:ahLst/>
                    <a:rect l="l" t="t" r="r" b="b"/>
                    <a:pathLst>
                      <a:path w="279" h="142">
                        <a:moveTo>
                          <a:pt x="279" y="142"/>
                        </a:moveTo>
                        <a:lnTo>
                          <a:pt x="270" y="137"/>
                        </a:lnTo>
                        <a:lnTo>
                          <a:pt x="256" y="131"/>
                        </a:lnTo>
                        <a:lnTo>
                          <a:pt x="239" y="125"/>
                        </a:lnTo>
                        <a:lnTo>
                          <a:pt x="219" y="117"/>
                        </a:lnTo>
                        <a:lnTo>
                          <a:pt x="199" y="110"/>
                        </a:lnTo>
                        <a:lnTo>
                          <a:pt x="178" y="103"/>
                        </a:lnTo>
                        <a:lnTo>
                          <a:pt x="159" y="100"/>
                        </a:lnTo>
                        <a:lnTo>
                          <a:pt x="144" y="97"/>
                        </a:lnTo>
                        <a:lnTo>
                          <a:pt x="133" y="87"/>
                        </a:lnTo>
                        <a:lnTo>
                          <a:pt x="118" y="75"/>
                        </a:lnTo>
                        <a:lnTo>
                          <a:pt x="100" y="60"/>
                        </a:lnTo>
                        <a:lnTo>
                          <a:pt x="80" y="45"/>
                        </a:lnTo>
                        <a:lnTo>
                          <a:pt x="59" y="30"/>
                        </a:lnTo>
                        <a:lnTo>
                          <a:pt x="38" y="17"/>
                        </a:lnTo>
                        <a:lnTo>
                          <a:pt x="18" y="6"/>
                        </a:lnTo>
                        <a:lnTo>
                          <a:pt x="0" y="0"/>
                        </a:lnTo>
                        <a:lnTo>
                          <a:pt x="12" y="1"/>
                        </a:lnTo>
                        <a:lnTo>
                          <a:pt x="24" y="1"/>
                        </a:lnTo>
                        <a:lnTo>
                          <a:pt x="38" y="2"/>
                        </a:lnTo>
                        <a:lnTo>
                          <a:pt x="52" y="4"/>
                        </a:lnTo>
                        <a:lnTo>
                          <a:pt x="67" y="5"/>
                        </a:lnTo>
                        <a:lnTo>
                          <a:pt x="82" y="7"/>
                        </a:lnTo>
                        <a:lnTo>
                          <a:pt x="99" y="10"/>
                        </a:lnTo>
                        <a:lnTo>
                          <a:pt x="115" y="14"/>
                        </a:lnTo>
                        <a:lnTo>
                          <a:pt x="133" y="19"/>
                        </a:lnTo>
                        <a:lnTo>
                          <a:pt x="151" y="26"/>
                        </a:lnTo>
                        <a:lnTo>
                          <a:pt x="170" y="34"/>
                        </a:lnTo>
                        <a:lnTo>
                          <a:pt x="190" y="45"/>
                        </a:lnTo>
                        <a:lnTo>
                          <a:pt x="210" y="57"/>
                        </a:lnTo>
                        <a:lnTo>
                          <a:pt x="231" y="72"/>
                        </a:lnTo>
                        <a:lnTo>
                          <a:pt x="253" y="90"/>
                        </a:lnTo>
                        <a:lnTo>
                          <a:pt x="274" y="110"/>
                        </a:lnTo>
                        <a:lnTo>
                          <a:pt x="275" y="118"/>
                        </a:lnTo>
                        <a:lnTo>
                          <a:pt x="278" y="128"/>
                        </a:lnTo>
                        <a:lnTo>
                          <a:pt x="279" y="138"/>
                        </a:lnTo>
                        <a:lnTo>
                          <a:pt x="279" y="142"/>
                        </a:lnTo>
                        <a:close/>
                      </a:path>
                    </a:pathLst>
                  </a:custGeom>
                  <a:solidFill>
                    <a:srgbClr val="72b75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42" name=""/>
                  <p:cNvSpPr/>
                  <p:nvPr/>
                </p:nvSpPr>
                <p:spPr>
                  <a:xfrm>
                    <a:off x="4922640" y="4336920"/>
                    <a:ext cx="87480" cy="100080"/>
                  </a:xfrm>
                  <a:custGeom>
                    <a:avLst/>
                    <a:gdLst/>
                    <a:ahLst/>
                    <a:rect l="l" t="t" r="r" b="b"/>
                    <a:pathLst>
                      <a:path w="221" h="250">
                        <a:moveTo>
                          <a:pt x="221" y="175"/>
                        </a:moveTo>
                        <a:lnTo>
                          <a:pt x="212" y="160"/>
                        </a:lnTo>
                        <a:lnTo>
                          <a:pt x="202" y="147"/>
                        </a:lnTo>
                        <a:lnTo>
                          <a:pt x="191" y="132"/>
                        </a:lnTo>
                        <a:lnTo>
                          <a:pt x="177" y="118"/>
                        </a:lnTo>
                        <a:lnTo>
                          <a:pt x="164" y="103"/>
                        </a:lnTo>
                        <a:lnTo>
                          <a:pt x="149" y="89"/>
                        </a:lnTo>
                        <a:lnTo>
                          <a:pt x="134" y="77"/>
                        </a:lnTo>
                        <a:lnTo>
                          <a:pt x="119" y="64"/>
                        </a:lnTo>
                        <a:lnTo>
                          <a:pt x="102" y="52"/>
                        </a:lnTo>
                        <a:lnTo>
                          <a:pt x="87" y="41"/>
                        </a:lnTo>
                        <a:lnTo>
                          <a:pt x="71" y="31"/>
                        </a:lnTo>
                        <a:lnTo>
                          <a:pt x="56" y="22"/>
                        </a:lnTo>
                        <a:lnTo>
                          <a:pt x="42" y="15"/>
                        </a:lnTo>
                        <a:lnTo>
                          <a:pt x="29" y="8"/>
                        </a:lnTo>
                        <a:lnTo>
                          <a:pt x="17" y="3"/>
                        </a:lnTo>
                        <a:lnTo>
                          <a:pt x="6" y="0"/>
                        </a:lnTo>
                        <a:lnTo>
                          <a:pt x="19" y="8"/>
                        </a:lnTo>
                        <a:lnTo>
                          <a:pt x="37" y="22"/>
                        </a:lnTo>
                        <a:lnTo>
                          <a:pt x="59" y="38"/>
                        </a:lnTo>
                        <a:lnTo>
                          <a:pt x="82" y="59"/>
                        </a:lnTo>
                        <a:lnTo>
                          <a:pt x="106" y="84"/>
                        </a:lnTo>
                        <a:lnTo>
                          <a:pt x="129" y="115"/>
                        </a:lnTo>
                        <a:lnTo>
                          <a:pt x="149" y="150"/>
                        </a:lnTo>
                        <a:lnTo>
                          <a:pt x="165" y="192"/>
                        </a:lnTo>
                        <a:lnTo>
                          <a:pt x="154" y="185"/>
                        </a:lnTo>
                        <a:lnTo>
                          <a:pt x="136" y="178"/>
                        </a:lnTo>
                        <a:lnTo>
                          <a:pt x="116" y="173"/>
                        </a:lnTo>
                        <a:lnTo>
                          <a:pt x="94" y="170"/>
                        </a:lnTo>
                        <a:lnTo>
                          <a:pt x="69" y="170"/>
                        </a:lnTo>
                        <a:lnTo>
                          <a:pt x="45" y="177"/>
                        </a:lnTo>
                        <a:lnTo>
                          <a:pt x="21" y="188"/>
                        </a:lnTo>
                        <a:lnTo>
                          <a:pt x="0" y="206"/>
                        </a:lnTo>
                        <a:lnTo>
                          <a:pt x="11" y="204"/>
                        </a:lnTo>
                        <a:lnTo>
                          <a:pt x="26" y="201"/>
                        </a:lnTo>
                        <a:lnTo>
                          <a:pt x="46" y="201"/>
                        </a:lnTo>
                        <a:lnTo>
                          <a:pt x="67" y="204"/>
                        </a:lnTo>
                        <a:lnTo>
                          <a:pt x="89" y="209"/>
                        </a:lnTo>
                        <a:lnTo>
                          <a:pt x="110" y="218"/>
                        </a:lnTo>
                        <a:lnTo>
                          <a:pt x="127" y="231"/>
                        </a:lnTo>
                        <a:lnTo>
                          <a:pt x="142" y="250"/>
                        </a:lnTo>
                        <a:lnTo>
                          <a:pt x="150" y="240"/>
                        </a:lnTo>
                        <a:lnTo>
                          <a:pt x="159" y="229"/>
                        </a:lnTo>
                        <a:lnTo>
                          <a:pt x="167" y="219"/>
                        </a:lnTo>
                        <a:lnTo>
                          <a:pt x="179" y="208"/>
                        </a:lnTo>
                        <a:lnTo>
                          <a:pt x="190" y="198"/>
                        </a:lnTo>
                        <a:lnTo>
                          <a:pt x="201" y="189"/>
                        </a:lnTo>
                        <a:lnTo>
                          <a:pt x="211" y="182"/>
                        </a:lnTo>
                        <a:lnTo>
                          <a:pt x="221" y="17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021280" y="4303800"/>
                    <a:ext cx="102960" cy="87120"/>
                  </a:xfrm>
                  <a:custGeom>
                    <a:avLst/>
                    <a:gdLst/>
                    <a:ahLst/>
                    <a:rect l="l" t="t" r="r" b="b"/>
                    <a:pathLst>
                      <a:path w="260" h="220">
                        <a:moveTo>
                          <a:pt x="260" y="83"/>
                        </a:moveTo>
                        <a:lnTo>
                          <a:pt x="254" y="83"/>
                        </a:lnTo>
                        <a:lnTo>
                          <a:pt x="245" y="85"/>
                        </a:lnTo>
                        <a:lnTo>
                          <a:pt x="235" y="87"/>
                        </a:lnTo>
                        <a:lnTo>
                          <a:pt x="224" y="90"/>
                        </a:lnTo>
                        <a:lnTo>
                          <a:pt x="211" y="93"/>
                        </a:lnTo>
                        <a:lnTo>
                          <a:pt x="198" y="98"/>
                        </a:lnTo>
                        <a:lnTo>
                          <a:pt x="184" y="105"/>
                        </a:lnTo>
                        <a:lnTo>
                          <a:pt x="168" y="112"/>
                        </a:lnTo>
                        <a:lnTo>
                          <a:pt x="152" y="119"/>
                        </a:lnTo>
                        <a:lnTo>
                          <a:pt x="135" y="129"/>
                        </a:lnTo>
                        <a:lnTo>
                          <a:pt x="119" y="141"/>
                        </a:lnTo>
                        <a:lnTo>
                          <a:pt x="103" y="153"/>
                        </a:lnTo>
                        <a:lnTo>
                          <a:pt x="87" y="168"/>
                        </a:lnTo>
                        <a:lnTo>
                          <a:pt x="70" y="183"/>
                        </a:lnTo>
                        <a:lnTo>
                          <a:pt x="55" y="200"/>
                        </a:lnTo>
                        <a:lnTo>
                          <a:pt x="40" y="220"/>
                        </a:lnTo>
                        <a:lnTo>
                          <a:pt x="34" y="214"/>
                        </a:lnTo>
                        <a:lnTo>
                          <a:pt x="27" y="208"/>
                        </a:lnTo>
                        <a:lnTo>
                          <a:pt x="20" y="200"/>
                        </a:lnTo>
                        <a:lnTo>
                          <a:pt x="14" y="194"/>
                        </a:lnTo>
                        <a:lnTo>
                          <a:pt x="8" y="188"/>
                        </a:lnTo>
                        <a:lnTo>
                          <a:pt x="4" y="183"/>
                        </a:lnTo>
                        <a:lnTo>
                          <a:pt x="2" y="181"/>
                        </a:lnTo>
                        <a:lnTo>
                          <a:pt x="0" y="179"/>
                        </a:lnTo>
                        <a:lnTo>
                          <a:pt x="2" y="166"/>
                        </a:lnTo>
                        <a:lnTo>
                          <a:pt x="5" y="148"/>
                        </a:lnTo>
                        <a:lnTo>
                          <a:pt x="9" y="127"/>
                        </a:lnTo>
                        <a:lnTo>
                          <a:pt x="14" y="103"/>
                        </a:lnTo>
                        <a:lnTo>
                          <a:pt x="20" y="78"/>
                        </a:lnTo>
                        <a:lnTo>
                          <a:pt x="28" y="52"/>
                        </a:lnTo>
                        <a:lnTo>
                          <a:pt x="37" y="26"/>
                        </a:lnTo>
                        <a:lnTo>
                          <a:pt x="47" y="0"/>
                        </a:lnTo>
                        <a:lnTo>
                          <a:pt x="40" y="52"/>
                        </a:lnTo>
                        <a:lnTo>
                          <a:pt x="38" y="103"/>
                        </a:lnTo>
                        <a:lnTo>
                          <a:pt x="38" y="142"/>
                        </a:lnTo>
                        <a:lnTo>
                          <a:pt x="38" y="158"/>
                        </a:lnTo>
                        <a:lnTo>
                          <a:pt x="48" y="152"/>
                        </a:lnTo>
                        <a:lnTo>
                          <a:pt x="59" y="144"/>
                        </a:lnTo>
                        <a:lnTo>
                          <a:pt x="72" y="138"/>
                        </a:lnTo>
                        <a:lnTo>
                          <a:pt x="84" y="131"/>
                        </a:lnTo>
                        <a:lnTo>
                          <a:pt x="99" y="123"/>
                        </a:lnTo>
                        <a:lnTo>
                          <a:pt x="114" y="116"/>
                        </a:lnTo>
                        <a:lnTo>
                          <a:pt x="129" y="110"/>
                        </a:lnTo>
                        <a:lnTo>
                          <a:pt x="145" y="102"/>
                        </a:lnTo>
                        <a:lnTo>
                          <a:pt x="160" y="97"/>
                        </a:lnTo>
                        <a:lnTo>
                          <a:pt x="177" y="91"/>
                        </a:lnTo>
                        <a:lnTo>
                          <a:pt x="193" y="87"/>
                        </a:lnTo>
                        <a:lnTo>
                          <a:pt x="208" y="83"/>
                        </a:lnTo>
                        <a:lnTo>
                          <a:pt x="221" y="81"/>
                        </a:lnTo>
                        <a:lnTo>
                          <a:pt x="235" y="81"/>
                        </a:lnTo>
                        <a:lnTo>
                          <a:pt x="249" y="81"/>
                        </a:lnTo>
                        <a:lnTo>
                          <a:pt x="260" y="83"/>
                        </a:lnTo>
                        <a:close/>
                      </a:path>
                    </a:pathLst>
                  </a:custGeom>
                  <a:solidFill>
                    <a:srgbClr val="0072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4" name=""/>
                  <p:cNvSpPr/>
                  <p:nvPr/>
                </p:nvSpPr>
                <p:spPr>
                  <a:xfrm>
                    <a:off x="5040000" y="4292640"/>
                    <a:ext cx="55800" cy="66600"/>
                  </a:xfrm>
                  <a:custGeom>
                    <a:avLst/>
                    <a:gdLst/>
                    <a:ahLst/>
                    <a:rect l="l" t="t" r="r" b="b"/>
                    <a:pathLst>
                      <a:path w="141" h="171">
                        <a:moveTo>
                          <a:pt x="141" y="0"/>
                        </a:moveTo>
                        <a:lnTo>
                          <a:pt x="135" y="6"/>
                        </a:lnTo>
                        <a:lnTo>
                          <a:pt x="125" y="18"/>
                        </a:lnTo>
                        <a:lnTo>
                          <a:pt x="113" y="35"/>
                        </a:lnTo>
                        <a:lnTo>
                          <a:pt x="100" y="54"/>
                        </a:lnTo>
                        <a:lnTo>
                          <a:pt x="89" y="75"/>
                        </a:lnTo>
                        <a:lnTo>
                          <a:pt x="78" y="96"/>
                        </a:lnTo>
                        <a:lnTo>
                          <a:pt x="70" y="117"/>
                        </a:lnTo>
                        <a:lnTo>
                          <a:pt x="66" y="135"/>
                        </a:lnTo>
                        <a:lnTo>
                          <a:pt x="60" y="139"/>
                        </a:lnTo>
                        <a:lnTo>
                          <a:pt x="51" y="142"/>
                        </a:lnTo>
                        <a:lnTo>
                          <a:pt x="43" y="147"/>
                        </a:lnTo>
                        <a:lnTo>
                          <a:pt x="31" y="152"/>
                        </a:lnTo>
                        <a:lnTo>
                          <a:pt x="21" y="157"/>
                        </a:lnTo>
                        <a:lnTo>
                          <a:pt x="13" y="162"/>
                        </a:lnTo>
                        <a:lnTo>
                          <a:pt x="5" y="167"/>
                        </a:lnTo>
                        <a:lnTo>
                          <a:pt x="0" y="171"/>
                        </a:lnTo>
                        <a:lnTo>
                          <a:pt x="8" y="155"/>
                        </a:lnTo>
                        <a:lnTo>
                          <a:pt x="18" y="134"/>
                        </a:lnTo>
                        <a:lnTo>
                          <a:pt x="31" y="110"/>
                        </a:lnTo>
                        <a:lnTo>
                          <a:pt x="46" y="85"/>
                        </a:lnTo>
                        <a:lnTo>
                          <a:pt x="65" y="60"/>
                        </a:lnTo>
                        <a:lnTo>
                          <a:pt x="86" y="36"/>
                        </a:lnTo>
                        <a:lnTo>
                          <a:pt x="113" y="16"/>
                        </a:lnTo>
                        <a:lnTo>
                          <a:pt x="141" y="0"/>
                        </a:lnTo>
                        <a:close/>
                      </a:path>
                    </a:pathLst>
                  </a:custGeom>
                  <a:solidFill>
                    <a:srgbClr val="007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5" name=""/>
                  <p:cNvSpPr/>
                  <p:nvPr/>
                </p:nvSpPr>
                <p:spPr>
                  <a:xfrm>
                    <a:off x="4994280" y="4221000"/>
                    <a:ext cx="20520" cy="106560"/>
                  </a:xfrm>
                  <a:custGeom>
                    <a:avLst/>
                    <a:gdLst/>
                    <a:ahLst/>
                    <a:rect l="l" t="t" r="r" b="b"/>
                    <a:pathLst>
                      <a:path w="53" h="270">
                        <a:moveTo>
                          <a:pt x="53" y="0"/>
                        </a:moveTo>
                        <a:lnTo>
                          <a:pt x="48" y="8"/>
                        </a:lnTo>
                        <a:lnTo>
                          <a:pt x="43" y="22"/>
                        </a:lnTo>
                        <a:lnTo>
                          <a:pt x="37" y="42"/>
                        </a:lnTo>
                        <a:lnTo>
                          <a:pt x="32" y="67"/>
                        </a:lnTo>
                        <a:lnTo>
                          <a:pt x="29" y="95"/>
                        </a:lnTo>
                        <a:lnTo>
                          <a:pt x="29" y="129"/>
                        </a:lnTo>
                        <a:lnTo>
                          <a:pt x="31" y="165"/>
                        </a:lnTo>
                        <a:lnTo>
                          <a:pt x="38" y="205"/>
                        </a:lnTo>
                        <a:lnTo>
                          <a:pt x="36" y="223"/>
                        </a:lnTo>
                        <a:lnTo>
                          <a:pt x="35" y="245"/>
                        </a:lnTo>
                        <a:lnTo>
                          <a:pt x="33" y="262"/>
                        </a:lnTo>
                        <a:lnTo>
                          <a:pt x="32" y="270"/>
                        </a:lnTo>
                        <a:lnTo>
                          <a:pt x="24" y="256"/>
                        </a:lnTo>
                        <a:lnTo>
                          <a:pt x="14" y="235"/>
                        </a:lnTo>
                        <a:lnTo>
                          <a:pt x="5" y="209"/>
                        </a:lnTo>
                        <a:lnTo>
                          <a:pt x="0" y="176"/>
                        </a:lnTo>
                        <a:lnTo>
                          <a:pt x="1" y="139"/>
                        </a:lnTo>
                        <a:lnTo>
                          <a:pt x="9" y="97"/>
                        </a:lnTo>
                        <a:lnTo>
                          <a:pt x="25" y="51"/>
                        </a:lnTo>
                        <a:lnTo>
                          <a:pt x="53"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894200" y="4338720"/>
                    <a:ext cx="81000" cy="57240"/>
                  </a:xfrm>
                  <a:custGeom>
                    <a:avLst/>
                    <a:gdLst/>
                    <a:ahLst/>
                    <a:rect l="l" t="t" r="r" b="b"/>
                    <a:pathLst>
                      <a:path w="206" h="143">
                        <a:moveTo>
                          <a:pt x="0" y="0"/>
                        </a:moveTo>
                        <a:lnTo>
                          <a:pt x="8" y="4"/>
                        </a:lnTo>
                        <a:lnTo>
                          <a:pt x="20" y="10"/>
                        </a:lnTo>
                        <a:lnTo>
                          <a:pt x="32" y="18"/>
                        </a:lnTo>
                        <a:lnTo>
                          <a:pt x="46" y="26"/>
                        </a:lnTo>
                        <a:lnTo>
                          <a:pt x="60" y="36"/>
                        </a:lnTo>
                        <a:lnTo>
                          <a:pt x="72" y="47"/>
                        </a:lnTo>
                        <a:lnTo>
                          <a:pt x="83" y="60"/>
                        </a:lnTo>
                        <a:lnTo>
                          <a:pt x="92" y="72"/>
                        </a:lnTo>
                        <a:lnTo>
                          <a:pt x="106" y="77"/>
                        </a:lnTo>
                        <a:lnTo>
                          <a:pt x="121" y="85"/>
                        </a:lnTo>
                        <a:lnTo>
                          <a:pt x="137" y="91"/>
                        </a:lnTo>
                        <a:lnTo>
                          <a:pt x="152" y="100"/>
                        </a:lnTo>
                        <a:lnTo>
                          <a:pt x="167" y="110"/>
                        </a:lnTo>
                        <a:lnTo>
                          <a:pt x="182" y="120"/>
                        </a:lnTo>
                        <a:lnTo>
                          <a:pt x="194" y="131"/>
                        </a:lnTo>
                        <a:lnTo>
                          <a:pt x="206" y="143"/>
                        </a:lnTo>
                        <a:lnTo>
                          <a:pt x="197" y="130"/>
                        </a:lnTo>
                        <a:lnTo>
                          <a:pt x="189" y="117"/>
                        </a:lnTo>
                        <a:lnTo>
                          <a:pt x="181" y="105"/>
                        </a:lnTo>
                        <a:lnTo>
                          <a:pt x="173" y="94"/>
                        </a:lnTo>
                        <a:lnTo>
                          <a:pt x="164" y="82"/>
                        </a:lnTo>
                        <a:lnTo>
                          <a:pt x="154" y="71"/>
                        </a:lnTo>
                        <a:lnTo>
                          <a:pt x="146" y="61"/>
                        </a:lnTo>
                        <a:lnTo>
                          <a:pt x="134" y="51"/>
                        </a:lnTo>
                        <a:lnTo>
                          <a:pt x="123" y="42"/>
                        </a:lnTo>
                        <a:lnTo>
                          <a:pt x="109" y="35"/>
                        </a:lnTo>
                        <a:lnTo>
                          <a:pt x="96" y="26"/>
                        </a:lnTo>
                        <a:lnTo>
                          <a:pt x="81" y="20"/>
                        </a:lnTo>
                        <a:lnTo>
                          <a:pt x="63" y="14"/>
                        </a:lnTo>
                        <a:lnTo>
                          <a:pt x="43" y="9"/>
                        </a:lnTo>
                        <a:lnTo>
                          <a:pt x="23" y="4"/>
                        </a:lnTo>
                        <a:lnTo>
                          <a:pt x="0" y="0"/>
                        </a:lnTo>
                        <a:close/>
                      </a:path>
                    </a:pathLst>
                  </a:custGeom>
                  <a:solidFill>
                    <a:srgbClr val="0072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47" name=""/>
                  <p:cNvSpPr/>
                  <p:nvPr/>
                </p:nvSpPr>
                <p:spPr>
                  <a:xfrm>
                    <a:off x="4927320" y="4268880"/>
                    <a:ext cx="46080" cy="63360"/>
                  </a:xfrm>
                  <a:custGeom>
                    <a:avLst/>
                    <a:gdLst/>
                    <a:ahLst/>
                    <a:rect l="l" t="t" r="r" b="b"/>
                    <a:pathLst>
                      <a:path w="116" h="157">
                        <a:moveTo>
                          <a:pt x="113" y="131"/>
                        </a:moveTo>
                        <a:lnTo>
                          <a:pt x="113" y="133"/>
                        </a:lnTo>
                        <a:lnTo>
                          <a:pt x="114" y="141"/>
                        </a:lnTo>
                        <a:lnTo>
                          <a:pt x="115" y="149"/>
                        </a:lnTo>
                        <a:lnTo>
                          <a:pt x="116" y="157"/>
                        </a:lnTo>
                        <a:lnTo>
                          <a:pt x="110" y="151"/>
                        </a:lnTo>
                        <a:lnTo>
                          <a:pt x="103" y="144"/>
                        </a:lnTo>
                        <a:lnTo>
                          <a:pt x="93" y="137"/>
                        </a:lnTo>
                        <a:lnTo>
                          <a:pt x="84" y="129"/>
                        </a:lnTo>
                        <a:lnTo>
                          <a:pt x="74" y="122"/>
                        </a:lnTo>
                        <a:lnTo>
                          <a:pt x="65" y="116"/>
                        </a:lnTo>
                        <a:lnTo>
                          <a:pt x="59" y="111"/>
                        </a:lnTo>
                        <a:lnTo>
                          <a:pt x="55" y="107"/>
                        </a:lnTo>
                        <a:lnTo>
                          <a:pt x="53" y="97"/>
                        </a:lnTo>
                        <a:lnTo>
                          <a:pt x="48" y="83"/>
                        </a:lnTo>
                        <a:lnTo>
                          <a:pt x="41" y="70"/>
                        </a:lnTo>
                        <a:lnTo>
                          <a:pt x="34" y="53"/>
                        </a:lnTo>
                        <a:lnTo>
                          <a:pt x="26" y="39"/>
                        </a:lnTo>
                        <a:lnTo>
                          <a:pt x="18" y="24"/>
                        </a:lnTo>
                        <a:lnTo>
                          <a:pt x="9" y="11"/>
                        </a:lnTo>
                        <a:lnTo>
                          <a:pt x="0" y="0"/>
                        </a:lnTo>
                        <a:lnTo>
                          <a:pt x="11" y="9"/>
                        </a:lnTo>
                        <a:lnTo>
                          <a:pt x="24" y="19"/>
                        </a:lnTo>
                        <a:lnTo>
                          <a:pt x="36" y="30"/>
                        </a:lnTo>
                        <a:lnTo>
                          <a:pt x="49" y="43"/>
                        </a:lnTo>
                        <a:lnTo>
                          <a:pt x="64" y="60"/>
                        </a:lnTo>
                        <a:lnTo>
                          <a:pt x="79" y="78"/>
                        </a:lnTo>
                        <a:lnTo>
                          <a:pt x="95" y="102"/>
                        </a:lnTo>
                        <a:lnTo>
                          <a:pt x="113" y="131"/>
                        </a:lnTo>
                        <a:close/>
                      </a:path>
                    </a:pathLst>
                  </a:custGeom>
                  <a:solidFill>
                    <a:srgbClr val="0072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8" name=""/>
                  <p:cNvSpPr/>
                  <p:nvPr/>
                </p:nvSpPr>
                <p:spPr>
                  <a:xfrm>
                    <a:off x="4967280" y="4411800"/>
                    <a:ext cx="201600" cy="272880"/>
                  </a:xfrm>
                  <a:custGeom>
                    <a:avLst/>
                    <a:gdLst/>
                    <a:ahLst/>
                    <a:rect l="l" t="t" r="r" b="b"/>
                    <a:pathLst>
                      <a:path w="510" h="689">
                        <a:moveTo>
                          <a:pt x="510" y="646"/>
                        </a:moveTo>
                        <a:lnTo>
                          <a:pt x="503" y="650"/>
                        </a:lnTo>
                        <a:lnTo>
                          <a:pt x="497" y="654"/>
                        </a:lnTo>
                        <a:lnTo>
                          <a:pt x="491" y="658"/>
                        </a:lnTo>
                        <a:lnTo>
                          <a:pt x="483" y="660"/>
                        </a:lnTo>
                        <a:lnTo>
                          <a:pt x="461" y="669"/>
                        </a:lnTo>
                        <a:lnTo>
                          <a:pt x="440" y="676"/>
                        </a:lnTo>
                        <a:lnTo>
                          <a:pt x="420" y="682"/>
                        </a:lnTo>
                        <a:lnTo>
                          <a:pt x="400" y="686"/>
                        </a:lnTo>
                        <a:lnTo>
                          <a:pt x="381" y="687"/>
                        </a:lnTo>
                        <a:lnTo>
                          <a:pt x="363" y="689"/>
                        </a:lnTo>
                        <a:lnTo>
                          <a:pt x="346" y="689"/>
                        </a:lnTo>
                        <a:lnTo>
                          <a:pt x="330" y="687"/>
                        </a:lnTo>
                        <a:lnTo>
                          <a:pt x="315" y="685"/>
                        </a:lnTo>
                        <a:lnTo>
                          <a:pt x="301" y="682"/>
                        </a:lnTo>
                        <a:lnTo>
                          <a:pt x="287" y="679"/>
                        </a:lnTo>
                        <a:lnTo>
                          <a:pt x="275" y="675"/>
                        </a:lnTo>
                        <a:lnTo>
                          <a:pt x="264" y="671"/>
                        </a:lnTo>
                        <a:lnTo>
                          <a:pt x="252" y="666"/>
                        </a:lnTo>
                        <a:lnTo>
                          <a:pt x="242" y="663"/>
                        </a:lnTo>
                        <a:lnTo>
                          <a:pt x="234" y="659"/>
                        </a:lnTo>
                        <a:lnTo>
                          <a:pt x="216" y="649"/>
                        </a:lnTo>
                        <a:lnTo>
                          <a:pt x="197" y="635"/>
                        </a:lnTo>
                        <a:lnTo>
                          <a:pt x="176" y="616"/>
                        </a:lnTo>
                        <a:lnTo>
                          <a:pt x="152" y="593"/>
                        </a:lnTo>
                        <a:lnTo>
                          <a:pt x="129" y="563"/>
                        </a:lnTo>
                        <a:lnTo>
                          <a:pt x="104" y="527"/>
                        </a:lnTo>
                        <a:lnTo>
                          <a:pt x="79" y="484"/>
                        </a:lnTo>
                        <a:lnTo>
                          <a:pt x="53" y="436"/>
                        </a:lnTo>
                        <a:lnTo>
                          <a:pt x="30" y="383"/>
                        </a:lnTo>
                        <a:lnTo>
                          <a:pt x="15" y="331"/>
                        </a:lnTo>
                        <a:lnTo>
                          <a:pt x="5" y="280"/>
                        </a:lnTo>
                        <a:lnTo>
                          <a:pt x="0" y="233"/>
                        </a:lnTo>
                        <a:lnTo>
                          <a:pt x="0" y="190"/>
                        </a:lnTo>
                        <a:lnTo>
                          <a:pt x="4" y="152"/>
                        </a:lnTo>
                        <a:lnTo>
                          <a:pt x="10" y="120"/>
                        </a:lnTo>
                        <a:lnTo>
                          <a:pt x="19" y="97"/>
                        </a:lnTo>
                        <a:lnTo>
                          <a:pt x="29" y="81"/>
                        </a:lnTo>
                        <a:lnTo>
                          <a:pt x="39" y="64"/>
                        </a:lnTo>
                        <a:lnTo>
                          <a:pt x="51" y="51"/>
                        </a:lnTo>
                        <a:lnTo>
                          <a:pt x="63" y="37"/>
                        </a:lnTo>
                        <a:lnTo>
                          <a:pt x="75" y="24"/>
                        </a:lnTo>
                        <a:lnTo>
                          <a:pt x="88" y="14"/>
                        </a:lnTo>
                        <a:lnTo>
                          <a:pt x="99" y="6"/>
                        </a:lnTo>
                        <a:lnTo>
                          <a:pt x="109" y="0"/>
                        </a:lnTo>
                        <a:lnTo>
                          <a:pt x="101" y="12"/>
                        </a:lnTo>
                        <a:lnTo>
                          <a:pt x="95" y="31"/>
                        </a:lnTo>
                        <a:lnTo>
                          <a:pt x="93" y="52"/>
                        </a:lnTo>
                        <a:lnTo>
                          <a:pt x="94" y="74"/>
                        </a:lnTo>
                        <a:lnTo>
                          <a:pt x="104" y="71"/>
                        </a:lnTo>
                        <a:lnTo>
                          <a:pt x="114" y="69"/>
                        </a:lnTo>
                        <a:lnTo>
                          <a:pt x="124" y="71"/>
                        </a:lnTo>
                        <a:lnTo>
                          <a:pt x="132" y="76"/>
                        </a:lnTo>
                        <a:lnTo>
                          <a:pt x="141" y="86"/>
                        </a:lnTo>
                        <a:lnTo>
                          <a:pt x="150" y="102"/>
                        </a:lnTo>
                        <a:lnTo>
                          <a:pt x="156" y="124"/>
                        </a:lnTo>
                        <a:lnTo>
                          <a:pt x="161" y="153"/>
                        </a:lnTo>
                        <a:lnTo>
                          <a:pt x="169" y="152"/>
                        </a:lnTo>
                        <a:lnTo>
                          <a:pt x="179" y="153"/>
                        </a:lnTo>
                        <a:lnTo>
                          <a:pt x="189" y="155"/>
                        </a:lnTo>
                        <a:lnTo>
                          <a:pt x="200" y="160"/>
                        </a:lnTo>
                        <a:lnTo>
                          <a:pt x="209" y="169"/>
                        </a:lnTo>
                        <a:lnTo>
                          <a:pt x="219" y="181"/>
                        </a:lnTo>
                        <a:lnTo>
                          <a:pt x="225" y="199"/>
                        </a:lnTo>
                        <a:lnTo>
                          <a:pt x="230" y="220"/>
                        </a:lnTo>
                        <a:lnTo>
                          <a:pt x="239" y="219"/>
                        </a:lnTo>
                        <a:lnTo>
                          <a:pt x="249" y="221"/>
                        </a:lnTo>
                        <a:lnTo>
                          <a:pt x="261" y="226"/>
                        </a:lnTo>
                        <a:lnTo>
                          <a:pt x="274" y="233"/>
                        </a:lnTo>
                        <a:lnTo>
                          <a:pt x="287" y="243"/>
                        </a:lnTo>
                        <a:lnTo>
                          <a:pt x="299" y="255"/>
                        </a:lnTo>
                        <a:lnTo>
                          <a:pt x="307" y="270"/>
                        </a:lnTo>
                        <a:lnTo>
                          <a:pt x="314" y="286"/>
                        </a:lnTo>
                        <a:lnTo>
                          <a:pt x="305" y="290"/>
                        </a:lnTo>
                        <a:lnTo>
                          <a:pt x="297" y="297"/>
                        </a:lnTo>
                        <a:lnTo>
                          <a:pt x="290" y="310"/>
                        </a:lnTo>
                        <a:lnTo>
                          <a:pt x="284" y="326"/>
                        </a:lnTo>
                        <a:lnTo>
                          <a:pt x="281" y="343"/>
                        </a:lnTo>
                        <a:lnTo>
                          <a:pt x="281" y="365"/>
                        </a:lnTo>
                        <a:lnTo>
                          <a:pt x="286" y="387"/>
                        </a:lnTo>
                        <a:lnTo>
                          <a:pt x="295" y="411"/>
                        </a:lnTo>
                        <a:lnTo>
                          <a:pt x="282" y="423"/>
                        </a:lnTo>
                        <a:lnTo>
                          <a:pt x="277" y="451"/>
                        </a:lnTo>
                        <a:lnTo>
                          <a:pt x="280" y="483"/>
                        </a:lnTo>
                        <a:lnTo>
                          <a:pt x="296" y="517"/>
                        </a:lnTo>
                        <a:lnTo>
                          <a:pt x="306" y="515"/>
                        </a:lnTo>
                        <a:lnTo>
                          <a:pt x="319" y="514"/>
                        </a:lnTo>
                        <a:lnTo>
                          <a:pt x="330" y="517"/>
                        </a:lnTo>
                        <a:lnTo>
                          <a:pt x="343" y="522"/>
                        </a:lnTo>
                        <a:lnTo>
                          <a:pt x="356" y="530"/>
                        </a:lnTo>
                        <a:lnTo>
                          <a:pt x="367" y="543"/>
                        </a:lnTo>
                        <a:lnTo>
                          <a:pt x="380" y="562"/>
                        </a:lnTo>
                        <a:lnTo>
                          <a:pt x="390" y="586"/>
                        </a:lnTo>
                        <a:lnTo>
                          <a:pt x="396" y="584"/>
                        </a:lnTo>
                        <a:lnTo>
                          <a:pt x="403" y="583"/>
                        </a:lnTo>
                        <a:lnTo>
                          <a:pt x="413" y="583"/>
                        </a:lnTo>
                        <a:lnTo>
                          <a:pt x="425" y="584"/>
                        </a:lnTo>
                        <a:lnTo>
                          <a:pt x="436" y="588"/>
                        </a:lnTo>
                        <a:lnTo>
                          <a:pt x="446" y="595"/>
                        </a:lnTo>
                        <a:lnTo>
                          <a:pt x="455" y="605"/>
                        </a:lnTo>
                        <a:lnTo>
                          <a:pt x="461" y="619"/>
                        </a:lnTo>
                        <a:lnTo>
                          <a:pt x="466" y="615"/>
                        </a:lnTo>
                        <a:lnTo>
                          <a:pt x="473" y="614"/>
                        </a:lnTo>
                        <a:lnTo>
                          <a:pt x="482" y="614"/>
                        </a:lnTo>
                        <a:lnTo>
                          <a:pt x="491" y="615"/>
                        </a:lnTo>
                        <a:lnTo>
                          <a:pt x="500" y="619"/>
                        </a:lnTo>
                        <a:lnTo>
                          <a:pt x="506" y="625"/>
                        </a:lnTo>
                        <a:lnTo>
                          <a:pt x="510" y="634"/>
                        </a:lnTo>
                        <a:lnTo>
                          <a:pt x="510" y="646"/>
                        </a:lnTo>
                        <a:close/>
                      </a:path>
                    </a:pathLst>
                  </a:custGeom>
                  <a:solidFill>
                    <a:srgbClr val="b2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998960" y="4468680"/>
                    <a:ext cx="27000" cy="34920"/>
                  </a:xfrm>
                  <a:custGeom>
                    <a:avLst/>
                    <a:gdLst/>
                    <a:ahLst/>
                    <a:rect l="l" t="t" r="r" b="b"/>
                    <a:pathLst>
                      <a:path w="65" h="85">
                        <a:moveTo>
                          <a:pt x="65" y="23"/>
                        </a:moveTo>
                        <a:lnTo>
                          <a:pt x="58" y="34"/>
                        </a:lnTo>
                        <a:lnTo>
                          <a:pt x="52" y="51"/>
                        </a:lnTo>
                        <a:lnTo>
                          <a:pt x="47" y="70"/>
                        </a:lnTo>
                        <a:lnTo>
                          <a:pt x="48" y="85"/>
                        </a:lnTo>
                        <a:lnTo>
                          <a:pt x="42" y="79"/>
                        </a:lnTo>
                        <a:lnTo>
                          <a:pt x="36" y="74"/>
                        </a:lnTo>
                        <a:lnTo>
                          <a:pt x="28" y="70"/>
                        </a:lnTo>
                        <a:lnTo>
                          <a:pt x="21" y="66"/>
                        </a:lnTo>
                        <a:lnTo>
                          <a:pt x="14" y="64"/>
                        </a:lnTo>
                        <a:lnTo>
                          <a:pt x="9" y="63"/>
                        </a:lnTo>
                        <a:lnTo>
                          <a:pt x="4" y="61"/>
                        </a:lnTo>
                        <a:lnTo>
                          <a:pt x="0" y="61"/>
                        </a:lnTo>
                        <a:lnTo>
                          <a:pt x="9" y="59"/>
                        </a:lnTo>
                        <a:lnTo>
                          <a:pt x="15" y="58"/>
                        </a:lnTo>
                        <a:lnTo>
                          <a:pt x="18" y="58"/>
                        </a:lnTo>
                        <a:lnTo>
                          <a:pt x="20" y="58"/>
                        </a:lnTo>
                        <a:lnTo>
                          <a:pt x="20" y="41"/>
                        </a:lnTo>
                        <a:lnTo>
                          <a:pt x="21" y="23"/>
                        </a:lnTo>
                        <a:lnTo>
                          <a:pt x="23" y="7"/>
                        </a:lnTo>
                        <a:lnTo>
                          <a:pt x="25" y="0"/>
                        </a:lnTo>
                        <a:lnTo>
                          <a:pt x="31" y="14"/>
                        </a:lnTo>
                        <a:lnTo>
                          <a:pt x="38" y="27"/>
                        </a:lnTo>
                        <a:lnTo>
                          <a:pt x="42" y="34"/>
                        </a:lnTo>
                        <a:lnTo>
                          <a:pt x="45" y="38"/>
                        </a:lnTo>
                        <a:lnTo>
                          <a:pt x="51" y="33"/>
                        </a:lnTo>
                        <a:lnTo>
                          <a:pt x="57" y="28"/>
                        </a:lnTo>
                        <a:lnTo>
                          <a:pt x="62" y="24"/>
                        </a:lnTo>
                        <a:lnTo>
                          <a:pt x="65" y="23"/>
                        </a:lnTo>
                        <a:close/>
                      </a:path>
                    </a:pathLst>
                  </a:custGeom>
                  <a:solidFill>
                    <a:srgbClr val="a53a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0" name=""/>
                  <p:cNvSpPr/>
                  <p:nvPr/>
                </p:nvSpPr>
                <p:spPr>
                  <a:xfrm>
                    <a:off x="4971960" y="4491000"/>
                    <a:ext cx="17280" cy="33480"/>
                  </a:xfrm>
                  <a:custGeom>
                    <a:avLst/>
                    <a:gdLst/>
                    <a:ahLst/>
                    <a:rect l="l" t="t" r="r" b="b"/>
                    <a:pathLst>
                      <a:path w="46" h="83">
                        <a:moveTo>
                          <a:pt x="46" y="29"/>
                        </a:moveTo>
                        <a:lnTo>
                          <a:pt x="41" y="41"/>
                        </a:lnTo>
                        <a:lnTo>
                          <a:pt x="37" y="56"/>
                        </a:lnTo>
                        <a:lnTo>
                          <a:pt x="36" y="71"/>
                        </a:lnTo>
                        <a:lnTo>
                          <a:pt x="35" y="83"/>
                        </a:lnTo>
                        <a:lnTo>
                          <a:pt x="27" y="73"/>
                        </a:lnTo>
                        <a:lnTo>
                          <a:pt x="17" y="63"/>
                        </a:lnTo>
                        <a:lnTo>
                          <a:pt x="7" y="55"/>
                        </a:lnTo>
                        <a:lnTo>
                          <a:pt x="0" y="50"/>
                        </a:lnTo>
                        <a:lnTo>
                          <a:pt x="7" y="51"/>
                        </a:lnTo>
                        <a:lnTo>
                          <a:pt x="12" y="52"/>
                        </a:lnTo>
                        <a:lnTo>
                          <a:pt x="15" y="55"/>
                        </a:lnTo>
                        <a:lnTo>
                          <a:pt x="16" y="55"/>
                        </a:lnTo>
                        <a:lnTo>
                          <a:pt x="16" y="40"/>
                        </a:lnTo>
                        <a:lnTo>
                          <a:pt x="16" y="24"/>
                        </a:lnTo>
                        <a:lnTo>
                          <a:pt x="16" y="9"/>
                        </a:lnTo>
                        <a:lnTo>
                          <a:pt x="18" y="0"/>
                        </a:lnTo>
                        <a:lnTo>
                          <a:pt x="22" y="11"/>
                        </a:lnTo>
                        <a:lnTo>
                          <a:pt x="27" y="24"/>
                        </a:lnTo>
                        <a:lnTo>
                          <a:pt x="30" y="35"/>
                        </a:lnTo>
                        <a:lnTo>
                          <a:pt x="31" y="39"/>
                        </a:lnTo>
                        <a:lnTo>
                          <a:pt x="36" y="35"/>
                        </a:lnTo>
                        <a:lnTo>
                          <a:pt x="41" y="31"/>
                        </a:lnTo>
                        <a:lnTo>
                          <a:pt x="45" y="30"/>
                        </a:lnTo>
                        <a:lnTo>
                          <a:pt x="46" y="29"/>
                        </a:lnTo>
                        <a:close/>
                      </a:path>
                    </a:pathLst>
                  </a:custGeom>
                  <a:solidFill>
                    <a:srgbClr val="a53a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a:off x="4997160" y="4568760"/>
                    <a:ext cx="15840" cy="31680"/>
                  </a:xfrm>
                  <a:custGeom>
                    <a:avLst/>
                    <a:gdLst/>
                    <a:ahLst/>
                    <a:rect l="l" t="t" r="r" b="b"/>
                    <a:pathLst>
                      <a:path w="41" h="78">
                        <a:moveTo>
                          <a:pt x="40" y="22"/>
                        </a:moveTo>
                        <a:lnTo>
                          <a:pt x="38" y="35"/>
                        </a:lnTo>
                        <a:lnTo>
                          <a:pt x="38" y="51"/>
                        </a:lnTo>
                        <a:lnTo>
                          <a:pt x="39" y="67"/>
                        </a:lnTo>
                        <a:lnTo>
                          <a:pt x="41" y="78"/>
                        </a:lnTo>
                        <a:lnTo>
                          <a:pt x="36" y="75"/>
                        </a:lnTo>
                        <a:lnTo>
                          <a:pt x="31" y="70"/>
                        </a:lnTo>
                        <a:lnTo>
                          <a:pt x="25" y="66"/>
                        </a:lnTo>
                        <a:lnTo>
                          <a:pt x="20" y="62"/>
                        </a:lnTo>
                        <a:lnTo>
                          <a:pt x="14" y="58"/>
                        </a:lnTo>
                        <a:lnTo>
                          <a:pt x="9" y="56"/>
                        </a:lnTo>
                        <a:lnTo>
                          <a:pt x="4" y="53"/>
                        </a:lnTo>
                        <a:lnTo>
                          <a:pt x="0" y="52"/>
                        </a:lnTo>
                        <a:lnTo>
                          <a:pt x="8" y="52"/>
                        </a:lnTo>
                        <a:lnTo>
                          <a:pt x="13" y="52"/>
                        </a:lnTo>
                        <a:lnTo>
                          <a:pt x="15" y="53"/>
                        </a:lnTo>
                        <a:lnTo>
                          <a:pt x="17" y="53"/>
                        </a:lnTo>
                        <a:lnTo>
                          <a:pt x="13" y="40"/>
                        </a:lnTo>
                        <a:lnTo>
                          <a:pt x="10" y="23"/>
                        </a:lnTo>
                        <a:lnTo>
                          <a:pt x="8" y="9"/>
                        </a:lnTo>
                        <a:lnTo>
                          <a:pt x="8" y="0"/>
                        </a:lnTo>
                        <a:lnTo>
                          <a:pt x="14" y="10"/>
                        </a:lnTo>
                        <a:lnTo>
                          <a:pt x="20" y="21"/>
                        </a:lnTo>
                        <a:lnTo>
                          <a:pt x="25" y="31"/>
                        </a:lnTo>
                        <a:lnTo>
                          <a:pt x="28" y="35"/>
                        </a:lnTo>
                        <a:lnTo>
                          <a:pt x="31" y="30"/>
                        </a:lnTo>
                        <a:lnTo>
                          <a:pt x="35" y="26"/>
                        </a:lnTo>
                        <a:lnTo>
                          <a:pt x="39" y="23"/>
                        </a:lnTo>
                        <a:lnTo>
                          <a:pt x="40" y="22"/>
                        </a:lnTo>
                        <a:close/>
                      </a:path>
                    </a:pathLst>
                  </a:custGeom>
                  <a:solidFill>
                    <a:srgbClr val="a53a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2" name=""/>
                  <p:cNvSpPr/>
                  <p:nvPr/>
                </p:nvSpPr>
                <p:spPr>
                  <a:xfrm>
                    <a:off x="5032080" y="4632480"/>
                    <a:ext cx="20880" cy="25200"/>
                  </a:xfrm>
                  <a:custGeom>
                    <a:avLst/>
                    <a:gdLst/>
                    <a:ahLst/>
                    <a:rect l="l" t="t" r="r" b="b"/>
                    <a:pathLst>
                      <a:path w="52" h="66">
                        <a:moveTo>
                          <a:pt x="37" y="13"/>
                        </a:moveTo>
                        <a:lnTo>
                          <a:pt x="38" y="26"/>
                        </a:lnTo>
                        <a:lnTo>
                          <a:pt x="42" y="41"/>
                        </a:lnTo>
                        <a:lnTo>
                          <a:pt x="47" y="56"/>
                        </a:lnTo>
                        <a:lnTo>
                          <a:pt x="52" y="66"/>
                        </a:lnTo>
                        <a:lnTo>
                          <a:pt x="47" y="64"/>
                        </a:lnTo>
                        <a:lnTo>
                          <a:pt x="40" y="61"/>
                        </a:lnTo>
                        <a:lnTo>
                          <a:pt x="34" y="59"/>
                        </a:lnTo>
                        <a:lnTo>
                          <a:pt x="27" y="57"/>
                        </a:lnTo>
                        <a:lnTo>
                          <a:pt x="20" y="55"/>
                        </a:lnTo>
                        <a:lnTo>
                          <a:pt x="14" y="54"/>
                        </a:lnTo>
                        <a:lnTo>
                          <a:pt x="9" y="52"/>
                        </a:lnTo>
                        <a:lnTo>
                          <a:pt x="5" y="52"/>
                        </a:lnTo>
                        <a:lnTo>
                          <a:pt x="13" y="50"/>
                        </a:lnTo>
                        <a:lnTo>
                          <a:pt x="18" y="50"/>
                        </a:lnTo>
                        <a:lnTo>
                          <a:pt x="20" y="50"/>
                        </a:lnTo>
                        <a:lnTo>
                          <a:pt x="22" y="50"/>
                        </a:lnTo>
                        <a:lnTo>
                          <a:pt x="15" y="36"/>
                        </a:lnTo>
                        <a:lnTo>
                          <a:pt x="8" y="21"/>
                        </a:lnTo>
                        <a:lnTo>
                          <a:pt x="3" y="9"/>
                        </a:lnTo>
                        <a:lnTo>
                          <a:pt x="0" y="0"/>
                        </a:lnTo>
                        <a:lnTo>
                          <a:pt x="8" y="9"/>
                        </a:lnTo>
                        <a:lnTo>
                          <a:pt x="18" y="18"/>
                        </a:lnTo>
                        <a:lnTo>
                          <a:pt x="25" y="25"/>
                        </a:lnTo>
                        <a:lnTo>
                          <a:pt x="28" y="29"/>
                        </a:lnTo>
                        <a:lnTo>
                          <a:pt x="30" y="23"/>
                        </a:lnTo>
                        <a:lnTo>
                          <a:pt x="33" y="18"/>
                        </a:lnTo>
                        <a:lnTo>
                          <a:pt x="35" y="14"/>
                        </a:lnTo>
                        <a:lnTo>
                          <a:pt x="37" y="13"/>
                        </a:lnTo>
                        <a:close/>
                      </a:path>
                    </a:pathLst>
                  </a:custGeom>
                  <a:solidFill>
                    <a:srgbClr val="a53a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3" name=""/>
                  <p:cNvSpPr/>
                  <p:nvPr/>
                </p:nvSpPr>
                <p:spPr>
                  <a:xfrm>
                    <a:off x="4994280" y="4525920"/>
                    <a:ext cx="20520" cy="30240"/>
                  </a:xfrm>
                  <a:custGeom>
                    <a:avLst/>
                    <a:gdLst/>
                    <a:ahLst/>
                    <a:rect l="l" t="t" r="r" b="b"/>
                    <a:pathLst>
                      <a:path w="52" h="73">
                        <a:moveTo>
                          <a:pt x="0" y="52"/>
                        </a:moveTo>
                        <a:lnTo>
                          <a:pt x="5" y="53"/>
                        </a:lnTo>
                        <a:lnTo>
                          <a:pt x="11" y="56"/>
                        </a:lnTo>
                        <a:lnTo>
                          <a:pt x="18" y="58"/>
                        </a:lnTo>
                        <a:lnTo>
                          <a:pt x="24" y="61"/>
                        </a:lnTo>
                        <a:lnTo>
                          <a:pt x="29" y="65"/>
                        </a:lnTo>
                        <a:lnTo>
                          <a:pt x="34" y="67"/>
                        </a:lnTo>
                        <a:lnTo>
                          <a:pt x="39" y="71"/>
                        </a:lnTo>
                        <a:lnTo>
                          <a:pt x="41" y="73"/>
                        </a:lnTo>
                        <a:lnTo>
                          <a:pt x="41" y="58"/>
                        </a:lnTo>
                        <a:lnTo>
                          <a:pt x="44" y="39"/>
                        </a:lnTo>
                        <a:lnTo>
                          <a:pt x="47" y="20"/>
                        </a:lnTo>
                        <a:lnTo>
                          <a:pt x="52" y="10"/>
                        </a:lnTo>
                        <a:lnTo>
                          <a:pt x="46" y="15"/>
                        </a:lnTo>
                        <a:lnTo>
                          <a:pt x="41" y="19"/>
                        </a:lnTo>
                        <a:lnTo>
                          <a:pt x="37" y="21"/>
                        </a:lnTo>
                        <a:lnTo>
                          <a:pt x="36" y="22"/>
                        </a:lnTo>
                        <a:lnTo>
                          <a:pt x="29" y="16"/>
                        </a:lnTo>
                        <a:lnTo>
                          <a:pt x="20" y="9"/>
                        </a:lnTo>
                        <a:lnTo>
                          <a:pt x="13" y="2"/>
                        </a:lnTo>
                        <a:lnTo>
                          <a:pt x="9" y="0"/>
                        </a:lnTo>
                        <a:lnTo>
                          <a:pt x="9" y="15"/>
                        </a:lnTo>
                        <a:lnTo>
                          <a:pt x="10" y="31"/>
                        </a:lnTo>
                        <a:lnTo>
                          <a:pt x="11" y="45"/>
                        </a:lnTo>
                        <a:lnTo>
                          <a:pt x="13" y="50"/>
                        </a:lnTo>
                        <a:lnTo>
                          <a:pt x="8" y="50"/>
                        </a:lnTo>
                        <a:lnTo>
                          <a:pt x="4" y="51"/>
                        </a:lnTo>
                        <a:lnTo>
                          <a:pt x="1" y="52"/>
                        </a:lnTo>
                        <a:lnTo>
                          <a:pt x="0" y="52"/>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4" name=""/>
                  <p:cNvSpPr/>
                  <p:nvPr/>
                </p:nvSpPr>
                <p:spPr>
                  <a:xfrm>
                    <a:off x="5029200" y="4594320"/>
                    <a:ext cx="19080" cy="30240"/>
                  </a:xfrm>
                  <a:custGeom>
                    <a:avLst/>
                    <a:gdLst/>
                    <a:ahLst/>
                    <a:rect l="l" t="t" r="r" b="b"/>
                    <a:pathLst>
                      <a:path w="47" h="73">
                        <a:moveTo>
                          <a:pt x="0" y="53"/>
                        </a:moveTo>
                        <a:lnTo>
                          <a:pt x="5" y="53"/>
                        </a:lnTo>
                        <a:lnTo>
                          <a:pt x="11" y="56"/>
                        </a:lnTo>
                        <a:lnTo>
                          <a:pt x="18" y="57"/>
                        </a:lnTo>
                        <a:lnTo>
                          <a:pt x="25" y="61"/>
                        </a:lnTo>
                        <a:lnTo>
                          <a:pt x="32" y="63"/>
                        </a:lnTo>
                        <a:lnTo>
                          <a:pt x="38" y="67"/>
                        </a:lnTo>
                        <a:lnTo>
                          <a:pt x="43" y="71"/>
                        </a:lnTo>
                        <a:lnTo>
                          <a:pt x="47" y="73"/>
                        </a:lnTo>
                        <a:lnTo>
                          <a:pt x="40" y="56"/>
                        </a:lnTo>
                        <a:lnTo>
                          <a:pt x="36" y="36"/>
                        </a:lnTo>
                        <a:lnTo>
                          <a:pt x="36" y="17"/>
                        </a:lnTo>
                        <a:lnTo>
                          <a:pt x="38" y="6"/>
                        </a:lnTo>
                        <a:lnTo>
                          <a:pt x="33" y="12"/>
                        </a:lnTo>
                        <a:lnTo>
                          <a:pt x="30" y="20"/>
                        </a:lnTo>
                        <a:lnTo>
                          <a:pt x="27" y="25"/>
                        </a:lnTo>
                        <a:lnTo>
                          <a:pt x="27" y="27"/>
                        </a:lnTo>
                        <a:lnTo>
                          <a:pt x="20" y="20"/>
                        </a:lnTo>
                        <a:lnTo>
                          <a:pt x="11" y="11"/>
                        </a:lnTo>
                        <a:lnTo>
                          <a:pt x="3" y="3"/>
                        </a:lnTo>
                        <a:lnTo>
                          <a:pt x="1" y="0"/>
                        </a:lnTo>
                        <a:lnTo>
                          <a:pt x="2" y="15"/>
                        </a:lnTo>
                        <a:lnTo>
                          <a:pt x="6" y="30"/>
                        </a:lnTo>
                        <a:lnTo>
                          <a:pt x="10" y="43"/>
                        </a:lnTo>
                        <a:lnTo>
                          <a:pt x="11" y="48"/>
                        </a:lnTo>
                        <a:lnTo>
                          <a:pt x="6" y="49"/>
                        </a:lnTo>
                        <a:lnTo>
                          <a:pt x="3" y="51"/>
                        </a:lnTo>
                        <a:lnTo>
                          <a:pt x="1" y="52"/>
                        </a:lnTo>
                        <a:lnTo>
                          <a:pt x="0" y="53"/>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5" name=""/>
                  <p:cNvSpPr/>
                  <p:nvPr/>
                </p:nvSpPr>
                <p:spPr>
                  <a:xfrm>
                    <a:off x="5024160" y="4503600"/>
                    <a:ext cx="28800" cy="32040"/>
                  </a:xfrm>
                  <a:custGeom>
                    <a:avLst/>
                    <a:gdLst/>
                    <a:ahLst/>
                    <a:rect l="l" t="t" r="r" b="b"/>
                    <a:pathLst>
                      <a:path w="75" h="83">
                        <a:moveTo>
                          <a:pt x="75" y="4"/>
                        </a:moveTo>
                        <a:lnTo>
                          <a:pt x="67" y="15"/>
                        </a:lnTo>
                        <a:lnTo>
                          <a:pt x="60" y="35"/>
                        </a:lnTo>
                        <a:lnTo>
                          <a:pt x="55" y="59"/>
                        </a:lnTo>
                        <a:lnTo>
                          <a:pt x="59" y="83"/>
                        </a:lnTo>
                        <a:lnTo>
                          <a:pt x="54" y="78"/>
                        </a:lnTo>
                        <a:lnTo>
                          <a:pt x="47" y="71"/>
                        </a:lnTo>
                        <a:lnTo>
                          <a:pt x="40" y="68"/>
                        </a:lnTo>
                        <a:lnTo>
                          <a:pt x="31" y="63"/>
                        </a:lnTo>
                        <a:lnTo>
                          <a:pt x="22" y="59"/>
                        </a:lnTo>
                        <a:lnTo>
                          <a:pt x="14" y="56"/>
                        </a:lnTo>
                        <a:lnTo>
                          <a:pt x="6" y="55"/>
                        </a:lnTo>
                        <a:lnTo>
                          <a:pt x="0" y="55"/>
                        </a:lnTo>
                        <a:lnTo>
                          <a:pt x="10" y="51"/>
                        </a:lnTo>
                        <a:lnTo>
                          <a:pt x="17" y="49"/>
                        </a:lnTo>
                        <a:lnTo>
                          <a:pt x="24" y="49"/>
                        </a:lnTo>
                        <a:lnTo>
                          <a:pt x="26" y="49"/>
                        </a:lnTo>
                        <a:lnTo>
                          <a:pt x="26" y="38"/>
                        </a:lnTo>
                        <a:lnTo>
                          <a:pt x="27" y="22"/>
                        </a:lnTo>
                        <a:lnTo>
                          <a:pt x="27" y="7"/>
                        </a:lnTo>
                        <a:lnTo>
                          <a:pt x="27" y="0"/>
                        </a:lnTo>
                        <a:lnTo>
                          <a:pt x="35" y="13"/>
                        </a:lnTo>
                        <a:lnTo>
                          <a:pt x="42" y="23"/>
                        </a:lnTo>
                        <a:lnTo>
                          <a:pt x="46" y="30"/>
                        </a:lnTo>
                        <a:lnTo>
                          <a:pt x="49" y="33"/>
                        </a:lnTo>
                        <a:lnTo>
                          <a:pt x="55" y="23"/>
                        </a:lnTo>
                        <a:lnTo>
                          <a:pt x="64" y="13"/>
                        </a:lnTo>
                        <a:lnTo>
                          <a:pt x="71" y="7"/>
                        </a:lnTo>
                        <a:lnTo>
                          <a:pt x="75" y="4"/>
                        </a:lnTo>
                        <a:close/>
                      </a:path>
                    </a:pathLst>
                  </a:custGeom>
                  <a:solidFill>
                    <a:srgbClr val="a53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6" name=""/>
                  <p:cNvSpPr/>
                  <p:nvPr/>
                </p:nvSpPr>
                <p:spPr>
                  <a:xfrm>
                    <a:off x="5025960" y="4552920"/>
                    <a:ext cx="19080" cy="23760"/>
                  </a:xfrm>
                  <a:custGeom>
                    <a:avLst/>
                    <a:gdLst/>
                    <a:ahLst/>
                    <a:rect l="l" t="t" r="r" b="b"/>
                    <a:pathLst>
                      <a:path w="48" h="59">
                        <a:moveTo>
                          <a:pt x="48" y="1"/>
                        </a:moveTo>
                        <a:lnTo>
                          <a:pt x="46" y="11"/>
                        </a:lnTo>
                        <a:lnTo>
                          <a:pt x="46" y="28"/>
                        </a:lnTo>
                        <a:lnTo>
                          <a:pt x="47" y="45"/>
                        </a:lnTo>
                        <a:lnTo>
                          <a:pt x="48" y="59"/>
                        </a:lnTo>
                        <a:lnTo>
                          <a:pt x="43" y="55"/>
                        </a:lnTo>
                        <a:lnTo>
                          <a:pt x="36" y="53"/>
                        </a:lnTo>
                        <a:lnTo>
                          <a:pt x="30" y="49"/>
                        </a:lnTo>
                        <a:lnTo>
                          <a:pt x="22" y="46"/>
                        </a:lnTo>
                        <a:lnTo>
                          <a:pt x="15" y="45"/>
                        </a:lnTo>
                        <a:lnTo>
                          <a:pt x="8" y="44"/>
                        </a:lnTo>
                        <a:lnTo>
                          <a:pt x="3" y="43"/>
                        </a:lnTo>
                        <a:lnTo>
                          <a:pt x="0" y="44"/>
                        </a:lnTo>
                        <a:lnTo>
                          <a:pt x="5" y="41"/>
                        </a:lnTo>
                        <a:lnTo>
                          <a:pt x="10" y="39"/>
                        </a:lnTo>
                        <a:lnTo>
                          <a:pt x="13" y="38"/>
                        </a:lnTo>
                        <a:lnTo>
                          <a:pt x="15" y="38"/>
                        </a:lnTo>
                        <a:lnTo>
                          <a:pt x="13" y="26"/>
                        </a:lnTo>
                        <a:lnTo>
                          <a:pt x="12" y="14"/>
                        </a:lnTo>
                        <a:lnTo>
                          <a:pt x="11" y="4"/>
                        </a:lnTo>
                        <a:lnTo>
                          <a:pt x="11" y="0"/>
                        </a:lnTo>
                        <a:lnTo>
                          <a:pt x="21" y="10"/>
                        </a:lnTo>
                        <a:lnTo>
                          <a:pt x="28" y="19"/>
                        </a:lnTo>
                        <a:lnTo>
                          <a:pt x="33" y="24"/>
                        </a:lnTo>
                        <a:lnTo>
                          <a:pt x="35" y="26"/>
                        </a:lnTo>
                        <a:lnTo>
                          <a:pt x="38" y="18"/>
                        </a:lnTo>
                        <a:lnTo>
                          <a:pt x="43" y="9"/>
                        </a:lnTo>
                        <a:lnTo>
                          <a:pt x="47" y="4"/>
                        </a:lnTo>
                        <a:lnTo>
                          <a:pt x="48" y="1"/>
                        </a:lnTo>
                        <a:close/>
                      </a:path>
                    </a:pathLst>
                  </a:custGeom>
                  <a:solidFill>
                    <a:srgbClr val="a53a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7" name=""/>
                  <p:cNvSpPr/>
                  <p:nvPr/>
                </p:nvSpPr>
                <p:spPr>
                  <a:xfrm>
                    <a:off x="5056200" y="4575240"/>
                    <a:ext cx="21960" cy="31680"/>
                  </a:xfrm>
                  <a:custGeom>
                    <a:avLst/>
                    <a:gdLst/>
                    <a:ahLst/>
                    <a:rect l="l" t="t" r="r" b="b"/>
                    <a:pathLst>
                      <a:path w="59" h="80">
                        <a:moveTo>
                          <a:pt x="59" y="2"/>
                        </a:moveTo>
                        <a:lnTo>
                          <a:pt x="55" y="14"/>
                        </a:lnTo>
                        <a:lnTo>
                          <a:pt x="55" y="36"/>
                        </a:lnTo>
                        <a:lnTo>
                          <a:pt x="56" y="61"/>
                        </a:lnTo>
                        <a:lnTo>
                          <a:pt x="57" y="80"/>
                        </a:lnTo>
                        <a:lnTo>
                          <a:pt x="52" y="74"/>
                        </a:lnTo>
                        <a:lnTo>
                          <a:pt x="46" y="66"/>
                        </a:lnTo>
                        <a:lnTo>
                          <a:pt x="37" y="60"/>
                        </a:lnTo>
                        <a:lnTo>
                          <a:pt x="29" y="54"/>
                        </a:lnTo>
                        <a:lnTo>
                          <a:pt x="20" y="48"/>
                        </a:lnTo>
                        <a:lnTo>
                          <a:pt x="11" y="44"/>
                        </a:lnTo>
                        <a:lnTo>
                          <a:pt x="5" y="41"/>
                        </a:lnTo>
                        <a:lnTo>
                          <a:pt x="0" y="40"/>
                        </a:lnTo>
                        <a:lnTo>
                          <a:pt x="6" y="40"/>
                        </a:lnTo>
                        <a:lnTo>
                          <a:pt x="14" y="40"/>
                        </a:lnTo>
                        <a:lnTo>
                          <a:pt x="19" y="40"/>
                        </a:lnTo>
                        <a:lnTo>
                          <a:pt x="21" y="40"/>
                        </a:lnTo>
                        <a:lnTo>
                          <a:pt x="19" y="29"/>
                        </a:lnTo>
                        <a:lnTo>
                          <a:pt x="20" y="16"/>
                        </a:lnTo>
                        <a:lnTo>
                          <a:pt x="21" y="5"/>
                        </a:lnTo>
                        <a:lnTo>
                          <a:pt x="22" y="0"/>
                        </a:lnTo>
                        <a:lnTo>
                          <a:pt x="29" y="9"/>
                        </a:lnTo>
                        <a:lnTo>
                          <a:pt x="35" y="16"/>
                        </a:lnTo>
                        <a:lnTo>
                          <a:pt x="40" y="24"/>
                        </a:lnTo>
                        <a:lnTo>
                          <a:pt x="42" y="26"/>
                        </a:lnTo>
                        <a:lnTo>
                          <a:pt x="46" y="19"/>
                        </a:lnTo>
                        <a:lnTo>
                          <a:pt x="51" y="10"/>
                        </a:lnTo>
                        <a:lnTo>
                          <a:pt x="56" y="4"/>
                        </a:lnTo>
                        <a:lnTo>
                          <a:pt x="59" y="2"/>
                        </a:lnTo>
                        <a:close/>
                      </a:path>
                    </a:pathLst>
                  </a:custGeom>
                  <a:solidFill>
                    <a:srgbClr val="a53a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8" name=""/>
                  <p:cNvSpPr/>
                  <p:nvPr/>
                </p:nvSpPr>
                <p:spPr>
                  <a:xfrm>
                    <a:off x="5010120" y="4424400"/>
                    <a:ext cx="21960" cy="28440"/>
                  </a:xfrm>
                  <a:custGeom>
                    <a:avLst/>
                    <a:gdLst/>
                    <a:ahLst/>
                    <a:rect l="l" t="t" r="r" b="b"/>
                    <a:pathLst>
                      <a:path w="54" h="70">
                        <a:moveTo>
                          <a:pt x="54" y="16"/>
                        </a:moveTo>
                        <a:lnTo>
                          <a:pt x="48" y="26"/>
                        </a:lnTo>
                        <a:lnTo>
                          <a:pt x="43" y="40"/>
                        </a:lnTo>
                        <a:lnTo>
                          <a:pt x="39" y="55"/>
                        </a:lnTo>
                        <a:lnTo>
                          <a:pt x="39" y="70"/>
                        </a:lnTo>
                        <a:lnTo>
                          <a:pt x="36" y="64"/>
                        </a:lnTo>
                        <a:lnTo>
                          <a:pt x="33" y="58"/>
                        </a:lnTo>
                        <a:lnTo>
                          <a:pt x="29" y="53"/>
                        </a:lnTo>
                        <a:lnTo>
                          <a:pt x="24" y="48"/>
                        </a:lnTo>
                        <a:lnTo>
                          <a:pt x="19" y="43"/>
                        </a:lnTo>
                        <a:lnTo>
                          <a:pt x="13" y="40"/>
                        </a:lnTo>
                        <a:lnTo>
                          <a:pt x="6" y="38"/>
                        </a:lnTo>
                        <a:lnTo>
                          <a:pt x="0" y="38"/>
                        </a:lnTo>
                        <a:lnTo>
                          <a:pt x="5" y="35"/>
                        </a:lnTo>
                        <a:lnTo>
                          <a:pt x="10" y="33"/>
                        </a:lnTo>
                        <a:lnTo>
                          <a:pt x="15" y="31"/>
                        </a:lnTo>
                        <a:lnTo>
                          <a:pt x="16" y="30"/>
                        </a:lnTo>
                        <a:lnTo>
                          <a:pt x="19" y="20"/>
                        </a:lnTo>
                        <a:lnTo>
                          <a:pt x="21" y="10"/>
                        </a:lnTo>
                        <a:lnTo>
                          <a:pt x="23" y="3"/>
                        </a:lnTo>
                        <a:lnTo>
                          <a:pt x="24" y="0"/>
                        </a:lnTo>
                        <a:lnTo>
                          <a:pt x="30" y="10"/>
                        </a:lnTo>
                        <a:lnTo>
                          <a:pt x="34" y="19"/>
                        </a:lnTo>
                        <a:lnTo>
                          <a:pt x="36" y="25"/>
                        </a:lnTo>
                        <a:lnTo>
                          <a:pt x="38" y="28"/>
                        </a:lnTo>
                        <a:lnTo>
                          <a:pt x="41" y="24"/>
                        </a:lnTo>
                        <a:lnTo>
                          <a:pt x="46" y="20"/>
                        </a:lnTo>
                        <a:lnTo>
                          <a:pt x="51" y="18"/>
                        </a:lnTo>
                        <a:lnTo>
                          <a:pt x="54" y="16"/>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9" name=""/>
                  <p:cNvSpPr/>
                  <p:nvPr/>
                </p:nvSpPr>
                <p:spPr>
                  <a:xfrm>
                    <a:off x="4981320" y="4440240"/>
                    <a:ext cx="15840" cy="28440"/>
                  </a:xfrm>
                  <a:custGeom>
                    <a:avLst/>
                    <a:gdLst/>
                    <a:ahLst/>
                    <a:rect l="l" t="t" r="r" b="b"/>
                    <a:pathLst>
                      <a:path w="41" h="73">
                        <a:moveTo>
                          <a:pt x="41" y="23"/>
                        </a:moveTo>
                        <a:lnTo>
                          <a:pt x="33" y="34"/>
                        </a:lnTo>
                        <a:lnTo>
                          <a:pt x="28" y="48"/>
                        </a:lnTo>
                        <a:lnTo>
                          <a:pt x="23" y="63"/>
                        </a:lnTo>
                        <a:lnTo>
                          <a:pt x="22" y="73"/>
                        </a:lnTo>
                        <a:lnTo>
                          <a:pt x="18" y="63"/>
                        </a:lnTo>
                        <a:lnTo>
                          <a:pt x="15" y="51"/>
                        </a:lnTo>
                        <a:lnTo>
                          <a:pt x="8" y="41"/>
                        </a:lnTo>
                        <a:lnTo>
                          <a:pt x="0" y="38"/>
                        </a:lnTo>
                        <a:lnTo>
                          <a:pt x="3" y="36"/>
                        </a:lnTo>
                        <a:lnTo>
                          <a:pt x="8" y="34"/>
                        </a:lnTo>
                        <a:lnTo>
                          <a:pt x="11" y="32"/>
                        </a:lnTo>
                        <a:lnTo>
                          <a:pt x="12" y="32"/>
                        </a:lnTo>
                        <a:lnTo>
                          <a:pt x="15" y="20"/>
                        </a:lnTo>
                        <a:lnTo>
                          <a:pt x="18" y="10"/>
                        </a:lnTo>
                        <a:lnTo>
                          <a:pt x="22" y="2"/>
                        </a:lnTo>
                        <a:lnTo>
                          <a:pt x="23" y="0"/>
                        </a:lnTo>
                        <a:lnTo>
                          <a:pt x="25" y="11"/>
                        </a:lnTo>
                        <a:lnTo>
                          <a:pt x="26" y="20"/>
                        </a:lnTo>
                        <a:lnTo>
                          <a:pt x="28" y="24"/>
                        </a:lnTo>
                        <a:lnTo>
                          <a:pt x="28" y="27"/>
                        </a:lnTo>
                        <a:lnTo>
                          <a:pt x="32" y="24"/>
                        </a:lnTo>
                        <a:lnTo>
                          <a:pt x="36" y="23"/>
                        </a:lnTo>
                        <a:lnTo>
                          <a:pt x="40" y="23"/>
                        </a:lnTo>
                        <a:lnTo>
                          <a:pt x="41" y="23"/>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60" name=""/>
                  <p:cNvSpPr/>
                  <p:nvPr/>
                </p:nvSpPr>
                <p:spPr>
                  <a:xfrm>
                    <a:off x="5087880" y="4597560"/>
                    <a:ext cx="27000" cy="29880"/>
                  </a:xfrm>
                  <a:custGeom>
                    <a:avLst/>
                    <a:gdLst/>
                    <a:ahLst/>
                    <a:rect l="l" t="t" r="r" b="b"/>
                    <a:pathLst>
                      <a:path w="69" h="77">
                        <a:moveTo>
                          <a:pt x="69" y="22"/>
                        </a:moveTo>
                        <a:lnTo>
                          <a:pt x="65" y="32"/>
                        </a:lnTo>
                        <a:lnTo>
                          <a:pt x="62" y="47"/>
                        </a:lnTo>
                        <a:lnTo>
                          <a:pt x="61" y="63"/>
                        </a:lnTo>
                        <a:lnTo>
                          <a:pt x="62" y="77"/>
                        </a:lnTo>
                        <a:lnTo>
                          <a:pt x="59" y="73"/>
                        </a:lnTo>
                        <a:lnTo>
                          <a:pt x="52" y="68"/>
                        </a:lnTo>
                        <a:lnTo>
                          <a:pt x="46" y="62"/>
                        </a:lnTo>
                        <a:lnTo>
                          <a:pt x="37" y="57"/>
                        </a:lnTo>
                        <a:lnTo>
                          <a:pt x="29" y="52"/>
                        </a:lnTo>
                        <a:lnTo>
                          <a:pt x="20" y="48"/>
                        </a:lnTo>
                        <a:lnTo>
                          <a:pt x="10" y="46"/>
                        </a:lnTo>
                        <a:lnTo>
                          <a:pt x="0" y="45"/>
                        </a:lnTo>
                        <a:lnTo>
                          <a:pt x="10" y="43"/>
                        </a:lnTo>
                        <a:lnTo>
                          <a:pt x="17" y="41"/>
                        </a:lnTo>
                        <a:lnTo>
                          <a:pt x="22" y="40"/>
                        </a:lnTo>
                        <a:lnTo>
                          <a:pt x="24" y="40"/>
                        </a:lnTo>
                        <a:lnTo>
                          <a:pt x="24" y="24"/>
                        </a:lnTo>
                        <a:lnTo>
                          <a:pt x="25" y="11"/>
                        </a:lnTo>
                        <a:lnTo>
                          <a:pt x="25" y="2"/>
                        </a:lnTo>
                        <a:lnTo>
                          <a:pt x="25" y="0"/>
                        </a:lnTo>
                        <a:lnTo>
                          <a:pt x="35" y="12"/>
                        </a:lnTo>
                        <a:lnTo>
                          <a:pt x="44" y="25"/>
                        </a:lnTo>
                        <a:lnTo>
                          <a:pt x="49" y="32"/>
                        </a:lnTo>
                        <a:lnTo>
                          <a:pt x="51" y="36"/>
                        </a:lnTo>
                        <a:lnTo>
                          <a:pt x="56" y="30"/>
                        </a:lnTo>
                        <a:lnTo>
                          <a:pt x="62" y="25"/>
                        </a:lnTo>
                        <a:lnTo>
                          <a:pt x="66" y="24"/>
                        </a:lnTo>
                        <a:lnTo>
                          <a:pt x="69" y="22"/>
                        </a:lnTo>
                        <a:close/>
                      </a:path>
                    </a:pathLst>
                  </a:custGeom>
                  <a:solidFill>
                    <a:srgbClr val="a53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1" name=""/>
                  <p:cNvSpPr/>
                  <p:nvPr/>
                </p:nvSpPr>
                <p:spPr>
                  <a:xfrm>
                    <a:off x="5059080" y="4616280"/>
                    <a:ext cx="24120" cy="30240"/>
                  </a:xfrm>
                  <a:custGeom>
                    <a:avLst/>
                    <a:gdLst/>
                    <a:ahLst/>
                    <a:rect l="l" t="t" r="r" b="b"/>
                    <a:pathLst>
                      <a:path w="63" h="76">
                        <a:moveTo>
                          <a:pt x="49" y="11"/>
                        </a:moveTo>
                        <a:lnTo>
                          <a:pt x="48" y="26"/>
                        </a:lnTo>
                        <a:lnTo>
                          <a:pt x="50" y="45"/>
                        </a:lnTo>
                        <a:lnTo>
                          <a:pt x="57" y="63"/>
                        </a:lnTo>
                        <a:lnTo>
                          <a:pt x="63" y="76"/>
                        </a:lnTo>
                        <a:lnTo>
                          <a:pt x="55" y="69"/>
                        </a:lnTo>
                        <a:lnTo>
                          <a:pt x="48" y="63"/>
                        </a:lnTo>
                        <a:lnTo>
                          <a:pt x="39" y="57"/>
                        </a:lnTo>
                        <a:lnTo>
                          <a:pt x="30" y="51"/>
                        </a:lnTo>
                        <a:lnTo>
                          <a:pt x="22" y="47"/>
                        </a:lnTo>
                        <a:lnTo>
                          <a:pt x="14" y="43"/>
                        </a:lnTo>
                        <a:lnTo>
                          <a:pt x="7" y="41"/>
                        </a:lnTo>
                        <a:lnTo>
                          <a:pt x="0" y="41"/>
                        </a:lnTo>
                        <a:lnTo>
                          <a:pt x="7" y="40"/>
                        </a:lnTo>
                        <a:lnTo>
                          <a:pt x="13" y="38"/>
                        </a:lnTo>
                        <a:lnTo>
                          <a:pt x="17" y="37"/>
                        </a:lnTo>
                        <a:lnTo>
                          <a:pt x="18" y="37"/>
                        </a:lnTo>
                        <a:lnTo>
                          <a:pt x="15" y="26"/>
                        </a:lnTo>
                        <a:lnTo>
                          <a:pt x="13" y="13"/>
                        </a:lnTo>
                        <a:lnTo>
                          <a:pt x="12" y="3"/>
                        </a:lnTo>
                        <a:lnTo>
                          <a:pt x="10" y="0"/>
                        </a:lnTo>
                        <a:lnTo>
                          <a:pt x="19" y="8"/>
                        </a:lnTo>
                        <a:lnTo>
                          <a:pt x="27" y="17"/>
                        </a:lnTo>
                        <a:lnTo>
                          <a:pt x="32" y="26"/>
                        </a:lnTo>
                        <a:lnTo>
                          <a:pt x="34" y="28"/>
                        </a:lnTo>
                        <a:lnTo>
                          <a:pt x="39" y="22"/>
                        </a:lnTo>
                        <a:lnTo>
                          <a:pt x="44" y="17"/>
                        </a:lnTo>
                        <a:lnTo>
                          <a:pt x="48" y="12"/>
                        </a:lnTo>
                        <a:lnTo>
                          <a:pt x="49" y="11"/>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2" name=""/>
                  <p:cNvSpPr/>
                  <p:nvPr/>
                </p:nvSpPr>
                <p:spPr>
                  <a:xfrm>
                    <a:off x="5127480" y="4624560"/>
                    <a:ext cx="22320" cy="25200"/>
                  </a:xfrm>
                  <a:custGeom>
                    <a:avLst/>
                    <a:gdLst/>
                    <a:ahLst/>
                    <a:rect l="l" t="t" r="r" b="b"/>
                    <a:pathLst>
                      <a:path w="57" h="62">
                        <a:moveTo>
                          <a:pt x="57" y="31"/>
                        </a:moveTo>
                        <a:lnTo>
                          <a:pt x="52" y="40"/>
                        </a:lnTo>
                        <a:lnTo>
                          <a:pt x="49" y="47"/>
                        </a:lnTo>
                        <a:lnTo>
                          <a:pt x="46" y="54"/>
                        </a:lnTo>
                        <a:lnTo>
                          <a:pt x="45" y="62"/>
                        </a:lnTo>
                        <a:lnTo>
                          <a:pt x="40" y="58"/>
                        </a:lnTo>
                        <a:lnTo>
                          <a:pt x="34" y="54"/>
                        </a:lnTo>
                        <a:lnTo>
                          <a:pt x="27" y="51"/>
                        </a:lnTo>
                        <a:lnTo>
                          <a:pt x="19" y="48"/>
                        </a:lnTo>
                        <a:lnTo>
                          <a:pt x="12" y="46"/>
                        </a:lnTo>
                        <a:lnTo>
                          <a:pt x="6" y="44"/>
                        </a:lnTo>
                        <a:lnTo>
                          <a:pt x="1" y="43"/>
                        </a:lnTo>
                        <a:lnTo>
                          <a:pt x="0" y="43"/>
                        </a:lnTo>
                        <a:lnTo>
                          <a:pt x="7" y="42"/>
                        </a:lnTo>
                        <a:lnTo>
                          <a:pt x="14" y="41"/>
                        </a:lnTo>
                        <a:lnTo>
                          <a:pt x="17" y="41"/>
                        </a:lnTo>
                        <a:lnTo>
                          <a:pt x="19" y="41"/>
                        </a:lnTo>
                        <a:lnTo>
                          <a:pt x="17" y="27"/>
                        </a:lnTo>
                        <a:lnTo>
                          <a:pt x="17" y="15"/>
                        </a:lnTo>
                        <a:lnTo>
                          <a:pt x="19" y="3"/>
                        </a:lnTo>
                        <a:lnTo>
                          <a:pt x="19" y="0"/>
                        </a:lnTo>
                        <a:lnTo>
                          <a:pt x="27" y="13"/>
                        </a:lnTo>
                        <a:lnTo>
                          <a:pt x="35" y="26"/>
                        </a:lnTo>
                        <a:lnTo>
                          <a:pt x="40" y="35"/>
                        </a:lnTo>
                        <a:lnTo>
                          <a:pt x="41" y="38"/>
                        </a:lnTo>
                        <a:lnTo>
                          <a:pt x="46" y="35"/>
                        </a:lnTo>
                        <a:lnTo>
                          <a:pt x="51" y="32"/>
                        </a:lnTo>
                        <a:lnTo>
                          <a:pt x="56" y="31"/>
                        </a:lnTo>
                        <a:lnTo>
                          <a:pt x="57" y="31"/>
                        </a:lnTo>
                        <a:close/>
                      </a:path>
                    </a:pathLst>
                  </a:custGeom>
                  <a:solidFill>
                    <a:srgbClr val="a53a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3" name=""/>
                  <p:cNvSpPr/>
                  <p:nvPr/>
                </p:nvSpPr>
                <p:spPr>
                  <a:xfrm>
                    <a:off x="5095800" y="4640400"/>
                    <a:ext cx="17280" cy="21960"/>
                  </a:xfrm>
                  <a:custGeom>
                    <a:avLst/>
                    <a:gdLst/>
                    <a:ahLst/>
                    <a:rect l="l" t="t" r="r" b="b"/>
                    <a:pathLst>
                      <a:path w="46" h="55">
                        <a:moveTo>
                          <a:pt x="46" y="19"/>
                        </a:moveTo>
                        <a:lnTo>
                          <a:pt x="43" y="26"/>
                        </a:lnTo>
                        <a:lnTo>
                          <a:pt x="41" y="36"/>
                        </a:lnTo>
                        <a:lnTo>
                          <a:pt x="41" y="46"/>
                        </a:lnTo>
                        <a:lnTo>
                          <a:pt x="43" y="55"/>
                        </a:lnTo>
                        <a:lnTo>
                          <a:pt x="38" y="53"/>
                        </a:lnTo>
                        <a:lnTo>
                          <a:pt x="32" y="50"/>
                        </a:lnTo>
                        <a:lnTo>
                          <a:pt x="25" y="48"/>
                        </a:lnTo>
                        <a:lnTo>
                          <a:pt x="18" y="45"/>
                        </a:lnTo>
                        <a:lnTo>
                          <a:pt x="12" y="44"/>
                        </a:lnTo>
                        <a:lnTo>
                          <a:pt x="7" y="41"/>
                        </a:lnTo>
                        <a:lnTo>
                          <a:pt x="2" y="41"/>
                        </a:lnTo>
                        <a:lnTo>
                          <a:pt x="0" y="41"/>
                        </a:lnTo>
                        <a:lnTo>
                          <a:pt x="8" y="39"/>
                        </a:lnTo>
                        <a:lnTo>
                          <a:pt x="15" y="38"/>
                        </a:lnTo>
                        <a:lnTo>
                          <a:pt x="17" y="39"/>
                        </a:lnTo>
                        <a:lnTo>
                          <a:pt x="18" y="39"/>
                        </a:lnTo>
                        <a:lnTo>
                          <a:pt x="12" y="25"/>
                        </a:lnTo>
                        <a:lnTo>
                          <a:pt x="8" y="13"/>
                        </a:lnTo>
                        <a:lnTo>
                          <a:pt x="6" y="4"/>
                        </a:lnTo>
                        <a:lnTo>
                          <a:pt x="6" y="0"/>
                        </a:lnTo>
                        <a:lnTo>
                          <a:pt x="15" y="10"/>
                        </a:lnTo>
                        <a:lnTo>
                          <a:pt x="23" y="19"/>
                        </a:lnTo>
                        <a:lnTo>
                          <a:pt x="30" y="28"/>
                        </a:lnTo>
                        <a:lnTo>
                          <a:pt x="32" y="30"/>
                        </a:lnTo>
                        <a:lnTo>
                          <a:pt x="36" y="25"/>
                        </a:lnTo>
                        <a:lnTo>
                          <a:pt x="41" y="23"/>
                        </a:lnTo>
                        <a:lnTo>
                          <a:pt x="45" y="20"/>
                        </a:lnTo>
                        <a:lnTo>
                          <a:pt x="46" y="19"/>
                        </a:lnTo>
                        <a:close/>
                      </a:path>
                    </a:pathLst>
                  </a:custGeom>
                  <a:solidFill>
                    <a:srgbClr val="a53a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4" name=""/>
                  <p:cNvSpPr/>
                  <p:nvPr/>
                </p:nvSpPr>
                <p:spPr>
                  <a:xfrm>
                    <a:off x="5068800" y="4654440"/>
                    <a:ext cx="15840" cy="22320"/>
                  </a:xfrm>
                  <a:custGeom>
                    <a:avLst/>
                    <a:gdLst/>
                    <a:ahLst/>
                    <a:rect l="l" t="t" r="r" b="b"/>
                    <a:pathLst>
                      <a:path w="44" h="53">
                        <a:moveTo>
                          <a:pt x="39" y="17"/>
                        </a:moveTo>
                        <a:lnTo>
                          <a:pt x="39" y="25"/>
                        </a:lnTo>
                        <a:lnTo>
                          <a:pt x="40" y="35"/>
                        </a:lnTo>
                        <a:lnTo>
                          <a:pt x="41" y="45"/>
                        </a:lnTo>
                        <a:lnTo>
                          <a:pt x="44" y="53"/>
                        </a:lnTo>
                        <a:lnTo>
                          <a:pt x="38" y="51"/>
                        </a:lnTo>
                        <a:lnTo>
                          <a:pt x="31" y="48"/>
                        </a:lnTo>
                        <a:lnTo>
                          <a:pt x="25" y="46"/>
                        </a:lnTo>
                        <a:lnTo>
                          <a:pt x="19" y="45"/>
                        </a:lnTo>
                        <a:lnTo>
                          <a:pt x="13" y="43"/>
                        </a:lnTo>
                        <a:lnTo>
                          <a:pt x="8" y="42"/>
                        </a:lnTo>
                        <a:lnTo>
                          <a:pt x="4" y="41"/>
                        </a:lnTo>
                        <a:lnTo>
                          <a:pt x="1" y="41"/>
                        </a:lnTo>
                        <a:lnTo>
                          <a:pt x="6" y="40"/>
                        </a:lnTo>
                        <a:lnTo>
                          <a:pt x="11" y="38"/>
                        </a:lnTo>
                        <a:lnTo>
                          <a:pt x="14" y="37"/>
                        </a:lnTo>
                        <a:lnTo>
                          <a:pt x="15" y="37"/>
                        </a:lnTo>
                        <a:lnTo>
                          <a:pt x="8" y="26"/>
                        </a:lnTo>
                        <a:lnTo>
                          <a:pt x="3" y="16"/>
                        </a:lnTo>
                        <a:lnTo>
                          <a:pt x="0" y="7"/>
                        </a:lnTo>
                        <a:lnTo>
                          <a:pt x="0" y="0"/>
                        </a:lnTo>
                        <a:lnTo>
                          <a:pt x="9" y="8"/>
                        </a:lnTo>
                        <a:lnTo>
                          <a:pt x="18" y="17"/>
                        </a:lnTo>
                        <a:lnTo>
                          <a:pt x="25" y="25"/>
                        </a:lnTo>
                        <a:lnTo>
                          <a:pt x="28" y="27"/>
                        </a:lnTo>
                        <a:lnTo>
                          <a:pt x="31" y="23"/>
                        </a:lnTo>
                        <a:lnTo>
                          <a:pt x="36" y="18"/>
                        </a:lnTo>
                        <a:lnTo>
                          <a:pt x="40" y="15"/>
                        </a:lnTo>
                        <a:lnTo>
                          <a:pt x="41" y="13"/>
                        </a:lnTo>
                        <a:lnTo>
                          <a:pt x="39" y="17"/>
                        </a:lnTo>
                        <a:close/>
                      </a:path>
                    </a:pathLst>
                  </a:custGeom>
                  <a:solidFill>
                    <a:srgbClr val="a53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5" name=""/>
                  <p:cNvSpPr/>
                  <p:nvPr/>
                </p:nvSpPr>
                <p:spPr>
                  <a:xfrm>
                    <a:off x="5092560" y="4506840"/>
                    <a:ext cx="36360" cy="30240"/>
                  </a:xfrm>
                  <a:custGeom>
                    <a:avLst/>
                    <a:gdLst/>
                    <a:ahLst/>
                    <a:rect l="l" t="t" r="r" b="b"/>
                    <a:pathLst>
                      <a:path w="88" h="74">
                        <a:moveTo>
                          <a:pt x="88" y="16"/>
                        </a:moveTo>
                        <a:lnTo>
                          <a:pt x="82" y="26"/>
                        </a:lnTo>
                        <a:lnTo>
                          <a:pt x="76" y="40"/>
                        </a:lnTo>
                        <a:lnTo>
                          <a:pt x="70" y="58"/>
                        </a:lnTo>
                        <a:lnTo>
                          <a:pt x="70" y="74"/>
                        </a:lnTo>
                        <a:lnTo>
                          <a:pt x="61" y="68"/>
                        </a:lnTo>
                        <a:lnTo>
                          <a:pt x="51" y="60"/>
                        </a:lnTo>
                        <a:lnTo>
                          <a:pt x="41" y="55"/>
                        </a:lnTo>
                        <a:lnTo>
                          <a:pt x="31" y="50"/>
                        </a:lnTo>
                        <a:lnTo>
                          <a:pt x="21" y="46"/>
                        </a:lnTo>
                        <a:lnTo>
                          <a:pt x="12" y="44"/>
                        </a:lnTo>
                        <a:lnTo>
                          <a:pt x="5" y="41"/>
                        </a:lnTo>
                        <a:lnTo>
                          <a:pt x="0" y="41"/>
                        </a:lnTo>
                        <a:lnTo>
                          <a:pt x="10" y="39"/>
                        </a:lnTo>
                        <a:lnTo>
                          <a:pt x="18" y="38"/>
                        </a:lnTo>
                        <a:lnTo>
                          <a:pt x="26" y="38"/>
                        </a:lnTo>
                        <a:lnTo>
                          <a:pt x="28" y="38"/>
                        </a:lnTo>
                        <a:lnTo>
                          <a:pt x="31" y="24"/>
                        </a:lnTo>
                        <a:lnTo>
                          <a:pt x="33" y="12"/>
                        </a:lnTo>
                        <a:lnTo>
                          <a:pt x="36" y="4"/>
                        </a:lnTo>
                        <a:lnTo>
                          <a:pt x="37" y="0"/>
                        </a:lnTo>
                        <a:lnTo>
                          <a:pt x="50" y="9"/>
                        </a:lnTo>
                        <a:lnTo>
                          <a:pt x="58" y="18"/>
                        </a:lnTo>
                        <a:lnTo>
                          <a:pt x="65" y="26"/>
                        </a:lnTo>
                        <a:lnTo>
                          <a:pt x="68" y="33"/>
                        </a:lnTo>
                        <a:lnTo>
                          <a:pt x="75" y="25"/>
                        </a:lnTo>
                        <a:lnTo>
                          <a:pt x="81" y="20"/>
                        </a:lnTo>
                        <a:lnTo>
                          <a:pt x="86" y="18"/>
                        </a:lnTo>
                        <a:lnTo>
                          <a:pt x="88" y="16"/>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6" name=""/>
                  <p:cNvSpPr/>
                  <p:nvPr/>
                </p:nvSpPr>
                <p:spPr>
                  <a:xfrm>
                    <a:off x="5057640" y="4483080"/>
                    <a:ext cx="34920" cy="28440"/>
                  </a:xfrm>
                  <a:custGeom>
                    <a:avLst/>
                    <a:gdLst/>
                    <a:ahLst/>
                    <a:rect l="l" t="t" r="r" b="b"/>
                    <a:pathLst>
                      <a:path w="89" h="73">
                        <a:moveTo>
                          <a:pt x="89" y="15"/>
                        </a:moveTo>
                        <a:lnTo>
                          <a:pt x="84" y="25"/>
                        </a:lnTo>
                        <a:lnTo>
                          <a:pt x="76" y="39"/>
                        </a:lnTo>
                        <a:lnTo>
                          <a:pt x="71" y="56"/>
                        </a:lnTo>
                        <a:lnTo>
                          <a:pt x="71" y="73"/>
                        </a:lnTo>
                        <a:lnTo>
                          <a:pt x="62" y="66"/>
                        </a:lnTo>
                        <a:lnTo>
                          <a:pt x="52" y="60"/>
                        </a:lnTo>
                        <a:lnTo>
                          <a:pt x="42" y="54"/>
                        </a:lnTo>
                        <a:lnTo>
                          <a:pt x="32" y="49"/>
                        </a:lnTo>
                        <a:lnTo>
                          <a:pt x="22" y="45"/>
                        </a:lnTo>
                        <a:lnTo>
                          <a:pt x="14" y="43"/>
                        </a:lnTo>
                        <a:lnTo>
                          <a:pt x="6" y="41"/>
                        </a:lnTo>
                        <a:lnTo>
                          <a:pt x="0" y="40"/>
                        </a:lnTo>
                        <a:lnTo>
                          <a:pt x="10" y="38"/>
                        </a:lnTo>
                        <a:lnTo>
                          <a:pt x="19" y="38"/>
                        </a:lnTo>
                        <a:lnTo>
                          <a:pt x="26" y="38"/>
                        </a:lnTo>
                        <a:lnTo>
                          <a:pt x="29" y="38"/>
                        </a:lnTo>
                        <a:lnTo>
                          <a:pt x="31" y="24"/>
                        </a:lnTo>
                        <a:lnTo>
                          <a:pt x="34" y="11"/>
                        </a:lnTo>
                        <a:lnTo>
                          <a:pt x="36" y="3"/>
                        </a:lnTo>
                        <a:lnTo>
                          <a:pt x="37" y="0"/>
                        </a:lnTo>
                        <a:lnTo>
                          <a:pt x="50" y="8"/>
                        </a:lnTo>
                        <a:lnTo>
                          <a:pt x="60" y="16"/>
                        </a:lnTo>
                        <a:lnTo>
                          <a:pt x="66" y="25"/>
                        </a:lnTo>
                        <a:lnTo>
                          <a:pt x="70" y="31"/>
                        </a:lnTo>
                        <a:lnTo>
                          <a:pt x="76" y="24"/>
                        </a:lnTo>
                        <a:lnTo>
                          <a:pt x="82" y="19"/>
                        </a:lnTo>
                        <a:lnTo>
                          <a:pt x="87" y="16"/>
                        </a:lnTo>
                        <a:lnTo>
                          <a:pt x="89" y="15"/>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67" name=""/>
                  <p:cNvSpPr/>
                  <p:nvPr/>
                </p:nvSpPr>
                <p:spPr>
                  <a:xfrm>
                    <a:off x="5065560" y="4440240"/>
                    <a:ext cx="34920" cy="28440"/>
                  </a:xfrm>
                  <a:custGeom>
                    <a:avLst/>
                    <a:gdLst/>
                    <a:ahLst/>
                    <a:rect l="l" t="t" r="r" b="b"/>
                    <a:pathLst>
                      <a:path w="89" h="73">
                        <a:moveTo>
                          <a:pt x="89" y="16"/>
                        </a:moveTo>
                        <a:lnTo>
                          <a:pt x="84" y="26"/>
                        </a:lnTo>
                        <a:lnTo>
                          <a:pt x="76" y="39"/>
                        </a:lnTo>
                        <a:lnTo>
                          <a:pt x="71" y="57"/>
                        </a:lnTo>
                        <a:lnTo>
                          <a:pt x="71" y="73"/>
                        </a:lnTo>
                        <a:lnTo>
                          <a:pt x="63" y="67"/>
                        </a:lnTo>
                        <a:lnTo>
                          <a:pt x="53" y="59"/>
                        </a:lnTo>
                        <a:lnTo>
                          <a:pt x="43" y="54"/>
                        </a:lnTo>
                        <a:lnTo>
                          <a:pt x="33" y="49"/>
                        </a:lnTo>
                        <a:lnTo>
                          <a:pt x="23" y="46"/>
                        </a:lnTo>
                        <a:lnTo>
                          <a:pt x="14" y="43"/>
                        </a:lnTo>
                        <a:lnTo>
                          <a:pt x="6" y="41"/>
                        </a:lnTo>
                        <a:lnTo>
                          <a:pt x="0" y="41"/>
                        </a:lnTo>
                        <a:lnTo>
                          <a:pt x="10" y="38"/>
                        </a:lnTo>
                        <a:lnTo>
                          <a:pt x="19" y="37"/>
                        </a:lnTo>
                        <a:lnTo>
                          <a:pt x="26" y="37"/>
                        </a:lnTo>
                        <a:lnTo>
                          <a:pt x="29" y="37"/>
                        </a:lnTo>
                        <a:lnTo>
                          <a:pt x="31" y="23"/>
                        </a:lnTo>
                        <a:lnTo>
                          <a:pt x="34" y="11"/>
                        </a:lnTo>
                        <a:lnTo>
                          <a:pt x="36" y="3"/>
                        </a:lnTo>
                        <a:lnTo>
                          <a:pt x="38" y="0"/>
                        </a:lnTo>
                        <a:lnTo>
                          <a:pt x="50" y="8"/>
                        </a:lnTo>
                        <a:lnTo>
                          <a:pt x="60" y="17"/>
                        </a:lnTo>
                        <a:lnTo>
                          <a:pt x="66" y="26"/>
                        </a:lnTo>
                        <a:lnTo>
                          <a:pt x="70" y="32"/>
                        </a:lnTo>
                        <a:lnTo>
                          <a:pt x="75" y="24"/>
                        </a:lnTo>
                        <a:lnTo>
                          <a:pt x="81" y="20"/>
                        </a:lnTo>
                        <a:lnTo>
                          <a:pt x="86" y="17"/>
                        </a:lnTo>
                        <a:lnTo>
                          <a:pt x="89" y="16"/>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68" name=""/>
                  <p:cNvSpPr/>
                  <p:nvPr/>
                </p:nvSpPr>
                <p:spPr>
                  <a:xfrm>
                    <a:off x="5089320" y="4552920"/>
                    <a:ext cx="34920" cy="30240"/>
                  </a:xfrm>
                  <a:custGeom>
                    <a:avLst/>
                    <a:gdLst/>
                    <a:ahLst/>
                    <a:rect l="l" t="t" r="r" b="b"/>
                    <a:pathLst>
                      <a:path w="91" h="77">
                        <a:moveTo>
                          <a:pt x="91" y="22"/>
                        </a:moveTo>
                        <a:lnTo>
                          <a:pt x="83" y="31"/>
                        </a:lnTo>
                        <a:lnTo>
                          <a:pt x="74" y="44"/>
                        </a:lnTo>
                        <a:lnTo>
                          <a:pt x="68" y="60"/>
                        </a:lnTo>
                        <a:lnTo>
                          <a:pt x="66" y="77"/>
                        </a:lnTo>
                        <a:lnTo>
                          <a:pt x="57" y="70"/>
                        </a:lnTo>
                        <a:lnTo>
                          <a:pt x="48" y="62"/>
                        </a:lnTo>
                        <a:lnTo>
                          <a:pt x="39" y="55"/>
                        </a:lnTo>
                        <a:lnTo>
                          <a:pt x="29" y="49"/>
                        </a:lnTo>
                        <a:lnTo>
                          <a:pt x="21" y="44"/>
                        </a:lnTo>
                        <a:lnTo>
                          <a:pt x="12" y="40"/>
                        </a:lnTo>
                        <a:lnTo>
                          <a:pt x="5" y="37"/>
                        </a:lnTo>
                        <a:lnTo>
                          <a:pt x="0" y="36"/>
                        </a:lnTo>
                        <a:lnTo>
                          <a:pt x="10" y="36"/>
                        </a:lnTo>
                        <a:lnTo>
                          <a:pt x="18" y="36"/>
                        </a:lnTo>
                        <a:lnTo>
                          <a:pt x="26" y="36"/>
                        </a:lnTo>
                        <a:lnTo>
                          <a:pt x="28" y="36"/>
                        </a:lnTo>
                        <a:lnTo>
                          <a:pt x="32" y="22"/>
                        </a:lnTo>
                        <a:lnTo>
                          <a:pt x="36" y="11"/>
                        </a:lnTo>
                        <a:lnTo>
                          <a:pt x="39" y="2"/>
                        </a:lnTo>
                        <a:lnTo>
                          <a:pt x="41" y="0"/>
                        </a:lnTo>
                        <a:lnTo>
                          <a:pt x="53" y="10"/>
                        </a:lnTo>
                        <a:lnTo>
                          <a:pt x="61" y="20"/>
                        </a:lnTo>
                        <a:lnTo>
                          <a:pt x="66" y="29"/>
                        </a:lnTo>
                        <a:lnTo>
                          <a:pt x="69" y="35"/>
                        </a:lnTo>
                        <a:lnTo>
                          <a:pt x="77" y="29"/>
                        </a:lnTo>
                        <a:lnTo>
                          <a:pt x="83" y="25"/>
                        </a:lnTo>
                        <a:lnTo>
                          <a:pt x="88" y="22"/>
                        </a:lnTo>
                        <a:lnTo>
                          <a:pt x="91" y="22"/>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a:off x="5128920" y="4586400"/>
                    <a:ext cx="36720" cy="29880"/>
                  </a:xfrm>
                  <a:custGeom>
                    <a:avLst/>
                    <a:gdLst/>
                    <a:ahLst/>
                    <a:rect l="l" t="t" r="r" b="b"/>
                    <a:pathLst>
                      <a:path w="91" h="76">
                        <a:moveTo>
                          <a:pt x="91" y="22"/>
                        </a:moveTo>
                        <a:lnTo>
                          <a:pt x="85" y="30"/>
                        </a:lnTo>
                        <a:lnTo>
                          <a:pt x="76" y="44"/>
                        </a:lnTo>
                        <a:lnTo>
                          <a:pt x="68" y="60"/>
                        </a:lnTo>
                        <a:lnTo>
                          <a:pt x="67" y="76"/>
                        </a:lnTo>
                        <a:lnTo>
                          <a:pt x="58" y="69"/>
                        </a:lnTo>
                        <a:lnTo>
                          <a:pt x="50" y="61"/>
                        </a:lnTo>
                        <a:lnTo>
                          <a:pt x="41" y="54"/>
                        </a:lnTo>
                        <a:lnTo>
                          <a:pt x="31" y="48"/>
                        </a:lnTo>
                        <a:lnTo>
                          <a:pt x="21" y="43"/>
                        </a:lnTo>
                        <a:lnTo>
                          <a:pt x="12" y="39"/>
                        </a:lnTo>
                        <a:lnTo>
                          <a:pt x="6" y="37"/>
                        </a:lnTo>
                        <a:lnTo>
                          <a:pt x="0" y="35"/>
                        </a:lnTo>
                        <a:lnTo>
                          <a:pt x="10" y="35"/>
                        </a:lnTo>
                        <a:lnTo>
                          <a:pt x="18" y="35"/>
                        </a:lnTo>
                        <a:lnTo>
                          <a:pt x="26" y="37"/>
                        </a:lnTo>
                        <a:lnTo>
                          <a:pt x="28" y="37"/>
                        </a:lnTo>
                        <a:lnTo>
                          <a:pt x="32" y="23"/>
                        </a:lnTo>
                        <a:lnTo>
                          <a:pt x="37" y="12"/>
                        </a:lnTo>
                        <a:lnTo>
                          <a:pt x="41" y="3"/>
                        </a:lnTo>
                        <a:lnTo>
                          <a:pt x="42" y="0"/>
                        </a:lnTo>
                        <a:lnTo>
                          <a:pt x="53" y="9"/>
                        </a:lnTo>
                        <a:lnTo>
                          <a:pt x="62" y="19"/>
                        </a:lnTo>
                        <a:lnTo>
                          <a:pt x="67" y="28"/>
                        </a:lnTo>
                        <a:lnTo>
                          <a:pt x="70" y="35"/>
                        </a:lnTo>
                        <a:lnTo>
                          <a:pt x="77" y="28"/>
                        </a:lnTo>
                        <a:lnTo>
                          <a:pt x="83" y="24"/>
                        </a:lnTo>
                        <a:lnTo>
                          <a:pt x="88" y="22"/>
                        </a:lnTo>
                        <a:lnTo>
                          <a:pt x="91" y="22"/>
                        </a:lnTo>
                        <a:close/>
                      </a:path>
                    </a:pathLst>
                  </a:custGeom>
                  <a:solidFill>
                    <a:srgbClr val="a53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0" name=""/>
                  <p:cNvSpPr/>
                  <p:nvPr/>
                </p:nvSpPr>
                <p:spPr>
                  <a:xfrm>
                    <a:off x="5032080" y="4452840"/>
                    <a:ext cx="25560" cy="33480"/>
                  </a:xfrm>
                  <a:custGeom>
                    <a:avLst/>
                    <a:gdLst/>
                    <a:ahLst/>
                    <a:rect l="l" t="t" r="r" b="b"/>
                    <a:pathLst>
                      <a:path w="63" h="83">
                        <a:moveTo>
                          <a:pt x="63" y="18"/>
                        </a:moveTo>
                        <a:lnTo>
                          <a:pt x="58" y="29"/>
                        </a:lnTo>
                        <a:lnTo>
                          <a:pt x="55" y="48"/>
                        </a:lnTo>
                        <a:lnTo>
                          <a:pt x="54" y="68"/>
                        </a:lnTo>
                        <a:lnTo>
                          <a:pt x="55" y="83"/>
                        </a:lnTo>
                        <a:lnTo>
                          <a:pt x="49" y="75"/>
                        </a:lnTo>
                        <a:lnTo>
                          <a:pt x="43" y="69"/>
                        </a:lnTo>
                        <a:lnTo>
                          <a:pt x="35" y="63"/>
                        </a:lnTo>
                        <a:lnTo>
                          <a:pt x="28" y="57"/>
                        </a:lnTo>
                        <a:lnTo>
                          <a:pt x="20" y="53"/>
                        </a:lnTo>
                        <a:lnTo>
                          <a:pt x="13" y="49"/>
                        </a:lnTo>
                        <a:lnTo>
                          <a:pt x="6" y="48"/>
                        </a:lnTo>
                        <a:lnTo>
                          <a:pt x="0" y="47"/>
                        </a:lnTo>
                        <a:lnTo>
                          <a:pt x="9" y="45"/>
                        </a:lnTo>
                        <a:lnTo>
                          <a:pt x="16" y="44"/>
                        </a:lnTo>
                        <a:lnTo>
                          <a:pt x="20" y="42"/>
                        </a:lnTo>
                        <a:lnTo>
                          <a:pt x="21" y="42"/>
                        </a:lnTo>
                        <a:lnTo>
                          <a:pt x="19" y="30"/>
                        </a:lnTo>
                        <a:lnTo>
                          <a:pt x="19" y="17"/>
                        </a:lnTo>
                        <a:lnTo>
                          <a:pt x="20" y="5"/>
                        </a:lnTo>
                        <a:lnTo>
                          <a:pt x="20" y="0"/>
                        </a:lnTo>
                        <a:lnTo>
                          <a:pt x="33" y="12"/>
                        </a:lnTo>
                        <a:lnTo>
                          <a:pt x="43" y="23"/>
                        </a:lnTo>
                        <a:lnTo>
                          <a:pt x="48" y="30"/>
                        </a:lnTo>
                        <a:lnTo>
                          <a:pt x="49" y="34"/>
                        </a:lnTo>
                        <a:lnTo>
                          <a:pt x="54" y="28"/>
                        </a:lnTo>
                        <a:lnTo>
                          <a:pt x="58" y="23"/>
                        </a:lnTo>
                        <a:lnTo>
                          <a:pt x="61" y="19"/>
                        </a:lnTo>
                        <a:lnTo>
                          <a:pt x="63" y="18"/>
                        </a:lnTo>
                        <a:close/>
                      </a:path>
                    </a:pathLst>
                  </a:custGeom>
                  <a:solidFill>
                    <a:srgbClr val="a53a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71" name=""/>
                  <p:cNvSpPr/>
                  <p:nvPr/>
                </p:nvSpPr>
                <p:spPr>
                  <a:xfrm>
                    <a:off x="5100480" y="4462560"/>
                    <a:ext cx="30240" cy="28440"/>
                  </a:xfrm>
                  <a:custGeom>
                    <a:avLst/>
                    <a:gdLst/>
                    <a:ahLst/>
                    <a:rect l="l" t="t" r="r" b="b"/>
                    <a:pathLst>
                      <a:path w="75" h="72">
                        <a:moveTo>
                          <a:pt x="0" y="32"/>
                        </a:moveTo>
                        <a:lnTo>
                          <a:pt x="8" y="34"/>
                        </a:lnTo>
                        <a:lnTo>
                          <a:pt x="16" y="37"/>
                        </a:lnTo>
                        <a:lnTo>
                          <a:pt x="28" y="42"/>
                        </a:lnTo>
                        <a:lnTo>
                          <a:pt x="39" y="47"/>
                        </a:lnTo>
                        <a:lnTo>
                          <a:pt x="49" y="53"/>
                        </a:lnTo>
                        <a:lnTo>
                          <a:pt x="59" y="60"/>
                        </a:lnTo>
                        <a:lnTo>
                          <a:pt x="65" y="66"/>
                        </a:lnTo>
                        <a:lnTo>
                          <a:pt x="70" y="72"/>
                        </a:lnTo>
                        <a:lnTo>
                          <a:pt x="70" y="58"/>
                        </a:lnTo>
                        <a:lnTo>
                          <a:pt x="71" y="42"/>
                        </a:lnTo>
                        <a:lnTo>
                          <a:pt x="73" y="26"/>
                        </a:lnTo>
                        <a:lnTo>
                          <a:pt x="75" y="16"/>
                        </a:lnTo>
                        <a:lnTo>
                          <a:pt x="70" y="20"/>
                        </a:lnTo>
                        <a:lnTo>
                          <a:pt x="66" y="24"/>
                        </a:lnTo>
                        <a:lnTo>
                          <a:pt x="65" y="27"/>
                        </a:lnTo>
                        <a:lnTo>
                          <a:pt x="64" y="29"/>
                        </a:lnTo>
                        <a:lnTo>
                          <a:pt x="56" y="16"/>
                        </a:lnTo>
                        <a:lnTo>
                          <a:pt x="49" y="9"/>
                        </a:lnTo>
                        <a:lnTo>
                          <a:pt x="41" y="2"/>
                        </a:lnTo>
                        <a:lnTo>
                          <a:pt x="35" y="0"/>
                        </a:lnTo>
                        <a:lnTo>
                          <a:pt x="34" y="10"/>
                        </a:lnTo>
                        <a:lnTo>
                          <a:pt x="34" y="19"/>
                        </a:lnTo>
                        <a:lnTo>
                          <a:pt x="34" y="27"/>
                        </a:lnTo>
                        <a:lnTo>
                          <a:pt x="36" y="34"/>
                        </a:lnTo>
                        <a:lnTo>
                          <a:pt x="26" y="32"/>
                        </a:lnTo>
                        <a:lnTo>
                          <a:pt x="15" y="31"/>
                        </a:lnTo>
                        <a:lnTo>
                          <a:pt x="4" y="32"/>
                        </a:lnTo>
                        <a:lnTo>
                          <a:pt x="0" y="32"/>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2" name=""/>
                  <p:cNvSpPr/>
                  <p:nvPr/>
                </p:nvSpPr>
                <p:spPr>
                  <a:xfrm>
                    <a:off x="5141880" y="4495680"/>
                    <a:ext cx="21960" cy="30240"/>
                  </a:xfrm>
                  <a:custGeom>
                    <a:avLst/>
                    <a:gdLst/>
                    <a:ahLst/>
                    <a:rect l="l" t="t" r="r" b="b"/>
                    <a:pathLst>
                      <a:path w="59" h="75">
                        <a:moveTo>
                          <a:pt x="0" y="37"/>
                        </a:moveTo>
                        <a:lnTo>
                          <a:pt x="5" y="40"/>
                        </a:lnTo>
                        <a:lnTo>
                          <a:pt x="12" y="42"/>
                        </a:lnTo>
                        <a:lnTo>
                          <a:pt x="20" y="47"/>
                        </a:lnTo>
                        <a:lnTo>
                          <a:pt x="27" y="53"/>
                        </a:lnTo>
                        <a:lnTo>
                          <a:pt x="36" y="60"/>
                        </a:lnTo>
                        <a:lnTo>
                          <a:pt x="44" y="65"/>
                        </a:lnTo>
                        <a:lnTo>
                          <a:pt x="50" y="70"/>
                        </a:lnTo>
                        <a:lnTo>
                          <a:pt x="54" y="75"/>
                        </a:lnTo>
                        <a:lnTo>
                          <a:pt x="55" y="60"/>
                        </a:lnTo>
                        <a:lnTo>
                          <a:pt x="56" y="42"/>
                        </a:lnTo>
                        <a:lnTo>
                          <a:pt x="57" y="26"/>
                        </a:lnTo>
                        <a:lnTo>
                          <a:pt x="59" y="15"/>
                        </a:lnTo>
                        <a:lnTo>
                          <a:pt x="55" y="19"/>
                        </a:lnTo>
                        <a:lnTo>
                          <a:pt x="51" y="24"/>
                        </a:lnTo>
                        <a:lnTo>
                          <a:pt x="49" y="27"/>
                        </a:lnTo>
                        <a:lnTo>
                          <a:pt x="47" y="29"/>
                        </a:lnTo>
                        <a:lnTo>
                          <a:pt x="41" y="19"/>
                        </a:lnTo>
                        <a:lnTo>
                          <a:pt x="32" y="10"/>
                        </a:lnTo>
                        <a:lnTo>
                          <a:pt x="24" y="4"/>
                        </a:lnTo>
                        <a:lnTo>
                          <a:pt x="17" y="0"/>
                        </a:lnTo>
                        <a:lnTo>
                          <a:pt x="20" y="11"/>
                        </a:lnTo>
                        <a:lnTo>
                          <a:pt x="22" y="24"/>
                        </a:lnTo>
                        <a:lnTo>
                          <a:pt x="24" y="35"/>
                        </a:lnTo>
                        <a:lnTo>
                          <a:pt x="25" y="39"/>
                        </a:lnTo>
                        <a:lnTo>
                          <a:pt x="17" y="37"/>
                        </a:lnTo>
                        <a:lnTo>
                          <a:pt x="9" y="37"/>
                        </a:lnTo>
                        <a:lnTo>
                          <a:pt x="2" y="37"/>
                        </a:lnTo>
                        <a:lnTo>
                          <a:pt x="0" y="37"/>
                        </a:lnTo>
                        <a:close/>
                      </a:path>
                    </a:pathLst>
                  </a:custGeom>
                  <a:solidFill>
                    <a:srgbClr val="a53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3" name=""/>
                  <p:cNvSpPr/>
                  <p:nvPr/>
                </p:nvSpPr>
                <p:spPr>
                  <a:xfrm>
                    <a:off x="5052960" y="4524480"/>
                    <a:ext cx="31680" cy="31680"/>
                  </a:xfrm>
                  <a:custGeom>
                    <a:avLst/>
                    <a:gdLst/>
                    <a:ahLst/>
                    <a:rect l="l" t="t" r="r" b="b"/>
                    <a:pathLst>
                      <a:path w="79" h="84">
                        <a:moveTo>
                          <a:pt x="79" y="13"/>
                        </a:moveTo>
                        <a:lnTo>
                          <a:pt x="73" y="25"/>
                        </a:lnTo>
                        <a:lnTo>
                          <a:pt x="64" y="45"/>
                        </a:lnTo>
                        <a:lnTo>
                          <a:pt x="58" y="68"/>
                        </a:lnTo>
                        <a:lnTo>
                          <a:pt x="58" y="84"/>
                        </a:lnTo>
                        <a:lnTo>
                          <a:pt x="54" y="80"/>
                        </a:lnTo>
                        <a:lnTo>
                          <a:pt x="50" y="75"/>
                        </a:lnTo>
                        <a:lnTo>
                          <a:pt x="44" y="69"/>
                        </a:lnTo>
                        <a:lnTo>
                          <a:pt x="37" y="64"/>
                        </a:lnTo>
                        <a:lnTo>
                          <a:pt x="28" y="59"/>
                        </a:lnTo>
                        <a:lnTo>
                          <a:pt x="19" y="55"/>
                        </a:lnTo>
                        <a:lnTo>
                          <a:pt x="10" y="53"/>
                        </a:lnTo>
                        <a:lnTo>
                          <a:pt x="0" y="52"/>
                        </a:lnTo>
                        <a:lnTo>
                          <a:pt x="7" y="48"/>
                        </a:lnTo>
                        <a:lnTo>
                          <a:pt x="14" y="47"/>
                        </a:lnTo>
                        <a:lnTo>
                          <a:pt x="22" y="45"/>
                        </a:lnTo>
                        <a:lnTo>
                          <a:pt x="28" y="47"/>
                        </a:lnTo>
                        <a:lnTo>
                          <a:pt x="28" y="34"/>
                        </a:lnTo>
                        <a:lnTo>
                          <a:pt x="29" y="18"/>
                        </a:lnTo>
                        <a:lnTo>
                          <a:pt x="30" y="5"/>
                        </a:lnTo>
                        <a:lnTo>
                          <a:pt x="30" y="0"/>
                        </a:lnTo>
                        <a:lnTo>
                          <a:pt x="38" y="10"/>
                        </a:lnTo>
                        <a:lnTo>
                          <a:pt x="45" y="20"/>
                        </a:lnTo>
                        <a:lnTo>
                          <a:pt x="53" y="29"/>
                        </a:lnTo>
                        <a:lnTo>
                          <a:pt x="55" y="33"/>
                        </a:lnTo>
                        <a:lnTo>
                          <a:pt x="62" y="27"/>
                        </a:lnTo>
                        <a:lnTo>
                          <a:pt x="69" y="20"/>
                        </a:lnTo>
                        <a:lnTo>
                          <a:pt x="77" y="15"/>
                        </a:lnTo>
                        <a:lnTo>
                          <a:pt x="79" y="13"/>
                        </a:lnTo>
                        <a:close/>
                      </a:path>
                    </a:pathLst>
                  </a:custGeom>
                  <a:solidFill>
                    <a:srgbClr val="a53a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4" name=""/>
                  <p:cNvSpPr/>
                  <p:nvPr/>
                </p:nvSpPr>
                <p:spPr>
                  <a:xfrm>
                    <a:off x="5109840" y="4430880"/>
                    <a:ext cx="25560" cy="28440"/>
                  </a:xfrm>
                  <a:custGeom>
                    <a:avLst/>
                    <a:gdLst/>
                    <a:ahLst/>
                    <a:rect l="l" t="t" r="r" b="b"/>
                    <a:pathLst>
                      <a:path w="63" h="70">
                        <a:moveTo>
                          <a:pt x="0" y="34"/>
                        </a:moveTo>
                        <a:lnTo>
                          <a:pt x="6" y="35"/>
                        </a:lnTo>
                        <a:lnTo>
                          <a:pt x="14" y="38"/>
                        </a:lnTo>
                        <a:lnTo>
                          <a:pt x="24" y="43"/>
                        </a:lnTo>
                        <a:lnTo>
                          <a:pt x="34" y="48"/>
                        </a:lnTo>
                        <a:lnTo>
                          <a:pt x="44" y="54"/>
                        </a:lnTo>
                        <a:lnTo>
                          <a:pt x="53" y="60"/>
                        </a:lnTo>
                        <a:lnTo>
                          <a:pt x="59" y="65"/>
                        </a:lnTo>
                        <a:lnTo>
                          <a:pt x="63" y="70"/>
                        </a:lnTo>
                        <a:lnTo>
                          <a:pt x="60" y="58"/>
                        </a:lnTo>
                        <a:lnTo>
                          <a:pt x="59" y="43"/>
                        </a:lnTo>
                        <a:lnTo>
                          <a:pt x="59" y="30"/>
                        </a:lnTo>
                        <a:lnTo>
                          <a:pt x="59" y="22"/>
                        </a:lnTo>
                        <a:lnTo>
                          <a:pt x="54" y="24"/>
                        </a:lnTo>
                        <a:lnTo>
                          <a:pt x="50" y="27"/>
                        </a:lnTo>
                        <a:lnTo>
                          <a:pt x="46" y="29"/>
                        </a:lnTo>
                        <a:lnTo>
                          <a:pt x="45" y="30"/>
                        </a:lnTo>
                        <a:lnTo>
                          <a:pt x="40" y="24"/>
                        </a:lnTo>
                        <a:lnTo>
                          <a:pt x="34" y="19"/>
                        </a:lnTo>
                        <a:lnTo>
                          <a:pt x="28" y="14"/>
                        </a:lnTo>
                        <a:lnTo>
                          <a:pt x="21" y="10"/>
                        </a:lnTo>
                        <a:lnTo>
                          <a:pt x="15" y="7"/>
                        </a:lnTo>
                        <a:lnTo>
                          <a:pt x="10" y="4"/>
                        </a:lnTo>
                        <a:lnTo>
                          <a:pt x="5" y="2"/>
                        </a:lnTo>
                        <a:lnTo>
                          <a:pt x="3" y="0"/>
                        </a:lnTo>
                        <a:lnTo>
                          <a:pt x="9" y="10"/>
                        </a:lnTo>
                        <a:lnTo>
                          <a:pt x="15" y="22"/>
                        </a:lnTo>
                        <a:lnTo>
                          <a:pt x="20" y="30"/>
                        </a:lnTo>
                        <a:lnTo>
                          <a:pt x="23" y="34"/>
                        </a:lnTo>
                        <a:lnTo>
                          <a:pt x="16" y="34"/>
                        </a:lnTo>
                        <a:lnTo>
                          <a:pt x="9" y="34"/>
                        </a:lnTo>
                        <a:lnTo>
                          <a:pt x="3" y="34"/>
                        </a:lnTo>
                        <a:lnTo>
                          <a:pt x="0" y="34"/>
                        </a:lnTo>
                        <a:close/>
                      </a:path>
                    </a:pathLst>
                  </a:custGeom>
                  <a:solidFill>
                    <a:srgbClr val="a53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5" name=""/>
                  <p:cNvSpPr/>
                  <p:nvPr/>
                </p:nvSpPr>
                <p:spPr>
                  <a:xfrm>
                    <a:off x="5072040" y="4408560"/>
                    <a:ext cx="23760" cy="22320"/>
                  </a:xfrm>
                  <a:custGeom>
                    <a:avLst/>
                    <a:gdLst/>
                    <a:ahLst/>
                    <a:rect l="l" t="t" r="r" b="b"/>
                    <a:pathLst>
                      <a:path w="59" h="56">
                        <a:moveTo>
                          <a:pt x="0" y="25"/>
                        </a:moveTo>
                        <a:lnTo>
                          <a:pt x="8" y="28"/>
                        </a:lnTo>
                        <a:lnTo>
                          <a:pt x="15" y="30"/>
                        </a:lnTo>
                        <a:lnTo>
                          <a:pt x="23" y="34"/>
                        </a:lnTo>
                        <a:lnTo>
                          <a:pt x="30" y="38"/>
                        </a:lnTo>
                        <a:lnTo>
                          <a:pt x="38" y="43"/>
                        </a:lnTo>
                        <a:lnTo>
                          <a:pt x="45" y="48"/>
                        </a:lnTo>
                        <a:lnTo>
                          <a:pt x="50" y="51"/>
                        </a:lnTo>
                        <a:lnTo>
                          <a:pt x="55" y="56"/>
                        </a:lnTo>
                        <a:lnTo>
                          <a:pt x="55" y="46"/>
                        </a:lnTo>
                        <a:lnTo>
                          <a:pt x="55" y="34"/>
                        </a:lnTo>
                        <a:lnTo>
                          <a:pt x="56" y="23"/>
                        </a:lnTo>
                        <a:lnTo>
                          <a:pt x="59" y="16"/>
                        </a:lnTo>
                        <a:lnTo>
                          <a:pt x="46" y="21"/>
                        </a:lnTo>
                        <a:lnTo>
                          <a:pt x="38" y="13"/>
                        </a:lnTo>
                        <a:lnTo>
                          <a:pt x="28" y="5"/>
                        </a:lnTo>
                        <a:lnTo>
                          <a:pt x="19" y="2"/>
                        </a:lnTo>
                        <a:lnTo>
                          <a:pt x="15" y="0"/>
                        </a:lnTo>
                        <a:lnTo>
                          <a:pt x="18" y="8"/>
                        </a:lnTo>
                        <a:lnTo>
                          <a:pt x="20" y="15"/>
                        </a:lnTo>
                        <a:lnTo>
                          <a:pt x="21" y="21"/>
                        </a:lnTo>
                        <a:lnTo>
                          <a:pt x="23" y="24"/>
                        </a:lnTo>
                        <a:lnTo>
                          <a:pt x="15" y="23"/>
                        </a:lnTo>
                        <a:lnTo>
                          <a:pt x="8" y="24"/>
                        </a:lnTo>
                        <a:lnTo>
                          <a:pt x="3" y="25"/>
                        </a:lnTo>
                        <a:lnTo>
                          <a:pt x="0" y="25"/>
                        </a:lnTo>
                        <a:close/>
                      </a:path>
                    </a:pathLst>
                  </a:custGeom>
                  <a:solidFill>
                    <a:srgbClr val="a53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6" name=""/>
                  <p:cNvSpPr/>
                  <p:nvPr/>
                </p:nvSpPr>
                <p:spPr>
                  <a:xfrm>
                    <a:off x="5040000" y="4413240"/>
                    <a:ext cx="20880" cy="27000"/>
                  </a:xfrm>
                  <a:custGeom>
                    <a:avLst/>
                    <a:gdLst/>
                    <a:ahLst/>
                    <a:rect l="l" t="t" r="r" b="b"/>
                    <a:pathLst>
                      <a:path w="51" h="68">
                        <a:moveTo>
                          <a:pt x="51" y="17"/>
                        </a:moveTo>
                        <a:lnTo>
                          <a:pt x="48" y="27"/>
                        </a:lnTo>
                        <a:lnTo>
                          <a:pt x="46" y="42"/>
                        </a:lnTo>
                        <a:lnTo>
                          <a:pt x="44" y="58"/>
                        </a:lnTo>
                        <a:lnTo>
                          <a:pt x="44" y="68"/>
                        </a:lnTo>
                        <a:lnTo>
                          <a:pt x="40" y="62"/>
                        </a:lnTo>
                        <a:lnTo>
                          <a:pt x="35" y="56"/>
                        </a:lnTo>
                        <a:lnTo>
                          <a:pt x="29" y="51"/>
                        </a:lnTo>
                        <a:lnTo>
                          <a:pt x="23" y="44"/>
                        </a:lnTo>
                        <a:lnTo>
                          <a:pt x="16" y="41"/>
                        </a:lnTo>
                        <a:lnTo>
                          <a:pt x="11" y="37"/>
                        </a:lnTo>
                        <a:lnTo>
                          <a:pt x="5" y="34"/>
                        </a:lnTo>
                        <a:lnTo>
                          <a:pt x="0" y="33"/>
                        </a:lnTo>
                        <a:lnTo>
                          <a:pt x="8" y="33"/>
                        </a:lnTo>
                        <a:lnTo>
                          <a:pt x="14" y="32"/>
                        </a:lnTo>
                        <a:lnTo>
                          <a:pt x="18" y="32"/>
                        </a:lnTo>
                        <a:lnTo>
                          <a:pt x="19" y="32"/>
                        </a:lnTo>
                        <a:lnTo>
                          <a:pt x="15" y="21"/>
                        </a:lnTo>
                        <a:lnTo>
                          <a:pt x="13" y="11"/>
                        </a:lnTo>
                        <a:lnTo>
                          <a:pt x="10" y="3"/>
                        </a:lnTo>
                        <a:lnTo>
                          <a:pt x="10" y="0"/>
                        </a:lnTo>
                        <a:lnTo>
                          <a:pt x="23" y="7"/>
                        </a:lnTo>
                        <a:lnTo>
                          <a:pt x="33" y="16"/>
                        </a:lnTo>
                        <a:lnTo>
                          <a:pt x="38" y="22"/>
                        </a:lnTo>
                        <a:lnTo>
                          <a:pt x="40" y="24"/>
                        </a:lnTo>
                        <a:lnTo>
                          <a:pt x="51" y="17"/>
                        </a:lnTo>
                        <a:close/>
                      </a:path>
                    </a:pathLst>
                  </a:custGeom>
                  <a:solidFill>
                    <a:srgbClr val="a53a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7" name=""/>
                  <p:cNvSpPr/>
                  <p:nvPr/>
                </p:nvSpPr>
                <p:spPr>
                  <a:xfrm>
                    <a:off x="5143320" y="4538520"/>
                    <a:ext cx="25560" cy="34920"/>
                  </a:xfrm>
                  <a:custGeom>
                    <a:avLst/>
                    <a:gdLst/>
                    <a:ahLst/>
                    <a:rect l="l" t="t" r="r" b="b"/>
                    <a:pathLst>
                      <a:path w="64" h="89">
                        <a:moveTo>
                          <a:pt x="0" y="45"/>
                        </a:moveTo>
                        <a:lnTo>
                          <a:pt x="6" y="47"/>
                        </a:lnTo>
                        <a:lnTo>
                          <a:pt x="14" y="51"/>
                        </a:lnTo>
                        <a:lnTo>
                          <a:pt x="23" y="56"/>
                        </a:lnTo>
                        <a:lnTo>
                          <a:pt x="33" y="61"/>
                        </a:lnTo>
                        <a:lnTo>
                          <a:pt x="41" y="69"/>
                        </a:lnTo>
                        <a:lnTo>
                          <a:pt x="50" y="75"/>
                        </a:lnTo>
                        <a:lnTo>
                          <a:pt x="58" y="82"/>
                        </a:lnTo>
                        <a:lnTo>
                          <a:pt x="61" y="89"/>
                        </a:lnTo>
                        <a:lnTo>
                          <a:pt x="61" y="69"/>
                        </a:lnTo>
                        <a:lnTo>
                          <a:pt x="61" y="44"/>
                        </a:lnTo>
                        <a:lnTo>
                          <a:pt x="63" y="20"/>
                        </a:lnTo>
                        <a:lnTo>
                          <a:pt x="64" y="5"/>
                        </a:lnTo>
                        <a:lnTo>
                          <a:pt x="58" y="13"/>
                        </a:lnTo>
                        <a:lnTo>
                          <a:pt x="53" y="20"/>
                        </a:lnTo>
                        <a:lnTo>
                          <a:pt x="49" y="27"/>
                        </a:lnTo>
                        <a:lnTo>
                          <a:pt x="48" y="34"/>
                        </a:lnTo>
                        <a:lnTo>
                          <a:pt x="39" y="22"/>
                        </a:lnTo>
                        <a:lnTo>
                          <a:pt x="29" y="13"/>
                        </a:lnTo>
                        <a:lnTo>
                          <a:pt x="19" y="5"/>
                        </a:lnTo>
                        <a:lnTo>
                          <a:pt x="13" y="0"/>
                        </a:lnTo>
                        <a:lnTo>
                          <a:pt x="18" y="13"/>
                        </a:lnTo>
                        <a:lnTo>
                          <a:pt x="24" y="26"/>
                        </a:lnTo>
                        <a:lnTo>
                          <a:pt x="29" y="39"/>
                        </a:lnTo>
                        <a:lnTo>
                          <a:pt x="30" y="44"/>
                        </a:lnTo>
                        <a:lnTo>
                          <a:pt x="21" y="42"/>
                        </a:lnTo>
                        <a:lnTo>
                          <a:pt x="11" y="44"/>
                        </a:lnTo>
                        <a:lnTo>
                          <a:pt x="4" y="45"/>
                        </a:lnTo>
                        <a:lnTo>
                          <a:pt x="0" y="45"/>
                        </a:lnTo>
                        <a:close/>
                      </a:path>
                    </a:pathLst>
                  </a:custGeom>
                  <a:solidFill>
                    <a:srgbClr val="a53a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8" name=""/>
                  <p:cNvSpPr/>
                  <p:nvPr/>
                </p:nvSpPr>
                <p:spPr>
                  <a:xfrm>
                    <a:off x="5180040" y="4572000"/>
                    <a:ext cx="18720" cy="34920"/>
                  </a:xfrm>
                  <a:custGeom>
                    <a:avLst/>
                    <a:gdLst/>
                    <a:ahLst/>
                    <a:rect l="l" t="t" r="r" b="b"/>
                    <a:pathLst>
                      <a:path w="48" h="90">
                        <a:moveTo>
                          <a:pt x="0" y="51"/>
                        </a:moveTo>
                        <a:lnTo>
                          <a:pt x="9" y="55"/>
                        </a:lnTo>
                        <a:lnTo>
                          <a:pt x="18" y="65"/>
                        </a:lnTo>
                        <a:lnTo>
                          <a:pt x="25" y="77"/>
                        </a:lnTo>
                        <a:lnTo>
                          <a:pt x="29" y="90"/>
                        </a:lnTo>
                        <a:lnTo>
                          <a:pt x="31" y="76"/>
                        </a:lnTo>
                        <a:lnTo>
                          <a:pt x="36" y="60"/>
                        </a:lnTo>
                        <a:lnTo>
                          <a:pt x="41" y="46"/>
                        </a:lnTo>
                        <a:lnTo>
                          <a:pt x="48" y="37"/>
                        </a:lnTo>
                        <a:lnTo>
                          <a:pt x="41" y="37"/>
                        </a:lnTo>
                        <a:lnTo>
                          <a:pt x="39" y="37"/>
                        </a:lnTo>
                        <a:lnTo>
                          <a:pt x="36" y="39"/>
                        </a:lnTo>
                        <a:lnTo>
                          <a:pt x="35" y="40"/>
                        </a:lnTo>
                        <a:lnTo>
                          <a:pt x="34" y="27"/>
                        </a:lnTo>
                        <a:lnTo>
                          <a:pt x="30" y="16"/>
                        </a:lnTo>
                        <a:lnTo>
                          <a:pt x="26" y="6"/>
                        </a:lnTo>
                        <a:lnTo>
                          <a:pt x="21" y="0"/>
                        </a:lnTo>
                        <a:lnTo>
                          <a:pt x="19" y="13"/>
                        </a:lnTo>
                        <a:lnTo>
                          <a:pt x="18" y="26"/>
                        </a:lnTo>
                        <a:lnTo>
                          <a:pt x="18" y="40"/>
                        </a:lnTo>
                        <a:lnTo>
                          <a:pt x="16" y="47"/>
                        </a:lnTo>
                        <a:lnTo>
                          <a:pt x="11" y="45"/>
                        </a:lnTo>
                        <a:lnTo>
                          <a:pt x="6" y="47"/>
                        </a:lnTo>
                        <a:lnTo>
                          <a:pt x="2" y="50"/>
                        </a:lnTo>
                        <a:lnTo>
                          <a:pt x="0" y="51"/>
                        </a:lnTo>
                        <a:close/>
                      </a:path>
                    </a:pathLst>
                  </a:custGeom>
                  <a:solidFill>
                    <a:srgbClr val="a53a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a:off x="5167080" y="4618080"/>
                    <a:ext cx="20880" cy="25200"/>
                  </a:xfrm>
                  <a:custGeom>
                    <a:avLst/>
                    <a:gdLst/>
                    <a:ahLst/>
                    <a:rect l="l" t="t" r="r" b="b"/>
                    <a:pathLst>
                      <a:path w="50" h="61">
                        <a:moveTo>
                          <a:pt x="0" y="37"/>
                        </a:moveTo>
                        <a:lnTo>
                          <a:pt x="6" y="41"/>
                        </a:lnTo>
                        <a:lnTo>
                          <a:pt x="14" y="45"/>
                        </a:lnTo>
                        <a:lnTo>
                          <a:pt x="19" y="51"/>
                        </a:lnTo>
                        <a:lnTo>
                          <a:pt x="23" y="61"/>
                        </a:lnTo>
                        <a:lnTo>
                          <a:pt x="29" y="51"/>
                        </a:lnTo>
                        <a:lnTo>
                          <a:pt x="35" y="42"/>
                        </a:lnTo>
                        <a:lnTo>
                          <a:pt x="42" y="35"/>
                        </a:lnTo>
                        <a:lnTo>
                          <a:pt x="50" y="30"/>
                        </a:lnTo>
                        <a:lnTo>
                          <a:pt x="44" y="30"/>
                        </a:lnTo>
                        <a:lnTo>
                          <a:pt x="39" y="30"/>
                        </a:lnTo>
                        <a:lnTo>
                          <a:pt x="35" y="31"/>
                        </a:lnTo>
                        <a:lnTo>
                          <a:pt x="34" y="31"/>
                        </a:lnTo>
                        <a:lnTo>
                          <a:pt x="33" y="16"/>
                        </a:lnTo>
                        <a:lnTo>
                          <a:pt x="30" y="7"/>
                        </a:lnTo>
                        <a:lnTo>
                          <a:pt x="26" y="1"/>
                        </a:lnTo>
                        <a:lnTo>
                          <a:pt x="25" y="0"/>
                        </a:lnTo>
                        <a:lnTo>
                          <a:pt x="21" y="10"/>
                        </a:lnTo>
                        <a:lnTo>
                          <a:pt x="19" y="21"/>
                        </a:lnTo>
                        <a:lnTo>
                          <a:pt x="18" y="30"/>
                        </a:lnTo>
                        <a:lnTo>
                          <a:pt x="18" y="33"/>
                        </a:lnTo>
                        <a:lnTo>
                          <a:pt x="13" y="33"/>
                        </a:lnTo>
                        <a:lnTo>
                          <a:pt x="6" y="35"/>
                        </a:lnTo>
                        <a:lnTo>
                          <a:pt x="1" y="36"/>
                        </a:lnTo>
                        <a:lnTo>
                          <a:pt x="0" y="37"/>
                        </a:lnTo>
                        <a:close/>
                      </a:path>
                    </a:pathLst>
                  </a:custGeom>
                  <a:solidFill>
                    <a:srgbClr val="a53a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0" name=""/>
                  <p:cNvSpPr/>
                  <p:nvPr/>
                </p:nvSpPr>
                <p:spPr>
                  <a:xfrm>
                    <a:off x="4768560" y="4457880"/>
                    <a:ext cx="219240" cy="198360"/>
                  </a:xfrm>
                  <a:custGeom>
                    <a:avLst/>
                    <a:gdLst/>
                    <a:ahLst/>
                    <a:rect l="l" t="t" r="r" b="b"/>
                    <a:pathLst>
                      <a:path w="551" h="498">
                        <a:moveTo>
                          <a:pt x="319" y="109"/>
                        </a:moveTo>
                        <a:lnTo>
                          <a:pt x="314" y="99"/>
                        </a:lnTo>
                        <a:lnTo>
                          <a:pt x="306" y="89"/>
                        </a:lnTo>
                        <a:lnTo>
                          <a:pt x="296" y="81"/>
                        </a:lnTo>
                        <a:lnTo>
                          <a:pt x="285" y="72"/>
                        </a:lnTo>
                        <a:lnTo>
                          <a:pt x="272" y="63"/>
                        </a:lnTo>
                        <a:lnTo>
                          <a:pt x="259" y="56"/>
                        </a:lnTo>
                        <a:lnTo>
                          <a:pt x="244" y="50"/>
                        </a:lnTo>
                        <a:lnTo>
                          <a:pt x="227" y="46"/>
                        </a:lnTo>
                        <a:lnTo>
                          <a:pt x="210" y="42"/>
                        </a:lnTo>
                        <a:lnTo>
                          <a:pt x="192" y="42"/>
                        </a:lnTo>
                        <a:lnTo>
                          <a:pt x="174" y="43"/>
                        </a:lnTo>
                        <a:lnTo>
                          <a:pt x="156" y="47"/>
                        </a:lnTo>
                        <a:lnTo>
                          <a:pt x="138" y="55"/>
                        </a:lnTo>
                        <a:lnTo>
                          <a:pt x="119" y="64"/>
                        </a:lnTo>
                        <a:lnTo>
                          <a:pt x="101" y="78"/>
                        </a:lnTo>
                        <a:lnTo>
                          <a:pt x="84" y="94"/>
                        </a:lnTo>
                        <a:lnTo>
                          <a:pt x="53" y="136"/>
                        </a:lnTo>
                        <a:lnTo>
                          <a:pt x="28" y="183"/>
                        </a:lnTo>
                        <a:lnTo>
                          <a:pt x="9" y="234"/>
                        </a:lnTo>
                        <a:lnTo>
                          <a:pt x="0" y="285"/>
                        </a:lnTo>
                        <a:lnTo>
                          <a:pt x="3" y="334"/>
                        </a:lnTo>
                        <a:lnTo>
                          <a:pt x="18" y="379"/>
                        </a:lnTo>
                        <a:lnTo>
                          <a:pt x="46" y="416"/>
                        </a:lnTo>
                        <a:lnTo>
                          <a:pt x="91" y="443"/>
                        </a:lnTo>
                        <a:lnTo>
                          <a:pt x="94" y="450"/>
                        </a:lnTo>
                        <a:lnTo>
                          <a:pt x="100" y="457"/>
                        </a:lnTo>
                        <a:lnTo>
                          <a:pt x="108" y="463"/>
                        </a:lnTo>
                        <a:lnTo>
                          <a:pt x="116" y="471"/>
                        </a:lnTo>
                        <a:lnTo>
                          <a:pt x="128" y="476"/>
                        </a:lnTo>
                        <a:lnTo>
                          <a:pt x="139" y="481"/>
                        </a:lnTo>
                        <a:lnTo>
                          <a:pt x="151" y="482"/>
                        </a:lnTo>
                        <a:lnTo>
                          <a:pt x="165" y="481"/>
                        </a:lnTo>
                        <a:lnTo>
                          <a:pt x="169" y="486"/>
                        </a:lnTo>
                        <a:lnTo>
                          <a:pt x="174" y="489"/>
                        </a:lnTo>
                        <a:lnTo>
                          <a:pt x="182" y="493"/>
                        </a:lnTo>
                        <a:lnTo>
                          <a:pt x="192" y="496"/>
                        </a:lnTo>
                        <a:lnTo>
                          <a:pt x="205" y="497"/>
                        </a:lnTo>
                        <a:lnTo>
                          <a:pt x="217" y="498"/>
                        </a:lnTo>
                        <a:lnTo>
                          <a:pt x="232" y="498"/>
                        </a:lnTo>
                        <a:lnTo>
                          <a:pt x="247" y="497"/>
                        </a:lnTo>
                        <a:lnTo>
                          <a:pt x="264" y="494"/>
                        </a:lnTo>
                        <a:lnTo>
                          <a:pt x="280" y="492"/>
                        </a:lnTo>
                        <a:lnTo>
                          <a:pt x="296" y="488"/>
                        </a:lnTo>
                        <a:lnTo>
                          <a:pt x="312" y="482"/>
                        </a:lnTo>
                        <a:lnTo>
                          <a:pt x="327" y="476"/>
                        </a:lnTo>
                        <a:lnTo>
                          <a:pt x="342" y="468"/>
                        </a:lnTo>
                        <a:lnTo>
                          <a:pt x="356" y="458"/>
                        </a:lnTo>
                        <a:lnTo>
                          <a:pt x="367" y="448"/>
                        </a:lnTo>
                        <a:lnTo>
                          <a:pt x="391" y="421"/>
                        </a:lnTo>
                        <a:lnTo>
                          <a:pt x="417" y="385"/>
                        </a:lnTo>
                        <a:lnTo>
                          <a:pt x="441" y="341"/>
                        </a:lnTo>
                        <a:lnTo>
                          <a:pt x="458" y="294"/>
                        </a:lnTo>
                        <a:lnTo>
                          <a:pt x="465" y="246"/>
                        </a:lnTo>
                        <a:lnTo>
                          <a:pt x="456" y="203"/>
                        </a:lnTo>
                        <a:lnTo>
                          <a:pt x="428" y="164"/>
                        </a:lnTo>
                        <a:lnTo>
                          <a:pt x="377" y="137"/>
                        </a:lnTo>
                        <a:lnTo>
                          <a:pt x="400" y="138"/>
                        </a:lnTo>
                        <a:lnTo>
                          <a:pt x="423" y="139"/>
                        </a:lnTo>
                        <a:lnTo>
                          <a:pt x="448" y="143"/>
                        </a:lnTo>
                        <a:lnTo>
                          <a:pt x="472" y="147"/>
                        </a:lnTo>
                        <a:lnTo>
                          <a:pt x="493" y="152"/>
                        </a:lnTo>
                        <a:lnTo>
                          <a:pt x="515" y="158"/>
                        </a:lnTo>
                        <a:lnTo>
                          <a:pt x="531" y="165"/>
                        </a:lnTo>
                        <a:lnTo>
                          <a:pt x="545" y="173"/>
                        </a:lnTo>
                        <a:lnTo>
                          <a:pt x="551" y="157"/>
                        </a:lnTo>
                        <a:lnTo>
                          <a:pt x="551" y="134"/>
                        </a:lnTo>
                        <a:lnTo>
                          <a:pt x="543" y="109"/>
                        </a:lnTo>
                        <a:lnTo>
                          <a:pt x="528" y="84"/>
                        </a:lnTo>
                        <a:lnTo>
                          <a:pt x="507" y="64"/>
                        </a:lnTo>
                        <a:lnTo>
                          <a:pt x="476" y="52"/>
                        </a:lnTo>
                        <a:lnTo>
                          <a:pt x="438" y="51"/>
                        </a:lnTo>
                        <a:lnTo>
                          <a:pt x="391" y="64"/>
                        </a:lnTo>
                        <a:lnTo>
                          <a:pt x="397" y="52"/>
                        </a:lnTo>
                        <a:lnTo>
                          <a:pt x="402" y="41"/>
                        </a:lnTo>
                        <a:lnTo>
                          <a:pt x="405" y="30"/>
                        </a:lnTo>
                        <a:lnTo>
                          <a:pt x="406" y="15"/>
                        </a:lnTo>
                        <a:lnTo>
                          <a:pt x="403" y="7"/>
                        </a:lnTo>
                        <a:lnTo>
                          <a:pt x="398" y="2"/>
                        </a:lnTo>
                        <a:lnTo>
                          <a:pt x="390" y="0"/>
                        </a:lnTo>
                        <a:lnTo>
                          <a:pt x="381" y="0"/>
                        </a:lnTo>
                        <a:lnTo>
                          <a:pt x="374" y="1"/>
                        </a:lnTo>
                        <a:lnTo>
                          <a:pt x="367" y="5"/>
                        </a:lnTo>
                        <a:lnTo>
                          <a:pt x="365" y="10"/>
                        </a:lnTo>
                        <a:lnTo>
                          <a:pt x="366" y="18"/>
                        </a:lnTo>
                        <a:lnTo>
                          <a:pt x="367" y="28"/>
                        </a:lnTo>
                        <a:lnTo>
                          <a:pt x="366" y="40"/>
                        </a:lnTo>
                        <a:lnTo>
                          <a:pt x="360" y="52"/>
                        </a:lnTo>
                        <a:lnTo>
                          <a:pt x="352" y="64"/>
                        </a:lnTo>
                        <a:lnTo>
                          <a:pt x="344" y="78"/>
                        </a:lnTo>
                        <a:lnTo>
                          <a:pt x="335" y="89"/>
                        </a:lnTo>
                        <a:lnTo>
                          <a:pt x="326" y="101"/>
                        </a:lnTo>
                        <a:lnTo>
                          <a:pt x="319"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4825800" y="4492800"/>
                    <a:ext cx="46080" cy="33120"/>
                  </a:xfrm>
                  <a:custGeom>
                    <a:avLst/>
                    <a:gdLst/>
                    <a:ahLst/>
                    <a:rect l="l" t="t" r="r" b="b"/>
                    <a:pathLst>
                      <a:path w="113" h="83">
                        <a:moveTo>
                          <a:pt x="65" y="0"/>
                        </a:moveTo>
                        <a:lnTo>
                          <a:pt x="75" y="0"/>
                        </a:lnTo>
                        <a:lnTo>
                          <a:pt x="83" y="1"/>
                        </a:lnTo>
                        <a:lnTo>
                          <a:pt x="91" y="5"/>
                        </a:lnTo>
                        <a:lnTo>
                          <a:pt x="97" y="9"/>
                        </a:lnTo>
                        <a:lnTo>
                          <a:pt x="103" y="15"/>
                        </a:lnTo>
                        <a:lnTo>
                          <a:pt x="108" y="21"/>
                        </a:lnTo>
                        <a:lnTo>
                          <a:pt x="111" y="30"/>
                        </a:lnTo>
                        <a:lnTo>
                          <a:pt x="113" y="40"/>
                        </a:lnTo>
                        <a:lnTo>
                          <a:pt x="106" y="41"/>
                        </a:lnTo>
                        <a:lnTo>
                          <a:pt x="97" y="45"/>
                        </a:lnTo>
                        <a:lnTo>
                          <a:pt x="86" y="49"/>
                        </a:lnTo>
                        <a:lnTo>
                          <a:pt x="73" y="53"/>
                        </a:lnTo>
                        <a:lnTo>
                          <a:pt x="61" y="61"/>
                        </a:lnTo>
                        <a:lnTo>
                          <a:pt x="47" y="67"/>
                        </a:lnTo>
                        <a:lnTo>
                          <a:pt x="36" y="75"/>
                        </a:lnTo>
                        <a:lnTo>
                          <a:pt x="25" y="83"/>
                        </a:lnTo>
                        <a:lnTo>
                          <a:pt x="15" y="78"/>
                        </a:lnTo>
                        <a:lnTo>
                          <a:pt x="7" y="70"/>
                        </a:lnTo>
                        <a:lnTo>
                          <a:pt x="1" y="60"/>
                        </a:lnTo>
                        <a:lnTo>
                          <a:pt x="0" y="47"/>
                        </a:lnTo>
                        <a:lnTo>
                          <a:pt x="1" y="36"/>
                        </a:lnTo>
                        <a:lnTo>
                          <a:pt x="6" y="25"/>
                        </a:lnTo>
                        <a:lnTo>
                          <a:pt x="15" y="15"/>
                        </a:lnTo>
                        <a:lnTo>
                          <a:pt x="28" y="7"/>
                        </a:lnTo>
                        <a:lnTo>
                          <a:pt x="38" y="5"/>
                        </a:lnTo>
                        <a:lnTo>
                          <a:pt x="47" y="2"/>
                        </a:lnTo>
                        <a:lnTo>
                          <a:pt x="56" y="1"/>
                        </a:lnTo>
                        <a:lnTo>
                          <a:pt x="6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82" name=""/>
                  <p:cNvSpPr/>
                  <p:nvPr/>
                </p:nvSpPr>
                <p:spPr>
                  <a:xfrm>
                    <a:off x="4778280" y="4487760"/>
                    <a:ext cx="173160" cy="165240"/>
                  </a:xfrm>
                  <a:custGeom>
                    <a:avLst/>
                    <a:gdLst/>
                    <a:ahLst/>
                    <a:rect l="l" t="t" r="r" b="b"/>
                    <a:pathLst>
                      <a:path w="435" h="419">
                        <a:moveTo>
                          <a:pt x="146" y="97"/>
                        </a:moveTo>
                        <a:lnTo>
                          <a:pt x="138" y="104"/>
                        </a:lnTo>
                        <a:lnTo>
                          <a:pt x="131" y="111"/>
                        </a:lnTo>
                        <a:lnTo>
                          <a:pt x="125" y="121"/>
                        </a:lnTo>
                        <a:lnTo>
                          <a:pt x="121" y="132"/>
                        </a:lnTo>
                        <a:lnTo>
                          <a:pt x="121" y="144"/>
                        </a:lnTo>
                        <a:lnTo>
                          <a:pt x="123" y="153"/>
                        </a:lnTo>
                        <a:lnTo>
                          <a:pt x="132" y="163"/>
                        </a:lnTo>
                        <a:lnTo>
                          <a:pt x="146" y="172"/>
                        </a:lnTo>
                        <a:lnTo>
                          <a:pt x="144" y="160"/>
                        </a:lnTo>
                        <a:lnTo>
                          <a:pt x="148" y="145"/>
                        </a:lnTo>
                        <a:lnTo>
                          <a:pt x="156" y="129"/>
                        </a:lnTo>
                        <a:lnTo>
                          <a:pt x="168" y="111"/>
                        </a:lnTo>
                        <a:lnTo>
                          <a:pt x="184" y="96"/>
                        </a:lnTo>
                        <a:lnTo>
                          <a:pt x="207" y="84"/>
                        </a:lnTo>
                        <a:lnTo>
                          <a:pt x="232" y="75"/>
                        </a:lnTo>
                        <a:lnTo>
                          <a:pt x="263" y="72"/>
                        </a:lnTo>
                        <a:lnTo>
                          <a:pt x="272" y="74"/>
                        </a:lnTo>
                        <a:lnTo>
                          <a:pt x="268" y="77"/>
                        </a:lnTo>
                        <a:lnTo>
                          <a:pt x="259" y="84"/>
                        </a:lnTo>
                        <a:lnTo>
                          <a:pt x="251" y="90"/>
                        </a:lnTo>
                        <a:lnTo>
                          <a:pt x="244" y="96"/>
                        </a:lnTo>
                        <a:lnTo>
                          <a:pt x="239" y="104"/>
                        </a:lnTo>
                        <a:lnTo>
                          <a:pt x="237" y="110"/>
                        </a:lnTo>
                        <a:lnTo>
                          <a:pt x="234" y="117"/>
                        </a:lnTo>
                        <a:lnTo>
                          <a:pt x="242" y="119"/>
                        </a:lnTo>
                        <a:lnTo>
                          <a:pt x="249" y="120"/>
                        </a:lnTo>
                        <a:lnTo>
                          <a:pt x="258" y="122"/>
                        </a:lnTo>
                        <a:lnTo>
                          <a:pt x="267" y="125"/>
                        </a:lnTo>
                        <a:lnTo>
                          <a:pt x="276" y="127"/>
                        </a:lnTo>
                        <a:lnTo>
                          <a:pt x="284" y="131"/>
                        </a:lnTo>
                        <a:lnTo>
                          <a:pt x="291" y="136"/>
                        </a:lnTo>
                        <a:lnTo>
                          <a:pt x="296" y="141"/>
                        </a:lnTo>
                        <a:lnTo>
                          <a:pt x="301" y="126"/>
                        </a:lnTo>
                        <a:lnTo>
                          <a:pt x="307" y="114"/>
                        </a:lnTo>
                        <a:lnTo>
                          <a:pt x="317" y="106"/>
                        </a:lnTo>
                        <a:lnTo>
                          <a:pt x="328" y="102"/>
                        </a:lnTo>
                        <a:lnTo>
                          <a:pt x="337" y="106"/>
                        </a:lnTo>
                        <a:lnTo>
                          <a:pt x="344" y="116"/>
                        </a:lnTo>
                        <a:lnTo>
                          <a:pt x="349" y="131"/>
                        </a:lnTo>
                        <a:lnTo>
                          <a:pt x="352" y="152"/>
                        </a:lnTo>
                        <a:lnTo>
                          <a:pt x="352" y="177"/>
                        </a:lnTo>
                        <a:lnTo>
                          <a:pt x="349" y="206"/>
                        </a:lnTo>
                        <a:lnTo>
                          <a:pt x="342" y="237"/>
                        </a:lnTo>
                        <a:lnTo>
                          <a:pt x="329" y="269"/>
                        </a:lnTo>
                        <a:lnTo>
                          <a:pt x="324" y="281"/>
                        </a:lnTo>
                        <a:lnTo>
                          <a:pt x="317" y="294"/>
                        </a:lnTo>
                        <a:lnTo>
                          <a:pt x="308" y="309"/>
                        </a:lnTo>
                        <a:lnTo>
                          <a:pt x="298" y="324"/>
                        </a:lnTo>
                        <a:lnTo>
                          <a:pt x="288" y="338"/>
                        </a:lnTo>
                        <a:lnTo>
                          <a:pt x="276" y="352"/>
                        </a:lnTo>
                        <a:lnTo>
                          <a:pt x="262" y="363"/>
                        </a:lnTo>
                        <a:lnTo>
                          <a:pt x="248" y="373"/>
                        </a:lnTo>
                        <a:lnTo>
                          <a:pt x="276" y="385"/>
                        </a:lnTo>
                        <a:lnTo>
                          <a:pt x="293" y="370"/>
                        </a:lnTo>
                        <a:lnTo>
                          <a:pt x="313" y="350"/>
                        </a:lnTo>
                        <a:lnTo>
                          <a:pt x="333" y="325"/>
                        </a:lnTo>
                        <a:lnTo>
                          <a:pt x="352" y="298"/>
                        </a:lnTo>
                        <a:lnTo>
                          <a:pt x="367" y="268"/>
                        </a:lnTo>
                        <a:lnTo>
                          <a:pt x="380" y="238"/>
                        </a:lnTo>
                        <a:lnTo>
                          <a:pt x="388" y="208"/>
                        </a:lnTo>
                        <a:lnTo>
                          <a:pt x="389" y="180"/>
                        </a:lnTo>
                        <a:lnTo>
                          <a:pt x="387" y="147"/>
                        </a:lnTo>
                        <a:lnTo>
                          <a:pt x="387" y="130"/>
                        </a:lnTo>
                        <a:lnTo>
                          <a:pt x="389" y="122"/>
                        </a:lnTo>
                        <a:lnTo>
                          <a:pt x="397" y="120"/>
                        </a:lnTo>
                        <a:lnTo>
                          <a:pt x="405" y="121"/>
                        </a:lnTo>
                        <a:lnTo>
                          <a:pt x="415" y="126"/>
                        </a:lnTo>
                        <a:lnTo>
                          <a:pt x="427" y="137"/>
                        </a:lnTo>
                        <a:lnTo>
                          <a:pt x="433" y="155"/>
                        </a:lnTo>
                        <a:lnTo>
                          <a:pt x="435" y="166"/>
                        </a:lnTo>
                        <a:lnTo>
                          <a:pt x="435" y="175"/>
                        </a:lnTo>
                        <a:lnTo>
                          <a:pt x="435" y="183"/>
                        </a:lnTo>
                        <a:lnTo>
                          <a:pt x="434" y="190"/>
                        </a:lnTo>
                        <a:lnTo>
                          <a:pt x="424" y="232"/>
                        </a:lnTo>
                        <a:lnTo>
                          <a:pt x="409" y="269"/>
                        </a:lnTo>
                        <a:lnTo>
                          <a:pt x="393" y="303"/>
                        </a:lnTo>
                        <a:lnTo>
                          <a:pt x="373" y="333"/>
                        </a:lnTo>
                        <a:lnTo>
                          <a:pt x="352" y="358"/>
                        </a:lnTo>
                        <a:lnTo>
                          <a:pt x="329" y="378"/>
                        </a:lnTo>
                        <a:lnTo>
                          <a:pt x="307" y="394"/>
                        </a:lnTo>
                        <a:lnTo>
                          <a:pt x="284" y="405"/>
                        </a:lnTo>
                        <a:lnTo>
                          <a:pt x="263" y="411"/>
                        </a:lnTo>
                        <a:lnTo>
                          <a:pt x="242" y="416"/>
                        </a:lnTo>
                        <a:lnTo>
                          <a:pt x="219" y="419"/>
                        </a:lnTo>
                        <a:lnTo>
                          <a:pt x="198" y="419"/>
                        </a:lnTo>
                        <a:lnTo>
                          <a:pt x="179" y="416"/>
                        </a:lnTo>
                        <a:lnTo>
                          <a:pt x="164" y="414"/>
                        </a:lnTo>
                        <a:lnTo>
                          <a:pt x="152" y="408"/>
                        </a:lnTo>
                        <a:lnTo>
                          <a:pt x="146" y="401"/>
                        </a:lnTo>
                        <a:lnTo>
                          <a:pt x="130" y="403"/>
                        </a:lnTo>
                        <a:lnTo>
                          <a:pt x="116" y="400"/>
                        </a:lnTo>
                        <a:lnTo>
                          <a:pt x="105" y="396"/>
                        </a:lnTo>
                        <a:lnTo>
                          <a:pt x="95" y="391"/>
                        </a:lnTo>
                        <a:lnTo>
                          <a:pt x="87" y="385"/>
                        </a:lnTo>
                        <a:lnTo>
                          <a:pt x="81" y="378"/>
                        </a:lnTo>
                        <a:lnTo>
                          <a:pt x="76" y="372"/>
                        </a:lnTo>
                        <a:lnTo>
                          <a:pt x="72" y="364"/>
                        </a:lnTo>
                        <a:lnTo>
                          <a:pt x="70" y="357"/>
                        </a:lnTo>
                        <a:lnTo>
                          <a:pt x="66" y="352"/>
                        </a:lnTo>
                        <a:lnTo>
                          <a:pt x="61" y="348"/>
                        </a:lnTo>
                        <a:lnTo>
                          <a:pt x="55" y="344"/>
                        </a:lnTo>
                        <a:lnTo>
                          <a:pt x="16" y="298"/>
                        </a:lnTo>
                        <a:lnTo>
                          <a:pt x="0" y="248"/>
                        </a:lnTo>
                        <a:lnTo>
                          <a:pt x="2" y="195"/>
                        </a:lnTo>
                        <a:lnTo>
                          <a:pt x="18" y="144"/>
                        </a:lnTo>
                        <a:lnTo>
                          <a:pt x="42" y="96"/>
                        </a:lnTo>
                        <a:lnTo>
                          <a:pt x="70" y="56"/>
                        </a:lnTo>
                        <a:lnTo>
                          <a:pt x="95" y="28"/>
                        </a:lnTo>
                        <a:lnTo>
                          <a:pt x="113" y="13"/>
                        </a:lnTo>
                        <a:lnTo>
                          <a:pt x="126" y="6"/>
                        </a:lnTo>
                        <a:lnTo>
                          <a:pt x="138" y="3"/>
                        </a:lnTo>
                        <a:lnTo>
                          <a:pt x="149" y="0"/>
                        </a:lnTo>
                        <a:lnTo>
                          <a:pt x="161" y="0"/>
                        </a:lnTo>
                        <a:lnTo>
                          <a:pt x="169" y="1"/>
                        </a:lnTo>
                        <a:lnTo>
                          <a:pt x="177" y="5"/>
                        </a:lnTo>
                        <a:lnTo>
                          <a:pt x="182" y="9"/>
                        </a:lnTo>
                        <a:lnTo>
                          <a:pt x="186" y="14"/>
                        </a:lnTo>
                        <a:lnTo>
                          <a:pt x="177" y="15"/>
                        </a:lnTo>
                        <a:lnTo>
                          <a:pt x="168" y="16"/>
                        </a:lnTo>
                        <a:lnTo>
                          <a:pt x="159" y="19"/>
                        </a:lnTo>
                        <a:lnTo>
                          <a:pt x="149" y="21"/>
                        </a:lnTo>
                        <a:lnTo>
                          <a:pt x="136" y="29"/>
                        </a:lnTo>
                        <a:lnTo>
                          <a:pt x="127" y="39"/>
                        </a:lnTo>
                        <a:lnTo>
                          <a:pt x="122" y="50"/>
                        </a:lnTo>
                        <a:lnTo>
                          <a:pt x="121" y="61"/>
                        </a:lnTo>
                        <a:lnTo>
                          <a:pt x="122" y="74"/>
                        </a:lnTo>
                        <a:lnTo>
                          <a:pt x="128" y="84"/>
                        </a:lnTo>
                        <a:lnTo>
                          <a:pt x="136" y="92"/>
                        </a:lnTo>
                        <a:lnTo>
                          <a:pt x="146" y="9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4771800" y="4478400"/>
                    <a:ext cx="177840" cy="162000"/>
                  </a:xfrm>
                  <a:custGeom>
                    <a:avLst/>
                    <a:gdLst/>
                    <a:ahLst/>
                    <a:rect l="l" t="t" r="r" b="b"/>
                    <a:pathLst>
                      <a:path w="448" h="408">
                        <a:moveTo>
                          <a:pt x="344" y="292"/>
                        </a:moveTo>
                        <a:lnTo>
                          <a:pt x="357" y="260"/>
                        </a:lnTo>
                        <a:lnTo>
                          <a:pt x="364" y="229"/>
                        </a:lnTo>
                        <a:lnTo>
                          <a:pt x="367" y="200"/>
                        </a:lnTo>
                        <a:lnTo>
                          <a:pt x="367" y="175"/>
                        </a:lnTo>
                        <a:lnTo>
                          <a:pt x="364" y="154"/>
                        </a:lnTo>
                        <a:lnTo>
                          <a:pt x="359" y="139"/>
                        </a:lnTo>
                        <a:lnTo>
                          <a:pt x="352" y="129"/>
                        </a:lnTo>
                        <a:lnTo>
                          <a:pt x="343" y="125"/>
                        </a:lnTo>
                        <a:lnTo>
                          <a:pt x="332" y="129"/>
                        </a:lnTo>
                        <a:lnTo>
                          <a:pt x="322" y="137"/>
                        </a:lnTo>
                        <a:lnTo>
                          <a:pt x="316" y="149"/>
                        </a:lnTo>
                        <a:lnTo>
                          <a:pt x="311" y="164"/>
                        </a:lnTo>
                        <a:lnTo>
                          <a:pt x="306" y="159"/>
                        </a:lnTo>
                        <a:lnTo>
                          <a:pt x="299" y="154"/>
                        </a:lnTo>
                        <a:lnTo>
                          <a:pt x="291" y="150"/>
                        </a:lnTo>
                        <a:lnTo>
                          <a:pt x="282" y="148"/>
                        </a:lnTo>
                        <a:lnTo>
                          <a:pt x="273" y="145"/>
                        </a:lnTo>
                        <a:lnTo>
                          <a:pt x="264" y="143"/>
                        </a:lnTo>
                        <a:lnTo>
                          <a:pt x="257" y="142"/>
                        </a:lnTo>
                        <a:lnTo>
                          <a:pt x="249" y="140"/>
                        </a:lnTo>
                        <a:lnTo>
                          <a:pt x="252" y="133"/>
                        </a:lnTo>
                        <a:lnTo>
                          <a:pt x="254" y="127"/>
                        </a:lnTo>
                        <a:lnTo>
                          <a:pt x="259" y="119"/>
                        </a:lnTo>
                        <a:lnTo>
                          <a:pt x="266" y="113"/>
                        </a:lnTo>
                        <a:lnTo>
                          <a:pt x="274" y="107"/>
                        </a:lnTo>
                        <a:lnTo>
                          <a:pt x="283" y="100"/>
                        </a:lnTo>
                        <a:lnTo>
                          <a:pt x="287" y="97"/>
                        </a:lnTo>
                        <a:lnTo>
                          <a:pt x="278" y="95"/>
                        </a:lnTo>
                        <a:lnTo>
                          <a:pt x="247" y="98"/>
                        </a:lnTo>
                        <a:lnTo>
                          <a:pt x="222" y="107"/>
                        </a:lnTo>
                        <a:lnTo>
                          <a:pt x="199" y="119"/>
                        </a:lnTo>
                        <a:lnTo>
                          <a:pt x="183" y="134"/>
                        </a:lnTo>
                        <a:lnTo>
                          <a:pt x="171" y="152"/>
                        </a:lnTo>
                        <a:lnTo>
                          <a:pt x="163" y="168"/>
                        </a:lnTo>
                        <a:lnTo>
                          <a:pt x="159" y="183"/>
                        </a:lnTo>
                        <a:lnTo>
                          <a:pt x="161" y="195"/>
                        </a:lnTo>
                        <a:lnTo>
                          <a:pt x="147" y="186"/>
                        </a:lnTo>
                        <a:lnTo>
                          <a:pt x="138" y="176"/>
                        </a:lnTo>
                        <a:lnTo>
                          <a:pt x="136" y="167"/>
                        </a:lnTo>
                        <a:lnTo>
                          <a:pt x="136" y="155"/>
                        </a:lnTo>
                        <a:lnTo>
                          <a:pt x="140" y="144"/>
                        </a:lnTo>
                        <a:lnTo>
                          <a:pt x="146" y="134"/>
                        </a:lnTo>
                        <a:lnTo>
                          <a:pt x="153" y="127"/>
                        </a:lnTo>
                        <a:lnTo>
                          <a:pt x="161" y="120"/>
                        </a:lnTo>
                        <a:lnTo>
                          <a:pt x="172" y="112"/>
                        </a:lnTo>
                        <a:lnTo>
                          <a:pt x="183" y="104"/>
                        </a:lnTo>
                        <a:lnTo>
                          <a:pt x="197" y="98"/>
                        </a:lnTo>
                        <a:lnTo>
                          <a:pt x="209" y="90"/>
                        </a:lnTo>
                        <a:lnTo>
                          <a:pt x="222" y="86"/>
                        </a:lnTo>
                        <a:lnTo>
                          <a:pt x="233" y="82"/>
                        </a:lnTo>
                        <a:lnTo>
                          <a:pt x="242" y="78"/>
                        </a:lnTo>
                        <a:lnTo>
                          <a:pt x="249" y="77"/>
                        </a:lnTo>
                        <a:lnTo>
                          <a:pt x="247" y="67"/>
                        </a:lnTo>
                        <a:lnTo>
                          <a:pt x="244" y="58"/>
                        </a:lnTo>
                        <a:lnTo>
                          <a:pt x="239" y="52"/>
                        </a:lnTo>
                        <a:lnTo>
                          <a:pt x="233" y="46"/>
                        </a:lnTo>
                        <a:lnTo>
                          <a:pt x="227" y="42"/>
                        </a:lnTo>
                        <a:lnTo>
                          <a:pt x="219" y="38"/>
                        </a:lnTo>
                        <a:lnTo>
                          <a:pt x="211" y="37"/>
                        </a:lnTo>
                        <a:lnTo>
                          <a:pt x="201" y="37"/>
                        </a:lnTo>
                        <a:lnTo>
                          <a:pt x="197" y="32"/>
                        </a:lnTo>
                        <a:lnTo>
                          <a:pt x="192" y="28"/>
                        </a:lnTo>
                        <a:lnTo>
                          <a:pt x="184" y="24"/>
                        </a:lnTo>
                        <a:lnTo>
                          <a:pt x="176" y="23"/>
                        </a:lnTo>
                        <a:lnTo>
                          <a:pt x="164" y="23"/>
                        </a:lnTo>
                        <a:lnTo>
                          <a:pt x="153" y="26"/>
                        </a:lnTo>
                        <a:lnTo>
                          <a:pt x="141" y="29"/>
                        </a:lnTo>
                        <a:lnTo>
                          <a:pt x="128" y="36"/>
                        </a:lnTo>
                        <a:lnTo>
                          <a:pt x="110" y="51"/>
                        </a:lnTo>
                        <a:lnTo>
                          <a:pt x="85" y="79"/>
                        </a:lnTo>
                        <a:lnTo>
                          <a:pt x="57" y="119"/>
                        </a:lnTo>
                        <a:lnTo>
                          <a:pt x="33" y="167"/>
                        </a:lnTo>
                        <a:lnTo>
                          <a:pt x="17" y="218"/>
                        </a:lnTo>
                        <a:lnTo>
                          <a:pt x="15" y="271"/>
                        </a:lnTo>
                        <a:lnTo>
                          <a:pt x="31" y="321"/>
                        </a:lnTo>
                        <a:lnTo>
                          <a:pt x="70" y="367"/>
                        </a:lnTo>
                        <a:lnTo>
                          <a:pt x="76" y="371"/>
                        </a:lnTo>
                        <a:lnTo>
                          <a:pt x="81" y="375"/>
                        </a:lnTo>
                        <a:lnTo>
                          <a:pt x="85" y="380"/>
                        </a:lnTo>
                        <a:lnTo>
                          <a:pt x="87" y="387"/>
                        </a:lnTo>
                        <a:lnTo>
                          <a:pt x="77" y="383"/>
                        </a:lnTo>
                        <a:lnTo>
                          <a:pt x="67" y="378"/>
                        </a:lnTo>
                        <a:lnTo>
                          <a:pt x="58" y="372"/>
                        </a:lnTo>
                        <a:lnTo>
                          <a:pt x="51" y="367"/>
                        </a:lnTo>
                        <a:lnTo>
                          <a:pt x="33" y="350"/>
                        </a:lnTo>
                        <a:lnTo>
                          <a:pt x="20" y="329"/>
                        </a:lnTo>
                        <a:lnTo>
                          <a:pt x="10" y="307"/>
                        </a:lnTo>
                        <a:lnTo>
                          <a:pt x="3" y="284"/>
                        </a:lnTo>
                        <a:lnTo>
                          <a:pt x="0" y="261"/>
                        </a:lnTo>
                        <a:lnTo>
                          <a:pt x="0" y="239"/>
                        </a:lnTo>
                        <a:lnTo>
                          <a:pt x="1" y="218"/>
                        </a:lnTo>
                        <a:lnTo>
                          <a:pt x="5" y="199"/>
                        </a:lnTo>
                        <a:lnTo>
                          <a:pt x="12" y="174"/>
                        </a:lnTo>
                        <a:lnTo>
                          <a:pt x="23" y="145"/>
                        </a:lnTo>
                        <a:lnTo>
                          <a:pt x="37" y="114"/>
                        </a:lnTo>
                        <a:lnTo>
                          <a:pt x="56" y="83"/>
                        </a:lnTo>
                        <a:lnTo>
                          <a:pt x="77" y="54"/>
                        </a:lnTo>
                        <a:lnTo>
                          <a:pt x="102" y="29"/>
                        </a:lnTo>
                        <a:lnTo>
                          <a:pt x="130" y="11"/>
                        </a:lnTo>
                        <a:lnTo>
                          <a:pt x="159" y="1"/>
                        </a:lnTo>
                        <a:lnTo>
                          <a:pt x="189" y="0"/>
                        </a:lnTo>
                        <a:lnTo>
                          <a:pt x="217" y="3"/>
                        </a:lnTo>
                        <a:lnTo>
                          <a:pt x="241" y="11"/>
                        </a:lnTo>
                        <a:lnTo>
                          <a:pt x="262" y="22"/>
                        </a:lnTo>
                        <a:lnTo>
                          <a:pt x="279" y="34"/>
                        </a:lnTo>
                        <a:lnTo>
                          <a:pt x="292" y="47"/>
                        </a:lnTo>
                        <a:lnTo>
                          <a:pt x="302" y="58"/>
                        </a:lnTo>
                        <a:lnTo>
                          <a:pt x="307" y="67"/>
                        </a:lnTo>
                        <a:lnTo>
                          <a:pt x="301" y="66"/>
                        </a:lnTo>
                        <a:lnTo>
                          <a:pt x="294" y="64"/>
                        </a:lnTo>
                        <a:lnTo>
                          <a:pt x="291" y="64"/>
                        </a:lnTo>
                        <a:lnTo>
                          <a:pt x="286" y="64"/>
                        </a:lnTo>
                        <a:lnTo>
                          <a:pt x="281" y="66"/>
                        </a:lnTo>
                        <a:lnTo>
                          <a:pt x="278" y="68"/>
                        </a:lnTo>
                        <a:lnTo>
                          <a:pt x="281" y="71"/>
                        </a:lnTo>
                        <a:lnTo>
                          <a:pt x="288" y="72"/>
                        </a:lnTo>
                        <a:lnTo>
                          <a:pt x="294" y="72"/>
                        </a:lnTo>
                        <a:lnTo>
                          <a:pt x="301" y="72"/>
                        </a:lnTo>
                        <a:lnTo>
                          <a:pt x="307" y="74"/>
                        </a:lnTo>
                        <a:lnTo>
                          <a:pt x="313" y="76"/>
                        </a:lnTo>
                        <a:lnTo>
                          <a:pt x="318" y="78"/>
                        </a:lnTo>
                        <a:lnTo>
                          <a:pt x="323" y="81"/>
                        </a:lnTo>
                        <a:lnTo>
                          <a:pt x="328" y="84"/>
                        </a:lnTo>
                        <a:lnTo>
                          <a:pt x="331" y="88"/>
                        </a:lnTo>
                        <a:lnTo>
                          <a:pt x="361" y="92"/>
                        </a:lnTo>
                        <a:lnTo>
                          <a:pt x="384" y="99"/>
                        </a:lnTo>
                        <a:lnTo>
                          <a:pt x="404" y="109"/>
                        </a:lnTo>
                        <a:lnTo>
                          <a:pt x="419" y="122"/>
                        </a:lnTo>
                        <a:lnTo>
                          <a:pt x="430" y="134"/>
                        </a:lnTo>
                        <a:lnTo>
                          <a:pt x="439" y="149"/>
                        </a:lnTo>
                        <a:lnTo>
                          <a:pt x="444" y="163"/>
                        </a:lnTo>
                        <a:lnTo>
                          <a:pt x="448" y="178"/>
                        </a:lnTo>
                        <a:lnTo>
                          <a:pt x="442" y="160"/>
                        </a:lnTo>
                        <a:lnTo>
                          <a:pt x="430" y="149"/>
                        </a:lnTo>
                        <a:lnTo>
                          <a:pt x="420" y="144"/>
                        </a:lnTo>
                        <a:lnTo>
                          <a:pt x="412" y="143"/>
                        </a:lnTo>
                        <a:lnTo>
                          <a:pt x="404" y="145"/>
                        </a:lnTo>
                        <a:lnTo>
                          <a:pt x="402" y="153"/>
                        </a:lnTo>
                        <a:lnTo>
                          <a:pt x="402" y="170"/>
                        </a:lnTo>
                        <a:lnTo>
                          <a:pt x="404" y="203"/>
                        </a:lnTo>
                        <a:lnTo>
                          <a:pt x="403" y="231"/>
                        </a:lnTo>
                        <a:lnTo>
                          <a:pt x="395" y="261"/>
                        </a:lnTo>
                        <a:lnTo>
                          <a:pt x="382" y="291"/>
                        </a:lnTo>
                        <a:lnTo>
                          <a:pt x="367" y="321"/>
                        </a:lnTo>
                        <a:lnTo>
                          <a:pt x="348" y="348"/>
                        </a:lnTo>
                        <a:lnTo>
                          <a:pt x="328" y="373"/>
                        </a:lnTo>
                        <a:lnTo>
                          <a:pt x="308" y="393"/>
                        </a:lnTo>
                        <a:lnTo>
                          <a:pt x="291" y="408"/>
                        </a:lnTo>
                        <a:lnTo>
                          <a:pt x="263" y="396"/>
                        </a:lnTo>
                        <a:lnTo>
                          <a:pt x="277" y="386"/>
                        </a:lnTo>
                        <a:lnTo>
                          <a:pt x="291" y="375"/>
                        </a:lnTo>
                        <a:lnTo>
                          <a:pt x="303" y="361"/>
                        </a:lnTo>
                        <a:lnTo>
                          <a:pt x="313" y="347"/>
                        </a:lnTo>
                        <a:lnTo>
                          <a:pt x="323" y="332"/>
                        </a:lnTo>
                        <a:lnTo>
                          <a:pt x="332" y="317"/>
                        </a:lnTo>
                        <a:lnTo>
                          <a:pt x="339" y="304"/>
                        </a:lnTo>
                        <a:lnTo>
                          <a:pt x="344" y="292"/>
                        </a:lnTo>
                        <a:close/>
                      </a:path>
                    </a:pathLst>
                  </a:custGeom>
                  <a:solidFill>
                    <a:srgbClr val="e50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4906800" y="4494240"/>
                    <a:ext cx="77760" cy="30240"/>
                  </a:xfrm>
                  <a:custGeom>
                    <a:avLst/>
                    <a:gdLst/>
                    <a:ahLst/>
                    <a:rect l="l" t="t" r="r" b="b"/>
                    <a:pathLst>
                      <a:path w="199" h="79">
                        <a:moveTo>
                          <a:pt x="197" y="79"/>
                        </a:moveTo>
                        <a:lnTo>
                          <a:pt x="187" y="73"/>
                        </a:lnTo>
                        <a:lnTo>
                          <a:pt x="172" y="66"/>
                        </a:lnTo>
                        <a:lnTo>
                          <a:pt x="151" y="60"/>
                        </a:lnTo>
                        <a:lnTo>
                          <a:pt x="125" y="54"/>
                        </a:lnTo>
                        <a:lnTo>
                          <a:pt x="96" y="49"/>
                        </a:lnTo>
                        <a:lnTo>
                          <a:pt x="65" y="45"/>
                        </a:lnTo>
                        <a:lnTo>
                          <a:pt x="33" y="43"/>
                        </a:lnTo>
                        <a:lnTo>
                          <a:pt x="0" y="44"/>
                        </a:lnTo>
                        <a:lnTo>
                          <a:pt x="15" y="33"/>
                        </a:lnTo>
                        <a:lnTo>
                          <a:pt x="36" y="23"/>
                        </a:lnTo>
                        <a:lnTo>
                          <a:pt x="64" y="14"/>
                        </a:lnTo>
                        <a:lnTo>
                          <a:pt x="92" y="7"/>
                        </a:lnTo>
                        <a:lnTo>
                          <a:pt x="121" y="2"/>
                        </a:lnTo>
                        <a:lnTo>
                          <a:pt x="147" y="0"/>
                        </a:lnTo>
                        <a:lnTo>
                          <a:pt x="169" y="2"/>
                        </a:lnTo>
                        <a:lnTo>
                          <a:pt x="181" y="8"/>
                        </a:lnTo>
                        <a:lnTo>
                          <a:pt x="194" y="27"/>
                        </a:lnTo>
                        <a:lnTo>
                          <a:pt x="199" y="45"/>
                        </a:lnTo>
                        <a:lnTo>
                          <a:pt x="199" y="63"/>
                        </a:lnTo>
                        <a:lnTo>
                          <a:pt x="197" y="79"/>
                        </a:lnTo>
                        <a:close/>
                      </a:path>
                    </a:pathLst>
                  </a:custGeom>
                  <a:solidFill>
                    <a:srgbClr val="0072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5" name=""/>
                  <p:cNvSpPr/>
                  <p:nvPr/>
                </p:nvSpPr>
                <p:spPr>
                  <a:xfrm>
                    <a:off x="4903560" y="4479840"/>
                    <a:ext cx="71640" cy="30240"/>
                  </a:xfrm>
                  <a:custGeom>
                    <a:avLst/>
                    <a:gdLst/>
                    <a:ahLst/>
                    <a:rect l="l" t="t" r="r" b="b"/>
                    <a:pathLst>
                      <a:path w="177" h="73">
                        <a:moveTo>
                          <a:pt x="2" y="73"/>
                        </a:moveTo>
                        <a:lnTo>
                          <a:pt x="16" y="62"/>
                        </a:lnTo>
                        <a:lnTo>
                          <a:pt x="37" y="51"/>
                        </a:lnTo>
                        <a:lnTo>
                          <a:pt x="62" y="41"/>
                        </a:lnTo>
                        <a:lnTo>
                          <a:pt x="90" y="32"/>
                        </a:lnTo>
                        <a:lnTo>
                          <a:pt x="117" y="27"/>
                        </a:lnTo>
                        <a:lnTo>
                          <a:pt x="143" y="23"/>
                        </a:lnTo>
                        <a:lnTo>
                          <a:pt x="163" y="25"/>
                        </a:lnTo>
                        <a:lnTo>
                          <a:pt x="177" y="31"/>
                        </a:lnTo>
                        <a:lnTo>
                          <a:pt x="171" y="22"/>
                        </a:lnTo>
                        <a:lnTo>
                          <a:pt x="162" y="13"/>
                        </a:lnTo>
                        <a:lnTo>
                          <a:pt x="151" y="7"/>
                        </a:lnTo>
                        <a:lnTo>
                          <a:pt x="138" y="2"/>
                        </a:lnTo>
                        <a:lnTo>
                          <a:pt x="123" y="0"/>
                        </a:lnTo>
                        <a:lnTo>
                          <a:pt x="106" y="1"/>
                        </a:lnTo>
                        <a:lnTo>
                          <a:pt x="86" y="3"/>
                        </a:lnTo>
                        <a:lnTo>
                          <a:pt x="63" y="11"/>
                        </a:lnTo>
                        <a:lnTo>
                          <a:pt x="48" y="17"/>
                        </a:lnTo>
                        <a:lnTo>
                          <a:pt x="36" y="26"/>
                        </a:lnTo>
                        <a:lnTo>
                          <a:pt x="25" y="35"/>
                        </a:lnTo>
                        <a:lnTo>
                          <a:pt x="16" y="45"/>
                        </a:lnTo>
                        <a:lnTo>
                          <a:pt x="10" y="53"/>
                        </a:lnTo>
                        <a:lnTo>
                          <a:pt x="5" y="61"/>
                        </a:lnTo>
                        <a:lnTo>
                          <a:pt x="1" y="67"/>
                        </a:lnTo>
                        <a:lnTo>
                          <a:pt x="0" y="70"/>
                        </a:lnTo>
                        <a:lnTo>
                          <a:pt x="2" y="73"/>
                        </a:lnTo>
                        <a:close/>
                      </a:path>
                    </a:pathLst>
                  </a:custGeom>
                  <a:solidFill>
                    <a:srgbClr val="72b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6" name=""/>
                  <p:cNvSpPr/>
                  <p:nvPr/>
                </p:nvSpPr>
                <p:spPr>
                  <a:xfrm>
                    <a:off x="4897440" y="4459320"/>
                    <a:ext cx="29880" cy="46080"/>
                  </a:xfrm>
                  <a:custGeom>
                    <a:avLst/>
                    <a:gdLst/>
                    <a:ahLst/>
                    <a:rect l="l" t="t" r="r" b="b"/>
                    <a:pathLst>
                      <a:path w="74" h="116">
                        <a:moveTo>
                          <a:pt x="59" y="63"/>
                        </a:moveTo>
                        <a:lnTo>
                          <a:pt x="68" y="47"/>
                        </a:lnTo>
                        <a:lnTo>
                          <a:pt x="74" y="26"/>
                        </a:lnTo>
                        <a:lnTo>
                          <a:pt x="73" y="7"/>
                        </a:lnTo>
                        <a:lnTo>
                          <a:pt x="62" y="0"/>
                        </a:lnTo>
                        <a:lnTo>
                          <a:pt x="51" y="2"/>
                        </a:lnTo>
                        <a:lnTo>
                          <a:pt x="47" y="6"/>
                        </a:lnTo>
                        <a:lnTo>
                          <a:pt x="48" y="11"/>
                        </a:lnTo>
                        <a:lnTo>
                          <a:pt x="50" y="17"/>
                        </a:lnTo>
                        <a:lnTo>
                          <a:pt x="50" y="26"/>
                        </a:lnTo>
                        <a:lnTo>
                          <a:pt x="47" y="40"/>
                        </a:lnTo>
                        <a:lnTo>
                          <a:pt x="41" y="56"/>
                        </a:lnTo>
                        <a:lnTo>
                          <a:pt x="30" y="72"/>
                        </a:lnTo>
                        <a:lnTo>
                          <a:pt x="17" y="86"/>
                        </a:lnTo>
                        <a:lnTo>
                          <a:pt x="7" y="98"/>
                        </a:lnTo>
                        <a:lnTo>
                          <a:pt x="2" y="107"/>
                        </a:lnTo>
                        <a:lnTo>
                          <a:pt x="0" y="109"/>
                        </a:lnTo>
                        <a:lnTo>
                          <a:pt x="10" y="116"/>
                        </a:lnTo>
                        <a:lnTo>
                          <a:pt x="13" y="108"/>
                        </a:lnTo>
                        <a:lnTo>
                          <a:pt x="20" y="101"/>
                        </a:lnTo>
                        <a:lnTo>
                          <a:pt x="25" y="93"/>
                        </a:lnTo>
                        <a:lnTo>
                          <a:pt x="31" y="86"/>
                        </a:lnTo>
                        <a:lnTo>
                          <a:pt x="38" y="78"/>
                        </a:lnTo>
                        <a:lnTo>
                          <a:pt x="46" y="72"/>
                        </a:lnTo>
                        <a:lnTo>
                          <a:pt x="52" y="67"/>
                        </a:lnTo>
                        <a:lnTo>
                          <a:pt x="59" y="63"/>
                        </a:lnTo>
                        <a:close/>
                      </a:path>
                    </a:pathLst>
                  </a:custGeom>
                  <a:solidFill>
                    <a:srgbClr val="4c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7" name=""/>
                  <p:cNvSpPr/>
                  <p:nvPr/>
                </p:nvSpPr>
                <p:spPr>
                  <a:xfrm>
                    <a:off x="4800600" y="4405320"/>
                    <a:ext cx="306360" cy="208080"/>
                  </a:xfrm>
                  <a:custGeom>
                    <a:avLst/>
                    <a:gdLst/>
                    <a:ahLst/>
                    <a:rect l="l" t="t" r="r" b="b"/>
                    <a:pathLst>
                      <a:path w="774" h="525">
                        <a:moveTo>
                          <a:pt x="0" y="525"/>
                        </a:moveTo>
                        <a:lnTo>
                          <a:pt x="1" y="482"/>
                        </a:lnTo>
                        <a:lnTo>
                          <a:pt x="3" y="439"/>
                        </a:lnTo>
                        <a:lnTo>
                          <a:pt x="7" y="394"/>
                        </a:lnTo>
                        <a:lnTo>
                          <a:pt x="13" y="350"/>
                        </a:lnTo>
                        <a:lnTo>
                          <a:pt x="23" y="305"/>
                        </a:lnTo>
                        <a:lnTo>
                          <a:pt x="36" y="262"/>
                        </a:lnTo>
                        <a:lnTo>
                          <a:pt x="51" y="219"/>
                        </a:lnTo>
                        <a:lnTo>
                          <a:pt x="71" y="180"/>
                        </a:lnTo>
                        <a:lnTo>
                          <a:pt x="93" y="142"/>
                        </a:lnTo>
                        <a:lnTo>
                          <a:pt x="121" y="109"/>
                        </a:lnTo>
                        <a:lnTo>
                          <a:pt x="152" y="77"/>
                        </a:lnTo>
                        <a:lnTo>
                          <a:pt x="188" y="51"/>
                        </a:lnTo>
                        <a:lnTo>
                          <a:pt x="229" y="30"/>
                        </a:lnTo>
                        <a:lnTo>
                          <a:pt x="277" y="14"/>
                        </a:lnTo>
                        <a:lnTo>
                          <a:pt x="329" y="4"/>
                        </a:lnTo>
                        <a:lnTo>
                          <a:pt x="388" y="0"/>
                        </a:lnTo>
                        <a:lnTo>
                          <a:pt x="447" y="4"/>
                        </a:lnTo>
                        <a:lnTo>
                          <a:pt x="499" y="14"/>
                        </a:lnTo>
                        <a:lnTo>
                          <a:pt x="545" y="30"/>
                        </a:lnTo>
                        <a:lnTo>
                          <a:pt x="586" y="51"/>
                        </a:lnTo>
                        <a:lnTo>
                          <a:pt x="623" y="77"/>
                        </a:lnTo>
                        <a:lnTo>
                          <a:pt x="654" y="109"/>
                        </a:lnTo>
                        <a:lnTo>
                          <a:pt x="680" y="142"/>
                        </a:lnTo>
                        <a:lnTo>
                          <a:pt x="704" y="180"/>
                        </a:lnTo>
                        <a:lnTo>
                          <a:pt x="723" y="219"/>
                        </a:lnTo>
                        <a:lnTo>
                          <a:pt x="738" y="262"/>
                        </a:lnTo>
                        <a:lnTo>
                          <a:pt x="750" y="305"/>
                        </a:lnTo>
                        <a:lnTo>
                          <a:pt x="760" y="350"/>
                        </a:lnTo>
                        <a:lnTo>
                          <a:pt x="766" y="394"/>
                        </a:lnTo>
                        <a:lnTo>
                          <a:pt x="770" y="439"/>
                        </a:lnTo>
                        <a:lnTo>
                          <a:pt x="772" y="482"/>
                        </a:lnTo>
                        <a:lnTo>
                          <a:pt x="774" y="525"/>
                        </a:lnTo>
                        <a:lnTo>
                          <a:pt x="719" y="525"/>
                        </a:lnTo>
                        <a:lnTo>
                          <a:pt x="719" y="520"/>
                        </a:lnTo>
                        <a:lnTo>
                          <a:pt x="718" y="505"/>
                        </a:lnTo>
                        <a:lnTo>
                          <a:pt x="716" y="481"/>
                        </a:lnTo>
                        <a:lnTo>
                          <a:pt x="714" y="451"/>
                        </a:lnTo>
                        <a:lnTo>
                          <a:pt x="709" y="416"/>
                        </a:lnTo>
                        <a:lnTo>
                          <a:pt x="701" y="376"/>
                        </a:lnTo>
                        <a:lnTo>
                          <a:pt x="691" y="334"/>
                        </a:lnTo>
                        <a:lnTo>
                          <a:pt x="678" y="290"/>
                        </a:lnTo>
                        <a:lnTo>
                          <a:pt x="660" y="247"/>
                        </a:lnTo>
                        <a:lnTo>
                          <a:pt x="638" y="204"/>
                        </a:lnTo>
                        <a:lnTo>
                          <a:pt x="611" y="165"/>
                        </a:lnTo>
                        <a:lnTo>
                          <a:pt x="579" y="130"/>
                        </a:lnTo>
                        <a:lnTo>
                          <a:pt x="541" y="100"/>
                        </a:lnTo>
                        <a:lnTo>
                          <a:pt x="497" y="76"/>
                        </a:lnTo>
                        <a:lnTo>
                          <a:pt x="447" y="61"/>
                        </a:lnTo>
                        <a:lnTo>
                          <a:pt x="388" y="56"/>
                        </a:lnTo>
                        <a:lnTo>
                          <a:pt x="329" y="61"/>
                        </a:lnTo>
                        <a:lnTo>
                          <a:pt x="278" y="76"/>
                        </a:lnTo>
                        <a:lnTo>
                          <a:pt x="234" y="100"/>
                        </a:lnTo>
                        <a:lnTo>
                          <a:pt x="196" y="130"/>
                        </a:lnTo>
                        <a:lnTo>
                          <a:pt x="163" y="165"/>
                        </a:lnTo>
                        <a:lnTo>
                          <a:pt x="137" y="204"/>
                        </a:lnTo>
                        <a:lnTo>
                          <a:pt x="114" y="247"/>
                        </a:lnTo>
                        <a:lnTo>
                          <a:pt x="97" y="290"/>
                        </a:lnTo>
                        <a:lnTo>
                          <a:pt x="83" y="334"/>
                        </a:lnTo>
                        <a:lnTo>
                          <a:pt x="73" y="376"/>
                        </a:lnTo>
                        <a:lnTo>
                          <a:pt x="66" y="416"/>
                        </a:lnTo>
                        <a:lnTo>
                          <a:pt x="61" y="451"/>
                        </a:lnTo>
                        <a:lnTo>
                          <a:pt x="58" y="481"/>
                        </a:lnTo>
                        <a:lnTo>
                          <a:pt x="57" y="505"/>
                        </a:lnTo>
                        <a:lnTo>
                          <a:pt x="56" y="520"/>
                        </a:lnTo>
                        <a:lnTo>
                          <a:pt x="56" y="525"/>
                        </a:lnTo>
                        <a:lnTo>
                          <a:pt x="0" y="525"/>
                        </a:lnTo>
                        <a:close/>
                      </a:path>
                    </a:pathLst>
                  </a:custGeom>
                  <a:solidFill>
                    <a:srgbClr val="f4e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797360" y="4402080"/>
                    <a:ext cx="156960" cy="211320"/>
                  </a:xfrm>
                  <a:custGeom>
                    <a:avLst/>
                    <a:gdLst/>
                    <a:ahLst/>
                    <a:rect l="l" t="t" r="r" b="b"/>
                    <a:pathLst>
                      <a:path w="395" h="531">
                        <a:moveTo>
                          <a:pt x="395" y="0"/>
                        </a:moveTo>
                        <a:lnTo>
                          <a:pt x="395" y="0"/>
                        </a:lnTo>
                        <a:lnTo>
                          <a:pt x="336" y="5"/>
                        </a:lnTo>
                        <a:lnTo>
                          <a:pt x="283" y="15"/>
                        </a:lnTo>
                        <a:lnTo>
                          <a:pt x="235" y="31"/>
                        </a:lnTo>
                        <a:lnTo>
                          <a:pt x="193" y="52"/>
                        </a:lnTo>
                        <a:lnTo>
                          <a:pt x="155" y="80"/>
                        </a:lnTo>
                        <a:lnTo>
                          <a:pt x="124" y="111"/>
                        </a:lnTo>
                        <a:lnTo>
                          <a:pt x="95" y="146"/>
                        </a:lnTo>
                        <a:lnTo>
                          <a:pt x="73" y="183"/>
                        </a:lnTo>
                        <a:lnTo>
                          <a:pt x="53" y="224"/>
                        </a:lnTo>
                        <a:lnTo>
                          <a:pt x="38" y="267"/>
                        </a:lnTo>
                        <a:lnTo>
                          <a:pt x="25" y="310"/>
                        </a:lnTo>
                        <a:lnTo>
                          <a:pt x="15" y="356"/>
                        </a:lnTo>
                        <a:lnTo>
                          <a:pt x="9" y="400"/>
                        </a:lnTo>
                        <a:lnTo>
                          <a:pt x="5" y="445"/>
                        </a:lnTo>
                        <a:lnTo>
                          <a:pt x="3" y="488"/>
                        </a:lnTo>
                        <a:lnTo>
                          <a:pt x="0" y="531"/>
                        </a:lnTo>
                        <a:lnTo>
                          <a:pt x="13" y="531"/>
                        </a:lnTo>
                        <a:lnTo>
                          <a:pt x="13" y="488"/>
                        </a:lnTo>
                        <a:lnTo>
                          <a:pt x="15" y="445"/>
                        </a:lnTo>
                        <a:lnTo>
                          <a:pt x="19" y="400"/>
                        </a:lnTo>
                        <a:lnTo>
                          <a:pt x="25" y="356"/>
                        </a:lnTo>
                        <a:lnTo>
                          <a:pt x="35" y="313"/>
                        </a:lnTo>
                        <a:lnTo>
                          <a:pt x="48" y="269"/>
                        </a:lnTo>
                        <a:lnTo>
                          <a:pt x="63" y="227"/>
                        </a:lnTo>
                        <a:lnTo>
                          <a:pt x="83" y="188"/>
                        </a:lnTo>
                        <a:lnTo>
                          <a:pt x="105" y="151"/>
                        </a:lnTo>
                        <a:lnTo>
                          <a:pt x="131" y="118"/>
                        </a:lnTo>
                        <a:lnTo>
                          <a:pt x="163" y="87"/>
                        </a:lnTo>
                        <a:lnTo>
                          <a:pt x="198" y="62"/>
                        </a:lnTo>
                        <a:lnTo>
                          <a:pt x="238" y="41"/>
                        </a:lnTo>
                        <a:lnTo>
                          <a:pt x="285" y="25"/>
                        </a:lnTo>
                        <a:lnTo>
                          <a:pt x="336" y="15"/>
                        </a:lnTo>
                        <a:lnTo>
                          <a:pt x="395" y="12"/>
                        </a:lnTo>
                        <a:lnTo>
                          <a:pt x="395" y="12"/>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954320" y="4402080"/>
                    <a:ext cx="155520" cy="212760"/>
                  </a:xfrm>
                  <a:custGeom>
                    <a:avLst/>
                    <a:gdLst/>
                    <a:ahLst/>
                    <a:rect l="l" t="t" r="r" b="b"/>
                    <a:pathLst>
                      <a:path w="392" h="537">
                        <a:moveTo>
                          <a:pt x="386" y="537"/>
                        </a:moveTo>
                        <a:lnTo>
                          <a:pt x="392" y="531"/>
                        </a:lnTo>
                        <a:lnTo>
                          <a:pt x="389" y="488"/>
                        </a:lnTo>
                        <a:lnTo>
                          <a:pt x="387" y="445"/>
                        </a:lnTo>
                        <a:lnTo>
                          <a:pt x="383" y="400"/>
                        </a:lnTo>
                        <a:lnTo>
                          <a:pt x="377" y="356"/>
                        </a:lnTo>
                        <a:lnTo>
                          <a:pt x="367" y="310"/>
                        </a:lnTo>
                        <a:lnTo>
                          <a:pt x="354" y="267"/>
                        </a:lnTo>
                        <a:lnTo>
                          <a:pt x="340" y="224"/>
                        </a:lnTo>
                        <a:lnTo>
                          <a:pt x="321" y="183"/>
                        </a:lnTo>
                        <a:lnTo>
                          <a:pt x="297" y="146"/>
                        </a:lnTo>
                        <a:lnTo>
                          <a:pt x="270" y="111"/>
                        </a:lnTo>
                        <a:lnTo>
                          <a:pt x="238" y="80"/>
                        </a:lnTo>
                        <a:lnTo>
                          <a:pt x="201" y="52"/>
                        </a:lnTo>
                        <a:lnTo>
                          <a:pt x="158" y="31"/>
                        </a:lnTo>
                        <a:lnTo>
                          <a:pt x="112" y="15"/>
                        </a:lnTo>
                        <a:lnTo>
                          <a:pt x="59" y="5"/>
                        </a:lnTo>
                        <a:lnTo>
                          <a:pt x="0" y="0"/>
                        </a:lnTo>
                        <a:lnTo>
                          <a:pt x="0" y="12"/>
                        </a:lnTo>
                        <a:lnTo>
                          <a:pt x="59" y="15"/>
                        </a:lnTo>
                        <a:lnTo>
                          <a:pt x="110" y="25"/>
                        </a:lnTo>
                        <a:lnTo>
                          <a:pt x="156" y="41"/>
                        </a:lnTo>
                        <a:lnTo>
                          <a:pt x="196" y="62"/>
                        </a:lnTo>
                        <a:lnTo>
                          <a:pt x="231" y="87"/>
                        </a:lnTo>
                        <a:lnTo>
                          <a:pt x="262" y="118"/>
                        </a:lnTo>
                        <a:lnTo>
                          <a:pt x="287" y="151"/>
                        </a:lnTo>
                        <a:lnTo>
                          <a:pt x="311" y="188"/>
                        </a:lnTo>
                        <a:lnTo>
                          <a:pt x="330" y="227"/>
                        </a:lnTo>
                        <a:lnTo>
                          <a:pt x="345" y="269"/>
                        </a:lnTo>
                        <a:lnTo>
                          <a:pt x="357" y="313"/>
                        </a:lnTo>
                        <a:lnTo>
                          <a:pt x="367" y="356"/>
                        </a:lnTo>
                        <a:lnTo>
                          <a:pt x="373" y="400"/>
                        </a:lnTo>
                        <a:lnTo>
                          <a:pt x="377" y="445"/>
                        </a:lnTo>
                        <a:lnTo>
                          <a:pt x="379" y="488"/>
                        </a:lnTo>
                        <a:lnTo>
                          <a:pt x="379" y="531"/>
                        </a:lnTo>
                        <a:lnTo>
                          <a:pt x="386" y="524"/>
                        </a:lnTo>
                        <a:lnTo>
                          <a:pt x="386" y="537"/>
                        </a:lnTo>
                        <a:lnTo>
                          <a:pt x="392" y="537"/>
                        </a:lnTo>
                        <a:lnTo>
                          <a:pt x="392" y="531"/>
                        </a:lnTo>
                        <a:lnTo>
                          <a:pt x="386" y="5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5083200" y="4610160"/>
                    <a:ext cx="23760" cy="4680"/>
                  </a:xfrm>
                  <a:custGeom>
                    <a:avLst/>
                    <a:gdLst/>
                    <a:ahLst/>
                    <a:rect l="l" t="t" r="r" b="b"/>
                    <a:pathLst>
                      <a:path w="61" h="13">
                        <a:moveTo>
                          <a:pt x="0" y="7"/>
                        </a:moveTo>
                        <a:lnTo>
                          <a:pt x="6" y="13"/>
                        </a:lnTo>
                        <a:lnTo>
                          <a:pt x="61" y="13"/>
                        </a:lnTo>
                        <a:lnTo>
                          <a:pt x="61" y="0"/>
                        </a:lnTo>
                        <a:lnTo>
                          <a:pt x="6" y="0"/>
                        </a:lnTo>
                        <a:lnTo>
                          <a:pt x="12" y="7"/>
                        </a:lnTo>
                        <a:lnTo>
                          <a:pt x="0" y="7"/>
                        </a:lnTo>
                        <a:lnTo>
                          <a:pt x="0" y="13"/>
                        </a:lnTo>
                        <a:lnTo>
                          <a:pt x="6" y="13"/>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1" name=""/>
                  <p:cNvSpPr/>
                  <p:nvPr/>
                </p:nvSpPr>
                <p:spPr>
                  <a:xfrm>
                    <a:off x="4954320" y="4424400"/>
                    <a:ext cx="133560" cy="189000"/>
                  </a:xfrm>
                  <a:custGeom>
                    <a:avLst/>
                    <a:gdLst/>
                    <a:ahLst/>
                    <a:rect l="l" t="t" r="r" b="b"/>
                    <a:pathLst>
                      <a:path w="337" h="475">
                        <a:moveTo>
                          <a:pt x="0" y="12"/>
                        </a:moveTo>
                        <a:lnTo>
                          <a:pt x="0" y="12"/>
                        </a:lnTo>
                        <a:lnTo>
                          <a:pt x="59" y="16"/>
                        </a:lnTo>
                        <a:lnTo>
                          <a:pt x="107" y="31"/>
                        </a:lnTo>
                        <a:lnTo>
                          <a:pt x="151" y="55"/>
                        </a:lnTo>
                        <a:lnTo>
                          <a:pt x="187" y="83"/>
                        </a:lnTo>
                        <a:lnTo>
                          <a:pt x="220" y="118"/>
                        </a:lnTo>
                        <a:lnTo>
                          <a:pt x="245" y="157"/>
                        </a:lnTo>
                        <a:lnTo>
                          <a:pt x="267" y="199"/>
                        </a:lnTo>
                        <a:lnTo>
                          <a:pt x="285" y="242"/>
                        </a:lnTo>
                        <a:lnTo>
                          <a:pt x="298" y="285"/>
                        </a:lnTo>
                        <a:lnTo>
                          <a:pt x="308" y="328"/>
                        </a:lnTo>
                        <a:lnTo>
                          <a:pt x="316" y="366"/>
                        </a:lnTo>
                        <a:lnTo>
                          <a:pt x="321" y="401"/>
                        </a:lnTo>
                        <a:lnTo>
                          <a:pt x="323" y="431"/>
                        </a:lnTo>
                        <a:lnTo>
                          <a:pt x="325" y="455"/>
                        </a:lnTo>
                        <a:lnTo>
                          <a:pt x="326" y="470"/>
                        </a:lnTo>
                        <a:lnTo>
                          <a:pt x="325" y="475"/>
                        </a:lnTo>
                        <a:lnTo>
                          <a:pt x="337" y="475"/>
                        </a:lnTo>
                        <a:lnTo>
                          <a:pt x="336" y="470"/>
                        </a:lnTo>
                        <a:lnTo>
                          <a:pt x="335" y="455"/>
                        </a:lnTo>
                        <a:lnTo>
                          <a:pt x="333" y="431"/>
                        </a:lnTo>
                        <a:lnTo>
                          <a:pt x="331" y="401"/>
                        </a:lnTo>
                        <a:lnTo>
                          <a:pt x="326" y="366"/>
                        </a:lnTo>
                        <a:lnTo>
                          <a:pt x="318" y="325"/>
                        </a:lnTo>
                        <a:lnTo>
                          <a:pt x="308" y="283"/>
                        </a:lnTo>
                        <a:lnTo>
                          <a:pt x="295" y="239"/>
                        </a:lnTo>
                        <a:lnTo>
                          <a:pt x="277" y="194"/>
                        </a:lnTo>
                        <a:lnTo>
                          <a:pt x="255" y="152"/>
                        </a:lnTo>
                        <a:lnTo>
                          <a:pt x="227" y="111"/>
                        </a:lnTo>
                        <a:lnTo>
                          <a:pt x="195" y="76"/>
                        </a:lnTo>
                        <a:lnTo>
                          <a:pt x="156" y="45"/>
                        </a:lnTo>
                        <a:lnTo>
                          <a:pt x="110" y="21"/>
                        </a:lnTo>
                        <a:lnTo>
                          <a:pt x="59" y="6"/>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819680" y="4424400"/>
                    <a:ext cx="134640" cy="190440"/>
                  </a:xfrm>
                  <a:custGeom>
                    <a:avLst/>
                    <a:gdLst/>
                    <a:ahLst/>
                    <a:rect l="l" t="t" r="r" b="b"/>
                    <a:pathLst>
                      <a:path w="338" h="481">
                        <a:moveTo>
                          <a:pt x="6" y="481"/>
                        </a:moveTo>
                        <a:lnTo>
                          <a:pt x="12" y="475"/>
                        </a:lnTo>
                        <a:lnTo>
                          <a:pt x="11" y="470"/>
                        </a:lnTo>
                        <a:lnTo>
                          <a:pt x="12" y="455"/>
                        </a:lnTo>
                        <a:lnTo>
                          <a:pt x="13" y="431"/>
                        </a:lnTo>
                        <a:lnTo>
                          <a:pt x="16" y="401"/>
                        </a:lnTo>
                        <a:lnTo>
                          <a:pt x="21" y="366"/>
                        </a:lnTo>
                        <a:lnTo>
                          <a:pt x="28" y="328"/>
                        </a:lnTo>
                        <a:lnTo>
                          <a:pt x="38" y="285"/>
                        </a:lnTo>
                        <a:lnTo>
                          <a:pt x="52" y="242"/>
                        </a:lnTo>
                        <a:lnTo>
                          <a:pt x="69" y="199"/>
                        </a:lnTo>
                        <a:lnTo>
                          <a:pt x="92" y="157"/>
                        </a:lnTo>
                        <a:lnTo>
                          <a:pt x="117" y="118"/>
                        </a:lnTo>
                        <a:lnTo>
                          <a:pt x="149" y="83"/>
                        </a:lnTo>
                        <a:lnTo>
                          <a:pt x="187" y="55"/>
                        </a:lnTo>
                        <a:lnTo>
                          <a:pt x="229" y="31"/>
                        </a:lnTo>
                        <a:lnTo>
                          <a:pt x="279" y="16"/>
                        </a:lnTo>
                        <a:lnTo>
                          <a:pt x="338" y="12"/>
                        </a:lnTo>
                        <a:lnTo>
                          <a:pt x="338" y="0"/>
                        </a:lnTo>
                        <a:lnTo>
                          <a:pt x="279" y="6"/>
                        </a:lnTo>
                        <a:lnTo>
                          <a:pt x="227" y="21"/>
                        </a:lnTo>
                        <a:lnTo>
                          <a:pt x="182" y="45"/>
                        </a:lnTo>
                        <a:lnTo>
                          <a:pt x="142" y="76"/>
                        </a:lnTo>
                        <a:lnTo>
                          <a:pt x="109" y="111"/>
                        </a:lnTo>
                        <a:lnTo>
                          <a:pt x="82" y="152"/>
                        </a:lnTo>
                        <a:lnTo>
                          <a:pt x="59" y="194"/>
                        </a:lnTo>
                        <a:lnTo>
                          <a:pt x="42" y="239"/>
                        </a:lnTo>
                        <a:lnTo>
                          <a:pt x="28" y="283"/>
                        </a:lnTo>
                        <a:lnTo>
                          <a:pt x="18" y="325"/>
                        </a:lnTo>
                        <a:lnTo>
                          <a:pt x="11" y="366"/>
                        </a:lnTo>
                        <a:lnTo>
                          <a:pt x="6" y="401"/>
                        </a:lnTo>
                        <a:lnTo>
                          <a:pt x="3" y="431"/>
                        </a:lnTo>
                        <a:lnTo>
                          <a:pt x="2" y="455"/>
                        </a:lnTo>
                        <a:lnTo>
                          <a:pt x="1" y="470"/>
                        </a:lnTo>
                        <a:lnTo>
                          <a:pt x="0" y="475"/>
                        </a:lnTo>
                        <a:lnTo>
                          <a:pt x="6" y="468"/>
                        </a:lnTo>
                        <a:lnTo>
                          <a:pt x="6" y="481"/>
                        </a:lnTo>
                        <a:lnTo>
                          <a:pt x="12" y="481"/>
                        </a:lnTo>
                        <a:lnTo>
                          <a:pt x="12" y="475"/>
                        </a:lnTo>
                        <a:lnTo>
                          <a:pt x="6"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4797360" y="4610160"/>
                    <a:ext cx="25200" cy="4680"/>
                  </a:xfrm>
                  <a:custGeom>
                    <a:avLst/>
                    <a:gdLst/>
                    <a:ahLst/>
                    <a:rect l="l" t="t" r="r" b="b"/>
                    <a:pathLst>
                      <a:path w="63" h="13">
                        <a:moveTo>
                          <a:pt x="0" y="7"/>
                        </a:moveTo>
                        <a:lnTo>
                          <a:pt x="7" y="13"/>
                        </a:lnTo>
                        <a:lnTo>
                          <a:pt x="63" y="13"/>
                        </a:lnTo>
                        <a:lnTo>
                          <a:pt x="63" y="0"/>
                        </a:lnTo>
                        <a:lnTo>
                          <a:pt x="7" y="0"/>
                        </a:lnTo>
                        <a:lnTo>
                          <a:pt x="13" y="7"/>
                        </a:lnTo>
                        <a:lnTo>
                          <a:pt x="0" y="7"/>
                        </a:lnTo>
                        <a:lnTo>
                          <a:pt x="0" y="13"/>
                        </a:lnTo>
                        <a:lnTo>
                          <a:pt x="7" y="13"/>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4" name=""/>
                  <p:cNvSpPr/>
                  <p:nvPr/>
                </p:nvSpPr>
                <p:spPr>
                  <a:xfrm>
                    <a:off x="4601880" y="4579920"/>
                    <a:ext cx="703440" cy="766800"/>
                  </a:xfrm>
                  <a:custGeom>
                    <a:avLst/>
                    <a:gdLst/>
                    <a:ahLst/>
                    <a:rect l="l" t="t" r="r" b="b"/>
                    <a:pathLst>
                      <a:path w="1771" h="1932">
                        <a:moveTo>
                          <a:pt x="0" y="0"/>
                        </a:moveTo>
                        <a:lnTo>
                          <a:pt x="57" y="55"/>
                        </a:lnTo>
                        <a:lnTo>
                          <a:pt x="112" y="0"/>
                        </a:lnTo>
                        <a:lnTo>
                          <a:pt x="166" y="55"/>
                        </a:lnTo>
                        <a:lnTo>
                          <a:pt x="223" y="0"/>
                        </a:lnTo>
                        <a:lnTo>
                          <a:pt x="278" y="55"/>
                        </a:lnTo>
                        <a:lnTo>
                          <a:pt x="333" y="0"/>
                        </a:lnTo>
                        <a:lnTo>
                          <a:pt x="389" y="55"/>
                        </a:lnTo>
                        <a:lnTo>
                          <a:pt x="444" y="0"/>
                        </a:lnTo>
                        <a:lnTo>
                          <a:pt x="499" y="55"/>
                        </a:lnTo>
                        <a:lnTo>
                          <a:pt x="555" y="0"/>
                        </a:lnTo>
                        <a:lnTo>
                          <a:pt x="610" y="55"/>
                        </a:lnTo>
                        <a:lnTo>
                          <a:pt x="665" y="0"/>
                        </a:lnTo>
                        <a:lnTo>
                          <a:pt x="721" y="55"/>
                        </a:lnTo>
                        <a:lnTo>
                          <a:pt x="776" y="0"/>
                        </a:lnTo>
                        <a:lnTo>
                          <a:pt x="831" y="55"/>
                        </a:lnTo>
                        <a:lnTo>
                          <a:pt x="887" y="0"/>
                        </a:lnTo>
                        <a:lnTo>
                          <a:pt x="942" y="55"/>
                        </a:lnTo>
                        <a:lnTo>
                          <a:pt x="997" y="0"/>
                        </a:lnTo>
                        <a:lnTo>
                          <a:pt x="1053" y="55"/>
                        </a:lnTo>
                        <a:lnTo>
                          <a:pt x="1108" y="0"/>
                        </a:lnTo>
                        <a:lnTo>
                          <a:pt x="1162" y="55"/>
                        </a:lnTo>
                        <a:lnTo>
                          <a:pt x="1218" y="0"/>
                        </a:lnTo>
                        <a:lnTo>
                          <a:pt x="1273" y="55"/>
                        </a:lnTo>
                        <a:lnTo>
                          <a:pt x="1328" y="0"/>
                        </a:lnTo>
                        <a:lnTo>
                          <a:pt x="1384" y="55"/>
                        </a:lnTo>
                        <a:lnTo>
                          <a:pt x="1439" y="0"/>
                        </a:lnTo>
                        <a:lnTo>
                          <a:pt x="1494" y="55"/>
                        </a:lnTo>
                        <a:lnTo>
                          <a:pt x="1550" y="0"/>
                        </a:lnTo>
                        <a:lnTo>
                          <a:pt x="1605" y="55"/>
                        </a:lnTo>
                        <a:lnTo>
                          <a:pt x="1660" y="0"/>
                        </a:lnTo>
                        <a:lnTo>
                          <a:pt x="1716" y="55"/>
                        </a:lnTo>
                        <a:lnTo>
                          <a:pt x="1771" y="0"/>
                        </a:lnTo>
                        <a:lnTo>
                          <a:pt x="1771" y="1932"/>
                        </a:lnTo>
                        <a:lnTo>
                          <a:pt x="0" y="1932"/>
                        </a:lnTo>
                        <a:lnTo>
                          <a:pt x="0" y="0"/>
                        </a:lnTo>
                        <a:close/>
                      </a:path>
                    </a:pathLst>
                  </a:custGeom>
                  <a:solidFill>
                    <a:srgbClr val="914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600440" y="4578480"/>
                    <a:ext cx="25560" cy="27000"/>
                  </a:xfrm>
                  <a:custGeom>
                    <a:avLst/>
                    <a:gdLst/>
                    <a:ahLst/>
                    <a:rect l="l" t="t" r="r" b="b"/>
                    <a:pathLst>
                      <a:path w="63" h="66">
                        <a:moveTo>
                          <a:pt x="56" y="55"/>
                        </a:moveTo>
                        <a:lnTo>
                          <a:pt x="63" y="55"/>
                        </a:lnTo>
                        <a:lnTo>
                          <a:pt x="7" y="0"/>
                        </a:lnTo>
                        <a:lnTo>
                          <a:pt x="0" y="7"/>
                        </a:lnTo>
                        <a:lnTo>
                          <a:pt x="56" y="62"/>
                        </a:lnTo>
                        <a:lnTo>
                          <a:pt x="63" y="62"/>
                        </a:lnTo>
                        <a:lnTo>
                          <a:pt x="56" y="62"/>
                        </a:lnTo>
                        <a:lnTo>
                          <a:pt x="60" y="66"/>
                        </a:lnTo>
                        <a:lnTo>
                          <a:pt x="63"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4622760" y="4576680"/>
                    <a:ext cx="25200" cy="27000"/>
                  </a:xfrm>
                  <a:custGeom>
                    <a:avLst/>
                    <a:gdLst/>
                    <a:ahLst/>
                    <a:rect l="l" t="t" r="r" b="b"/>
                    <a:pathLst>
                      <a:path w="62" h="67">
                        <a:moveTo>
                          <a:pt x="62" y="5"/>
                        </a:moveTo>
                        <a:lnTo>
                          <a:pt x="55" y="5"/>
                        </a:lnTo>
                        <a:lnTo>
                          <a:pt x="0" y="60"/>
                        </a:lnTo>
                        <a:lnTo>
                          <a:pt x="7" y="67"/>
                        </a:lnTo>
                        <a:lnTo>
                          <a:pt x="62" y="12"/>
                        </a:lnTo>
                        <a:lnTo>
                          <a:pt x="55" y="12"/>
                        </a:lnTo>
                        <a:lnTo>
                          <a:pt x="62" y="5"/>
                        </a:lnTo>
                        <a:lnTo>
                          <a:pt x="59"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7" name=""/>
                  <p:cNvSpPr/>
                  <p:nvPr/>
                </p:nvSpPr>
                <p:spPr>
                  <a:xfrm>
                    <a:off x="4644720" y="4578480"/>
                    <a:ext cx="25560" cy="27000"/>
                  </a:xfrm>
                  <a:custGeom>
                    <a:avLst/>
                    <a:gdLst/>
                    <a:ahLst/>
                    <a:rect l="l" t="t" r="r" b="b"/>
                    <a:pathLst>
                      <a:path w="62" h="66">
                        <a:moveTo>
                          <a:pt x="55" y="55"/>
                        </a:moveTo>
                        <a:lnTo>
                          <a:pt x="62" y="55"/>
                        </a:lnTo>
                        <a:lnTo>
                          <a:pt x="7" y="0"/>
                        </a:lnTo>
                        <a:lnTo>
                          <a:pt x="0" y="7"/>
                        </a:lnTo>
                        <a:lnTo>
                          <a:pt x="55" y="62"/>
                        </a:lnTo>
                        <a:lnTo>
                          <a:pt x="62" y="62"/>
                        </a:lnTo>
                        <a:lnTo>
                          <a:pt x="55" y="62"/>
                        </a:lnTo>
                        <a:lnTo>
                          <a:pt x="58" y="66"/>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8" name=""/>
                  <p:cNvSpPr/>
                  <p:nvPr/>
                </p:nvSpPr>
                <p:spPr>
                  <a:xfrm>
                    <a:off x="4667040" y="4576680"/>
                    <a:ext cx="25560" cy="27000"/>
                  </a:xfrm>
                  <a:custGeom>
                    <a:avLst/>
                    <a:gdLst/>
                    <a:ahLst/>
                    <a:rect l="l" t="t" r="r" b="b"/>
                    <a:pathLst>
                      <a:path w="63" h="66">
                        <a:moveTo>
                          <a:pt x="63" y="4"/>
                        </a:moveTo>
                        <a:lnTo>
                          <a:pt x="56" y="4"/>
                        </a:lnTo>
                        <a:lnTo>
                          <a:pt x="0" y="59"/>
                        </a:lnTo>
                        <a:lnTo>
                          <a:pt x="7" y="66"/>
                        </a:lnTo>
                        <a:lnTo>
                          <a:pt x="63" y="11"/>
                        </a:lnTo>
                        <a:lnTo>
                          <a:pt x="56" y="11"/>
                        </a:lnTo>
                        <a:lnTo>
                          <a:pt x="63" y="4"/>
                        </a:lnTo>
                        <a:lnTo>
                          <a:pt x="60" y="0"/>
                        </a:lnTo>
                        <a:lnTo>
                          <a:pt x="56" y="4"/>
                        </a:lnTo>
                        <a:lnTo>
                          <a:pt x="63"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9" name=""/>
                  <p:cNvSpPr/>
                  <p:nvPr/>
                </p:nvSpPr>
                <p:spPr>
                  <a:xfrm>
                    <a:off x="4689360" y="4578480"/>
                    <a:ext cx="23760" cy="27000"/>
                  </a:xfrm>
                  <a:custGeom>
                    <a:avLst/>
                    <a:gdLst/>
                    <a:ahLst/>
                    <a:rect l="l" t="t" r="r" b="b"/>
                    <a:pathLst>
                      <a:path w="62" h="67">
                        <a:moveTo>
                          <a:pt x="55" y="55"/>
                        </a:moveTo>
                        <a:lnTo>
                          <a:pt x="62" y="55"/>
                        </a:lnTo>
                        <a:lnTo>
                          <a:pt x="7" y="0"/>
                        </a:lnTo>
                        <a:lnTo>
                          <a:pt x="0" y="7"/>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0" name=""/>
                  <p:cNvSpPr/>
                  <p:nvPr/>
                </p:nvSpPr>
                <p:spPr>
                  <a:xfrm>
                    <a:off x="4709880" y="4576680"/>
                    <a:ext cx="25560" cy="27000"/>
                  </a:xfrm>
                  <a:custGeom>
                    <a:avLst/>
                    <a:gdLst/>
                    <a:ahLst/>
                    <a:rect l="l" t="t" r="r" b="b"/>
                    <a:pathLst>
                      <a:path w="62" h="66">
                        <a:moveTo>
                          <a:pt x="62" y="4"/>
                        </a:moveTo>
                        <a:lnTo>
                          <a:pt x="55" y="4"/>
                        </a:lnTo>
                        <a:lnTo>
                          <a:pt x="0" y="59"/>
                        </a:lnTo>
                        <a:lnTo>
                          <a:pt x="7" y="66"/>
                        </a:lnTo>
                        <a:lnTo>
                          <a:pt x="62" y="11"/>
                        </a:lnTo>
                        <a:lnTo>
                          <a:pt x="55" y="11"/>
                        </a:lnTo>
                        <a:lnTo>
                          <a:pt x="62" y="4"/>
                        </a:lnTo>
                        <a:lnTo>
                          <a:pt x="59" y="0"/>
                        </a:lnTo>
                        <a:lnTo>
                          <a:pt x="55" y="4"/>
                        </a:lnTo>
                        <a:lnTo>
                          <a:pt x="62"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1" name=""/>
                  <p:cNvSpPr/>
                  <p:nvPr/>
                </p:nvSpPr>
                <p:spPr>
                  <a:xfrm>
                    <a:off x="4732200" y="4578480"/>
                    <a:ext cx="25560" cy="27000"/>
                  </a:xfrm>
                  <a:custGeom>
                    <a:avLst/>
                    <a:gdLst/>
                    <a:ahLst/>
                    <a:rect l="l" t="t" r="r" b="b"/>
                    <a:pathLst>
                      <a:path w="63" h="66">
                        <a:moveTo>
                          <a:pt x="56" y="55"/>
                        </a:moveTo>
                        <a:lnTo>
                          <a:pt x="63" y="55"/>
                        </a:lnTo>
                        <a:lnTo>
                          <a:pt x="7" y="0"/>
                        </a:lnTo>
                        <a:lnTo>
                          <a:pt x="0" y="7"/>
                        </a:lnTo>
                        <a:lnTo>
                          <a:pt x="56" y="62"/>
                        </a:lnTo>
                        <a:lnTo>
                          <a:pt x="63" y="62"/>
                        </a:lnTo>
                        <a:lnTo>
                          <a:pt x="56" y="62"/>
                        </a:lnTo>
                        <a:lnTo>
                          <a:pt x="60" y="66"/>
                        </a:lnTo>
                        <a:lnTo>
                          <a:pt x="63"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2" name=""/>
                  <p:cNvSpPr/>
                  <p:nvPr/>
                </p:nvSpPr>
                <p:spPr>
                  <a:xfrm>
                    <a:off x="4754520" y="4576680"/>
                    <a:ext cx="25200" cy="27000"/>
                  </a:xfrm>
                  <a:custGeom>
                    <a:avLst/>
                    <a:gdLst/>
                    <a:ahLst/>
                    <a:rect l="l" t="t" r="r" b="b"/>
                    <a:pathLst>
                      <a:path w="62" h="67">
                        <a:moveTo>
                          <a:pt x="62" y="5"/>
                        </a:moveTo>
                        <a:lnTo>
                          <a:pt x="55" y="5"/>
                        </a:lnTo>
                        <a:lnTo>
                          <a:pt x="0" y="60"/>
                        </a:lnTo>
                        <a:lnTo>
                          <a:pt x="7" y="67"/>
                        </a:lnTo>
                        <a:lnTo>
                          <a:pt x="62" y="12"/>
                        </a:lnTo>
                        <a:lnTo>
                          <a:pt x="55" y="12"/>
                        </a:lnTo>
                        <a:lnTo>
                          <a:pt x="62" y="5"/>
                        </a:lnTo>
                        <a:lnTo>
                          <a:pt x="59" y="0"/>
                        </a:lnTo>
                        <a:lnTo>
                          <a:pt x="55" y="5"/>
                        </a:lnTo>
                        <a:lnTo>
                          <a:pt x="62"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3" name=""/>
                  <p:cNvSpPr/>
                  <p:nvPr/>
                </p:nvSpPr>
                <p:spPr>
                  <a:xfrm>
                    <a:off x="4776480" y="4578480"/>
                    <a:ext cx="25560" cy="27000"/>
                  </a:xfrm>
                  <a:custGeom>
                    <a:avLst/>
                    <a:gdLst/>
                    <a:ahLst/>
                    <a:rect l="l" t="t" r="r" b="b"/>
                    <a:pathLst>
                      <a:path w="62" h="66">
                        <a:moveTo>
                          <a:pt x="55" y="55"/>
                        </a:moveTo>
                        <a:lnTo>
                          <a:pt x="62" y="55"/>
                        </a:lnTo>
                        <a:lnTo>
                          <a:pt x="7" y="0"/>
                        </a:lnTo>
                        <a:lnTo>
                          <a:pt x="0" y="7"/>
                        </a:lnTo>
                        <a:lnTo>
                          <a:pt x="55" y="62"/>
                        </a:lnTo>
                        <a:lnTo>
                          <a:pt x="62" y="62"/>
                        </a:lnTo>
                        <a:lnTo>
                          <a:pt x="55" y="62"/>
                        </a:lnTo>
                        <a:lnTo>
                          <a:pt x="59" y="66"/>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4798800" y="4576680"/>
                    <a:ext cx="25560" cy="27000"/>
                  </a:xfrm>
                  <a:custGeom>
                    <a:avLst/>
                    <a:gdLst/>
                    <a:ahLst/>
                    <a:rect l="l" t="t" r="r" b="b"/>
                    <a:pathLst>
                      <a:path w="64" h="66">
                        <a:moveTo>
                          <a:pt x="64" y="4"/>
                        </a:moveTo>
                        <a:lnTo>
                          <a:pt x="56" y="4"/>
                        </a:lnTo>
                        <a:lnTo>
                          <a:pt x="0" y="59"/>
                        </a:lnTo>
                        <a:lnTo>
                          <a:pt x="7" y="66"/>
                        </a:lnTo>
                        <a:lnTo>
                          <a:pt x="64" y="11"/>
                        </a:lnTo>
                        <a:lnTo>
                          <a:pt x="56" y="11"/>
                        </a:lnTo>
                        <a:lnTo>
                          <a:pt x="64" y="4"/>
                        </a:lnTo>
                        <a:lnTo>
                          <a:pt x="60" y="0"/>
                        </a:lnTo>
                        <a:lnTo>
                          <a:pt x="56" y="4"/>
                        </a:lnTo>
                        <a:lnTo>
                          <a:pt x="6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5" name=""/>
                  <p:cNvSpPr/>
                  <p:nvPr/>
                </p:nvSpPr>
                <p:spPr>
                  <a:xfrm>
                    <a:off x="4821120" y="4578480"/>
                    <a:ext cx="23760" cy="27000"/>
                  </a:xfrm>
                  <a:custGeom>
                    <a:avLst/>
                    <a:gdLst/>
                    <a:ahLst/>
                    <a:rect l="l" t="t" r="r" b="b"/>
                    <a:pathLst>
                      <a:path w="62" h="67">
                        <a:moveTo>
                          <a:pt x="55" y="55"/>
                        </a:moveTo>
                        <a:lnTo>
                          <a:pt x="62" y="55"/>
                        </a:lnTo>
                        <a:lnTo>
                          <a:pt x="8" y="0"/>
                        </a:lnTo>
                        <a:lnTo>
                          <a:pt x="0" y="7"/>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6" name=""/>
                  <p:cNvSpPr/>
                  <p:nvPr/>
                </p:nvSpPr>
                <p:spPr>
                  <a:xfrm>
                    <a:off x="4841640" y="4576680"/>
                    <a:ext cx="25560" cy="27000"/>
                  </a:xfrm>
                  <a:custGeom>
                    <a:avLst/>
                    <a:gdLst/>
                    <a:ahLst/>
                    <a:rect l="l" t="t" r="r" b="b"/>
                    <a:pathLst>
                      <a:path w="62" h="66">
                        <a:moveTo>
                          <a:pt x="62" y="4"/>
                        </a:moveTo>
                        <a:lnTo>
                          <a:pt x="55" y="4"/>
                        </a:lnTo>
                        <a:lnTo>
                          <a:pt x="0" y="59"/>
                        </a:lnTo>
                        <a:lnTo>
                          <a:pt x="7" y="66"/>
                        </a:lnTo>
                        <a:lnTo>
                          <a:pt x="62" y="11"/>
                        </a:lnTo>
                        <a:lnTo>
                          <a:pt x="55" y="11"/>
                        </a:lnTo>
                        <a:lnTo>
                          <a:pt x="62" y="4"/>
                        </a:lnTo>
                        <a:lnTo>
                          <a:pt x="59" y="0"/>
                        </a:lnTo>
                        <a:lnTo>
                          <a:pt x="55" y="4"/>
                        </a:lnTo>
                        <a:lnTo>
                          <a:pt x="62"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7" name=""/>
                  <p:cNvSpPr/>
                  <p:nvPr/>
                </p:nvSpPr>
                <p:spPr>
                  <a:xfrm>
                    <a:off x="4863960" y="4578480"/>
                    <a:ext cx="25560" cy="27000"/>
                  </a:xfrm>
                  <a:custGeom>
                    <a:avLst/>
                    <a:gdLst/>
                    <a:ahLst/>
                    <a:rect l="l" t="t" r="r" b="b"/>
                    <a:pathLst>
                      <a:path w="64" h="66">
                        <a:moveTo>
                          <a:pt x="56" y="55"/>
                        </a:moveTo>
                        <a:lnTo>
                          <a:pt x="64" y="55"/>
                        </a:lnTo>
                        <a:lnTo>
                          <a:pt x="7" y="0"/>
                        </a:lnTo>
                        <a:lnTo>
                          <a:pt x="0" y="7"/>
                        </a:lnTo>
                        <a:lnTo>
                          <a:pt x="56" y="62"/>
                        </a:lnTo>
                        <a:lnTo>
                          <a:pt x="64" y="62"/>
                        </a:lnTo>
                        <a:lnTo>
                          <a:pt x="56" y="62"/>
                        </a:lnTo>
                        <a:lnTo>
                          <a:pt x="60" y="66"/>
                        </a:lnTo>
                        <a:lnTo>
                          <a:pt x="64"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8" name=""/>
                  <p:cNvSpPr/>
                  <p:nvPr/>
                </p:nvSpPr>
                <p:spPr>
                  <a:xfrm>
                    <a:off x="4886280" y="4576680"/>
                    <a:ext cx="25200" cy="27000"/>
                  </a:xfrm>
                  <a:custGeom>
                    <a:avLst/>
                    <a:gdLst/>
                    <a:ahLst/>
                    <a:rect l="l" t="t" r="r" b="b"/>
                    <a:pathLst>
                      <a:path w="63" h="67">
                        <a:moveTo>
                          <a:pt x="63" y="5"/>
                        </a:moveTo>
                        <a:lnTo>
                          <a:pt x="55" y="5"/>
                        </a:lnTo>
                        <a:lnTo>
                          <a:pt x="0" y="60"/>
                        </a:lnTo>
                        <a:lnTo>
                          <a:pt x="8" y="67"/>
                        </a:lnTo>
                        <a:lnTo>
                          <a:pt x="63" y="12"/>
                        </a:lnTo>
                        <a:lnTo>
                          <a:pt x="55" y="12"/>
                        </a:lnTo>
                        <a:lnTo>
                          <a:pt x="63" y="5"/>
                        </a:lnTo>
                        <a:lnTo>
                          <a:pt x="59" y="0"/>
                        </a:lnTo>
                        <a:lnTo>
                          <a:pt x="55" y="5"/>
                        </a:lnTo>
                        <a:lnTo>
                          <a:pt x="63"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9" name=""/>
                  <p:cNvSpPr/>
                  <p:nvPr/>
                </p:nvSpPr>
                <p:spPr>
                  <a:xfrm>
                    <a:off x="4908240" y="4578480"/>
                    <a:ext cx="25560" cy="27000"/>
                  </a:xfrm>
                  <a:custGeom>
                    <a:avLst/>
                    <a:gdLst/>
                    <a:ahLst/>
                    <a:rect l="l" t="t" r="r" b="b"/>
                    <a:pathLst>
                      <a:path w="62" h="66">
                        <a:moveTo>
                          <a:pt x="55" y="55"/>
                        </a:moveTo>
                        <a:lnTo>
                          <a:pt x="62" y="55"/>
                        </a:lnTo>
                        <a:lnTo>
                          <a:pt x="8" y="0"/>
                        </a:lnTo>
                        <a:lnTo>
                          <a:pt x="0" y="7"/>
                        </a:lnTo>
                        <a:lnTo>
                          <a:pt x="55" y="62"/>
                        </a:lnTo>
                        <a:lnTo>
                          <a:pt x="62" y="62"/>
                        </a:lnTo>
                        <a:lnTo>
                          <a:pt x="55" y="62"/>
                        </a:lnTo>
                        <a:lnTo>
                          <a:pt x="59" y="66"/>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0" name=""/>
                  <p:cNvSpPr/>
                  <p:nvPr/>
                </p:nvSpPr>
                <p:spPr>
                  <a:xfrm>
                    <a:off x="4930560" y="4576680"/>
                    <a:ext cx="25560" cy="27000"/>
                  </a:xfrm>
                  <a:custGeom>
                    <a:avLst/>
                    <a:gdLst/>
                    <a:ahLst/>
                    <a:rect l="l" t="t" r="r" b="b"/>
                    <a:pathLst>
                      <a:path w="64" h="66">
                        <a:moveTo>
                          <a:pt x="64" y="4"/>
                        </a:moveTo>
                        <a:lnTo>
                          <a:pt x="56" y="4"/>
                        </a:lnTo>
                        <a:lnTo>
                          <a:pt x="0" y="59"/>
                        </a:lnTo>
                        <a:lnTo>
                          <a:pt x="7" y="66"/>
                        </a:lnTo>
                        <a:lnTo>
                          <a:pt x="64" y="11"/>
                        </a:lnTo>
                        <a:lnTo>
                          <a:pt x="56" y="11"/>
                        </a:lnTo>
                        <a:lnTo>
                          <a:pt x="64" y="4"/>
                        </a:lnTo>
                        <a:lnTo>
                          <a:pt x="60" y="0"/>
                        </a:lnTo>
                        <a:lnTo>
                          <a:pt x="56" y="4"/>
                        </a:lnTo>
                        <a:lnTo>
                          <a:pt x="6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1" name=""/>
                  <p:cNvSpPr/>
                  <p:nvPr/>
                </p:nvSpPr>
                <p:spPr>
                  <a:xfrm>
                    <a:off x="4952880" y="4578480"/>
                    <a:ext cx="23760" cy="27000"/>
                  </a:xfrm>
                  <a:custGeom>
                    <a:avLst/>
                    <a:gdLst/>
                    <a:ahLst/>
                    <a:rect l="l" t="t" r="r" b="b"/>
                    <a:pathLst>
                      <a:path w="63" h="67">
                        <a:moveTo>
                          <a:pt x="55" y="55"/>
                        </a:moveTo>
                        <a:lnTo>
                          <a:pt x="63" y="55"/>
                        </a:lnTo>
                        <a:lnTo>
                          <a:pt x="8" y="0"/>
                        </a:lnTo>
                        <a:lnTo>
                          <a:pt x="0" y="7"/>
                        </a:lnTo>
                        <a:lnTo>
                          <a:pt x="55" y="62"/>
                        </a:lnTo>
                        <a:lnTo>
                          <a:pt x="63" y="62"/>
                        </a:lnTo>
                        <a:lnTo>
                          <a:pt x="55" y="62"/>
                        </a:lnTo>
                        <a:lnTo>
                          <a:pt x="59" y="67"/>
                        </a:lnTo>
                        <a:lnTo>
                          <a:pt x="63"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2" name=""/>
                  <p:cNvSpPr/>
                  <p:nvPr/>
                </p:nvSpPr>
                <p:spPr>
                  <a:xfrm>
                    <a:off x="4975200" y="4576680"/>
                    <a:ext cx="23760" cy="27000"/>
                  </a:xfrm>
                  <a:custGeom>
                    <a:avLst/>
                    <a:gdLst/>
                    <a:ahLst/>
                    <a:rect l="l" t="t" r="r" b="b"/>
                    <a:pathLst>
                      <a:path w="63" h="66">
                        <a:moveTo>
                          <a:pt x="63" y="4"/>
                        </a:moveTo>
                        <a:lnTo>
                          <a:pt x="55" y="4"/>
                        </a:lnTo>
                        <a:lnTo>
                          <a:pt x="0" y="59"/>
                        </a:lnTo>
                        <a:lnTo>
                          <a:pt x="8" y="66"/>
                        </a:lnTo>
                        <a:lnTo>
                          <a:pt x="63" y="11"/>
                        </a:lnTo>
                        <a:lnTo>
                          <a:pt x="55" y="11"/>
                        </a:lnTo>
                        <a:lnTo>
                          <a:pt x="63" y="4"/>
                        </a:lnTo>
                        <a:lnTo>
                          <a:pt x="59" y="0"/>
                        </a:lnTo>
                        <a:lnTo>
                          <a:pt x="55" y="4"/>
                        </a:lnTo>
                        <a:lnTo>
                          <a:pt x="63"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3" name=""/>
                  <p:cNvSpPr/>
                  <p:nvPr/>
                </p:nvSpPr>
                <p:spPr>
                  <a:xfrm>
                    <a:off x="4995720" y="4578480"/>
                    <a:ext cx="25560" cy="27000"/>
                  </a:xfrm>
                  <a:custGeom>
                    <a:avLst/>
                    <a:gdLst/>
                    <a:ahLst/>
                    <a:rect l="l" t="t" r="r" b="b"/>
                    <a:pathLst>
                      <a:path w="64" h="66">
                        <a:moveTo>
                          <a:pt x="56" y="55"/>
                        </a:moveTo>
                        <a:lnTo>
                          <a:pt x="64" y="55"/>
                        </a:lnTo>
                        <a:lnTo>
                          <a:pt x="8" y="0"/>
                        </a:lnTo>
                        <a:lnTo>
                          <a:pt x="0" y="7"/>
                        </a:lnTo>
                        <a:lnTo>
                          <a:pt x="56" y="62"/>
                        </a:lnTo>
                        <a:lnTo>
                          <a:pt x="64" y="62"/>
                        </a:lnTo>
                        <a:lnTo>
                          <a:pt x="56" y="62"/>
                        </a:lnTo>
                        <a:lnTo>
                          <a:pt x="60" y="66"/>
                        </a:lnTo>
                        <a:lnTo>
                          <a:pt x="64"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4" name=""/>
                  <p:cNvSpPr/>
                  <p:nvPr/>
                </p:nvSpPr>
                <p:spPr>
                  <a:xfrm>
                    <a:off x="5018040" y="4576680"/>
                    <a:ext cx="25200" cy="27000"/>
                  </a:xfrm>
                  <a:custGeom>
                    <a:avLst/>
                    <a:gdLst/>
                    <a:ahLst/>
                    <a:rect l="l" t="t" r="r" b="b"/>
                    <a:pathLst>
                      <a:path w="63" h="67">
                        <a:moveTo>
                          <a:pt x="63" y="5"/>
                        </a:moveTo>
                        <a:lnTo>
                          <a:pt x="55" y="5"/>
                        </a:lnTo>
                        <a:lnTo>
                          <a:pt x="0" y="60"/>
                        </a:lnTo>
                        <a:lnTo>
                          <a:pt x="8" y="67"/>
                        </a:lnTo>
                        <a:lnTo>
                          <a:pt x="63" y="12"/>
                        </a:lnTo>
                        <a:lnTo>
                          <a:pt x="55" y="12"/>
                        </a:lnTo>
                        <a:lnTo>
                          <a:pt x="63" y="5"/>
                        </a:lnTo>
                        <a:lnTo>
                          <a:pt x="59" y="0"/>
                        </a:lnTo>
                        <a:lnTo>
                          <a:pt x="55" y="5"/>
                        </a:lnTo>
                        <a:lnTo>
                          <a:pt x="63"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5" name=""/>
                  <p:cNvSpPr/>
                  <p:nvPr/>
                </p:nvSpPr>
                <p:spPr>
                  <a:xfrm>
                    <a:off x="5040000" y="4578480"/>
                    <a:ext cx="24120" cy="27000"/>
                  </a:xfrm>
                  <a:custGeom>
                    <a:avLst/>
                    <a:gdLst/>
                    <a:ahLst/>
                    <a:rect l="l" t="t" r="r" b="b"/>
                    <a:pathLst>
                      <a:path w="61" h="67">
                        <a:moveTo>
                          <a:pt x="54" y="55"/>
                        </a:moveTo>
                        <a:lnTo>
                          <a:pt x="61" y="55"/>
                        </a:lnTo>
                        <a:lnTo>
                          <a:pt x="8" y="0"/>
                        </a:lnTo>
                        <a:lnTo>
                          <a:pt x="0" y="7"/>
                        </a:lnTo>
                        <a:lnTo>
                          <a:pt x="54" y="62"/>
                        </a:lnTo>
                        <a:lnTo>
                          <a:pt x="61" y="62"/>
                        </a:lnTo>
                        <a:lnTo>
                          <a:pt x="54" y="62"/>
                        </a:lnTo>
                        <a:lnTo>
                          <a:pt x="58" y="67"/>
                        </a:lnTo>
                        <a:lnTo>
                          <a:pt x="61" y="62"/>
                        </a:lnTo>
                        <a:lnTo>
                          <a:pt x="54"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6" name=""/>
                  <p:cNvSpPr/>
                  <p:nvPr/>
                </p:nvSpPr>
                <p:spPr>
                  <a:xfrm>
                    <a:off x="5060880" y="4576680"/>
                    <a:ext cx="25200" cy="27000"/>
                  </a:xfrm>
                  <a:custGeom>
                    <a:avLst/>
                    <a:gdLst/>
                    <a:ahLst/>
                    <a:rect l="l" t="t" r="r" b="b"/>
                    <a:pathLst>
                      <a:path w="64" h="66">
                        <a:moveTo>
                          <a:pt x="64" y="4"/>
                        </a:moveTo>
                        <a:lnTo>
                          <a:pt x="56" y="4"/>
                        </a:lnTo>
                        <a:lnTo>
                          <a:pt x="0" y="59"/>
                        </a:lnTo>
                        <a:lnTo>
                          <a:pt x="7" y="66"/>
                        </a:lnTo>
                        <a:lnTo>
                          <a:pt x="64" y="11"/>
                        </a:lnTo>
                        <a:lnTo>
                          <a:pt x="56" y="11"/>
                        </a:lnTo>
                        <a:lnTo>
                          <a:pt x="64" y="4"/>
                        </a:lnTo>
                        <a:lnTo>
                          <a:pt x="60" y="0"/>
                        </a:lnTo>
                        <a:lnTo>
                          <a:pt x="56" y="4"/>
                        </a:lnTo>
                        <a:lnTo>
                          <a:pt x="6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7" name=""/>
                  <p:cNvSpPr/>
                  <p:nvPr/>
                </p:nvSpPr>
                <p:spPr>
                  <a:xfrm>
                    <a:off x="5084640" y="4578480"/>
                    <a:ext cx="23760" cy="27000"/>
                  </a:xfrm>
                  <a:custGeom>
                    <a:avLst/>
                    <a:gdLst/>
                    <a:ahLst/>
                    <a:rect l="l" t="t" r="r" b="b"/>
                    <a:pathLst>
                      <a:path w="62" h="67">
                        <a:moveTo>
                          <a:pt x="55" y="55"/>
                        </a:moveTo>
                        <a:lnTo>
                          <a:pt x="62" y="55"/>
                        </a:lnTo>
                        <a:lnTo>
                          <a:pt x="8" y="0"/>
                        </a:lnTo>
                        <a:lnTo>
                          <a:pt x="0" y="7"/>
                        </a:lnTo>
                        <a:lnTo>
                          <a:pt x="55" y="62"/>
                        </a:lnTo>
                        <a:lnTo>
                          <a:pt x="62" y="62"/>
                        </a:lnTo>
                        <a:lnTo>
                          <a:pt x="55" y="62"/>
                        </a:lnTo>
                        <a:lnTo>
                          <a:pt x="59" y="67"/>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8" name=""/>
                  <p:cNvSpPr/>
                  <p:nvPr/>
                </p:nvSpPr>
                <p:spPr>
                  <a:xfrm>
                    <a:off x="5105160" y="4576680"/>
                    <a:ext cx="25560" cy="27000"/>
                  </a:xfrm>
                  <a:custGeom>
                    <a:avLst/>
                    <a:gdLst/>
                    <a:ahLst/>
                    <a:rect l="l" t="t" r="r" b="b"/>
                    <a:pathLst>
                      <a:path w="62" h="66">
                        <a:moveTo>
                          <a:pt x="62" y="4"/>
                        </a:moveTo>
                        <a:lnTo>
                          <a:pt x="55" y="4"/>
                        </a:lnTo>
                        <a:lnTo>
                          <a:pt x="0" y="59"/>
                        </a:lnTo>
                        <a:lnTo>
                          <a:pt x="7" y="66"/>
                        </a:lnTo>
                        <a:lnTo>
                          <a:pt x="62" y="11"/>
                        </a:lnTo>
                        <a:lnTo>
                          <a:pt x="55" y="11"/>
                        </a:lnTo>
                        <a:lnTo>
                          <a:pt x="62" y="4"/>
                        </a:lnTo>
                        <a:lnTo>
                          <a:pt x="59" y="0"/>
                        </a:lnTo>
                        <a:lnTo>
                          <a:pt x="55" y="4"/>
                        </a:lnTo>
                        <a:lnTo>
                          <a:pt x="62"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9" name=""/>
                  <p:cNvSpPr/>
                  <p:nvPr/>
                </p:nvSpPr>
                <p:spPr>
                  <a:xfrm>
                    <a:off x="5127480" y="4578480"/>
                    <a:ext cx="25560" cy="27000"/>
                  </a:xfrm>
                  <a:custGeom>
                    <a:avLst/>
                    <a:gdLst/>
                    <a:ahLst/>
                    <a:rect l="l" t="t" r="r" b="b"/>
                    <a:pathLst>
                      <a:path w="64" h="66">
                        <a:moveTo>
                          <a:pt x="56" y="55"/>
                        </a:moveTo>
                        <a:lnTo>
                          <a:pt x="64" y="55"/>
                        </a:lnTo>
                        <a:lnTo>
                          <a:pt x="7" y="0"/>
                        </a:lnTo>
                        <a:lnTo>
                          <a:pt x="0" y="7"/>
                        </a:lnTo>
                        <a:lnTo>
                          <a:pt x="56" y="62"/>
                        </a:lnTo>
                        <a:lnTo>
                          <a:pt x="64" y="62"/>
                        </a:lnTo>
                        <a:lnTo>
                          <a:pt x="56" y="62"/>
                        </a:lnTo>
                        <a:lnTo>
                          <a:pt x="60" y="66"/>
                        </a:lnTo>
                        <a:lnTo>
                          <a:pt x="64"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a:off x="5149800" y="4576680"/>
                    <a:ext cx="25200" cy="27000"/>
                  </a:xfrm>
                  <a:custGeom>
                    <a:avLst/>
                    <a:gdLst/>
                    <a:ahLst/>
                    <a:rect l="l" t="t" r="r" b="b"/>
                    <a:pathLst>
                      <a:path w="63" h="67">
                        <a:moveTo>
                          <a:pt x="63" y="5"/>
                        </a:moveTo>
                        <a:lnTo>
                          <a:pt x="55" y="5"/>
                        </a:lnTo>
                        <a:lnTo>
                          <a:pt x="0" y="60"/>
                        </a:lnTo>
                        <a:lnTo>
                          <a:pt x="8" y="67"/>
                        </a:lnTo>
                        <a:lnTo>
                          <a:pt x="63" y="12"/>
                        </a:lnTo>
                        <a:lnTo>
                          <a:pt x="55" y="12"/>
                        </a:lnTo>
                        <a:lnTo>
                          <a:pt x="63" y="5"/>
                        </a:lnTo>
                        <a:lnTo>
                          <a:pt x="59" y="0"/>
                        </a:lnTo>
                        <a:lnTo>
                          <a:pt x="55" y="5"/>
                        </a:lnTo>
                        <a:lnTo>
                          <a:pt x="63"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1" name=""/>
                  <p:cNvSpPr/>
                  <p:nvPr/>
                </p:nvSpPr>
                <p:spPr>
                  <a:xfrm>
                    <a:off x="5171760" y="4578480"/>
                    <a:ext cx="24120" cy="27000"/>
                  </a:xfrm>
                  <a:custGeom>
                    <a:avLst/>
                    <a:gdLst/>
                    <a:ahLst/>
                    <a:rect l="l" t="t" r="r" b="b"/>
                    <a:pathLst>
                      <a:path w="62" h="66">
                        <a:moveTo>
                          <a:pt x="55" y="55"/>
                        </a:moveTo>
                        <a:lnTo>
                          <a:pt x="62" y="55"/>
                        </a:lnTo>
                        <a:lnTo>
                          <a:pt x="8" y="0"/>
                        </a:lnTo>
                        <a:lnTo>
                          <a:pt x="0" y="7"/>
                        </a:lnTo>
                        <a:lnTo>
                          <a:pt x="55" y="62"/>
                        </a:lnTo>
                        <a:lnTo>
                          <a:pt x="62" y="62"/>
                        </a:lnTo>
                        <a:lnTo>
                          <a:pt x="55" y="62"/>
                        </a:lnTo>
                        <a:lnTo>
                          <a:pt x="59" y="66"/>
                        </a:lnTo>
                        <a:lnTo>
                          <a:pt x="62"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2" name=""/>
                  <p:cNvSpPr/>
                  <p:nvPr/>
                </p:nvSpPr>
                <p:spPr>
                  <a:xfrm>
                    <a:off x="5192640" y="4576680"/>
                    <a:ext cx="25200" cy="27000"/>
                  </a:xfrm>
                  <a:custGeom>
                    <a:avLst/>
                    <a:gdLst/>
                    <a:ahLst/>
                    <a:rect l="l" t="t" r="r" b="b"/>
                    <a:pathLst>
                      <a:path w="64" h="66">
                        <a:moveTo>
                          <a:pt x="64" y="4"/>
                        </a:moveTo>
                        <a:lnTo>
                          <a:pt x="56" y="4"/>
                        </a:lnTo>
                        <a:lnTo>
                          <a:pt x="0" y="59"/>
                        </a:lnTo>
                        <a:lnTo>
                          <a:pt x="7" y="66"/>
                        </a:lnTo>
                        <a:lnTo>
                          <a:pt x="64" y="11"/>
                        </a:lnTo>
                        <a:lnTo>
                          <a:pt x="56" y="11"/>
                        </a:lnTo>
                        <a:lnTo>
                          <a:pt x="64" y="4"/>
                        </a:lnTo>
                        <a:lnTo>
                          <a:pt x="60" y="0"/>
                        </a:lnTo>
                        <a:lnTo>
                          <a:pt x="56" y="4"/>
                        </a:lnTo>
                        <a:lnTo>
                          <a:pt x="6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3" name=""/>
                  <p:cNvSpPr/>
                  <p:nvPr/>
                </p:nvSpPr>
                <p:spPr>
                  <a:xfrm>
                    <a:off x="5216400" y="4578480"/>
                    <a:ext cx="23760" cy="27000"/>
                  </a:xfrm>
                  <a:custGeom>
                    <a:avLst/>
                    <a:gdLst/>
                    <a:ahLst/>
                    <a:rect l="l" t="t" r="r" b="b"/>
                    <a:pathLst>
                      <a:path w="63" h="67">
                        <a:moveTo>
                          <a:pt x="55" y="55"/>
                        </a:moveTo>
                        <a:lnTo>
                          <a:pt x="63" y="55"/>
                        </a:lnTo>
                        <a:lnTo>
                          <a:pt x="8" y="0"/>
                        </a:lnTo>
                        <a:lnTo>
                          <a:pt x="0" y="7"/>
                        </a:lnTo>
                        <a:lnTo>
                          <a:pt x="55" y="62"/>
                        </a:lnTo>
                        <a:lnTo>
                          <a:pt x="63" y="62"/>
                        </a:lnTo>
                        <a:lnTo>
                          <a:pt x="55" y="62"/>
                        </a:lnTo>
                        <a:lnTo>
                          <a:pt x="59" y="67"/>
                        </a:lnTo>
                        <a:lnTo>
                          <a:pt x="63" y="62"/>
                        </a:lnTo>
                        <a:lnTo>
                          <a:pt x="55"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4" name=""/>
                  <p:cNvSpPr/>
                  <p:nvPr/>
                </p:nvSpPr>
                <p:spPr>
                  <a:xfrm>
                    <a:off x="5236920" y="4576680"/>
                    <a:ext cx="25560" cy="27000"/>
                  </a:xfrm>
                  <a:custGeom>
                    <a:avLst/>
                    <a:gdLst/>
                    <a:ahLst/>
                    <a:rect l="l" t="t" r="r" b="b"/>
                    <a:pathLst>
                      <a:path w="63" h="66">
                        <a:moveTo>
                          <a:pt x="63" y="4"/>
                        </a:moveTo>
                        <a:lnTo>
                          <a:pt x="55" y="4"/>
                        </a:lnTo>
                        <a:lnTo>
                          <a:pt x="0" y="59"/>
                        </a:lnTo>
                        <a:lnTo>
                          <a:pt x="8" y="66"/>
                        </a:lnTo>
                        <a:lnTo>
                          <a:pt x="63" y="11"/>
                        </a:lnTo>
                        <a:lnTo>
                          <a:pt x="55" y="11"/>
                        </a:lnTo>
                        <a:lnTo>
                          <a:pt x="63" y="4"/>
                        </a:lnTo>
                        <a:lnTo>
                          <a:pt x="59" y="0"/>
                        </a:lnTo>
                        <a:lnTo>
                          <a:pt x="55" y="4"/>
                        </a:lnTo>
                        <a:lnTo>
                          <a:pt x="63"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5" name=""/>
                  <p:cNvSpPr/>
                  <p:nvPr/>
                </p:nvSpPr>
                <p:spPr>
                  <a:xfrm>
                    <a:off x="5259240" y="4578480"/>
                    <a:ext cx="25560" cy="27000"/>
                  </a:xfrm>
                  <a:custGeom>
                    <a:avLst/>
                    <a:gdLst/>
                    <a:ahLst/>
                    <a:rect l="l" t="t" r="r" b="b"/>
                    <a:pathLst>
                      <a:path w="64" h="66">
                        <a:moveTo>
                          <a:pt x="56" y="55"/>
                        </a:moveTo>
                        <a:lnTo>
                          <a:pt x="64" y="55"/>
                        </a:lnTo>
                        <a:lnTo>
                          <a:pt x="8" y="0"/>
                        </a:lnTo>
                        <a:lnTo>
                          <a:pt x="0" y="7"/>
                        </a:lnTo>
                        <a:lnTo>
                          <a:pt x="56" y="62"/>
                        </a:lnTo>
                        <a:lnTo>
                          <a:pt x="64" y="62"/>
                        </a:lnTo>
                        <a:lnTo>
                          <a:pt x="56" y="62"/>
                        </a:lnTo>
                        <a:lnTo>
                          <a:pt x="60" y="66"/>
                        </a:lnTo>
                        <a:lnTo>
                          <a:pt x="64" y="62"/>
                        </a:lnTo>
                        <a:lnTo>
                          <a:pt x="56"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6" name=""/>
                  <p:cNvSpPr/>
                  <p:nvPr/>
                </p:nvSpPr>
                <p:spPr>
                  <a:xfrm>
                    <a:off x="5281560" y="4575240"/>
                    <a:ext cx="25200" cy="28440"/>
                  </a:xfrm>
                  <a:custGeom>
                    <a:avLst/>
                    <a:gdLst/>
                    <a:ahLst/>
                    <a:rect l="l" t="t" r="r" b="b"/>
                    <a:pathLst>
                      <a:path w="65" h="72">
                        <a:moveTo>
                          <a:pt x="65" y="13"/>
                        </a:moveTo>
                        <a:lnTo>
                          <a:pt x="55" y="10"/>
                        </a:lnTo>
                        <a:lnTo>
                          <a:pt x="0" y="65"/>
                        </a:lnTo>
                        <a:lnTo>
                          <a:pt x="8" y="72"/>
                        </a:lnTo>
                        <a:lnTo>
                          <a:pt x="63" y="17"/>
                        </a:lnTo>
                        <a:lnTo>
                          <a:pt x="53" y="13"/>
                        </a:lnTo>
                        <a:lnTo>
                          <a:pt x="65" y="13"/>
                        </a:lnTo>
                        <a:lnTo>
                          <a:pt x="65" y="0"/>
                        </a:lnTo>
                        <a:lnTo>
                          <a:pt x="55" y="10"/>
                        </a:lnTo>
                        <a:lnTo>
                          <a:pt x="65"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027" name=""/>
                <p:cNvSpPr/>
                <p:nvPr/>
              </p:nvSpPr>
              <p:spPr>
                <a:xfrm>
                  <a:off x="5302080" y="4579920"/>
                  <a:ext cx="4680" cy="770040"/>
                </a:xfrm>
                <a:custGeom>
                  <a:avLst/>
                  <a:gdLst/>
                  <a:ahLst/>
                  <a:rect l="l" t="t" r="r" b="b"/>
                  <a:pathLst>
                    <a:path w="12" h="1938">
                      <a:moveTo>
                        <a:pt x="6" y="1938"/>
                      </a:moveTo>
                      <a:lnTo>
                        <a:pt x="12" y="1932"/>
                      </a:lnTo>
                      <a:lnTo>
                        <a:pt x="12" y="0"/>
                      </a:lnTo>
                      <a:lnTo>
                        <a:pt x="0" y="0"/>
                      </a:lnTo>
                      <a:lnTo>
                        <a:pt x="0" y="1932"/>
                      </a:lnTo>
                      <a:lnTo>
                        <a:pt x="6" y="1926"/>
                      </a:lnTo>
                      <a:lnTo>
                        <a:pt x="6" y="1938"/>
                      </a:lnTo>
                      <a:lnTo>
                        <a:pt x="12" y="1938"/>
                      </a:lnTo>
                      <a:lnTo>
                        <a:pt x="12" y="1932"/>
                      </a:lnTo>
                      <a:lnTo>
                        <a:pt x="6" y="1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600440" y="5343480"/>
                  <a:ext cx="704880" cy="6480"/>
                </a:xfrm>
                <a:custGeom>
                  <a:avLst/>
                  <a:gdLst/>
                  <a:ahLst/>
                  <a:rect l="l" t="t" r="r" b="b"/>
                  <a:pathLst>
                    <a:path w="1777" h="12">
                      <a:moveTo>
                        <a:pt x="0" y="6"/>
                      </a:moveTo>
                      <a:lnTo>
                        <a:pt x="6" y="12"/>
                      </a:lnTo>
                      <a:lnTo>
                        <a:pt x="1777" y="12"/>
                      </a:lnTo>
                      <a:lnTo>
                        <a:pt x="1777" y="0"/>
                      </a:lnTo>
                      <a:lnTo>
                        <a:pt x="6" y="0"/>
                      </a:lnTo>
                      <a:lnTo>
                        <a:pt x="13"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9" name=""/>
                <p:cNvSpPr/>
                <p:nvPr/>
              </p:nvSpPr>
              <p:spPr>
                <a:xfrm>
                  <a:off x="4600440" y="4575240"/>
                  <a:ext cx="4680" cy="771480"/>
                </a:xfrm>
                <a:custGeom>
                  <a:avLst/>
                  <a:gdLst/>
                  <a:ahLst/>
                  <a:rect l="l" t="t" r="r" b="b"/>
                  <a:pathLst>
                    <a:path w="13" h="1945">
                      <a:moveTo>
                        <a:pt x="10" y="10"/>
                      </a:moveTo>
                      <a:lnTo>
                        <a:pt x="0" y="13"/>
                      </a:lnTo>
                      <a:lnTo>
                        <a:pt x="0" y="1945"/>
                      </a:lnTo>
                      <a:lnTo>
                        <a:pt x="13" y="1945"/>
                      </a:lnTo>
                      <a:lnTo>
                        <a:pt x="13" y="13"/>
                      </a:lnTo>
                      <a:lnTo>
                        <a:pt x="3" y="17"/>
                      </a:lnTo>
                      <a:lnTo>
                        <a:pt x="10" y="10"/>
                      </a:lnTo>
                      <a:lnTo>
                        <a:pt x="0" y="0"/>
                      </a:lnTo>
                      <a:lnTo>
                        <a:pt x="0" y="13"/>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5302080" y="5102280"/>
                  <a:ext cx="69840" cy="241200"/>
                </a:xfrm>
                <a:custGeom>
                  <a:avLst/>
                  <a:gdLst/>
                  <a:ahLst/>
                  <a:rect l="l" t="t" r="r" b="b"/>
                  <a:pathLst>
                    <a:path w="175" h="605">
                      <a:moveTo>
                        <a:pt x="175" y="15"/>
                      </a:moveTo>
                      <a:lnTo>
                        <a:pt x="165" y="16"/>
                      </a:lnTo>
                      <a:lnTo>
                        <a:pt x="0" y="603"/>
                      </a:lnTo>
                      <a:lnTo>
                        <a:pt x="10" y="605"/>
                      </a:lnTo>
                      <a:lnTo>
                        <a:pt x="175" y="18"/>
                      </a:lnTo>
                      <a:lnTo>
                        <a:pt x="165" y="20"/>
                      </a:lnTo>
                      <a:lnTo>
                        <a:pt x="175" y="15"/>
                      </a:lnTo>
                      <a:lnTo>
                        <a:pt x="168" y="0"/>
                      </a:lnTo>
                      <a:lnTo>
                        <a:pt x="165" y="16"/>
                      </a:lnTo>
                      <a:lnTo>
                        <a:pt x="17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5368680" y="5108400"/>
                  <a:ext cx="55800" cy="113040"/>
                </a:xfrm>
                <a:custGeom>
                  <a:avLst/>
                  <a:gdLst/>
                  <a:ahLst/>
                  <a:rect l="l" t="t" r="r" b="b"/>
                  <a:pathLst>
                    <a:path w="140" h="284">
                      <a:moveTo>
                        <a:pt x="135" y="281"/>
                      </a:moveTo>
                      <a:lnTo>
                        <a:pt x="140" y="279"/>
                      </a:lnTo>
                      <a:lnTo>
                        <a:pt x="10" y="0"/>
                      </a:lnTo>
                      <a:lnTo>
                        <a:pt x="0" y="5"/>
                      </a:lnTo>
                      <a:lnTo>
                        <a:pt x="130" y="284"/>
                      </a:lnTo>
                      <a:lnTo>
                        <a:pt x="135"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370480" y="4511520"/>
                  <a:ext cx="1440" cy="598680"/>
                </a:xfrm>
                <a:custGeom>
                  <a:avLst/>
                  <a:gdLst/>
                  <a:ahLst/>
                  <a:rect l="l" t="t" r="r" b="b"/>
                  <a:pathLst>
                    <a:path w="0" h="1506">
                      <a:moveTo>
                        <a:pt x="0" y="1506"/>
                      </a:moveTo>
                      <a:lnTo>
                        <a:pt x="0" y="0"/>
                      </a:lnTo>
                      <a:lnTo>
                        <a:pt x="0" y="1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5367240" y="4511520"/>
                  <a:ext cx="4680" cy="598680"/>
                </a:xfrm>
                <a:custGeom>
                  <a:avLst/>
                  <a:gdLst/>
                  <a:ahLst/>
                  <a:rect l="l" t="t" r="r" b="b"/>
                  <a:pathLst>
                    <a:path w="13" h="1506">
                      <a:moveTo>
                        <a:pt x="7" y="0"/>
                      </a:moveTo>
                      <a:lnTo>
                        <a:pt x="0" y="0"/>
                      </a:lnTo>
                      <a:lnTo>
                        <a:pt x="0" y="1506"/>
                      </a:lnTo>
                      <a:lnTo>
                        <a:pt x="13" y="1506"/>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2698560" y="4210200"/>
                <a:ext cx="942840" cy="869760"/>
                <a:chOff x="2698560" y="4210200"/>
                <a:chExt cx="942840" cy="869760"/>
              </a:xfrm>
            </p:grpSpPr>
            <p:sp>
              <p:nvSpPr>
                <p:cNvPr id="1035" name=""/>
                <p:cNvSpPr/>
                <p:nvPr/>
              </p:nvSpPr>
              <p:spPr>
                <a:xfrm>
                  <a:off x="2705040" y="4307040"/>
                  <a:ext cx="930240" cy="603000"/>
                </a:xfrm>
                <a:custGeom>
                  <a:avLst/>
                  <a:gdLst/>
                  <a:ahLst/>
                  <a:rect l="l" t="t" r="r" b="b"/>
                  <a:pathLst>
                    <a:path w="1172" h="759">
                      <a:moveTo>
                        <a:pt x="0" y="759"/>
                      </a:moveTo>
                      <a:lnTo>
                        <a:pt x="0" y="114"/>
                      </a:lnTo>
                      <a:lnTo>
                        <a:pt x="3" y="91"/>
                      </a:lnTo>
                      <a:lnTo>
                        <a:pt x="11" y="70"/>
                      </a:lnTo>
                      <a:lnTo>
                        <a:pt x="25" y="51"/>
                      </a:lnTo>
                      <a:lnTo>
                        <a:pt x="44" y="34"/>
                      </a:lnTo>
                      <a:lnTo>
                        <a:pt x="66" y="20"/>
                      </a:lnTo>
                      <a:lnTo>
                        <a:pt x="91" y="10"/>
                      </a:lnTo>
                      <a:lnTo>
                        <a:pt x="119" y="3"/>
                      </a:lnTo>
                      <a:lnTo>
                        <a:pt x="149" y="0"/>
                      </a:lnTo>
                      <a:lnTo>
                        <a:pt x="1022" y="0"/>
                      </a:lnTo>
                      <a:lnTo>
                        <a:pt x="1052" y="3"/>
                      </a:lnTo>
                      <a:lnTo>
                        <a:pt x="1080" y="10"/>
                      </a:lnTo>
                      <a:lnTo>
                        <a:pt x="1106" y="20"/>
                      </a:lnTo>
                      <a:lnTo>
                        <a:pt x="1128" y="34"/>
                      </a:lnTo>
                      <a:lnTo>
                        <a:pt x="1147" y="51"/>
                      </a:lnTo>
                      <a:lnTo>
                        <a:pt x="1160" y="70"/>
                      </a:lnTo>
                      <a:lnTo>
                        <a:pt x="1169" y="91"/>
                      </a:lnTo>
                      <a:lnTo>
                        <a:pt x="1172" y="114"/>
                      </a:lnTo>
                      <a:lnTo>
                        <a:pt x="1172" y="759"/>
                      </a:lnTo>
                      <a:lnTo>
                        <a:pt x="0" y="759"/>
                      </a:lnTo>
                      <a:close/>
                    </a:path>
                  </a:pathLst>
                </a:custGeom>
                <a:solidFill>
                  <a:srgbClr val="8e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2705040" y="4307040"/>
                  <a:ext cx="930240" cy="603000"/>
                </a:xfrm>
                <a:custGeom>
                  <a:avLst/>
                  <a:gdLst/>
                  <a:ahLst/>
                  <a:rect l="l" t="t" r="r" b="b"/>
                  <a:pathLst>
                    <a:path w="1172" h="759">
                      <a:moveTo>
                        <a:pt x="0" y="759"/>
                      </a:moveTo>
                      <a:lnTo>
                        <a:pt x="0" y="114"/>
                      </a:lnTo>
                      <a:lnTo>
                        <a:pt x="0" y="114"/>
                      </a:lnTo>
                      <a:lnTo>
                        <a:pt x="3" y="91"/>
                      </a:lnTo>
                      <a:lnTo>
                        <a:pt x="11" y="70"/>
                      </a:lnTo>
                      <a:lnTo>
                        <a:pt x="25" y="51"/>
                      </a:lnTo>
                      <a:lnTo>
                        <a:pt x="44" y="34"/>
                      </a:lnTo>
                      <a:lnTo>
                        <a:pt x="66" y="20"/>
                      </a:lnTo>
                      <a:lnTo>
                        <a:pt x="91" y="10"/>
                      </a:lnTo>
                      <a:lnTo>
                        <a:pt x="119" y="3"/>
                      </a:lnTo>
                      <a:lnTo>
                        <a:pt x="149" y="0"/>
                      </a:lnTo>
                      <a:lnTo>
                        <a:pt x="1022" y="0"/>
                      </a:lnTo>
                      <a:lnTo>
                        <a:pt x="1022" y="0"/>
                      </a:lnTo>
                      <a:lnTo>
                        <a:pt x="1052" y="3"/>
                      </a:lnTo>
                      <a:lnTo>
                        <a:pt x="1080" y="10"/>
                      </a:lnTo>
                      <a:lnTo>
                        <a:pt x="1106" y="20"/>
                      </a:lnTo>
                      <a:lnTo>
                        <a:pt x="1128" y="34"/>
                      </a:lnTo>
                      <a:lnTo>
                        <a:pt x="1147" y="51"/>
                      </a:lnTo>
                      <a:lnTo>
                        <a:pt x="1160" y="70"/>
                      </a:lnTo>
                      <a:lnTo>
                        <a:pt x="1169" y="91"/>
                      </a:lnTo>
                      <a:lnTo>
                        <a:pt x="1172" y="114"/>
                      </a:lnTo>
                      <a:lnTo>
                        <a:pt x="1172" y="759"/>
                      </a:lnTo>
                      <a:lnTo>
                        <a:pt x="0" y="7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2705040" y="4910040"/>
                  <a:ext cx="930240" cy="108000"/>
                </a:xfrm>
                <a:custGeom>
                  <a:avLst/>
                  <a:gdLst/>
                  <a:ahLst/>
                  <a:rect l="l" t="t" r="r" b="b"/>
                  <a:pathLst>
                    <a:path w="1172" h="137">
                      <a:moveTo>
                        <a:pt x="1172" y="0"/>
                      </a:moveTo>
                      <a:lnTo>
                        <a:pt x="1172" y="23"/>
                      </a:lnTo>
                      <a:lnTo>
                        <a:pt x="1169" y="46"/>
                      </a:lnTo>
                      <a:lnTo>
                        <a:pt x="1160" y="67"/>
                      </a:lnTo>
                      <a:lnTo>
                        <a:pt x="1147" y="86"/>
                      </a:lnTo>
                      <a:lnTo>
                        <a:pt x="1128" y="103"/>
                      </a:lnTo>
                      <a:lnTo>
                        <a:pt x="1106" y="118"/>
                      </a:lnTo>
                      <a:lnTo>
                        <a:pt x="1080" y="127"/>
                      </a:lnTo>
                      <a:lnTo>
                        <a:pt x="1052" y="134"/>
                      </a:lnTo>
                      <a:lnTo>
                        <a:pt x="1022" y="137"/>
                      </a:lnTo>
                      <a:lnTo>
                        <a:pt x="149" y="137"/>
                      </a:lnTo>
                      <a:lnTo>
                        <a:pt x="119" y="134"/>
                      </a:lnTo>
                      <a:lnTo>
                        <a:pt x="91" y="127"/>
                      </a:lnTo>
                      <a:lnTo>
                        <a:pt x="66" y="118"/>
                      </a:lnTo>
                      <a:lnTo>
                        <a:pt x="44" y="103"/>
                      </a:lnTo>
                      <a:lnTo>
                        <a:pt x="25" y="86"/>
                      </a:lnTo>
                      <a:lnTo>
                        <a:pt x="11" y="67"/>
                      </a:lnTo>
                      <a:lnTo>
                        <a:pt x="3" y="46"/>
                      </a:lnTo>
                      <a:lnTo>
                        <a:pt x="0" y="23"/>
                      </a:lnTo>
                      <a:lnTo>
                        <a:pt x="0" y="0"/>
                      </a:lnTo>
                      <a:lnTo>
                        <a:pt x="1172"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2705040" y="4910040"/>
                  <a:ext cx="930240" cy="108000"/>
                </a:xfrm>
                <a:custGeom>
                  <a:avLst/>
                  <a:gdLst/>
                  <a:ahLst/>
                  <a:rect l="l" t="t" r="r" b="b"/>
                  <a:pathLst>
                    <a:path w="1172" h="137">
                      <a:moveTo>
                        <a:pt x="1172" y="0"/>
                      </a:moveTo>
                      <a:lnTo>
                        <a:pt x="1172" y="23"/>
                      </a:lnTo>
                      <a:lnTo>
                        <a:pt x="1172" y="23"/>
                      </a:lnTo>
                      <a:lnTo>
                        <a:pt x="1169" y="46"/>
                      </a:lnTo>
                      <a:lnTo>
                        <a:pt x="1160" y="67"/>
                      </a:lnTo>
                      <a:lnTo>
                        <a:pt x="1147" y="86"/>
                      </a:lnTo>
                      <a:lnTo>
                        <a:pt x="1128" y="103"/>
                      </a:lnTo>
                      <a:lnTo>
                        <a:pt x="1106" y="118"/>
                      </a:lnTo>
                      <a:lnTo>
                        <a:pt x="1080" y="127"/>
                      </a:lnTo>
                      <a:lnTo>
                        <a:pt x="1052" y="134"/>
                      </a:lnTo>
                      <a:lnTo>
                        <a:pt x="1022" y="137"/>
                      </a:lnTo>
                      <a:lnTo>
                        <a:pt x="149" y="137"/>
                      </a:lnTo>
                      <a:lnTo>
                        <a:pt x="149" y="137"/>
                      </a:lnTo>
                      <a:lnTo>
                        <a:pt x="119" y="134"/>
                      </a:lnTo>
                      <a:lnTo>
                        <a:pt x="91" y="127"/>
                      </a:lnTo>
                      <a:lnTo>
                        <a:pt x="66" y="118"/>
                      </a:lnTo>
                      <a:lnTo>
                        <a:pt x="44" y="103"/>
                      </a:lnTo>
                      <a:lnTo>
                        <a:pt x="25" y="86"/>
                      </a:lnTo>
                      <a:lnTo>
                        <a:pt x="11" y="67"/>
                      </a:lnTo>
                      <a:lnTo>
                        <a:pt x="3" y="46"/>
                      </a:lnTo>
                      <a:lnTo>
                        <a:pt x="0" y="23"/>
                      </a:lnTo>
                      <a:lnTo>
                        <a:pt x="0" y="0"/>
                      </a:lnTo>
                      <a:lnTo>
                        <a:pt x="11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3509640" y="4927680"/>
                  <a:ext cx="131760" cy="95040"/>
                </a:xfrm>
                <a:custGeom>
                  <a:avLst/>
                  <a:gdLst/>
                  <a:ahLst/>
                  <a:rect l="l" t="t" r="r" b="b"/>
                  <a:pathLst>
                    <a:path w="164" h="120">
                      <a:moveTo>
                        <a:pt x="6" y="120"/>
                      </a:moveTo>
                      <a:lnTo>
                        <a:pt x="6" y="120"/>
                      </a:lnTo>
                      <a:lnTo>
                        <a:pt x="37" y="116"/>
                      </a:lnTo>
                      <a:lnTo>
                        <a:pt x="65" y="109"/>
                      </a:lnTo>
                      <a:lnTo>
                        <a:pt x="94" y="99"/>
                      </a:lnTo>
                      <a:lnTo>
                        <a:pt x="117" y="84"/>
                      </a:lnTo>
                      <a:lnTo>
                        <a:pt x="137" y="66"/>
                      </a:lnTo>
                      <a:lnTo>
                        <a:pt x="150" y="46"/>
                      </a:lnTo>
                      <a:lnTo>
                        <a:pt x="159" y="24"/>
                      </a:lnTo>
                      <a:lnTo>
                        <a:pt x="164" y="0"/>
                      </a:lnTo>
                      <a:lnTo>
                        <a:pt x="148" y="0"/>
                      </a:lnTo>
                      <a:lnTo>
                        <a:pt x="147" y="22"/>
                      </a:lnTo>
                      <a:lnTo>
                        <a:pt x="137" y="43"/>
                      </a:lnTo>
                      <a:lnTo>
                        <a:pt x="125" y="61"/>
                      </a:lnTo>
                      <a:lnTo>
                        <a:pt x="108" y="77"/>
                      </a:lnTo>
                      <a:lnTo>
                        <a:pt x="87" y="90"/>
                      </a:lnTo>
                      <a:lnTo>
                        <a:pt x="62" y="99"/>
                      </a:lnTo>
                      <a:lnTo>
                        <a:pt x="34" y="106"/>
                      </a:lnTo>
                      <a:lnTo>
                        <a:pt x="6" y="108"/>
                      </a:lnTo>
                      <a:lnTo>
                        <a:pt x="6" y="108"/>
                      </a:lnTo>
                      <a:lnTo>
                        <a:pt x="6" y="108"/>
                      </a:lnTo>
                      <a:lnTo>
                        <a:pt x="1" y="110"/>
                      </a:lnTo>
                      <a:lnTo>
                        <a:pt x="0" y="114"/>
                      </a:lnTo>
                      <a:lnTo>
                        <a:pt x="1" y="117"/>
                      </a:lnTo>
                      <a:lnTo>
                        <a:pt x="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817720" y="5013360"/>
                  <a:ext cx="696960" cy="9360"/>
                </a:xfrm>
                <a:custGeom>
                  <a:avLst/>
                  <a:gdLst/>
                  <a:ahLst/>
                  <a:rect l="l" t="t" r="r" b="b"/>
                  <a:pathLst>
                    <a:path w="879" h="12">
                      <a:moveTo>
                        <a:pt x="6" y="12"/>
                      </a:moveTo>
                      <a:lnTo>
                        <a:pt x="6" y="12"/>
                      </a:lnTo>
                      <a:lnTo>
                        <a:pt x="879" y="12"/>
                      </a:lnTo>
                      <a:lnTo>
                        <a:pt x="879" y="0"/>
                      </a:lnTo>
                      <a:lnTo>
                        <a:pt x="6" y="0"/>
                      </a:lnTo>
                      <a:lnTo>
                        <a:pt x="6" y="0"/>
                      </a:lnTo>
                      <a:lnTo>
                        <a:pt x="6" y="0"/>
                      </a:lnTo>
                      <a:lnTo>
                        <a:pt x="1" y="2"/>
                      </a:lnTo>
                      <a:lnTo>
                        <a:pt x="0" y="6"/>
                      </a:lnTo>
                      <a:lnTo>
                        <a:pt x="1" y="9"/>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1" name=""/>
                <p:cNvSpPr/>
                <p:nvPr/>
              </p:nvSpPr>
              <p:spPr>
                <a:xfrm>
                  <a:off x="2698560" y="4923000"/>
                  <a:ext cx="123840" cy="99720"/>
                </a:xfrm>
                <a:custGeom>
                  <a:avLst/>
                  <a:gdLst/>
                  <a:ahLst/>
                  <a:rect l="l" t="t" r="r" b="b"/>
                  <a:pathLst>
                    <a:path w="157" h="126">
                      <a:moveTo>
                        <a:pt x="0" y="6"/>
                      </a:moveTo>
                      <a:lnTo>
                        <a:pt x="0" y="6"/>
                      </a:lnTo>
                      <a:lnTo>
                        <a:pt x="5" y="29"/>
                      </a:lnTo>
                      <a:lnTo>
                        <a:pt x="13" y="52"/>
                      </a:lnTo>
                      <a:lnTo>
                        <a:pt x="27" y="72"/>
                      </a:lnTo>
                      <a:lnTo>
                        <a:pt x="47" y="90"/>
                      </a:lnTo>
                      <a:lnTo>
                        <a:pt x="71" y="105"/>
                      </a:lnTo>
                      <a:lnTo>
                        <a:pt x="97" y="115"/>
                      </a:lnTo>
                      <a:lnTo>
                        <a:pt x="126" y="122"/>
                      </a:lnTo>
                      <a:lnTo>
                        <a:pt x="157" y="126"/>
                      </a:lnTo>
                      <a:lnTo>
                        <a:pt x="157" y="114"/>
                      </a:lnTo>
                      <a:lnTo>
                        <a:pt x="129" y="112"/>
                      </a:lnTo>
                      <a:lnTo>
                        <a:pt x="101" y="105"/>
                      </a:lnTo>
                      <a:lnTo>
                        <a:pt x="77" y="96"/>
                      </a:lnTo>
                      <a:lnTo>
                        <a:pt x="57" y="83"/>
                      </a:lnTo>
                      <a:lnTo>
                        <a:pt x="39" y="67"/>
                      </a:lnTo>
                      <a:lnTo>
                        <a:pt x="25" y="49"/>
                      </a:lnTo>
                      <a:lnTo>
                        <a:pt x="18" y="29"/>
                      </a:lnTo>
                      <a:lnTo>
                        <a:pt x="16" y="6"/>
                      </a:lnTo>
                      <a:lnTo>
                        <a:pt x="16" y="6"/>
                      </a:lnTo>
                      <a:lnTo>
                        <a:pt x="16" y="6"/>
                      </a:lnTo>
                      <a:lnTo>
                        <a:pt x="13" y="3"/>
                      </a:lnTo>
                      <a:lnTo>
                        <a:pt x="8" y="0"/>
                      </a:lnTo>
                      <a:lnTo>
                        <a:pt x="4" y="3"/>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698560" y="4392720"/>
                  <a:ext cx="12600" cy="534960"/>
                </a:xfrm>
                <a:custGeom>
                  <a:avLst/>
                  <a:gdLst/>
                  <a:ahLst/>
                  <a:rect l="l" t="t" r="r" b="b"/>
                  <a:pathLst>
                    <a:path w="16" h="674">
                      <a:moveTo>
                        <a:pt x="0" y="6"/>
                      </a:moveTo>
                      <a:lnTo>
                        <a:pt x="0" y="6"/>
                      </a:lnTo>
                      <a:lnTo>
                        <a:pt x="0" y="674"/>
                      </a:lnTo>
                      <a:lnTo>
                        <a:pt x="16" y="674"/>
                      </a:lnTo>
                      <a:lnTo>
                        <a:pt x="16" y="6"/>
                      </a:lnTo>
                      <a:lnTo>
                        <a:pt x="16" y="6"/>
                      </a:lnTo>
                      <a:lnTo>
                        <a:pt x="16" y="6"/>
                      </a:lnTo>
                      <a:lnTo>
                        <a:pt x="13" y="2"/>
                      </a:lnTo>
                      <a:lnTo>
                        <a:pt x="8" y="0"/>
                      </a:lnTo>
                      <a:lnTo>
                        <a:pt x="4"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98560" y="4302000"/>
                  <a:ext cx="130320" cy="95400"/>
                </a:xfrm>
                <a:custGeom>
                  <a:avLst/>
                  <a:gdLst/>
                  <a:ahLst/>
                  <a:rect l="l" t="t" r="r" b="b"/>
                  <a:pathLst>
                    <a:path w="165" h="120">
                      <a:moveTo>
                        <a:pt x="157" y="0"/>
                      </a:moveTo>
                      <a:lnTo>
                        <a:pt x="157" y="0"/>
                      </a:lnTo>
                      <a:lnTo>
                        <a:pt x="126" y="4"/>
                      </a:lnTo>
                      <a:lnTo>
                        <a:pt x="97" y="11"/>
                      </a:lnTo>
                      <a:lnTo>
                        <a:pt x="71" y="21"/>
                      </a:lnTo>
                      <a:lnTo>
                        <a:pt x="47" y="36"/>
                      </a:lnTo>
                      <a:lnTo>
                        <a:pt x="27" y="54"/>
                      </a:lnTo>
                      <a:lnTo>
                        <a:pt x="13" y="75"/>
                      </a:lnTo>
                      <a:lnTo>
                        <a:pt x="5" y="97"/>
                      </a:lnTo>
                      <a:lnTo>
                        <a:pt x="0" y="120"/>
                      </a:lnTo>
                      <a:lnTo>
                        <a:pt x="16" y="120"/>
                      </a:lnTo>
                      <a:lnTo>
                        <a:pt x="18" y="97"/>
                      </a:lnTo>
                      <a:lnTo>
                        <a:pt x="25" y="77"/>
                      </a:lnTo>
                      <a:lnTo>
                        <a:pt x="39" y="59"/>
                      </a:lnTo>
                      <a:lnTo>
                        <a:pt x="57" y="43"/>
                      </a:lnTo>
                      <a:lnTo>
                        <a:pt x="77" y="30"/>
                      </a:lnTo>
                      <a:lnTo>
                        <a:pt x="101" y="21"/>
                      </a:lnTo>
                      <a:lnTo>
                        <a:pt x="129" y="14"/>
                      </a:lnTo>
                      <a:lnTo>
                        <a:pt x="157" y="12"/>
                      </a:lnTo>
                      <a:lnTo>
                        <a:pt x="157" y="12"/>
                      </a:lnTo>
                      <a:lnTo>
                        <a:pt x="157" y="12"/>
                      </a:lnTo>
                      <a:lnTo>
                        <a:pt x="162" y="10"/>
                      </a:lnTo>
                      <a:lnTo>
                        <a:pt x="165" y="6"/>
                      </a:lnTo>
                      <a:lnTo>
                        <a:pt x="162" y="3"/>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2822400" y="4302000"/>
                  <a:ext cx="698400" cy="9720"/>
                </a:xfrm>
                <a:custGeom>
                  <a:avLst/>
                  <a:gdLst/>
                  <a:ahLst/>
                  <a:rect l="l" t="t" r="r" b="b"/>
                  <a:pathLst>
                    <a:path w="881" h="12">
                      <a:moveTo>
                        <a:pt x="873" y="0"/>
                      </a:moveTo>
                      <a:lnTo>
                        <a:pt x="873" y="0"/>
                      </a:lnTo>
                      <a:lnTo>
                        <a:pt x="0" y="0"/>
                      </a:lnTo>
                      <a:lnTo>
                        <a:pt x="0" y="12"/>
                      </a:lnTo>
                      <a:lnTo>
                        <a:pt x="873" y="12"/>
                      </a:lnTo>
                      <a:lnTo>
                        <a:pt x="873" y="12"/>
                      </a:lnTo>
                      <a:lnTo>
                        <a:pt x="873" y="12"/>
                      </a:lnTo>
                      <a:lnTo>
                        <a:pt x="878" y="10"/>
                      </a:lnTo>
                      <a:lnTo>
                        <a:pt x="881" y="6"/>
                      </a:lnTo>
                      <a:lnTo>
                        <a:pt x="878" y="3"/>
                      </a:lnTo>
                      <a:lnTo>
                        <a:pt x="8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45" name=""/>
                <p:cNvSpPr/>
                <p:nvPr/>
              </p:nvSpPr>
              <p:spPr>
                <a:xfrm>
                  <a:off x="3514680" y="4302000"/>
                  <a:ext cx="126720" cy="98640"/>
                </a:xfrm>
                <a:custGeom>
                  <a:avLst/>
                  <a:gdLst/>
                  <a:ahLst/>
                  <a:rect l="l" t="t" r="r" b="b"/>
                  <a:pathLst>
                    <a:path w="158" h="125">
                      <a:moveTo>
                        <a:pt x="158" y="120"/>
                      </a:moveTo>
                      <a:lnTo>
                        <a:pt x="158" y="120"/>
                      </a:lnTo>
                      <a:lnTo>
                        <a:pt x="153" y="96"/>
                      </a:lnTo>
                      <a:lnTo>
                        <a:pt x="144" y="75"/>
                      </a:lnTo>
                      <a:lnTo>
                        <a:pt x="131" y="54"/>
                      </a:lnTo>
                      <a:lnTo>
                        <a:pt x="111" y="36"/>
                      </a:lnTo>
                      <a:lnTo>
                        <a:pt x="88" y="21"/>
                      </a:lnTo>
                      <a:lnTo>
                        <a:pt x="59" y="11"/>
                      </a:lnTo>
                      <a:lnTo>
                        <a:pt x="31" y="4"/>
                      </a:lnTo>
                      <a:lnTo>
                        <a:pt x="0" y="0"/>
                      </a:lnTo>
                      <a:lnTo>
                        <a:pt x="0" y="12"/>
                      </a:lnTo>
                      <a:lnTo>
                        <a:pt x="28" y="14"/>
                      </a:lnTo>
                      <a:lnTo>
                        <a:pt x="56" y="21"/>
                      </a:lnTo>
                      <a:lnTo>
                        <a:pt x="81" y="30"/>
                      </a:lnTo>
                      <a:lnTo>
                        <a:pt x="102" y="43"/>
                      </a:lnTo>
                      <a:lnTo>
                        <a:pt x="119" y="59"/>
                      </a:lnTo>
                      <a:lnTo>
                        <a:pt x="131" y="77"/>
                      </a:lnTo>
                      <a:lnTo>
                        <a:pt x="141" y="98"/>
                      </a:lnTo>
                      <a:lnTo>
                        <a:pt x="142" y="120"/>
                      </a:lnTo>
                      <a:lnTo>
                        <a:pt x="142" y="120"/>
                      </a:lnTo>
                      <a:lnTo>
                        <a:pt x="142" y="120"/>
                      </a:lnTo>
                      <a:lnTo>
                        <a:pt x="146" y="124"/>
                      </a:lnTo>
                      <a:lnTo>
                        <a:pt x="150" y="125"/>
                      </a:lnTo>
                      <a:lnTo>
                        <a:pt x="155" y="124"/>
                      </a:lnTo>
                      <a:lnTo>
                        <a:pt x="15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628800" y="4397400"/>
                  <a:ext cx="12600" cy="533520"/>
                </a:xfrm>
                <a:custGeom>
                  <a:avLst/>
                  <a:gdLst/>
                  <a:ahLst/>
                  <a:rect l="l" t="t" r="r" b="b"/>
                  <a:pathLst>
                    <a:path w="16" h="673">
                      <a:moveTo>
                        <a:pt x="16" y="668"/>
                      </a:moveTo>
                      <a:lnTo>
                        <a:pt x="16" y="668"/>
                      </a:lnTo>
                      <a:lnTo>
                        <a:pt x="16" y="0"/>
                      </a:lnTo>
                      <a:lnTo>
                        <a:pt x="0" y="0"/>
                      </a:lnTo>
                      <a:lnTo>
                        <a:pt x="0" y="668"/>
                      </a:lnTo>
                      <a:lnTo>
                        <a:pt x="0" y="668"/>
                      </a:lnTo>
                      <a:lnTo>
                        <a:pt x="0" y="668"/>
                      </a:lnTo>
                      <a:lnTo>
                        <a:pt x="4" y="672"/>
                      </a:lnTo>
                      <a:lnTo>
                        <a:pt x="8" y="673"/>
                      </a:lnTo>
                      <a:lnTo>
                        <a:pt x="13" y="672"/>
                      </a:lnTo>
                      <a:lnTo>
                        <a:pt x="16"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3395520" y="4389480"/>
                  <a:ext cx="165240" cy="158760"/>
                </a:xfrm>
                <a:custGeom>
                  <a:avLst/>
                  <a:gdLst/>
                  <a:ahLst/>
                  <a:rect l="l" t="t" r="r" b="b"/>
                  <a:pathLst>
                    <a:path w="208" h="201">
                      <a:moveTo>
                        <a:pt x="103" y="201"/>
                      </a:moveTo>
                      <a:lnTo>
                        <a:pt x="125" y="199"/>
                      </a:lnTo>
                      <a:lnTo>
                        <a:pt x="144" y="193"/>
                      </a:lnTo>
                      <a:lnTo>
                        <a:pt x="161" y="184"/>
                      </a:lnTo>
                      <a:lnTo>
                        <a:pt x="177" y="172"/>
                      </a:lnTo>
                      <a:lnTo>
                        <a:pt x="191" y="157"/>
                      </a:lnTo>
                      <a:lnTo>
                        <a:pt x="200" y="140"/>
                      </a:lnTo>
                      <a:lnTo>
                        <a:pt x="206" y="121"/>
                      </a:lnTo>
                      <a:lnTo>
                        <a:pt x="208" y="101"/>
                      </a:lnTo>
                      <a:lnTo>
                        <a:pt x="206" y="80"/>
                      </a:lnTo>
                      <a:lnTo>
                        <a:pt x="200" y="61"/>
                      </a:lnTo>
                      <a:lnTo>
                        <a:pt x="191" y="44"/>
                      </a:lnTo>
                      <a:lnTo>
                        <a:pt x="177" y="30"/>
                      </a:lnTo>
                      <a:lnTo>
                        <a:pt x="161" y="17"/>
                      </a:lnTo>
                      <a:lnTo>
                        <a:pt x="144" y="9"/>
                      </a:lnTo>
                      <a:lnTo>
                        <a:pt x="125" y="3"/>
                      </a:lnTo>
                      <a:lnTo>
                        <a:pt x="103" y="0"/>
                      </a:lnTo>
                      <a:lnTo>
                        <a:pt x="83" y="3"/>
                      </a:lnTo>
                      <a:lnTo>
                        <a:pt x="64" y="9"/>
                      </a:lnTo>
                      <a:lnTo>
                        <a:pt x="45" y="17"/>
                      </a:lnTo>
                      <a:lnTo>
                        <a:pt x="31" y="30"/>
                      </a:lnTo>
                      <a:lnTo>
                        <a:pt x="17" y="44"/>
                      </a:lnTo>
                      <a:lnTo>
                        <a:pt x="8" y="61"/>
                      </a:lnTo>
                      <a:lnTo>
                        <a:pt x="1" y="80"/>
                      </a:lnTo>
                      <a:lnTo>
                        <a:pt x="0" y="101"/>
                      </a:lnTo>
                      <a:lnTo>
                        <a:pt x="1" y="121"/>
                      </a:lnTo>
                      <a:lnTo>
                        <a:pt x="8" y="140"/>
                      </a:lnTo>
                      <a:lnTo>
                        <a:pt x="17" y="157"/>
                      </a:lnTo>
                      <a:lnTo>
                        <a:pt x="31" y="172"/>
                      </a:lnTo>
                      <a:lnTo>
                        <a:pt x="45" y="184"/>
                      </a:lnTo>
                      <a:lnTo>
                        <a:pt x="64" y="193"/>
                      </a:lnTo>
                      <a:lnTo>
                        <a:pt x="83" y="199"/>
                      </a:lnTo>
                      <a:lnTo>
                        <a:pt x="103" y="201"/>
                      </a:lnTo>
                      <a:close/>
                    </a:path>
                  </a:pathLst>
                </a:custGeom>
                <a:solidFill>
                  <a:srgbClr val="d8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395520" y="4389480"/>
                  <a:ext cx="165240" cy="158760"/>
                </a:xfrm>
                <a:custGeom>
                  <a:avLst/>
                  <a:gdLst/>
                  <a:ahLst/>
                  <a:rect l="l" t="t" r="r" b="b"/>
                  <a:pathLst>
                    <a:path w="208" h="201">
                      <a:moveTo>
                        <a:pt x="103" y="201"/>
                      </a:moveTo>
                      <a:lnTo>
                        <a:pt x="103" y="201"/>
                      </a:lnTo>
                      <a:lnTo>
                        <a:pt x="125" y="199"/>
                      </a:lnTo>
                      <a:lnTo>
                        <a:pt x="144" y="193"/>
                      </a:lnTo>
                      <a:lnTo>
                        <a:pt x="161" y="184"/>
                      </a:lnTo>
                      <a:lnTo>
                        <a:pt x="177" y="172"/>
                      </a:lnTo>
                      <a:lnTo>
                        <a:pt x="191" y="157"/>
                      </a:lnTo>
                      <a:lnTo>
                        <a:pt x="200" y="140"/>
                      </a:lnTo>
                      <a:lnTo>
                        <a:pt x="206" y="121"/>
                      </a:lnTo>
                      <a:lnTo>
                        <a:pt x="208" y="101"/>
                      </a:lnTo>
                      <a:lnTo>
                        <a:pt x="208" y="101"/>
                      </a:lnTo>
                      <a:lnTo>
                        <a:pt x="206" y="80"/>
                      </a:lnTo>
                      <a:lnTo>
                        <a:pt x="200" y="61"/>
                      </a:lnTo>
                      <a:lnTo>
                        <a:pt x="191" y="44"/>
                      </a:lnTo>
                      <a:lnTo>
                        <a:pt x="177" y="30"/>
                      </a:lnTo>
                      <a:lnTo>
                        <a:pt x="161" y="17"/>
                      </a:lnTo>
                      <a:lnTo>
                        <a:pt x="144" y="9"/>
                      </a:lnTo>
                      <a:lnTo>
                        <a:pt x="125" y="3"/>
                      </a:lnTo>
                      <a:lnTo>
                        <a:pt x="103" y="0"/>
                      </a:lnTo>
                      <a:lnTo>
                        <a:pt x="103" y="0"/>
                      </a:lnTo>
                      <a:lnTo>
                        <a:pt x="83" y="3"/>
                      </a:lnTo>
                      <a:lnTo>
                        <a:pt x="64" y="9"/>
                      </a:lnTo>
                      <a:lnTo>
                        <a:pt x="45" y="17"/>
                      </a:lnTo>
                      <a:lnTo>
                        <a:pt x="31" y="30"/>
                      </a:lnTo>
                      <a:lnTo>
                        <a:pt x="17" y="44"/>
                      </a:lnTo>
                      <a:lnTo>
                        <a:pt x="8" y="61"/>
                      </a:lnTo>
                      <a:lnTo>
                        <a:pt x="1" y="80"/>
                      </a:lnTo>
                      <a:lnTo>
                        <a:pt x="0" y="101"/>
                      </a:lnTo>
                      <a:lnTo>
                        <a:pt x="0" y="101"/>
                      </a:lnTo>
                      <a:lnTo>
                        <a:pt x="1" y="121"/>
                      </a:lnTo>
                      <a:lnTo>
                        <a:pt x="8" y="140"/>
                      </a:lnTo>
                      <a:lnTo>
                        <a:pt x="17" y="157"/>
                      </a:lnTo>
                      <a:lnTo>
                        <a:pt x="31" y="172"/>
                      </a:lnTo>
                      <a:lnTo>
                        <a:pt x="45" y="184"/>
                      </a:lnTo>
                      <a:lnTo>
                        <a:pt x="64" y="193"/>
                      </a:lnTo>
                      <a:lnTo>
                        <a:pt x="83" y="199"/>
                      </a:lnTo>
                      <a:lnTo>
                        <a:pt x="103" y="2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3477960" y="4307040"/>
                  <a:ext cx="133560" cy="241200"/>
                </a:xfrm>
                <a:custGeom>
                  <a:avLst/>
                  <a:gdLst/>
                  <a:ahLst/>
                  <a:rect l="l" t="t" r="r" b="b"/>
                  <a:pathLst>
                    <a:path w="167" h="304">
                      <a:moveTo>
                        <a:pt x="63" y="103"/>
                      </a:moveTo>
                      <a:lnTo>
                        <a:pt x="85" y="106"/>
                      </a:lnTo>
                      <a:lnTo>
                        <a:pt x="103" y="112"/>
                      </a:lnTo>
                      <a:lnTo>
                        <a:pt x="121" y="120"/>
                      </a:lnTo>
                      <a:lnTo>
                        <a:pt x="136" y="133"/>
                      </a:lnTo>
                      <a:lnTo>
                        <a:pt x="150" y="147"/>
                      </a:lnTo>
                      <a:lnTo>
                        <a:pt x="160" y="164"/>
                      </a:lnTo>
                      <a:lnTo>
                        <a:pt x="166" y="183"/>
                      </a:lnTo>
                      <a:lnTo>
                        <a:pt x="167" y="204"/>
                      </a:lnTo>
                      <a:lnTo>
                        <a:pt x="166" y="224"/>
                      </a:lnTo>
                      <a:lnTo>
                        <a:pt x="160" y="243"/>
                      </a:lnTo>
                      <a:lnTo>
                        <a:pt x="150" y="260"/>
                      </a:lnTo>
                      <a:lnTo>
                        <a:pt x="136" y="275"/>
                      </a:lnTo>
                      <a:lnTo>
                        <a:pt x="121" y="287"/>
                      </a:lnTo>
                      <a:lnTo>
                        <a:pt x="103" y="296"/>
                      </a:lnTo>
                      <a:lnTo>
                        <a:pt x="85" y="302"/>
                      </a:lnTo>
                      <a:lnTo>
                        <a:pt x="63" y="304"/>
                      </a:lnTo>
                      <a:lnTo>
                        <a:pt x="0" y="304"/>
                      </a:lnTo>
                      <a:lnTo>
                        <a:pt x="22" y="302"/>
                      </a:lnTo>
                      <a:lnTo>
                        <a:pt x="41" y="296"/>
                      </a:lnTo>
                      <a:lnTo>
                        <a:pt x="58" y="287"/>
                      </a:lnTo>
                      <a:lnTo>
                        <a:pt x="74" y="275"/>
                      </a:lnTo>
                      <a:lnTo>
                        <a:pt x="88" y="260"/>
                      </a:lnTo>
                      <a:lnTo>
                        <a:pt x="97" y="243"/>
                      </a:lnTo>
                      <a:lnTo>
                        <a:pt x="103" y="224"/>
                      </a:lnTo>
                      <a:lnTo>
                        <a:pt x="105" y="204"/>
                      </a:lnTo>
                      <a:lnTo>
                        <a:pt x="103" y="183"/>
                      </a:lnTo>
                      <a:lnTo>
                        <a:pt x="97" y="164"/>
                      </a:lnTo>
                      <a:lnTo>
                        <a:pt x="88" y="147"/>
                      </a:lnTo>
                      <a:lnTo>
                        <a:pt x="74" y="133"/>
                      </a:lnTo>
                      <a:lnTo>
                        <a:pt x="58" y="120"/>
                      </a:lnTo>
                      <a:lnTo>
                        <a:pt x="41" y="112"/>
                      </a:lnTo>
                      <a:lnTo>
                        <a:pt x="22" y="106"/>
                      </a:lnTo>
                      <a:lnTo>
                        <a:pt x="0" y="103"/>
                      </a:lnTo>
                      <a:lnTo>
                        <a:pt x="0" y="0"/>
                      </a:lnTo>
                      <a:lnTo>
                        <a:pt x="25" y="0"/>
                      </a:lnTo>
                      <a:lnTo>
                        <a:pt x="25" y="103"/>
                      </a:lnTo>
                      <a:lnTo>
                        <a:pt x="63" y="103"/>
                      </a:lnTo>
                      <a:close/>
                    </a:path>
                  </a:pathLst>
                </a:custGeom>
                <a:solidFill>
                  <a:srgbClr val="b24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477960" y="4307040"/>
                  <a:ext cx="133560" cy="241200"/>
                </a:xfrm>
                <a:custGeom>
                  <a:avLst/>
                  <a:gdLst/>
                  <a:ahLst/>
                  <a:rect l="l" t="t" r="r" b="b"/>
                  <a:pathLst>
                    <a:path w="167" h="304">
                      <a:moveTo>
                        <a:pt x="63" y="103"/>
                      </a:moveTo>
                      <a:lnTo>
                        <a:pt x="63" y="103"/>
                      </a:lnTo>
                      <a:lnTo>
                        <a:pt x="85" y="106"/>
                      </a:lnTo>
                      <a:lnTo>
                        <a:pt x="103" y="112"/>
                      </a:lnTo>
                      <a:lnTo>
                        <a:pt x="121" y="120"/>
                      </a:lnTo>
                      <a:lnTo>
                        <a:pt x="136" y="133"/>
                      </a:lnTo>
                      <a:lnTo>
                        <a:pt x="150" y="147"/>
                      </a:lnTo>
                      <a:lnTo>
                        <a:pt x="160" y="164"/>
                      </a:lnTo>
                      <a:lnTo>
                        <a:pt x="166" y="183"/>
                      </a:lnTo>
                      <a:lnTo>
                        <a:pt x="167" y="204"/>
                      </a:lnTo>
                      <a:lnTo>
                        <a:pt x="167" y="204"/>
                      </a:lnTo>
                      <a:lnTo>
                        <a:pt x="166" y="224"/>
                      </a:lnTo>
                      <a:lnTo>
                        <a:pt x="160" y="243"/>
                      </a:lnTo>
                      <a:lnTo>
                        <a:pt x="150" y="260"/>
                      </a:lnTo>
                      <a:lnTo>
                        <a:pt x="136" y="275"/>
                      </a:lnTo>
                      <a:lnTo>
                        <a:pt x="121" y="287"/>
                      </a:lnTo>
                      <a:lnTo>
                        <a:pt x="103" y="296"/>
                      </a:lnTo>
                      <a:lnTo>
                        <a:pt x="85" y="302"/>
                      </a:lnTo>
                      <a:lnTo>
                        <a:pt x="63" y="304"/>
                      </a:lnTo>
                      <a:lnTo>
                        <a:pt x="0" y="304"/>
                      </a:lnTo>
                      <a:lnTo>
                        <a:pt x="0" y="304"/>
                      </a:lnTo>
                      <a:lnTo>
                        <a:pt x="22" y="302"/>
                      </a:lnTo>
                      <a:lnTo>
                        <a:pt x="41" y="296"/>
                      </a:lnTo>
                      <a:lnTo>
                        <a:pt x="58" y="287"/>
                      </a:lnTo>
                      <a:lnTo>
                        <a:pt x="74" y="275"/>
                      </a:lnTo>
                      <a:lnTo>
                        <a:pt x="88" y="260"/>
                      </a:lnTo>
                      <a:lnTo>
                        <a:pt x="97" y="243"/>
                      </a:lnTo>
                      <a:lnTo>
                        <a:pt x="103" y="224"/>
                      </a:lnTo>
                      <a:lnTo>
                        <a:pt x="105" y="204"/>
                      </a:lnTo>
                      <a:lnTo>
                        <a:pt x="105" y="204"/>
                      </a:lnTo>
                      <a:lnTo>
                        <a:pt x="103" y="183"/>
                      </a:lnTo>
                      <a:lnTo>
                        <a:pt x="97" y="164"/>
                      </a:lnTo>
                      <a:lnTo>
                        <a:pt x="88" y="147"/>
                      </a:lnTo>
                      <a:lnTo>
                        <a:pt x="74" y="133"/>
                      </a:lnTo>
                      <a:lnTo>
                        <a:pt x="58" y="120"/>
                      </a:lnTo>
                      <a:lnTo>
                        <a:pt x="41" y="112"/>
                      </a:lnTo>
                      <a:lnTo>
                        <a:pt x="22" y="106"/>
                      </a:lnTo>
                      <a:lnTo>
                        <a:pt x="0" y="103"/>
                      </a:lnTo>
                      <a:lnTo>
                        <a:pt x="0" y="0"/>
                      </a:lnTo>
                      <a:lnTo>
                        <a:pt x="25" y="0"/>
                      </a:lnTo>
                      <a:lnTo>
                        <a:pt x="25" y="103"/>
                      </a:lnTo>
                      <a:lnTo>
                        <a:pt x="63" y="1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498840" y="4307040"/>
                  <a:ext cx="14040" cy="82440"/>
                </a:xfrm>
                <a:prstGeom prst="rect">
                  <a:avLst/>
                </a:prstGeom>
                <a:solidFill>
                  <a:srgbClr val="b2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2" name=""/>
                <p:cNvSpPr/>
                <p:nvPr/>
              </p:nvSpPr>
              <p:spPr>
                <a:xfrm>
                  <a:off x="3498840" y="4307040"/>
                  <a:ext cx="14040" cy="82440"/>
                </a:xfrm>
                <a:prstGeom prst="rect">
                  <a:avLst/>
                </a:pr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3" name=""/>
                <p:cNvSpPr/>
                <p:nvPr/>
              </p:nvSpPr>
              <p:spPr>
                <a:xfrm>
                  <a:off x="3332160" y="4307040"/>
                  <a:ext cx="15840" cy="68040"/>
                </a:xfrm>
                <a:prstGeom prst="rect">
                  <a:avLst/>
                </a:prstGeom>
                <a:solidFill>
                  <a:srgbClr val="b2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4" name=""/>
                <p:cNvSpPr/>
                <p:nvPr/>
              </p:nvSpPr>
              <p:spPr>
                <a:xfrm>
                  <a:off x="3332160" y="4307040"/>
                  <a:ext cx="15840" cy="6804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5" name=""/>
                <p:cNvSpPr/>
                <p:nvPr/>
              </p:nvSpPr>
              <p:spPr>
                <a:xfrm>
                  <a:off x="3214440" y="4375080"/>
                  <a:ext cx="189000" cy="182520"/>
                </a:xfrm>
                <a:custGeom>
                  <a:avLst/>
                  <a:gdLst/>
                  <a:ahLst/>
                  <a:rect l="l" t="t" r="r" b="b"/>
                  <a:pathLst>
                    <a:path w="238" h="231">
                      <a:moveTo>
                        <a:pt x="119" y="231"/>
                      </a:moveTo>
                      <a:lnTo>
                        <a:pt x="143" y="229"/>
                      </a:lnTo>
                      <a:lnTo>
                        <a:pt x="166" y="221"/>
                      </a:lnTo>
                      <a:lnTo>
                        <a:pt x="187" y="212"/>
                      </a:lnTo>
                      <a:lnTo>
                        <a:pt x="204" y="197"/>
                      </a:lnTo>
                      <a:lnTo>
                        <a:pt x="218" y="180"/>
                      </a:lnTo>
                      <a:lnTo>
                        <a:pt x="229" y="160"/>
                      </a:lnTo>
                      <a:lnTo>
                        <a:pt x="235" y="139"/>
                      </a:lnTo>
                      <a:lnTo>
                        <a:pt x="238" y="115"/>
                      </a:lnTo>
                      <a:lnTo>
                        <a:pt x="235" y="92"/>
                      </a:lnTo>
                      <a:lnTo>
                        <a:pt x="229" y="71"/>
                      </a:lnTo>
                      <a:lnTo>
                        <a:pt x="218" y="50"/>
                      </a:lnTo>
                      <a:lnTo>
                        <a:pt x="204" y="34"/>
                      </a:lnTo>
                      <a:lnTo>
                        <a:pt x="187" y="19"/>
                      </a:lnTo>
                      <a:lnTo>
                        <a:pt x="166" y="10"/>
                      </a:lnTo>
                      <a:lnTo>
                        <a:pt x="143" y="3"/>
                      </a:lnTo>
                      <a:lnTo>
                        <a:pt x="119" y="0"/>
                      </a:lnTo>
                      <a:lnTo>
                        <a:pt x="96" y="3"/>
                      </a:lnTo>
                      <a:lnTo>
                        <a:pt x="72" y="10"/>
                      </a:lnTo>
                      <a:lnTo>
                        <a:pt x="52" y="19"/>
                      </a:lnTo>
                      <a:lnTo>
                        <a:pt x="35" y="34"/>
                      </a:lnTo>
                      <a:lnTo>
                        <a:pt x="21" y="50"/>
                      </a:lnTo>
                      <a:lnTo>
                        <a:pt x="10" y="71"/>
                      </a:lnTo>
                      <a:lnTo>
                        <a:pt x="3" y="92"/>
                      </a:lnTo>
                      <a:lnTo>
                        <a:pt x="0" y="115"/>
                      </a:lnTo>
                      <a:lnTo>
                        <a:pt x="3" y="139"/>
                      </a:lnTo>
                      <a:lnTo>
                        <a:pt x="10" y="160"/>
                      </a:lnTo>
                      <a:lnTo>
                        <a:pt x="21" y="180"/>
                      </a:lnTo>
                      <a:lnTo>
                        <a:pt x="35" y="197"/>
                      </a:lnTo>
                      <a:lnTo>
                        <a:pt x="52" y="212"/>
                      </a:lnTo>
                      <a:lnTo>
                        <a:pt x="72" y="221"/>
                      </a:lnTo>
                      <a:lnTo>
                        <a:pt x="96" y="229"/>
                      </a:lnTo>
                      <a:lnTo>
                        <a:pt x="119" y="231"/>
                      </a:lnTo>
                      <a:close/>
                    </a:path>
                  </a:pathLst>
                </a:custGeom>
                <a:solidFill>
                  <a:srgbClr val="d8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214440" y="4375080"/>
                  <a:ext cx="189000" cy="182520"/>
                </a:xfrm>
                <a:custGeom>
                  <a:avLst/>
                  <a:gdLst/>
                  <a:ahLst/>
                  <a:rect l="l" t="t" r="r" b="b"/>
                  <a:pathLst>
                    <a:path w="238" h="231">
                      <a:moveTo>
                        <a:pt x="119" y="231"/>
                      </a:moveTo>
                      <a:lnTo>
                        <a:pt x="119" y="231"/>
                      </a:lnTo>
                      <a:lnTo>
                        <a:pt x="143" y="229"/>
                      </a:lnTo>
                      <a:lnTo>
                        <a:pt x="166" y="221"/>
                      </a:lnTo>
                      <a:lnTo>
                        <a:pt x="187" y="212"/>
                      </a:lnTo>
                      <a:lnTo>
                        <a:pt x="204" y="197"/>
                      </a:lnTo>
                      <a:lnTo>
                        <a:pt x="218" y="180"/>
                      </a:lnTo>
                      <a:lnTo>
                        <a:pt x="229" y="160"/>
                      </a:lnTo>
                      <a:lnTo>
                        <a:pt x="235" y="139"/>
                      </a:lnTo>
                      <a:lnTo>
                        <a:pt x="238" y="115"/>
                      </a:lnTo>
                      <a:lnTo>
                        <a:pt x="238" y="115"/>
                      </a:lnTo>
                      <a:lnTo>
                        <a:pt x="235" y="92"/>
                      </a:lnTo>
                      <a:lnTo>
                        <a:pt x="229" y="71"/>
                      </a:lnTo>
                      <a:lnTo>
                        <a:pt x="218" y="50"/>
                      </a:lnTo>
                      <a:lnTo>
                        <a:pt x="204" y="34"/>
                      </a:lnTo>
                      <a:lnTo>
                        <a:pt x="187" y="19"/>
                      </a:lnTo>
                      <a:lnTo>
                        <a:pt x="166" y="10"/>
                      </a:lnTo>
                      <a:lnTo>
                        <a:pt x="143" y="3"/>
                      </a:lnTo>
                      <a:lnTo>
                        <a:pt x="119" y="0"/>
                      </a:lnTo>
                      <a:lnTo>
                        <a:pt x="119" y="0"/>
                      </a:lnTo>
                      <a:lnTo>
                        <a:pt x="96" y="3"/>
                      </a:lnTo>
                      <a:lnTo>
                        <a:pt x="72" y="10"/>
                      </a:lnTo>
                      <a:lnTo>
                        <a:pt x="52" y="19"/>
                      </a:lnTo>
                      <a:lnTo>
                        <a:pt x="35" y="34"/>
                      </a:lnTo>
                      <a:lnTo>
                        <a:pt x="21" y="50"/>
                      </a:lnTo>
                      <a:lnTo>
                        <a:pt x="10" y="71"/>
                      </a:lnTo>
                      <a:lnTo>
                        <a:pt x="3" y="92"/>
                      </a:lnTo>
                      <a:lnTo>
                        <a:pt x="0" y="115"/>
                      </a:lnTo>
                      <a:lnTo>
                        <a:pt x="0" y="115"/>
                      </a:lnTo>
                      <a:lnTo>
                        <a:pt x="3" y="139"/>
                      </a:lnTo>
                      <a:lnTo>
                        <a:pt x="10" y="160"/>
                      </a:lnTo>
                      <a:lnTo>
                        <a:pt x="21" y="180"/>
                      </a:lnTo>
                      <a:lnTo>
                        <a:pt x="35" y="197"/>
                      </a:lnTo>
                      <a:lnTo>
                        <a:pt x="52" y="212"/>
                      </a:lnTo>
                      <a:lnTo>
                        <a:pt x="72" y="221"/>
                      </a:lnTo>
                      <a:lnTo>
                        <a:pt x="96" y="229"/>
                      </a:lnTo>
                      <a:lnTo>
                        <a:pt x="119" y="2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309840" y="4307040"/>
                  <a:ext cx="150840" cy="250560"/>
                </a:xfrm>
                <a:custGeom>
                  <a:avLst/>
                  <a:gdLst/>
                  <a:ahLst/>
                  <a:rect l="l" t="t" r="r" b="b"/>
                  <a:pathLst>
                    <a:path w="191" h="316">
                      <a:moveTo>
                        <a:pt x="72" y="85"/>
                      </a:moveTo>
                      <a:lnTo>
                        <a:pt x="96" y="88"/>
                      </a:lnTo>
                      <a:lnTo>
                        <a:pt x="119" y="95"/>
                      </a:lnTo>
                      <a:lnTo>
                        <a:pt x="139" y="104"/>
                      </a:lnTo>
                      <a:lnTo>
                        <a:pt x="157" y="119"/>
                      </a:lnTo>
                      <a:lnTo>
                        <a:pt x="171" y="135"/>
                      </a:lnTo>
                      <a:lnTo>
                        <a:pt x="182" y="156"/>
                      </a:lnTo>
                      <a:lnTo>
                        <a:pt x="188" y="177"/>
                      </a:lnTo>
                      <a:lnTo>
                        <a:pt x="191" y="200"/>
                      </a:lnTo>
                      <a:lnTo>
                        <a:pt x="188" y="224"/>
                      </a:lnTo>
                      <a:lnTo>
                        <a:pt x="182" y="245"/>
                      </a:lnTo>
                      <a:lnTo>
                        <a:pt x="171" y="265"/>
                      </a:lnTo>
                      <a:lnTo>
                        <a:pt x="157" y="282"/>
                      </a:lnTo>
                      <a:lnTo>
                        <a:pt x="139" y="297"/>
                      </a:lnTo>
                      <a:lnTo>
                        <a:pt x="119" y="306"/>
                      </a:lnTo>
                      <a:lnTo>
                        <a:pt x="96" y="314"/>
                      </a:lnTo>
                      <a:lnTo>
                        <a:pt x="72" y="316"/>
                      </a:lnTo>
                      <a:lnTo>
                        <a:pt x="0" y="316"/>
                      </a:lnTo>
                      <a:lnTo>
                        <a:pt x="24" y="314"/>
                      </a:lnTo>
                      <a:lnTo>
                        <a:pt x="47" y="306"/>
                      </a:lnTo>
                      <a:lnTo>
                        <a:pt x="68" y="297"/>
                      </a:lnTo>
                      <a:lnTo>
                        <a:pt x="85" y="282"/>
                      </a:lnTo>
                      <a:lnTo>
                        <a:pt x="99" y="265"/>
                      </a:lnTo>
                      <a:lnTo>
                        <a:pt x="110" y="245"/>
                      </a:lnTo>
                      <a:lnTo>
                        <a:pt x="116" y="224"/>
                      </a:lnTo>
                      <a:lnTo>
                        <a:pt x="119" y="200"/>
                      </a:lnTo>
                      <a:lnTo>
                        <a:pt x="116" y="177"/>
                      </a:lnTo>
                      <a:lnTo>
                        <a:pt x="110" y="156"/>
                      </a:lnTo>
                      <a:lnTo>
                        <a:pt x="99" y="135"/>
                      </a:lnTo>
                      <a:lnTo>
                        <a:pt x="85" y="119"/>
                      </a:lnTo>
                      <a:lnTo>
                        <a:pt x="68" y="104"/>
                      </a:lnTo>
                      <a:lnTo>
                        <a:pt x="47" y="95"/>
                      </a:lnTo>
                      <a:lnTo>
                        <a:pt x="24" y="88"/>
                      </a:lnTo>
                      <a:lnTo>
                        <a:pt x="0" y="85"/>
                      </a:lnTo>
                      <a:lnTo>
                        <a:pt x="0" y="0"/>
                      </a:lnTo>
                      <a:lnTo>
                        <a:pt x="28" y="0"/>
                      </a:lnTo>
                      <a:lnTo>
                        <a:pt x="28" y="85"/>
                      </a:lnTo>
                      <a:lnTo>
                        <a:pt x="72" y="85"/>
                      </a:lnTo>
                      <a:close/>
                    </a:path>
                  </a:pathLst>
                </a:custGeom>
                <a:solidFill>
                  <a:srgbClr val="b24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3309840" y="4307040"/>
                  <a:ext cx="150840" cy="250560"/>
                </a:xfrm>
                <a:custGeom>
                  <a:avLst/>
                  <a:gdLst/>
                  <a:ahLst/>
                  <a:rect l="l" t="t" r="r" b="b"/>
                  <a:pathLst>
                    <a:path w="191" h="316">
                      <a:moveTo>
                        <a:pt x="72" y="85"/>
                      </a:moveTo>
                      <a:lnTo>
                        <a:pt x="72" y="85"/>
                      </a:lnTo>
                      <a:lnTo>
                        <a:pt x="96" y="88"/>
                      </a:lnTo>
                      <a:lnTo>
                        <a:pt x="119" y="95"/>
                      </a:lnTo>
                      <a:lnTo>
                        <a:pt x="139" y="104"/>
                      </a:lnTo>
                      <a:lnTo>
                        <a:pt x="157" y="119"/>
                      </a:lnTo>
                      <a:lnTo>
                        <a:pt x="171" y="135"/>
                      </a:lnTo>
                      <a:lnTo>
                        <a:pt x="182" y="156"/>
                      </a:lnTo>
                      <a:lnTo>
                        <a:pt x="188" y="177"/>
                      </a:lnTo>
                      <a:lnTo>
                        <a:pt x="191" y="200"/>
                      </a:lnTo>
                      <a:lnTo>
                        <a:pt x="191" y="200"/>
                      </a:lnTo>
                      <a:lnTo>
                        <a:pt x="188" y="224"/>
                      </a:lnTo>
                      <a:lnTo>
                        <a:pt x="182" y="245"/>
                      </a:lnTo>
                      <a:lnTo>
                        <a:pt x="171" y="265"/>
                      </a:lnTo>
                      <a:lnTo>
                        <a:pt x="157" y="282"/>
                      </a:lnTo>
                      <a:lnTo>
                        <a:pt x="139" y="297"/>
                      </a:lnTo>
                      <a:lnTo>
                        <a:pt x="119" y="306"/>
                      </a:lnTo>
                      <a:lnTo>
                        <a:pt x="96" y="314"/>
                      </a:lnTo>
                      <a:lnTo>
                        <a:pt x="72" y="316"/>
                      </a:lnTo>
                      <a:lnTo>
                        <a:pt x="0" y="316"/>
                      </a:lnTo>
                      <a:lnTo>
                        <a:pt x="0" y="316"/>
                      </a:lnTo>
                      <a:lnTo>
                        <a:pt x="24" y="314"/>
                      </a:lnTo>
                      <a:lnTo>
                        <a:pt x="47" y="306"/>
                      </a:lnTo>
                      <a:lnTo>
                        <a:pt x="68" y="297"/>
                      </a:lnTo>
                      <a:lnTo>
                        <a:pt x="85" y="282"/>
                      </a:lnTo>
                      <a:lnTo>
                        <a:pt x="99" y="265"/>
                      </a:lnTo>
                      <a:lnTo>
                        <a:pt x="110" y="245"/>
                      </a:lnTo>
                      <a:lnTo>
                        <a:pt x="116" y="224"/>
                      </a:lnTo>
                      <a:lnTo>
                        <a:pt x="119" y="200"/>
                      </a:lnTo>
                      <a:lnTo>
                        <a:pt x="119" y="200"/>
                      </a:lnTo>
                      <a:lnTo>
                        <a:pt x="116" y="177"/>
                      </a:lnTo>
                      <a:lnTo>
                        <a:pt x="110" y="156"/>
                      </a:lnTo>
                      <a:lnTo>
                        <a:pt x="99" y="135"/>
                      </a:lnTo>
                      <a:lnTo>
                        <a:pt x="85" y="119"/>
                      </a:lnTo>
                      <a:lnTo>
                        <a:pt x="68" y="104"/>
                      </a:lnTo>
                      <a:lnTo>
                        <a:pt x="47" y="95"/>
                      </a:lnTo>
                      <a:lnTo>
                        <a:pt x="24" y="88"/>
                      </a:lnTo>
                      <a:lnTo>
                        <a:pt x="0" y="85"/>
                      </a:lnTo>
                      <a:lnTo>
                        <a:pt x="0" y="0"/>
                      </a:lnTo>
                      <a:lnTo>
                        <a:pt x="28" y="0"/>
                      </a:lnTo>
                      <a:lnTo>
                        <a:pt x="28" y="85"/>
                      </a:lnTo>
                      <a:lnTo>
                        <a:pt x="72"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090600" y="4365720"/>
                  <a:ext cx="165240" cy="160200"/>
                </a:xfrm>
                <a:custGeom>
                  <a:avLst/>
                  <a:gdLst/>
                  <a:ahLst/>
                  <a:rect l="l" t="t" r="r" b="b"/>
                  <a:pathLst>
                    <a:path w="208" h="201">
                      <a:moveTo>
                        <a:pt x="103" y="201"/>
                      </a:moveTo>
                      <a:lnTo>
                        <a:pt x="125" y="199"/>
                      </a:lnTo>
                      <a:lnTo>
                        <a:pt x="144" y="193"/>
                      </a:lnTo>
                      <a:lnTo>
                        <a:pt x="161" y="185"/>
                      </a:lnTo>
                      <a:lnTo>
                        <a:pt x="177" y="171"/>
                      </a:lnTo>
                      <a:lnTo>
                        <a:pt x="191" y="157"/>
                      </a:lnTo>
                      <a:lnTo>
                        <a:pt x="200" y="140"/>
                      </a:lnTo>
                      <a:lnTo>
                        <a:pt x="206" y="121"/>
                      </a:lnTo>
                      <a:lnTo>
                        <a:pt x="208" y="101"/>
                      </a:lnTo>
                      <a:lnTo>
                        <a:pt x="206" y="81"/>
                      </a:lnTo>
                      <a:lnTo>
                        <a:pt x="200" y="61"/>
                      </a:lnTo>
                      <a:lnTo>
                        <a:pt x="191" y="45"/>
                      </a:lnTo>
                      <a:lnTo>
                        <a:pt x="177" y="29"/>
                      </a:lnTo>
                      <a:lnTo>
                        <a:pt x="161" y="17"/>
                      </a:lnTo>
                      <a:lnTo>
                        <a:pt x="144" y="9"/>
                      </a:lnTo>
                      <a:lnTo>
                        <a:pt x="125" y="3"/>
                      </a:lnTo>
                      <a:lnTo>
                        <a:pt x="103" y="0"/>
                      </a:lnTo>
                      <a:lnTo>
                        <a:pt x="83" y="3"/>
                      </a:lnTo>
                      <a:lnTo>
                        <a:pt x="64" y="9"/>
                      </a:lnTo>
                      <a:lnTo>
                        <a:pt x="45" y="17"/>
                      </a:lnTo>
                      <a:lnTo>
                        <a:pt x="31" y="29"/>
                      </a:lnTo>
                      <a:lnTo>
                        <a:pt x="17" y="45"/>
                      </a:lnTo>
                      <a:lnTo>
                        <a:pt x="8" y="61"/>
                      </a:lnTo>
                      <a:lnTo>
                        <a:pt x="1" y="81"/>
                      </a:lnTo>
                      <a:lnTo>
                        <a:pt x="0" y="101"/>
                      </a:lnTo>
                      <a:lnTo>
                        <a:pt x="1" y="121"/>
                      </a:lnTo>
                      <a:lnTo>
                        <a:pt x="8" y="140"/>
                      </a:lnTo>
                      <a:lnTo>
                        <a:pt x="17" y="157"/>
                      </a:lnTo>
                      <a:lnTo>
                        <a:pt x="31" y="171"/>
                      </a:lnTo>
                      <a:lnTo>
                        <a:pt x="45" y="185"/>
                      </a:lnTo>
                      <a:lnTo>
                        <a:pt x="64" y="193"/>
                      </a:lnTo>
                      <a:lnTo>
                        <a:pt x="83" y="199"/>
                      </a:lnTo>
                      <a:lnTo>
                        <a:pt x="103" y="201"/>
                      </a:lnTo>
                      <a:close/>
                    </a:path>
                  </a:pathLst>
                </a:custGeom>
                <a:solidFill>
                  <a:srgbClr val="d8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090600" y="4365720"/>
                  <a:ext cx="165240" cy="160200"/>
                </a:xfrm>
                <a:custGeom>
                  <a:avLst/>
                  <a:gdLst/>
                  <a:ahLst/>
                  <a:rect l="l" t="t" r="r" b="b"/>
                  <a:pathLst>
                    <a:path w="208" h="201">
                      <a:moveTo>
                        <a:pt x="103" y="201"/>
                      </a:moveTo>
                      <a:lnTo>
                        <a:pt x="103" y="201"/>
                      </a:lnTo>
                      <a:lnTo>
                        <a:pt x="125" y="199"/>
                      </a:lnTo>
                      <a:lnTo>
                        <a:pt x="144" y="193"/>
                      </a:lnTo>
                      <a:lnTo>
                        <a:pt x="161" y="185"/>
                      </a:lnTo>
                      <a:lnTo>
                        <a:pt x="177" y="171"/>
                      </a:lnTo>
                      <a:lnTo>
                        <a:pt x="191" y="157"/>
                      </a:lnTo>
                      <a:lnTo>
                        <a:pt x="200" y="140"/>
                      </a:lnTo>
                      <a:lnTo>
                        <a:pt x="206" y="121"/>
                      </a:lnTo>
                      <a:lnTo>
                        <a:pt x="208" y="101"/>
                      </a:lnTo>
                      <a:lnTo>
                        <a:pt x="208" y="101"/>
                      </a:lnTo>
                      <a:lnTo>
                        <a:pt x="206" y="81"/>
                      </a:lnTo>
                      <a:lnTo>
                        <a:pt x="200" y="61"/>
                      </a:lnTo>
                      <a:lnTo>
                        <a:pt x="191" y="45"/>
                      </a:lnTo>
                      <a:lnTo>
                        <a:pt x="177" y="29"/>
                      </a:lnTo>
                      <a:lnTo>
                        <a:pt x="161" y="17"/>
                      </a:lnTo>
                      <a:lnTo>
                        <a:pt x="144" y="9"/>
                      </a:lnTo>
                      <a:lnTo>
                        <a:pt x="125" y="3"/>
                      </a:lnTo>
                      <a:lnTo>
                        <a:pt x="103" y="0"/>
                      </a:lnTo>
                      <a:lnTo>
                        <a:pt x="103" y="0"/>
                      </a:lnTo>
                      <a:lnTo>
                        <a:pt x="83" y="3"/>
                      </a:lnTo>
                      <a:lnTo>
                        <a:pt x="64" y="9"/>
                      </a:lnTo>
                      <a:lnTo>
                        <a:pt x="45" y="17"/>
                      </a:lnTo>
                      <a:lnTo>
                        <a:pt x="31" y="29"/>
                      </a:lnTo>
                      <a:lnTo>
                        <a:pt x="17" y="45"/>
                      </a:lnTo>
                      <a:lnTo>
                        <a:pt x="8" y="61"/>
                      </a:lnTo>
                      <a:lnTo>
                        <a:pt x="1" y="81"/>
                      </a:lnTo>
                      <a:lnTo>
                        <a:pt x="0" y="101"/>
                      </a:lnTo>
                      <a:lnTo>
                        <a:pt x="0" y="101"/>
                      </a:lnTo>
                      <a:lnTo>
                        <a:pt x="1" y="121"/>
                      </a:lnTo>
                      <a:lnTo>
                        <a:pt x="8" y="140"/>
                      </a:lnTo>
                      <a:lnTo>
                        <a:pt x="17" y="157"/>
                      </a:lnTo>
                      <a:lnTo>
                        <a:pt x="31" y="171"/>
                      </a:lnTo>
                      <a:lnTo>
                        <a:pt x="45" y="185"/>
                      </a:lnTo>
                      <a:lnTo>
                        <a:pt x="64" y="193"/>
                      </a:lnTo>
                      <a:lnTo>
                        <a:pt x="83" y="199"/>
                      </a:lnTo>
                      <a:lnTo>
                        <a:pt x="103" y="2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3173400" y="4307040"/>
                  <a:ext cx="131760" cy="218880"/>
                </a:xfrm>
                <a:custGeom>
                  <a:avLst/>
                  <a:gdLst/>
                  <a:ahLst/>
                  <a:rect l="l" t="t" r="r" b="b"/>
                  <a:pathLst>
                    <a:path w="168" h="275">
                      <a:moveTo>
                        <a:pt x="63" y="74"/>
                      </a:moveTo>
                      <a:lnTo>
                        <a:pt x="85" y="77"/>
                      </a:lnTo>
                      <a:lnTo>
                        <a:pt x="103" y="83"/>
                      </a:lnTo>
                      <a:lnTo>
                        <a:pt x="121" y="91"/>
                      </a:lnTo>
                      <a:lnTo>
                        <a:pt x="136" y="103"/>
                      </a:lnTo>
                      <a:lnTo>
                        <a:pt x="150" y="119"/>
                      </a:lnTo>
                      <a:lnTo>
                        <a:pt x="160" y="135"/>
                      </a:lnTo>
                      <a:lnTo>
                        <a:pt x="166" y="155"/>
                      </a:lnTo>
                      <a:lnTo>
                        <a:pt x="168" y="175"/>
                      </a:lnTo>
                      <a:lnTo>
                        <a:pt x="166" y="195"/>
                      </a:lnTo>
                      <a:lnTo>
                        <a:pt x="160" y="214"/>
                      </a:lnTo>
                      <a:lnTo>
                        <a:pt x="150" y="231"/>
                      </a:lnTo>
                      <a:lnTo>
                        <a:pt x="136" y="245"/>
                      </a:lnTo>
                      <a:lnTo>
                        <a:pt x="121" y="259"/>
                      </a:lnTo>
                      <a:lnTo>
                        <a:pt x="103" y="267"/>
                      </a:lnTo>
                      <a:lnTo>
                        <a:pt x="85" y="273"/>
                      </a:lnTo>
                      <a:lnTo>
                        <a:pt x="63" y="275"/>
                      </a:lnTo>
                      <a:lnTo>
                        <a:pt x="0" y="275"/>
                      </a:lnTo>
                      <a:lnTo>
                        <a:pt x="22" y="273"/>
                      </a:lnTo>
                      <a:lnTo>
                        <a:pt x="41" y="267"/>
                      </a:lnTo>
                      <a:lnTo>
                        <a:pt x="58" y="259"/>
                      </a:lnTo>
                      <a:lnTo>
                        <a:pt x="74" y="245"/>
                      </a:lnTo>
                      <a:lnTo>
                        <a:pt x="88" y="231"/>
                      </a:lnTo>
                      <a:lnTo>
                        <a:pt x="97" y="214"/>
                      </a:lnTo>
                      <a:lnTo>
                        <a:pt x="103" y="195"/>
                      </a:lnTo>
                      <a:lnTo>
                        <a:pt x="105" y="175"/>
                      </a:lnTo>
                      <a:lnTo>
                        <a:pt x="103" y="155"/>
                      </a:lnTo>
                      <a:lnTo>
                        <a:pt x="97" y="135"/>
                      </a:lnTo>
                      <a:lnTo>
                        <a:pt x="88" y="119"/>
                      </a:lnTo>
                      <a:lnTo>
                        <a:pt x="74" y="103"/>
                      </a:lnTo>
                      <a:lnTo>
                        <a:pt x="58" y="91"/>
                      </a:lnTo>
                      <a:lnTo>
                        <a:pt x="41" y="83"/>
                      </a:lnTo>
                      <a:lnTo>
                        <a:pt x="22" y="77"/>
                      </a:lnTo>
                      <a:lnTo>
                        <a:pt x="0" y="74"/>
                      </a:lnTo>
                      <a:lnTo>
                        <a:pt x="0" y="0"/>
                      </a:lnTo>
                      <a:lnTo>
                        <a:pt x="25" y="0"/>
                      </a:lnTo>
                      <a:lnTo>
                        <a:pt x="25" y="74"/>
                      </a:lnTo>
                      <a:lnTo>
                        <a:pt x="63" y="74"/>
                      </a:lnTo>
                      <a:close/>
                    </a:path>
                  </a:pathLst>
                </a:custGeom>
                <a:solidFill>
                  <a:srgbClr val="b24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173400" y="4307040"/>
                  <a:ext cx="131760" cy="218880"/>
                </a:xfrm>
                <a:custGeom>
                  <a:avLst/>
                  <a:gdLst/>
                  <a:ahLst/>
                  <a:rect l="l" t="t" r="r" b="b"/>
                  <a:pathLst>
                    <a:path w="168" h="275">
                      <a:moveTo>
                        <a:pt x="63" y="74"/>
                      </a:moveTo>
                      <a:lnTo>
                        <a:pt x="63" y="74"/>
                      </a:lnTo>
                      <a:lnTo>
                        <a:pt x="85" y="77"/>
                      </a:lnTo>
                      <a:lnTo>
                        <a:pt x="103" y="83"/>
                      </a:lnTo>
                      <a:lnTo>
                        <a:pt x="121" y="91"/>
                      </a:lnTo>
                      <a:lnTo>
                        <a:pt x="136" y="103"/>
                      </a:lnTo>
                      <a:lnTo>
                        <a:pt x="150" y="119"/>
                      </a:lnTo>
                      <a:lnTo>
                        <a:pt x="160" y="135"/>
                      </a:lnTo>
                      <a:lnTo>
                        <a:pt x="166" y="155"/>
                      </a:lnTo>
                      <a:lnTo>
                        <a:pt x="168" y="175"/>
                      </a:lnTo>
                      <a:lnTo>
                        <a:pt x="168" y="175"/>
                      </a:lnTo>
                      <a:lnTo>
                        <a:pt x="166" y="195"/>
                      </a:lnTo>
                      <a:lnTo>
                        <a:pt x="160" y="214"/>
                      </a:lnTo>
                      <a:lnTo>
                        <a:pt x="150" y="231"/>
                      </a:lnTo>
                      <a:lnTo>
                        <a:pt x="136" y="245"/>
                      </a:lnTo>
                      <a:lnTo>
                        <a:pt x="121" y="259"/>
                      </a:lnTo>
                      <a:lnTo>
                        <a:pt x="103" y="267"/>
                      </a:lnTo>
                      <a:lnTo>
                        <a:pt x="85" y="273"/>
                      </a:lnTo>
                      <a:lnTo>
                        <a:pt x="63" y="275"/>
                      </a:lnTo>
                      <a:lnTo>
                        <a:pt x="0" y="275"/>
                      </a:lnTo>
                      <a:lnTo>
                        <a:pt x="0" y="275"/>
                      </a:lnTo>
                      <a:lnTo>
                        <a:pt x="22" y="273"/>
                      </a:lnTo>
                      <a:lnTo>
                        <a:pt x="41" y="267"/>
                      </a:lnTo>
                      <a:lnTo>
                        <a:pt x="58" y="259"/>
                      </a:lnTo>
                      <a:lnTo>
                        <a:pt x="74" y="245"/>
                      </a:lnTo>
                      <a:lnTo>
                        <a:pt x="88" y="231"/>
                      </a:lnTo>
                      <a:lnTo>
                        <a:pt x="97" y="214"/>
                      </a:lnTo>
                      <a:lnTo>
                        <a:pt x="103" y="195"/>
                      </a:lnTo>
                      <a:lnTo>
                        <a:pt x="105" y="175"/>
                      </a:lnTo>
                      <a:lnTo>
                        <a:pt x="105" y="175"/>
                      </a:lnTo>
                      <a:lnTo>
                        <a:pt x="103" y="155"/>
                      </a:lnTo>
                      <a:lnTo>
                        <a:pt x="97" y="135"/>
                      </a:lnTo>
                      <a:lnTo>
                        <a:pt x="88" y="119"/>
                      </a:lnTo>
                      <a:lnTo>
                        <a:pt x="74" y="103"/>
                      </a:lnTo>
                      <a:lnTo>
                        <a:pt x="58" y="91"/>
                      </a:lnTo>
                      <a:lnTo>
                        <a:pt x="41" y="83"/>
                      </a:lnTo>
                      <a:lnTo>
                        <a:pt x="22" y="77"/>
                      </a:lnTo>
                      <a:lnTo>
                        <a:pt x="0" y="74"/>
                      </a:lnTo>
                      <a:lnTo>
                        <a:pt x="0" y="0"/>
                      </a:lnTo>
                      <a:lnTo>
                        <a:pt x="25" y="0"/>
                      </a:lnTo>
                      <a:lnTo>
                        <a:pt x="25" y="74"/>
                      </a:lnTo>
                      <a:lnTo>
                        <a:pt x="63"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192480" y="4307040"/>
                  <a:ext cx="14040" cy="58680"/>
                </a:xfrm>
                <a:prstGeom prst="rect">
                  <a:avLst/>
                </a:prstGeom>
                <a:solidFill>
                  <a:srgbClr val="b2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64" name=""/>
                <p:cNvSpPr/>
                <p:nvPr/>
              </p:nvSpPr>
              <p:spPr>
                <a:xfrm>
                  <a:off x="3192480" y="4307040"/>
                  <a:ext cx="14040" cy="58680"/>
                </a:xfrm>
                <a:prstGeom prst="rect">
                  <a:avLst/>
                </a:pr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65" name=""/>
                <p:cNvSpPr/>
                <p:nvPr/>
              </p:nvSpPr>
              <p:spPr>
                <a:xfrm>
                  <a:off x="3063600" y="4818240"/>
                  <a:ext cx="541440" cy="191880"/>
                </a:xfrm>
                <a:custGeom>
                  <a:avLst/>
                  <a:gdLst/>
                  <a:ahLst/>
                  <a:rect l="l" t="t" r="r" b="b"/>
                  <a:pathLst>
                    <a:path w="683" h="241">
                      <a:moveTo>
                        <a:pt x="587" y="196"/>
                      </a:moveTo>
                      <a:lnTo>
                        <a:pt x="567" y="196"/>
                      </a:lnTo>
                      <a:lnTo>
                        <a:pt x="543" y="196"/>
                      </a:lnTo>
                      <a:lnTo>
                        <a:pt x="521" y="194"/>
                      </a:lnTo>
                      <a:lnTo>
                        <a:pt x="498" y="192"/>
                      </a:lnTo>
                      <a:lnTo>
                        <a:pt x="475" y="190"/>
                      </a:lnTo>
                      <a:lnTo>
                        <a:pt x="449" y="185"/>
                      </a:lnTo>
                      <a:lnTo>
                        <a:pt x="426" y="180"/>
                      </a:lnTo>
                      <a:lnTo>
                        <a:pt x="403" y="174"/>
                      </a:lnTo>
                      <a:lnTo>
                        <a:pt x="381" y="167"/>
                      </a:lnTo>
                      <a:lnTo>
                        <a:pt x="359" y="160"/>
                      </a:lnTo>
                      <a:lnTo>
                        <a:pt x="337" y="153"/>
                      </a:lnTo>
                      <a:lnTo>
                        <a:pt x="316" y="144"/>
                      </a:lnTo>
                      <a:lnTo>
                        <a:pt x="298" y="136"/>
                      </a:lnTo>
                      <a:lnTo>
                        <a:pt x="279" y="129"/>
                      </a:lnTo>
                      <a:lnTo>
                        <a:pt x="263" y="120"/>
                      </a:lnTo>
                      <a:lnTo>
                        <a:pt x="248" y="112"/>
                      </a:lnTo>
                      <a:lnTo>
                        <a:pt x="237" y="105"/>
                      </a:lnTo>
                      <a:lnTo>
                        <a:pt x="227" y="98"/>
                      </a:lnTo>
                      <a:lnTo>
                        <a:pt x="218" y="90"/>
                      </a:lnTo>
                      <a:lnTo>
                        <a:pt x="212" y="85"/>
                      </a:lnTo>
                      <a:lnTo>
                        <a:pt x="207" y="77"/>
                      </a:lnTo>
                      <a:lnTo>
                        <a:pt x="202" y="71"/>
                      </a:lnTo>
                      <a:lnTo>
                        <a:pt x="202" y="65"/>
                      </a:lnTo>
                      <a:lnTo>
                        <a:pt x="202" y="59"/>
                      </a:lnTo>
                      <a:lnTo>
                        <a:pt x="191" y="51"/>
                      </a:lnTo>
                      <a:lnTo>
                        <a:pt x="173" y="41"/>
                      </a:lnTo>
                      <a:lnTo>
                        <a:pt x="151" y="32"/>
                      </a:lnTo>
                      <a:lnTo>
                        <a:pt x="126" y="22"/>
                      </a:lnTo>
                      <a:lnTo>
                        <a:pt x="101" y="14"/>
                      </a:lnTo>
                      <a:lnTo>
                        <a:pt x="74" y="7"/>
                      </a:lnTo>
                      <a:lnTo>
                        <a:pt x="52" y="2"/>
                      </a:lnTo>
                      <a:lnTo>
                        <a:pt x="33" y="0"/>
                      </a:lnTo>
                      <a:lnTo>
                        <a:pt x="10" y="4"/>
                      </a:lnTo>
                      <a:lnTo>
                        <a:pt x="0" y="19"/>
                      </a:lnTo>
                      <a:lnTo>
                        <a:pt x="2" y="34"/>
                      </a:lnTo>
                      <a:lnTo>
                        <a:pt x="13" y="45"/>
                      </a:lnTo>
                      <a:lnTo>
                        <a:pt x="16" y="46"/>
                      </a:lnTo>
                      <a:lnTo>
                        <a:pt x="27" y="51"/>
                      </a:lnTo>
                      <a:lnTo>
                        <a:pt x="44" y="57"/>
                      </a:lnTo>
                      <a:lnTo>
                        <a:pt x="65" y="63"/>
                      </a:lnTo>
                      <a:lnTo>
                        <a:pt x="90" y="70"/>
                      </a:lnTo>
                      <a:lnTo>
                        <a:pt x="118" y="76"/>
                      </a:lnTo>
                      <a:lnTo>
                        <a:pt x="147" y="80"/>
                      </a:lnTo>
                      <a:lnTo>
                        <a:pt x="177" y="82"/>
                      </a:lnTo>
                      <a:lnTo>
                        <a:pt x="177" y="96"/>
                      </a:lnTo>
                      <a:lnTo>
                        <a:pt x="179" y="110"/>
                      </a:lnTo>
                      <a:lnTo>
                        <a:pt x="180" y="120"/>
                      </a:lnTo>
                      <a:lnTo>
                        <a:pt x="180" y="124"/>
                      </a:lnTo>
                      <a:lnTo>
                        <a:pt x="188" y="137"/>
                      </a:lnTo>
                      <a:lnTo>
                        <a:pt x="201" y="149"/>
                      </a:lnTo>
                      <a:lnTo>
                        <a:pt x="218" y="162"/>
                      </a:lnTo>
                      <a:lnTo>
                        <a:pt x="238" y="174"/>
                      </a:lnTo>
                      <a:lnTo>
                        <a:pt x="260" y="186"/>
                      </a:lnTo>
                      <a:lnTo>
                        <a:pt x="287" y="198"/>
                      </a:lnTo>
                      <a:lnTo>
                        <a:pt x="315" y="208"/>
                      </a:lnTo>
                      <a:lnTo>
                        <a:pt x="346" y="217"/>
                      </a:lnTo>
                      <a:lnTo>
                        <a:pt x="378" y="226"/>
                      </a:lnTo>
                      <a:lnTo>
                        <a:pt x="410" y="232"/>
                      </a:lnTo>
                      <a:lnTo>
                        <a:pt x="445" y="237"/>
                      </a:lnTo>
                      <a:lnTo>
                        <a:pt x="479" y="240"/>
                      </a:lnTo>
                      <a:lnTo>
                        <a:pt x="514" y="241"/>
                      </a:lnTo>
                      <a:lnTo>
                        <a:pt x="548" y="241"/>
                      </a:lnTo>
                      <a:lnTo>
                        <a:pt x="581" y="237"/>
                      </a:lnTo>
                      <a:lnTo>
                        <a:pt x="614" y="232"/>
                      </a:lnTo>
                      <a:lnTo>
                        <a:pt x="623" y="226"/>
                      </a:lnTo>
                      <a:lnTo>
                        <a:pt x="633" y="217"/>
                      </a:lnTo>
                      <a:lnTo>
                        <a:pt x="645" y="208"/>
                      </a:lnTo>
                      <a:lnTo>
                        <a:pt x="656" y="197"/>
                      </a:lnTo>
                      <a:lnTo>
                        <a:pt x="667" y="187"/>
                      </a:lnTo>
                      <a:lnTo>
                        <a:pt x="675" y="179"/>
                      </a:lnTo>
                      <a:lnTo>
                        <a:pt x="681" y="173"/>
                      </a:lnTo>
                      <a:lnTo>
                        <a:pt x="683" y="171"/>
                      </a:lnTo>
                      <a:lnTo>
                        <a:pt x="675" y="175"/>
                      </a:lnTo>
                      <a:lnTo>
                        <a:pt x="667" y="180"/>
                      </a:lnTo>
                      <a:lnTo>
                        <a:pt x="656" y="184"/>
                      </a:lnTo>
                      <a:lnTo>
                        <a:pt x="645" y="187"/>
                      </a:lnTo>
                      <a:lnTo>
                        <a:pt x="633" y="191"/>
                      </a:lnTo>
                      <a:lnTo>
                        <a:pt x="618" y="193"/>
                      </a:lnTo>
                      <a:lnTo>
                        <a:pt x="603" y="194"/>
                      </a:lnTo>
                      <a:lnTo>
                        <a:pt x="587" y="196"/>
                      </a:lnTo>
                      <a:close/>
                    </a:path>
                  </a:pathLst>
                </a:custGeom>
                <a:solidFill>
                  <a:srgbClr val="b24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063600" y="4818240"/>
                  <a:ext cx="541440" cy="191880"/>
                </a:xfrm>
                <a:custGeom>
                  <a:avLst/>
                  <a:gdLst/>
                  <a:ahLst/>
                  <a:rect l="l" t="t" r="r" b="b"/>
                  <a:pathLst>
                    <a:path w="683" h="241">
                      <a:moveTo>
                        <a:pt x="587" y="196"/>
                      </a:moveTo>
                      <a:lnTo>
                        <a:pt x="587" y="196"/>
                      </a:lnTo>
                      <a:lnTo>
                        <a:pt x="567" y="196"/>
                      </a:lnTo>
                      <a:lnTo>
                        <a:pt x="543" y="196"/>
                      </a:lnTo>
                      <a:lnTo>
                        <a:pt x="521" y="194"/>
                      </a:lnTo>
                      <a:lnTo>
                        <a:pt x="498" y="192"/>
                      </a:lnTo>
                      <a:lnTo>
                        <a:pt x="475" y="190"/>
                      </a:lnTo>
                      <a:lnTo>
                        <a:pt x="449" y="185"/>
                      </a:lnTo>
                      <a:lnTo>
                        <a:pt x="426" y="180"/>
                      </a:lnTo>
                      <a:lnTo>
                        <a:pt x="403" y="174"/>
                      </a:lnTo>
                      <a:lnTo>
                        <a:pt x="403" y="174"/>
                      </a:lnTo>
                      <a:lnTo>
                        <a:pt x="381" y="167"/>
                      </a:lnTo>
                      <a:lnTo>
                        <a:pt x="359" y="160"/>
                      </a:lnTo>
                      <a:lnTo>
                        <a:pt x="337" y="153"/>
                      </a:lnTo>
                      <a:lnTo>
                        <a:pt x="316" y="144"/>
                      </a:lnTo>
                      <a:lnTo>
                        <a:pt x="298" y="136"/>
                      </a:lnTo>
                      <a:lnTo>
                        <a:pt x="279" y="129"/>
                      </a:lnTo>
                      <a:lnTo>
                        <a:pt x="263" y="120"/>
                      </a:lnTo>
                      <a:lnTo>
                        <a:pt x="248" y="112"/>
                      </a:lnTo>
                      <a:lnTo>
                        <a:pt x="248" y="112"/>
                      </a:lnTo>
                      <a:lnTo>
                        <a:pt x="237" y="105"/>
                      </a:lnTo>
                      <a:lnTo>
                        <a:pt x="227" y="98"/>
                      </a:lnTo>
                      <a:lnTo>
                        <a:pt x="218" y="90"/>
                      </a:lnTo>
                      <a:lnTo>
                        <a:pt x="212" y="85"/>
                      </a:lnTo>
                      <a:lnTo>
                        <a:pt x="207" y="77"/>
                      </a:lnTo>
                      <a:lnTo>
                        <a:pt x="202" y="71"/>
                      </a:lnTo>
                      <a:lnTo>
                        <a:pt x="202" y="65"/>
                      </a:lnTo>
                      <a:lnTo>
                        <a:pt x="202" y="59"/>
                      </a:lnTo>
                      <a:lnTo>
                        <a:pt x="202" y="59"/>
                      </a:lnTo>
                      <a:lnTo>
                        <a:pt x="191" y="51"/>
                      </a:lnTo>
                      <a:lnTo>
                        <a:pt x="173" y="41"/>
                      </a:lnTo>
                      <a:lnTo>
                        <a:pt x="151" y="32"/>
                      </a:lnTo>
                      <a:lnTo>
                        <a:pt x="126" y="22"/>
                      </a:lnTo>
                      <a:lnTo>
                        <a:pt x="101" y="14"/>
                      </a:lnTo>
                      <a:lnTo>
                        <a:pt x="74" y="7"/>
                      </a:lnTo>
                      <a:lnTo>
                        <a:pt x="52" y="2"/>
                      </a:lnTo>
                      <a:lnTo>
                        <a:pt x="33" y="0"/>
                      </a:lnTo>
                      <a:lnTo>
                        <a:pt x="33" y="0"/>
                      </a:lnTo>
                      <a:lnTo>
                        <a:pt x="10" y="4"/>
                      </a:lnTo>
                      <a:lnTo>
                        <a:pt x="0" y="19"/>
                      </a:lnTo>
                      <a:lnTo>
                        <a:pt x="2" y="34"/>
                      </a:lnTo>
                      <a:lnTo>
                        <a:pt x="13" y="45"/>
                      </a:lnTo>
                      <a:lnTo>
                        <a:pt x="13" y="45"/>
                      </a:lnTo>
                      <a:lnTo>
                        <a:pt x="16" y="46"/>
                      </a:lnTo>
                      <a:lnTo>
                        <a:pt x="27" y="51"/>
                      </a:lnTo>
                      <a:lnTo>
                        <a:pt x="44" y="57"/>
                      </a:lnTo>
                      <a:lnTo>
                        <a:pt x="65" y="63"/>
                      </a:lnTo>
                      <a:lnTo>
                        <a:pt x="90" y="70"/>
                      </a:lnTo>
                      <a:lnTo>
                        <a:pt x="118" y="76"/>
                      </a:lnTo>
                      <a:lnTo>
                        <a:pt x="147" y="80"/>
                      </a:lnTo>
                      <a:lnTo>
                        <a:pt x="177" y="82"/>
                      </a:lnTo>
                      <a:lnTo>
                        <a:pt x="177" y="82"/>
                      </a:lnTo>
                      <a:lnTo>
                        <a:pt x="177" y="96"/>
                      </a:lnTo>
                      <a:lnTo>
                        <a:pt x="179" y="110"/>
                      </a:lnTo>
                      <a:lnTo>
                        <a:pt x="180" y="120"/>
                      </a:lnTo>
                      <a:lnTo>
                        <a:pt x="180" y="124"/>
                      </a:lnTo>
                      <a:lnTo>
                        <a:pt x="180" y="124"/>
                      </a:lnTo>
                      <a:lnTo>
                        <a:pt x="188" y="137"/>
                      </a:lnTo>
                      <a:lnTo>
                        <a:pt x="201" y="149"/>
                      </a:lnTo>
                      <a:lnTo>
                        <a:pt x="218" y="162"/>
                      </a:lnTo>
                      <a:lnTo>
                        <a:pt x="238" y="174"/>
                      </a:lnTo>
                      <a:lnTo>
                        <a:pt x="260" y="186"/>
                      </a:lnTo>
                      <a:lnTo>
                        <a:pt x="287" y="198"/>
                      </a:lnTo>
                      <a:lnTo>
                        <a:pt x="315" y="208"/>
                      </a:lnTo>
                      <a:lnTo>
                        <a:pt x="346" y="217"/>
                      </a:lnTo>
                      <a:lnTo>
                        <a:pt x="378" y="226"/>
                      </a:lnTo>
                      <a:lnTo>
                        <a:pt x="410" y="232"/>
                      </a:lnTo>
                      <a:lnTo>
                        <a:pt x="445" y="237"/>
                      </a:lnTo>
                      <a:lnTo>
                        <a:pt x="479" y="240"/>
                      </a:lnTo>
                      <a:lnTo>
                        <a:pt x="514" y="241"/>
                      </a:lnTo>
                      <a:lnTo>
                        <a:pt x="548" y="241"/>
                      </a:lnTo>
                      <a:lnTo>
                        <a:pt x="581" y="237"/>
                      </a:lnTo>
                      <a:lnTo>
                        <a:pt x="614" y="232"/>
                      </a:lnTo>
                      <a:lnTo>
                        <a:pt x="614" y="232"/>
                      </a:lnTo>
                      <a:lnTo>
                        <a:pt x="623" y="226"/>
                      </a:lnTo>
                      <a:lnTo>
                        <a:pt x="633" y="217"/>
                      </a:lnTo>
                      <a:lnTo>
                        <a:pt x="645" y="208"/>
                      </a:lnTo>
                      <a:lnTo>
                        <a:pt x="656" y="197"/>
                      </a:lnTo>
                      <a:lnTo>
                        <a:pt x="667" y="187"/>
                      </a:lnTo>
                      <a:lnTo>
                        <a:pt x="675" y="179"/>
                      </a:lnTo>
                      <a:lnTo>
                        <a:pt x="681" y="173"/>
                      </a:lnTo>
                      <a:lnTo>
                        <a:pt x="683" y="171"/>
                      </a:lnTo>
                      <a:lnTo>
                        <a:pt x="683" y="171"/>
                      </a:lnTo>
                      <a:lnTo>
                        <a:pt x="675" y="175"/>
                      </a:lnTo>
                      <a:lnTo>
                        <a:pt x="667" y="180"/>
                      </a:lnTo>
                      <a:lnTo>
                        <a:pt x="656" y="184"/>
                      </a:lnTo>
                      <a:lnTo>
                        <a:pt x="645" y="187"/>
                      </a:lnTo>
                      <a:lnTo>
                        <a:pt x="633" y="191"/>
                      </a:lnTo>
                      <a:lnTo>
                        <a:pt x="618" y="193"/>
                      </a:lnTo>
                      <a:lnTo>
                        <a:pt x="603" y="194"/>
                      </a:lnTo>
                      <a:lnTo>
                        <a:pt x="587"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259080" y="4903920"/>
                  <a:ext cx="269640" cy="69840"/>
                </a:xfrm>
                <a:custGeom>
                  <a:avLst/>
                  <a:gdLst/>
                  <a:ahLst/>
                  <a:rect l="l" t="t" r="r" b="b"/>
                  <a:pathLst>
                    <a:path w="339" h="90">
                      <a:moveTo>
                        <a:pt x="339" y="90"/>
                      </a:moveTo>
                      <a:lnTo>
                        <a:pt x="319" y="90"/>
                      </a:lnTo>
                      <a:lnTo>
                        <a:pt x="295" y="90"/>
                      </a:lnTo>
                      <a:lnTo>
                        <a:pt x="273" y="88"/>
                      </a:lnTo>
                      <a:lnTo>
                        <a:pt x="250" y="86"/>
                      </a:lnTo>
                      <a:lnTo>
                        <a:pt x="227" y="84"/>
                      </a:lnTo>
                      <a:lnTo>
                        <a:pt x="201" y="79"/>
                      </a:lnTo>
                      <a:lnTo>
                        <a:pt x="178" y="74"/>
                      </a:lnTo>
                      <a:lnTo>
                        <a:pt x="155" y="68"/>
                      </a:lnTo>
                      <a:lnTo>
                        <a:pt x="133" y="61"/>
                      </a:lnTo>
                      <a:lnTo>
                        <a:pt x="111" y="54"/>
                      </a:lnTo>
                      <a:lnTo>
                        <a:pt x="89" y="47"/>
                      </a:lnTo>
                      <a:lnTo>
                        <a:pt x="68" y="38"/>
                      </a:lnTo>
                      <a:lnTo>
                        <a:pt x="50" y="30"/>
                      </a:lnTo>
                      <a:lnTo>
                        <a:pt x="31" y="23"/>
                      </a:lnTo>
                      <a:lnTo>
                        <a:pt x="15" y="14"/>
                      </a:lnTo>
                      <a:lnTo>
                        <a:pt x="0" y="6"/>
                      </a:lnTo>
                      <a:lnTo>
                        <a:pt x="11" y="4"/>
                      </a:lnTo>
                      <a:lnTo>
                        <a:pt x="25" y="2"/>
                      </a:lnTo>
                      <a:lnTo>
                        <a:pt x="40" y="1"/>
                      </a:lnTo>
                      <a:lnTo>
                        <a:pt x="58" y="0"/>
                      </a:lnTo>
                      <a:lnTo>
                        <a:pt x="78" y="1"/>
                      </a:lnTo>
                      <a:lnTo>
                        <a:pt x="100" y="1"/>
                      </a:lnTo>
                      <a:lnTo>
                        <a:pt x="122" y="4"/>
                      </a:lnTo>
                      <a:lnTo>
                        <a:pt x="147" y="6"/>
                      </a:lnTo>
                      <a:lnTo>
                        <a:pt x="170" y="11"/>
                      </a:lnTo>
                      <a:lnTo>
                        <a:pt x="195" y="17"/>
                      </a:lnTo>
                      <a:lnTo>
                        <a:pt x="220" y="24"/>
                      </a:lnTo>
                      <a:lnTo>
                        <a:pt x="245" y="33"/>
                      </a:lnTo>
                      <a:lnTo>
                        <a:pt x="270" y="44"/>
                      </a:lnTo>
                      <a:lnTo>
                        <a:pt x="294" y="57"/>
                      </a:lnTo>
                      <a:lnTo>
                        <a:pt x="317" y="72"/>
                      </a:lnTo>
                      <a:lnTo>
                        <a:pt x="339" y="90"/>
                      </a:lnTo>
                      <a:close/>
                    </a:path>
                  </a:pathLst>
                </a:custGeom>
                <a:solidFill>
                  <a:srgbClr val="d8a5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8" name=""/>
                <p:cNvSpPr/>
                <p:nvPr/>
              </p:nvSpPr>
              <p:spPr>
                <a:xfrm>
                  <a:off x="3259080" y="4903920"/>
                  <a:ext cx="269640" cy="69840"/>
                </a:xfrm>
                <a:custGeom>
                  <a:avLst/>
                  <a:gdLst/>
                  <a:ahLst/>
                  <a:rect l="l" t="t" r="r" b="b"/>
                  <a:pathLst>
                    <a:path w="339" h="90">
                      <a:moveTo>
                        <a:pt x="339" y="90"/>
                      </a:moveTo>
                      <a:lnTo>
                        <a:pt x="339" y="90"/>
                      </a:lnTo>
                      <a:lnTo>
                        <a:pt x="319" y="90"/>
                      </a:lnTo>
                      <a:lnTo>
                        <a:pt x="295" y="90"/>
                      </a:lnTo>
                      <a:lnTo>
                        <a:pt x="273" y="88"/>
                      </a:lnTo>
                      <a:lnTo>
                        <a:pt x="250" y="86"/>
                      </a:lnTo>
                      <a:lnTo>
                        <a:pt x="227" y="84"/>
                      </a:lnTo>
                      <a:lnTo>
                        <a:pt x="201" y="79"/>
                      </a:lnTo>
                      <a:lnTo>
                        <a:pt x="178" y="74"/>
                      </a:lnTo>
                      <a:lnTo>
                        <a:pt x="155" y="68"/>
                      </a:lnTo>
                      <a:lnTo>
                        <a:pt x="155" y="68"/>
                      </a:lnTo>
                      <a:lnTo>
                        <a:pt x="133" y="61"/>
                      </a:lnTo>
                      <a:lnTo>
                        <a:pt x="111" y="54"/>
                      </a:lnTo>
                      <a:lnTo>
                        <a:pt x="89" y="47"/>
                      </a:lnTo>
                      <a:lnTo>
                        <a:pt x="68" y="38"/>
                      </a:lnTo>
                      <a:lnTo>
                        <a:pt x="50" y="30"/>
                      </a:lnTo>
                      <a:lnTo>
                        <a:pt x="31" y="23"/>
                      </a:lnTo>
                      <a:lnTo>
                        <a:pt x="15" y="14"/>
                      </a:lnTo>
                      <a:lnTo>
                        <a:pt x="0" y="6"/>
                      </a:lnTo>
                      <a:lnTo>
                        <a:pt x="0" y="6"/>
                      </a:lnTo>
                      <a:lnTo>
                        <a:pt x="11" y="4"/>
                      </a:lnTo>
                      <a:lnTo>
                        <a:pt x="25" y="2"/>
                      </a:lnTo>
                      <a:lnTo>
                        <a:pt x="40" y="1"/>
                      </a:lnTo>
                      <a:lnTo>
                        <a:pt x="58" y="0"/>
                      </a:lnTo>
                      <a:lnTo>
                        <a:pt x="78" y="1"/>
                      </a:lnTo>
                      <a:lnTo>
                        <a:pt x="100" y="1"/>
                      </a:lnTo>
                      <a:lnTo>
                        <a:pt x="122" y="4"/>
                      </a:lnTo>
                      <a:lnTo>
                        <a:pt x="147" y="6"/>
                      </a:lnTo>
                      <a:lnTo>
                        <a:pt x="170" y="11"/>
                      </a:lnTo>
                      <a:lnTo>
                        <a:pt x="195" y="17"/>
                      </a:lnTo>
                      <a:lnTo>
                        <a:pt x="220" y="24"/>
                      </a:lnTo>
                      <a:lnTo>
                        <a:pt x="245" y="33"/>
                      </a:lnTo>
                      <a:lnTo>
                        <a:pt x="270" y="44"/>
                      </a:lnTo>
                      <a:lnTo>
                        <a:pt x="294" y="57"/>
                      </a:lnTo>
                      <a:lnTo>
                        <a:pt x="317" y="72"/>
                      </a:lnTo>
                      <a:lnTo>
                        <a:pt x="339" y="9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9" name=""/>
                <p:cNvSpPr/>
                <p:nvPr/>
              </p:nvSpPr>
              <p:spPr>
                <a:xfrm>
                  <a:off x="3224160" y="4851360"/>
                  <a:ext cx="382320" cy="122400"/>
                </a:xfrm>
                <a:custGeom>
                  <a:avLst/>
                  <a:gdLst/>
                  <a:ahLst/>
                  <a:rect l="l" t="t" r="r" b="b"/>
                  <a:pathLst>
                    <a:path w="482" h="156">
                      <a:moveTo>
                        <a:pt x="46" y="72"/>
                      </a:moveTo>
                      <a:lnTo>
                        <a:pt x="57" y="70"/>
                      </a:lnTo>
                      <a:lnTo>
                        <a:pt x="71" y="68"/>
                      </a:lnTo>
                      <a:lnTo>
                        <a:pt x="86" y="67"/>
                      </a:lnTo>
                      <a:lnTo>
                        <a:pt x="104" y="66"/>
                      </a:lnTo>
                      <a:lnTo>
                        <a:pt x="124" y="67"/>
                      </a:lnTo>
                      <a:lnTo>
                        <a:pt x="146" y="67"/>
                      </a:lnTo>
                      <a:lnTo>
                        <a:pt x="168" y="70"/>
                      </a:lnTo>
                      <a:lnTo>
                        <a:pt x="193" y="72"/>
                      </a:lnTo>
                      <a:lnTo>
                        <a:pt x="216" y="77"/>
                      </a:lnTo>
                      <a:lnTo>
                        <a:pt x="241" y="83"/>
                      </a:lnTo>
                      <a:lnTo>
                        <a:pt x="266" y="90"/>
                      </a:lnTo>
                      <a:lnTo>
                        <a:pt x="291" y="99"/>
                      </a:lnTo>
                      <a:lnTo>
                        <a:pt x="316" y="110"/>
                      </a:lnTo>
                      <a:lnTo>
                        <a:pt x="340" y="123"/>
                      </a:lnTo>
                      <a:lnTo>
                        <a:pt x="363" y="138"/>
                      </a:lnTo>
                      <a:lnTo>
                        <a:pt x="385" y="156"/>
                      </a:lnTo>
                      <a:lnTo>
                        <a:pt x="401" y="154"/>
                      </a:lnTo>
                      <a:lnTo>
                        <a:pt x="416" y="153"/>
                      </a:lnTo>
                      <a:lnTo>
                        <a:pt x="431" y="151"/>
                      </a:lnTo>
                      <a:lnTo>
                        <a:pt x="443" y="147"/>
                      </a:lnTo>
                      <a:lnTo>
                        <a:pt x="454" y="144"/>
                      </a:lnTo>
                      <a:lnTo>
                        <a:pt x="465" y="140"/>
                      </a:lnTo>
                      <a:lnTo>
                        <a:pt x="473" y="135"/>
                      </a:lnTo>
                      <a:lnTo>
                        <a:pt x="481" y="131"/>
                      </a:lnTo>
                      <a:lnTo>
                        <a:pt x="481" y="131"/>
                      </a:lnTo>
                      <a:lnTo>
                        <a:pt x="482" y="121"/>
                      </a:lnTo>
                      <a:lnTo>
                        <a:pt x="476" y="110"/>
                      </a:lnTo>
                      <a:lnTo>
                        <a:pt x="465" y="101"/>
                      </a:lnTo>
                      <a:lnTo>
                        <a:pt x="451" y="91"/>
                      </a:lnTo>
                      <a:lnTo>
                        <a:pt x="435" y="82"/>
                      </a:lnTo>
                      <a:lnTo>
                        <a:pt x="418" y="73"/>
                      </a:lnTo>
                      <a:lnTo>
                        <a:pt x="406" y="67"/>
                      </a:lnTo>
                      <a:lnTo>
                        <a:pt x="395" y="62"/>
                      </a:lnTo>
                      <a:lnTo>
                        <a:pt x="384" y="58"/>
                      </a:lnTo>
                      <a:lnTo>
                        <a:pt x="368" y="52"/>
                      </a:lnTo>
                      <a:lnTo>
                        <a:pt x="346" y="43"/>
                      </a:lnTo>
                      <a:lnTo>
                        <a:pt x="321" y="35"/>
                      </a:lnTo>
                      <a:lnTo>
                        <a:pt x="291" y="27"/>
                      </a:lnTo>
                      <a:lnTo>
                        <a:pt x="262" y="18"/>
                      </a:lnTo>
                      <a:lnTo>
                        <a:pt x="230" y="11"/>
                      </a:lnTo>
                      <a:lnTo>
                        <a:pt x="201" y="6"/>
                      </a:lnTo>
                      <a:lnTo>
                        <a:pt x="169" y="3"/>
                      </a:lnTo>
                      <a:lnTo>
                        <a:pt x="138" y="0"/>
                      </a:lnTo>
                      <a:lnTo>
                        <a:pt x="108" y="0"/>
                      </a:lnTo>
                      <a:lnTo>
                        <a:pt x="80" y="0"/>
                      </a:lnTo>
                      <a:lnTo>
                        <a:pt x="55" y="3"/>
                      </a:lnTo>
                      <a:lnTo>
                        <a:pt x="33" y="6"/>
                      </a:lnTo>
                      <a:lnTo>
                        <a:pt x="14" y="12"/>
                      </a:lnTo>
                      <a:lnTo>
                        <a:pt x="0" y="19"/>
                      </a:lnTo>
                      <a:lnTo>
                        <a:pt x="0" y="25"/>
                      </a:lnTo>
                      <a:lnTo>
                        <a:pt x="0" y="31"/>
                      </a:lnTo>
                      <a:lnTo>
                        <a:pt x="5" y="37"/>
                      </a:lnTo>
                      <a:lnTo>
                        <a:pt x="10" y="45"/>
                      </a:lnTo>
                      <a:lnTo>
                        <a:pt x="16" y="50"/>
                      </a:lnTo>
                      <a:lnTo>
                        <a:pt x="25" y="58"/>
                      </a:lnTo>
                      <a:lnTo>
                        <a:pt x="35" y="65"/>
                      </a:lnTo>
                      <a:lnTo>
                        <a:pt x="46" y="72"/>
                      </a:lnTo>
                      <a:close/>
                    </a:path>
                  </a:pathLst>
                </a:custGeom>
                <a:solidFill>
                  <a:srgbClr val="c67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24160" y="4851360"/>
                  <a:ext cx="382320" cy="122400"/>
                </a:xfrm>
                <a:custGeom>
                  <a:avLst/>
                  <a:gdLst/>
                  <a:ahLst/>
                  <a:rect l="l" t="t" r="r" b="b"/>
                  <a:pathLst>
                    <a:path w="482" h="156">
                      <a:moveTo>
                        <a:pt x="46" y="72"/>
                      </a:moveTo>
                      <a:lnTo>
                        <a:pt x="46" y="72"/>
                      </a:lnTo>
                      <a:lnTo>
                        <a:pt x="57" y="70"/>
                      </a:lnTo>
                      <a:lnTo>
                        <a:pt x="71" y="68"/>
                      </a:lnTo>
                      <a:lnTo>
                        <a:pt x="86" y="67"/>
                      </a:lnTo>
                      <a:lnTo>
                        <a:pt x="104" y="66"/>
                      </a:lnTo>
                      <a:lnTo>
                        <a:pt x="124" y="67"/>
                      </a:lnTo>
                      <a:lnTo>
                        <a:pt x="146" y="67"/>
                      </a:lnTo>
                      <a:lnTo>
                        <a:pt x="168" y="70"/>
                      </a:lnTo>
                      <a:lnTo>
                        <a:pt x="193" y="72"/>
                      </a:lnTo>
                      <a:lnTo>
                        <a:pt x="216" y="77"/>
                      </a:lnTo>
                      <a:lnTo>
                        <a:pt x="241" y="83"/>
                      </a:lnTo>
                      <a:lnTo>
                        <a:pt x="266" y="90"/>
                      </a:lnTo>
                      <a:lnTo>
                        <a:pt x="291" y="99"/>
                      </a:lnTo>
                      <a:lnTo>
                        <a:pt x="316" y="110"/>
                      </a:lnTo>
                      <a:lnTo>
                        <a:pt x="340" y="123"/>
                      </a:lnTo>
                      <a:lnTo>
                        <a:pt x="363" y="138"/>
                      </a:lnTo>
                      <a:lnTo>
                        <a:pt x="385" y="156"/>
                      </a:lnTo>
                      <a:lnTo>
                        <a:pt x="385" y="156"/>
                      </a:lnTo>
                      <a:lnTo>
                        <a:pt x="401" y="154"/>
                      </a:lnTo>
                      <a:lnTo>
                        <a:pt x="416" y="153"/>
                      </a:lnTo>
                      <a:lnTo>
                        <a:pt x="431" y="151"/>
                      </a:lnTo>
                      <a:lnTo>
                        <a:pt x="443" y="147"/>
                      </a:lnTo>
                      <a:lnTo>
                        <a:pt x="454" y="144"/>
                      </a:lnTo>
                      <a:lnTo>
                        <a:pt x="465" y="140"/>
                      </a:lnTo>
                      <a:lnTo>
                        <a:pt x="473" y="135"/>
                      </a:lnTo>
                      <a:lnTo>
                        <a:pt x="481" y="131"/>
                      </a:lnTo>
                      <a:lnTo>
                        <a:pt x="481" y="131"/>
                      </a:lnTo>
                      <a:lnTo>
                        <a:pt x="481" y="131"/>
                      </a:lnTo>
                      <a:lnTo>
                        <a:pt x="482" y="121"/>
                      </a:lnTo>
                      <a:lnTo>
                        <a:pt x="476" y="110"/>
                      </a:lnTo>
                      <a:lnTo>
                        <a:pt x="465" y="101"/>
                      </a:lnTo>
                      <a:lnTo>
                        <a:pt x="451" y="91"/>
                      </a:lnTo>
                      <a:lnTo>
                        <a:pt x="435" y="82"/>
                      </a:lnTo>
                      <a:lnTo>
                        <a:pt x="418" y="73"/>
                      </a:lnTo>
                      <a:lnTo>
                        <a:pt x="406" y="67"/>
                      </a:lnTo>
                      <a:lnTo>
                        <a:pt x="395" y="62"/>
                      </a:lnTo>
                      <a:lnTo>
                        <a:pt x="395" y="62"/>
                      </a:lnTo>
                      <a:lnTo>
                        <a:pt x="384" y="58"/>
                      </a:lnTo>
                      <a:lnTo>
                        <a:pt x="368" y="52"/>
                      </a:lnTo>
                      <a:lnTo>
                        <a:pt x="346" y="43"/>
                      </a:lnTo>
                      <a:lnTo>
                        <a:pt x="321" y="35"/>
                      </a:lnTo>
                      <a:lnTo>
                        <a:pt x="291" y="27"/>
                      </a:lnTo>
                      <a:lnTo>
                        <a:pt x="262" y="18"/>
                      </a:lnTo>
                      <a:lnTo>
                        <a:pt x="230" y="11"/>
                      </a:lnTo>
                      <a:lnTo>
                        <a:pt x="201" y="6"/>
                      </a:lnTo>
                      <a:lnTo>
                        <a:pt x="201" y="6"/>
                      </a:lnTo>
                      <a:lnTo>
                        <a:pt x="169" y="3"/>
                      </a:lnTo>
                      <a:lnTo>
                        <a:pt x="138" y="0"/>
                      </a:lnTo>
                      <a:lnTo>
                        <a:pt x="108" y="0"/>
                      </a:lnTo>
                      <a:lnTo>
                        <a:pt x="80" y="0"/>
                      </a:lnTo>
                      <a:lnTo>
                        <a:pt x="55" y="3"/>
                      </a:lnTo>
                      <a:lnTo>
                        <a:pt x="33" y="6"/>
                      </a:lnTo>
                      <a:lnTo>
                        <a:pt x="14" y="12"/>
                      </a:lnTo>
                      <a:lnTo>
                        <a:pt x="0" y="19"/>
                      </a:lnTo>
                      <a:lnTo>
                        <a:pt x="0" y="19"/>
                      </a:lnTo>
                      <a:lnTo>
                        <a:pt x="0" y="25"/>
                      </a:lnTo>
                      <a:lnTo>
                        <a:pt x="0" y="31"/>
                      </a:lnTo>
                      <a:lnTo>
                        <a:pt x="5" y="37"/>
                      </a:lnTo>
                      <a:lnTo>
                        <a:pt x="10" y="45"/>
                      </a:lnTo>
                      <a:lnTo>
                        <a:pt x="16" y="50"/>
                      </a:lnTo>
                      <a:lnTo>
                        <a:pt x="25" y="58"/>
                      </a:lnTo>
                      <a:lnTo>
                        <a:pt x="35" y="65"/>
                      </a:lnTo>
                      <a:lnTo>
                        <a:pt x="46"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3184200" y="4954680"/>
                  <a:ext cx="284400" cy="125280"/>
                </a:xfrm>
                <a:custGeom>
                  <a:avLst/>
                  <a:gdLst/>
                  <a:ahLst/>
                  <a:rect l="l" t="t" r="r" b="b"/>
                  <a:pathLst>
                    <a:path w="357" h="156">
                      <a:moveTo>
                        <a:pt x="244" y="57"/>
                      </a:moveTo>
                      <a:lnTo>
                        <a:pt x="222" y="52"/>
                      </a:lnTo>
                      <a:lnTo>
                        <a:pt x="202" y="48"/>
                      </a:lnTo>
                      <a:lnTo>
                        <a:pt x="181" y="42"/>
                      </a:lnTo>
                      <a:lnTo>
                        <a:pt x="161" y="36"/>
                      </a:lnTo>
                      <a:lnTo>
                        <a:pt x="142" y="28"/>
                      </a:lnTo>
                      <a:lnTo>
                        <a:pt x="123" y="21"/>
                      </a:lnTo>
                      <a:lnTo>
                        <a:pt x="106" y="14"/>
                      </a:lnTo>
                      <a:lnTo>
                        <a:pt x="91" y="6"/>
                      </a:lnTo>
                      <a:lnTo>
                        <a:pt x="89" y="18"/>
                      </a:lnTo>
                      <a:lnTo>
                        <a:pt x="92" y="32"/>
                      </a:lnTo>
                      <a:lnTo>
                        <a:pt x="100" y="46"/>
                      </a:lnTo>
                      <a:lnTo>
                        <a:pt x="112" y="56"/>
                      </a:lnTo>
                      <a:lnTo>
                        <a:pt x="98" y="51"/>
                      </a:lnTo>
                      <a:lnTo>
                        <a:pt x="83" y="45"/>
                      </a:lnTo>
                      <a:lnTo>
                        <a:pt x="64" y="39"/>
                      </a:lnTo>
                      <a:lnTo>
                        <a:pt x="45" y="32"/>
                      </a:lnTo>
                      <a:lnTo>
                        <a:pt x="28" y="24"/>
                      </a:lnTo>
                      <a:lnTo>
                        <a:pt x="14" y="16"/>
                      </a:lnTo>
                      <a:lnTo>
                        <a:pt x="4" y="8"/>
                      </a:lnTo>
                      <a:lnTo>
                        <a:pt x="1" y="0"/>
                      </a:lnTo>
                      <a:lnTo>
                        <a:pt x="0" y="13"/>
                      </a:lnTo>
                      <a:lnTo>
                        <a:pt x="0" y="31"/>
                      </a:lnTo>
                      <a:lnTo>
                        <a:pt x="4" y="50"/>
                      </a:lnTo>
                      <a:lnTo>
                        <a:pt x="14" y="68"/>
                      </a:lnTo>
                      <a:lnTo>
                        <a:pt x="31" y="86"/>
                      </a:lnTo>
                      <a:lnTo>
                        <a:pt x="58" y="98"/>
                      </a:lnTo>
                      <a:lnTo>
                        <a:pt x="94" y="105"/>
                      </a:lnTo>
                      <a:lnTo>
                        <a:pt x="142" y="105"/>
                      </a:lnTo>
                      <a:lnTo>
                        <a:pt x="150" y="115"/>
                      </a:lnTo>
                      <a:lnTo>
                        <a:pt x="162" y="124"/>
                      </a:lnTo>
                      <a:lnTo>
                        <a:pt x="177" y="134"/>
                      </a:lnTo>
                      <a:lnTo>
                        <a:pt x="194" y="143"/>
                      </a:lnTo>
                      <a:lnTo>
                        <a:pt x="213" y="150"/>
                      </a:lnTo>
                      <a:lnTo>
                        <a:pt x="236" y="155"/>
                      </a:lnTo>
                      <a:lnTo>
                        <a:pt x="261" y="156"/>
                      </a:lnTo>
                      <a:lnTo>
                        <a:pt x="289" y="154"/>
                      </a:lnTo>
                      <a:lnTo>
                        <a:pt x="308" y="150"/>
                      </a:lnTo>
                      <a:lnTo>
                        <a:pt x="321" y="146"/>
                      </a:lnTo>
                      <a:lnTo>
                        <a:pt x="328" y="142"/>
                      </a:lnTo>
                      <a:lnTo>
                        <a:pt x="331" y="138"/>
                      </a:lnTo>
                      <a:lnTo>
                        <a:pt x="335" y="135"/>
                      </a:lnTo>
                      <a:lnTo>
                        <a:pt x="338" y="134"/>
                      </a:lnTo>
                      <a:lnTo>
                        <a:pt x="346" y="132"/>
                      </a:lnTo>
                      <a:lnTo>
                        <a:pt x="357" y="134"/>
                      </a:lnTo>
                      <a:lnTo>
                        <a:pt x="349" y="130"/>
                      </a:lnTo>
                      <a:lnTo>
                        <a:pt x="341" y="126"/>
                      </a:lnTo>
                      <a:lnTo>
                        <a:pt x="333" y="124"/>
                      </a:lnTo>
                      <a:lnTo>
                        <a:pt x="325" y="122"/>
                      </a:lnTo>
                      <a:lnTo>
                        <a:pt x="316" y="122"/>
                      </a:lnTo>
                      <a:lnTo>
                        <a:pt x="308" y="122"/>
                      </a:lnTo>
                      <a:lnTo>
                        <a:pt x="300" y="122"/>
                      </a:lnTo>
                      <a:lnTo>
                        <a:pt x="294" y="124"/>
                      </a:lnTo>
                      <a:lnTo>
                        <a:pt x="281" y="124"/>
                      </a:lnTo>
                      <a:lnTo>
                        <a:pt x="269" y="118"/>
                      </a:lnTo>
                      <a:lnTo>
                        <a:pt x="260" y="107"/>
                      </a:lnTo>
                      <a:lnTo>
                        <a:pt x="255" y="95"/>
                      </a:lnTo>
                      <a:lnTo>
                        <a:pt x="267" y="98"/>
                      </a:lnTo>
                      <a:lnTo>
                        <a:pt x="283" y="99"/>
                      </a:lnTo>
                      <a:lnTo>
                        <a:pt x="299" y="98"/>
                      </a:lnTo>
                      <a:lnTo>
                        <a:pt x="316" y="94"/>
                      </a:lnTo>
                      <a:lnTo>
                        <a:pt x="330" y="86"/>
                      </a:lnTo>
                      <a:lnTo>
                        <a:pt x="342" y="74"/>
                      </a:lnTo>
                      <a:lnTo>
                        <a:pt x="347" y="57"/>
                      </a:lnTo>
                      <a:lnTo>
                        <a:pt x="347" y="36"/>
                      </a:lnTo>
                      <a:lnTo>
                        <a:pt x="335" y="44"/>
                      </a:lnTo>
                      <a:lnTo>
                        <a:pt x="321" y="49"/>
                      </a:lnTo>
                      <a:lnTo>
                        <a:pt x="305" y="51"/>
                      </a:lnTo>
                      <a:lnTo>
                        <a:pt x="289" y="51"/>
                      </a:lnTo>
                      <a:lnTo>
                        <a:pt x="274" y="51"/>
                      </a:lnTo>
                      <a:lnTo>
                        <a:pt x="260" y="51"/>
                      </a:lnTo>
                      <a:lnTo>
                        <a:pt x="250" y="52"/>
                      </a:lnTo>
                      <a:lnTo>
                        <a:pt x="244" y="57"/>
                      </a:lnTo>
                      <a:close/>
                    </a:path>
                  </a:pathLst>
                </a:custGeom>
                <a:solidFill>
                  <a:srgbClr val="ff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184200" y="4954680"/>
                  <a:ext cx="284400" cy="125280"/>
                </a:xfrm>
                <a:custGeom>
                  <a:avLst/>
                  <a:gdLst/>
                  <a:ahLst/>
                  <a:rect l="l" t="t" r="r" b="b"/>
                  <a:pathLst>
                    <a:path w="357" h="156">
                      <a:moveTo>
                        <a:pt x="244" y="57"/>
                      </a:moveTo>
                      <a:lnTo>
                        <a:pt x="244" y="57"/>
                      </a:lnTo>
                      <a:lnTo>
                        <a:pt x="222" y="52"/>
                      </a:lnTo>
                      <a:lnTo>
                        <a:pt x="202" y="48"/>
                      </a:lnTo>
                      <a:lnTo>
                        <a:pt x="181" y="42"/>
                      </a:lnTo>
                      <a:lnTo>
                        <a:pt x="161" y="36"/>
                      </a:lnTo>
                      <a:lnTo>
                        <a:pt x="142" y="28"/>
                      </a:lnTo>
                      <a:lnTo>
                        <a:pt x="123" y="21"/>
                      </a:lnTo>
                      <a:lnTo>
                        <a:pt x="106" y="14"/>
                      </a:lnTo>
                      <a:lnTo>
                        <a:pt x="91" y="6"/>
                      </a:lnTo>
                      <a:lnTo>
                        <a:pt x="91" y="6"/>
                      </a:lnTo>
                      <a:lnTo>
                        <a:pt x="89" y="18"/>
                      </a:lnTo>
                      <a:lnTo>
                        <a:pt x="92" y="32"/>
                      </a:lnTo>
                      <a:lnTo>
                        <a:pt x="100" y="46"/>
                      </a:lnTo>
                      <a:lnTo>
                        <a:pt x="112" y="56"/>
                      </a:lnTo>
                      <a:lnTo>
                        <a:pt x="112" y="56"/>
                      </a:lnTo>
                      <a:lnTo>
                        <a:pt x="98" y="51"/>
                      </a:lnTo>
                      <a:lnTo>
                        <a:pt x="83" y="45"/>
                      </a:lnTo>
                      <a:lnTo>
                        <a:pt x="64" y="39"/>
                      </a:lnTo>
                      <a:lnTo>
                        <a:pt x="45" y="32"/>
                      </a:lnTo>
                      <a:lnTo>
                        <a:pt x="28" y="24"/>
                      </a:lnTo>
                      <a:lnTo>
                        <a:pt x="14" y="16"/>
                      </a:lnTo>
                      <a:lnTo>
                        <a:pt x="4" y="8"/>
                      </a:lnTo>
                      <a:lnTo>
                        <a:pt x="1" y="0"/>
                      </a:lnTo>
                      <a:lnTo>
                        <a:pt x="1" y="0"/>
                      </a:lnTo>
                      <a:lnTo>
                        <a:pt x="0" y="13"/>
                      </a:lnTo>
                      <a:lnTo>
                        <a:pt x="0" y="31"/>
                      </a:lnTo>
                      <a:lnTo>
                        <a:pt x="4" y="50"/>
                      </a:lnTo>
                      <a:lnTo>
                        <a:pt x="14" y="68"/>
                      </a:lnTo>
                      <a:lnTo>
                        <a:pt x="31" y="86"/>
                      </a:lnTo>
                      <a:lnTo>
                        <a:pt x="58" y="98"/>
                      </a:lnTo>
                      <a:lnTo>
                        <a:pt x="94" y="105"/>
                      </a:lnTo>
                      <a:lnTo>
                        <a:pt x="142" y="105"/>
                      </a:lnTo>
                      <a:lnTo>
                        <a:pt x="142" y="105"/>
                      </a:lnTo>
                      <a:lnTo>
                        <a:pt x="150" y="115"/>
                      </a:lnTo>
                      <a:lnTo>
                        <a:pt x="162" y="124"/>
                      </a:lnTo>
                      <a:lnTo>
                        <a:pt x="177" y="134"/>
                      </a:lnTo>
                      <a:lnTo>
                        <a:pt x="194" y="143"/>
                      </a:lnTo>
                      <a:lnTo>
                        <a:pt x="213" y="150"/>
                      </a:lnTo>
                      <a:lnTo>
                        <a:pt x="236" y="155"/>
                      </a:lnTo>
                      <a:lnTo>
                        <a:pt x="261" y="156"/>
                      </a:lnTo>
                      <a:lnTo>
                        <a:pt x="289" y="154"/>
                      </a:lnTo>
                      <a:lnTo>
                        <a:pt x="289" y="154"/>
                      </a:lnTo>
                      <a:lnTo>
                        <a:pt x="308" y="150"/>
                      </a:lnTo>
                      <a:lnTo>
                        <a:pt x="321" y="146"/>
                      </a:lnTo>
                      <a:lnTo>
                        <a:pt x="328" y="142"/>
                      </a:lnTo>
                      <a:lnTo>
                        <a:pt x="331" y="138"/>
                      </a:lnTo>
                      <a:lnTo>
                        <a:pt x="335" y="135"/>
                      </a:lnTo>
                      <a:lnTo>
                        <a:pt x="338" y="134"/>
                      </a:lnTo>
                      <a:lnTo>
                        <a:pt x="346" y="132"/>
                      </a:lnTo>
                      <a:lnTo>
                        <a:pt x="357" y="134"/>
                      </a:lnTo>
                      <a:lnTo>
                        <a:pt x="357" y="134"/>
                      </a:lnTo>
                      <a:lnTo>
                        <a:pt x="349" y="130"/>
                      </a:lnTo>
                      <a:lnTo>
                        <a:pt x="341" y="126"/>
                      </a:lnTo>
                      <a:lnTo>
                        <a:pt x="333" y="124"/>
                      </a:lnTo>
                      <a:lnTo>
                        <a:pt x="325" y="122"/>
                      </a:lnTo>
                      <a:lnTo>
                        <a:pt x="316" y="122"/>
                      </a:lnTo>
                      <a:lnTo>
                        <a:pt x="308" y="122"/>
                      </a:lnTo>
                      <a:lnTo>
                        <a:pt x="300" y="122"/>
                      </a:lnTo>
                      <a:lnTo>
                        <a:pt x="294" y="124"/>
                      </a:lnTo>
                      <a:lnTo>
                        <a:pt x="294" y="124"/>
                      </a:lnTo>
                      <a:lnTo>
                        <a:pt x="281" y="124"/>
                      </a:lnTo>
                      <a:lnTo>
                        <a:pt x="269" y="118"/>
                      </a:lnTo>
                      <a:lnTo>
                        <a:pt x="260" y="107"/>
                      </a:lnTo>
                      <a:lnTo>
                        <a:pt x="255" y="95"/>
                      </a:lnTo>
                      <a:lnTo>
                        <a:pt x="255" y="95"/>
                      </a:lnTo>
                      <a:lnTo>
                        <a:pt x="267" y="98"/>
                      </a:lnTo>
                      <a:lnTo>
                        <a:pt x="283" y="99"/>
                      </a:lnTo>
                      <a:lnTo>
                        <a:pt x="299" y="98"/>
                      </a:lnTo>
                      <a:lnTo>
                        <a:pt x="316" y="94"/>
                      </a:lnTo>
                      <a:lnTo>
                        <a:pt x="330" y="86"/>
                      </a:lnTo>
                      <a:lnTo>
                        <a:pt x="342" y="74"/>
                      </a:lnTo>
                      <a:lnTo>
                        <a:pt x="347" y="57"/>
                      </a:lnTo>
                      <a:lnTo>
                        <a:pt x="347" y="36"/>
                      </a:lnTo>
                      <a:lnTo>
                        <a:pt x="347" y="36"/>
                      </a:lnTo>
                      <a:lnTo>
                        <a:pt x="335" y="44"/>
                      </a:lnTo>
                      <a:lnTo>
                        <a:pt x="321" y="49"/>
                      </a:lnTo>
                      <a:lnTo>
                        <a:pt x="305" y="51"/>
                      </a:lnTo>
                      <a:lnTo>
                        <a:pt x="289" y="51"/>
                      </a:lnTo>
                      <a:lnTo>
                        <a:pt x="274" y="51"/>
                      </a:lnTo>
                      <a:lnTo>
                        <a:pt x="260" y="51"/>
                      </a:lnTo>
                      <a:lnTo>
                        <a:pt x="250" y="52"/>
                      </a:lnTo>
                      <a:lnTo>
                        <a:pt x="244"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3382920" y="4797360"/>
                  <a:ext cx="174600" cy="103320"/>
                </a:xfrm>
                <a:custGeom>
                  <a:avLst/>
                  <a:gdLst/>
                  <a:ahLst/>
                  <a:rect l="l" t="t" r="r" b="b"/>
                  <a:pathLst>
                    <a:path w="220" h="129">
                      <a:moveTo>
                        <a:pt x="194" y="129"/>
                      </a:moveTo>
                      <a:lnTo>
                        <a:pt x="183" y="125"/>
                      </a:lnTo>
                      <a:lnTo>
                        <a:pt x="167" y="119"/>
                      </a:lnTo>
                      <a:lnTo>
                        <a:pt x="145" y="110"/>
                      </a:lnTo>
                      <a:lnTo>
                        <a:pt x="120" y="102"/>
                      </a:lnTo>
                      <a:lnTo>
                        <a:pt x="90" y="94"/>
                      </a:lnTo>
                      <a:lnTo>
                        <a:pt x="61" y="85"/>
                      </a:lnTo>
                      <a:lnTo>
                        <a:pt x="29" y="78"/>
                      </a:lnTo>
                      <a:lnTo>
                        <a:pt x="0" y="73"/>
                      </a:lnTo>
                      <a:lnTo>
                        <a:pt x="6" y="67"/>
                      </a:lnTo>
                      <a:lnTo>
                        <a:pt x="17" y="61"/>
                      </a:lnTo>
                      <a:lnTo>
                        <a:pt x="29" y="58"/>
                      </a:lnTo>
                      <a:lnTo>
                        <a:pt x="43" y="54"/>
                      </a:lnTo>
                      <a:lnTo>
                        <a:pt x="59" y="51"/>
                      </a:lnTo>
                      <a:lnTo>
                        <a:pt x="75" y="49"/>
                      </a:lnTo>
                      <a:lnTo>
                        <a:pt x="89" y="49"/>
                      </a:lnTo>
                      <a:lnTo>
                        <a:pt x="101" y="49"/>
                      </a:lnTo>
                      <a:lnTo>
                        <a:pt x="114" y="49"/>
                      </a:lnTo>
                      <a:lnTo>
                        <a:pt x="125" y="46"/>
                      </a:lnTo>
                      <a:lnTo>
                        <a:pt x="137" y="41"/>
                      </a:lnTo>
                      <a:lnTo>
                        <a:pt x="148" y="35"/>
                      </a:lnTo>
                      <a:lnTo>
                        <a:pt x="158" y="28"/>
                      </a:lnTo>
                      <a:lnTo>
                        <a:pt x="162" y="19"/>
                      </a:lnTo>
                      <a:lnTo>
                        <a:pt x="165" y="10"/>
                      </a:lnTo>
                      <a:lnTo>
                        <a:pt x="162" y="0"/>
                      </a:lnTo>
                      <a:lnTo>
                        <a:pt x="176" y="15"/>
                      </a:lnTo>
                      <a:lnTo>
                        <a:pt x="179" y="35"/>
                      </a:lnTo>
                      <a:lnTo>
                        <a:pt x="173" y="54"/>
                      </a:lnTo>
                      <a:lnTo>
                        <a:pt x="162" y="66"/>
                      </a:lnTo>
                      <a:lnTo>
                        <a:pt x="151" y="74"/>
                      </a:lnTo>
                      <a:lnTo>
                        <a:pt x="145" y="84"/>
                      </a:lnTo>
                      <a:lnTo>
                        <a:pt x="144" y="92"/>
                      </a:lnTo>
                      <a:lnTo>
                        <a:pt x="147" y="98"/>
                      </a:lnTo>
                      <a:lnTo>
                        <a:pt x="151" y="89"/>
                      </a:lnTo>
                      <a:lnTo>
                        <a:pt x="159" y="82"/>
                      </a:lnTo>
                      <a:lnTo>
                        <a:pt x="169" y="78"/>
                      </a:lnTo>
                      <a:lnTo>
                        <a:pt x="179" y="76"/>
                      </a:lnTo>
                      <a:lnTo>
                        <a:pt x="192" y="72"/>
                      </a:lnTo>
                      <a:lnTo>
                        <a:pt x="203" y="65"/>
                      </a:lnTo>
                      <a:lnTo>
                        <a:pt x="211" y="57"/>
                      </a:lnTo>
                      <a:lnTo>
                        <a:pt x="211" y="47"/>
                      </a:lnTo>
                      <a:lnTo>
                        <a:pt x="220" y="66"/>
                      </a:lnTo>
                      <a:lnTo>
                        <a:pt x="219" y="92"/>
                      </a:lnTo>
                      <a:lnTo>
                        <a:pt x="209" y="116"/>
                      </a:lnTo>
                      <a:lnTo>
                        <a:pt x="194" y="129"/>
                      </a:lnTo>
                      <a:close/>
                    </a:path>
                  </a:pathLst>
                </a:custGeom>
                <a:solidFill>
                  <a:srgbClr val="ff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382920" y="4797360"/>
                  <a:ext cx="174600" cy="103320"/>
                </a:xfrm>
                <a:custGeom>
                  <a:avLst/>
                  <a:gdLst/>
                  <a:ahLst/>
                  <a:rect l="l" t="t" r="r" b="b"/>
                  <a:pathLst>
                    <a:path w="220" h="129">
                      <a:moveTo>
                        <a:pt x="194" y="129"/>
                      </a:moveTo>
                      <a:lnTo>
                        <a:pt x="194" y="129"/>
                      </a:lnTo>
                      <a:lnTo>
                        <a:pt x="183" y="125"/>
                      </a:lnTo>
                      <a:lnTo>
                        <a:pt x="167" y="119"/>
                      </a:lnTo>
                      <a:lnTo>
                        <a:pt x="145" y="110"/>
                      </a:lnTo>
                      <a:lnTo>
                        <a:pt x="120" y="102"/>
                      </a:lnTo>
                      <a:lnTo>
                        <a:pt x="90" y="94"/>
                      </a:lnTo>
                      <a:lnTo>
                        <a:pt x="61" y="85"/>
                      </a:lnTo>
                      <a:lnTo>
                        <a:pt x="29" y="78"/>
                      </a:lnTo>
                      <a:lnTo>
                        <a:pt x="0" y="73"/>
                      </a:lnTo>
                      <a:lnTo>
                        <a:pt x="0" y="73"/>
                      </a:lnTo>
                      <a:lnTo>
                        <a:pt x="6" y="67"/>
                      </a:lnTo>
                      <a:lnTo>
                        <a:pt x="17" y="61"/>
                      </a:lnTo>
                      <a:lnTo>
                        <a:pt x="29" y="58"/>
                      </a:lnTo>
                      <a:lnTo>
                        <a:pt x="43" y="54"/>
                      </a:lnTo>
                      <a:lnTo>
                        <a:pt x="59" y="51"/>
                      </a:lnTo>
                      <a:lnTo>
                        <a:pt x="75" y="49"/>
                      </a:lnTo>
                      <a:lnTo>
                        <a:pt x="89" y="49"/>
                      </a:lnTo>
                      <a:lnTo>
                        <a:pt x="101" y="49"/>
                      </a:lnTo>
                      <a:lnTo>
                        <a:pt x="101" y="49"/>
                      </a:lnTo>
                      <a:lnTo>
                        <a:pt x="114" y="49"/>
                      </a:lnTo>
                      <a:lnTo>
                        <a:pt x="125" y="46"/>
                      </a:lnTo>
                      <a:lnTo>
                        <a:pt x="137" y="41"/>
                      </a:lnTo>
                      <a:lnTo>
                        <a:pt x="148" y="35"/>
                      </a:lnTo>
                      <a:lnTo>
                        <a:pt x="158" y="28"/>
                      </a:lnTo>
                      <a:lnTo>
                        <a:pt x="162" y="19"/>
                      </a:lnTo>
                      <a:lnTo>
                        <a:pt x="165" y="10"/>
                      </a:lnTo>
                      <a:lnTo>
                        <a:pt x="162" y="0"/>
                      </a:lnTo>
                      <a:lnTo>
                        <a:pt x="162" y="0"/>
                      </a:lnTo>
                      <a:lnTo>
                        <a:pt x="176" y="15"/>
                      </a:lnTo>
                      <a:lnTo>
                        <a:pt x="179" y="35"/>
                      </a:lnTo>
                      <a:lnTo>
                        <a:pt x="173" y="54"/>
                      </a:lnTo>
                      <a:lnTo>
                        <a:pt x="162" y="66"/>
                      </a:lnTo>
                      <a:lnTo>
                        <a:pt x="162" y="66"/>
                      </a:lnTo>
                      <a:lnTo>
                        <a:pt x="151" y="74"/>
                      </a:lnTo>
                      <a:lnTo>
                        <a:pt x="145" y="84"/>
                      </a:lnTo>
                      <a:lnTo>
                        <a:pt x="144" y="92"/>
                      </a:lnTo>
                      <a:lnTo>
                        <a:pt x="147" y="98"/>
                      </a:lnTo>
                      <a:lnTo>
                        <a:pt x="147" y="98"/>
                      </a:lnTo>
                      <a:lnTo>
                        <a:pt x="151" y="89"/>
                      </a:lnTo>
                      <a:lnTo>
                        <a:pt x="159" y="82"/>
                      </a:lnTo>
                      <a:lnTo>
                        <a:pt x="169" y="78"/>
                      </a:lnTo>
                      <a:lnTo>
                        <a:pt x="179" y="76"/>
                      </a:lnTo>
                      <a:lnTo>
                        <a:pt x="179" y="76"/>
                      </a:lnTo>
                      <a:lnTo>
                        <a:pt x="192" y="72"/>
                      </a:lnTo>
                      <a:lnTo>
                        <a:pt x="203" y="65"/>
                      </a:lnTo>
                      <a:lnTo>
                        <a:pt x="211" y="57"/>
                      </a:lnTo>
                      <a:lnTo>
                        <a:pt x="211" y="47"/>
                      </a:lnTo>
                      <a:lnTo>
                        <a:pt x="211" y="47"/>
                      </a:lnTo>
                      <a:lnTo>
                        <a:pt x="220" y="66"/>
                      </a:lnTo>
                      <a:lnTo>
                        <a:pt x="219" y="92"/>
                      </a:lnTo>
                      <a:lnTo>
                        <a:pt x="209" y="116"/>
                      </a:lnTo>
                      <a:lnTo>
                        <a:pt x="194"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449520" y="4987800"/>
                  <a:ext cx="100080" cy="59040"/>
                </a:xfrm>
                <a:custGeom>
                  <a:avLst/>
                  <a:gdLst/>
                  <a:ahLst/>
                  <a:rect l="l" t="t" r="r" b="b"/>
                  <a:pathLst>
                    <a:path w="125" h="73">
                      <a:moveTo>
                        <a:pt x="125" y="0"/>
                      </a:moveTo>
                      <a:lnTo>
                        <a:pt x="113" y="2"/>
                      </a:lnTo>
                      <a:lnTo>
                        <a:pt x="99" y="6"/>
                      </a:lnTo>
                      <a:lnTo>
                        <a:pt x="86" y="9"/>
                      </a:lnTo>
                      <a:lnTo>
                        <a:pt x="75" y="13"/>
                      </a:lnTo>
                      <a:lnTo>
                        <a:pt x="64" y="18"/>
                      </a:lnTo>
                      <a:lnTo>
                        <a:pt x="56" y="22"/>
                      </a:lnTo>
                      <a:lnTo>
                        <a:pt x="49" y="27"/>
                      </a:lnTo>
                      <a:lnTo>
                        <a:pt x="44" y="33"/>
                      </a:lnTo>
                      <a:lnTo>
                        <a:pt x="34" y="44"/>
                      </a:lnTo>
                      <a:lnTo>
                        <a:pt x="24" y="53"/>
                      </a:lnTo>
                      <a:lnTo>
                        <a:pt x="11" y="61"/>
                      </a:lnTo>
                      <a:lnTo>
                        <a:pt x="0" y="65"/>
                      </a:lnTo>
                      <a:lnTo>
                        <a:pt x="17" y="69"/>
                      </a:lnTo>
                      <a:lnTo>
                        <a:pt x="33" y="71"/>
                      </a:lnTo>
                      <a:lnTo>
                        <a:pt x="49" y="73"/>
                      </a:lnTo>
                      <a:lnTo>
                        <a:pt x="63" y="71"/>
                      </a:lnTo>
                      <a:lnTo>
                        <a:pt x="74" y="68"/>
                      </a:lnTo>
                      <a:lnTo>
                        <a:pt x="85" y="64"/>
                      </a:lnTo>
                      <a:lnTo>
                        <a:pt x="92" y="57"/>
                      </a:lnTo>
                      <a:lnTo>
                        <a:pt x="97" y="50"/>
                      </a:lnTo>
                      <a:lnTo>
                        <a:pt x="103" y="33"/>
                      </a:lnTo>
                      <a:lnTo>
                        <a:pt x="108" y="18"/>
                      </a:lnTo>
                      <a:lnTo>
                        <a:pt x="114" y="6"/>
                      </a:lnTo>
                      <a:lnTo>
                        <a:pt x="125" y="0"/>
                      </a:lnTo>
                      <a:close/>
                    </a:path>
                  </a:pathLst>
                </a:custGeom>
                <a:solidFill>
                  <a:srgbClr val="ffcc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6" name=""/>
                <p:cNvSpPr/>
                <p:nvPr/>
              </p:nvSpPr>
              <p:spPr>
                <a:xfrm>
                  <a:off x="3449520" y="4987800"/>
                  <a:ext cx="100080" cy="59040"/>
                </a:xfrm>
                <a:custGeom>
                  <a:avLst/>
                  <a:gdLst/>
                  <a:ahLst/>
                  <a:rect l="l" t="t" r="r" b="b"/>
                  <a:pathLst>
                    <a:path w="125" h="73">
                      <a:moveTo>
                        <a:pt x="125" y="0"/>
                      </a:moveTo>
                      <a:lnTo>
                        <a:pt x="125" y="0"/>
                      </a:lnTo>
                      <a:lnTo>
                        <a:pt x="113" y="2"/>
                      </a:lnTo>
                      <a:lnTo>
                        <a:pt x="99" y="6"/>
                      </a:lnTo>
                      <a:lnTo>
                        <a:pt x="86" y="9"/>
                      </a:lnTo>
                      <a:lnTo>
                        <a:pt x="75" y="13"/>
                      </a:lnTo>
                      <a:lnTo>
                        <a:pt x="64" y="18"/>
                      </a:lnTo>
                      <a:lnTo>
                        <a:pt x="56" y="22"/>
                      </a:lnTo>
                      <a:lnTo>
                        <a:pt x="49" y="27"/>
                      </a:lnTo>
                      <a:lnTo>
                        <a:pt x="44" y="33"/>
                      </a:lnTo>
                      <a:lnTo>
                        <a:pt x="44" y="33"/>
                      </a:lnTo>
                      <a:lnTo>
                        <a:pt x="34" y="44"/>
                      </a:lnTo>
                      <a:lnTo>
                        <a:pt x="24" y="53"/>
                      </a:lnTo>
                      <a:lnTo>
                        <a:pt x="11" y="61"/>
                      </a:lnTo>
                      <a:lnTo>
                        <a:pt x="0" y="65"/>
                      </a:lnTo>
                      <a:lnTo>
                        <a:pt x="0" y="65"/>
                      </a:lnTo>
                      <a:lnTo>
                        <a:pt x="17" y="69"/>
                      </a:lnTo>
                      <a:lnTo>
                        <a:pt x="33" y="71"/>
                      </a:lnTo>
                      <a:lnTo>
                        <a:pt x="49" y="73"/>
                      </a:lnTo>
                      <a:lnTo>
                        <a:pt x="63" y="71"/>
                      </a:lnTo>
                      <a:lnTo>
                        <a:pt x="74" y="68"/>
                      </a:lnTo>
                      <a:lnTo>
                        <a:pt x="85" y="64"/>
                      </a:lnTo>
                      <a:lnTo>
                        <a:pt x="92" y="57"/>
                      </a:lnTo>
                      <a:lnTo>
                        <a:pt x="97" y="50"/>
                      </a:lnTo>
                      <a:lnTo>
                        <a:pt x="97" y="50"/>
                      </a:lnTo>
                      <a:lnTo>
                        <a:pt x="103" y="33"/>
                      </a:lnTo>
                      <a:lnTo>
                        <a:pt x="108" y="18"/>
                      </a:lnTo>
                      <a:lnTo>
                        <a:pt x="114" y="6"/>
                      </a:lnTo>
                      <a:lnTo>
                        <a:pt x="125" y="0"/>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7" name=""/>
                <p:cNvSpPr/>
                <p:nvPr/>
              </p:nvSpPr>
              <p:spPr>
                <a:xfrm>
                  <a:off x="2966760" y="4594320"/>
                  <a:ext cx="352440" cy="188640"/>
                </a:xfrm>
                <a:custGeom>
                  <a:avLst/>
                  <a:gdLst/>
                  <a:ahLst/>
                  <a:rect l="l" t="t" r="r" b="b"/>
                  <a:pathLst>
                    <a:path w="445" h="236">
                      <a:moveTo>
                        <a:pt x="399" y="96"/>
                      </a:moveTo>
                      <a:lnTo>
                        <a:pt x="376" y="104"/>
                      </a:lnTo>
                      <a:lnTo>
                        <a:pt x="352" y="110"/>
                      </a:lnTo>
                      <a:lnTo>
                        <a:pt x="331" y="113"/>
                      </a:lnTo>
                      <a:lnTo>
                        <a:pt x="312" y="117"/>
                      </a:lnTo>
                      <a:lnTo>
                        <a:pt x="295" y="120"/>
                      </a:lnTo>
                      <a:lnTo>
                        <a:pt x="282" y="121"/>
                      </a:lnTo>
                      <a:lnTo>
                        <a:pt x="274" y="123"/>
                      </a:lnTo>
                      <a:lnTo>
                        <a:pt x="271" y="123"/>
                      </a:lnTo>
                      <a:lnTo>
                        <a:pt x="127" y="13"/>
                      </a:lnTo>
                      <a:lnTo>
                        <a:pt x="97" y="2"/>
                      </a:lnTo>
                      <a:lnTo>
                        <a:pt x="68" y="0"/>
                      </a:lnTo>
                      <a:lnTo>
                        <a:pt x="41" y="4"/>
                      </a:lnTo>
                      <a:lnTo>
                        <a:pt x="21" y="16"/>
                      </a:lnTo>
                      <a:lnTo>
                        <a:pt x="5" y="32"/>
                      </a:lnTo>
                      <a:lnTo>
                        <a:pt x="0" y="51"/>
                      </a:lnTo>
                      <a:lnTo>
                        <a:pt x="7" y="71"/>
                      </a:lnTo>
                      <a:lnTo>
                        <a:pt x="27" y="92"/>
                      </a:lnTo>
                      <a:lnTo>
                        <a:pt x="52" y="110"/>
                      </a:lnTo>
                      <a:lnTo>
                        <a:pt x="75" y="126"/>
                      </a:lnTo>
                      <a:lnTo>
                        <a:pt x="96" y="142"/>
                      </a:lnTo>
                      <a:lnTo>
                        <a:pt x="115" y="155"/>
                      </a:lnTo>
                      <a:lnTo>
                        <a:pt x="129" y="167"/>
                      </a:lnTo>
                      <a:lnTo>
                        <a:pt x="143" y="178"/>
                      </a:lnTo>
                      <a:lnTo>
                        <a:pt x="154" y="187"/>
                      </a:lnTo>
                      <a:lnTo>
                        <a:pt x="163" y="196"/>
                      </a:lnTo>
                      <a:lnTo>
                        <a:pt x="172" y="204"/>
                      </a:lnTo>
                      <a:lnTo>
                        <a:pt x="185" y="212"/>
                      </a:lnTo>
                      <a:lnTo>
                        <a:pt x="201" y="219"/>
                      </a:lnTo>
                      <a:lnTo>
                        <a:pt x="218" y="227"/>
                      </a:lnTo>
                      <a:lnTo>
                        <a:pt x="235" y="231"/>
                      </a:lnTo>
                      <a:lnTo>
                        <a:pt x="255" y="235"/>
                      </a:lnTo>
                      <a:lnTo>
                        <a:pt x="274" y="236"/>
                      </a:lnTo>
                      <a:lnTo>
                        <a:pt x="293" y="234"/>
                      </a:lnTo>
                      <a:lnTo>
                        <a:pt x="312" y="230"/>
                      </a:lnTo>
                      <a:lnTo>
                        <a:pt x="331" y="225"/>
                      </a:lnTo>
                      <a:lnTo>
                        <a:pt x="348" y="221"/>
                      </a:lnTo>
                      <a:lnTo>
                        <a:pt x="367" y="216"/>
                      </a:lnTo>
                      <a:lnTo>
                        <a:pt x="385" y="211"/>
                      </a:lnTo>
                      <a:lnTo>
                        <a:pt x="404" y="205"/>
                      </a:lnTo>
                      <a:lnTo>
                        <a:pt x="424" y="199"/>
                      </a:lnTo>
                      <a:lnTo>
                        <a:pt x="445" y="193"/>
                      </a:lnTo>
                      <a:lnTo>
                        <a:pt x="399"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966760" y="4594320"/>
                  <a:ext cx="352440" cy="188640"/>
                </a:xfrm>
                <a:custGeom>
                  <a:avLst/>
                  <a:gdLst/>
                  <a:ahLst/>
                  <a:rect l="l" t="t" r="r" b="b"/>
                  <a:pathLst>
                    <a:path w="445" h="236">
                      <a:moveTo>
                        <a:pt x="399" y="96"/>
                      </a:moveTo>
                      <a:lnTo>
                        <a:pt x="399" y="96"/>
                      </a:lnTo>
                      <a:lnTo>
                        <a:pt x="376" y="104"/>
                      </a:lnTo>
                      <a:lnTo>
                        <a:pt x="352" y="110"/>
                      </a:lnTo>
                      <a:lnTo>
                        <a:pt x="331" y="113"/>
                      </a:lnTo>
                      <a:lnTo>
                        <a:pt x="312" y="117"/>
                      </a:lnTo>
                      <a:lnTo>
                        <a:pt x="295" y="120"/>
                      </a:lnTo>
                      <a:lnTo>
                        <a:pt x="282" y="121"/>
                      </a:lnTo>
                      <a:lnTo>
                        <a:pt x="274" y="123"/>
                      </a:lnTo>
                      <a:lnTo>
                        <a:pt x="271" y="123"/>
                      </a:lnTo>
                      <a:lnTo>
                        <a:pt x="127" y="13"/>
                      </a:lnTo>
                      <a:lnTo>
                        <a:pt x="127" y="13"/>
                      </a:lnTo>
                      <a:lnTo>
                        <a:pt x="97" y="2"/>
                      </a:lnTo>
                      <a:lnTo>
                        <a:pt x="68" y="0"/>
                      </a:lnTo>
                      <a:lnTo>
                        <a:pt x="41" y="4"/>
                      </a:lnTo>
                      <a:lnTo>
                        <a:pt x="21" y="16"/>
                      </a:lnTo>
                      <a:lnTo>
                        <a:pt x="5" y="32"/>
                      </a:lnTo>
                      <a:lnTo>
                        <a:pt x="0" y="51"/>
                      </a:lnTo>
                      <a:lnTo>
                        <a:pt x="7" y="71"/>
                      </a:lnTo>
                      <a:lnTo>
                        <a:pt x="27" y="92"/>
                      </a:lnTo>
                      <a:lnTo>
                        <a:pt x="27" y="92"/>
                      </a:lnTo>
                      <a:lnTo>
                        <a:pt x="52" y="110"/>
                      </a:lnTo>
                      <a:lnTo>
                        <a:pt x="75" y="126"/>
                      </a:lnTo>
                      <a:lnTo>
                        <a:pt x="96" y="142"/>
                      </a:lnTo>
                      <a:lnTo>
                        <a:pt x="115" y="155"/>
                      </a:lnTo>
                      <a:lnTo>
                        <a:pt x="129" y="167"/>
                      </a:lnTo>
                      <a:lnTo>
                        <a:pt x="143" y="178"/>
                      </a:lnTo>
                      <a:lnTo>
                        <a:pt x="154" y="187"/>
                      </a:lnTo>
                      <a:lnTo>
                        <a:pt x="163" y="196"/>
                      </a:lnTo>
                      <a:lnTo>
                        <a:pt x="163" y="196"/>
                      </a:lnTo>
                      <a:lnTo>
                        <a:pt x="172" y="204"/>
                      </a:lnTo>
                      <a:lnTo>
                        <a:pt x="185" y="212"/>
                      </a:lnTo>
                      <a:lnTo>
                        <a:pt x="201" y="219"/>
                      </a:lnTo>
                      <a:lnTo>
                        <a:pt x="218" y="227"/>
                      </a:lnTo>
                      <a:lnTo>
                        <a:pt x="235" y="231"/>
                      </a:lnTo>
                      <a:lnTo>
                        <a:pt x="255" y="235"/>
                      </a:lnTo>
                      <a:lnTo>
                        <a:pt x="274" y="236"/>
                      </a:lnTo>
                      <a:lnTo>
                        <a:pt x="293" y="234"/>
                      </a:lnTo>
                      <a:lnTo>
                        <a:pt x="293" y="234"/>
                      </a:lnTo>
                      <a:lnTo>
                        <a:pt x="312" y="230"/>
                      </a:lnTo>
                      <a:lnTo>
                        <a:pt x="331" y="225"/>
                      </a:lnTo>
                      <a:lnTo>
                        <a:pt x="348" y="221"/>
                      </a:lnTo>
                      <a:lnTo>
                        <a:pt x="367" y="216"/>
                      </a:lnTo>
                      <a:lnTo>
                        <a:pt x="385" y="211"/>
                      </a:lnTo>
                      <a:lnTo>
                        <a:pt x="404" y="205"/>
                      </a:lnTo>
                      <a:lnTo>
                        <a:pt x="424" y="199"/>
                      </a:lnTo>
                      <a:lnTo>
                        <a:pt x="445" y="193"/>
                      </a:lnTo>
                      <a:lnTo>
                        <a:pt x="399"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819160" y="4572000"/>
                  <a:ext cx="260280" cy="338040"/>
                </a:xfrm>
                <a:custGeom>
                  <a:avLst/>
                  <a:gdLst/>
                  <a:ahLst/>
                  <a:rect l="l" t="t" r="r" b="b"/>
                  <a:pathLst>
                    <a:path w="329" h="425">
                      <a:moveTo>
                        <a:pt x="0" y="425"/>
                      </a:moveTo>
                      <a:lnTo>
                        <a:pt x="0" y="376"/>
                      </a:lnTo>
                      <a:lnTo>
                        <a:pt x="0" y="268"/>
                      </a:lnTo>
                      <a:lnTo>
                        <a:pt x="0" y="152"/>
                      </a:lnTo>
                      <a:lnTo>
                        <a:pt x="0" y="85"/>
                      </a:lnTo>
                      <a:lnTo>
                        <a:pt x="3" y="63"/>
                      </a:lnTo>
                      <a:lnTo>
                        <a:pt x="13" y="45"/>
                      </a:lnTo>
                      <a:lnTo>
                        <a:pt x="28" y="31"/>
                      </a:lnTo>
                      <a:lnTo>
                        <a:pt x="50" y="19"/>
                      </a:lnTo>
                      <a:lnTo>
                        <a:pt x="74" y="11"/>
                      </a:lnTo>
                      <a:lnTo>
                        <a:pt x="102" y="3"/>
                      </a:lnTo>
                      <a:lnTo>
                        <a:pt x="132" y="1"/>
                      </a:lnTo>
                      <a:lnTo>
                        <a:pt x="163" y="0"/>
                      </a:lnTo>
                      <a:lnTo>
                        <a:pt x="194" y="2"/>
                      </a:lnTo>
                      <a:lnTo>
                        <a:pt x="224" y="7"/>
                      </a:lnTo>
                      <a:lnTo>
                        <a:pt x="252" y="14"/>
                      </a:lnTo>
                      <a:lnTo>
                        <a:pt x="277" y="24"/>
                      </a:lnTo>
                      <a:lnTo>
                        <a:pt x="297" y="36"/>
                      </a:lnTo>
                      <a:lnTo>
                        <a:pt x="315" y="50"/>
                      </a:lnTo>
                      <a:lnTo>
                        <a:pt x="326" y="66"/>
                      </a:lnTo>
                      <a:lnTo>
                        <a:pt x="329" y="85"/>
                      </a:lnTo>
                      <a:lnTo>
                        <a:pt x="329" y="182"/>
                      </a:lnTo>
                      <a:lnTo>
                        <a:pt x="329" y="294"/>
                      </a:lnTo>
                      <a:lnTo>
                        <a:pt x="329" y="387"/>
                      </a:lnTo>
                      <a:lnTo>
                        <a:pt x="329" y="425"/>
                      </a:lnTo>
                      <a:lnTo>
                        <a:pt x="0" y="4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819160" y="4572000"/>
                  <a:ext cx="260280" cy="338040"/>
                </a:xfrm>
                <a:custGeom>
                  <a:avLst/>
                  <a:gdLst/>
                  <a:ahLst/>
                  <a:rect l="l" t="t" r="r" b="b"/>
                  <a:pathLst>
                    <a:path w="329" h="425">
                      <a:moveTo>
                        <a:pt x="0" y="425"/>
                      </a:moveTo>
                      <a:lnTo>
                        <a:pt x="0" y="425"/>
                      </a:lnTo>
                      <a:lnTo>
                        <a:pt x="0" y="376"/>
                      </a:lnTo>
                      <a:lnTo>
                        <a:pt x="0" y="268"/>
                      </a:lnTo>
                      <a:lnTo>
                        <a:pt x="0" y="152"/>
                      </a:lnTo>
                      <a:lnTo>
                        <a:pt x="0" y="85"/>
                      </a:lnTo>
                      <a:lnTo>
                        <a:pt x="0" y="85"/>
                      </a:lnTo>
                      <a:lnTo>
                        <a:pt x="3" y="63"/>
                      </a:lnTo>
                      <a:lnTo>
                        <a:pt x="13" y="45"/>
                      </a:lnTo>
                      <a:lnTo>
                        <a:pt x="28" y="31"/>
                      </a:lnTo>
                      <a:lnTo>
                        <a:pt x="50" y="19"/>
                      </a:lnTo>
                      <a:lnTo>
                        <a:pt x="74" y="11"/>
                      </a:lnTo>
                      <a:lnTo>
                        <a:pt x="102" y="3"/>
                      </a:lnTo>
                      <a:lnTo>
                        <a:pt x="132" y="1"/>
                      </a:lnTo>
                      <a:lnTo>
                        <a:pt x="163" y="0"/>
                      </a:lnTo>
                      <a:lnTo>
                        <a:pt x="194" y="2"/>
                      </a:lnTo>
                      <a:lnTo>
                        <a:pt x="224" y="7"/>
                      </a:lnTo>
                      <a:lnTo>
                        <a:pt x="252" y="14"/>
                      </a:lnTo>
                      <a:lnTo>
                        <a:pt x="277" y="24"/>
                      </a:lnTo>
                      <a:lnTo>
                        <a:pt x="297" y="36"/>
                      </a:lnTo>
                      <a:lnTo>
                        <a:pt x="315" y="50"/>
                      </a:lnTo>
                      <a:lnTo>
                        <a:pt x="326" y="66"/>
                      </a:lnTo>
                      <a:lnTo>
                        <a:pt x="329" y="85"/>
                      </a:lnTo>
                      <a:lnTo>
                        <a:pt x="329" y="85"/>
                      </a:lnTo>
                      <a:lnTo>
                        <a:pt x="329" y="182"/>
                      </a:lnTo>
                      <a:lnTo>
                        <a:pt x="329" y="294"/>
                      </a:lnTo>
                      <a:lnTo>
                        <a:pt x="329" y="387"/>
                      </a:lnTo>
                      <a:lnTo>
                        <a:pt x="329" y="425"/>
                      </a:lnTo>
                      <a:lnTo>
                        <a:pt x="0" y="4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790720" y="4624560"/>
                  <a:ext cx="257040" cy="252360"/>
                </a:xfrm>
                <a:custGeom>
                  <a:avLst/>
                  <a:gdLst/>
                  <a:ahLst/>
                  <a:rect l="l" t="t" r="r" b="b"/>
                  <a:pathLst>
                    <a:path w="324" h="317">
                      <a:moveTo>
                        <a:pt x="324" y="216"/>
                      </a:moveTo>
                      <a:lnTo>
                        <a:pt x="299" y="213"/>
                      </a:lnTo>
                      <a:lnTo>
                        <a:pt x="275" y="209"/>
                      </a:lnTo>
                      <a:lnTo>
                        <a:pt x="253" y="204"/>
                      </a:lnTo>
                      <a:lnTo>
                        <a:pt x="234" y="199"/>
                      </a:lnTo>
                      <a:lnTo>
                        <a:pt x="219" y="196"/>
                      </a:lnTo>
                      <a:lnTo>
                        <a:pt x="206" y="192"/>
                      </a:lnTo>
                      <a:lnTo>
                        <a:pt x="200" y="191"/>
                      </a:lnTo>
                      <a:lnTo>
                        <a:pt x="197" y="190"/>
                      </a:lnTo>
                      <a:lnTo>
                        <a:pt x="142" y="39"/>
                      </a:lnTo>
                      <a:lnTo>
                        <a:pt x="123" y="18"/>
                      </a:lnTo>
                      <a:lnTo>
                        <a:pt x="100" y="6"/>
                      </a:lnTo>
                      <a:lnTo>
                        <a:pt x="73" y="0"/>
                      </a:lnTo>
                      <a:lnTo>
                        <a:pt x="48" y="1"/>
                      </a:lnTo>
                      <a:lnTo>
                        <a:pt x="25" y="9"/>
                      </a:lnTo>
                      <a:lnTo>
                        <a:pt x="8" y="24"/>
                      </a:lnTo>
                      <a:lnTo>
                        <a:pt x="0" y="44"/>
                      </a:lnTo>
                      <a:lnTo>
                        <a:pt x="4" y="69"/>
                      </a:lnTo>
                      <a:lnTo>
                        <a:pt x="14" y="95"/>
                      </a:lnTo>
                      <a:lnTo>
                        <a:pt x="23" y="118"/>
                      </a:lnTo>
                      <a:lnTo>
                        <a:pt x="31" y="140"/>
                      </a:lnTo>
                      <a:lnTo>
                        <a:pt x="37" y="159"/>
                      </a:lnTo>
                      <a:lnTo>
                        <a:pt x="44" y="174"/>
                      </a:lnTo>
                      <a:lnTo>
                        <a:pt x="48" y="190"/>
                      </a:lnTo>
                      <a:lnTo>
                        <a:pt x="51" y="202"/>
                      </a:lnTo>
                      <a:lnTo>
                        <a:pt x="54" y="213"/>
                      </a:lnTo>
                      <a:lnTo>
                        <a:pt x="58" y="223"/>
                      </a:lnTo>
                      <a:lnTo>
                        <a:pt x="64" y="234"/>
                      </a:lnTo>
                      <a:lnTo>
                        <a:pt x="72" y="246"/>
                      </a:lnTo>
                      <a:lnTo>
                        <a:pt x="83" y="259"/>
                      </a:lnTo>
                      <a:lnTo>
                        <a:pt x="94" y="270"/>
                      </a:lnTo>
                      <a:lnTo>
                        <a:pt x="109" y="281"/>
                      </a:lnTo>
                      <a:lnTo>
                        <a:pt x="125" y="289"/>
                      </a:lnTo>
                      <a:lnTo>
                        <a:pt x="142" y="295"/>
                      </a:lnTo>
                      <a:lnTo>
                        <a:pt x="161" y="299"/>
                      </a:lnTo>
                      <a:lnTo>
                        <a:pt x="180" y="302"/>
                      </a:lnTo>
                      <a:lnTo>
                        <a:pt x="198" y="305"/>
                      </a:lnTo>
                      <a:lnTo>
                        <a:pt x="217" y="307"/>
                      </a:lnTo>
                      <a:lnTo>
                        <a:pt x="236" y="309"/>
                      </a:lnTo>
                      <a:lnTo>
                        <a:pt x="256" y="312"/>
                      </a:lnTo>
                      <a:lnTo>
                        <a:pt x="277" y="314"/>
                      </a:lnTo>
                      <a:lnTo>
                        <a:pt x="299" y="317"/>
                      </a:lnTo>
                      <a:lnTo>
                        <a:pt x="324"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790720" y="4624560"/>
                  <a:ext cx="257040" cy="252360"/>
                </a:xfrm>
                <a:custGeom>
                  <a:avLst/>
                  <a:gdLst/>
                  <a:ahLst/>
                  <a:rect l="l" t="t" r="r" b="b"/>
                  <a:pathLst>
                    <a:path w="324" h="317">
                      <a:moveTo>
                        <a:pt x="324" y="216"/>
                      </a:moveTo>
                      <a:lnTo>
                        <a:pt x="324" y="216"/>
                      </a:lnTo>
                      <a:lnTo>
                        <a:pt x="299" y="213"/>
                      </a:lnTo>
                      <a:lnTo>
                        <a:pt x="275" y="209"/>
                      </a:lnTo>
                      <a:lnTo>
                        <a:pt x="253" y="204"/>
                      </a:lnTo>
                      <a:lnTo>
                        <a:pt x="234" y="199"/>
                      </a:lnTo>
                      <a:lnTo>
                        <a:pt x="219" y="196"/>
                      </a:lnTo>
                      <a:lnTo>
                        <a:pt x="206" y="192"/>
                      </a:lnTo>
                      <a:lnTo>
                        <a:pt x="200" y="191"/>
                      </a:lnTo>
                      <a:lnTo>
                        <a:pt x="197" y="190"/>
                      </a:lnTo>
                      <a:lnTo>
                        <a:pt x="142" y="39"/>
                      </a:lnTo>
                      <a:lnTo>
                        <a:pt x="142" y="39"/>
                      </a:lnTo>
                      <a:lnTo>
                        <a:pt x="123" y="18"/>
                      </a:lnTo>
                      <a:lnTo>
                        <a:pt x="100" y="6"/>
                      </a:lnTo>
                      <a:lnTo>
                        <a:pt x="73" y="0"/>
                      </a:lnTo>
                      <a:lnTo>
                        <a:pt x="48" y="1"/>
                      </a:lnTo>
                      <a:lnTo>
                        <a:pt x="25" y="9"/>
                      </a:lnTo>
                      <a:lnTo>
                        <a:pt x="8" y="24"/>
                      </a:lnTo>
                      <a:lnTo>
                        <a:pt x="0" y="44"/>
                      </a:lnTo>
                      <a:lnTo>
                        <a:pt x="4" y="69"/>
                      </a:lnTo>
                      <a:lnTo>
                        <a:pt x="4" y="69"/>
                      </a:lnTo>
                      <a:lnTo>
                        <a:pt x="14" y="95"/>
                      </a:lnTo>
                      <a:lnTo>
                        <a:pt x="23" y="118"/>
                      </a:lnTo>
                      <a:lnTo>
                        <a:pt x="31" y="140"/>
                      </a:lnTo>
                      <a:lnTo>
                        <a:pt x="37" y="159"/>
                      </a:lnTo>
                      <a:lnTo>
                        <a:pt x="44" y="174"/>
                      </a:lnTo>
                      <a:lnTo>
                        <a:pt x="48" y="190"/>
                      </a:lnTo>
                      <a:lnTo>
                        <a:pt x="51" y="202"/>
                      </a:lnTo>
                      <a:lnTo>
                        <a:pt x="54" y="213"/>
                      </a:lnTo>
                      <a:lnTo>
                        <a:pt x="54" y="213"/>
                      </a:lnTo>
                      <a:lnTo>
                        <a:pt x="58" y="223"/>
                      </a:lnTo>
                      <a:lnTo>
                        <a:pt x="64" y="234"/>
                      </a:lnTo>
                      <a:lnTo>
                        <a:pt x="72" y="246"/>
                      </a:lnTo>
                      <a:lnTo>
                        <a:pt x="83" y="259"/>
                      </a:lnTo>
                      <a:lnTo>
                        <a:pt x="94" y="270"/>
                      </a:lnTo>
                      <a:lnTo>
                        <a:pt x="109" y="281"/>
                      </a:lnTo>
                      <a:lnTo>
                        <a:pt x="125" y="289"/>
                      </a:lnTo>
                      <a:lnTo>
                        <a:pt x="142" y="295"/>
                      </a:lnTo>
                      <a:lnTo>
                        <a:pt x="142" y="295"/>
                      </a:lnTo>
                      <a:lnTo>
                        <a:pt x="161" y="299"/>
                      </a:lnTo>
                      <a:lnTo>
                        <a:pt x="180" y="302"/>
                      </a:lnTo>
                      <a:lnTo>
                        <a:pt x="198" y="305"/>
                      </a:lnTo>
                      <a:lnTo>
                        <a:pt x="217" y="307"/>
                      </a:lnTo>
                      <a:lnTo>
                        <a:pt x="236" y="309"/>
                      </a:lnTo>
                      <a:lnTo>
                        <a:pt x="256" y="312"/>
                      </a:lnTo>
                      <a:lnTo>
                        <a:pt x="277" y="314"/>
                      </a:lnTo>
                      <a:lnTo>
                        <a:pt x="299" y="317"/>
                      </a:lnTo>
                      <a:lnTo>
                        <a:pt x="324" y="2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028680" y="4797360"/>
                  <a:ext cx="120600" cy="82440"/>
                </a:xfrm>
                <a:custGeom>
                  <a:avLst/>
                  <a:gdLst/>
                  <a:ahLst/>
                  <a:rect l="l" t="t" r="r" b="b"/>
                  <a:pathLst>
                    <a:path w="151" h="104">
                      <a:moveTo>
                        <a:pt x="0" y="101"/>
                      </a:moveTo>
                      <a:lnTo>
                        <a:pt x="23" y="103"/>
                      </a:lnTo>
                      <a:lnTo>
                        <a:pt x="47" y="104"/>
                      </a:lnTo>
                      <a:lnTo>
                        <a:pt x="72" y="103"/>
                      </a:lnTo>
                      <a:lnTo>
                        <a:pt x="95" y="101"/>
                      </a:lnTo>
                      <a:lnTo>
                        <a:pt x="115" y="96"/>
                      </a:lnTo>
                      <a:lnTo>
                        <a:pt x="133" y="87"/>
                      </a:lnTo>
                      <a:lnTo>
                        <a:pt x="145" y="77"/>
                      </a:lnTo>
                      <a:lnTo>
                        <a:pt x="151" y="63"/>
                      </a:lnTo>
                      <a:lnTo>
                        <a:pt x="151" y="49"/>
                      </a:lnTo>
                      <a:lnTo>
                        <a:pt x="145" y="37"/>
                      </a:lnTo>
                      <a:lnTo>
                        <a:pt x="134" y="26"/>
                      </a:lnTo>
                      <a:lnTo>
                        <a:pt x="119" y="19"/>
                      </a:lnTo>
                      <a:lnTo>
                        <a:pt x="98" y="12"/>
                      </a:lnTo>
                      <a:lnTo>
                        <a:pt x="75" y="7"/>
                      </a:lnTo>
                      <a:lnTo>
                        <a:pt x="50" y="4"/>
                      </a:lnTo>
                      <a:lnTo>
                        <a:pt x="25" y="0"/>
                      </a:lnTo>
                      <a:lnTo>
                        <a:pt x="0" y="101"/>
                      </a:lnTo>
                      <a:close/>
                    </a:path>
                  </a:pathLst>
                </a:custGeom>
                <a:solidFill>
                  <a:srgbClr val="e5cc8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4" name=""/>
                <p:cNvSpPr/>
                <p:nvPr/>
              </p:nvSpPr>
              <p:spPr>
                <a:xfrm>
                  <a:off x="3028680" y="4797360"/>
                  <a:ext cx="120600" cy="82440"/>
                </a:xfrm>
                <a:custGeom>
                  <a:avLst/>
                  <a:gdLst/>
                  <a:ahLst/>
                  <a:rect l="l" t="t" r="r" b="b"/>
                  <a:pathLst>
                    <a:path w="151" h="104">
                      <a:moveTo>
                        <a:pt x="0" y="101"/>
                      </a:moveTo>
                      <a:lnTo>
                        <a:pt x="0" y="101"/>
                      </a:lnTo>
                      <a:lnTo>
                        <a:pt x="23" y="103"/>
                      </a:lnTo>
                      <a:lnTo>
                        <a:pt x="47" y="104"/>
                      </a:lnTo>
                      <a:lnTo>
                        <a:pt x="72" y="103"/>
                      </a:lnTo>
                      <a:lnTo>
                        <a:pt x="95" y="101"/>
                      </a:lnTo>
                      <a:lnTo>
                        <a:pt x="115" y="96"/>
                      </a:lnTo>
                      <a:lnTo>
                        <a:pt x="133" y="87"/>
                      </a:lnTo>
                      <a:lnTo>
                        <a:pt x="145" y="77"/>
                      </a:lnTo>
                      <a:lnTo>
                        <a:pt x="151" y="63"/>
                      </a:lnTo>
                      <a:lnTo>
                        <a:pt x="151" y="63"/>
                      </a:lnTo>
                      <a:lnTo>
                        <a:pt x="151" y="49"/>
                      </a:lnTo>
                      <a:lnTo>
                        <a:pt x="145" y="37"/>
                      </a:lnTo>
                      <a:lnTo>
                        <a:pt x="134" y="26"/>
                      </a:lnTo>
                      <a:lnTo>
                        <a:pt x="119" y="19"/>
                      </a:lnTo>
                      <a:lnTo>
                        <a:pt x="98" y="12"/>
                      </a:lnTo>
                      <a:lnTo>
                        <a:pt x="75" y="7"/>
                      </a:lnTo>
                      <a:lnTo>
                        <a:pt x="50" y="4"/>
                      </a:lnTo>
                      <a:lnTo>
                        <a:pt x="25" y="0"/>
                      </a:lnTo>
                      <a:lnTo>
                        <a:pt x="0" y="10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5" name=""/>
                <p:cNvSpPr/>
                <p:nvPr/>
              </p:nvSpPr>
              <p:spPr>
                <a:xfrm>
                  <a:off x="3282840" y="4656240"/>
                  <a:ext cx="123840" cy="91800"/>
                </a:xfrm>
                <a:custGeom>
                  <a:avLst/>
                  <a:gdLst/>
                  <a:ahLst/>
                  <a:rect l="l" t="t" r="r" b="b"/>
                  <a:pathLst>
                    <a:path w="155" h="116">
                      <a:moveTo>
                        <a:pt x="46" y="116"/>
                      </a:moveTo>
                      <a:lnTo>
                        <a:pt x="66" y="109"/>
                      </a:lnTo>
                      <a:lnTo>
                        <a:pt x="88" y="101"/>
                      </a:lnTo>
                      <a:lnTo>
                        <a:pt x="108" y="91"/>
                      </a:lnTo>
                      <a:lnTo>
                        <a:pt x="127" y="79"/>
                      </a:lnTo>
                      <a:lnTo>
                        <a:pt x="141" y="67"/>
                      </a:lnTo>
                      <a:lnTo>
                        <a:pt x="151" y="54"/>
                      </a:lnTo>
                      <a:lnTo>
                        <a:pt x="155" y="40"/>
                      </a:lnTo>
                      <a:lnTo>
                        <a:pt x="152" y="25"/>
                      </a:lnTo>
                      <a:lnTo>
                        <a:pt x="143" y="13"/>
                      </a:lnTo>
                      <a:lnTo>
                        <a:pt x="130" y="5"/>
                      </a:lnTo>
                      <a:lnTo>
                        <a:pt x="113" y="1"/>
                      </a:lnTo>
                      <a:lnTo>
                        <a:pt x="93" y="0"/>
                      </a:lnTo>
                      <a:lnTo>
                        <a:pt x="72" y="3"/>
                      </a:lnTo>
                      <a:lnTo>
                        <a:pt x="49" y="6"/>
                      </a:lnTo>
                      <a:lnTo>
                        <a:pt x="24" y="12"/>
                      </a:lnTo>
                      <a:lnTo>
                        <a:pt x="0" y="19"/>
                      </a:lnTo>
                      <a:lnTo>
                        <a:pt x="46" y="116"/>
                      </a:lnTo>
                      <a:close/>
                    </a:path>
                  </a:pathLst>
                </a:custGeom>
                <a:solidFill>
                  <a:srgbClr val="e5c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282840" y="4656240"/>
                  <a:ext cx="123840" cy="91800"/>
                </a:xfrm>
                <a:custGeom>
                  <a:avLst/>
                  <a:gdLst/>
                  <a:ahLst/>
                  <a:rect l="l" t="t" r="r" b="b"/>
                  <a:pathLst>
                    <a:path w="155" h="116">
                      <a:moveTo>
                        <a:pt x="46" y="116"/>
                      </a:moveTo>
                      <a:lnTo>
                        <a:pt x="46" y="116"/>
                      </a:lnTo>
                      <a:lnTo>
                        <a:pt x="66" y="109"/>
                      </a:lnTo>
                      <a:lnTo>
                        <a:pt x="88" y="101"/>
                      </a:lnTo>
                      <a:lnTo>
                        <a:pt x="108" y="91"/>
                      </a:lnTo>
                      <a:lnTo>
                        <a:pt x="127" y="79"/>
                      </a:lnTo>
                      <a:lnTo>
                        <a:pt x="141" y="67"/>
                      </a:lnTo>
                      <a:lnTo>
                        <a:pt x="151" y="54"/>
                      </a:lnTo>
                      <a:lnTo>
                        <a:pt x="155" y="40"/>
                      </a:lnTo>
                      <a:lnTo>
                        <a:pt x="152" y="25"/>
                      </a:lnTo>
                      <a:lnTo>
                        <a:pt x="152" y="25"/>
                      </a:lnTo>
                      <a:lnTo>
                        <a:pt x="143" y="13"/>
                      </a:lnTo>
                      <a:lnTo>
                        <a:pt x="130" y="5"/>
                      </a:lnTo>
                      <a:lnTo>
                        <a:pt x="113" y="1"/>
                      </a:lnTo>
                      <a:lnTo>
                        <a:pt x="93" y="0"/>
                      </a:lnTo>
                      <a:lnTo>
                        <a:pt x="72" y="3"/>
                      </a:lnTo>
                      <a:lnTo>
                        <a:pt x="49" y="6"/>
                      </a:lnTo>
                      <a:lnTo>
                        <a:pt x="24" y="12"/>
                      </a:lnTo>
                      <a:lnTo>
                        <a:pt x="0" y="19"/>
                      </a:lnTo>
                      <a:lnTo>
                        <a:pt x="46" y="11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2881080" y="4451400"/>
                  <a:ext cx="149400" cy="128520"/>
                </a:xfrm>
                <a:custGeom>
                  <a:avLst/>
                  <a:gdLst/>
                  <a:ahLst/>
                  <a:rect l="l" t="t" r="r" b="b"/>
                  <a:pathLst>
                    <a:path w="188" h="161">
                      <a:moveTo>
                        <a:pt x="188" y="0"/>
                      </a:moveTo>
                      <a:lnTo>
                        <a:pt x="0" y="0"/>
                      </a:lnTo>
                      <a:lnTo>
                        <a:pt x="0" y="90"/>
                      </a:lnTo>
                      <a:lnTo>
                        <a:pt x="2" y="104"/>
                      </a:lnTo>
                      <a:lnTo>
                        <a:pt x="8" y="117"/>
                      </a:lnTo>
                      <a:lnTo>
                        <a:pt x="16" y="129"/>
                      </a:lnTo>
                      <a:lnTo>
                        <a:pt x="29" y="140"/>
                      </a:lnTo>
                      <a:lnTo>
                        <a:pt x="43" y="149"/>
                      </a:lnTo>
                      <a:lnTo>
                        <a:pt x="58" y="155"/>
                      </a:lnTo>
                      <a:lnTo>
                        <a:pt x="75" y="160"/>
                      </a:lnTo>
                      <a:lnTo>
                        <a:pt x="94" y="161"/>
                      </a:lnTo>
                      <a:lnTo>
                        <a:pt x="113" y="160"/>
                      </a:lnTo>
                      <a:lnTo>
                        <a:pt x="130" y="155"/>
                      </a:lnTo>
                      <a:lnTo>
                        <a:pt x="146" y="149"/>
                      </a:lnTo>
                      <a:lnTo>
                        <a:pt x="160" y="140"/>
                      </a:lnTo>
                      <a:lnTo>
                        <a:pt x="173" y="129"/>
                      </a:lnTo>
                      <a:lnTo>
                        <a:pt x="180" y="117"/>
                      </a:lnTo>
                      <a:lnTo>
                        <a:pt x="187" y="104"/>
                      </a:lnTo>
                      <a:lnTo>
                        <a:pt x="188" y="90"/>
                      </a:lnTo>
                      <a:lnTo>
                        <a:pt x="188" y="0"/>
                      </a:lnTo>
                      <a:close/>
                    </a:path>
                  </a:pathLst>
                </a:custGeom>
                <a:solidFill>
                  <a:srgbClr val="e5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2881080" y="4451400"/>
                  <a:ext cx="149400" cy="128520"/>
                </a:xfrm>
                <a:custGeom>
                  <a:avLst/>
                  <a:gdLst/>
                  <a:ahLst/>
                  <a:rect l="l" t="t" r="r" b="b"/>
                  <a:pathLst>
                    <a:path w="188" h="161">
                      <a:moveTo>
                        <a:pt x="188" y="0"/>
                      </a:moveTo>
                      <a:lnTo>
                        <a:pt x="0" y="0"/>
                      </a:lnTo>
                      <a:lnTo>
                        <a:pt x="0" y="90"/>
                      </a:lnTo>
                      <a:lnTo>
                        <a:pt x="0" y="90"/>
                      </a:lnTo>
                      <a:lnTo>
                        <a:pt x="2" y="104"/>
                      </a:lnTo>
                      <a:lnTo>
                        <a:pt x="8" y="117"/>
                      </a:lnTo>
                      <a:lnTo>
                        <a:pt x="16" y="129"/>
                      </a:lnTo>
                      <a:lnTo>
                        <a:pt x="29" y="140"/>
                      </a:lnTo>
                      <a:lnTo>
                        <a:pt x="43" y="149"/>
                      </a:lnTo>
                      <a:lnTo>
                        <a:pt x="58" y="155"/>
                      </a:lnTo>
                      <a:lnTo>
                        <a:pt x="75" y="160"/>
                      </a:lnTo>
                      <a:lnTo>
                        <a:pt x="94" y="161"/>
                      </a:lnTo>
                      <a:lnTo>
                        <a:pt x="94" y="161"/>
                      </a:lnTo>
                      <a:lnTo>
                        <a:pt x="113" y="160"/>
                      </a:lnTo>
                      <a:lnTo>
                        <a:pt x="130" y="155"/>
                      </a:lnTo>
                      <a:lnTo>
                        <a:pt x="146" y="149"/>
                      </a:lnTo>
                      <a:lnTo>
                        <a:pt x="160" y="140"/>
                      </a:lnTo>
                      <a:lnTo>
                        <a:pt x="173" y="129"/>
                      </a:lnTo>
                      <a:lnTo>
                        <a:pt x="180" y="117"/>
                      </a:lnTo>
                      <a:lnTo>
                        <a:pt x="187" y="104"/>
                      </a:lnTo>
                      <a:lnTo>
                        <a:pt x="188" y="90"/>
                      </a:lnTo>
                      <a:lnTo>
                        <a:pt x="18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2801880" y="4210200"/>
                  <a:ext cx="303120" cy="241200"/>
                </a:xfrm>
                <a:custGeom>
                  <a:avLst/>
                  <a:gdLst/>
                  <a:ahLst/>
                  <a:rect l="l" t="t" r="r" b="b"/>
                  <a:pathLst>
                    <a:path w="380" h="304">
                      <a:moveTo>
                        <a:pt x="286" y="304"/>
                      </a:moveTo>
                      <a:lnTo>
                        <a:pt x="98" y="304"/>
                      </a:lnTo>
                      <a:lnTo>
                        <a:pt x="98" y="277"/>
                      </a:lnTo>
                      <a:lnTo>
                        <a:pt x="98" y="244"/>
                      </a:lnTo>
                      <a:lnTo>
                        <a:pt x="98" y="218"/>
                      </a:lnTo>
                      <a:lnTo>
                        <a:pt x="98" y="207"/>
                      </a:lnTo>
                      <a:lnTo>
                        <a:pt x="84" y="210"/>
                      </a:lnTo>
                      <a:lnTo>
                        <a:pt x="67" y="208"/>
                      </a:lnTo>
                      <a:lnTo>
                        <a:pt x="48" y="204"/>
                      </a:lnTo>
                      <a:lnTo>
                        <a:pt x="31" y="196"/>
                      </a:lnTo>
                      <a:lnTo>
                        <a:pt x="15" y="186"/>
                      </a:lnTo>
                      <a:lnTo>
                        <a:pt x="5" y="171"/>
                      </a:lnTo>
                      <a:lnTo>
                        <a:pt x="0" y="155"/>
                      </a:lnTo>
                      <a:lnTo>
                        <a:pt x="1" y="136"/>
                      </a:lnTo>
                      <a:lnTo>
                        <a:pt x="8" y="116"/>
                      </a:lnTo>
                      <a:lnTo>
                        <a:pt x="17" y="102"/>
                      </a:lnTo>
                      <a:lnTo>
                        <a:pt x="28" y="92"/>
                      </a:lnTo>
                      <a:lnTo>
                        <a:pt x="39" y="85"/>
                      </a:lnTo>
                      <a:lnTo>
                        <a:pt x="51" y="82"/>
                      </a:lnTo>
                      <a:lnTo>
                        <a:pt x="62" y="81"/>
                      </a:lnTo>
                      <a:lnTo>
                        <a:pt x="73" y="81"/>
                      </a:lnTo>
                      <a:lnTo>
                        <a:pt x="84" y="83"/>
                      </a:lnTo>
                      <a:lnTo>
                        <a:pt x="80" y="71"/>
                      </a:lnTo>
                      <a:lnTo>
                        <a:pt x="81" y="57"/>
                      </a:lnTo>
                      <a:lnTo>
                        <a:pt x="89" y="42"/>
                      </a:lnTo>
                      <a:lnTo>
                        <a:pt x="100" y="28"/>
                      </a:lnTo>
                      <a:lnTo>
                        <a:pt x="116" y="16"/>
                      </a:lnTo>
                      <a:lnTo>
                        <a:pt x="136" y="6"/>
                      </a:lnTo>
                      <a:lnTo>
                        <a:pt x="158" y="0"/>
                      </a:lnTo>
                      <a:lnTo>
                        <a:pt x="183" y="0"/>
                      </a:lnTo>
                      <a:lnTo>
                        <a:pt x="206" y="5"/>
                      </a:lnTo>
                      <a:lnTo>
                        <a:pt x="228" y="12"/>
                      </a:lnTo>
                      <a:lnTo>
                        <a:pt x="245" y="22"/>
                      </a:lnTo>
                      <a:lnTo>
                        <a:pt x="258" y="34"/>
                      </a:lnTo>
                      <a:lnTo>
                        <a:pt x="267" y="47"/>
                      </a:lnTo>
                      <a:lnTo>
                        <a:pt x="272" y="60"/>
                      </a:lnTo>
                      <a:lnTo>
                        <a:pt x="272" y="73"/>
                      </a:lnTo>
                      <a:lnTo>
                        <a:pt x="266" y="87"/>
                      </a:lnTo>
                      <a:lnTo>
                        <a:pt x="285" y="82"/>
                      </a:lnTo>
                      <a:lnTo>
                        <a:pt x="307" y="81"/>
                      </a:lnTo>
                      <a:lnTo>
                        <a:pt x="327" y="83"/>
                      </a:lnTo>
                      <a:lnTo>
                        <a:pt x="346" y="88"/>
                      </a:lnTo>
                      <a:lnTo>
                        <a:pt x="361" y="97"/>
                      </a:lnTo>
                      <a:lnTo>
                        <a:pt x="374" y="108"/>
                      </a:lnTo>
                      <a:lnTo>
                        <a:pt x="380" y="122"/>
                      </a:lnTo>
                      <a:lnTo>
                        <a:pt x="378" y="139"/>
                      </a:lnTo>
                      <a:lnTo>
                        <a:pt x="372" y="156"/>
                      </a:lnTo>
                      <a:lnTo>
                        <a:pt x="363" y="171"/>
                      </a:lnTo>
                      <a:lnTo>
                        <a:pt x="353" y="183"/>
                      </a:lnTo>
                      <a:lnTo>
                        <a:pt x="342" y="194"/>
                      </a:lnTo>
                      <a:lnTo>
                        <a:pt x="330" y="201"/>
                      </a:lnTo>
                      <a:lnTo>
                        <a:pt x="316" y="205"/>
                      </a:lnTo>
                      <a:lnTo>
                        <a:pt x="300" y="206"/>
                      </a:lnTo>
                      <a:lnTo>
                        <a:pt x="285" y="204"/>
                      </a:lnTo>
                      <a:lnTo>
                        <a:pt x="286" y="3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2801880" y="4210200"/>
                  <a:ext cx="303120" cy="241200"/>
                </a:xfrm>
                <a:custGeom>
                  <a:avLst/>
                  <a:gdLst/>
                  <a:ahLst/>
                  <a:rect l="l" t="t" r="r" b="b"/>
                  <a:pathLst>
                    <a:path w="380" h="304">
                      <a:moveTo>
                        <a:pt x="286" y="304"/>
                      </a:moveTo>
                      <a:lnTo>
                        <a:pt x="98" y="304"/>
                      </a:lnTo>
                      <a:lnTo>
                        <a:pt x="98" y="304"/>
                      </a:lnTo>
                      <a:lnTo>
                        <a:pt x="98" y="277"/>
                      </a:lnTo>
                      <a:lnTo>
                        <a:pt x="98" y="244"/>
                      </a:lnTo>
                      <a:lnTo>
                        <a:pt x="98" y="218"/>
                      </a:lnTo>
                      <a:lnTo>
                        <a:pt x="98" y="207"/>
                      </a:lnTo>
                      <a:lnTo>
                        <a:pt x="98" y="207"/>
                      </a:lnTo>
                      <a:lnTo>
                        <a:pt x="84" y="210"/>
                      </a:lnTo>
                      <a:lnTo>
                        <a:pt x="67" y="208"/>
                      </a:lnTo>
                      <a:lnTo>
                        <a:pt x="48" y="204"/>
                      </a:lnTo>
                      <a:lnTo>
                        <a:pt x="31" y="196"/>
                      </a:lnTo>
                      <a:lnTo>
                        <a:pt x="15" y="186"/>
                      </a:lnTo>
                      <a:lnTo>
                        <a:pt x="5" y="171"/>
                      </a:lnTo>
                      <a:lnTo>
                        <a:pt x="0" y="155"/>
                      </a:lnTo>
                      <a:lnTo>
                        <a:pt x="1" y="136"/>
                      </a:lnTo>
                      <a:lnTo>
                        <a:pt x="1" y="136"/>
                      </a:lnTo>
                      <a:lnTo>
                        <a:pt x="8" y="116"/>
                      </a:lnTo>
                      <a:lnTo>
                        <a:pt x="17" y="102"/>
                      </a:lnTo>
                      <a:lnTo>
                        <a:pt x="28" y="92"/>
                      </a:lnTo>
                      <a:lnTo>
                        <a:pt x="39" y="85"/>
                      </a:lnTo>
                      <a:lnTo>
                        <a:pt x="51" y="82"/>
                      </a:lnTo>
                      <a:lnTo>
                        <a:pt x="62" y="81"/>
                      </a:lnTo>
                      <a:lnTo>
                        <a:pt x="73" y="81"/>
                      </a:lnTo>
                      <a:lnTo>
                        <a:pt x="84" y="83"/>
                      </a:lnTo>
                      <a:lnTo>
                        <a:pt x="84" y="83"/>
                      </a:lnTo>
                      <a:lnTo>
                        <a:pt x="80" y="71"/>
                      </a:lnTo>
                      <a:lnTo>
                        <a:pt x="81" y="57"/>
                      </a:lnTo>
                      <a:lnTo>
                        <a:pt x="89" y="42"/>
                      </a:lnTo>
                      <a:lnTo>
                        <a:pt x="100" y="28"/>
                      </a:lnTo>
                      <a:lnTo>
                        <a:pt x="116" y="16"/>
                      </a:lnTo>
                      <a:lnTo>
                        <a:pt x="136" y="6"/>
                      </a:lnTo>
                      <a:lnTo>
                        <a:pt x="158" y="0"/>
                      </a:lnTo>
                      <a:lnTo>
                        <a:pt x="183" y="0"/>
                      </a:lnTo>
                      <a:lnTo>
                        <a:pt x="183" y="0"/>
                      </a:lnTo>
                      <a:lnTo>
                        <a:pt x="206" y="5"/>
                      </a:lnTo>
                      <a:lnTo>
                        <a:pt x="228" y="12"/>
                      </a:lnTo>
                      <a:lnTo>
                        <a:pt x="245" y="22"/>
                      </a:lnTo>
                      <a:lnTo>
                        <a:pt x="258" y="34"/>
                      </a:lnTo>
                      <a:lnTo>
                        <a:pt x="267" y="47"/>
                      </a:lnTo>
                      <a:lnTo>
                        <a:pt x="272" y="60"/>
                      </a:lnTo>
                      <a:lnTo>
                        <a:pt x="272" y="73"/>
                      </a:lnTo>
                      <a:lnTo>
                        <a:pt x="266" y="87"/>
                      </a:lnTo>
                      <a:lnTo>
                        <a:pt x="266" y="87"/>
                      </a:lnTo>
                      <a:lnTo>
                        <a:pt x="285" y="82"/>
                      </a:lnTo>
                      <a:lnTo>
                        <a:pt x="307" y="81"/>
                      </a:lnTo>
                      <a:lnTo>
                        <a:pt x="327" y="83"/>
                      </a:lnTo>
                      <a:lnTo>
                        <a:pt x="346" y="88"/>
                      </a:lnTo>
                      <a:lnTo>
                        <a:pt x="361" y="97"/>
                      </a:lnTo>
                      <a:lnTo>
                        <a:pt x="374" y="108"/>
                      </a:lnTo>
                      <a:lnTo>
                        <a:pt x="380" y="122"/>
                      </a:lnTo>
                      <a:lnTo>
                        <a:pt x="378" y="139"/>
                      </a:lnTo>
                      <a:lnTo>
                        <a:pt x="378" y="139"/>
                      </a:lnTo>
                      <a:lnTo>
                        <a:pt x="372" y="156"/>
                      </a:lnTo>
                      <a:lnTo>
                        <a:pt x="363" y="171"/>
                      </a:lnTo>
                      <a:lnTo>
                        <a:pt x="353" y="183"/>
                      </a:lnTo>
                      <a:lnTo>
                        <a:pt x="342" y="194"/>
                      </a:lnTo>
                      <a:lnTo>
                        <a:pt x="330" y="201"/>
                      </a:lnTo>
                      <a:lnTo>
                        <a:pt x="316" y="205"/>
                      </a:lnTo>
                      <a:lnTo>
                        <a:pt x="300" y="206"/>
                      </a:lnTo>
                      <a:lnTo>
                        <a:pt x="285" y="204"/>
                      </a:lnTo>
                      <a:lnTo>
                        <a:pt x="286" y="3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857320" y="4573440"/>
                  <a:ext cx="211320" cy="109800"/>
                </a:xfrm>
                <a:custGeom>
                  <a:avLst/>
                  <a:gdLst/>
                  <a:ahLst/>
                  <a:rect l="l" t="t" r="r" b="b"/>
                  <a:pathLst>
                    <a:path w="266" h="139">
                      <a:moveTo>
                        <a:pt x="0" y="0"/>
                      </a:moveTo>
                      <a:lnTo>
                        <a:pt x="266" y="0"/>
                      </a:lnTo>
                      <a:lnTo>
                        <a:pt x="137" y="139"/>
                      </a:lnTo>
                      <a:lnTo>
                        <a:pt x="0" y="0"/>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857320" y="4573440"/>
                  <a:ext cx="211320" cy="109800"/>
                </a:xfrm>
                <a:custGeom>
                  <a:avLst/>
                  <a:gdLst/>
                  <a:ahLst/>
                  <a:rect l="l" t="t" r="r" b="b"/>
                  <a:pathLst>
                    <a:path w="266" h="139">
                      <a:moveTo>
                        <a:pt x="0" y="0"/>
                      </a:moveTo>
                      <a:lnTo>
                        <a:pt x="266" y="0"/>
                      </a:lnTo>
                      <a:lnTo>
                        <a:pt x="137" y="13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2790720" y="4573440"/>
                  <a:ext cx="79200" cy="59040"/>
                </a:xfrm>
                <a:custGeom>
                  <a:avLst/>
                  <a:gdLst/>
                  <a:ahLst/>
                  <a:rect l="l" t="t" r="r" b="b"/>
                  <a:pathLst>
                    <a:path w="98" h="74">
                      <a:moveTo>
                        <a:pt x="83" y="0"/>
                      </a:moveTo>
                      <a:lnTo>
                        <a:pt x="98" y="18"/>
                      </a:lnTo>
                      <a:lnTo>
                        <a:pt x="98" y="22"/>
                      </a:lnTo>
                      <a:lnTo>
                        <a:pt x="95" y="29"/>
                      </a:lnTo>
                      <a:lnTo>
                        <a:pt x="90" y="40"/>
                      </a:lnTo>
                      <a:lnTo>
                        <a:pt x="83" y="52"/>
                      </a:lnTo>
                      <a:lnTo>
                        <a:pt x="70" y="62"/>
                      </a:lnTo>
                      <a:lnTo>
                        <a:pt x="53" y="71"/>
                      </a:lnTo>
                      <a:lnTo>
                        <a:pt x="29" y="74"/>
                      </a:lnTo>
                      <a:lnTo>
                        <a:pt x="0" y="71"/>
                      </a:lnTo>
                      <a:lnTo>
                        <a:pt x="83" y="0"/>
                      </a:lnTo>
                      <a:close/>
                    </a:path>
                  </a:pathLst>
                </a:custGeom>
                <a:solidFill>
                  <a:srgbClr val="ff1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94" name=""/>
                <p:cNvSpPr/>
                <p:nvPr/>
              </p:nvSpPr>
              <p:spPr>
                <a:xfrm>
                  <a:off x="2790720" y="4573440"/>
                  <a:ext cx="79200" cy="59040"/>
                </a:xfrm>
                <a:custGeom>
                  <a:avLst/>
                  <a:gdLst/>
                  <a:ahLst/>
                  <a:rect l="l" t="t" r="r" b="b"/>
                  <a:pathLst>
                    <a:path w="98" h="74">
                      <a:moveTo>
                        <a:pt x="83" y="0"/>
                      </a:moveTo>
                      <a:lnTo>
                        <a:pt x="98" y="18"/>
                      </a:lnTo>
                      <a:lnTo>
                        <a:pt x="98" y="18"/>
                      </a:lnTo>
                      <a:lnTo>
                        <a:pt x="98" y="22"/>
                      </a:lnTo>
                      <a:lnTo>
                        <a:pt x="95" y="29"/>
                      </a:lnTo>
                      <a:lnTo>
                        <a:pt x="90" y="40"/>
                      </a:lnTo>
                      <a:lnTo>
                        <a:pt x="83" y="52"/>
                      </a:lnTo>
                      <a:lnTo>
                        <a:pt x="70" y="62"/>
                      </a:lnTo>
                      <a:lnTo>
                        <a:pt x="53" y="71"/>
                      </a:lnTo>
                      <a:lnTo>
                        <a:pt x="29" y="74"/>
                      </a:lnTo>
                      <a:lnTo>
                        <a:pt x="0" y="71"/>
                      </a:lnTo>
                      <a:lnTo>
                        <a:pt x="83" y="0"/>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95" name=""/>
                <p:cNvSpPr/>
                <p:nvPr/>
              </p:nvSpPr>
              <p:spPr>
                <a:xfrm>
                  <a:off x="2795400" y="4549680"/>
                  <a:ext cx="61920" cy="50760"/>
                </a:xfrm>
                <a:custGeom>
                  <a:avLst/>
                  <a:gdLst/>
                  <a:ahLst/>
                  <a:rect l="l" t="t" r="r" b="b"/>
                  <a:pathLst>
                    <a:path w="79" h="64">
                      <a:moveTo>
                        <a:pt x="79" y="30"/>
                      </a:moveTo>
                      <a:lnTo>
                        <a:pt x="0" y="64"/>
                      </a:lnTo>
                      <a:lnTo>
                        <a:pt x="11" y="0"/>
                      </a:lnTo>
                      <a:lnTo>
                        <a:pt x="79" y="30"/>
                      </a:lnTo>
                      <a:close/>
                    </a:path>
                  </a:pathLst>
                </a:custGeom>
                <a:solidFill>
                  <a:srgbClr val="ff1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6" name=""/>
                <p:cNvSpPr/>
                <p:nvPr/>
              </p:nvSpPr>
              <p:spPr>
                <a:xfrm>
                  <a:off x="2795400" y="4549680"/>
                  <a:ext cx="61920" cy="50760"/>
                </a:xfrm>
                <a:custGeom>
                  <a:avLst/>
                  <a:gdLst/>
                  <a:ahLst/>
                  <a:rect l="l" t="t" r="r" b="b"/>
                  <a:pathLst>
                    <a:path w="79" h="64">
                      <a:moveTo>
                        <a:pt x="79" y="30"/>
                      </a:moveTo>
                      <a:lnTo>
                        <a:pt x="0" y="64"/>
                      </a:lnTo>
                      <a:lnTo>
                        <a:pt x="11" y="0"/>
                      </a:lnTo>
                      <a:lnTo>
                        <a:pt x="79" y="3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a:off x="3332160" y="4749840"/>
                  <a:ext cx="123840" cy="68400"/>
                </a:xfrm>
                <a:custGeom>
                  <a:avLst/>
                  <a:gdLst/>
                  <a:ahLst/>
                  <a:rect l="l" t="t" r="r" b="b"/>
                  <a:pathLst>
                    <a:path w="157" h="84">
                      <a:moveTo>
                        <a:pt x="24" y="72"/>
                      </a:moveTo>
                      <a:lnTo>
                        <a:pt x="36" y="78"/>
                      </a:lnTo>
                      <a:lnTo>
                        <a:pt x="49" y="82"/>
                      </a:lnTo>
                      <a:lnTo>
                        <a:pt x="63" y="84"/>
                      </a:lnTo>
                      <a:lnTo>
                        <a:pt x="79" y="84"/>
                      </a:lnTo>
                      <a:lnTo>
                        <a:pt x="94" y="84"/>
                      </a:lnTo>
                      <a:lnTo>
                        <a:pt x="108" y="82"/>
                      </a:lnTo>
                      <a:lnTo>
                        <a:pt x="121" y="78"/>
                      </a:lnTo>
                      <a:lnTo>
                        <a:pt x="133" y="72"/>
                      </a:lnTo>
                      <a:lnTo>
                        <a:pt x="151" y="58"/>
                      </a:lnTo>
                      <a:lnTo>
                        <a:pt x="157" y="43"/>
                      </a:lnTo>
                      <a:lnTo>
                        <a:pt x="151" y="27"/>
                      </a:lnTo>
                      <a:lnTo>
                        <a:pt x="133" y="13"/>
                      </a:lnTo>
                      <a:lnTo>
                        <a:pt x="121" y="7"/>
                      </a:lnTo>
                      <a:lnTo>
                        <a:pt x="108" y="3"/>
                      </a:lnTo>
                      <a:lnTo>
                        <a:pt x="94" y="1"/>
                      </a:lnTo>
                      <a:lnTo>
                        <a:pt x="79" y="0"/>
                      </a:lnTo>
                      <a:lnTo>
                        <a:pt x="63" y="1"/>
                      </a:lnTo>
                      <a:lnTo>
                        <a:pt x="49" y="3"/>
                      </a:lnTo>
                      <a:lnTo>
                        <a:pt x="36" y="7"/>
                      </a:lnTo>
                      <a:lnTo>
                        <a:pt x="24" y="13"/>
                      </a:lnTo>
                      <a:lnTo>
                        <a:pt x="7" y="27"/>
                      </a:lnTo>
                      <a:lnTo>
                        <a:pt x="0" y="43"/>
                      </a:lnTo>
                      <a:lnTo>
                        <a:pt x="7" y="58"/>
                      </a:lnTo>
                      <a:lnTo>
                        <a:pt x="24" y="7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8" name=""/>
                <p:cNvSpPr/>
                <p:nvPr/>
              </p:nvSpPr>
              <p:spPr>
                <a:xfrm>
                  <a:off x="3332160" y="4749840"/>
                  <a:ext cx="123840" cy="68400"/>
                </a:xfrm>
                <a:custGeom>
                  <a:avLst/>
                  <a:gdLst/>
                  <a:ahLst/>
                  <a:rect l="l" t="t" r="r" b="b"/>
                  <a:pathLst>
                    <a:path w="157" h="84">
                      <a:moveTo>
                        <a:pt x="24" y="72"/>
                      </a:moveTo>
                      <a:lnTo>
                        <a:pt x="24" y="72"/>
                      </a:lnTo>
                      <a:lnTo>
                        <a:pt x="36" y="78"/>
                      </a:lnTo>
                      <a:lnTo>
                        <a:pt x="49" y="82"/>
                      </a:lnTo>
                      <a:lnTo>
                        <a:pt x="63" y="84"/>
                      </a:lnTo>
                      <a:lnTo>
                        <a:pt x="79" y="84"/>
                      </a:lnTo>
                      <a:lnTo>
                        <a:pt x="94" y="84"/>
                      </a:lnTo>
                      <a:lnTo>
                        <a:pt x="108" y="82"/>
                      </a:lnTo>
                      <a:lnTo>
                        <a:pt x="121" y="78"/>
                      </a:lnTo>
                      <a:lnTo>
                        <a:pt x="133" y="72"/>
                      </a:lnTo>
                      <a:lnTo>
                        <a:pt x="133" y="72"/>
                      </a:lnTo>
                      <a:lnTo>
                        <a:pt x="151" y="58"/>
                      </a:lnTo>
                      <a:lnTo>
                        <a:pt x="157" y="43"/>
                      </a:lnTo>
                      <a:lnTo>
                        <a:pt x="151" y="27"/>
                      </a:lnTo>
                      <a:lnTo>
                        <a:pt x="133" y="13"/>
                      </a:lnTo>
                      <a:lnTo>
                        <a:pt x="133" y="13"/>
                      </a:lnTo>
                      <a:lnTo>
                        <a:pt x="121" y="7"/>
                      </a:lnTo>
                      <a:lnTo>
                        <a:pt x="108" y="3"/>
                      </a:lnTo>
                      <a:lnTo>
                        <a:pt x="94" y="1"/>
                      </a:lnTo>
                      <a:lnTo>
                        <a:pt x="79" y="0"/>
                      </a:lnTo>
                      <a:lnTo>
                        <a:pt x="63" y="1"/>
                      </a:lnTo>
                      <a:lnTo>
                        <a:pt x="49" y="3"/>
                      </a:lnTo>
                      <a:lnTo>
                        <a:pt x="36" y="7"/>
                      </a:lnTo>
                      <a:lnTo>
                        <a:pt x="24" y="13"/>
                      </a:lnTo>
                      <a:lnTo>
                        <a:pt x="24" y="13"/>
                      </a:lnTo>
                      <a:lnTo>
                        <a:pt x="7" y="27"/>
                      </a:lnTo>
                      <a:lnTo>
                        <a:pt x="0" y="43"/>
                      </a:lnTo>
                      <a:lnTo>
                        <a:pt x="7" y="58"/>
                      </a:lnTo>
                      <a:lnTo>
                        <a:pt x="24" y="7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9" name=""/>
                <p:cNvSpPr/>
                <p:nvPr/>
              </p:nvSpPr>
              <p:spPr>
                <a:xfrm>
                  <a:off x="3327120" y="4633920"/>
                  <a:ext cx="133560" cy="127080"/>
                </a:xfrm>
                <a:custGeom>
                  <a:avLst/>
                  <a:gdLst/>
                  <a:ahLst/>
                  <a:rect l="l" t="t" r="r" b="b"/>
                  <a:pathLst>
                    <a:path w="167" h="159">
                      <a:moveTo>
                        <a:pt x="167" y="19"/>
                      </a:moveTo>
                      <a:lnTo>
                        <a:pt x="148" y="11"/>
                      </a:lnTo>
                      <a:lnTo>
                        <a:pt x="128" y="5"/>
                      </a:lnTo>
                      <a:lnTo>
                        <a:pt x="106" y="1"/>
                      </a:lnTo>
                      <a:lnTo>
                        <a:pt x="83" y="0"/>
                      </a:lnTo>
                      <a:lnTo>
                        <a:pt x="61" y="1"/>
                      </a:lnTo>
                      <a:lnTo>
                        <a:pt x="39" y="5"/>
                      </a:lnTo>
                      <a:lnTo>
                        <a:pt x="18" y="11"/>
                      </a:lnTo>
                      <a:lnTo>
                        <a:pt x="0" y="19"/>
                      </a:lnTo>
                      <a:lnTo>
                        <a:pt x="33" y="158"/>
                      </a:lnTo>
                      <a:lnTo>
                        <a:pt x="45" y="152"/>
                      </a:lnTo>
                      <a:lnTo>
                        <a:pt x="58" y="148"/>
                      </a:lnTo>
                      <a:lnTo>
                        <a:pt x="72" y="146"/>
                      </a:lnTo>
                      <a:lnTo>
                        <a:pt x="86" y="146"/>
                      </a:lnTo>
                      <a:lnTo>
                        <a:pt x="98" y="147"/>
                      </a:lnTo>
                      <a:lnTo>
                        <a:pt x="112" y="149"/>
                      </a:lnTo>
                      <a:lnTo>
                        <a:pt x="125" y="153"/>
                      </a:lnTo>
                      <a:lnTo>
                        <a:pt x="137" y="159"/>
                      </a:lnTo>
                      <a:lnTo>
                        <a:pt x="167" y="1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327120" y="4633920"/>
                  <a:ext cx="133560" cy="127080"/>
                </a:xfrm>
                <a:custGeom>
                  <a:avLst/>
                  <a:gdLst/>
                  <a:ahLst/>
                  <a:rect l="l" t="t" r="r" b="b"/>
                  <a:pathLst>
                    <a:path w="167" h="159">
                      <a:moveTo>
                        <a:pt x="167" y="19"/>
                      </a:moveTo>
                      <a:lnTo>
                        <a:pt x="167" y="19"/>
                      </a:lnTo>
                      <a:lnTo>
                        <a:pt x="148" y="11"/>
                      </a:lnTo>
                      <a:lnTo>
                        <a:pt x="128" y="5"/>
                      </a:lnTo>
                      <a:lnTo>
                        <a:pt x="106" y="1"/>
                      </a:lnTo>
                      <a:lnTo>
                        <a:pt x="83" y="0"/>
                      </a:lnTo>
                      <a:lnTo>
                        <a:pt x="61" y="1"/>
                      </a:lnTo>
                      <a:lnTo>
                        <a:pt x="39" y="5"/>
                      </a:lnTo>
                      <a:lnTo>
                        <a:pt x="18" y="11"/>
                      </a:lnTo>
                      <a:lnTo>
                        <a:pt x="0" y="19"/>
                      </a:lnTo>
                      <a:lnTo>
                        <a:pt x="33" y="158"/>
                      </a:lnTo>
                      <a:lnTo>
                        <a:pt x="33" y="158"/>
                      </a:lnTo>
                      <a:lnTo>
                        <a:pt x="45" y="152"/>
                      </a:lnTo>
                      <a:lnTo>
                        <a:pt x="58" y="148"/>
                      </a:lnTo>
                      <a:lnTo>
                        <a:pt x="72" y="146"/>
                      </a:lnTo>
                      <a:lnTo>
                        <a:pt x="86" y="146"/>
                      </a:lnTo>
                      <a:lnTo>
                        <a:pt x="98" y="147"/>
                      </a:lnTo>
                      <a:lnTo>
                        <a:pt x="112" y="149"/>
                      </a:lnTo>
                      <a:lnTo>
                        <a:pt x="125" y="153"/>
                      </a:lnTo>
                      <a:lnTo>
                        <a:pt x="137" y="159"/>
                      </a:lnTo>
                      <a:lnTo>
                        <a:pt x="167" y="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3384360" y="4799160"/>
                  <a:ext cx="22320" cy="7920"/>
                </a:xfrm>
                <a:custGeom>
                  <a:avLst/>
                  <a:gdLst/>
                  <a:ahLst/>
                  <a:rect l="l" t="t" r="r" b="b"/>
                  <a:pathLst>
                    <a:path w="28" h="9">
                      <a:moveTo>
                        <a:pt x="0" y="5"/>
                      </a:moveTo>
                      <a:lnTo>
                        <a:pt x="5" y="8"/>
                      </a:lnTo>
                      <a:lnTo>
                        <a:pt x="14" y="9"/>
                      </a:lnTo>
                      <a:lnTo>
                        <a:pt x="24" y="8"/>
                      </a:lnTo>
                      <a:lnTo>
                        <a:pt x="28" y="5"/>
                      </a:lnTo>
                      <a:lnTo>
                        <a:pt x="25" y="1"/>
                      </a:lnTo>
                      <a:lnTo>
                        <a:pt x="14" y="0"/>
                      </a:lnTo>
                      <a:lnTo>
                        <a:pt x="5" y="1"/>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2" name=""/>
                <p:cNvSpPr/>
                <p:nvPr/>
              </p:nvSpPr>
              <p:spPr>
                <a:xfrm>
                  <a:off x="3384360" y="4799160"/>
                  <a:ext cx="22320" cy="7920"/>
                </a:xfrm>
                <a:custGeom>
                  <a:avLst/>
                  <a:gdLst/>
                  <a:ahLst/>
                  <a:rect l="l" t="t" r="r" b="b"/>
                  <a:pathLst>
                    <a:path w="28" h="9">
                      <a:moveTo>
                        <a:pt x="0" y="5"/>
                      </a:moveTo>
                      <a:lnTo>
                        <a:pt x="0" y="5"/>
                      </a:lnTo>
                      <a:lnTo>
                        <a:pt x="5" y="8"/>
                      </a:lnTo>
                      <a:lnTo>
                        <a:pt x="14" y="9"/>
                      </a:lnTo>
                      <a:lnTo>
                        <a:pt x="24" y="8"/>
                      </a:lnTo>
                      <a:lnTo>
                        <a:pt x="28" y="5"/>
                      </a:lnTo>
                      <a:lnTo>
                        <a:pt x="28" y="5"/>
                      </a:lnTo>
                      <a:lnTo>
                        <a:pt x="25" y="1"/>
                      </a:lnTo>
                      <a:lnTo>
                        <a:pt x="14" y="0"/>
                      </a:lnTo>
                      <a:lnTo>
                        <a:pt x="5" y="1"/>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3" name=""/>
                <p:cNvSpPr/>
                <p:nvPr/>
              </p:nvSpPr>
              <p:spPr>
                <a:xfrm>
                  <a:off x="3354120" y="4794120"/>
                  <a:ext cx="20880" cy="9720"/>
                </a:xfrm>
                <a:custGeom>
                  <a:avLst/>
                  <a:gdLst/>
                  <a:ahLst/>
                  <a:rect l="l" t="t" r="r" b="b"/>
                  <a:pathLst>
                    <a:path w="26" h="11">
                      <a:moveTo>
                        <a:pt x="0" y="1"/>
                      </a:moveTo>
                      <a:lnTo>
                        <a:pt x="3" y="6"/>
                      </a:lnTo>
                      <a:lnTo>
                        <a:pt x="11" y="9"/>
                      </a:lnTo>
                      <a:lnTo>
                        <a:pt x="20" y="11"/>
                      </a:lnTo>
                      <a:lnTo>
                        <a:pt x="26" y="8"/>
                      </a:lnTo>
                      <a:lnTo>
                        <a:pt x="25" y="3"/>
                      </a:lnTo>
                      <a:lnTo>
                        <a:pt x="15" y="1"/>
                      </a:lnTo>
                      <a:lnTo>
                        <a:pt x="6" y="0"/>
                      </a:lnTo>
                      <a:lnTo>
                        <a:pt x="0" y="1"/>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04" name=""/>
                <p:cNvSpPr/>
                <p:nvPr/>
              </p:nvSpPr>
              <p:spPr>
                <a:xfrm>
                  <a:off x="3354120" y="4794120"/>
                  <a:ext cx="20880" cy="9720"/>
                </a:xfrm>
                <a:custGeom>
                  <a:avLst/>
                  <a:gdLst/>
                  <a:ahLst/>
                  <a:rect l="l" t="t" r="r" b="b"/>
                  <a:pathLst>
                    <a:path w="26" h="11">
                      <a:moveTo>
                        <a:pt x="0" y="1"/>
                      </a:moveTo>
                      <a:lnTo>
                        <a:pt x="0" y="1"/>
                      </a:lnTo>
                      <a:lnTo>
                        <a:pt x="3" y="6"/>
                      </a:lnTo>
                      <a:lnTo>
                        <a:pt x="11" y="9"/>
                      </a:lnTo>
                      <a:lnTo>
                        <a:pt x="20" y="11"/>
                      </a:lnTo>
                      <a:lnTo>
                        <a:pt x="26" y="8"/>
                      </a:lnTo>
                      <a:lnTo>
                        <a:pt x="26" y="8"/>
                      </a:lnTo>
                      <a:lnTo>
                        <a:pt x="25" y="3"/>
                      </a:lnTo>
                      <a:lnTo>
                        <a:pt x="15" y="1"/>
                      </a:lnTo>
                      <a:lnTo>
                        <a:pt x="6" y="0"/>
                      </a:lnTo>
                      <a:lnTo>
                        <a:pt x="0" y="1"/>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05" name=""/>
                <p:cNvSpPr/>
                <p:nvPr/>
              </p:nvSpPr>
              <p:spPr>
                <a:xfrm>
                  <a:off x="3416040" y="4794120"/>
                  <a:ext cx="20880" cy="7920"/>
                </a:xfrm>
                <a:custGeom>
                  <a:avLst/>
                  <a:gdLst/>
                  <a:ahLst/>
                  <a:rect l="l" t="t" r="r" b="b"/>
                  <a:pathLst>
                    <a:path w="26" h="10">
                      <a:moveTo>
                        <a:pt x="26" y="1"/>
                      </a:moveTo>
                      <a:lnTo>
                        <a:pt x="23" y="6"/>
                      </a:lnTo>
                      <a:lnTo>
                        <a:pt x="15" y="9"/>
                      </a:lnTo>
                      <a:lnTo>
                        <a:pt x="6" y="10"/>
                      </a:lnTo>
                      <a:lnTo>
                        <a:pt x="0" y="8"/>
                      </a:lnTo>
                      <a:lnTo>
                        <a:pt x="1" y="3"/>
                      </a:lnTo>
                      <a:lnTo>
                        <a:pt x="11" y="1"/>
                      </a:lnTo>
                      <a:lnTo>
                        <a:pt x="20" y="0"/>
                      </a:lnTo>
                      <a:lnTo>
                        <a:pt x="26" y="1"/>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6" name=""/>
                <p:cNvSpPr/>
                <p:nvPr/>
              </p:nvSpPr>
              <p:spPr>
                <a:xfrm>
                  <a:off x="3416040" y="4794120"/>
                  <a:ext cx="20880" cy="7920"/>
                </a:xfrm>
                <a:custGeom>
                  <a:avLst/>
                  <a:gdLst/>
                  <a:ahLst/>
                  <a:rect l="l" t="t" r="r" b="b"/>
                  <a:pathLst>
                    <a:path w="26" h="10">
                      <a:moveTo>
                        <a:pt x="26" y="1"/>
                      </a:moveTo>
                      <a:lnTo>
                        <a:pt x="26" y="1"/>
                      </a:lnTo>
                      <a:lnTo>
                        <a:pt x="23" y="6"/>
                      </a:lnTo>
                      <a:lnTo>
                        <a:pt x="15" y="9"/>
                      </a:lnTo>
                      <a:lnTo>
                        <a:pt x="6" y="10"/>
                      </a:lnTo>
                      <a:lnTo>
                        <a:pt x="0" y="8"/>
                      </a:lnTo>
                      <a:lnTo>
                        <a:pt x="0" y="8"/>
                      </a:lnTo>
                      <a:lnTo>
                        <a:pt x="1" y="3"/>
                      </a:lnTo>
                      <a:lnTo>
                        <a:pt x="11" y="1"/>
                      </a:lnTo>
                      <a:lnTo>
                        <a:pt x="20" y="0"/>
                      </a:lnTo>
                      <a:lnTo>
                        <a:pt x="26" y="1"/>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107" name=""/>
              <p:cNvGrpSpPr/>
              <p:nvPr/>
            </p:nvGrpSpPr>
            <p:grpSpPr>
              <a:xfrm>
                <a:off x="2068200" y="3409920"/>
                <a:ext cx="559080" cy="844560"/>
                <a:chOff x="2068200" y="3409920"/>
                <a:chExt cx="559080" cy="844560"/>
              </a:xfrm>
            </p:grpSpPr>
            <p:grpSp>
              <p:nvGrpSpPr>
                <p:cNvPr id="1108" name=""/>
                <p:cNvGrpSpPr/>
                <p:nvPr/>
              </p:nvGrpSpPr>
              <p:grpSpPr>
                <a:xfrm>
                  <a:off x="2084400" y="3473280"/>
                  <a:ext cx="528480" cy="781200"/>
                  <a:chOff x="2084400" y="3473280"/>
                  <a:chExt cx="528480" cy="781200"/>
                </a:xfrm>
              </p:grpSpPr>
              <p:grpSp>
                <p:nvGrpSpPr>
                  <p:cNvPr id="1109" name=""/>
                  <p:cNvGrpSpPr/>
                  <p:nvPr/>
                </p:nvGrpSpPr>
                <p:grpSpPr>
                  <a:xfrm>
                    <a:off x="2084400" y="3473280"/>
                    <a:ext cx="528480" cy="781200"/>
                    <a:chOff x="2084400" y="3473280"/>
                    <a:chExt cx="528480" cy="781200"/>
                  </a:xfrm>
                </p:grpSpPr>
                <p:sp>
                  <p:nvSpPr>
                    <p:cNvPr id="1110" name=""/>
                    <p:cNvSpPr/>
                    <p:nvPr/>
                  </p:nvSpPr>
                  <p:spPr>
                    <a:xfrm>
                      <a:off x="2084400" y="4165560"/>
                      <a:ext cx="528480" cy="88920"/>
                    </a:xfrm>
                    <a:custGeom>
                      <a:avLst/>
                      <a:gdLst/>
                      <a:ahLst/>
                      <a:rect l="l" t="t" r="r" b="b"/>
                      <a:pathLst>
                        <a:path w="1664" h="282">
                          <a:moveTo>
                            <a:pt x="0" y="0"/>
                          </a:moveTo>
                          <a:lnTo>
                            <a:pt x="1" y="83"/>
                          </a:lnTo>
                          <a:lnTo>
                            <a:pt x="7" y="98"/>
                          </a:lnTo>
                          <a:lnTo>
                            <a:pt x="16" y="111"/>
                          </a:lnTo>
                          <a:lnTo>
                            <a:pt x="26" y="123"/>
                          </a:lnTo>
                          <a:lnTo>
                            <a:pt x="39" y="134"/>
                          </a:lnTo>
                          <a:lnTo>
                            <a:pt x="55" y="147"/>
                          </a:lnTo>
                          <a:lnTo>
                            <a:pt x="68" y="155"/>
                          </a:lnTo>
                          <a:lnTo>
                            <a:pt x="82" y="163"/>
                          </a:lnTo>
                          <a:lnTo>
                            <a:pt x="100" y="173"/>
                          </a:lnTo>
                          <a:lnTo>
                            <a:pt x="115" y="180"/>
                          </a:lnTo>
                          <a:lnTo>
                            <a:pt x="135" y="187"/>
                          </a:lnTo>
                          <a:lnTo>
                            <a:pt x="155" y="194"/>
                          </a:lnTo>
                          <a:lnTo>
                            <a:pt x="180" y="203"/>
                          </a:lnTo>
                          <a:lnTo>
                            <a:pt x="204" y="211"/>
                          </a:lnTo>
                          <a:lnTo>
                            <a:pt x="226" y="217"/>
                          </a:lnTo>
                          <a:lnTo>
                            <a:pt x="251" y="224"/>
                          </a:lnTo>
                          <a:lnTo>
                            <a:pt x="274" y="228"/>
                          </a:lnTo>
                          <a:lnTo>
                            <a:pt x="298" y="233"/>
                          </a:lnTo>
                          <a:lnTo>
                            <a:pt x="330" y="240"/>
                          </a:lnTo>
                          <a:lnTo>
                            <a:pt x="366" y="246"/>
                          </a:lnTo>
                          <a:lnTo>
                            <a:pt x="400" y="252"/>
                          </a:lnTo>
                          <a:lnTo>
                            <a:pt x="431" y="256"/>
                          </a:lnTo>
                          <a:lnTo>
                            <a:pt x="458" y="259"/>
                          </a:lnTo>
                          <a:lnTo>
                            <a:pt x="504" y="266"/>
                          </a:lnTo>
                          <a:lnTo>
                            <a:pt x="556" y="270"/>
                          </a:lnTo>
                          <a:lnTo>
                            <a:pt x="603" y="273"/>
                          </a:lnTo>
                          <a:lnTo>
                            <a:pt x="652" y="276"/>
                          </a:lnTo>
                          <a:lnTo>
                            <a:pt x="697" y="279"/>
                          </a:lnTo>
                          <a:lnTo>
                            <a:pt x="735" y="281"/>
                          </a:lnTo>
                          <a:lnTo>
                            <a:pt x="777" y="282"/>
                          </a:lnTo>
                          <a:lnTo>
                            <a:pt x="808" y="282"/>
                          </a:lnTo>
                          <a:lnTo>
                            <a:pt x="833" y="282"/>
                          </a:lnTo>
                          <a:lnTo>
                            <a:pt x="859" y="282"/>
                          </a:lnTo>
                          <a:lnTo>
                            <a:pt x="886" y="282"/>
                          </a:lnTo>
                          <a:lnTo>
                            <a:pt x="925" y="281"/>
                          </a:lnTo>
                          <a:lnTo>
                            <a:pt x="980" y="279"/>
                          </a:lnTo>
                          <a:lnTo>
                            <a:pt x="1026" y="278"/>
                          </a:lnTo>
                          <a:lnTo>
                            <a:pt x="1063" y="275"/>
                          </a:lnTo>
                          <a:lnTo>
                            <a:pt x="1099" y="272"/>
                          </a:lnTo>
                          <a:lnTo>
                            <a:pt x="1133" y="268"/>
                          </a:lnTo>
                          <a:lnTo>
                            <a:pt x="1172" y="264"/>
                          </a:lnTo>
                          <a:lnTo>
                            <a:pt x="1215" y="259"/>
                          </a:lnTo>
                          <a:lnTo>
                            <a:pt x="1262" y="252"/>
                          </a:lnTo>
                          <a:lnTo>
                            <a:pt x="1299" y="246"/>
                          </a:lnTo>
                          <a:lnTo>
                            <a:pt x="1330" y="241"/>
                          </a:lnTo>
                          <a:lnTo>
                            <a:pt x="1359" y="235"/>
                          </a:lnTo>
                          <a:lnTo>
                            <a:pt x="1389" y="229"/>
                          </a:lnTo>
                          <a:lnTo>
                            <a:pt x="1422" y="221"/>
                          </a:lnTo>
                          <a:lnTo>
                            <a:pt x="1458" y="212"/>
                          </a:lnTo>
                          <a:lnTo>
                            <a:pt x="1493" y="201"/>
                          </a:lnTo>
                          <a:lnTo>
                            <a:pt x="1527" y="188"/>
                          </a:lnTo>
                          <a:lnTo>
                            <a:pt x="1552" y="178"/>
                          </a:lnTo>
                          <a:lnTo>
                            <a:pt x="1577" y="166"/>
                          </a:lnTo>
                          <a:lnTo>
                            <a:pt x="1596" y="157"/>
                          </a:lnTo>
                          <a:lnTo>
                            <a:pt x="1614" y="146"/>
                          </a:lnTo>
                          <a:lnTo>
                            <a:pt x="1628" y="134"/>
                          </a:lnTo>
                          <a:lnTo>
                            <a:pt x="1640" y="122"/>
                          </a:lnTo>
                          <a:lnTo>
                            <a:pt x="1652" y="108"/>
                          </a:lnTo>
                          <a:lnTo>
                            <a:pt x="1657" y="98"/>
                          </a:lnTo>
                          <a:lnTo>
                            <a:pt x="1661" y="88"/>
                          </a:lnTo>
                          <a:lnTo>
                            <a:pt x="1664" y="79"/>
                          </a:lnTo>
                          <a:lnTo>
                            <a:pt x="1659" y="0"/>
                          </a:lnTo>
                          <a:lnTo>
                            <a:pt x="0" y="0"/>
                          </a:lnTo>
                          <a:close/>
                        </a:path>
                      </a:pathLst>
                    </a:custGeom>
                    <a:solidFill>
                      <a:srgbClr val="808080"/>
                    </a:solidFill>
                    <a:ln w="3240">
                      <a:solidFill>
                        <a:srgbClr val="40404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1" name=""/>
                    <p:cNvSpPr/>
                    <p:nvPr/>
                  </p:nvSpPr>
                  <p:spPr>
                    <a:xfrm>
                      <a:off x="2084400" y="3529080"/>
                      <a:ext cx="528480" cy="709560"/>
                    </a:xfrm>
                    <a:custGeom>
                      <a:avLst/>
                      <a:gdLst/>
                      <a:ahLst/>
                      <a:rect l="l" t="t" r="r" b="b"/>
                      <a:pathLst>
                        <a:path w="1664" h="2234">
                          <a:moveTo>
                            <a:pt x="0" y="0"/>
                          </a:moveTo>
                          <a:lnTo>
                            <a:pt x="1" y="2035"/>
                          </a:lnTo>
                          <a:lnTo>
                            <a:pt x="7" y="2050"/>
                          </a:lnTo>
                          <a:lnTo>
                            <a:pt x="16" y="2063"/>
                          </a:lnTo>
                          <a:lnTo>
                            <a:pt x="26" y="2075"/>
                          </a:lnTo>
                          <a:lnTo>
                            <a:pt x="39" y="2086"/>
                          </a:lnTo>
                          <a:lnTo>
                            <a:pt x="55" y="2099"/>
                          </a:lnTo>
                          <a:lnTo>
                            <a:pt x="68" y="2107"/>
                          </a:lnTo>
                          <a:lnTo>
                            <a:pt x="82" y="2115"/>
                          </a:lnTo>
                          <a:lnTo>
                            <a:pt x="100" y="2125"/>
                          </a:lnTo>
                          <a:lnTo>
                            <a:pt x="115" y="2132"/>
                          </a:lnTo>
                          <a:lnTo>
                            <a:pt x="135" y="2139"/>
                          </a:lnTo>
                          <a:lnTo>
                            <a:pt x="155" y="2146"/>
                          </a:lnTo>
                          <a:lnTo>
                            <a:pt x="180" y="2155"/>
                          </a:lnTo>
                          <a:lnTo>
                            <a:pt x="204" y="2163"/>
                          </a:lnTo>
                          <a:lnTo>
                            <a:pt x="226" y="2169"/>
                          </a:lnTo>
                          <a:lnTo>
                            <a:pt x="251" y="2176"/>
                          </a:lnTo>
                          <a:lnTo>
                            <a:pt x="274" y="2180"/>
                          </a:lnTo>
                          <a:lnTo>
                            <a:pt x="298" y="2185"/>
                          </a:lnTo>
                          <a:lnTo>
                            <a:pt x="330" y="2192"/>
                          </a:lnTo>
                          <a:lnTo>
                            <a:pt x="366" y="2198"/>
                          </a:lnTo>
                          <a:lnTo>
                            <a:pt x="400" y="2204"/>
                          </a:lnTo>
                          <a:lnTo>
                            <a:pt x="431" y="2208"/>
                          </a:lnTo>
                          <a:lnTo>
                            <a:pt x="458" y="2211"/>
                          </a:lnTo>
                          <a:lnTo>
                            <a:pt x="504" y="2218"/>
                          </a:lnTo>
                          <a:lnTo>
                            <a:pt x="556" y="2222"/>
                          </a:lnTo>
                          <a:lnTo>
                            <a:pt x="603" y="2225"/>
                          </a:lnTo>
                          <a:lnTo>
                            <a:pt x="652" y="2229"/>
                          </a:lnTo>
                          <a:lnTo>
                            <a:pt x="697" y="2231"/>
                          </a:lnTo>
                          <a:lnTo>
                            <a:pt x="735" y="2233"/>
                          </a:lnTo>
                          <a:lnTo>
                            <a:pt x="777" y="2234"/>
                          </a:lnTo>
                          <a:lnTo>
                            <a:pt x="808" y="2234"/>
                          </a:lnTo>
                          <a:lnTo>
                            <a:pt x="833" y="2234"/>
                          </a:lnTo>
                          <a:lnTo>
                            <a:pt x="859" y="2234"/>
                          </a:lnTo>
                          <a:lnTo>
                            <a:pt x="886" y="2234"/>
                          </a:lnTo>
                          <a:lnTo>
                            <a:pt x="925" y="2233"/>
                          </a:lnTo>
                          <a:lnTo>
                            <a:pt x="980" y="2231"/>
                          </a:lnTo>
                          <a:lnTo>
                            <a:pt x="1026" y="2230"/>
                          </a:lnTo>
                          <a:lnTo>
                            <a:pt x="1063" y="2227"/>
                          </a:lnTo>
                          <a:lnTo>
                            <a:pt x="1099" y="2224"/>
                          </a:lnTo>
                          <a:lnTo>
                            <a:pt x="1133" y="2220"/>
                          </a:lnTo>
                          <a:lnTo>
                            <a:pt x="1172" y="2216"/>
                          </a:lnTo>
                          <a:lnTo>
                            <a:pt x="1215" y="2211"/>
                          </a:lnTo>
                          <a:lnTo>
                            <a:pt x="1262" y="2204"/>
                          </a:lnTo>
                          <a:lnTo>
                            <a:pt x="1299" y="2198"/>
                          </a:lnTo>
                          <a:lnTo>
                            <a:pt x="1330" y="2193"/>
                          </a:lnTo>
                          <a:lnTo>
                            <a:pt x="1359" y="2187"/>
                          </a:lnTo>
                          <a:lnTo>
                            <a:pt x="1389" y="2181"/>
                          </a:lnTo>
                          <a:lnTo>
                            <a:pt x="1422" y="2173"/>
                          </a:lnTo>
                          <a:lnTo>
                            <a:pt x="1458" y="2164"/>
                          </a:lnTo>
                          <a:lnTo>
                            <a:pt x="1493" y="2153"/>
                          </a:lnTo>
                          <a:lnTo>
                            <a:pt x="1527" y="2140"/>
                          </a:lnTo>
                          <a:lnTo>
                            <a:pt x="1552" y="2130"/>
                          </a:lnTo>
                          <a:lnTo>
                            <a:pt x="1577" y="2118"/>
                          </a:lnTo>
                          <a:lnTo>
                            <a:pt x="1596" y="2109"/>
                          </a:lnTo>
                          <a:lnTo>
                            <a:pt x="1614" y="2098"/>
                          </a:lnTo>
                          <a:lnTo>
                            <a:pt x="1628" y="2086"/>
                          </a:lnTo>
                          <a:lnTo>
                            <a:pt x="1640" y="2074"/>
                          </a:lnTo>
                          <a:lnTo>
                            <a:pt x="1652" y="2060"/>
                          </a:lnTo>
                          <a:lnTo>
                            <a:pt x="1657" y="2050"/>
                          </a:lnTo>
                          <a:lnTo>
                            <a:pt x="1661" y="2040"/>
                          </a:lnTo>
                          <a:lnTo>
                            <a:pt x="1664" y="2031"/>
                          </a:lnTo>
                          <a:lnTo>
                            <a:pt x="1659" y="0"/>
                          </a:lnTo>
                          <a:lnTo>
                            <a:pt x="0" y="0"/>
                          </a:lnTo>
                          <a:close/>
                        </a:path>
                      </a:pathLst>
                    </a:custGeom>
                    <a:solidFill>
                      <a:srgbClr val="a0a0a0"/>
                    </a:solidFill>
                    <a:ln w="324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2084400" y="3473280"/>
                      <a:ext cx="528480" cy="150840"/>
                      <a:chOff x="2084400" y="3473280"/>
                      <a:chExt cx="528480" cy="150840"/>
                    </a:xfrm>
                  </p:grpSpPr>
                  <p:sp>
                    <p:nvSpPr>
                      <p:cNvPr id="1113" name=""/>
                      <p:cNvSpPr/>
                      <p:nvPr/>
                    </p:nvSpPr>
                    <p:spPr>
                      <a:xfrm>
                        <a:off x="2084400" y="3535200"/>
                        <a:ext cx="528480" cy="88920"/>
                      </a:xfrm>
                      <a:custGeom>
                        <a:avLst/>
                        <a:gdLst/>
                        <a:ahLst/>
                        <a:rect l="l" t="t" r="r" b="b"/>
                        <a:pathLst>
                          <a:path w="1664" h="282">
                            <a:moveTo>
                              <a:pt x="0" y="0"/>
                            </a:moveTo>
                            <a:lnTo>
                              <a:pt x="1" y="83"/>
                            </a:lnTo>
                            <a:lnTo>
                              <a:pt x="7" y="98"/>
                            </a:lnTo>
                            <a:lnTo>
                              <a:pt x="16" y="111"/>
                            </a:lnTo>
                            <a:lnTo>
                              <a:pt x="26" y="123"/>
                            </a:lnTo>
                            <a:lnTo>
                              <a:pt x="39" y="134"/>
                            </a:lnTo>
                            <a:lnTo>
                              <a:pt x="55" y="147"/>
                            </a:lnTo>
                            <a:lnTo>
                              <a:pt x="68" y="155"/>
                            </a:lnTo>
                            <a:lnTo>
                              <a:pt x="82" y="163"/>
                            </a:lnTo>
                            <a:lnTo>
                              <a:pt x="100" y="173"/>
                            </a:lnTo>
                            <a:lnTo>
                              <a:pt x="115" y="180"/>
                            </a:lnTo>
                            <a:lnTo>
                              <a:pt x="135" y="187"/>
                            </a:lnTo>
                            <a:lnTo>
                              <a:pt x="155" y="194"/>
                            </a:lnTo>
                            <a:lnTo>
                              <a:pt x="180" y="203"/>
                            </a:lnTo>
                            <a:lnTo>
                              <a:pt x="204" y="210"/>
                            </a:lnTo>
                            <a:lnTo>
                              <a:pt x="226" y="217"/>
                            </a:lnTo>
                            <a:lnTo>
                              <a:pt x="251" y="223"/>
                            </a:lnTo>
                            <a:lnTo>
                              <a:pt x="274" y="228"/>
                            </a:lnTo>
                            <a:lnTo>
                              <a:pt x="298" y="233"/>
                            </a:lnTo>
                            <a:lnTo>
                              <a:pt x="330" y="240"/>
                            </a:lnTo>
                            <a:lnTo>
                              <a:pt x="366" y="246"/>
                            </a:lnTo>
                            <a:lnTo>
                              <a:pt x="400" y="252"/>
                            </a:lnTo>
                            <a:lnTo>
                              <a:pt x="431" y="256"/>
                            </a:lnTo>
                            <a:lnTo>
                              <a:pt x="458" y="259"/>
                            </a:lnTo>
                            <a:lnTo>
                              <a:pt x="504" y="266"/>
                            </a:lnTo>
                            <a:lnTo>
                              <a:pt x="556" y="270"/>
                            </a:lnTo>
                            <a:lnTo>
                              <a:pt x="603" y="273"/>
                            </a:lnTo>
                            <a:lnTo>
                              <a:pt x="652" y="276"/>
                            </a:lnTo>
                            <a:lnTo>
                              <a:pt x="697" y="279"/>
                            </a:lnTo>
                            <a:lnTo>
                              <a:pt x="735" y="281"/>
                            </a:lnTo>
                            <a:lnTo>
                              <a:pt x="777" y="282"/>
                            </a:lnTo>
                            <a:lnTo>
                              <a:pt x="808" y="282"/>
                            </a:lnTo>
                            <a:lnTo>
                              <a:pt x="833" y="282"/>
                            </a:lnTo>
                            <a:lnTo>
                              <a:pt x="859" y="282"/>
                            </a:lnTo>
                            <a:lnTo>
                              <a:pt x="886" y="282"/>
                            </a:lnTo>
                            <a:lnTo>
                              <a:pt x="925" y="281"/>
                            </a:lnTo>
                            <a:lnTo>
                              <a:pt x="980" y="279"/>
                            </a:lnTo>
                            <a:lnTo>
                              <a:pt x="1026" y="277"/>
                            </a:lnTo>
                            <a:lnTo>
                              <a:pt x="1063" y="275"/>
                            </a:lnTo>
                            <a:lnTo>
                              <a:pt x="1099" y="272"/>
                            </a:lnTo>
                            <a:lnTo>
                              <a:pt x="1133" y="268"/>
                            </a:lnTo>
                            <a:lnTo>
                              <a:pt x="1172" y="263"/>
                            </a:lnTo>
                            <a:lnTo>
                              <a:pt x="1215" y="259"/>
                            </a:lnTo>
                            <a:lnTo>
                              <a:pt x="1262" y="252"/>
                            </a:lnTo>
                            <a:lnTo>
                              <a:pt x="1299" y="246"/>
                            </a:lnTo>
                            <a:lnTo>
                              <a:pt x="1330" y="241"/>
                            </a:lnTo>
                            <a:lnTo>
                              <a:pt x="1359" y="235"/>
                            </a:lnTo>
                            <a:lnTo>
                              <a:pt x="1389" y="229"/>
                            </a:lnTo>
                            <a:lnTo>
                              <a:pt x="1422" y="221"/>
                            </a:lnTo>
                            <a:lnTo>
                              <a:pt x="1458" y="212"/>
                            </a:lnTo>
                            <a:lnTo>
                              <a:pt x="1493" y="201"/>
                            </a:lnTo>
                            <a:lnTo>
                              <a:pt x="1527" y="188"/>
                            </a:lnTo>
                            <a:lnTo>
                              <a:pt x="1552" y="178"/>
                            </a:lnTo>
                            <a:lnTo>
                              <a:pt x="1577" y="166"/>
                            </a:lnTo>
                            <a:lnTo>
                              <a:pt x="1596" y="156"/>
                            </a:lnTo>
                            <a:lnTo>
                              <a:pt x="1614" y="146"/>
                            </a:lnTo>
                            <a:lnTo>
                              <a:pt x="1628" y="134"/>
                            </a:lnTo>
                            <a:lnTo>
                              <a:pt x="1640" y="122"/>
                            </a:lnTo>
                            <a:lnTo>
                              <a:pt x="1652" y="108"/>
                            </a:lnTo>
                            <a:lnTo>
                              <a:pt x="1657" y="98"/>
                            </a:lnTo>
                            <a:lnTo>
                              <a:pt x="1661" y="88"/>
                            </a:lnTo>
                            <a:lnTo>
                              <a:pt x="1664" y="79"/>
                            </a:lnTo>
                            <a:lnTo>
                              <a:pt x="1659" y="0"/>
                            </a:lnTo>
                            <a:lnTo>
                              <a:pt x="0" y="0"/>
                            </a:lnTo>
                            <a:close/>
                          </a:path>
                        </a:pathLst>
                      </a:custGeom>
                      <a:solidFill>
                        <a:srgbClr val="40404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4" name=""/>
                      <p:cNvSpPr/>
                      <p:nvPr/>
                    </p:nvSpPr>
                    <p:spPr>
                      <a:xfrm>
                        <a:off x="2084400" y="3473280"/>
                        <a:ext cx="527040" cy="131760"/>
                      </a:xfrm>
                      <a:prstGeom prst="ellipse">
                        <a:avLst/>
                      </a:prstGeom>
                      <a:solidFill>
                        <a:srgbClr val="202020"/>
                      </a:solidFill>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5" name=""/>
                  <p:cNvGrpSpPr/>
                  <p:nvPr/>
                </p:nvGrpSpPr>
                <p:grpSpPr>
                  <a:xfrm>
                    <a:off x="2112840" y="3616200"/>
                    <a:ext cx="473040" cy="595440"/>
                    <a:chOff x="2112840" y="3616200"/>
                    <a:chExt cx="473040" cy="595440"/>
                  </a:xfrm>
                </p:grpSpPr>
                <p:grpSp>
                  <p:nvGrpSpPr>
                    <p:cNvPr id="1116" name=""/>
                    <p:cNvGrpSpPr/>
                    <p:nvPr/>
                  </p:nvGrpSpPr>
                  <p:grpSpPr>
                    <a:xfrm>
                      <a:off x="2112840" y="3616200"/>
                      <a:ext cx="66600" cy="571680"/>
                      <a:chOff x="2112840" y="3616200"/>
                      <a:chExt cx="66600" cy="571680"/>
                    </a:xfrm>
                  </p:grpSpPr>
                  <p:sp>
                    <p:nvSpPr>
                      <p:cNvPr id="1117" name=""/>
                      <p:cNvSpPr/>
                      <p:nvPr/>
                    </p:nvSpPr>
                    <p:spPr>
                      <a:xfrm>
                        <a:off x="2112840" y="3616200"/>
                        <a:ext cx="66600" cy="65160"/>
                      </a:xfrm>
                      <a:prstGeom prst="ellipse">
                        <a:avLst/>
                      </a:prstGeom>
                      <a:solidFill>
                        <a:srgbClr val="6060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8" name=""/>
                      <p:cNvSpPr/>
                      <p:nvPr/>
                    </p:nvSpPr>
                    <p:spPr>
                      <a:xfrm>
                        <a:off x="2112840" y="3645000"/>
                        <a:ext cx="66600" cy="512640"/>
                      </a:xfrm>
                      <a:prstGeom prst="rect">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112840" y="4124160"/>
                        <a:ext cx="66600" cy="63720"/>
                      </a:xfrm>
                      <a:prstGeom prst="ellipse">
                        <a:avLst/>
                      </a:prstGeom>
                      <a:solidFill>
                        <a:srgbClr val="60606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120" name=""/>
                    <p:cNvGrpSpPr/>
                    <p:nvPr/>
                  </p:nvGrpSpPr>
                  <p:grpSpPr>
                    <a:xfrm>
                      <a:off x="2519280" y="3616200"/>
                      <a:ext cx="66600" cy="569880"/>
                      <a:chOff x="2519280" y="3616200"/>
                      <a:chExt cx="66600" cy="569880"/>
                    </a:xfrm>
                  </p:grpSpPr>
                  <p:sp>
                    <p:nvSpPr>
                      <p:cNvPr id="1121" name=""/>
                      <p:cNvSpPr/>
                      <p:nvPr/>
                    </p:nvSpPr>
                    <p:spPr>
                      <a:xfrm>
                        <a:off x="2519280" y="3616200"/>
                        <a:ext cx="65160" cy="63720"/>
                      </a:xfrm>
                      <a:prstGeom prst="ellipse">
                        <a:avLst/>
                      </a:prstGeom>
                      <a:solidFill>
                        <a:srgbClr val="60606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22" name=""/>
                      <p:cNvSpPr/>
                      <p:nvPr/>
                    </p:nvSpPr>
                    <p:spPr>
                      <a:xfrm>
                        <a:off x="2519280" y="3645000"/>
                        <a:ext cx="66600" cy="512640"/>
                      </a:xfrm>
                      <a:prstGeom prst="rect">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519280" y="4122720"/>
                        <a:ext cx="65160" cy="63360"/>
                      </a:xfrm>
                      <a:prstGeom prst="ellipse">
                        <a:avLst/>
                      </a:prstGeom>
                      <a:solidFill>
                        <a:srgbClr val="60606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4" name=""/>
                    <p:cNvGrpSpPr/>
                    <p:nvPr/>
                  </p:nvGrpSpPr>
                  <p:grpSpPr>
                    <a:xfrm>
                      <a:off x="2415960" y="3632040"/>
                      <a:ext cx="66600" cy="571680"/>
                      <a:chOff x="2415960" y="3632040"/>
                      <a:chExt cx="66600" cy="571680"/>
                    </a:xfrm>
                  </p:grpSpPr>
                  <p:sp>
                    <p:nvSpPr>
                      <p:cNvPr id="1125" name=""/>
                      <p:cNvSpPr/>
                      <p:nvPr/>
                    </p:nvSpPr>
                    <p:spPr>
                      <a:xfrm>
                        <a:off x="2415960" y="3632040"/>
                        <a:ext cx="66600" cy="63720"/>
                      </a:xfrm>
                      <a:prstGeom prst="ellipse">
                        <a:avLst/>
                      </a:prstGeom>
                      <a:solidFill>
                        <a:srgbClr val="60606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26" name=""/>
                      <p:cNvSpPr/>
                      <p:nvPr/>
                    </p:nvSpPr>
                    <p:spPr>
                      <a:xfrm>
                        <a:off x="2415960" y="3660840"/>
                        <a:ext cx="66600" cy="512640"/>
                      </a:xfrm>
                      <a:prstGeom prst="rect">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415960" y="4138560"/>
                        <a:ext cx="66600" cy="65160"/>
                      </a:xfrm>
                      <a:prstGeom prst="ellipse">
                        <a:avLst/>
                      </a:prstGeom>
                      <a:solidFill>
                        <a:srgbClr val="6060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128" name=""/>
                    <p:cNvGrpSpPr/>
                    <p:nvPr/>
                  </p:nvGrpSpPr>
                  <p:grpSpPr>
                    <a:xfrm>
                      <a:off x="2212920" y="3632040"/>
                      <a:ext cx="66600" cy="571680"/>
                      <a:chOff x="2212920" y="3632040"/>
                      <a:chExt cx="66600" cy="571680"/>
                    </a:xfrm>
                  </p:grpSpPr>
                  <p:sp>
                    <p:nvSpPr>
                      <p:cNvPr id="1129" name=""/>
                      <p:cNvSpPr/>
                      <p:nvPr/>
                    </p:nvSpPr>
                    <p:spPr>
                      <a:xfrm>
                        <a:off x="2214360" y="3632040"/>
                        <a:ext cx="65160" cy="63720"/>
                      </a:xfrm>
                      <a:prstGeom prst="ellipse">
                        <a:avLst/>
                      </a:prstGeom>
                      <a:solidFill>
                        <a:srgbClr val="60606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30" name=""/>
                      <p:cNvSpPr/>
                      <p:nvPr/>
                    </p:nvSpPr>
                    <p:spPr>
                      <a:xfrm>
                        <a:off x="2212920" y="3660840"/>
                        <a:ext cx="66600" cy="512640"/>
                      </a:xfrm>
                      <a:prstGeom prst="rect">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214360" y="4138560"/>
                        <a:ext cx="65160" cy="65160"/>
                      </a:xfrm>
                      <a:prstGeom prst="ellipse">
                        <a:avLst/>
                      </a:prstGeom>
                      <a:solidFill>
                        <a:srgbClr val="6060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132" name=""/>
                    <p:cNvGrpSpPr/>
                    <p:nvPr/>
                  </p:nvGrpSpPr>
                  <p:grpSpPr>
                    <a:xfrm>
                      <a:off x="2314440" y="3639960"/>
                      <a:ext cx="68400" cy="571680"/>
                      <a:chOff x="2314440" y="3639960"/>
                      <a:chExt cx="68400" cy="571680"/>
                    </a:xfrm>
                  </p:grpSpPr>
                  <p:sp>
                    <p:nvSpPr>
                      <p:cNvPr id="1133" name=""/>
                      <p:cNvSpPr/>
                      <p:nvPr/>
                    </p:nvSpPr>
                    <p:spPr>
                      <a:xfrm>
                        <a:off x="2314440" y="3639960"/>
                        <a:ext cx="66600" cy="65160"/>
                      </a:xfrm>
                      <a:prstGeom prst="ellipse">
                        <a:avLst/>
                      </a:prstGeom>
                      <a:solidFill>
                        <a:srgbClr val="6060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34" name=""/>
                      <p:cNvSpPr/>
                      <p:nvPr/>
                    </p:nvSpPr>
                    <p:spPr>
                      <a:xfrm>
                        <a:off x="2314440" y="3668760"/>
                        <a:ext cx="68400" cy="512640"/>
                      </a:xfrm>
                      <a:prstGeom prst="rect">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2314440" y="4146480"/>
                        <a:ext cx="66600" cy="65160"/>
                      </a:xfrm>
                      <a:prstGeom prst="ellipse">
                        <a:avLst/>
                      </a:prstGeom>
                      <a:solidFill>
                        <a:srgbClr val="6060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grpSp>
            <p:grpSp>
              <p:nvGrpSpPr>
                <p:cNvPr id="1136" name=""/>
                <p:cNvGrpSpPr/>
                <p:nvPr/>
              </p:nvGrpSpPr>
              <p:grpSpPr>
                <a:xfrm>
                  <a:off x="2068200" y="3409920"/>
                  <a:ext cx="559080" cy="200160"/>
                  <a:chOff x="2068200" y="3409920"/>
                  <a:chExt cx="559080" cy="200160"/>
                </a:xfrm>
              </p:grpSpPr>
              <p:sp>
                <p:nvSpPr>
                  <p:cNvPr id="1137" name=""/>
                  <p:cNvSpPr/>
                  <p:nvPr/>
                </p:nvSpPr>
                <p:spPr>
                  <a:xfrm>
                    <a:off x="2068200" y="3479760"/>
                    <a:ext cx="559080" cy="130320"/>
                  </a:xfrm>
                  <a:custGeom>
                    <a:avLst/>
                    <a:gdLst/>
                    <a:ahLst/>
                    <a:rect l="l" t="t" r="r" b="b"/>
                    <a:pathLst>
                      <a:path w="1761" h="412">
                        <a:moveTo>
                          <a:pt x="0" y="0"/>
                        </a:moveTo>
                        <a:lnTo>
                          <a:pt x="0" y="198"/>
                        </a:lnTo>
                        <a:lnTo>
                          <a:pt x="9" y="231"/>
                        </a:lnTo>
                        <a:lnTo>
                          <a:pt x="45" y="266"/>
                        </a:lnTo>
                        <a:lnTo>
                          <a:pt x="84" y="289"/>
                        </a:lnTo>
                        <a:lnTo>
                          <a:pt x="136" y="312"/>
                        </a:lnTo>
                        <a:lnTo>
                          <a:pt x="204" y="335"/>
                        </a:lnTo>
                        <a:lnTo>
                          <a:pt x="294" y="360"/>
                        </a:lnTo>
                        <a:lnTo>
                          <a:pt x="405" y="380"/>
                        </a:lnTo>
                        <a:lnTo>
                          <a:pt x="512" y="396"/>
                        </a:lnTo>
                        <a:lnTo>
                          <a:pt x="641" y="406"/>
                        </a:lnTo>
                        <a:lnTo>
                          <a:pt x="768" y="412"/>
                        </a:lnTo>
                        <a:lnTo>
                          <a:pt x="881" y="412"/>
                        </a:lnTo>
                        <a:lnTo>
                          <a:pt x="1001" y="412"/>
                        </a:lnTo>
                        <a:lnTo>
                          <a:pt x="1118" y="406"/>
                        </a:lnTo>
                        <a:lnTo>
                          <a:pt x="1231" y="396"/>
                        </a:lnTo>
                        <a:lnTo>
                          <a:pt x="1341" y="383"/>
                        </a:lnTo>
                        <a:lnTo>
                          <a:pt x="1445" y="364"/>
                        </a:lnTo>
                        <a:lnTo>
                          <a:pt x="1494" y="354"/>
                        </a:lnTo>
                        <a:lnTo>
                          <a:pt x="1543" y="341"/>
                        </a:lnTo>
                        <a:lnTo>
                          <a:pt x="1586" y="329"/>
                        </a:lnTo>
                        <a:lnTo>
                          <a:pt x="1615" y="319"/>
                        </a:lnTo>
                        <a:lnTo>
                          <a:pt x="1641" y="310"/>
                        </a:lnTo>
                        <a:lnTo>
                          <a:pt x="1671" y="297"/>
                        </a:lnTo>
                        <a:lnTo>
                          <a:pt x="1696" y="281"/>
                        </a:lnTo>
                        <a:lnTo>
                          <a:pt x="1719" y="263"/>
                        </a:lnTo>
                        <a:lnTo>
                          <a:pt x="1745" y="237"/>
                        </a:lnTo>
                        <a:lnTo>
                          <a:pt x="1758" y="216"/>
                        </a:lnTo>
                        <a:lnTo>
                          <a:pt x="1761" y="195"/>
                        </a:lnTo>
                        <a:lnTo>
                          <a:pt x="1760" y="179"/>
                        </a:lnTo>
                        <a:lnTo>
                          <a:pt x="1760" y="0"/>
                        </a:lnTo>
                        <a:lnTo>
                          <a:pt x="0" y="0"/>
                        </a:lnTo>
                        <a:close/>
                      </a:path>
                    </a:pathLst>
                  </a:custGeom>
                  <a:solidFill>
                    <a:srgbClr val="808080"/>
                  </a:solidFill>
                  <a:ln w="324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068200" y="3409920"/>
                    <a:ext cx="559080" cy="138240"/>
                  </a:xfrm>
                  <a:prstGeom prst="ellipse">
                    <a:avLst/>
                  </a:prstGeom>
                  <a:solidFill>
                    <a:srgbClr val="c0c0c0"/>
                  </a:solidFill>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9" name=""/>
                  <p:cNvGrpSpPr/>
                  <p:nvPr/>
                </p:nvGrpSpPr>
                <p:grpSpPr>
                  <a:xfrm>
                    <a:off x="2100240" y="3417840"/>
                    <a:ext cx="495000" cy="120600"/>
                    <a:chOff x="2100240" y="3417840"/>
                    <a:chExt cx="495000" cy="120600"/>
                  </a:xfrm>
                </p:grpSpPr>
                <p:sp>
                  <p:nvSpPr>
                    <p:cNvPr id="1140" name=""/>
                    <p:cNvSpPr/>
                    <p:nvPr/>
                  </p:nvSpPr>
                  <p:spPr>
                    <a:xfrm>
                      <a:off x="2117520" y="3425760"/>
                      <a:ext cx="461880" cy="106560"/>
                    </a:xfrm>
                    <a:prstGeom prst="ellipse">
                      <a:avLst/>
                    </a:prstGeom>
                    <a:solidFill>
                      <a:srgbClr val="60606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1141" name=""/>
                    <p:cNvGrpSpPr/>
                    <p:nvPr/>
                  </p:nvGrpSpPr>
                  <p:grpSpPr>
                    <a:xfrm>
                      <a:off x="2100240" y="3417840"/>
                      <a:ext cx="495000" cy="120600"/>
                      <a:chOff x="2100240" y="3417840"/>
                      <a:chExt cx="495000" cy="120600"/>
                    </a:xfrm>
                  </p:grpSpPr>
                  <p:sp>
                    <p:nvSpPr>
                      <p:cNvPr id="1142" name=""/>
                      <p:cNvSpPr/>
                      <p:nvPr/>
                    </p:nvSpPr>
                    <p:spPr>
                      <a:xfrm>
                        <a:off x="2100240" y="3417840"/>
                        <a:ext cx="247680" cy="119160"/>
                      </a:xfrm>
                      <a:custGeom>
                        <a:avLst/>
                        <a:gdLst/>
                        <a:ahLst/>
                        <a:rect l="l" t="t" r="r" b="b"/>
                        <a:pathLst>
                          <a:path w="779" h="376">
                            <a:moveTo>
                              <a:pt x="779" y="195"/>
                            </a:moveTo>
                            <a:lnTo>
                              <a:pt x="696" y="376"/>
                            </a:lnTo>
                            <a:lnTo>
                              <a:pt x="520" y="376"/>
                            </a:lnTo>
                            <a:lnTo>
                              <a:pt x="779" y="195"/>
                            </a:lnTo>
                            <a:lnTo>
                              <a:pt x="320" y="359"/>
                            </a:lnTo>
                            <a:lnTo>
                              <a:pt x="208" y="324"/>
                            </a:lnTo>
                            <a:lnTo>
                              <a:pt x="779" y="195"/>
                            </a:lnTo>
                            <a:lnTo>
                              <a:pt x="0" y="272"/>
                            </a:lnTo>
                            <a:lnTo>
                              <a:pt x="0" y="169"/>
                            </a:lnTo>
                            <a:lnTo>
                              <a:pt x="779" y="195"/>
                            </a:lnTo>
                            <a:lnTo>
                              <a:pt x="104" y="117"/>
                            </a:lnTo>
                            <a:lnTo>
                              <a:pt x="156" y="65"/>
                            </a:lnTo>
                            <a:lnTo>
                              <a:pt x="779" y="195"/>
                            </a:lnTo>
                            <a:lnTo>
                              <a:pt x="330" y="36"/>
                            </a:lnTo>
                            <a:lnTo>
                              <a:pt x="433" y="10"/>
                            </a:lnTo>
                            <a:lnTo>
                              <a:pt x="779" y="195"/>
                            </a:lnTo>
                            <a:lnTo>
                              <a:pt x="592" y="3"/>
                            </a:lnTo>
                            <a:lnTo>
                              <a:pt x="725" y="0"/>
                            </a:lnTo>
                            <a:lnTo>
                              <a:pt x="779" y="195"/>
                            </a:lnTo>
                            <a:lnTo>
                              <a:pt x="779" y="1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347920" y="3419640"/>
                        <a:ext cx="247320" cy="118800"/>
                      </a:xfrm>
                      <a:custGeom>
                        <a:avLst/>
                        <a:gdLst/>
                        <a:ahLst/>
                        <a:rect l="l" t="t" r="r" b="b"/>
                        <a:pathLst>
                          <a:path w="779" h="376">
                            <a:moveTo>
                              <a:pt x="0" y="194"/>
                            </a:moveTo>
                            <a:lnTo>
                              <a:pt x="83" y="376"/>
                            </a:lnTo>
                            <a:lnTo>
                              <a:pt x="259" y="376"/>
                            </a:lnTo>
                            <a:lnTo>
                              <a:pt x="0" y="194"/>
                            </a:lnTo>
                            <a:lnTo>
                              <a:pt x="459" y="358"/>
                            </a:lnTo>
                            <a:lnTo>
                              <a:pt x="571" y="324"/>
                            </a:lnTo>
                            <a:lnTo>
                              <a:pt x="0" y="194"/>
                            </a:lnTo>
                            <a:lnTo>
                              <a:pt x="779" y="272"/>
                            </a:lnTo>
                            <a:lnTo>
                              <a:pt x="779" y="168"/>
                            </a:lnTo>
                            <a:lnTo>
                              <a:pt x="0" y="194"/>
                            </a:lnTo>
                            <a:lnTo>
                              <a:pt x="675" y="116"/>
                            </a:lnTo>
                            <a:lnTo>
                              <a:pt x="623" y="64"/>
                            </a:lnTo>
                            <a:lnTo>
                              <a:pt x="0" y="194"/>
                            </a:lnTo>
                            <a:lnTo>
                              <a:pt x="449" y="35"/>
                            </a:lnTo>
                            <a:lnTo>
                              <a:pt x="346" y="9"/>
                            </a:lnTo>
                            <a:lnTo>
                              <a:pt x="0" y="194"/>
                            </a:lnTo>
                            <a:lnTo>
                              <a:pt x="187" y="3"/>
                            </a:lnTo>
                            <a:lnTo>
                              <a:pt x="54" y="0"/>
                            </a:lnTo>
                            <a:lnTo>
                              <a:pt x="0" y="19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44" name=""/>
                  <p:cNvGrpSpPr/>
                  <p:nvPr/>
                </p:nvGrpSpPr>
                <p:grpSpPr>
                  <a:xfrm>
                    <a:off x="2260440" y="3430440"/>
                    <a:ext cx="174600" cy="49320"/>
                    <a:chOff x="2260440" y="3430440"/>
                    <a:chExt cx="174600" cy="49320"/>
                  </a:xfrm>
                </p:grpSpPr>
                <p:sp>
                  <p:nvSpPr>
                    <p:cNvPr id="1145" name=""/>
                    <p:cNvSpPr/>
                    <p:nvPr/>
                  </p:nvSpPr>
                  <p:spPr>
                    <a:xfrm>
                      <a:off x="2269800" y="3430440"/>
                      <a:ext cx="157320" cy="39960"/>
                    </a:xfrm>
                    <a:custGeom>
                      <a:avLst/>
                      <a:gdLst/>
                      <a:ahLst/>
                      <a:rect l="l" t="t" r="r" b="b"/>
                      <a:pathLst>
                        <a:path w="494" h="128">
                          <a:moveTo>
                            <a:pt x="0" y="128"/>
                          </a:moveTo>
                          <a:lnTo>
                            <a:pt x="123" y="0"/>
                          </a:lnTo>
                          <a:lnTo>
                            <a:pt x="371" y="0"/>
                          </a:lnTo>
                          <a:lnTo>
                            <a:pt x="494" y="128"/>
                          </a:lnTo>
                          <a:lnTo>
                            <a:pt x="371" y="128"/>
                          </a:lnTo>
                          <a:lnTo>
                            <a:pt x="308" y="63"/>
                          </a:lnTo>
                          <a:lnTo>
                            <a:pt x="184" y="63"/>
                          </a:lnTo>
                          <a:lnTo>
                            <a:pt x="123" y="128"/>
                          </a:lnTo>
                          <a:lnTo>
                            <a:pt x="0" y="128"/>
                          </a:lnTo>
                          <a:close/>
                        </a:path>
                      </a:pathLst>
                    </a:custGeom>
                    <a:solidFill>
                      <a:srgbClr val="e0e0e0"/>
                    </a:solidFill>
                    <a:ln w="3240">
                      <a:solidFill>
                        <a:srgbClr val="40404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46" name=""/>
                    <p:cNvSpPr/>
                    <p:nvPr/>
                  </p:nvSpPr>
                  <p:spPr>
                    <a:xfrm>
                      <a:off x="2260440" y="3433680"/>
                      <a:ext cx="174600" cy="46080"/>
                    </a:xfrm>
                    <a:custGeom>
                      <a:avLst/>
                      <a:gdLst/>
                      <a:ahLst/>
                      <a:rect l="l" t="t" r="r" b="b"/>
                      <a:pathLst>
                        <a:path w="548" h="143">
                          <a:moveTo>
                            <a:pt x="0" y="143"/>
                          </a:moveTo>
                          <a:lnTo>
                            <a:pt x="137" y="0"/>
                          </a:lnTo>
                          <a:lnTo>
                            <a:pt x="411" y="0"/>
                          </a:lnTo>
                          <a:lnTo>
                            <a:pt x="548" y="143"/>
                          </a:lnTo>
                          <a:lnTo>
                            <a:pt x="411" y="143"/>
                          </a:lnTo>
                          <a:lnTo>
                            <a:pt x="343" y="71"/>
                          </a:lnTo>
                          <a:lnTo>
                            <a:pt x="205" y="71"/>
                          </a:lnTo>
                          <a:lnTo>
                            <a:pt x="137" y="143"/>
                          </a:lnTo>
                          <a:lnTo>
                            <a:pt x="0" y="143"/>
                          </a:lnTo>
                          <a:close/>
                        </a:path>
                      </a:pathLst>
                    </a:custGeom>
                    <a:solidFill>
                      <a:srgbClr val="808080"/>
                    </a:solidFill>
                    <a:ln w="3240">
                      <a:solidFill>
                        <a:srgbClr val="40404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grpSp>
          <p:grpSp>
            <p:nvGrpSpPr>
              <p:cNvPr id="1147" name=""/>
              <p:cNvGrpSpPr/>
              <p:nvPr/>
            </p:nvGrpSpPr>
            <p:grpSpPr>
              <a:xfrm>
                <a:off x="2170080" y="1812960"/>
                <a:ext cx="965160" cy="968400"/>
                <a:chOff x="2170080" y="1812960"/>
                <a:chExt cx="965160" cy="968400"/>
              </a:xfrm>
            </p:grpSpPr>
            <p:sp>
              <p:nvSpPr>
                <p:cNvPr id="1148" name=""/>
                <p:cNvSpPr/>
                <p:nvPr/>
              </p:nvSpPr>
              <p:spPr>
                <a:xfrm>
                  <a:off x="2368440" y="2427120"/>
                  <a:ext cx="290520" cy="243000"/>
                </a:xfrm>
                <a:custGeom>
                  <a:avLst/>
                  <a:gdLst/>
                  <a:ahLst/>
                  <a:rect l="l" t="t" r="r" b="b"/>
                  <a:pathLst>
                    <a:path w="365" h="306">
                      <a:moveTo>
                        <a:pt x="365" y="305"/>
                      </a:moveTo>
                      <a:lnTo>
                        <a:pt x="359" y="305"/>
                      </a:lnTo>
                      <a:lnTo>
                        <a:pt x="347" y="305"/>
                      </a:lnTo>
                      <a:lnTo>
                        <a:pt x="326" y="305"/>
                      </a:lnTo>
                      <a:lnTo>
                        <a:pt x="301" y="305"/>
                      </a:lnTo>
                      <a:lnTo>
                        <a:pt x="272" y="306"/>
                      </a:lnTo>
                      <a:lnTo>
                        <a:pt x="242" y="306"/>
                      </a:lnTo>
                      <a:lnTo>
                        <a:pt x="213" y="306"/>
                      </a:lnTo>
                      <a:lnTo>
                        <a:pt x="185" y="306"/>
                      </a:lnTo>
                      <a:lnTo>
                        <a:pt x="162" y="305"/>
                      </a:lnTo>
                      <a:lnTo>
                        <a:pt x="138" y="301"/>
                      </a:lnTo>
                      <a:lnTo>
                        <a:pt x="115" y="294"/>
                      </a:lnTo>
                      <a:lnTo>
                        <a:pt x="94" y="284"/>
                      </a:lnTo>
                      <a:lnTo>
                        <a:pt x="74" y="272"/>
                      </a:lnTo>
                      <a:lnTo>
                        <a:pt x="56" y="257"/>
                      </a:lnTo>
                      <a:lnTo>
                        <a:pt x="40" y="240"/>
                      </a:lnTo>
                      <a:lnTo>
                        <a:pt x="26" y="221"/>
                      </a:lnTo>
                      <a:lnTo>
                        <a:pt x="15" y="199"/>
                      </a:lnTo>
                      <a:lnTo>
                        <a:pt x="7" y="175"/>
                      </a:lnTo>
                      <a:lnTo>
                        <a:pt x="1" y="151"/>
                      </a:lnTo>
                      <a:lnTo>
                        <a:pt x="0" y="124"/>
                      </a:lnTo>
                      <a:lnTo>
                        <a:pt x="1" y="95"/>
                      </a:lnTo>
                      <a:lnTo>
                        <a:pt x="5" y="65"/>
                      </a:lnTo>
                      <a:lnTo>
                        <a:pt x="15" y="34"/>
                      </a:lnTo>
                      <a:lnTo>
                        <a:pt x="29" y="0"/>
                      </a:lnTo>
                      <a:lnTo>
                        <a:pt x="365" y="0"/>
                      </a:lnTo>
                      <a:lnTo>
                        <a:pt x="36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170080" y="2106720"/>
                  <a:ext cx="376200" cy="469800"/>
                </a:xfrm>
                <a:custGeom>
                  <a:avLst/>
                  <a:gdLst/>
                  <a:ahLst/>
                  <a:rect l="l" t="t" r="r" b="b"/>
                  <a:pathLst>
                    <a:path w="476" h="592">
                      <a:moveTo>
                        <a:pt x="225" y="592"/>
                      </a:moveTo>
                      <a:lnTo>
                        <a:pt x="216" y="538"/>
                      </a:lnTo>
                      <a:lnTo>
                        <a:pt x="219" y="483"/>
                      </a:lnTo>
                      <a:lnTo>
                        <a:pt x="231" y="431"/>
                      </a:lnTo>
                      <a:lnTo>
                        <a:pt x="250" y="380"/>
                      </a:lnTo>
                      <a:lnTo>
                        <a:pt x="275" y="333"/>
                      </a:lnTo>
                      <a:lnTo>
                        <a:pt x="303" y="291"/>
                      </a:lnTo>
                      <a:lnTo>
                        <a:pt x="328" y="253"/>
                      </a:lnTo>
                      <a:lnTo>
                        <a:pt x="350" y="222"/>
                      </a:lnTo>
                      <a:lnTo>
                        <a:pt x="476" y="297"/>
                      </a:lnTo>
                      <a:lnTo>
                        <a:pt x="325" y="21"/>
                      </a:lnTo>
                      <a:lnTo>
                        <a:pt x="0" y="0"/>
                      </a:lnTo>
                      <a:lnTo>
                        <a:pt x="113" y="79"/>
                      </a:lnTo>
                      <a:lnTo>
                        <a:pt x="101" y="101"/>
                      </a:lnTo>
                      <a:lnTo>
                        <a:pt x="87" y="124"/>
                      </a:lnTo>
                      <a:lnTo>
                        <a:pt x="73" y="150"/>
                      </a:lnTo>
                      <a:lnTo>
                        <a:pt x="61" y="178"/>
                      </a:lnTo>
                      <a:lnTo>
                        <a:pt x="51" y="205"/>
                      </a:lnTo>
                      <a:lnTo>
                        <a:pt x="46" y="233"/>
                      </a:lnTo>
                      <a:lnTo>
                        <a:pt x="47" y="259"/>
                      </a:lnTo>
                      <a:lnTo>
                        <a:pt x="55" y="282"/>
                      </a:lnTo>
                      <a:lnTo>
                        <a:pt x="80" y="328"/>
                      </a:lnTo>
                      <a:lnTo>
                        <a:pt x="108" y="377"/>
                      </a:lnTo>
                      <a:lnTo>
                        <a:pt x="137" y="430"/>
                      </a:lnTo>
                      <a:lnTo>
                        <a:pt x="163" y="479"/>
                      </a:lnTo>
                      <a:lnTo>
                        <a:pt x="188" y="523"/>
                      </a:lnTo>
                      <a:lnTo>
                        <a:pt x="208" y="559"/>
                      </a:lnTo>
                      <a:lnTo>
                        <a:pt x="221" y="584"/>
                      </a:lnTo>
                      <a:lnTo>
                        <a:pt x="225" y="5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835000" y="2082960"/>
                  <a:ext cx="300240" cy="349200"/>
                </a:xfrm>
                <a:custGeom>
                  <a:avLst/>
                  <a:gdLst/>
                  <a:ahLst/>
                  <a:rect l="l" t="t" r="r" b="b"/>
                  <a:pathLst>
                    <a:path w="379" h="440">
                      <a:moveTo>
                        <a:pt x="267" y="0"/>
                      </a:moveTo>
                      <a:lnTo>
                        <a:pt x="270" y="4"/>
                      </a:lnTo>
                      <a:lnTo>
                        <a:pt x="276" y="15"/>
                      </a:lnTo>
                      <a:lnTo>
                        <a:pt x="287" y="33"/>
                      </a:lnTo>
                      <a:lnTo>
                        <a:pt x="299" y="55"/>
                      </a:lnTo>
                      <a:lnTo>
                        <a:pt x="313" y="80"/>
                      </a:lnTo>
                      <a:lnTo>
                        <a:pt x="327" y="106"/>
                      </a:lnTo>
                      <a:lnTo>
                        <a:pt x="341" y="132"/>
                      </a:lnTo>
                      <a:lnTo>
                        <a:pt x="354" y="155"/>
                      </a:lnTo>
                      <a:lnTo>
                        <a:pt x="365" y="177"/>
                      </a:lnTo>
                      <a:lnTo>
                        <a:pt x="372" y="199"/>
                      </a:lnTo>
                      <a:lnTo>
                        <a:pt x="378" y="223"/>
                      </a:lnTo>
                      <a:lnTo>
                        <a:pt x="379" y="246"/>
                      </a:lnTo>
                      <a:lnTo>
                        <a:pt x="378" y="268"/>
                      </a:lnTo>
                      <a:lnTo>
                        <a:pt x="374" y="292"/>
                      </a:lnTo>
                      <a:lnTo>
                        <a:pt x="367" y="314"/>
                      </a:lnTo>
                      <a:lnTo>
                        <a:pt x="357" y="334"/>
                      </a:lnTo>
                      <a:lnTo>
                        <a:pt x="343" y="355"/>
                      </a:lnTo>
                      <a:lnTo>
                        <a:pt x="328" y="374"/>
                      </a:lnTo>
                      <a:lnTo>
                        <a:pt x="309" y="391"/>
                      </a:lnTo>
                      <a:lnTo>
                        <a:pt x="285" y="406"/>
                      </a:lnTo>
                      <a:lnTo>
                        <a:pt x="260" y="418"/>
                      </a:lnTo>
                      <a:lnTo>
                        <a:pt x="231" y="429"/>
                      </a:lnTo>
                      <a:lnTo>
                        <a:pt x="199" y="436"/>
                      </a:lnTo>
                      <a:lnTo>
                        <a:pt x="164" y="440"/>
                      </a:lnTo>
                      <a:lnTo>
                        <a:pt x="0" y="148"/>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2679480" y="2338560"/>
                  <a:ext cx="436680" cy="442800"/>
                </a:xfrm>
                <a:custGeom>
                  <a:avLst/>
                  <a:gdLst/>
                  <a:ahLst/>
                  <a:rect l="l" t="t" r="r" b="b"/>
                  <a:pathLst>
                    <a:path w="551" h="559">
                      <a:moveTo>
                        <a:pt x="551" y="74"/>
                      </a:moveTo>
                      <a:lnTo>
                        <a:pt x="530" y="94"/>
                      </a:lnTo>
                      <a:lnTo>
                        <a:pt x="508" y="109"/>
                      </a:lnTo>
                      <a:lnTo>
                        <a:pt x="484" y="122"/>
                      </a:lnTo>
                      <a:lnTo>
                        <a:pt x="459" y="133"/>
                      </a:lnTo>
                      <a:lnTo>
                        <a:pt x="433" y="142"/>
                      </a:lnTo>
                      <a:lnTo>
                        <a:pt x="407" y="147"/>
                      </a:lnTo>
                      <a:lnTo>
                        <a:pt x="379" y="151"/>
                      </a:lnTo>
                      <a:lnTo>
                        <a:pt x="353" y="154"/>
                      </a:lnTo>
                      <a:lnTo>
                        <a:pt x="325" y="156"/>
                      </a:lnTo>
                      <a:lnTo>
                        <a:pt x="299" y="157"/>
                      </a:lnTo>
                      <a:lnTo>
                        <a:pt x="273" y="156"/>
                      </a:lnTo>
                      <a:lnTo>
                        <a:pt x="248" y="154"/>
                      </a:lnTo>
                      <a:lnTo>
                        <a:pt x="224" y="153"/>
                      </a:lnTo>
                      <a:lnTo>
                        <a:pt x="204" y="150"/>
                      </a:lnTo>
                      <a:lnTo>
                        <a:pt x="183" y="149"/>
                      </a:lnTo>
                      <a:lnTo>
                        <a:pt x="165" y="147"/>
                      </a:lnTo>
                      <a:lnTo>
                        <a:pt x="170" y="0"/>
                      </a:lnTo>
                      <a:lnTo>
                        <a:pt x="0" y="266"/>
                      </a:lnTo>
                      <a:lnTo>
                        <a:pt x="141" y="559"/>
                      </a:lnTo>
                      <a:lnTo>
                        <a:pt x="154" y="423"/>
                      </a:lnTo>
                      <a:lnTo>
                        <a:pt x="179" y="423"/>
                      </a:lnTo>
                      <a:lnTo>
                        <a:pt x="208" y="423"/>
                      </a:lnTo>
                      <a:lnTo>
                        <a:pt x="237" y="423"/>
                      </a:lnTo>
                      <a:lnTo>
                        <a:pt x="267" y="420"/>
                      </a:lnTo>
                      <a:lnTo>
                        <a:pt x="296" y="414"/>
                      </a:lnTo>
                      <a:lnTo>
                        <a:pt x="323" y="405"/>
                      </a:lnTo>
                      <a:lnTo>
                        <a:pt x="345" y="392"/>
                      </a:lnTo>
                      <a:lnTo>
                        <a:pt x="361" y="373"/>
                      </a:lnTo>
                      <a:lnTo>
                        <a:pt x="389" y="329"/>
                      </a:lnTo>
                      <a:lnTo>
                        <a:pt x="419" y="281"/>
                      </a:lnTo>
                      <a:lnTo>
                        <a:pt x="451" y="231"/>
                      </a:lnTo>
                      <a:lnTo>
                        <a:pt x="482" y="183"/>
                      </a:lnTo>
                      <a:lnTo>
                        <a:pt x="509" y="140"/>
                      </a:lnTo>
                      <a:lnTo>
                        <a:pt x="530" y="106"/>
                      </a:lnTo>
                      <a:lnTo>
                        <a:pt x="545" y="83"/>
                      </a:lnTo>
                      <a:lnTo>
                        <a:pt x="55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2340000" y="1835280"/>
                  <a:ext cx="344160" cy="318960"/>
                </a:xfrm>
                <a:custGeom>
                  <a:avLst/>
                  <a:gdLst/>
                  <a:ahLst/>
                  <a:rect l="l" t="t" r="r" b="b"/>
                  <a:pathLst>
                    <a:path w="435" h="402">
                      <a:moveTo>
                        <a:pt x="0" y="245"/>
                      </a:moveTo>
                      <a:lnTo>
                        <a:pt x="3" y="241"/>
                      </a:lnTo>
                      <a:lnTo>
                        <a:pt x="10" y="229"/>
                      </a:lnTo>
                      <a:lnTo>
                        <a:pt x="20" y="212"/>
                      </a:lnTo>
                      <a:lnTo>
                        <a:pt x="32" y="191"/>
                      </a:lnTo>
                      <a:lnTo>
                        <a:pt x="47" y="166"/>
                      </a:lnTo>
                      <a:lnTo>
                        <a:pt x="63" y="140"/>
                      </a:lnTo>
                      <a:lnTo>
                        <a:pt x="78" y="115"/>
                      </a:lnTo>
                      <a:lnTo>
                        <a:pt x="92" y="92"/>
                      </a:lnTo>
                      <a:lnTo>
                        <a:pt x="106" y="73"/>
                      </a:lnTo>
                      <a:lnTo>
                        <a:pt x="121" y="55"/>
                      </a:lnTo>
                      <a:lnTo>
                        <a:pt x="139" y="38"/>
                      </a:lnTo>
                      <a:lnTo>
                        <a:pt x="158" y="26"/>
                      </a:lnTo>
                      <a:lnTo>
                        <a:pt x="179" y="15"/>
                      </a:lnTo>
                      <a:lnTo>
                        <a:pt x="200" y="6"/>
                      </a:lnTo>
                      <a:lnTo>
                        <a:pt x="223" y="1"/>
                      </a:lnTo>
                      <a:lnTo>
                        <a:pt x="247" y="0"/>
                      </a:lnTo>
                      <a:lnTo>
                        <a:pt x="270" y="1"/>
                      </a:lnTo>
                      <a:lnTo>
                        <a:pt x="295" y="5"/>
                      </a:lnTo>
                      <a:lnTo>
                        <a:pt x="320" y="13"/>
                      </a:lnTo>
                      <a:lnTo>
                        <a:pt x="343" y="26"/>
                      </a:lnTo>
                      <a:lnTo>
                        <a:pt x="368" y="41"/>
                      </a:lnTo>
                      <a:lnTo>
                        <a:pt x="391" y="62"/>
                      </a:lnTo>
                      <a:lnTo>
                        <a:pt x="414" y="85"/>
                      </a:lnTo>
                      <a:lnTo>
                        <a:pt x="435" y="114"/>
                      </a:lnTo>
                      <a:lnTo>
                        <a:pt x="263" y="402"/>
                      </a:lnTo>
                      <a:lnTo>
                        <a:pt x="0"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577960" y="1812960"/>
                  <a:ext cx="496800" cy="298440"/>
                </a:xfrm>
                <a:custGeom>
                  <a:avLst/>
                  <a:gdLst/>
                  <a:ahLst/>
                  <a:rect l="l" t="t" r="r" b="b"/>
                  <a:pathLst>
                    <a:path w="626" h="377">
                      <a:moveTo>
                        <a:pt x="0" y="0"/>
                      </a:moveTo>
                      <a:lnTo>
                        <a:pt x="26" y="8"/>
                      </a:lnTo>
                      <a:lnTo>
                        <a:pt x="52" y="19"/>
                      </a:lnTo>
                      <a:lnTo>
                        <a:pt x="74" y="33"/>
                      </a:lnTo>
                      <a:lnTo>
                        <a:pt x="96" y="49"/>
                      </a:lnTo>
                      <a:lnTo>
                        <a:pt x="117" y="67"/>
                      </a:lnTo>
                      <a:lnTo>
                        <a:pt x="135" y="86"/>
                      </a:lnTo>
                      <a:lnTo>
                        <a:pt x="153" y="108"/>
                      </a:lnTo>
                      <a:lnTo>
                        <a:pt x="168" y="130"/>
                      </a:lnTo>
                      <a:lnTo>
                        <a:pt x="184" y="152"/>
                      </a:lnTo>
                      <a:lnTo>
                        <a:pt x="197" y="176"/>
                      </a:lnTo>
                      <a:lnTo>
                        <a:pt x="210" y="198"/>
                      </a:lnTo>
                      <a:lnTo>
                        <a:pt x="221" y="220"/>
                      </a:lnTo>
                      <a:lnTo>
                        <a:pt x="231" y="241"/>
                      </a:lnTo>
                      <a:lnTo>
                        <a:pt x="240" y="261"/>
                      </a:lnTo>
                      <a:lnTo>
                        <a:pt x="249" y="279"/>
                      </a:lnTo>
                      <a:lnTo>
                        <a:pt x="257" y="296"/>
                      </a:lnTo>
                      <a:lnTo>
                        <a:pt x="125" y="365"/>
                      </a:lnTo>
                      <a:lnTo>
                        <a:pt x="442" y="377"/>
                      </a:lnTo>
                      <a:lnTo>
                        <a:pt x="626" y="108"/>
                      </a:lnTo>
                      <a:lnTo>
                        <a:pt x="500" y="166"/>
                      </a:lnTo>
                      <a:lnTo>
                        <a:pt x="488" y="144"/>
                      </a:lnTo>
                      <a:lnTo>
                        <a:pt x="475" y="119"/>
                      </a:lnTo>
                      <a:lnTo>
                        <a:pt x="459" y="95"/>
                      </a:lnTo>
                      <a:lnTo>
                        <a:pt x="442" y="70"/>
                      </a:lnTo>
                      <a:lnTo>
                        <a:pt x="423" y="48"/>
                      </a:lnTo>
                      <a:lnTo>
                        <a:pt x="402" y="30"/>
                      </a:lnTo>
                      <a:lnTo>
                        <a:pt x="380" y="18"/>
                      </a:lnTo>
                      <a:lnTo>
                        <a:pt x="355" y="12"/>
                      </a:lnTo>
                      <a:lnTo>
                        <a:pt x="330" y="11"/>
                      </a:lnTo>
                      <a:lnTo>
                        <a:pt x="303" y="11"/>
                      </a:lnTo>
                      <a:lnTo>
                        <a:pt x="275" y="9"/>
                      </a:lnTo>
                      <a:lnTo>
                        <a:pt x="246" y="8"/>
                      </a:lnTo>
                      <a:lnTo>
                        <a:pt x="215" y="8"/>
                      </a:lnTo>
                      <a:lnTo>
                        <a:pt x="186" y="7"/>
                      </a:lnTo>
                      <a:lnTo>
                        <a:pt x="157" y="5"/>
                      </a:lnTo>
                      <a:lnTo>
                        <a:pt x="130" y="4"/>
                      </a:lnTo>
                      <a:lnTo>
                        <a:pt x="102" y="4"/>
                      </a:lnTo>
                      <a:lnTo>
                        <a:pt x="78" y="2"/>
                      </a:lnTo>
                      <a:lnTo>
                        <a:pt x="56" y="1"/>
                      </a:lnTo>
                      <a:lnTo>
                        <a:pt x="37" y="1"/>
                      </a:lnTo>
                      <a:lnTo>
                        <a:pt x="22" y="1"/>
                      </a:lnTo>
                      <a:lnTo>
                        <a:pt x="9" y="0"/>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54" name=""/>
          <p:cNvSpPr/>
          <p:nvPr/>
        </p:nvSpPr>
        <p:spPr>
          <a:xfrm>
            <a:off x="6691320" y="4367160"/>
            <a:ext cx="118908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6676560" y="4425840"/>
            <a:ext cx="75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ransport</a:t>
            </a:r>
            <a:endParaRPr b="0" lang="en-US" sz="1200" spc="-1" strike="noStrike">
              <a:solidFill>
                <a:srgbClr val="000000"/>
              </a:solidFill>
              <a:latin typeface="Arial"/>
            </a:endParaRPr>
          </a:p>
        </p:txBody>
      </p:sp>
      <p:sp>
        <p:nvSpPr>
          <p:cNvPr id="1156" name=""/>
          <p:cNvSpPr/>
          <p:nvPr/>
        </p:nvSpPr>
        <p:spPr>
          <a:xfrm>
            <a:off x="6478560" y="1477800"/>
            <a:ext cx="1019160" cy="37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441480" y="153684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Processing</a:t>
            </a:r>
            <a:endParaRPr b="0" lang="en-US" sz="1200" spc="-1" strike="noStrike">
              <a:solidFill>
                <a:srgbClr val="000000"/>
              </a:solidFill>
              <a:latin typeface="Arial"/>
            </a:endParaRPr>
          </a:p>
        </p:txBody>
      </p:sp>
      <p:sp>
        <p:nvSpPr>
          <p:cNvPr id="1158" name=""/>
          <p:cNvSpPr/>
          <p:nvPr/>
        </p:nvSpPr>
        <p:spPr>
          <a:xfrm>
            <a:off x="4521240" y="5425920"/>
            <a:ext cx="1293840" cy="3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4797720" y="5484960"/>
            <a:ext cx="60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Retailer</a:t>
            </a:r>
            <a:endParaRPr b="0" lang="en-US" sz="1200" spc="-1" strike="noStrike">
              <a:solidFill>
                <a:srgbClr val="000000"/>
              </a:solidFill>
              <a:latin typeface="Arial"/>
            </a:endParaRPr>
          </a:p>
        </p:txBody>
      </p:sp>
      <p:sp>
        <p:nvSpPr>
          <p:cNvPr id="1160" name=""/>
          <p:cNvSpPr/>
          <p:nvPr/>
        </p:nvSpPr>
        <p:spPr>
          <a:xfrm>
            <a:off x="2670480" y="5130720"/>
            <a:ext cx="102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Consumption</a:t>
            </a:r>
            <a:endParaRPr b="0" lang="en-US" sz="1200" spc="-1" strike="noStrike">
              <a:solidFill>
                <a:srgbClr val="000000"/>
              </a:solidFill>
              <a:latin typeface="Arial"/>
            </a:endParaRPr>
          </a:p>
        </p:txBody>
      </p:sp>
      <p:sp>
        <p:nvSpPr>
          <p:cNvPr id="1161" name=""/>
          <p:cNvSpPr/>
          <p:nvPr/>
        </p:nvSpPr>
        <p:spPr>
          <a:xfrm>
            <a:off x="3313080" y="1000080"/>
            <a:ext cx="1190520" cy="36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3477600" y="1058760"/>
            <a:ext cx="86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Agriculture</a:t>
            </a:r>
            <a:endParaRPr b="0" lang="en-US" sz="1200" spc="-1" strike="noStrike">
              <a:solidFill>
                <a:srgbClr val="000000"/>
              </a:solidFill>
              <a:latin typeface="Arial"/>
            </a:endParaRPr>
          </a:p>
        </p:txBody>
      </p:sp>
      <p:sp>
        <p:nvSpPr>
          <p:cNvPr id="1163" name=""/>
          <p:cNvSpPr/>
          <p:nvPr/>
        </p:nvSpPr>
        <p:spPr>
          <a:xfrm>
            <a:off x="1251000" y="1682640"/>
            <a:ext cx="95256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647360" y="1600200"/>
            <a:ext cx="7869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Was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reatment</a:t>
            </a:r>
            <a:endParaRPr b="0" lang="en-US" sz="1200" spc="-1" strike="noStrike">
              <a:solidFill>
                <a:srgbClr val="000000"/>
              </a:solidFill>
              <a:latin typeface="Arial"/>
            </a:endParaRPr>
          </a:p>
        </p:txBody>
      </p:sp>
      <p:sp>
        <p:nvSpPr>
          <p:cNvPr id="1165" name=""/>
          <p:cNvSpPr/>
          <p:nvPr/>
        </p:nvSpPr>
        <p:spPr>
          <a:xfrm>
            <a:off x="1626840" y="19098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1166" name=""/>
          <p:cNvSpPr/>
          <p:nvPr/>
        </p:nvSpPr>
        <p:spPr>
          <a:xfrm>
            <a:off x="1341360" y="3841920"/>
            <a:ext cx="631800" cy="41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391400" y="389880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Waste</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51EBA52-638C-4F72-A0B7-833004DBC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Why to use Life Cycle Assessment?</a:t>
            </a:r>
            <a:endParaRPr b="0" lang="en-US" sz="3600" spc="-1" strike="noStrike">
              <a:solidFill>
                <a:srgbClr val="0000cc"/>
              </a:solidFill>
              <a:latin typeface="Arial"/>
            </a:endParaRPr>
          </a:p>
        </p:txBody>
      </p:sp>
      <p:sp>
        <p:nvSpPr>
          <p:cNvPr id="11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30000"/>
              </a:lnSpc>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ecause it is product oriented,</a:t>
            </a:r>
            <a:endParaRPr b="0" lang="en-US" sz="2900" spc="-1" strike="noStrike">
              <a:solidFill>
                <a:srgbClr val="000000"/>
              </a:solidFill>
              <a:latin typeface="Verdana"/>
            </a:endParaRPr>
          </a:p>
          <a:p>
            <a:pPr marL="343080" indent="-343080">
              <a:lnSpc>
                <a:spcPct val="130000"/>
              </a:lnSpc>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ecause it is integrative,</a:t>
            </a:r>
            <a:endParaRPr b="0" lang="en-US" sz="2900" spc="-1" strike="noStrike">
              <a:solidFill>
                <a:srgbClr val="000000"/>
              </a:solidFill>
              <a:latin typeface="Verdana"/>
            </a:endParaRPr>
          </a:p>
          <a:p>
            <a:pPr marL="343080" indent="-343080">
              <a:lnSpc>
                <a:spcPct val="130000"/>
              </a:lnSpc>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ecause it is scientific and quantitativ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B5225DD9-13AB-4CF9-96D2-02D119F9B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cc"/>
                </a:solidFill>
                <a:latin typeface="Arial"/>
              </a:rPr>
              <a:t>Structure of LCA studies</a:t>
            </a:r>
            <a:endParaRPr b="0" lang="en-US" sz="3600" spc="-1" strike="noStrike">
              <a:solidFill>
                <a:srgbClr val="0000cc"/>
              </a:solidFill>
              <a:latin typeface="Arial"/>
            </a:endParaRPr>
          </a:p>
        </p:txBody>
      </p:sp>
      <p:sp>
        <p:nvSpPr>
          <p:cNvPr id="1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524"/>
              </a:spcBef>
              <a:buClr>
                <a:srgbClr val="0000cc"/>
              </a:buClr>
              <a:buSzPct val="85000"/>
              <a:buFont typeface="Wingdings" charset="2"/>
              <a:buChar char=""/>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nalysis:</a:t>
            </a:r>
            <a:r>
              <a:rPr b="0" lang="en-GB" sz="2100" spc="-1" strike="noStrike">
                <a:solidFill>
                  <a:srgbClr val="000000"/>
                </a:solidFill>
                <a:latin typeface="Verdana"/>
              </a:rPr>
              <a:t>	</a:t>
            </a:r>
            <a:endParaRPr b="0" lang="en-US" sz="2100" spc="-1" strike="noStrike">
              <a:solidFill>
                <a:srgbClr val="000000"/>
              </a:solidFill>
              <a:latin typeface="Verdana"/>
            </a:endParaRPr>
          </a:p>
          <a:p>
            <a:pPr lvl="1" marL="933480" indent="-476280">
              <a:spcBef>
                <a:spcPts val="524"/>
              </a:spcBef>
              <a:buClr>
                <a:srgbClr val="0000cc"/>
              </a:buClr>
              <a:buSzPct val="85000"/>
              <a:buFont typeface="Verdana"/>
              <a:buAutoNum type="arabicPeriod"/>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Goal definition and scoping</a:t>
            </a:r>
            <a:endParaRPr b="0" lang="en-US" sz="2100" spc="-1" strike="noStrike">
              <a:solidFill>
                <a:srgbClr val="000000"/>
              </a:solidFill>
              <a:latin typeface="Verdana"/>
            </a:endParaRPr>
          </a:p>
          <a:p>
            <a:pPr lvl="1" marL="933480" indent="-476280">
              <a:spcBef>
                <a:spcPts val="524"/>
              </a:spcBef>
              <a:buClr>
                <a:srgbClr val="0000cc"/>
              </a:buClr>
              <a:buSzPct val="85000"/>
              <a:buFont typeface="Verdana"/>
              <a:buAutoNum type="arabicPeriod"/>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ventory analysis</a:t>
            </a:r>
            <a:endParaRPr b="0" lang="en-US" sz="2100" spc="-1" strike="noStrike">
              <a:solidFill>
                <a:srgbClr val="000000"/>
              </a:solidFill>
              <a:latin typeface="Verdana"/>
            </a:endParaRPr>
          </a:p>
          <a:p>
            <a:pPr marL="552600" indent="-552600">
              <a:spcBef>
                <a:spcPts val="524"/>
              </a:spcBef>
              <a:buClr>
                <a:srgbClr val="0000cc"/>
              </a:buClr>
              <a:buSzPct val="85000"/>
              <a:buFont typeface="Wingdings" charset="2"/>
              <a:buChar char=""/>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ssessment: </a:t>
            </a:r>
            <a:endParaRPr b="0" lang="en-US" sz="2100" spc="-1" strike="noStrike">
              <a:solidFill>
                <a:srgbClr val="000000"/>
              </a:solidFill>
              <a:latin typeface="Verdana"/>
            </a:endParaRPr>
          </a:p>
          <a:p>
            <a:pPr lvl="1" marL="933480" indent="-476280">
              <a:spcBef>
                <a:spcPts val="524"/>
              </a:spcBef>
              <a:buClr>
                <a:srgbClr val="0000cc"/>
              </a:buClr>
              <a:buSzPct val="85000"/>
              <a:buFont typeface="Verdana"/>
              <a:buAutoNum type="arabicPeriod" startAt="3"/>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mpact assessment</a:t>
            </a:r>
            <a:endParaRPr b="0" lang="en-US" sz="2100" spc="-1" strike="noStrike">
              <a:solidFill>
                <a:srgbClr val="000000"/>
              </a:solidFill>
              <a:latin typeface="Verdana"/>
            </a:endParaRPr>
          </a:p>
          <a:p>
            <a:pPr lvl="2" marL="1333440" indent="0">
              <a:spcBef>
                <a:spcPts val="575"/>
              </a:spcBef>
              <a:buNone/>
              <a:tabLst>
                <a:tab algn="l" pos="0"/>
                <a:tab algn="l" pos="21510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3a. Classification </a:t>
            </a:r>
            <a:endParaRPr b="0" lang="en-US" sz="2300" spc="-1" strike="noStrike">
              <a:solidFill>
                <a:srgbClr val="000000"/>
              </a:solidFill>
              <a:latin typeface="Verdana"/>
            </a:endParaRPr>
          </a:p>
          <a:p>
            <a:pPr lvl="2" marL="1333440" indent="0">
              <a:spcBef>
                <a:spcPts val="575"/>
              </a:spcBef>
              <a:buNone/>
              <a:tabLst>
                <a:tab algn="l" pos="0"/>
                <a:tab algn="l" pos="21510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3b. Characterization</a:t>
            </a:r>
            <a:endParaRPr b="0" lang="en-US" sz="2300" spc="-1" strike="noStrike">
              <a:solidFill>
                <a:srgbClr val="000000"/>
              </a:solidFill>
              <a:latin typeface="Verdana"/>
            </a:endParaRPr>
          </a:p>
          <a:p>
            <a:pPr lvl="2" marL="1333440" indent="0">
              <a:spcBef>
                <a:spcPts val="575"/>
              </a:spcBef>
              <a:buNone/>
              <a:tabLst>
                <a:tab algn="l" pos="0"/>
                <a:tab algn="l" pos="21510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3c. Valuation</a:t>
            </a:r>
            <a:endParaRPr b="0" lang="en-US" sz="2300" spc="-1" strike="noStrike">
              <a:solidFill>
                <a:srgbClr val="000000"/>
              </a:solidFill>
              <a:latin typeface="Verdana"/>
            </a:endParaRPr>
          </a:p>
          <a:p>
            <a:pPr lvl="1" marL="933480" indent="-476280">
              <a:spcBef>
                <a:spcPts val="524"/>
              </a:spcBef>
              <a:buClr>
                <a:srgbClr val="0000cc"/>
              </a:buClr>
              <a:buSzPct val="85000"/>
              <a:buFont typeface="Verdana"/>
              <a:buAutoNum type="arabicPeriod" startAt="4"/>
              <a:tabLst>
                <a:tab algn="l" pos="21510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pretation and improvement analysis</a:t>
            </a:r>
            <a:endParaRPr b="0" lang="en-US" sz="2100" spc="-1" strike="noStrike">
              <a:solidFill>
                <a:srgbClr val="000000"/>
              </a:solidFill>
              <a:latin typeface="Verdana"/>
            </a:endParaRPr>
          </a:p>
          <a:p>
            <a:pPr marL="552600" indent="0">
              <a:spcBef>
                <a:spcPts val="524"/>
              </a:spcBef>
              <a:buNone/>
              <a:tabLst>
                <a:tab algn="l" pos="21510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47145B6-8653-4C3C-8A3A-FBA81D32C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ife Cycle Assessment according to UNE-EN ISO 14040 (1997</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73" name=""/>
          <p:cNvSpPr/>
          <p:nvPr/>
        </p:nvSpPr>
        <p:spPr>
          <a:xfrm>
            <a:off x="457200" y="762120"/>
            <a:ext cx="8305920" cy="4876560"/>
          </a:xfrm>
          <a:prstGeom prst="rect">
            <a:avLst/>
          </a:prstGeom>
          <a:solidFill>
            <a:srgbClr val="ffffff">
              <a:alpha val="50000"/>
            </a:srgbClr>
          </a:solidFill>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846000" y="1089000"/>
            <a:ext cx="4335480" cy="4257720"/>
          </a:xfrm>
          <a:prstGeom prst="rect">
            <a:avLst/>
          </a:prstGeom>
          <a:solidFill>
            <a:srgbClr val="ffffff">
              <a:alpha val="50000"/>
            </a:srgbClr>
          </a:solidFill>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033560" y="1295280"/>
            <a:ext cx="1328760" cy="946440"/>
          </a:xfrm>
          <a:prstGeom prst="rect">
            <a:avLst/>
          </a:prstGeom>
          <a:solidFill>
            <a:srgbClr val="ffffff">
              <a:alpha val="50000"/>
            </a:srgbClr>
          </a:solidFill>
          <a:ln w="255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Goal and scope definition</a:t>
            </a:r>
            <a:endParaRPr b="0" lang="en-US" sz="1800" spc="-1" strike="noStrike">
              <a:solidFill>
                <a:srgbClr val="000000"/>
              </a:solidFill>
              <a:latin typeface="Arial"/>
            </a:endParaRPr>
          </a:p>
        </p:txBody>
      </p:sp>
      <p:sp>
        <p:nvSpPr>
          <p:cNvPr id="1176" name=""/>
          <p:cNvSpPr/>
          <p:nvPr/>
        </p:nvSpPr>
        <p:spPr>
          <a:xfrm>
            <a:off x="1033560" y="3051000"/>
            <a:ext cx="1328760" cy="632160"/>
          </a:xfrm>
          <a:prstGeom prst="rect">
            <a:avLst/>
          </a:prstGeom>
          <a:solidFill>
            <a:srgbClr val="ffffff">
              <a:alpha val="50000"/>
            </a:srgbClr>
          </a:solidFill>
          <a:ln w="255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ventory analysis</a:t>
            </a:r>
            <a:endParaRPr b="0" lang="en-US" sz="1800" spc="-1" strike="noStrike">
              <a:solidFill>
                <a:srgbClr val="000000"/>
              </a:solidFill>
              <a:latin typeface="Arial"/>
            </a:endParaRPr>
          </a:p>
        </p:txBody>
      </p:sp>
      <p:sp>
        <p:nvSpPr>
          <p:cNvPr id="1177" name=""/>
          <p:cNvSpPr/>
          <p:nvPr/>
        </p:nvSpPr>
        <p:spPr>
          <a:xfrm>
            <a:off x="914400" y="4410000"/>
            <a:ext cx="1600200" cy="771480"/>
          </a:xfrm>
          <a:prstGeom prst="rect">
            <a:avLst/>
          </a:prstGeom>
          <a:solidFill>
            <a:srgbClr val="ffffff">
              <a:alpha val="50000"/>
            </a:srgbClr>
          </a:solidFill>
          <a:ln w="255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mpact assessment</a:t>
            </a:r>
            <a:endParaRPr b="0" lang="en-US" sz="1800" spc="-1" strike="noStrike">
              <a:solidFill>
                <a:srgbClr val="000000"/>
              </a:solidFill>
              <a:latin typeface="Arial"/>
            </a:endParaRPr>
          </a:p>
        </p:txBody>
      </p:sp>
      <p:sp>
        <p:nvSpPr>
          <p:cNvPr id="1178" name=""/>
          <p:cNvSpPr/>
          <p:nvPr/>
        </p:nvSpPr>
        <p:spPr>
          <a:xfrm>
            <a:off x="1407960" y="2241720"/>
            <a:ext cx="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395360" y="368316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V="1">
            <a:off x="1833480" y="36828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flipV="1">
            <a:off x="1859040" y="2241720"/>
            <a:ext cx="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003480" y="1352520"/>
            <a:ext cx="2025720" cy="3740040"/>
          </a:xfrm>
          <a:prstGeom prst="rect">
            <a:avLst/>
          </a:prstGeom>
          <a:solidFill>
            <a:srgbClr val="ffffff">
              <a:alpha val="50000"/>
            </a:srgbClr>
          </a:solidFill>
          <a:ln w="255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nterpreta</a:t>
            </a:r>
            <a:r>
              <a:rPr b="0" lang="es-ES_tradnl" sz="2000" spc="-1" strike="noStrike">
                <a:solidFill>
                  <a:srgbClr val="000000"/>
                </a:solidFill>
                <a:latin typeface="Verdana"/>
              </a:rPr>
              <a:t>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
          <p:cNvSpPr/>
          <p:nvPr/>
        </p:nvSpPr>
        <p:spPr>
          <a:xfrm>
            <a:off x="5770440" y="1981080"/>
            <a:ext cx="2840040" cy="24386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marL="103320" indent="-1033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rect applications:</a:t>
            </a:r>
            <a:endParaRPr b="0" lang="en-US" sz="1800" spc="-1" strike="noStrike">
              <a:solidFill>
                <a:srgbClr val="000000"/>
              </a:solidFill>
              <a:latin typeface="Arial"/>
            </a:endParaRPr>
          </a:p>
          <a:p>
            <a:pPr marL="103320" indent="-10332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duct improvement    and development</a:t>
            </a:r>
            <a:endParaRPr b="0" lang="en-US" sz="1800" spc="-1" strike="noStrike">
              <a:solidFill>
                <a:srgbClr val="000000"/>
              </a:solidFill>
              <a:latin typeface="Arial"/>
            </a:endParaRPr>
          </a:p>
          <a:p>
            <a:pPr marL="103320" indent="-10332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trat</a:t>
            </a:r>
            <a:r>
              <a:rPr b="0" lang="es-ES_tradnl" sz="1800" spc="-1" strike="noStrike">
                <a:solidFill>
                  <a:srgbClr val="000000"/>
                </a:solidFill>
                <a:latin typeface="Verdana"/>
              </a:rPr>
              <a:t>egic planning</a:t>
            </a:r>
            <a:endParaRPr b="0" lang="en-US" sz="1800" spc="-1" strike="noStrike">
              <a:solidFill>
                <a:srgbClr val="000000"/>
              </a:solidFill>
              <a:latin typeface="Arial"/>
            </a:endParaRPr>
          </a:p>
          <a:p>
            <a:pPr marL="103320" indent="-10332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ublic policy making</a:t>
            </a:r>
            <a:endParaRPr b="0" lang="en-US" sz="1800" spc="-1" strike="noStrike">
              <a:solidFill>
                <a:srgbClr val="000000"/>
              </a:solidFill>
              <a:latin typeface="Arial"/>
            </a:endParaRPr>
          </a:p>
          <a:p>
            <a:pPr marL="103320" indent="-10332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arketing</a:t>
            </a:r>
            <a:endParaRPr b="0" lang="en-US" sz="1800" spc="-1" strike="noStrike">
              <a:solidFill>
                <a:srgbClr val="000000"/>
              </a:solidFill>
              <a:latin typeface="Arial"/>
            </a:endParaRPr>
          </a:p>
          <a:p>
            <a:pPr marL="103320" indent="-10332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a:t>
            </a:r>
            <a:r>
              <a:rPr b="0" lang="es-ES_tradnl" sz="1800" spc="-1" strike="noStrike">
                <a:solidFill>
                  <a:srgbClr val="000000"/>
                </a:solidFill>
                <a:latin typeface="Verdana"/>
              </a:rPr>
              <a:t>ther</a:t>
            </a:r>
            <a:endParaRPr b="0" lang="en-US" sz="1800" spc="-1" strike="noStrike">
              <a:solidFill>
                <a:srgbClr val="000000"/>
              </a:solidFill>
              <a:latin typeface="Arial"/>
            </a:endParaRPr>
          </a:p>
        </p:txBody>
      </p:sp>
      <p:sp>
        <p:nvSpPr>
          <p:cNvPr id="1184" name=""/>
          <p:cNvSpPr/>
          <p:nvPr/>
        </p:nvSpPr>
        <p:spPr>
          <a:xfrm>
            <a:off x="5173560" y="2900520"/>
            <a:ext cx="61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flipH="1">
            <a:off x="5154480" y="3218040"/>
            <a:ext cx="61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6" name=""/>
          <p:cNvGrpSpPr/>
          <p:nvPr/>
        </p:nvGrpSpPr>
        <p:grpSpPr>
          <a:xfrm>
            <a:off x="2374560" y="1739880"/>
            <a:ext cx="673200" cy="3130560"/>
            <a:chOff x="2374560" y="1739880"/>
            <a:chExt cx="673200" cy="3130560"/>
          </a:xfrm>
        </p:grpSpPr>
        <p:sp>
          <p:nvSpPr>
            <p:cNvPr id="1187" name=""/>
            <p:cNvSpPr/>
            <p:nvPr/>
          </p:nvSpPr>
          <p:spPr>
            <a:xfrm>
              <a:off x="2410200" y="1739880"/>
              <a:ext cx="63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H="1">
              <a:off x="2392200" y="1962360"/>
              <a:ext cx="63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445480" y="3265200"/>
              <a:ext cx="60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H="1">
              <a:off x="2427840" y="3488040"/>
              <a:ext cx="61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2392560" y="4647960"/>
              <a:ext cx="65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H="1">
              <a:off x="2374560" y="487044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EF0AD6F-0E11-4CAF-9802-4A484DC62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cc"/>
                </a:solidFill>
                <a:latin typeface="Arial"/>
              </a:rPr>
              <a:t>Goal and scope definition</a:t>
            </a:r>
            <a:endParaRPr b="0" lang="en-US" sz="3600" spc="-1" strike="noStrike">
              <a:solidFill>
                <a:srgbClr val="0000cc"/>
              </a:solidFill>
              <a:latin typeface="Arial"/>
            </a:endParaRPr>
          </a:p>
        </p:txBody>
      </p:sp>
      <p:sp>
        <p:nvSpPr>
          <p:cNvPr id="11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oal: determining the use to which the environmental analysis will be put and assessing what can it and cannot be used.</a:t>
            </a:r>
            <a:endParaRPr b="0" lang="en-US" sz="2500" spc="-1" strike="noStrike">
              <a:solidFill>
                <a:srgbClr val="000000"/>
              </a:solidFill>
              <a:latin typeface="Verdana"/>
            </a:endParaRPr>
          </a:p>
          <a:p>
            <a:pPr marL="343080" indent="-343080">
              <a:lnSpc>
                <a:spcPct val="11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cope: to identify and to define the object of the assessment and to limit it to include which is significant for the goal of the LCA.</a:t>
            </a:r>
            <a:endParaRPr b="0" lang="en-US" sz="2500" spc="-1" strike="noStrike">
              <a:solidFill>
                <a:srgbClr val="000000"/>
              </a:solidFill>
              <a:latin typeface="Verdana"/>
            </a:endParaRPr>
          </a:p>
          <a:p>
            <a:pPr marL="343080" indent="-343080">
              <a:lnSpc>
                <a:spcPct val="110000"/>
              </a:lnSpc>
              <a:spcBef>
                <a:spcPts val="62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Definition of functional unit and system boundarie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D28B2448-0FEA-4A99-A414-58F346AB4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13:14:27Z</dcterms:created>
  <dc:creator>neus sanjuan</dc:creator>
  <dc:description/>
  <dc:language>en-US</dc:language>
  <cp:lastModifiedBy>nsanjuan</cp:lastModifiedBy>
  <dcterms:modified xsi:type="dcterms:W3CDTF">2006-10-27T13:15:54Z</dcterms:modified>
  <cp:revision>110</cp:revision>
  <dc:subject/>
  <dc:title>Life cycle assessment of food products and production systems</dc:title>
</cp:coreProperties>
</file>