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4.jpeg" ContentType="image/jpeg"/>
  <Override PartName="/ppt/media/image23.wmf" ContentType="image/x-wmf"/>
  <Override PartName="/ppt/media/image22.wmf" ContentType="image/x-wmf"/>
  <Override PartName="/ppt/media/image5.wmf" ContentType="image/x-wmf"/>
  <Override PartName="/ppt/media/image6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jpeg" ContentType="image/jpeg"/>
  <Override PartName="/ppt/media/image3.png" ContentType="image/png"/>
  <Override PartName="/ppt/media/image10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59C-2E14-4883-9618-ADDC397C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8064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" y="5853600"/>
            <a:ext cx="8064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552-A634-4CC1-BAC9-0CF0CA5C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44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000" y="58536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440" y="58536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F61-2453-4FB5-BEF9-25944C3E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54954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0920" y="54954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00" y="58536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58536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0920" y="58536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BF7-8005-4DA1-82EC-EEDDFA67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F985-A0B5-4404-91AB-5346C44A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2B41-EDA6-4DFA-B0A9-38A96FE5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9F2C-3780-409D-A050-DF793E3B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3935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440" y="5495400"/>
            <a:ext cx="3935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5F4B-F94B-43D3-87A7-BD619DA9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ED80-AD74-471C-9BF1-F8AB72DF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4581360"/>
            <a:ext cx="806436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68F6-140E-405E-8251-0DD811FB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440" y="5495400"/>
            <a:ext cx="3935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000" y="58536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0025-D4B1-4ED7-A842-BD5E1965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79A-5896-4973-8B70-7C64F3C0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3935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44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440" y="58536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AF47-BEC7-4CDD-A4B8-BFEFC534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44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" y="5853600"/>
            <a:ext cx="8064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0846-7DCA-4F46-9863-ADF63A98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8064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" y="5853600"/>
            <a:ext cx="8064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F712-5435-4AA1-9D91-1A50A5A8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44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000" y="58536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440" y="58536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F0E0-FE35-4BAA-8260-04DAD322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54954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0920" y="54954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" y="58536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58536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0920" y="58536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B1F0-5B3F-45F3-9901-6F5B1088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AB27-19E3-4311-8CDB-41F57384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2D34F-123C-4BAD-8106-925487EB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CB0D6-E2B8-4280-8C38-28C9F0DD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3935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440" y="5495400"/>
            <a:ext cx="3935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4A82-43FB-450E-BA5B-9A379D07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57159-8323-4198-8DC4-0A043484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552-04EF-4F32-A0F4-7F1421FC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4581360"/>
            <a:ext cx="806436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9F627-023F-4F6B-A621-454FADD1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440" y="5495400"/>
            <a:ext cx="3935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000" y="58536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DA8BB-BF87-421B-89DD-60D0F172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3935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44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440" y="58536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20CF-A473-4B1F-947D-0ED7117B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44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000" y="5853600"/>
            <a:ext cx="8064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F4C9-DE97-4168-9359-FD037966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8064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000" y="5853600"/>
            <a:ext cx="8064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52B8D-4541-40EA-9A6F-E34029BE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44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000" y="58536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440" y="58536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3393D-25CA-4749-9EC1-55F2253B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4640" y="54954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0920" y="54954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000" y="58536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4640" y="58536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0920" y="5853600"/>
            <a:ext cx="2596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49BF2-BB28-4FEF-9761-454BE00A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3935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440" y="5495400"/>
            <a:ext cx="3935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2CA-9B52-4031-AD70-F8578E32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96B8-CF32-4267-BD3C-A10FABC6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4581360"/>
            <a:ext cx="806436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1BF-68D4-424D-BA35-6B2B2706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440" y="5495400"/>
            <a:ext cx="3935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000" y="58536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B47-3F72-4F32-9820-C6F140B5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3935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44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440" y="58536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87F-027F-46D2-BA05-8D125CEE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00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440" y="5495400"/>
            <a:ext cx="3935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" y="5853600"/>
            <a:ext cx="8064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4E5-C85E-41EE-A4DE-8A172241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9640" y="6453000"/>
            <a:ext cx="5400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E3A3-B778-4EE2-8D20-0B5C2D402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71B5-4C75-4797-8799-CA3035BCE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778B-BC4E-42D5-83D2-C1190F7D0FF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404640"/>
            <a:ext cx="69832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232323"/>
                </a:solidFill>
                <a:latin typeface="Arial"/>
              </a:rPr>
              <a:t>Ανάλυση Κύκλου Ζωής</a:t>
            </a:r>
            <a:r>
              <a:rPr b="1" lang="en-US" sz="3200" spc="-1" strike="noStrike">
                <a:solidFill>
                  <a:srgbClr val="232323"/>
                </a:solidFill>
                <a:latin typeface="Arial"/>
              </a:rPr>
              <a:t> (</a:t>
            </a:r>
            <a:r>
              <a:rPr b="1" lang="el-GR" sz="3200" spc="-1" strike="noStrike">
                <a:solidFill>
                  <a:srgbClr val="232323"/>
                </a:solidFill>
                <a:latin typeface="Arial"/>
              </a:rPr>
              <a:t>ΑΚΖ</a:t>
            </a:r>
            <a:r>
              <a:rPr b="1" lang="en-US" sz="3200" spc="-1" strike="noStrike">
                <a:solidFill>
                  <a:srgbClr val="232323"/>
                </a:solidFill>
                <a:latin typeface="Arial"/>
              </a:rPr>
              <a:t>) </a:t>
            </a:r>
            <a:r>
              <a:rPr b="1" lang="el-GR" sz="3200" spc="-1" strike="noStrike">
                <a:solidFill>
                  <a:srgbClr val="232323"/>
                </a:solidFill>
                <a:latin typeface="Arial"/>
              </a:rPr>
              <a:t>ως υποστηρικτικό εργαλείο για την οικολογική παραγωγή ελαιολάδου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620120" y="609480"/>
            <a:ext cx="1368360" cy="989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2781360"/>
            <a:ext cx="8451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00"/>
                </a:solidFill>
                <a:latin typeface="Arial"/>
              </a:rPr>
              <a:t>ECOIL </a:t>
            </a:r>
            <a:br>
              <a:rPr sz="3600"/>
            </a:br>
            <a:r>
              <a:rPr b="1" lang="el-GR" sz="3600" spc="-1" strike="noStrike">
                <a:solidFill>
                  <a:srgbClr val="003399"/>
                </a:solidFill>
                <a:latin typeface="Arial"/>
              </a:rPr>
              <a:t>Υλοποίηση ΑΚΖ ελαιολάδου στην περιοχή του Πολεμαρχίου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4581360"/>
            <a:ext cx="69120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32323"/>
                </a:solidFill>
                <a:latin typeface="Arial"/>
              </a:rPr>
              <a:t>ΠΟΛΥΤΕΧΝΕΙΟ ΚΡΗΤΗΣ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5516640"/>
            <a:ext cx="691200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232323"/>
                </a:solidFill>
                <a:latin typeface="Arial"/>
              </a:rPr>
              <a:t>Ευάγγελος Βαγγέλογλου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232323"/>
                </a:solidFill>
                <a:latin typeface="Arial"/>
              </a:rPr>
              <a:t>Ευρωπαϊκό Συνέδριο </a:t>
            </a: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ECOIL</a:t>
            </a:r>
            <a:r>
              <a:rPr b="1" lang="el-GR" sz="2000" spc="-1" strike="noStrike">
                <a:solidFill>
                  <a:srgbClr val="232323"/>
                </a:solidFill>
                <a:latin typeface="Arial"/>
              </a:rPr>
              <a:t> Χανιά</a:t>
            </a: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, 3</a:t>
            </a:r>
            <a:r>
              <a:rPr b="1" lang="el-GR" sz="2000" spc="-1" strike="noStrike">
                <a:solidFill>
                  <a:srgbClr val="232323"/>
                </a:solidFill>
                <a:latin typeface="Arial"/>
              </a:rPr>
              <a:t>0 Οκτωβρίου</a:t>
            </a: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 2006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9640" y="333360"/>
            <a:ext cx="74883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Το Γενικό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Μοντέλο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ναγνώριση Πλαισίου Μελέτης</a:t>
            </a:r>
            <a:r>
              <a:rPr b="1" lang="el-GR" sz="4000" spc="-1" strike="noStrike">
                <a:solidFill>
                  <a:srgbClr val="23232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d4337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24000" y="1484280"/>
          <a:ext cx="8280000" cy="5041440"/>
        </p:xfrm>
        <a:graphic>
          <a:graphicData uri="http://schemas.openxmlformats.org/drawingml/2006/table">
            <a:tbl>
              <a:tblPr/>
              <a:tblGrid>
                <a:gridCol w="1564200"/>
                <a:gridCol w="3371040"/>
                <a:gridCol w="3344760"/>
              </a:tblGrid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Αρ. Διαδικασίας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ckgound Διαδικασίες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eground Διαδικασίες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Παραγωγή ηλεκτρικής ενέργειας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Άρδευση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Παροχή αρδευόμενου νερού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Εφαρμογή λιπασμάτων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Παραγωγή λιπασμάτων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Εφαρμογή παρασιτοκτόνων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Μεταφορά λιπασμάτων στις καλλιέργειες 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Εφαρμογή ζιζανιοκτόνων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Παραγωγ</a:t>
                      </a: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ή</a:t>
                      </a:r>
                      <a:r>
                        <a:rPr b="0" lang="en-GB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παρασιτοκτόνων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Όργωμα γης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Μεταφορά </a:t>
                      </a: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παρασιτοκτόνων</a:t>
                      </a:r>
                      <a:r>
                        <a:rPr b="0" lang="en-GB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 στις καλλιέργειες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Φύτευση ελαιοδένδρων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Παραγωγή </a:t>
                      </a: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ζιζανιοκτόνων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Καλλιέργεια ελαιοδένδρων 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Μεταφορά </a:t>
                      </a: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ζιζανιοκτόνων</a:t>
                      </a:r>
                      <a:r>
                        <a:rPr b="0" lang="en-GB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 στις καλλιέργειες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Κλάδεμα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Μεταφορά του ελαιοκαρπού στο ελαιουργείο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Συλλογή ελαιοκάρπου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Χλωρίωση πόσιμου νερού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Καθαρισμός ελαιοκάρπου στο ελαιουργείο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Παροχή πόσιμο νερού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Άλεσμα ελαιοκάρπου στο ελαιουργείο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Παροχή υγρών αποβλήτων μέσω δικτύου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Εξαγωγή ελαιολάδου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Διαχείριση υγρών αποβλήτων (Δήμος)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Διαχείριση υγρών αποβλήτων (Ελαιουργείο)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Διαχείριση στερεών αποβλήτων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Επεξεργασία πυρήνα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232323"/>
                          </a:solidFill>
                          <a:latin typeface="Arial"/>
                          <a:ea typeface="Arial"/>
                        </a:rPr>
                        <a:t>Αποθήκευση ελαιολάδου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11280" y="333360"/>
            <a:ext cx="74167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Το Γενικό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Μοντέλο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ναγνώριση Πλαισίου Μελέτης</a:t>
            </a:r>
            <a:r>
              <a:rPr b="1" lang="el-GR" sz="4000" spc="-1" strike="noStrike">
                <a:solidFill>
                  <a:srgbClr val="23232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4211640" cy="3083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427640" y="1628640"/>
            <a:ext cx="4514760" cy="3086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9280" y="47242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Για κάθε επιμέρους διεργασία (μονάδα) του συνολικού κύκλου ζωής απαιτείται συλλογή και αξιολόγηση ποσοτικοποιημένων στοιχείων </a:t>
            </a:r>
            <a:r>
              <a:rPr b="1" lang="el-GR" sz="1800" spc="-1" strike="noStrike">
                <a:solidFill>
                  <a:srgbClr val="292929"/>
                </a:solidFill>
                <a:latin typeface="Arial"/>
              </a:rPr>
              <a:t>εισροών (input)</a:t>
            </a: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 και </a:t>
            </a:r>
            <a:r>
              <a:rPr b="1" lang="el-GR" sz="1800" spc="-1" strike="noStrike">
                <a:solidFill>
                  <a:srgbClr val="292929"/>
                </a:solidFill>
                <a:latin typeface="Arial"/>
              </a:rPr>
              <a:t>εκροών (output)</a:t>
            </a: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263520" indent="-263520"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Ως </a:t>
            </a:r>
            <a:r>
              <a:rPr b="1" lang="el-GR" sz="1800" spc="-1" strike="noStrike">
                <a:solidFill>
                  <a:srgbClr val="292929"/>
                </a:solidFill>
                <a:latin typeface="Arial"/>
              </a:rPr>
              <a:t>εισροές χαρακτηρίζονται η ενέργεια και η χρήση πρώτων υλών</a:t>
            </a: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 που απαιτούνται για την ανάπτυξη της διεργασίας, ενώ ως </a:t>
            </a:r>
            <a:r>
              <a:rPr b="1" lang="el-GR" sz="1800" spc="-1" strike="noStrike">
                <a:solidFill>
                  <a:srgbClr val="292929"/>
                </a:solidFill>
                <a:latin typeface="Arial"/>
              </a:rPr>
              <a:t>εκροές χαρακτηρίζονται υλικά και ενέργεια που εξέρχονται αυτής</a:t>
            </a: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5280" y="476280"/>
            <a:ext cx="76327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Το Γενικό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Μοντέλο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403280" y="1639800"/>
            <a:ext cx="6335640" cy="521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476280"/>
            <a:ext cx="76327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Το Τελικό</a:t>
            </a: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Μοντέλο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0" y="2637000"/>
            <a:ext cx="9890280" cy="252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9640" y="476280"/>
            <a:ext cx="74883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Παράδειγμα Διαδικασίας από το 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SimaPro</a:t>
            </a: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 7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132000" y="1530360"/>
            <a:ext cx="6443640" cy="5327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1557360"/>
            <a:ext cx="30592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Μοντελοποίηση της διαδικασίας </a:t>
            </a:r>
            <a:r>
              <a:rPr b="0" lang="el-GR" sz="2000" spc="-1" strike="noStrike">
                <a:solidFill>
                  <a:srgbClr val="003399"/>
                </a:solidFill>
                <a:latin typeface="Arial"/>
              </a:rPr>
              <a:t>εφαρμογής των παρασιτοκτόνων</a:t>
            </a: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270000" indent="-270000"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Περιλαμβάνει τα εξής: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270000" indent="-270000">
              <a:spcBef>
                <a:spcPts val="45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99"/>
                </a:solidFill>
                <a:latin typeface="Arial"/>
              </a:rPr>
              <a:t>Τη μεταφορά του παρασιτοκτόνου από το εργοστάσιο παραγωγής στις καλλιέργειες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270000" indent="-270000">
              <a:spcBef>
                <a:spcPts val="45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99"/>
                </a:solidFill>
                <a:latin typeface="Arial"/>
              </a:rPr>
              <a:t>Την παραγωγή του παρασιτοκτόνου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270000" indent="-270000">
              <a:spcBef>
                <a:spcPts val="45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99"/>
                </a:solidFill>
                <a:latin typeface="Arial"/>
              </a:rPr>
              <a:t>Την μέθοδο εφαρμογής </a:t>
            </a: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(ψεκασμός με τράκτορα)</a:t>
            </a:r>
            <a:r>
              <a:rPr b="0" lang="el-GR" sz="1800" spc="-1" strike="noStrike">
                <a:solidFill>
                  <a:srgbClr val="003399"/>
                </a:solidFill>
                <a:latin typeface="Arial"/>
              </a:rPr>
              <a:t> του παρασιτοκτόνου στις καλλιέργειες. 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ναγνώριση Κύκλου Ζωής Ελαιολάδου στο Πολεμάρχι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2021040"/>
            <a:ext cx="5867280" cy="4836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572000" y="1413000"/>
            <a:ext cx="4572000" cy="1589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867280" y="3068640"/>
            <a:ext cx="3024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Το Πολεμάρχι είναι μία από τις κύριες περιοχές στην παραγωγή ποιοτικού ελαιολάδου στο νομό Χανίων, αλλά και της Κρήτης γενικότερα, με δυναμικότητα 50.000 περίπου ελαιόδενδρα σε συγκεκριμένη ποικιλία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920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ναγνώριση Κύκλου Ζωής Ελαιολάδου στο Πολεμάρχι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0" y="1649520"/>
            <a:ext cx="6877080" cy="5208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77080" y="1628640"/>
            <a:ext cx="20145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51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33"/>
                </a:solidFill>
                <a:latin typeface="Arial"/>
              </a:rPr>
              <a:t>Η περιοχή Πολεμαρχίου όπως φαίνεται από φωτογραφία δορυφόρου.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33"/>
                </a:solidFill>
                <a:latin typeface="Arial"/>
              </a:rPr>
              <a:t>Διακρίνεται ξεκάθαρα η πυκνότητα της φύτευσης 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227640" y="4813200"/>
            <a:ext cx="2916360" cy="2044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2050920" y="3357720"/>
            <a:ext cx="936720" cy="64764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87640" y="4005360"/>
            <a:ext cx="3240000" cy="7920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ναγνώριση Κύκλου Ζωής Ελαιολάδου στο Πολεμάρχι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Arial"/>
              </a:rPr>
              <a:t>Στατιστικό Δείγμα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3399"/>
                </a:solidFill>
                <a:uFillTx/>
                <a:latin typeface="Arial"/>
              </a:rPr>
              <a:t>Στόχος</a:t>
            </a:r>
            <a:r>
              <a:rPr b="0" lang="el-GR" sz="2400" spc="-1" strike="noStrike">
                <a:solidFill>
                  <a:srgbClr val="333333"/>
                </a:solidFill>
                <a:latin typeface="Arial"/>
              </a:rPr>
              <a:t> η συλλογή δεδομένων που αντιπροσωπεύουν το 25% της παραγωγής στην περιοχή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Arial"/>
              </a:rPr>
              <a:t>Συλλέχθηκαν δεδομένα από </a:t>
            </a:r>
            <a:r>
              <a:rPr b="0" lang="el-GR" sz="2400" spc="-1" strike="noStrike" u="sng">
                <a:solidFill>
                  <a:srgbClr val="003399"/>
                </a:solidFill>
                <a:uFillTx/>
                <a:latin typeface="Arial"/>
              </a:rPr>
              <a:t>26 καλλιεργητές</a:t>
            </a:r>
            <a:r>
              <a:rPr b="0" lang="el-GR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Arial"/>
              </a:rPr>
              <a:t>Αυτοί αντιπροσωπεύουν περίπου το </a:t>
            </a:r>
            <a:r>
              <a:rPr b="0" lang="el-GR" sz="2400" spc="-1" strike="noStrike" u="sng">
                <a:solidFill>
                  <a:srgbClr val="003399"/>
                </a:solidFill>
                <a:uFillTx/>
                <a:latin typeface="Arial"/>
              </a:rPr>
              <a:t>30% της παραγωγής</a:t>
            </a:r>
            <a:r>
              <a:rPr b="0" lang="el-GR" sz="2400" spc="-1" strike="noStrike">
                <a:solidFill>
                  <a:srgbClr val="333333"/>
                </a:solidFill>
                <a:latin typeface="Arial"/>
              </a:rPr>
              <a:t> (15.010 δένδρα από σύνολο 50.000)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Arial"/>
              </a:rPr>
              <a:t>Κυρίως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l-GR" sz="2400" spc="-1" strike="noStrike" u="sng">
                <a:solidFill>
                  <a:srgbClr val="003399"/>
                </a:solidFill>
                <a:uFillTx/>
                <a:latin typeface="Arial"/>
              </a:rPr>
              <a:t>μεσαίοι</a:t>
            </a:r>
            <a:r>
              <a:rPr b="0" lang="el-GR" sz="2400" spc="-1" strike="noStrike">
                <a:solidFill>
                  <a:srgbClr val="333333"/>
                </a:solidFill>
                <a:latin typeface="Arial"/>
              </a:rPr>
              <a:t> και </a:t>
            </a:r>
            <a:r>
              <a:rPr b="0" lang="el-GR" sz="2400" spc="-1" strike="noStrike" u="sng">
                <a:solidFill>
                  <a:srgbClr val="003399"/>
                </a:solidFill>
                <a:uFillTx/>
                <a:latin typeface="Arial"/>
              </a:rPr>
              <a:t>μεγάλοι</a:t>
            </a:r>
            <a:r>
              <a:rPr b="0" lang="el-GR" sz="2400" spc="-1" strike="noStrike">
                <a:solidFill>
                  <a:srgbClr val="333333"/>
                </a:solidFill>
                <a:latin typeface="Arial"/>
              </a:rPr>
              <a:t> καλλιεργητές στο δείγμα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Arial"/>
              </a:rPr>
              <a:t>Η συλλογή των δεδομένων έγινε βάσει ερωτηματολογίου και με στοιχεία από το Συνεταιρισμό Πολεμαρχίου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ναγνώριση Κύκλου Ζωής Ελαιολάδου στο Πολεμάρχι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557360"/>
            <a:ext cx="5400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120000"/>
              </a:lnSpc>
              <a:spcBef>
                <a:spcPts val="451"/>
              </a:spcBef>
              <a:buClr>
                <a:srgbClr val="34343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32323"/>
                </a:solidFill>
                <a:latin typeface="Arial"/>
              </a:rPr>
              <a:t>Το ερωτηματολόγιο περιείχε όλα τα στάδια της καλλιέργειας και παραγωγής ελαιοκαρπού για να προσδιοριστούν</a:t>
            </a:r>
            <a:r>
              <a:rPr b="0" lang="en-GB" sz="1800" spc="-1" strike="noStrike">
                <a:solidFill>
                  <a:srgbClr val="23232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68240" indent="-329040">
              <a:lnSpc>
                <a:spcPct val="120000"/>
              </a:lnSpc>
              <a:spcBef>
                <a:spcPts val="451"/>
              </a:spcBef>
              <a:buClr>
                <a:srgbClr val="23232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99"/>
                </a:solidFill>
                <a:latin typeface="Arial"/>
              </a:rPr>
              <a:t>Ποια στάδια εφαρμόζονται στην περιοχή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 (</a:t>
            </a:r>
            <a:r>
              <a:rPr b="0" lang="el-GR" sz="1800" spc="-1" strike="noStrike">
                <a:solidFill>
                  <a:srgbClr val="003399"/>
                </a:solidFill>
                <a:latin typeface="Arial"/>
              </a:rPr>
              <a:t>π.χ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3399"/>
                </a:solidFill>
                <a:latin typeface="Arial"/>
              </a:rPr>
              <a:t>άρδευση, λίπανση κλπ.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68240" indent="-329040">
              <a:lnSpc>
                <a:spcPct val="120000"/>
              </a:lnSpc>
              <a:spcBef>
                <a:spcPts val="451"/>
              </a:spcBef>
              <a:buClr>
                <a:srgbClr val="23232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99"/>
                </a:solidFill>
                <a:latin typeface="Arial"/>
              </a:rPr>
              <a:t>Ποιες τεχνικές εφαρμόζονται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68240" indent="-329040">
              <a:lnSpc>
                <a:spcPct val="120000"/>
              </a:lnSpc>
              <a:spcBef>
                <a:spcPts val="451"/>
              </a:spcBef>
              <a:buClr>
                <a:srgbClr val="23232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99"/>
                </a:solidFill>
                <a:latin typeface="Arial"/>
              </a:rPr>
              <a:t>Ποσοτικά δεδομένα για τα κύρια προϊόντα κάθε διαδικασίας, κανονικοποιημένα ως προς το σημείο αναφοράς 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1 </a:t>
            </a:r>
            <a:r>
              <a:rPr b="0" lang="el-GR" sz="1800" spc="-1" strike="noStrike">
                <a:solidFill>
                  <a:srgbClr val="003399"/>
                </a:solidFill>
                <a:latin typeface="Arial"/>
              </a:rPr>
              <a:t>λίτρο ελαιολάδου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451"/>
              </a:spcBef>
              <a:buClr>
                <a:srgbClr val="34343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Από την ανάλυση των δεδομένων προέκυψαν αντιπροσωπευτικές μέσες τιμές του δείγματος για όλες τις παραμέτρους που εμπλέκονται στην παραγωγή ελαιολάδου.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508720" y="1557360"/>
            <a:ext cx="3456000" cy="490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Τυπικά Δεδομένα στην Περιοχή Πολεμαρχίου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1773360"/>
            <a:ext cx="871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Παραγωγή ελαιοκάρπου:  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περίπου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44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τόνοι ανά έτος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2637000"/>
            <a:ext cx="871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Παραγωγή ελαιολάδου:  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περίπου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95 τόνοι ανά έτος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3500280"/>
            <a:ext cx="871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Ηλικία δένδρων: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Στην πλειοψηφία τους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  <a:ea typeface="Arial"/>
              </a:rPr>
              <a:t>≥ 25 ετών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4365720"/>
            <a:ext cx="871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38760" indent="-33876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Διάταξη φυτέματος:  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Από 18 - 24 δένδρα/στρέμμα   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5229360"/>
            <a:ext cx="871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38760" indent="-33876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Διάταξη φυτέματος (μέση τιμή):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20,7 δένδρα/στρέμμα   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Δομή της παρουσίασης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-71136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AutoNum type="arabicPeriod"/>
              <a:tabLst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ΑΚΖ - Στόχος της μελέτης ΑΚΖ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AutoNum type="arabicPeriod"/>
              <a:tabLst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Πλαίσιο μελέτης - Επιλογή συστήματος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AutoNum type="arabicPeriod"/>
              <a:tabLst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Κατασκευή του μοντέλου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AutoNum type="arabicPeriod"/>
              <a:tabLst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Αναγνώριση Κύκλου Ζωής ελαιολάδου στη περιοχή του Πολεμαρχίου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AutoNum type="arabicPeriod"/>
              <a:tabLst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Τυπικά δεδομένα στην περιοχή του Πολεμαρχίου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AutoNum type="arabicPeriod"/>
              <a:tabLst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Ανάλυση με το λογισμικό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maPro 7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 - Λειτουργίες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11685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79280" y="1773360"/>
            <a:ext cx="8856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57840" indent="-35784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292929"/>
                </a:solidFill>
                <a:uFillTx/>
                <a:latin typeface="Arial"/>
              </a:rPr>
              <a:t>Όργωμα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65% των καλλιεργητών οργώνει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φορά / έτος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57840" indent="-35784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Μέθοδος οργώματος: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Φρέζα σε τράκτορα 45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p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57840" indent="-35784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Όργωμα γης ανά λίτρο λάδι: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4,13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t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λάδι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4005360"/>
            <a:ext cx="8856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292929"/>
                </a:solidFill>
                <a:uFillTx/>
                <a:latin typeface="Arial"/>
              </a:rPr>
              <a:t>Άρδευση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81% της συνολικής έκτασης - Ο.Α.Δ.Υ.Κ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Μέθοδος άρδευσης: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Ρυθμιζόμενα μπεκ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Συχνότητα-Ποσότητα: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3 φορές/έτος – 0,44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33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κάθε φορά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Ποσότητα αρδ. νερού ανά λίτρο λάδι: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0,185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l-GR" sz="2400" spc="-1" strike="noStrike" baseline="30000">
                <a:solidFill>
                  <a:srgbClr val="003399"/>
                </a:solidFill>
                <a:latin typeface="Arial"/>
              </a:rPr>
              <a:t>3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t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λάδι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Τυπικά Δεδομένα στην Περιοχή Πολεμαρχίου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280" y="1628640"/>
            <a:ext cx="8856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292929"/>
                </a:solidFill>
                <a:uFillTx/>
                <a:latin typeface="Arial"/>
              </a:rPr>
              <a:t>Λίπανση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      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100% της συνολικής έκτασης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φορά / έτος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Τύπος λιπάσματος: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Σύνθετο 20-10-10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PK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Μέθοδος λίπανσης: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Διασπορά με το χέρι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Ποσότητα λιπάσματος ανά λίτρο λάδι: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0,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72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kg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t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λάδι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3789360"/>
            <a:ext cx="8856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04560" indent="-30456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292929"/>
                </a:solidFill>
                <a:uFillTx/>
                <a:latin typeface="Arial"/>
              </a:rPr>
              <a:t>Μεταφορά Λιπασμάτων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04560" indent="-304560">
              <a:lnSpc>
                <a:spcPct val="130000"/>
              </a:lnSpc>
              <a:spcBef>
                <a:spcPts val="601"/>
              </a:spcBef>
              <a:buClr>
                <a:srgbClr val="34343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524 km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με φορτηγό πλοίο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Καβάλα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Σούδα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04560" indent="-304560">
              <a:lnSpc>
                <a:spcPct val="130000"/>
              </a:lnSpc>
              <a:spcBef>
                <a:spcPts val="601"/>
              </a:spcBef>
              <a:buClr>
                <a:srgbClr val="34343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30 km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με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φορτηγό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6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τόνων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Σούδα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Βουκολιές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04560" indent="-304560">
              <a:lnSpc>
                <a:spcPct val="120000"/>
              </a:lnSpc>
              <a:spcBef>
                <a:spcPts val="601"/>
              </a:spcBef>
              <a:buClr>
                <a:srgbClr val="34343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0 km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με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ιδιωτικό φορτηγάκι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&lt;3,5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τόνους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 (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Από τον αντιπρόσωπο στα χωράφια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μέση απόσταση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Τυπικά Δεδομένα στην Περιοχή Πολεμαρχίου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9280" y="1773360"/>
            <a:ext cx="885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292929"/>
                </a:solidFill>
                <a:uFillTx/>
                <a:latin typeface="Arial"/>
              </a:rPr>
              <a:t>Παρασιτοκτόνα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100% της συνολικής έκτασης 3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φορές / έτος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Μέθοδος:  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Δολωματικός ψεκασμός του Δήμου με τράκτορα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Ενεργός Ουσία: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ltamethrin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Κύριος Εχθρός: 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Δάκος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Ποσότητα παρασιτοκτόνου ανά λίτρο λάδι: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0,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gr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t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λάδι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3933720"/>
            <a:ext cx="8856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46320" indent="-34632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292929"/>
                </a:solidFill>
                <a:uFillTx/>
                <a:latin typeface="Arial"/>
              </a:rPr>
              <a:t>Μεταφορά Παρασιτοκτόνων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6320" indent="-346320">
              <a:spcBef>
                <a:spcPts val="499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2.127 km </a:t>
            </a:r>
            <a:r>
              <a:rPr b="0" lang="el-GR" sz="2000" spc="-1" strike="noStrike">
                <a:solidFill>
                  <a:srgbClr val="003399"/>
                </a:solidFill>
                <a:latin typeface="Arial"/>
              </a:rPr>
              <a:t>με φορτηγό πλοίο</a:t>
            </a:r>
            <a:r>
              <a:rPr b="0" lang="el-GR" sz="2000" spc="-1" strike="noStrike">
                <a:solidFill>
                  <a:srgbClr val="23232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232323"/>
                </a:solidFill>
                <a:latin typeface="Arial"/>
              </a:rPr>
              <a:t>Γένοβα-Πειραιάς 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&amp; </a:t>
            </a:r>
            <a:r>
              <a:rPr b="0" lang="el-GR" sz="2000" spc="-1" strike="noStrike">
                <a:solidFill>
                  <a:srgbClr val="232323"/>
                </a:solidFill>
                <a:latin typeface="Arial"/>
              </a:rPr>
              <a:t>Πειραιάς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-</a:t>
            </a:r>
            <a:r>
              <a:rPr b="0" lang="el-GR" sz="2000" spc="-1" strike="noStrike">
                <a:solidFill>
                  <a:srgbClr val="232323"/>
                </a:solidFill>
                <a:latin typeface="Arial"/>
              </a:rPr>
              <a:t>Σούδα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) - deltamethrin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6320" indent="-346320">
              <a:spcBef>
                <a:spcPts val="499"/>
              </a:spcBef>
              <a:buClr>
                <a:srgbClr val="34343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484 km </a:t>
            </a:r>
            <a:r>
              <a:rPr b="0" lang="el-GR" sz="2000" spc="-1" strike="noStrike">
                <a:solidFill>
                  <a:srgbClr val="003399"/>
                </a:solidFill>
                <a:latin typeface="Arial"/>
              </a:rPr>
              <a:t>με φορτηγό 16 τόνων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 (</a:t>
            </a:r>
            <a:r>
              <a:rPr b="0" lang="el-GR" sz="2000" spc="-1" strike="noStrike">
                <a:solidFill>
                  <a:srgbClr val="232323"/>
                </a:solidFill>
                <a:latin typeface="Arial"/>
              </a:rPr>
              <a:t>Λυών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-</a:t>
            </a:r>
            <a:r>
              <a:rPr b="0" lang="el-GR" sz="2000" spc="-1" strike="noStrike">
                <a:solidFill>
                  <a:srgbClr val="232323"/>
                </a:solidFill>
                <a:latin typeface="Arial"/>
              </a:rPr>
              <a:t>Γένοβα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 &amp; </a:t>
            </a:r>
            <a:r>
              <a:rPr b="0" lang="el-GR" sz="2000" spc="-1" strike="noStrike">
                <a:solidFill>
                  <a:srgbClr val="232323"/>
                </a:solidFill>
                <a:latin typeface="Arial"/>
              </a:rPr>
              <a:t>Θήβα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-</a:t>
            </a:r>
            <a:r>
              <a:rPr b="0" lang="el-GR" sz="2000" spc="-1" strike="noStrike">
                <a:solidFill>
                  <a:srgbClr val="232323"/>
                </a:solidFill>
                <a:latin typeface="Arial"/>
              </a:rPr>
              <a:t>Πειραιάς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 &amp; </a:t>
            </a:r>
            <a:r>
              <a:rPr b="0" lang="el-GR" sz="2000" spc="-1" strike="noStrike">
                <a:solidFill>
                  <a:srgbClr val="232323"/>
                </a:solidFill>
                <a:latin typeface="Arial"/>
              </a:rPr>
              <a:t>Σούδα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-</a:t>
            </a:r>
            <a:r>
              <a:rPr b="0" lang="el-GR" sz="2000" spc="-1" strike="noStrike">
                <a:solidFill>
                  <a:srgbClr val="232323"/>
                </a:solidFill>
                <a:latin typeface="Arial"/>
              </a:rPr>
              <a:t>Βουκολιές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6320" indent="-346320">
              <a:spcBef>
                <a:spcPts val="499"/>
              </a:spcBef>
              <a:buClr>
                <a:srgbClr val="34343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10 km </a:t>
            </a:r>
            <a:r>
              <a:rPr b="0" lang="el-GR" sz="2000" spc="-1" strike="noStrike">
                <a:solidFill>
                  <a:srgbClr val="003399"/>
                </a:solidFill>
                <a:latin typeface="Arial"/>
              </a:rPr>
              <a:t>με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99"/>
                </a:solidFill>
                <a:latin typeface="Arial"/>
              </a:rPr>
              <a:t>φορτηγάκι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(&lt;3,5 </a:t>
            </a:r>
            <a:r>
              <a:rPr b="0" lang="el-GR" sz="2000" spc="-1" strike="noStrike">
                <a:solidFill>
                  <a:srgbClr val="003399"/>
                </a:solidFill>
                <a:latin typeface="Arial"/>
              </a:rPr>
              <a:t>τόνους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 (</a:t>
            </a:r>
            <a:r>
              <a:rPr b="0" lang="el-GR" sz="2000" spc="-1" strike="noStrike">
                <a:solidFill>
                  <a:srgbClr val="232323"/>
                </a:solidFill>
                <a:latin typeface="Arial"/>
              </a:rPr>
              <a:t>Από τον αντιπρόσωπο στα χωράφια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232323"/>
                </a:solidFill>
                <a:latin typeface="Arial"/>
              </a:rPr>
              <a:t>μέση απόσταση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Τυπικά Δεδομένα στην Περιοχή Πολεμαρχίου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79280" y="3933720"/>
            <a:ext cx="8856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57840" indent="-35784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292929"/>
                </a:solidFill>
                <a:uFillTx/>
                <a:latin typeface="Arial"/>
              </a:rPr>
              <a:t>Μεταφορά Ζιζανιοκτόνων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57840" indent="-357840">
              <a:lnSpc>
                <a:spcPct val="110000"/>
              </a:lnSpc>
              <a:spcBef>
                <a:spcPts val="550"/>
              </a:spcBef>
              <a:buClr>
                <a:srgbClr val="34343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5.670 km </a:t>
            </a:r>
            <a:r>
              <a:rPr b="0" lang="el-GR" sz="2200" spc="-1" strike="noStrike">
                <a:solidFill>
                  <a:srgbClr val="003399"/>
                </a:solidFill>
                <a:latin typeface="Arial"/>
              </a:rPr>
              <a:t>με φορτηγό πλοίο</a:t>
            </a:r>
            <a:r>
              <a:rPr b="0" lang="el-GR" sz="2200" spc="-1" strike="noStrike">
                <a:solidFill>
                  <a:srgbClr val="23232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32323"/>
                </a:solidFill>
                <a:latin typeface="Arial"/>
              </a:rPr>
              <a:t>(</a:t>
            </a:r>
            <a:r>
              <a:rPr b="0" lang="el-GR" sz="2200" spc="-1" strike="noStrike">
                <a:solidFill>
                  <a:srgbClr val="232323"/>
                </a:solidFill>
                <a:latin typeface="Arial"/>
              </a:rPr>
              <a:t>Αμβέρσα</a:t>
            </a:r>
            <a:r>
              <a:rPr b="0" lang="en-US" sz="2200" spc="-1" strike="noStrike">
                <a:solidFill>
                  <a:srgbClr val="232323"/>
                </a:solidFill>
                <a:latin typeface="Arial"/>
              </a:rPr>
              <a:t>-</a:t>
            </a:r>
            <a:r>
              <a:rPr b="0" lang="el-GR" sz="2200" spc="-1" strike="noStrike">
                <a:solidFill>
                  <a:srgbClr val="232323"/>
                </a:solidFill>
                <a:latin typeface="Arial"/>
              </a:rPr>
              <a:t>Πειραιάς</a:t>
            </a:r>
            <a:r>
              <a:rPr b="0" lang="en-US" sz="2200" spc="-1" strike="noStrike">
                <a:solidFill>
                  <a:srgbClr val="232323"/>
                </a:solidFill>
                <a:latin typeface="Arial"/>
              </a:rPr>
              <a:t> &amp; </a:t>
            </a:r>
            <a:r>
              <a:rPr b="0" lang="el-GR" sz="2200" spc="-1" strike="noStrike">
                <a:solidFill>
                  <a:srgbClr val="232323"/>
                </a:solidFill>
                <a:latin typeface="Arial"/>
              </a:rPr>
              <a:t>Πειραιάς</a:t>
            </a:r>
            <a:r>
              <a:rPr b="0" lang="en-US" sz="2200" spc="-1" strike="noStrike">
                <a:solidFill>
                  <a:srgbClr val="232323"/>
                </a:solidFill>
                <a:latin typeface="Arial"/>
              </a:rPr>
              <a:t>-</a:t>
            </a:r>
            <a:r>
              <a:rPr b="0" lang="el-GR" sz="2200" spc="-1" strike="noStrike">
                <a:solidFill>
                  <a:srgbClr val="232323"/>
                </a:solidFill>
                <a:latin typeface="Arial"/>
              </a:rPr>
              <a:t>Σούδα</a:t>
            </a:r>
            <a:r>
              <a:rPr b="0" lang="en-US" sz="2200" spc="-1" strike="noStrike">
                <a:solidFill>
                  <a:srgbClr val="232323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1d4337"/>
              </a:solidFill>
              <a:latin typeface="Arial"/>
            </a:endParaRPr>
          </a:p>
          <a:p>
            <a:pPr marL="357840" indent="-357840">
              <a:lnSpc>
                <a:spcPct val="110000"/>
              </a:lnSpc>
              <a:spcBef>
                <a:spcPts val="550"/>
              </a:spcBef>
              <a:buClr>
                <a:srgbClr val="34343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5 km </a:t>
            </a:r>
            <a:r>
              <a:rPr b="0" lang="el-GR" sz="2200" spc="-1" strike="noStrike">
                <a:solidFill>
                  <a:srgbClr val="003399"/>
                </a:solidFill>
                <a:latin typeface="Arial"/>
              </a:rPr>
              <a:t>με φορτηγό 16 τόνων</a:t>
            </a:r>
            <a:r>
              <a:rPr b="0" lang="en-US" sz="2200" spc="-1" strike="noStrike">
                <a:solidFill>
                  <a:srgbClr val="232323"/>
                </a:solidFill>
                <a:latin typeface="Arial"/>
              </a:rPr>
              <a:t> (</a:t>
            </a:r>
            <a:r>
              <a:rPr b="0" lang="el-GR" sz="2200" spc="-1" strike="noStrike">
                <a:solidFill>
                  <a:srgbClr val="232323"/>
                </a:solidFill>
                <a:latin typeface="Arial"/>
              </a:rPr>
              <a:t>Αθήνα</a:t>
            </a:r>
            <a:r>
              <a:rPr b="0" lang="en-US" sz="2200" spc="-1" strike="noStrike">
                <a:solidFill>
                  <a:srgbClr val="232323"/>
                </a:solidFill>
                <a:latin typeface="Arial"/>
              </a:rPr>
              <a:t>-</a:t>
            </a:r>
            <a:r>
              <a:rPr b="0" lang="el-GR" sz="2200" spc="-1" strike="noStrike">
                <a:solidFill>
                  <a:srgbClr val="232323"/>
                </a:solidFill>
                <a:latin typeface="Arial"/>
              </a:rPr>
              <a:t>Πειραιάς</a:t>
            </a:r>
            <a:r>
              <a:rPr b="0" lang="en-US" sz="2200" spc="-1" strike="noStrike">
                <a:solidFill>
                  <a:srgbClr val="232323"/>
                </a:solidFill>
                <a:latin typeface="Arial"/>
              </a:rPr>
              <a:t> &amp; </a:t>
            </a:r>
            <a:r>
              <a:rPr b="0" lang="el-GR" sz="2200" spc="-1" strike="noStrike">
                <a:solidFill>
                  <a:srgbClr val="232323"/>
                </a:solidFill>
                <a:latin typeface="Arial"/>
              </a:rPr>
              <a:t>Σούδα</a:t>
            </a:r>
            <a:r>
              <a:rPr b="0" lang="en-US" sz="2200" spc="-1" strike="noStrike">
                <a:solidFill>
                  <a:srgbClr val="232323"/>
                </a:solidFill>
                <a:latin typeface="Arial"/>
              </a:rPr>
              <a:t>-</a:t>
            </a:r>
            <a:r>
              <a:rPr b="0" lang="el-GR" sz="2200" spc="-1" strike="noStrike">
                <a:solidFill>
                  <a:srgbClr val="232323"/>
                </a:solidFill>
                <a:latin typeface="Arial"/>
              </a:rPr>
              <a:t>Βουκολιές</a:t>
            </a:r>
            <a:r>
              <a:rPr b="0" lang="en-US" sz="2200" spc="-1" strike="noStrike">
                <a:solidFill>
                  <a:srgbClr val="232323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1d4337"/>
              </a:solidFill>
              <a:latin typeface="Arial"/>
            </a:endParaRPr>
          </a:p>
          <a:p>
            <a:pPr marL="357840" indent="-357840">
              <a:lnSpc>
                <a:spcPct val="110000"/>
              </a:lnSpc>
              <a:spcBef>
                <a:spcPts val="550"/>
              </a:spcBef>
              <a:buClr>
                <a:srgbClr val="34343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10 km </a:t>
            </a:r>
            <a:r>
              <a:rPr b="0" lang="el-GR" sz="2200" spc="-1" strike="noStrike">
                <a:solidFill>
                  <a:srgbClr val="003399"/>
                </a:solidFill>
                <a:latin typeface="Arial"/>
              </a:rPr>
              <a:t>μ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3399"/>
                </a:solidFill>
                <a:latin typeface="Arial"/>
              </a:rPr>
              <a:t>φορτηγάκι</a:t>
            </a:r>
            <a:r>
              <a:rPr b="0" lang="en-US" sz="2200" spc="-1" strike="noStrike">
                <a:solidFill>
                  <a:srgbClr val="232323"/>
                </a:solidFill>
                <a:latin typeface="Arial"/>
              </a:rPr>
              <a:t> (&lt;3,5 </a:t>
            </a:r>
            <a:r>
              <a:rPr b="0" lang="el-GR" sz="2200" spc="-1" strike="noStrike">
                <a:solidFill>
                  <a:srgbClr val="232323"/>
                </a:solidFill>
                <a:latin typeface="Arial"/>
              </a:rPr>
              <a:t>τόνους</a:t>
            </a:r>
            <a:r>
              <a:rPr b="0" lang="en-US" sz="2200" spc="-1" strike="noStrike">
                <a:solidFill>
                  <a:srgbClr val="232323"/>
                </a:solidFill>
                <a:latin typeface="Arial"/>
              </a:rPr>
              <a:t>) (</a:t>
            </a:r>
            <a:r>
              <a:rPr b="0" lang="el-GR" sz="2200" spc="-1" strike="noStrike">
                <a:solidFill>
                  <a:srgbClr val="232323"/>
                </a:solidFill>
                <a:latin typeface="Arial"/>
              </a:rPr>
              <a:t>Από τον αντιπρόσωπο στα χωράφια</a:t>
            </a:r>
            <a:r>
              <a:rPr b="0" lang="en-US" sz="2200" spc="-1" strike="noStrike">
                <a:solidFill>
                  <a:srgbClr val="232323"/>
                </a:solidFill>
                <a:latin typeface="Arial"/>
              </a:rPr>
              <a:t>, </a:t>
            </a:r>
            <a:r>
              <a:rPr b="0" lang="el-GR" sz="2200" spc="-1" strike="noStrike">
                <a:solidFill>
                  <a:srgbClr val="232323"/>
                </a:solidFill>
                <a:latin typeface="Arial"/>
              </a:rPr>
              <a:t>μέση απόσταση</a:t>
            </a:r>
            <a:r>
              <a:rPr b="0" lang="en-US" sz="2200" spc="-1" strike="noStrike">
                <a:solidFill>
                  <a:srgbClr val="232323"/>
                </a:solidFill>
                <a:latin typeface="Arial"/>
              </a:rPr>
              <a:t>)</a:t>
            </a:r>
            <a:r>
              <a:rPr b="0" lang="el-GR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1773360"/>
            <a:ext cx="885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292929"/>
                </a:solidFill>
                <a:uFillTx/>
                <a:latin typeface="Arial"/>
              </a:rPr>
              <a:t>Ζιζανιοκτόνα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:    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64% της συνολικής έκτασης 1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φορά / έτος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Μέθοδος:     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Ψεκασμός με τράκτορα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Ενεργός Ουσία: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lyphosate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Ποσότητα παρασιτοκτόνου ανά λίτρο λάδι: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,2 gr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t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λάδι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Τυπικά Δεδομένα στην Περιοχή Πολεμαρχίου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9280" y="4581360"/>
            <a:ext cx="88567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292929"/>
                </a:solidFill>
                <a:uFillTx/>
                <a:latin typeface="Arial"/>
              </a:rPr>
              <a:t>Συγκομιδή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1" lang="el-GR" sz="24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Ελαιοραβδιστικά, τροφοδοσία από γεννήτρια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Ελαιοτριβείο: 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Πολεμαρχίου, φυγοκεντρικό, 3 φάσεων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Συλλεγόμενη ποσότητα ελαιοκάρπου ανά λίτρο λάδι: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4,29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kg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1773360"/>
            <a:ext cx="8856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292929"/>
                </a:solidFill>
                <a:uFillTx/>
                <a:latin typeface="Arial"/>
              </a:rPr>
              <a:t>Κλάδεμα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:     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Κατά 100% - 1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φορά / έτος – Αλυσοπρίονο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Πράσινα απόβλητα / δένδρο: 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45,8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kg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Πράσινα απόβλητα ανά λίτρο λάδι :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         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8,1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kg / lt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λάδι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Μέθοδος διαχείρισης: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Καύση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Διαχείριση στάχτης: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Απλή απόθεση, χωρίς διασκορπισμό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Τυπικά Δεδομένα στην Περιοχή Πολεμαρχίου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64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Το Λογισμικό 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SimaPro 7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3800" indent="-433800"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Arial"/>
              </a:rPr>
              <a:t>Το λογισμικό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maPro </a:t>
            </a:r>
            <a:r>
              <a:rPr b="0" lang="el-GR" sz="2400" spc="-1" strike="noStrike">
                <a:solidFill>
                  <a:srgbClr val="333333"/>
                </a:solidFill>
                <a:latin typeface="Arial"/>
              </a:rPr>
              <a:t>αποτελεί ένα πολύτιμο εργαλείο για τη διεξαγωγή μίας μελέτης ΑΚΖ.</a:t>
            </a:r>
            <a:r>
              <a:rPr b="0" lang="el-GR" sz="24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433800" indent="-433800"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Λειτουργίες: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433800" indent="-433800"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Κατασκευή μοντέλου ΑΚΖ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33800" indent="-433800"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Παροχή πληθώρας στοιχείων και πληροφοριών απαραίτητα σε μία μελέτη ΑΚΖ από βιβλιοθήκες και βάσεις δεδομένων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33800" indent="-433800"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Εξαγωγή αποτελεσμάτων ΑΚΖ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33800" indent="-433800"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Απογραφική Ανάλυση (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CIA)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33800" indent="-433800"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Αξιολόγηση Επιπτώσεων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με διάφορες μεθόδους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33800" indent="-433800"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Σενάρια Διαχείρισης Αποβλήτων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33800" indent="-433800"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Ανάλυση Ευαισθησίας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33800" indent="-433800"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Έλεγχο της ποιότητας του αποτελέσματος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33800" indent="-433800"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Εύκολη ερμηνεία των αποτελεσμάτων της ανάλυσης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33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9930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νάλυση με το 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SimaPro 7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4064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Arial"/>
              </a:rPr>
              <a:t>Προαπαιτούμενα:</a:t>
            </a:r>
            <a:r>
              <a:rPr b="0" lang="el-GR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Πλήρως καθορισμένο σύστημα μελέτης με σαφή όρια διαχωρισμού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Γενικό μοντέλο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Συλλογή των απαραίτητων δεδομένων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Βάσεις δεδομένων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Καθορισμένα πλαίσια για την ποιότητα (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QI)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 των δεδομένων που εισάγονται στο μοντέλο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1628640"/>
            <a:ext cx="4392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29292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Διαδικασία υλοποίησης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Κατασκευή τελικού μοντέλου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Εισαγωγή δεδομένων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Εξαγωγή αποτελεσμάτων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29292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ventory (LCI)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29292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mpact Assessment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Ερμηνεία αποτελεσμάτων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Συνεχής επανέλεγχος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Κατάλογος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κύριων εκπομπών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600"/>
            </a:b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Μελέτη στην Κρήτη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95280" y="1557360"/>
          <a:ext cx="8298000" cy="4824360"/>
        </p:xfrm>
        <a:graphic>
          <a:graphicData uri="http://schemas.openxmlformats.org/drawingml/2006/table">
            <a:tbl>
              <a:tblPr/>
              <a:tblGrid>
                <a:gridCol w="420840"/>
                <a:gridCol w="3120840"/>
                <a:gridCol w="1058760"/>
                <a:gridCol w="711360"/>
                <a:gridCol w="907920"/>
                <a:gridCol w="1043280"/>
                <a:gridCol w="1035000"/>
              </a:tblGrid>
              <a:tr h="96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Substance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Compartment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Olive Agriculture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Olive oil processing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Oil, crude, in ground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Raw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g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2,04E+02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1,62E+02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4,19E+01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Water, unspecified natural origin/m3</a:t>
                      </a: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Raw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dm3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252</a:t>
                      </a: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252</a:t>
                      </a: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0,0759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Carbon dioxide, fossil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oz</a:t>
                      </a: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66,3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61,4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4,86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Carbon monoxide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oz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64,7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64,7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Nitrogen oxides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8,22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7,86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3,59E-01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Sulfur oxides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COD, Chemical Oxygen Demand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Water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18,1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1,54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16,6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BOD5, Biological Oxygen Demand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Water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8,62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1,51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7,11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Lead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Soil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</a:rPr>
                        <a:t>5,28E-03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Zinc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Soil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38,1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2,18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2323"/>
                          </a:solidFill>
                          <a:latin typeface="Arial"/>
                          <a:ea typeface="Times New Roman"/>
                        </a:rPr>
                        <a:t>35,9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πογραφική Ανάλυση 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(LCIA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995640" y="1700280"/>
            <a:ext cx="5545080" cy="45370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08000" y="1700280"/>
            <a:ext cx="3816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4343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32323"/>
                </a:solidFill>
                <a:latin typeface="Arial"/>
              </a:rPr>
              <a:t>Χρησιμοποιώντας το λογισμικό</a:t>
            </a:r>
            <a:r>
              <a:rPr b="0" lang="en-US" sz="1800" spc="-1" strike="noStrike">
                <a:solidFill>
                  <a:srgbClr val="232323"/>
                </a:solidFill>
                <a:latin typeface="Arial"/>
              </a:rPr>
              <a:t> SimaPro, </a:t>
            </a:r>
            <a:r>
              <a:rPr b="0" lang="el-GR" sz="1800" spc="-1" strike="noStrike">
                <a:solidFill>
                  <a:srgbClr val="232323"/>
                </a:solidFill>
                <a:latin typeface="Arial"/>
              </a:rPr>
              <a:t>κατασκευάστηκαν διαγράμματα σχετικά με την κατανάλωση διαφόρων πρώτων υλών</a:t>
            </a:r>
            <a:r>
              <a:rPr b="0" lang="en-US" sz="1800" spc="-1" strike="noStrike">
                <a:solidFill>
                  <a:srgbClr val="232323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232323"/>
                </a:solidFill>
                <a:latin typeface="Arial"/>
              </a:rPr>
              <a:t>καθώς και διαφόρων εκπομπών προς τον αέρα, τα νερά και το έδαφος</a:t>
            </a:r>
            <a:r>
              <a:rPr b="0" lang="en-US" sz="1800" spc="-1" strike="noStrike">
                <a:solidFill>
                  <a:srgbClr val="232323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232323"/>
                </a:solidFill>
                <a:latin typeface="Arial"/>
              </a:rPr>
              <a:t>για τα μοντέλα που αναπτύχθηκαν σε κάθε περιοχή μελέτης</a:t>
            </a:r>
            <a:r>
              <a:rPr b="0" lang="en-US" sz="1800" spc="-1" strike="noStrike">
                <a:solidFill>
                  <a:srgbClr val="23232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4343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99"/>
                </a:solidFill>
                <a:latin typeface="Arial"/>
              </a:rPr>
              <a:t>Κατανάλωση πετρελαίου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187280" y="1413000"/>
            <a:ext cx="6697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l-GR" sz="2400" spc="-1" strike="noStrike">
                <a:solidFill>
                  <a:srgbClr val="000099"/>
                </a:solidFill>
                <a:latin typeface="Arial"/>
              </a:rPr>
              <a:t>Εκπομπές Διοξειδίου του Άνθρακα στον Αέρα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58720" y="1927080"/>
            <a:ext cx="8585280" cy="4930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πογραφική Ανάλυση 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(LCIA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νάλυση Κύκλου Ζωής</a:t>
            </a:r>
            <a:r>
              <a:rPr b="1" lang="el-GR" sz="40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700280"/>
            <a:ext cx="874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32323"/>
                </a:solidFill>
                <a:latin typeface="Arial"/>
              </a:rPr>
              <a:t>Η ΑΚΖ είναι ένα διαγνωστικό εργαλείο, το οποίο μπορεί να χρησιμοποιηθεί για τη </a:t>
            </a:r>
            <a:r>
              <a:rPr b="1" lang="el-GR" sz="2000" spc="-1" strike="noStrike" u="sng">
                <a:solidFill>
                  <a:srgbClr val="003399"/>
                </a:solidFill>
                <a:uFillTx/>
                <a:latin typeface="Arial"/>
              </a:rPr>
              <a:t>σύγκριση</a:t>
            </a:r>
            <a:r>
              <a:rPr b="0" lang="el-GR" sz="2000" spc="-1" strike="noStrike">
                <a:solidFill>
                  <a:srgbClr val="232323"/>
                </a:solidFill>
                <a:latin typeface="Arial"/>
              </a:rPr>
              <a:t> των περιβαλλοντικών επιπτώσεων που προκαλούνται </a:t>
            </a:r>
            <a:r>
              <a:rPr b="0" lang="el-GR" sz="2000" spc="-1" strike="noStrike">
                <a:solidFill>
                  <a:srgbClr val="003399"/>
                </a:solidFill>
                <a:latin typeface="Arial"/>
              </a:rPr>
              <a:t>κατά την παραγωγή διαφορετικών προϊόντων </a:t>
            </a:r>
            <a:r>
              <a:rPr b="0" lang="el-GR" sz="2000" spc="-1" strike="noStrike">
                <a:solidFill>
                  <a:srgbClr val="292929"/>
                </a:solidFill>
                <a:latin typeface="Arial"/>
              </a:rPr>
              <a:t>ή</a:t>
            </a:r>
            <a:r>
              <a:rPr b="0" lang="el-GR" sz="2000" spc="-1" strike="noStrike">
                <a:solidFill>
                  <a:srgbClr val="003399"/>
                </a:solidFill>
                <a:latin typeface="Arial"/>
              </a:rPr>
              <a:t>  κατά την παραγωγή του ίδιου προϊόντος υπό διαφορετικές συνθήκες παραγωγικής διαδικασίας</a:t>
            </a:r>
            <a:r>
              <a:rPr b="1" lang="el-GR" sz="20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1" lang="el-GR" sz="2000" spc="-1" strike="noStrike">
                <a:solidFill>
                  <a:srgbClr val="23232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2997360"/>
            <a:ext cx="32036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3399"/>
                </a:solidFill>
                <a:uFillTx/>
                <a:latin typeface="Arial"/>
              </a:rPr>
              <a:t>Στόχος</a:t>
            </a:r>
            <a:r>
              <a:rPr b="0" lang="el-GR" sz="20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292929"/>
                </a:solidFill>
                <a:latin typeface="Arial"/>
              </a:rPr>
              <a:t>είναι να εξαχθούν αντιπροσωπευτικά και ασφαλή συμπεράσματα τα οποία μπορούν να χρησιμοποιηθούν για τη μείωση των προκαλούμενων επιπτώσεων, για τη βελτίωση της ποιότητας του προϊόντος ή ακόμη και για το σχεδιασμό νέων προϊόντων και παραγωγικών διαδικασιών.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249720" y="3123000"/>
            <a:ext cx="5633280" cy="3312000"/>
            <a:chOff x="3249720" y="3123000"/>
            <a:chExt cx="5633280" cy="3312000"/>
          </a:xfrm>
        </p:grpSpPr>
        <p:sp>
          <p:nvSpPr>
            <p:cNvPr id="136" name=""/>
            <p:cNvSpPr/>
            <p:nvPr/>
          </p:nvSpPr>
          <p:spPr>
            <a:xfrm>
              <a:off x="4496040" y="3220560"/>
              <a:ext cx="3140280" cy="1519920"/>
            </a:xfrm>
            <a:custGeom>
              <a:avLst/>
              <a:gdLst>
                <a:gd name="textAreaLeft" fmla="*/ 0 w 3140280"/>
                <a:gd name="textAreaRight" fmla="*/ 3140640 w 3140280"/>
                <a:gd name="textAreaTop" fmla="*/ 0 h 1519920"/>
                <a:gd name="textAreaBottom" fmla="*/ 1520280 h 151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4320000">
              <a:off x="6301080" y="2760480"/>
              <a:ext cx="1519920" cy="3140280"/>
            </a:xfrm>
            <a:custGeom>
              <a:avLst/>
              <a:gdLst>
                <a:gd name="textAreaLeft" fmla="*/ 0 w 1519920"/>
                <a:gd name="textAreaRight" fmla="*/ 1520280 w 1519920"/>
                <a:gd name="textAreaTop" fmla="*/ 0 h 3140280"/>
                <a:gd name="textAreaBottom" fmla="*/ 3140640 h 314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8640000">
              <a:off x="5110920" y="4137120"/>
              <a:ext cx="3139920" cy="1519920"/>
            </a:xfrm>
            <a:custGeom>
              <a:avLst/>
              <a:gdLst>
                <a:gd name="textAreaLeft" fmla="*/ 0 w 3139920"/>
                <a:gd name="textAreaRight" fmla="*/ 3140280 w 3139920"/>
                <a:gd name="textAreaTop" fmla="*/ 0 h 1519920"/>
                <a:gd name="textAreaBottom" fmla="*/ 1520280 h 151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194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2960000">
              <a:off x="3880080" y="4136760"/>
              <a:ext cx="3140280" cy="1519920"/>
            </a:xfrm>
            <a:custGeom>
              <a:avLst/>
              <a:gdLst>
                <a:gd name="textAreaLeft" fmla="*/ 0 w 3140280"/>
                <a:gd name="textAreaRight" fmla="*/ 3140640 w 3140280"/>
                <a:gd name="textAreaTop" fmla="*/ 0 h 1519920"/>
                <a:gd name="textAreaBottom" fmla="*/ 1520280 h 151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7280000">
              <a:off x="4310280" y="2760480"/>
              <a:ext cx="1519920" cy="3139920"/>
            </a:xfrm>
            <a:custGeom>
              <a:avLst/>
              <a:gdLst>
                <a:gd name="textAreaLeft" fmla="*/ 0 w 1519920"/>
                <a:gd name="textAreaRight" fmla="*/ 1520280 w 1519920"/>
                <a:gd name="textAreaTop" fmla="*/ 0 h 3139920"/>
                <a:gd name="textAreaBottom" fmla="*/ 3140280 h 31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72400" y="3285360"/>
              <a:ext cx="1154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 Narrow"/>
                </a:rPr>
                <a:t>Προεπεξεργασία</a:t>
              </a:r>
              <a:endParaRPr b="0" lang="en-US" sz="12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49720" y="4559760"/>
              <a:ext cx="1154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Arial Narrow"/>
                </a:rPr>
                <a:t>Διαχείριση παραγόμενων αποβλήτων</a:t>
              </a:r>
              <a:endParaRPr b="0" lang="en-US" sz="12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04720" y="3285720"/>
              <a:ext cx="1154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Arial Narrow"/>
                </a:rPr>
                <a:t>Εξαγωγή πρώτων υλών</a:t>
              </a:r>
              <a:endParaRPr b="0" lang="en-US" sz="12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28120" y="4559760"/>
              <a:ext cx="1154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Arial Narrow"/>
                </a:rPr>
                <a:t>Παραγωγή προϊόντος</a:t>
              </a:r>
              <a:endParaRPr b="0" lang="en-US" sz="12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9280" y="5347440"/>
              <a:ext cx="1154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Arial Narrow"/>
                </a:rPr>
                <a:t>Διανομή,</a:t>
              </a:r>
              <a:endParaRPr b="0" lang="en-US" sz="12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 Narrow"/>
                </a:rPr>
                <a:t>Χρήση</a:t>
              </a:r>
              <a:endParaRPr b="0" lang="en-US" sz="12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97960" y="3990600"/>
              <a:ext cx="2286360" cy="99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0000"/>
                  </a:solidFill>
                  <a:latin typeface="Arial Narrow"/>
                </a:rPr>
                <a:t>Ανάλυση </a:t>
              </a:r>
              <a:endParaRPr b="0" lang="en-US" sz="1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0000"/>
                  </a:solidFill>
                  <a:latin typeface="Arial Narrow"/>
                </a:rPr>
                <a:t>Κύκλου Ζωής</a:t>
              </a:r>
              <a:endParaRPr b="0" lang="en-US" sz="1400" spc="-1" strike="noStrike">
                <a:solidFill>
                  <a:srgbClr val="1d4337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2627280" y="1557360"/>
            <a:ext cx="6948360" cy="5300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2205000"/>
            <a:ext cx="27003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l-GR" sz="2800" spc="-1" strike="noStrike">
                <a:solidFill>
                  <a:srgbClr val="000099"/>
                </a:solidFill>
                <a:latin typeface="Arial"/>
              </a:rPr>
              <a:t>Χημικά Απαιτούμενο Οξυγόνο (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COD</a:t>
            </a:r>
            <a:r>
              <a:rPr b="0" i="1" lang="el-GR" sz="2800" spc="-1" strike="noStrike">
                <a:solidFill>
                  <a:srgbClr val="000099"/>
                </a:solidFill>
                <a:latin typeface="Arial"/>
              </a:rPr>
              <a:t>) στα Νερά</a:t>
            </a: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πογραφική Ανάλυση 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(LCIA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411280" y="1557360"/>
            <a:ext cx="7291440" cy="5300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-108000" y="2276640"/>
            <a:ext cx="26640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l-GR" sz="2800" spc="-1" strike="noStrike">
                <a:solidFill>
                  <a:srgbClr val="000099"/>
                </a:solidFill>
                <a:latin typeface="Arial"/>
              </a:rPr>
              <a:t>Βιοχημικά Απαιτούμενο Οξυγόνο (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BOD</a:t>
            </a:r>
            <a:r>
              <a:rPr b="0" i="1" lang="el-GR" sz="2800" spc="-1" strike="noStrike">
                <a:solidFill>
                  <a:srgbClr val="000099"/>
                </a:solidFill>
                <a:latin typeface="Arial"/>
              </a:rPr>
              <a:t>) στα Νερά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πογραφική Ανάλυση 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(LCIA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059280" y="1549440"/>
            <a:ext cx="6499080" cy="5308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79280" y="1890720"/>
            <a:ext cx="273708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l-GR" sz="2800" spc="-1" strike="noStrike">
                <a:solidFill>
                  <a:srgbClr val="000099"/>
                </a:solidFill>
                <a:latin typeface="Arial"/>
              </a:rPr>
              <a:t>Εκπομπές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l-GR" sz="2800" spc="-1" strike="noStrike">
                <a:solidFill>
                  <a:srgbClr val="000099"/>
                </a:solidFill>
                <a:latin typeface="Arial"/>
              </a:rPr>
              <a:t>Μολύβδου στο Έδαφος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πογραφική Ανάλυση 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(LCIA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ξιολόγηση Επιπτώσεων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576360" y="1422360"/>
            <a:ext cx="8567640" cy="5435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rot="16200000">
            <a:off x="-1672920" y="3696840"/>
            <a:ext cx="39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Μέθοδος: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CML 2 baseline 2000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90560" y="1413000"/>
            <a:ext cx="8353440" cy="5445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rot="16200000">
            <a:off x="-1530000" y="3841200"/>
            <a:ext cx="39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Μέθοδος: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CML 2 baseline 2000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ξιολόγηση Επιπτώσεων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6920" y="1413000"/>
            <a:ext cx="8317080" cy="5445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 rot="16200000">
            <a:off x="-1872720" y="4040280"/>
            <a:ext cx="468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Μέθοδος: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co-indicator 99 (H) v2.03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ξιολόγηση Επιπτώσεων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79280" y="4508640"/>
            <a:ext cx="8713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232323"/>
                </a:solidFill>
                <a:latin typeface="Arial"/>
              </a:rPr>
              <a:t>www.ecoil.tuc.gr</a:t>
            </a:r>
            <a:endParaRPr b="0" lang="en-US" sz="51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3635280" y="1844640"/>
            <a:ext cx="194004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Ανάλυση Κύκλου Ζωής</a:t>
            </a:r>
            <a:r>
              <a:rPr b="1" lang="el-GR" sz="40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Τα κύρια στάδια για την ανάπτυξη της ΑΚΖ ενός προϊόντος είναι τα εξής: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3399"/>
                </a:solidFill>
                <a:uFillTx/>
                <a:latin typeface="Arial"/>
              </a:rPr>
              <a:t>Καθορισμός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του σκοπού και των στόχων της ανάλυσης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3399"/>
                </a:solidFill>
                <a:uFillTx/>
                <a:latin typeface="Arial"/>
              </a:rPr>
              <a:t>Σχεδιασμός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του υπολογιστικού μοντέλου που περιγράφει τον κύκλο ζωής του προϊόντος και καθορισμός των εισροών και εκροών του συστήματος, (στο στάδιο αυτό λαμβάνει χώρα συλλογή και αξιολόγηση των απαιτούμενων δεδομένων)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3399"/>
                </a:solidFill>
                <a:uFillTx/>
                <a:latin typeface="Arial"/>
              </a:rPr>
              <a:t>Προσδιορισμός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των αντίστοιχων περιβαλλοντικών επιδράσεων για κάθε </a:t>
            </a:r>
            <a:r>
              <a:rPr b="1" lang="el-GR" sz="2400" spc="-1" strike="noStrike" u="sng">
                <a:solidFill>
                  <a:srgbClr val="003399"/>
                </a:solidFill>
                <a:uFillTx/>
                <a:latin typeface="Arial"/>
              </a:rPr>
              <a:t>εισροή και εκροή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του συστήματος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Εισαγωγή των στοιχείων στο υπολογιστικό μοντέλο - </a:t>
            </a:r>
            <a:r>
              <a:rPr b="1" lang="el-GR" sz="2400" spc="-1" strike="noStrike" u="sng">
                <a:solidFill>
                  <a:srgbClr val="003399"/>
                </a:solidFill>
                <a:uFillTx/>
                <a:latin typeface="Arial"/>
              </a:rPr>
              <a:t>Εξαγωγή και αξιολόγηση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αποτελεσμάτων</a:t>
            </a:r>
            <a:r>
              <a:rPr b="0" lang="el-GR" sz="24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704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Στόχος της συγκεκριμένης </a:t>
            </a:r>
            <a:br>
              <a:rPr sz="3600"/>
            </a:b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μελέτης ΑΚΖ</a:t>
            </a:r>
            <a:r>
              <a:rPr b="1" lang="el-GR" sz="40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98680" indent="-598680"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Η ανάπτυξη ενός υποστηρικτικού εργαλείου λήψης αποφάσεων για την </a:t>
            </a:r>
            <a:r>
              <a:rPr b="1" i="1" lang="el-GR" sz="2400" spc="-1" strike="noStrike">
                <a:solidFill>
                  <a:srgbClr val="003399"/>
                </a:solidFill>
                <a:latin typeface="Arial"/>
              </a:rPr>
              <a:t>φιλικότερη προς το περιβάλλον</a:t>
            </a:r>
            <a:r>
              <a:rPr b="0" i="1" lang="el-G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παραγωγή ελαιολάδου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598680" indent="-598680"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Για το σκοπό αυτό πρέπει να: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598680" indent="-598680"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Προσδιοριστούν οι διαδικασίες που υπεισέρχονται στην καλλιέργεια της ελιάς και στην παραγωγή του ελαιολάδου, με τη μεγαλύτερη περιβαλλοντική επιβάρυνση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598680" indent="-598680"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Η ανάλυση αυτών των διαδικασιών και τα συμπεράσματα που προκύπτουν, φανερώνουν</a:t>
            </a:r>
            <a:r>
              <a:rPr b="0" lang="el-GR" sz="24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τις απαραίτητες τροποποιήσεις οι οποίες θα καταστήσουν οικολογικότερη την παραγωγή ελαιολάδου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6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Στόχος της συγκεκριμένης </a:t>
            </a:r>
            <a:br>
              <a:rPr sz="3600"/>
            </a:b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μελέτης ΑΚΖ</a:t>
            </a:r>
            <a:r>
              <a:rPr b="1" lang="el-GR" sz="40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280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-630360">
              <a:spcBef>
                <a:spcPts val="79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003399"/>
                </a:solidFill>
                <a:uFillTx/>
                <a:latin typeface="Arial"/>
              </a:rPr>
              <a:t>Πως;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 Με αναγνώριση των κρίσιμων σημείων και επανάληψη των υπολογισμών στο μοντέλο με βελτιωμένα δεδομένα σύμφωνα με οικολογικές πρακτικές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30360" indent="-630360">
              <a:spcBef>
                <a:spcPts val="79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003399"/>
                </a:solidFill>
                <a:uFillTx/>
                <a:latin typeface="Arial"/>
              </a:rPr>
              <a:t>Ανάλυση Ευαισθησίας</a:t>
            </a:r>
            <a:r>
              <a:rPr b="1" lang="el-GR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64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Πλαίσιο Μελέτης </a:t>
            </a:r>
            <a:br>
              <a:rPr sz="3600"/>
            </a:b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Επιλογή Συστήματος</a:t>
            </a:r>
            <a:r>
              <a:rPr b="1" lang="el-GR" sz="40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628640"/>
            <a:ext cx="8640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Προϊόν μελέτης:</a:t>
            </a:r>
            <a:r>
              <a:rPr b="0" lang="el-GR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Εξαιρετικά παρθένο ελαιόλαδο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32323"/>
                </a:solidFill>
                <a:latin typeface="Arial"/>
              </a:rPr>
              <a:t>Μονάδα Αναφοράς: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1 λίτρο</a:t>
            </a:r>
            <a:r>
              <a:rPr b="0" lang="el-GR" sz="1600" spc="-1" strike="noStrike">
                <a:solidFill>
                  <a:srgbClr val="232323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232323"/>
                </a:solidFill>
                <a:latin typeface="Arial"/>
              </a:rPr>
              <a:t>(0,916</a:t>
            </a:r>
            <a:r>
              <a:rPr b="0" lang="en-US" sz="2400" spc="-1" strike="noStrike">
                <a:solidFill>
                  <a:srgbClr val="232323"/>
                </a:solidFill>
                <a:latin typeface="Arial"/>
              </a:rPr>
              <a:t>kg/lt)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32323"/>
                </a:solidFill>
                <a:latin typeface="Arial"/>
              </a:rPr>
              <a:t>Σύστημα μελέτης: 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29 διαδικασίες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(καλλιέργεια ελιάς, παραγωγή ελαιολάδου)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3789360"/>
            <a:ext cx="8496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292929"/>
                </a:solidFill>
                <a:latin typeface="Arial"/>
              </a:rPr>
              <a:t>Όρια Συστήματος: το σύστημα περιλαμβάνει όλες τις διεργασίες που σχετίζονται άμεσα η έμμεσα με το γεωργικό και βιομηχανικό μέρος της παραγωγής ελαιολάδου.</a:t>
            </a:r>
            <a:r>
              <a:rPr b="0" lang="el-GR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292929"/>
                </a:solidFill>
                <a:latin typeface="Arial"/>
              </a:rPr>
              <a:t>Εξαιρούνται: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99"/>
                </a:solidFill>
                <a:latin typeface="Arial"/>
              </a:rPr>
              <a:t>Παραγωγή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3399"/>
                </a:solidFill>
                <a:latin typeface="Arial"/>
              </a:rPr>
              <a:t>μεταφορά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3399"/>
                </a:solidFill>
                <a:latin typeface="Arial"/>
              </a:rPr>
              <a:t>αντικατάσταση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99"/>
                </a:solidFill>
                <a:latin typeface="Arial"/>
              </a:rPr>
              <a:t>και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99"/>
                </a:solidFill>
                <a:latin typeface="Arial"/>
              </a:rPr>
              <a:t>συντήρηση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99"/>
                </a:solidFill>
                <a:latin typeface="Arial"/>
              </a:rPr>
              <a:t>κεφαλαιουχικών αγαθών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99"/>
                </a:solidFill>
                <a:latin typeface="Arial"/>
              </a:rPr>
              <a:t>Μεταφορά προσωπικού και εργατικά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99"/>
                </a:solidFill>
                <a:latin typeface="Arial"/>
              </a:rPr>
              <a:t>Στάδια συσκευασίας, διανομής, κατανάλωσης και τέλους ζωής προϊόντος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547640" y="0"/>
            <a:ext cx="5962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8086680" y="115920"/>
            <a:ext cx="1057320" cy="10810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92929"/>
                </a:solidFill>
                <a:latin typeface="Arial"/>
              </a:rPr>
              <a:t>Κατασκευή του Μοντέλου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00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Η βασική αρχή στην ανάπτυξη του μοντέλου είναι ο </a:t>
            </a:r>
            <a:r>
              <a:rPr b="0" lang="el-GR" sz="2800" spc="-1" strike="noStrike" u="sng">
                <a:solidFill>
                  <a:srgbClr val="292929"/>
                </a:solidFill>
                <a:uFillTx/>
                <a:latin typeface="Arial"/>
              </a:rPr>
              <a:t>προσδιορισμός και η περιγραφή όλων των μεμονωμένων σταδίων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 που αποτελούν τον πλήρη κύκλο ζωής του ελαιολάδου όπως για παράδειγμα:</a:t>
            </a:r>
            <a:r>
              <a:rPr b="0" lang="el-GR" sz="28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442800" indent="-442800"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Arial"/>
              </a:rPr>
              <a:t>πρώτες ύλες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442800" indent="-442800"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Arial"/>
              </a:rPr>
              <a:t>η μετατροπή τους σε ενδιάμεσα και τελικά προϊόντα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442800" indent="-442800"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Arial"/>
              </a:rPr>
              <a:t>η μεταφορά πρώτων υλών και παραγόμενων προϊόντων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442800" indent="-442800">
              <a:spcBef>
                <a:spcPts val="60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Arial"/>
              </a:rPr>
              <a:t>η παραγωγή και κατανάλωση ενέργειας </a:t>
            </a:r>
            <a:r>
              <a:rPr b="1" i="1" lang="el-GR" sz="2400" spc="-1" strike="noStrike">
                <a:solidFill>
                  <a:srgbClr val="333333"/>
                </a:solidFill>
                <a:latin typeface="Arial"/>
              </a:rPr>
              <a:t>κλπ.</a:t>
            </a:r>
            <a:r>
              <a:rPr b="0" lang="el-GR" sz="24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Συνέδριο ECOIL, Χανιά, 30 Οκτωβρίου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4:40:51Z</dcterms:created>
  <dc:creator>vagos</dc:creator>
  <dc:description/>
  <dc:language>en-US</dc:language>
  <cp:lastModifiedBy>vagos</cp:lastModifiedBy>
  <dcterms:modified xsi:type="dcterms:W3CDTF">2006-10-29T21:37:10Z</dcterms:modified>
  <cp:revision>79</cp:revision>
  <dc:subject/>
  <dc:title>Slide 1</dc:title>
</cp:coreProperties>
</file>