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3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914400" y="742680"/>
            <a:ext cx="49528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77880" y="4706640"/>
            <a:ext cx="542592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4"/>
          </p:nvPr>
        </p:nvSpPr>
        <p:spPr>
          <a:xfrm>
            <a:off x="0" y="9413640"/>
            <a:ext cx="293832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5"/>
          </p:nvPr>
        </p:nvSpPr>
        <p:spPr>
          <a:xfrm>
            <a:off x="3841920" y="9413640"/>
            <a:ext cx="293832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694-C3FC-441E-87AB-0D39816EC7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7880" y="4706640"/>
            <a:ext cx="542592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N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efore using this presentation, please complete at least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dd your name and the date of the meeting on slid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dd your logo on the master slide (instead of « your logo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dd the dealine for projet submission in your country on slide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dd the coordinates of your MoT, DO and national focal point on slide 4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6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706640"/>
            <a:ext cx="542592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 use: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εριλαμβάνονται έργα για διαχείριση αστικών και παράκτιων περιοχών, ατμοσφαιρική ρύπανση, αστική ανάπτυξη, μεταφορές, συνεργασία φορέων, αποκατάσταση ρυπασμένων περιοχών, ερημοποίηση, κλ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7880" y="4706640"/>
            <a:ext cx="542592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Όχι θεματική προσέγγιση. Οριζόντια προσέγγιση περιβαλλοντικών θεμάτων στους κάτω από τους 3 πυλώνε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772920"/>
            <a:ext cx="85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5CA9D-398B-43EB-9657-A0F87E7A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5229A-FB5A-477A-B927-B7DC838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DB8D-E6CA-42DD-8F69-9BC7889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7C15E-93F5-4C74-95DC-7D1FF90F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3898C-534C-4FFB-A73A-C1F7876C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3640" y="772920"/>
            <a:ext cx="85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EC348-E92F-4B4F-B703-A0C9609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190F-F17B-4F7F-B254-E054676E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FD651-EC57-41D4-A45B-D1457730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6056B-822E-406C-A50F-F08DB35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A07A4-983A-4AB8-9CE4-3E86627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E2044-81ED-454D-BAF3-ECC22059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ACF7B-7F5B-446F-A3F5-09FB1E51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23640" y="772920"/>
            <a:ext cx="85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6EB1-B3CF-49DC-A081-C993D8A9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6C0E-79A8-4A84-9B6E-352F76D1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9249-BB8C-4D4D-A09F-C58B7F2D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9D7D-B6A4-4EA0-BB64-7E46E1A2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E69EA-9A10-4777-9B63-9BBD0DB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23640" y="772920"/>
            <a:ext cx="85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D0BB-0E86-4EA0-8CB2-0C6116DE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DF15-4B6A-44E8-8E00-D72CD29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EF21-6BC7-4183-98C3-F2067BE4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C13D-DD5E-42A9-9CAF-BB78C85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54F3-A53F-41FC-A22A-9C4D1B37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2513-F1B5-4BCB-BC0B-1B61E116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772920"/>
            <a:ext cx="85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9526-4C7A-4BA4-B805-3C147E88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9C48-B539-4356-816F-CBE17C17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CE6DB-A70A-4677-B7F5-1DB90F95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F1B1-E894-415D-9489-303769C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1385-EEDE-4BDB-8EE4-2C30AA25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095E-32D0-4275-B702-A8456749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23640" y="772920"/>
            <a:ext cx="85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6288-D461-47E0-AB05-B0B179E1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0856-4612-40B8-AA12-0427E47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8D73-8811-4337-B964-CBAFDDB0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0AC05-DD33-4DB1-B34D-1BECA36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AF53-8A8B-4BC4-ADF6-E32A30AA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9750-D5E2-4235-A3EA-6329357A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1286-4EE5-4A22-9178-24DE27AE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402920" y="6308280"/>
            <a:ext cx="3754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66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LIFE ENV </a:t>
            </a:r>
            <a:r>
              <a:rPr b="1" i="1" lang="el-GR" sz="1200" spc="-1" strike="noStrike">
                <a:solidFill>
                  <a:srgbClr val="336699"/>
                </a:solidFill>
                <a:latin typeface="Trebuchet MS"/>
              </a:rPr>
              <a:t>0</a:t>
            </a: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4</a:t>
            </a:r>
            <a:r>
              <a:rPr b="1" i="1" lang="el-GR" sz="1200" spc="-1" strike="noStrike">
                <a:solidFill>
                  <a:srgbClr val="336699"/>
                </a:solidFill>
                <a:latin typeface="Trebuchet MS"/>
              </a:rPr>
              <a:t> Ε</a:t>
            </a: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NV/GR/00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30/10/2006, Final conference, Chania, 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84960" y="6237360"/>
            <a:ext cx="327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336699"/>
                </a:solidFill>
                <a:latin typeface="Trebuchet MS"/>
              </a:rPr>
              <a:t>Χριστίνα Μαρούλη, </a:t>
            </a: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Ph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336699"/>
                </a:solidFill>
                <a:latin typeface="Trebuchet MS"/>
              </a:rPr>
              <a:t>Εξωτ. Ομάδα Παρακουλούθη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95360" y="6261120"/>
            <a:ext cx="730080" cy="431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8640" y="6165720"/>
            <a:ext cx="8207640" cy="0"/>
          </a:xfrm>
          <a:prstGeom prst="line">
            <a:avLst/>
          </a:prstGeom>
          <a:ln w="38160">
            <a:solidFill>
              <a:srgbClr val="47518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60200"/>
            <a:ext cx="9144000" cy="576000"/>
            <a:chOff x="0" y="160200"/>
            <a:chExt cx="9144000" cy="57600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160200"/>
              <a:ext cx="6561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rcRect l="33055" t="0" r="27339" b="0"/>
            <a:stretch/>
          </p:blipFill>
          <p:spPr>
            <a:xfrm>
              <a:off x="6545160" y="160200"/>
              <a:ext cx="259884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8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3368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3368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89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89d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300"/>
              </a:spcBef>
              <a:buClr>
                <a:srgbClr val="33689d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89d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33689d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89d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33689d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89d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1402920" y="6308280"/>
            <a:ext cx="3754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66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LIFE ENV </a:t>
            </a:r>
            <a:r>
              <a:rPr b="1" i="1" lang="el-GR" sz="1200" spc="-1" strike="noStrike">
                <a:solidFill>
                  <a:srgbClr val="336699"/>
                </a:solidFill>
                <a:latin typeface="Trebuchet MS"/>
              </a:rPr>
              <a:t>0</a:t>
            </a: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3</a:t>
            </a:r>
            <a:r>
              <a:rPr b="1" i="1" lang="el-GR" sz="1200" spc="-1" strike="noStrike">
                <a:solidFill>
                  <a:srgbClr val="336699"/>
                </a:solidFill>
                <a:latin typeface="Trebuchet MS"/>
              </a:rPr>
              <a:t> Ε</a:t>
            </a: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NV/GR/000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Trebuchet MS"/>
              </a:rPr>
              <a:t>28/9/2006, Final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360" y="6261120"/>
            <a:ext cx="730080" cy="43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8640" y="6165720"/>
            <a:ext cx="8207640" cy="0"/>
          </a:xfrm>
          <a:prstGeom prst="line">
            <a:avLst/>
          </a:prstGeom>
          <a:ln w="38160">
            <a:solidFill>
              <a:srgbClr val="47518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60200"/>
            <a:ext cx="9144000" cy="576000"/>
            <a:chOff x="0" y="160200"/>
            <a:chExt cx="9144000" cy="5760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160200"/>
              <a:ext cx="6561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rcRect l="33055" t="0" r="27339" b="0"/>
            <a:stretch/>
          </p:blipFill>
          <p:spPr>
            <a:xfrm>
              <a:off x="6545160" y="160200"/>
              <a:ext cx="2598840" cy="576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BCA-DD85-480A-8C8D-8EF3C83B008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23640" y="1628280"/>
            <a:ext cx="8569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339480" indent="-339480">
              <a:lnSpc>
                <a:spcPct val="13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339480" indent="-339480">
              <a:lnSpc>
                <a:spcPct val="13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339480" indent="-339480">
              <a:lnSpc>
                <a:spcPct val="13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339480" indent="-339480">
              <a:lnSpc>
                <a:spcPct val="13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0" y="189000"/>
            <a:ext cx="9129960" cy="587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3"/>
          <p:cNvSpPr>
            <a:spLocks noGrp="1"/>
          </p:cNvSpPr>
          <p:nvPr>
            <p:ph type="dt" idx="6"/>
          </p:nvPr>
        </p:nvSpPr>
        <p:spPr>
          <a:xfrm>
            <a:off x="1969560" y="6308280"/>
            <a:ext cx="3754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66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00"/>
                </a:solidFill>
                <a:latin typeface="Trebuchet MS"/>
              </a:rPr>
              <a:t>Event, Date,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4960" y="629136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i="1" lang="en-GB" sz="1200" spc="-1" strike="noStrike">
                <a:solidFill>
                  <a:srgbClr val="006600"/>
                </a:solidFill>
                <a:latin typeface="Trebuchet MS"/>
              </a:rPr>
              <a:t>Name, Surname,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5360" y="6261120"/>
            <a:ext cx="730080" cy="431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330200" y="6308640"/>
            <a:ext cx="579600" cy="31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8640" y="6165720"/>
            <a:ext cx="8207640" cy="0"/>
          </a:xfrm>
          <a:prstGeom prst="line">
            <a:avLst/>
          </a:prstGeom>
          <a:ln w="38160">
            <a:solidFill>
              <a:srgbClr val="00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42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442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eedc4"/>
          </a:solidFill>
          <a:ln w="9360">
            <a:solidFill>
              <a:srgbClr val="b5a65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423"/>
              </a:buClr>
              <a:buFont typeface="HelveticaNeue Thin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423"/>
                </a:solidFill>
                <a:latin typeface="HelveticaNeue ThinExt"/>
              </a:rPr>
              <a:t>Click to edit the outline text format</a:t>
            </a:r>
            <a:endParaRPr b="0" lang="en-US" sz="2400" spc="-1" strike="noStrike">
              <a:solidFill>
                <a:srgbClr val="4b4423"/>
              </a:solidFill>
              <a:latin typeface="HelveticaNeue ThinExt"/>
            </a:endParaRPr>
          </a:p>
          <a:p>
            <a:pPr lvl="1" marL="743040" indent="-285840">
              <a:spcBef>
                <a:spcPts val="601"/>
              </a:spcBef>
              <a:buClr>
                <a:srgbClr val="4b4423"/>
              </a:buClr>
              <a:buFont typeface="HelveticaNeue Thin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423"/>
                </a:solidFill>
                <a:latin typeface="HelveticaNeue ThinExt"/>
              </a:rPr>
              <a:t>Second Outline Level</a:t>
            </a:r>
            <a:endParaRPr b="0" lang="en-US" sz="2400" spc="-1" strike="noStrike">
              <a:solidFill>
                <a:srgbClr val="4b4423"/>
              </a:solidFill>
              <a:latin typeface="HelveticaNeue ThinExt"/>
            </a:endParaRPr>
          </a:p>
          <a:p>
            <a:pPr lvl="2" marL="1143000" indent="-228600">
              <a:spcBef>
                <a:spcPts val="601"/>
              </a:spcBef>
              <a:buClr>
                <a:srgbClr val="4b4423"/>
              </a:buClr>
              <a:buFont typeface="HelveticaNeue Thin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423"/>
                </a:solidFill>
                <a:latin typeface="HelveticaNeue ThinExt"/>
              </a:rPr>
              <a:t>Third Outline Level</a:t>
            </a:r>
            <a:endParaRPr b="0" lang="en-US" sz="2400" spc="-1" strike="noStrike">
              <a:solidFill>
                <a:srgbClr val="4b4423"/>
              </a:solidFill>
              <a:latin typeface="HelveticaNeue ThinExt"/>
            </a:endParaRPr>
          </a:p>
          <a:p>
            <a:pPr lvl="3" marL="1600200" indent="-228600">
              <a:spcBef>
                <a:spcPts val="601"/>
              </a:spcBef>
              <a:buClr>
                <a:srgbClr val="4b4423"/>
              </a:buClr>
              <a:buFont typeface="HelveticaNeue Thin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423"/>
                </a:solidFill>
                <a:latin typeface="HelveticaNeue ThinExt"/>
              </a:rPr>
              <a:t>Fourth Outline Level</a:t>
            </a:r>
            <a:endParaRPr b="0" lang="en-US" sz="2400" spc="-1" strike="noStrike">
              <a:solidFill>
                <a:srgbClr val="4b4423"/>
              </a:solidFill>
              <a:latin typeface="HelveticaNeue ThinExt"/>
            </a:endParaRPr>
          </a:p>
          <a:p>
            <a:pPr lvl="4" marL="2057400" indent="-228600">
              <a:spcBef>
                <a:spcPts val="601"/>
              </a:spcBef>
              <a:buClr>
                <a:srgbClr val="4b4423"/>
              </a:buClr>
              <a:buFont typeface="HelveticaNeue Thin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423"/>
                </a:solidFill>
                <a:latin typeface="HelveticaNeue ThinExt"/>
              </a:rPr>
              <a:t>Fifth Outline Level</a:t>
            </a:r>
            <a:endParaRPr b="0" lang="en-US" sz="2400" spc="-1" strike="noStrike">
              <a:solidFill>
                <a:srgbClr val="4b4423"/>
              </a:solidFill>
              <a:latin typeface="HelveticaNeue ThinEx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Neue Thin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423"/>
                </a:solidFill>
                <a:latin typeface="HelveticaNeue ThinExt"/>
              </a:rPr>
              <a:t>Sixth Outline Level</a:t>
            </a:r>
            <a:endParaRPr b="0" lang="en-US" sz="2400" spc="-1" strike="noStrike">
              <a:solidFill>
                <a:srgbClr val="4b4423"/>
              </a:solidFill>
              <a:latin typeface="HelveticaNeue ThinEx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Neue Thin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423"/>
                </a:solidFill>
                <a:latin typeface="HelveticaNeue ThinExt"/>
              </a:rPr>
              <a:t>Seventh Outline Level</a:t>
            </a:r>
            <a:endParaRPr b="0" lang="en-US" sz="2400" spc="-1" strike="noStrike">
              <a:solidFill>
                <a:srgbClr val="4b4423"/>
              </a:solidFill>
              <a:latin typeface="HelveticaNeue ThinEx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98A-6CE0-4E34-84A5-867A504F7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eedc4"/>
          </a:solidFill>
          <a:ln w="9360">
            <a:solidFill>
              <a:srgbClr val="b5a65e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a65e"/>
                </a:solidFill>
                <a:latin typeface="HelveticaNeue ThinExt"/>
              </a:rPr>
              <a:t>Click to edit the title text format</a:t>
            </a:r>
            <a:endParaRPr b="0" lang="en-US" sz="2400" spc="-1" strike="noStrike">
              <a:solidFill>
                <a:srgbClr val="b5a65e"/>
              </a:solidFill>
              <a:latin typeface="HelveticaNeue ThinEx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6EC-8919-4805-9EDF-8B2FEA91A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189000"/>
            <a:ext cx="9144000" cy="575640"/>
            <a:chOff x="0" y="189000"/>
            <a:chExt cx="9144000" cy="5756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0" y="189000"/>
              <a:ext cx="6561000" cy="57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rcRect l="33055" t="0" r="27339" b="0"/>
            <a:stretch/>
          </p:blipFill>
          <p:spPr>
            <a:xfrm>
              <a:off x="6545160" y="189000"/>
              <a:ext cx="2598840" cy="575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55640" y="1197000"/>
            <a:ext cx="7704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06ba0"/>
                </a:solidFill>
                <a:latin typeface="Arial"/>
                <a:ea typeface="Arial"/>
              </a:rPr>
              <a:t>LIFE </a:t>
            </a:r>
            <a:r>
              <a:rPr b="1" lang="el-GR" sz="4800" spc="-1" strike="noStrike">
                <a:solidFill>
                  <a:srgbClr val="306ba0"/>
                </a:solidFill>
                <a:latin typeface="Arial"/>
                <a:ea typeface="Arial"/>
              </a:rPr>
              <a:t>: </a:t>
            </a:r>
            <a:r>
              <a:rPr b="1" lang="el-GR" sz="4400" spc="-1" strike="noStrike">
                <a:solidFill>
                  <a:srgbClr val="306ba0"/>
                </a:solidFill>
                <a:latin typeface="Arial"/>
                <a:ea typeface="Arial"/>
              </a:rPr>
              <a:t>η Ευρωπαϊκή Ένωση για το περιβάλλο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06ba0"/>
                </a:solidFill>
                <a:latin typeface="Times New Roman"/>
              </a:rPr>
              <a:t>Χριστίνα Μαρούλη</a:t>
            </a:r>
            <a:r>
              <a:rPr b="1" lang="en-US" sz="2400" spc="-1" strike="noStrike">
                <a:solidFill>
                  <a:srgbClr val="306ba0"/>
                </a:solidFill>
                <a:latin typeface="Times New Roman"/>
              </a:rPr>
              <a:t>, PhD</a:t>
            </a:r>
            <a:br>
              <a:rPr sz="2000"/>
            </a:br>
            <a:r>
              <a:rPr b="0" lang="el-GR" sz="2000" spc="-1" strike="noStrike">
                <a:solidFill>
                  <a:srgbClr val="306ba0"/>
                </a:solidFill>
                <a:latin typeface="Times New Roman"/>
              </a:rPr>
              <a:t>Κοινωνιολόγος - Περιβαλλοντολόγος</a:t>
            </a:r>
            <a:br>
              <a:rPr sz="2000"/>
            </a:br>
            <a:r>
              <a:rPr b="0" lang="en-US" sz="2000" spc="-1" strike="noStrike">
                <a:solidFill>
                  <a:srgbClr val="306ba0"/>
                </a:solidFill>
                <a:latin typeface="Times New Roman"/>
              </a:rPr>
              <a:t>LIFE - </a:t>
            </a:r>
            <a:r>
              <a:rPr b="0" lang="el-GR" sz="2000" spc="-1" strike="noStrike">
                <a:solidFill>
                  <a:srgbClr val="306ba0"/>
                </a:solidFill>
                <a:latin typeface="Times New Roman"/>
              </a:rPr>
              <a:t>Εξωτερική Ομάδα Παρακολούθη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547640" y="3141720"/>
            <a:ext cx="6377040" cy="942840"/>
            <a:chOff x="1547640" y="3141720"/>
            <a:chExt cx="6377040" cy="94284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4883040" y="3141720"/>
              <a:ext cx="136044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1547640" y="3141720"/>
              <a:ext cx="136044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6562440" y="3141720"/>
              <a:ext cx="136224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3206520" y="3141720"/>
              <a:ext cx="1360440" cy="9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5219640" y="5877000"/>
            <a:ext cx="392436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Το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FE 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με αριθμούς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78598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Since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1992: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3368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1.4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97 έργα </a:t>
            </a: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LIFE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 Περιβάλλον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Arial"/>
              </a:rPr>
              <a:t>908 έργα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FE </a:t>
            </a:r>
            <a:r>
              <a:rPr b="0" lang="el-GR" sz="2000" spc="-1" strike="noStrike">
                <a:solidFill>
                  <a:srgbClr val="006600"/>
                </a:solidFill>
                <a:latin typeface="Arial"/>
              </a:rPr>
              <a:t>Φύση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8e81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e8142"/>
                </a:solidFill>
                <a:latin typeface="Arial"/>
              </a:rPr>
              <a:t>213 έργα </a:t>
            </a:r>
            <a:r>
              <a:rPr b="0" lang="en-US" sz="2000" spc="-1" strike="noStrike">
                <a:solidFill>
                  <a:srgbClr val="8e8142"/>
                </a:solidFill>
                <a:latin typeface="Arial"/>
              </a:rPr>
              <a:t>LIFE</a:t>
            </a:r>
            <a:r>
              <a:rPr b="0" lang="el-GR" sz="2000" spc="-1" strike="noStrike">
                <a:solidFill>
                  <a:srgbClr val="8e8142"/>
                </a:solidFill>
                <a:latin typeface="Arial"/>
              </a:rPr>
              <a:t> Τρίτες Χώρες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Total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: 2.618 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Κατανομή προϋπολογισμού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Το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 2004-2005: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89d"/>
                </a:solidFill>
                <a:latin typeface="Arial"/>
              </a:rPr>
              <a:t>LIFE</a:t>
            </a:r>
            <a:r>
              <a:rPr b="1" lang="el-GR" sz="2400" spc="-1" strike="noStrike">
                <a:solidFill>
                  <a:srgbClr val="33689d"/>
                </a:solidFill>
                <a:latin typeface="Arial"/>
              </a:rPr>
              <a:t> Περιβάλλον</a:t>
            </a:r>
            <a:r>
              <a:rPr b="1" lang="en-GB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89d"/>
                </a:solidFill>
                <a:latin typeface="Arial"/>
              </a:rPr>
              <a:t>(47%)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LIFE</a:t>
            </a:r>
            <a:r>
              <a:rPr b="1" lang="el-GR" sz="2400" spc="-1" strike="noStrike">
                <a:solidFill>
                  <a:srgbClr val="006600"/>
                </a:solidFill>
                <a:latin typeface="Arial"/>
              </a:rPr>
              <a:t> Φύση</a:t>
            </a:r>
            <a:r>
              <a:rPr b="1" lang="el-G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47%)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8e81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8142"/>
                </a:solidFill>
                <a:latin typeface="Arial"/>
              </a:rPr>
              <a:t>LIFE</a:t>
            </a:r>
            <a:r>
              <a:rPr b="1" lang="el-GR" sz="2400" spc="-1" strike="noStrike">
                <a:solidFill>
                  <a:srgbClr val="8e8142"/>
                </a:solidFill>
                <a:latin typeface="Arial"/>
              </a:rPr>
              <a:t> Τρίτες Χώρες </a:t>
            </a:r>
            <a:r>
              <a:rPr b="1" lang="el-GR" sz="2400" spc="-1" strike="noStrike">
                <a:solidFill>
                  <a:srgbClr val="8e8142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8e8142"/>
                </a:solidFill>
                <a:latin typeface="Arial"/>
              </a:rPr>
              <a:t>  (6%)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FE 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στην Ελλάδα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Από το 1992: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9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έργα </a:t>
            </a: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LIFE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Περιβάλλον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46 </a:t>
            </a:r>
            <a:r>
              <a:rPr b="0" lang="el-GR" sz="2000" spc="-1" strike="noStrike">
                <a:solidFill>
                  <a:srgbClr val="008000"/>
                </a:solidFill>
                <a:latin typeface="Arial"/>
              </a:rPr>
              <a:t>έργα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LIFE </a:t>
            </a:r>
            <a:r>
              <a:rPr b="0" lang="el-GR" sz="2000" spc="-1" strike="noStrike">
                <a:solidFill>
                  <a:srgbClr val="008000"/>
                </a:solidFill>
                <a:latin typeface="Arial"/>
              </a:rPr>
              <a:t>Φύση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Συνολικός προβλεπόμενος προϋπολογισμός</a:t>
            </a: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€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112.2 εκ.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 + </a:t>
            </a:r>
            <a:r>
              <a:rPr b="0" lang="el-GR" sz="2000" spc="-1" strike="noStrike">
                <a:solidFill>
                  <a:srgbClr val="008000"/>
                </a:solidFill>
                <a:latin typeface="Arial"/>
              </a:rPr>
              <a:t>€ 58.5 εκ.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€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170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 εκατομμύρια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Συνεισφορά της ΕΕ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€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48.4 εκ.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 + </a:t>
            </a:r>
            <a:r>
              <a:rPr b="0" lang="el-GR" sz="2000" spc="-1" strike="noStrike">
                <a:solidFill>
                  <a:srgbClr val="008000"/>
                </a:solidFill>
                <a:latin typeface="Arial"/>
              </a:rPr>
              <a:t>€ 38.9 εκ.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€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 εκατομμύρια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FE - 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Νομικό πλαίσιο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και κανονισμο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89d"/>
                </a:solidFill>
                <a:latin typeface="Arial"/>
              </a:rPr>
              <a:t>LIFE Regulation 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(1655/2000 amended by 1682/2004)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Το συμφωνητικό </a:t>
            </a: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(Grant Agreement)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Οι Κοινές Διατάξεις</a:t>
            </a:r>
            <a:r>
              <a:rPr b="1" lang="en-GB" sz="20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33689d"/>
                </a:solidFill>
                <a:latin typeface="Arial"/>
              </a:rPr>
              <a:t>Common Provisions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 ή παλαιότερα </a:t>
            </a: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Standard Administrative Provisions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) που συνοδεύουν το συμφωνητικό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Η εγκεκριμένη πρόταση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89d"/>
                </a:solidFill>
                <a:latin typeface="Arial"/>
              </a:rPr>
              <a:t>Καθορίζει το εύρος και τους στόχους του έργου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89d"/>
                </a:solidFill>
                <a:latin typeface="Arial"/>
              </a:rPr>
              <a:t>Παρουσιάζει τις δράσεις και τις μεθόδους που έχουν προβλεφθεί καθώς και τον οικονομικό σχεδιασμό του έργου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89d"/>
                </a:solidFill>
                <a:latin typeface="Arial"/>
              </a:rPr>
              <a:t>Επιβεβαιώνει το εταιρικό σχήμα και τη διαχειριστική δομή / δομή της ομάδας έργου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285264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LIFE</a:t>
            </a:r>
            <a:r>
              <a:rPr b="1" lang="el-GR" sz="3600" spc="-1" strike="noStrike">
                <a:solidFill>
                  <a:srgbClr val="336699"/>
                </a:solidFill>
                <a:latin typeface="Arial"/>
              </a:rPr>
              <a:t> Περιβάλλο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57150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33689d"/>
                </a:solidFill>
                <a:latin typeface="Arial"/>
              </a:rPr>
              <a:t>Ποσοστό κατα θέμα </a:t>
            </a:r>
            <a:r>
              <a:rPr b="1" i="1" lang="en-GB" sz="1400" spc="-1" strike="noStrike">
                <a:solidFill>
                  <a:srgbClr val="33689d"/>
                </a:solidFill>
                <a:latin typeface="Arial"/>
              </a:rPr>
              <a:t> (1992 –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8209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699"/>
                </a:solidFill>
                <a:latin typeface="Arial"/>
              </a:rPr>
              <a:t>Έργα επίδειξης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336699"/>
                </a:solidFill>
                <a:uFillTx/>
                <a:latin typeface="Arial"/>
              </a:rPr>
              <a:t>Όχι</a:t>
            </a:r>
            <a:r>
              <a:rPr b="0" lang="el-GR" sz="2000" spc="-1" strike="noStrike">
                <a:solidFill>
                  <a:srgbClr val="336699"/>
                </a:solidFill>
                <a:latin typeface="Arial"/>
              </a:rPr>
              <a:t> βασική έρευνα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699"/>
                </a:solidFill>
                <a:latin typeface="Arial"/>
              </a:rPr>
              <a:t>Πιλοτική εφαρμογή -  </a:t>
            </a:r>
            <a:r>
              <a:rPr b="0" lang="el-GR" sz="2000" spc="-1" strike="noStrike" u="sng">
                <a:solidFill>
                  <a:srgbClr val="336699"/>
                </a:solidFill>
                <a:uFillTx/>
                <a:latin typeface="Arial"/>
              </a:rPr>
              <a:t>Όχι</a:t>
            </a:r>
            <a:r>
              <a:rPr b="0" lang="el-GR" sz="2000" spc="-1" strike="noStrike">
                <a:solidFill>
                  <a:srgbClr val="336699"/>
                </a:solidFill>
                <a:latin typeface="Arial"/>
              </a:rPr>
              <a:t> επενδύσεις σε υποδομές ή τεχνολογίες που ήδη υπάρχουν</a:t>
            </a:r>
            <a:r>
              <a:rPr b="0" lang="el-GR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699"/>
                </a:solidFill>
                <a:latin typeface="Arial"/>
              </a:rPr>
              <a:t>Δράσεις προετοιμασίας (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eparatory projects)</a:t>
            </a:r>
            <a:r>
              <a:rPr b="0" lang="el-G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336699"/>
                </a:solidFill>
                <a:latin typeface="Arial"/>
              </a:rPr>
              <a:t>(για την ανάπτυξη νέων ή αναθεωρημένων πολιτικών της ΕΕ)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9360" y="961920"/>
            <a:ext cx="856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LIFE-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Περιβάλλον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Επιλέξιμα έργα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7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170000"/>
              </a:lnSpc>
              <a:spcBef>
                <a:spcPts val="451"/>
              </a:spcBef>
              <a:buClr>
                <a:srgbClr val="306b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06ba0"/>
                </a:solidFill>
                <a:latin typeface="Arial"/>
              </a:rPr>
              <a:t>Ανάπτυξη και σχεδιασμός αειφόρων χρήσεων γης </a:t>
            </a:r>
            <a:r>
              <a:rPr b="1" lang="el-GR" sz="1800" spc="-1" strike="noStrike">
                <a:solidFill>
                  <a:srgbClr val="306ba0"/>
                </a:solidFill>
                <a:latin typeface="Arial"/>
              </a:rPr>
              <a:t>(αστικών και παράκτιων περιοχών</a:t>
            </a:r>
            <a:r>
              <a:rPr b="1" lang="en-US" sz="1800" spc="-1" strike="noStrike">
                <a:solidFill>
                  <a:srgbClr val="306ba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306ba0"/>
                </a:solidFill>
                <a:latin typeface="Arial"/>
              </a:rPr>
              <a:t>ποιότητα ατμόσφαιρας)</a:t>
            </a:r>
            <a:r>
              <a:rPr b="1" lang="en-GB" sz="18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3368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Αειφόρος διαχείριση υπόγειων και επιφανειακών υδάτων </a:t>
            </a:r>
            <a:r>
              <a:rPr b="1" lang="el-GR" sz="1800" spc="-1" strike="noStrike">
                <a:solidFill>
                  <a:srgbClr val="33689d"/>
                </a:solidFill>
                <a:latin typeface="Arial"/>
              </a:rPr>
              <a:t>(υγρά λύματα, επίδραση γεωργικών και δασικών δραστηριοτήτων στην ποιότητα των υδάτων, διαχείριση ποταμών)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306b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06ba0"/>
                </a:solidFill>
                <a:latin typeface="Arial"/>
              </a:rPr>
              <a:t>Ελαχιστοποίηση περιβαλλοντικών επιπτώσεων από οικονομικές δραστηριότητες </a:t>
            </a:r>
            <a:r>
              <a:rPr b="1" lang="en-GB" sz="1800" spc="-1" strike="noStrike">
                <a:solidFill>
                  <a:srgbClr val="33689d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33689d"/>
                </a:solidFill>
                <a:latin typeface="Arial"/>
              </a:rPr>
              <a:t>νέες τεχνολογίες, μείωση αερίων του θερμοκηπίου)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9360" y="961920"/>
            <a:ext cx="856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LIFE-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Περιβάλλον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Θεματικές ενότητες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8748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170000"/>
              </a:lnSpc>
              <a:spcBef>
                <a:spcPts val="451"/>
              </a:spcBef>
              <a:buClr>
                <a:srgbClr val="3368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Διαχείριση αποβλήτων </a:t>
            </a:r>
            <a:r>
              <a:rPr b="1" lang="el-GR" sz="1800" spc="-1" strike="noStrike">
                <a:solidFill>
                  <a:srgbClr val="33689d"/>
                </a:solidFill>
                <a:latin typeface="Arial"/>
              </a:rPr>
              <a:t>(πρόληψη, επαναχρησιμοποίηση, προώθηση της ανακύκλωσης)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3368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Ελαχιστοποίηση περιβαλλοντικών επιπτώσεων από προϊόντα και υπηρεσίες</a:t>
            </a:r>
            <a:r>
              <a:rPr b="1" lang="en-US" sz="20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89d"/>
                </a:solidFill>
                <a:latin typeface="Arial"/>
              </a:rPr>
              <a:t>(EMAS, Eco-audit, IPP</a:t>
            </a:r>
            <a:r>
              <a:rPr b="1" lang="el-GR" sz="1800" spc="-1" strike="noStrike">
                <a:solidFill>
                  <a:srgbClr val="33689d"/>
                </a:solidFill>
                <a:latin typeface="Arial"/>
              </a:rPr>
              <a:t>, οικολογικός σχεδιασμός</a:t>
            </a:r>
            <a:r>
              <a:rPr b="1" lang="en-GB" sz="1800" spc="-1" strike="noStrike">
                <a:solidFill>
                  <a:srgbClr val="33689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9360" y="961920"/>
            <a:ext cx="856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LIFE-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Περιβάλλον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Θεματικές ενότητες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79360" y="961920"/>
            <a:ext cx="856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LIFE-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Περιβάλλον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Θεματικές ενότητες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57150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33689d"/>
                </a:solidFill>
                <a:latin typeface="Arial"/>
              </a:rPr>
              <a:t>Ποσοστό κατά θέμα </a:t>
            </a:r>
            <a:r>
              <a:rPr b="1" i="1" lang="en-GB" sz="1400" spc="-1" strike="noStrike">
                <a:solidFill>
                  <a:srgbClr val="33689d"/>
                </a:solidFill>
                <a:latin typeface="Arial"/>
              </a:rPr>
              <a:t> (1992 –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187280" y="2205000"/>
          <a:ext cx="6985080" cy="34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98508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FE -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 Περιβάλλον στην Ελλάδα: </a:t>
            </a:r>
            <a:br>
              <a:rPr sz="3200"/>
            </a:b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Με αριθμούς</a:t>
            </a:r>
            <a:r>
              <a:rPr b="0" lang="el-GR" sz="4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Από το</a:t>
            </a:r>
            <a:r>
              <a:rPr b="0" lang="en-GB" sz="2800" spc="-1" strike="noStrike">
                <a:solidFill>
                  <a:srgbClr val="33689d"/>
                </a:solidFill>
                <a:latin typeface="Arial"/>
              </a:rPr>
              <a:t> 1992: </a:t>
            </a: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33689d"/>
                </a:solidFill>
                <a:latin typeface="Arial"/>
              </a:rPr>
              <a:t>9</a:t>
            </a:r>
            <a:r>
              <a:rPr b="0" lang="en-GB" sz="28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προγράμματα </a:t>
            </a:r>
            <a:r>
              <a:rPr b="0" lang="en-GB" sz="2800" spc="-1" strike="noStrike">
                <a:solidFill>
                  <a:srgbClr val="33689d"/>
                </a:solidFill>
                <a:latin typeface="Arial"/>
              </a:rPr>
              <a:t>LIFE – </a:t>
            </a: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Περιβάλλον στην Ελλάδα</a:t>
            </a:r>
            <a:r>
              <a:rPr b="0" lang="en-GB" sz="2800" spc="-1" strike="noStrike">
                <a:solidFill>
                  <a:srgbClr val="33689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2 - 6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5 - 11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8 – 4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2003 – 9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3 - 4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6 - 6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9 – 12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2004 – 7   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4 -14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1997- 7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2000 – 7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2005 – 4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2002 – 7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200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Συμφωνία του Άμστερνταμ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, 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Άρθρο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174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33689d"/>
                </a:solidFill>
                <a:latin typeface="Arial"/>
              </a:rPr>
              <a:t>Κοινοτική πολιτική για το περιβάλλον: 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Διατήρηση, προστασία και βελτίωση της ποιότητας του περιβάλλοντος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Προστασία της ανθρώπινης υγείας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Προσεκτική και ορθολογική χρήση των φυσικών πόρων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Προώθηση μέτρων σε διεθνές επίπεδο για την αντιμετώπιση περιφερειακών και παγκόσμιων περιβαλλοντικών προβλημάτων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9360" y="961920"/>
            <a:ext cx="856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LIFE-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Περιβάλλον στην Ελλάδα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Θεματικές ενότητες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909720" y="2162160"/>
          <a:ext cx="726732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2162160"/>
                    <a:ext cx="7267320" cy="3600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FE -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 Περιβάλλον στην Ελλάδα:  </a:t>
            </a:r>
            <a:br>
              <a:rPr sz="3200"/>
            </a:b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Περιφέρειες</a:t>
            </a:r>
            <a:r>
              <a:rPr b="0" lang="el-GR" sz="4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3671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Ανατολική Μακεδονία και Θράκη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Νότιο Αιγαίο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Πελοπόννησος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Στερεά Ελλάδα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Θεσσαλία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Βόρειο Αιγαίο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9073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3280" y="2349360"/>
            <a:ext cx="3889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  <a:ea typeface="Arial"/>
              </a:rPr>
              <a:t>Αττική</a:t>
            </a:r>
            <a:r>
              <a:rPr b="1" lang="en-GB" sz="2000" spc="-1" strike="noStrike">
                <a:solidFill>
                  <a:srgbClr val="33689d"/>
                </a:solidFill>
                <a:latin typeface="Arial"/>
                <a:ea typeface="Arial"/>
              </a:rPr>
              <a:t> (30 %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  <a:ea typeface="Arial"/>
              </a:rPr>
              <a:t>Δυτική Ελλάδ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  <a:ea typeface="Arial"/>
              </a:rPr>
              <a:t>Δυτική Μακεδον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  <a:ea typeface="Arial"/>
              </a:rPr>
              <a:t>Ιόνια Νησι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  <a:ea typeface="Arial"/>
              </a:rPr>
              <a:t>΄Ηπειρ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  <a:ea typeface="Arial"/>
              </a:rPr>
              <a:t>Κεντρική Μακεδονία (20%</a:t>
            </a:r>
            <a:r>
              <a:rPr b="1" lang="en-GB" sz="2000" spc="-1" strike="noStrike">
                <a:solidFill>
                  <a:srgbClr val="33689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Times New Roman"/>
                <a:ea typeface="Arial"/>
              </a:rPr>
              <a:t>Κρήτ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4000" y="285264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IFE+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 : </a:t>
            </a:r>
            <a:r>
              <a:rPr b="1" lang="el-GR" sz="3600" spc="-1" strike="noStrike">
                <a:solidFill>
                  <a:srgbClr val="336699"/>
                </a:solidFill>
                <a:latin typeface="Arial"/>
              </a:rPr>
              <a:t>Εξελίξει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79360" y="89352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+: 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Εξελίξεις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08440" y="5305320"/>
            <a:ext cx="1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162864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Έχει γίνει πρόταση για τον κανονισμό του </a:t>
            </a:r>
            <a:r>
              <a:rPr b="0" lang="en-GB" sz="2400" spc="-1" strike="noStrike">
                <a:solidFill>
                  <a:srgbClr val="306ba0"/>
                </a:solidFill>
                <a:latin typeface="Arial"/>
                <a:ea typeface="Arial"/>
              </a:rPr>
              <a:t>LIFE</a:t>
            </a: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+.  Δεν έχει εγκριθεί</a:t>
            </a:r>
            <a:r>
              <a:rPr b="0" lang="en-US" sz="2400" spc="-1" strike="noStrike">
                <a:solidFill>
                  <a:srgbClr val="306ba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από το Κοινοβούλι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Προταθείς προϋπολογισμός:  € 2,</a:t>
            </a:r>
            <a:r>
              <a:rPr b="0" lang="en-US" sz="2400" spc="-1" strike="noStrike">
                <a:solidFill>
                  <a:srgbClr val="306ba0"/>
                </a:solidFill>
                <a:latin typeface="Arial"/>
                <a:ea typeface="Arial"/>
              </a:rPr>
              <a:t>098</a:t>
            </a: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 εκατομμύ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Βασικά κριτήρια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Βέλτιστες πρακτικές ή μέτρα επίδειξης για την προστασία της Φύσης (</a:t>
            </a:r>
            <a:r>
              <a:rPr b="0" lang="en-US" sz="2400" spc="-1" strike="noStrike">
                <a:solidFill>
                  <a:srgbClr val="306ba0"/>
                </a:solidFill>
                <a:latin typeface="Arial"/>
                <a:ea typeface="Arial"/>
              </a:rPr>
              <a:t>habitats and fauna and fl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Καινοτομία και επίδειξη, συμπεριλαμβανομένης της διάχυσης και ευαισθητοποί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Παρακολούθηση δασ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82184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9360" y="89352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+ : 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Πυλώνες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5305320"/>
            <a:ext cx="1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2276640"/>
            <a:ext cx="84247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6699"/>
                </a:solidFill>
                <a:latin typeface="Arial"/>
                <a:ea typeface="Arial"/>
              </a:rPr>
              <a:t>LIFE+ Nature and Biodiversity</a:t>
            </a:r>
            <a:r>
              <a:rPr b="0" lang="el-GR" sz="28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6699"/>
                </a:solidFill>
                <a:latin typeface="Arial"/>
                <a:ea typeface="Arial"/>
              </a:rPr>
              <a:t>LIFE+ Environment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al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  <a:ea typeface="Arial"/>
              </a:rPr>
              <a:t> Policy and Governance</a:t>
            </a:r>
            <a:r>
              <a:rPr b="0" lang="el-GR" sz="28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6699"/>
                </a:solidFill>
                <a:latin typeface="Arial"/>
                <a:ea typeface="Arial"/>
              </a:rPr>
              <a:t>LIFE+ Information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82184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9360" y="89352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+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06ba0"/>
                </a:solidFill>
                <a:latin typeface="Arial"/>
              </a:rPr>
              <a:t>Nature and Biodiversity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: </a:t>
            </a:r>
            <a:br>
              <a:rPr sz="3200"/>
            </a:b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Βασικά Κριτήρια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08440" y="5305320"/>
            <a:ext cx="1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1628640"/>
            <a:ext cx="81374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Εφαρμογή της Κοινοτικής πολιτικής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για την προστασία της φύσης, </a:t>
            </a: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Natura 2000 (Birds and Habitats directi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Ανάπτυξη, παρακολούθηση και αξιολόγηση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της Κοινοτικής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ολιτικής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για τη φύση και τη βιοποικιλ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αρακολούθηση και αξιολόγηση της φύσης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και της βιοποικιλότητ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λύτερη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εριβαλλοντική διακυβέρνηση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, ευρύτερη συμμετοχή των ενδιαφερ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82184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893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+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06ba0"/>
                </a:solidFill>
                <a:latin typeface="Arial"/>
              </a:rPr>
              <a:t>Environmental Policy and Governanc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: </a:t>
            </a:r>
            <a:br>
              <a:rPr sz="3200"/>
            </a:b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Βασικά Κριτήρια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08440" y="5305320"/>
            <a:ext cx="1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1773360"/>
            <a:ext cx="828036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Ανάπτυξη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ι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επίδειξη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καινοτόμω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ολιτικών, τεχνολογιών, μεθόδω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ι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εργαλεί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Ανάπτυξη, παρακολούθηση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και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αξιολόγηση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η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εριβαλλοντική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ολιτικ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αρακολούθηση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και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αξιολόγηση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της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κατάστασης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του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εριβάλλον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Εφαρμογή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της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Κοινοτικής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ολιτική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για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ο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εριβάλλο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λύτερη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εριβαλλοντική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διακυβέρνηση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, ευρύτερη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συμμετοχή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ω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ενδιαφερ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82184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9360" y="89352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+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06ba0"/>
                </a:solidFill>
                <a:latin typeface="Arial"/>
              </a:rPr>
              <a:t>Information and Communication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: </a:t>
            </a:r>
            <a:br>
              <a:rPr sz="3200"/>
            </a:b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Βασικά Κριτήρια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08440" y="5305320"/>
            <a:ext cx="1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2421000"/>
            <a:ext cx="842472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Διάχυση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και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ευαισθητοποίηση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σχετικά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με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εριβαλλοντικά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θέματα, συμπεριλαμβανομένη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ι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η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ρόληψη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ω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δασικώ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υρκαγι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06b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Πληροφόρηση, δράσεις</a:t>
            </a:r>
            <a:r>
              <a:rPr b="0" lang="en-US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επικοινωνίας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, συνέδρια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ι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 u="sng">
                <a:solidFill>
                  <a:srgbClr val="306ba0"/>
                </a:solidFill>
                <a:uFillTx/>
                <a:latin typeface="Times New Roman"/>
                <a:ea typeface="Arial"/>
              </a:rPr>
              <a:t>κατάρτιση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, συμπεριλαμβανομένη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ι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η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κατάρτισης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για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η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ρόληψη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τω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δασικών</a:t>
            </a:r>
            <a:r>
              <a:rPr b="0" lang="en-US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 </a:t>
            </a:r>
            <a:r>
              <a:rPr b="0" lang="el-GR" sz="2400" spc="-1" strike="noStrike">
                <a:solidFill>
                  <a:srgbClr val="306ba0"/>
                </a:solidFill>
                <a:latin typeface="Times New Roman"/>
                <a:ea typeface="Arial"/>
              </a:rPr>
              <a:t>πυρκαγι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82184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79360" y="89352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+: 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Θεματικές προτεραιότητες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08440" y="5305320"/>
            <a:ext cx="1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" y="1989000"/>
            <a:ext cx="8137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06ba0"/>
                </a:solidFill>
                <a:latin typeface="Arial"/>
                <a:ea typeface="Arial"/>
              </a:rPr>
              <a:t>Κλιματολογική αλλαγ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06ba0"/>
                </a:solidFill>
                <a:latin typeface="Arial"/>
                <a:ea typeface="Arial"/>
              </a:rPr>
              <a:t>Φύση και βιοποικιλότητα (και το Δίκτυο </a:t>
            </a:r>
            <a:r>
              <a:rPr b="0" lang="en-US" sz="2800" spc="-1" strike="noStrike">
                <a:solidFill>
                  <a:srgbClr val="306ba0"/>
                </a:solidFill>
                <a:latin typeface="Arial"/>
                <a:ea typeface="Arial"/>
              </a:rPr>
              <a:t>Natura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06ba0"/>
                </a:solidFill>
                <a:latin typeface="Arial"/>
                <a:ea typeface="Arial"/>
              </a:rPr>
              <a:t>Περιβάλλον και υγε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06ba0"/>
                </a:solidFill>
                <a:latin typeface="Arial"/>
                <a:ea typeface="Arial"/>
              </a:rPr>
              <a:t>Βιώσιμη χρήση φυσικών πόρ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06b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06ba0"/>
                </a:solidFill>
                <a:latin typeface="Arial"/>
                <a:ea typeface="Arial"/>
              </a:rPr>
              <a:t>Στρατηγικές για την ανάπτυξη της πολιτική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Έμφαση στην πρόληψη των φυσικών καταστροφών και της προστασίας των δασ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Εξωτερικές Ομάδες Παρακολούθησης </a:t>
            </a:r>
            <a:r>
              <a:rPr b="1" lang="en-US" sz="3200" spc="-1" strike="noStrike">
                <a:solidFill>
                  <a:srgbClr val="306ba0"/>
                </a:solidFill>
                <a:latin typeface="Arial"/>
              </a:rPr>
              <a:t>(LIFE III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689d"/>
                </a:solidFill>
                <a:latin typeface="Arial"/>
              </a:rPr>
              <a:t>Υποστηρίζουν την Επιτροπή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στην παρακολούθηση του έργου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250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Εξηγώντας τους κανόνες και τις πρακτικές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250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Δεν παίρνουν αποφάσεις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250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Δεν εμπλέκονται στη διαχείριση των οικονομικών υποθέσεων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689d"/>
                </a:solidFill>
                <a:latin typeface="Arial"/>
              </a:rPr>
              <a:t>Βοηθούν την Επιτροπή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να αξιολογήσει την πρόοδο σε τεχνικό επίπεδο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250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Δρουν με εμπιστευτικότητα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250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Ανεξάρτητες από τα προγράμματα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Βασικές αρχές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της </a:t>
            </a:r>
            <a:br>
              <a:rPr sz="3200"/>
            </a:b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Ευρωπαϊκής περιβαλλοντικής πολιτικής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Αρχή της προφύλαξης 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(precautionary)</a:t>
            </a:r>
            <a:r>
              <a:rPr b="0" lang="el-GR" sz="28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(η ρύπανση πρέπει να διορθώνεται στην πηγή)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Αρχή της πρόληψης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(προληπτική δράση)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Ο ρυπαίνων πληρώνει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Αρχή της ενσωμάτωσης </a:t>
            </a:r>
            <a:r>
              <a:rPr b="0" lang="el-GR" sz="2000" spc="-1" strike="noStrike">
                <a:solidFill>
                  <a:srgbClr val="33689d"/>
                </a:solidFill>
                <a:latin typeface="Arial"/>
              </a:rPr>
              <a:t>(ενσωμάτωση των περιβαλλοντικών πολιτικών και στις άλλες πολιτικές της ΕΕ)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Χρήση τεχνικών και επιστημονικών δεδομένων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3689d"/>
                </a:solidFill>
                <a:uFillTx/>
                <a:latin typeface="Arial"/>
              </a:rPr>
              <a:t>ΓΔ Περιβάλλοντος - Unit E4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Τεχνικός υπεύθυνος για την Ελλάδα και Κύπρο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 (ENV, NAT)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Κος. Αλέξης Τσάλας</a:t>
            </a:r>
            <a:r>
              <a:rPr b="1" lang="en-US" sz="2000" spc="-1" strike="noStrike">
                <a:solidFill>
                  <a:srgbClr val="33689d"/>
                </a:solidFill>
                <a:latin typeface="Arial"/>
              </a:rPr>
              <a:t>,   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+322 2993052</a:t>
            </a:r>
            <a:r>
              <a:rPr b="1" lang="en-US" sz="2000" spc="-1" strike="noStrike">
                <a:solidFill>
                  <a:srgbClr val="33689d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alexis.tsalas@ec.europa.eu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3689d"/>
                </a:solidFill>
                <a:uFillTx/>
                <a:latin typeface="Arial"/>
              </a:rPr>
              <a:t>ΥΠΕΧΩΔΕ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89d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Κες</a:t>
            </a:r>
            <a:r>
              <a:rPr b="1" lang="en-US" sz="2000" spc="-1" strike="noStrike">
                <a:solidFill>
                  <a:srgbClr val="33689d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Α. Γρύλλια, Φ. Μπούρα</a:t>
            </a:r>
            <a:r>
              <a:rPr b="1" lang="en-US" sz="2000" spc="-1" strike="noStrike">
                <a:solidFill>
                  <a:srgbClr val="33689d"/>
                </a:solidFill>
                <a:latin typeface="Arial"/>
              </a:rPr>
              <a:t>,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 Ε. Τρύφωνος,  </a:t>
            </a:r>
            <a:r>
              <a:rPr b="1" lang="en-US" sz="2000" spc="-1" strike="noStrike">
                <a:solidFill>
                  <a:srgbClr val="33689d"/>
                </a:solidFill>
                <a:latin typeface="Arial"/>
              </a:rPr>
              <a:t> +30 210 86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46065</a:t>
            </a:r>
            <a:r>
              <a:rPr b="0" lang="el-GR" sz="18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689d"/>
                </a:solidFill>
                <a:uFillTx/>
                <a:latin typeface="Arial"/>
              </a:rPr>
              <a:t>LIFE</a:t>
            </a:r>
            <a:r>
              <a:rPr b="0" lang="el-GR" sz="2400" spc="-1" strike="noStrike" u="sng">
                <a:solidFill>
                  <a:srgbClr val="33689d"/>
                </a:solidFill>
                <a:uFillTx/>
                <a:latin typeface="Arial"/>
              </a:rPr>
              <a:t> ΙΙΙ</a:t>
            </a:r>
            <a:r>
              <a:rPr b="0" lang="en-GB" sz="2400" spc="-1" strike="noStrike" u="sng">
                <a:solidFill>
                  <a:srgbClr val="33689d"/>
                </a:solidFill>
                <a:uFillTx/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33689d"/>
                </a:solidFill>
                <a:uFillTx/>
                <a:latin typeface="Arial"/>
              </a:rPr>
              <a:t>Εξωτερική Ομάδα Παρακολούθησης</a:t>
            </a:r>
            <a:r>
              <a:rPr b="0" lang="lv-LV" sz="2400" spc="-1" strike="noStrike">
                <a:solidFill>
                  <a:srgbClr val="33689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Δρ</a:t>
            </a:r>
            <a:r>
              <a:rPr b="1" lang="en-US" sz="2000" spc="-1" strike="noStrike">
                <a:solidFill>
                  <a:srgbClr val="33689d"/>
                </a:solidFill>
                <a:latin typeface="Arial"/>
              </a:rPr>
              <a:t>.</a:t>
            </a:r>
            <a:r>
              <a:rPr b="1" lang="lv-LV" sz="20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Χριστίνα Μαρούλη</a:t>
            </a:r>
            <a:r>
              <a:rPr b="1" lang="fr-FR" sz="2000" spc="-1" strike="noStrike">
                <a:solidFill>
                  <a:srgbClr val="33689d"/>
                </a:solidFill>
                <a:latin typeface="Arial"/>
              </a:rPr>
              <a:t>,   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33689d"/>
                </a:solidFill>
                <a:latin typeface="Arial"/>
              </a:rPr>
              <a:t>+ 30 210 9023746,</a:t>
            </a:r>
            <a:r>
              <a:rPr b="1" lang="el-GR" sz="20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0066ff"/>
                </a:solidFill>
                <a:latin typeface="Arial"/>
              </a:rPr>
              <a:t>christina.marouli@astrale.org</a:t>
            </a:r>
            <a:endParaRPr b="0" lang="en-US" sz="2000" spc="-1" strike="noStrike">
              <a:solidFill>
                <a:srgbClr val="33689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9360" y="961920"/>
            <a:ext cx="856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6699"/>
                </a:solidFill>
                <a:latin typeface="Arial"/>
              </a:rPr>
              <a:t>Περισσότερες πληροφορίες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2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FE website</a:t>
            </a:r>
            <a:r>
              <a:rPr b="0" lang="el-GR" sz="2000" spc="-1" strike="noStrike">
                <a:solidFill>
                  <a:srgbClr val="336699"/>
                </a:solidFill>
                <a:latin typeface="Arial"/>
              </a:rPr>
              <a:t>:      </a:t>
            </a:r>
            <a:r>
              <a:rPr b="1" lang="en-GB" sz="2400" spc="-1" strike="noStrike">
                <a:solidFill>
                  <a:srgbClr val="c90731"/>
                </a:solidFill>
                <a:latin typeface="Arial"/>
              </a:rPr>
              <a:t>http://ec.europa.eu/environment/lif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472000" cy="3975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24000" y="51577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699"/>
                </a:solidFill>
                <a:latin typeface="Times New Roman"/>
                <a:ea typeface="Arial"/>
              </a:rPr>
              <a:t>Για το</a:t>
            </a:r>
            <a:r>
              <a:rPr b="1" lang="el-GR" sz="2800" spc="-1" strike="noStrike">
                <a:solidFill>
                  <a:srgbClr val="336699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LIFE</a:t>
            </a:r>
            <a:r>
              <a:rPr b="1" lang="el-GR" sz="2800" spc="-1" strike="noStrike">
                <a:solidFill>
                  <a:srgbClr val="336699"/>
                </a:solidFill>
                <a:latin typeface="Arial"/>
                <a:ea typeface="Arial"/>
              </a:rPr>
              <a:t>+</a:t>
            </a:r>
            <a:r>
              <a:rPr b="1" lang="el-GR" sz="2800" spc="-1" strike="noStrike">
                <a:solidFill>
                  <a:srgbClr val="336699"/>
                </a:solidFill>
                <a:latin typeface="Times New Roman"/>
                <a:ea typeface="Arial"/>
              </a:rPr>
              <a:t> : </a:t>
            </a:r>
            <a:r>
              <a:rPr b="1" lang="en-GB" sz="2400" spc="-1" strike="noStrike">
                <a:solidFill>
                  <a:srgbClr val="c90731"/>
                </a:solidFill>
                <a:latin typeface="Times New Roman"/>
                <a:ea typeface="Arial"/>
              </a:rPr>
              <a:t>http://ec.europa.eu/environment/life</a:t>
            </a:r>
            <a:r>
              <a:rPr b="1" lang="el-GR" sz="2400" spc="-1" strike="noStrike">
                <a:solidFill>
                  <a:srgbClr val="c90731"/>
                </a:solidFill>
                <a:latin typeface="Times New Roman"/>
                <a:ea typeface="Arial"/>
              </a:rPr>
              <a:t>/</a:t>
            </a:r>
            <a:r>
              <a:rPr b="1" lang="en-US" sz="2400" spc="-1" strike="noStrike">
                <a:solidFill>
                  <a:srgbClr val="c90731"/>
                </a:solidFill>
                <a:latin typeface="Times New Roman"/>
                <a:ea typeface="Arial"/>
              </a:rPr>
              <a:t>news/futureoflife.htm</a:t>
            </a:r>
            <a:r>
              <a:rPr b="1" lang="el-GR" sz="2800" spc="-1" strike="noStrike">
                <a:solidFill>
                  <a:srgbClr val="336699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79360" y="89352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6</a:t>
            </a:r>
            <a:r>
              <a:rPr b="1" lang="el-GR" sz="3200" spc="-1" strike="noStrike" baseline="30000">
                <a:solidFill>
                  <a:srgbClr val="336699"/>
                </a:solidFill>
                <a:latin typeface="Arial"/>
              </a:rPr>
              <a:t>ο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Πρόγραμμα Δράσης για το Περιβάλλον (2001 – 2010): βασικές αρχές</a:t>
            </a:r>
            <a:r>
              <a:rPr b="0" lang="el-GR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Το 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6</a:t>
            </a:r>
            <a:r>
              <a:rPr b="0" lang="el-GR" sz="2400" spc="-1" strike="noStrike" baseline="30000">
                <a:solidFill>
                  <a:srgbClr val="33689d"/>
                </a:solidFill>
                <a:latin typeface="Arial"/>
              </a:rPr>
              <a:t>ο 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Πρόγραμμα Δράσης για το Περιβάλλον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καθορίζει ότι η περιβαλλοντική πολιτική πρέπει: 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Να έχει καινοτόμα προσέγγιση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Να προωθεί την ευρύτερη δυνατή συνεργασία μεταξύ των κοινωνικών εταίρων (δημόσιοι, ιδιωτικοί, ΜΚΟ)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8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Να εφαρμόζεται πλήρως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Τα έργα 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LIFE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στηρίζουν τις προτεραιότητες της ΕΕ όπως τίθενται στο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 6</a:t>
            </a:r>
            <a:r>
              <a:rPr b="0" lang="el-GR" sz="2400" spc="-1" strike="noStrike" baseline="30000">
                <a:solidFill>
                  <a:srgbClr val="33689d"/>
                </a:solidFill>
                <a:latin typeface="Arial"/>
              </a:rPr>
              <a:t>ο </a:t>
            </a:r>
            <a:r>
              <a:rPr b="0" lang="en-GB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Πρόγραμμα Δράσης για το Περιβάλλον.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6699"/>
                </a:solidFill>
                <a:latin typeface="Arial"/>
              </a:rPr>
              <a:t>Το πρόγραμμα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IF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9360" y="89352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- 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Γενικοί Στόχοι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551664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6699"/>
                </a:solidFill>
                <a:latin typeface="Arial"/>
              </a:rPr>
              <a:t>Αρθρο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4 </a:t>
            </a:r>
            <a:r>
              <a:rPr b="0" lang="el-GR" sz="2400" spc="-1" strike="noStrike">
                <a:solidFill>
                  <a:srgbClr val="336699"/>
                </a:solidFill>
                <a:latin typeface="Arial"/>
              </a:rPr>
              <a:t>τού Κανονισμού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LIFE</a:t>
            </a:r>
            <a:r>
              <a:rPr b="0" lang="el-GR" sz="2400" spc="-1" strike="noStrike">
                <a:solidFill>
                  <a:srgbClr val="336699"/>
                </a:solidFill>
                <a:latin typeface="Arial"/>
              </a:rPr>
              <a:t> ΙΙΙ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17720" y="1916280"/>
            <a:ext cx="71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06ba0"/>
                </a:solidFill>
                <a:latin typeface="Arial"/>
                <a:ea typeface="Arial"/>
              </a:rPr>
              <a:t>Το </a:t>
            </a:r>
            <a:r>
              <a:rPr b="0" lang="en-GB" sz="2000" spc="-1" strike="noStrike">
                <a:solidFill>
                  <a:srgbClr val="306ba0"/>
                </a:solidFill>
                <a:latin typeface="Arial"/>
                <a:ea typeface="Arial"/>
              </a:rPr>
              <a:t>LIFE </a:t>
            </a:r>
            <a:r>
              <a:rPr b="0" lang="el-GR" sz="2000" spc="-1" strike="noStrike">
                <a:solidFill>
                  <a:srgbClr val="306ba0"/>
                </a:solidFill>
                <a:latin typeface="Arial"/>
                <a:ea typeface="Arial"/>
              </a:rPr>
              <a:t>συγχρηματοδοτεί περιβαλλοντικές δράσεις π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808524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689d"/>
                </a:solidFill>
                <a:latin typeface="Arial"/>
              </a:rPr>
              <a:t>“ … </a:t>
            </a:r>
            <a:r>
              <a:rPr b="1" i="1" lang="el-GR" sz="2400" spc="-1" strike="noStrike">
                <a:solidFill>
                  <a:srgbClr val="306ba0"/>
                </a:solidFill>
                <a:latin typeface="Arial"/>
              </a:rPr>
              <a:t>συνεισφέρουν στην εφαρμογή, ενημέρωση, και ανάπτυξη της Κοινοτικής περιβαλλοντικής πολιτικής και νομοθεσίας, ιδιαιτέρως όσον αφορά στην ενσωμάτωση του περιβάλλοντος σε άλλες πολιτικές</a:t>
            </a:r>
            <a:r>
              <a:rPr b="1" i="1" lang="en-GB" sz="24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306ba0"/>
                </a:solidFill>
                <a:latin typeface="Arial"/>
              </a:rPr>
              <a:t>και στην αειφόρο ανάπτυξη στα πλαίσια της Κοινότητας</a:t>
            </a:r>
            <a:r>
              <a:rPr b="1" lang="en-GB" sz="2400" spc="-1" strike="noStrike">
                <a:solidFill>
                  <a:srgbClr val="306ba0"/>
                </a:solidFill>
                <a:latin typeface="Arial"/>
                <a:ea typeface="Times New Roman"/>
              </a:rPr>
              <a:t>”</a:t>
            </a:r>
            <a:r>
              <a:rPr b="1" i="1" lang="en-GB" sz="2800" spc="-1" strike="noStrike">
                <a:solidFill>
                  <a:srgbClr val="33689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773280"/>
            <a:ext cx="85690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99"/>
                </a:solidFill>
                <a:latin typeface="Arial"/>
              </a:rPr>
              <a:t>Φάσεις του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F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31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689d"/>
                </a:solidFill>
                <a:latin typeface="Arial"/>
              </a:rPr>
              <a:t>Ξεκίνησε το</a:t>
            </a:r>
            <a:r>
              <a:rPr b="1" lang="en-US" sz="2400" spc="-1" strike="noStrike">
                <a:solidFill>
                  <a:srgbClr val="33689d"/>
                </a:solidFill>
                <a:latin typeface="Arial"/>
              </a:rPr>
              <a:t> 1992: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LIFE I (1992-1995):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€400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εκατομμύρια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LIFE II (1996-1999): 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€450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εκατομμύρια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LIFE III (2000-2004):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€640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εκατομμύρια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LIFE III Extension (2005-2006): 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€317</a:t>
            </a:r>
            <a:r>
              <a:rPr b="1" lang="en-US" sz="2400" spc="-1" strike="noStrike">
                <a:solidFill>
                  <a:srgbClr val="33689d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εκατομμύρια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8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LIFE + (2007-2013): 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€2</a:t>
            </a:r>
            <a:r>
              <a:rPr b="0" lang="en-US" sz="2400" spc="-1" strike="noStrike">
                <a:solidFill>
                  <a:srgbClr val="33689d"/>
                </a:solidFill>
                <a:latin typeface="Arial"/>
              </a:rPr>
              <a:t>098</a:t>
            </a:r>
            <a:r>
              <a:rPr b="0" lang="el-GR" sz="2400" spc="-1" strike="noStrike">
                <a:solidFill>
                  <a:srgbClr val="33689d"/>
                </a:solidFill>
                <a:latin typeface="Arial"/>
              </a:rPr>
              <a:t> εκατομμύρια</a:t>
            </a:r>
            <a:endParaRPr b="0" lang="en-US" sz="2400" spc="-1" strike="noStrike">
              <a:solidFill>
                <a:srgbClr val="33689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6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6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306ba0"/>
                </a:solidFill>
                <a:latin typeface="Arial"/>
              </a:rPr>
              <a:t>III – </a:t>
            </a:r>
            <a:r>
              <a:rPr b="1" lang="el-GR" sz="3600" spc="-1" strike="noStrike">
                <a:solidFill>
                  <a:srgbClr val="306ba0"/>
                </a:solidFill>
                <a:latin typeface="Arial"/>
              </a:rPr>
              <a:t>πυλώνες / θεματικές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256536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06ba0"/>
                </a:solidFill>
                <a:latin typeface="Arial"/>
                <a:ea typeface="Arial"/>
              </a:rPr>
              <a:t>LIFE</a:t>
            </a:r>
            <a:r>
              <a:rPr b="1" i="1" lang="el-GR" sz="2800" spc="-1" strike="noStrike">
                <a:solidFill>
                  <a:srgbClr val="306ba0"/>
                </a:solidFill>
                <a:latin typeface="Arial"/>
                <a:ea typeface="Arial"/>
              </a:rPr>
              <a:t> Περιβάλλο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00"/>
                </a:solidFill>
                <a:latin typeface="Arial"/>
                <a:ea typeface="Arial"/>
              </a:rPr>
              <a:t>LIFE</a:t>
            </a:r>
            <a:r>
              <a:rPr b="1" i="1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 Φύ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e8142"/>
                </a:solidFill>
                <a:latin typeface="Arial"/>
                <a:ea typeface="Arial"/>
              </a:rPr>
              <a:t>LIFE</a:t>
            </a:r>
            <a:r>
              <a:rPr b="1" i="1" lang="el-GR" sz="2800" spc="-1" strike="noStrike">
                <a:solidFill>
                  <a:srgbClr val="8e8142"/>
                </a:solidFill>
                <a:latin typeface="Arial"/>
                <a:ea typeface="Arial"/>
              </a:rPr>
              <a:t> Τρίτες Χώρ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L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FE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06ba0"/>
                </a:solidFill>
                <a:latin typeface="Arial"/>
              </a:rPr>
              <a:t>III - 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Γενικοί Στόχοι</a:t>
            </a:r>
            <a:r>
              <a:rPr b="1" lang="en-US" sz="3200" spc="-1" strike="noStrike">
                <a:solidFill>
                  <a:srgbClr val="306ba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306ba0"/>
                </a:solidFill>
                <a:latin typeface="Arial"/>
              </a:rPr>
              <a:t>ανά πυλώνα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134136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06ba0"/>
                </a:solidFill>
                <a:latin typeface="Arial"/>
                <a:ea typeface="Arial"/>
              </a:rPr>
              <a:t>LIFE</a:t>
            </a:r>
            <a:r>
              <a:rPr b="1" i="1" lang="el-GR" sz="2400" spc="-1" strike="noStrike">
                <a:solidFill>
                  <a:srgbClr val="306ba0"/>
                </a:solidFill>
                <a:latin typeface="Arial"/>
                <a:ea typeface="Arial"/>
              </a:rPr>
              <a:t> Περιβάλλον </a:t>
            </a:r>
            <a:r>
              <a:rPr b="1" lang="el-GR" sz="2000" spc="-1" strike="noStrike">
                <a:solidFill>
                  <a:srgbClr val="306ba0"/>
                </a:solidFill>
                <a:latin typeface="Arial"/>
                <a:ea typeface="Arial"/>
              </a:rPr>
              <a:t>: </a:t>
            </a:r>
            <a:r>
              <a:rPr b="0" lang="el-GR" sz="2000" spc="-1" strike="noStrike">
                <a:solidFill>
                  <a:srgbClr val="306ba0"/>
                </a:solidFill>
                <a:latin typeface="Arial"/>
                <a:ea typeface="Arial"/>
              </a:rPr>
              <a:t>συνεισφέρει στην ανάπτυξη </a:t>
            </a:r>
            <a:r>
              <a:rPr b="0" lang="el-GR" sz="2000" spc="-1" strike="noStrike" u="sng">
                <a:solidFill>
                  <a:srgbClr val="306ba0"/>
                </a:solidFill>
                <a:uFillTx/>
                <a:latin typeface="Arial"/>
                <a:ea typeface="Arial"/>
              </a:rPr>
              <a:t>καινοτόμων</a:t>
            </a:r>
            <a:r>
              <a:rPr b="0" lang="el-GR" sz="2000" spc="-1" strike="noStrike">
                <a:solidFill>
                  <a:srgbClr val="306ba0"/>
                </a:solidFill>
                <a:latin typeface="Arial"/>
                <a:ea typeface="Arial"/>
              </a:rPr>
              <a:t> τεχνικών και μεθόδων, συγχρηματοδοτώντας </a:t>
            </a:r>
            <a:r>
              <a:rPr b="0" lang="el-GR" sz="2000" spc="-1" strike="noStrike" u="sng">
                <a:solidFill>
                  <a:srgbClr val="306ba0"/>
                </a:solidFill>
                <a:uFillTx/>
                <a:latin typeface="Arial"/>
                <a:ea typeface="Arial"/>
              </a:rPr>
              <a:t>έργα επίδειξης</a:t>
            </a:r>
            <a:r>
              <a:rPr b="0" lang="el-GR" sz="2000" spc="-1" strike="noStrike">
                <a:solidFill>
                  <a:srgbClr val="306ba0"/>
                </a:solidFill>
                <a:latin typeface="Arial"/>
                <a:ea typeface="Arial"/>
              </a:rPr>
              <a:t> που προάγουν την ανάπτυξη της περιβαλλοντικής πολιτικής της Ε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6600"/>
                </a:solidFill>
                <a:latin typeface="Arial"/>
                <a:ea typeface="Arial"/>
              </a:rPr>
              <a:t>LIFE</a:t>
            </a:r>
            <a:r>
              <a:rPr b="1" i="1" lang="el-GR" sz="2400" spc="-1" strike="noStrike">
                <a:solidFill>
                  <a:srgbClr val="006600"/>
                </a:solidFill>
                <a:latin typeface="Arial"/>
                <a:ea typeface="Arial"/>
              </a:rPr>
              <a:t> Φύση </a:t>
            </a:r>
            <a:r>
              <a:rPr b="1" lang="el-GR" sz="2000" spc="-1" strike="noStrike">
                <a:solidFill>
                  <a:srgbClr val="006600"/>
                </a:solidFill>
                <a:latin typeface="Arial"/>
                <a:ea typeface="Arial"/>
              </a:rPr>
              <a:t>: </a:t>
            </a:r>
            <a:r>
              <a:rPr b="0" lang="el-GR" sz="2000" spc="-1" strike="noStrike">
                <a:solidFill>
                  <a:srgbClr val="006600"/>
                </a:solidFill>
                <a:latin typeface="Arial"/>
                <a:ea typeface="Arial"/>
              </a:rPr>
              <a:t>συνεισφέρει στην εφαρμογή της </a:t>
            </a:r>
            <a:r>
              <a:rPr b="0" lang="el-GR" sz="20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Κοινοτικής πολιτικής για την προστασία της φύσης</a:t>
            </a:r>
            <a:r>
              <a:rPr b="0" lang="el-GR" sz="2000" spc="-1" strike="noStrike">
                <a:solidFill>
                  <a:srgbClr val="006600"/>
                </a:solidFill>
                <a:latin typeface="Arial"/>
                <a:ea typeface="Arial"/>
              </a:rPr>
              <a:t> (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Birds Directive </a:t>
            </a:r>
            <a:r>
              <a:rPr b="0" lang="el-GR" sz="2000" spc="-1" strike="noStrike">
                <a:solidFill>
                  <a:srgbClr val="006600"/>
                </a:solidFill>
                <a:latin typeface="Arial"/>
                <a:ea typeface="Arial"/>
              </a:rPr>
              <a:t>και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 Habitats Directive</a:t>
            </a:r>
            <a:r>
              <a:rPr b="0" lang="el-GR" sz="2000" spc="-1" strike="noStrike">
                <a:solidFill>
                  <a:srgbClr val="006600"/>
                </a:solidFill>
                <a:latin typeface="Arial"/>
                <a:ea typeface="Arial"/>
              </a:rPr>
              <a:t>)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6600"/>
                </a:solidFill>
                <a:latin typeface="Arial"/>
                <a:ea typeface="Arial"/>
              </a:rPr>
              <a:t>και ειδικά στην καθιέρωση του δικτύου </a:t>
            </a:r>
            <a:r>
              <a:rPr b="0" lang="en-GB" sz="20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Natura 2000</a:t>
            </a:r>
            <a:r>
              <a:rPr b="0" lang="el-GR" sz="2000" spc="-1" strike="noStrike">
                <a:solidFill>
                  <a:srgbClr val="006600"/>
                </a:solidFill>
                <a:latin typeface="Arial"/>
                <a:ea typeface="Arial"/>
              </a:rPr>
              <a:t> για τη διαχείριση και προστασία των πιο σημαντικών ειδών χλωρίδας και πανίδας και των πιο σημαντικών βιοτόπων της Ευρώπης.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8e8142"/>
                </a:solidFill>
                <a:latin typeface="Arial"/>
                <a:ea typeface="Arial"/>
              </a:rPr>
              <a:t>LIFE</a:t>
            </a:r>
            <a:r>
              <a:rPr b="1" i="1" lang="el-GR" sz="2400" spc="-1" strike="noStrike">
                <a:solidFill>
                  <a:srgbClr val="8e8142"/>
                </a:solidFill>
                <a:latin typeface="Arial"/>
                <a:ea typeface="Arial"/>
              </a:rPr>
              <a:t> Τρίτες Χώρες </a:t>
            </a:r>
            <a:r>
              <a:rPr b="1" lang="el-GR" sz="2000" spc="-1" strike="noStrike">
                <a:solidFill>
                  <a:srgbClr val="8e8142"/>
                </a:solidFill>
                <a:latin typeface="Arial"/>
                <a:ea typeface="Arial"/>
              </a:rPr>
              <a:t>: </a:t>
            </a:r>
            <a:r>
              <a:rPr b="0" lang="el-GR" sz="2000" spc="-1" strike="noStrike">
                <a:solidFill>
                  <a:srgbClr val="8e8142"/>
                </a:solidFill>
                <a:latin typeface="Arial"/>
                <a:ea typeface="Arial"/>
              </a:rPr>
              <a:t>συνεισφέρει στην καθιέρωση των </a:t>
            </a:r>
            <a:r>
              <a:rPr b="0" lang="el-GR" sz="2000" spc="-1" strike="noStrike" u="sng">
                <a:solidFill>
                  <a:srgbClr val="8e8142"/>
                </a:solidFill>
                <a:uFillTx/>
                <a:latin typeface="Arial"/>
                <a:ea typeface="Arial"/>
              </a:rPr>
              <a:t>δυνατοτήτων και διοικητικών δομών</a:t>
            </a:r>
            <a:r>
              <a:rPr b="0" lang="el-GR" sz="2000" spc="-1" strike="noStrike">
                <a:solidFill>
                  <a:srgbClr val="8e8142"/>
                </a:solidFill>
                <a:latin typeface="Arial"/>
                <a:ea typeface="Arial"/>
              </a:rPr>
              <a:t> που χρειάζονται στον τομέα του περιβάλλοντος και στην </a:t>
            </a:r>
            <a:r>
              <a:rPr b="0" lang="el-GR" sz="2000" spc="-1" strike="noStrike" u="sng">
                <a:solidFill>
                  <a:srgbClr val="8e8142"/>
                </a:solidFill>
                <a:uFillTx/>
                <a:latin typeface="Arial"/>
                <a:ea typeface="Arial"/>
              </a:rPr>
              <a:t>ανάπτυξη περιβαλλοντικής πολιτικής</a:t>
            </a:r>
            <a:r>
              <a:rPr b="0" lang="el-GR" sz="2000" spc="-1" strike="noStrike">
                <a:solidFill>
                  <a:srgbClr val="8e8142"/>
                </a:solidFill>
                <a:latin typeface="Arial"/>
                <a:ea typeface="Arial"/>
              </a:rPr>
              <a:t> και σχεδίων δράσης στις τρίτες χώρες της Μεσογείου και της Βαλτικής θάλασσας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6:24Z</dcterms:created>
  <dc:creator>office</dc:creator>
  <dc:description/>
  <dc:language>en-US</dc:language>
  <cp:lastModifiedBy>office</cp:lastModifiedBy>
  <cp:lastPrinted>2003-10-29T16:29:37Z</cp:lastPrinted>
  <dcterms:modified xsi:type="dcterms:W3CDTF">2006-10-25T11:09:37Z</dcterms:modified>
  <cp:revision>3</cp:revision>
  <dc:subject/>
  <dc:title>Διαφάνεια 1</dc:title>
</cp:coreProperties>
</file>