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20.wmf" ContentType="image/x-wmf"/>
  <Override PartName="/ppt/media/image18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DF3E-BDB8-42B2-BA5B-2A943AD71AA3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inven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αφέρουμε συνοπτικά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ground – backgrou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άποια στοιχεία προέρχονται από το ΣΙΜΑΠΡΟ κάποια από τη συλλογή στοιχείω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εταφορές λιπα, ζιζ, πα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ρπού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άσινα απόβλητ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πόβλητα κλαδέματο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ιεργασίες παραγωγής ελαιολάδο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purification, gri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mantikotero input einai apo fertiliser production apotelei raw material gia fertiliser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όγω καύσης πράσινων αποβλήτων, 90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αραγωγή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ιαφορά με Κύπρο ότι στην Ελλάδα 100% αλυσοπρίον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32,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/lt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αραγωγή λιπασμάτω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ύση πράσινων αποβλήτων κατά 96% του παραγόμενου ΝΟ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αραγωγή λιπασμάτω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ύση πράσινων αποβλήτων κατά 97% του παραγόμενου διοξ.θειο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g/lt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οσότητα οξυγόνου που απαιτείται για την πλήρη χημική οξείδωση της οργανικής ύλης σ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ι νερό (μετρά τη βιοδιασπάσιμη και μη βιοδιασπάσιμη οργανική ύλ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36,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/lt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εξέλεγκτη διάθεση αποβλήτων ελαιοτριβείω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: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Η ποσότητα του διαλυμένου οξυγόνου που χρησιμοποιούν οι μικροοργανισμοί για την πλήρη βιοχημική οξείδωση των περιεχόμενων οργανικών υλώ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5: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έντε ημερώ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26,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/lt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εξέλεγκτη διάθεση αποβλήτων ελαιοτριβείω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όλυβδος: Επικύνδινο βαρύ μέταλλο τόσο στο έδαφος όσο και στο νερό βλάβες στο μυαλό, κυκλοφοριακό και πεπτικό σύστημ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ρκινογενέσεις, Αναπνεύσιμα οργανικά και ανόργανα, Κλιματική αλλαγή, ακτινοβολία, ορυκτά ( εξόρυξη μεταλλευμάτων, ορυκτά καύσιμ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λλιέργεια της Ελιά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Επεξεργασία Ελιά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βιοτική εξάπλωσ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λλιέργεια Ελιά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Επεξεργασία Ελιά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ποξυγόνωση: Ταπείνωση της συγκέντρωσης του διαλυμένου οξυγόνου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, Dissolved oxygen)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ξαιτίας της ρύπανση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υτροφισμός: Ο φώσφορος και το άζωτο αποτελούν περιοριστικές τροφές για την ανάπτυξη της άλγης (φώσφορος για γλυκά νερά, άζωτο για θάλασσε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εγάλες συγκετρώσεις θρεπτικών και αλγών αλλά ταπεινωμένη διαύγεια νερού με αποτέλεσμα την διαταραχή ισορροπίας των οργανισμών που ζουν στα ύδατα και ταπεινωμένης ποικιλίας ψαριώ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poume peripou ti erotiseis perieixan ta erotimato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0,0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νερού ανά κιλό λάδ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Οργανισμός ανάπτυξης δυτικής Κρήτ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πιο κοινό είναι το 20-10-10 (άζωτο-φώσφορος-κάλιο) κατά βάρος περιεκτικότητα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κλάδεμα γίνεται με αλυσοπρίον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Άλας ισοπροπυλαμίνης 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pho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ελαιόλαδο αποθηκεύεται σε θερμοκρασία δωματίου γιατί η ποιότητα του μειώνεται από υψηλή θερμοκρασία, οξυγόνο και ηλιακό φω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ε ειδικέ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t-proof tanks doxeia ma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7D50-40C8-44F3-A5E6-D3528ADA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9C5C-4561-4BD7-85F5-020E53EF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9921-FAD6-4B0D-8005-6D76F844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35F9-38A6-4932-99D7-A11B930F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FDAB-6B45-4DB0-A306-15615E8B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D1FB-0306-457D-8625-5057FF8C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9E4A-9C71-4043-BC8E-A969194C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597C-FFC6-41FF-9746-68501150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B49A-C5EF-4EA1-BBAC-0CEE5FA7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3A88-5998-4364-AB1D-A46568D8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2D82-DC82-43C3-86F5-363845BF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8EC9-6A4C-4DBF-8F10-A5EE4417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AFA0-A2DD-4BCE-BE2C-B748AF4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86A7-0EBC-4F64-A68A-2DFED4D7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67DD-D2A8-4FC3-AA0F-19BD79AC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953E-491B-4191-AFC0-36603B0D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826C-364C-4747-8F98-690F477C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538D-4F27-49AB-A6AD-D9E5C462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2CA1-EB41-4788-9797-ADC4E3BC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0CA1-0841-47E9-AF3E-ED0CD3B1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12EE-2B0E-4FA8-A139-0D9FB099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CE3D-8B0D-4609-8A08-DE5B6FC6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A0101-FA6A-43E1-B8B9-29D90899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0D6F-CA52-4699-A159-68C6DF8D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1A4B-9C83-4038-ACC4-0D6E2DF8862D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344080" y="6275520"/>
            <a:ext cx="799920" cy="58248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3"/>
          <a:stretch/>
        </p:blipFill>
        <p:spPr>
          <a:xfrm>
            <a:off x="179280" y="6021360"/>
            <a:ext cx="81756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3655-B20B-4E4F-945F-20B5F3848CF5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Εφαρμογή Μεθοδολογίας Ανάλυσης Κύκλου Ζωής στην Περιοχή του Πολεμαρχίο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656160" y="4652640"/>
            <a:ext cx="54878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Γεωργίου Κωνσταντίνο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MSc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Φυσικός Περιβάλλοντο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045120"/>
            <a:ext cx="1042920" cy="812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92440" y="2700360"/>
            <a:ext cx="240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life-col" descr=""/>
          <p:cNvPicPr/>
          <p:nvPr/>
        </p:nvPicPr>
        <p:blipFill>
          <a:blip r:embed="rId2"/>
          <a:stretch/>
        </p:blipFill>
        <p:spPr>
          <a:xfrm>
            <a:off x="8197920" y="0"/>
            <a:ext cx="946080" cy="635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42920" y="6081840"/>
            <a:ext cx="4321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Arial"/>
              </a:rPr>
              <a:t>LIFE 04/ENV/GR/110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3300"/>
                </a:solidFill>
                <a:latin typeface="Arial"/>
              </a:rPr>
              <a:t>Ανάλυση Κύκλου Ζωής ως υποστηρικτικό εργαλείο λήψης αποφάσεων για την οικολογική παραγωγή ελαιόλαδου 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421840" y="5715000"/>
            <a:ext cx="722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Απογραφική Ανάλυση Κύκλου Ζωής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Κατανάλωση καυσίμων (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iesel,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πετρέλαιο, αργό πετρέλαιο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Κατανάλωση ηλεκτρικής ενέργειας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Παραγωγή λιπασμάτων, παρασιτοκτόνων, ζιζανιοκτόνω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Εφαρμογή λιπασμάτων, παρασιτοκτόνων, ζιζανιοκτόνω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Μεταφορέ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Παροχή νερού, καλλιέργεια ελαιοδένδρων, άρδευση, όργωμα, κλάδεμα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Διαχείριση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πράσινων αποβλήτων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Συλλογή καρπού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Διαχείριση και παροχή νερού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Διεργασίες παραγωγής ελαιολάδου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Διαχείριση αποβλήτων ελαιοτριβείου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Επεξεργασία ελαιολάδου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6600"/>
                </a:solidFill>
                <a:latin typeface="Arial"/>
              </a:rPr>
              <a:t>Αποτελέσματα ΑΚΖ</a:t>
            </a:r>
            <a:br>
              <a:rPr sz="3600"/>
            </a:br>
            <a:r>
              <a:rPr b="0" lang="el-GR" sz="3000" spc="-1" strike="noStrike">
                <a:solidFill>
                  <a:srgbClr val="336600"/>
                </a:solidFill>
                <a:latin typeface="Arial"/>
              </a:rPr>
              <a:t>Κατανάλωση φυσικών πόρων</a:t>
            </a:r>
            <a:r>
              <a:rPr b="0" lang="el-GR" sz="3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ργό πετρέλαιο 495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g/lt oil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Νερό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0,252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33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νά λίτρο λάδι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95%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άρδευση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46087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Αποτελέσματα ΑΚΖ</a:t>
            </a:r>
            <a:br>
              <a:rPr sz="3600"/>
            </a:b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Αέριες εκπομπές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Διοξείδιο άνθρακα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(CO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55308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Αποτελέσματα ΑΚΖ</a:t>
            </a:r>
            <a:br>
              <a:rPr sz="3600"/>
            </a:b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Αέριες εκπομπές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Οξείδια αζώτου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(NO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201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Ανάλυση ΑΚΖ</a:t>
            </a:r>
            <a:br>
              <a:rPr sz="3600"/>
            </a:b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Αέριες εκπομπές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Διοξείδιο θείου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(SO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5977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Ανάλυση ΑΚΖ</a:t>
            </a:r>
            <a:br>
              <a:rPr sz="3600"/>
            </a:b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Εκπομπές σε υδάτινους αποδέκτες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548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Χημικώς απαιτούμενο οξυγόνο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(COD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Ποσότητα οξυγόνου που απαιτείται για την πλήρη χημική οξείδωση της οργανικής ύλης σε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και νερό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76360" y="3438360"/>
            <a:ext cx="61214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Ανάλυση ΑΚΖ</a:t>
            </a:r>
            <a:br>
              <a:rPr sz="3600"/>
            </a:b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Εκπομπές σε υδάτινους αποδέκτες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147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Βιοχημικώς απαιτούμενο οξυγόνο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OD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Η ποσότητα του διαλυμένου οξυγόνου που χρησιμοποιούν οι μικροοργανισμοί για την πλήρη βιοχημική οξείδωση των περιεχόμενων οργανικών υλών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5185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Ανάλυση ΑΚΖ</a:t>
            </a:r>
            <a:br>
              <a:rPr sz="3600"/>
            </a:b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Εκπομπές στο έδαφος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Μόλυβδος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Pb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99%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πό διάθεση αποβλήτων ελαιοτριβείω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Ψευδάργυρος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Zn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96,9mg/lt oi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94%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πό διάθεση αποβλήτων ελαιοτριβείω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6%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πό ζιζανιοκτόνα,παρασιτοκτόνα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Ανάλυση περιβαλλοντικών επιπτώσεων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058760"/>
            <a:ext cx="9144000" cy="5799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1197000"/>
            <a:ext cx="65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Eco-indicator 99/olive agriculture </a:t>
            </a: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κανονικοποίηση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8576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Ανάλυση περιβαλλοντικών επιπτώσεων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99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19700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Eco-indicator 99/olive oil processing</a:t>
            </a: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 κανονικοποίηση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6600"/>
                </a:solidFill>
                <a:latin typeface="Arial"/>
              </a:rPr>
              <a:t>Δομή Παρουσίασης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Περιοχή Μελέτης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Βασικά Χαρακτηριστικά Παραγωγικής Διαδικασίας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νάλυση Αποτελεσμάτων ΑΚΖ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Εκτίμηση Περιβαλλοντικών Επιπτώσεων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Ανάλυση περιβαλλοντικών επιπτώσεων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058760"/>
            <a:ext cx="9144000" cy="5799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55640" y="105264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CML2 Baseline 2000/ olive agriculture</a:t>
            </a: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 κανονικοποίηση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Ανάλυση περιβαλλοντικών επιπτώσεων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1058760"/>
            <a:ext cx="9144000" cy="5799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1052640"/>
            <a:ext cx="83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CML2 Baseline 2000/ olive oil processing</a:t>
            </a: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 κανονικοποίηση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Συμπεράσματα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Η κατανάλωση ενέργειας σε όλα τα στάδια της παραγωγικής διαδικασίας συντελεί στην εκπομπή αερίων θερμοκηπίου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Κατανάλωση φυσικών πόρων (π.χ. νερού) πρέπει να γίνεται με προσοχή ειδικότερα σε περιοχές που υπάρχουν μειωμένα αποθέματα αλλά και για τη γενικότερη προστασία του περιβάλλοντο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Υπερβολική χρήση λιπασμάτων μπορεί να οδηγήσει σε προβλήματα ευτροφισμού των υδάτινων αποδεκτών – καταστροφή ισορροπίας οικοσυστημάτων, μείωση βιοποικιλότητα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Η χρήση εντομοκτόνων/ζιζανιοκτόνων μπορεί να προκαλέσει φαινόμενα τοξικότητας στον άνθρωπο και στους υδάτινους φορείς (μέσω επιφανειακής απορροής) λόγω των επικινδύνων ουσιών που περιέχονται σε αυτά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Η μη επεξεργασία του υγρού κλάσματος των αποβλήτων από τα ελαιοτριβεία (στην ουσία πρόκειται για οργανική ύλη) επηρεάζει τα υδάτινα οικοσυστήματα προκαλώντας αποξυγόνωση του νερού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Πιθανή πρόκληση φαινομένων οικοτοξικότητας από ύπαρξη βαρεών μετάλλων στο υγρό κλάσμα των αποβλήτων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ΕΥΧΑΡΙΣΤΩ ΓΙΑ ΤΗΝ ΠΡΟΣΟΧΗ ΣΑΣ!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Γενικά Στοιχεία Περιοχής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(1/2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Υπό μελέτη περιοχή: Πολεμαρχίου, Νομός Χανίω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Ποικιλία ελιάς: Κορωνεϊκη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Συνολική έκταση στην Περιοχή: 2.500 στρ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Δημιουργία κι αποστολή ερωτηματολογίων για τη συλλογή πληροφοριών σχετικά με την παραγωγική διαδικασία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Στοιχεία από 26 ελαιοπαραγωγούς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Περίπου 15.000 ελαιόδενδρα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Έκταση 725στρ. (κάλυψη 29%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Μεγάλοι παραγωγοί: κατά μέσο όρο άνω των 500 δένδρων έκαστο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Περίπου 20 δένδρα/στρ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6600"/>
                </a:solidFill>
                <a:latin typeface="Arial"/>
              </a:rPr>
              <a:t>Γενικά Στοιχεία Περιοχής               </a:t>
            </a:r>
            <a:r>
              <a:rPr b="0" lang="el-GR" sz="2800" spc="-1" strike="noStrike">
                <a:solidFill>
                  <a:srgbClr val="336600"/>
                </a:solidFill>
                <a:latin typeface="Arial"/>
              </a:rPr>
              <a:t>(2/2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8327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6600"/>
                </a:solidFill>
                <a:latin typeface="Arial"/>
              </a:rPr>
              <a:t>Βασικά Χαρακτηριστικά της παραγωγικής διαδικασίας               </a:t>
            </a:r>
            <a:r>
              <a:rPr b="0" lang="el-GR" sz="2800" spc="-1" strike="noStrike">
                <a:solidFill>
                  <a:srgbClr val="336600"/>
                </a:solidFill>
                <a:latin typeface="Arial"/>
              </a:rPr>
              <a:t>(1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/</a:t>
            </a:r>
            <a:r>
              <a:rPr b="0" lang="el-GR" sz="2800" spc="-1" strike="noStrike">
                <a:solidFill>
                  <a:srgbClr val="3366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)</a:t>
            </a:r>
            <a:r>
              <a:rPr b="0" lang="el-GR" sz="3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3300"/>
                </a:solidFill>
                <a:uFillTx/>
                <a:latin typeface="Arial"/>
              </a:rPr>
              <a:t>Όργωμα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Χρήση φρέζας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Περίπου 50% της έκτασης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3300"/>
                </a:solidFill>
                <a:uFillTx/>
                <a:latin typeface="Arial"/>
              </a:rPr>
              <a:t>Άρδευση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3 φορές ετησίως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0,44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m</a:t>
            </a:r>
            <a:r>
              <a:rPr b="0" lang="en-US" sz="1600" spc="-1" strike="noStrike" baseline="30000">
                <a:solidFill>
                  <a:srgbClr val="003300"/>
                </a:solidFill>
                <a:latin typeface="Arial"/>
              </a:rPr>
              <a:t>3</a:t>
            </a:r>
            <a:r>
              <a:rPr b="0" lang="el-GR" sz="1600" spc="-1" strike="noStrike" baseline="30000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νερού ανά δένδρο τη φορά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Κάλυψη 81% της έκτασης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Άρδευση με μπεκ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00"/>
                </a:solidFill>
                <a:latin typeface="Arial"/>
              </a:rPr>
              <a:t>Προέλευση: Δίκτυο Ο.Α.ΔΥ.Κ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08360" y="1916280"/>
            <a:ext cx="4680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6600"/>
                </a:solidFill>
                <a:latin typeface="Arial"/>
              </a:rPr>
              <a:t>Βασικά Χαρακτηριστικά της παραγωγικής διαδικασίας               </a:t>
            </a:r>
            <a:r>
              <a:rPr b="0" lang="el-GR" sz="2800" spc="-1" strike="noStrike">
                <a:solidFill>
                  <a:srgbClr val="336600"/>
                </a:solidFill>
                <a:latin typeface="Arial"/>
              </a:rPr>
              <a:t>(2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/</a:t>
            </a:r>
            <a:r>
              <a:rPr b="0" lang="el-GR" sz="2800" spc="-1" strike="noStrike">
                <a:solidFill>
                  <a:srgbClr val="3366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4995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00"/>
                </a:solidFill>
                <a:uFillTx/>
                <a:latin typeface="Arial"/>
              </a:rPr>
              <a:t>Χρήση Λιπασμάτω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4,07 kg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λιπάσματος ετησίως ανά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δένδρο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Μέθοδος εφαρμογής: διασπορά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3068640"/>
          <a:ext cx="6954840" cy="36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068640"/>
                    <a:ext cx="695484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6600"/>
                </a:solidFill>
                <a:latin typeface="Arial"/>
              </a:rPr>
              <a:t>Βασικά Χαρακτηριστικά της παραγωγικής διαδικασίας               </a:t>
            </a:r>
            <a:r>
              <a:rPr b="0" lang="el-GR" sz="2800" spc="-1" strike="noStrike">
                <a:solidFill>
                  <a:srgbClr val="336600"/>
                </a:solidFill>
                <a:latin typeface="Arial"/>
              </a:rPr>
              <a:t>(3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/</a:t>
            </a:r>
            <a:r>
              <a:rPr b="0" lang="el-GR" sz="2800" spc="-1" strike="noStrike">
                <a:solidFill>
                  <a:srgbClr val="3366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59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00"/>
                </a:solidFill>
                <a:uFillTx/>
                <a:latin typeface="Arial"/>
              </a:rPr>
              <a:t>Κλάδεμα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100% χρήση αλυσοπρίονου βενζίνη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1 φορά ετησίω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Παραγωγή 45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kg </a:t>
            </a: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αποβλήτων/δένδρο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Καύση παραγόμενων αποβλήτων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427640" y="2492280"/>
            <a:ext cx="43923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6600"/>
                </a:solidFill>
                <a:latin typeface="Arial"/>
              </a:rPr>
              <a:t>Βασικά Χαρακτηριστικά της παραγωγικής διαδικασίας               </a:t>
            </a:r>
            <a:r>
              <a:rPr b="0" lang="el-GR" sz="2800" spc="-1" strike="noStrike">
                <a:solidFill>
                  <a:srgbClr val="336600"/>
                </a:solidFill>
                <a:latin typeface="Arial"/>
              </a:rPr>
              <a:t>(4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/</a:t>
            </a:r>
            <a:r>
              <a:rPr b="0" lang="el-GR" sz="2800" spc="-1" strike="noStrike">
                <a:solidFill>
                  <a:srgbClr val="3366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00"/>
                </a:solidFill>
                <a:uFillTx/>
                <a:latin typeface="Arial"/>
              </a:rPr>
              <a:t>Παράσιτα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Κύριος έχθρος: Δάκο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Μέθοδος: Δολωματικός ψεκασμός,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eltamethrin, 3kg/tn H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Ο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για 3.500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 4.000 δένδρα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00"/>
                </a:solidFill>
                <a:uFillTx/>
                <a:latin typeface="Arial"/>
              </a:rPr>
              <a:t>Ζιζάνια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kg roundup/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500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Kg H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Ο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για 60 δένδρα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51280" y="2421000"/>
          <a:ext cx="5113440" cy="326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421000"/>
                    <a:ext cx="511344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6600"/>
                </a:solidFill>
                <a:latin typeface="Arial"/>
              </a:rPr>
              <a:t>Βασικά Χαρακτηριστικά της παραγωγικής διαδικασίας               </a:t>
            </a:r>
            <a:r>
              <a:rPr b="0" lang="el-GR" sz="2800" spc="-1" strike="noStrike">
                <a:solidFill>
                  <a:srgbClr val="336600"/>
                </a:solidFill>
                <a:latin typeface="Arial"/>
              </a:rPr>
              <a:t>(5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/</a:t>
            </a:r>
            <a:r>
              <a:rPr b="0" lang="el-GR" sz="2800" spc="-1" strike="noStrike">
                <a:solidFill>
                  <a:srgbClr val="3366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3300"/>
                </a:solidFill>
                <a:uFillTx/>
                <a:latin typeface="Arial"/>
              </a:rPr>
              <a:t>Συγκομιδή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Με ελαιοραβδιστικό (χρήση βενζίνης)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3300"/>
                </a:solidFill>
                <a:uFillTx/>
                <a:latin typeface="Arial"/>
              </a:rPr>
              <a:t>Μεταφορά σε ελαιοτριβείο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Μέση απόσταση 2,5χλμ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Χρήση ελαιοτριβείου Πολεμαρχίου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3300"/>
                </a:solidFill>
                <a:uFillTx/>
                <a:latin typeface="Arial"/>
              </a:rPr>
              <a:t>Εξαγωγή ελαιόλαδου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Φυγοκέντριση 3-φάσεων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Ο πυρήνας χρησιμοποιείται ως καύσιμο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Arial"/>
              </a:rPr>
              <a:t>Διαχείριση υγρών αποβλήτων: καμία επεξεργασία, χρήση δεξαμενών εξάτμισης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3162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6:33:42Z</dcterms:created>
  <dc:creator/>
  <dc:description/>
  <dc:language>en-US</dc:language>
  <cp:lastModifiedBy>ΚΩΣΤΑΣ</cp:lastModifiedBy>
  <dcterms:modified xsi:type="dcterms:W3CDTF">2006-10-29T20:49:36Z</dcterms:modified>
  <cp:revision>33</cp:revision>
  <dc:subject/>
  <dc:title>Εφαρμογή Μεθοδολογίας Ανάλυσης Κύκλου Ζωής στην περιοχή…..</dc:title>
</cp:coreProperties>
</file>