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15.jpeg" ContentType="image/jpeg"/>
  <Override PartName="/ppt/media/image24.png" ContentType="image/png"/>
  <Override PartName="/ppt/media/image22.wmf" ContentType="image/x-wmf"/>
  <Override PartName="/ppt/media/image20.wmf" ContentType="image/x-wmf"/>
  <Override PartName="/ppt/media/image19.jpeg" ContentType="image/jpeg"/>
  <Override PartName="/ppt/media/image3.jpeg" ContentType="image/jpeg"/>
  <Override PartName="/ppt/media/image30.png" ContentType="image/png"/>
  <Override PartName="/ppt/media/image29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media/image7.jpeg" ContentType="image/jpeg"/>
  <Override PartName="/ppt/media/image11.wmf" ContentType="image/x-wmf"/>
  <Override PartName="/ppt/media/image17.jpeg" ContentType="image/jpeg"/>
  <Override PartName="/ppt/media/image12.wmf" ContentType="image/x-wmf"/>
  <Override PartName="/ppt/media/image31.png" ContentType="image/png"/>
  <Override PartName="/ppt/media/image14.wmf" ContentType="image/x-wmf"/>
  <Override PartName="/ppt/media/image33.png" ContentType="image/png"/>
  <Override PartName="/ppt/media/image34.png" ContentType="image/png"/>
  <Override PartName="/ppt/media/image9.jpeg" ContentType="image/jpeg"/>
  <Override PartName="/ppt/media/image28.jpeg" ContentType="image/jpeg"/>
  <Override PartName="/ppt/media/image23.wmf" ContentType="image/x-wmf"/>
  <Override PartName="/ppt/media/image1.jpeg" ContentType="image/jpeg"/>
  <Override PartName="/ppt/media/image32.png" ContentType="image/png"/>
  <Override PartName="/ppt/media/image2.png" ContentType="image/png"/>
  <Override PartName="/ppt/media/image4.wmf" ContentType="image/x-wmf"/>
  <Override PartName="/ppt/media/image27.wmf" ContentType="image/x-wmf"/>
  <Override PartName="/ppt/media/image26.wmf" ContentType="image/x-wmf"/>
  <Override PartName="/ppt/media/image35.wmf" ContentType="image/x-wmf"/>
  <Override PartName="/ppt/media/image5.wmf" ContentType="image/x-wmf"/>
  <Override PartName="/ppt/media/image16.jpeg" ContentType="image/jpeg"/>
  <Override PartName="/ppt/media/image18.jpeg" ContentType="image/jpeg"/>
  <Override PartName="/ppt/media/image6.jpeg" ContentType="image/jpeg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811-9121-40EC-96B1-932E38EA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5EA-F7A7-4C36-8599-697089B8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44C-8BA0-4688-87A5-CA589596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EE2-3FFD-4904-BC1D-4BE97719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626-FC5A-423C-9FD4-8A3322F0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90F-0099-4677-9CC9-1669E166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086-E83F-425D-9BA8-F18ADB67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701-155A-4FC8-8972-C9AEEFAB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0D4-D0D0-4ED2-918D-49095803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F9A-664A-4BB3-9CBF-D1699EF4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F89-E38D-42CB-B234-2C57079F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69E-65D5-4AE8-8BF2-8AEA4D20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6768-5E52-4E66-A3C9-79329597B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ECOI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60320" y="4221000"/>
            <a:ext cx="426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orge Molero Cor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IA foundation(Vito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ciology and Peasant Studies Instit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ISEC; Córdoba Univers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6480" y="3141720"/>
            <a:ext cx="850752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panish Case Study (Ribera Baja, Navar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5A0-DE9B-44EE-BF4C-FD279177BE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olivar en la Ribera Baja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386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23200" y="3789360"/>
            <a:ext cx="57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ea and production in 2005 (Coyuntura Agraria,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900000" y="4292640"/>
          <a:ext cx="8148600" cy="1833480"/>
        </p:xfrm>
        <a:graphic>
          <a:graphicData uri="http://schemas.openxmlformats.org/drawingml/2006/table">
            <a:tbl>
              <a:tblPr/>
              <a:tblGrid>
                <a:gridCol w="1317600"/>
                <a:gridCol w="1203480"/>
                <a:gridCol w="915840"/>
                <a:gridCol w="1295640"/>
                <a:gridCol w="1203120"/>
                <a:gridCol w="920880"/>
                <a:gridCol w="1292040"/>
              </a:tblGrid>
              <a:tr h="498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rigated land (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/Navar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(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/Navar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8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bera B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var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bera B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var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(h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,5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(Tm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,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2616120" cy="1946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1765440" cy="236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30A-A75A-4714-9EE6-45A071AC59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ase study particularity: ITGA extension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varra preserve one of the best extensionist systems is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hey cover all Navarra area and carry  advising, extension, research, trials and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stem is highly effective, because most farmers follow ITGA recommendations for sensitive task as pest management and fertilization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6F6-205D-4A0E-878D-3122F2FF7F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32000" y="1679040"/>
            <a:ext cx="5111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% of holdings and 50% of area between 1 to 10 has,olive grove surface between 0,47 y 0,68 has (Censo Agrario, 1999)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h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1916280"/>
            <a:ext cx="144000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1484280"/>
            <a:ext cx="1944720" cy="1584360"/>
          </a:xfrm>
          <a:prstGeom prst="rect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live grove in Ribera Baja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5391360" cy="2584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76360" y="5589720"/>
            <a:ext cx="50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lding size vs. Olive grov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1484280"/>
            <a:ext cx="201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talia &lt; 1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ugal 1,8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aña 7,7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Beaufoy,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39840" y="1216080"/>
            <a:ext cx="491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3280" y="134136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año del oli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96A-5F56-4810-9F79-FBFD4312AD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76720" y="5229360"/>
            <a:ext cx="86364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live grove in Ribera Baja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4464000" cy="2476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96440" y="1125360"/>
            <a:ext cx="296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live grove yiel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CFN, 2000 y Coyuntura agraria 01 a 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70828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000 kg/ha; Marco 7x7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4 arb/ha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4,7 kg/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58920" y="4797360"/>
          <a:ext cx="4608360" cy="1617840"/>
        </p:xfrm>
        <a:graphic>
          <a:graphicData uri="http://schemas.openxmlformats.org/drawingml/2006/table">
            <a:tbl>
              <a:tblPr/>
              <a:tblGrid>
                <a:gridCol w="936360"/>
                <a:gridCol w="1368360"/>
                <a:gridCol w="1152720"/>
                <a:gridCol w="1150920"/>
              </a:tblGrid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.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i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e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var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var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el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il M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io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ro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el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il M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ag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uel,Zaragoza y Hues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bequ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el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il M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1114560" y="4221000"/>
            <a:ext cx="543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tribution of olive grove varieties in Alto Eb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Gómez Escalonilla y Vidal,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2565360"/>
            <a:ext cx="18730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48040" y="207180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48040" y="207180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31840" y="2805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31840" y="3098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48040" y="3098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31840" y="3687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1840" y="398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48040" y="398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8040" y="4275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70360" y="503244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peltre var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72000" y="5157360"/>
            <a:ext cx="20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401-327D-4977-A6C1-8A602FCC60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gricultural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live grove defining variable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this stud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t Frame: Intensive (&gt;200 trees/ha) y Superintensive (&gt; 400 trees/ha) –new plantations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nagement techniques: Conventional or organic(12% del área total,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nsive conventional, empeltre variety, yield 3000 kg/ha, 14,7 kg/tree, slope 4%, eventual irr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BD2-762D-4DF1-9573-2C2E1580E5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ertil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5194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,5 kg/tree 12-12-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0,75 kg/tree Ammonium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pinning fertil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4608720" cy="26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357-94A3-4020-81B2-413232D0B6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rr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26200" y="1268280"/>
            <a:ext cx="53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ravity (flood), 4000 m3/ha, from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00720" y="1845360"/>
            <a:ext cx="4318560" cy="3047040"/>
            <a:chOff x="900720" y="1845360"/>
            <a:chExt cx="4318560" cy="3047040"/>
          </a:xfrm>
        </p:grpSpPr>
        <p:sp>
          <p:nvSpPr>
            <p:cNvPr id="121" name=""/>
            <p:cNvSpPr/>
            <p:nvPr/>
          </p:nvSpPr>
          <p:spPr>
            <a:xfrm>
              <a:off x="900720" y="1845360"/>
              <a:ext cx="4318560" cy="3047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60080" y="2446560"/>
              <a:ext cx="521640" cy="1042200"/>
            </a:xfrm>
            <a:custGeom>
              <a:avLst/>
              <a:gdLst/>
              <a:ahLst/>
              <a:rect l="l" t="t" r="r" b="b"/>
              <a:pathLst>
                <a:path w="39" h="78">
                  <a:moveTo>
                    <a:pt x="39" y="11"/>
                  </a:moveTo>
                  <a:cubicBezTo>
                    <a:pt x="27" y="3"/>
                    <a:pt x="14" y="0"/>
                    <a:pt x="0" y="0"/>
                  </a:cubicBezTo>
                  <a:lnTo>
                    <a:pt x="0" y="78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60080" y="2593440"/>
              <a:ext cx="775800" cy="895320"/>
            </a:xfrm>
            <a:custGeom>
              <a:avLst/>
              <a:gdLst/>
              <a:ahLst/>
              <a:rect l="l" t="t" r="r" b="b"/>
              <a:pathLst>
                <a:path w="58" h="67">
                  <a:moveTo>
                    <a:pt x="58" y="14"/>
                  </a:moveTo>
                  <a:cubicBezTo>
                    <a:pt x="52" y="9"/>
                    <a:pt x="46" y="4"/>
                    <a:pt x="39" y="0"/>
                  </a:cubicBezTo>
                  <a:lnTo>
                    <a:pt x="0" y="67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83400" y="2336760"/>
              <a:ext cx="2085840" cy="2084760"/>
            </a:xfrm>
            <a:custGeom>
              <a:avLst/>
              <a:gdLst/>
              <a:ahLst/>
              <a:rect l="l" t="t" r="r" b="b"/>
              <a:pathLst>
                <a:path w="156" h="156">
                  <a:moveTo>
                    <a:pt x="77" y="0"/>
                  </a:moveTo>
                  <a:cubicBezTo>
                    <a:pt x="34" y="0"/>
                    <a:pt x="0" y="35"/>
                    <a:pt x="0" y="77"/>
                  </a:cubicBezTo>
                  <a:cubicBezTo>
                    <a:pt x="0" y="121"/>
                    <a:pt x="34" y="156"/>
                    <a:pt x="78" y="156"/>
                  </a:cubicBezTo>
                  <a:cubicBezTo>
                    <a:pt x="121" y="156"/>
                    <a:pt x="156" y="121"/>
                    <a:pt x="156" y="78"/>
                  </a:cubicBezTo>
                  <a:cubicBezTo>
                    <a:pt x="155" y="58"/>
                    <a:pt x="148" y="40"/>
                    <a:pt x="136" y="25"/>
                  </a:cubicBezTo>
                  <a:lnTo>
                    <a:pt x="78" y="7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46760" y="2446560"/>
              <a:ext cx="13320" cy="104220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lnTo>
                    <a:pt x="1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99520" y="2526840"/>
              <a:ext cx="17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Drip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49920" y="2687400"/>
              <a:ext cx="12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5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54400" y="2165760"/>
              <a:ext cx="41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Sprinkl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68960" y="2325240"/>
              <a:ext cx="12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9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83280" y="2086200"/>
              <a:ext cx="28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Oth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00640" y="2246040"/>
              <a:ext cx="12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0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89920" y="383508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Gravit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8120" y="399564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86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621080" y="539964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rigation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18202" t="4198" r="12049" b="0"/>
          <a:stretch/>
        </p:blipFill>
        <p:spPr>
          <a:xfrm>
            <a:off x="5508720" y="1855800"/>
            <a:ext cx="3166920" cy="3133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445440" y="54709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er origi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773-2163-40D1-AF07-1E6EE4CBEA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u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5040360" cy="3765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84720" y="4869000"/>
            <a:ext cx="2625840" cy="1116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227640" y="191628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y hand and chainsaw, every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43C-433E-49F9-BA53-31FCA1EBA9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oil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268280"/>
            <a:ext cx="285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llage, 4 times, cross tillage with cultiv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5120" y="4843440"/>
            <a:ext cx="270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erbicides below tr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419640" y="1916280"/>
            <a:ext cx="5413320" cy="4043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V="1">
            <a:off x="3132000" y="4436640"/>
            <a:ext cx="1656000" cy="863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6B0-BB8E-4B50-B5FD-B8C8C07728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0" y="28335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st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4392720" cy="3396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156360" y="3213000"/>
            <a:ext cx="2516040" cy="2922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70880" y="6020640"/>
            <a:ext cx="11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read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1413000"/>
            <a:ext cx="46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live fly, olive bark beetle (dimethoate), leaf spot (copper oxychloride) y black scale (piriproxif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27640" y="2565360"/>
            <a:ext cx="26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lipe type b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C5C-94DB-45BF-B232-19D385E5AE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rea under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42920" y="1052640"/>
            <a:ext cx="7731000" cy="5022720"/>
            <a:chOff x="1042920" y="1052640"/>
            <a:chExt cx="7731000" cy="502272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1042920" y="1052640"/>
              <a:ext cx="5688000" cy="40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4570200" y="3573360"/>
              <a:ext cx="4203720" cy="25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138560" y="1916280"/>
              <a:ext cx="287280" cy="21564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25840" y="2060640"/>
              <a:ext cx="144144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042920" y="486900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live grove area over geographic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D7D-3F12-4F00-BB52-BBE4C875AC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67240" y="364320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ticks and petrol limb vib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835280" y="4005360"/>
            <a:ext cx="2498760" cy="1871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2005200" cy="2157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796000" y="4149720"/>
            <a:ext cx="2700360" cy="1882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187280" y="1217520"/>
            <a:ext cx="3024360" cy="2441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116000" y="76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ulling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95960" y="60930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427640" y="486864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500280"/>
            <a:ext cx="21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BD7-1B6B-46A9-B22B-F20641512A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el con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32160" y="2060640"/>
            <a:ext cx="4487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l Consumption Literature Revi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56000" y="2533680"/>
            <a:ext cx="36212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specific to Olive Cul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73280" y="2970360"/>
            <a:ext cx="32893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ecific for Olive Cul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4520" y="3768840"/>
            <a:ext cx="52880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mulas depending on tractor power &amp;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14520" y="4613400"/>
            <a:ext cx="60451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librated Formulas depending on: kind of machinery used, soil texture, soil work deepness, gear, engine R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 rot="16200000">
            <a:off x="244440" y="3210840"/>
            <a:ext cx="2066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ta qual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 rot="16200000">
            <a:off x="1050840" y="3184200"/>
            <a:ext cx="14619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mplex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191628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A15-0DF6-4E4E-9BFB-C0AB0EC523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aterial In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26920" y="1098720"/>
            <a:ext cx="8066160" cy="544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E3F-7DA5-4F23-8CDB-A58207EF50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aterial Input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8077320" cy="313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99E-4A9C-4C4C-81A9-75A90848D8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ergy an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7915320" cy="546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E89-1E45-4F13-A7EE-DDCC2C78C7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ergy and Work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26920" y="1343160"/>
            <a:ext cx="8101080" cy="277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89D-9353-4076-A0D3-5C524443C3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puts Res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1640" y="1600200"/>
          <a:ext cx="7715160" cy="4802040"/>
        </p:xfrm>
        <a:graphic>
          <a:graphicData uri="http://schemas.openxmlformats.org/drawingml/2006/table">
            <a:tbl>
              <a:tblPr/>
              <a:tblGrid>
                <a:gridCol w="4133880"/>
                <a:gridCol w="2307960"/>
                <a:gridCol w="12733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p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12- 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mon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 (irrig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yfos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per Oxychlor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 for pestic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 for herbic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iproxi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tho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mmonium phos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pe bait bott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lised proteins (for pyriproxif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7C7-4EB5-4D72-A018-3656BBF4B5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asoil res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16040" y="1341360"/>
          <a:ext cx="8427960" cy="4979880"/>
        </p:xfrm>
        <a:graphic>
          <a:graphicData uri="http://schemas.openxmlformats.org/drawingml/2006/table">
            <a:tbl>
              <a:tblPr/>
              <a:tblGrid>
                <a:gridCol w="1479600"/>
                <a:gridCol w="2263680"/>
                <a:gridCol w="3165480"/>
                <a:gridCol w="1519200"/>
              </a:tblGrid>
              <a:tr h="12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 dies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 die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4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 tas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ve grove resindence transportation (go and bac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v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,5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ation residence Olive gr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ve grove-Oil Mi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,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33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9,6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48C6-E8F2-4492-83C1-5BB24660C6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ustrial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il M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146-BD50-4DFF-978C-5729323462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ustrial 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6769080" cy="507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093-55B1-4F10-B07D-023AC86476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ssumption/ Restriccions i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2636640"/>
            <a:ext cx="7618680" cy="30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clussion of capital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ystem boundaries: from implemented olive grove to oil stored in 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location rules: 90% to olive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ED6-F47C-4407-8519-6F9CCEA1AC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 Phase systems 97% oil mills in Spain -2004-, ej.Almazara del Eb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8062920" cy="557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3BB-2AF7-4376-AF70-5BF9637F66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aste in 2 phase oil m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341360"/>
          <a:ext cx="8229600" cy="4525920"/>
        </p:xfrm>
        <a:graphic>
          <a:graphicData uri="http://schemas.openxmlformats.org/drawingml/2006/table">
            <a:tbl>
              <a:tblPr/>
              <a:tblGrid>
                <a:gridCol w="1351080"/>
                <a:gridCol w="1312560"/>
                <a:gridCol w="1871640"/>
                <a:gridCol w="1177920"/>
                <a:gridCol w="1270080"/>
                <a:gridCol w="124632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id wa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quid wa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/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ve tree leaves, branches and di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eorujo=alpechín+or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pomace+vegetable w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getative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 from cleaning ol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i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a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tical 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hing mach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il Mill cleaning, fec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o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ves and bran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 (60% approx), kernel, pulp, skin and some o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 from ol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st and organic ma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822-5B22-4640-93EF-BA4FCA0563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tiny of waste in Almazara del E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live tree leaves, dirt and branches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heep f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wo phase pomace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ined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getable water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and u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eaning water and fecals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unicipal waste water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E7B-C599-4E90-8011-D0EB24296B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ass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71640" y="1197000"/>
          <a:ext cx="8172000" cy="4319640"/>
        </p:xfrm>
        <a:graphic>
          <a:graphicData uri="http://schemas.openxmlformats.org/drawingml/2006/table">
            <a:tbl>
              <a:tblPr/>
              <a:tblGrid>
                <a:gridCol w="1833480"/>
                <a:gridCol w="1724400"/>
                <a:gridCol w="3051720"/>
                <a:gridCol w="1562400"/>
              </a:tblGrid>
              <a:tr h="559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puts 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puts 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ves from olive gr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69.3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.03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ves, Browse and di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.768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06.071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getative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3.644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.881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9.3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9.395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6B7-071D-4BFC-9A0C-23BC9837CF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enchmark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332000" y="2276640"/>
          <a:ext cx="4162320" cy="1473120"/>
        </p:xfrm>
        <a:graphic>
          <a:graphicData uri="http://schemas.openxmlformats.org/drawingml/2006/table">
            <a:tbl>
              <a:tblPr/>
              <a:tblGrid>
                <a:gridCol w="2311560"/>
                <a:gridCol w="185076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 water/kg ol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 water/ l o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1692720" y="14842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Wat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332000" y="4724280"/>
          <a:ext cx="5535360" cy="1324080"/>
        </p:xfrm>
        <a:graphic>
          <a:graphicData uri="http://schemas.openxmlformats.org/drawingml/2006/table">
            <a:tbl>
              <a:tblPr/>
              <a:tblGrid>
                <a:gridCol w="1303200"/>
                <a:gridCol w="1506600"/>
                <a:gridCol w="1469880"/>
                <a:gridCol w="1255680"/>
              </a:tblGrid>
              <a:tr h="365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i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W·h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J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5801,4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W·h/l o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J/l o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3277800" y="414828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ergy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86C-C88B-476F-9396-03A77A6C23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CA4-42BD-4869-B391-F714C766B5D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coindicator 99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gricultural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7921440" cy="45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6F1-DD5E-4BBF-8B1A-EDA8A86D417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coindicator 99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Industrial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8244000" cy="474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299-181E-474F-AF75-895DD6E8F61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fe Cycle Result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coindicator 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7920000" cy="472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97F-2F15-4202-B73E-ACC65F8F1E2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mmary of results (I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Ecoindicator 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779148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024-35E5-4231-AD30-76758A8F8F9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forma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formation gathe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isits to olive groves and Almazara del Eb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midirective interviews to farmers and ITGA technicians (Qual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sonal and Phone Interviews (Quantitative): farmers and techn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s: Medium detai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ng: High detai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em: Huge amount of information needed and lack of information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bibliography, databases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91D-1F0E-4BBB-8CED-6F2CFEA213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mmary of Results (II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Ecoindicator 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8172360" cy="34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2F1-ACEB-42E3-AB95-3BF95EC1E4A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gricultural phase is the main pollutant stage when producing olive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agricultural phase, main environmental impacts come from production and transportation of agricultural inputs: fertilizers, pesticides (mainly copper oxychloride) and herbicides. On field application has a smaller environmental impact when using L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industrial phase, pomace processing (transport) has a high environmental impact. It must be taken into account an environmental allocation of 7% when interpreting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overall life cycle, it has been shown that environmental impact comes from “occult” or non-visible processes that cannot be uncover without using Life Cycle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E22-49D9-47C4-8AFF-805DA5862F9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mparison with other olive oil LCAs (2 phase syste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14400" y="1628640"/>
          <a:ext cx="8050320" cy="5110200"/>
        </p:xfrm>
        <a:graphic>
          <a:graphicData uri="http://schemas.openxmlformats.org/drawingml/2006/table">
            <a:tbl>
              <a:tblPr/>
              <a:tblGrid>
                <a:gridCol w="2760840"/>
                <a:gridCol w="2557440"/>
                <a:gridCol w="2732040"/>
              </a:tblGrid>
              <a:tr h="7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trone, 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vieri et al.,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berti, 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ltivation+ coll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l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tiliz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brication + bott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ttl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tic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l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br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per oxy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189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2B3-AA65-4888-B5A8-3B7334165C7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hanging from 2 phase to 3 phas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6192720" cy="3835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92360" y="5516640"/>
            <a:ext cx="700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Water and energy consumption, two of most important indicators of eco-efficiency are lowered when changing to two ph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mace (difficult oil extraction)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lternative 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54E3-8D23-4955-AAA2-6F4CEB88304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co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 Ribera Baja Olive groves and Almazara del Eb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24D-695F-46BD-877F-D6FE7E07D60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commendations Short Term: Good Agrarian Practices (General Guideli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763640" y="1413000"/>
          <a:ext cx="5834160" cy="5187960"/>
        </p:xfrm>
        <a:graphic>
          <a:graphicData uri="http://schemas.openxmlformats.org/drawingml/2006/table">
            <a:tbl>
              <a:tblPr/>
              <a:tblGrid>
                <a:gridCol w="1917720"/>
                <a:gridCol w="39164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nal use of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mmendations regarding to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 fertil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liar and soil analy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 character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tilizer ch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nd N appl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 package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tici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ticide ch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paration of mixture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ticide appl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ticide transport and sto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 package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il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il cov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ver crop mow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ll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y Land Olive Gro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rigated Olive Gro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ves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475-EC3C-4B69-8DED-29B10D356F9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commendations short term: ITGA Extension Service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Local Guideli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92360" y="1989000"/>
            <a:ext cx="53863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rect advising: vi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formative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etings in oil m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34ED-8A92-46A3-BE92-A6AFD1E9E8A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commmendations Short Term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Oil Mil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rtical centrifuge water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and Fertilization in Olive g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ementation of EMS in Oil mill (ISO 14.001, EMAS, EKOSCAN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ergetic auditing in Oil M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ergy carriers buying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tomatization of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fficient Pomace drying: thermal 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E91-D8B6-4949-84FC-61754206370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comendations Medium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ganic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gral management of pomace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ompost (LCA &amp; other Stud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scamujado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LCA &amp; other stud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irewood for pellets &amp; others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lectricity/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op browse and leaves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Soil organic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6E0-4A71-49F3-861C-4F4597E217A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commendations Long Term- produc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gral Management of Olive Oil: Union of oil mills (ecoefficients) and farmers (orga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ost production (pomace+straw+sheep d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reen energy” for others agroindustries: pruning, husk, pomace, other wa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cal production of biodie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3C6-FFAB-49FB-BCCF-57CD19B9B87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187280" y="1434960"/>
            <a:ext cx="6839640" cy="5162400"/>
            <a:chOff x="1187280" y="1434960"/>
            <a:chExt cx="6839640" cy="5162400"/>
          </a:xfrm>
        </p:grpSpPr>
        <p:sp>
          <p:nvSpPr>
            <p:cNvPr id="56" name=""/>
            <p:cNvSpPr/>
            <p:nvPr/>
          </p:nvSpPr>
          <p:spPr>
            <a:xfrm>
              <a:off x="1187280" y="1434960"/>
              <a:ext cx="3333600" cy="51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ricultural 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↑ ↑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te depen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oreground Data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(Technology Type &amp; Producer’s Technique): Qualitative and Quantitative approach: Interviews and Questionnai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ckground Data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(Technology Type, Physical Site Conditions, Modelling): Literature Review, Statistics, Experts, Ecoinvent Data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93680" y="1434960"/>
              <a:ext cx="3333240" cy="48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dustrial 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↓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te depen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oreground Data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Oil Mill Accounting System, Interview with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ckground Data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Literature Review, Statistics, Almazara Del Ebro Projec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forma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8272-F3D4-4C80-A735-9FA5310AA8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commendations Long Term Consu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cal consumption: minimize environmental impacts, good foodstuffs and local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mistify organic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 eco-production also an eco-consumption is needed (food too cheap,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“preventive food tax”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EDE-591A-441B-9A3D-1027E9E5E15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live grove in Nava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2360" y="3141720"/>
          <a:ext cx="5409720" cy="2696760"/>
        </p:xfrm>
        <a:graphic>
          <a:graphicData uri="http://schemas.openxmlformats.org/drawingml/2006/table">
            <a:tbl>
              <a:tblPr/>
              <a:tblGrid>
                <a:gridCol w="867960"/>
                <a:gridCol w="1502280"/>
                <a:gridCol w="1584360"/>
                <a:gridCol w="1455120"/>
              </a:tblGrid>
              <a:tr h="7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no(Ha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adío (Ha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(Ha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977400" y="1843920"/>
            <a:ext cx="79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areas in Navarra: Arróniz (var. Arróniz) and Ribera Baj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var. Empelt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43280" y="2349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90-1995: Crisis of olive grove, rooting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95-2005: Duplication of surface from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DE4-DA1F-490E-BFD5-0EFAC4B1E6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03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nd distribution in Ribera B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2041560"/>
            <a:ext cx="3168720" cy="2701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35280" y="2041560"/>
            <a:ext cx="5113440" cy="283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03240" y="2486160"/>
            <a:ext cx="204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03240" y="2486160"/>
            <a:ext cx="348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23840" y="4869000"/>
            <a:ext cx="30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rbaceous and woody cr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yuntura Agraria,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36880" y="4869000"/>
            <a:ext cx="42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oody crops (Coyuntura Agraria,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226-7BDE-47F3-9C81-02C6B39F14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87280" y="333360"/>
            <a:ext cx="4537080" cy="3387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356000" y="3789360"/>
            <a:ext cx="4557960" cy="2505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724360" y="134100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neyard (foreground) and olive grove (background) in Cintruénigo (Ribera Baja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4291920"/>
            <a:ext cx="363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able land and almond tree grove in Ribera Baj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209-168C-4DD8-AE81-EA5AFA6588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7993080" cy="4977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654520" y="565956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tografía del SITNA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live grove in Ribera Baja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EAC-8BCF-44C1-81EC-2AC0C1368A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4T21:21:30Z</dcterms:created>
  <dc:creator>j</dc:creator>
  <dc:description/>
  <dc:language>en-US</dc:language>
  <cp:lastModifiedBy>.</cp:lastModifiedBy>
  <dcterms:modified xsi:type="dcterms:W3CDTF">2006-10-30T07:01:20Z</dcterms:modified>
  <cp:revision>24</cp:revision>
  <dc:subject/>
  <dc:title>Developments in tasks 1 to 3</dc:title>
</cp:coreProperties>
</file>