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D14-93BC-465B-9917-C65CA8C9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193-3DF7-4762-94E4-32690DD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0B9-88B3-45F6-B296-3596D9C2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3B8-B648-440F-8B7F-579916D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7CB-B96F-4114-83B5-9294FC25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FD4-ACA5-42CA-B230-319F464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09F-D8F5-4384-A462-F1CA0AB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6A8-A0CB-4878-B7F6-23B6C33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CF0-37CC-4ED1-B8BD-4F80CF3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46A-8557-4894-8738-12D9DD95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F42-2B34-4511-8315-BE111A1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864-0504-4A02-88E9-0370F57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0265-7464-412E-8682-531B1F08DF4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079360"/>
            <a:ext cx="86868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Comic Sans MS"/>
              </a:rPr>
              <a:t>Ανάπτυξη Βιοτεχνολογικής Μεθοδολογίας για την Ταυτοποίηση της Ποικιλίας Προέλευσης του Ελαιολάδου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12920" y="262080"/>
            <a:ext cx="6499080" cy="896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6200" y="4365720"/>
            <a:ext cx="911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anagiotis Kalaitzis*, Thessaloniki Ntourou*, Saadia Bihmidine *, Gregory Tucker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d Stelios Spaniolas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*Dept. of Horticultural Genetics &amp; Biotechnolog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diterranean Agronomic Institute at Chania, PO Box 85, Chania 73100, 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l-GR" sz="1800" spc="-1" strike="noStrike">
                <a:solidFill>
                  <a:srgbClr val="333399"/>
                </a:solidFill>
                <a:latin typeface="Comic Sans MS"/>
              </a:rPr>
              <a:t>Division of Nutritional Sciences, School of Biosciences, University of Nottingh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Comic Sans MS"/>
              </a:rPr>
              <a:t>Sutton Bonington Campus, Leicestershire, LE12 5RD, U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93560" y="5510160"/>
            <a:ext cx="8137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mprovement of PCR-amplification for Olive chloroplastic region from genomic DNA extracted from filtered and un-filtered Olive oil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12920" y="228600"/>
            <a:ext cx="6499080" cy="8967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266840" y="1665360"/>
            <a:ext cx="7862760" cy="3391920"/>
            <a:chOff x="1266840" y="1665360"/>
            <a:chExt cx="7862760" cy="3391920"/>
          </a:xfrm>
        </p:grpSpPr>
        <p:grpSp>
          <p:nvGrpSpPr>
            <p:cNvPr id="109" name=""/>
            <p:cNvGrpSpPr/>
            <p:nvPr/>
          </p:nvGrpSpPr>
          <p:grpSpPr>
            <a:xfrm>
              <a:off x="1266840" y="1665360"/>
              <a:ext cx="5465880" cy="3391920"/>
              <a:chOff x="1266840" y="1665360"/>
              <a:chExt cx="5465880" cy="33919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1484640" y="1665360"/>
                <a:ext cx="1761840" cy="754920"/>
                <a:chOff x="1484640" y="1665360"/>
                <a:chExt cx="1761840" cy="75492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1484640" y="1665360"/>
                  <a:ext cx="1514160" cy="752760"/>
                  <a:chOff x="1484640" y="1665360"/>
                  <a:chExt cx="1514160" cy="75276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19138200">
                    <a:off x="1476720" y="1950120"/>
                    <a:ext cx="72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0000"/>
                        </a:solidFill>
                        <a:latin typeface="Arial"/>
                      </a:rPr>
                      <a:t>Edward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9138200">
                    <a:off x="1930680" y="19184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0000"/>
                        </a:solidFill>
                        <a:latin typeface="Arial"/>
                      </a:rPr>
                      <a:t>QIAamp 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9138200">
                    <a:off x="1703880" y="1935720"/>
                    <a:ext cx="811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0000"/>
                        </a:solidFill>
                        <a:latin typeface="Arial"/>
                      </a:rPr>
                      <a:t>QIAamp 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9138200">
                    <a:off x="2167200" y="191556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ontrol 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 rot="19138200">
                  <a:off x="2414880" y="192312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trol -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391920" y="1665360"/>
                <a:ext cx="3202560" cy="753120"/>
                <a:chOff x="3391920" y="1665360"/>
                <a:chExt cx="3202560" cy="753120"/>
              </a:xfrm>
            </p:grpSpPr>
            <p:sp>
              <p:nvSpPr>
                <p:cNvPr id="118" name=""/>
                <p:cNvSpPr/>
                <p:nvPr/>
              </p:nvSpPr>
              <p:spPr>
                <a:xfrm rot="19138200">
                  <a:off x="3367440" y="191556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0000"/>
                      </a:solidFill>
                      <a:latin typeface="Arial"/>
                    </a:rPr>
                    <a:t>QIAamp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9138200">
                  <a:off x="3661200" y="191664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0000"/>
                      </a:solidFill>
                      <a:latin typeface="Arial"/>
                    </a:rPr>
                    <a:t>QIAamp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9138200">
                  <a:off x="3934080" y="191844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ff"/>
                      </a:solidFill>
                      <a:latin typeface="Arial"/>
                    </a:rPr>
                    <a:t>QIAamp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9138200">
                  <a:off x="4165920" y="191664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ff"/>
                      </a:solidFill>
                      <a:latin typeface="Arial"/>
                    </a:rPr>
                    <a:t>QIAamp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9138200">
                  <a:off x="4467600" y="19594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0000"/>
                      </a:solidFill>
                      <a:latin typeface="Arial"/>
                    </a:rPr>
                    <a:t>Edwar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9138200">
                  <a:off x="4731120" y="195336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0000"/>
                      </a:solidFill>
                      <a:latin typeface="Arial"/>
                    </a:rPr>
                    <a:t>Edwar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9138200">
                  <a:off x="5010480" y="19468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ff"/>
                      </a:solidFill>
                      <a:latin typeface="Arial"/>
                    </a:rPr>
                    <a:t>Edwar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9138200">
                  <a:off x="5269320" y="194832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ff"/>
                      </a:solidFill>
                      <a:latin typeface="Arial"/>
                    </a:rPr>
                    <a:t>Edwar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9138200">
                  <a:off x="5507280" y="191988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trol +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9138200">
                  <a:off x="5762880" y="1921320"/>
                  <a:ext cx="855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trol -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6840" y="2277720"/>
                <a:ext cx="5465880" cy="277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/>
            <p:nvPr/>
          </p:nvSpPr>
          <p:spPr>
            <a:xfrm>
              <a:off x="6443640" y="2825640"/>
              <a:ext cx="179280" cy="17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51560" y="3222360"/>
              <a:ext cx="179280" cy="178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0160" y="276048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Comic Sans MS"/>
                </a:rPr>
                <a:t>Un-filtered Olive 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5960" y="3146040"/>
              <a:ext cx="26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Comic Sans MS"/>
                </a:rPr>
                <a:t>Filtered Olive 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3280" y="5662440"/>
            <a:ext cx="8137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Use of QIAmp2 protocol to amplify the chloroplastic region using template DNA extracted from retail store filtered Olive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12920" y="228600"/>
            <a:ext cx="6499080" cy="8967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484360" y="1484280"/>
            <a:ext cx="3830400" cy="4176720"/>
            <a:chOff x="2484360" y="1484280"/>
            <a:chExt cx="3830400" cy="4176720"/>
          </a:xfrm>
        </p:grpSpPr>
        <p:sp>
          <p:nvSpPr>
            <p:cNvPr id="136" name=""/>
            <p:cNvSpPr/>
            <p:nvPr/>
          </p:nvSpPr>
          <p:spPr>
            <a:xfrm>
              <a:off x="2484360" y="1484280"/>
              <a:ext cx="345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omic Sans MS"/>
                </a:rPr>
                <a:t>DNA extracted fro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omic Sans MS"/>
                </a:rPr>
                <a:t>Filtered Olive 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786040" y="1748160"/>
              <a:ext cx="3528720" cy="3912840"/>
              <a:chOff x="2786040" y="1748160"/>
              <a:chExt cx="3528720" cy="391284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786040" y="1748160"/>
                <a:ext cx="3528720" cy="3912840"/>
                <a:chOff x="2786040" y="1748160"/>
                <a:chExt cx="3528720" cy="3912840"/>
              </a:xfrm>
            </p:grpSpPr>
            <p:pic>
              <p:nvPicPr>
                <p:cNvPr id="13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520720"/>
                  <a:ext cx="3528720" cy="314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9138200">
                  <a:off x="3035160" y="2099520"/>
                  <a:ext cx="113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Sample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9138200">
                  <a:off x="3318120" y="2090160"/>
                  <a:ext cx="113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Sample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9138200">
                  <a:off x="3634200" y="2158200"/>
                  <a:ext cx="953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Sample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9138200">
                  <a:off x="3946320" y="2150280"/>
                  <a:ext cx="95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Sample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9138200">
                  <a:off x="4257720" y="2148480"/>
                  <a:ext cx="948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Sample 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9138200">
                  <a:off x="4562640" y="2145960"/>
                  <a:ext cx="956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Sample 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9138200">
                  <a:off x="4825800" y="2110680"/>
                  <a:ext cx="113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Control +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9138200">
                  <a:off x="5133960" y="2112480"/>
                  <a:ext cx="11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99"/>
                      </a:solidFill>
                      <a:latin typeface="Comic Sans MS"/>
                    </a:rPr>
                    <a:t>Control -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2811240" y="2076120"/>
                <a:ext cx="273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3280" y="592128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Use of QIAmp2 protocol to amplify the chloroplastic regions using as template DNA extracted from Unfiltered Olive Oil var. Throub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12920" y="195120"/>
            <a:ext cx="6499080" cy="897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087640" y="1268280"/>
            <a:ext cx="4968720" cy="4552920"/>
            <a:chOff x="2087640" y="1268280"/>
            <a:chExt cx="4968720" cy="4552920"/>
          </a:xfrm>
        </p:grpSpPr>
        <p:grpSp>
          <p:nvGrpSpPr>
            <p:cNvPr id="152" name=""/>
            <p:cNvGrpSpPr/>
            <p:nvPr/>
          </p:nvGrpSpPr>
          <p:grpSpPr>
            <a:xfrm>
              <a:off x="2517840" y="1687320"/>
              <a:ext cx="4105440" cy="4133880"/>
              <a:chOff x="2517840" y="1687320"/>
              <a:chExt cx="4105440" cy="41338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2517840" y="2084040"/>
                <a:ext cx="4105440" cy="3737160"/>
                <a:chOff x="2517840" y="2084040"/>
                <a:chExt cx="4105440" cy="373716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7840" y="2669760"/>
                  <a:ext cx="4105440" cy="3151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" name=""/>
                <p:cNvGrpSpPr/>
                <p:nvPr/>
              </p:nvGrpSpPr>
              <p:grpSpPr>
                <a:xfrm>
                  <a:off x="3041280" y="2084040"/>
                  <a:ext cx="3350160" cy="761760"/>
                  <a:chOff x="3041280" y="2084040"/>
                  <a:chExt cx="3350160" cy="7617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9138200">
                    <a:off x="4833000" y="23342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Sample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9138200">
                    <a:off x="3497760" y="23342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Sample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9138200">
                    <a:off x="3744000" y="2377080"/>
                    <a:ext cx="72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Sample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138200">
                    <a:off x="5096520" y="2370600"/>
                    <a:ext cx="72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Sample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9138200">
                    <a:off x="5345640" y="23468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9138200">
                    <a:off x="3016800" y="23468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9138200">
                    <a:off x="5559840" y="23486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9138200">
                    <a:off x="3256560" y="2346840"/>
                    <a:ext cx="85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"/>
              <p:cNvSpPr/>
              <p:nvPr/>
            </p:nvSpPr>
            <p:spPr>
              <a:xfrm>
                <a:off x="2830680" y="1687320"/>
                <a:ext cx="17334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Comic Sans MS"/>
                  </a:rPr>
                  <a:t>Chloroplastic prim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86320" y="1687320"/>
                <a:ext cx="16556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Comic Sans MS"/>
                  </a:rPr>
                  <a:t>Olive Chloroplastic prim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62520" y="2257200"/>
                <a:ext cx="119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64160" y="2252520"/>
                <a:ext cx="12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968560" y="1666800"/>
              <a:ext cx="30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87640" y="1268280"/>
              <a:ext cx="49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DNA extracted from Unfiltered Olive 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9640" y="59256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CR amplification of the DCA17 SSR using as template DNA extr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om Olive Oil of 5 different Greek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12920" y="195120"/>
            <a:ext cx="6499080" cy="89712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932120" y="1484280"/>
            <a:ext cx="5593320" cy="4177080"/>
            <a:chOff x="1932120" y="1484280"/>
            <a:chExt cx="5593320" cy="4177080"/>
          </a:xfrm>
        </p:grpSpPr>
        <p:sp>
          <p:nvSpPr>
            <p:cNvPr id="173" name=""/>
            <p:cNvSpPr/>
            <p:nvPr/>
          </p:nvSpPr>
          <p:spPr>
            <a:xfrm>
              <a:off x="1940040" y="1916280"/>
              <a:ext cx="496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40040" y="1484280"/>
              <a:ext cx="49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Use of Microsatellittes (SSR DCA</a:t>
              </a:r>
              <a:r>
                <a:rPr b="0" lang="el-GR" sz="1800" spc="-1" strike="noStrike">
                  <a:solidFill>
                    <a:srgbClr val="333399"/>
                  </a:solidFill>
                  <a:latin typeface="Comic Sans MS"/>
                </a:rPr>
                <a:t>17</a:t>
              </a: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932120" y="2133720"/>
              <a:ext cx="5593320" cy="3527640"/>
              <a:chOff x="1932120" y="2133720"/>
              <a:chExt cx="5593320" cy="35276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932120" y="2423520"/>
                <a:ext cx="5593320" cy="3237840"/>
                <a:chOff x="1932120" y="2423520"/>
                <a:chExt cx="5593320" cy="323784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932120" y="3287520"/>
                  <a:ext cx="5050800" cy="2373840"/>
                  <a:chOff x="1932120" y="3287520"/>
                  <a:chExt cx="5050800" cy="237384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1932120" y="3287520"/>
                    <a:ext cx="5050800" cy="2373840"/>
                    <a:chOff x="1932120" y="3287520"/>
                    <a:chExt cx="5050800" cy="2373840"/>
                  </a:xfrm>
                </p:grpSpPr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2120" y="3499920"/>
                      <a:ext cx="2685960" cy="216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944720" y="3287520"/>
                      <a:ext cx="5038200" cy="244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 11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                  L 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2 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</a:t>
                      </a:r>
                      <a:r>
                        <a:rPr b="0" lang="en-US" sz="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6    7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24320" y="3498120"/>
                      <a:ext cx="1698480" cy="216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1974960" y="3299760"/>
                    <a:ext cx="2186640" cy="0"/>
                    <a:chOff x="1974960" y="3299760"/>
                    <a:chExt cx="2186640" cy="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1974960" y="3299760"/>
                      <a:ext cx="36000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381040" y="3299760"/>
                      <a:ext cx="36000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2786040" y="3299760"/>
                      <a:ext cx="36000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393720" y="3299760"/>
                      <a:ext cx="36000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3801600" y="3299760"/>
                      <a:ext cx="36000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973160" y="2423520"/>
                  <a:ext cx="3250440" cy="972000"/>
                  <a:chOff x="1973160" y="2423520"/>
                  <a:chExt cx="3250440" cy="972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752400">
                    <a:off x="1888560" y="278172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Throubol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752400">
                    <a:off x="2278800" y="278316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Kalam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8752400">
                    <a:off x="2691360" y="278172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Koroneik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8752400">
                    <a:off x="3299400" y="279108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Mastoid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8752400">
                    <a:off x="3690000" y="278928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Manzanill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8752400">
                    <a:off x="4002840" y="278316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8752400">
                    <a:off x="4226760" y="278460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5351400" y="2434320"/>
                  <a:ext cx="2174040" cy="979920"/>
                  <a:chOff x="5351400" y="2434320"/>
                  <a:chExt cx="2174040" cy="9799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8752400">
                    <a:off x="5266800" y="280656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Throubol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8752400">
                    <a:off x="5479200" y="279252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Kalam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8752400">
                    <a:off x="5688720" y="279864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Koroneik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8752400">
                    <a:off x="5896800" y="279252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Mastoid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8752400">
                    <a:off x="6104520" y="279864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Manzanil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8752400">
                    <a:off x="6312600" y="280800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+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8752400">
                    <a:off x="6528600" y="2809800"/>
                    <a:ext cx="108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333399"/>
                        </a:solidFill>
                        <a:latin typeface="Comic Sans MS"/>
                      </a:rPr>
                      <a:t>Control 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"/>
              <p:cNvSpPr/>
              <p:nvPr/>
            </p:nvSpPr>
            <p:spPr>
              <a:xfrm>
                <a:off x="1932120" y="2565360"/>
                <a:ext cx="268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19640" y="2565360"/>
                <a:ext cx="173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79640" y="2133720"/>
                <a:ext cx="25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Comic Sans MS"/>
                  </a:rPr>
                  <a:t>Polymera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18240" y="2133720"/>
                <a:ext cx="25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Comic Sans MS"/>
                  </a:rPr>
                  <a:t>Polymerase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3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valuation of DNA stability in Olive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Use of </a:t>
            </a:r>
            <a:r>
              <a:rPr b="1" lang="el-GR" sz="1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λ</a:t>
            </a:r>
            <a:r>
              <a:rPr b="1" lang="en-US" sz="1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 Unicode MS"/>
              </a:rPr>
              <a:t>phage DNA as a marker; a linear molecule with molecular weight of 50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 Unicode MS"/>
              </a:rPr>
              <a:t>Three different concentrations of </a:t>
            </a:r>
            <a:r>
              <a:rPr b="1" lang="el-GR" sz="1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λ</a:t>
            </a:r>
            <a:r>
              <a:rPr b="1" lang="en-US" sz="1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 Unicode MS"/>
              </a:rPr>
              <a:t>phage DNA were added in filtered olive oil: 10µg, 2µg and 0,2µ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 Unicode MS"/>
              </a:rPr>
              <a:t>The samples were stored at 25°C with 12 hour photoperiod for various periods of time up to 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λ</a:t>
            </a:r>
            <a:r>
              <a:rPr b="1" lang="en-US" sz="1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 Unicode MS"/>
              </a:rPr>
              <a:t>phage DNA specific primers were used to amplify DNA fragments after DNA extraction from th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116000" y="2502000"/>
          <a:ext cx="52578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02000"/>
                    <a:ext cx="5257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588000" y="2349360"/>
            <a:ext cx="1989360" cy="30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M: 100bp 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1: 2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2: 10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3: 20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4: 40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5: 3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6: 6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7: 9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80"/>
                </a:solidFill>
                <a:latin typeface="Comic Sans MS"/>
              </a:rPr>
              <a:t>8: 1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133720"/>
            <a:ext cx="554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1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2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3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4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5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6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7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8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+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n-US" sz="1200" spc="-1" strike="noStrike" u="sng">
                <a:solidFill>
                  <a:srgbClr val="000080"/>
                </a:solidFill>
                <a:uFillTx/>
                <a:latin typeface="Comic Sans MS"/>
              </a:rPr>
              <a:t> M</a:t>
            </a:r>
            <a:r>
              <a:rPr b="1" lang="el-GR" sz="13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1" lang="el-GR" sz="1300" spc="-1" strike="noStrike" u="sng">
                <a:solidFill>
                  <a:srgbClr val="000080"/>
                </a:solidFill>
                <a:uFillTx/>
                <a:latin typeface="Comic Sans MS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16000" y="3141720"/>
          <a:ext cx="5267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141720"/>
                    <a:ext cx="5267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95280" y="5661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0, 2 and 0,1 µg of </a:t>
            </a:r>
            <a:r>
              <a:rPr b="1" lang="el-GR" sz="2000" spc="-1" strike="noStrike">
                <a:solidFill>
                  <a:srgbClr val="333399"/>
                </a:solidFill>
                <a:latin typeface="Comic Sans MS"/>
              </a:rPr>
              <a:t>λ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DNA were added in filtered Olive Oil and stored for the state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3860640"/>
          <a:ext cx="525636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860640"/>
                    <a:ext cx="52563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254016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0,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µ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00" y="32130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2 µ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440" y="3860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µ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8440" y="1166760"/>
            <a:ext cx="854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dentification of SNPs and genotyp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live Oil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The genes Lupeol synthase and Cycloartenol synthase al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deposited in the GenBank were used for the identification of SN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Using dire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Six and twelve SNPs were identified from Lupeol synthas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Cycloartenol synthase sequences, respectively from the genomic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Of Valanolia and Adramyt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The SNAPSHOT technique was used to genotype the two Greek varie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07280" cy="4908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09120" y="5950080"/>
            <a:ext cx="79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NPs that discriminate Adramytini and Valanolia, as resulted from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equencing on PCR amplicons</a:t>
            </a:r>
            <a:r>
              <a:rPr b="0" lang="el-GR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81040" y="0"/>
            <a:ext cx="6180120" cy="5516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560" y="5589720"/>
            <a:ext cx="9082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An SNP (no 6; table 1) found in the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cycloartenol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synthase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 gene. The SNP was confirmed us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SNaPshot technique. Using the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Adramytini (A) leaf 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genomic DNA as template, only the dideoxy-G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incorporated during single base primer extension. Where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with the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Valanolia (V) 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genomic DN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the SNP primer was extended with both dideoxy-G and dideoxy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12920" y="255600"/>
            <a:ext cx="6499080" cy="896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68160" y="155736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Quantitative Determination of Varietal Origin of various Olive Oils in mix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305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Allele</a:t>
            </a:r>
            <a:r>
              <a:rPr b="1" lang="el-GR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frequency estimation of SNPs in DNA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076640"/>
            <a:ext cx="4969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Available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RFL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Pyro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S (MALDI - T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Real Time PCR (Taqman technolo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56160" y="3500280"/>
            <a:ext cx="0" cy="43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64080" y="2205000"/>
            <a:ext cx="0" cy="43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12920" y="262080"/>
            <a:ext cx="6499080" cy="896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1989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781360"/>
            <a:ext cx="7345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Olive production is a significant land use in the Mediterranean countries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PDO (Product of Designated Origin) and PGI (Product of Geographical Indication), high quality extra virgin olive oil is sold at high prices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DNA-based technologies are not affected by environmental factors that influence the composition and quality characteristics of Olive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35320" y="1557360"/>
            <a:ext cx="44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PROBLEM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12920" y="255600"/>
            <a:ext cx="6499080" cy="896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81040" y="227664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Differences in extraction procedures of Olive Oil used for mixtures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55880" y="2916360"/>
            <a:ext cx="664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evel and duration of exposure to high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iltered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1040" y="4149720"/>
            <a:ext cx="79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Experimental errors during genotyping of Olive Oil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124080" y="1838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12920" y="255600"/>
            <a:ext cx="6499080" cy="896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116000" y="2492280"/>
            <a:ext cx="756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Determination of varietal origin of Olive Oil is feasible. The quality of DNA in the oil is the most crucial parameter: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SNPs is probably the best approach since it requires short DNA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63520" y="4005360"/>
            <a:ext cx="76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Quantitative determination of varietal origin in mixtures is a challenge. Questions of reliability might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71440" y="5164200"/>
            <a:ext cx="76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There are restrictions in the use of DNA-based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699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760" y="2421000"/>
            <a:ext cx="87332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is work was supported by the General Secretariat for Research &amp; Technolog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inistry of Development, 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Framework of the Operational Program of the Region Crete 2000 – 20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ction: Program of Joint Venture in Research and Technologic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fields of Nation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it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velopment of biotechnological methodology for the identific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varietal origin of Protected Geographical Indication olive oil from Chan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0840" y="2286000"/>
            <a:ext cx="87645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RESEARCH INTERESTS OF THE DEPARTM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HORTICULTURAL GENETICS &amp; BIO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www.maich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" sz="1400" spc="-1" strike="noStrike">
                <a:solidFill>
                  <a:srgbClr val="333399"/>
                </a:solidFill>
                <a:latin typeface="Comic Sans MS"/>
              </a:rPr>
              <a:t>THE FUNCTIONAL ROLE OF PROLYL-4 HYDROXYLASES IN PLANT GROWTH AND </a:t>
            </a:r>
            <a:r>
              <a:rPr b="1" lang="en" sz="1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" sz="1400" spc="-1" strike="noStrike">
                <a:solidFill>
                  <a:srgbClr val="333399"/>
                </a:solidFill>
                <a:latin typeface="Comic Sans M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Comic Sans MS"/>
              </a:rPr>
              <a:t>THE CASE OF SENESCENCE PROGRESSION, HYPOXIA AND PROLYL 4HYDROXY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AGROFOOD FORENSICS THE CASE OF OLIVE 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95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Comic Sans MS"/>
              </a:rPr>
              <a:t>DETECTION OF GMOs: THE CASE OF COTTON</a:t>
            </a:r>
            <a:r>
              <a:rPr b="0" lang="el-GR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43000" y="189000"/>
            <a:ext cx="50389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139680"/>
            <a:ext cx="74898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22280" y="1258920"/>
            <a:ext cx="6497640" cy="4957560"/>
            <a:chOff x="1322280" y="1258920"/>
            <a:chExt cx="6497640" cy="4957560"/>
          </a:xfrm>
        </p:grpSpPr>
        <p:graphicFrame>
          <p:nvGraphicFramePr>
            <p:cNvPr id="50" name=""/>
            <p:cNvGraphicFramePr/>
            <p:nvPr/>
          </p:nvGraphicFramePr>
          <p:xfrm>
            <a:off x="1322280" y="1258920"/>
            <a:ext cx="6497640" cy="495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258920"/>
                      <a:ext cx="6497640" cy="49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2" name=""/>
            <p:cNvGrpSpPr/>
            <p:nvPr/>
          </p:nvGrpSpPr>
          <p:grpSpPr>
            <a:xfrm>
              <a:off x="1892160" y="2154240"/>
              <a:ext cx="3963960" cy="3144600"/>
              <a:chOff x="1892160" y="2154240"/>
              <a:chExt cx="3963960" cy="3144600"/>
            </a:xfrm>
          </p:grpSpPr>
          <p:sp>
            <p:nvSpPr>
              <p:cNvPr id="53" name=""/>
              <p:cNvSpPr/>
              <p:nvPr/>
            </p:nvSpPr>
            <p:spPr>
              <a:xfrm>
                <a:off x="4654440" y="2490840"/>
                <a:ext cx="316080" cy="2538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70400" y="5045040"/>
                <a:ext cx="316080" cy="2538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91040" y="2908080"/>
                <a:ext cx="315720" cy="252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07040" y="4554360"/>
                <a:ext cx="315720" cy="252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92160" y="3427200"/>
                <a:ext cx="316080" cy="2541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358000">
                <a:off x="2134080" y="3333600"/>
                <a:ext cx="79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Koroneik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358000">
                <a:off x="4875480" y="2317320"/>
                <a:ext cx="968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Throubol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0358000">
                <a:off x="3403440" y="2687400"/>
                <a:ext cx="916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Mastoid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358000">
                <a:off x="4592880" y="4798800"/>
                <a:ext cx="80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Manzanila</a:t>
                </a: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358000">
                <a:off x="4546440" y="4527360"/>
                <a:ext cx="77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Kalam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312920" y="255600"/>
            <a:ext cx="6499080" cy="89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84440" y="6259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actorial correspondence analysis of AFLP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12920" y="233280"/>
            <a:ext cx="6499080" cy="897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1341360"/>
            <a:ext cx="7128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evelopment of an Olive Oil DNA Quality Testing Method based on the amplification of Chloroplastic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NA isol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hloroplastic primer design for amplification of various length PC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esting in various samples of Olive Oil from the market and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85960" y="2708280"/>
          <a:ext cx="5570640" cy="2921040"/>
        </p:xfrm>
        <a:graphic>
          <a:graphicData uri="http://schemas.openxmlformats.org/drawingml/2006/table">
            <a:tbl>
              <a:tblPr/>
              <a:tblGrid>
                <a:gridCol w="1513080"/>
                <a:gridCol w="1352520"/>
                <a:gridCol w="1352520"/>
                <a:gridCol w="1352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DNA-iso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S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Sample Volume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PCR re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Edwards 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Gen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e S</a:t>
                      </a: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c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vi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QIAamp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QIA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+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QIAam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QIAamp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Un-fil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0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12920" y="333360"/>
            <a:ext cx="6499080" cy="897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74920" y="587700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Edwards K, Johnstone C, Thompson C (1991). A simple and rapid method for the</a:t>
            </a:r>
            <a:r>
              <a:rPr b="0" lang="el-GR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preparation of genomic plant DNA for PCR analysis. Nucleic Acids Res 19: 13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45000" y="172548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live Oil DNA isolatio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200" y="1843560"/>
            <a:ext cx="624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MPARISON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QIAamp Kit AND Edwards MODIFIED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57320" y="3429000"/>
          <a:ext cx="5229360" cy="2155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QIAamp k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Edwards et al, 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Tim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5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Phenol-Chloroform 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Ethanol precip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407600" y="6020640"/>
            <a:ext cx="63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IAamp kit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έχει ένα αντιδραστήριο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EX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που παρεμποδίζει αποδιάταξη το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12920" y="255600"/>
            <a:ext cx="649908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47640" y="23493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6560" y="5805360"/>
            <a:ext cx="81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81080" indent="-1081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aluation of DNA quality extracted from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Koroneiki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live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ontrol Template DNA: Olive genomic DNA extracted from lea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1484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76280" y="1374840"/>
            <a:ext cx="7005240" cy="4252680"/>
            <a:chOff x="1376280" y="1374840"/>
            <a:chExt cx="7005240" cy="425268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376280" y="2781360"/>
              <a:ext cx="6769080" cy="284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1620720" y="2218320"/>
              <a:ext cx="1289160" cy="832680"/>
              <a:chOff x="1620720" y="2218320"/>
              <a:chExt cx="1289160" cy="832680"/>
            </a:xfrm>
          </p:grpSpPr>
          <p:sp>
            <p:nvSpPr>
              <p:cNvPr id="81" name=""/>
              <p:cNvSpPr/>
              <p:nvPr/>
            </p:nvSpPr>
            <p:spPr>
              <a:xfrm rot="19138200">
                <a:off x="2196720" y="2476080"/>
                <a:ext cx="72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Edwar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9138200">
                <a:off x="1651680" y="2435040"/>
                <a:ext cx="810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GeneSca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9138200">
                <a:off x="1901520" y="2480760"/>
                <a:ext cx="72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Invite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272040" y="2201760"/>
              <a:ext cx="2242080" cy="763200"/>
              <a:chOff x="3272040" y="2201760"/>
              <a:chExt cx="2242080" cy="763200"/>
            </a:xfrm>
          </p:grpSpPr>
          <p:sp>
            <p:nvSpPr>
              <p:cNvPr id="85" name=""/>
              <p:cNvSpPr/>
              <p:nvPr/>
            </p:nvSpPr>
            <p:spPr>
              <a:xfrm rot="19138200">
                <a:off x="3844800" y="2451960"/>
                <a:ext cx="85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9138200">
                <a:off x="3252960" y="2475720"/>
                <a:ext cx="81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9138200">
                <a:off x="3541320" y="2474640"/>
                <a:ext cx="79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9138200">
                <a:off x="4124160" y="2453760"/>
                <a:ext cx="85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9138200">
                <a:off x="4395600" y="2468160"/>
                <a:ext cx="85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Control +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9138200">
                <a:off x="4682880" y="2461680"/>
                <a:ext cx="85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Control 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754600" y="2187360"/>
              <a:ext cx="2237760" cy="763200"/>
              <a:chOff x="5754600" y="2187360"/>
              <a:chExt cx="2237760" cy="763200"/>
            </a:xfrm>
          </p:grpSpPr>
          <p:sp>
            <p:nvSpPr>
              <p:cNvPr id="92" name=""/>
              <p:cNvSpPr/>
              <p:nvPr/>
            </p:nvSpPr>
            <p:spPr>
              <a:xfrm rot="19138200">
                <a:off x="6327360" y="2437920"/>
                <a:ext cx="85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9138200">
                <a:off x="5735520" y="2461680"/>
                <a:ext cx="81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9138200">
                <a:off x="6018120" y="2445840"/>
                <a:ext cx="84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9138200">
                <a:off x="6607080" y="2439360"/>
                <a:ext cx="85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QIAamp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9138200">
                <a:off x="6873480" y="2453760"/>
                <a:ext cx="85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Control +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138200">
                <a:off x="7161120" y="2447280"/>
                <a:ext cx="85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Comic Sans MS"/>
                  </a:rPr>
                  <a:t>Control 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376280" y="1374840"/>
              <a:ext cx="7005240" cy="924480"/>
              <a:chOff x="1376280" y="1374840"/>
              <a:chExt cx="7005240" cy="924480"/>
            </a:xfrm>
          </p:grpSpPr>
          <p:sp>
            <p:nvSpPr>
              <p:cNvPr id="99" name=""/>
              <p:cNvSpPr/>
              <p:nvPr/>
            </p:nvSpPr>
            <p:spPr>
              <a:xfrm>
                <a:off x="1376280" y="2298600"/>
                <a:ext cx="367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87240" y="1944720"/>
                <a:ext cx="32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Comic Sans MS"/>
                  </a:rPr>
                  <a:t>Chloroplastic Prim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19520" y="2298600"/>
                <a:ext cx="201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21000" y="1962000"/>
                <a:ext cx="326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Comic Sans MS"/>
                  </a:rPr>
                  <a:t>Olive Chloroplastic Prim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76280" y="1784520"/>
                <a:ext cx="615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28720" y="1374840"/>
                <a:ext cx="42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Comic Sans MS"/>
                  </a:rPr>
                  <a:t>Un-filtered </a:t>
                </a: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Koroneiki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Comic Sans MS"/>
                  </a:rPr>
                  <a:t> Olive Oi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89000"/>
            <a:ext cx="65358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3:05:37Z</dcterms:created>
  <dc:creator>Theodore</dc:creator>
  <dc:description/>
  <dc:language>en-US</dc:language>
  <cp:lastModifiedBy>panagiotis</cp:lastModifiedBy>
  <dcterms:modified xsi:type="dcterms:W3CDTF">2006-10-27T13:34:43Z</dcterms:modified>
  <cp:revision>71</cp:revision>
  <dc:subject/>
  <dc:title>ΑΝΑΠΤΥΞΗ ΜΕΘΟΔΟΛΟΓΙΑΣ ΓΙΑ ΤΟΝ ΠΡΟΣΔΙΟΡΙΣΜΟ ΤΗΣ ΠΟΙΚΙΛΙΑΣ ΠΡΟΕΛΕΥΣΗΣ ΤΟΥ ΕΛΑΙΟΛΑΔΟΥ</dc:title>
</cp:coreProperties>
</file>